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1.jpeg" ContentType="image/jpeg"/>
  <Override PartName="/ppt/media/image19.jpeg" ContentType="image/jpeg"/>
  <Override PartName="/ppt/media/image25.png" ContentType="image/png"/>
  <Override PartName="/ppt/media/image18.jpeg" ContentType="image/jpeg"/>
  <Override PartName="/ppt/media/image17.png" ContentType="image/png"/>
  <Override PartName="/ppt/media/image20.wmf" ContentType="image/x-wmf"/>
  <Override PartName="/ppt/media/image32.jpeg" ContentType="image/jpeg"/>
  <Override PartName="/ppt/media/image34.png" ContentType="image/png"/>
  <Override PartName="/ppt/media/image29.jpeg" ContentType="image/jpeg"/>
  <Override PartName="/ppt/media/image10.jpeg" ContentType="image/jpeg"/>
  <Override PartName="/ppt/media/image23.png" ContentType="image/png"/>
  <Override PartName="/ppt/media/image13.jpeg" ContentType="image/jpeg"/>
  <Override PartName="/ppt/media/image12.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8.jpeg" ContentType="image/jpeg"/>
  <Override PartName="/ppt/media/image7.jpeg" ContentType="image/jpeg"/>
  <Override PartName="/ppt/media/image28.jpeg" ContentType="image/jpeg"/>
  <Override PartName="/ppt/media/image5.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EA1D-B6BF-45C4-8DC6-84BEA8135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7EDE-37F7-431F-9DF9-6406C5970D5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270B-5B8D-4312-8AED-7BD8D632DBC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6D65-F57D-424D-9BA2-211ED61A2CF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E8E0-BE2A-4C95-80CC-4331D34B6F7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032F-4A4C-49BD-B92C-18BB23AC0AA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817D-60C0-42F8-B1E5-D222FC126DB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9E40-E82E-435E-AF58-F2EC822D677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CE1D-0BAD-44A9-8E1E-36C0FA8EFDE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C593-84BC-44A6-8B9D-85BCAFB416C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13A7-A13E-4BBC-B886-09D054F3220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36EA-8222-4918-AEB6-1EDB886059A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896E-583F-4FDE-88D8-C197D511774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BB20-119E-4F4C-A324-D64B196AEDC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DC41-6092-4004-8161-006D1D3E66C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C2E5-2A62-4F94-A846-902441C9383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4A99-C498-4EC5-9B86-8F36D576B69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EDCC-D822-415F-B149-BC7E133D785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4BFB-74ED-470E-80EC-6E95734E2AF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3844-A52D-4B0A-90F4-5AD12805361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EC06-EC50-4611-88A9-B8FBC5F8082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A647-B758-4E0F-81CD-DE44C99F672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3C8B-3A67-4131-B4CD-E163F42ECCD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1031-9921-4718-A03A-6281B03329C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3A25-F0D6-4B22-AA6D-C092F2E8A89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4BA7-CEA1-4D63-8FA2-8F34FC70B92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8E5A-1737-415B-88AF-61F66C82BD8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6948-0D8B-4662-937E-A742AD4F266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3801-7C53-4F1B-8DC2-ED30BAEA33F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5BBD-7C55-44BA-8E15-750A1B9F974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85CA-AA5B-4CCB-9396-43827D4FD6E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86B9-1647-490C-8C1E-AF77C53B1FC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875A-1E51-4B2C-B3E3-BB3CF29108D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C075-FD5B-41B2-A90D-83D5620E871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9CEB-5251-4C06-8978-E4E0FE22E92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0221-06D0-4C79-A8C4-035C71DE6B1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7221-BD8A-4FE1-90F7-8703FC1323E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D7DFE-A569-4A7C-BAC1-2F9431C81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FB99C-A600-4EC3-B8B5-911EE6722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FD46A-B60B-4EC9-92F7-B1F3E4D7D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32A15-A802-46DC-BECE-28CA815A0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8CDAD-5428-4698-B7EE-C3CB6F5C3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BF5C5-64F6-47A2-B737-BA6B93D6A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3348A-F2ED-457A-AC5E-436080E69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EF805-0BB7-4C55-BF0E-3135836BF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60C78-9FE1-4566-A40C-6BED678C5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08115-2560-4308-A411-592A323F8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43F21-4ED7-40C5-8263-67DA43D3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64E16-FB9C-42EF-9243-F76E9E1E1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42466-E070-41D2-ABFE-259EEFDB9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6E1FC-8154-4896-8F5B-A007E4C8D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C9C7A-7C90-4011-8937-804F2AEFE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6FC42-9B12-4D69-B38D-2ECD5B66D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68338-6DD4-4860-B4B6-4B625BD8F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1F36B-0B48-435C-B81A-C65FC6C52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3F01D-2918-401C-9796-0CA95383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011CC-21A9-488F-BBAE-793427752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952C1-9BB2-4FAD-B7AE-33345656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57D2A-DBE4-4E16-833A-3BFB527A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FB98-175E-486A-91D9-2BDEE000C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FA34-C8D6-4193-9D4D-F935204FA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5050-FE93-4899-8AB2-A9A5418D8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2"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89F6-8E69-4FCB-A6CB-E3762A9AD46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ducationandtransition.org/wp-content/uploads/2011/09/Yemen-Children-learning-hygiene.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1676520" y="76320"/>
            <a:ext cx="7315200" cy="192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Traditional Arabic"/>
              </a:rPr>
              <a:t>استخدام المعايير الدنيا في مجال الإمداد بالماء والإصحاح والنهوض بالنظافة الشخصية</a:t>
            </a:r>
            <a:endParaRPr b="0" lang="en-US" sz="4000" spc="-1" strike="noStrike">
              <a:solidFill>
                <a:srgbClr val="ccecff"/>
              </a:solidFill>
              <a:latin typeface="Times New Roman"/>
            </a:endParaRPr>
          </a:p>
        </p:txBody>
      </p:sp>
      <p:sp>
        <p:nvSpPr>
          <p:cNvPr id="94" name="Text Box 4"/>
          <p:cNvSpPr/>
          <p:nvPr/>
        </p:nvSpPr>
        <p:spPr>
          <a:xfrm>
            <a:off x="138240" y="1828800"/>
            <a:ext cx="358128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cs typeface="Traditional Arabic"/>
              </a:rPr>
              <a:t>الإمداد بالماء والإصحاح والنهوض بالنظافة الشخصية.</a:t>
            </a:r>
            <a:endParaRPr b="0" lang="en-US" sz="28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cs typeface="Traditional Arabic"/>
              </a:rPr>
              <a:t>النهوض بالنظافة.</a:t>
            </a:r>
            <a:endParaRPr b="0" lang="en-US" sz="28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cs typeface="Traditional Arabic"/>
              </a:rPr>
              <a:t>الإمداد بالماء</a:t>
            </a:r>
            <a:endParaRPr b="0" lang="en-US" sz="28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cs typeface="Traditional Arabic"/>
              </a:rPr>
              <a:t>التخلص من الفضلات العضوية</a:t>
            </a:r>
            <a:endParaRPr b="0" lang="en-US" sz="28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cs typeface="Traditional Arabic"/>
              </a:rPr>
              <a:t>مكافحة نواقل الأمراض</a:t>
            </a:r>
            <a:endParaRPr b="0" lang="en-US" sz="28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cs typeface="Traditional Arabic"/>
              </a:rPr>
              <a:t>إدارة النفايات الصلبة</a:t>
            </a:r>
            <a:endParaRPr b="0" lang="en-US" sz="28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cs typeface="Traditional Arabic"/>
              </a:rPr>
              <a:t>الصرف الصحي</a:t>
            </a:r>
            <a:endParaRPr b="0" lang="en-US" sz="2800" spc="-1" strike="noStrike">
              <a:solidFill>
                <a:srgbClr val="ccecff"/>
              </a:solidFill>
              <a:latin typeface="Times New Roman"/>
            </a:endParaRPr>
          </a:p>
        </p:txBody>
      </p:sp>
      <p:sp>
        <p:nvSpPr>
          <p:cNvPr id="95" name="Oval 5"/>
          <p:cNvSpPr/>
          <p:nvPr/>
        </p:nvSpPr>
        <p:spPr>
          <a:xfrm>
            <a:off x="152280" y="152280"/>
            <a:ext cx="1371600" cy="13716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00"/>
                </a:solidFill>
                <a:latin typeface="Arial"/>
              </a:rPr>
              <a:t>2.2</a:t>
            </a:r>
            <a:endParaRPr b="0" lang="en-US" sz="4800" spc="-1" strike="noStrike">
              <a:solidFill>
                <a:srgbClr val="ccecff"/>
              </a:solidFill>
              <a:latin typeface="Times New Roman"/>
            </a:endParaRPr>
          </a:p>
        </p:txBody>
      </p:sp>
      <p:pic>
        <p:nvPicPr>
          <p:cNvPr id="96" name="Picture 10" descr="dripping tap"/>
          <p:cNvPicPr/>
          <p:nvPr/>
        </p:nvPicPr>
        <p:blipFill>
          <a:blip r:embed="rId1"/>
          <a:stretch/>
        </p:blipFill>
        <p:spPr>
          <a:xfrm>
            <a:off x="4135320" y="182880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228600" y="228600"/>
            <a:ext cx="8839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مكافحة نواقل الأمراض رقم </a:t>
            </a:r>
            <a:r>
              <a:rPr b="1" lang="ar-SA" sz="4400" spc="-1" strike="noStrike">
                <a:solidFill>
                  <a:srgbClr val="ccecff"/>
                </a:solidFill>
                <a:latin typeface="Times New Roman"/>
                <a:ea typeface="Traditional Arabic"/>
              </a:rPr>
              <a:t>1</a:t>
            </a:r>
            <a:r>
              <a:rPr b="1" lang="ar-SA" sz="4400" spc="-1" strike="noStrike">
                <a:solidFill>
                  <a:srgbClr val="ccecff"/>
                </a:solidFill>
                <a:latin typeface="Times New Roman"/>
                <a:ea typeface="Traditional Arabic"/>
              </a:rPr>
              <a:t>: حماية الفرد والعائلة</a:t>
            </a:r>
            <a:endParaRPr b="0" lang="en-US" sz="4400" spc="-1" strike="noStrike">
              <a:solidFill>
                <a:srgbClr val="ccecff"/>
              </a:solidFill>
              <a:latin typeface="Times New Roman"/>
            </a:endParaRPr>
          </a:p>
        </p:txBody>
      </p:sp>
      <p:sp>
        <p:nvSpPr>
          <p:cNvPr id="150" name="Text Box 4"/>
          <p:cNvSpPr/>
          <p:nvPr/>
        </p:nvSpPr>
        <p:spPr>
          <a:xfrm>
            <a:off x="243000" y="1940040"/>
            <a:ext cx="388620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ينبغي تزويد جميع الناس المتضررين من الكوارث بالمعلومات والوسائل الكفيلة بحماية أنفسهم من نواقل الأمراض والحيوانات الضارة التي يرجح أن تمثل خطراً ملموساً على صحتهم أو راحتهم.</a:t>
            </a:r>
            <a:endParaRPr b="0" lang="en-US" sz="2800" spc="-1" strike="noStrike">
              <a:solidFill>
                <a:srgbClr val="ccecff"/>
              </a:solidFill>
              <a:latin typeface="Times New Roman"/>
            </a:endParaRPr>
          </a:p>
        </p:txBody>
      </p:sp>
      <p:sp>
        <p:nvSpPr>
          <p:cNvPr id="151" name="Line 5"/>
          <p:cNvSpPr/>
          <p:nvPr/>
        </p:nvSpPr>
        <p:spPr>
          <a:xfrm>
            <a:off x="304920" y="1752480"/>
            <a:ext cx="8458200" cy="1800"/>
          </a:xfrm>
          <a:prstGeom prst="line">
            <a:avLst/>
          </a:prstGeom>
          <a:ln w="763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pic>
        <p:nvPicPr>
          <p:cNvPr id="152" name="Picture 1029" descr="togo_ITNs"/>
          <p:cNvPicPr/>
          <p:nvPr/>
        </p:nvPicPr>
        <p:blipFill>
          <a:blip r:embed="rId1"/>
          <a:stretch/>
        </p:blipFill>
        <p:spPr>
          <a:xfrm>
            <a:off x="4267080" y="1820880"/>
            <a:ext cx="4515120" cy="3348000"/>
          </a:xfrm>
          <a:prstGeom prst="rect">
            <a:avLst/>
          </a:prstGeom>
          <a:ln w="0">
            <a:noFill/>
          </a:ln>
        </p:spPr>
      </p:pic>
      <p:sp>
        <p:nvSpPr>
          <p:cNvPr id="153" name="Text Box 1030"/>
          <p:cNvSpPr/>
          <p:nvPr/>
        </p:nvSpPr>
        <p:spPr>
          <a:xfrm>
            <a:off x="4267080" y="5484960"/>
            <a:ext cx="4511880" cy="1067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Times New Roman"/>
                <a:cs typeface="Traditional Arabic"/>
              </a:rPr>
              <a:t>متطوعون في الصليب الأحمر لدولة توجو يعرضون الطريقة الصحيحة لاستخدام الناموسيات المعالجة بمبيدات الحشرات – حقوق طبع الصورة لماركو كوكيك من الصليب الأحمر الكندي</a:t>
            </a:r>
            <a:endParaRPr b="0" lang="en-US" sz="1600" spc="-1" strike="noStrike">
              <a:solidFill>
                <a:srgbClr val="ccecff"/>
              </a:solidFill>
              <a:latin typeface="Times New Roman"/>
            </a:endParaRPr>
          </a:p>
        </p:txBody>
      </p:sp>
      <p:sp>
        <p:nvSpPr>
          <p:cNvPr id="154" name="Text Box 6"/>
          <p:cNvSpPr/>
          <p:nvPr/>
        </p:nvSpPr>
        <p:spPr>
          <a:xfrm>
            <a:off x="-605520" y="6315120"/>
            <a:ext cx="7405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107</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1"/>
          <p:cNvSpPr/>
          <p:nvPr/>
        </p:nvSpPr>
        <p:spPr>
          <a:xfrm>
            <a:off x="76320" y="2219400"/>
            <a:ext cx="4114800" cy="4038480"/>
          </a:xfrm>
          <a:prstGeom prst="rect">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6" name="Text Box 2"/>
          <p:cNvSpPr/>
          <p:nvPr/>
        </p:nvSpPr>
        <p:spPr>
          <a:xfrm>
            <a:off x="304920" y="0"/>
            <a:ext cx="883908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مكافحة نواقل الأمراض رقم </a:t>
            </a:r>
            <a:r>
              <a:rPr b="1" lang="ar-SA" sz="4400" spc="-1" strike="noStrike">
                <a:solidFill>
                  <a:srgbClr val="ccecff"/>
                </a:solidFill>
                <a:latin typeface="Times New Roman"/>
                <a:ea typeface="Traditional Arabic"/>
              </a:rPr>
              <a:t>2</a:t>
            </a:r>
            <a:r>
              <a:rPr b="1" lang="ar-SA" sz="4400" spc="-1" strike="noStrike">
                <a:solidFill>
                  <a:srgbClr val="ccecff"/>
                </a:solidFill>
                <a:latin typeface="Times New Roman"/>
                <a:ea typeface="Traditional Arabic"/>
              </a:rPr>
              <a:t>: تدابير الحماية المادية</a:t>
            </a:r>
            <a:r>
              <a:rPr b="1" lang="en-US" sz="4400" spc="-1" strike="noStrike">
                <a:solidFill>
                  <a:srgbClr val="ccecff"/>
                </a:solidFill>
                <a:latin typeface="Times New Roman"/>
                <a:ea typeface="Traditional Arabic"/>
              </a:rPr>
              <a:t> </a:t>
            </a:r>
            <a:r>
              <a:rPr b="1" lang="ar-SA" sz="4400" spc="-1" strike="noStrike">
                <a:solidFill>
                  <a:srgbClr val="ccecff"/>
                </a:solidFill>
                <a:latin typeface="Times New Roman"/>
                <a:cs typeface="Traditional Arabic"/>
              </a:rPr>
              <a:t>والكيميائية والبيئية</a:t>
            </a:r>
            <a:endParaRPr b="0" lang="en-US" sz="4400" spc="-1" strike="noStrike">
              <a:solidFill>
                <a:srgbClr val="ccecff"/>
              </a:solidFill>
              <a:latin typeface="Times New Roman"/>
            </a:endParaRPr>
          </a:p>
        </p:txBody>
      </p:sp>
      <p:sp>
        <p:nvSpPr>
          <p:cNvPr id="157" name="Text Box 3"/>
          <p:cNvSpPr/>
          <p:nvPr/>
        </p:nvSpPr>
        <p:spPr>
          <a:xfrm>
            <a:off x="4572000" y="2401920"/>
            <a:ext cx="4419720" cy="3080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ينبغي تفادي توطين الناس</a:t>
            </a:r>
            <a:r>
              <a:rPr b="0" lang="en-US" sz="2800" spc="-1" strike="noStrike">
                <a:solidFill>
                  <a:srgbClr val="ccecff"/>
                </a:solidFill>
                <a:latin typeface="Times New Roman"/>
                <a:ea typeface="Traditional Arabic"/>
              </a:rPr>
              <a:t> </a:t>
            </a:r>
            <a:r>
              <a:rPr b="0" lang="ar-SA" sz="2800" spc="-1" strike="noStrike">
                <a:solidFill>
                  <a:srgbClr val="ccecff"/>
                </a:solidFill>
                <a:latin typeface="Times New Roman"/>
                <a:cs typeface="Traditional Arabic"/>
              </a:rPr>
              <a:t>المتضررين من الكوارث في أماكن تعرضهم لنواقل</a:t>
            </a:r>
            <a:r>
              <a:rPr b="0" lang="en-US" sz="2800" spc="-1" strike="noStrike">
                <a:solidFill>
                  <a:srgbClr val="ccecff"/>
                </a:solidFill>
                <a:latin typeface="Times New Roman"/>
                <a:ea typeface="Traditional Arabic"/>
              </a:rPr>
              <a:t> </a:t>
            </a:r>
            <a:r>
              <a:rPr b="0" lang="ar-SA" sz="2800" spc="-1" strike="noStrike">
                <a:solidFill>
                  <a:srgbClr val="ccecff"/>
                </a:solidFill>
                <a:latin typeface="Times New Roman"/>
                <a:cs typeface="Traditional Arabic"/>
              </a:rPr>
              <a:t>الأمراض والحيوانات الضارة، والتحكم في أعدادها حيثما أمكن بحيث لا تتجاوز</a:t>
            </a:r>
            <a:r>
              <a:rPr b="0" lang="en-US" sz="2800" spc="-1" strike="noStrike">
                <a:solidFill>
                  <a:srgbClr val="ccecff"/>
                </a:solidFill>
                <a:latin typeface="Times New Roman"/>
                <a:ea typeface="Traditional Arabic"/>
              </a:rPr>
              <a:t> </a:t>
            </a:r>
            <a:r>
              <a:rPr b="0" lang="ar-SA" sz="2800" spc="-1" strike="noStrike">
                <a:solidFill>
                  <a:srgbClr val="ccecff"/>
                </a:solidFill>
                <a:latin typeface="Times New Roman"/>
                <a:cs typeface="Traditional Arabic"/>
              </a:rPr>
              <a:t>الحدود المقبولة.</a:t>
            </a:r>
            <a:endParaRPr b="0" lang="en-US" sz="2800" spc="-1" strike="noStrike">
              <a:solidFill>
                <a:srgbClr val="ccecff"/>
              </a:solidFill>
              <a:latin typeface="Times New Roman"/>
            </a:endParaRPr>
          </a:p>
        </p:txBody>
      </p:sp>
      <p:sp>
        <p:nvSpPr>
          <p:cNvPr id="158" name="Line 4"/>
          <p:cNvSpPr/>
          <p:nvPr/>
        </p:nvSpPr>
        <p:spPr>
          <a:xfrm>
            <a:off x="304920" y="2133720"/>
            <a:ext cx="8458200" cy="1440"/>
          </a:xfrm>
          <a:prstGeom prst="line">
            <a:avLst/>
          </a:prstGeom>
          <a:ln w="7632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ccecff"/>
              </a:solidFill>
              <a:latin typeface="Times New Roman"/>
            </a:endParaRPr>
          </a:p>
        </p:txBody>
      </p:sp>
      <p:pic>
        <p:nvPicPr>
          <p:cNvPr id="159" name="Picture 6" descr="house_fly2"/>
          <p:cNvPicPr/>
          <p:nvPr/>
        </p:nvPicPr>
        <p:blipFill>
          <a:blip r:embed="rId1"/>
          <a:stretch/>
        </p:blipFill>
        <p:spPr>
          <a:xfrm>
            <a:off x="304920" y="2301840"/>
            <a:ext cx="1676160" cy="1127160"/>
          </a:xfrm>
          <a:prstGeom prst="rect">
            <a:avLst/>
          </a:prstGeom>
          <a:ln w="0">
            <a:noFill/>
          </a:ln>
        </p:spPr>
      </p:pic>
      <p:pic>
        <p:nvPicPr>
          <p:cNvPr id="160" name="Picture 10" descr="norway_rat%5b1%5d"/>
          <p:cNvPicPr/>
          <p:nvPr/>
        </p:nvPicPr>
        <p:blipFill>
          <a:blip r:embed="rId2"/>
          <a:stretch/>
        </p:blipFill>
        <p:spPr>
          <a:xfrm>
            <a:off x="152280" y="3581280"/>
            <a:ext cx="3886200" cy="2616480"/>
          </a:xfrm>
          <a:prstGeom prst="rect">
            <a:avLst/>
          </a:prstGeom>
          <a:ln w="0">
            <a:noFill/>
          </a:ln>
        </p:spPr>
      </p:pic>
      <p:pic>
        <p:nvPicPr>
          <p:cNvPr id="161" name="Picture 8" descr="mosquitobw"/>
          <p:cNvPicPr/>
          <p:nvPr/>
        </p:nvPicPr>
        <p:blipFill>
          <a:blip r:embed="rId3"/>
          <a:stretch/>
        </p:blipFill>
        <p:spPr>
          <a:xfrm>
            <a:off x="2286000" y="2325600"/>
            <a:ext cx="1790640" cy="1343160"/>
          </a:xfrm>
          <a:prstGeom prst="rect">
            <a:avLst/>
          </a:prstGeom>
          <a:ln w="0">
            <a:noFill/>
          </a:ln>
        </p:spPr>
      </p:pic>
      <p:sp>
        <p:nvSpPr>
          <p:cNvPr id="162" name="Text Box 6"/>
          <p:cNvSpPr/>
          <p:nvPr/>
        </p:nvSpPr>
        <p:spPr>
          <a:xfrm>
            <a:off x="1888920" y="6315120"/>
            <a:ext cx="7405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109</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380880" y="304920"/>
            <a:ext cx="822960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مكافحة نواقل الأمراض رقم </a:t>
            </a:r>
            <a:r>
              <a:rPr b="1" lang="ar-SA" sz="4400" spc="-1" strike="noStrike">
                <a:solidFill>
                  <a:srgbClr val="ccecff"/>
                </a:solidFill>
                <a:latin typeface="Times New Roman"/>
                <a:ea typeface="Traditional Arabic"/>
              </a:rPr>
              <a:t>3</a:t>
            </a:r>
            <a:r>
              <a:rPr b="1" lang="ar-SA" sz="4400" spc="-1" strike="noStrike">
                <a:solidFill>
                  <a:srgbClr val="ccecff"/>
                </a:solidFill>
                <a:latin typeface="Times New Roman"/>
                <a:ea typeface="Traditional Arabic"/>
              </a:rPr>
              <a:t>: استعمال المبيدات الكيميائية</a:t>
            </a:r>
            <a:r>
              <a:rPr b="1" lang="en-US" sz="4400" spc="-1" strike="noStrike">
                <a:solidFill>
                  <a:srgbClr val="ccecff"/>
                </a:solidFill>
                <a:latin typeface="Times New Roman"/>
                <a:ea typeface="Traditional Arabic"/>
              </a:rPr>
              <a:t> </a:t>
            </a:r>
            <a:r>
              <a:rPr b="1" lang="ar-SA" sz="4400" spc="-1" strike="noStrike">
                <a:solidFill>
                  <a:srgbClr val="ccecff"/>
                </a:solidFill>
                <a:latin typeface="Times New Roman"/>
                <a:cs typeface="Traditional Arabic"/>
              </a:rPr>
              <a:t>بطريقة مأمونة</a:t>
            </a:r>
            <a:endParaRPr b="0" lang="en-US" sz="4400" spc="-1" strike="noStrike">
              <a:solidFill>
                <a:srgbClr val="ccecff"/>
              </a:solidFill>
              <a:latin typeface="Times New Roman"/>
            </a:endParaRPr>
          </a:p>
        </p:txBody>
      </p:sp>
      <p:sp>
        <p:nvSpPr>
          <p:cNvPr id="164" name="Text Box 5"/>
          <p:cNvSpPr/>
          <p:nvPr/>
        </p:nvSpPr>
        <p:spPr>
          <a:xfrm>
            <a:off x="4114800" y="2286000"/>
            <a:ext cx="480060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ينبغي تطبيق الأساليب الكيميائية لمكافحة نواقل الأمراض بطريقة تضمن حماية</a:t>
            </a:r>
            <a:endParaRPr b="0" lang="en-US" sz="28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ملائمة للموظفين والسكان المتضررين من الكارثة والبيئة المحلية، وتتفادى توليد</a:t>
            </a:r>
            <a:endParaRPr b="0" lang="en-US" sz="28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مقاومة للمواد الكيميائية المستعملة.</a:t>
            </a:r>
            <a:endParaRPr b="0" lang="en-US" sz="2800" spc="-1" strike="noStrike">
              <a:solidFill>
                <a:srgbClr val="ccecff"/>
              </a:solidFill>
              <a:latin typeface="Times New Roman"/>
            </a:endParaRPr>
          </a:p>
        </p:txBody>
      </p:sp>
      <p:sp>
        <p:nvSpPr>
          <p:cNvPr id="165" name="Line 6"/>
          <p:cNvSpPr/>
          <p:nvPr/>
        </p:nvSpPr>
        <p:spPr>
          <a:xfrm>
            <a:off x="304920" y="1752480"/>
            <a:ext cx="8458200" cy="1800"/>
          </a:xfrm>
          <a:prstGeom prst="line">
            <a:avLst/>
          </a:prstGeom>
          <a:ln w="763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pic>
        <p:nvPicPr>
          <p:cNvPr id="166" name="Picture 8" descr="larviciding-1"/>
          <p:cNvPicPr/>
          <p:nvPr/>
        </p:nvPicPr>
        <p:blipFill>
          <a:blip r:embed="rId1"/>
          <a:stretch/>
        </p:blipFill>
        <p:spPr>
          <a:xfrm>
            <a:off x="311040" y="1954080"/>
            <a:ext cx="3505320" cy="3178440"/>
          </a:xfrm>
          <a:prstGeom prst="rect">
            <a:avLst/>
          </a:prstGeom>
          <a:ln w="0">
            <a:noFill/>
          </a:ln>
        </p:spPr>
      </p:pic>
      <p:sp>
        <p:nvSpPr>
          <p:cNvPr id="167" name="Text Box 9"/>
          <p:cNvSpPr/>
          <p:nvPr/>
        </p:nvSpPr>
        <p:spPr>
          <a:xfrm>
            <a:off x="82440" y="5132520"/>
            <a:ext cx="39625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cs typeface="Traditional Arabic"/>
              </a:rPr>
              <a:t>صورة لمكافحة الديدان من موقع</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ww.chesapeake.va.us/.../</a:t>
            </a:r>
            <a:endParaRPr b="0" lang="en-US" sz="2400" spc="-1" strike="noStrike">
              <a:solidFill>
                <a:srgbClr val="ccecff"/>
              </a:solidFill>
              <a:latin typeface="Times New Roman"/>
            </a:endParaRPr>
          </a:p>
        </p:txBody>
      </p:sp>
      <p:sp>
        <p:nvSpPr>
          <p:cNvPr id="168" name="Text Box 6"/>
          <p:cNvSpPr/>
          <p:nvPr/>
        </p:nvSpPr>
        <p:spPr>
          <a:xfrm>
            <a:off x="114120" y="6299280"/>
            <a:ext cx="7405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111</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380880" y="152280"/>
            <a:ext cx="838224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إدارة النفايات الصلبة رقم </a:t>
            </a:r>
            <a:r>
              <a:rPr b="1" lang="ar-SA" sz="4400" spc="-1" strike="noStrike">
                <a:solidFill>
                  <a:srgbClr val="ccecff"/>
                </a:solidFill>
                <a:latin typeface="Times New Roman"/>
                <a:ea typeface="Traditional Arabic"/>
              </a:rPr>
              <a:t>1</a:t>
            </a:r>
            <a:r>
              <a:rPr b="1" lang="ar-SA" sz="4400" spc="-1" strike="noStrike">
                <a:solidFill>
                  <a:srgbClr val="ccecff"/>
                </a:solidFill>
                <a:latin typeface="Times New Roman"/>
                <a:ea typeface="Traditional Arabic"/>
              </a:rPr>
              <a:t>:</a:t>
            </a:r>
            <a:endParaRPr b="0" lang="en-US" sz="44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ea typeface="Traditional Arabic"/>
              </a:rPr>
              <a:t> جمع النفايات والتخلص منها</a:t>
            </a:r>
            <a:endParaRPr b="0" lang="en-US" sz="4400" spc="-1" strike="noStrike">
              <a:solidFill>
                <a:srgbClr val="ccecff"/>
              </a:solidFill>
              <a:latin typeface="Times New Roman"/>
            </a:endParaRPr>
          </a:p>
        </p:txBody>
      </p:sp>
      <p:sp>
        <p:nvSpPr>
          <p:cNvPr id="170" name="Text Box 4"/>
          <p:cNvSpPr/>
          <p:nvPr/>
        </p:nvSpPr>
        <p:spPr>
          <a:xfrm>
            <a:off x="4121280" y="2584440"/>
            <a:ext cx="4647960" cy="26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ينبغي أن تكون بيئة السكان المتضررين خالية من النفايات الصلبة، بما فيها النفايات الطبية، وأن تتاح لهم وسائل التخلص من نفاياتهم المنزلية بشكل مناسب وفعال.</a:t>
            </a:r>
            <a:endParaRPr b="0" lang="en-US" sz="2800" spc="-1" strike="noStrike">
              <a:solidFill>
                <a:srgbClr val="ccecff"/>
              </a:solidFill>
              <a:latin typeface="Times New Roman"/>
            </a:endParaRPr>
          </a:p>
        </p:txBody>
      </p:sp>
      <p:sp>
        <p:nvSpPr>
          <p:cNvPr id="171" name="Line 6"/>
          <p:cNvSpPr/>
          <p:nvPr/>
        </p:nvSpPr>
        <p:spPr>
          <a:xfrm>
            <a:off x="304920" y="2362320"/>
            <a:ext cx="8458200" cy="1440"/>
          </a:xfrm>
          <a:prstGeom prst="line">
            <a:avLst/>
          </a:prstGeom>
          <a:ln w="7632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ccecff"/>
              </a:solidFill>
              <a:latin typeface="Times New Roman"/>
            </a:endParaRPr>
          </a:p>
        </p:txBody>
      </p:sp>
      <p:pic>
        <p:nvPicPr>
          <p:cNvPr id="172" name="Picture 8" descr="trash"/>
          <p:cNvPicPr/>
          <p:nvPr/>
        </p:nvPicPr>
        <p:blipFill>
          <a:blip r:embed="rId1"/>
          <a:stretch/>
        </p:blipFill>
        <p:spPr>
          <a:xfrm>
            <a:off x="152280" y="2590920"/>
            <a:ext cx="3402000" cy="3504960"/>
          </a:xfrm>
          <a:prstGeom prst="rect">
            <a:avLst/>
          </a:prstGeom>
          <a:ln w="0">
            <a:noFill/>
          </a:ln>
        </p:spPr>
      </p:pic>
      <p:sp>
        <p:nvSpPr>
          <p:cNvPr id="173" name="Rectangle 5"/>
          <p:cNvSpPr/>
          <p:nvPr/>
        </p:nvSpPr>
        <p:spPr>
          <a:xfrm>
            <a:off x="3809880" y="6172200"/>
            <a:ext cx="5181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112</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4419720" y="2514600"/>
            <a:ext cx="4548240" cy="3506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ينبغي تقليل المخاطر على الصحة وغيرها من المخاطر الناجمة عن التعرية بفعل الماء والمياه الراكدة، بما فيها مياه الأعاصير والفيضانات، ومياه الصرف المنزلية، ومياه صرف المرافق الطبية، إلى أدنى حد ممكن.</a:t>
            </a:r>
            <a:endParaRPr b="0" lang="en-US" sz="2800" spc="-1" strike="noStrike">
              <a:solidFill>
                <a:srgbClr val="ccecff"/>
              </a:solidFill>
              <a:latin typeface="Times New Roman"/>
            </a:endParaRPr>
          </a:p>
        </p:txBody>
      </p:sp>
      <p:sp>
        <p:nvSpPr>
          <p:cNvPr id="175" name="Text Box 4"/>
          <p:cNvSpPr/>
          <p:nvPr/>
        </p:nvSpPr>
        <p:spPr>
          <a:xfrm>
            <a:off x="457200" y="152280"/>
            <a:ext cx="83818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صرف الصحي رقم </a:t>
            </a:r>
            <a:r>
              <a:rPr b="1" lang="ar-SA" sz="4400" spc="-1" strike="noStrike">
                <a:solidFill>
                  <a:srgbClr val="ccecff"/>
                </a:solidFill>
                <a:latin typeface="Times New Roman"/>
                <a:ea typeface="Traditional Arabic"/>
              </a:rPr>
              <a:t>1</a:t>
            </a:r>
            <a:r>
              <a:rPr b="1" lang="ar-SA" sz="4400" spc="-1" strike="noStrike">
                <a:solidFill>
                  <a:srgbClr val="ccecff"/>
                </a:solidFill>
                <a:latin typeface="Times New Roman"/>
                <a:ea typeface="Traditional Arabic"/>
              </a:rPr>
              <a:t>: أعمال الصرف</a:t>
            </a:r>
            <a:endParaRPr b="0" lang="en-US" sz="4400" spc="-1" strike="noStrike">
              <a:solidFill>
                <a:srgbClr val="ccecff"/>
              </a:solidFill>
              <a:latin typeface="Times New Roman"/>
            </a:endParaRPr>
          </a:p>
        </p:txBody>
      </p:sp>
      <p:sp>
        <p:nvSpPr>
          <p:cNvPr id="176" name="Line 5"/>
          <p:cNvSpPr/>
          <p:nvPr/>
        </p:nvSpPr>
        <p:spPr>
          <a:xfrm>
            <a:off x="304920" y="1600200"/>
            <a:ext cx="8458200" cy="1440"/>
          </a:xfrm>
          <a:prstGeom prst="line">
            <a:avLst/>
          </a:prstGeom>
          <a:ln w="7632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ccecff"/>
              </a:solidFill>
              <a:latin typeface="Times New Roman"/>
            </a:endParaRPr>
          </a:p>
        </p:txBody>
      </p:sp>
      <p:pic>
        <p:nvPicPr>
          <p:cNvPr id="177" name="Picture 7" descr="flood_171202_1"/>
          <p:cNvPicPr/>
          <p:nvPr/>
        </p:nvPicPr>
        <p:blipFill>
          <a:blip r:embed="rId1"/>
          <a:stretch/>
        </p:blipFill>
        <p:spPr>
          <a:xfrm>
            <a:off x="169920" y="1752480"/>
            <a:ext cx="4083120" cy="4114800"/>
          </a:xfrm>
          <a:prstGeom prst="rect">
            <a:avLst/>
          </a:prstGeom>
          <a:ln w="0">
            <a:noFill/>
          </a:ln>
        </p:spPr>
      </p:pic>
      <p:sp>
        <p:nvSpPr>
          <p:cNvPr id="178" name="Text Box 8"/>
          <p:cNvSpPr/>
          <p:nvPr/>
        </p:nvSpPr>
        <p:spPr>
          <a:xfrm>
            <a:off x="0" y="6095880"/>
            <a:ext cx="3886200" cy="6732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ecff"/>
                </a:solidFill>
                <a:latin typeface="Times New Roman"/>
                <a:cs typeface="Traditional Arabic"/>
              </a:rPr>
              <a:t>الصورة مأخوذة من موقع </a:t>
            </a:r>
            <a:r>
              <a:rPr b="0" lang="en-US" sz="1800" spc="-1" strike="noStrike">
                <a:solidFill>
                  <a:srgbClr val="ccecff"/>
                </a:solidFill>
                <a:latin typeface="Times New Roman"/>
                <a:ea typeface="Traditional Arabic"/>
              </a:rPr>
              <a:t>www.tamilnet.com</a:t>
            </a:r>
            <a:r>
              <a:rPr b="0" lang="en-US" sz="1800" spc="-1" strike="noStrike">
                <a:solidFill>
                  <a:srgbClr val="ccecff"/>
                </a:solidFill>
                <a:latin typeface="Times New Roman"/>
                <a:ea typeface="Traditional Arabic"/>
              </a:rPr>
              <a:t> </a:t>
            </a:r>
            <a:endParaRPr b="0" lang="en-US" sz="1800" spc="-1" strike="noStrike">
              <a:solidFill>
                <a:srgbClr val="ccecff"/>
              </a:solidFill>
              <a:latin typeface="Times New Roman"/>
            </a:endParaRPr>
          </a:p>
        </p:txBody>
      </p:sp>
      <p:sp>
        <p:nvSpPr>
          <p:cNvPr id="179" name="Text Box 6"/>
          <p:cNvSpPr/>
          <p:nvPr/>
        </p:nvSpPr>
        <p:spPr>
          <a:xfrm>
            <a:off x="2981880" y="6095880"/>
            <a:ext cx="736344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116</a:t>
            </a:r>
            <a:r>
              <a:rPr b="1" lang="ar-SA" sz="2400" spc="-1" strike="noStrike">
                <a:solidFill>
                  <a:srgbClr val="ffffff"/>
                </a:solidFill>
                <a:latin typeface="Arial"/>
                <a:ea typeface="Traditional Arabic"/>
              </a:rPr>
              <a:t> من دليل </a:t>
            </a:r>
            <a:r>
              <a:rPr b="0" lang="ar-SA" sz="2800" spc="-1" strike="noStrike">
                <a:solidFill>
                  <a:srgbClr val="ffffff"/>
                </a:solidFill>
                <a:latin typeface="Arial"/>
                <a:cs typeface="Traditional Arabic"/>
              </a:rPr>
              <a:t>اسفير</a:t>
            </a:r>
            <a:r>
              <a:rPr b="1" lang="ar-SA" sz="2800" spc="-1" strike="noStrike">
                <a:solidFill>
                  <a:srgbClr val="ffffff"/>
                </a:solidFill>
                <a:latin typeface="Arial"/>
                <a:ea typeface="Traditional Arabic"/>
              </a:rPr>
              <a:t> </a:t>
            </a:r>
            <a:r>
              <a:rPr b="1" lang="ar-SA" sz="2400" spc="-1" strike="noStrike">
                <a:solidFill>
                  <a:srgbClr val="ffffff"/>
                </a:solidFill>
                <a:latin typeface="Arial"/>
                <a:ea typeface="Traditional Arabic"/>
              </a:rPr>
              <a:t>-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994760" y="111240"/>
            <a:ext cx="7646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Black"/>
                <a:cs typeface="Traditional Arabic"/>
              </a:rPr>
              <a:t>رسم صورة ذهنية للمؤشرات</a:t>
            </a:r>
            <a:r>
              <a:rPr b="1" lang="ar-SA" sz="3600" spc="-1" strike="noStrike">
                <a:solidFill>
                  <a:srgbClr val="ffffff"/>
                </a:solidFill>
                <a:latin typeface="Arial Black"/>
                <a:ea typeface="Traditional Arabic"/>
              </a:rPr>
              <a:t> </a:t>
            </a:r>
            <a:r>
              <a:rPr b="1" lang="ar-SA" sz="3600" spc="-1" strike="noStrike">
                <a:solidFill>
                  <a:srgbClr val="ffffff"/>
                </a:solidFill>
                <a:latin typeface="Arial Black"/>
                <a:ea typeface="Traditional Arabic"/>
              </a:rPr>
              <a:t>. . . </a:t>
            </a:r>
            <a:endParaRPr b="0" lang="en-US" sz="3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181" name="Text Box 3"/>
          <p:cNvSpPr/>
          <p:nvPr/>
        </p:nvSpPr>
        <p:spPr>
          <a:xfrm>
            <a:off x="3962520" y="1755720"/>
            <a:ext cx="4952880" cy="3751560"/>
          </a:xfrm>
          <a:prstGeom prst="rect">
            <a:avLst/>
          </a:prstGeom>
          <a:noFill/>
          <a:ln w="0">
            <a:noFill/>
          </a:ln>
        </p:spPr>
        <p:style>
          <a:lnRef idx="0"/>
          <a:fillRef idx="0"/>
          <a:effectRef idx="0"/>
          <a:fontRef idx="minor"/>
        </p:style>
        <p:txBody>
          <a:bodyPr lIns="90000" rIns="90000" tIns="46800" bIns="46800" anchor="t">
            <a:spAutoFit/>
          </a:bodyPr>
          <a:p>
            <a:pPr marL="227160" indent="-2271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شخيص المخاطر الأساسية</a:t>
            </a:r>
            <a:endParaRPr b="0" lang="en-US" sz="2400" spc="-1" strike="noStrike">
              <a:solidFill>
                <a:srgbClr val="ccecff"/>
              </a:solidFill>
              <a:latin typeface="Times New Roman"/>
            </a:endParaRPr>
          </a:p>
          <a:p>
            <a:pPr marL="227160" indent="-2271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شتمل البرامج على آليات للمشاركة المجتمعية</a:t>
            </a:r>
            <a:endParaRPr b="0" lang="en-US" sz="2400" spc="-1" strike="noStrike">
              <a:solidFill>
                <a:srgbClr val="ccecff"/>
              </a:solidFill>
              <a:latin typeface="Times New Roman"/>
            </a:endParaRPr>
          </a:p>
          <a:p>
            <a:pPr marL="227160" indent="-2271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جميع الفئات يمكنها الوصول للخدمات بصورة آمنة وعادلة</a:t>
            </a:r>
            <a:endParaRPr b="0" lang="en-US" sz="2400" spc="-1" strike="noStrike">
              <a:solidFill>
                <a:srgbClr val="ccecff"/>
              </a:solidFill>
              <a:latin typeface="Times New Roman"/>
            </a:endParaRPr>
          </a:p>
          <a:p>
            <a:pPr marL="227160" indent="-2271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عاملين في قطاع الإمداد بالماء والإصحاح والنهوض بالنظافة يتواصلون بطريقة واضحة ويمكنهم الإجابة على أسئلة أفراد المجتمع</a:t>
            </a:r>
            <a:endParaRPr b="0" lang="en-US" sz="2400" spc="-1" strike="noStrike">
              <a:solidFill>
                <a:srgbClr val="ccecff"/>
              </a:solidFill>
              <a:latin typeface="Times New Roman"/>
            </a:endParaRPr>
          </a:p>
          <a:p>
            <a:pPr marL="227160" indent="-2271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جود نظام للصيانة والإدارة</a:t>
            </a:r>
            <a:endParaRPr b="0" lang="en-US" sz="2400" spc="-1" strike="noStrike">
              <a:solidFill>
                <a:srgbClr val="ccecff"/>
              </a:solidFill>
              <a:latin typeface="Times New Roman"/>
            </a:endParaRPr>
          </a:p>
        </p:txBody>
      </p:sp>
      <p:sp>
        <p:nvSpPr>
          <p:cNvPr id="182" name="Text Box 4"/>
          <p:cNvSpPr/>
          <p:nvPr/>
        </p:nvSpPr>
        <p:spPr>
          <a:xfrm>
            <a:off x="2786760" y="838080"/>
            <a:ext cx="3672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cs typeface="Traditional Arabic"/>
              </a:rPr>
              <a:t>النهوض بالنظافة</a:t>
            </a:r>
            <a:r>
              <a:rPr b="1" lang="ar-SA" sz="3200" spc="-1" strike="noStrike">
                <a:solidFill>
                  <a:srgbClr val="ccecff"/>
                </a:solidFill>
                <a:latin typeface="Arial"/>
                <a:ea typeface="Traditional Arabic"/>
              </a:rPr>
              <a:t>:</a:t>
            </a:r>
            <a:endParaRPr b="0" lang="en-US" sz="3200" spc="-1" strike="noStrike">
              <a:solidFill>
                <a:srgbClr val="ccecff"/>
              </a:solidFill>
              <a:latin typeface="Times New Roman"/>
            </a:endParaRPr>
          </a:p>
        </p:txBody>
      </p:sp>
      <p:sp>
        <p:nvSpPr>
          <p:cNvPr id="183" name="Text Box 6"/>
          <p:cNvSpPr/>
          <p:nvPr/>
        </p:nvSpPr>
        <p:spPr>
          <a:xfrm>
            <a:off x="263520" y="5581800"/>
            <a:ext cx="8728200" cy="1556280"/>
          </a:xfrm>
          <a:prstGeom prst="rect">
            <a:avLst/>
          </a:prstGeom>
          <a:noFill/>
          <a:ln w="0">
            <a:noFill/>
          </a:ln>
        </p:spPr>
        <p:style>
          <a:lnRef idx="0"/>
          <a:fillRef idx="0"/>
          <a:effectRef idx="0"/>
          <a:fontRef idx="minor"/>
        </p:style>
        <p:txBody>
          <a:bodyPr lIns="90000" rIns="90000" tIns="46800" bIns="46800" anchor="t">
            <a:spAutoFit/>
          </a:bodyPr>
          <a:p>
            <a:pPr marL="571680" indent="-571680"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سؤال: كم عدد مرشدي النظافة/ العاملين الاجتماعيين الذين يجب توفيرهم في مخيم اللاجئين؟ (انظر ص </a:t>
            </a:r>
            <a:r>
              <a:rPr b="1" lang="ar-SA" sz="3200" spc="-1" strike="noStrike">
                <a:solidFill>
                  <a:srgbClr val="ffffff"/>
                </a:solidFill>
                <a:latin typeface="Arial"/>
                <a:ea typeface="Traditional Arabic"/>
              </a:rPr>
              <a:t>88</a:t>
            </a:r>
            <a:r>
              <a:rPr b="1" lang="ar-SA" sz="3200" spc="-1" strike="noStrike">
                <a:solidFill>
                  <a:srgbClr val="ffffff"/>
                </a:solidFill>
                <a:latin typeface="Arial"/>
                <a:ea typeface="Traditional Arabic"/>
              </a:rPr>
              <a:t>)</a:t>
            </a:r>
            <a:endParaRPr b="0" lang="en-US" sz="3200" spc="-1" strike="noStrike">
              <a:solidFill>
                <a:srgbClr val="ccecff"/>
              </a:solidFill>
              <a:latin typeface="Times New Roman"/>
            </a:endParaRPr>
          </a:p>
        </p:txBody>
      </p:sp>
      <p:pic>
        <p:nvPicPr>
          <p:cNvPr id="184" name="Picture 7" descr="campsign"/>
          <p:cNvPicPr/>
          <p:nvPr/>
        </p:nvPicPr>
        <p:blipFill>
          <a:blip r:embed="rId1"/>
          <a:stretch/>
        </p:blipFill>
        <p:spPr>
          <a:xfrm>
            <a:off x="304920" y="1600200"/>
            <a:ext cx="3504960" cy="3359160"/>
          </a:xfrm>
          <a:prstGeom prst="rect">
            <a:avLst/>
          </a:prstGeom>
          <a:ln w="0">
            <a:noFill/>
          </a:ln>
        </p:spPr>
      </p:pic>
      <p:sp>
        <p:nvSpPr>
          <p:cNvPr id="185" name="Text Box 6"/>
          <p:cNvSpPr/>
          <p:nvPr/>
        </p:nvSpPr>
        <p:spPr>
          <a:xfrm>
            <a:off x="1267200" y="502920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84</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2828880" y="1278000"/>
            <a:ext cx="6019920" cy="3020040"/>
          </a:xfrm>
          <a:prstGeom prst="rect">
            <a:avLst/>
          </a:prstGeom>
          <a:noFill/>
          <a:ln w="0">
            <a:noFill/>
          </a:ln>
        </p:spPr>
        <p:style>
          <a:lnRef idx="0"/>
          <a:fillRef idx="0"/>
          <a:effectRef idx="0"/>
          <a:fontRef idx="minor"/>
        </p:style>
        <p:txBody>
          <a:bodyPr lIns="90000" rIns="90000" tIns="46800" bIns="46800" anchor="t">
            <a:spAutoFit/>
          </a:bodyPr>
          <a:p>
            <a:pPr marL="227160" indent="-2271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يمكن لجميع السكان الحصول على لوازم النظافة (الصابون، خزانات المياه)</a:t>
            </a:r>
            <a:endParaRPr b="0" lang="en-US" sz="2400" spc="-1" strike="noStrike">
              <a:solidFill>
                <a:srgbClr val="ccecff"/>
              </a:solidFill>
              <a:latin typeface="Times New Roman"/>
            </a:endParaRPr>
          </a:p>
          <a:p>
            <a:pPr marL="227160" indent="-2271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تزويد النساء والفتيات في سن الحيض بلوازم الحيض بعد التشاور معهن بشأن المواد المناسبة</a:t>
            </a:r>
            <a:endParaRPr b="0" lang="en-US" sz="2400" spc="-1" strike="noStrike">
              <a:solidFill>
                <a:srgbClr val="ccecff"/>
              </a:solidFill>
              <a:latin typeface="Times New Roman"/>
            </a:endParaRPr>
          </a:p>
          <a:p>
            <a:pPr marL="227160" indent="-2271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يمكن للجميع الحصول على التدريب والمعلومات</a:t>
            </a:r>
            <a:endParaRPr b="0" lang="en-US" sz="2400" spc="-1" strike="noStrike">
              <a:solidFill>
                <a:srgbClr val="ccecff"/>
              </a:solidFill>
              <a:latin typeface="Times New Roman"/>
            </a:endParaRPr>
          </a:p>
        </p:txBody>
      </p:sp>
      <p:sp>
        <p:nvSpPr>
          <p:cNvPr id="187" name="Text Box 4"/>
          <p:cNvSpPr/>
          <p:nvPr/>
        </p:nvSpPr>
        <p:spPr>
          <a:xfrm>
            <a:off x="4114800" y="685800"/>
            <a:ext cx="24051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cs typeface="Traditional Arabic"/>
              </a:rPr>
              <a:t>لوازم النظافة</a:t>
            </a:r>
            <a:endParaRPr b="0" lang="en-US" sz="3200" spc="-1" strike="noStrike">
              <a:solidFill>
                <a:srgbClr val="ccecff"/>
              </a:solidFill>
              <a:latin typeface="Times New Roman"/>
            </a:endParaRPr>
          </a:p>
        </p:txBody>
      </p:sp>
      <p:sp>
        <p:nvSpPr>
          <p:cNvPr id="188" name="Text Box 6"/>
          <p:cNvSpPr/>
          <p:nvPr/>
        </p:nvSpPr>
        <p:spPr>
          <a:xfrm>
            <a:off x="700200" y="5560920"/>
            <a:ext cx="7978680" cy="1739880"/>
          </a:xfrm>
          <a:prstGeom prst="rect">
            <a:avLst/>
          </a:prstGeom>
          <a:noFill/>
          <a:ln w="0">
            <a:noFill/>
          </a:ln>
        </p:spPr>
        <p:style>
          <a:lnRef idx="0"/>
          <a:fillRef idx="0"/>
          <a:effectRef idx="0"/>
          <a:fontRef idx="minor"/>
        </p:style>
        <p:txBody>
          <a:bodyPr lIns="90000" rIns="90000" tIns="46800" bIns="46800" anchor="t">
            <a:spAutoFit/>
          </a:bodyPr>
          <a:p>
            <a:pPr marL="571680" indent="-571680"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Traditional Arabic"/>
              </a:rPr>
              <a:t> على كم جرام من الصابون يجب أن يحصل الشخص الواحد في المخيم كل شهر؟</a:t>
            </a:r>
            <a:endParaRPr b="0" lang="en-US" sz="3600" spc="-1" strike="noStrike">
              <a:solidFill>
                <a:srgbClr val="ccecff"/>
              </a:solidFill>
              <a:latin typeface="Times New Roman"/>
            </a:endParaRPr>
          </a:p>
        </p:txBody>
      </p:sp>
      <p:sp>
        <p:nvSpPr>
          <p:cNvPr id="189" name="Text Box 5"/>
          <p:cNvSpPr/>
          <p:nvPr/>
        </p:nvSpPr>
        <p:spPr>
          <a:xfrm>
            <a:off x="2634480" y="616104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ص </a:t>
            </a:r>
            <a:r>
              <a:rPr b="1" lang="ar-SA" sz="2400" spc="-1" strike="noStrike">
                <a:solidFill>
                  <a:srgbClr val="ff9900"/>
                </a:solidFill>
                <a:latin typeface="Arial"/>
              </a:rPr>
              <a:t>90</a:t>
            </a:r>
            <a:endParaRPr b="0" lang="en-US" sz="2400" spc="-1" strike="noStrike">
              <a:solidFill>
                <a:srgbClr val="ccecff"/>
              </a:solidFill>
              <a:latin typeface="Times New Roman"/>
            </a:endParaRPr>
          </a:p>
        </p:txBody>
      </p:sp>
      <p:pic>
        <p:nvPicPr>
          <p:cNvPr id="190" name="Picture 5" descr="http://www.crimerant.com/wp-content/uploads/2009/10/soap.gif"/>
          <p:cNvPicPr/>
          <p:nvPr/>
        </p:nvPicPr>
        <p:blipFill>
          <a:blip r:embed="rId1"/>
          <a:stretch/>
        </p:blipFill>
        <p:spPr>
          <a:xfrm rot="19985400">
            <a:off x="1440" y="353520"/>
            <a:ext cx="1793880" cy="1273320"/>
          </a:xfrm>
          <a:prstGeom prst="rect">
            <a:avLst/>
          </a:prstGeom>
          <a:ln w="0">
            <a:noFill/>
          </a:ln>
        </p:spPr>
      </p:pic>
      <p:pic>
        <p:nvPicPr>
          <p:cNvPr id="191" name="Picture 5" descr="http://www.crimerant.com/wp-content/uploads/2009/10/soap.gif"/>
          <p:cNvPicPr/>
          <p:nvPr/>
        </p:nvPicPr>
        <p:blipFill>
          <a:blip r:embed="rId2"/>
          <a:stretch/>
        </p:blipFill>
        <p:spPr>
          <a:xfrm rot="20347800">
            <a:off x="442800" y="1750680"/>
            <a:ext cx="1793880" cy="1273320"/>
          </a:xfrm>
          <a:prstGeom prst="rect">
            <a:avLst/>
          </a:prstGeom>
          <a:ln w="0">
            <a:noFill/>
          </a:ln>
        </p:spPr>
      </p:pic>
      <p:pic>
        <p:nvPicPr>
          <p:cNvPr id="192" name="Picture 10" descr="http://www.crimerant.com/wp-content/uploads/2009/10/soap.gif"/>
          <p:cNvPicPr/>
          <p:nvPr/>
        </p:nvPicPr>
        <p:blipFill>
          <a:blip r:embed="rId3"/>
          <a:stretch/>
        </p:blipFill>
        <p:spPr>
          <a:xfrm rot="20713200">
            <a:off x="31320" y="998280"/>
            <a:ext cx="1793880" cy="1272960"/>
          </a:xfrm>
          <a:prstGeom prst="rect">
            <a:avLst/>
          </a:prstGeom>
          <a:ln w="0">
            <a:noFill/>
          </a:ln>
        </p:spPr>
      </p:pic>
      <p:pic>
        <p:nvPicPr>
          <p:cNvPr id="193" name="Picture 11" descr="http://www.crimerant.com/wp-content/uploads/2009/10/soap.gif"/>
          <p:cNvPicPr/>
          <p:nvPr/>
        </p:nvPicPr>
        <p:blipFill>
          <a:blip r:embed="rId4"/>
          <a:stretch/>
        </p:blipFill>
        <p:spPr>
          <a:xfrm rot="21102000">
            <a:off x="322200" y="2509560"/>
            <a:ext cx="1793880" cy="1272960"/>
          </a:xfrm>
          <a:prstGeom prst="rect">
            <a:avLst/>
          </a:prstGeom>
          <a:ln w="0">
            <a:noFill/>
          </a:ln>
        </p:spPr>
      </p:pic>
      <p:pic>
        <p:nvPicPr>
          <p:cNvPr id="194" name="Picture 12" descr="http://www.crimerant.com/wp-content/uploads/2009/10/soap.gif"/>
          <p:cNvPicPr/>
          <p:nvPr/>
        </p:nvPicPr>
        <p:blipFill>
          <a:blip r:embed="rId5"/>
          <a:stretch/>
        </p:blipFill>
        <p:spPr>
          <a:xfrm>
            <a:off x="372960" y="3465360"/>
            <a:ext cx="1793880" cy="1273320"/>
          </a:xfrm>
          <a:prstGeom prst="rect">
            <a:avLst/>
          </a:prstGeom>
          <a:ln w="0">
            <a:noFill/>
          </a:ln>
        </p:spPr>
      </p:pic>
      <p:sp>
        <p:nvSpPr>
          <p:cNvPr id="195" name="Text Box 5"/>
          <p:cNvSpPr/>
          <p:nvPr/>
        </p:nvSpPr>
        <p:spPr>
          <a:xfrm>
            <a:off x="6368760" y="3429000"/>
            <a:ext cx="244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راجع صفحة </a:t>
            </a:r>
            <a:r>
              <a:rPr b="1" lang="ar-SA" sz="2400" spc="-1" strike="noStrike">
                <a:solidFill>
                  <a:srgbClr val="ffffff"/>
                </a:solidFill>
                <a:latin typeface="Arial"/>
                <a:ea typeface="Traditional Arabic"/>
              </a:rPr>
              <a:t>89</a:t>
            </a:r>
            <a:endParaRPr b="0" lang="en-US" sz="2400" spc="-1" strike="noStrike">
              <a:solidFill>
                <a:srgbClr val="ccecff"/>
              </a:solidFill>
              <a:latin typeface="Times New Roman"/>
            </a:endParaRPr>
          </a:p>
        </p:txBody>
      </p:sp>
      <p:sp>
        <p:nvSpPr>
          <p:cNvPr id="196" name="Text Box 2"/>
          <p:cNvSpPr/>
          <p:nvPr/>
        </p:nvSpPr>
        <p:spPr>
          <a:xfrm>
            <a:off x="1994760" y="111240"/>
            <a:ext cx="7646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Black"/>
                <a:cs typeface="Traditional Arabic"/>
              </a:rPr>
              <a:t>رسم صورة ذهنية للمؤشرات</a:t>
            </a:r>
            <a:r>
              <a:rPr b="1" lang="ar-SA" sz="3600" spc="-1" strike="noStrike">
                <a:solidFill>
                  <a:srgbClr val="ffffff"/>
                </a:solidFill>
                <a:latin typeface="Arial Black"/>
                <a:ea typeface="Traditional Arabic"/>
              </a:rPr>
              <a:t> </a:t>
            </a:r>
            <a:r>
              <a:rPr b="1" lang="ar-SA" sz="3600" spc="-1" strike="noStrike">
                <a:solidFill>
                  <a:srgbClr val="ffffff"/>
                </a:solidFill>
                <a:latin typeface="Arial Black"/>
                <a:ea typeface="Traditional Arabic"/>
              </a:rPr>
              <a:t>. . . </a:t>
            </a:r>
            <a:endParaRPr b="0" lang="en-US" sz="3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197" name="Text Box 6"/>
          <p:cNvSpPr/>
          <p:nvPr/>
        </p:nvSpPr>
        <p:spPr>
          <a:xfrm>
            <a:off x="1267200" y="502920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96</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3"/>
          <p:cNvSpPr/>
          <p:nvPr/>
        </p:nvSpPr>
        <p:spPr>
          <a:xfrm>
            <a:off x="3710160" y="2173320"/>
            <a:ext cx="5257800" cy="545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يبلغ متوسط الماء المستعمل للشرب والطهي والنظافة الشخصية </a:t>
            </a:r>
            <a:r>
              <a:rPr b="0" lang="ar-SA" sz="3200" spc="-1" strike="noStrike">
                <a:solidFill>
                  <a:srgbClr val="ffffff"/>
                </a:solidFill>
                <a:latin typeface="Times New Roman"/>
                <a:ea typeface="Traditional Arabic"/>
              </a:rPr>
              <a:t>15</a:t>
            </a:r>
            <a:r>
              <a:rPr b="0" lang="ar-SA" sz="3200" spc="-1" strike="noStrike">
                <a:solidFill>
                  <a:srgbClr val="ffffff"/>
                </a:solidFill>
                <a:latin typeface="Times New Roman"/>
                <a:ea typeface="Traditional Arabic"/>
              </a:rPr>
              <a:t> لتراً يوميا</a:t>
            </a:r>
            <a:r>
              <a:rPr b="0" lang="en-US" sz="3200" spc="-1" strike="noStrike">
                <a:solidFill>
                  <a:srgbClr val="ffffff"/>
                </a:solidFill>
                <a:latin typeface="Times New Roman"/>
                <a:ea typeface="Traditional Arabic"/>
              </a:rPr>
              <a:t> </a:t>
            </a:r>
            <a:r>
              <a:rPr b="0" lang="ar-SA" sz="3200" spc="-1" strike="noStrike">
                <a:solidFill>
                  <a:srgbClr val="ffffff"/>
                </a:solidFill>
                <a:latin typeface="Times New Roman"/>
                <a:ea typeface="Traditional Arabic"/>
              </a:rPr>
              <a:t> لكل شخص.</a:t>
            </a:r>
            <a:endParaRPr b="0" lang="en-US" sz="3200" spc="-1" strike="noStrike">
              <a:solidFill>
                <a:srgbClr val="ccecff"/>
              </a:solidFill>
              <a:latin typeface="Times New Roman"/>
            </a:endParaRPr>
          </a:p>
          <a:p>
            <a:pPr marL="343080" indent="-34308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لا تتجاوز المسافة بين أي مسكن وأقرب موقع لتوزيع الماء عن </a:t>
            </a:r>
            <a:r>
              <a:rPr b="0" lang="ar-SA" sz="3200" spc="-1" strike="noStrike">
                <a:solidFill>
                  <a:srgbClr val="ffffff"/>
                </a:solidFill>
                <a:latin typeface="Times New Roman"/>
                <a:ea typeface="Traditional Arabic"/>
              </a:rPr>
              <a:t>500</a:t>
            </a:r>
            <a:r>
              <a:rPr b="0" lang="ar-SA" sz="3200" spc="-1" strike="noStrike">
                <a:solidFill>
                  <a:srgbClr val="ffffff"/>
                </a:solidFill>
                <a:latin typeface="Times New Roman"/>
                <a:ea typeface="Traditional Arabic"/>
              </a:rPr>
              <a:t> متر</a:t>
            </a:r>
            <a:endParaRPr b="0" lang="en-US" sz="3200" spc="-1" strike="noStrike">
              <a:solidFill>
                <a:srgbClr val="ccecff"/>
              </a:solidFill>
              <a:latin typeface="Times New Roman"/>
            </a:endParaRPr>
          </a:p>
          <a:p>
            <a:pPr marL="343080" indent="-34308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لا تتجاوز مدة الوقوف في الطوابير عند مواقع توزيع الماء عن </a:t>
            </a:r>
            <a:r>
              <a:rPr b="0" lang="ar-SA" sz="3200" spc="-1" strike="noStrike">
                <a:solidFill>
                  <a:srgbClr val="ffffff"/>
                </a:solidFill>
                <a:latin typeface="Times New Roman"/>
                <a:ea typeface="Traditional Arabic"/>
              </a:rPr>
              <a:t>30</a:t>
            </a:r>
            <a:r>
              <a:rPr b="0" lang="ar-SA" sz="3200" spc="-1" strike="noStrike">
                <a:solidFill>
                  <a:srgbClr val="ffffff"/>
                </a:solidFill>
                <a:latin typeface="Times New Roman"/>
                <a:ea typeface="Traditional Arabic"/>
              </a:rPr>
              <a:t> دقيقة.</a:t>
            </a:r>
            <a:endParaRPr b="0" lang="en-US" sz="3200" spc="-1" strike="noStrike">
              <a:solidFill>
                <a:srgbClr val="ccec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9" name="Text Box 4"/>
          <p:cNvSpPr/>
          <p:nvPr/>
        </p:nvSpPr>
        <p:spPr>
          <a:xfrm>
            <a:off x="5067720" y="1143000"/>
            <a:ext cx="300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cs typeface="Traditional Arabic"/>
              </a:rPr>
              <a:t>الإمداد بالماء</a:t>
            </a:r>
            <a:endParaRPr b="0" lang="en-US" sz="3600" spc="-1" strike="noStrike">
              <a:solidFill>
                <a:srgbClr val="ccecff"/>
              </a:solidFill>
              <a:latin typeface="Times New Roman"/>
            </a:endParaRPr>
          </a:p>
        </p:txBody>
      </p:sp>
      <p:pic>
        <p:nvPicPr>
          <p:cNvPr id="200" name="Picture 170" descr="faucet"/>
          <p:cNvPicPr/>
          <p:nvPr/>
        </p:nvPicPr>
        <p:blipFill>
          <a:blip r:embed="rId1"/>
          <a:stretch/>
        </p:blipFill>
        <p:spPr>
          <a:xfrm>
            <a:off x="285840" y="1981080"/>
            <a:ext cx="3208320" cy="3429000"/>
          </a:xfrm>
          <a:prstGeom prst="rect">
            <a:avLst/>
          </a:prstGeom>
          <a:ln w="0">
            <a:noFill/>
          </a:ln>
        </p:spPr>
      </p:pic>
      <p:sp>
        <p:nvSpPr>
          <p:cNvPr id="201" name="Text Box 2"/>
          <p:cNvSpPr/>
          <p:nvPr/>
        </p:nvSpPr>
        <p:spPr>
          <a:xfrm>
            <a:off x="5181480" y="228600"/>
            <a:ext cx="3505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Traditional Arabic"/>
              </a:rPr>
              <a:t>تصورللمؤشرات</a:t>
            </a:r>
            <a:r>
              <a:rPr b="1" lang="ar-SA" sz="4000" spc="-1" strike="noStrike">
                <a:solidFill>
                  <a:srgbClr val="ffffff"/>
                </a:solidFill>
                <a:latin typeface="Arial Black"/>
                <a:ea typeface="Traditional Arabic"/>
              </a:rPr>
              <a:t> </a:t>
            </a:r>
            <a:r>
              <a:rPr b="1" lang="ar-SA" sz="4000" spc="-1" strike="noStrike">
                <a:solidFill>
                  <a:srgbClr val="ffffff"/>
                </a:solidFill>
                <a:latin typeface="Arial Black"/>
                <a:ea typeface="Traditional Arabic"/>
              </a:rPr>
              <a:t>. . .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sp>
        <p:nvSpPr>
          <p:cNvPr id="202" name="Text Box 6"/>
          <p:cNvSpPr/>
          <p:nvPr/>
        </p:nvSpPr>
        <p:spPr>
          <a:xfrm>
            <a:off x="1320480" y="6189840"/>
            <a:ext cx="708768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92</a:t>
            </a:r>
            <a:r>
              <a:rPr b="1" lang="ar-SA" sz="2400" spc="-1" strike="noStrike">
                <a:solidFill>
                  <a:srgbClr val="ffffff"/>
                </a:solidFill>
                <a:latin typeface="Arial"/>
                <a:cs typeface="Traditional Arabic"/>
              </a:rPr>
              <a:t>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93"/>
          <p:cNvGrpSpPr/>
          <p:nvPr/>
        </p:nvGrpSpPr>
        <p:grpSpPr>
          <a:xfrm>
            <a:off x="4572000" y="981000"/>
            <a:ext cx="2361960" cy="1409400"/>
            <a:chOff x="4572000" y="981000"/>
            <a:chExt cx="2361960" cy="1409400"/>
          </a:xfrm>
        </p:grpSpPr>
        <p:grpSp>
          <p:nvGrpSpPr>
            <p:cNvPr id="204" name="Group 94"/>
            <p:cNvGrpSpPr/>
            <p:nvPr/>
          </p:nvGrpSpPr>
          <p:grpSpPr>
            <a:xfrm>
              <a:off x="4717800" y="981000"/>
              <a:ext cx="1933920" cy="325080"/>
              <a:chOff x="4717800" y="981000"/>
              <a:chExt cx="1933920" cy="325080"/>
            </a:xfrm>
          </p:grpSpPr>
          <p:sp>
            <p:nvSpPr>
              <p:cNvPr id="205" name="Freeform 95"/>
              <p:cNvSpPr/>
              <p:nvPr/>
            </p:nvSpPr>
            <p:spPr>
              <a:xfrm>
                <a:off x="4892040" y="1047960"/>
                <a:ext cx="44640" cy="212040"/>
              </a:xfrm>
              <a:custGeom>
                <a:avLst/>
                <a:gdLst>
                  <a:gd name="textAreaLeft" fmla="*/ 0 w 44640"/>
                  <a:gd name="textAreaRight" fmla="*/ 45000 w 44640"/>
                  <a:gd name="textAreaTop" fmla="*/ 0 h 212040"/>
                  <a:gd name="textAreaBottom" fmla="*/ 212400 h 212040"/>
                </a:gdLst>
                <a:ahLst/>
                <a:rect l="textAreaLeft" t="textAreaTop" r="textAreaRight" b="textAreaBottom"/>
                <a:pathLst>
                  <a:path w="83" h="399">
                    <a:moveTo>
                      <a:pt x="54" y="5"/>
                    </a:moveTo>
                    <a:lnTo>
                      <a:pt x="35" y="0"/>
                    </a:lnTo>
                    <a:lnTo>
                      <a:pt x="19" y="0"/>
                    </a:lnTo>
                    <a:lnTo>
                      <a:pt x="7" y="3"/>
                    </a:lnTo>
                    <a:lnTo>
                      <a:pt x="1" y="17"/>
                    </a:lnTo>
                    <a:lnTo>
                      <a:pt x="1" y="28"/>
                    </a:lnTo>
                    <a:lnTo>
                      <a:pt x="9" y="42"/>
                    </a:lnTo>
                    <a:lnTo>
                      <a:pt x="14" y="42"/>
                    </a:lnTo>
                    <a:lnTo>
                      <a:pt x="7" y="59"/>
                    </a:lnTo>
                    <a:lnTo>
                      <a:pt x="0" y="86"/>
                    </a:lnTo>
                    <a:lnTo>
                      <a:pt x="0" y="108"/>
                    </a:lnTo>
                    <a:lnTo>
                      <a:pt x="1" y="138"/>
                    </a:lnTo>
                    <a:lnTo>
                      <a:pt x="7" y="166"/>
                    </a:lnTo>
                    <a:lnTo>
                      <a:pt x="17" y="167"/>
                    </a:lnTo>
                    <a:lnTo>
                      <a:pt x="17" y="176"/>
                    </a:lnTo>
                    <a:lnTo>
                      <a:pt x="22" y="180"/>
                    </a:lnTo>
                    <a:lnTo>
                      <a:pt x="22" y="209"/>
                    </a:lnTo>
                    <a:lnTo>
                      <a:pt x="27" y="214"/>
                    </a:lnTo>
                    <a:lnTo>
                      <a:pt x="27" y="268"/>
                    </a:lnTo>
                    <a:lnTo>
                      <a:pt x="27" y="302"/>
                    </a:lnTo>
                    <a:lnTo>
                      <a:pt x="19" y="340"/>
                    </a:lnTo>
                    <a:lnTo>
                      <a:pt x="15" y="389"/>
                    </a:lnTo>
                    <a:lnTo>
                      <a:pt x="24" y="392"/>
                    </a:lnTo>
                    <a:lnTo>
                      <a:pt x="24" y="397"/>
                    </a:lnTo>
                    <a:lnTo>
                      <a:pt x="40" y="397"/>
                    </a:lnTo>
                    <a:lnTo>
                      <a:pt x="41" y="396"/>
                    </a:lnTo>
                    <a:lnTo>
                      <a:pt x="47" y="396"/>
                    </a:lnTo>
                    <a:lnTo>
                      <a:pt x="47" y="399"/>
                    </a:lnTo>
                    <a:lnTo>
                      <a:pt x="58" y="397"/>
                    </a:lnTo>
                    <a:lnTo>
                      <a:pt x="79" y="396"/>
                    </a:lnTo>
                    <a:lnTo>
                      <a:pt x="79" y="392"/>
                    </a:lnTo>
                    <a:lnTo>
                      <a:pt x="59" y="385"/>
                    </a:lnTo>
                    <a:lnTo>
                      <a:pt x="59" y="378"/>
                    </a:lnTo>
                    <a:lnTo>
                      <a:pt x="77" y="375"/>
                    </a:lnTo>
                    <a:lnTo>
                      <a:pt x="77" y="369"/>
                    </a:lnTo>
                    <a:lnTo>
                      <a:pt x="64" y="362"/>
                    </a:lnTo>
                    <a:lnTo>
                      <a:pt x="64" y="307"/>
                    </a:lnTo>
                    <a:lnTo>
                      <a:pt x="69" y="257"/>
                    </a:lnTo>
                    <a:lnTo>
                      <a:pt x="68" y="208"/>
                    </a:lnTo>
                    <a:lnTo>
                      <a:pt x="66" y="180"/>
                    </a:lnTo>
                    <a:lnTo>
                      <a:pt x="69" y="171"/>
                    </a:lnTo>
                    <a:lnTo>
                      <a:pt x="69" y="133"/>
                    </a:lnTo>
                    <a:lnTo>
                      <a:pt x="83" y="122"/>
                    </a:lnTo>
                    <a:lnTo>
                      <a:pt x="83" y="117"/>
                    </a:lnTo>
                    <a:lnTo>
                      <a:pt x="52" y="64"/>
                    </a:lnTo>
                    <a:lnTo>
                      <a:pt x="37" y="58"/>
                    </a:lnTo>
                    <a:lnTo>
                      <a:pt x="38" y="54"/>
                    </a:lnTo>
                    <a:lnTo>
                      <a:pt x="49" y="51"/>
                    </a:lnTo>
                    <a:lnTo>
                      <a:pt x="49" y="49"/>
                    </a:lnTo>
                    <a:lnTo>
                      <a:pt x="52" y="46"/>
                    </a:lnTo>
                    <a:lnTo>
                      <a:pt x="52" y="42"/>
                    </a:lnTo>
                    <a:lnTo>
                      <a:pt x="54" y="41"/>
                    </a:lnTo>
                    <a:lnTo>
                      <a:pt x="52" y="40"/>
                    </a:lnTo>
                    <a:lnTo>
                      <a:pt x="54" y="37"/>
                    </a:lnTo>
                    <a:lnTo>
                      <a:pt x="49" y="28"/>
                    </a:lnTo>
                    <a:lnTo>
                      <a:pt x="52" y="23"/>
                    </a:lnTo>
                    <a:lnTo>
                      <a:pt x="49" y="18"/>
                    </a:lnTo>
                    <a:lnTo>
                      <a:pt x="54" y="14"/>
                    </a:lnTo>
                    <a:lnTo>
                      <a:pt x="54"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6" name="Freeform 96"/>
              <p:cNvSpPr/>
              <p:nvPr/>
            </p:nvSpPr>
            <p:spPr>
              <a:xfrm>
                <a:off x="4717800" y="1053360"/>
                <a:ext cx="72360" cy="242280"/>
              </a:xfrm>
              <a:custGeom>
                <a:avLst/>
                <a:gdLst>
                  <a:gd name="textAreaLeft" fmla="*/ 0 w 72360"/>
                  <a:gd name="textAreaRight" fmla="*/ 72720 w 72360"/>
                  <a:gd name="textAreaTop" fmla="*/ 0 h 242280"/>
                  <a:gd name="textAreaBottom" fmla="*/ 242640 h 242280"/>
                </a:gdLst>
                <a:ahLst/>
                <a:rect l="textAreaLeft" t="textAreaTop" r="textAreaRight" b="textAreaBottom"/>
                <a:pathLst>
                  <a:path w="137" h="453">
                    <a:moveTo>
                      <a:pt x="83" y="5"/>
                    </a:moveTo>
                    <a:lnTo>
                      <a:pt x="110" y="0"/>
                    </a:lnTo>
                    <a:lnTo>
                      <a:pt x="122" y="10"/>
                    </a:lnTo>
                    <a:lnTo>
                      <a:pt x="125" y="6"/>
                    </a:lnTo>
                    <a:lnTo>
                      <a:pt x="133" y="26"/>
                    </a:lnTo>
                    <a:lnTo>
                      <a:pt x="118" y="39"/>
                    </a:lnTo>
                    <a:lnTo>
                      <a:pt x="117" y="49"/>
                    </a:lnTo>
                    <a:lnTo>
                      <a:pt x="114" y="51"/>
                    </a:lnTo>
                    <a:lnTo>
                      <a:pt x="110" y="61"/>
                    </a:lnTo>
                    <a:lnTo>
                      <a:pt x="100" y="63"/>
                    </a:lnTo>
                    <a:lnTo>
                      <a:pt x="100" y="67"/>
                    </a:lnTo>
                    <a:lnTo>
                      <a:pt x="118" y="80"/>
                    </a:lnTo>
                    <a:lnTo>
                      <a:pt x="133" y="146"/>
                    </a:lnTo>
                    <a:lnTo>
                      <a:pt x="122" y="163"/>
                    </a:lnTo>
                    <a:lnTo>
                      <a:pt x="122" y="281"/>
                    </a:lnTo>
                    <a:lnTo>
                      <a:pt x="106" y="286"/>
                    </a:lnTo>
                    <a:lnTo>
                      <a:pt x="104" y="305"/>
                    </a:lnTo>
                    <a:lnTo>
                      <a:pt x="99" y="356"/>
                    </a:lnTo>
                    <a:lnTo>
                      <a:pt x="99" y="383"/>
                    </a:lnTo>
                    <a:lnTo>
                      <a:pt x="122" y="399"/>
                    </a:lnTo>
                    <a:lnTo>
                      <a:pt x="137" y="408"/>
                    </a:lnTo>
                    <a:lnTo>
                      <a:pt x="137" y="413"/>
                    </a:lnTo>
                    <a:lnTo>
                      <a:pt x="102" y="406"/>
                    </a:lnTo>
                    <a:lnTo>
                      <a:pt x="99" y="401"/>
                    </a:lnTo>
                    <a:lnTo>
                      <a:pt x="95" y="406"/>
                    </a:lnTo>
                    <a:lnTo>
                      <a:pt x="91" y="406"/>
                    </a:lnTo>
                    <a:lnTo>
                      <a:pt x="87" y="387"/>
                    </a:lnTo>
                    <a:lnTo>
                      <a:pt x="83" y="300"/>
                    </a:lnTo>
                    <a:lnTo>
                      <a:pt x="76" y="300"/>
                    </a:lnTo>
                    <a:lnTo>
                      <a:pt x="57" y="377"/>
                    </a:lnTo>
                    <a:lnTo>
                      <a:pt x="57" y="424"/>
                    </a:lnTo>
                    <a:lnTo>
                      <a:pt x="49" y="448"/>
                    </a:lnTo>
                    <a:lnTo>
                      <a:pt x="41" y="453"/>
                    </a:lnTo>
                    <a:lnTo>
                      <a:pt x="37" y="440"/>
                    </a:lnTo>
                    <a:lnTo>
                      <a:pt x="43" y="427"/>
                    </a:lnTo>
                    <a:lnTo>
                      <a:pt x="49" y="397"/>
                    </a:lnTo>
                    <a:lnTo>
                      <a:pt x="50" y="287"/>
                    </a:lnTo>
                    <a:lnTo>
                      <a:pt x="57" y="182"/>
                    </a:lnTo>
                    <a:lnTo>
                      <a:pt x="45" y="173"/>
                    </a:lnTo>
                    <a:lnTo>
                      <a:pt x="45" y="158"/>
                    </a:lnTo>
                    <a:lnTo>
                      <a:pt x="45" y="128"/>
                    </a:lnTo>
                    <a:lnTo>
                      <a:pt x="30" y="136"/>
                    </a:lnTo>
                    <a:lnTo>
                      <a:pt x="43" y="154"/>
                    </a:lnTo>
                    <a:lnTo>
                      <a:pt x="43" y="170"/>
                    </a:lnTo>
                    <a:lnTo>
                      <a:pt x="30" y="160"/>
                    </a:lnTo>
                    <a:lnTo>
                      <a:pt x="22" y="150"/>
                    </a:lnTo>
                    <a:lnTo>
                      <a:pt x="15" y="152"/>
                    </a:lnTo>
                    <a:lnTo>
                      <a:pt x="0" y="135"/>
                    </a:lnTo>
                    <a:lnTo>
                      <a:pt x="0" y="128"/>
                    </a:lnTo>
                    <a:lnTo>
                      <a:pt x="7" y="126"/>
                    </a:lnTo>
                    <a:lnTo>
                      <a:pt x="25" y="105"/>
                    </a:lnTo>
                    <a:lnTo>
                      <a:pt x="43" y="89"/>
                    </a:lnTo>
                    <a:lnTo>
                      <a:pt x="67" y="68"/>
                    </a:lnTo>
                    <a:lnTo>
                      <a:pt x="83" y="61"/>
                    </a:lnTo>
                    <a:lnTo>
                      <a:pt x="83" y="47"/>
                    </a:lnTo>
                    <a:lnTo>
                      <a:pt x="76" y="40"/>
                    </a:lnTo>
                    <a:lnTo>
                      <a:pt x="76" y="21"/>
                    </a:lnTo>
                    <a:lnTo>
                      <a:pt x="72" y="18"/>
                    </a:lnTo>
                    <a:lnTo>
                      <a:pt x="83"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Freeform 97"/>
              <p:cNvSpPr/>
              <p:nvPr/>
            </p:nvSpPr>
            <p:spPr>
              <a:xfrm>
                <a:off x="5007240" y="1062000"/>
                <a:ext cx="51120" cy="175680"/>
              </a:xfrm>
              <a:custGeom>
                <a:avLst/>
                <a:gdLst>
                  <a:gd name="textAreaLeft" fmla="*/ 0 w 51120"/>
                  <a:gd name="textAreaRight" fmla="*/ 51480 w 51120"/>
                  <a:gd name="textAreaTop" fmla="*/ 0 h 175680"/>
                  <a:gd name="textAreaBottom" fmla="*/ 176040 h 175680"/>
                </a:gdLst>
                <a:ahLst/>
                <a:rect l="textAreaLeft" t="textAreaTop" r="textAreaRight" b="textAreaBottom"/>
                <a:pathLst>
                  <a:path w="97" h="330">
                    <a:moveTo>
                      <a:pt x="58" y="3"/>
                    </a:moveTo>
                    <a:lnTo>
                      <a:pt x="77" y="0"/>
                    </a:lnTo>
                    <a:lnTo>
                      <a:pt x="86" y="6"/>
                    </a:lnTo>
                    <a:lnTo>
                      <a:pt x="89" y="4"/>
                    </a:lnTo>
                    <a:lnTo>
                      <a:pt x="94" y="19"/>
                    </a:lnTo>
                    <a:lnTo>
                      <a:pt x="84" y="28"/>
                    </a:lnTo>
                    <a:lnTo>
                      <a:pt x="83" y="36"/>
                    </a:lnTo>
                    <a:lnTo>
                      <a:pt x="81" y="37"/>
                    </a:lnTo>
                    <a:lnTo>
                      <a:pt x="77" y="45"/>
                    </a:lnTo>
                    <a:lnTo>
                      <a:pt x="71" y="46"/>
                    </a:lnTo>
                    <a:lnTo>
                      <a:pt x="71" y="48"/>
                    </a:lnTo>
                    <a:lnTo>
                      <a:pt x="84" y="59"/>
                    </a:lnTo>
                    <a:lnTo>
                      <a:pt x="94" y="106"/>
                    </a:lnTo>
                    <a:lnTo>
                      <a:pt x="86" y="118"/>
                    </a:lnTo>
                    <a:lnTo>
                      <a:pt x="86" y="205"/>
                    </a:lnTo>
                    <a:lnTo>
                      <a:pt x="75" y="209"/>
                    </a:lnTo>
                    <a:lnTo>
                      <a:pt x="74" y="223"/>
                    </a:lnTo>
                    <a:lnTo>
                      <a:pt x="70" y="260"/>
                    </a:lnTo>
                    <a:lnTo>
                      <a:pt x="70" y="279"/>
                    </a:lnTo>
                    <a:lnTo>
                      <a:pt x="86" y="292"/>
                    </a:lnTo>
                    <a:lnTo>
                      <a:pt x="97" y="298"/>
                    </a:lnTo>
                    <a:lnTo>
                      <a:pt x="97" y="302"/>
                    </a:lnTo>
                    <a:lnTo>
                      <a:pt x="72" y="295"/>
                    </a:lnTo>
                    <a:lnTo>
                      <a:pt x="70" y="293"/>
                    </a:lnTo>
                    <a:lnTo>
                      <a:pt x="67" y="295"/>
                    </a:lnTo>
                    <a:lnTo>
                      <a:pt x="65" y="295"/>
                    </a:lnTo>
                    <a:lnTo>
                      <a:pt x="61" y="281"/>
                    </a:lnTo>
                    <a:lnTo>
                      <a:pt x="58" y="219"/>
                    </a:lnTo>
                    <a:lnTo>
                      <a:pt x="53" y="219"/>
                    </a:lnTo>
                    <a:lnTo>
                      <a:pt x="39" y="275"/>
                    </a:lnTo>
                    <a:lnTo>
                      <a:pt x="39" y="309"/>
                    </a:lnTo>
                    <a:lnTo>
                      <a:pt x="34" y="327"/>
                    </a:lnTo>
                    <a:lnTo>
                      <a:pt x="29" y="330"/>
                    </a:lnTo>
                    <a:lnTo>
                      <a:pt x="25" y="321"/>
                    </a:lnTo>
                    <a:lnTo>
                      <a:pt x="29" y="312"/>
                    </a:lnTo>
                    <a:lnTo>
                      <a:pt x="34" y="289"/>
                    </a:lnTo>
                    <a:lnTo>
                      <a:pt x="35" y="210"/>
                    </a:lnTo>
                    <a:lnTo>
                      <a:pt x="39" y="132"/>
                    </a:lnTo>
                    <a:lnTo>
                      <a:pt x="32" y="126"/>
                    </a:lnTo>
                    <a:lnTo>
                      <a:pt x="32" y="115"/>
                    </a:lnTo>
                    <a:lnTo>
                      <a:pt x="32" y="93"/>
                    </a:lnTo>
                    <a:lnTo>
                      <a:pt x="20" y="99"/>
                    </a:lnTo>
                    <a:lnTo>
                      <a:pt x="29" y="112"/>
                    </a:lnTo>
                    <a:lnTo>
                      <a:pt x="29" y="123"/>
                    </a:lnTo>
                    <a:lnTo>
                      <a:pt x="20" y="117"/>
                    </a:lnTo>
                    <a:lnTo>
                      <a:pt x="15" y="109"/>
                    </a:lnTo>
                    <a:lnTo>
                      <a:pt x="9" y="111"/>
                    </a:lnTo>
                    <a:lnTo>
                      <a:pt x="0" y="98"/>
                    </a:lnTo>
                    <a:lnTo>
                      <a:pt x="0" y="93"/>
                    </a:lnTo>
                    <a:lnTo>
                      <a:pt x="3" y="92"/>
                    </a:lnTo>
                    <a:lnTo>
                      <a:pt x="16" y="76"/>
                    </a:lnTo>
                    <a:lnTo>
                      <a:pt x="29" y="65"/>
                    </a:lnTo>
                    <a:lnTo>
                      <a:pt x="47" y="50"/>
                    </a:lnTo>
                    <a:lnTo>
                      <a:pt x="58" y="45"/>
                    </a:lnTo>
                    <a:lnTo>
                      <a:pt x="58" y="34"/>
                    </a:lnTo>
                    <a:lnTo>
                      <a:pt x="53" y="29"/>
                    </a:lnTo>
                    <a:lnTo>
                      <a:pt x="53" y="15"/>
                    </a:lnTo>
                    <a:lnTo>
                      <a:pt x="51" y="13"/>
                    </a:lnTo>
                    <a:lnTo>
                      <a:pt x="58" y="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Freeform 98"/>
              <p:cNvSpPr/>
              <p:nvPr/>
            </p:nvSpPr>
            <p:spPr>
              <a:xfrm>
                <a:off x="5095440" y="1047960"/>
                <a:ext cx="43560" cy="214200"/>
              </a:xfrm>
              <a:custGeom>
                <a:avLst/>
                <a:gdLst>
                  <a:gd name="textAreaLeft" fmla="*/ 0 w 43560"/>
                  <a:gd name="textAreaRight" fmla="*/ 43920 w 43560"/>
                  <a:gd name="textAreaTop" fmla="*/ 0 h 214200"/>
                  <a:gd name="textAreaBottom" fmla="*/ 214560 h 214200"/>
                </a:gdLst>
                <a:ahLst/>
                <a:rect l="textAreaLeft" t="textAreaTop" r="textAreaRight" b="textAreaBottom"/>
                <a:pathLst>
                  <a:path w="83" h="403">
                    <a:moveTo>
                      <a:pt x="55" y="5"/>
                    </a:moveTo>
                    <a:lnTo>
                      <a:pt x="35" y="0"/>
                    </a:lnTo>
                    <a:lnTo>
                      <a:pt x="20" y="0"/>
                    </a:lnTo>
                    <a:lnTo>
                      <a:pt x="7" y="3"/>
                    </a:lnTo>
                    <a:lnTo>
                      <a:pt x="2" y="17"/>
                    </a:lnTo>
                    <a:lnTo>
                      <a:pt x="2" y="30"/>
                    </a:lnTo>
                    <a:lnTo>
                      <a:pt x="9" y="42"/>
                    </a:lnTo>
                    <a:lnTo>
                      <a:pt x="14" y="42"/>
                    </a:lnTo>
                    <a:lnTo>
                      <a:pt x="7" y="59"/>
                    </a:lnTo>
                    <a:lnTo>
                      <a:pt x="0" y="86"/>
                    </a:lnTo>
                    <a:lnTo>
                      <a:pt x="0" y="108"/>
                    </a:lnTo>
                    <a:lnTo>
                      <a:pt x="2" y="139"/>
                    </a:lnTo>
                    <a:lnTo>
                      <a:pt x="7" y="167"/>
                    </a:lnTo>
                    <a:lnTo>
                      <a:pt x="17" y="168"/>
                    </a:lnTo>
                    <a:lnTo>
                      <a:pt x="17" y="177"/>
                    </a:lnTo>
                    <a:lnTo>
                      <a:pt x="22" y="181"/>
                    </a:lnTo>
                    <a:lnTo>
                      <a:pt x="22" y="210"/>
                    </a:lnTo>
                    <a:lnTo>
                      <a:pt x="27" y="217"/>
                    </a:lnTo>
                    <a:lnTo>
                      <a:pt x="27" y="270"/>
                    </a:lnTo>
                    <a:lnTo>
                      <a:pt x="27" y="305"/>
                    </a:lnTo>
                    <a:lnTo>
                      <a:pt x="20" y="343"/>
                    </a:lnTo>
                    <a:lnTo>
                      <a:pt x="17" y="392"/>
                    </a:lnTo>
                    <a:lnTo>
                      <a:pt x="25" y="396"/>
                    </a:lnTo>
                    <a:lnTo>
                      <a:pt x="25" y="403"/>
                    </a:lnTo>
                    <a:lnTo>
                      <a:pt x="39" y="403"/>
                    </a:lnTo>
                    <a:lnTo>
                      <a:pt x="41" y="400"/>
                    </a:lnTo>
                    <a:lnTo>
                      <a:pt x="46" y="400"/>
                    </a:lnTo>
                    <a:lnTo>
                      <a:pt x="48" y="403"/>
                    </a:lnTo>
                    <a:lnTo>
                      <a:pt x="58" y="403"/>
                    </a:lnTo>
                    <a:lnTo>
                      <a:pt x="79" y="400"/>
                    </a:lnTo>
                    <a:lnTo>
                      <a:pt x="79" y="396"/>
                    </a:lnTo>
                    <a:lnTo>
                      <a:pt x="60" y="390"/>
                    </a:lnTo>
                    <a:lnTo>
                      <a:pt x="60" y="382"/>
                    </a:lnTo>
                    <a:lnTo>
                      <a:pt x="77" y="378"/>
                    </a:lnTo>
                    <a:lnTo>
                      <a:pt x="77" y="373"/>
                    </a:lnTo>
                    <a:lnTo>
                      <a:pt x="65" y="366"/>
                    </a:lnTo>
                    <a:lnTo>
                      <a:pt x="65" y="310"/>
                    </a:lnTo>
                    <a:lnTo>
                      <a:pt x="69" y="260"/>
                    </a:lnTo>
                    <a:lnTo>
                      <a:pt x="68" y="210"/>
                    </a:lnTo>
                    <a:lnTo>
                      <a:pt x="67" y="181"/>
                    </a:lnTo>
                    <a:lnTo>
                      <a:pt x="69" y="172"/>
                    </a:lnTo>
                    <a:lnTo>
                      <a:pt x="69" y="133"/>
                    </a:lnTo>
                    <a:lnTo>
                      <a:pt x="83" y="124"/>
                    </a:lnTo>
                    <a:lnTo>
                      <a:pt x="83" y="119"/>
                    </a:lnTo>
                    <a:lnTo>
                      <a:pt x="51" y="65"/>
                    </a:lnTo>
                    <a:lnTo>
                      <a:pt x="37" y="58"/>
                    </a:lnTo>
                    <a:lnTo>
                      <a:pt x="39" y="54"/>
                    </a:lnTo>
                    <a:lnTo>
                      <a:pt x="50" y="51"/>
                    </a:lnTo>
                    <a:lnTo>
                      <a:pt x="50" y="49"/>
                    </a:lnTo>
                    <a:lnTo>
                      <a:pt x="51" y="46"/>
                    </a:lnTo>
                    <a:lnTo>
                      <a:pt x="51" y="42"/>
                    </a:lnTo>
                    <a:lnTo>
                      <a:pt x="55" y="41"/>
                    </a:lnTo>
                    <a:lnTo>
                      <a:pt x="51" y="40"/>
                    </a:lnTo>
                    <a:lnTo>
                      <a:pt x="54" y="37"/>
                    </a:lnTo>
                    <a:lnTo>
                      <a:pt x="50" y="30"/>
                    </a:lnTo>
                    <a:lnTo>
                      <a:pt x="51" y="23"/>
                    </a:lnTo>
                    <a:lnTo>
                      <a:pt x="50" y="18"/>
                    </a:lnTo>
                    <a:lnTo>
                      <a:pt x="54" y="14"/>
                    </a:lnTo>
                    <a:lnTo>
                      <a:pt x="55"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09" name="Group 99"/>
              <p:cNvGrpSpPr/>
              <p:nvPr/>
            </p:nvGrpSpPr>
            <p:grpSpPr>
              <a:xfrm>
                <a:off x="5867280" y="1018080"/>
                <a:ext cx="126720" cy="276120"/>
                <a:chOff x="5867280" y="1018080"/>
                <a:chExt cx="126720" cy="276120"/>
              </a:xfrm>
            </p:grpSpPr>
            <p:sp>
              <p:nvSpPr>
                <p:cNvPr id="210" name="Freeform 100"/>
                <p:cNvSpPr/>
                <p:nvPr/>
              </p:nvSpPr>
              <p:spPr>
                <a:xfrm>
                  <a:off x="5911920" y="1018080"/>
                  <a:ext cx="82080" cy="276120"/>
                </a:xfrm>
                <a:custGeom>
                  <a:avLst/>
                  <a:gdLst>
                    <a:gd name="textAreaLeft" fmla="*/ 0 w 82080"/>
                    <a:gd name="textAreaRight" fmla="*/ 82440 w 82080"/>
                    <a:gd name="textAreaTop" fmla="*/ 0 h 276120"/>
                    <a:gd name="textAreaBottom" fmla="*/ 276480 h 276120"/>
                  </a:gdLst>
                  <a:ahLst/>
                  <a:rect l="textAreaLeft" t="textAreaTop" r="textAreaRight" b="textAreaBottom"/>
                  <a:pathLst>
                    <a:path w="155" h="516">
                      <a:moveTo>
                        <a:pt x="62" y="6"/>
                      </a:moveTo>
                      <a:lnTo>
                        <a:pt x="31" y="0"/>
                      </a:lnTo>
                      <a:lnTo>
                        <a:pt x="20" y="12"/>
                      </a:lnTo>
                      <a:lnTo>
                        <a:pt x="14" y="7"/>
                      </a:lnTo>
                      <a:lnTo>
                        <a:pt x="6" y="30"/>
                      </a:lnTo>
                      <a:lnTo>
                        <a:pt x="22" y="45"/>
                      </a:lnTo>
                      <a:lnTo>
                        <a:pt x="23" y="57"/>
                      </a:lnTo>
                      <a:lnTo>
                        <a:pt x="27" y="58"/>
                      </a:lnTo>
                      <a:lnTo>
                        <a:pt x="31" y="70"/>
                      </a:lnTo>
                      <a:lnTo>
                        <a:pt x="43" y="72"/>
                      </a:lnTo>
                      <a:lnTo>
                        <a:pt x="43" y="76"/>
                      </a:lnTo>
                      <a:lnTo>
                        <a:pt x="22" y="92"/>
                      </a:lnTo>
                      <a:lnTo>
                        <a:pt x="6" y="166"/>
                      </a:lnTo>
                      <a:lnTo>
                        <a:pt x="20" y="185"/>
                      </a:lnTo>
                      <a:lnTo>
                        <a:pt x="20" y="322"/>
                      </a:lnTo>
                      <a:lnTo>
                        <a:pt x="35" y="327"/>
                      </a:lnTo>
                      <a:lnTo>
                        <a:pt x="39" y="348"/>
                      </a:lnTo>
                      <a:lnTo>
                        <a:pt x="45" y="406"/>
                      </a:lnTo>
                      <a:lnTo>
                        <a:pt x="45" y="437"/>
                      </a:lnTo>
                      <a:lnTo>
                        <a:pt x="20" y="457"/>
                      </a:lnTo>
                      <a:lnTo>
                        <a:pt x="2" y="465"/>
                      </a:lnTo>
                      <a:lnTo>
                        <a:pt x="0" y="472"/>
                      </a:lnTo>
                      <a:lnTo>
                        <a:pt x="40" y="463"/>
                      </a:lnTo>
                      <a:lnTo>
                        <a:pt x="45" y="457"/>
                      </a:lnTo>
                      <a:lnTo>
                        <a:pt x="49" y="463"/>
                      </a:lnTo>
                      <a:lnTo>
                        <a:pt x="53" y="463"/>
                      </a:lnTo>
                      <a:lnTo>
                        <a:pt x="58" y="441"/>
                      </a:lnTo>
                      <a:lnTo>
                        <a:pt x="62" y="342"/>
                      </a:lnTo>
                      <a:lnTo>
                        <a:pt x="69" y="342"/>
                      </a:lnTo>
                      <a:lnTo>
                        <a:pt x="91" y="430"/>
                      </a:lnTo>
                      <a:lnTo>
                        <a:pt x="91" y="483"/>
                      </a:lnTo>
                      <a:lnTo>
                        <a:pt x="100" y="511"/>
                      </a:lnTo>
                      <a:lnTo>
                        <a:pt x="109" y="516"/>
                      </a:lnTo>
                      <a:lnTo>
                        <a:pt x="113" y="502"/>
                      </a:lnTo>
                      <a:lnTo>
                        <a:pt x="108" y="487"/>
                      </a:lnTo>
                      <a:lnTo>
                        <a:pt x="100" y="453"/>
                      </a:lnTo>
                      <a:lnTo>
                        <a:pt x="99" y="329"/>
                      </a:lnTo>
                      <a:lnTo>
                        <a:pt x="92" y="207"/>
                      </a:lnTo>
                      <a:lnTo>
                        <a:pt x="105" y="197"/>
                      </a:lnTo>
                      <a:lnTo>
                        <a:pt x="105" y="179"/>
                      </a:lnTo>
                      <a:lnTo>
                        <a:pt x="105" y="146"/>
                      </a:lnTo>
                      <a:lnTo>
                        <a:pt x="122" y="155"/>
                      </a:lnTo>
                      <a:lnTo>
                        <a:pt x="108" y="176"/>
                      </a:lnTo>
                      <a:lnTo>
                        <a:pt x="108" y="194"/>
                      </a:lnTo>
                      <a:lnTo>
                        <a:pt x="123" y="183"/>
                      </a:lnTo>
                      <a:lnTo>
                        <a:pt x="132" y="170"/>
                      </a:lnTo>
                      <a:lnTo>
                        <a:pt x="139" y="174"/>
                      </a:lnTo>
                      <a:lnTo>
                        <a:pt x="155" y="152"/>
                      </a:lnTo>
                      <a:lnTo>
                        <a:pt x="155" y="146"/>
                      </a:lnTo>
                      <a:lnTo>
                        <a:pt x="147" y="143"/>
                      </a:lnTo>
                      <a:lnTo>
                        <a:pt x="128" y="120"/>
                      </a:lnTo>
                      <a:lnTo>
                        <a:pt x="108" y="101"/>
                      </a:lnTo>
                      <a:lnTo>
                        <a:pt x="81" y="77"/>
                      </a:lnTo>
                      <a:lnTo>
                        <a:pt x="62" y="70"/>
                      </a:lnTo>
                      <a:lnTo>
                        <a:pt x="62" y="54"/>
                      </a:lnTo>
                      <a:lnTo>
                        <a:pt x="69" y="45"/>
                      </a:lnTo>
                      <a:lnTo>
                        <a:pt x="69" y="25"/>
                      </a:lnTo>
                      <a:lnTo>
                        <a:pt x="74" y="21"/>
                      </a:lnTo>
                      <a:lnTo>
                        <a:pt x="62" y="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1" name="Freeform 101"/>
                <p:cNvSpPr/>
                <p:nvPr/>
              </p:nvSpPr>
              <p:spPr>
                <a:xfrm>
                  <a:off x="5867280" y="1020240"/>
                  <a:ext cx="59400" cy="263160"/>
                </a:xfrm>
                <a:custGeom>
                  <a:avLst/>
                  <a:gdLst>
                    <a:gd name="textAreaLeft" fmla="*/ 0 w 59400"/>
                    <a:gd name="textAreaRight" fmla="*/ 59760 w 59400"/>
                    <a:gd name="textAreaTop" fmla="*/ 0 h 263160"/>
                    <a:gd name="textAreaBottom" fmla="*/ 263520 h 263160"/>
                  </a:gdLst>
                  <a:ahLst/>
                  <a:rect l="textAreaLeft" t="textAreaTop" r="textAreaRight" b="textAreaBottom"/>
                  <a:pathLst>
                    <a:path w="112" h="495">
                      <a:moveTo>
                        <a:pt x="87" y="9"/>
                      </a:moveTo>
                      <a:lnTo>
                        <a:pt x="87" y="22"/>
                      </a:lnTo>
                      <a:lnTo>
                        <a:pt x="84" y="26"/>
                      </a:lnTo>
                      <a:lnTo>
                        <a:pt x="89" y="36"/>
                      </a:lnTo>
                      <a:lnTo>
                        <a:pt x="87" y="38"/>
                      </a:lnTo>
                      <a:lnTo>
                        <a:pt x="87" y="42"/>
                      </a:lnTo>
                      <a:lnTo>
                        <a:pt x="84" y="56"/>
                      </a:lnTo>
                      <a:lnTo>
                        <a:pt x="84" y="57"/>
                      </a:lnTo>
                      <a:lnTo>
                        <a:pt x="103" y="71"/>
                      </a:lnTo>
                      <a:lnTo>
                        <a:pt x="112" y="174"/>
                      </a:lnTo>
                      <a:lnTo>
                        <a:pt x="101" y="192"/>
                      </a:lnTo>
                      <a:lnTo>
                        <a:pt x="106" y="247"/>
                      </a:lnTo>
                      <a:lnTo>
                        <a:pt x="98" y="253"/>
                      </a:lnTo>
                      <a:lnTo>
                        <a:pt x="94" y="340"/>
                      </a:lnTo>
                      <a:lnTo>
                        <a:pt x="88" y="429"/>
                      </a:lnTo>
                      <a:lnTo>
                        <a:pt x="91" y="434"/>
                      </a:lnTo>
                      <a:lnTo>
                        <a:pt x="111" y="449"/>
                      </a:lnTo>
                      <a:lnTo>
                        <a:pt x="108" y="453"/>
                      </a:lnTo>
                      <a:lnTo>
                        <a:pt x="101" y="456"/>
                      </a:lnTo>
                      <a:lnTo>
                        <a:pt x="89" y="453"/>
                      </a:lnTo>
                      <a:lnTo>
                        <a:pt x="78" y="447"/>
                      </a:lnTo>
                      <a:lnTo>
                        <a:pt x="68" y="443"/>
                      </a:lnTo>
                      <a:lnTo>
                        <a:pt x="68" y="458"/>
                      </a:lnTo>
                      <a:lnTo>
                        <a:pt x="64" y="458"/>
                      </a:lnTo>
                      <a:lnTo>
                        <a:pt x="71" y="472"/>
                      </a:lnTo>
                      <a:lnTo>
                        <a:pt x="68" y="493"/>
                      </a:lnTo>
                      <a:lnTo>
                        <a:pt x="60" y="495"/>
                      </a:lnTo>
                      <a:lnTo>
                        <a:pt x="48" y="479"/>
                      </a:lnTo>
                      <a:lnTo>
                        <a:pt x="48" y="466"/>
                      </a:lnTo>
                      <a:lnTo>
                        <a:pt x="45" y="463"/>
                      </a:lnTo>
                      <a:lnTo>
                        <a:pt x="40" y="351"/>
                      </a:lnTo>
                      <a:lnTo>
                        <a:pt x="45" y="340"/>
                      </a:lnTo>
                      <a:lnTo>
                        <a:pt x="31" y="264"/>
                      </a:lnTo>
                      <a:lnTo>
                        <a:pt x="23" y="261"/>
                      </a:lnTo>
                      <a:lnTo>
                        <a:pt x="20" y="182"/>
                      </a:lnTo>
                      <a:lnTo>
                        <a:pt x="0" y="173"/>
                      </a:lnTo>
                      <a:lnTo>
                        <a:pt x="8" y="88"/>
                      </a:lnTo>
                      <a:lnTo>
                        <a:pt x="41" y="65"/>
                      </a:lnTo>
                      <a:lnTo>
                        <a:pt x="48" y="57"/>
                      </a:lnTo>
                      <a:lnTo>
                        <a:pt x="48" y="50"/>
                      </a:lnTo>
                      <a:lnTo>
                        <a:pt x="46" y="43"/>
                      </a:lnTo>
                      <a:lnTo>
                        <a:pt x="42" y="40"/>
                      </a:lnTo>
                      <a:lnTo>
                        <a:pt x="38" y="33"/>
                      </a:lnTo>
                      <a:lnTo>
                        <a:pt x="37" y="27"/>
                      </a:lnTo>
                      <a:lnTo>
                        <a:pt x="37" y="22"/>
                      </a:lnTo>
                      <a:lnTo>
                        <a:pt x="38" y="14"/>
                      </a:lnTo>
                      <a:lnTo>
                        <a:pt x="43" y="8"/>
                      </a:lnTo>
                      <a:lnTo>
                        <a:pt x="48" y="3"/>
                      </a:lnTo>
                      <a:lnTo>
                        <a:pt x="56" y="0"/>
                      </a:lnTo>
                      <a:lnTo>
                        <a:pt x="64" y="0"/>
                      </a:lnTo>
                      <a:lnTo>
                        <a:pt x="71" y="0"/>
                      </a:lnTo>
                      <a:lnTo>
                        <a:pt x="78" y="3"/>
                      </a:lnTo>
                      <a:lnTo>
                        <a:pt x="87" y="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12" name="Freeform 102"/>
              <p:cNvSpPr/>
              <p:nvPr/>
            </p:nvSpPr>
            <p:spPr>
              <a:xfrm>
                <a:off x="6417720" y="1037160"/>
                <a:ext cx="72360" cy="242280"/>
              </a:xfrm>
              <a:custGeom>
                <a:avLst/>
                <a:gdLst>
                  <a:gd name="textAreaLeft" fmla="*/ 0 w 72360"/>
                  <a:gd name="textAreaRight" fmla="*/ 72720 w 72360"/>
                  <a:gd name="textAreaTop" fmla="*/ 0 h 242280"/>
                  <a:gd name="textAreaBottom" fmla="*/ 242640 h 242280"/>
                </a:gdLst>
                <a:ahLst/>
                <a:rect l="textAreaLeft" t="textAreaTop" r="textAreaRight" b="textAreaBottom"/>
                <a:pathLst>
                  <a:path w="136" h="453">
                    <a:moveTo>
                      <a:pt x="83" y="5"/>
                    </a:moveTo>
                    <a:lnTo>
                      <a:pt x="110" y="0"/>
                    </a:lnTo>
                    <a:lnTo>
                      <a:pt x="121" y="10"/>
                    </a:lnTo>
                    <a:lnTo>
                      <a:pt x="125" y="7"/>
                    </a:lnTo>
                    <a:lnTo>
                      <a:pt x="133" y="27"/>
                    </a:lnTo>
                    <a:lnTo>
                      <a:pt x="117" y="40"/>
                    </a:lnTo>
                    <a:lnTo>
                      <a:pt x="116" y="50"/>
                    </a:lnTo>
                    <a:lnTo>
                      <a:pt x="113" y="51"/>
                    </a:lnTo>
                    <a:lnTo>
                      <a:pt x="110" y="61"/>
                    </a:lnTo>
                    <a:lnTo>
                      <a:pt x="99" y="64"/>
                    </a:lnTo>
                    <a:lnTo>
                      <a:pt x="99" y="68"/>
                    </a:lnTo>
                    <a:lnTo>
                      <a:pt x="117" y="80"/>
                    </a:lnTo>
                    <a:lnTo>
                      <a:pt x="133" y="147"/>
                    </a:lnTo>
                    <a:lnTo>
                      <a:pt x="121" y="163"/>
                    </a:lnTo>
                    <a:lnTo>
                      <a:pt x="121" y="282"/>
                    </a:lnTo>
                    <a:lnTo>
                      <a:pt x="106" y="287"/>
                    </a:lnTo>
                    <a:lnTo>
                      <a:pt x="103" y="306"/>
                    </a:lnTo>
                    <a:lnTo>
                      <a:pt x="98" y="357"/>
                    </a:lnTo>
                    <a:lnTo>
                      <a:pt x="98" y="383"/>
                    </a:lnTo>
                    <a:lnTo>
                      <a:pt x="121" y="400"/>
                    </a:lnTo>
                    <a:lnTo>
                      <a:pt x="136" y="409"/>
                    </a:lnTo>
                    <a:lnTo>
                      <a:pt x="136" y="414"/>
                    </a:lnTo>
                    <a:lnTo>
                      <a:pt x="102" y="406"/>
                    </a:lnTo>
                    <a:lnTo>
                      <a:pt x="98" y="401"/>
                    </a:lnTo>
                    <a:lnTo>
                      <a:pt x="94" y="406"/>
                    </a:lnTo>
                    <a:lnTo>
                      <a:pt x="91" y="406"/>
                    </a:lnTo>
                    <a:lnTo>
                      <a:pt x="87" y="387"/>
                    </a:lnTo>
                    <a:lnTo>
                      <a:pt x="83" y="301"/>
                    </a:lnTo>
                    <a:lnTo>
                      <a:pt x="75" y="301"/>
                    </a:lnTo>
                    <a:lnTo>
                      <a:pt x="56" y="377"/>
                    </a:lnTo>
                    <a:lnTo>
                      <a:pt x="56" y="424"/>
                    </a:lnTo>
                    <a:lnTo>
                      <a:pt x="48" y="448"/>
                    </a:lnTo>
                    <a:lnTo>
                      <a:pt x="41" y="453"/>
                    </a:lnTo>
                    <a:lnTo>
                      <a:pt x="37" y="441"/>
                    </a:lnTo>
                    <a:lnTo>
                      <a:pt x="42" y="428"/>
                    </a:lnTo>
                    <a:lnTo>
                      <a:pt x="48" y="397"/>
                    </a:lnTo>
                    <a:lnTo>
                      <a:pt x="50" y="288"/>
                    </a:lnTo>
                    <a:lnTo>
                      <a:pt x="56" y="182"/>
                    </a:lnTo>
                    <a:lnTo>
                      <a:pt x="45" y="173"/>
                    </a:lnTo>
                    <a:lnTo>
                      <a:pt x="45" y="158"/>
                    </a:lnTo>
                    <a:lnTo>
                      <a:pt x="45" y="129"/>
                    </a:lnTo>
                    <a:lnTo>
                      <a:pt x="29" y="136"/>
                    </a:lnTo>
                    <a:lnTo>
                      <a:pt x="42" y="154"/>
                    </a:lnTo>
                    <a:lnTo>
                      <a:pt x="42" y="171"/>
                    </a:lnTo>
                    <a:lnTo>
                      <a:pt x="29" y="161"/>
                    </a:lnTo>
                    <a:lnTo>
                      <a:pt x="22" y="150"/>
                    </a:lnTo>
                    <a:lnTo>
                      <a:pt x="14" y="153"/>
                    </a:lnTo>
                    <a:lnTo>
                      <a:pt x="0" y="135"/>
                    </a:lnTo>
                    <a:lnTo>
                      <a:pt x="0" y="129"/>
                    </a:lnTo>
                    <a:lnTo>
                      <a:pt x="6" y="126"/>
                    </a:lnTo>
                    <a:lnTo>
                      <a:pt x="24" y="106"/>
                    </a:lnTo>
                    <a:lnTo>
                      <a:pt x="42" y="89"/>
                    </a:lnTo>
                    <a:lnTo>
                      <a:pt x="66" y="69"/>
                    </a:lnTo>
                    <a:lnTo>
                      <a:pt x="83" y="61"/>
                    </a:lnTo>
                    <a:lnTo>
                      <a:pt x="83" y="47"/>
                    </a:lnTo>
                    <a:lnTo>
                      <a:pt x="75" y="41"/>
                    </a:lnTo>
                    <a:lnTo>
                      <a:pt x="75" y="22"/>
                    </a:lnTo>
                    <a:lnTo>
                      <a:pt x="71" y="18"/>
                    </a:lnTo>
                    <a:lnTo>
                      <a:pt x="83"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Freeform 103"/>
              <p:cNvSpPr/>
              <p:nvPr/>
            </p:nvSpPr>
            <p:spPr>
              <a:xfrm>
                <a:off x="6608160" y="983160"/>
                <a:ext cx="43560" cy="212040"/>
              </a:xfrm>
              <a:custGeom>
                <a:avLst/>
                <a:gdLst>
                  <a:gd name="textAreaLeft" fmla="*/ 0 w 43560"/>
                  <a:gd name="textAreaRight" fmla="*/ 43920 w 43560"/>
                  <a:gd name="textAreaTop" fmla="*/ 0 h 212040"/>
                  <a:gd name="textAreaBottom" fmla="*/ 212400 h 212040"/>
                </a:gdLst>
                <a:ahLst/>
                <a:rect l="textAreaLeft" t="textAreaTop" r="textAreaRight" b="textAreaBottom"/>
                <a:pathLst>
                  <a:path w="83" h="399">
                    <a:moveTo>
                      <a:pt x="54" y="5"/>
                    </a:moveTo>
                    <a:lnTo>
                      <a:pt x="35" y="0"/>
                    </a:lnTo>
                    <a:lnTo>
                      <a:pt x="19" y="0"/>
                    </a:lnTo>
                    <a:lnTo>
                      <a:pt x="7" y="3"/>
                    </a:lnTo>
                    <a:lnTo>
                      <a:pt x="2" y="17"/>
                    </a:lnTo>
                    <a:lnTo>
                      <a:pt x="2" y="28"/>
                    </a:lnTo>
                    <a:lnTo>
                      <a:pt x="9" y="42"/>
                    </a:lnTo>
                    <a:lnTo>
                      <a:pt x="14" y="42"/>
                    </a:lnTo>
                    <a:lnTo>
                      <a:pt x="7" y="59"/>
                    </a:lnTo>
                    <a:lnTo>
                      <a:pt x="0" y="85"/>
                    </a:lnTo>
                    <a:lnTo>
                      <a:pt x="0" y="108"/>
                    </a:lnTo>
                    <a:lnTo>
                      <a:pt x="2" y="138"/>
                    </a:lnTo>
                    <a:lnTo>
                      <a:pt x="7" y="166"/>
                    </a:lnTo>
                    <a:lnTo>
                      <a:pt x="17" y="167"/>
                    </a:lnTo>
                    <a:lnTo>
                      <a:pt x="17" y="176"/>
                    </a:lnTo>
                    <a:lnTo>
                      <a:pt x="22" y="180"/>
                    </a:lnTo>
                    <a:lnTo>
                      <a:pt x="22" y="209"/>
                    </a:lnTo>
                    <a:lnTo>
                      <a:pt x="27" y="214"/>
                    </a:lnTo>
                    <a:lnTo>
                      <a:pt x="27" y="267"/>
                    </a:lnTo>
                    <a:lnTo>
                      <a:pt x="27" y="302"/>
                    </a:lnTo>
                    <a:lnTo>
                      <a:pt x="19" y="340"/>
                    </a:lnTo>
                    <a:lnTo>
                      <a:pt x="16" y="388"/>
                    </a:lnTo>
                    <a:lnTo>
                      <a:pt x="25" y="392"/>
                    </a:lnTo>
                    <a:lnTo>
                      <a:pt x="25" y="397"/>
                    </a:lnTo>
                    <a:lnTo>
                      <a:pt x="40" y="397"/>
                    </a:lnTo>
                    <a:lnTo>
                      <a:pt x="41" y="396"/>
                    </a:lnTo>
                    <a:lnTo>
                      <a:pt x="47" y="396"/>
                    </a:lnTo>
                    <a:lnTo>
                      <a:pt x="47" y="399"/>
                    </a:lnTo>
                    <a:lnTo>
                      <a:pt x="58" y="397"/>
                    </a:lnTo>
                    <a:lnTo>
                      <a:pt x="79" y="396"/>
                    </a:lnTo>
                    <a:lnTo>
                      <a:pt x="79" y="392"/>
                    </a:lnTo>
                    <a:lnTo>
                      <a:pt x="59" y="385"/>
                    </a:lnTo>
                    <a:lnTo>
                      <a:pt x="59" y="378"/>
                    </a:lnTo>
                    <a:lnTo>
                      <a:pt x="77" y="374"/>
                    </a:lnTo>
                    <a:lnTo>
                      <a:pt x="77" y="369"/>
                    </a:lnTo>
                    <a:lnTo>
                      <a:pt x="64" y="362"/>
                    </a:lnTo>
                    <a:lnTo>
                      <a:pt x="64" y="307"/>
                    </a:lnTo>
                    <a:lnTo>
                      <a:pt x="69" y="257"/>
                    </a:lnTo>
                    <a:lnTo>
                      <a:pt x="68" y="208"/>
                    </a:lnTo>
                    <a:lnTo>
                      <a:pt x="67" y="180"/>
                    </a:lnTo>
                    <a:lnTo>
                      <a:pt x="69" y="171"/>
                    </a:lnTo>
                    <a:lnTo>
                      <a:pt x="69" y="132"/>
                    </a:lnTo>
                    <a:lnTo>
                      <a:pt x="83" y="122"/>
                    </a:lnTo>
                    <a:lnTo>
                      <a:pt x="83" y="117"/>
                    </a:lnTo>
                    <a:lnTo>
                      <a:pt x="53" y="64"/>
                    </a:lnTo>
                    <a:lnTo>
                      <a:pt x="37" y="57"/>
                    </a:lnTo>
                    <a:lnTo>
                      <a:pt x="39" y="54"/>
                    </a:lnTo>
                    <a:lnTo>
                      <a:pt x="49" y="51"/>
                    </a:lnTo>
                    <a:lnTo>
                      <a:pt x="49" y="48"/>
                    </a:lnTo>
                    <a:lnTo>
                      <a:pt x="53" y="46"/>
                    </a:lnTo>
                    <a:lnTo>
                      <a:pt x="53" y="42"/>
                    </a:lnTo>
                    <a:lnTo>
                      <a:pt x="54" y="41"/>
                    </a:lnTo>
                    <a:lnTo>
                      <a:pt x="53" y="40"/>
                    </a:lnTo>
                    <a:lnTo>
                      <a:pt x="54" y="37"/>
                    </a:lnTo>
                    <a:lnTo>
                      <a:pt x="49" y="28"/>
                    </a:lnTo>
                    <a:lnTo>
                      <a:pt x="53" y="23"/>
                    </a:lnTo>
                    <a:lnTo>
                      <a:pt x="49" y="18"/>
                    </a:lnTo>
                    <a:lnTo>
                      <a:pt x="54" y="14"/>
                    </a:lnTo>
                    <a:lnTo>
                      <a:pt x="54"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Freeform 104"/>
              <p:cNvSpPr/>
              <p:nvPr/>
            </p:nvSpPr>
            <p:spPr>
              <a:xfrm>
                <a:off x="5508720" y="981000"/>
                <a:ext cx="56160" cy="191880"/>
              </a:xfrm>
              <a:custGeom>
                <a:avLst/>
                <a:gdLst>
                  <a:gd name="textAreaLeft" fmla="*/ 0 w 56160"/>
                  <a:gd name="textAreaRight" fmla="*/ 56520 w 56160"/>
                  <a:gd name="textAreaTop" fmla="*/ 0 h 191880"/>
                  <a:gd name="textAreaBottom" fmla="*/ 192240 h 191880"/>
                </a:gdLst>
                <a:ahLst/>
                <a:rect l="textAreaLeft" t="textAreaTop" r="textAreaRight" b="textAreaBottom"/>
                <a:pathLst>
                  <a:path w="107" h="361">
                    <a:moveTo>
                      <a:pt x="65" y="4"/>
                    </a:moveTo>
                    <a:lnTo>
                      <a:pt x="87" y="0"/>
                    </a:lnTo>
                    <a:lnTo>
                      <a:pt x="95" y="8"/>
                    </a:lnTo>
                    <a:lnTo>
                      <a:pt x="98" y="4"/>
                    </a:lnTo>
                    <a:lnTo>
                      <a:pt x="104" y="21"/>
                    </a:lnTo>
                    <a:lnTo>
                      <a:pt x="93" y="31"/>
                    </a:lnTo>
                    <a:lnTo>
                      <a:pt x="92" y="40"/>
                    </a:lnTo>
                    <a:lnTo>
                      <a:pt x="89" y="40"/>
                    </a:lnTo>
                    <a:lnTo>
                      <a:pt x="87" y="49"/>
                    </a:lnTo>
                    <a:lnTo>
                      <a:pt x="78" y="50"/>
                    </a:lnTo>
                    <a:lnTo>
                      <a:pt x="78" y="54"/>
                    </a:lnTo>
                    <a:lnTo>
                      <a:pt x="93" y="64"/>
                    </a:lnTo>
                    <a:lnTo>
                      <a:pt x="104" y="116"/>
                    </a:lnTo>
                    <a:lnTo>
                      <a:pt x="95" y="130"/>
                    </a:lnTo>
                    <a:lnTo>
                      <a:pt x="95" y="224"/>
                    </a:lnTo>
                    <a:lnTo>
                      <a:pt x="83" y="228"/>
                    </a:lnTo>
                    <a:lnTo>
                      <a:pt x="81" y="243"/>
                    </a:lnTo>
                    <a:lnTo>
                      <a:pt x="78" y="284"/>
                    </a:lnTo>
                    <a:lnTo>
                      <a:pt x="78" y="306"/>
                    </a:lnTo>
                    <a:lnTo>
                      <a:pt x="95" y="318"/>
                    </a:lnTo>
                    <a:lnTo>
                      <a:pt x="107" y="326"/>
                    </a:lnTo>
                    <a:lnTo>
                      <a:pt x="107" y="330"/>
                    </a:lnTo>
                    <a:lnTo>
                      <a:pt x="80" y="324"/>
                    </a:lnTo>
                    <a:lnTo>
                      <a:pt x="78" y="320"/>
                    </a:lnTo>
                    <a:lnTo>
                      <a:pt x="74" y="324"/>
                    </a:lnTo>
                    <a:lnTo>
                      <a:pt x="71" y="324"/>
                    </a:lnTo>
                    <a:lnTo>
                      <a:pt x="69" y="308"/>
                    </a:lnTo>
                    <a:lnTo>
                      <a:pt x="65" y="240"/>
                    </a:lnTo>
                    <a:lnTo>
                      <a:pt x="58" y="240"/>
                    </a:lnTo>
                    <a:lnTo>
                      <a:pt x="43" y="301"/>
                    </a:lnTo>
                    <a:lnTo>
                      <a:pt x="43" y="338"/>
                    </a:lnTo>
                    <a:lnTo>
                      <a:pt x="38" y="357"/>
                    </a:lnTo>
                    <a:lnTo>
                      <a:pt x="32" y="361"/>
                    </a:lnTo>
                    <a:lnTo>
                      <a:pt x="29" y="352"/>
                    </a:lnTo>
                    <a:lnTo>
                      <a:pt x="33" y="341"/>
                    </a:lnTo>
                    <a:lnTo>
                      <a:pt x="38" y="316"/>
                    </a:lnTo>
                    <a:lnTo>
                      <a:pt x="38" y="229"/>
                    </a:lnTo>
                    <a:lnTo>
                      <a:pt x="43" y="145"/>
                    </a:lnTo>
                    <a:lnTo>
                      <a:pt x="34" y="138"/>
                    </a:lnTo>
                    <a:lnTo>
                      <a:pt x="34" y="125"/>
                    </a:lnTo>
                    <a:lnTo>
                      <a:pt x="34" y="102"/>
                    </a:lnTo>
                    <a:lnTo>
                      <a:pt x="23" y="108"/>
                    </a:lnTo>
                    <a:lnTo>
                      <a:pt x="33" y="122"/>
                    </a:lnTo>
                    <a:lnTo>
                      <a:pt x="33" y="135"/>
                    </a:lnTo>
                    <a:lnTo>
                      <a:pt x="23" y="128"/>
                    </a:lnTo>
                    <a:lnTo>
                      <a:pt x="16" y="120"/>
                    </a:lnTo>
                    <a:lnTo>
                      <a:pt x="10" y="121"/>
                    </a:lnTo>
                    <a:lnTo>
                      <a:pt x="0" y="107"/>
                    </a:lnTo>
                    <a:lnTo>
                      <a:pt x="0" y="102"/>
                    </a:lnTo>
                    <a:lnTo>
                      <a:pt x="4" y="100"/>
                    </a:lnTo>
                    <a:lnTo>
                      <a:pt x="19" y="84"/>
                    </a:lnTo>
                    <a:lnTo>
                      <a:pt x="33" y="70"/>
                    </a:lnTo>
                    <a:lnTo>
                      <a:pt x="52" y="55"/>
                    </a:lnTo>
                    <a:lnTo>
                      <a:pt x="65" y="49"/>
                    </a:lnTo>
                    <a:lnTo>
                      <a:pt x="65" y="37"/>
                    </a:lnTo>
                    <a:lnTo>
                      <a:pt x="58" y="32"/>
                    </a:lnTo>
                    <a:lnTo>
                      <a:pt x="58" y="17"/>
                    </a:lnTo>
                    <a:lnTo>
                      <a:pt x="56" y="14"/>
                    </a:lnTo>
                    <a:lnTo>
                      <a:pt x="65" y="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5" name="Freeform 105"/>
              <p:cNvSpPr/>
              <p:nvPr/>
            </p:nvSpPr>
            <p:spPr>
              <a:xfrm>
                <a:off x="5346720" y="1031760"/>
                <a:ext cx="30600" cy="137520"/>
              </a:xfrm>
              <a:custGeom>
                <a:avLst/>
                <a:gdLst>
                  <a:gd name="textAreaLeft" fmla="*/ 0 w 30600"/>
                  <a:gd name="textAreaRight" fmla="*/ 30960 w 30600"/>
                  <a:gd name="textAreaTop" fmla="*/ 0 h 137520"/>
                  <a:gd name="textAreaBottom" fmla="*/ 137880 h 137520"/>
                </a:gdLst>
                <a:ahLst/>
                <a:rect l="textAreaLeft" t="textAreaTop" r="textAreaRight" b="textAreaBottom"/>
                <a:pathLst>
                  <a:path w="59" h="258">
                    <a:moveTo>
                      <a:pt x="45" y="5"/>
                    </a:moveTo>
                    <a:lnTo>
                      <a:pt x="45" y="11"/>
                    </a:lnTo>
                    <a:lnTo>
                      <a:pt x="45" y="13"/>
                    </a:lnTo>
                    <a:lnTo>
                      <a:pt x="47" y="18"/>
                    </a:lnTo>
                    <a:lnTo>
                      <a:pt x="45" y="19"/>
                    </a:lnTo>
                    <a:lnTo>
                      <a:pt x="46" y="22"/>
                    </a:lnTo>
                    <a:lnTo>
                      <a:pt x="43" y="28"/>
                    </a:lnTo>
                    <a:lnTo>
                      <a:pt x="43" y="31"/>
                    </a:lnTo>
                    <a:lnTo>
                      <a:pt x="54" y="37"/>
                    </a:lnTo>
                    <a:lnTo>
                      <a:pt x="59" y="90"/>
                    </a:lnTo>
                    <a:lnTo>
                      <a:pt x="52" y="99"/>
                    </a:lnTo>
                    <a:lnTo>
                      <a:pt x="55" y="129"/>
                    </a:lnTo>
                    <a:lnTo>
                      <a:pt x="51" y="132"/>
                    </a:lnTo>
                    <a:lnTo>
                      <a:pt x="50" y="178"/>
                    </a:lnTo>
                    <a:lnTo>
                      <a:pt x="46" y="224"/>
                    </a:lnTo>
                    <a:lnTo>
                      <a:pt x="47" y="227"/>
                    </a:lnTo>
                    <a:lnTo>
                      <a:pt x="57" y="236"/>
                    </a:lnTo>
                    <a:lnTo>
                      <a:pt x="56" y="237"/>
                    </a:lnTo>
                    <a:lnTo>
                      <a:pt x="52" y="238"/>
                    </a:lnTo>
                    <a:lnTo>
                      <a:pt x="46" y="237"/>
                    </a:lnTo>
                    <a:lnTo>
                      <a:pt x="41" y="233"/>
                    </a:lnTo>
                    <a:lnTo>
                      <a:pt x="36" y="232"/>
                    </a:lnTo>
                    <a:lnTo>
                      <a:pt x="36" y="239"/>
                    </a:lnTo>
                    <a:lnTo>
                      <a:pt x="33" y="239"/>
                    </a:lnTo>
                    <a:lnTo>
                      <a:pt x="37" y="247"/>
                    </a:lnTo>
                    <a:lnTo>
                      <a:pt x="36" y="257"/>
                    </a:lnTo>
                    <a:lnTo>
                      <a:pt x="32" y="258"/>
                    </a:lnTo>
                    <a:lnTo>
                      <a:pt x="26" y="250"/>
                    </a:lnTo>
                    <a:lnTo>
                      <a:pt x="26" y="243"/>
                    </a:lnTo>
                    <a:lnTo>
                      <a:pt x="23" y="242"/>
                    </a:lnTo>
                    <a:lnTo>
                      <a:pt x="21" y="183"/>
                    </a:lnTo>
                    <a:lnTo>
                      <a:pt x="23" y="177"/>
                    </a:lnTo>
                    <a:lnTo>
                      <a:pt x="17" y="137"/>
                    </a:lnTo>
                    <a:lnTo>
                      <a:pt x="13" y="136"/>
                    </a:lnTo>
                    <a:lnTo>
                      <a:pt x="10" y="95"/>
                    </a:lnTo>
                    <a:lnTo>
                      <a:pt x="0" y="90"/>
                    </a:lnTo>
                    <a:lnTo>
                      <a:pt x="4" y="46"/>
                    </a:lnTo>
                    <a:lnTo>
                      <a:pt x="22" y="34"/>
                    </a:lnTo>
                    <a:lnTo>
                      <a:pt x="26" y="31"/>
                    </a:lnTo>
                    <a:lnTo>
                      <a:pt x="26" y="25"/>
                    </a:lnTo>
                    <a:lnTo>
                      <a:pt x="24" y="23"/>
                    </a:lnTo>
                    <a:lnTo>
                      <a:pt x="22" y="20"/>
                    </a:lnTo>
                    <a:lnTo>
                      <a:pt x="21" y="17"/>
                    </a:lnTo>
                    <a:lnTo>
                      <a:pt x="19" y="14"/>
                    </a:lnTo>
                    <a:lnTo>
                      <a:pt x="19" y="10"/>
                    </a:lnTo>
                    <a:lnTo>
                      <a:pt x="21" y="8"/>
                    </a:lnTo>
                    <a:lnTo>
                      <a:pt x="23" y="4"/>
                    </a:lnTo>
                    <a:lnTo>
                      <a:pt x="26" y="1"/>
                    </a:lnTo>
                    <a:lnTo>
                      <a:pt x="29" y="0"/>
                    </a:lnTo>
                    <a:lnTo>
                      <a:pt x="33" y="0"/>
                    </a:lnTo>
                    <a:lnTo>
                      <a:pt x="37" y="0"/>
                    </a:lnTo>
                    <a:lnTo>
                      <a:pt x="41" y="1"/>
                    </a:lnTo>
                    <a:lnTo>
                      <a:pt x="45"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Freeform 106"/>
              <p:cNvSpPr/>
              <p:nvPr/>
            </p:nvSpPr>
            <p:spPr>
              <a:xfrm>
                <a:off x="5256360" y="1052280"/>
                <a:ext cx="58320" cy="253800"/>
              </a:xfrm>
              <a:custGeom>
                <a:avLst/>
                <a:gdLst>
                  <a:gd name="textAreaLeft" fmla="*/ 0 w 58320"/>
                  <a:gd name="textAreaRight" fmla="*/ 58680 w 58320"/>
                  <a:gd name="textAreaTop" fmla="*/ 0 h 253800"/>
                  <a:gd name="textAreaBottom" fmla="*/ 254160 h 253800"/>
                </a:gdLst>
                <a:ahLst/>
                <a:rect l="textAreaLeft" t="textAreaTop" r="textAreaRight" b="textAreaBottom"/>
                <a:pathLst>
                  <a:path w="109" h="476">
                    <a:moveTo>
                      <a:pt x="84" y="9"/>
                    </a:moveTo>
                    <a:lnTo>
                      <a:pt x="84" y="21"/>
                    </a:lnTo>
                    <a:lnTo>
                      <a:pt x="83" y="24"/>
                    </a:lnTo>
                    <a:lnTo>
                      <a:pt x="87" y="35"/>
                    </a:lnTo>
                    <a:lnTo>
                      <a:pt x="84" y="37"/>
                    </a:lnTo>
                    <a:lnTo>
                      <a:pt x="85" y="41"/>
                    </a:lnTo>
                    <a:lnTo>
                      <a:pt x="81" y="54"/>
                    </a:lnTo>
                    <a:lnTo>
                      <a:pt x="81" y="56"/>
                    </a:lnTo>
                    <a:lnTo>
                      <a:pt x="101" y="69"/>
                    </a:lnTo>
                    <a:lnTo>
                      <a:pt x="109" y="167"/>
                    </a:lnTo>
                    <a:lnTo>
                      <a:pt x="98" y="185"/>
                    </a:lnTo>
                    <a:lnTo>
                      <a:pt x="103" y="238"/>
                    </a:lnTo>
                    <a:lnTo>
                      <a:pt x="95" y="243"/>
                    </a:lnTo>
                    <a:lnTo>
                      <a:pt x="92" y="327"/>
                    </a:lnTo>
                    <a:lnTo>
                      <a:pt x="87" y="413"/>
                    </a:lnTo>
                    <a:lnTo>
                      <a:pt x="88" y="416"/>
                    </a:lnTo>
                    <a:lnTo>
                      <a:pt x="108" y="433"/>
                    </a:lnTo>
                    <a:lnTo>
                      <a:pt x="106" y="436"/>
                    </a:lnTo>
                    <a:lnTo>
                      <a:pt x="98" y="438"/>
                    </a:lnTo>
                    <a:lnTo>
                      <a:pt x="87" y="436"/>
                    </a:lnTo>
                    <a:lnTo>
                      <a:pt x="75" y="429"/>
                    </a:lnTo>
                    <a:lnTo>
                      <a:pt x="66" y="427"/>
                    </a:lnTo>
                    <a:lnTo>
                      <a:pt x="66" y="441"/>
                    </a:lnTo>
                    <a:lnTo>
                      <a:pt x="62" y="441"/>
                    </a:lnTo>
                    <a:lnTo>
                      <a:pt x="69" y="453"/>
                    </a:lnTo>
                    <a:lnTo>
                      <a:pt x="66" y="474"/>
                    </a:lnTo>
                    <a:lnTo>
                      <a:pt x="58" y="476"/>
                    </a:lnTo>
                    <a:lnTo>
                      <a:pt x="47" y="460"/>
                    </a:lnTo>
                    <a:lnTo>
                      <a:pt x="47" y="448"/>
                    </a:lnTo>
                    <a:lnTo>
                      <a:pt x="43" y="446"/>
                    </a:lnTo>
                    <a:lnTo>
                      <a:pt x="39" y="338"/>
                    </a:lnTo>
                    <a:lnTo>
                      <a:pt x="43" y="327"/>
                    </a:lnTo>
                    <a:lnTo>
                      <a:pt x="30" y="254"/>
                    </a:lnTo>
                    <a:lnTo>
                      <a:pt x="23" y="251"/>
                    </a:lnTo>
                    <a:lnTo>
                      <a:pt x="19" y="176"/>
                    </a:lnTo>
                    <a:lnTo>
                      <a:pt x="0" y="167"/>
                    </a:lnTo>
                    <a:lnTo>
                      <a:pt x="9" y="85"/>
                    </a:lnTo>
                    <a:lnTo>
                      <a:pt x="39" y="63"/>
                    </a:lnTo>
                    <a:lnTo>
                      <a:pt x="47" y="56"/>
                    </a:lnTo>
                    <a:lnTo>
                      <a:pt x="48" y="47"/>
                    </a:lnTo>
                    <a:lnTo>
                      <a:pt x="44" y="42"/>
                    </a:lnTo>
                    <a:lnTo>
                      <a:pt x="42" y="37"/>
                    </a:lnTo>
                    <a:lnTo>
                      <a:pt x="38" y="32"/>
                    </a:lnTo>
                    <a:lnTo>
                      <a:pt x="36" y="26"/>
                    </a:lnTo>
                    <a:lnTo>
                      <a:pt x="36" y="21"/>
                    </a:lnTo>
                    <a:lnTo>
                      <a:pt x="38" y="14"/>
                    </a:lnTo>
                    <a:lnTo>
                      <a:pt x="42" y="8"/>
                    </a:lnTo>
                    <a:lnTo>
                      <a:pt x="47" y="3"/>
                    </a:lnTo>
                    <a:lnTo>
                      <a:pt x="55" y="0"/>
                    </a:lnTo>
                    <a:lnTo>
                      <a:pt x="62" y="0"/>
                    </a:lnTo>
                    <a:lnTo>
                      <a:pt x="69" y="1"/>
                    </a:lnTo>
                    <a:lnTo>
                      <a:pt x="75" y="3"/>
                    </a:lnTo>
                    <a:lnTo>
                      <a:pt x="84" y="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17" name="Group 107"/>
            <p:cNvGrpSpPr/>
            <p:nvPr/>
          </p:nvGrpSpPr>
          <p:grpSpPr>
            <a:xfrm>
              <a:off x="5013720" y="1046880"/>
              <a:ext cx="1697400" cy="835920"/>
              <a:chOff x="5013720" y="1046880"/>
              <a:chExt cx="1697400" cy="835920"/>
            </a:xfrm>
          </p:grpSpPr>
          <p:grpSp>
            <p:nvGrpSpPr>
              <p:cNvPr id="218" name="Group 108"/>
              <p:cNvGrpSpPr/>
              <p:nvPr/>
            </p:nvGrpSpPr>
            <p:grpSpPr>
              <a:xfrm>
                <a:off x="6013080" y="1080720"/>
                <a:ext cx="279000" cy="595800"/>
                <a:chOff x="6013080" y="1080720"/>
                <a:chExt cx="279000" cy="595800"/>
              </a:xfrm>
            </p:grpSpPr>
            <p:sp>
              <p:nvSpPr>
                <p:cNvPr id="219" name="Freeform 109"/>
                <p:cNvSpPr/>
                <p:nvPr/>
              </p:nvSpPr>
              <p:spPr>
                <a:xfrm>
                  <a:off x="6013080" y="1080720"/>
                  <a:ext cx="178560" cy="595800"/>
                </a:xfrm>
                <a:custGeom>
                  <a:avLst/>
                  <a:gdLst>
                    <a:gd name="textAreaLeft" fmla="*/ 0 w 178560"/>
                    <a:gd name="textAreaRight" fmla="*/ 178920 w 178560"/>
                    <a:gd name="textAreaTop" fmla="*/ 0 h 595800"/>
                    <a:gd name="textAreaBottom" fmla="*/ 596160 h 595800"/>
                  </a:gdLst>
                  <a:ahLst/>
                  <a:rect l="textAreaLeft" t="textAreaTop" r="textAreaRight" b="textAreaBottom"/>
                  <a:pathLst>
                    <a:path w="336" h="1115">
                      <a:moveTo>
                        <a:pt x="204" y="14"/>
                      </a:moveTo>
                      <a:lnTo>
                        <a:pt x="269" y="0"/>
                      </a:lnTo>
                      <a:lnTo>
                        <a:pt x="295" y="28"/>
                      </a:lnTo>
                      <a:lnTo>
                        <a:pt x="306" y="19"/>
                      </a:lnTo>
                      <a:lnTo>
                        <a:pt x="324" y="67"/>
                      </a:lnTo>
                      <a:lnTo>
                        <a:pt x="289" y="99"/>
                      </a:lnTo>
                      <a:lnTo>
                        <a:pt x="286" y="123"/>
                      </a:lnTo>
                      <a:lnTo>
                        <a:pt x="277" y="126"/>
                      </a:lnTo>
                      <a:lnTo>
                        <a:pt x="269" y="151"/>
                      </a:lnTo>
                      <a:lnTo>
                        <a:pt x="244" y="157"/>
                      </a:lnTo>
                      <a:lnTo>
                        <a:pt x="244" y="167"/>
                      </a:lnTo>
                      <a:lnTo>
                        <a:pt x="289" y="200"/>
                      </a:lnTo>
                      <a:lnTo>
                        <a:pt x="324" y="360"/>
                      </a:lnTo>
                      <a:lnTo>
                        <a:pt x="295" y="401"/>
                      </a:lnTo>
                      <a:lnTo>
                        <a:pt x="295" y="694"/>
                      </a:lnTo>
                      <a:lnTo>
                        <a:pt x="261" y="706"/>
                      </a:lnTo>
                      <a:lnTo>
                        <a:pt x="254" y="753"/>
                      </a:lnTo>
                      <a:lnTo>
                        <a:pt x="240" y="876"/>
                      </a:lnTo>
                      <a:lnTo>
                        <a:pt x="240" y="943"/>
                      </a:lnTo>
                      <a:lnTo>
                        <a:pt x="295" y="984"/>
                      </a:lnTo>
                      <a:lnTo>
                        <a:pt x="334" y="1004"/>
                      </a:lnTo>
                      <a:lnTo>
                        <a:pt x="336" y="1018"/>
                      </a:lnTo>
                      <a:lnTo>
                        <a:pt x="250" y="998"/>
                      </a:lnTo>
                      <a:lnTo>
                        <a:pt x="240" y="985"/>
                      </a:lnTo>
                      <a:lnTo>
                        <a:pt x="232" y="998"/>
                      </a:lnTo>
                      <a:lnTo>
                        <a:pt x="222" y="998"/>
                      </a:lnTo>
                      <a:lnTo>
                        <a:pt x="213" y="952"/>
                      </a:lnTo>
                      <a:lnTo>
                        <a:pt x="204" y="739"/>
                      </a:lnTo>
                      <a:lnTo>
                        <a:pt x="187" y="739"/>
                      </a:lnTo>
                      <a:lnTo>
                        <a:pt x="139" y="928"/>
                      </a:lnTo>
                      <a:lnTo>
                        <a:pt x="139" y="1044"/>
                      </a:lnTo>
                      <a:lnTo>
                        <a:pt x="120" y="1102"/>
                      </a:lnTo>
                      <a:lnTo>
                        <a:pt x="102" y="1115"/>
                      </a:lnTo>
                      <a:lnTo>
                        <a:pt x="92" y="1084"/>
                      </a:lnTo>
                      <a:lnTo>
                        <a:pt x="105" y="1051"/>
                      </a:lnTo>
                      <a:lnTo>
                        <a:pt x="120" y="978"/>
                      </a:lnTo>
                      <a:lnTo>
                        <a:pt x="123" y="710"/>
                      </a:lnTo>
                      <a:lnTo>
                        <a:pt x="138" y="448"/>
                      </a:lnTo>
                      <a:lnTo>
                        <a:pt x="110" y="425"/>
                      </a:lnTo>
                      <a:lnTo>
                        <a:pt x="110" y="388"/>
                      </a:lnTo>
                      <a:lnTo>
                        <a:pt x="110" y="317"/>
                      </a:lnTo>
                      <a:lnTo>
                        <a:pt x="73" y="335"/>
                      </a:lnTo>
                      <a:lnTo>
                        <a:pt x="105" y="381"/>
                      </a:lnTo>
                      <a:lnTo>
                        <a:pt x="105" y="420"/>
                      </a:lnTo>
                      <a:lnTo>
                        <a:pt x="72" y="395"/>
                      </a:lnTo>
                      <a:lnTo>
                        <a:pt x="53" y="369"/>
                      </a:lnTo>
                      <a:lnTo>
                        <a:pt x="36" y="375"/>
                      </a:lnTo>
                      <a:lnTo>
                        <a:pt x="0" y="331"/>
                      </a:lnTo>
                      <a:lnTo>
                        <a:pt x="0" y="317"/>
                      </a:lnTo>
                      <a:lnTo>
                        <a:pt x="18" y="309"/>
                      </a:lnTo>
                      <a:lnTo>
                        <a:pt x="60" y="262"/>
                      </a:lnTo>
                      <a:lnTo>
                        <a:pt x="105" y="220"/>
                      </a:lnTo>
                      <a:lnTo>
                        <a:pt x="161" y="169"/>
                      </a:lnTo>
                      <a:lnTo>
                        <a:pt x="204" y="153"/>
                      </a:lnTo>
                      <a:lnTo>
                        <a:pt x="204" y="118"/>
                      </a:lnTo>
                      <a:lnTo>
                        <a:pt x="187" y="100"/>
                      </a:lnTo>
                      <a:lnTo>
                        <a:pt x="187" y="55"/>
                      </a:lnTo>
                      <a:lnTo>
                        <a:pt x="176" y="47"/>
                      </a:lnTo>
                      <a:lnTo>
                        <a:pt x="204" y="14"/>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Freeform 110"/>
                <p:cNvSpPr/>
                <p:nvPr/>
              </p:nvSpPr>
              <p:spPr>
                <a:xfrm>
                  <a:off x="6161040" y="1085040"/>
                  <a:ext cx="131040" cy="568800"/>
                </a:xfrm>
                <a:custGeom>
                  <a:avLst/>
                  <a:gdLst>
                    <a:gd name="textAreaLeft" fmla="*/ 0 w 131040"/>
                    <a:gd name="textAreaRight" fmla="*/ 131400 w 131040"/>
                    <a:gd name="textAreaTop" fmla="*/ 0 h 568800"/>
                    <a:gd name="textAreaBottom" fmla="*/ 569160 h 568800"/>
                  </a:gdLst>
                  <a:ahLst/>
                  <a:rect l="textAreaLeft" t="textAreaTop" r="textAreaRight" b="textAreaBottom"/>
                  <a:pathLst>
                    <a:path w="246" h="1067">
                      <a:moveTo>
                        <a:pt x="57" y="21"/>
                      </a:moveTo>
                      <a:lnTo>
                        <a:pt x="57" y="47"/>
                      </a:lnTo>
                      <a:lnTo>
                        <a:pt x="61" y="55"/>
                      </a:lnTo>
                      <a:lnTo>
                        <a:pt x="51" y="77"/>
                      </a:lnTo>
                      <a:lnTo>
                        <a:pt x="57" y="83"/>
                      </a:lnTo>
                      <a:lnTo>
                        <a:pt x="56" y="91"/>
                      </a:lnTo>
                      <a:lnTo>
                        <a:pt x="63" y="120"/>
                      </a:lnTo>
                      <a:lnTo>
                        <a:pt x="63" y="125"/>
                      </a:lnTo>
                      <a:lnTo>
                        <a:pt x="20" y="153"/>
                      </a:lnTo>
                      <a:lnTo>
                        <a:pt x="0" y="375"/>
                      </a:lnTo>
                      <a:lnTo>
                        <a:pt x="26" y="413"/>
                      </a:lnTo>
                      <a:lnTo>
                        <a:pt x="15" y="534"/>
                      </a:lnTo>
                      <a:lnTo>
                        <a:pt x="32" y="546"/>
                      </a:lnTo>
                      <a:lnTo>
                        <a:pt x="40" y="733"/>
                      </a:lnTo>
                      <a:lnTo>
                        <a:pt x="54" y="923"/>
                      </a:lnTo>
                      <a:lnTo>
                        <a:pt x="49" y="935"/>
                      </a:lnTo>
                      <a:lnTo>
                        <a:pt x="5" y="969"/>
                      </a:lnTo>
                      <a:lnTo>
                        <a:pt x="9" y="975"/>
                      </a:lnTo>
                      <a:lnTo>
                        <a:pt x="26" y="983"/>
                      </a:lnTo>
                      <a:lnTo>
                        <a:pt x="52" y="975"/>
                      </a:lnTo>
                      <a:lnTo>
                        <a:pt x="77" y="963"/>
                      </a:lnTo>
                      <a:lnTo>
                        <a:pt x="97" y="955"/>
                      </a:lnTo>
                      <a:lnTo>
                        <a:pt x="97" y="987"/>
                      </a:lnTo>
                      <a:lnTo>
                        <a:pt x="106" y="988"/>
                      </a:lnTo>
                      <a:lnTo>
                        <a:pt x="91" y="1017"/>
                      </a:lnTo>
                      <a:lnTo>
                        <a:pt x="98" y="1061"/>
                      </a:lnTo>
                      <a:lnTo>
                        <a:pt x="114" y="1067"/>
                      </a:lnTo>
                      <a:lnTo>
                        <a:pt x="139" y="1030"/>
                      </a:lnTo>
                      <a:lnTo>
                        <a:pt x="139" y="1003"/>
                      </a:lnTo>
                      <a:lnTo>
                        <a:pt x="148" y="1000"/>
                      </a:lnTo>
                      <a:lnTo>
                        <a:pt x="158" y="756"/>
                      </a:lnTo>
                      <a:lnTo>
                        <a:pt x="148" y="732"/>
                      </a:lnTo>
                      <a:lnTo>
                        <a:pt x="177" y="569"/>
                      </a:lnTo>
                      <a:lnTo>
                        <a:pt x="194" y="563"/>
                      </a:lnTo>
                      <a:lnTo>
                        <a:pt x="202" y="392"/>
                      </a:lnTo>
                      <a:lnTo>
                        <a:pt x="246" y="373"/>
                      </a:lnTo>
                      <a:lnTo>
                        <a:pt x="227" y="190"/>
                      </a:lnTo>
                      <a:lnTo>
                        <a:pt x="157" y="142"/>
                      </a:lnTo>
                      <a:lnTo>
                        <a:pt x="139" y="124"/>
                      </a:lnTo>
                      <a:lnTo>
                        <a:pt x="139" y="107"/>
                      </a:lnTo>
                      <a:lnTo>
                        <a:pt x="145" y="94"/>
                      </a:lnTo>
                      <a:lnTo>
                        <a:pt x="153" y="84"/>
                      </a:lnTo>
                      <a:lnTo>
                        <a:pt x="161" y="72"/>
                      </a:lnTo>
                      <a:lnTo>
                        <a:pt x="165" y="59"/>
                      </a:lnTo>
                      <a:lnTo>
                        <a:pt x="165" y="46"/>
                      </a:lnTo>
                      <a:lnTo>
                        <a:pt x="161" y="32"/>
                      </a:lnTo>
                      <a:lnTo>
                        <a:pt x="152" y="18"/>
                      </a:lnTo>
                      <a:lnTo>
                        <a:pt x="139" y="7"/>
                      </a:lnTo>
                      <a:lnTo>
                        <a:pt x="124" y="0"/>
                      </a:lnTo>
                      <a:lnTo>
                        <a:pt x="107" y="0"/>
                      </a:lnTo>
                      <a:lnTo>
                        <a:pt x="91" y="2"/>
                      </a:lnTo>
                      <a:lnTo>
                        <a:pt x="77" y="7"/>
                      </a:lnTo>
                      <a:lnTo>
                        <a:pt x="57" y="2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21" name="Freeform 111"/>
              <p:cNvSpPr/>
              <p:nvPr/>
            </p:nvSpPr>
            <p:spPr>
              <a:xfrm>
                <a:off x="6562440" y="1178280"/>
                <a:ext cx="148680" cy="704520"/>
              </a:xfrm>
              <a:custGeom>
                <a:avLst/>
                <a:gdLst>
                  <a:gd name="textAreaLeft" fmla="*/ 0 w 148680"/>
                  <a:gd name="textAreaRight" fmla="*/ 149040 w 148680"/>
                  <a:gd name="textAreaTop" fmla="*/ 0 h 704520"/>
                  <a:gd name="textAreaBottom" fmla="*/ 704880 h 704520"/>
                </a:gdLst>
                <a:ahLst/>
                <a:rect l="textAreaLeft" t="textAreaTop" r="textAreaRight" b="textAreaBottom"/>
                <a:pathLst>
                  <a:path w="279" h="1320">
                    <a:moveTo>
                      <a:pt x="98" y="19"/>
                    </a:moveTo>
                    <a:lnTo>
                      <a:pt x="163" y="0"/>
                    </a:lnTo>
                    <a:lnTo>
                      <a:pt x="212" y="0"/>
                    </a:lnTo>
                    <a:lnTo>
                      <a:pt x="255" y="11"/>
                    </a:lnTo>
                    <a:lnTo>
                      <a:pt x="273" y="56"/>
                    </a:lnTo>
                    <a:lnTo>
                      <a:pt x="273" y="95"/>
                    </a:lnTo>
                    <a:lnTo>
                      <a:pt x="247" y="142"/>
                    </a:lnTo>
                    <a:lnTo>
                      <a:pt x="229" y="141"/>
                    </a:lnTo>
                    <a:lnTo>
                      <a:pt x="256" y="194"/>
                    </a:lnTo>
                    <a:lnTo>
                      <a:pt x="279" y="282"/>
                    </a:lnTo>
                    <a:lnTo>
                      <a:pt x="279" y="360"/>
                    </a:lnTo>
                    <a:lnTo>
                      <a:pt x="273" y="455"/>
                    </a:lnTo>
                    <a:lnTo>
                      <a:pt x="255" y="550"/>
                    </a:lnTo>
                    <a:lnTo>
                      <a:pt x="223" y="555"/>
                    </a:lnTo>
                    <a:lnTo>
                      <a:pt x="223" y="584"/>
                    </a:lnTo>
                    <a:lnTo>
                      <a:pt x="206" y="595"/>
                    </a:lnTo>
                    <a:lnTo>
                      <a:pt x="206" y="690"/>
                    </a:lnTo>
                    <a:lnTo>
                      <a:pt x="189" y="709"/>
                    </a:lnTo>
                    <a:lnTo>
                      <a:pt x="189" y="886"/>
                    </a:lnTo>
                    <a:lnTo>
                      <a:pt x="189" y="998"/>
                    </a:lnTo>
                    <a:lnTo>
                      <a:pt x="214" y="1124"/>
                    </a:lnTo>
                    <a:lnTo>
                      <a:pt x="223" y="1284"/>
                    </a:lnTo>
                    <a:lnTo>
                      <a:pt x="196" y="1297"/>
                    </a:lnTo>
                    <a:lnTo>
                      <a:pt x="196" y="1315"/>
                    </a:lnTo>
                    <a:lnTo>
                      <a:pt x="148" y="1315"/>
                    </a:lnTo>
                    <a:lnTo>
                      <a:pt x="141" y="1308"/>
                    </a:lnTo>
                    <a:lnTo>
                      <a:pt x="122" y="1308"/>
                    </a:lnTo>
                    <a:lnTo>
                      <a:pt x="121" y="1320"/>
                    </a:lnTo>
                    <a:lnTo>
                      <a:pt x="88" y="1315"/>
                    </a:lnTo>
                    <a:lnTo>
                      <a:pt x="14" y="1308"/>
                    </a:lnTo>
                    <a:lnTo>
                      <a:pt x="14" y="1297"/>
                    </a:lnTo>
                    <a:lnTo>
                      <a:pt x="81" y="1273"/>
                    </a:lnTo>
                    <a:lnTo>
                      <a:pt x="81" y="1248"/>
                    </a:lnTo>
                    <a:lnTo>
                      <a:pt x="23" y="1238"/>
                    </a:lnTo>
                    <a:lnTo>
                      <a:pt x="23" y="1220"/>
                    </a:lnTo>
                    <a:lnTo>
                      <a:pt x="64" y="1196"/>
                    </a:lnTo>
                    <a:lnTo>
                      <a:pt x="64" y="1017"/>
                    </a:lnTo>
                    <a:lnTo>
                      <a:pt x="47" y="853"/>
                    </a:lnTo>
                    <a:lnTo>
                      <a:pt x="53" y="687"/>
                    </a:lnTo>
                    <a:lnTo>
                      <a:pt x="55" y="595"/>
                    </a:lnTo>
                    <a:lnTo>
                      <a:pt x="48" y="566"/>
                    </a:lnTo>
                    <a:lnTo>
                      <a:pt x="48" y="438"/>
                    </a:lnTo>
                    <a:lnTo>
                      <a:pt x="0" y="408"/>
                    </a:lnTo>
                    <a:lnTo>
                      <a:pt x="0" y="390"/>
                    </a:lnTo>
                    <a:lnTo>
                      <a:pt x="106" y="214"/>
                    </a:lnTo>
                    <a:lnTo>
                      <a:pt x="155" y="189"/>
                    </a:lnTo>
                    <a:lnTo>
                      <a:pt x="149" y="178"/>
                    </a:lnTo>
                    <a:lnTo>
                      <a:pt x="115" y="172"/>
                    </a:lnTo>
                    <a:lnTo>
                      <a:pt x="115" y="160"/>
                    </a:lnTo>
                    <a:lnTo>
                      <a:pt x="106" y="155"/>
                    </a:lnTo>
                    <a:lnTo>
                      <a:pt x="106" y="142"/>
                    </a:lnTo>
                    <a:lnTo>
                      <a:pt x="98" y="136"/>
                    </a:lnTo>
                    <a:lnTo>
                      <a:pt x="106" y="131"/>
                    </a:lnTo>
                    <a:lnTo>
                      <a:pt x="98" y="126"/>
                    </a:lnTo>
                    <a:lnTo>
                      <a:pt x="115" y="95"/>
                    </a:lnTo>
                    <a:lnTo>
                      <a:pt x="106" y="79"/>
                    </a:lnTo>
                    <a:lnTo>
                      <a:pt x="115" y="61"/>
                    </a:lnTo>
                    <a:lnTo>
                      <a:pt x="98" y="48"/>
                    </a:lnTo>
                    <a:lnTo>
                      <a:pt x="98" y="19"/>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Freeform 112"/>
              <p:cNvSpPr/>
              <p:nvPr/>
            </p:nvSpPr>
            <p:spPr>
              <a:xfrm>
                <a:off x="5013720" y="1172520"/>
                <a:ext cx="109440" cy="376920"/>
              </a:xfrm>
              <a:custGeom>
                <a:avLst/>
                <a:gdLst>
                  <a:gd name="textAreaLeft" fmla="*/ 0 w 109440"/>
                  <a:gd name="textAreaRight" fmla="*/ 109800 w 109440"/>
                  <a:gd name="textAreaTop" fmla="*/ 0 h 376920"/>
                  <a:gd name="textAreaBottom" fmla="*/ 377280 h 376920"/>
                </a:gdLst>
                <a:ahLst/>
                <a:rect l="textAreaLeft" t="textAreaTop" r="textAreaRight" b="textAreaBottom"/>
                <a:pathLst>
                  <a:path w="207" h="705">
                    <a:moveTo>
                      <a:pt x="104" y="5"/>
                    </a:moveTo>
                    <a:lnTo>
                      <a:pt x="81" y="9"/>
                    </a:lnTo>
                    <a:lnTo>
                      <a:pt x="71" y="34"/>
                    </a:lnTo>
                    <a:lnTo>
                      <a:pt x="71" y="47"/>
                    </a:lnTo>
                    <a:lnTo>
                      <a:pt x="81" y="47"/>
                    </a:lnTo>
                    <a:lnTo>
                      <a:pt x="77" y="52"/>
                    </a:lnTo>
                    <a:lnTo>
                      <a:pt x="81" y="55"/>
                    </a:lnTo>
                    <a:lnTo>
                      <a:pt x="83" y="66"/>
                    </a:lnTo>
                    <a:lnTo>
                      <a:pt x="86" y="69"/>
                    </a:lnTo>
                    <a:lnTo>
                      <a:pt x="93" y="90"/>
                    </a:lnTo>
                    <a:lnTo>
                      <a:pt x="93" y="95"/>
                    </a:lnTo>
                    <a:lnTo>
                      <a:pt x="83" y="95"/>
                    </a:lnTo>
                    <a:lnTo>
                      <a:pt x="67" y="122"/>
                    </a:lnTo>
                    <a:lnTo>
                      <a:pt x="36" y="131"/>
                    </a:lnTo>
                    <a:lnTo>
                      <a:pt x="22" y="153"/>
                    </a:lnTo>
                    <a:lnTo>
                      <a:pt x="7" y="346"/>
                    </a:lnTo>
                    <a:lnTo>
                      <a:pt x="13" y="349"/>
                    </a:lnTo>
                    <a:lnTo>
                      <a:pt x="0" y="383"/>
                    </a:lnTo>
                    <a:lnTo>
                      <a:pt x="7" y="405"/>
                    </a:lnTo>
                    <a:lnTo>
                      <a:pt x="13" y="405"/>
                    </a:lnTo>
                    <a:lnTo>
                      <a:pt x="17" y="408"/>
                    </a:lnTo>
                    <a:lnTo>
                      <a:pt x="22" y="408"/>
                    </a:lnTo>
                    <a:lnTo>
                      <a:pt x="20" y="388"/>
                    </a:lnTo>
                    <a:lnTo>
                      <a:pt x="22" y="375"/>
                    </a:lnTo>
                    <a:lnTo>
                      <a:pt x="26" y="385"/>
                    </a:lnTo>
                    <a:lnTo>
                      <a:pt x="22" y="392"/>
                    </a:lnTo>
                    <a:lnTo>
                      <a:pt x="26" y="397"/>
                    </a:lnTo>
                    <a:lnTo>
                      <a:pt x="34" y="380"/>
                    </a:lnTo>
                    <a:lnTo>
                      <a:pt x="28" y="352"/>
                    </a:lnTo>
                    <a:lnTo>
                      <a:pt x="40" y="354"/>
                    </a:lnTo>
                    <a:lnTo>
                      <a:pt x="34" y="528"/>
                    </a:lnTo>
                    <a:lnTo>
                      <a:pt x="68" y="538"/>
                    </a:lnTo>
                    <a:lnTo>
                      <a:pt x="83" y="640"/>
                    </a:lnTo>
                    <a:lnTo>
                      <a:pt x="81" y="650"/>
                    </a:lnTo>
                    <a:lnTo>
                      <a:pt x="73" y="694"/>
                    </a:lnTo>
                    <a:lnTo>
                      <a:pt x="73" y="701"/>
                    </a:lnTo>
                    <a:lnTo>
                      <a:pt x="97" y="705"/>
                    </a:lnTo>
                    <a:lnTo>
                      <a:pt x="106" y="694"/>
                    </a:lnTo>
                    <a:lnTo>
                      <a:pt x="101" y="655"/>
                    </a:lnTo>
                    <a:lnTo>
                      <a:pt x="97" y="630"/>
                    </a:lnTo>
                    <a:lnTo>
                      <a:pt x="107" y="542"/>
                    </a:lnTo>
                    <a:lnTo>
                      <a:pt x="110" y="543"/>
                    </a:lnTo>
                    <a:lnTo>
                      <a:pt x="120" y="575"/>
                    </a:lnTo>
                    <a:lnTo>
                      <a:pt x="114" y="627"/>
                    </a:lnTo>
                    <a:lnTo>
                      <a:pt x="106" y="632"/>
                    </a:lnTo>
                    <a:lnTo>
                      <a:pt x="120" y="687"/>
                    </a:lnTo>
                    <a:lnTo>
                      <a:pt x="143" y="694"/>
                    </a:lnTo>
                    <a:lnTo>
                      <a:pt x="148" y="688"/>
                    </a:lnTo>
                    <a:lnTo>
                      <a:pt x="130" y="632"/>
                    </a:lnTo>
                    <a:lnTo>
                      <a:pt x="157" y="538"/>
                    </a:lnTo>
                    <a:lnTo>
                      <a:pt x="170" y="531"/>
                    </a:lnTo>
                    <a:lnTo>
                      <a:pt x="170" y="524"/>
                    </a:lnTo>
                    <a:lnTo>
                      <a:pt x="194" y="525"/>
                    </a:lnTo>
                    <a:lnTo>
                      <a:pt x="202" y="538"/>
                    </a:lnTo>
                    <a:lnTo>
                      <a:pt x="207" y="531"/>
                    </a:lnTo>
                    <a:lnTo>
                      <a:pt x="184" y="360"/>
                    </a:lnTo>
                    <a:lnTo>
                      <a:pt x="188" y="360"/>
                    </a:lnTo>
                    <a:lnTo>
                      <a:pt x="188" y="326"/>
                    </a:lnTo>
                    <a:lnTo>
                      <a:pt x="190" y="321"/>
                    </a:lnTo>
                    <a:lnTo>
                      <a:pt x="184" y="237"/>
                    </a:lnTo>
                    <a:lnTo>
                      <a:pt x="178" y="137"/>
                    </a:lnTo>
                    <a:lnTo>
                      <a:pt x="138" y="117"/>
                    </a:lnTo>
                    <a:lnTo>
                      <a:pt x="127" y="95"/>
                    </a:lnTo>
                    <a:lnTo>
                      <a:pt x="137" y="76"/>
                    </a:lnTo>
                    <a:lnTo>
                      <a:pt x="143" y="77"/>
                    </a:lnTo>
                    <a:lnTo>
                      <a:pt x="148" y="69"/>
                    </a:lnTo>
                    <a:lnTo>
                      <a:pt x="148" y="58"/>
                    </a:lnTo>
                    <a:lnTo>
                      <a:pt x="157" y="57"/>
                    </a:lnTo>
                    <a:lnTo>
                      <a:pt x="161" y="28"/>
                    </a:lnTo>
                    <a:lnTo>
                      <a:pt x="151" y="9"/>
                    </a:lnTo>
                    <a:lnTo>
                      <a:pt x="141" y="1"/>
                    </a:lnTo>
                    <a:lnTo>
                      <a:pt x="125" y="1"/>
                    </a:lnTo>
                    <a:lnTo>
                      <a:pt x="115" y="0"/>
                    </a:lnTo>
                    <a:lnTo>
                      <a:pt x="104" y="5"/>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Freeform 113"/>
              <p:cNvSpPr/>
              <p:nvPr/>
            </p:nvSpPr>
            <p:spPr>
              <a:xfrm>
                <a:off x="5791680" y="1083960"/>
                <a:ext cx="78480" cy="374760"/>
              </a:xfrm>
              <a:custGeom>
                <a:avLst/>
                <a:gdLst>
                  <a:gd name="textAreaLeft" fmla="*/ 0 w 78480"/>
                  <a:gd name="textAreaRight" fmla="*/ 78840 w 78480"/>
                  <a:gd name="textAreaTop" fmla="*/ 0 h 374760"/>
                  <a:gd name="textAreaBottom" fmla="*/ 375120 h 374760"/>
                </a:gdLst>
                <a:ahLst/>
                <a:rect l="textAreaLeft" t="textAreaTop" r="textAreaRight" b="textAreaBottom"/>
                <a:pathLst>
                  <a:path w="148" h="703">
                    <a:moveTo>
                      <a:pt x="51" y="9"/>
                    </a:moveTo>
                    <a:lnTo>
                      <a:pt x="86" y="0"/>
                    </a:lnTo>
                    <a:lnTo>
                      <a:pt x="112" y="0"/>
                    </a:lnTo>
                    <a:lnTo>
                      <a:pt x="136" y="5"/>
                    </a:lnTo>
                    <a:lnTo>
                      <a:pt x="145" y="29"/>
                    </a:lnTo>
                    <a:lnTo>
                      <a:pt x="145" y="51"/>
                    </a:lnTo>
                    <a:lnTo>
                      <a:pt x="131" y="75"/>
                    </a:lnTo>
                    <a:lnTo>
                      <a:pt x="122" y="75"/>
                    </a:lnTo>
                    <a:lnTo>
                      <a:pt x="136" y="103"/>
                    </a:lnTo>
                    <a:lnTo>
                      <a:pt x="148" y="150"/>
                    </a:lnTo>
                    <a:lnTo>
                      <a:pt x="148" y="190"/>
                    </a:lnTo>
                    <a:lnTo>
                      <a:pt x="145" y="242"/>
                    </a:lnTo>
                    <a:lnTo>
                      <a:pt x="136" y="292"/>
                    </a:lnTo>
                    <a:lnTo>
                      <a:pt x="118" y="294"/>
                    </a:lnTo>
                    <a:lnTo>
                      <a:pt x="118" y="309"/>
                    </a:lnTo>
                    <a:lnTo>
                      <a:pt x="109" y="316"/>
                    </a:lnTo>
                    <a:lnTo>
                      <a:pt x="109" y="367"/>
                    </a:lnTo>
                    <a:lnTo>
                      <a:pt x="99" y="377"/>
                    </a:lnTo>
                    <a:lnTo>
                      <a:pt x="99" y="472"/>
                    </a:lnTo>
                    <a:lnTo>
                      <a:pt x="99" y="532"/>
                    </a:lnTo>
                    <a:lnTo>
                      <a:pt x="113" y="598"/>
                    </a:lnTo>
                    <a:lnTo>
                      <a:pt x="118" y="685"/>
                    </a:lnTo>
                    <a:lnTo>
                      <a:pt x="104" y="691"/>
                    </a:lnTo>
                    <a:lnTo>
                      <a:pt x="104" y="701"/>
                    </a:lnTo>
                    <a:lnTo>
                      <a:pt x="79" y="701"/>
                    </a:lnTo>
                    <a:lnTo>
                      <a:pt x="75" y="698"/>
                    </a:lnTo>
                    <a:lnTo>
                      <a:pt x="65" y="698"/>
                    </a:lnTo>
                    <a:lnTo>
                      <a:pt x="64" y="703"/>
                    </a:lnTo>
                    <a:lnTo>
                      <a:pt x="46" y="701"/>
                    </a:lnTo>
                    <a:lnTo>
                      <a:pt x="7" y="698"/>
                    </a:lnTo>
                    <a:lnTo>
                      <a:pt x="7" y="691"/>
                    </a:lnTo>
                    <a:lnTo>
                      <a:pt x="42" y="678"/>
                    </a:lnTo>
                    <a:lnTo>
                      <a:pt x="42" y="666"/>
                    </a:lnTo>
                    <a:lnTo>
                      <a:pt x="11" y="659"/>
                    </a:lnTo>
                    <a:lnTo>
                      <a:pt x="11" y="650"/>
                    </a:lnTo>
                    <a:lnTo>
                      <a:pt x="33" y="638"/>
                    </a:lnTo>
                    <a:lnTo>
                      <a:pt x="33" y="541"/>
                    </a:lnTo>
                    <a:lnTo>
                      <a:pt x="25" y="453"/>
                    </a:lnTo>
                    <a:lnTo>
                      <a:pt x="28" y="365"/>
                    </a:lnTo>
                    <a:lnTo>
                      <a:pt x="29" y="316"/>
                    </a:lnTo>
                    <a:lnTo>
                      <a:pt x="25" y="300"/>
                    </a:lnTo>
                    <a:lnTo>
                      <a:pt x="25" y="232"/>
                    </a:lnTo>
                    <a:lnTo>
                      <a:pt x="0" y="216"/>
                    </a:lnTo>
                    <a:lnTo>
                      <a:pt x="0" y="208"/>
                    </a:lnTo>
                    <a:lnTo>
                      <a:pt x="56" y="113"/>
                    </a:lnTo>
                    <a:lnTo>
                      <a:pt x="83" y="101"/>
                    </a:lnTo>
                    <a:lnTo>
                      <a:pt x="79" y="94"/>
                    </a:lnTo>
                    <a:lnTo>
                      <a:pt x="60" y="90"/>
                    </a:lnTo>
                    <a:lnTo>
                      <a:pt x="60" y="85"/>
                    </a:lnTo>
                    <a:lnTo>
                      <a:pt x="56" y="81"/>
                    </a:lnTo>
                    <a:lnTo>
                      <a:pt x="56" y="75"/>
                    </a:lnTo>
                    <a:lnTo>
                      <a:pt x="51" y="73"/>
                    </a:lnTo>
                    <a:lnTo>
                      <a:pt x="56" y="69"/>
                    </a:lnTo>
                    <a:lnTo>
                      <a:pt x="52" y="66"/>
                    </a:lnTo>
                    <a:lnTo>
                      <a:pt x="60" y="51"/>
                    </a:lnTo>
                    <a:lnTo>
                      <a:pt x="56" y="41"/>
                    </a:lnTo>
                    <a:lnTo>
                      <a:pt x="60" y="32"/>
                    </a:lnTo>
                    <a:lnTo>
                      <a:pt x="52" y="25"/>
                    </a:lnTo>
                    <a:lnTo>
                      <a:pt x="51" y="9"/>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Freeform 114"/>
              <p:cNvSpPr/>
              <p:nvPr/>
            </p:nvSpPr>
            <p:spPr>
              <a:xfrm>
                <a:off x="5679000" y="1046880"/>
                <a:ext cx="105120" cy="335160"/>
              </a:xfrm>
              <a:custGeom>
                <a:avLst/>
                <a:gdLst>
                  <a:gd name="textAreaLeft" fmla="*/ 0 w 105120"/>
                  <a:gd name="textAreaRight" fmla="*/ 105480 w 105120"/>
                  <a:gd name="textAreaTop" fmla="*/ 0 h 335160"/>
                  <a:gd name="textAreaBottom" fmla="*/ 335520 h 335160"/>
                </a:gdLst>
                <a:ahLst/>
                <a:rect l="textAreaLeft" t="textAreaTop" r="textAreaRight" b="textAreaBottom"/>
                <a:pathLst>
                  <a:path w="197" h="629">
                    <a:moveTo>
                      <a:pt x="98" y="4"/>
                    </a:moveTo>
                    <a:lnTo>
                      <a:pt x="121" y="8"/>
                    </a:lnTo>
                    <a:lnTo>
                      <a:pt x="130" y="32"/>
                    </a:lnTo>
                    <a:lnTo>
                      <a:pt x="130" y="42"/>
                    </a:lnTo>
                    <a:lnTo>
                      <a:pt x="120" y="42"/>
                    </a:lnTo>
                    <a:lnTo>
                      <a:pt x="124" y="46"/>
                    </a:lnTo>
                    <a:lnTo>
                      <a:pt x="121" y="48"/>
                    </a:lnTo>
                    <a:lnTo>
                      <a:pt x="118" y="59"/>
                    </a:lnTo>
                    <a:lnTo>
                      <a:pt x="115" y="61"/>
                    </a:lnTo>
                    <a:lnTo>
                      <a:pt x="108" y="80"/>
                    </a:lnTo>
                    <a:lnTo>
                      <a:pt x="108" y="84"/>
                    </a:lnTo>
                    <a:lnTo>
                      <a:pt x="118" y="84"/>
                    </a:lnTo>
                    <a:lnTo>
                      <a:pt x="134" y="108"/>
                    </a:lnTo>
                    <a:lnTo>
                      <a:pt x="163" y="117"/>
                    </a:lnTo>
                    <a:lnTo>
                      <a:pt x="176" y="136"/>
                    </a:lnTo>
                    <a:lnTo>
                      <a:pt x="191" y="308"/>
                    </a:lnTo>
                    <a:lnTo>
                      <a:pt x="185" y="311"/>
                    </a:lnTo>
                    <a:lnTo>
                      <a:pt x="197" y="340"/>
                    </a:lnTo>
                    <a:lnTo>
                      <a:pt x="191" y="359"/>
                    </a:lnTo>
                    <a:lnTo>
                      <a:pt x="185" y="359"/>
                    </a:lnTo>
                    <a:lnTo>
                      <a:pt x="182" y="364"/>
                    </a:lnTo>
                    <a:lnTo>
                      <a:pt x="176" y="364"/>
                    </a:lnTo>
                    <a:lnTo>
                      <a:pt x="178" y="345"/>
                    </a:lnTo>
                    <a:lnTo>
                      <a:pt x="176" y="334"/>
                    </a:lnTo>
                    <a:lnTo>
                      <a:pt x="173" y="342"/>
                    </a:lnTo>
                    <a:lnTo>
                      <a:pt x="176" y="349"/>
                    </a:lnTo>
                    <a:lnTo>
                      <a:pt x="172" y="353"/>
                    </a:lnTo>
                    <a:lnTo>
                      <a:pt x="166" y="339"/>
                    </a:lnTo>
                    <a:lnTo>
                      <a:pt x="169" y="313"/>
                    </a:lnTo>
                    <a:lnTo>
                      <a:pt x="159" y="314"/>
                    </a:lnTo>
                    <a:lnTo>
                      <a:pt x="166" y="471"/>
                    </a:lnTo>
                    <a:lnTo>
                      <a:pt x="132" y="479"/>
                    </a:lnTo>
                    <a:lnTo>
                      <a:pt x="118" y="570"/>
                    </a:lnTo>
                    <a:lnTo>
                      <a:pt x="121" y="580"/>
                    </a:lnTo>
                    <a:lnTo>
                      <a:pt x="127" y="619"/>
                    </a:lnTo>
                    <a:lnTo>
                      <a:pt x="127" y="625"/>
                    </a:lnTo>
                    <a:lnTo>
                      <a:pt x="104" y="629"/>
                    </a:lnTo>
                    <a:lnTo>
                      <a:pt x="95" y="619"/>
                    </a:lnTo>
                    <a:lnTo>
                      <a:pt x="101" y="586"/>
                    </a:lnTo>
                    <a:lnTo>
                      <a:pt x="104" y="561"/>
                    </a:lnTo>
                    <a:lnTo>
                      <a:pt x="95" y="484"/>
                    </a:lnTo>
                    <a:lnTo>
                      <a:pt x="92" y="484"/>
                    </a:lnTo>
                    <a:lnTo>
                      <a:pt x="83" y="512"/>
                    </a:lnTo>
                    <a:lnTo>
                      <a:pt x="89" y="559"/>
                    </a:lnTo>
                    <a:lnTo>
                      <a:pt x="95" y="564"/>
                    </a:lnTo>
                    <a:lnTo>
                      <a:pt x="83" y="612"/>
                    </a:lnTo>
                    <a:lnTo>
                      <a:pt x="60" y="619"/>
                    </a:lnTo>
                    <a:lnTo>
                      <a:pt x="56" y="615"/>
                    </a:lnTo>
                    <a:lnTo>
                      <a:pt x="73" y="565"/>
                    </a:lnTo>
                    <a:lnTo>
                      <a:pt x="47" y="479"/>
                    </a:lnTo>
                    <a:lnTo>
                      <a:pt x="34" y="472"/>
                    </a:lnTo>
                    <a:lnTo>
                      <a:pt x="34" y="466"/>
                    </a:lnTo>
                    <a:lnTo>
                      <a:pt x="11" y="468"/>
                    </a:lnTo>
                    <a:lnTo>
                      <a:pt x="5" y="479"/>
                    </a:lnTo>
                    <a:lnTo>
                      <a:pt x="0" y="472"/>
                    </a:lnTo>
                    <a:lnTo>
                      <a:pt x="22" y="320"/>
                    </a:lnTo>
                    <a:lnTo>
                      <a:pt x="18" y="321"/>
                    </a:lnTo>
                    <a:lnTo>
                      <a:pt x="18" y="289"/>
                    </a:lnTo>
                    <a:lnTo>
                      <a:pt x="15" y="285"/>
                    </a:lnTo>
                    <a:lnTo>
                      <a:pt x="22" y="210"/>
                    </a:lnTo>
                    <a:lnTo>
                      <a:pt x="28" y="122"/>
                    </a:lnTo>
                    <a:lnTo>
                      <a:pt x="66" y="104"/>
                    </a:lnTo>
                    <a:lnTo>
                      <a:pt x="76" y="84"/>
                    </a:lnTo>
                    <a:lnTo>
                      <a:pt x="66" y="67"/>
                    </a:lnTo>
                    <a:lnTo>
                      <a:pt x="60" y="70"/>
                    </a:lnTo>
                    <a:lnTo>
                      <a:pt x="56" y="61"/>
                    </a:lnTo>
                    <a:lnTo>
                      <a:pt x="56" y="52"/>
                    </a:lnTo>
                    <a:lnTo>
                      <a:pt x="47" y="51"/>
                    </a:lnTo>
                    <a:lnTo>
                      <a:pt x="44" y="25"/>
                    </a:lnTo>
                    <a:lnTo>
                      <a:pt x="53" y="8"/>
                    </a:lnTo>
                    <a:lnTo>
                      <a:pt x="64" y="1"/>
                    </a:lnTo>
                    <a:lnTo>
                      <a:pt x="78" y="1"/>
                    </a:lnTo>
                    <a:lnTo>
                      <a:pt x="88" y="0"/>
                    </a:lnTo>
                    <a:lnTo>
                      <a:pt x="98" y="4"/>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Freeform 115"/>
              <p:cNvSpPr/>
              <p:nvPr/>
            </p:nvSpPr>
            <p:spPr>
              <a:xfrm>
                <a:off x="5144400" y="1075680"/>
                <a:ext cx="69120" cy="236880"/>
              </a:xfrm>
              <a:custGeom>
                <a:avLst/>
                <a:gdLst>
                  <a:gd name="textAreaLeft" fmla="*/ 0 w 69120"/>
                  <a:gd name="textAreaRight" fmla="*/ 69480 w 69120"/>
                  <a:gd name="textAreaTop" fmla="*/ 0 h 236880"/>
                  <a:gd name="textAreaBottom" fmla="*/ 237240 h 236880"/>
                </a:gdLst>
                <a:ahLst/>
                <a:rect l="textAreaLeft" t="textAreaTop" r="textAreaRight" b="textAreaBottom"/>
                <a:pathLst>
                  <a:path w="131" h="446">
                    <a:moveTo>
                      <a:pt x="66" y="3"/>
                    </a:moveTo>
                    <a:lnTo>
                      <a:pt x="51" y="6"/>
                    </a:lnTo>
                    <a:lnTo>
                      <a:pt x="45" y="22"/>
                    </a:lnTo>
                    <a:lnTo>
                      <a:pt x="45" y="30"/>
                    </a:lnTo>
                    <a:lnTo>
                      <a:pt x="51" y="30"/>
                    </a:lnTo>
                    <a:lnTo>
                      <a:pt x="50" y="34"/>
                    </a:lnTo>
                    <a:lnTo>
                      <a:pt x="51" y="35"/>
                    </a:lnTo>
                    <a:lnTo>
                      <a:pt x="54" y="42"/>
                    </a:lnTo>
                    <a:lnTo>
                      <a:pt x="55" y="44"/>
                    </a:lnTo>
                    <a:lnTo>
                      <a:pt x="60" y="58"/>
                    </a:lnTo>
                    <a:lnTo>
                      <a:pt x="60" y="60"/>
                    </a:lnTo>
                    <a:lnTo>
                      <a:pt x="54" y="60"/>
                    </a:lnTo>
                    <a:lnTo>
                      <a:pt x="44" y="77"/>
                    </a:lnTo>
                    <a:lnTo>
                      <a:pt x="23" y="83"/>
                    </a:lnTo>
                    <a:lnTo>
                      <a:pt x="14" y="97"/>
                    </a:lnTo>
                    <a:lnTo>
                      <a:pt x="4" y="219"/>
                    </a:lnTo>
                    <a:lnTo>
                      <a:pt x="8" y="221"/>
                    </a:lnTo>
                    <a:lnTo>
                      <a:pt x="0" y="242"/>
                    </a:lnTo>
                    <a:lnTo>
                      <a:pt x="4" y="256"/>
                    </a:lnTo>
                    <a:lnTo>
                      <a:pt x="8" y="256"/>
                    </a:lnTo>
                    <a:lnTo>
                      <a:pt x="10" y="259"/>
                    </a:lnTo>
                    <a:lnTo>
                      <a:pt x="14" y="259"/>
                    </a:lnTo>
                    <a:lnTo>
                      <a:pt x="12" y="245"/>
                    </a:lnTo>
                    <a:lnTo>
                      <a:pt x="14" y="237"/>
                    </a:lnTo>
                    <a:lnTo>
                      <a:pt x="15" y="244"/>
                    </a:lnTo>
                    <a:lnTo>
                      <a:pt x="14" y="247"/>
                    </a:lnTo>
                    <a:lnTo>
                      <a:pt x="17" y="251"/>
                    </a:lnTo>
                    <a:lnTo>
                      <a:pt x="21" y="241"/>
                    </a:lnTo>
                    <a:lnTo>
                      <a:pt x="18" y="223"/>
                    </a:lnTo>
                    <a:lnTo>
                      <a:pt x="24" y="223"/>
                    </a:lnTo>
                    <a:lnTo>
                      <a:pt x="21" y="334"/>
                    </a:lnTo>
                    <a:lnTo>
                      <a:pt x="44" y="340"/>
                    </a:lnTo>
                    <a:lnTo>
                      <a:pt x="54" y="405"/>
                    </a:lnTo>
                    <a:lnTo>
                      <a:pt x="51" y="412"/>
                    </a:lnTo>
                    <a:lnTo>
                      <a:pt x="47" y="438"/>
                    </a:lnTo>
                    <a:lnTo>
                      <a:pt x="47" y="443"/>
                    </a:lnTo>
                    <a:lnTo>
                      <a:pt x="63" y="446"/>
                    </a:lnTo>
                    <a:lnTo>
                      <a:pt x="68" y="440"/>
                    </a:lnTo>
                    <a:lnTo>
                      <a:pt x="65" y="415"/>
                    </a:lnTo>
                    <a:lnTo>
                      <a:pt x="63" y="399"/>
                    </a:lnTo>
                    <a:lnTo>
                      <a:pt x="69" y="343"/>
                    </a:lnTo>
                    <a:lnTo>
                      <a:pt x="70" y="344"/>
                    </a:lnTo>
                    <a:lnTo>
                      <a:pt x="77" y="365"/>
                    </a:lnTo>
                    <a:lnTo>
                      <a:pt x="73" y="396"/>
                    </a:lnTo>
                    <a:lnTo>
                      <a:pt x="68" y="400"/>
                    </a:lnTo>
                    <a:lnTo>
                      <a:pt x="77" y="435"/>
                    </a:lnTo>
                    <a:lnTo>
                      <a:pt x="92" y="438"/>
                    </a:lnTo>
                    <a:lnTo>
                      <a:pt x="95" y="436"/>
                    </a:lnTo>
                    <a:lnTo>
                      <a:pt x="83" y="400"/>
                    </a:lnTo>
                    <a:lnTo>
                      <a:pt x="101" y="340"/>
                    </a:lnTo>
                    <a:lnTo>
                      <a:pt x="109" y="337"/>
                    </a:lnTo>
                    <a:lnTo>
                      <a:pt x="109" y="331"/>
                    </a:lnTo>
                    <a:lnTo>
                      <a:pt x="124" y="333"/>
                    </a:lnTo>
                    <a:lnTo>
                      <a:pt x="129" y="340"/>
                    </a:lnTo>
                    <a:lnTo>
                      <a:pt x="131" y="337"/>
                    </a:lnTo>
                    <a:lnTo>
                      <a:pt x="117" y="227"/>
                    </a:lnTo>
                    <a:lnTo>
                      <a:pt x="120" y="228"/>
                    </a:lnTo>
                    <a:lnTo>
                      <a:pt x="120" y="205"/>
                    </a:lnTo>
                    <a:lnTo>
                      <a:pt x="121" y="203"/>
                    </a:lnTo>
                    <a:lnTo>
                      <a:pt x="117" y="149"/>
                    </a:lnTo>
                    <a:lnTo>
                      <a:pt x="114" y="87"/>
                    </a:lnTo>
                    <a:lnTo>
                      <a:pt x="88" y="74"/>
                    </a:lnTo>
                    <a:lnTo>
                      <a:pt x="80" y="60"/>
                    </a:lnTo>
                    <a:lnTo>
                      <a:pt x="88" y="49"/>
                    </a:lnTo>
                    <a:lnTo>
                      <a:pt x="92" y="50"/>
                    </a:lnTo>
                    <a:lnTo>
                      <a:pt x="95" y="44"/>
                    </a:lnTo>
                    <a:lnTo>
                      <a:pt x="95" y="37"/>
                    </a:lnTo>
                    <a:lnTo>
                      <a:pt x="101" y="36"/>
                    </a:lnTo>
                    <a:lnTo>
                      <a:pt x="102" y="18"/>
                    </a:lnTo>
                    <a:lnTo>
                      <a:pt x="96" y="6"/>
                    </a:lnTo>
                    <a:lnTo>
                      <a:pt x="89" y="2"/>
                    </a:lnTo>
                    <a:lnTo>
                      <a:pt x="80" y="2"/>
                    </a:lnTo>
                    <a:lnTo>
                      <a:pt x="73" y="0"/>
                    </a:lnTo>
                    <a:lnTo>
                      <a:pt x="66" y="3"/>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26" name="Freeform 116"/>
            <p:cNvSpPr/>
            <p:nvPr/>
          </p:nvSpPr>
          <p:spPr>
            <a:xfrm>
              <a:off x="6425280" y="1177200"/>
              <a:ext cx="212760" cy="719640"/>
            </a:xfrm>
            <a:custGeom>
              <a:avLst/>
              <a:gdLst>
                <a:gd name="textAreaLeft" fmla="*/ 0 w 212760"/>
                <a:gd name="textAreaRight" fmla="*/ 213120 w 212760"/>
                <a:gd name="textAreaTop" fmla="*/ 0 h 719640"/>
                <a:gd name="textAreaBottom" fmla="*/ 720000 h 719640"/>
              </a:gdLst>
              <a:ahLst/>
              <a:rect l="textAreaLeft" t="textAreaTop" r="textAreaRight" b="textAreaBottom"/>
              <a:pathLst>
                <a:path w="399" h="1348">
                  <a:moveTo>
                    <a:pt x="202" y="9"/>
                  </a:moveTo>
                  <a:lnTo>
                    <a:pt x="155" y="18"/>
                  </a:lnTo>
                  <a:lnTo>
                    <a:pt x="135" y="69"/>
                  </a:lnTo>
                  <a:lnTo>
                    <a:pt x="135" y="92"/>
                  </a:lnTo>
                  <a:lnTo>
                    <a:pt x="156" y="92"/>
                  </a:lnTo>
                  <a:lnTo>
                    <a:pt x="148" y="100"/>
                  </a:lnTo>
                  <a:lnTo>
                    <a:pt x="155" y="106"/>
                  </a:lnTo>
                  <a:lnTo>
                    <a:pt x="161" y="129"/>
                  </a:lnTo>
                  <a:lnTo>
                    <a:pt x="167" y="132"/>
                  </a:lnTo>
                  <a:lnTo>
                    <a:pt x="181" y="175"/>
                  </a:lnTo>
                  <a:lnTo>
                    <a:pt x="181" y="184"/>
                  </a:lnTo>
                  <a:lnTo>
                    <a:pt x="161" y="184"/>
                  </a:lnTo>
                  <a:lnTo>
                    <a:pt x="129" y="235"/>
                  </a:lnTo>
                  <a:lnTo>
                    <a:pt x="70" y="251"/>
                  </a:lnTo>
                  <a:lnTo>
                    <a:pt x="44" y="294"/>
                  </a:lnTo>
                  <a:lnTo>
                    <a:pt x="13" y="664"/>
                  </a:lnTo>
                  <a:lnTo>
                    <a:pt x="27" y="667"/>
                  </a:lnTo>
                  <a:lnTo>
                    <a:pt x="0" y="732"/>
                  </a:lnTo>
                  <a:lnTo>
                    <a:pt x="13" y="773"/>
                  </a:lnTo>
                  <a:lnTo>
                    <a:pt x="26" y="773"/>
                  </a:lnTo>
                  <a:lnTo>
                    <a:pt x="32" y="782"/>
                  </a:lnTo>
                  <a:lnTo>
                    <a:pt x="44" y="782"/>
                  </a:lnTo>
                  <a:lnTo>
                    <a:pt x="39" y="743"/>
                  </a:lnTo>
                  <a:lnTo>
                    <a:pt x="44" y="720"/>
                  </a:lnTo>
                  <a:lnTo>
                    <a:pt x="50" y="737"/>
                  </a:lnTo>
                  <a:lnTo>
                    <a:pt x="44" y="749"/>
                  </a:lnTo>
                  <a:lnTo>
                    <a:pt x="51" y="759"/>
                  </a:lnTo>
                  <a:lnTo>
                    <a:pt x="64" y="727"/>
                  </a:lnTo>
                  <a:lnTo>
                    <a:pt x="56" y="674"/>
                  </a:lnTo>
                  <a:lnTo>
                    <a:pt x="78" y="676"/>
                  </a:lnTo>
                  <a:lnTo>
                    <a:pt x="64" y="1011"/>
                  </a:lnTo>
                  <a:lnTo>
                    <a:pt x="130" y="1029"/>
                  </a:lnTo>
                  <a:lnTo>
                    <a:pt x="161" y="1224"/>
                  </a:lnTo>
                  <a:lnTo>
                    <a:pt x="155" y="1243"/>
                  </a:lnTo>
                  <a:lnTo>
                    <a:pt x="142" y="1324"/>
                  </a:lnTo>
                  <a:lnTo>
                    <a:pt x="142" y="1340"/>
                  </a:lnTo>
                  <a:lnTo>
                    <a:pt x="188" y="1348"/>
                  </a:lnTo>
                  <a:lnTo>
                    <a:pt x="206" y="1327"/>
                  </a:lnTo>
                  <a:lnTo>
                    <a:pt x="195" y="1253"/>
                  </a:lnTo>
                  <a:lnTo>
                    <a:pt x="188" y="1203"/>
                  </a:lnTo>
                  <a:lnTo>
                    <a:pt x="207" y="1038"/>
                  </a:lnTo>
                  <a:lnTo>
                    <a:pt x="212" y="1039"/>
                  </a:lnTo>
                  <a:lnTo>
                    <a:pt x="232" y="1099"/>
                  </a:lnTo>
                  <a:lnTo>
                    <a:pt x="218" y="1198"/>
                  </a:lnTo>
                  <a:lnTo>
                    <a:pt x="206" y="1208"/>
                  </a:lnTo>
                  <a:lnTo>
                    <a:pt x="232" y="1313"/>
                  </a:lnTo>
                  <a:lnTo>
                    <a:pt x="277" y="1326"/>
                  </a:lnTo>
                  <a:lnTo>
                    <a:pt x="285" y="1318"/>
                  </a:lnTo>
                  <a:lnTo>
                    <a:pt x="251" y="1210"/>
                  </a:lnTo>
                  <a:lnTo>
                    <a:pt x="304" y="1029"/>
                  </a:lnTo>
                  <a:lnTo>
                    <a:pt x="328" y="1015"/>
                  </a:lnTo>
                  <a:lnTo>
                    <a:pt x="328" y="1002"/>
                  </a:lnTo>
                  <a:lnTo>
                    <a:pt x="374" y="1005"/>
                  </a:lnTo>
                  <a:lnTo>
                    <a:pt x="388" y="1029"/>
                  </a:lnTo>
                  <a:lnTo>
                    <a:pt x="399" y="1015"/>
                  </a:lnTo>
                  <a:lnTo>
                    <a:pt x="355" y="689"/>
                  </a:lnTo>
                  <a:lnTo>
                    <a:pt x="361" y="689"/>
                  </a:lnTo>
                  <a:lnTo>
                    <a:pt x="361" y="623"/>
                  </a:lnTo>
                  <a:lnTo>
                    <a:pt x="368" y="614"/>
                  </a:lnTo>
                  <a:lnTo>
                    <a:pt x="355" y="455"/>
                  </a:lnTo>
                  <a:lnTo>
                    <a:pt x="341" y="264"/>
                  </a:lnTo>
                  <a:lnTo>
                    <a:pt x="266" y="226"/>
                  </a:lnTo>
                  <a:lnTo>
                    <a:pt x="244" y="184"/>
                  </a:lnTo>
                  <a:lnTo>
                    <a:pt x="264" y="147"/>
                  </a:lnTo>
                  <a:lnTo>
                    <a:pt x="277" y="151"/>
                  </a:lnTo>
                  <a:lnTo>
                    <a:pt x="285" y="133"/>
                  </a:lnTo>
                  <a:lnTo>
                    <a:pt x="285" y="114"/>
                  </a:lnTo>
                  <a:lnTo>
                    <a:pt x="304" y="110"/>
                  </a:lnTo>
                  <a:lnTo>
                    <a:pt x="309" y="56"/>
                  </a:lnTo>
                  <a:lnTo>
                    <a:pt x="291" y="18"/>
                  </a:lnTo>
                  <a:lnTo>
                    <a:pt x="271" y="4"/>
                  </a:lnTo>
                  <a:lnTo>
                    <a:pt x="241" y="4"/>
                  </a:lnTo>
                  <a:lnTo>
                    <a:pt x="221" y="0"/>
                  </a:lnTo>
                  <a:lnTo>
                    <a:pt x="202"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Freeform 117"/>
            <p:cNvSpPr/>
            <p:nvPr/>
          </p:nvSpPr>
          <p:spPr>
            <a:xfrm>
              <a:off x="5879160" y="1220040"/>
              <a:ext cx="212760" cy="714240"/>
            </a:xfrm>
            <a:custGeom>
              <a:avLst/>
              <a:gdLst>
                <a:gd name="textAreaLeft" fmla="*/ 0 w 212760"/>
                <a:gd name="textAreaRight" fmla="*/ 213120 w 212760"/>
                <a:gd name="textAreaTop" fmla="*/ 0 h 714240"/>
                <a:gd name="textAreaBottom" fmla="*/ 714600 h 714240"/>
              </a:gdLst>
              <a:ahLst/>
              <a:rect l="textAreaLeft" t="textAreaTop" r="textAreaRight" b="textAreaBottom"/>
              <a:pathLst>
                <a:path w="399" h="1338">
                  <a:moveTo>
                    <a:pt x="300" y="17"/>
                  </a:moveTo>
                  <a:lnTo>
                    <a:pt x="251" y="0"/>
                  </a:lnTo>
                  <a:lnTo>
                    <a:pt x="199" y="9"/>
                  </a:lnTo>
                  <a:lnTo>
                    <a:pt x="163" y="42"/>
                  </a:lnTo>
                  <a:lnTo>
                    <a:pt x="150" y="84"/>
                  </a:lnTo>
                  <a:lnTo>
                    <a:pt x="162" y="133"/>
                  </a:lnTo>
                  <a:lnTo>
                    <a:pt x="144" y="162"/>
                  </a:lnTo>
                  <a:lnTo>
                    <a:pt x="119" y="175"/>
                  </a:lnTo>
                  <a:lnTo>
                    <a:pt x="48" y="204"/>
                  </a:lnTo>
                  <a:lnTo>
                    <a:pt x="29" y="224"/>
                  </a:lnTo>
                  <a:lnTo>
                    <a:pt x="0" y="438"/>
                  </a:lnTo>
                  <a:lnTo>
                    <a:pt x="11" y="483"/>
                  </a:lnTo>
                  <a:lnTo>
                    <a:pt x="85" y="501"/>
                  </a:lnTo>
                  <a:lnTo>
                    <a:pt x="74" y="703"/>
                  </a:lnTo>
                  <a:lnTo>
                    <a:pt x="124" y="722"/>
                  </a:lnTo>
                  <a:lnTo>
                    <a:pt x="138" y="871"/>
                  </a:lnTo>
                  <a:lnTo>
                    <a:pt x="127" y="1129"/>
                  </a:lnTo>
                  <a:lnTo>
                    <a:pt x="124" y="1272"/>
                  </a:lnTo>
                  <a:lnTo>
                    <a:pt x="136" y="1277"/>
                  </a:lnTo>
                  <a:lnTo>
                    <a:pt x="136" y="1289"/>
                  </a:lnTo>
                  <a:lnTo>
                    <a:pt x="176" y="1314"/>
                  </a:lnTo>
                  <a:lnTo>
                    <a:pt x="199" y="1332"/>
                  </a:lnTo>
                  <a:lnTo>
                    <a:pt x="214" y="1338"/>
                  </a:lnTo>
                  <a:lnTo>
                    <a:pt x="233" y="1338"/>
                  </a:lnTo>
                  <a:lnTo>
                    <a:pt x="252" y="1333"/>
                  </a:lnTo>
                  <a:lnTo>
                    <a:pt x="256" y="1327"/>
                  </a:lnTo>
                  <a:lnTo>
                    <a:pt x="252" y="1317"/>
                  </a:lnTo>
                  <a:lnTo>
                    <a:pt x="243" y="1305"/>
                  </a:lnTo>
                  <a:lnTo>
                    <a:pt x="231" y="1287"/>
                  </a:lnTo>
                  <a:lnTo>
                    <a:pt x="212" y="1272"/>
                  </a:lnTo>
                  <a:lnTo>
                    <a:pt x="226" y="1277"/>
                  </a:lnTo>
                  <a:lnTo>
                    <a:pt x="226" y="1259"/>
                  </a:lnTo>
                  <a:lnTo>
                    <a:pt x="282" y="1285"/>
                  </a:lnTo>
                  <a:lnTo>
                    <a:pt x="305" y="1285"/>
                  </a:lnTo>
                  <a:lnTo>
                    <a:pt x="311" y="1277"/>
                  </a:lnTo>
                  <a:lnTo>
                    <a:pt x="311" y="1268"/>
                  </a:lnTo>
                  <a:lnTo>
                    <a:pt x="309" y="1261"/>
                  </a:lnTo>
                  <a:lnTo>
                    <a:pt x="305" y="1250"/>
                  </a:lnTo>
                  <a:lnTo>
                    <a:pt x="291" y="1238"/>
                  </a:lnTo>
                  <a:lnTo>
                    <a:pt x="280" y="1226"/>
                  </a:lnTo>
                  <a:lnTo>
                    <a:pt x="294" y="1224"/>
                  </a:lnTo>
                  <a:lnTo>
                    <a:pt x="307" y="1098"/>
                  </a:lnTo>
                  <a:lnTo>
                    <a:pt x="312" y="896"/>
                  </a:lnTo>
                  <a:lnTo>
                    <a:pt x="335" y="732"/>
                  </a:lnTo>
                  <a:lnTo>
                    <a:pt x="342" y="686"/>
                  </a:lnTo>
                  <a:lnTo>
                    <a:pt x="348" y="662"/>
                  </a:lnTo>
                  <a:lnTo>
                    <a:pt x="331" y="562"/>
                  </a:lnTo>
                  <a:lnTo>
                    <a:pt x="325" y="517"/>
                  </a:lnTo>
                  <a:lnTo>
                    <a:pt x="337" y="522"/>
                  </a:lnTo>
                  <a:lnTo>
                    <a:pt x="343" y="516"/>
                  </a:lnTo>
                  <a:lnTo>
                    <a:pt x="348" y="516"/>
                  </a:lnTo>
                  <a:lnTo>
                    <a:pt x="358" y="509"/>
                  </a:lnTo>
                  <a:lnTo>
                    <a:pt x="370" y="511"/>
                  </a:lnTo>
                  <a:lnTo>
                    <a:pt x="375" y="501"/>
                  </a:lnTo>
                  <a:lnTo>
                    <a:pt x="381" y="498"/>
                  </a:lnTo>
                  <a:lnTo>
                    <a:pt x="385" y="489"/>
                  </a:lnTo>
                  <a:lnTo>
                    <a:pt x="394" y="483"/>
                  </a:lnTo>
                  <a:lnTo>
                    <a:pt x="399" y="471"/>
                  </a:lnTo>
                  <a:lnTo>
                    <a:pt x="379" y="427"/>
                  </a:lnTo>
                  <a:lnTo>
                    <a:pt x="388" y="397"/>
                  </a:lnTo>
                  <a:lnTo>
                    <a:pt x="349" y="427"/>
                  </a:lnTo>
                  <a:lnTo>
                    <a:pt x="292" y="229"/>
                  </a:lnTo>
                  <a:lnTo>
                    <a:pt x="247" y="190"/>
                  </a:lnTo>
                  <a:lnTo>
                    <a:pt x="256" y="181"/>
                  </a:lnTo>
                  <a:lnTo>
                    <a:pt x="294" y="175"/>
                  </a:lnTo>
                  <a:lnTo>
                    <a:pt x="298" y="149"/>
                  </a:lnTo>
                  <a:lnTo>
                    <a:pt x="287" y="143"/>
                  </a:lnTo>
                  <a:lnTo>
                    <a:pt x="301" y="142"/>
                  </a:lnTo>
                  <a:lnTo>
                    <a:pt x="300" y="133"/>
                  </a:lnTo>
                  <a:lnTo>
                    <a:pt x="314" y="128"/>
                  </a:lnTo>
                  <a:lnTo>
                    <a:pt x="303" y="95"/>
                  </a:lnTo>
                  <a:lnTo>
                    <a:pt x="312" y="91"/>
                  </a:lnTo>
                  <a:lnTo>
                    <a:pt x="307" y="47"/>
                  </a:lnTo>
                  <a:lnTo>
                    <a:pt x="317" y="47"/>
                  </a:lnTo>
                  <a:lnTo>
                    <a:pt x="300" y="1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Freeform 118"/>
            <p:cNvSpPr/>
            <p:nvPr/>
          </p:nvSpPr>
          <p:spPr>
            <a:xfrm>
              <a:off x="5476680" y="1178280"/>
              <a:ext cx="158400" cy="682200"/>
            </a:xfrm>
            <a:custGeom>
              <a:avLst/>
              <a:gdLst>
                <a:gd name="textAreaLeft" fmla="*/ 0 w 158400"/>
                <a:gd name="textAreaRight" fmla="*/ 158760 w 158400"/>
                <a:gd name="textAreaTop" fmla="*/ 0 h 682200"/>
                <a:gd name="textAreaBottom" fmla="*/ 682560 h 682200"/>
              </a:gdLst>
              <a:ahLst/>
              <a:rect l="textAreaLeft" t="textAreaTop" r="textAreaRight" b="textAreaBottom"/>
              <a:pathLst>
                <a:path w="298" h="1277">
                  <a:moveTo>
                    <a:pt x="228" y="25"/>
                  </a:moveTo>
                  <a:lnTo>
                    <a:pt x="228" y="57"/>
                  </a:lnTo>
                  <a:lnTo>
                    <a:pt x="223" y="66"/>
                  </a:lnTo>
                  <a:lnTo>
                    <a:pt x="236" y="93"/>
                  </a:lnTo>
                  <a:lnTo>
                    <a:pt x="228" y="99"/>
                  </a:lnTo>
                  <a:lnTo>
                    <a:pt x="231" y="109"/>
                  </a:lnTo>
                  <a:lnTo>
                    <a:pt x="222" y="144"/>
                  </a:lnTo>
                  <a:lnTo>
                    <a:pt x="222" y="151"/>
                  </a:lnTo>
                  <a:lnTo>
                    <a:pt x="273" y="185"/>
                  </a:lnTo>
                  <a:lnTo>
                    <a:pt x="298" y="449"/>
                  </a:lnTo>
                  <a:lnTo>
                    <a:pt x="266" y="495"/>
                  </a:lnTo>
                  <a:lnTo>
                    <a:pt x="278" y="638"/>
                  </a:lnTo>
                  <a:lnTo>
                    <a:pt x="257" y="654"/>
                  </a:lnTo>
                  <a:lnTo>
                    <a:pt x="249" y="877"/>
                  </a:lnTo>
                  <a:lnTo>
                    <a:pt x="233" y="1104"/>
                  </a:lnTo>
                  <a:lnTo>
                    <a:pt x="238" y="1116"/>
                  </a:lnTo>
                  <a:lnTo>
                    <a:pt x="292" y="1160"/>
                  </a:lnTo>
                  <a:lnTo>
                    <a:pt x="286" y="1167"/>
                  </a:lnTo>
                  <a:lnTo>
                    <a:pt x="266" y="1175"/>
                  </a:lnTo>
                  <a:lnTo>
                    <a:pt x="235" y="1167"/>
                  </a:lnTo>
                  <a:lnTo>
                    <a:pt x="205" y="1151"/>
                  </a:lnTo>
                  <a:lnTo>
                    <a:pt x="181" y="1142"/>
                  </a:lnTo>
                  <a:lnTo>
                    <a:pt x="181" y="1180"/>
                  </a:lnTo>
                  <a:lnTo>
                    <a:pt x="171" y="1181"/>
                  </a:lnTo>
                  <a:lnTo>
                    <a:pt x="187" y="1216"/>
                  </a:lnTo>
                  <a:lnTo>
                    <a:pt x="180" y="1269"/>
                  </a:lnTo>
                  <a:lnTo>
                    <a:pt x="161" y="1277"/>
                  </a:lnTo>
                  <a:lnTo>
                    <a:pt x="129" y="1232"/>
                  </a:lnTo>
                  <a:lnTo>
                    <a:pt x="129" y="1200"/>
                  </a:lnTo>
                  <a:lnTo>
                    <a:pt x="118" y="1195"/>
                  </a:lnTo>
                  <a:lnTo>
                    <a:pt x="107" y="905"/>
                  </a:lnTo>
                  <a:lnTo>
                    <a:pt x="118" y="876"/>
                  </a:lnTo>
                  <a:lnTo>
                    <a:pt x="84" y="681"/>
                  </a:lnTo>
                  <a:lnTo>
                    <a:pt x="64" y="673"/>
                  </a:lnTo>
                  <a:lnTo>
                    <a:pt x="55" y="472"/>
                  </a:lnTo>
                  <a:lnTo>
                    <a:pt x="0" y="448"/>
                  </a:lnTo>
                  <a:lnTo>
                    <a:pt x="24" y="229"/>
                  </a:lnTo>
                  <a:lnTo>
                    <a:pt x="108" y="169"/>
                  </a:lnTo>
                  <a:lnTo>
                    <a:pt x="130" y="150"/>
                  </a:lnTo>
                  <a:lnTo>
                    <a:pt x="131" y="129"/>
                  </a:lnTo>
                  <a:lnTo>
                    <a:pt x="122" y="115"/>
                  </a:lnTo>
                  <a:lnTo>
                    <a:pt x="113" y="102"/>
                  </a:lnTo>
                  <a:lnTo>
                    <a:pt x="104" y="87"/>
                  </a:lnTo>
                  <a:lnTo>
                    <a:pt x="99" y="71"/>
                  </a:lnTo>
                  <a:lnTo>
                    <a:pt x="99" y="56"/>
                  </a:lnTo>
                  <a:lnTo>
                    <a:pt x="104" y="41"/>
                  </a:lnTo>
                  <a:lnTo>
                    <a:pt x="115" y="23"/>
                  </a:lnTo>
                  <a:lnTo>
                    <a:pt x="130" y="10"/>
                  </a:lnTo>
                  <a:lnTo>
                    <a:pt x="148" y="3"/>
                  </a:lnTo>
                  <a:lnTo>
                    <a:pt x="168" y="0"/>
                  </a:lnTo>
                  <a:lnTo>
                    <a:pt x="187" y="4"/>
                  </a:lnTo>
                  <a:lnTo>
                    <a:pt x="205" y="9"/>
                  </a:lnTo>
                  <a:lnTo>
                    <a:pt x="228" y="2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Freeform 119"/>
            <p:cNvSpPr/>
            <p:nvPr/>
          </p:nvSpPr>
          <p:spPr>
            <a:xfrm>
              <a:off x="5129640" y="1171800"/>
              <a:ext cx="187200" cy="620280"/>
            </a:xfrm>
            <a:custGeom>
              <a:avLst/>
              <a:gdLst>
                <a:gd name="textAreaLeft" fmla="*/ 0 w 187200"/>
                <a:gd name="textAreaRight" fmla="*/ 187560 w 187200"/>
                <a:gd name="textAreaTop" fmla="*/ 0 h 620280"/>
                <a:gd name="textAreaBottom" fmla="*/ 620640 h 620280"/>
              </a:gdLst>
              <a:ahLst/>
              <a:rect l="textAreaLeft" t="textAreaTop" r="textAreaRight" b="textAreaBottom"/>
              <a:pathLst>
                <a:path w="353" h="1162">
                  <a:moveTo>
                    <a:pt x="216" y="14"/>
                  </a:moveTo>
                  <a:lnTo>
                    <a:pt x="284" y="0"/>
                  </a:lnTo>
                  <a:lnTo>
                    <a:pt x="311" y="28"/>
                  </a:lnTo>
                  <a:lnTo>
                    <a:pt x="323" y="19"/>
                  </a:lnTo>
                  <a:lnTo>
                    <a:pt x="342" y="70"/>
                  </a:lnTo>
                  <a:lnTo>
                    <a:pt x="304" y="103"/>
                  </a:lnTo>
                  <a:lnTo>
                    <a:pt x="301" y="129"/>
                  </a:lnTo>
                  <a:lnTo>
                    <a:pt x="292" y="131"/>
                  </a:lnTo>
                  <a:lnTo>
                    <a:pt x="284" y="158"/>
                  </a:lnTo>
                  <a:lnTo>
                    <a:pt x="258" y="163"/>
                  </a:lnTo>
                  <a:lnTo>
                    <a:pt x="258" y="173"/>
                  </a:lnTo>
                  <a:lnTo>
                    <a:pt x="304" y="208"/>
                  </a:lnTo>
                  <a:lnTo>
                    <a:pt x="342" y="376"/>
                  </a:lnTo>
                  <a:lnTo>
                    <a:pt x="311" y="419"/>
                  </a:lnTo>
                  <a:lnTo>
                    <a:pt x="311" y="723"/>
                  </a:lnTo>
                  <a:lnTo>
                    <a:pt x="274" y="736"/>
                  </a:lnTo>
                  <a:lnTo>
                    <a:pt x="268" y="784"/>
                  </a:lnTo>
                  <a:lnTo>
                    <a:pt x="254" y="913"/>
                  </a:lnTo>
                  <a:lnTo>
                    <a:pt x="254" y="983"/>
                  </a:lnTo>
                  <a:lnTo>
                    <a:pt x="311" y="1025"/>
                  </a:lnTo>
                  <a:lnTo>
                    <a:pt x="352" y="1047"/>
                  </a:lnTo>
                  <a:lnTo>
                    <a:pt x="353" y="1061"/>
                  </a:lnTo>
                  <a:lnTo>
                    <a:pt x="264" y="1040"/>
                  </a:lnTo>
                  <a:lnTo>
                    <a:pt x="254" y="1026"/>
                  </a:lnTo>
                  <a:lnTo>
                    <a:pt x="245" y="1040"/>
                  </a:lnTo>
                  <a:lnTo>
                    <a:pt x="235" y="1040"/>
                  </a:lnTo>
                  <a:lnTo>
                    <a:pt x="225" y="992"/>
                  </a:lnTo>
                  <a:lnTo>
                    <a:pt x="216" y="770"/>
                  </a:lnTo>
                  <a:lnTo>
                    <a:pt x="196" y="770"/>
                  </a:lnTo>
                  <a:lnTo>
                    <a:pt x="148" y="966"/>
                  </a:lnTo>
                  <a:lnTo>
                    <a:pt x="148" y="1087"/>
                  </a:lnTo>
                  <a:lnTo>
                    <a:pt x="128" y="1148"/>
                  </a:lnTo>
                  <a:lnTo>
                    <a:pt x="108" y="1162"/>
                  </a:lnTo>
                  <a:lnTo>
                    <a:pt x="98" y="1129"/>
                  </a:lnTo>
                  <a:lnTo>
                    <a:pt x="111" y="1095"/>
                  </a:lnTo>
                  <a:lnTo>
                    <a:pt x="128" y="1019"/>
                  </a:lnTo>
                  <a:lnTo>
                    <a:pt x="130" y="740"/>
                  </a:lnTo>
                  <a:lnTo>
                    <a:pt x="147" y="467"/>
                  </a:lnTo>
                  <a:lnTo>
                    <a:pt x="117" y="444"/>
                  </a:lnTo>
                  <a:lnTo>
                    <a:pt x="117" y="405"/>
                  </a:lnTo>
                  <a:lnTo>
                    <a:pt x="117" y="331"/>
                  </a:lnTo>
                  <a:lnTo>
                    <a:pt x="78" y="350"/>
                  </a:lnTo>
                  <a:lnTo>
                    <a:pt x="111" y="397"/>
                  </a:lnTo>
                  <a:lnTo>
                    <a:pt x="111" y="439"/>
                  </a:lnTo>
                  <a:lnTo>
                    <a:pt x="77" y="413"/>
                  </a:lnTo>
                  <a:lnTo>
                    <a:pt x="56" y="386"/>
                  </a:lnTo>
                  <a:lnTo>
                    <a:pt x="38" y="392"/>
                  </a:lnTo>
                  <a:lnTo>
                    <a:pt x="0" y="346"/>
                  </a:lnTo>
                  <a:lnTo>
                    <a:pt x="0" y="331"/>
                  </a:lnTo>
                  <a:lnTo>
                    <a:pt x="19" y="324"/>
                  </a:lnTo>
                  <a:lnTo>
                    <a:pt x="65" y="273"/>
                  </a:lnTo>
                  <a:lnTo>
                    <a:pt x="111" y="229"/>
                  </a:lnTo>
                  <a:lnTo>
                    <a:pt x="171" y="176"/>
                  </a:lnTo>
                  <a:lnTo>
                    <a:pt x="216" y="159"/>
                  </a:lnTo>
                  <a:lnTo>
                    <a:pt x="216" y="124"/>
                  </a:lnTo>
                  <a:lnTo>
                    <a:pt x="196" y="105"/>
                  </a:lnTo>
                  <a:lnTo>
                    <a:pt x="196" y="56"/>
                  </a:lnTo>
                  <a:lnTo>
                    <a:pt x="186" y="49"/>
                  </a:lnTo>
                  <a:lnTo>
                    <a:pt x="216" y="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Freeform 120"/>
            <p:cNvSpPr/>
            <p:nvPr/>
          </p:nvSpPr>
          <p:spPr>
            <a:xfrm>
              <a:off x="4572000" y="1186920"/>
              <a:ext cx="179640" cy="766800"/>
            </a:xfrm>
            <a:custGeom>
              <a:avLst/>
              <a:gdLst>
                <a:gd name="textAreaLeft" fmla="*/ 0 w 179640"/>
                <a:gd name="textAreaRight" fmla="*/ 180000 w 179640"/>
                <a:gd name="textAreaTop" fmla="*/ 0 h 766800"/>
                <a:gd name="textAreaBottom" fmla="*/ 767160 h 766800"/>
              </a:gdLst>
              <a:ahLst/>
              <a:rect l="textAreaLeft" t="textAreaTop" r="textAreaRight" b="textAreaBottom"/>
              <a:pathLst>
                <a:path w="338" h="1436">
                  <a:moveTo>
                    <a:pt x="79" y="28"/>
                  </a:moveTo>
                  <a:lnTo>
                    <a:pt x="79" y="64"/>
                  </a:lnTo>
                  <a:lnTo>
                    <a:pt x="86" y="74"/>
                  </a:lnTo>
                  <a:lnTo>
                    <a:pt x="70" y="105"/>
                  </a:lnTo>
                  <a:lnTo>
                    <a:pt x="79" y="111"/>
                  </a:lnTo>
                  <a:lnTo>
                    <a:pt x="77" y="122"/>
                  </a:lnTo>
                  <a:lnTo>
                    <a:pt x="87" y="162"/>
                  </a:lnTo>
                  <a:lnTo>
                    <a:pt x="87" y="170"/>
                  </a:lnTo>
                  <a:lnTo>
                    <a:pt x="28" y="208"/>
                  </a:lnTo>
                  <a:lnTo>
                    <a:pt x="0" y="506"/>
                  </a:lnTo>
                  <a:lnTo>
                    <a:pt x="36" y="556"/>
                  </a:lnTo>
                  <a:lnTo>
                    <a:pt x="23" y="717"/>
                  </a:lnTo>
                  <a:lnTo>
                    <a:pt x="46" y="736"/>
                  </a:lnTo>
                  <a:lnTo>
                    <a:pt x="56" y="987"/>
                  </a:lnTo>
                  <a:lnTo>
                    <a:pt x="73" y="1241"/>
                  </a:lnTo>
                  <a:lnTo>
                    <a:pt x="68" y="1257"/>
                  </a:lnTo>
                  <a:lnTo>
                    <a:pt x="7" y="1305"/>
                  </a:lnTo>
                  <a:lnTo>
                    <a:pt x="14" y="1314"/>
                  </a:lnTo>
                  <a:lnTo>
                    <a:pt x="36" y="1322"/>
                  </a:lnTo>
                  <a:lnTo>
                    <a:pt x="72" y="1314"/>
                  </a:lnTo>
                  <a:lnTo>
                    <a:pt x="105" y="1295"/>
                  </a:lnTo>
                  <a:lnTo>
                    <a:pt x="133" y="1285"/>
                  </a:lnTo>
                  <a:lnTo>
                    <a:pt x="133" y="1328"/>
                  </a:lnTo>
                  <a:lnTo>
                    <a:pt x="144" y="1329"/>
                  </a:lnTo>
                  <a:lnTo>
                    <a:pt x="125" y="1367"/>
                  </a:lnTo>
                  <a:lnTo>
                    <a:pt x="134" y="1428"/>
                  </a:lnTo>
                  <a:lnTo>
                    <a:pt x="156" y="1436"/>
                  </a:lnTo>
                  <a:lnTo>
                    <a:pt x="193" y="1386"/>
                  </a:lnTo>
                  <a:lnTo>
                    <a:pt x="193" y="1351"/>
                  </a:lnTo>
                  <a:lnTo>
                    <a:pt x="204" y="1344"/>
                  </a:lnTo>
                  <a:lnTo>
                    <a:pt x="217" y="1019"/>
                  </a:lnTo>
                  <a:lnTo>
                    <a:pt x="204" y="985"/>
                  </a:lnTo>
                  <a:lnTo>
                    <a:pt x="243" y="767"/>
                  </a:lnTo>
                  <a:lnTo>
                    <a:pt x="267" y="758"/>
                  </a:lnTo>
                  <a:lnTo>
                    <a:pt x="277" y="531"/>
                  </a:lnTo>
                  <a:lnTo>
                    <a:pt x="338" y="504"/>
                  </a:lnTo>
                  <a:lnTo>
                    <a:pt x="311" y="257"/>
                  </a:lnTo>
                  <a:lnTo>
                    <a:pt x="216" y="190"/>
                  </a:lnTo>
                  <a:lnTo>
                    <a:pt x="192" y="168"/>
                  </a:lnTo>
                  <a:lnTo>
                    <a:pt x="189" y="144"/>
                  </a:lnTo>
                  <a:lnTo>
                    <a:pt x="199" y="129"/>
                  </a:lnTo>
                  <a:lnTo>
                    <a:pt x="209" y="115"/>
                  </a:lnTo>
                  <a:lnTo>
                    <a:pt x="220" y="97"/>
                  </a:lnTo>
                  <a:lnTo>
                    <a:pt x="226" y="80"/>
                  </a:lnTo>
                  <a:lnTo>
                    <a:pt x="226" y="63"/>
                  </a:lnTo>
                  <a:lnTo>
                    <a:pt x="220" y="46"/>
                  </a:lnTo>
                  <a:lnTo>
                    <a:pt x="208" y="26"/>
                  </a:lnTo>
                  <a:lnTo>
                    <a:pt x="192" y="12"/>
                  </a:lnTo>
                  <a:lnTo>
                    <a:pt x="171" y="3"/>
                  </a:lnTo>
                  <a:lnTo>
                    <a:pt x="147" y="0"/>
                  </a:lnTo>
                  <a:lnTo>
                    <a:pt x="125" y="4"/>
                  </a:lnTo>
                  <a:lnTo>
                    <a:pt x="105" y="9"/>
                  </a:lnTo>
                  <a:lnTo>
                    <a:pt x="79" y="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Freeform 121"/>
            <p:cNvSpPr/>
            <p:nvPr/>
          </p:nvSpPr>
          <p:spPr>
            <a:xfrm>
              <a:off x="6744600" y="1096920"/>
              <a:ext cx="189360" cy="599040"/>
            </a:xfrm>
            <a:custGeom>
              <a:avLst/>
              <a:gdLst>
                <a:gd name="textAreaLeft" fmla="*/ 0 w 189360"/>
                <a:gd name="textAreaRight" fmla="*/ 189720 w 189360"/>
                <a:gd name="textAreaTop" fmla="*/ 0 h 599040"/>
                <a:gd name="textAreaBottom" fmla="*/ 599400 h 599040"/>
              </a:gdLst>
              <a:ahLst/>
              <a:rect l="textAreaLeft" t="textAreaTop" r="textAreaRight" b="textAreaBottom"/>
              <a:pathLst>
                <a:path w="357" h="1123">
                  <a:moveTo>
                    <a:pt x="267" y="13"/>
                  </a:moveTo>
                  <a:lnTo>
                    <a:pt x="224" y="0"/>
                  </a:lnTo>
                  <a:lnTo>
                    <a:pt x="178" y="7"/>
                  </a:lnTo>
                  <a:lnTo>
                    <a:pt x="145" y="35"/>
                  </a:lnTo>
                  <a:lnTo>
                    <a:pt x="133" y="70"/>
                  </a:lnTo>
                  <a:lnTo>
                    <a:pt x="144" y="111"/>
                  </a:lnTo>
                  <a:lnTo>
                    <a:pt x="128" y="135"/>
                  </a:lnTo>
                  <a:lnTo>
                    <a:pt x="105" y="147"/>
                  </a:lnTo>
                  <a:lnTo>
                    <a:pt x="43" y="171"/>
                  </a:lnTo>
                  <a:lnTo>
                    <a:pt x="25" y="186"/>
                  </a:lnTo>
                  <a:lnTo>
                    <a:pt x="0" y="367"/>
                  </a:lnTo>
                  <a:lnTo>
                    <a:pt x="10" y="404"/>
                  </a:lnTo>
                  <a:lnTo>
                    <a:pt x="76" y="419"/>
                  </a:lnTo>
                  <a:lnTo>
                    <a:pt x="66" y="590"/>
                  </a:lnTo>
                  <a:lnTo>
                    <a:pt x="110" y="606"/>
                  </a:lnTo>
                  <a:lnTo>
                    <a:pt x="122" y="731"/>
                  </a:lnTo>
                  <a:lnTo>
                    <a:pt x="113" y="949"/>
                  </a:lnTo>
                  <a:lnTo>
                    <a:pt x="110" y="1068"/>
                  </a:lnTo>
                  <a:lnTo>
                    <a:pt x="122" y="1072"/>
                  </a:lnTo>
                  <a:lnTo>
                    <a:pt x="122" y="1082"/>
                  </a:lnTo>
                  <a:lnTo>
                    <a:pt x="156" y="1103"/>
                  </a:lnTo>
                  <a:lnTo>
                    <a:pt x="178" y="1118"/>
                  </a:lnTo>
                  <a:lnTo>
                    <a:pt x="191" y="1123"/>
                  </a:lnTo>
                  <a:lnTo>
                    <a:pt x="209" y="1123"/>
                  </a:lnTo>
                  <a:lnTo>
                    <a:pt x="225" y="1119"/>
                  </a:lnTo>
                  <a:lnTo>
                    <a:pt x="229" y="1114"/>
                  </a:lnTo>
                  <a:lnTo>
                    <a:pt x="225" y="1105"/>
                  </a:lnTo>
                  <a:lnTo>
                    <a:pt x="218" y="1095"/>
                  </a:lnTo>
                  <a:lnTo>
                    <a:pt x="206" y="1081"/>
                  </a:lnTo>
                  <a:lnTo>
                    <a:pt x="190" y="1068"/>
                  </a:lnTo>
                  <a:lnTo>
                    <a:pt x="201" y="1072"/>
                  </a:lnTo>
                  <a:lnTo>
                    <a:pt x="201" y="1057"/>
                  </a:lnTo>
                  <a:lnTo>
                    <a:pt x="252" y="1078"/>
                  </a:lnTo>
                  <a:lnTo>
                    <a:pt x="272" y="1078"/>
                  </a:lnTo>
                  <a:lnTo>
                    <a:pt x="279" y="1072"/>
                  </a:lnTo>
                  <a:lnTo>
                    <a:pt x="279" y="1064"/>
                  </a:lnTo>
                  <a:lnTo>
                    <a:pt x="276" y="1058"/>
                  </a:lnTo>
                  <a:lnTo>
                    <a:pt x="272" y="1049"/>
                  </a:lnTo>
                  <a:lnTo>
                    <a:pt x="260" y="1039"/>
                  </a:lnTo>
                  <a:lnTo>
                    <a:pt x="251" y="1029"/>
                  </a:lnTo>
                  <a:lnTo>
                    <a:pt x="263" y="1027"/>
                  </a:lnTo>
                  <a:lnTo>
                    <a:pt x="275" y="922"/>
                  </a:lnTo>
                  <a:lnTo>
                    <a:pt x="279" y="752"/>
                  </a:lnTo>
                  <a:lnTo>
                    <a:pt x="300" y="615"/>
                  </a:lnTo>
                  <a:lnTo>
                    <a:pt x="306" y="576"/>
                  </a:lnTo>
                  <a:lnTo>
                    <a:pt x="312" y="555"/>
                  </a:lnTo>
                  <a:lnTo>
                    <a:pt x="297" y="471"/>
                  </a:lnTo>
                  <a:lnTo>
                    <a:pt x="290" y="433"/>
                  </a:lnTo>
                  <a:lnTo>
                    <a:pt x="300" y="437"/>
                  </a:lnTo>
                  <a:lnTo>
                    <a:pt x="307" y="432"/>
                  </a:lnTo>
                  <a:lnTo>
                    <a:pt x="312" y="432"/>
                  </a:lnTo>
                  <a:lnTo>
                    <a:pt x="321" y="427"/>
                  </a:lnTo>
                  <a:lnTo>
                    <a:pt x="331" y="427"/>
                  </a:lnTo>
                  <a:lnTo>
                    <a:pt x="335" y="419"/>
                  </a:lnTo>
                  <a:lnTo>
                    <a:pt x="341" y="416"/>
                  </a:lnTo>
                  <a:lnTo>
                    <a:pt x="345" y="409"/>
                  </a:lnTo>
                  <a:lnTo>
                    <a:pt x="353" y="404"/>
                  </a:lnTo>
                  <a:lnTo>
                    <a:pt x="357" y="394"/>
                  </a:lnTo>
                  <a:lnTo>
                    <a:pt x="339" y="357"/>
                  </a:lnTo>
                  <a:lnTo>
                    <a:pt x="346" y="332"/>
                  </a:lnTo>
                  <a:lnTo>
                    <a:pt x="312" y="357"/>
                  </a:lnTo>
                  <a:lnTo>
                    <a:pt x="261" y="191"/>
                  </a:lnTo>
                  <a:lnTo>
                    <a:pt x="221" y="159"/>
                  </a:lnTo>
                  <a:lnTo>
                    <a:pt x="229" y="152"/>
                  </a:lnTo>
                  <a:lnTo>
                    <a:pt x="263" y="147"/>
                  </a:lnTo>
                  <a:lnTo>
                    <a:pt x="267" y="125"/>
                  </a:lnTo>
                  <a:lnTo>
                    <a:pt x="256" y="120"/>
                  </a:lnTo>
                  <a:lnTo>
                    <a:pt x="269" y="119"/>
                  </a:lnTo>
                  <a:lnTo>
                    <a:pt x="267" y="111"/>
                  </a:lnTo>
                  <a:lnTo>
                    <a:pt x="280" y="106"/>
                  </a:lnTo>
                  <a:lnTo>
                    <a:pt x="271" y="79"/>
                  </a:lnTo>
                  <a:lnTo>
                    <a:pt x="279" y="75"/>
                  </a:lnTo>
                  <a:lnTo>
                    <a:pt x="275" y="40"/>
                  </a:lnTo>
                  <a:lnTo>
                    <a:pt x="284" y="40"/>
                  </a:lnTo>
                  <a:lnTo>
                    <a:pt x="267" y="1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Freeform 122"/>
            <p:cNvSpPr/>
            <p:nvPr/>
          </p:nvSpPr>
          <p:spPr>
            <a:xfrm>
              <a:off x="4753800" y="1198440"/>
              <a:ext cx="169200" cy="798840"/>
            </a:xfrm>
            <a:custGeom>
              <a:avLst/>
              <a:gdLst>
                <a:gd name="textAreaLeft" fmla="*/ 0 w 169200"/>
                <a:gd name="textAreaRight" fmla="*/ 169560 w 169200"/>
                <a:gd name="textAreaTop" fmla="*/ 0 h 798840"/>
                <a:gd name="textAreaBottom" fmla="*/ 799200 h 798840"/>
              </a:gdLst>
              <a:ahLst/>
              <a:rect l="textAreaLeft" t="textAreaTop" r="textAreaRight" b="textAreaBottom"/>
              <a:pathLst>
                <a:path w="318" h="1496">
                  <a:moveTo>
                    <a:pt x="207" y="22"/>
                  </a:moveTo>
                  <a:lnTo>
                    <a:pt x="131" y="0"/>
                  </a:lnTo>
                  <a:lnTo>
                    <a:pt x="77" y="0"/>
                  </a:lnTo>
                  <a:lnTo>
                    <a:pt x="27" y="13"/>
                  </a:lnTo>
                  <a:lnTo>
                    <a:pt x="8" y="64"/>
                  </a:lnTo>
                  <a:lnTo>
                    <a:pt x="8" y="109"/>
                  </a:lnTo>
                  <a:lnTo>
                    <a:pt x="36" y="162"/>
                  </a:lnTo>
                  <a:lnTo>
                    <a:pt x="56" y="160"/>
                  </a:lnTo>
                  <a:lnTo>
                    <a:pt x="27" y="220"/>
                  </a:lnTo>
                  <a:lnTo>
                    <a:pt x="0" y="322"/>
                  </a:lnTo>
                  <a:lnTo>
                    <a:pt x="0" y="407"/>
                  </a:lnTo>
                  <a:lnTo>
                    <a:pt x="8" y="517"/>
                  </a:lnTo>
                  <a:lnTo>
                    <a:pt x="27" y="624"/>
                  </a:lnTo>
                  <a:lnTo>
                    <a:pt x="64" y="629"/>
                  </a:lnTo>
                  <a:lnTo>
                    <a:pt x="64" y="662"/>
                  </a:lnTo>
                  <a:lnTo>
                    <a:pt x="83" y="675"/>
                  </a:lnTo>
                  <a:lnTo>
                    <a:pt x="83" y="783"/>
                  </a:lnTo>
                  <a:lnTo>
                    <a:pt x="103" y="803"/>
                  </a:lnTo>
                  <a:lnTo>
                    <a:pt x="103" y="1004"/>
                  </a:lnTo>
                  <a:lnTo>
                    <a:pt x="103" y="1131"/>
                  </a:lnTo>
                  <a:lnTo>
                    <a:pt x="74" y="1273"/>
                  </a:lnTo>
                  <a:lnTo>
                    <a:pt x="63" y="1456"/>
                  </a:lnTo>
                  <a:lnTo>
                    <a:pt x="94" y="1469"/>
                  </a:lnTo>
                  <a:lnTo>
                    <a:pt x="94" y="1490"/>
                  </a:lnTo>
                  <a:lnTo>
                    <a:pt x="149" y="1490"/>
                  </a:lnTo>
                  <a:lnTo>
                    <a:pt x="157" y="1483"/>
                  </a:lnTo>
                  <a:lnTo>
                    <a:pt x="179" y="1483"/>
                  </a:lnTo>
                  <a:lnTo>
                    <a:pt x="180" y="1496"/>
                  </a:lnTo>
                  <a:lnTo>
                    <a:pt x="218" y="1490"/>
                  </a:lnTo>
                  <a:lnTo>
                    <a:pt x="301" y="1483"/>
                  </a:lnTo>
                  <a:lnTo>
                    <a:pt x="301" y="1470"/>
                  </a:lnTo>
                  <a:lnTo>
                    <a:pt x="226" y="1442"/>
                  </a:lnTo>
                  <a:lnTo>
                    <a:pt x="226" y="1415"/>
                  </a:lnTo>
                  <a:lnTo>
                    <a:pt x="291" y="1403"/>
                  </a:lnTo>
                  <a:lnTo>
                    <a:pt x="291" y="1382"/>
                  </a:lnTo>
                  <a:lnTo>
                    <a:pt x="245" y="1356"/>
                  </a:lnTo>
                  <a:lnTo>
                    <a:pt x="245" y="1152"/>
                  </a:lnTo>
                  <a:lnTo>
                    <a:pt x="263" y="966"/>
                  </a:lnTo>
                  <a:lnTo>
                    <a:pt x="256" y="779"/>
                  </a:lnTo>
                  <a:lnTo>
                    <a:pt x="254" y="675"/>
                  </a:lnTo>
                  <a:lnTo>
                    <a:pt x="263" y="641"/>
                  </a:lnTo>
                  <a:lnTo>
                    <a:pt x="263" y="496"/>
                  </a:lnTo>
                  <a:lnTo>
                    <a:pt x="318" y="462"/>
                  </a:lnTo>
                  <a:lnTo>
                    <a:pt x="318" y="443"/>
                  </a:lnTo>
                  <a:lnTo>
                    <a:pt x="198" y="242"/>
                  </a:lnTo>
                  <a:lnTo>
                    <a:pt x="140" y="215"/>
                  </a:lnTo>
                  <a:lnTo>
                    <a:pt x="148" y="202"/>
                  </a:lnTo>
                  <a:lnTo>
                    <a:pt x="187" y="195"/>
                  </a:lnTo>
                  <a:lnTo>
                    <a:pt x="187" y="182"/>
                  </a:lnTo>
                  <a:lnTo>
                    <a:pt x="198" y="176"/>
                  </a:lnTo>
                  <a:lnTo>
                    <a:pt x="198" y="162"/>
                  </a:lnTo>
                  <a:lnTo>
                    <a:pt x="207" y="155"/>
                  </a:lnTo>
                  <a:lnTo>
                    <a:pt x="198" y="148"/>
                  </a:lnTo>
                  <a:lnTo>
                    <a:pt x="205" y="142"/>
                  </a:lnTo>
                  <a:lnTo>
                    <a:pt x="187" y="109"/>
                  </a:lnTo>
                  <a:lnTo>
                    <a:pt x="198" y="89"/>
                  </a:lnTo>
                  <a:lnTo>
                    <a:pt x="187" y="69"/>
                  </a:lnTo>
                  <a:lnTo>
                    <a:pt x="205" y="55"/>
                  </a:lnTo>
                  <a:lnTo>
                    <a:pt x="207" y="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Freeform 123"/>
            <p:cNvSpPr/>
            <p:nvPr/>
          </p:nvSpPr>
          <p:spPr>
            <a:xfrm>
              <a:off x="4903920" y="1307520"/>
              <a:ext cx="242640" cy="823320"/>
            </a:xfrm>
            <a:custGeom>
              <a:avLst/>
              <a:gdLst>
                <a:gd name="textAreaLeft" fmla="*/ 0 w 242640"/>
                <a:gd name="textAreaRight" fmla="*/ 243000 w 242640"/>
                <a:gd name="textAreaTop" fmla="*/ 0 h 823320"/>
                <a:gd name="textAreaBottom" fmla="*/ 823680 h 823320"/>
              </a:gdLst>
              <a:ahLst/>
              <a:rect l="textAreaLeft" t="textAreaTop" r="textAreaRight" b="textAreaBottom"/>
              <a:pathLst>
                <a:path w="456" h="1540">
                  <a:moveTo>
                    <a:pt x="229" y="11"/>
                  </a:moveTo>
                  <a:lnTo>
                    <a:pt x="177" y="20"/>
                  </a:lnTo>
                  <a:lnTo>
                    <a:pt x="154" y="79"/>
                  </a:lnTo>
                  <a:lnTo>
                    <a:pt x="154" y="105"/>
                  </a:lnTo>
                  <a:lnTo>
                    <a:pt x="177" y="105"/>
                  </a:lnTo>
                  <a:lnTo>
                    <a:pt x="169" y="116"/>
                  </a:lnTo>
                  <a:lnTo>
                    <a:pt x="177" y="122"/>
                  </a:lnTo>
                  <a:lnTo>
                    <a:pt x="183" y="147"/>
                  </a:lnTo>
                  <a:lnTo>
                    <a:pt x="190" y="151"/>
                  </a:lnTo>
                  <a:lnTo>
                    <a:pt x="206" y="200"/>
                  </a:lnTo>
                  <a:lnTo>
                    <a:pt x="206" y="210"/>
                  </a:lnTo>
                  <a:lnTo>
                    <a:pt x="183" y="210"/>
                  </a:lnTo>
                  <a:lnTo>
                    <a:pt x="148" y="268"/>
                  </a:lnTo>
                  <a:lnTo>
                    <a:pt x="80" y="287"/>
                  </a:lnTo>
                  <a:lnTo>
                    <a:pt x="50" y="335"/>
                  </a:lnTo>
                  <a:lnTo>
                    <a:pt x="14" y="756"/>
                  </a:lnTo>
                  <a:lnTo>
                    <a:pt x="30" y="761"/>
                  </a:lnTo>
                  <a:lnTo>
                    <a:pt x="0" y="835"/>
                  </a:lnTo>
                  <a:lnTo>
                    <a:pt x="14" y="882"/>
                  </a:lnTo>
                  <a:lnTo>
                    <a:pt x="29" y="882"/>
                  </a:lnTo>
                  <a:lnTo>
                    <a:pt x="37" y="892"/>
                  </a:lnTo>
                  <a:lnTo>
                    <a:pt x="50" y="892"/>
                  </a:lnTo>
                  <a:lnTo>
                    <a:pt x="43" y="846"/>
                  </a:lnTo>
                  <a:lnTo>
                    <a:pt x="50" y="820"/>
                  </a:lnTo>
                  <a:lnTo>
                    <a:pt x="57" y="841"/>
                  </a:lnTo>
                  <a:lnTo>
                    <a:pt x="50" y="855"/>
                  </a:lnTo>
                  <a:lnTo>
                    <a:pt x="58" y="867"/>
                  </a:lnTo>
                  <a:lnTo>
                    <a:pt x="74" y="830"/>
                  </a:lnTo>
                  <a:lnTo>
                    <a:pt x="64" y="769"/>
                  </a:lnTo>
                  <a:lnTo>
                    <a:pt x="88" y="771"/>
                  </a:lnTo>
                  <a:lnTo>
                    <a:pt x="74" y="1153"/>
                  </a:lnTo>
                  <a:lnTo>
                    <a:pt x="149" y="1175"/>
                  </a:lnTo>
                  <a:lnTo>
                    <a:pt x="183" y="1397"/>
                  </a:lnTo>
                  <a:lnTo>
                    <a:pt x="177" y="1419"/>
                  </a:lnTo>
                  <a:lnTo>
                    <a:pt x="162" y="1513"/>
                  </a:lnTo>
                  <a:lnTo>
                    <a:pt x="162" y="1530"/>
                  </a:lnTo>
                  <a:lnTo>
                    <a:pt x="214" y="1540"/>
                  </a:lnTo>
                  <a:lnTo>
                    <a:pt x="234" y="1515"/>
                  </a:lnTo>
                  <a:lnTo>
                    <a:pt x="223" y="1432"/>
                  </a:lnTo>
                  <a:lnTo>
                    <a:pt x="214" y="1375"/>
                  </a:lnTo>
                  <a:lnTo>
                    <a:pt x="236" y="1184"/>
                  </a:lnTo>
                  <a:lnTo>
                    <a:pt x="242" y="1185"/>
                  </a:lnTo>
                  <a:lnTo>
                    <a:pt x="265" y="1255"/>
                  </a:lnTo>
                  <a:lnTo>
                    <a:pt x="250" y="1369"/>
                  </a:lnTo>
                  <a:lnTo>
                    <a:pt x="234" y="1380"/>
                  </a:lnTo>
                  <a:lnTo>
                    <a:pt x="265" y="1499"/>
                  </a:lnTo>
                  <a:lnTo>
                    <a:pt x="316" y="1513"/>
                  </a:lnTo>
                  <a:lnTo>
                    <a:pt x="325" y="1504"/>
                  </a:lnTo>
                  <a:lnTo>
                    <a:pt x="287" y="1382"/>
                  </a:lnTo>
                  <a:lnTo>
                    <a:pt x="347" y="1175"/>
                  </a:lnTo>
                  <a:lnTo>
                    <a:pt x="375" y="1158"/>
                  </a:lnTo>
                  <a:lnTo>
                    <a:pt x="375" y="1143"/>
                  </a:lnTo>
                  <a:lnTo>
                    <a:pt x="427" y="1147"/>
                  </a:lnTo>
                  <a:lnTo>
                    <a:pt x="444" y="1175"/>
                  </a:lnTo>
                  <a:lnTo>
                    <a:pt x="456" y="1158"/>
                  </a:lnTo>
                  <a:lnTo>
                    <a:pt x="405" y="785"/>
                  </a:lnTo>
                  <a:lnTo>
                    <a:pt x="413" y="786"/>
                  </a:lnTo>
                  <a:lnTo>
                    <a:pt x="413" y="710"/>
                  </a:lnTo>
                  <a:lnTo>
                    <a:pt x="419" y="700"/>
                  </a:lnTo>
                  <a:lnTo>
                    <a:pt x="405" y="518"/>
                  </a:lnTo>
                  <a:lnTo>
                    <a:pt x="390" y="301"/>
                  </a:lnTo>
                  <a:lnTo>
                    <a:pt x="303" y="258"/>
                  </a:lnTo>
                  <a:lnTo>
                    <a:pt x="279" y="210"/>
                  </a:lnTo>
                  <a:lnTo>
                    <a:pt x="302" y="168"/>
                  </a:lnTo>
                  <a:lnTo>
                    <a:pt x="316" y="173"/>
                  </a:lnTo>
                  <a:lnTo>
                    <a:pt x="325" y="153"/>
                  </a:lnTo>
                  <a:lnTo>
                    <a:pt x="325" y="130"/>
                  </a:lnTo>
                  <a:lnTo>
                    <a:pt x="347" y="127"/>
                  </a:lnTo>
                  <a:lnTo>
                    <a:pt x="353" y="65"/>
                  </a:lnTo>
                  <a:lnTo>
                    <a:pt x="331" y="20"/>
                  </a:lnTo>
                  <a:lnTo>
                    <a:pt x="308" y="5"/>
                  </a:lnTo>
                  <a:lnTo>
                    <a:pt x="277" y="5"/>
                  </a:lnTo>
                  <a:lnTo>
                    <a:pt x="252" y="0"/>
                  </a:lnTo>
                  <a:lnTo>
                    <a:pt x="22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Freeform 124"/>
            <p:cNvSpPr/>
            <p:nvPr/>
          </p:nvSpPr>
          <p:spPr>
            <a:xfrm>
              <a:off x="6183720" y="1299960"/>
              <a:ext cx="268200" cy="838440"/>
            </a:xfrm>
            <a:custGeom>
              <a:avLst/>
              <a:gdLst>
                <a:gd name="textAreaLeft" fmla="*/ 0 w 268200"/>
                <a:gd name="textAreaRight" fmla="*/ 268560 w 268200"/>
                <a:gd name="textAreaTop" fmla="*/ 0 h 838440"/>
                <a:gd name="textAreaBottom" fmla="*/ 838800 h 838440"/>
              </a:gdLst>
              <a:ahLst/>
              <a:rect l="textAreaLeft" t="textAreaTop" r="textAreaRight" b="textAreaBottom"/>
              <a:pathLst>
                <a:path w="504" h="1570">
                  <a:moveTo>
                    <a:pt x="249" y="11"/>
                  </a:moveTo>
                  <a:lnTo>
                    <a:pt x="309" y="20"/>
                  </a:lnTo>
                  <a:lnTo>
                    <a:pt x="333" y="81"/>
                  </a:lnTo>
                  <a:lnTo>
                    <a:pt x="333" y="108"/>
                  </a:lnTo>
                  <a:lnTo>
                    <a:pt x="308" y="108"/>
                  </a:lnTo>
                  <a:lnTo>
                    <a:pt x="317" y="117"/>
                  </a:lnTo>
                  <a:lnTo>
                    <a:pt x="309" y="124"/>
                  </a:lnTo>
                  <a:lnTo>
                    <a:pt x="301" y="150"/>
                  </a:lnTo>
                  <a:lnTo>
                    <a:pt x="292" y="154"/>
                  </a:lnTo>
                  <a:lnTo>
                    <a:pt x="275" y="203"/>
                  </a:lnTo>
                  <a:lnTo>
                    <a:pt x="275" y="213"/>
                  </a:lnTo>
                  <a:lnTo>
                    <a:pt x="301" y="213"/>
                  </a:lnTo>
                  <a:lnTo>
                    <a:pt x="341" y="273"/>
                  </a:lnTo>
                  <a:lnTo>
                    <a:pt x="415" y="294"/>
                  </a:lnTo>
                  <a:lnTo>
                    <a:pt x="448" y="342"/>
                  </a:lnTo>
                  <a:lnTo>
                    <a:pt x="487" y="771"/>
                  </a:lnTo>
                  <a:lnTo>
                    <a:pt x="470" y="776"/>
                  </a:lnTo>
                  <a:lnTo>
                    <a:pt x="504" y="851"/>
                  </a:lnTo>
                  <a:lnTo>
                    <a:pt x="487" y="898"/>
                  </a:lnTo>
                  <a:lnTo>
                    <a:pt x="471" y="898"/>
                  </a:lnTo>
                  <a:lnTo>
                    <a:pt x="463" y="910"/>
                  </a:lnTo>
                  <a:lnTo>
                    <a:pt x="448" y="910"/>
                  </a:lnTo>
                  <a:lnTo>
                    <a:pt x="456" y="864"/>
                  </a:lnTo>
                  <a:lnTo>
                    <a:pt x="448" y="836"/>
                  </a:lnTo>
                  <a:lnTo>
                    <a:pt x="440" y="857"/>
                  </a:lnTo>
                  <a:lnTo>
                    <a:pt x="448" y="871"/>
                  </a:lnTo>
                  <a:lnTo>
                    <a:pt x="439" y="883"/>
                  </a:lnTo>
                  <a:lnTo>
                    <a:pt x="422" y="846"/>
                  </a:lnTo>
                  <a:lnTo>
                    <a:pt x="433" y="784"/>
                  </a:lnTo>
                  <a:lnTo>
                    <a:pt x="406" y="786"/>
                  </a:lnTo>
                  <a:lnTo>
                    <a:pt x="422" y="1176"/>
                  </a:lnTo>
                  <a:lnTo>
                    <a:pt x="340" y="1197"/>
                  </a:lnTo>
                  <a:lnTo>
                    <a:pt x="301" y="1424"/>
                  </a:lnTo>
                  <a:lnTo>
                    <a:pt x="309" y="1447"/>
                  </a:lnTo>
                  <a:lnTo>
                    <a:pt x="326" y="1542"/>
                  </a:lnTo>
                  <a:lnTo>
                    <a:pt x="326" y="1560"/>
                  </a:lnTo>
                  <a:lnTo>
                    <a:pt x="267" y="1570"/>
                  </a:lnTo>
                  <a:lnTo>
                    <a:pt x="244" y="1545"/>
                  </a:lnTo>
                  <a:lnTo>
                    <a:pt x="257" y="1460"/>
                  </a:lnTo>
                  <a:lnTo>
                    <a:pt x="267" y="1402"/>
                  </a:lnTo>
                  <a:lnTo>
                    <a:pt x="243" y="1208"/>
                  </a:lnTo>
                  <a:lnTo>
                    <a:pt x="235" y="1209"/>
                  </a:lnTo>
                  <a:lnTo>
                    <a:pt x="211" y="1279"/>
                  </a:lnTo>
                  <a:lnTo>
                    <a:pt x="227" y="1396"/>
                  </a:lnTo>
                  <a:lnTo>
                    <a:pt x="244" y="1406"/>
                  </a:lnTo>
                  <a:lnTo>
                    <a:pt x="211" y="1528"/>
                  </a:lnTo>
                  <a:lnTo>
                    <a:pt x="153" y="1544"/>
                  </a:lnTo>
                  <a:lnTo>
                    <a:pt x="145" y="1535"/>
                  </a:lnTo>
                  <a:lnTo>
                    <a:pt x="187" y="1409"/>
                  </a:lnTo>
                  <a:lnTo>
                    <a:pt x="120" y="1197"/>
                  </a:lnTo>
                  <a:lnTo>
                    <a:pt x="90" y="1181"/>
                  </a:lnTo>
                  <a:lnTo>
                    <a:pt x="90" y="1166"/>
                  </a:lnTo>
                  <a:lnTo>
                    <a:pt x="32" y="1169"/>
                  </a:lnTo>
                  <a:lnTo>
                    <a:pt x="14" y="1197"/>
                  </a:lnTo>
                  <a:lnTo>
                    <a:pt x="0" y="1181"/>
                  </a:lnTo>
                  <a:lnTo>
                    <a:pt x="57" y="800"/>
                  </a:lnTo>
                  <a:lnTo>
                    <a:pt x="48" y="801"/>
                  </a:lnTo>
                  <a:lnTo>
                    <a:pt x="48" y="724"/>
                  </a:lnTo>
                  <a:lnTo>
                    <a:pt x="40" y="714"/>
                  </a:lnTo>
                  <a:lnTo>
                    <a:pt x="55" y="528"/>
                  </a:lnTo>
                  <a:lnTo>
                    <a:pt x="73" y="308"/>
                  </a:lnTo>
                  <a:lnTo>
                    <a:pt x="169" y="263"/>
                  </a:lnTo>
                  <a:lnTo>
                    <a:pt x="196" y="213"/>
                  </a:lnTo>
                  <a:lnTo>
                    <a:pt x="170" y="171"/>
                  </a:lnTo>
                  <a:lnTo>
                    <a:pt x="153" y="176"/>
                  </a:lnTo>
                  <a:lnTo>
                    <a:pt x="145" y="155"/>
                  </a:lnTo>
                  <a:lnTo>
                    <a:pt x="145" y="132"/>
                  </a:lnTo>
                  <a:lnTo>
                    <a:pt x="120" y="129"/>
                  </a:lnTo>
                  <a:lnTo>
                    <a:pt x="114" y="66"/>
                  </a:lnTo>
                  <a:lnTo>
                    <a:pt x="137" y="20"/>
                  </a:lnTo>
                  <a:lnTo>
                    <a:pt x="162" y="5"/>
                  </a:lnTo>
                  <a:lnTo>
                    <a:pt x="198" y="5"/>
                  </a:lnTo>
                  <a:lnTo>
                    <a:pt x="225" y="0"/>
                  </a:lnTo>
                  <a:lnTo>
                    <a:pt x="24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Freeform 125"/>
            <p:cNvSpPr/>
            <p:nvPr/>
          </p:nvSpPr>
          <p:spPr>
            <a:xfrm>
              <a:off x="5305320" y="1171080"/>
              <a:ext cx="138240" cy="593640"/>
            </a:xfrm>
            <a:custGeom>
              <a:avLst/>
              <a:gdLst>
                <a:gd name="textAreaLeft" fmla="*/ 0 w 138240"/>
                <a:gd name="textAreaRight" fmla="*/ 138600 w 138240"/>
                <a:gd name="textAreaTop" fmla="*/ 0 h 593640"/>
                <a:gd name="textAreaBottom" fmla="*/ 594000 h 593640"/>
              </a:gdLst>
              <a:ahLst/>
              <a:rect l="textAreaLeft" t="textAreaTop" r="textAreaRight" b="textAreaBottom"/>
              <a:pathLst>
                <a:path w="258" h="1112">
                  <a:moveTo>
                    <a:pt x="60" y="21"/>
                  </a:moveTo>
                  <a:lnTo>
                    <a:pt x="60" y="49"/>
                  </a:lnTo>
                  <a:lnTo>
                    <a:pt x="65" y="57"/>
                  </a:lnTo>
                  <a:lnTo>
                    <a:pt x="53" y="80"/>
                  </a:lnTo>
                  <a:lnTo>
                    <a:pt x="60" y="86"/>
                  </a:lnTo>
                  <a:lnTo>
                    <a:pt x="58" y="95"/>
                  </a:lnTo>
                  <a:lnTo>
                    <a:pt x="66" y="124"/>
                  </a:lnTo>
                  <a:lnTo>
                    <a:pt x="66" y="131"/>
                  </a:lnTo>
                  <a:lnTo>
                    <a:pt x="21" y="160"/>
                  </a:lnTo>
                  <a:lnTo>
                    <a:pt x="0" y="392"/>
                  </a:lnTo>
                  <a:lnTo>
                    <a:pt x="26" y="431"/>
                  </a:lnTo>
                  <a:lnTo>
                    <a:pt x="16" y="556"/>
                  </a:lnTo>
                  <a:lnTo>
                    <a:pt x="34" y="570"/>
                  </a:lnTo>
                  <a:lnTo>
                    <a:pt x="42" y="765"/>
                  </a:lnTo>
                  <a:lnTo>
                    <a:pt x="56" y="962"/>
                  </a:lnTo>
                  <a:lnTo>
                    <a:pt x="51" y="973"/>
                  </a:lnTo>
                  <a:lnTo>
                    <a:pt x="5" y="1010"/>
                  </a:lnTo>
                  <a:lnTo>
                    <a:pt x="10" y="1017"/>
                  </a:lnTo>
                  <a:lnTo>
                    <a:pt x="26" y="1024"/>
                  </a:lnTo>
                  <a:lnTo>
                    <a:pt x="54" y="1017"/>
                  </a:lnTo>
                  <a:lnTo>
                    <a:pt x="80" y="1003"/>
                  </a:lnTo>
                  <a:lnTo>
                    <a:pt x="102" y="995"/>
                  </a:lnTo>
                  <a:lnTo>
                    <a:pt x="102" y="1028"/>
                  </a:lnTo>
                  <a:lnTo>
                    <a:pt x="111" y="1029"/>
                  </a:lnTo>
                  <a:lnTo>
                    <a:pt x="95" y="1060"/>
                  </a:lnTo>
                  <a:lnTo>
                    <a:pt x="103" y="1106"/>
                  </a:lnTo>
                  <a:lnTo>
                    <a:pt x="119" y="1112"/>
                  </a:lnTo>
                  <a:lnTo>
                    <a:pt x="146" y="1074"/>
                  </a:lnTo>
                  <a:lnTo>
                    <a:pt x="146" y="1046"/>
                  </a:lnTo>
                  <a:lnTo>
                    <a:pt x="155" y="1042"/>
                  </a:lnTo>
                  <a:lnTo>
                    <a:pt x="165" y="789"/>
                  </a:lnTo>
                  <a:lnTo>
                    <a:pt x="155" y="763"/>
                  </a:lnTo>
                  <a:lnTo>
                    <a:pt x="186" y="593"/>
                  </a:lnTo>
                  <a:lnTo>
                    <a:pt x="204" y="586"/>
                  </a:lnTo>
                  <a:lnTo>
                    <a:pt x="211" y="411"/>
                  </a:lnTo>
                  <a:lnTo>
                    <a:pt x="258" y="390"/>
                  </a:lnTo>
                  <a:lnTo>
                    <a:pt x="238" y="198"/>
                  </a:lnTo>
                  <a:lnTo>
                    <a:pt x="164" y="147"/>
                  </a:lnTo>
                  <a:lnTo>
                    <a:pt x="146" y="130"/>
                  </a:lnTo>
                  <a:lnTo>
                    <a:pt x="145" y="112"/>
                  </a:lnTo>
                  <a:lnTo>
                    <a:pt x="153" y="99"/>
                  </a:lnTo>
                  <a:lnTo>
                    <a:pt x="160" y="88"/>
                  </a:lnTo>
                  <a:lnTo>
                    <a:pt x="168" y="75"/>
                  </a:lnTo>
                  <a:lnTo>
                    <a:pt x="172" y="61"/>
                  </a:lnTo>
                  <a:lnTo>
                    <a:pt x="172" y="48"/>
                  </a:lnTo>
                  <a:lnTo>
                    <a:pt x="168" y="34"/>
                  </a:lnTo>
                  <a:lnTo>
                    <a:pt x="159" y="19"/>
                  </a:lnTo>
                  <a:lnTo>
                    <a:pt x="146" y="7"/>
                  </a:lnTo>
                  <a:lnTo>
                    <a:pt x="130" y="1"/>
                  </a:lnTo>
                  <a:lnTo>
                    <a:pt x="112" y="0"/>
                  </a:lnTo>
                  <a:lnTo>
                    <a:pt x="95" y="2"/>
                  </a:lnTo>
                  <a:lnTo>
                    <a:pt x="80" y="7"/>
                  </a:lnTo>
                  <a:lnTo>
                    <a:pt x="60" y="2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Freeform 126"/>
            <p:cNvSpPr/>
            <p:nvPr/>
          </p:nvSpPr>
          <p:spPr>
            <a:xfrm>
              <a:off x="6628680" y="1330200"/>
              <a:ext cx="258480" cy="869040"/>
            </a:xfrm>
            <a:custGeom>
              <a:avLst/>
              <a:gdLst>
                <a:gd name="textAreaLeft" fmla="*/ 0 w 258480"/>
                <a:gd name="textAreaRight" fmla="*/ 258840 w 258480"/>
                <a:gd name="textAreaTop" fmla="*/ 0 h 869040"/>
                <a:gd name="textAreaBottom" fmla="*/ 869400 h 869040"/>
              </a:gdLst>
              <a:ahLst/>
              <a:rect l="textAreaLeft" t="textAreaTop" r="textAreaRight" b="textAreaBottom"/>
              <a:pathLst>
                <a:path w="484" h="1628">
                  <a:moveTo>
                    <a:pt x="120" y="21"/>
                  </a:moveTo>
                  <a:lnTo>
                    <a:pt x="180" y="0"/>
                  </a:lnTo>
                  <a:lnTo>
                    <a:pt x="242" y="11"/>
                  </a:lnTo>
                  <a:lnTo>
                    <a:pt x="285" y="53"/>
                  </a:lnTo>
                  <a:lnTo>
                    <a:pt x="302" y="103"/>
                  </a:lnTo>
                  <a:lnTo>
                    <a:pt x="288" y="162"/>
                  </a:lnTo>
                  <a:lnTo>
                    <a:pt x="310" y="197"/>
                  </a:lnTo>
                  <a:lnTo>
                    <a:pt x="340" y="212"/>
                  </a:lnTo>
                  <a:lnTo>
                    <a:pt x="426" y="248"/>
                  </a:lnTo>
                  <a:lnTo>
                    <a:pt x="449" y="272"/>
                  </a:lnTo>
                  <a:lnTo>
                    <a:pt x="484" y="533"/>
                  </a:lnTo>
                  <a:lnTo>
                    <a:pt x="470" y="586"/>
                  </a:lnTo>
                  <a:lnTo>
                    <a:pt x="380" y="607"/>
                  </a:lnTo>
                  <a:lnTo>
                    <a:pt x="395" y="854"/>
                  </a:lnTo>
                  <a:lnTo>
                    <a:pt x="335" y="877"/>
                  </a:lnTo>
                  <a:lnTo>
                    <a:pt x="317" y="1057"/>
                  </a:lnTo>
                  <a:lnTo>
                    <a:pt x="330" y="1374"/>
                  </a:lnTo>
                  <a:lnTo>
                    <a:pt x="335" y="1547"/>
                  </a:lnTo>
                  <a:lnTo>
                    <a:pt x="319" y="1552"/>
                  </a:lnTo>
                  <a:lnTo>
                    <a:pt x="319" y="1566"/>
                  </a:lnTo>
                  <a:lnTo>
                    <a:pt x="271" y="1597"/>
                  </a:lnTo>
                  <a:lnTo>
                    <a:pt x="243" y="1620"/>
                  </a:lnTo>
                  <a:lnTo>
                    <a:pt x="224" y="1626"/>
                  </a:lnTo>
                  <a:lnTo>
                    <a:pt x="200" y="1628"/>
                  </a:lnTo>
                  <a:lnTo>
                    <a:pt x="177" y="1621"/>
                  </a:lnTo>
                  <a:lnTo>
                    <a:pt x="172" y="1614"/>
                  </a:lnTo>
                  <a:lnTo>
                    <a:pt x="177" y="1601"/>
                  </a:lnTo>
                  <a:lnTo>
                    <a:pt x="189" y="1587"/>
                  </a:lnTo>
                  <a:lnTo>
                    <a:pt x="204" y="1566"/>
                  </a:lnTo>
                  <a:lnTo>
                    <a:pt x="227" y="1546"/>
                  </a:lnTo>
                  <a:lnTo>
                    <a:pt x="210" y="1554"/>
                  </a:lnTo>
                  <a:lnTo>
                    <a:pt x="210" y="1532"/>
                  </a:lnTo>
                  <a:lnTo>
                    <a:pt x="141" y="1563"/>
                  </a:lnTo>
                  <a:lnTo>
                    <a:pt x="115" y="1563"/>
                  </a:lnTo>
                  <a:lnTo>
                    <a:pt x="107" y="1554"/>
                  </a:lnTo>
                  <a:lnTo>
                    <a:pt x="107" y="1542"/>
                  </a:lnTo>
                  <a:lnTo>
                    <a:pt x="109" y="1533"/>
                  </a:lnTo>
                  <a:lnTo>
                    <a:pt x="115" y="1521"/>
                  </a:lnTo>
                  <a:lnTo>
                    <a:pt x="131" y="1505"/>
                  </a:lnTo>
                  <a:lnTo>
                    <a:pt x="144" y="1491"/>
                  </a:lnTo>
                  <a:lnTo>
                    <a:pt x="127" y="1488"/>
                  </a:lnTo>
                  <a:lnTo>
                    <a:pt x="112" y="1335"/>
                  </a:lnTo>
                  <a:lnTo>
                    <a:pt x="106" y="1089"/>
                  </a:lnTo>
                  <a:lnTo>
                    <a:pt x="78" y="889"/>
                  </a:lnTo>
                  <a:lnTo>
                    <a:pt x="70" y="835"/>
                  </a:lnTo>
                  <a:lnTo>
                    <a:pt x="61" y="804"/>
                  </a:lnTo>
                  <a:lnTo>
                    <a:pt x="83" y="682"/>
                  </a:lnTo>
                  <a:lnTo>
                    <a:pt x="89" y="628"/>
                  </a:lnTo>
                  <a:lnTo>
                    <a:pt x="76" y="633"/>
                  </a:lnTo>
                  <a:lnTo>
                    <a:pt x="67" y="627"/>
                  </a:lnTo>
                  <a:lnTo>
                    <a:pt x="61" y="627"/>
                  </a:lnTo>
                  <a:lnTo>
                    <a:pt x="50" y="618"/>
                  </a:lnTo>
                  <a:lnTo>
                    <a:pt x="36" y="619"/>
                  </a:lnTo>
                  <a:lnTo>
                    <a:pt x="29" y="607"/>
                  </a:lnTo>
                  <a:lnTo>
                    <a:pt x="21" y="604"/>
                  </a:lnTo>
                  <a:lnTo>
                    <a:pt x="18" y="594"/>
                  </a:lnTo>
                  <a:lnTo>
                    <a:pt x="6" y="586"/>
                  </a:lnTo>
                  <a:lnTo>
                    <a:pt x="0" y="572"/>
                  </a:lnTo>
                  <a:lnTo>
                    <a:pt x="25" y="518"/>
                  </a:lnTo>
                  <a:lnTo>
                    <a:pt x="14" y="482"/>
                  </a:lnTo>
                  <a:lnTo>
                    <a:pt x="60" y="518"/>
                  </a:lnTo>
                  <a:lnTo>
                    <a:pt x="130" y="278"/>
                  </a:lnTo>
                  <a:lnTo>
                    <a:pt x="183" y="232"/>
                  </a:lnTo>
                  <a:lnTo>
                    <a:pt x="172" y="220"/>
                  </a:lnTo>
                  <a:lnTo>
                    <a:pt x="127" y="212"/>
                  </a:lnTo>
                  <a:lnTo>
                    <a:pt x="122" y="182"/>
                  </a:lnTo>
                  <a:lnTo>
                    <a:pt x="136" y="175"/>
                  </a:lnTo>
                  <a:lnTo>
                    <a:pt x="118" y="173"/>
                  </a:lnTo>
                  <a:lnTo>
                    <a:pt x="121" y="161"/>
                  </a:lnTo>
                  <a:lnTo>
                    <a:pt x="104" y="155"/>
                  </a:lnTo>
                  <a:lnTo>
                    <a:pt x="116" y="117"/>
                  </a:lnTo>
                  <a:lnTo>
                    <a:pt x="106" y="110"/>
                  </a:lnTo>
                  <a:lnTo>
                    <a:pt x="112" y="59"/>
                  </a:lnTo>
                  <a:lnTo>
                    <a:pt x="99" y="58"/>
                  </a:lnTo>
                  <a:lnTo>
                    <a:pt x="120" y="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37" name="Group 127"/>
            <p:cNvGrpSpPr/>
            <p:nvPr/>
          </p:nvGrpSpPr>
          <p:grpSpPr>
            <a:xfrm>
              <a:off x="5333040" y="1480320"/>
              <a:ext cx="876960" cy="910080"/>
              <a:chOff x="5333040" y="1480320"/>
              <a:chExt cx="876960" cy="910080"/>
            </a:xfrm>
          </p:grpSpPr>
          <p:sp>
            <p:nvSpPr>
              <p:cNvPr id="238" name="Freeform 128"/>
              <p:cNvSpPr/>
              <p:nvPr/>
            </p:nvSpPr>
            <p:spPr>
              <a:xfrm>
                <a:off x="5617800" y="1483560"/>
                <a:ext cx="268200" cy="904320"/>
              </a:xfrm>
              <a:custGeom>
                <a:avLst/>
                <a:gdLst>
                  <a:gd name="textAreaLeft" fmla="*/ 0 w 268200"/>
                  <a:gd name="textAreaRight" fmla="*/ 268560 w 268200"/>
                  <a:gd name="textAreaTop" fmla="*/ 0 h 904320"/>
                  <a:gd name="textAreaBottom" fmla="*/ 904680 h 904320"/>
                </a:gdLst>
                <a:ahLst/>
                <a:rect l="textAreaLeft" t="textAreaTop" r="textAreaRight" b="textAreaBottom"/>
                <a:pathLst>
                  <a:path w="504" h="1693">
                    <a:moveTo>
                      <a:pt x="254" y="13"/>
                    </a:moveTo>
                    <a:lnTo>
                      <a:pt x="195" y="23"/>
                    </a:lnTo>
                    <a:lnTo>
                      <a:pt x="171" y="87"/>
                    </a:lnTo>
                    <a:lnTo>
                      <a:pt x="171" y="116"/>
                    </a:lnTo>
                    <a:lnTo>
                      <a:pt x="197" y="116"/>
                    </a:lnTo>
                    <a:lnTo>
                      <a:pt x="188" y="127"/>
                    </a:lnTo>
                    <a:lnTo>
                      <a:pt x="195" y="134"/>
                    </a:lnTo>
                    <a:lnTo>
                      <a:pt x="203" y="162"/>
                    </a:lnTo>
                    <a:lnTo>
                      <a:pt x="211" y="166"/>
                    </a:lnTo>
                    <a:lnTo>
                      <a:pt x="229" y="219"/>
                    </a:lnTo>
                    <a:lnTo>
                      <a:pt x="229" y="231"/>
                    </a:lnTo>
                    <a:lnTo>
                      <a:pt x="203" y="231"/>
                    </a:lnTo>
                    <a:lnTo>
                      <a:pt x="164" y="295"/>
                    </a:lnTo>
                    <a:lnTo>
                      <a:pt x="90" y="316"/>
                    </a:lnTo>
                    <a:lnTo>
                      <a:pt x="56" y="368"/>
                    </a:lnTo>
                    <a:lnTo>
                      <a:pt x="17" y="832"/>
                    </a:lnTo>
                    <a:lnTo>
                      <a:pt x="35" y="837"/>
                    </a:lnTo>
                    <a:lnTo>
                      <a:pt x="0" y="918"/>
                    </a:lnTo>
                    <a:lnTo>
                      <a:pt x="17" y="969"/>
                    </a:lnTo>
                    <a:lnTo>
                      <a:pt x="34" y="969"/>
                    </a:lnTo>
                    <a:lnTo>
                      <a:pt x="41" y="981"/>
                    </a:lnTo>
                    <a:lnTo>
                      <a:pt x="56" y="981"/>
                    </a:lnTo>
                    <a:lnTo>
                      <a:pt x="49" y="931"/>
                    </a:lnTo>
                    <a:lnTo>
                      <a:pt x="56" y="902"/>
                    </a:lnTo>
                    <a:lnTo>
                      <a:pt x="64" y="925"/>
                    </a:lnTo>
                    <a:lnTo>
                      <a:pt x="56" y="940"/>
                    </a:lnTo>
                    <a:lnTo>
                      <a:pt x="65" y="953"/>
                    </a:lnTo>
                    <a:lnTo>
                      <a:pt x="82" y="912"/>
                    </a:lnTo>
                    <a:lnTo>
                      <a:pt x="72" y="844"/>
                    </a:lnTo>
                    <a:lnTo>
                      <a:pt x="99" y="848"/>
                    </a:lnTo>
                    <a:lnTo>
                      <a:pt x="82" y="1270"/>
                    </a:lnTo>
                    <a:lnTo>
                      <a:pt x="165" y="1292"/>
                    </a:lnTo>
                    <a:lnTo>
                      <a:pt x="203" y="1536"/>
                    </a:lnTo>
                    <a:lnTo>
                      <a:pt x="195" y="1560"/>
                    </a:lnTo>
                    <a:lnTo>
                      <a:pt x="179" y="1663"/>
                    </a:lnTo>
                    <a:lnTo>
                      <a:pt x="179" y="1682"/>
                    </a:lnTo>
                    <a:lnTo>
                      <a:pt x="236" y="1693"/>
                    </a:lnTo>
                    <a:lnTo>
                      <a:pt x="259" y="1665"/>
                    </a:lnTo>
                    <a:lnTo>
                      <a:pt x="246" y="1574"/>
                    </a:lnTo>
                    <a:lnTo>
                      <a:pt x="236" y="1511"/>
                    </a:lnTo>
                    <a:lnTo>
                      <a:pt x="260" y="1303"/>
                    </a:lnTo>
                    <a:lnTo>
                      <a:pt x="268" y="1304"/>
                    </a:lnTo>
                    <a:lnTo>
                      <a:pt x="292" y="1380"/>
                    </a:lnTo>
                    <a:lnTo>
                      <a:pt x="276" y="1505"/>
                    </a:lnTo>
                    <a:lnTo>
                      <a:pt x="259" y="1517"/>
                    </a:lnTo>
                    <a:lnTo>
                      <a:pt x="292" y="1648"/>
                    </a:lnTo>
                    <a:lnTo>
                      <a:pt x="350" y="1664"/>
                    </a:lnTo>
                    <a:lnTo>
                      <a:pt x="359" y="1654"/>
                    </a:lnTo>
                    <a:lnTo>
                      <a:pt x="317" y="1519"/>
                    </a:lnTo>
                    <a:lnTo>
                      <a:pt x="383" y="1292"/>
                    </a:lnTo>
                    <a:lnTo>
                      <a:pt x="413" y="1275"/>
                    </a:lnTo>
                    <a:lnTo>
                      <a:pt x="413" y="1258"/>
                    </a:lnTo>
                    <a:lnTo>
                      <a:pt x="471" y="1262"/>
                    </a:lnTo>
                    <a:lnTo>
                      <a:pt x="489" y="1292"/>
                    </a:lnTo>
                    <a:lnTo>
                      <a:pt x="504" y="1275"/>
                    </a:lnTo>
                    <a:lnTo>
                      <a:pt x="447" y="864"/>
                    </a:lnTo>
                    <a:lnTo>
                      <a:pt x="456" y="865"/>
                    </a:lnTo>
                    <a:lnTo>
                      <a:pt x="456" y="781"/>
                    </a:lnTo>
                    <a:lnTo>
                      <a:pt x="463" y="769"/>
                    </a:lnTo>
                    <a:lnTo>
                      <a:pt x="448" y="569"/>
                    </a:lnTo>
                    <a:lnTo>
                      <a:pt x="430" y="331"/>
                    </a:lnTo>
                    <a:lnTo>
                      <a:pt x="334" y="284"/>
                    </a:lnTo>
                    <a:lnTo>
                      <a:pt x="308" y="231"/>
                    </a:lnTo>
                    <a:lnTo>
                      <a:pt x="333" y="185"/>
                    </a:lnTo>
                    <a:lnTo>
                      <a:pt x="350" y="190"/>
                    </a:lnTo>
                    <a:lnTo>
                      <a:pt x="359" y="167"/>
                    </a:lnTo>
                    <a:lnTo>
                      <a:pt x="359" y="143"/>
                    </a:lnTo>
                    <a:lnTo>
                      <a:pt x="383" y="139"/>
                    </a:lnTo>
                    <a:lnTo>
                      <a:pt x="389" y="72"/>
                    </a:lnTo>
                    <a:lnTo>
                      <a:pt x="366" y="23"/>
                    </a:lnTo>
                    <a:lnTo>
                      <a:pt x="341" y="7"/>
                    </a:lnTo>
                    <a:lnTo>
                      <a:pt x="305" y="7"/>
                    </a:lnTo>
                    <a:lnTo>
                      <a:pt x="278" y="0"/>
                    </a:lnTo>
                    <a:lnTo>
                      <a:pt x="254" y="13"/>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Freeform 129"/>
              <p:cNvSpPr/>
              <p:nvPr/>
            </p:nvSpPr>
            <p:spPr>
              <a:xfrm>
                <a:off x="5939640" y="1481400"/>
                <a:ext cx="270360" cy="905400"/>
              </a:xfrm>
              <a:custGeom>
                <a:avLst/>
                <a:gdLst>
                  <a:gd name="textAreaLeft" fmla="*/ 0 w 270360"/>
                  <a:gd name="textAreaRight" fmla="*/ 270720 w 270360"/>
                  <a:gd name="textAreaTop" fmla="*/ 0 h 905400"/>
                  <a:gd name="textAreaBottom" fmla="*/ 905760 h 905400"/>
                </a:gdLst>
                <a:ahLst/>
                <a:rect l="textAreaLeft" t="textAreaTop" r="textAreaRight" b="textAreaBottom"/>
                <a:pathLst>
                  <a:path w="507" h="1697">
                    <a:moveTo>
                      <a:pt x="126" y="22"/>
                    </a:moveTo>
                    <a:lnTo>
                      <a:pt x="188" y="0"/>
                    </a:lnTo>
                    <a:lnTo>
                      <a:pt x="253" y="12"/>
                    </a:lnTo>
                    <a:lnTo>
                      <a:pt x="299" y="55"/>
                    </a:lnTo>
                    <a:lnTo>
                      <a:pt x="316" y="107"/>
                    </a:lnTo>
                    <a:lnTo>
                      <a:pt x="302" y="170"/>
                    </a:lnTo>
                    <a:lnTo>
                      <a:pt x="324" y="205"/>
                    </a:lnTo>
                    <a:lnTo>
                      <a:pt x="355" y="222"/>
                    </a:lnTo>
                    <a:lnTo>
                      <a:pt x="445" y="259"/>
                    </a:lnTo>
                    <a:lnTo>
                      <a:pt x="469" y="284"/>
                    </a:lnTo>
                    <a:lnTo>
                      <a:pt x="507" y="555"/>
                    </a:lnTo>
                    <a:lnTo>
                      <a:pt x="492" y="611"/>
                    </a:lnTo>
                    <a:lnTo>
                      <a:pt x="398" y="633"/>
                    </a:lnTo>
                    <a:lnTo>
                      <a:pt x="413" y="890"/>
                    </a:lnTo>
                    <a:lnTo>
                      <a:pt x="350" y="914"/>
                    </a:lnTo>
                    <a:lnTo>
                      <a:pt x="332" y="1104"/>
                    </a:lnTo>
                    <a:lnTo>
                      <a:pt x="345" y="1432"/>
                    </a:lnTo>
                    <a:lnTo>
                      <a:pt x="350" y="1613"/>
                    </a:lnTo>
                    <a:lnTo>
                      <a:pt x="334" y="1618"/>
                    </a:lnTo>
                    <a:lnTo>
                      <a:pt x="334" y="1634"/>
                    </a:lnTo>
                    <a:lnTo>
                      <a:pt x="284" y="1665"/>
                    </a:lnTo>
                    <a:lnTo>
                      <a:pt x="255" y="1688"/>
                    </a:lnTo>
                    <a:lnTo>
                      <a:pt x="234" y="1696"/>
                    </a:lnTo>
                    <a:lnTo>
                      <a:pt x="210" y="1697"/>
                    </a:lnTo>
                    <a:lnTo>
                      <a:pt x="186" y="1690"/>
                    </a:lnTo>
                    <a:lnTo>
                      <a:pt x="181" y="1682"/>
                    </a:lnTo>
                    <a:lnTo>
                      <a:pt x="186" y="1669"/>
                    </a:lnTo>
                    <a:lnTo>
                      <a:pt x="197" y="1654"/>
                    </a:lnTo>
                    <a:lnTo>
                      <a:pt x="214" y="1632"/>
                    </a:lnTo>
                    <a:lnTo>
                      <a:pt x="238" y="1612"/>
                    </a:lnTo>
                    <a:lnTo>
                      <a:pt x="220" y="1620"/>
                    </a:lnTo>
                    <a:lnTo>
                      <a:pt x="220" y="1597"/>
                    </a:lnTo>
                    <a:lnTo>
                      <a:pt x="149" y="1628"/>
                    </a:lnTo>
                    <a:lnTo>
                      <a:pt x="121" y="1628"/>
                    </a:lnTo>
                    <a:lnTo>
                      <a:pt x="112" y="1620"/>
                    </a:lnTo>
                    <a:lnTo>
                      <a:pt x="112" y="1608"/>
                    </a:lnTo>
                    <a:lnTo>
                      <a:pt x="114" y="1598"/>
                    </a:lnTo>
                    <a:lnTo>
                      <a:pt x="121" y="1585"/>
                    </a:lnTo>
                    <a:lnTo>
                      <a:pt x="137" y="1569"/>
                    </a:lnTo>
                    <a:lnTo>
                      <a:pt x="151" y="1555"/>
                    </a:lnTo>
                    <a:lnTo>
                      <a:pt x="134" y="1551"/>
                    </a:lnTo>
                    <a:lnTo>
                      <a:pt x="117" y="1392"/>
                    </a:lnTo>
                    <a:lnTo>
                      <a:pt x="111" y="1137"/>
                    </a:lnTo>
                    <a:lnTo>
                      <a:pt x="81" y="927"/>
                    </a:lnTo>
                    <a:lnTo>
                      <a:pt x="74" y="870"/>
                    </a:lnTo>
                    <a:lnTo>
                      <a:pt x="65" y="838"/>
                    </a:lnTo>
                    <a:lnTo>
                      <a:pt x="86" y="711"/>
                    </a:lnTo>
                    <a:lnTo>
                      <a:pt x="94" y="655"/>
                    </a:lnTo>
                    <a:lnTo>
                      <a:pt x="80" y="661"/>
                    </a:lnTo>
                    <a:lnTo>
                      <a:pt x="71" y="653"/>
                    </a:lnTo>
                    <a:lnTo>
                      <a:pt x="65" y="653"/>
                    </a:lnTo>
                    <a:lnTo>
                      <a:pt x="52" y="644"/>
                    </a:lnTo>
                    <a:lnTo>
                      <a:pt x="38" y="646"/>
                    </a:lnTo>
                    <a:lnTo>
                      <a:pt x="32" y="633"/>
                    </a:lnTo>
                    <a:lnTo>
                      <a:pt x="23" y="630"/>
                    </a:lnTo>
                    <a:lnTo>
                      <a:pt x="19" y="619"/>
                    </a:lnTo>
                    <a:lnTo>
                      <a:pt x="7" y="611"/>
                    </a:lnTo>
                    <a:lnTo>
                      <a:pt x="0" y="596"/>
                    </a:lnTo>
                    <a:lnTo>
                      <a:pt x="26" y="540"/>
                    </a:lnTo>
                    <a:lnTo>
                      <a:pt x="15" y="503"/>
                    </a:lnTo>
                    <a:lnTo>
                      <a:pt x="63" y="540"/>
                    </a:lnTo>
                    <a:lnTo>
                      <a:pt x="136" y="291"/>
                    </a:lnTo>
                    <a:lnTo>
                      <a:pt x="192" y="242"/>
                    </a:lnTo>
                    <a:lnTo>
                      <a:pt x="181" y="230"/>
                    </a:lnTo>
                    <a:lnTo>
                      <a:pt x="134" y="222"/>
                    </a:lnTo>
                    <a:lnTo>
                      <a:pt x="128" y="190"/>
                    </a:lnTo>
                    <a:lnTo>
                      <a:pt x="143" y="182"/>
                    </a:lnTo>
                    <a:lnTo>
                      <a:pt x="125" y="180"/>
                    </a:lnTo>
                    <a:lnTo>
                      <a:pt x="127" y="168"/>
                    </a:lnTo>
                    <a:lnTo>
                      <a:pt x="109" y="162"/>
                    </a:lnTo>
                    <a:lnTo>
                      <a:pt x="122" y="121"/>
                    </a:lnTo>
                    <a:lnTo>
                      <a:pt x="111" y="115"/>
                    </a:lnTo>
                    <a:lnTo>
                      <a:pt x="117" y="62"/>
                    </a:lnTo>
                    <a:lnTo>
                      <a:pt x="104" y="60"/>
                    </a:lnTo>
                    <a:lnTo>
                      <a:pt x="126" y="22"/>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Freeform 130"/>
              <p:cNvSpPr/>
              <p:nvPr/>
            </p:nvSpPr>
            <p:spPr>
              <a:xfrm>
                <a:off x="5333040" y="1480320"/>
                <a:ext cx="192600" cy="910080"/>
              </a:xfrm>
              <a:custGeom>
                <a:avLst/>
                <a:gdLst>
                  <a:gd name="textAreaLeft" fmla="*/ 0 w 192600"/>
                  <a:gd name="textAreaRight" fmla="*/ 192960 w 192600"/>
                  <a:gd name="textAreaTop" fmla="*/ 0 h 910080"/>
                  <a:gd name="textAreaBottom" fmla="*/ 910440 h 910080"/>
                </a:gdLst>
                <a:ahLst/>
                <a:rect l="textAreaLeft" t="textAreaTop" r="textAreaRight" b="textAreaBottom"/>
                <a:pathLst>
                  <a:path w="363" h="1705">
                    <a:moveTo>
                      <a:pt x="235" y="26"/>
                    </a:moveTo>
                    <a:lnTo>
                      <a:pt x="150" y="1"/>
                    </a:lnTo>
                    <a:lnTo>
                      <a:pt x="88" y="0"/>
                    </a:lnTo>
                    <a:lnTo>
                      <a:pt x="31" y="15"/>
                    </a:lnTo>
                    <a:lnTo>
                      <a:pt x="9" y="73"/>
                    </a:lnTo>
                    <a:lnTo>
                      <a:pt x="9" y="125"/>
                    </a:lnTo>
                    <a:lnTo>
                      <a:pt x="42" y="185"/>
                    </a:lnTo>
                    <a:lnTo>
                      <a:pt x="65" y="183"/>
                    </a:lnTo>
                    <a:lnTo>
                      <a:pt x="30" y="252"/>
                    </a:lnTo>
                    <a:lnTo>
                      <a:pt x="0" y="365"/>
                    </a:lnTo>
                    <a:lnTo>
                      <a:pt x="0" y="463"/>
                    </a:lnTo>
                    <a:lnTo>
                      <a:pt x="9" y="587"/>
                    </a:lnTo>
                    <a:lnTo>
                      <a:pt x="31" y="709"/>
                    </a:lnTo>
                    <a:lnTo>
                      <a:pt x="74" y="716"/>
                    </a:lnTo>
                    <a:lnTo>
                      <a:pt x="74" y="752"/>
                    </a:lnTo>
                    <a:lnTo>
                      <a:pt x="95" y="768"/>
                    </a:lnTo>
                    <a:lnTo>
                      <a:pt x="95" y="890"/>
                    </a:lnTo>
                    <a:lnTo>
                      <a:pt x="118" y="914"/>
                    </a:lnTo>
                    <a:lnTo>
                      <a:pt x="118" y="1143"/>
                    </a:lnTo>
                    <a:lnTo>
                      <a:pt x="118" y="1288"/>
                    </a:lnTo>
                    <a:lnTo>
                      <a:pt x="85" y="1450"/>
                    </a:lnTo>
                    <a:lnTo>
                      <a:pt x="72" y="1657"/>
                    </a:lnTo>
                    <a:lnTo>
                      <a:pt x="108" y="1673"/>
                    </a:lnTo>
                    <a:lnTo>
                      <a:pt x="108" y="1697"/>
                    </a:lnTo>
                    <a:lnTo>
                      <a:pt x="170" y="1697"/>
                    </a:lnTo>
                    <a:lnTo>
                      <a:pt x="179" y="1688"/>
                    </a:lnTo>
                    <a:lnTo>
                      <a:pt x="204" y="1688"/>
                    </a:lnTo>
                    <a:lnTo>
                      <a:pt x="205" y="1705"/>
                    </a:lnTo>
                    <a:lnTo>
                      <a:pt x="248" y="1697"/>
                    </a:lnTo>
                    <a:lnTo>
                      <a:pt x="344" y="1688"/>
                    </a:lnTo>
                    <a:lnTo>
                      <a:pt x="344" y="1674"/>
                    </a:lnTo>
                    <a:lnTo>
                      <a:pt x="257" y="1642"/>
                    </a:lnTo>
                    <a:lnTo>
                      <a:pt x="257" y="1612"/>
                    </a:lnTo>
                    <a:lnTo>
                      <a:pt x="332" y="1598"/>
                    </a:lnTo>
                    <a:lnTo>
                      <a:pt x="332" y="1575"/>
                    </a:lnTo>
                    <a:lnTo>
                      <a:pt x="279" y="1544"/>
                    </a:lnTo>
                    <a:lnTo>
                      <a:pt x="279" y="1312"/>
                    </a:lnTo>
                    <a:lnTo>
                      <a:pt x="301" y="1100"/>
                    </a:lnTo>
                    <a:lnTo>
                      <a:pt x="293" y="886"/>
                    </a:lnTo>
                    <a:lnTo>
                      <a:pt x="290" y="768"/>
                    </a:lnTo>
                    <a:lnTo>
                      <a:pt x="299" y="730"/>
                    </a:lnTo>
                    <a:lnTo>
                      <a:pt x="299" y="564"/>
                    </a:lnTo>
                    <a:lnTo>
                      <a:pt x="362" y="526"/>
                    </a:lnTo>
                    <a:lnTo>
                      <a:pt x="363" y="503"/>
                    </a:lnTo>
                    <a:lnTo>
                      <a:pt x="225" y="276"/>
                    </a:lnTo>
                    <a:lnTo>
                      <a:pt x="160" y="246"/>
                    </a:lnTo>
                    <a:lnTo>
                      <a:pt x="169" y="231"/>
                    </a:lnTo>
                    <a:lnTo>
                      <a:pt x="214" y="223"/>
                    </a:lnTo>
                    <a:lnTo>
                      <a:pt x="214" y="208"/>
                    </a:lnTo>
                    <a:lnTo>
                      <a:pt x="225" y="201"/>
                    </a:lnTo>
                    <a:lnTo>
                      <a:pt x="225" y="185"/>
                    </a:lnTo>
                    <a:lnTo>
                      <a:pt x="235" y="177"/>
                    </a:lnTo>
                    <a:lnTo>
                      <a:pt x="225" y="169"/>
                    </a:lnTo>
                    <a:lnTo>
                      <a:pt x="234" y="163"/>
                    </a:lnTo>
                    <a:lnTo>
                      <a:pt x="214" y="125"/>
                    </a:lnTo>
                    <a:lnTo>
                      <a:pt x="225" y="102"/>
                    </a:lnTo>
                    <a:lnTo>
                      <a:pt x="214" y="79"/>
                    </a:lnTo>
                    <a:lnTo>
                      <a:pt x="234" y="64"/>
                    </a:lnTo>
                    <a:lnTo>
                      <a:pt x="235" y="26"/>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241" name="Group 131"/>
          <p:cNvGrpSpPr/>
          <p:nvPr/>
        </p:nvGrpSpPr>
        <p:grpSpPr>
          <a:xfrm>
            <a:off x="6324480" y="905040"/>
            <a:ext cx="2361960" cy="1485360"/>
            <a:chOff x="6324480" y="905040"/>
            <a:chExt cx="2361960" cy="1485360"/>
          </a:xfrm>
        </p:grpSpPr>
        <p:grpSp>
          <p:nvGrpSpPr>
            <p:cNvPr id="242" name="Group 132"/>
            <p:cNvGrpSpPr/>
            <p:nvPr/>
          </p:nvGrpSpPr>
          <p:grpSpPr>
            <a:xfrm>
              <a:off x="6470280" y="905040"/>
              <a:ext cx="1933920" cy="343080"/>
              <a:chOff x="6470280" y="905040"/>
              <a:chExt cx="1933920" cy="343080"/>
            </a:xfrm>
          </p:grpSpPr>
          <p:sp>
            <p:nvSpPr>
              <p:cNvPr id="243" name="Freeform 133"/>
              <p:cNvSpPr/>
              <p:nvPr/>
            </p:nvSpPr>
            <p:spPr>
              <a:xfrm>
                <a:off x="6644520" y="975960"/>
                <a:ext cx="44640" cy="223560"/>
              </a:xfrm>
              <a:custGeom>
                <a:avLst/>
                <a:gdLst>
                  <a:gd name="textAreaLeft" fmla="*/ 0 w 44640"/>
                  <a:gd name="textAreaRight" fmla="*/ 45000 w 44640"/>
                  <a:gd name="textAreaTop" fmla="*/ 0 h 223560"/>
                  <a:gd name="textAreaBottom" fmla="*/ 223920 h 223560"/>
                </a:gdLst>
                <a:ahLst/>
                <a:rect l="textAreaLeft" t="textAreaTop" r="textAreaRight" b="textAreaBottom"/>
                <a:pathLst>
                  <a:path w="83" h="399">
                    <a:moveTo>
                      <a:pt x="54" y="5"/>
                    </a:moveTo>
                    <a:lnTo>
                      <a:pt x="35" y="0"/>
                    </a:lnTo>
                    <a:lnTo>
                      <a:pt x="19" y="0"/>
                    </a:lnTo>
                    <a:lnTo>
                      <a:pt x="7" y="3"/>
                    </a:lnTo>
                    <a:lnTo>
                      <a:pt x="1" y="17"/>
                    </a:lnTo>
                    <a:lnTo>
                      <a:pt x="1" y="28"/>
                    </a:lnTo>
                    <a:lnTo>
                      <a:pt x="9" y="42"/>
                    </a:lnTo>
                    <a:lnTo>
                      <a:pt x="14" y="42"/>
                    </a:lnTo>
                    <a:lnTo>
                      <a:pt x="7" y="59"/>
                    </a:lnTo>
                    <a:lnTo>
                      <a:pt x="0" y="86"/>
                    </a:lnTo>
                    <a:lnTo>
                      <a:pt x="0" y="108"/>
                    </a:lnTo>
                    <a:lnTo>
                      <a:pt x="1" y="138"/>
                    </a:lnTo>
                    <a:lnTo>
                      <a:pt x="7" y="166"/>
                    </a:lnTo>
                    <a:lnTo>
                      <a:pt x="17" y="167"/>
                    </a:lnTo>
                    <a:lnTo>
                      <a:pt x="17" y="176"/>
                    </a:lnTo>
                    <a:lnTo>
                      <a:pt x="22" y="180"/>
                    </a:lnTo>
                    <a:lnTo>
                      <a:pt x="22" y="209"/>
                    </a:lnTo>
                    <a:lnTo>
                      <a:pt x="27" y="214"/>
                    </a:lnTo>
                    <a:lnTo>
                      <a:pt x="27" y="268"/>
                    </a:lnTo>
                    <a:lnTo>
                      <a:pt x="27" y="302"/>
                    </a:lnTo>
                    <a:lnTo>
                      <a:pt x="19" y="340"/>
                    </a:lnTo>
                    <a:lnTo>
                      <a:pt x="15" y="389"/>
                    </a:lnTo>
                    <a:lnTo>
                      <a:pt x="24" y="392"/>
                    </a:lnTo>
                    <a:lnTo>
                      <a:pt x="24" y="397"/>
                    </a:lnTo>
                    <a:lnTo>
                      <a:pt x="40" y="397"/>
                    </a:lnTo>
                    <a:lnTo>
                      <a:pt x="41" y="396"/>
                    </a:lnTo>
                    <a:lnTo>
                      <a:pt x="47" y="396"/>
                    </a:lnTo>
                    <a:lnTo>
                      <a:pt x="47" y="399"/>
                    </a:lnTo>
                    <a:lnTo>
                      <a:pt x="58" y="397"/>
                    </a:lnTo>
                    <a:lnTo>
                      <a:pt x="79" y="396"/>
                    </a:lnTo>
                    <a:lnTo>
                      <a:pt x="79" y="392"/>
                    </a:lnTo>
                    <a:lnTo>
                      <a:pt x="59" y="385"/>
                    </a:lnTo>
                    <a:lnTo>
                      <a:pt x="59" y="378"/>
                    </a:lnTo>
                    <a:lnTo>
                      <a:pt x="77" y="375"/>
                    </a:lnTo>
                    <a:lnTo>
                      <a:pt x="77" y="369"/>
                    </a:lnTo>
                    <a:lnTo>
                      <a:pt x="64" y="362"/>
                    </a:lnTo>
                    <a:lnTo>
                      <a:pt x="64" y="307"/>
                    </a:lnTo>
                    <a:lnTo>
                      <a:pt x="69" y="257"/>
                    </a:lnTo>
                    <a:lnTo>
                      <a:pt x="68" y="208"/>
                    </a:lnTo>
                    <a:lnTo>
                      <a:pt x="66" y="180"/>
                    </a:lnTo>
                    <a:lnTo>
                      <a:pt x="69" y="171"/>
                    </a:lnTo>
                    <a:lnTo>
                      <a:pt x="69" y="133"/>
                    </a:lnTo>
                    <a:lnTo>
                      <a:pt x="83" y="122"/>
                    </a:lnTo>
                    <a:lnTo>
                      <a:pt x="83" y="117"/>
                    </a:lnTo>
                    <a:lnTo>
                      <a:pt x="52" y="64"/>
                    </a:lnTo>
                    <a:lnTo>
                      <a:pt x="37" y="58"/>
                    </a:lnTo>
                    <a:lnTo>
                      <a:pt x="38" y="54"/>
                    </a:lnTo>
                    <a:lnTo>
                      <a:pt x="49" y="51"/>
                    </a:lnTo>
                    <a:lnTo>
                      <a:pt x="49" y="49"/>
                    </a:lnTo>
                    <a:lnTo>
                      <a:pt x="52" y="46"/>
                    </a:lnTo>
                    <a:lnTo>
                      <a:pt x="52" y="42"/>
                    </a:lnTo>
                    <a:lnTo>
                      <a:pt x="54" y="41"/>
                    </a:lnTo>
                    <a:lnTo>
                      <a:pt x="52" y="40"/>
                    </a:lnTo>
                    <a:lnTo>
                      <a:pt x="54" y="37"/>
                    </a:lnTo>
                    <a:lnTo>
                      <a:pt x="49" y="28"/>
                    </a:lnTo>
                    <a:lnTo>
                      <a:pt x="52" y="23"/>
                    </a:lnTo>
                    <a:lnTo>
                      <a:pt x="49" y="18"/>
                    </a:lnTo>
                    <a:lnTo>
                      <a:pt x="54" y="14"/>
                    </a:lnTo>
                    <a:lnTo>
                      <a:pt x="54"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Freeform 134"/>
              <p:cNvSpPr/>
              <p:nvPr/>
            </p:nvSpPr>
            <p:spPr>
              <a:xfrm>
                <a:off x="6470280" y="981360"/>
                <a:ext cx="72360" cy="255240"/>
              </a:xfrm>
              <a:custGeom>
                <a:avLst/>
                <a:gdLst>
                  <a:gd name="textAreaLeft" fmla="*/ 0 w 72360"/>
                  <a:gd name="textAreaRight" fmla="*/ 72720 w 72360"/>
                  <a:gd name="textAreaTop" fmla="*/ 0 h 255240"/>
                  <a:gd name="textAreaBottom" fmla="*/ 255600 h 255240"/>
                </a:gdLst>
                <a:ahLst/>
                <a:rect l="textAreaLeft" t="textAreaTop" r="textAreaRight" b="textAreaBottom"/>
                <a:pathLst>
                  <a:path w="137" h="453">
                    <a:moveTo>
                      <a:pt x="83" y="5"/>
                    </a:moveTo>
                    <a:lnTo>
                      <a:pt x="110" y="0"/>
                    </a:lnTo>
                    <a:lnTo>
                      <a:pt x="122" y="10"/>
                    </a:lnTo>
                    <a:lnTo>
                      <a:pt x="125" y="6"/>
                    </a:lnTo>
                    <a:lnTo>
                      <a:pt x="133" y="26"/>
                    </a:lnTo>
                    <a:lnTo>
                      <a:pt x="118" y="39"/>
                    </a:lnTo>
                    <a:lnTo>
                      <a:pt x="117" y="49"/>
                    </a:lnTo>
                    <a:lnTo>
                      <a:pt x="114" y="51"/>
                    </a:lnTo>
                    <a:lnTo>
                      <a:pt x="110" y="61"/>
                    </a:lnTo>
                    <a:lnTo>
                      <a:pt x="100" y="63"/>
                    </a:lnTo>
                    <a:lnTo>
                      <a:pt x="100" y="67"/>
                    </a:lnTo>
                    <a:lnTo>
                      <a:pt x="118" y="80"/>
                    </a:lnTo>
                    <a:lnTo>
                      <a:pt x="133" y="146"/>
                    </a:lnTo>
                    <a:lnTo>
                      <a:pt x="122" y="163"/>
                    </a:lnTo>
                    <a:lnTo>
                      <a:pt x="122" y="281"/>
                    </a:lnTo>
                    <a:lnTo>
                      <a:pt x="106" y="286"/>
                    </a:lnTo>
                    <a:lnTo>
                      <a:pt x="104" y="305"/>
                    </a:lnTo>
                    <a:lnTo>
                      <a:pt x="99" y="356"/>
                    </a:lnTo>
                    <a:lnTo>
                      <a:pt x="99" y="383"/>
                    </a:lnTo>
                    <a:lnTo>
                      <a:pt x="122" y="399"/>
                    </a:lnTo>
                    <a:lnTo>
                      <a:pt x="137" y="408"/>
                    </a:lnTo>
                    <a:lnTo>
                      <a:pt x="137" y="413"/>
                    </a:lnTo>
                    <a:lnTo>
                      <a:pt x="102" y="406"/>
                    </a:lnTo>
                    <a:lnTo>
                      <a:pt x="99" y="401"/>
                    </a:lnTo>
                    <a:lnTo>
                      <a:pt x="95" y="406"/>
                    </a:lnTo>
                    <a:lnTo>
                      <a:pt x="91" y="406"/>
                    </a:lnTo>
                    <a:lnTo>
                      <a:pt x="87" y="387"/>
                    </a:lnTo>
                    <a:lnTo>
                      <a:pt x="83" y="300"/>
                    </a:lnTo>
                    <a:lnTo>
                      <a:pt x="76" y="300"/>
                    </a:lnTo>
                    <a:lnTo>
                      <a:pt x="57" y="377"/>
                    </a:lnTo>
                    <a:lnTo>
                      <a:pt x="57" y="424"/>
                    </a:lnTo>
                    <a:lnTo>
                      <a:pt x="49" y="448"/>
                    </a:lnTo>
                    <a:lnTo>
                      <a:pt x="41" y="453"/>
                    </a:lnTo>
                    <a:lnTo>
                      <a:pt x="37" y="440"/>
                    </a:lnTo>
                    <a:lnTo>
                      <a:pt x="43" y="427"/>
                    </a:lnTo>
                    <a:lnTo>
                      <a:pt x="49" y="397"/>
                    </a:lnTo>
                    <a:lnTo>
                      <a:pt x="50" y="287"/>
                    </a:lnTo>
                    <a:lnTo>
                      <a:pt x="57" y="182"/>
                    </a:lnTo>
                    <a:lnTo>
                      <a:pt x="45" y="173"/>
                    </a:lnTo>
                    <a:lnTo>
                      <a:pt x="45" y="158"/>
                    </a:lnTo>
                    <a:lnTo>
                      <a:pt x="45" y="128"/>
                    </a:lnTo>
                    <a:lnTo>
                      <a:pt x="30" y="136"/>
                    </a:lnTo>
                    <a:lnTo>
                      <a:pt x="43" y="154"/>
                    </a:lnTo>
                    <a:lnTo>
                      <a:pt x="43" y="170"/>
                    </a:lnTo>
                    <a:lnTo>
                      <a:pt x="30" y="160"/>
                    </a:lnTo>
                    <a:lnTo>
                      <a:pt x="22" y="150"/>
                    </a:lnTo>
                    <a:lnTo>
                      <a:pt x="15" y="152"/>
                    </a:lnTo>
                    <a:lnTo>
                      <a:pt x="0" y="135"/>
                    </a:lnTo>
                    <a:lnTo>
                      <a:pt x="0" y="128"/>
                    </a:lnTo>
                    <a:lnTo>
                      <a:pt x="7" y="126"/>
                    </a:lnTo>
                    <a:lnTo>
                      <a:pt x="25" y="105"/>
                    </a:lnTo>
                    <a:lnTo>
                      <a:pt x="43" y="89"/>
                    </a:lnTo>
                    <a:lnTo>
                      <a:pt x="67" y="68"/>
                    </a:lnTo>
                    <a:lnTo>
                      <a:pt x="83" y="61"/>
                    </a:lnTo>
                    <a:lnTo>
                      <a:pt x="83" y="47"/>
                    </a:lnTo>
                    <a:lnTo>
                      <a:pt x="76" y="40"/>
                    </a:lnTo>
                    <a:lnTo>
                      <a:pt x="76" y="21"/>
                    </a:lnTo>
                    <a:lnTo>
                      <a:pt x="72" y="18"/>
                    </a:lnTo>
                    <a:lnTo>
                      <a:pt x="83"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Freeform 135"/>
              <p:cNvSpPr/>
              <p:nvPr/>
            </p:nvSpPr>
            <p:spPr>
              <a:xfrm>
                <a:off x="6759720" y="990360"/>
                <a:ext cx="51120" cy="185400"/>
              </a:xfrm>
              <a:custGeom>
                <a:avLst/>
                <a:gdLst>
                  <a:gd name="textAreaLeft" fmla="*/ 0 w 51120"/>
                  <a:gd name="textAreaRight" fmla="*/ 51480 w 51120"/>
                  <a:gd name="textAreaTop" fmla="*/ 0 h 185400"/>
                  <a:gd name="textAreaBottom" fmla="*/ 185760 h 185400"/>
                </a:gdLst>
                <a:ahLst/>
                <a:rect l="textAreaLeft" t="textAreaTop" r="textAreaRight" b="textAreaBottom"/>
                <a:pathLst>
                  <a:path w="97" h="330">
                    <a:moveTo>
                      <a:pt x="58" y="3"/>
                    </a:moveTo>
                    <a:lnTo>
                      <a:pt x="77" y="0"/>
                    </a:lnTo>
                    <a:lnTo>
                      <a:pt x="86" y="6"/>
                    </a:lnTo>
                    <a:lnTo>
                      <a:pt x="89" y="4"/>
                    </a:lnTo>
                    <a:lnTo>
                      <a:pt x="94" y="19"/>
                    </a:lnTo>
                    <a:lnTo>
                      <a:pt x="84" y="28"/>
                    </a:lnTo>
                    <a:lnTo>
                      <a:pt x="83" y="36"/>
                    </a:lnTo>
                    <a:lnTo>
                      <a:pt x="81" y="37"/>
                    </a:lnTo>
                    <a:lnTo>
                      <a:pt x="77" y="45"/>
                    </a:lnTo>
                    <a:lnTo>
                      <a:pt x="71" y="46"/>
                    </a:lnTo>
                    <a:lnTo>
                      <a:pt x="71" y="48"/>
                    </a:lnTo>
                    <a:lnTo>
                      <a:pt x="84" y="59"/>
                    </a:lnTo>
                    <a:lnTo>
                      <a:pt x="94" y="106"/>
                    </a:lnTo>
                    <a:lnTo>
                      <a:pt x="86" y="118"/>
                    </a:lnTo>
                    <a:lnTo>
                      <a:pt x="86" y="205"/>
                    </a:lnTo>
                    <a:lnTo>
                      <a:pt x="75" y="209"/>
                    </a:lnTo>
                    <a:lnTo>
                      <a:pt x="74" y="223"/>
                    </a:lnTo>
                    <a:lnTo>
                      <a:pt x="70" y="260"/>
                    </a:lnTo>
                    <a:lnTo>
                      <a:pt x="70" y="279"/>
                    </a:lnTo>
                    <a:lnTo>
                      <a:pt x="86" y="292"/>
                    </a:lnTo>
                    <a:lnTo>
                      <a:pt x="97" y="298"/>
                    </a:lnTo>
                    <a:lnTo>
                      <a:pt x="97" y="302"/>
                    </a:lnTo>
                    <a:lnTo>
                      <a:pt x="72" y="295"/>
                    </a:lnTo>
                    <a:lnTo>
                      <a:pt x="70" y="293"/>
                    </a:lnTo>
                    <a:lnTo>
                      <a:pt x="67" y="295"/>
                    </a:lnTo>
                    <a:lnTo>
                      <a:pt x="65" y="295"/>
                    </a:lnTo>
                    <a:lnTo>
                      <a:pt x="61" y="281"/>
                    </a:lnTo>
                    <a:lnTo>
                      <a:pt x="58" y="219"/>
                    </a:lnTo>
                    <a:lnTo>
                      <a:pt x="53" y="219"/>
                    </a:lnTo>
                    <a:lnTo>
                      <a:pt x="39" y="275"/>
                    </a:lnTo>
                    <a:lnTo>
                      <a:pt x="39" y="309"/>
                    </a:lnTo>
                    <a:lnTo>
                      <a:pt x="34" y="327"/>
                    </a:lnTo>
                    <a:lnTo>
                      <a:pt x="29" y="330"/>
                    </a:lnTo>
                    <a:lnTo>
                      <a:pt x="25" y="321"/>
                    </a:lnTo>
                    <a:lnTo>
                      <a:pt x="29" y="312"/>
                    </a:lnTo>
                    <a:lnTo>
                      <a:pt x="34" y="289"/>
                    </a:lnTo>
                    <a:lnTo>
                      <a:pt x="35" y="210"/>
                    </a:lnTo>
                    <a:lnTo>
                      <a:pt x="39" y="132"/>
                    </a:lnTo>
                    <a:lnTo>
                      <a:pt x="32" y="126"/>
                    </a:lnTo>
                    <a:lnTo>
                      <a:pt x="32" y="115"/>
                    </a:lnTo>
                    <a:lnTo>
                      <a:pt x="32" y="93"/>
                    </a:lnTo>
                    <a:lnTo>
                      <a:pt x="20" y="99"/>
                    </a:lnTo>
                    <a:lnTo>
                      <a:pt x="29" y="112"/>
                    </a:lnTo>
                    <a:lnTo>
                      <a:pt x="29" y="123"/>
                    </a:lnTo>
                    <a:lnTo>
                      <a:pt x="20" y="117"/>
                    </a:lnTo>
                    <a:lnTo>
                      <a:pt x="15" y="109"/>
                    </a:lnTo>
                    <a:lnTo>
                      <a:pt x="9" y="111"/>
                    </a:lnTo>
                    <a:lnTo>
                      <a:pt x="0" y="98"/>
                    </a:lnTo>
                    <a:lnTo>
                      <a:pt x="0" y="93"/>
                    </a:lnTo>
                    <a:lnTo>
                      <a:pt x="3" y="92"/>
                    </a:lnTo>
                    <a:lnTo>
                      <a:pt x="16" y="76"/>
                    </a:lnTo>
                    <a:lnTo>
                      <a:pt x="29" y="65"/>
                    </a:lnTo>
                    <a:lnTo>
                      <a:pt x="47" y="50"/>
                    </a:lnTo>
                    <a:lnTo>
                      <a:pt x="58" y="45"/>
                    </a:lnTo>
                    <a:lnTo>
                      <a:pt x="58" y="34"/>
                    </a:lnTo>
                    <a:lnTo>
                      <a:pt x="53" y="29"/>
                    </a:lnTo>
                    <a:lnTo>
                      <a:pt x="53" y="15"/>
                    </a:lnTo>
                    <a:lnTo>
                      <a:pt x="51" y="13"/>
                    </a:lnTo>
                    <a:lnTo>
                      <a:pt x="58" y="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Freeform 136"/>
              <p:cNvSpPr/>
              <p:nvPr/>
            </p:nvSpPr>
            <p:spPr>
              <a:xfrm>
                <a:off x="6847920" y="975960"/>
                <a:ext cx="43560" cy="225720"/>
              </a:xfrm>
              <a:custGeom>
                <a:avLst/>
                <a:gdLst>
                  <a:gd name="textAreaLeft" fmla="*/ 0 w 43560"/>
                  <a:gd name="textAreaRight" fmla="*/ 43920 w 43560"/>
                  <a:gd name="textAreaTop" fmla="*/ 0 h 225720"/>
                  <a:gd name="textAreaBottom" fmla="*/ 226080 h 225720"/>
                </a:gdLst>
                <a:ahLst/>
                <a:rect l="textAreaLeft" t="textAreaTop" r="textAreaRight" b="textAreaBottom"/>
                <a:pathLst>
                  <a:path w="83" h="403">
                    <a:moveTo>
                      <a:pt x="55" y="5"/>
                    </a:moveTo>
                    <a:lnTo>
                      <a:pt x="35" y="0"/>
                    </a:lnTo>
                    <a:lnTo>
                      <a:pt x="20" y="0"/>
                    </a:lnTo>
                    <a:lnTo>
                      <a:pt x="7" y="3"/>
                    </a:lnTo>
                    <a:lnTo>
                      <a:pt x="2" y="17"/>
                    </a:lnTo>
                    <a:lnTo>
                      <a:pt x="2" y="30"/>
                    </a:lnTo>
                    <a:lnTo>
                      <a:pt x="9" y="42"/>
                    </a:lnTo>
                    <a:lnTo>
                      <a:pt x="14" y="42"/>
                    </a:lnTo>
                    <a:lnTo>
                      <a:pt x="7" y="59"/>
                    </a:lnTo>
                    <a:lnTo>
                      <a:pt x="0" y="86"/>
                    </a:lnTo>
                    <a:lnTo>
                      <a:pt x="0" y="108"/>
                    </a:lnTo>
                    <a:lnTo>
                      <a:pt x="2" y="139"/>
                    </a:lnTo>
                    <a:lnTo>
                      <a:pt x="7" y="167"/>
                    </a:lnTo>
                    <a:lnTo>
                      <a:pt x="17" y="168"/>
                    </a:lnTo>
                    <a:lnTo>
                      <a:pt x="17" y="177"/>
                    </a:lnTo>
                    <a:lnTo>
                      <a:pt x="22" y="181"/>
                    </a:lnTo>
                    <a:lnTo>
                      <a:pt x="22" y="210"/>
                    </a:lnTo>
                    <a:lnTo>
                      <a:pt x="27" y="217"/>
                    </a:lnTo>
                    <a:lnTo>
                      <a:pt x="27" y="270"/>
                    </a:lnTo>
                    <a:lnTo>
                      <a:pt x="27" y="305"/>
                    </a:lnTo>
                    <a:lnTo>
                      <a:pt x="20" y="343"/>
                    </a:lnTo>
                    <a:lnTo>
                      <a:pt x="17" y="392"/>
                    </a:lnTo>
                    <a:lnTo>
                      <a:pt x="25" y="396"/>
                    </a:lnTo>
                    <a:lnTo>
                      <a:pt x="25" y="403"/>
                    </a:lnTo>
                    <a:lnTo>
                      <a:pt x="39" y="403"/>
                    </a:lnTo>
                    <a:lnTo>
                      <a:pt x="41" y="400"/>
                    </a:lnTo>
                    <a:lnTo>
                      <a:pt x="46" y="400"/>
                    </a:lnTo>
                    <a:lnTo>
                      <a:pt x="48" y="403"/>
                    </a:lnTo>
                    <a:lnTo>
                      <a:pt x="58" y="403"/>
                    </a:lnTo>
                    <a:lnTo>
                      <a:pt x="79" y="400"/>
                    </a:lnTo>
                    <a:lnTo>
                      <a:pt x="79" y="396"/>
                    </a:lnTo>
                    <a:lnTo>
                      <a:pt x="60" y="390"/>
                    </a:lnTo>
                    <a:lnTo>
                      <a:pt x="60" y="382"/>
                    </a:lnTo>
                    <a:lnTo>
                      <a:pt x="77" y="378"/>
                    </a:lnTo>
                    <a:lnTo>
                      <a:pt x="77" y="373"/>
                    </a:lnTo>
                    <a:lnTo>
                      <a:pt x="65" y="366"/>
                    </a:lnTo>
                    <a:lnTo>
                      <a:pt x="65" y="310"/>
                    </a:lnTo>
                    <a:lnTo>
                      <a:pt x="69" y="260"/>
                    </a:lnTo>
                    <a:lnTo>
                      <a:pt x="68" y="210"/>
                    </a:lnTo>
                    <a:lnTo>
                      <a:pt x="67" y="181"/>
                    </a:lnTo>
                    <a:lnTo>
                      <a:pt x="69" y="172"/>
                    </a:lnTo>
                    <a:lnTo>
                      <a:pt x="69" y="133"/>
                    </a:lnTo>
                    <a:lnTo>
                      <a:pt x="83" y="124"/>
                    </a:lnTo>
                    <a:lnTo>
                      <a:pt x="83" y="119"/>
                    </a:lnTo>
                    <a:lnTo>
                      <a:pt x="51" y="65"/>
                    </a:lnTo>
                    <a:lnTo>
                      <a:pt x="37" y="58"/>
                    </a:lnTo>
                    <a:lnTo>
                      <a:pt x="39" y="54"/>
                    </a:lnTo>
                    <a:lnTo>
                      <a:pt x="50" y="51"/>
                    </a:lnTo>
                    <a:lnTo>
                      <a:pt x="50" y="49"/>
                    </a:lnTo>
                    <a:lnTo>
                      <a:pt x="51" y="46"/>
                    </a:lnTo>
                    <a:lnTo>
                      <a:pt x="51" y="42"/>
                    </a:lnTo>
                    <a:lnTo>
                      <a:pt x="55" y="41"/>
                    </a:lnTo>
                    <a:lnTo>
                      <a:pt x="51" y="40"/>
                    </a:lnTo>
                    <a:lnTo>
                      <a:pt x="54" y="37"/>
                    </a:lnTo>
                    <a:lnTo>
                      <a:pt x="50" y="30"/>
                    </a:lnTo>
                    <a:lnTo>
                      <a:pt x="51" y="23"/>
                    </a:lnTo>
                    <a:lnTo>
                      <a:pt x="50" y="18"/>
                    </a:lnTo>
                    <a:lnTo>
                      <a:pt x="54" y="14"/>
                    </a:lnTo>
                    <a:lnTo>
                      <a:pt x="55"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47" name="Group 137"/>
              <p:cNvGrpSpPr/>
              <p:nvPr/>
            </p:nvGrpSpPr>
            <p:grpSpPr>
              <a:xfrm>
                <a:off x="7619760" y="944280"/>
                <a:ext cx="126720" cy="291240"/>
                <a:chOff x="7619760" y="944280"/>
                <a:chExt cx="126720" cy="291240"/>
              </a:xfrm>
            </p:grpSpPr>
            <p:sp>
              <p:nvSpPr>
                <p:cNvPr id="248" name="Freeform 138"/>
                <p:cNvSpPr/>
                <p:nvPr/>
              </p:nvSpPr>
              <p:spPr>
                <a:xfrm>
                  <a:off x="7664400" y="944280"/>
                  <a:ext cx="82080" cy="291240"/>
                </a:xfrm>
                <a:custGeom>
                  <a:avLst/>
                  <a:gdLst>
                    <a:gd name="textAreaLeft" fmla="*/ 0 w 82080"/>
                    <a:gd name="textAreaRight" fmla="*/ 82440 w 82080"/>
                    <a:gd name="textAreaTop" fmla="*/ 0 h 291240"/>
                    <a:gd name="textAreaBottom" fmla="*/ 291600 h 291240"/>
                  </a:gdLst>
                  <a:ahLst/>
                  <a:rect l="textAreaLeft" t="textAreaTop" r="textAreaRight" b="textAreaBottom"/>
                  <a:pathLst>
                    <a:path w="155" h="516">
                      <a:moveTo>
                        <a:pt x="62" y="6"/>
                      </a:moveTo>
                      <a:lnTo>
                        <a:pt x="31" y="0"/>
                      </a:lnTo>
                      <a:lnTo>
                        <a:pt x="20" y="12"/>
                      </a:lnTo>
                      <a:lnTo>
                        <a:pt x="14" y="7"/>
                      </a:lnTo>
                      <a:lnTo>
                        <a:pt x="6" y="30"/>
                      </a:lnTo>
                      <a:lnTo>
                        <a:pt x="22" y="45"/>
                      </a:lnTo>
                      <a:lnTo>
                        <a:pt x="23" y="57"/>
                      </a:lnTo>
                      <a:lnTo>
                        <a:pt x="27" y="58"/>
                      </a:lnTo>
                      <a:lnTo>
                        <a:pt x="31" y="70"/>
                      </a:lnTo>
                      <a:lnTo>
                        <a:pt x="43" y="72"/>
                      </a:lnTo>
                      <a:lnTo>
                        <a:pt x="43" y="76"/>
                      </a:lnTo>
                      <a:lnTo>
                        <a:pt x="22" y="92"/>
                      </a:lnTo>
                      <a:lnTo>
                        <a:pt x="6" y="166"/>
                      </a:lnTo>
                      <a:lnTo>
                        <a:pt x="20" y="185"/>
                      </a:lnTo>
                      <a:lnTo>
                        <a:pt x="20" y="322"/>
                      </a:lnTo>
                      <a:lnTo>
                        <a:pt x="35" y="327"/>
                      </a:lnTo>
                      <a:lnTo>
                        <a:pt x="39" y="348"/>
                      </a:lnTo>
                      <a:lnTo>
                        <a:pt x="45" y="406"/>
                      </a:lnTo>
                      <a:lnTo>
                        <a:pt x="45" y="437"/>
                      </a:lnTo>
                      <a:lnTo>
                        <a:pt x="20" y="457"/>
                      </a:lnTo>
                      <a:lnTo>
                        <a:pt x="2" y="465"/>
                      </a:lnTo>
                      <a:lnTo>
                        <a:pt x="0" y="472"/>
                      </a:lnTo>
                      <a:lnTo>
                        <a:pt x="40" y="463"/>
                      </a:lnTo>
                      <a:lnTo>
                        <a:pt x="45" y="457"/>
                      </a:lnTo>
                      <a:lnTo>
                        <a:pt x="49" y="463"/>
                      </a:lnTo>
                      <a:lnTo>
                        <a:pt x="53" y="463"/>
                      </a:lnTo>
                      <a:lnTo>
                        <a:pt x="58" y="441"/>
                      </a:lnTo>
                      <a:lnTo>
                        <a:pt x="62" y="342"/>
                      </a:lnTo>
                      <a:lnTo>
                        <a:pt x="69" y="342"/>
                      </a:lnTo>
                      <a:lnTo>
                        <a:pt x="91" y="430"/>
                      </a:lnTo>
                      <a:lnTo>
                        <a:pt x="91" y="483"/>
                      </a:lnTo>
                      <a:lnTo>
                        <a:pt x="100" y="511"/>
                      </a:lnTo>
                      <a:lnTo>
                        <a:pt x="109" y="516"/>
                      </a:lnTo>
                      <a:lnTo>
                        <a:pt x="113" y="502"/>
                      </a:lnTo>
                      <a:lnTo>
                        <a:pt x="108" y="487"/>
                      </a:lnTo>
                      <a:lnTo>
                        <a:pt x="100" y="453"/>
                      </a:lnTo>
                      <a:lnTo>
                        <a:pt x="99" y="329"/>
                      </a:lnTo>
                      <a:lnTo>
                        <a:pt x="92" y="207"/>
                      </a:lnTo>
                      <a:lnTo>
                        <a:pt x="105" y="197"/>
                      </a:lnTo>
                      <a:lnTo>
                        <a:pt x="105" y="179"/>
                      </a:lnTo>
                      <a:lnTo>
                        <a:pt x="105" y="146"/>
                      </a:lnTo>
                      <a:lnTo>
                        <a:pt x="122" y="155"/>
                      </a:lnTo>
                      <a:lnTo>
                        <a:pt x="108" y="176"/>
                      </a:lnTo>
                      <a:lnTo>
                        <a:pt x="108" y="194"/>
                      </a:lnTo>
                      <a:lnTo>
                        <a:pt x="123" y="183"/>
                      </a:lnTo>
                      <a:lnTo>
                        <a:pt x="132" y="170"/>
                      </a:lnTo>
                      <a:lnTo>
                        <a:pt x="139" y="174"/>
                      </a:lnTo>
                      <a:lnTo>
                        <a:pt x="155" y="152"/>
                      </a:lnTo>
                      <a:lnTo>
                        <a:pt x="155" y="146"/>
                      </a:lnTo>
                      <a:lnTo>
                        <a:pt x="147" y="143"/>
                      </a:lnTo>
                      <a:lnTo>
                        <a:pt x="128" y="120"/>
                      </a:lnTo>
                      <a:lnTo>
                        <a:pt x="108" y="101"/>
                      </a:lnTo>
                      <a:lnTo>
                        <a:pt x="81" y="77"/>
                      </a:lnTo>
                      <a:lnTo>
                        <a:pt x="62" y="70"/>
                      </a:lnTo>
                      <a:lnTo>
                        <a:pt x="62" y="54"/>
                      </a:lnTo>
                      <a:lnTo>
                        <a:pt x="69" y="45"/>
                      </a:lnTo>
                      <a:lnTo>
                        <a:pt x="69" y="25"/>
                      </a:lnTo>
                      <a:lnTo>
                        <a:pt x="74" y="21"/>
                      </a:lnTo>
                      <a:lnTo>
                        <a:pt x="62" y="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Freeform 139"/>
                <p:cNvSpPr/>
                <p:nvPr/>
              </p:nvSpPr>
              <p:spPr>
                <a:xfrm>
                  <a:off x="7619760" y="946440"/>
                  <a:ext cx="59400" cy="277560"/>
                </a:xfrm>
                <a:custGeom>
                  <a:avLst/>
                  <a:gdLst>
                    <a:gd name="textAreaLeft" fmla="*/ 0 w 59400"/>
                    <a:gd name="textAreaRight" fmla="*/ 59760 w 59400"/>
                    <a:gd name="textAreaTop" fmla="*/ 0 h 277560"/>
                    <a:gd name="textAreaBottom" fmla="*/ 277920 h 277560"/>
                  </a:gdLst>
                  <a:ahLst/>
                  <a:rect l="textAreaLeft" t="textAreaTop" r="textAreaRight" b="textAreaBottom"/>
                  <a:pathLst>
                    <a:path w="112" h="495">
                      <a:moveTo>
                        <a:pt x="87" y="9"/>
                      </a:moveTo>
                      <a:lnTo>
                        <a:pt x="87" y="22"/>
                      </a:lnTo>
                      <a:lnTo>
                        <a:pt x="84" y="26"/>
                      </a:lnTo>
                      <a:lnTo>
                        <a:pt x="89" y="36"/>
                      </a:lnTo>
                      <a:lnTo>
                        <a:pt x="87" y="38"/>
                      </a:lnTo>
                      <a:lnTo>
                        <a:pt x="87" y="42"/>
                      </a:lnTo>
                      <a:lnTo>
                        <a:pt x="84" y="56"/>
                      </a:lnTo>
                      <a:lnTo>
                        <a:pt x="84" y="57"/>
                      </a:lnTo>
                      <a:lnTo>
                        <a:pt x="103" y="71"/>
                      </a:lnTo>
                      <a:lnTo>
                        <a:pt x="112" y="174"/>
                      </a:lnTo>
                      <a:lnTo>
                        <a:pt x="101" y="192"/>
                      </a:lnTo>
                      <a:lnTo>
                        <a:pt x="106" y="247"/>
                      </a:lnTo>
                      <a:lnTo>
                        <a:pt x="98" y="253"/>
                      </a:lnTo>
                      <a:lnTo>
                        <a:pt x="94" y="340"/>
                      </a:lnTo>
                      <a:lnTo>
                        <a:pt x="88" y="429"/>
                      </a:lnTo>
                      <a:lnTo>
                        <a:pt x="91" y="434"/>
                      </a:lnTo>
                      <a:lnTo>
                        <a:pt x="111" y="449"/>
                      </a:lnTo>
                      <a:lnTo>
                        <a:pt x="108" y="453"/>
                      </a:lnTo>
                      <a:lnTo>
                        <a:pt x="101" y="456"/>
                      </a:lnTo>
                      <a:lnTo>
                        <a:pt x="89" y="453"/>
                      </a:lnTo>
                      <a:lnTo>
                        <a:pt x="78" y="447"/>
                      </a:lnTo>
                      <a:lnTo>
                        <a:pt x="68" y="443"/>
                      </a:lnTo>
                      <a:lnTo>
                        <a:pt x="68" y="458"/>
                      </a:lnTo>
                      <a:lnTo>
                        <a:pt x="64" y="458"/>
                      </a:lnTo>
                      <a:lnTo>
                        <a:pt x="71" y="472"/>
                      </a:lnTo>
                      <a:lnTo>
                        <a:pt x="68" y="493"/>
                      </a:lnTo>
                      <a:lnTo>
                        <a:pt x="60" y="495"/>
                      </a:lnTo>
                      <a:lnTo>
                        <a:pt x="48" y="479"/>
                      </a:lnTo>
                      <a:lnTo>
                        <a:pt x="48" y="466"/>
                      </a:lnTo>
                      <a:lnTo>
                        <a:pt x="45" y="463"/>
                      </a:lnTo>
                      <a:lnTo>
                        <a:pt x="40" y="351"/>
                      </a:lnTo>
                      <a:lnTo>
                        <a:pt x="45" y="340"/>
                      </a:lnTo>
                      <a:lnTo>
                        <a:pt x="31" y="264"/>
                      </a:lnTo>
                      <a:lnTo>
                        <a:pt x="23" y="261"/>
                      </a:lnTo>
                      <a:lnTo>
                        <a:pt x="20" y="182"/>
                      </a:lnTo>
                      <a:lnTo>
                        <a:pt x="0" y="173"/>
                      </a:lnTo>
                      <a:lnTo>
                        <a:pt x="8" y="88"/>
                      </a:lnTo>
                      <a:lnTo>
                        <a:pt x="41" y="65"/>
                      </a:lnTo>
                      <a:lnTo>
                        <a:pt x="48" y="57"/>
                      </a:lnTo>
                      <a:lnTo>
                        <a:pt x="48" y="50"/>
                      </a:lnTo>
                      <a:lnTo>
                        <a:pt x="46" y="43"/>
                      </a:lnTo>
                      <a:lnTo>
                        <a:pt x="42" y="40"/>
                      </a:lnTo>
                      <a:lnTo>
                        <a:pt x="38" y="33"/>
                      </a:lnTo>
                      <a:lnTo>
                        <a:pt x="37" y="27"/>
                      </a:lnTo>
                      <a:lnTo>
                        <a:pt x="37" y="22"/>
                      </a:lnTo>
                      <a:lnTo>
                        <a:pt x="38" y="14"/>
                      </a:lnTo>
                      <a:lnTo>
                        <a:pt x="43" y="8"/>
                      </a:lnTo>
                      <a:lnTo>
                        <a:pt x="48" y="3"/>
                      </a:lnTo>
                      <a:lnTo>
                        <a:pt x="56" y="0"/>
                      </a:lnTo>
                      <a:lnTo>
                        <a:pt x="64" y="0"/>
                      </a:lnTo>
                      <a:lnTo>
                        <a:pt x="71" y="0"/>
                      </a:lnTo>
                      <a:lnTo>
                        <a:pt x="78" y="3"/>
                      </a:lnTo>
                      <a:lnTo>
                        <a:pt x="87" y="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50" name="Freeform 140"/>
              <p:cNvSpPr/>
              <p:nvPr/>
            </p:nvSpPr>
            <p:spPr>
              <a:xfrm>
                <a:off x="8170200" y="964440"/>
                <a:ext cx="72360" cy="255240"/>
              </a:xfrm>
              <a:custGeom>
                <a:avLst/>
                <a:gdLst>
                  <a:gd name="textAreaLeft" fmla="*/ 0 w 72360"/>
                  <a:gd name="textAreaRight" fmla="*/ 72720 w 72360"/>
                  <a:gd name="textAreaTop" fmla="*/ 0 h 255240"/>
                  <a:gd name="textAreaBottom" fmla="*/ 255600 h 255240"/>
                </a:gdLst>
                <a:ahLst/>
                <a:rect l="textAreaLeft" t="textAreaTop" r="textAreaRight" b="textAreaBottom"/>
                <a:pathLst>
                  <a:path w="136" h="453">
                    <a:moveTo>
                      <a:pt x="83" y="5"/>
                    </a:moveTo>
                    <a:lnTo>
                      <a:pt x="110" y="0"/>
                    </a:lnTo>
                    <a:lnTo>
                      <a:pt x="121" y="10"/>
                    </a:lnTo>
                    <a:lnTo>
                      <a:pt x="125" y="7"/>
                    </a:lnTo>
                    <a:lnTo>
                      <a:pt x="133" y="27"/>
                    </a:lnTo>
                    <a:lnTo>
                      <a:pt x="117" y="40"/>
                    </a:lnTo>
                    <a:lnTo>
                      <a:pt x="116" y="50"/>
                    </a:lnTo>
                    <a:lnTo>
                      <a:pt x="113" y="51"/>
                    </a:lnTo>
                    <a:lnTo>
                      <a:pt x="110" y="61"/>
                    </a:lnTo>
                    <a:lnTo>
                      <a:pt x="99" y="64"/>
                    </a:lnTo>
                    <a:lnTo>
                      <a:pt x="99" y="68"/>
                    </a:lnTo>
                    <a:lnTo>
                      <a:pt x="117" y="80"/>
                    </a:lnTo>
                    <a:lnTo>
                      <a:pt x="133" y="147"/>
                    </a:lnTo>
                    <a:lnTo>
                      <a:pt x="121" y="163"/>
                    </a:lnTo>
                    <a:lnTo>
                      <a:pt x="121" y="282"/>
                    </a:lnTo>
                    <a:lnTo>
                      <a:pt x="106" y="287"/>
                    </a:lnTo>
                    <a:lnTo>
                      <a:pt x="103" y="306"/>
                    </a:lnTo>
                    <a:lnTo>
                      <a:pt x="98" y="357"/>
                    </a:lnTo>
                    <a:lnTo>
                      <a:pt x="98" y="383"/>
                    </a:lnTo>
                    <a:lnTo>
                      <a:pt x="121" y="400"/>
                    </a:lnTo>
                    <a:lnTo>
                      <a:pt x="136" y="409"/>
                    </a:lnTo>
                    <a:lnTo>
                      <a:pt x="136" y="414"/>
                    </a:lnTo>
                    <a:lnTo>
                      <a:pt x="102" y="406"/>
                    </a:lnTo>
                    <a:lnTo>
                      <a:pt x="98" y="401"/>
                    </a:lnTo>
                    <a:lnTo>
                      <a:pt x="94" y="406"/>
                    </a:lnTo>
                    <a:lnTo>
                      <a:pt x="91" y="406"/>
                    </a:lnTo>
                    <a:lnTo>
                      <a:pt x="87" y="387"/>
                    </a:lnTo>
                    <a:lnTo>
                      <a:pt x="83" y="301"/>
                    </a:lnTo>
                    <a:lnTo>
                      <a:pt x="75" y="301"/>
                    </a:lnTo>
                    <a:lnTo>
                      <a:pt x="56" y="377"/>
                    </a:lnTo>
                    <a:lnTo>
                      <a:pt x="56" y="424"/>
                    </a:lnTo>
                    <a:lnTo>
                      <a:pt x="48" y="448"/>
                    </a:lnTo>
                    <a:lnTo>
                      <a:pt x="41" y="453"/>
                    </a:lnTo>
                    <a:lnTo>
                      <a:pt x="37" y="441"/>
                    </a:lnTo>
                    <a:lnTo>
                      <a:pt x="42" y="428"/>
                    </a:lnTo>
                    <a:lnTo>
                      <a:pt x="48" y="397"/>
                    </a:lnTo>
                    <a:lnTo>
                      <a:pt x="50" y="288"/>
                    </a:lnTo>
                    <a:lnTo>
                      <a:pt x="56" y="182"/>
                    </a:lnTo>
                    <a:lnTo>
                      <a:pt x="45" y="173"/>
                    </a:lnTo>
                    <a:lnTo>
                      <a:pt x="45" y="158"/>
                    </a:lnTo>
                    <a:lnTo>
                      <a:pt x="45" y="129"/>
                    </a:lnTo>
                    <a:lnTo>
                      <a:pt x="29" y="136"/>
                    </a:lnTo>
                    <a:lnTo>
                      <a:pt x="42" y="154"/>
                    </a:lnTo>
                    <a:lnTo>
                      <a:pt x="42" y="171"/>
                    </a:lnTo>
                    <a:lnTo>
                      <a:pt x="29" y="161"/>
                    </a:lnTo>
                    <a:lnTo>
                      <a:pt x="22" y="150"/>
                    </a:lnTo>
                    <a:lnTo>
                      <a:pt x="14" y="153"/>
                    </a:lnTo>
                    <a:lnTo>
                      <a:pt x="0" y="135"/>
                    </a:lnTo>
                    <a:lnTo>
                      <a:pt x="0" y="129"/>
                    </a:lnTo>
                    <a:lnTo>
                      <a:pt x="6" y="126"/>
                    </a:lnTo>
                    <a:lnTo>
                      <a:pt x="24" y="106"/>
                    </a:lnTo>
                    <a:lnTo>
                      <a:pt x="42" y="89"/>
                    </a:lnTo>
                    <a:lnTo>
                      <a:pt x="66" y="69"/>
                    </a:lnTo>
                    <a:lnTo>
                      <a:pt x="83" y="61"/>
                    </a:lnTo>
                    <a:lnTo>
                      <a:pt x="83" y="47"/>
                    </a:lnTo>
                    <a:lnTo>
                      <a:pt x="75" y="41"/>
                    </a:lnTo>
                    <a:lnTo>
                      <a:pt x="75" y="22"/>
                    </a:lnTo>
                    <a:lnTo>
                      <a:pt x="71" y="18"/>
                    </a:lnTo>
                    <a:lnTo>
                      <a:pt x="83"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Freeform 141"/>
              <p:cNvSpPr/>
              <p:nvPr/>
            </p:nvSpPr>
            <p:spPr>
              <a:xfrm>
                <a:off x="8360640" y="907200"/>
                <a:ext cx="43560" cy="223560"/>
              </a:xfrm>
              <a:custGeom>
                <a:avLst/>
                <a:gdLst>
                  <a:gd name="textAreaLeft" fmla="*/ 0 w 43560"/>
                  <a:gd name="textAreaRight" fmla="*/ 43920 w 43560"/>
                  <a:gd name="textAreaTop" fmla="*/ 0 h 223560"/>
                  <a:gd name="textAreaBottom" fmla="*/ 223920 h 223560"/>
                </a:gdLst>
                <a:ahLst/>
                <a:rect l="textAreaLeft" t="textAreaTop" r="textAreaRight" b="textAreaBottom"/>
                <a:pathLst>
                  <a:path w="83" h="399">
                    <a:moveTo>
                      <a:pt x="54" y="5"/>
                    </a:moveTo>
                    <a:lnTo>
                      <a:pt x="35" y="0"/>
                    </a:lnTo>
                    <a:lnTo>
                      <a:pt x="19" y="0"/>
                    </a:lnTo>
                    <a:lnTo>
                      <a:pt x="7" y="3"/>
                    </a:lnTo>
                    <a:lnTo>
                      <a:pt x="2" y="17"/>
                    </a:lnTo>
                    <a:lnTo>
                      <a:pt x="2" y="28"/>
                    </a:lnTo>
                    <a:lnTo>
                      <a:pt x="9" y="42"/>
                    </a:lnTo>
                    <a:lnTo>
                      <a:pt x="14" y="42"/>
                    </a:lnTo>
                    <a:lnTo>
                      <a:pt x="7" y="59"/>
                    </a:lnTo>
                    <a:lnTo>
                      <a:pt x="0" y="85"/>
                    </a:lnTo>
                    <a:lnTo>
                      <a:pt x="0" y="108"/>
                    </a:lnTo>
                    <a:lnTo>
                      <a:pt x="2" y="138"/>
                    </a:lnTo>
                    <a:lnTo>
                      <a:pt x="7" y="166"/>
                    </a:lnTo>
                    <a:lnTo>
                      <a:pt x="17" y="167"/>
                    </a:lnTo>
                    <a:lnTo>
                      <a:pt x="17" y="176"/>
                    </a:lnTo>
                    <a:lnTo>
                      <a:pt x="22" y="180"/>
                    </a:lnTo>
                    <a:lnTo>
                      <a:pt x="22" y="209"/>
                    </a:lnTo>
                    <a:lnTo>
                      <a:pt x="27" y="214"/>
                    </a:lnTo>
                    <a:lnTo>
                      <a:pt x="27" y="267"/>
                    </a:lnTo>
                    <a:lnTo>
                      <a:pt x="27" y="302"/>
                    </a:lnTo>
                    <a:lnTo>
                      <a:pt x="19" y="340"/>
                    </a:lnTo>
                    <a:lnTo>
                      <a:pt x="16" y="388"/>
                    </a:lnTo>
                    <a:lnTo>
                      <a:pt x="25" y="392"/>
                    </a:lnTo>
                    <a:lnTo>
                      <a:pt x="25" y="397"/>
                    </a:lnTo>
                    <a:lnTo>
                      <a:pt x="40" y="397"/>
                    </a:lnTo>
                    <a:lnTo>
                      <a:pt x="41" y="396"/>
                    </a:lnTo>
                    <a:lnTo>
                      <a:pt x="47" y="396"/>
                    </a:lnTo>
                    <a:lnTo>
                      <a:pt x="47" y="399"/>
                    </a:lnTo>
                    <a:lnTo>
                      <a:pt x="58" y="397"/>
                    </a:lnTo>
                    <a:lnTo>
                      <a:pt x="79" y="396"/>
                    </a:lnTo>
                    <a:lnTo>
                      <a:pt x="79" y="392"/>
                    </a:lnTo>
                    <a:lnTo>
                      <a:pt x="59" y="385"/>
                    </a:lnTo>
                    <a:lnTo>
                      <a:pt x="59" y="378"/>
                    </a:lnTo>
                    <a:lnTo>
                      <a:pt x="77" y="374"/>
                    </a:lnTo>
                    <a:lnTo>
                      <a:pt x="77" y="369"/>
                    </a:lnTo>
                    <a:lnTo>
                      <a:pt x="64" y="362"/>
                    </a:lnTo>
                    <a:lnTo>
                      <a:pt x="64" y="307"/>
                    </a:lnTo>
                    <a:lnTo>
                      <a:pt x="69" y="257"/>
                    </a:lnTo>
                    <a:lnTo>
                      <a:pt x="68" y="208"/>
                    </a:lnTo>
                    <a:lnTo>
                      <a:pt x="67" y="180"/>
                    </a:lnTo>
                    <a:lnTo>
                      <a:pt x="69" y="171"/>
                    </a:lnTo>
                    <a:lnTo>
                      <a:pt x="69" y="132"/>
                    </a:lnTo>
                    <a:lnTo>
                      <a:pt x="83" y="122"/>
                    </a:lnTo>
                    <a:lnTo>
                      <a:pt x="83" y="117"/>
                    </a:lnTo>
                    <a:lnTo>
                      <a:pt x="53" y="64"/>
                    </a:lnTo>
                    <a:lnTo>
                      <a:pt x="37" y="57"/>
                    </a:lnTo>
                    <a:lnTo>
                      <a:pt x="39" y="54"/>
                    </a:lnTo>
                    <a:lnTo>
                      <a:pt x="49" y="51"/>
                    </a:lnTo>
                    <a:lnTo>
                      <a:pt x="49" y="48"/>
                    </a:lnTo>
                    <a:lnTo>
                      <a:pt x="53" y="46"/>
                    </a:lnTo>
                    <a:lnTo>
                      <a:pt x="53" y="42"/>
                    </a:lnTo>
                    <a:lnTo>
                      <a:pt x="54" y="41"/>
                    </a:lnTo>
                    <a:lnTo>
                      <a:pt x="53" y="40"/>
                    </a:lnTo>
                    <a:lnTo>
                      <a:pt x="54" y="37"/>
                    </a:lnTo>
                    <a:lnTo>
                      <a:pt x="49" y="28"/>
                    </a:lnTo>
                    <a:lnTo>
                      <a:pt x="53" y="23"/>
                    </a:lnTo>
                    <a:lnTo>
                      <a:pt x="49" y="18"/>
                    </a:lnTo>
                    <a:lnTo>
                      <a:pt x="54" y="14"/>
                    </a:lnTo>
                    <a:lnTo>
                      <a:pt x="54"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Freeform 142"/>
              <p:cNvSpPr/>
              <p:nvPr/>
            </p:nvSpPr>
            <p:spPr>
              <a:xfrm>
                <a:off x="7261200" y="905040"/>
                <a:ext cx="56160" cy="202320"/>
              </a:xfrm>
              <a:custGeom>
                <a:avLst/>
                <a:gdLst>
                  <a:gd name="textAreaLeft" fmla="*/ 0 w 56160"/>
                  <a:gd name="textAreaRight" fmla="*/ 56520 w 56160"/>
                  <a:gd name="textAreaTop" fmla="*/ 0 h 202320"/>
                  <a:gd name="textAreaBottom" fmla="*/ 202680 h 202320"/>
                </a:gdLst>
                <a:ahLst/>
                <a:rect l="textAreaLeft" t="textAreaTop" r="textAreaRight" b="textAreaBottom"/>
                <a:pathLst>
                  <a:path w="107" h="361">
                    <a:moveTo>
                      <a:pt x="65" y="4"/>
                    </a:moveTo>
                    <a:lnTo>
                      <a:pt x="87" y="0"/>
                    </a:lnTo>
                    <a:lnTo>
                      <a:pt x="95" y="8"/>
                    </a:lnTo>
                    <a:lnTo>
                      <a:pt x="98" y="4"/>
                    </a:lnTo>
                    <a:lnTo>
                      <a:pt x="104" y="21"/>
                    </a:lnTo>
                    <a:lnTo>
                      <a:pt x="93" y="31"/>
                    </a:lnTo>
                    <a:lnTo>
                      <a:pt x="92" y="40"/>
                    </a:lnTo>
                    <a:lnTo>
                      <a:pt x="89" y="40"/>
                    </a:lnTo>
                    <a:lnTo>
                      <a:pt x="87" y="49"/>
                    </a:lnTo>
                    <a:lnTo>
                      <a:pt x="78" y="50"/>
                    </a:lnTo>
                    <a:lnTo>
                      <a:pt x="78" y="54"/>
                    </a:lnTo>
                    <a:lnTo>
                      <a:pt x="93" y="64"/>
                    </a:lnTo>
                    <a:lnTo>
                      <a:pt x="104" y="116"/>
                    </a:lnTo>
                    <a:lnTo>
                      <a:pt x="95" y="130"/>
                    </a:lnTo>
                    <a:lnTo>
                      <a:pt x="95" y="224"/>
                    </a:lnTo>
                    <a:lnTo>
                      <a:pt x="83" y="228"/>
                    </a:lnTo>
                    <a:lnTo>
                      <a:pt x="81" y="243"/>
                    </a:lnTo>
                    <a:lnTo>
                      <a:pt x="78" y="284"/>
                    </a:lnTo>
                    <a:lnTo>
                      <a:pt x="78" y="306"/>
                    </a:lnTo>
                    <a:lnTo>
                      <a:pt x="95" y="318"/>
                    </a:lnTo>
                    <a:lnTo>
                      <a:pt x="107" y="326"/>
                    </a:lnTo>
                    <a:lnTo>
                      <a:pt x="107" y="330"/>
                    </a:lnTo>
                    <a:lnTo>
                      <a:pt x="80" y="324"/>
                    </a:lnTo>
                    <a:lnTo>
                      <a:pt x="78" y="320"/>
                    </a:lnTo>
                    <a:lnTo>
                      <a:pt x="74" y="324"/>
                    </a:lnTo>
                    <a:lnTo>
                      <a:pt x="71" y="324"/>
                    </a:lnTo>
                    <a:lnTo>
                      <a:pt x="69" y="308"/>
                    </a:lnTo>
                    <a:lnTo>
                      <a:pt x="65" y="240"/>
                    </a:lnTo>
                    <a:lnTo>
                      <a:pt x="58" y="240"/>
                    </a:lnTo>
                    <a:lnTo>
                      <a:pt x="43" y="301"/>
                    </a:lnTo>
                    <a:lnTo>
                      <a:pt x="43" y="338"/>
                    </a:lnTo>
                    <a:lnTo>
                      <a:pt x="38" y="357"/>
                    </a:lnTo>
                    <a:lnTo>
                      <a:pt x="32" y="361"/>
                    </a:lnTo>
                    <a:lnTo>
                      <a:pt x="29" y="352"/>
                    </a:lnTo>
                    <a:lnTo>
                      <a:pt x="33" y="341"/>
                    </a:lnTo>
                    <a:lnTo>
                      <a:pt x="38" y="316"/>
                    </a:lnTo>
                    <a:lnTo>
                      <a:pt x="38" y="229"/>
                    </a:lnTo>
                    <a:lnTo>
                      <a:pt x="43" y="145"/>
                    </a:lnTo>
                    <a:lnTo>
                      <a:pt x="34" y="138"/>
                    </a:lnTo>
                    <a:lnTo>
                      <a:pt x="34" y="125"/>
                    </a:lnTo>
                    <a:lnTo>
                      <a:pt x="34" y="102"/>
                    </a:lnTo>
                    <a:lnTo>
                      <a:pt x="23" y="108"/>
                    </a:lnTo>
                    <a:lnTo>
                      <a:pt x="33" y="122"/>
                    </a:lnTo>
                    <a:lnTo>
                      <a:pt x="33" y="135"/>
                    </a:lnTo>
                    <a:lnTo>
                      <a:pt x="23" y="128"/>
                    </a:lnTo>
                    <a:lnTo>
                      <a:pt x="16" y="120"/>
                    </a:lnTo>
                    <a:lnTo>
                      <a:pt x="10" y="121"/>
                    </a:lnTo>
                    <a:lnTo>
                      <a:pt x="0" y="107"/>
                    </a:lnTo>
                    <a:lnTo>
                      <a:pt x="0" y="102"/>
                    </a:lnTo>
                    <a:lnTo>
                      <a:pt x="4" y="100"/>
                    </a:lnTo>
                    <a:lnTo>
                      <a:pt x="19" y="84"/>
                    </a:lnTo>
                    <a:lnTo>
                      <a:pt x="33" y="70"/>
                    </a:lnTo>
                    <a:lnTo>
                      <a:pt x="52" y="55"/>
                    </a:lnTo>
                    <a:lnTo>
                      <a:pt x="65" y="49"/>
                    </a:lnTo>
                    <a:lnTo>
                      <a:pt x="65" y="37"/>
                    </a:lnTo>
                    <a:lnTo>
                      <a:pt x="58" y="32"/>
                    </a:lnTo>
                    <a:lnTo>
                      <a:pt x="58" y="17"/>
                    </a:lnTo>
                    <a:lnTo>
                      <a:pt x="56" y="14"/>
                    </a:lnTo>
                    <a:lnTo>
                      <a:pt x="65" y="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3" name="Freeform 143"/>
              <p:cNvSpPr/>
              <p:nvPr/>
            </p:nvSpPr>
            <p:spPr>
              <a:xfrm>
                <a:off x="7099200" y="958680"/>
                <a:ext cx="30600" cy="145080"/>
              </a:xfrm>
              <a:custGeom>
                <a:avLst/>
                <a:gdLst>
                  <a:gd name="textAreaLeft" fmla="*/ 0 w 30600"/>
                  <a:gd name="textAreaRight" fmla="*/ 30960 w 30600"/>
                  <a:gd name="textAreaTop" fmla="*/ 0 h 145080"/>
                  <a:gd name="textAreaBottom" fmla="*/ 145440 h 145080"/>
                </a:gdLst>
                <a:ahLst/>
                <a:rect l="textAreaLeft" t="textAreaTop" r="textAreaRight" b="textAreaBottom"/>
                <a:pathLst>
                  <a:path w="59" h="258">
                    <a:moveTo>
                      <a:pt x="45" y="5"/>
                    </a:moveTo>
                    <a:lnTo>
                      <a:pt x="45" y="11"/>
                    </a:lnTo>
                    <a:lnTo>
                      <a:pt x="45" y="13"/>
                    </a:lnTo>
                    <a:lnTo>
                      <a:pt x="47" y="18"/>
                    </a:lnTo>
                    <a:lnTo>
                      <a:pt x="45" y="19"/>
                    </a:lnTo>
                    <a:lnTo>
                      <a:pt x="46" y="22"/>
                    </a:lnTo>
                    <a:lnTo>
                      <a:pt x="43" y="28"/>
                    </a:lnTo>
                    <a:lnTo>
                      <a:pt x="43" y="31"/>
                    </a:lnTo>
                    <a:lnTo>
                      <a:pt x="54" y="37"/>
                    </a:lnTo>
                    <a:lnTo>
                      <a:pt x="59" y="90"/>
                    </a:lnTo>
                    <a:lnTo>
                      <a:pt x="52" y="99"/>
                    </a:lnTo>
                    <a:lnTo>
                      <a:pt x="55" y="129"/>
                    </a:lnTo>
                    <a:lnTo>
                      <a:pt x="51" y="132"/>
                    </a:lnTo>
                    <a:lnTo>
                      <a:pt x="50" y="178"/>
                    </a:lnTo>
                    <a:lnTo>
                      <a:pt x="46" y="224"/>
                    </a:lnTo>
                    <a:lnTo>
                      <a:pt x="47" y="227"/>
                    </a:lnTo>
                    <a:lnTo>
                      <a:pt x="57" y="236"/>
                    </a:lnTo>
                    <a:lnTo>
                      <a:pt x="56" y="237"/>
                    </a:lnTo>
                    <a:lnTo>
                      <a:pt x="52" y="238"/>
                    </a:lnTo>
                    <a:lnTo>
                      <a:pt x="46" y="237"/>
                    </a:lnTo>
                    <a:lnTo>
                      <a:pt x="41" y="233"/>
                    </a:lnTo>
                    <a:lnTo>
                      <a:pt x="36" y="232"/>
                    </a:lnTo>
                    <a:lnTo>
                      <a:pt x="36" y="239"/>
                    </a:lnTo>
                    <a:lnTo>
                      <a:pt x="33" y="239"/>
                    </a:lnTo>
                    <a:lnTo>
                      <a:pt x="37" y="247"/>
                    </a:lnTo>
                    <a:lnTo>
                      <a:pt x="36" y="257"/>
                    </a:lnTo>
                    <a:lnTo>
                      <a:pt x="32" y="258"/>
                    </a:lnTo>
                    <a:lnTo>
                      <a:pt x="26" y="250"/>
                    </a:lnTo>
                    <a:lnTo>
                      <a:pt x="26" y="243"/>
                    </a:lnTo>
                    <a:lnTo>
                      <a:pt x="23" y="242"/>
                    </a:lnTo>
                    <a:lnTo>
                      <a:pt x="21" y="183"/>
                    </a:lnTo>
                    <a:lnTo>
                      <a:pt x="23" y="177"/>
                    </a:lnTo>
                    <a:lnTo>
                      <a:pt x="17" y="137"/>
                    </a:lnTo>
                    <a:lnTo>
                      <a:pt x="13" y="136"/>
                    </a:lnTo>
                    <a:lnTo>
                      <a:pt x="10" y="95"/>
                    </a:lnTo>
                    <a:lnTo>
                      <a:pt x="0" y="90"/>
                    </a:lnTo>
                    <a:lnTo>
                      <a:pt x="4" y="46"/>
                    </a:lnTo>
                    <a:lnTo>
                      <a:pt x="22" y="34"/>
                    </a:lnTo>
                    <a:lnTo>
                      <a:pt x="26" y="31"/>
                    </a:lnTo>
                    <a:lnTo>
                      <a:pt x="26" y="25"/>
                    </a:lnTo>
                    <a:lnTo>
                      <a:pt x="24" y="23"/>
                    </a:lnTo>
                    <a:lnTo>
                      <a:pt x="22" y="20"/>
                    </a:lnTo>
                    <a:lnTo>
                      <a:pt x="21" y="17"/>
                    </a:lnTo>
                    <a:lnTo>
                      <a:pt x="19" y="14"/>
                    </a:lnTo>
                    <a:lnTo>
                      <a:pt x="19" y="10"/>
                    </a:lnTo>
                    <a:lnTo>
                      <a:pt x="21" y="8"/>
                    </a:lnTo>
                    <a:lnTo>
                      <a:pt x="23" y="4"/>
                    </a:lnTo>
                    <a:lnTo>
                      <a:pt x="26" y="1"/>
                    </a:lnTo>
                    <a:lnTo>
                      <a:pt x="29" y="0"/>
                    </a:lnTo>
                    <a:lnTo>
                      <a:pt x="33" y="0"/>
                    </a:lnTo>
                    <a:lnTo>
                      <a:pt x="37" y="0"/>
                    </a:lnTo>
                    <a:lnTo>
                      <a:pt x="41" y="1"/>
                    </a:lnTo>
                    <a:lnTo>
                      <a:pt x="45"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4" name="Freeform 144"/>
              <p:cNvSpPr/>
              <p:nvPr/>
            </p:nvSpPr>
            <p:spPr>
              <a:xfrm>
                <a:off x="7008840" y="980280"/>
                <a:ext cx="58320" cy="267840"/>
              </a:xfrm>
              <a:custGeom>
                <a:avLst/>
                <a:gdLst>
                  <a:gd name="textAreaLeft" fmla="*/ 0 w 58320"/>
                  <a:gd name="textAreaRight" fmla="*/ 58680 w 58320"/>
                  <a:gd name="textAreaTop" fmla="*/ 0 h 267840"/>
                  <a:gd name="textAreaBottom" fmla="*/ 268200 h 267840"/>
                </a:gdLst>
                <a:ahLst/>
                <a:rect l="textAreaLeft" t="textAreaTop" r="textAreaRight" b="textAreaBottom"/>
                <a:pathLst>
                  <a:path w="109" h="476">
                    <a:moveTo>
                      <a:pt x="84" y="9"/>
                    </a:moveTo>
                    <a:lnTo>
                      <a:pt x="84" y="21"/>
                    </a:lnTo>
                    <a:lnTo>
                      <a:pt x="83" y="24"/>
                    </a:lnTo>
                    <a:lnTo>
                      <a:pt x="87" y="35"/>
                    </a:lnTo>
                    <a:lnTo>
                      <a:pt x="84" y="37"/>
                    </a:lnTo>
                    <a:lnTo>
                      <a:pt x="85" y="41"/>
                    </a:lnTo>
                    <a:lnTo>
                      <a:pt x="81" y="54"/>
                    </a:lnTo>
                    <a:lnTo>
                      <a:pt x="81" y="56"/>
                    </a:lnTo>
                    <a:lnTo>
                      <a:pt x="101" y="69"/>
                    </a:lnTo>
                    <a:lnTo>
                      <a:pt x="109" y="167"/>
                    </a:lnTo>
                    <a:lnTo>
                      <a:pt x="98" y="185"/>
                    </a:lnTo>
                    <a:lnTo>
                      <a:pt x="103" y="238"/>
                    </a:lnTo>
                    <a:lnTo>
                      <a:pt x="95" y="243"/>
                    </a:lnTo>
                    <a:lnTo>
                      <a:pt x="92" y="327"/>
                    </a:lnTo>
                    <a:lnTo>
                      <a:pt x="87" y="413"/>
                    </a:lnTo>
                    <a:lnTo>
                      <a:pt x="88" y="416"/>
                    </a:lnTo>
                    <a:lnTo>
                      <a:pt x="108" y="433"/>
                    </a:lnTo>
                    <a:lnTo>
                      <a:pt x="106" y="436"/>
                    </a:lnTo>
                    <a:lnTo>
                      <a:pt x="98" y="438"/>
                    </a:lnTo>
                    <a:lnTo>
                      <a:pt x="87" y="436"/>
                    </a:lnTo>
                    <a:lnTo>
                      <a:pt x="75" y="429"/>
                    </a:lnTo>
                    <a:lnTo>
                      <a:pt x="66" y="427"/>
                    </a:lnTo>
                    <a:lnTo>
                      <a:pt x="66" y="441"/>
                    </a:lnTo>
                    <a:lnTo>
                      <a:pt x="62" y="441"/>
                    </a:lnTo>
                    <a:lnTo>
                      <a:pt x="69" y="453"/>
                    </a:lnTo>
                    <a:lnTo>
                      <a:pt x="66" y="474"/>
                    </a:lnTo>
                    <a:lnTo>
                      <a:pt x="58" y="476"/>
                    </a:lnTo>
                    <a:lnTo>
                      <a:pt x="47" y="460"/>
                    </a:lnTo>
                    <a:lnTo>
                      <a:pt x="47" y="448"/>
                    </a:lnTo>
                    <a:lnTo>
                      <a:pt x="43" y="446"/>
                    </a:lnTo>
                    <a:lnTo>
                      <a:pt x="39" y="338"/>
                    </a:lnTo>
                    <a:lnTo>
                      <a:pt x="43" y="327"/>
                    </a:lnTo>
                    <a:lnTo>
                      <a:pt x="30" y="254"/>
                    </a:lnTo>
                    <a:lnTo>
                      <a:pt x="23" y="251"/>
                    </a:lnTo>
                    <a:lnTo>
                      <a:pt x="19" y="176"/>
                    </a:lnTo>
                    <a:lnTo>
                      <a:pt x="0" y="167"/>
                    </a:lnTo>
                    <a:lnTo>
                      <a:pt x="9" y="85"/>
                    </a:lnTo>
                    <a:lnTo>
                      <a:pt x="39" y="63"/>
                    </a:lnTo>
                    <a:lnTo>
                      <a:pt x="47" y="56"/>
                    </a:lnTo>
                    <a:lnTo>
                      <a:pt x="48" y="47"/>
                    </a:lnTo>
                    <a:lnTo>
                      <a:pt x="44" y="42"/>
                    </a:lnTo>
                    <a:lnTo>
                      <a:pt x="42" y="37"/>
                    </a:lnTo>
                    <a:lnTo>
                      <a:pt x="38" y="32"/>
                    </a:lnTo>
                    <a:lnTo>
                      <a:pt x="36" y="26"/>
                    </a:lnTo>
                    <a:lnTo>
                      <a:pt x="36" y="21"/>
                    </a:lnTo>
                    <a:lnTo>
                      <a:pt x="38" y="14"/>
                    </a:lnTo>
                    <a:lnTo>
                      <a:pt x="42" y="8"/>
                    </a:lnTo>
                    <a:lnTo>
                      <a:pt x="47" y="3"/>
                    </a:lnTo>
                    <a:lnTo>
                      <a:pt x="55" y="0"/>
                    </a:lnTo>
                    <a:lnTo>
                      <a:pt x="62" y="0"/>
                    </a:lnTo>
                    <a:lnTo>
                      <a:pt x="69" y="1"/>
                    </a:lnTo>
                    <a:lnTo>
                      <a:pt x="75" y="3"/>
                    </a:lnTo>
                    <a:lnTo>
                      <a:pt x="84" y="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55" name="Group 145"/>
            <p:cNvGrpSpPr/>
            <p:nvPr/>
          </p:nvGrpSpPr>
          <p:grpSpPr>
            <a:xfrm>
              <a:off x="6766200" y="974520"/>
              <a:ext cx="1697400" cy="881280"/>
              <a:chOff x="6766200" y="974520"/>
              <a:chExt cx="1697400" cy="881280"/>
            </a:xfrm>
          </p:grpSpPr>
          <p:grpSp>
            <p:nvGrpSpPr>
              <p:cNvPr id="256" name="Group 146"/>
              <p:cNvGrpSpPr/>
              <p:nvPr/>
            </p:nvGrpSpPr>
            <p:grpSpPr>
              <a:xfrm>
                <a:off x="7765560" y="1010160"/>
                <a:ext cx="279000" cy="627840"/>
                <a:chOff x="7765560" y="1010160"/>
                <a:chExt cx="279000" cy="627840"/>
              </a:xfrm>
            </p:grpSpPr>
            <p:sp>
              <p:nvSpPr>
                <p:cNvPr id="257" name="Freeform 147"/>
                <p:cNvSpPr/>
                <p:nvPr/>
              </p:nvSpPr>
              <p:spPr>
                <a:xfrm>
                  <a:off x="7765560" y="1010160"/>
                  <a:ext cx="178560" cy="627840"/>
                </a:xfrm>
                <a:custGeom>
                  <a:avLst/>
                  <a:gdLst>
                    <a:gd name="textAreaLeft" fmla="*/ 0 w 178560"/>
                    <a:gd name="textAreaRight" fmla="*/ 178920 w 178560"/>
                    <a:gd name="textAreaTop" fmla="*/ 0 h 627840"/>
                    <a:gd name="textAreaBottom" fmla="*/ 628200 h 627840"/>
                  </a:gdLst>
                  <a:ahLst/>
                  <a:rect l="textAreaLeft" t="textAreaTop" r="textAreaRight" b="textAreaBottom"/>
                  <a:pathLst>
                    <a:path w="336" h="1115">
                      <a:moveTo>
                        <a:pt x="204" y="14"/>
                      </a:moveTo>
                      <a:lnTo>
                        <a:pt x="269" y="0"/>
                      </a:lnTo>
                      <a:lnTo>
                        <a:pt x="295" y="28"/>
                      </a:lnTo>
                      <a:lnTo>
                        <a:pt x="306" y="19"/>
                      </a:lnTo>
                      <a:lnTo>
                        <a:pt x="324" y="67"/>
                      </a:lnTo>
                      <a:lnTo>
                        <a:pt x="289" y="99"/>
                      </a:lnTo>
                      <a:lnTo>
                        <a:pt x="286" y="123"/>
                      </a:lnTo>
                      <a:lnTo>
                        <a:pt x="277" y="126"/>
                      </a:lnTo>
                      <a:lnTo>
                        <a:pt x="269" y="151"/>
                      </a:lnTo>
                      <a:lnTo>
                        <a:pt x="244" y="157"/>
                      </a:lnTo>
                      <a:lnTo>
                        <a:pt x="244" y="167"/>
                      </a:lnTo>
                      <a:lnTo>
                        <a:pt x="289" y="200"/>
                      </a:lnTo>
                      <a:lnTo>
                        <a:pt x="324" y="360"/>
                      </a:lnTo>
                      <a:lnTo>
                        <a:pt x="295" y="401"/>
                      </a:lnTo>
                      <a:lnTo>
                        <a:pt x="295" y="694"/>
                      </a:lnTo>
                      <a:lnTo>
                        <a:pt x="261" y="706"/>
                      </a:lnTo>
                      <a:lnTo>
                        <a:pt x="254" y="753"/>
                      </a:lnTo>
                      <a:lnTo>
                        <a:pt x="240" y="876"/>
                      </a:lnTo>
                      <a:lnTo>
                        <a:pt x="240" y="943"/>
                      </a:lnTo>
                      <a:lnTo>
                        <a:pt x="295" y="984"/>
                      </a:lnTo>
                      <a:lnTo>
                        <a:pt x="334" y="1004"/>
                      </a:lnTo>
                      <a:lnTo>
                        <a:pt x="336" y="1018"/>
                      </a:lnTo>
                      <a:lnTo>
                        <a:pt x="250" y="998"/>
                      </a:lnTo>
                      <a:lnTo>
                        <a:pt x="240" y="985"/>
                      </a:lnTo>
                      <a:lnTo>
                        <a:pt x="232" y="998"/>
                      </a:lnTo>
                      <a:lnTo>
                        <a:pt x="222" y="998"/>
                      </a:lnTo>
                      <a:lnTo>
                        <a:pt x="213" y="952"/>
                      </a:lnTo>
                      <a:lnTo>
                        <a:pt x="204" y="739"/>
                      </a:lnTo>
                      <a:lnTo>
                        <a:pt x="187" y="739"/>
                      </a:lnTo>
                      <a:lnTo>
                        <a:pt x="139" y="928"/>
                      </a:lnTo>
                      <a:lnTo>
                        <a:pt x="139" y="1044"/>
                      </a:lnTo>
                      <a:lnTo>
                        <a:pt x="120" y="1102"/>
                      </a:lnTo>
                      <a:lnTo>
                        <a:pt x="102" y="1115"/>
                      </a:lnTo>
                      <a:lnTo>
                        <a:pt x="92" y="1084"/>
                      </a:lnTo>
                      <a:lnTo>
                        <a:pt x="105" y="1051"/>
                      </a:lnTo>
                      <a:lnTo>
                        <a:pt x="120" y="978"/>
                      </a:lnTo>
                      <a:lnTo>
                        <a:pt x="123" y="710"/>
                      </a:lnTo>
                      <a:lnTo>
                        <a:pt x="138" y="448"/>
                      </a:lnTo>
                      <a:lnTo>
                        <a:pt x="110" y="425"/>
                      </a:lnTo>
                      <a:lnTo>
                        <a:pt x="110" y="388"/>
                      </a:lnTo>
                      <a:lnTo>
                        <a:pt x="110" y="317"/>
                      </a:lnTo>
                      <a:lnTo>
                        <a:pt x="73" y="335"/>
                      </a:lnTo>
                      <a:lnTo>
                        <a:pt x="105" y="381"/>
                      </a:lnTo>
                      <a:lnTo>
                        <a:pt x="105" y="420"/>
                      </a:lnTo>
                      <a:lnTo>
                        <a:pt x="72" y="395"/>
                      </a:lnTo>
                      <a:lnTo>
                        <a:pt x="53" y="369"/>
                      </a:lnTo>
                      <a:lnTo>
                        <a:pt x="36" y="375"/>
                      </a:lnTo>
                      <a:lnTo>
                        <a:pt x="0" y="331"/>
                      </a:lnTo>
                      <a:lnTo>
                        <a:pt x="0" y="317"/>
                      </a:lnTo>
                      <a:lnTo>
                        <a:pt x="18" y="309"/>
                      </a:lnTo>
                      <a:lnTo>
                        <a:pt x="60" y="262"/>
                      </a:lnTo>
                      <a:lnTo>
                        <a:pt x="105" y="220"/>
                      </a:lnTo>
                      <a:lnTo>
                        <a:pt x="161" y="169"/>
                      </a:lnTo>
                      <a:lnTo>
                        <a:pt x="204" y="153"/>
                      </a:lnTo>
                      <a:lnTo>
                        <a:pt x="204" y="118"/>
                      </a:lnTo>
                      <a:lnTo>
                        <a:pt x="187" y="100"/>
                      </a:lnTo>
                      <a:lnTo>
                        <a:pt x="187" y="55"/>
                      </a:lnTo>
                      <a:lnTo>
                        <a:pt x="176" y="47"/>
                      </a:lnTo>
                      <a:lnTo>
                        <a:pt x="204" y="14"/>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Freeform 148"/>
                <p:cNvSpPr/>
                <p:nvPr/>
              </p:nvSpPr>
              <p:spPr>
                <a:xfrm>
                  <a:off x="7913520" y="1014480"/>
                  <a:ext cx="131040" cy="599400"/>
                </a:xfrm>
                <a:custGeom>
                  <a:avLst/>
                  <a:gdLst>
                    <a:gd name="textAreaLeft" fmla="*/ 0 w 131040"/>
                    <a:gd name="textAreaRight" fmla="*/ 131400 w 131040"/>
                    <a:gd name="textAreaTop" fmla="*/ 0 h 599400"/>
                    <a:gd name="textAreaBottom" fmla="*/ 599760 h 599400"/>
                  </a:gdLst>
                  <a:ahLst/>
                  <a:rect l="textAreaLeft" t="textAreaTop" r="textAreaRight" b="textAreaBottom"/>
                  <a:pathLst>
                    <a:path w="246" h="1067">
                      <a:moveTo>
                        <a:pt x="57" y="21"/>
                      </a:moveTo>
                      <a:lnTo>
                        <a:pt x="57" y="47"/>
                      </a:lnTo>
                      <a:lnTo>
                        <a:pt x="61" y="55"/>
                      </a:lnTo>
                      <a:lnTo>
                        <a:pt x="51" y="77"/>
                      </a:lnTo>
                      <a:lnTo>
                        <a:pt x="57" y="83"/>
                      </a:lnTo>
                      <a:lnTo>
                        <a:pt x="56" y="91"/>
                      </a:lnTo>
                      <a:lnTo>
                        <a:pt x="63" y="120"/>
                      </a:lnTo>
                      <a:lnTo>
                        <a:pt x="63" y="125"/>
                      </a:lnTo>
                      <a:lnTo>
                        <a:pt x="20" y="153"/>
                      </a:lnTo>
                      <a:lnTo>
                        <a:pt x="0" y="375"/>
                      </a:lnTo>
                      <a:lnTo>
                        <a:pt x="26" y="413"/>
                      </a:lnTo>
                      <a:lnTo>
                        <a:pt x="15" y="534"/>
                      </a:lnTo>
                      <a:lnTo>
                        <a:pt x="32" y="546"/>
                      </a:lnTo>
                      <a:lnTo>
                        <a:pt x="40" y="733"/>
                      </a:lnTo>
                      <a:lnTo>
                        <a:pt x="54" y="923"/>
                      </a:lnTo>
                      <a:lnTo>
                        <a:pt x="49" y="935"/>
                      </a:lnTo>
                      <a:lnTo>
                        <a:pt x="5" y="969"/>
                      </a:lnTo>
                      <a:lnTo>
                        <a:pt x="9" y="975"/>
                      </a:lnTo>
                      <a:lnTo>
                        <a:pt x="26" y="983"/>
                      </a:lnTo>
                      <a:lnTo>
                        <a:pt x="52" y="975"/>
                      </a:lnTo>
                      <a:lnTo>
                        <a:pt x="77" y="963"/>
                      </a:lnTo>
                      <a:lnTo>
                        <a:pt x="97" y="955"/>
                      </a:lnTo>
                      <a:lnTo>
                        <a:pt x="97" y="987"/>
                      </a:lnTo>
                      <a:lnTo>
                        <a:pt x="106" y="988"/>
                      </a:lnTo>
                      <a:lnTo>
                        <a:pt x="91" y="1017"/>
                      </a:lnTo>
                      <a:lnTo>
                        <a:pt x="98" y="1061"/>
                      </a:lnTo>
                      <a:lnTo>
                        <a:pt x="114" y="1067"/>
                      </a:lnTo>
                      <a:lnTo>
                        <a:pt x="139" y="1030"/>
                      </a:lnTo>
                      <a:lnTo>
                        <a:pt x="139" y="1003"/>
                      </a:lnTo>
                      <a:lnTo>
                        <a:pt x="148" y="1000"/>
                      </a:lnTo>
                      <a:lnTo>
                        <a:pt x="158" y="756"/>
                      </a:lnTo>
                      <a:lnTo>
                        <a:pt x="148" y="732"/>
                      </a:lnTo>
                      <a:lnTo>
                        <a:pt x="177" y="569"/>
                      </a:lnTo>
                      <a:lnTo>
                        <a:pt x="194" y="563"/>
                      </a:lnTo>
                      <a:lnTo>
                        <a:pt x="202" y="392"/>
                      </a:lnTo>
                      <a:lnTo>
                        <a:pt x="246" y="373"/>
                      </a:lnTo>
                      <a:lnTo>
                        <a:pt x="227" y="190"/>
                      </a:lnTo>
                      <a:lnTo>
                        <a:pt x="157" y="142"/>
                      </a:lnTo>
                      <a:lnTo>
                        <a:pt x="139" y="124"/>
                      </a:lnTo>
                      <a:lnTo>
                        <a:pt x="139" y="107"/>
                      </a:lnTo>
                      <a:lnTo>
                        <a:pt x="145" y="94"/>
                      </a:lnTo>
                      <a:lnTo>
                        <a:pt x="153" y="84"/>
                      </a:lnTo>
                      <a:lnTo>
                        <a:pt x="161" y="72"/>
                      </a:lnTo>
                      <a:lnTo>
                        <a:pt x="165" y="59"/>
                      </a:lnTo>
                      <a:lnTo>
                        <a:pt x="165" y="46"/>
                      </a:lnTo>
                      <a:lnTo>
                        <a:pt x="161" y="32"/>
                      </a:lnTo>
                      <a:lnTo>
                        <a:pt x="152" y="18"/>
                      </a:lnTo>
                      <a:lnTo>
                        <a:pt x="139" y="7"/>
                      </a:lnTo>
                      <a:lnTo>
                        <a:pt x="124" y="0"/>
                      </a:lnTo>
                      <a:lnTo>
                        <a:pt x="107" y="0"/>
                      </a:lnTo>
                      <a:lnTo>
                        <a:pt x="91" y="2"/>
                      </a:lnTo>
                      <a:lnTo>
                        <a:pt x="77" y="7"/>
                      </a:lnTo>
                      <a:lnTo>
                        <a:pt x="57" y="2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59" name="Freeform 149"/>
              <p:cNvSpPr/>
              <p:nvPr/>
            </p:nvSpPr>
            <p:spPr>
              <a:xfrm>
                <a:off x="8314920" y="1113120"/>
                <a:ext cx="148680" cy="742680"/>
              </a:xfrm>
              <a:custGeom>
                <a:avLst/>
                <a:gdLst>
                  <a:gd name="textAreaLeft" fmla="*/ 0 w 148680"/>
                  <a:gd name="textAreaRight" fmla="*/ 149040 w 148680"/>
                  <a:gd name="textAreaTop" fmla="*/ 0 h 742680"/>
                  <a:gd name="textAreaBottom" fmla="*/ 743040 h 742680"/>
                </a:gdLst>
                <a:ahLst/>
                <a:rect l="textAreaLeft" t="textAreaTop" r="textAreaRight" b="textAreaBottom"/>
                <a:pathLst>
                  <a:path w="279" h="1320">
                    <a:moveTo>
                      <a:pt x="98" y="19"/>
                    </a:moveTo>
                    <a:lnTo>
                      <a:pt x="163" y="0"/>
                    </a:lnTo>
                    <a:lnTo>
                      <a:pt x="212" y="0"/>
                    </a:lnTo>
                    <a:lnTo>
                      <a:pt x="255" y="11"/>
                    </a:lnTo>
                    <a:lnTo>
                      <a:pt x="273" y="56"/>
                    </a:lnTo>
                    <a:lnTo>
                      <a:pt x="273" y="95"/>
                    </a:lnTo>
                    <a:lnTo>
                      <a:pt x="247" y="142"/>
                    </a:lnTo>
                    <a:lnTo>
                      <a:pt x="229" y="141"/>
                    </a:lnTo>
                    <a:lnTo>
                      <a:pt x="256" y="194"/>
                    </a:lnTo>
                    <a:lnTo>
                      <a:pt x="279" y="282"/>
                    </a:lnTo>
                    <a:lnTo>
                      <a:pt x="279" y="360"/>
                    </a:lnTo>
                    <a:lnTo>
                      <a:pt x="273" y="455"/>
                    </a:lnTo>
                    <a:lnTo>
                      <a:pt x="255" y="550"/>
                    </a:lnTo>
                    <a:lnTo>
                      <a:pt x="223" y="555"/>
                    </a:lnTo>
                    <a:lnTo>
                      <a:pt x="223" y="584"/>
                    </a:lnTo>
                    <a:lnTo>
                      <a:pt x="206" y="595"/>
                    </a:lnTo>
                    <a:lnTo>
                      <a:pt x="206" y="690"/>
                    </a:lnTo>
                    <a:lnTo>
                      <a:pt x="189" y="709"/>
                    </a:lnTo>
                    <a:lnTo>
                      <a:pt x="189" y="886"/>
                    </a:lnTo>
                    <a:lnTo>
                      <a:pt x="189" y="998"/>
                    </a:lnTo>
                    <a:lnTo>
                      <a:pt x="214" y="1124"/>
                    </a:lnTo>
                    <a:lnTo>
                      <a:pt x="223" y="1284"/>
                    </a:lnTo>
                    <a:lnTo>
                      <a:pt x="196" y="1297"/>
                    </a:lnTo>
                    <a:lnTo>
                      <a:pt x="196" y="1315"/>
                    </a:lnTo>
                    <a:lnTo>
                      <a:pt x="148" y="1315"/>
                    </a:lnTo>
                    <a:lnTo>
                      <a:pt x="141" y="1308"/>
                    </a:lnTo>
                    <a:lnTo>
                      <a:pt x="122" y="1308"/>
                    </a:lnTo>
                    <a:lnTo>
                      <a:pt x="121" y="1320"/>
                    </a:lnTo>
                    <a:lnTo>
                      <a:pt x="88" y="1315"/>
                    </a:lnTo>
                    <a:lnTo>
                      <a:pt x="14" y="1308"/>
                    </a:lnTo>
                    <a:lnTo>
                      <a:pt x="14" y="1297"/>
                    </a:lnTo>
                    <a:lnTo>
                      <a:pt x="81" y="1273"/>
                    </a:lnTo>
                    <a:lnTo>
                      <a:pt x="81" y="1248"/>
                    </a:lnTo>
                    <a:lnTo>
                      <a:pt x="23" y="1238"/>
                    </a:lnTo>
                    <a:lnTo>
                      <a:pt x="23" y="1220"/>
                    </a:lnTo>
                    <a:lnTo>
                      <a:pt x="64" y="1196"/>
                    </a:lnTo>
                    <a:lnTo>
                      <a:pt x="64" y="1017"/>
                    </a:lnTo>
                    <a:lnTo>
                      <a:pt x="47" y="853"/>
                    </a:lnTo>
                    <a:lnTo>
                      <a:pt x="53" y="687"/>
                    </a:lnTo>
                    <a:lnTo>
                      <a:pt x="55" y="595"/>
                    </a:lnTo>
                    <a:lnTo>
                      <a:pt x="48" y="566"/>
                    </a:lnTo>
                    <a:lnTo>
                      <a:pt x="48" y="438"/>
                    </a:lnTo>
                    <a:lnTo>
                      <a:pt x="0" y="408"/>
                    </a:lnTo>
                    <a:lnTo>
                      <a:pt x="0" y="390"/>
                    </a:lnTo>
                    <a:lnTo>
                      <a:pt x="106" y="214"/>
                    </a:lnTo>
                    <a:lnTo>
                      <a:pt x="155" y="189"/>
                    </a:lnTo>
                    <a:lnTo>
                      <a:pt x="149" y="178"/>
                    </a:lnTo>
                    <a:lnTo>
                      <a:pt x="115" y="172"/>
                    </a:lnTo>
                    <a:lnTo>
                      <a:pt x="115" y="160"/>
                    </a:lnTo>
                    <a:lnTo>
                      <a:pt x="106" y="155"/>
                    </a:lnTo>
                    <a:lnTo>
                      <a:pt x="106" y="142"/>
                    </a:lnTo>
                    <a:lnTo>
                      <a:pt x="98" y="136"/>
                    </a:lnTo>
                    <a:lnTo>
                      <a:pt x="106" y="131"/>
                    </a:lnTo>
                    <a:lnTo>
                      <a:pt x="98" y="126"/>
                    </a:lnTo>
                    <a:lnTo>
                      <a:pt x="115" y="95"/>
                    </a:lnTo>
                    <a:lnTo>
                      <a:pt x="106" y="79"/>
                    </a:lnTo>
                    <a:lnTo>
                      <a:pt x="115" y="61"/>
                    </a:lnTo>
                    <a:lnTo>
                      <a:pt x="98" y="48"/>
                    </a:lnTo>
                    <a:lnTo>
                      <a:pt x="98" y="19"/>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0" name="Freeform 150"/>
              <p:cNvSpPr/>
              <p:nvPr/>
            </p:nvSpPr>
            <p:spPr>
              <a:xfrm>
                <a:off x="6766200" y="1107000"/>
                <a:ext cx="109440" cy="397080"/>
              </a:xfrm>
              <a:custGeom>
                <a:avLst/>
                <a:gdLst>
                  <a:gd name="textAreaLeft" fmla="*/ 0 w 109440"/>
                  <a:gd name="textAreaRight" fmla="*/ 109800 w 109440"/>
                  <a:gd name="textAreaTop" fmla="*/ 0 h 397080"/>
                  <a:gd name="textAreaBottom" fmla="*/ 397440 h 397080"/>
                </a:gdLst>
                <a:ahLst/>
                <a:rect l="textAreaLeft" t="textAreaTop" r="textAreaRight" b="textAreaBottom"/>
                <a:pathLst>
                  <a:path w="207" h="705">
                    <a:moveTo>
                      <a:pt x="104" y="5"/>
                    </a:moveTo>
                    <a:lnTo>
                      <a:pt x="81" y="9"/>
                    </a:lnTo>
                    <a:lnTo>
                      <a:pt x="71" y="34"/>
                    </a:lnTo>
                    <a:lnTo>
                      <a:pt x="71" y="47"/>
                    </a:lnTo>
                    <a:lnTo>
                      <a:pt x="81" y="47"/>
                    </a:lnTo>
                    <a:lnTo>
                      <a:pt x="77" y="52"/>
                    </a:lnTo>
                    <a:lnTo>
                      <a:pt x="81" y="55"/>
                    </a:lnTo>
                    <a:lnTo>
                      <a:pt x="83" y="66"/>
                    </a:lnTo>
                    <a:lnTo>
                      <a:pt x="86" y="69"/>
                    </a:lnTo>
                    <a:lnTo>
                      <a:pt x="93" y="90"/>
                    </a:lnTo>
                    <a:lnTo>
                      <a:pt x="93" y="95"/>
                    </a:lnTo>
                    <a:lnTo>
                      <a:pt x="83" y="95"/>
                    </a:lnTo>
                    <a:lnTo>
                      <a:pt x="67" y="122"/>
                    </a:lnTo>
                    <a:lnTo>
                      <a:pt x="36" y="131"/>
                    </a:lnTo>
                    <a:lnTo>
                      <a:pt x="22" y="153"/>
                    </a:lnTo>
                    <a:lnTo>
                      <a:pt x="7" y="346"/>
                    </a:lnTo>
                    <a:lnTo>
                      <a:pt x="13" y="349"/>
                    </a:lnTo>
                    <a:lnTo>
                      <a:pt x="0" y="383"/>
                    </a:lnTo>
                    <a:lnTo>
                      <a:pt x="7" y="405"/>
                    </a:lnTo>
                    <a:lnTo>
                      <a:pt x="13" y="405"/>
                    </a:lnTo>
                    <a:lnTo>
                      <a:pt x="17" y="408"/>
                    </a:lnTo>
                    <a:lnTo>
                      <a:pt x="22" y="408"/>
                    </a:lnTo>
                    <a:lnTo>
                      <a:pt x="20" y="388"/>
                    </a:lnTo>
                    <a:lnTo>
                      <a:pt x="22" y="375"/>
                    </a:lnTo>
                    <a:lnTo>
                      <a:pt x="26" y="385"/>
                    </a:lnTo>
                    <a:lnTo>
                      <a:pt x="22" y="392"/>
                    </a:lnTo>
                    <a:lnTo>
                      <a:pt x="26" y="397"/>
                    </a:lnTo>
                    <a:lnTo>
                      <a:pt x="34" y="380"/>
                    </a:lnTo>
                    <a:lnTo>
                      <a:pt x="28" y="352"/>
                    </a:lnTo>
                    <a:lnTo>
                      <a:pt x="40" y="354"/>
                    </a:lnTo>
                    <a:lnTo>
                      <a:pt x="34" y="528"/>
                    </a:lnTo>
                    <a:lnTo>
                      <a:pt x="68" y="538"/>
                    </a:lnTo>
                    <a:lnTo>
                      <a:pt x="83" y="640"/>
                    </a:lnTo>
                    <a:lnTo>
                      <a:pt x="81" y="650"/>
                    </a:lnTo>
                    <a:lnTo>
                      <a:pt x="73" y="694"/>
                    </a:lnTo>
                    <a:lnTo>
                      <a:pt x="73" y="701"/>
                    </a:lnTo>
                    <a:lnTo>
                      <a:pt x="97" y="705"/>
                    </a:lnTo>
                    <a:lnTo>
                      <a:pt x="106" y="694"/>
                    </a:lnTo>
                    <a:lnTo>
                      <a:pt x="101" y="655"/>
                    </a:lnTo>
                    <a:lnTo>
                      <a:pt x="97" y="630"/>
                    </a:lnTo>
                    <a:lnTo>
                      <a:pt x="107" y="542"/>
                    </a:lnTo>
                    <a:lnTo>
                      <a:pt x="110" y="543"/>
                    </a:lnTo>
                    <a:lnTo>
                      <a:pt x="120" y="575"/>
                    </a:lnTo>
                    <a:lnTo>
                      <a:pt x="114" y="627"/>
                    </a:lnTo>
                    <a:lnTo>
                      <a:pt x="106" y="632"/>
                    </a:lnTo>
                    <a:lnTo>
                      <a:pt x="120" y="687"/>
                    </a:lnTo>
                    <a:lnTo>
                      <a:pt x="143" y="694"/>
                    </a:lnTo>
                    <a:lnTo>
                      <a:pt x="148" y="688"/>
                    </a:lnTo>
                    <a:lnTo>
                      <a:pt x="130" y="632"/>
                    </a:lnTo>
                    <a:lnTo>
                      <a:pt x="157" y="538"/>
                    </a:lnTo>
                    <a:lnTo>
                      <a:pt x="170" y="531"/>
                    </a:lnTo>
                    <a:lnTo>
                      <a:pt x="170" y="524"/>
                    </a:lnTo>
                    <a:lnTo>
                      <a:pt x="194" y="525"/>
                    </a:lnTo>
                    <a:lnTo>
                      <a:pt x="202" y="538"/>
                    </a:lnTo>
                    <a:lnTo>
                      <a:pt x="207" y="531"/>
                    </a:lnTo>
                    <a:lnTo>
                      <a:pt x="184" y="360"/>
                    </a:lnTo>
                    <a:lnTo>
                      <a:pt x="188" y="360"/>
                    </a:lnTo>
                    <a:lnTo>
                      <a:pt x="188" y="326"/>
                    </a:lnTo>
                    <a:lnTo>
                      <a:pt x="190" y="321"/>
                    </a:lnTo>
                    <a:lnTo>
                      <a:pt x="184" y="237"/>
                    </a:lnTo>
                    <a:lnTo>
                      <a:pt x="178" y="137"/>
                    </a:lnTo>
                    <a:lnTo>
                      <a:pt x="138" y="117"/>
                    </a:lnTo>
                    <a:lnTo>
                      <a:pt x="127" y="95"/>
                    </a:lnTo>
                    <a:lnTo>
                      <a:pt x="137" y="76"/>
                    </a:lnTo>
                    <a:lnTo>
                      <a:pt x="143" y="77"/>
                    </a:lnTo>
                    <a:lnTo>
                      <a:pt x="148" y="69"/>
                    </a:lnTo>
                    <a:lnTo>
                      <a:pt x="148" y="58"/>
                    </a:lnTo>
                    <a:lnTo>
                      <a:pt x="157" y="57"/>
                    </a:lnTo>
                    <a:lnTo>
                      <a:pt x="161" y="28"/>
                    </a:lnTo>
                    <a:lnTo>
                      <a:pt x="151" y="9"/>
                    </a:lnTo>
                    <a:lnTo>
                      <a:pt x="141" y="1"/>
                    </a:lnTo>
                    <a:lnTo>
                      <a:pt x="125" y="1"/>
                    </a:lnTo>
                    <a:lnTo>
                      <a:pt x="115" y="0"/>
                    </a:lnTo>
                    <a:lnTo>
                      <a:pt x="104" y="5"/>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Freeform 151"/>
              <p:cNvSpPr/>
              <p:nvPr/>
            </p:nvSpPr>
            <p:spPr>
              <a:xfrm>
                <a:off x="7544160" y="1013760"/>
                <a:ext cx="78480" cy="394920"/>
              </a:xfrm>
              <a:custGeom>
                <a:avLst/>
                <a:gdLst>
                  <a:gd name="textAreaLeft" fmla="*/ 0 w 78480"/>
                  <a:gd name="textAreaRight" fmla="*/ 78840 w 78480"/>
                  <a:gd name="textAreaTop" fmla="*/ 0 h 394920"/>
                  <a:gd name="textAreaBottom" fmla="*/ 395280 h 394920"/>
                </a:gdLst>
                <a:ahLst/>
                <a:rect l="textAreaLeft" t="textAreaTop" r="textAreaRight" b="textAreaBottom"/>
                <a:pathLst>
                  <a:path w="148" h="703">
                    <a:moveTo>
                      <a:pt x="51" y="9"/>
                    </a:moveTo>
                    <a:lnTo>
                      <a:pt x="86" y="0"/>
                    </a:lnTo>
                    <a:lnTo>
                      <a:pt x="112" y="0"/>
                    </a:lnTo>
                    <a:lnTo>
                      <a:pt x="136" y="5"/>
                    </a:lnTo>
                    <a:lnTo>
                      <a:pt x="145" y="29"/>
                    </a:lnTo>
                    <a:lnTo>
                      <a:pt x="145" y="51"/>
                    </a:lnTo>
                    <a:lnTo>
                      <a:pt x="131" y="75"/>
                    </a:lnTo>
                    <a:lnTo>
                      <a:pt x="122" y="75"/>
                    </a:lnTo>
                    <a:lnTo>
                      <a:pt x="136" y="103"/>
                    </a:lnTo>
                    <a:lnTo>
                      <a:pt x="148" y="150"/>
                    </a:lnTo>
                    <a:lnTo>
                      <a:pt x="148" y="190"/>
                    </a:lnTo>
                    <a:lnTo>
                      <a:pt x="145" y="242"/>
                    </a:lnTo>
                    <a:lnTo>
                      <a:pt x="136" y="292"/>
                    </a:lnTo>
                    <a:lnTo>
                      <a:pt x="118" y="294"/>
                    </a:lnTo>
                    <a:lnTo>
                      <a:pt x="118" y="309"/>
                    </a:lnTo>
                    <a:lnTo>
                      <a:pt x="109" y="316"/>
                    </a:lnTo>
                    <a:lnTo>
                      <a:pt x="109" y="367"/>
                    </a:lnTo>
                    <a:lnTo>
                      <a:pt x="99" y="377"/>
                    </a:lnTo>
                    <a:lnTo>
                      <a:pt x="99" y="472"/>
                    </a:lnTo>
                    <a:lnTo>
                      <a:pt x="99" y="532"/>
                    </a:lnTo>
                    <a:lnTo>
                      <a:pt x="113" y="598"/>
                    </a:lnTo>
                    <a:lnTo>
                      <a:pt x="118" y="685"/>
                    </a:lnTo>
                    <a:lnTo>
                      <a:pt x="104" y="691"/>
                    </a:lnTo>
                    <a:lnTo>
                      <a:pt x="104" y="701"/>
                    </a:lnTo>
                    <a:lnTo>
                      <a:pt x="79" y="701"/>
                    </a:lnTo>
                    <a:lnTo>
                      <a:pt x="75" y="698"/>
                    </a:lnTo>
                    <a:lnTo>
                      <a:pt x="65" y="698"/>
                    </a:lnTo>
                    <a:lnTo>
                      <a:pt x="64" y="703"/>
                    </a:lnTo>
                    <a:lnTo>
                      <a:pt x="46" y="701"/>
                    </a:lnTo>
                    <a:lnTo>
                      <a:pt x="7" y="698"/>
                    </a:lnTo>
                    <a:lnTo>
                      <a:pt x="7" y="691"/>
                    </a:lnTo>
                    <a:lnTo>
                      <a:pt x="42" y="678"/>
                    </a:lnTo>
                    <a:lnTo>
                      <a:pt x="42" y="666"/>
                    </a:lnTo>
                    <a:lnTo>
                      <a:pt x="11" y="659"/>
                    </a:lnTo>
                    <a:lnTo>
                      <a:pt x="11" y="650"/>
                    </a:lnTo>
                    <a:lnTo>
                      <a:pt x="33" y="638"/>
                    </a:lnTo>
                    <a:lnTo>
                      <a:pt x="33" y="541"/>
                    </a:lnTo>
                    <a:lnTo>
                      <a:pt x="25" y="453"/>
                    </a:lnTo>
                    <a:lnTo>
                      <a:pt x="28" y="365"/>
                    </a:lnTo>
                    <a:lnTo>
                      <a:pt x="29" y="316"/>
                    </a:lnTo>
                    <a:lnTo>
                      <a:pt x="25" y="300"/>
                    </a:lnTo>
                    <a:lnTo>
                      <a:pt x="25" y="232"/>
                    </a:lnTo>
                    <a:lnTo>
                      <a:pt x="0" y="216"/>
                    </a:lnTo>
                    <a:lnTo>
                      <a:pt x="0" y="208"/>
                    </a:lnTo>
                    <a:lnTo>
                      <a:pt x="56" y="113"/>
                    </a:lnTo>
                    <a:lnTo>
                      <a:pt x="83" y="101"/>
                    </a:lnTo>
                    <a:lnTo>
                      <a:pt x="79" y="94"/>
                    </a:lnTo>
                    <a:lnTo>
                      <a:pt x="60" y="90"/>
                    </a:lnTo>
                    <a:lnTo>
                      <a:pt x="60" y="85"/>
                    </a:lnTo>
                    <a:lnTo>
                      <a:pt x="56" y="81"/>
                    </a:lnTo>
                    <a:lnTo>
                      <a:pt x="56" y="75"/>
                    </a:lnTo>
                    <a:lnTo>
                      <a:pt x="51" y="73"/>
                    </a:lnTo>
                    <a:lnTo>
                      <a:pt x="56" y="69"/>
                    </a:lnTo>
                    <a:lnTo>
                      <a:pt x="52" y="66"/>
                    </a:lnTo>
                    <a:lnTo>
                      <a:pt x="60" y="51"/>
                    </a:lnTo>
                    <a:lnTo>
                      <a:pt x="56" y="41"/>
                    </a:lnTo>
                    <a:lnTo>
                      <a:pt x="60" y="32"/>
                    </a:lnTo>
                    <a:lnTo>
                      <a:pt x="52" y="25"/>
                    </a:lnTo>
                    <a:lnTo>
                      <a:pt x="51" y="9"/>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Freeform 152"/>
              <p:cNvSpPr/>
              <p:nvPr/>
            </p:nvSpPr>
            <p:spPr>
              <a:xfrm>
                <a:off x="7431480" y="974520"/>
                <a:ext cx="105120" cy="353520"/>
              </a:xfrm>
              <a:custGeom>
                <a:avLst/>
                <a:gdLst>
                  <a:gd name="textAreaLeft" fmla="*/ 0 w 105120"/>
                  <a:gd name="textAreaRight" fmla="*/ 105480 w 105120"/>
                  <a:gd name="textAreaTop" fmla="*/ 0 h 353520"/>
                  <a:gd name="textAreaBottom" fmla="*/ 353880 h 353520"/>
                </a:gdLst>
                <a:ahLst/>
                <a:rect l="textAreaLeft" t="textAreaTop" r="textAreaRight" b="textAreaBottom"/>
                <a:pathLst>
                  <a:path w="197" h="629">
                    <a:moveTo>
                      <a:pt x="98" y="4"/>
                    </a:moveTo>
                    <a:lnTo>
                      <a:pt x="121" y="8"/>
                    </a:lnTo>
                    <a:lnTo>
                      <a:pt x="130" y="32"/>
                    </a:lnTo>
                    <a:lnTo>
                      <a:pt x="130" y="42"/>
                    </a:lnTo>
                    <a:lnTo>
                      <a:pt x="120" y="42"/>
                    </a:lnTo>
                    <a:lnTo>
                      <a:pt x="124" y="46"/>
                    </a:lnTo>
                    <a:lnTo>
                      <a:pt x="121" y="48"/>
                    </a:lnTo>
                    <a:lnTo>
                      <a:pt x="118" y="59"/>
                    </a:lnTo>
                    <a:lnTo>
                      <a:pt x="115" y="61"/>
                    </a:lnTo>
                    <a:lnTo>
                      <a:pt x="108" y="80"/>
                    </a:lnTo>
                    <a:lnTo>
                      <a:pt x="108" y="84"/>
                    </a:lnTo>
                    <a:lnTo>
                      <a:pt x="118" y="84"/>
                    </a:lnTo>
                    <a:lnTo>
                      <a:pt x="134" y="108"/>
                    </a:lnTo>
                    <a:lnTo>
                      <a:pt x="163" y="117"/>
                    </a:lnTo>
                    <a:lnTo>
                      <a:pt x="176" y="136"/>
                    </a:lnTo>
                    <a:lnTo>
                      <a:pt x="191" y="308"/>
                    </a:lnTo>
                    <a:lnTo>
                      <a:pt x="185" y="311"/>
                    </a:lnTo>
                    <a:lnTo>
                      <a:pt x="197" y="340"/>
                    </a:lnTo>
                    <a:lnTo>
                      <a:pt x="191" y="359"/>
                    </a:lnTo>
                    <a:lnTo>
                      <a:pt x="185" y="359"/>
                    </a:lnTo>
                    <a:lnTo>
                      <a:pt x="182" y="364"/>
                    </a:lnTo>
                    <a:lnTo>
                      <a:pt x="176" y="364"/>
                    </a:lnTo>
                    <a:lnTo>
                      <a:pt x="178" y="345"/>
                    </a:lnTo>
                    <a:lnTo>
                      <a:pt x="176" y="334"/>
                    </a:lnTo>
                    <a:lnTo>
                      <a:pt x="173" y="342"/>
                    </a:lnTo>
                    <a:lnTo>
                      <a:pt x="176" y="349"/>
                    </a:lnTo>
                    <a:lnTo>
                      <a:pt x="172" y="353"/>
                    </a:lnTo>
                    <a:lnTo>
                      <a:pt x="166" y="339"/>
                    </a:lnTo>
                    <a:lnTo>
                      <a:pt x="169" y="313"/>
                    </a:lnTo>
                    <a:lnTo>
                      <a:pt x="159" y="314"/>
                    </a:lnTo>
                    <a:lnTo>
                      <a:pt x="166" y="471"/>
                    </a:lnTo>
                    <a:lnTo>
                      <a:pt x="132" y="479"/>
                    </a:lnTo>
                    <a:lnTo>
                      <a:pt x="118" y="570"/>
                    </a:lnTo>
                    <a:lnTo>
                      <a:pt x="121" y="580"/>
                    </a:lnTo>
                    <a:lnTo>
                      <a:pt x="127" y="619"/>
                    </a:lnTo>
                    <a:lnTo>
                      <a:pt x="127" y="625"/>
                    </a:lnTo>
                    <a:lnTo>
                      <a:pt x="104" y="629"/>
                    </a:lnTo>
                    <a:lnTo>
                      <a:pt x="95" y="619"/>
                    </a:lnTo>
                    <a:lnTo>
                      <a:pt x="101" y="586"/>
                    </a:lnTo>
                    <a:lnTo>
                      <a:pt x="104" y="561"/>
                    </a:lnTo>
                    <a:lnTo>
                      <a:pt x="95" y="484"/>
                    </a:lnTo>
                    <a:lnTo>
                      <a:pt x="92" y="484"/>
                    </a:lnTo>
                    <a:lnTo>
                      <a:pt x="83" y="512"/>
                    </a:lnTo>
                    <a:lnTo>
                      <a:pt x="89" y="559"/>
                    </a:lnTo>
                    <a:lnTo>
                      <a:pt x="95" y="564"/>
                    </a:lnTo>
                    <a:lnTo>
                      <a:pt x="83" y="612"/>
                    </a:lnTo>
                    <a:lnTo>
                      <a:pt x="60" y="619"/>
                    </a:lnTo>
                    <a:lnTo>
                      <a:pt x="56" y="615"/>
                    </a:lnTo>
                    <a:lnTo>
                      <a:pt x="73" y="565"/>
                    </a:lnTo>
                    <a:lnTo>
                      <a:pt x="47" y="479"/>
                    </a:lnTo>
                    <a:lnTo>
                      <a:pt x="34" y="472"/>
                    </a:lnTo>
                    <a:lnTo>
                      <a:pt x="34" y="466"/>
                    </a:lnTo>
                    <a:lnTo>
                      <a:pt x="11" y="468"/>
                    </a:lnTo>
                    <a:lnTo>
                      <a:pt x="5" y="479"/>
                    </a:lnTo>
                    <a:lnTo>
                      <a:pt x="0" y="472"/>
                    </a:lnTo>
                    <a:lnTo>
                      <a:pt x="22" y="320"/>
                    </a:lnTo>
                    <a:lnTo>
                      <a:pt x="18" y="321"/>
                    </a:lnTo>
                    <a:lnTo>
                      <a:pt x="18" y="289"/>
                    </a:lnTo>
                    <a:lnTo>
                      <a:pt x="15" y="285"/>
                    </a:lnTo>
                    <a:lnTo>
                      <a:pt x="22" y="210"/>
                    </a:lnTo>
                    <a:lnTo>
                      <a:pt x="28" y="122"/>
                    </a:lnTo>
                    <a:lnTo>
                      <a:pt x="66" y="104"/>
                    </a:lnTo>
                    <a:lnTo>
                      <a:pt x="76" y="84"/>
                    </a:lnTo>
                    <a:lnTo>
                      <a:pt x="66" y="67"/>
                    </a:lnTo>
                    <a:lnTo>
                      <a:pt x="60" y="70"/>
                    </a:lnTo>
                    <a:lnTo>
                      <a:pt x="56" y="61"/>
                    </a:lnTo>
                    <a:lnTo>
                      <a:pt x="56" y="52"/>
                    </a:lnTo>
                    <a:lnTo>
                      <a:pt x="47" y="51"/>
                    </a:lnTo>
                    <a:lnTo>
                      <a:pt x="44" y="25"/>
                    </a:lnTo>
                    <a:lnTo>
                      <a:pt x="53" y="8"/>
                    </a:lnTo>
                    <a:lnTo>
                      <a:pt x="64" y="1"/>
                    </a:lnTo>
                    <a:lnTo>
                      <a:pt x="78" y="1"/>
                    </a:lnTo>
                    <a:lnTo>
                      <a:pt x="88" y="0"/>
                    </a:lnTo>
                    <a:lnTo>
                      <a:pt x="98" y="4"/>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Freeform 153"/>
              <p:cNvSpPr/>
              <p:nvPr/>
            </p:nvSpPr>
            <p:spPr>
              <a:xfrm>
                <a:off x="6896880" y="1004760"/>
                <a:ext cx="69120" cy="249840"/>
              </a:xfrm>
              <a:custGeom>
                <a:avLst/>
                <a:gdLst>
                  <a:gd name="textAreaLeft" fmla="*/ 0 w 69120"/>
                  <a:gd name="textAreaRight" fmla="*/ 69480 w 69120"/>
                  <a:gd name="textAreaTop" fmla="*/ 0 h 249840"/>
                  <a:gd name="textAreaBottom" fmla="*/ 250200 h 249840"/>
                </a:gdLst>
                <a:ahLst/>
                <a:rect l="textAreaLeft" t="textAreaTop" r="textAreaRight" b="textAreaBottom"/>
                <a:pathLst>
                  <a:path w="131" h="446">
                    <a:moveTo>
                      <a:pt x="66" y="3"/>
                    </a:moveTo>
                    <a:lnTo>
                      <a:pt x="51" y="6"/>
                    </a:lnTo>
                    <a:lnTo>
                      <a:pt x="45" y="22"/>
                    </a:lnTo>
                    <a:lnTo>
                      <a:pt x="45" y="30"/>
                    </a:lnTo>
                    <a:lnTo>
                      <a:pt x="51" y="30"/>
                    </a:lnTo>
                    <a:lnTo>
                      <a:pt x="50" y="34"/>
                    </a:lnTo>
                    <a:lnTo>
                      <a:pt x="51" y="35"/>
                    </a:lnTo>
                    <a:lnTo>
                      <a:pt x="54" y="42"/>
                    </a:lnTo>
                    <a:lnTo>
                      <a:pt x="55" y="44"/>
                    </a:lnTo>
                    <a:lnTo>
                      <a:pt x="60" y="58"/>
                    </a:lnTo>
                    <a:lnTo>
                      <a:pt x="60" y="60"/>
                    </a:lnTo>
                    <a:lnTo>
                      <a:pt x="54" y="60"/>
                    </a:lnTo>
                    <a:lnTo>
                      <a:pt x="44" y="77"/>
                    </a:lnTo>
                    <a:lnTo>
                      <a:pt x="23" y="83"/>
                    </a:lnTo>
                    <a:lnTo>
                      <a:pt x="14" y="97"/>
                    </a:lnTo>
                    <a:lnTo>
                      <a:pt x="4" y="219"/>
                    </a:lnTo>
                    <a:lnTo>
                      <a:pt x="8" y="221"/>
                    </a:lnTo>
                    <a:lnTo>
                      <a:pt x="0" y="242"/>
                    </a:lnTo>
                    <a:lnTo>
                      <a:pt x="4" y="256"/>
                    </a:lnTo>
                    <a:lnTo>
                      <a:pt x="8" y="256"/>
                    </a:lnTo>
                    <a:lnTo>
                      <a:pt x="10" y="259"/>
                    </a:lnTo>
                    <a:lnTo>
                      <a:pt x="14" y="259"/>
                    </a:lnTo>
                    <a:lnTo>
                      <a:pt x="12" y="245"/>
                    </a:lnTo>
                    <a:lnTo>
                      <a:pt x="14" y="237"/>
                    </a:lnTo>
                    <a:lnTo>
                      <a:pt x="15" y="244"/>
                    </a:lnTo>
                    <a:lnTo>
                      <a:pt x="14" y="247"/>
                    </a:lnTo>
                    <a:lnTo>
                      <a:pt x="17" y="251"/>
                    </a:lnTo>
                    <a:lnTo>
                      <a:pt x="21" y="241"/>
                    </a:lnTo>
                    <a:lnTo>
                      <a:pt x="18" y="223"/>
                    </a:lnTo>
                    <a:lnTo>
                      <a:pt x="24" y="223"/>
                    </a:lnTo>
                    <a:lnTo>
                      <a:pt x="21" y="334"/>
                    </a:lnTo>
                    <a:lnTo>
                      <a:pt x="44" y="340"/>
                    </a:lnTo>
                    <a:lnTo>
                      <a:pt x="54" y="405"/>
                    </a:lnTo>
                    <a:lnTo>
                      <a:pt x="51" y="412"/>
                    </a:lnTo>
                    <a:lnTo>
                      <a:pt x="47" y="438"/>
                    </a:lnTo>
                    <a:lnTo>
                      <a:pt x="47" y="443"/>
                    </a:lnTo>
                    <a:lnTo>
                      <a:pt x="63" y="446"/>
                    </a:lnTo>
                    <a:lnTo>
                      <a:pt x="68" y="440"/>
                    </a:lnTo>
                    <a:lnTo>
                      <a:pt x="65" y="415"/>
                    </a:lnTo>
                    <a:lnTo>
                      <a:pt x="63" y="399"/>
                    </a:lnTo>
                    <a:lnTo>
                      <a:pt x="69" y="343"/>
                    </a:lnTo>
                    <a:lnTo>
                      <a:pt x="70" y="344"/>
                    </a:lnTo>
                    <a:lnTo>
                      <a:pt x="77" y="365"/>
                    </a:lnTo>
                    <a:lnTo>
                      <a:pt x="73" y="396"/>
                    </a:lnTo>
                    <a:lnTo>
                      <a:pt x="68" y="400"/>
                    </a:lnTo>
                    <a:lnTo>
                      <a:pt x="77" y="435"/>
                    </a:lnTo>
                    <a:lnTo>
                      <a:pt x="92" y="438"/>
                    </a:lnTo>
                    <a:lnTo>
                      <a:pt x="95" y="436"/>
                    </a:lnTo>
                    <a:lnTo>
                      <a:pt x="83" y="400"/>
                    </a:lnTo>
                    <a:lnTo>
                      <a:pt x="101" y="340"/>
                    </a:lnTo>
                    <a:lnTo>
                      <a:pt x="109" y="337"/>
                    </a:lnTo>
                    <a:lnTo>
                      <a:pt x="109" y="331"/>
                    </a:lnTo>
                    <a:lnTo>
                      <a:pt x="124" y="333"/>
                    </a:lnTo>
                    <a:lnTo>
                      <a:pt x="129" y="340"/>
                    </a:lnTo>
                    <a:lnTo>
                      <a:pt x="131" y="337"/>
                    </a:lnTo>
                    <a:lnTo>
                      <a:pt x="117" y="227"/>
                    </a:lnTo>
                    <a:lnTo>
                      <a:pt x="120" y="228"/>
                    </a:lnTo>
                    <a:lnTo>
                      <a:pt x="120" y="205"/>
                    </a:lnTo>
                    <a:lnTo>
                      <a:pt x="121" y="203"/>
                    </a:lnTo>
                    <a:lnTo>
                      <a:pt x="117" y="149"/>
                    </a:lnTo>
                    <a:lnTo>
                      <a:pt x="114" y="87"/>
                    </a:lnTo>
                    <a:lnTo>
                      <a:pt x="88" y="74"/>
                    </a:lnTo>
                    <a:lnTo>
                      <a:pt x="80" y="60"/>
                    </a:lnTo>
                    <a:lnTo>
                      <a:pt x="88" y="49"/>
                    </a:lnTo>
                    <a:lnTo>
                      <a:pt x="92" y="50"/>
                    </a:lnTo>
                    <a:lnTo>
                      <a:pt x="95" y="44"/>
                    </a:lnTo>
                    <a:lnTo>
                      <a:pt x="95" y="37"/>
                    </a:lnTo>
                    <a:lnTo>
                      <a:pt x="101" y="36"/>
                    </a:lnTo>
                    <a:lnTo>
                      <a:pt x="102" y="18"/>
                    </a:lnTo>
                    <a:lnTo>
                      <a:pt x="96" y="6"/>
                    </a:lnTo>
                    <a:lnTo>
                      <a:pt x="89" y="2"/>
                    </a:lnTo>
                    <a:lnTo>
                      <a:pt x="80" y="2"/>
                    </a:lnTo>
                    <a:lnTo>
                      <a:pt x="73" y="0"/>
                    </a:lnTo>
                    <a:lnTo>
                      <a:pt x="66" y="3"/>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64" name="Freeform 154"/>
            <p:cNvSpPr/>
            <p:nvPr/>
          </p:nvSpPr>
          <p:spPr>
            <a:xfrm>
              <a:off x="8177760" y="1112040"/>
              <a:ext cx="212760" cy="758520"/>
            </a:xfrm>
            <a:custGeom>
              <a:avLst/>
              <a:gdLst>
                <a:gd name="textAreaLeft" fmla="*/ 0 w 212760"/>
                <a:gd name="textAreaRight" fmla="*/ 213120 w 212760"/>
                <a:gd name="textAreaTop" fmla="*/ 0 h 758520"/>
                <a:gd name="textAreaBottom" fmla="*/ 758880 h 758520"/>
              </a:gdLst>
              <a:ahLst/>
              <a:rect l="textAreaLeft" t="textAreaTop" r="textAreaRight" b="textAreaBottom"/>
              <a:pathLst>
                <a:path w="399" h="1348">
                  <a:moveTo>
                    <a:pt x="202" y="9"/>
                  </a:moveTo>
                  <a:lnTo>
                    <a:pt x="155" y="18"/>
                  </a:lnTo>
                  <a:lnTo>
                    <a:pt x="135" y="69"/>
                  </a:lnTo>
                  <a:lnTo>
                    <a:pt x="135" y="92"/>
                  </a:lnTo>
                  <a:lnTo>
                    <a:pt x="156" y="92"/>
                  </a:lnTo>
                  <a:lnTo>
                    <a:pt x="148" y="100"/>
                  </a:lnTo>
                  <a:lnTo>
                    <a:pt x="155" y="106"/>
                  </a:lnTo>
                  <a:lnTo>
                    <a:pt x="161" y="129"/>
                  </a:lnTo>
                  <a:lnTo>
                    <a:pt x="167" y="132"/>
                  </a:lnTo>
                  <a:lnTo>
                    <a:pt x="181" y="175"/>
                  </a:lnTo>
                  <a:lnTo>
                    <a:pt x="181" y="184"/>
                  </a:lnTo>
                  <a:lnTo>
                    <a:pt x="161" y="184"/>
                  </a:lnTo>
                  <a:lnTo>
                    <a:pt x="129" y="235"/>
                  </a:lnTo>
                  <a:lnTo>
                    <a:pt x="70" y="251"/>
                  </a:lnTo>
                  <a:lnTo>
                    <a:pt x="44" y="294"/>
                  </a:lnTo>
                  <a:lnTo>
                    <a:pt x="13" y="664"/>
                  </a:lnTo>
                  <a:lnTo>
                    <a:pt x="27" y="667"/>
                  </a:lnTo>
                  <a:lnTo>
                    <a:pt x="0" y="732"/>
                  </a:lnTo>
                  <a:lnTo>
                    <a:pt x="13" y="773"/>
                  </a:lnTo>
                  <a:lnTo>
                    <a:pt x="26" y="773"/>
                  </a:lnTo>
                  <a:lnTo>
                    <a:pt x="32" y="782"/>
                  </a:lnTo>
                  <a:lnTo>
                    <a:pt x="44" y="782"/>
                  </a:lnTo>
                  <a:lnTo>
                    <a:pt x="39" y="743"/>
                  </a:lnTo>
                  <a:lnTo>
                    <a:pt x="44" y="720"/>
                  </a:lnTo>
                  <a:lnTo>
                    <a:pt x="50" y="737"/>
                  </a:lnTo>
                  <a:lnTo>
                    <a:pt x="44" y="749"/>
                  </a:lnTo>
                  <a:lnTo>
                    <a:pt x="51" y="759"/>
                  </a:lnTo>
                  <a:lnTo>
                    <a:pt x="64" y="727"/>
                  </a:lnTo>
                  <a:lnTo>
                    <a:pt x="56" y="674"/>
                  </a:lnTo>
                  <a:lnTo>
                    <a:pt x="78" y="676"/>
                  </a:lnTo>
                  <a:lnTo>
                    <a:pt x="64" y="1011"/>
                  </a:lnTo>
                  <a:lnTo>
                    <a:pt x="130" y="1029"/>
                  </a:lnTo>
                  <a:lnTo>
                    <a:pt x="161" y="1224"/>
                  </a:lnTo>
                  <a:lnTo>
                    <a:pt x="155" y="1243"/>
                  </a:lnTo>
                  <a:lnTo>
                    <a:pt x="142" y="1324"/>
                  </a:lnTo>
                  <a:lnTo>
                    <a:pt x="142" y="1340"/>
                  </a:lnTo>
                  <a:lnTo>
                    <a:pt x="188" y="1348"/>
                  </a:lnTo>
                  <a:lnTo>
                    <a:pt x="206" y="1327"/>
                  </a:lnTo>
                  <a:lnTo>
                    <a:pt x="195" y="1253"/>
                  </a:lnTo>
                  <a:lnTo>
                    <a:pt x="188" y="1203"/>
                  </a:lnTo>
                  <a:lnTo>
                    <a:pt x="207" y="1038"/>
                  </a:lnTo>
                  <a:lnTo>
                    <a:pt x="212" y="1039"/>
                  </a:lnTo>
                  <a:lnTo>
                    <a:pt x="232" y="1099"/>
                  </a:lnTo>
                  <a:lnTo>
                    <a:pt x="218" y="1198"/>
                  </a:lnTo>
                  <a:lnTo>
                    <a:pt x="206" y="1208"/>
                  </a:lnTo>
                  <a:lnTo>
                    <a:pt x="232" y="1313"/>
                  </a:lnTo>
                  <a:lnTo>
                    <a:pt x="277" y="1326"/>
                  </a:lnTo>
                  <a:lnTo>
                    <a:pt x="285" y="1318"/>
                  </a:lnTo>
                  <a:lnTo>
                    <a:pt x="251" y="1210"/>
                  </a:lnTo>
                  <a:lnTo>
                    <a:pt x="304" y="1029"/>
                  </a:lnTo>
                  <a:lnTo>
                    <a:pt x="328" y="1015"/>
                  </a:lnTo>
                  <a:lnTo>
                    <a:pt x="328" y="1002"/>
                  </a:lnTo>
                  <a:lnTo>
                    <a:pt x="374" y="1005"/>
                  </a:lnTo>
                  <a:lnTo>
                    <a:pt x="388" y="1029"/>
                  </a:lnTo>
                  <a:lnTo>
                    <a:pt x="399" y="1015"/>
                  </a:lnTo>
                  <a:lnTo>
                    <a:pt x="355" y="689"/>
                  </a:lnTo>
                  <a:lnTo>
                    <a:pt x="361" y="689"/>
                  </a:lnTo>
                  <a:lnTo>
                    <a:pt x="361" y="623"/>
                  </a:lnTo>
                  <a:lnTo>
                    <a:pt x="368" y="614"/>
                  </a:lnTo>
                  <a:lnTo>
                    <a:pt x="355" y="455"/>
                  </a:lnTo>
                  <a:lnTo>
                    <a:pt x="341" y="264"/>
                  </a:lnTo>
                  <a:lnTo>
                    <a:pt x="266" y="226"/>
                  </a:lnTo>
                  <a:lnTo>
                    <a:pt x="244" y="184"/>
                  </a:lnTo>
                  <a:lnTo>
                    <a:pt x="264" y="147"/>
                  </a:lnTo>
                  <a:lnTo>
                    <a:pt x="277" y="151"/>
                  </a:lnTo>
                  <a:lnTo>
                    <a:pt x="285" y="133"/>
                  </a:lnTo>
                  <a:lnTo>
                    <a:pt x="285" y="114"/>
                  </a:lnTo>
                  <a:lnTo>
                    <a:pt x="304" y="110"/>
                  </a:lnTo>
                  <a:lnTo>
                    <a:pt x="309" y="56"/>
                  </a:lnTo>
                  <a:lnTo>
                    <a:pt x="291" y="18"/>
                  </a:lnTo>
                  <a:lnTo>
                    <a:pt x="271" y="4"/>
                  </a:lnTo>
                  <a:lnTo>
                    <a:pt x="241" y="4"/>
                  </a:lnTo>
                  <a:lnTo>
                    <a:pt x="221" y="0"/>
                  </a:lnTo>
                  <a:lnTo>
                    <a:pt x="202"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Freeform 155"/>
            <p:cNvSpPr/>
            <p:nvPr/>
          </p:nvSpPr>
          <p:spPr>
            <a:xfrm>
              <a:off x="7631640" y="1157040"/>
              <a:ext cx="212760" cy="752760"/>
            </a:xfrm>
            <a:custGeom>
              <a:avLst/>
              <a:gdLst>
                <a:gd name="textAreaLeft" fmla="*/ 0 w 212760"/>
                <a:gd name="textAreaRight" fmla="*/ 213120 w 212760"/>
                <a:gd name="textAreaTop" fmla="*/ 0 h 752760"/>
                <a:gd name="textAreaBottom" fmla="*/ 753120 h 752760"/>
              </a:gdLst>
              <a:ahLst/>
              <a:rect l="textAreaLeft" t="textAreaTop" r="textAreaRight" b="textAreaBottom"/>
              <a:pathLst>
                <a:path w="399" h="1338">
                  <a:moveTo>
                    <a:pt x="300" y="17"/>
                  </a:moveTo>
                  <a:lnTo>
                    <a:pt x="251" y="0"/>
                  </a:lnTo>
                  <a:lnTo>
                    <a:pt x="199" y="9"/>
                  </a:lnTo>
                  <a:lnTo>
                    <a:pt x="163" y="42"/>
                  </a:lnTo>
                  <a:lnTo>
                    <a:pt x="150" y="84"/>
                  </a:lnTo>
                  <a:lnTo>
                    <a:pt x="162" y="133"/>
                  </a:lnTo>
                  <a:lnTo>
                    <a:pt x="144" y="162"/>
                  </a:lnTo>
                  <a:lnTo>
                    <a:pt x="119" y="175"/>
                  </a:lnTo>
                  <a:lnTo>
                    <a:pt x="48" y="204"/>
                  </a:lnTo>
                  <a:lnTo>
                    <a:pt x="29" y="224"/>
                  </a:lnTo>
                  <a:lnTo>
                    <a:pt x="0" y="438"/>
                  </a:lnTo>
                  <a:lnTo>
                    <a:pt x="11" y="483"/>
                  </a:lnTo>
                  <a:lnTo>
                    <a:pt x="85" y="501"/>
                  </a:lnTo>
                  <a:lnTo>
                    <a:pt x="74" y="703"/>
                  </a:lnTo>
                  <a:lnTo>
                    <a:pt x="124" y="722"/>
                  </a:lnTo>
                  <a:lnTo>
                    <a:pt x="138" y="871"/>
                  </a:lnTo>
                  <a:lnTo>
                    <a:pt x="127" y="1129"/>
                  </a:lnTo>
                  <a:lnTo>
                    <a:pt x="124" y="1272"/>
                  </a:lnTo>
                  <a:lnTo>
                    <a:pt x="136" y="1277"/>
                  </a:lnTo>
                  <a:lnTo>
                    <a:pt x="136" y="1289"/>
                  </a:lnTo>
                  <a:lnTo>
                    <a:pt x="176" y="1314"/>
                  </a:lnTo>
                  <a:lnTo>
                    <a:pt x="199" y="1332"/>
                  </a:lnTo>
                  <a:lnTo>
                    <a:pt x="214" y="1338"/>
                  </a:lnTo>
                  <a:lnTo>
                    <a:pt x="233" y="1338"/>
                  </a:lnTo>
                  <a:lnTo>
                    <a:pt x="252" y="1333"/>
                  </a:lnTo>
                  <a:lnTo>
                    <a:pt x="256" y="1327"/>
                  </a:lnTo>
                  <a:lnTo>
                    <a:pt x="252" y="1317"/>
                  </a:lnTo>
                  <a:lnTo>
                    <a:pt x="243" y="1305"/>
                  </a:lnTo>
                  <a:lnTo>
                    <a:pt x="231" y="1287"/>
                  </a:lnTo>
                  <a:lnTo>
                    <a:pt x="212" y="1272"/>
                  </a:lnTo>
                  <a:lnTo>
                    <a:pt x="226" y="1277"/>
                  </a:lnTo>
                  <a:lnTo>
                    <a:pt x="226" y="1259"/>
                  </a:lnTo>
                  <a:lnTo>
                    <a:pt x="282" y="1285"/>
                  </a:lnTo>
                  <a:lnTo>
                    <a:pt x="305" y="1285"/>
                  </a:lnTo>
                  <a:lnTo>
                    <a:pt x="311" y="1277"/>
                  </a:lnTo>
                  <a:lnTo>
                    <a:pt x="311" y="1268"/>
                  </a:lnTo>
                  <a:lnTo>
                    <a:pt x="309" y="1261"/>
                  </a:lnTo>
                  <a:lnTo>
                    <a:pt x="305" y="1250"/>
                  </a:lnTo>
                  <a:lnTo>
                    <a:pt x="291" y="1238"/>
                  </a:lnTo>
                  <a:lnTo>
                    <a:pt x="280" y="1226"/>
                  </a:lnTo>
                  <a:lnTo>
                    <a:pt x="294" y="1224"/>
                  </a:lnTo>
                  <a:lnTo>
                    <a:pt x="307" y="1098"/>
                  </a:lnTo>
                  <a:lnTo>
                    <a:pt x="312" y="896"/>
                  </a:lnTo>
                  <a:lnTo>
                    <a:pt x="335" y="732"/>
                  </a:lnTo>
                  <a:lnTo>
                    <a:pt x="342" y="686"/>
                  </a:lnTo>
                  <a:lnTo>
                    <a:pt x="348" y="662"/>
                  </a:lnTo>
                  <a:lnTo>
                    <a:pt x="331" y="562"/>
                  </a:lnTo>
                  <a:lnTo>
                    <a:pt x="325" y="517"/>
                  </a:lnTo>
                  <a:lnTo>
                    <a:pt x="337" y="522"/>
                  </a:lnTo>
                  <a:lnTo>
                    <a:pt x="343" y="516"/>
                  </a:lnTo>
                  <a:lnTo>
                    <a:pt x="348" y="516"/>
                  </a:lnTo>
                  <a:lnTo>
                    <a:pt x="358" y="509"/>
                  </a:lnTo>
                  <a:lnTo>
                    <a:pt x="370" y="511"/>
                  </a:lnTo>
                  <a:lnTo>
                    <a:pt x="375" y="501"/>
                  </a:lnTo>
                  <a:lnTo>
                    <a:pt x="381" y="498"/>
                  </a:lnTo>
                  <a:lnTo>
                    <a:pt x="385" y="489"/>
                  </a:lnTo>
                  <a:lnTo>
                    <a:pt x="394" y="483"/>
                  </a:lnTo>
                  <a:lnTo>
                    <a:pt x="399" y="471"/>
                  </a:lnTo>
                  <a:lnTo>
                    <a:pt x="379" y="427"/>
                  </a:lnTo>
                  <a:lnTo>
                    <a:pt x="388" y="397"/>
                  </a:lnTo>
                  <a:lnTo>
                    <a:pt x="349" y="427"/>
                  </a:lnTo>
                  <a:lnTo>
                    <a:pt x="292" y="229"/>
                  </a:lnTo>
                  <a:lnTo>
                    <a:pt x="247" y="190"/>
                  </a:lnTo>
                  <a:lnTo>
                    <a:pt x="256" y="181"/>
                  </a:lnTo>
                  <a:lnTo>
                    <a:pt x="294" y="175"/>
                  </a:lnTo>
                  <a:lnTo>
                    <a:pt x="298" y="149"/>
                  </a:lnTo>
                  <a:lnTo>
                    <a:pt x="287" y="143"/>
                  </a:lnTo>
                  <a:lnTo>
                    <a:pt x="301" y="142"/>
                  </a:lnTo>
                  <a:lnTo>
                    <a:pt x="300" y="133"/>
                  </a:lnTo>
                  <a:lnTo>
                    <a:pt x="314" y="128"/>
                  </a:lnTo>
                  <a:lnTo>
                    <a:pt x="303" y="95"/>
                  </a:lnTo>
                  <a:lnTo>
                    <a:pt x="312" y="91"/>
                  </a:lnTo>
                  <a:lnTo>
                    <a:pt x="307" y="47"/>
                  </a:lnTo>
                  <a:lnTo>
                    <a:pt x="317" y="47"/>
                  </a:lnTo>
                  <a:lnTo>
                    <a:pt x="300" y="1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Freeform 156"/>
            <p:cNvSpPr/>
            <p:nvPr/>
          </p:nvSpPr>
          <p:spPr>
            <a:xfrm>
              <a:off x="7229160" y="1113120"/>
              <a:ext cx="158400" cy="718920"/>
            </a:xfrm>
            <a:custGeom>
              <a:avLst/>
              <a:gdLst>
                <a:gd name="textAreaLeft" fmla="*/ 0 w 158400"/>
                <a:gd name="textAreaRight" fmla="*/ 158760 w 158400"/>
                <a:gd name="textAreaTop" fmla="*/ 0 h 718920"/>
                <a:gd name="textAreaBottom" fmla="*/ 719280 h 718920"/>
              </a:gdLst>
              <a:ahLst/>
              <a:rect l="textAreaLeft" t="textAreaTop" r="textAreaRight" b="textAreaBottom"/>
              <a:pathLst>
                <a:path w="298" h="1277">
                  <a:moveTo>
                    <a:pt x="228" y="25"/>
                  </a:moveTo>
                  <a:lnTo>
                    <a:pt x="228" y="57"/>
                  </a:lnTo>
                  <a:lnTo>
                    <a:pt x="223" y="66"/>
                  </a:lnTo>
                  <a:lnTo>
                    <a:pt x="236" y="93"/>
                  </a:lnTo>
                  <a:lnTo>
                    <a:pt x="228" y="99"/>
                  </a:lnTo>
                  <a:lnTo>
                    <a:pt x="231" y="109"/>
                  </a:lnTo>
                  <a:lnTo>
                    <a:pt x="222" y="144"/>
                  </a:lnTo>
                  <a:lnTo>
                    <a:pt x="222" y="151"/>
                  </a:lnTo>
                  <a:lnTo>
                    <a:pt x="273" y="185"/>
                  </a:lnTo>
                  <a:lnTo>
                    <a:pt x="298" y="449"/>
                  </a:lnTo>
                  <a:lnTo>
                    <a:pt x="266" y="495"/>
                  </a:lnTo>
                  <a:lnTo>
                    <a:pt x="278" y="638"/>
                  </a:lnTo>
                  <a:lnTo>
                    <a:pt x="257" y="654"/>
                  </a:lnTo>
                  <a:lnTo>
                    <a:pt x="249" y="877"/>
                  </a:lnTo>
                  <a:lnTo>
                    <a:pt x="233" y="1104"/>
                  </a:lnTo>
                  <a:lnTo>
                    <a:pt x="238" y="1116"/>
                  </a:lnTo>
                  <a:lnTo>
                    <a:pt x="292" y="1160"/>
                  </a:lnTo>
                  <a:lnTo>
                    <a:pt x="286" y="1167"/>
                  </a:lnTo>
                  <a:lnTo>
                    <a:pt x="266" y="1175"/>
                  </a:lnTo>
                  <a:lnTo>
                    <a:pt x="235" y="1167"/>
                  </a:lnTo>
                  <a:lnTo>
                    <a:pt x="205" y="1151"/>
                  </a:lnTo>
                  <a:lnTo>
                    <a:pt x="181" y="1142"/>
                  </a:lnTo>
                  <a:lnTo>
                    <a:pt x="181" y="1180"/>
                  </a:lnTo>
                  <a:lnTo>
                    <a:pt x="171" y="1181"/>
                  </a:lnTo>
                  <a:lnTo>
                    <a:pt x="187" y="1216"/>
                  </a:lnTo>
                  <a:lnTo>
                    <a:pt x="180" y="1269"/>
                  </a:lnTo>
                  <a:lnTo>
                    <a:pt x="161" y="1277"/>
                  </a:lnTo>
                  <a:lnTo>
                    <a:pt x="129" y="1232"/>
                  </a:lnTo>
                  <a:lnTo>
                    <a:pt x="129" y="1200"/>
                  </a:lnTo>
                  <a:lnTo>
                    <a:pt x="118" y="1195"/>
                  </a:lnTo>
                  <a:lnTo>
                    <a:pt x="107" y="905"/>
                  </a:lnTo>
                  <a:lnTo>
                    <a:pt x="118" y="876"/>
                  </a:lnTo>
                  <a:lnTo>
                    <a:pt x="84" y="681"/>
                  </a:lnTo>
                  <a:lnTo>
                    <a:pt x="64" y="673"/>
                  </a:lnTo>
                  <a:lnTo>
                    <a:pt x="55" y="472"/>
                  </a:lnTo>
                  <a:lnTo>
                    <a:pt x="0" y="448"/>
                  </a:lnTo>
                  <a:lnTo>
                    <a:pt x="24" y="229"/>
                  </a:lnTo>
                  <a:lnTo>
                    <a:pt x="108" y="169"/>
                  </a:lnTo>
                  <a:lnTo>
                    <a:pt x="130" y="150"/>
                  </a:lnTo>
                  <a:lnTo>
                    <a:pt x="131" y="129"/>
                  </a:lnTo>
                  <a:lnTo>
                    <a:pt x="122" y="115"/>
                  </a:lnTo>
                  <a:lnTo>
                    <a:pt x="113" y="102"/>
                  </a:lnTo>
                  <a:lnTo>
                    <a:pt x="104" y="87"/>
                  </a:lnTo>
                  <a:lnTo>
                    <a:pt x="99" y="71"/>
                  </a:lnTo>
                  <a:lnTo>
                    <a:pt x="99" y="56"/>
                  </a:lnTo>
                  <a:lnTo>
                    <a:pt x="104" y="41"/>
                  </a:lnTo>
                  <a:lnTo>
                    <a:pt x="115" y="23"/>
                  </a:lnTo>
                  <a:lnTo>
                    <a:pt x="130" y="10"/>
                  </a:lnTo>
                  <a:lnTo>
                    <a:pt x="148" y="3"/>
                  </a:lnTo>
                  <a:lnTo>
                    <a:pt x="168" y="0"/>
                  </a:lnTo>
                  <a:lnTo>
                    <a:pt x="187" y="4"/>
                  </a:lnTo>
                  <a:lnTo>
                    <a:pt x="205" y="9"/>
                  </a:lnTo>
                  <a:lnTo>
                    <a:pt x="228" y="2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Freeform 157"/>
            <p:cNvSpPr/>
            <p:nvPr/>
          </p:nvSpPr>
          <p:spPr>
            <a:xfrm>
              <a:off x="6882120" y="1106280"/>
              <a:ext cx="187200" cy="653760"/>
            </a:xfrm>
            <a:custGeom>
              <a:avLst/>
              <a:gdLst>
                <a:gd name="textAreaLeft" fmla="*/ 0 w 187200"/>
                <a:gd name="textAreaRight" fmla="*/ 187560 w 187200"/>
                <a:gd name="textAreaTop" fmla="*/ 0 h 653760"/>
                <a:gd name="textAreaBottom" fmla="*/ 654120 h 653760"/>
              </a:gdLst>
              <a:ahLst/>
              <a:rect l="textAreaLeft" t="textAreaTop" r="textAreaRight" b="textAreaBottom"/>
              <a:pathLst>
                <a:path w="353" h="1162">
                  <a:moveTo>
                    <a:pt x="216" y="14"/>
                  </a:moveTo>
                  <a:lnTo>
                    <a:pt x="284" y="0"/>
                  </a:lnTo>
                  <a:lnTo>
                    <a:pt x="311" y="28"/>
                  </a:lnTo>
                  <a:lnTo>
                    <a:pt x="323" y="19"/>
                  </a:lnTo>
                  <a:lnTo>
                    <a:pt x="342" y="70"/>
                  </a:lnTo>
                  <a:lnTo>
                    <a:pt x="304" y="103"/>
                  </a:lnTo>
                  <a:lnTo>
                    <a:pt x="301" y="129"/>
                  </a:lnTo>
                  <a:lnTo>
                    <a:pt x="292" y="131"/>
                  </a:lnTo>
                  <a:lnTo>
                    <a:pt x="284" y="158"/>
                  </a:lnTo>
                  <a:lnTo>
                    <a:pt x="258" y="163"/>
                  </a:lnTo>
                  <a:lnTo>
                    <a:pt x="258" y="173"/>
                  </a:lnTo>
                  <a:lnTo>
                    <a:pt x="304" y="208"/>
                  </a:lnTo>
                  <a:lnTo>
                    <a:pt x="342" y="376"/>
                  </a:lnTo>
                  <a:lnTo>
                    <a:pt x="311" y="419"/>
                  </a:lnTo>
                  <a:lnTo>
                    <a:pt x="311" y="723"/>
                  </a:lnTo>
                  <a:lnTo>
                    <a:pt x="274" y="736"/>
                  </a:lnTo>
                  <a:lnTo>
                    <a:pt x="268" y="784"/>
                  </a:lnTo>
                  <a:lnTo>
                    <a:pt x="254" y="913"/>
                  </a:lnTo>
                  <a:lnTo>
                    <a:pt x="254" y="983"/>
                  </a:lnTo>
                  <a:lnTo>
                    <a:pt x="311" y="1025"/>
                  </a:lnTo>
                  <a:lnTo>
                    <a:pt x="352" y="1047"/>
                  </a:lnTo>
                  <a:lnTo>
                    <a:pt x="353" y="1061"/>
                  </a:lnTo>
                  <a:lnTo>
                    <a:pt x="264" y="1040"/>
                  </a:lnTo>
                  <a:lnTo>
                    <a:pt x="254" y="1026"/>
                  </a:lnTo>
                  <a:lnTo>
                    <a:pt x="245" y="1040"/>
                  </a:lnTo>
                  <a:lnTo>
                    <a:pt x="235" y="1040"/>
                  </a:lnTo>
                  <a:lnTo>
                    <a:pt x="225" y="992"/>
                  </a:lnTo>
                  <a:lnTo>
                    <a:pt x="216" y="770"/>
                  </a:lnTo>
                  <a:lnTo>
                    <a:pt x="196" y="770"/>
                  </a:lnTo>
                  <a:lnTo>
                    <a:pt x="148" y="966"/>
                  </a:lnTo>
                  <a:lnTo>
                    <a:pt x="148" y="1087"/>
                  </a:lnTo>
                  <a:lnTo>
                    <a:pt x="128" y="1148"/>
                  </a:lnTo>
                  <a:lnTo>
                    <a:pt x="108" y="1162"/>
                  </a:lnTo>
                  <a:lnTo>
                    <a:pt x="98" y="1129"/>
                  </a:lnTo>
                  <a:lnTo>
                    <a:pt x="111" y="1095"/>
                  </a:lnTo>
                  <a:lnTo>
                    <a:pt x="128" y="1019"/>
                  </a:lnTo>
                  <a:lnTo>
                    <a:pt x="130" y="740"/>
                  </a:lnTo>
                  <a:lnTo>
                    <a:pt x="147" y="467"/>
                  </a:lnTo>
                  <a:lnTo>
                    <a:pt x="117" y="444"/>
                  </a:lnTo>
                  <a:lnTo>
                    <a:pt x="117" y="405"/>
                  </a:lnTo>
                  <a:lnTo>
                    <a:pt x="117" y="331"/>
                  </a:lnTo>
                  <a:lnTo>
                    <a:pt x="78" y="350"/>
                  </a:lnTo>
                  <a:lnTo>
                    <a:pt x="111" y="397"/>
                  </a:lnTo>
                  <a:lnTo>
                    <a:pt x="111" y="439"/>
                  </a:lnTo>
                  <a:lnTo>
                    <a:pt x="77" y="413"/>
                  </a:lnTo>
                  <a:lnTo>
                    <a:pt x="56" y="386"/>
                  </a:lnTo>
                  <a:lnTo>
                    <a:pt x="38" y="392"/>
                  </a:lnTo>
                  <a:lnTo>
                    <a:pt x="0" y="346"/>
                  </a:lnTo>
                  <a:lnTo>
                    <a:pt x="0" y="331"/>
                  </a:lnTo>
                  <a:lnTo>
                    <a:pt x="19" y="324"/>
                  </a:lnTo>
                  <a:lnTo>
                    <a:pt x="65" y="273"/>
                  </a:lnTo>
                  <a:lnTo>
                    <a:pt x="111" y="229"/>
                  </a:lnTo>
                  <a:lnTo>
                    <a:pt x="171" y="176"/>
                  </a:lnTo>
                  <a:lnTo>
                    <a:pt x="216" y="159"/>
                  </a:lnTo>
                  <a:lnTo>
                    <a:pt x="216" y="124"/>
                  </a:lnTo>
                  <a:lnTo>
                    <a:pt x="196" y="105"/>
                  </a:lnTo>
                  <a:lnTo>
                    <a:pt x="196" y="56"/>
                  </a:lnTo>
                  <a:lnTo>
                    <a:pt x="186" y="49"/>
                  </a:lnTo>
                  <a:lnTo>
                    <a:pt x="216" y="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Freeform 158"/>
            <p:cNvSpPr/>
            <p:nvPr/>
          </p:nvSpPr>
          <p:spPr>
            <a:xfrm>
              <a:off x="6324480" y="1122120"/>
              <a:ext cx="179640" cy="807840"/>
            </a:xfrm>
            <a:custGeom>
              <a:avLst/>
              <a:gdLst>
                <a:gd name="textAreaLeft" fmla="*/ 0 w 179640"/>
                <a:gd name="textAreaRight" fmla="*/ 180000 w 179640"/>
                <a:gd name="textAreaTop" fmla="*/ 0 h 807840"/>
                <a:gd name="textAreaBottom" fmla="*/ 808200 h 807840"/>
              </a:gdLst>
              <a:ahLst/>
              <a:rect l="textAreaLeft" t="textAreaTop" r="textAreaRight" b="textAreaBottom"/>
              <a:pathLst>
                <a:path w="338" h="1436">
                  <a:moveTo>
                    <a:pt x="79" y="28"/>
                  </a:moveTo>
                  <a:lnTo>
                    <a:pt x="79" y="64"/>
                  </a:lnTo>
                  <a:lnTo>
                    <a:pt x="86" y="74"/>
                  </a:lnTo>
                  <a:lnTo>
                    <a:pt x="70" y="105"/>
                  </a:lnTo>
                  <a:lnTo>
                    <a:pt x="79" y="111"/>
                  </a:lnTo>
                  <a:lnTo>
                    <a:pt x="77" y="122"/>
                  </a:lnTo>
                  <a:lnTo>
                    <a:pt x="87" y="162"/>
                  </a:lnTo>
                  <a:lnTo>
                    <a:pt x="87" y="170"/>
                  </a:lnTo>
                  <a:lnTo>
                    <a:pt x="28" y="208"/>
                  </a:lnTo>
                  <a:lnTo>
                    <a:pt x="0" y="506"/>
                  </a:lnTo>
                  <a:lnTo>
                    <a:pt x="36" y="556"/>
                  </a:lnTo>
                  <a:lnTo>
                    <a:pt x="23" y="717"/>
                  </a:lnTo>
                  <a:lnTo>
                    <a:pt x="46" y="736"/>
                  </a:lnTo>
                  <a:lnTo>
                    <a:pt x="56" y="987"/>
                  </a:lnTo>
                  <a:lnTo>
                    <a:pt x="73" y="1241"/>
                  </a:lnTo>
                  <a:lnTo>
                    <a:pt x="68" y="1257"/>
                  </a:lnTo>
                  <a:lnTo>
                    <a:pt x="7" y="1305"/>
                  </a:lnTo>
                  <a:lnTo>
                    <a:pt x="14" y="1314"/>
                  </a:lnTo>
                  <a:lnTo>
                    <a:pt x="36" y="1322"/>
                  </a:lnTo>
                  <a:lnTo>
                    <a:pt x="72" y="1314"/>
                  </a:lnTo>
                  <a:lnTo>
                    <a:pt x="105" y="1295"/>
                  </a:lnTo>
                  <a:lnTo>
                    <a:pt x="133" y="1285"/>
                  </a:lnTo>
                  <a:lnTo>
                    <a:pt x="133" y="1328"/>
                  </a:lnTo>
                  <a:lnTo>
                    <a:pt x="144" y="1329"/>
                  </a:lnTo>
                  <a:lnTo>
                    <a:pt x="125" y="1367"/>
                  </a:lnTo>
                  <a:lnTo>
                    <a:pt x="134" y="1428"/>
                  </a:lnTo>
                  <a:lnTo>
                    <a:pt x="156" y="1436"/>
                  </a:lnTo>
                  <a:lnTo>
                    <a:pt x="193" y="1386"/>
                  </a:lnTo>
                  <a:lnTo>
                    <a:pt x="193" y="1351"/>
                  </a:lnTo>
                  <a:lnTo>
                    <a:pt x="204" y="1344"/>
                  </a:lnTo>
                  <a:lnTo>
                    <a:pt x="217" y="1019"/>
                  </a:lnTo>
                  <a:lnTo>
                    <a:pt x="204" y="985"/>
                  </a:lnTo>
                  <a:lnTo>
                    <a:pt x="243" y="767"/>
                  </a:lnTo>
                  <a:lnTo>
                    <a:pt x="267" y="758"/>
                  </a:lnTo>
                  <a:lnTo>
                    <a:pt x="277" y="531"/>
                  </a:lnTo>
                  <a:lnTo>
                    <a:pt x="338" y="504"/>
                  </a:lnTo>
                  <a:lnTo>
                    <a:pt x="311" y="257"/>
                  </a:lnTo>
                  <a:lnTo>
                    <a:pt x="216" y="190"/>
                  </a:lnTo>
                  <a:lnTo>
                    <a:pt x="192" y="168"/>
                  </a:lnTo>
                  <a:lnTo>
                    <a:pt x="189" y="144"/>
                  </a:lnTo>
                  <a:lnTo>
                    <a:pt x="199" y="129"/>
                  </a:lnTo>
                  <a:lnTo>
                    <a:pt x="209" y="115"/>
                  </a:lnTo>
                  <a:lnTo>
                    <a:pt x="220" y="97"/>
                  </a:lnTo>
                  <a:lnTo>
                    <a:pt x="226" y="80"/>
                  </a:lnTo>
                  <a:lnTo>
                    <a:pt x="226" y="63"/>
                  </a:lnTo>
                  <a:lnTo>
                    <a:pt x="220" y="46"/>
                  </a:lnTo>
                  <a:lnTo>
                    <a:pt x="208" y="26"/>
                  </a:lnTo>
                  <a:lnTo>
                    <a:pt x="192" y="12"/>
                  </a:lnTo>
                  <a:lnTo>
                    <a:pt x="171" y="3"/>
                  </a:lnTo>
                  <a:lnTo>
                    <a:pt x="147" y="0"/>
                  </a:lnTo>
                  <a:lnTo>
                    <a:pt x="125" y="4"/>
                  </a:lnTo>
                  <a:lnTo>
                    <a:pt x="105" y="9"/>
                  </a:lnTo>
                  <a:lnTo>
                    <a:pt x="79" y="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Freeform 159"/>
            <p:cNvSpPr/>
            <p:nvPr/>
          </p:nvSpPr>
          <p:spPr>
            <a:xfrm>
              <a:off x="8497080" y="1027440"/>
              <a:ext cx="189360" cy="631440"/>
            </a:xfrm>
            <a:custGeom>
              <a:avLst/>
              <a:gdLst>
                <a:gd name="textAreaLeft" fmla="*/ 0 w 189360"/>
                <a:gd name="textAreaRight" fmla="*/ 189720 w 189360"/>
                <a:gd name="textAreaTop" fmla="*/ 0 h 631440"/>
                <a:gd name="textAreaBottom" fmla="*/ 631800 h 631440"/>
              </a:gdLst>
              <a:ahLst/>
              <a:rect l="textAreaLeft" t="textAreaTop" r="textAreaRight" b="textAreaBottom"/>
              <a:pathLst>
                <a:path w="357" h="1123">
                  <a:moveTo>
                    <a:pt x="267" y="13"/>
                  </a:moveTo>
                  <a:lnTo>
                    <a:pt x="224" y="0"/>
                  </a:lnTo>
                  <a:lnTo>
                    <a:pt x="178" y="7"/>
                  </a:lnTo>
                  <a:lnTo>
                    <a:pt x="145" y="35"/>
                  </a:lnTo>
                  <a:lnTo>
                    <a:pt x="133" y="70"/>
                  </a:lnTo>
                  <a:lnTo>
                    <a:pt x="144" y="111"/>
                  </a:lnTo>
                  <a:lnTo>
                    <a:pt x="128" y="135"/>
                  </a:lnTo>
                  <a:lnTo>
                    <a:pt x="105" y="147"/>
                  </a:lnTo>
                  <a:lnTo>
                    <a:pt x="43" y="171"/>
                  </a:lnTo>
                  <a:lnTo>
                    <a:pt x="25" y="186"/>
                  </a:lnTo>
                  <a:lnTo>
                    <a:pt x="0" y="367"/>
                  </a:lnTo>
                  <a:lnTo>
                    <a:pt x="10" y="404"/>
                  </a:lnTo>
                  <a:lnTo>
                    <a:pt x="76" y="419"/>
                  </a:lnTo>
                  <a:lnTo>
                    <a:pt x="66" y="590"/>
                  </a:lnTo>
                  <a:lnTo>
                    <a:pt x="110" y="606"/>
                  </a:lnTo>
                  <a:lnTo>
                    <a:pt x="122" y="731"/>
                  </a:lnTo>
                  <a:lnTo>
                    <a:pt x="113" y="949"/>
                  </a:lnTo>
                  <a:lnTo>
                    <a:pt x="110" y="1068"/>
                  </a:lnTo>
                  <a:lnTo>
                    <a:pt x="122" y="1072"/>
                  </a:lnTo>
                  <a:lnTo>
                    <a:pt x="122" y="1082"/>
                  </a:lnTo>
                  <a:lnTo>
                    <a:pt x="156" y="1103"/>
                  </a:lnTo>
                  <a:lnTo>
                    <a:pt x="178" y="1118"/>
                  </a:lnTo>
                  <a:lnTo>
                    <a:pt x="191" y="1123"/>
                  </a:lnTo>
                  <a:lnTo>
                    <a:pt x="209" y="1123"/>
                  </a:lnTo>
                  <a:lnTo>
                    <a:pt x="225" y="1119"/>
                  </a:lnTo>
                  <a:lnTo>
                    <a:pt x="229" y="1114"/>
                  </a:lnTo>
                  <a:lnTo>
                    <a:pt x="225" y="1105"/>
                  </a:lnTo>
                  <a:lnTo>
                    <a:pt x="218" y="1095"/>
                  </a:lnTo>
                  <a:lnTo>
                    <a:pt x="206" y="1081"/>
                  </a:lnTo>
                  <a:lnTo>
                    <a:pt x="190" y="1068"/>
                  </a:lnTo>
                  <a:lnTo>
                    <a:pt x="201" y="1072"/>
                  </a:lnTo>
                  <a:lnTo>
                    <a:pt x="201" y="1057"/>
                  </a:lnTo>
                  <a:lnTo>
                    <a:pt x="252" y="1078"/>
                  </a:lnTo>
                  <a:lnTo>
                    <a:pt x="272" y="1078"/>
                  </a:lnTo>
                  <a:lnTo>
                    <a:pt x="279" y="1072"/>
                  </a:lnTo>
                  <a:lnTo>
                    <a:pt x="279" y="1064"/>
                  </a:lnTo>
                  <a:lnTo>
                    <a:pt x="276" y="1058"/>
                  </a:lnTo>
                  <a:lnTo>
                    <a:pt x="272" y="1049"/>
                  </a:lnTo>
                  <a:lnTo>
                    <a:pt x="260" y="1039"/>
                  </a:lnTo>
                  <a:lnTo>
                    <a:pt x="251" y="1029"/>
                  </a:lnTo>
                  <a:lnTo>
                    <a:pt x="263" y="1027"/>
                  </a:lnTo>
                  <a:lnTo>
                    <a:pt x="275" y="922"/>
                  </a:lnTo>
                  <a:lnTo>
                    <a:pt x="279" y="752"/>
                  </a:lnTo>
                  <a:lnTo>
                    <a:pt x="300" y="615"/>
                  </a:lnTo>
                  <a:lnTo>
                    <a:pt x="306" y="576"/>
                  </a:lnTo>
                  <a:lnTo>
                    <a:pt x="312" y="555"/>
                  </a:lnTo>
                  <a:lnTo>
                    <a:pt x="297" y="471"/>
                  </a:lnTo>
                  <a:lnTo>
                    <a:pt x="290" y="433"/>
                  </a:lnTo>
                  <a:lnTo>
                    <a:pt x="300" y="437"/>
                  </a:lnTo>
                  <a:lnTo>
                    <a:pt x="307" y="432"/>
                  </a:lnTo>
                  <a:lnTo>
                    <a:pt x="312" y="432"/>
                  </a:lnTo>
                  <a:lnTo>
                    <a:pt x="321" y="427"/>
                  </a:lnTo>
                  <a:lnTo>
                    <a:pt x="331" y="427"/>
                  </a:lnTo>
                  <a:lnTo>
                    <a:pt x="335" y="419"/>
                  </a:lnTo>
                  <a:lnTo>
                    <a:pt x="341" y="416"/>
                  </a:lnTo>
                  <a:lnTo>
                    <a:pt x="345" y="409"/>
                  </a:lnTo>
                  <a:lnTo>
                    <a:pt x="353" y="404"/>
                  </a:lnTo>
                  <a:lnTo>
                    <a:pt x="357" y="394"/>
                  </a:lnTo>
                  <a:lnTo>
                    <a:pt x="339" y="357"/>
                  </a:lnTo>
                  <a:lnTo>
                    <a:pt x="346" y="332"/>
                  </a:lnTo>
                  <a:lnTo>
                    <a:pt x="312" y="357"/>
                  </a:lnTo>
                  <a:lnTo>
                    <a:pt x="261" y="191"/>
                  </a:lnTo>
                  <a:lnTo>
                    <a:pt x="221" y="159"/>
                  </a:lnTo>
                  <a:lnTo>
                    <a:pt x="229" y="152"/>
                  </a:lnTo>
                  <a:lnTo>
                    <a:pt x="263" y="147"/>
                  </a:lnTo>
                  <a:lnTo>
                    <a:pt x="267" y="125"/>
                  </a:lnTo>
                  <a:lnTo>
                    <a:pt x="256" y="120"/>
                  </a:lnTo>
                  <a:lnTo>
                    <a:pt x="269" y="119"/>
                  </a:lnTo>
                  <a:lnTo>
                    <a:pt x="267" y="111"/>
                  </a:lnTo>
                  <a:lnTo>
                    <a:pt x="280" y="106"/>
                  </a:lnTo>
                  <a:lnTo>
                    <a:pt x="271" y="79"/>
                  </a:lnTo>
                  <a:lnTo>
                    <a:pt x="279" y="75"/>
                  </a:lnTo>
                  <a:lnTo>
                    <a:pt x="275" y="40"/>
                  </a:lnTo>
                  <a:lnTo>
                    <a:pt x="284" y="40"/>
                  </a:lnTo>
                  <a:lnTo>
                    <a:pt x="267" y="1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Freeform 160"/>
            <p:cNvSpPr/>
            <p:nvPr/>
          </p:nvSpPr>
          <p:spPr>
            <a:xfrm>
              <a:off x="6506280" y="1134360"/>
              <a:ext cx="169200" cy="842040"/>
            </a:xfrm>
            <a:custGeom>
              <a:avLst/>
              <a:gdLst>
                <a:gd name="textAreaLeft" fmla="*/ 0 w 169200"/>
                <a:gd name="textAreaRight" fmla="*/ 169560 w 169200"/>
                <a:gd name="textAreaTop" fmla="*/ 0 h 842040"/>
                <a:gd name="textAreaBottom" fmla="*/ 842400 h 842040"/>
              </a:gdLst>
              <a:ahLst/>
              <a:rect l="textAreaLeft" t="textAreaTop" r="textAreaRight" b="textAreaBottom"/>
              <a:pathLst>
                <a:path w="318" h="1496">
                  <a:moveTo>
                    <a:pt x="207" y="22"/>
                  </a:moveTo>
                  <a:lnTo>
                    <a:pt x="131" y="0"/>
                  </a:lnTo>
                  <a:lnTo>
                    <a:pt x="77" y="0"/>
                  </a:lnTo>
                  <a:lnTo>
                    <a:pt x="27" y="13"/>
                  </a:lnTo>
                  <a:lnTo>
                    <a:pt x="8" y="64"/>
                  </a:lnTo>
                  <a:lnTo>
                    <a:pt x="8" y="109"/>
                  </a:lnTo>
                  <a:lnTo>
                    <a:pt x="36" y="162"/>
                  </a:lnTo>
                  <a:lnTo>
                    <a:pt x="56" y="160"/>
                  </a:lnTo>
                  <a:lnTo>
                    <a:pt x="27" y="220"/>
                  </a:lnTo>
                  <a:lnTo>
                    <a:pt x="0" y="322"/>
                  </a:lnTo>
                  <a:lnTo>
                    <a:pt x="0" y="407"/>
                  </a:lnTo>
                  <a:lnTo>
                    <a:pt x="8" y="517"/>
                  </a:lnTo>
                  <a:lnTo>
                    <a:pt x="27" y="624"/>
                  </a:lnTo>
                  <a:lnTo>
                    <a:pt x="64" y="629"/>
                  </a:lnTo>
                  <a:lnTo>
                    <a:pt x="64" y="662"/>
                  </a:lnTo>
                  <a:lnTo>
                    <a:pt x="83" y="675"/>
                  </a:lnTo>
                  <a:lnTo>
                    <a:pt x="83" y="783"/>
                  </a:lnTo>
                  <a:lnTo>
                    <a:pt x="103" y="803"/>
                  </a:lnTo>
                  <a:lnTo>
                    <a:pt x="103" y="1004"/>
                  </a:lnTo>
                  <a:lnTo>
                    <a:pt x="103" y="1131"/>
                  </a:lnTo>
                  <a:lnTo>
                    <a:pt x="74" y="1273"/>
                  </a:lnTo>
                  <a:lnTo>
                    <a:pt x="63" y="1456"/>
                  </a:lnTo>
                  <a:lnTo>
                    <a:pt x="94" y="1469"/>
                  </a:lnTo>
                  <a:lnTo>
                    <a:pt x="94" y="1490"/>
                  </a:lnTo>
                  <a:lnTo>
                    <a:pt x="149" y="1490"/>
                  </a:lnTo>
                  <a:lnTo>
                    <a:pt x="157" y="1483"/>
                  </a:lnTo>
                  <a:lnTo>
                    <a:pt x="179" y="1483"/>
                  </a:lnTo>
                  <a:lnTo>
                    <a:pt x="180" y="1496"/>
                  </a:lnTo>
                  <a:lnTo>
                    <a:pt x="218" y="1490"/>
                  </a:lnTo>
                  <a:lnTo>
                    <a:pt x="301" y="1483"/>
                  </a:lnTo>
                  <a:lnTo>
                    <a:pt x="301" y="1470"/>
                  </a:lnTo>
                  <a:lnTo>
                    <a:pt x="226" y="1442"/>
                  </a:lnTo>
                  <a:lnTo>
                    <a:pt x="226" y="1415"/>
                  </a:lnTo>
                  <a:lnTo>
                    <a:pt x="291" y="1403"/>
                  </a:lnTo>
                  <a:lnTo>
                    <a:pt x="291" y="1382"/>
                  </a:lnTo>
                  <a:lnTo>
                    <a:pt x="245" y="1356"/>
                  </a:lnTo>
                  <a:lnTo>
                    <a:pt x="245" y="1152"/>
                  </a:lnTo>
                  <a:lnTo>
                    <a:pt x="263" y="966"/>
                  </a:lnTo>
                  <a:lnTo>
                    <a:pt x="256" y="779"/>
                  </a:lnTo>
                  <a:lnTo>
                    <a:pt x="254" y="675"/>
                  </a:lnTo>
                  <a:lnTo>
                    <a:pt x="263" y="641"/>
                  </a:lnTo>
                  <a:lnTo>
                    <a:pt x="263" y="496"/>
                  </a:lnTo>
                  <a:lnTo>
                    <a:pt x="318" y="462"/>
                  </a:lnTo>
                  <a:lnTo>
                    <a:pt x="318" y="443"/>
                  </a:lnTo>
                  <a:lnTo>
                    <a:pt x="198" y="242"/>
                  </a:lnTo>
                  <a:lnTo>
                    <a:pt x="140" y="215"/>
                  </a:lnTo>
                  <a:lnTo>
                    <a:pt x="148" y="202"/>
                  </a:lnTo>
                  <a:lnTo>
                    <a:pt x="187" y="195"/>
                  </a:lnTo>
                  <a:lnTo>
                    <a:pt x="187" y="182"/>
                  </a:lnTo>
                  <a:lnTo>
                    <a:pt x="198" y="176"/>
                  </a:lnTo>
                  <a:lnTo>
                    <a:pt x="198" y="162"/>
                  </a:lnTo>
                  <a:lnTo>
                    <a:pt x="207" y="155"/>
                  </a:lnTo>
                  <a:lnTo>
                    <a:pt x="198" y="148"/>
                  </a:lnTo>
                  <a:lnTo>
                    <a:pt x="205" y="142"/>
                  </a:lnTo>
                  <a:lnTo>
                    <a:pt x="187" y="109"/>
                  </a:lnTo>
                  <a:lnTo>
                    <a:pt x="198" y="89"/>
                  </a:lnTo>
                  <a:lnTo>
                    <a:pt x="187" y="69"/>
                  </a:lnTo>
                  <a:lnTo>
                    <a:pt x="205" y="55"/>
                  </a:lnTo>
                  <a:lnTo>
                    <a:pt x="207" y="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Freeform 161"/>
            <p:cNvSpPr/>
            <p:nvPr/>
          </p:nvSpPr>
          <p:spPr>
            <a:xfrm>
              <a:off x="6656400" y="1249200"/>
              <a:ext cx="242640" cy="867600"/>
            </a:xfrm>
            <a:custGeom>
              <a:avLst/>
              <a:gdLst>
                <a:gd name="textAreaLeft" fmla="*/ 0 w 242640"/>
                <a:gd name="textAreaRight" fmla="*/ 243000 w 242640"/>
                <a:gd name="textAreaTop" fmla="*/ 0 h 867600"/>
                <a:gd name="textAreaBottom" fmla="*/ 867960 h 867600"/>
              </a:gdLst>
              <a:ahLst/>
              <a:rect l="textAreaLeft" t="textAreaTop" r="textAreaRight" b="textAreaBottom"/>
              <a:pathLst>
                <a:path w="456" h="1540">
                  <a:moveTo>
                    <a:pt x="229" y="11"/>
                  </a:moveTo>
                  <a:lnTo>
                    <a:pt x="177" y="20"/>
                  </a:lnTo>
                  <a:lnTo>
                    <a:pt x="154" y="79"/>
                  </a:lnTo>
                  <a:lnTo>
                    <a:pt x="154" y="105"/>
                  </a:lnTo>
                  <a:lnTo>
                    <a:pt x="177" y="105"/>
                  </a:lnTo>
                  <a:lnTo>
                    <a:pt x="169" y="116"/>
                  </a:lnTo>
                  <a:lnTo>
                    <a:pt x="177" y="122"/>
                  </a:lnTo>
                  <a:lnTo>
                    <a:pt x="183" y="147"/>
                  </a:lnTo>
                  <a:lnTo>
                    <a:pt x="190" y="151"/>
                  </a:lnTo>
                  <a:lnTo>
                    <a:pt x="206" y="200"/>
                  </a:lnTo>
                  <a:lnTo>
                    <a:pt x="206" y="210"/>
                  </a:lnTo>
                  <a:lnTo>
                    <a:pt x="183" y="210"/>
                  </a:lnTo>
                  <a:lnTo>
                    <a:pt x="148" y="268"/>
                  </a:lnTo>
                  <a:lnTo>
                    <a:pt x="80" y="287"/>
                  </a:lnTo>
                  <a:lnTo>
                    <a:pt x="50" y="335"/>
                  </a:lnTo>
                  <a:lnTo>
                    <a:pt x="14" y="756"/>
                  </a:lnTo>
                  <a:lnTo>
                    <a:pt x="30" y="761"/>
                  </a:lnTo>
                  <a:lnTo>
                    <a:pt x="0" y="835"/>
                  </a:lnTo>
                  <a:lnTo>
                    <a:pt x="14" y="882"/>
                  </a:lnTo>
                  <a:lnTo>
                    <a:pt x="29" y="882"/>
                  </a:lnTo>
                  <a:lnTo>
                    <a:pt x="37" y="892"/>
                  </a:lnTo>
                  <a:lnTo>
                    <a:pt x="50" y="892"/>
                  </a:lnTo>
                  <a:lnTo>
                    <a:pt x="43" y="846"/>
                  </a:lnTo>
                  <a:lnTo>
                    <a:pt x="50" y="820"/>
                  </a:lnTo>
                  <a:lnTo>
                    <a:pt x="57" y="841"/>
                  </a:lnTo>
                  <a:lnTo>
                    <a:pt x="50" y="855"/>
                  </a:lnTo>
                  <a:lnTo>
                    <a:pt x="58" y="867"/>
                  </a:lnTo>
                  <a:lnTo>
                    <a:pt x="74" y="830"/>
                  </a:lnTo>
                  <a:lnTo>
                    <a:pt x="64" y="769"/>
                  </a:lnTo>
                  <a:lnTo>
                    <a:pt x="88" y="771"/>
                  </a:lnTo>
                  <a:lnTo>
                    <a:pt x="74" y="1153"/>
                  </a:lnTo>
                  <a:lnTo>
                    <a:pt x="149" y="1175"/>
                  </a:lnTo>
                  <a:lnTo>
                    <a:pt x="183" y="1397"/>
                  </a:lnTo>
                  <a:lnTo>
                    <a:pt x="177" y="1419"/>
                  </a:lnTo>
                  <a:lnTo>
                    <a:pt x="162" y="1513"/>
                  </a:lnTo>
                  <a:lnTo>
                    <a:pt x="162" y="1530"/>
                  </a:lnTo>
                  <a:lnTo>
                    <a:pt x="214" y="1540"/>
                  </a:lnTo>
                  <a:lnTo>
                    <a:pt x="234" y="1515"/>
                  </a:lnTo>
                  <a:lnTo>
                    <a:pt x="223" y="1432"/>
                  </a:lnTo>
                  <a:lnTo>
                    <a:pt x="214" y="1375"/>
                  </a:lnTo>
                  <a:lnTo>
                    <a:pt x="236" y="1184"/>
                  </a:lnTo>
                  <a:lnTo>
                    <a:pt x="242" y="1185"/>
                  </a:lnTo>
                  <a:lnTo>
                    <a:pt x="265" y="1255"/>
                  </a:lnTo>
                  <a:lnTo>
                    <a:pt x="250" y="1369"/>
                  </a:lnTo>
                  <a:lnTo>
                    <a:pt x="234" y="1380"/>
                  </a:lnTo>
                  <a:lnTo>
                    <a:pt x="265" y="1499"/>
                  </a:lnTo>
                  <a:lnTo>
                    <a:pt x="316" y="1513"/>
                  </a:lnTo>
                  <a:lnTo>
                    <a:pt x="325" y="1504"/>
                  </a:lnTo>
                  <a:lnTo>
                    <a:pt x="287" y="1382"/>
                  </a:lnTo>
                  <a:lnTo>
                    <a:pt x="347" y="1175"/>
                  </a:lnTo>
                  <a:lnTo>
                    <a:pt x="375" y="1158"/>
                  </a:lnTo>
                  <a:lnTo>
                    <a:pt x="375" y="1143"/>
                  </a:lnTo>
                  <a:lnTo>
                    <a:pt x="427" y="1147"/>
                  </a:lnTo>
                  <a:lnTo>
                    <a:pt x="444" y="1175"/>
                  </a:lnTo>
                  <a:lnTo>
                    <a:pt x="456" y="1158"/>
                  </a:lnTo>
                  <a:lnTo>
                    <a:pt x="405" y="785"/>
                  </a:lnTo>
                  <a:lnTo>
                    <a:pt x="413" y="786"/>
                  </a:lnTo>
                  <a:lnTo>
                    <a:pt x="413" y="710"/>
                  </a:lnTo>
                  <a:lnTo>
                    <a:pt x="419" y="700"/>
                  </a:lnTo>
                  <a:lnTo>
                    <a:pt x="405" y="518"/>
                  </a:lnTo>
                  <a:lnTo>
                    <a:pt x="390" y="301"/>
                  </a:lnTo>
                  <a:lnTo>
                    <a:pt x="303" y="258"/>
                  </a:lnTo>
                  <a:lnTo>
                    <a:pt x="279" y="210"/>
                  </a:lnTo>
                  <a:lnTo>
                    <a:pt x="302" y="168"/>
                  </a:lnTo>
                  <a:lnTo>
                    <a:pt x="316" y="173"/>
                  </a:lnTo>
                  <a:lnTo>
                    <a:pt x="325" y="153"/>
                  </a:lnTo>
                  <a:lnTo>
                    <a:pt x="325" y="130"/>
                  </a:lnTo>
                  <a:lnTo>
                    <a:pt x="347" y="127"/>
                  </a:lnTo>
                  <a:lnTo>
                    <a:pt x="353" y="65"/>
                  </a:lnTo>
                  <a:lnTo>
                    <a:pt x="331" y="20"/>
                  </a:lnTo>
                  <a:lnTo>
                    <a:pt x="308" y="5"/>
                  </a:lnTo>
                  <a:lnTo>
                    <a:pt x="277" y="5"/>
                  </a:lnTo>
                  <a:lnTo>
                    <a:pt x="252" y="0"/>
                  </a:lnTo>
                  <a:lnTo>
                    <a:pt x="22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Freeform 162"/>
            <p:cNvSpPr/>
            <p:nvPr/>
          </p:nvSpPr>
          <p:spPr>
            <a:xfrm>
              <a:off x="7936200" y="1241280"/>
              <a:ext cx="268200" cy="883440"/>
            </a:xfrm>
            <a:custGeom>
              <a:avLst/>
              <a:gdLst>
                <a:gd name="textAreaLeft" fmla="*/ 0 w 268200"/>
                <a:gd name="textAreaRight" fmla="*/ 268560 w 268200"/>
                <a:gd name="textAreaTop" fmla="*/ 0 h 883440"/>
                <a:gd name="textAreaBottom" fmla="*/ 883800 h 883440"/>
              </a:gdLst>
              <a:ahLst/>
              <a:rect l="textAreaLeft" t="textAreaTop" r="textAreaRight" b="textAreaBottom"/>
              <a:pathLst>
                <a:path w="504" h="1570">
                  <a:moveTo>
                    <a:pt x="249" y="11"/>
                  </a:moveTo>
                  <a:lnTo>
                    <a:pt x="309" y="20"/>
                  </a:lnTo>
                  <a:lnTo>
                    <a:pt x="333" y="81"/>
                  </a:lnTo>
                  <a:lnTo>
                    <a:pt x="333" y="108"/>
                  </a:lnTo>
                  <a:lnTo>
                    <a:pt x="308" y="108"/>
                  </a:lnTo>
                  <a:lnTo>
                    <a:pt x="317" y="117"/>
                  </a:lnTo>
                  <a:lnTo>
                    <a:pt x="309" y="124"/>
                  </a:lnTo>
                  <a:lnTo>
                    <a:pt x="301" y="150"/>
                  </a:lnTo>
                  <a:lnTo>
                    <a:pt x="292" y="154"/>
                  </a:lnTo>
                  <a:lnTo>
                    <a:pt x="275" y="203"/>
                  </a:lnTo>
                  <a:lnTo>
                    <a:pt x="275" y="213"/>
                  </a:lnTo>
                  <a:lnTo>
                    <a:pt x="301" y="213"/>
                  </a:lnTo>
                  <a:lnTo>
                    <a:pt x="341" y="273"/>
                  </a:lnTo>
                  <a:lnTo>
                    <a:pt x="415" y="294"/>
                  </a:lnTo>
                  <a:lnTo>
                    <a:pt x="448" y="342"/>
                  </a:lnTo>
                  <a:lnTo>
                    <a:pt x="487" y="771"/>
                  </a:lnTo>
                  <a:lnTo>
                    <a:pt x="470" y="776"/>
                  </a:lnTo>
                  <a:lnTo>
                    <a:pt x="504" y="851"/>
                  </a:lnTo>
                  <a:lnTo>
                    <a:pt x="487" y="898"/>
                  </a:lnTo>
                  <a:lnTo>
                    <a:pt x="471" y="898"/>
                  </a:lnTo>
                  <a:lnTo>
                    <a:pt x="463" y="910"/>
                  </a:lnTo>
                  <a:lnTo>
                    <a:pt x="448" y="910"/>
                  </a:lnTo>
                  <a:lnTo>
                    <a:pt x="456" y="864"/>
                  </a:lnTo>
                  <a:lnTo>
                    <a:pt x="448" y="836"/>
                  </a:lnTo>
                  <a:lnTo>
                    <a:pt x="440" y="857"/>
                  </a:lnTo>
                  <a:lnTo>
                    <a:pt x="448" y="871"/>
                  </a:lnTo>
                  <a:lnTo>
                    <a:pt x="439" y="883"/>
                  </a:lnTo>
                  <a:lnTo>
                    <a:pt x="422" y="846"/>
                  </a:lnTo>
                  <a:lnTo>
                    <a:pt x="433" y="784"/>
                  </a:lnTo>
                  <a:lnTo>
                    <a:pt x="406" y="786"/>
                  </a:lnTo>
                  <a:lnTo>
                    <a:pt x="422" y="1176"/>
                  </a:lnTo>
                  <a:lnTo>
                    <a:pt x="340" y="1197"/>
                  </a:lnTo>
                  <a:lnTo>
                    <a:pt x="301" y="1424"/>
                  </a:lnTo>
                  <a:lnTo>
                    <a:pt x="309" y="1447"/>
                  </a:lnTo>
                  <a:lnTo>
                    <a:pt x="326" y="1542"/>
                  </a:lnTo>
                  <a:lnTo>
                    <a:pt x="326" y="1560"/>
                  </a:lnTo>
                  <a:lnTo>
                    <a:pt x="267" y="1570"/>
                  </a:lnTo>
                  <a:lnTo>
                    <a:pt x="244" y="1545"/>
                  </a:lnTo>
                  <a:lnTo>
                    <a:pt x="257" y="1460"/>
                  </a:lnTo>
                  <a:lnTo>
                    <a:pt x="267" y="1402"/>
                  </a:lnTo>
                  <a:lnTo>
                    <a:pt x="243" y="1208"/>
                  </a:lnTo>
                  <a:lnTo>
                    <a:pt x="235" y="1209"/>
                  </a:lnTo>
                  <a:lnTo>
                    <a:pt x="211" y="1279"/>
                  </a:lnTo>
                  <a:lnTo>
                    <a:pt x="227" y="1396"/>
                  </a:lnTo>
                  <a:lnTo>
                    <a:pt x="244" y="1406"/>
                  </a:lnTo>
                  <a:lnTo>
                    <a:pt x="211" y="1528"/>
                  </a:lnTo>
                  <a:lnTo>
                    <a:pt x="153" y="1544"/>
                  </a:lnTo>
                  <a:lnTo>
                    <a:pt x="145" y="1535"/>
                  </a:lnTo>
                  <a:lnTo>
                    <a:pt x="187" y="1409"/>
                  </a:lnTo>
                  <a:lnTo>
                    <a:pt x="120" y="1197"/>
                  </a:lnTo>
                  <a:lnTo>
                    <a:pt x="90" y="1181"/>
                  </a:lnTo>
                  <a:lnTo>
                    <a:pt x="90" y="1166"/>
                  </a:lnTo>
                  <a:lnTo>
                    <a:pt x="32" y="1169"/>
                  </a:lnTo>
                  <a:lnTo>
                    <a:pt x="14" y="1197"/>
                  </a:lnTo>
                  <a:lnTo>
                    <a:pt x="0" y="1181"/>
                  </a:lnTo>
                  <a:lnTo>
                    <a:pt x="57" y="800"/>
                  </a:lnTo>
                  <a:lnTo>
                    <a:pt x="48" y="801"/>
                  </a:lnTo>
                  <a:lnTo>
                    <a:pt x="48" y="724"/>
                  </a:lnTo>
                  <a:lnTo>
                    <a:pt x="40" y="714"/>
                  </a:lnTo>
                  <a:lnTo>
                    <a:pt x="55" y="528"/>
                  </a:lnTo>
                  <a:lnTo>
                    <a:pt x="73" y="308"/>
                  </a:lnTo>
                  <a:lnTo>
                    <a:pt x="169" y="263"/>
                  </a:lnTo>
                  <a:lnTo>
                    <a:pt x="196" y="213"/>
                  </a:lnTo>
                  <a:lnTo>
                    <a:pt x="170" y="171"/>
                  </a:lnTo>
                  <a:lnTo>
                    <a:pt x="153" y="176"/>
                  </a:lnTo>
                  <a:lnTo>
                    <a:pt x="145" y="155"/>
                  </a:lnTo>
                  <a:lnTo>
                    <a:pt x="145" y="132"/>
                  </a:lnTo>
                  <a:lnTo>
                    <a:pt x="120" y="129"/>
                  </a:lnTo>
                  <a:lnTo>
                    <a:pt x="114" y="66"/>
                  </a:lnTo>
                  <a:lnTo>
                    <a:pt x="137" y="20"/>
                  </a:lnTo>
                  <a:lnTo>
                    <a:pt x="162" y="5"/>
                  </a:lnTo>
                  <a:lnTo>
                    <a:pt x="198" y="5"/>
                  </a:lnTo>
                  <a:lnTo>
                    <a:pt x="225" y="0"/>
                  </a:lnTo>
                  <a:lnTo>
                    <a:pt x="24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Freeform 163"/>
            <p:cNvSpPr/>
            <p:nvPr/>
          </p:nvSpPr>
          <p:spPr>
            <a:xfrm>
              <a:off x="7057800" y="1105200"/>
              <a:ext cx="138240" cy="625320"/>
            </a:xfrm>
            <a:custGeom>
              <a:avLst/>
              <a:gdLst>
                <a:gd name="textAreaLeft" fmla="*/ 0 w 138240"/>
                <a:gd name="textAreaRight" fmla="*/ 138600 w 138240"/>
                <a:gd name="textAreaTop" fmla="*/ 0 h 625320"/>
                <a:gd name="textAreaBottom" fmla="*/ 625680 h 625320"/>
              </a:gdLst>
              <a:ahLst/>
              <a:rect l="textAreaLeft" t="textAreaTop" r="textAreaRight" b="textAreaBottom"/>
              <a:pathLst>
                <a:path w="258" h="1112">
                  <a:moveTo>
                    <a:pt x="60" y="21"/>
                  </a:moveTo>
                  <a:lnTo>
                    <a:pt x="60" y="49"/>
                  </a:lnTo>
                  <a:lnTo>
                    <a:pt x="65" y="57"/>
                  </a:lnTo>
                  <a:lnTo>
                    <a:pt x="53" y="80"/>
                  </a:lnTo>
                  <a:lnTo>
                    <a:pt x="60" y="86"/>
                  </a:lnTo>
                  <a:lnTo>
                    <a:pt x="58" y="95"/>
                  </a:lnTo>
                  <a:lnTo>
                    <a:pt x="66" y="124"/>
                  </a:lnTo>
                  <a:lnTo>
                    <a:pt x="66" y="131"/>
                  </a:lnTo>
                  <a:lnTo>
                    <a:pt x="21" y="160"/>
                  </a:lnTo>
                  <a:lnTo>
                    <a:pt x="0" y="392"/>
                  </a:lnTo>
                  <a:lnTo>
                    <a:pt x="26" y="431"/>
                  </a:lnTo>
                  <a:lnTo>
                    <a:pt x="16" y="556"/>
                  </a:lnTo>
                  <a:lnTo>
                    <a:pt x="34" y="570"/>
                  </a:lnTo>
                  <a:lnTo>
                    <a:pt x="42" y="765"/>
                  </a:lnTo>
                  <a:lnTo>
                    <a:pt x="56" y="962"/>
                  </a:lnTo>
                  <a:lnTo>
                    <a:pt x="51" y="973"/>
                  </a:lnTo>
                  <a:lnTo>
                    <a:pt x="5" y="1010"/>
                  </a:lnTo>
                  <a:lnTo>
                    <a:pt x="10" y="1017"/>
                  </a:lnTo>
                  <a:lnTo>
                    <a:pt x="26" y="1024"/>
                  </a:lnTo>
                  <a:lnTo>
                    <a:pt x="54" y="1017"/>
                  </a:lnTo>
                  <a:lnTo>
                    <a:pt x="80" y="1003"/>
                  </a:lnTo>
                  <a:lnTo>
                    <a:pt x="102" y="995"/>
                  </a:lnTo>
                  <a:lnTo>
                    <a:pt x="102" y="1028"/>
                  </a:lnTo>
                  <a:lnTo>
                    <a:pt x="111" y="1029"/>
                  </a:lnTo>
                  <a:lnTo>
                    <a:pt x="95" y="1060"/>
                  </a:lnTo>
                  <a:lnTo>
                    <a:pt x="103" y="1106"/>
                  </a:lnTo>
                  <a:lnTo>
                    <a:pt x="119" y="1112"/>
                  </a:lnTo>
                  <a:lnTo>
                    <a:pt x="146" y="1074"/>
                  </a:lnTo>
                  <a:lnTo>
                    <a:pt x="146" y="1046"/>
                  </a:lnTo>
                  <a:lnTo>
                    <a:pt x="155" y="1042"/>
                  </a:lnTo>
                  <a:lnTo>
                    <a:pt x="165" y="789"/>
                  </a:lnTo>
                  <a:lnTo>
                    <a:pt x="155" y="763"/>
                  </a:lnTo>
                  <a:lnTo>
                    <a:pt x="186" y="593"/>
                  </a:lnTo>
                  <a:lnTo>
                    <a:pt x="204" y="586"/>
                  </a:lnTo>
                  <a:lnTo>
                    <a:pt x="211" y="411"/>
                  </a:lnTo>
                  <a:lnTo>
                    <a:pt x="258" y="390"/>
                  </a:lnTo>
                  <a:lnTo>
                    <a:pt x="238" y="198"/>
                  </a:lnTo>
                  <a:lnTo>
                    <a:pt x="164" y="147"/>
                  </a:lnTo>
                  <a:lnTo>
                    <a:pt x="146" y="130"/>
                  </a:lnTo>
                  <a:lnTo>
                    <a:pt x="145" y="112"/>
                  </a:lnTo>
                  <a:lnTo>
                    <a:pt x="153" y="99"/>
                  </a:lnTo>
                  <a:lnTo>
                    <a:pt x="160" y="88"/>
                  </a:lnTo>
                  <a:lnTo>
                    <a:pt x="168" y="75"/>
                  </a:lnTo>
                  <a:lnTo>
                    <a:pt x="172" y="61"/>
                  </a:lnTo>
                  <a:lnTo>
                    <a:pt x="172" y="48"/>
                  </a:lnTo>
                  <a:lnTo>
                    <a:pt x="168" y="34"/>
                  </a:lnTo>
                  <a:lnTo>
                    <a:pt x="159" y="19"/>
                  </a:lnTo>
                  <a:lnTo>
                    <a:pt x="146" y="7"/>
                  </a:lnTo>
                  <a:lnTo>
                    <a:pt x="130" y="1"/>
                  </a:lnTo>
                  <a:lnTo>
                    <a:pt x="112" y="0"/>
                  </a:lnTo>
                  <a:lnTo>
                    <a:pt x="95" y="2"/>
                  </a:lnTo>
                  <a:lnTo>
                    <a:pt x="80" y="7"/>
                  </a:lnTo>
                  <a:lnTo>
                    <a:pt x="60" y="2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Freeform 164"/>
            <p:cNvSpPr/>
            <p:nvPr/>
          </p:nvSpPr>
          <p:spPr>
            <a:xfrm>
              <a:off x="8381160" y="1272960"/>
              <a:ext cx="258480" cy="915840"/>
            </a:xfrm>
            <a:custGeom>
              <a:avLst/>
              <a:gdLst>
                <a:gd name="textAreaLeft" fmla="*/ 0 w 258480"/>
                <a:gd name="textAreaRight" fmla="*/ 258840 w 258480"/>
                <a:gd name="textAreaTop" fmla="*/ 0 h 915840"/>
                <a:gd name="textAreaBottom" fmla="*/ 916200 h 915840"/>
              </a:gdLst>
              <a:ahLst/>
              <a:rect l="textAreaLeft" t="textAreaTop" r="textAreaRight" b="textAreaBottom"/>
              <a:pathLst>
                <a:path w="484" h="1628">
                  <a:moveTo>
                    <a:pt x="120" y="21"/>
                  </a:moveTo>
                  <a:lnTo>
                    <a:pt x="180" y="0"/>
                  </a:lnTo>
                  <a:lnTo>
                    <a:pt x="242" y="11"/>
                  </a:lnTo>
                  <a:lnTo>
                    <a:pt x="285" y="53"/>
                  </a:lnTo>
                  <a:lnTo>
                    <a:pt x="302" y="103"/>
                  </a:lnTo>
                  <a:lnTo>
                    <a:pt x="288" y="162"/>
                  </a:lnTo>
                  <a:lnTo>
                    <a:pt x="310" y="197"/>
                  </a:lnTo>
                  <a:lnTo>
                    <a:pt x="340" y="212"/>
                  </a:lnTo>
                  <a:lnTo>
                    <a:pt x="426" y="248"/>
                  </a:lnTo>
                  <a:lnTo>
                    <a:pt x="449" y="272"/>
                  </a:lnTo>
                  <a:lnTo>
                    <a:pt x="484" y="533"/>
                  </a:lnTo>
                  <a:lnTo>
                    <a:pt x="470" y="586"/>
                  </a:lnTo>
                  <a:lnTo>
                    <a:pt x="380" y="607"/>
                  </a:lnTo>
                  <a:lnTo>
                    <a:pt x="395" y="854"/>
                  </a:lnTo>
                  <a:lnTo>
                    <a:pt x="335" y="877"/>
                  </a:lnTo>
                  <a:lnTo>
                    <a:pt x="317" y="1057"/>
                  </a:lnTo>
                  <a:lnTo>
                    <a:pt x="330" y="1374"/>
                  </a:lnTo>
                  <a:lnTo>
                    <a:pt x="335" y="1547"/>
                  </a:lnTo>
                  <a:lnTo>
                    <a:pt x="319" y="1552"/>
                  </a:lnTo>
                  <a:lnTo>
                    <a:pt x="319" y="1566"/>
                  </a:lnTo>
                  <a:lnTo>
                    <a:pt x="271" y="1597"/>
                  </a:lnTo>
                  <a:lnTo>
                    <a:pt x="243" y="1620"/>
                  </a:lnTo>
                  <a:lnTo>
                    <a:pt x="224" y="1626"/>
                  </a:lnTo>
                  <a:lnTo>
                    <a:pt x="200" y="1628"/>
                  </a:lnTo>
                  <a:lnTo>
                    <a:pt x="177" y="1621"/>
                  </a:lnTo>
                  <a:lnTo>
                    <a:pt x="172" y="1614"/>
                  </a:lnTo>
                  <a:lnTo>
                    <a:pt x="177" y="1601"/>
                  </a:lnTo>
                  <a:lnTo>
                    <a:pt x="189" y="1587"/>
                  </a:lnTo>
                  <a:lnTo>
                    <a:pt x="204" y="1566"/>
                  </a:lnTo>
                  <a:lnTo>
                    <a:pt x="227" y="1546"/>
                  </a:lnTo>
                  <a:lnTo>
                    <a:pt x="210" y="1554"/>
                  </a:lnTo>
                  <a:lnTo>
                    <a:pt x="210" y="1532"/>
                  </a:lnTo>
                  <a:lnTo>
                    <a:pt x="141" y="1563"/>
                  </a:lnTo>
                  <a:lnTo>
                    <a:pt x="115" y="1563"/>
                  </a:lnTo>
                  <a:lnTo>
                    <a:pt x="107" y="1554"/>
                  </a:lnTo>
                  <a:lnTo>
                    <a:pt x="107" y="1542"/>
                  </a:lnTo>
                  <a:lnTo>
                    <a:pt x="109" y="1533"/>
                  </a:lnTo>
                  <a:lnTo>
                    <a:pt x="115" y="1521"/>
                  </a:lnTo>
                  <a:lnTo>
                    <a:pt x="131" y="1505"/>
                  </a:lnTo>
                  <a:lnTo>
                    <a:pt x="144" y="1491"/>
                  </a:lnTo>
                  <a:lnTo>
                    <a:pt x="127" y="1488"/>
                  </a:lnTo>
                  <a:lnTo>
                    <a:pt x="112" y="1335"/>
                  </a:lnTo>
                  <a:lnTo>
                    <a:pt x="106" y="1089"/>
                  </a:lnTo>
                  <a:lnTo>
                    <a:pt x="78" y="889"/>
                  </a:lnTo>
                  <a:lnTo>
                    <a:pt x="70" y="835"/>
                  </a:lnTo>
                  <a:lnTo>
                    <a:pt x="61" y="804"/>
                  </a:lnTo>
                  <a:lnTo>
                    <a:pt x="83" y="682"/>
                  </a:lnTo>
                  <a:lnTo>
                    <a:pt x="89" y="628"/>
                  </a:lnTo>
                  <a:lnTo>
                    <a:pt x="76" y="633"/>
                  </a:lnTo>
                  <a:lnTo>
                    <a:pt x="67" y="627"/>
                  </a:lnTo>
                  <a:lnTo>
                    <a:pt x="61" y="627"/>
                  </a:lnTo>
                  <a:lnTo>
                    <a:pt x="50" y="618"/>
                  </a:lnTo>
                  <a:lnTo>
                    <a:pt x="36" y="619"/>
                  </a:lnTo>
                  <a:lnTo>
                    <a:pt x="29" y="607"/>
                  </a:lnTo>
                  <a:lnTo>
                    <a:pt x="21" y="604"/>
                  </a:lnTo>
                  <a:lnTo>
                    <a:pt x="18" y="594"/>
                  </a:lnTo>
                  <a:lnTo>
                    <a:pt x="6" y="586"/>
                  </a:lnTo>
                  <a:lnTo>
                    <a:pt x="0" y="572"/>
                  </a:lnTo>
                  <a:lnTo>
                    <a:pt x="25" y="518"/>
                  </a:lnTo>
                  <a:lnTo>
                    <a:pt x="14" y="482"/>
                  </a:lnTo>
                  <a:lnTo>
                    <a:pt x="60" y="518"/>
                  </a:lnTo>
                  <a:lnTo>
                    <a:pt x="130" y="278"/>
                  </a:lnTo>
                  <a:lnTo>
                    <a:pt x="183" y="232"/>
                  </a:lnTo>
                  <a:lnTo>
                    <a:pt x="172" y="220"/>
                  </a:lnTo>
                  <a:lnTo>
                    <a:pt x="127" y="212"/>
                  </a:lnTo>
                  <a:lnTo>
                    <a:pt x="122" y="182"/>
                  </a:lnTo>
                  <a:lnTo>
                    <a:pt x="136" y="175"/>
                  </a:lnTo>
                  <a:lnTo>
                    <a:pt x="118" y="173"/>
                  </a:lnTo>
                  <a:lnTo>
                    <a:pt x="121" y="161"/>
                  </a:lnTo>
                  <a:lnTo>
                    <a:pt x="104" y="155"/>
                  </a:lnTo>
                  <a:lnTo>
                    <a:pt x="116" y="117"/>
                  </a:lnTo>
                  <a:lnTo>
                    <a:pt x="106" y="110"/>
                  </a:lnTo>
                  <a:lnTo>
                    <a:pt x="112" y="59"/>
                  </a:lnTo>
                  <a:lnTo>
                    <a:pt x="99" y="58"/>
                  </a:lnTo>
                  <a:lnTo>
                    <a:pt x="120" y="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75" name="Group 165"/>
            <p:cNvGrpSpPr/>
            <p:nvPr/>
          </p:nvGrpSpPr>
          <p:grpSpPr>
            <a:xfrm>
              <a:off x="7085520" y="1431360"/>
              <a:ext cx="876960" cy="959040"/>
              <a:chOff x="7085520" y="1431360"/>
              <a:chExt cx="876960" cy="959040"/>
            </a:xfrm>
          </p:grpSpPr>
          <p:sp>
            <p:nvSpPr>
              <p:cNvPr id="276" name="Freeform 166"/>
              <p:cNvSpPr/>
              <p:nvPr/>
            </p:nvSpPr>
            <p:spPr>
              <a:xfrm>
                <a:off x="7370280" y="1434600"/>
                <a:ext cx="268200" cy="952920"/>
              </a:xfrm>
              <a:custGeom>
                <a:avLst/>
                <a:gdLst>
                  <a:gd name="textAreaLeft" fmla="*/ 0 w 268200"/>
                  <a:gd name="textAreaRight" fmla="*/ 268560 w 268200"/>
                  <a:gd name="textAreaTop" fmla="*/ 0 h 952920"/>
                  <a:gd name="textAreaBottom" fmla="*/ 953280 h 952920"/>
                </a:gdLst>
                <a:ahLst/>
                <a:rect l="textAreaLeft" t="textAreaTop" r="textAreaRight" b="textAreaBottom"/>
                <a:pathLst>
                  <a:path w="504" h="1693">
                    <a:moveTo>
                      <a:pt x="254" y="13"/>
                    </a:moveTo>
                    <a:lnTo>
                      <a:pt x="195" y="23"/>
                    </a:lnTo>
                    <a:lnTo>
                      <a:pt x="171" y="87"/>
                    </a:lnTo>
                    <a:lnTo>
                      <a:pt x="171" y="116"/>
                    </a:lnTo>
                    <a:lnTo>
                      <a:pt x="197" y="116"/>
                    </a:lnTo>
                    <a:lnTo>
                      <a:pt x="188" y="127"/>
                    </a:lnTo>
                    <a:lnTo>
                      <a:pt x="195" y="134"/>
                    </a:lnTo>
                    <a:lnTo>
                      <a:pt x="203" y="162"/>
                    </a:lnTo>
                    <a:lnTo>
                      <a:pt x="211" y="166"/>
                    </a:lnTo>
                    <a:lnTo>
                      <a:pt x="229" y="219"/>
                    </a:lnTo>
                    <a:lnTo>
                      <a:pt x="229" y="231"/>
                    </a:lnTo>
                    <a:lnTo>
                      <a:pt x="203" y="231"/>
                    </a:lnTo>
                    <a:lnTo>
                      <a:pt x="164" y="295"/>
                    </a:lnTo>
                    <a:lnTo>
                      <a:pt x="90" y="316"/>
                    </a:lnTo>
                    <a:lnTo>
                      <a:pt x="56" y="368"/>
                    </a:lnTo>
                    <a:lnTo>
                      <a:pt x="17" y="832"/>
                    </a:lnTo>
                    <a:lnTo>
                      <a:pt x="35" y="837"/>
                    </a:lnTo>
                    <a:lnTo>
                      <a:pt x="0" y="918"/>
                    </a:lnTo>
                    <a:lnTo>
                      <a:pt x="17" y="969"/>
                    </a:lnTo>
                    <a:lnTo>
                      <a:pt x="34" y="969"/>
                    </a:lnTo>
                    <a:lnTo>
                      <a:pt x="41" y="981"/>
                    </a:lnTo>
                    <a:lnTo>
                      <a:pt x="56" y="981"/>
                    </a:lnTo>
                    <a:lnTo>
                      <a:pt x="49" y="931"/>
                    </a:lnTo>
                    <a:lnTo>
                      <a:pt x="56" y="902"/>
                    </a:lnTo>
                    <a:lnTo>
                      <a:pt x="64" y="925"/>
                    </a:lnTo>
                    <a:lnTo>
                      <a:pt x="56" y="940"/>
                    </a:lnTo>
                    <a:lnTo>
                      <a:pt x="65" y="953"/>
                    </a:lnTo>
                    <a:lnTo>
                      <a:pt x="82" y="912"/>
                    </a:lnTo>
                    <a:lnTo>
                      <a:pt x="72" y="844"/>
                    </a:lnTo>
                    <a:lnTo>
                      <a:pt x="99" y="848"/>
                    </a:lnTo>
                    <a:lnTo>
                      <a:pt x="82" y="1270"/>
                    </a:lnTo>
                    <a:lnTo>
                      <a:pt x="165" y="1292"/>
                    </a:lnTo>
                    <a:lnTo>
                      <a:pt x="203" y="1536"/>
                    </a:lnTo>
                    <a:lnTo>
                      <a:pt x="195" y="1560"/>
                    </a:lnTo>
                    <a:lnTo>
                      <a:pt x="179" y="1663"/>
                    </a:lnTo>
                    <a:lnTo>
                      <a:pt x="179" y="1682"/>
                    </a:lnTo>
                    <a:lnTo>
                      <a:pt x="236" y="1693"/>
                    </a:lnTo>
                    <a:lnTo>
                      <a:pt x="259" y="1665"/>
                    </a:lnTo>
                    <a:lnTo>
                      <a:pt x="246" y="1574"/>
                    </a:lnTo>
                    <a:lnTo>
                      <a:pt x="236" y="1511"/>
                    </a:lnTo>
                    <a:lnTo>
                      <a:pt x="260" y="1303"/>
                    </a:lnTo>
                    <a:lnTo>
                      <a:pt x="268" y="1304"/>
                    </a:lnTo>
                    <a:lnTo>
                      <a:pt x="292" y="1380"/>
                    </a:lnTo>
                    <a:lnTo>
                      <a:pt x="276" y="1505"/>
                    </a:lnTo>
                    <a:lnTo>
                      <a:pt x="259" y="1517"/>
                    </a:lnTo>
                    <a:lnTo>
                      <a:pt x="292" y="1648"/>
                    </a:lnTo>
                    <a:lnTo>
                      <a:pt x="350" y="1664"/>
                    </a:lnTo>
                    <a:lnTo>
                      <a:pt x="359" y="1654"/>
                    </a:lnTo>
                    <a:lnTo>
                      <a:pt x="317" y="1519"/>
                    </a:lnTo>
                    <a:lnTo>
                      <a:pt x="383" y="1292"/>
                    </a:lnTo>
                    <a:lnTo>
                      <a:pt x="413" y="1275"/>
                    </a:lnTo>
                    <a:lnTo>
                      <a:pt x="413" y="1258"/>
                    </a:lnTo>
                    <a:lnTo>
                      <a:pt x="471" y="1262"/>
                    </a:lnTo>
                    <a:lnTo>
                      <a:pt x="489" y="1292"/>
                    </a:lnTo>
                    <a:lnTo>
                      <a:pt x="504" y="1275"/>
                    </a:lnTo>
                    <a:lnTo>
                      <a:pt x="447" y="864"/>
                    </a:lnTo>
                    <a:lnTo>
                      <a:pt x="456" y="865"/>
                    </a:lnTo>
                    <a:lnTo>
                      <a:pt x="456" y="781"/>
                    </a:lnTo>
                    <a:lnTo>
                      <a:pt x="463" y="769"/>
                    </a:lnTo>
                    <a:lnTo>
                      <a:pt x="448" y="569"/>
                    </a:lnTo>
                    <a:lnTo>
                      <a:pt x="430" y="331"/>
                    </a:lnTo>
                    <a:lnTo>
                      <a:pt x="334" y="284"/>
                    </a:lnTo>
                    <a:lnTo>
                      <a:pt x="308" y="231"/>
                    </a:lnTo>
                    <a:lnTo>
                      <a:pt x="333" y="185"/>
                    </a:lnTo>
                    <a:lnTo>
                      <a:pt x="350" y="190"/>
                    </a:lnTo>
                    <a:lnTo>
                      <a:pt x="359" y="167"/>
                    </a:lnTo>
                    <a:lnTo>
                      <a:pt x="359" y="143"/>
                    </a:lnTo>
                    <a:lnTo>
                      <a:pt x="383" y="139"/>
                    </a:lnTo>
                    <a:lnTo>
                      <a:pt x="389" y="72"/>
                    </a:lnTo>
                    <a:lnTo>
                      <a:pt x="366" y="23"/>
                    </a:lnTo>
                    <a:lnTo>
                      <a:pt x="341" y="7"/>
                    </a:lnTo>
                    <a:lnTo>
                      <a:pt x="305" y="7"/>
                    </a:lnTo>
                    <a:lnTo>
                      <a:pt x="278" y="0"/>
                    </a:lnTo>
                    <a:lnTo>
                      <a:pt x="254" y="13"/>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Freeform 167"/>
              <p:cNvSpPr/>
              <p:nvPr/>
            </p:nvSpPr>
            <p:spPr>
              <a:xfrm>
                <a:off x="7692120" y="1432440"/>
                <a:ext cx="270360" cy="954000"/>
              </a:xfrm>
              <a:custGeom>
                <a:avLst/>
                <a:gdLst>
                  <a:gd name="textAreaLeft" fmla="*/ 0 w 270360"/>
                  <a:gd name="textAreaRight" fmla="*/ 270720 w 270360"/>
                  <a:gd name="textAreaTop" fmla="*/ 0 h 954000"/>
                  <a:gd name="textAreaBottom" fmla="*/ 954360 h 954000"/>
                </a:gdLst>
                <a:ahLst/>
                <a:rect l="textAreaLeft" t="textAreaTop" r="textAreaRight" b="textAreaBottom"/>
                <a:pathLst>
                  <a:path w="507" h="1697">
                    <a:moveTo>
                      <a:pt x="126" y="22"/>
                    </a:moveTo>
                    <a:lnTo>
                      <a:pt x="188" y="0"/>
                    </a:lnTo>
                    <a:lnTo>
                      <a:pt x="253" y="12"/>
                    </a:lnTo>
                    <a:lnTo>
                      <a:pt x="299" y="55"/>
                    </a:lnTo>
                    <a:lnTo>
                      <a:pt x="316" y="107"/>
                    </a:lnTo>
                    <a:lnTo>
                      <a:pt x="302" y="170"/>
                    </a:lnTo>
                    <a:lnTo>
                      <a:pt x="324" y="205"/>
                    </a:lnTo>
                    <a:lnTo>
                      <a:pt x="355" y="222"/>
                    </a:lnTo>
                    <a:lnTo>
                      <a:pt x="445" y="259"/>
                    </a:lnTo>
                    <a:lnTo>
                      <a:pt x="469" y="284"/>
                    </a:lnTo>
                    <a:lnTo>
                      <a:pt x="507" y="555"/>
                    </a:lnTo>
                    <a:lnTo>
                      <a:pt x="492" y="611"/>
                    </a:lnTo>
                    <a:lnTo>
                      <a:pt x="398" y="633"/>
                    </a:lnTo>
                    <a:lnTo>
                      <a:pt x="413" y="890"/>
                    </a:lnTo>
                    <a:lnTo>
                      <a:pt x="350" y="914"/>
                    </a:lnTo>
                    <a:lnTo>
                      <a:pt x="332" y="1104"/>
                    </a:lnTo>
                    <a:lnTo>
                      <a:pt x="345" y="1432"/>
                    </a:lnTo>
                    <a:lnTo>
                      <a:pt x="350" y="1613"/>
                    </a:lnTo>
                    <a:lnTo>
                      <a:pt x="334" y="1618"/>
                    </a:lnTo>
                    <a:lnTo>
                      <a:pt x="334" y="1634"/>
                    </a:lnTo>
                    <a:lnTo>
                      <a:pt x="284" y="1665"/>
                    </a:lnTo>
                    <a:lnTo>
                      <a:pt x="255" y="1688"/>
                    </a:lnTo>
                    <a:lnTo>
                      <a:pt x="234" y="1696"/>
                    </a:lnTo>
                    <a:lnTo>
                      <a:pt x="210" y="1697"/>
                    </a:lnTo>
                    <a:lnTo>
                      <a:pt x="186" y="1690"/>
                    </a:lnTo>
                    <a:lnTo>
                      <a:pt x="181" y="1682"/>
                    </a:lnTo>
                    <a:lnTo>
                      <a:pt x="186" y="1669"/>
                    </a:lnTo>
                    <a:lnTo>
                      <a:pt x="197" y="1654"/>
                    </a:lnTo>
                    <a:lnTo>
                      <a:pt x="214" y="1632"/>
                    </a:lnTo>
                    <a:lnTo>
                      <a:pt x="238" y="1612"/>
                    </a:lnTo>
                    <a:lnTo>
                      <a:pt x="220" y="1620"/>
                    </a:lnTo>
                    <a:lnTo>
                      <a:pt x="220" y="1597"/>
                    </a:lnTo>
                    <a:lnTo>
                      <a:pt x="149" y="1628"/>
                    </a:lnTo>
                    <a:lnTo>
                      <a:pt x="121" y="1628"/>
                    </a:lnTo>
                    <a:lnTo>
                      <a:pt x="112" y="1620"/>
                    </a:lnTo>
                    <a:lnTo>
                      <a:pt x="112" y="1608"/>
                    </a:lnTo>
                    <a:lnTo>
                      <a:pt x="114" y="1598"/>
                    </a:lnTo>
                    <a:lnTo>
                      <a:pt x="121" y="1585"/>
                    </a:lnTo>
                    <a:lnTo>
                      <a:pt x="137" y="1569"/>
                    </a:lnTo>
                    <a:lnTo>
                      <a:pt x="151" y="1555"/>
                    </a:lnTo>
                    <a:lnTo>
                      <a:pt x="134" y="1551"/>
                    </a:lnTo>
                    <a:lnTo>
                      <a:pt x="117" y="1392"/>
                    </a:lnTo>
                    <a:lnTo>
                      <a:pt x="111" y="1137"/>
                    </a:lnTo>
                    <a:lnTo>
                      <a:pt x="81" y="927"/>
                    </a:lnTo>
                    <a:lnTo>
                      <a:pt x="74" y="870"/>
                    </a:lnTo>
                    <a:lnTo>
                      <a:pt x="65" y="838"/>
                    </a:lnTo>
                    <a:lnTo>
                      <a:pt x="86" y="711"/>
                    </a:lnTo>
                    <a:lnTo>
                      <a:pt x="94" y="655"/>
                    </a:lnTo>
                    <a:lnTo>
                      <a:pt x="80" y="661"/>
                    </a:lnTo>
                    <a:lnTo>
                      <a:pt x="71" y="653"/>
                    </a:lnTo>
                    <a:lnTo>
                      <a:pt x="65" y="653"/>
                    </a:lnTo>
                    <a:lnTo>
                      <a:pt x="52" y="644"/>
                    </a:lnTo>
                    <a:lnTo>
                      <a:pt x="38" y="646"/>
                    </a:lnTo>
                    <a:lnTo>
                      <a:pt x="32" y="633"/>
                    </a:lnTo>
                    <a:lnTo>
                      <a:pt x="23" y="630"/>
                    </a:lnTo>
                    <a:lnTo>
                      <a:pt x="19" y="619"/>
                    </a:lnTo>
                    <a:lnTo>
                      <a:pt x="7" y="611"/>
                    </a:lnTo>
                    <a:lnTo>
                      <a:pt x="0" y="596"/>
                    </a:lnTo>
                    <a:lnTo>
                      <a:pt x="26" y="540"/>
                    </a:lnTo>
                    <a:lnTo>
                      <a:pt x="15" y="503"/>
                    </a:lnTo>
                    <a:lnTo>
                      <a:pt x="63" y="540"/>
                    </a:lnTo>
                    <a:lnTo>
                      <a:pt x="136" y="291"/>
                    </a:lnTo>
                    <a:lnTo>
                      <a:pt x="192" y="242"/>
                    </a:lnTo>
                    <a:lnTo>
                      <a:pt x="181" y="230"/>
                    </a:lnTo>
                    <a:lnTo>
                      <a:pt x="134" y="222"/>
                    </a:lnTo>
                    <a:lnTo>
                      <a:pt x="128" y="190"/>
                    </a:lnTo>
                    <a:lnTo>
                      <a:pt x="143" y="182"/>
                    </a:lnTo>
                    <a:lnTo>
                      <a:pt x="125" y="180"/>
                    </a:lnTo>
                    <a:lnTo>
                      <a:pt x="127" y="168"/>
                    </a:lnTo>
                    <a:lnTo>
                      <a:pt x="109" y="162"/>
                    </a:lnTo>
                    <a:lnTo>
                      <a:pt x="122" y="121"/>
                    </a:lnTo>
                    <a:lnTo>
                      <a:pt x="111" y="115"/>
                    </a:lnTo>
                    <a:lnTo>
                      <a:pt x="117" y="62"/>
                    </a:lnTo>
                    <a:lnTo>
                      <a:pt x="104" y="60"/>
                    </a:lnTo>
                    <a:lnTo>
                      <a:pt x="126" y="22"/>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8" name="Freeform 168"/>
              <p:cNvSpPr/>
              <p:nvPr/>
            </p:nvSpPr>
            <p:spPr>
              <a:xfrm>
                <a:off x="7085520" y="1431360"/>
                <a:ext cx="192600" cy="959040"/>
              </a:xfrm>
              <a:custGeom>
                <a:avLst/>
                <a:gdLst>
                  <a:gd name="textAreaLeft" fmla="*/ 0 w 192600"/>
                  <a:gd name="textAreaRight" fmla="*/ 192960 w 192600"/>
                  <a:gd name="textAreaTop" fmla="*/ 0 h 959040"/>
                  <a:gd name="textAreaBottom" fmla="*/ 959400 h 959040"/>
                </a:gdLst>
                <a:ahLst/>
                <a:rect l="textAreaLeft" t="textAreaTop" r="textAreaRight" b="textAreaBottom"/>
                <a:pathLst>
                  <a:path w="363" h="1705">
                    <a:moveTo>
                      <a:pt x="235" y="26"/>
                    </a:moveTo>
                    <a:lnTo>
                      <a:pt x="150" y="1"/>
                    </a:lnTo>
                    <a:lnTo>
                      <a:pt x="88" y="0"/>
                    </a:lnTo>
                    <a:lnTo>
                      <a:pt x="31" y="15"/>
                    </a:lnTo>
                    <a:lnTo>
                      <a:pt x="9" y="73"/>
                    </a:lnTo>
                    <a:lnTo>
                      <a:pt x="9" y="125"/>
                    </a:lnTo>
                    <a:lnTo>
                      <a:pt x="42" y="185"/>
                    </a:lnTo>
                    <a:lnTo>
                      <a:pt x="65" y="183"/>
                    </a:lnTo>
                    <a:lnTo>
                      <a:pt x="30" y="252"/>
                    </a:lnTo>
                    <a:lnTo>
                      <a:pt x="0" y="365"/>
                    </a:lnTo>
                    <a:lnTo>
                      <a:pt x="0" y="463"/>
                    </a:lnTo>
                    <a:lnTo>
                      <a:pt x="9" y="587"/>
                    </a:lnTo>
                    <a:lnTo>
                      <a:pt x="31" y="709"/>
                    </a:lnTo>
                    <a:lnTo>
                      <a:pt x="74" y="716"/>
                    </a:lnTo>
                    <a:lnTo>
                      <a:pt x="74" y="752"/>
                    </a:lnTo>
                    <a:lnTo>
                      <a:pt x="95" y="768"/>
                    </a:lnTo>
                    <a:lnTo>
                      <a:pt x="95" y="890"/>
                    </a:lnTo>
                    <a:lnTo>
                      <a:pt x="118" y="914"/>
                    </a:lnTo>
                    <a:lnTo>
                      <a:pt x="118" y="1143"/>
                    </a:lnTo>
                    <a:lnTo>
                      <a:pt x="118" y="1288"/>
                    </a:lnTo>
                    <a:lnTo>
                      <a:pt x="85" y="1450"/>
                    </a:lnTo>
                    <a:lnTo>
                      <a:pt x="72" y="1657"/>
                    </a:lnTo>
                    <a:lnTo>
                      <a:pt x="108" y="1673"/>
                    </a:lnTo>
                    <a:lnTo>
                      <a:pt x="108" y="1697"/>
                    </a:lnTo>
                    <a:lnTo>
                      <a:pt x="170" y="1697"/>
                    </a:lnTo>
                    <a:lnTo>
                      <a:pt x="179" y="1688"/>
                    </a:lnTo>
                    <a:lnTo>
                      <a:pt x="204" y="1688"/>
                    </a:lnTo>
                    <a:lnTo>
                      <a:pt x="205" y="1705"/>
                    </a:lnTo>
                    <a:lnTo>
                      <a:pt x="248" y="1697"/>
                    </a:lnTo>
                    <a:lnTo>
                      <a:pt x="344" y="1688"/>
                    </a:lnTo>
                    <a:lnTo>
                      <a:pt x="344" y="1674"/>
                    </a:lnTo>
                    <a:lnTo>
                      <a:pt x="257" y="1642"/>
                    </a:lnTo>
                    <a:lnTo>
                      <a:pt x="257" y="1612"/>
                    </a:lnTo>
                    <a:lnTo>
                      <a:pt x="332" y="1598"/>
                    </a:lnTo>
                    <a:lnTo>
                      <a:pt x="332" y="1575"/>
                    </a:lnTo>
                    <a:lnTo>
                      <a:pt x="279" y="1544"/>
                    </a:lnTo>
                    <a:lnTo>
                      <a:pt x="279" y="1312"/>
                    </a:lnTo>
                    <a:lnTo>
                      <a:pt x="301" y="1100"/>
                    </a:lnTo>
                    <a:lnTo>
                      <a:pt x="293" y="886"/>
                    </a:lnTo>
                    <a:lnTo>
                      <a:pt x="290" y="768"/>
                    </a:lnTo>
                    <a:lnTo>
                      <a:pt x="299" y="730"/>
                    </a:lnTo>
                    <a:lnTo>
                      <a:pt x="299" y="564"/>
                    </a:lnTo>
                    <a:lnTo>
                      <a:pt x="362" y="526"/>
                    </a:lnTo>
                    <a:lnTo>
                      <a:pt x="363" y="503"/>
                    </a:lnTo>
                    <a:lnTo>
                      <a:pt x="225" y="276"/>
                    </a:lnTo>
                    <a:lnTo>
                      <a:pt x="160" y="246"/>
                    </a:lnTo>
                    <a:lnTo>
                      <a:pt x="169" y="231"/>
                    </a:lnTo>
                    <a:lnTo>
                      <a:pt x="214" y="223"/>
                    </a:lnTo>
                    <a:lnTo>
                      <a:pt x="214" y="208"/>
                    </a:lnTo>
                    <a:lnTo>
                      <a:pt x="225" y="201"/>
                    </a:lnTo>
                    <a:lnTo>
                      <a:pt x="225" y="185"/>
                    </a:lnTo>
                    <a:lnTo>
                      <a:pt x="235" y="177"/>
                    </a:lnTo>
                    <a:lnTo>
                      <a:pt x="225" y="169"/>
                    </a:lnTo>
                    <a:lnTo>
                      <a:pt x="234" y="163"/>
                    </a:lnTo>
                    <a:lnTo>
                      <a:pt x="214" y="125"/>
                    </a:lnTo>
                    <a:lnTo>
                      <a:pt x="225" y="102"/>
                    </a:lnTo>
                    <a:lnTo>
                      <a:pt x="214" y="79"/>
                    </a:lnTo>
                    <a:lnTo>
                      <a:pt x="234" y="64"/>
                    </a:lnTo>
                    <a:lnTo>
                      <a:pt x="235" y="26"/>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279" name="Oval 2"/>
          <p:cNvSpPr/>
          <p:nvPr/>
        </p:nvSpPr>
        <p:spPr>
          <a:xfrm>
            <a:off x="609480" y="295200"/>
            <a:ext cx="4038840" cy="4038840"/>
          </a:xfrm>
          <a:prstGeom prst="ellipse">
            <a:avLst/>
          </a:prstGeom>
          <a:solidFill>
            <a:srgbClr val="66ff99">
              <a:alpha val="50000"/>
            </a:srgbClr>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80" name="Text Box 3"/>
          <p:cNvSpPr/>
          <p:nvPr/>
        </p:nvSpPr>
        <p:spPr>
          <a:xfrm rot="19176000">
            <a:off x="2495520" y="128412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 = 500m</a:t>
            </a:r>
            <a:endParaRPr b="0" lang="en-US" sz="2400" spc="-1" strike="noStrike">
              <a:solidFill>
                <a:srgbClr val="ccecff"/>
              </a:solidFill>
              <a:latin typeface="Times New Roman"/>
            </a:endParaRPr>
          </a:p>
        </p:txBody>
      </p:sp>
      <p:sp>
        <p:nvSpPr>
          <p:cNvPr id="281" name="AutoShape 5"/>
          <p:cNvSpPr/>
          <p:nvPr/>
        </p:nvSpPr>
        <p:spPr>
          <a:xfrm rot="16200000">
            <a:off x="2324160" y="2200320"/>
            <a:ext cx="495360" cy="495360"/>
          </a:xfrm>
          <a:custGeom>
            <a:avLst/>
            <a:gdLst>
              <a:gd name="textAreaLeft" fmla="*/ 0 w 495360"/>
              <a:gd name="textAreaRight" fmla="*/ 495720 w 495360"/>
              <a:gd name="textAreaTop" fmla="*/ 0 h 495360"/>
              <a:gd name="textAreaBottom" fmla="*/ 495720 h 495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82" name="Group 9"/>
          <p:cNvGrpSpPr/>
          <p:nvPr/>
        </p:nvGrpSpPr>
        <p:grpSpPr>
          <a:xfrm>
            <a:off x="4267080" y="752400"/>
            <a:ext cx="380160" cy="609840"/>
            <a:chOff x="4267080" y="752400"/>
            <a:chExt cx="380160" cy="609840"/>
          </a:xfrm>
        </p:grpSpPr>
        <p:sp>
          <p:nvSpPr>
            <p:cNvPr id="283" name="Freeform 7"/>
            <p:cNvSpPr/>
            <p:nvPr/>
          </p:nvSpPr>
          <p:spPr>
            <a:xfrm>
              <a:off x="4267080" y="752400"/>
              <a:ext cx="356040" cy="609840"/>
            </a:xfrm>
            <a:custGeom>
              <a:avLst/>
              <a:gdLst>
                <a:gd name="textAreaLeft" fmla="*/ 0 w 356040"/>
                <a:gd name="textAreaRight" fmla="*/ 356400 w 356040"/>
                <a:gd name="textAreaTop" fmla="*/ 0 h 609840"/>
                <a:gd name="textAreaBottom" fmla="*/ 610200 h 609840"/>
              </a:gdLst>
              <a:ahLst/>
              <a:rect l="textAreaLeft" t="textAreaTop" r="textAreaRight" b="textAreaBottom"/>
              <a:pathLst>
                <a:path w="1152" h="2256">
                  <a:moveTo>
                    <a:pt x="0" y="1296"/>
                  </a:moveTo>
                  <a:lnTo>
                    <a:pt x="0" y="336"/>
                  </a:lnTo>
                  <a:lnTo>
                    <a:pt x="336" y="336"/>
                  </a:lnTo>
                  <a:lnTo>
                    <a:pt x="336" y="240"/>
                  </a:lnTo>
                  <a:lnTo>
                    <a:pt x="96" y="240"/>
                  </a:lnTo>
                  <a:lnTo>
                    <a:pt x="96" y="96"/>
                  </a:lnTo>
                  <a:lnTo>
                    <a:pt x="336" y="144"/>
                  </a:lnTo>
                  <a:lnTo>
                    <a:pt x="336" y="0"/>
                  </a:lnTo>
                  <a:lnTo>
                    <a:pt x="432" y="0"/>
                  </a:lnTo>
                  <a:lnTo>
                    <a:pt x="432" y="144"/>
                  </a:lnTo>
                  <a:lnTo>
                    <a:pt x="672" y="96"/>
                  </a:lnTo>
                  <a:lnTo>
                    <a:pt x="672" y="240"/>
                  </a:lnTo>
                  <a:lnTo>
                    <a:pt x="432" y="240"/>
                  </a:lnTo>
                  <a:lnTo>
                    <a:pt x="432" y="336"/>
                  </a:lnTo>
                  <a:lnTo>
                    <a:pt x="624" y="336"/>
                  </a:lnTo>
                  <a:lnTo>
                    <a:pt x="672" y="432"/>
                  </a:lnTo>
                  <a:lnTo>
                    <a:pt x="1152" y="432"/>
                  </a:lnTo>
                  <a:lnTo>
                    <a:pt x="1152" y="768"/>
                  </a:lnTo>
                  <a:lnTo>
                    <a:pt x="1008" y="768"/>
                  </a:lnTo>
                  <a:lnTo>
                    <a:pt x="1008" y="576"/>
                  </a:lnTo>
                  <a:lnTo>
                    <a:pt x="672" y="576"/>
                  </a:lnTo>
                  <a:lnTo>
                    <a:pt x="624" y="672"/>
                  </a:lnTo>
                  <a:lnTo>
                    <a:pt x="336" y="672"/>
                  </a:lnTo>
                  <a:lnTo>
                    <a:pt x="240" y="576"/>
                  </a:lnTo>
                  <a:lnTo>
                    <a:pt x="240" y="2256"/>
                  </a:lnTo>
                  <a:lnTo>
                    <a:pt x="0" y="2256"/>
                  </a:lnTo>
                  <a:lnTo>
                    <a:pt x="0" y="1296"/>
                  </a:lnTo>
                  <a:close/>
                </a:path>
              </a:pathLst>
            </a:custGeom>
            <a:solidFill>
              <a:srgbClr val="cc99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4" name="Freeform 8"/>
            <p:cNvSpPr/>
            <p:nvPr/>
          </p:nvSpPr>
          <p:spPr>
            <a:xfrm rot="597000">
              <a:off x="4534200" y="973080"/>
              <a:ext cx="101160" cy="144360"/>
            </a:xfrm>
            <a:custGeom>
              <a:avLst/>
              <a:gdLst>
                <a:gd name="textAreaLeft" fmla="*/ 0 w 101160"/>
                <a:gd name="textAreaRight" fmla="*/ 101520 w 101160"/>
                <a:gd name="textAreaTop" fmla="*/ 0 h 144360"/>
                <a:gd name="textAreaBottom" fmla="*/ 144720 h 144360"/>
              </a:gdLst>
              <a:ahLst/>
              <a:rect l="textAreaLeft" t="textAreaTop" r="textAreaRight" b="textAreaBottom"/>
              <a:pathLst>
                <a:path w="369" h="887">
                  <a:moveTo>
                    <a:pt x="143" y="0"/>
                  </a:moveTo>
                  <a:cubicBezTo>
                    <a:pt x="305" y="242"/>
                    <a:pt x="0" y="809"/>
                    <a:pt x="234" y="887"/>
                  </a:cubicBezTo>
                  <a:cubicBezTo>
                    <a:pt x="278" y="872"/>
                    <a:pt x="300" y="848"/>
                    <a:pt x="339" y="822"/>
                  </a:cubicBezTo>
                  <a:cubicBezTo>
                    <a:pt x="348" y="809"/>
                    <a:pt x="364" y="799"/>
                    <a:pt x="365" y="783"/>
                  </a:cubicBezTo>
                  <a:cubicBezTo>
                    <a:pt x="369" y="718"/>
                    <a:pt x="363" y="652"/>
                    <a:pt x="352" y="587"/>
                  </a:cubicBezTo>
                  <a:cubicBezTo>
                    <a:pt x="347" y="558"/>
                    <a:pt x="257" y="492"/>
                    <a:pt x="234" y="457"/>
                  </a:cubicBezTo>
                  <a:cubicBezTo>
                    <a:pt x="209" y="356"/>
                    <a:pt x="221" y="415"/>
                    <a:pt x="208" y="248"/>
                  </a:cubicBezTo>
                  <a:cubicBezTo>
                    <a:pt x="203" y="187"/>
                    <a:pt x="202" y="126"/>
                    <a:pt x="195" y="65"/>
                  </a:cubicBezTo>
                  <a:cubicBezTo>
                    <a:pt x="193" y="47"/>
                    <a:pt x="193" y="27"/>
                    <a:pt x="182" y="13"/>
                  </a:cubicBezTo>
                  <a:cubicBezTo>
                    <a:pt x="173" y="2"/>
                    <a:pt x="156" y="4"/>
                    <a:pt x="143" y="0"/>
                  </a:cubicBezTo>
                  <a:close/>
                </a:path>
              </a:pathLst>
            </a:custGeom>
            <a:solidFill>
              <a:srgbClr val="cc99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285" name="Line 4"/>
          <p:cNvSpPr/>
          <p:nvPr/>
        </p:nvSpPr>
        <p:spPr>
          <a:xfrm flipV="1">
            <a:off x="2743200" y="1056960"/>
            <a:ext cx="1523880" cy="1219320"/>
          </a:xfrm>
          <a:prstGeom prst="line">
            <a:avLst/>
          </a:prstGeom>
          <a:ln w="57240">
            <a:solidFill>
              <a:srgbClr val="ff00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6" name="Group 46"/>
          <p:cNvGrpSpPr/>
          <p:nvPr/>
        </p:nvGrpSpPr>
        <p:grpSpPr>
          <a:xfrm>
            <a:off x="7010280" y="3648240"/>
            <a:ext cx="313560" cy="457200"/>
            <a:chOff x="7010280" y="3648240"/>
            <a:chExt cx="313560" cy="457200"/>
          </a:xfrm>
        </p:grpSpPr>
        <p:sp>
          <p:nvSpPr>
            <p:cNvPr id="287" name="Freeform 47"/>
            <p:cNvSpPr/>
            <p:nvPr/>
          </p:nvSpPr>
          <p:spPr>
            <a:xfrm>
              <a:off x="7010280" y="3648240"/>
              <a:ext cx="294840" cy="457200"/>
            </a:xfrm>
            <a:custGeom>
              <a:avLst/>
              <a:gdLst>
                <a:gd name="textAreaLeft" fmla="*/ 0 w 294840"/>
                <a:gd name="textAreaRight" fmla="*/ 295200 w 294840"/>
                <a:gd name="textAreaTop" fmla="*/ 0 h 457200"/>
                <a:gd name="textAreaBottom" fmla="*/ 457560 h 457200"/>
              </a:gdLst>
              <a:ahLst/>
              <a:rect l="textAreaLeft" t="textAreaTop" r="textAreaRight" b="textAreaBottom"/>
              <a:pathLst>
                <a:path w="1152" h="2256">
                  <a:moveTo>
                    <a:pt x="0" y="1296"/>
                  </a:moveTo>
                  <a:lnTo>
                    <a:pt x="0" y="336"/>
                  </a:lnTo>
                  <a:lnTo>
                    <a:pt x="336" y="336"/>
                  </a:lnTo>
                  <a:lnTo>
                    <a:pt x="336" y="240"/>
                  </a:lnTo>
                  <a:lnTo>
                    <a:pt x="96" y="240"/>
                  </a:lnTo>
                  <a:lnTo>
                    <a:pt x="96" y="96"/>
                  </a:lnTo>
                  <a:lnTo>
                    <a:pt x="336" y="144"/>
                  </a:lnTo>
                  <a:lnTo>
                    <a:pt x="336" y="0"/>
                  </a:lnTo>
                  <a:lnTo>
                    <a:pt x="432" y="0"/>
                  </a:lnTo>
                  <a:lnTo>
                    <a:pt x="432" y="144"/>
                  </a:lnTo>
                  <a:lnTo>
                    <a:pt x="672" y="96"/>
                  </a:lnTo>
                  <a:lnTo>
                    <a:pt x="672" y="240"/>
                  </a:lnTo>
                  <a:lnTo>
                    <a:pt x="432" y="240"/>
                  </a:lnTo>
                  <a:lnTo>
                    <a:pt x="432" y="336"/>
                  </a:lnTo>
                  <a:lnTo>
                    <a:pt x="624" y="336"/>
                  </a:lnTo>
                  <a:lnTo>
                    <a:pt x="672" y="432"/>
                  </a:lnTo>
                  <a:lnTo>
                    <a:pt x="1152" y="432"/>
                  </a:lnTo>
                  <a:lnTo>
                    <a:pt x="1152" y="768"/>
                  </a:lnTo>
                  <a:lnTo>
                    <a:pt x="1008" y="768"/>
                  </a:lnTo>
                  <a:lnTo>
                    <a:pt x="1008" y="576"/>
                  </a:lnTo>
                  <a:lnTo>
                    <a:pt x="672" y="576"/>
                  </a:lnTo>
                  <a:lnTo>
                    <a:pt x="624" y="672"/>
                  </a:lnTo>
                  <a:lnTo>
                    <a:pt x="336" y="672"/>
                  </a:lnTo>
                  <a:lnTo>
                    <a:pt x="240" y="576"/>
                  </a:lnTo>
                  <a:lnTo>
                    <a:pt x="240" y="2256"/>
                  </a:lnTo>
                  <a:lnTo>
                    <a:pt x="0" y="2256"/>
                  </a:lnTo>
                  <a:lnTo>
                    <a:pt x="0" y="1296"/>
                  </a:lnTo>
                  <a:close/>
                </a:path>
              </a:pathLst>
            </a:custGeom>
            <a:solidFill>
              <a:srgbClr val="cc99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8" name="Freeform 48"/>
            <p:cNvSpPr/>
            <p:nvPr/>
          </p:nvSpPr>
          <p:spPr>
            <a:xfrm rot="597000">
              <a:off x="7231320" y="3813120"/>
              <a:ext cx="83880" cy="108000"/>
            </a:xfrm>
            <a:custGeom>
              <a:avLst/>
              <a:gdLst>
                <a:gd name="textAreaLeft" fmla="*/ 0 w 83880"/>
                <a:gd name="textAreaRight" fmla="*/ 84240 w 83880"/>
                <a:gd name="textAreaTop" fmla="*/ 0 h 108000"/>
                <a:gd name="textAreaBottom" fmla="*/ 108360 h 108000"/>
              </a:gdLst>
              <a:ahLst/>
              <a:rect l="textAreaLeft" t="textAreaTop" r="textAreaRight" b="textAreaBottom"/>
              <a:pathLst>
                <a:path w="369" h="887">
                  <a:moveTo>
                    <a:pt x="143" y="0"/>
                  </a:moveTo>
                  <a:cubicBezTo>
                    <a:pt x="305" y="242"/>
                    <a:pt x="0" y="809"/>
                    <a:pt x="234" y="887"/>
                  </a:cubicBezTo>
                  <a:cubicBezTo>
                    <a:pt x="278" y="872"/>
                    <a:pt x="300" y="848"/>
                    <a:pt x="339" y="822"/>
                  </a:cubicBezTo>
                  <a:cubicBezTo>
                    <a:pt x="348" y="809"/>
                    <a:pt x="364" y="799"/>
                    <a:pt x="365" y="783"/>
                  </a:cubicBezTo>
                  <a:cubicBezTo>
                    <a:pt x="369" y="718"/>
                    <a:pt x="363" y="652"/>
                    <a:pt x="352" y="587"/>
                  </a:cubicBezTo>
                  <a:cubicBezTo>
                    <a:pt x="347" y="558"/>
                    <a:pt x="257" y="492"/>
                    <a:pt x="234" y="457"/>
                  </a:cubicBezTo>
                  <a:cubicBezTo>
                    <a:pt x="209" y="356"/>
                    <a:pt x="221" y="415"/>
                    <a:pt x="208" y="248"/>
                  </a:cubicBezTo>
                  <a:cubicBezTo>
                    <a:pt x="203" y="187"/>
                    <a:pt x="202" y="126"/>
                    <a:pt x="195" y="65"/>
                  </a:cubicBezTo>
                  <a:cubicBezTo>
                    <a:pt x="193" y="47"/>
                    <a:pt x="193" y="27"/>
                    <a:pt x="182" y="13"/>
                  </a:cubicBezTo>
                  <a:cubicBezTo>
                    <a:pt x="173" y="2"/>
                    <a:pt x="156" y="4"/>
                    <a:pt x="143" y="0"/>
                  </a:cubicBezTo>
                  <a:close/>
                </a:path>
              </a:pathLst>
            </a:custGeom>
            <a:solidFill>
              <a:srgbClr val="cc99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nvGrpSpPr>
          <p:cNvPr id="289" name="Group 92"/>
          <p:cNvGrpSpPr/>
          <p:nvPr/>
        </p:nvGrpSpPr>
        <p:grpSpPr>
          <a:xfrm>
            <a:off x="5186520" y="1440000"/>
            <a:ext cx="3522600" cy="2094840"/>
            <a:chOff x="5186520" y="1440000"/>
            <a:chExt cx="3522600" cy="2094840"/>
          </a:xfrm>
        </p:grpSpPr>
        <p:grpSp>
          <p:nvGrpSpPr>
            <p:cNvPr id="290" name="Group 65"/>
            <p:cNvGrpSpPr/>
            <p:nvPr/>
          </p:nvGrpSpPr>
          <p:grpSpPr>
            <a:xfrm>
              <a:off x="5403960" y="1440000"/>
              <a:ext cx="2884320" cy="483480"/>
              <a:chOff x="5403960" y="1440000"/>
              <a:chExt cx="2884320" cy="483480"/>
            </a:xfrm>
          </p:grpSpPr>
          <p:sp>
            <p:nvSpPr>
              <p:cNvPr id="291" name="Freeform 53"/>
              <p:cNvSpPr/>
              <p:nvPr/>
            </p:nvSpPr>
            <p:spPr>
              <a:xfrm>
                <a:off x="5664240" y="1539720"/>
                <a:ext cx="66600" cy="315360"/>
              </a:xfrm>
              <a:custGeom>
                <a:avLst/>
                <a:gdLst>
                  <a:gd name="textAreaLeft" fmla="*/ 0 w 66600"/>
                  <a:gd name="textAreaRight" fmla="*/ 66960 w 66600"/>
                  <a:gd name="textAreaTop" fmla="*/ 0 h 315360"/>
                  <a:gd name="textAreaBottom" fmla="*/ 315720 h 315360"/>
                </a:gdLst>
                <a:ahLst/>
                <a:rect l="textAreaLeft" t="textAreaTop" r="textAreaRight" b="textAreaBottom"/>
                <a:pathLst>
                  <a:path w="83" h="399">
                    <a:moveTo>
                      <a:pt x="54" y="5"/>
                    </a:moveTo>
                    <a:lnTo>
                      <a:pt x="35" y="0"/>
                    </a:lnTo>
                    <a:lnTo>
                      <a:pt x="19" y="0"/>
                    </a:lnTo>
                    <a:lnTo>
                      <a:pt x="7" y="3"/>
                    </a:lnTo>
                    <a:lnTo>
                      <a:pt x="1" y="17"/>
                    </a:lnTo>
                    <a:lnTo>
                      <a:pt x="1" y="28"/>
                    </a:lnTo>
                    <a:lnTo>
                      <a:pt x="9" y="42"/>
                    </a:lnTo>
                    <a:lnTo>
                      <a:pt x="14" y="42"/>
                    </a:lnTo>
                    <a:lnTo>
                      <a:pt x="7" y="59"/>
                    </a:lnTo>
                    <a:lnTo>
                      <a:pt x="0" y="86"/>
                    </a:lnTo>
                    <a:lnTo>
                      <a:pt x="0" y="108"/>
                    </a:lnTo>
                    <a:lnTo>
                      <a:pt x="1" y="138"/>
                    </a:lnTo>
                    <a:lnTo>
                      <a:pt x="7" y="166"/>
                    </a:lnTo>
                    <a:lnTo>
                      <a:pt x="17" y="167"/>
                    </a:lnTo>
                    <a:lnTo>
                      <a:pt x="17" y="176"/>
                    </a:lnTo>
                    <a:lnTo>
                      <a:pt x="22" y="180"/>
                    </a:lnTo>
                    <a:lnTo>
                      <a:pt x="22" y="209"/>
                    </a:lnTo>
                    <a:lnTo>
                      <a:pt x="27" y="214"/>
                    </a:lnTo>
                    <a:lnTo>
                      <a:pt x="27" y="268"/>
                    </a:lnTo>
                    <a:lnTo>
                      <a:pt x="27" y="302"/>
                    </a:lnTo>
                    <a:lnTo>
                      <a:pt x="19" y="340"/>
                    </a:lnTo>
                    <a:lnTo>
                      <a:pt x="15" y="389"/>
                    </a:lnTo>
                    <a:lnTo>
                      <a:pt x="24" y="392"/>
                    </a:lnTo>
                    <a:lnTo>
                      <a:pt x="24" y="397"/>
                    </a:lnTo>
                    <a:lnTo>
                      <a:pt x="40" y="397"/>
                    </a:lnTo>
                    <a:lnTo>
                      <a:pt x="41" y="396"/>
                    </a:lnTo>
                    <a:lnTo>
                      <a:pt x="47" y="396"/>
                    </a:lnTo>
                    <a:lnTo>
                      <a:pt x="47" y="399"/>
                    </a:lnTo>
                    <a:lnTo>
                      <a:pt x="58" y="397"/>
                    </a:lnTo>
                    <a:lnTo>
                      <a:pt x="79" y="396"/>
                    </a:lnTo>
                    <a:lnTo>
                      <a:pt x="79" y="392"/>
                    </a:lnTo>
                    <a:lnTo>
                      <a:pt x="59" y="385"/>
                    </a:lnTo>
                    <a:lnTo>
                      <a:pt x="59" y="378"/>
                    </a:lnTo>
                    <a:lnTo>
                      <a:pt x="77" y="375"/>
                    </a:lnTo>
                    <a:lnTo>
                      <a:pt x="77" y="369"/>
                    </a:lnTo>
                    <a:lnTo>
                      <a:pt x="64" y="362"/>
                    </a:lnTo>
                    <a:lnTo>
                      <a:pt x="64" y="307"/>
                    </a:lnTo>
                    <a:lnTo>
                      <a:pt x="69" y="257"/>
                    </a:lnTo>
                    <a:lnTo>
                      <a:pt x="68" y="208"/>
                    </a:lnTo>
                    <a:lnTo>
                      <a:pt x="66" y="180"/>
                    </a:lnTo>
                    <a:lnTo>
                      <a:pt x="69" y="171"/>
                    </a:lnTo>
                    <a:lnTo>
                      <a:pt x="69" y="133"/>
                    </a:lnTo>
                    <a:lnTo>
                      <a:pt x="83" y="122"/>
                    </a:lnTo>
                    <a:lnTo>
                      <a:pt x="83" y="117"/>
                    </a:lnTo>
                    <a:lnTo>
                      <a:pt x="52" y="64"/>
                    </a:lnTo>
                    <a:lnTo>
                      <a:pt x="37" y="58"/>
                    </a:lnTo>
                    <a:lnTo>
                      <a:pt x="38" y="54"/>
                    </a:lnTo>
                    <a:lnTo>
                      <a:pt x="49" y="51"/>
                    </a:lnTo>
                    <a:lnTo>
                      <a:pt x="49" y="49"/>
                    </a:lnTo>
                    <a:lnTo>
                      <a:pt x="52" y="46"/>
                    </a:lnTo>
                    <a:lnTo>
                      <a:pt x="52" y="42"/>
                    </a:lnTo>
                    <a:lnTo>
                      <a:pt x="54" y="41"/>
                    </a:lnTo>
                    <a:lnTo>
                      <a:pt x="52" y="40"/>
                    </a:lnTo>
                    <a:lnTo>
                      <a:pt x="54" y="37"/>
                    </a:lnTo>
                    <a:lnTo>
                      <a:pt x="49" y="28"/>
                    </a:lnTo>
                    <a:lnTo>
                      <a:pt x="52" y="23"/>
                    </a:lnTo>
                    <a:lnTo>
                      <a:pt x="49" y="18"/>
                    </a:lnTo>
                    <a:lnTo>
                      <a:pt x="54" y="14"/>
                    </a:lnTo>
                    <a:lnTo>
                      <a:pt x="54"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2" name="Freeform 54"/>
              <p:cNvSpPr/>
              <p:nvPr/>
            </p:nvSpPr>
            <p:spPr>
              <a:xfrm>
                <a:off x="5403960" y="1547640"/>
                <a:ext cx="108000" cy="360000"/>
              </a:xfrm>
              <a:custGeom>
                <a:avLst/>
                <a:gdLst>
                  <a:gd name="textAreaLeft" fmla="*/ 0 w 108000"/>
                  <a:gd name="textAreaRight" fmla="*/ 108360 w 108000"/>
                  <a:gd name="textAreaTop" fmla="*/ 0 h 360000"/>
                  <a:gd name="textAreaBottom" fmla="*/ 360360 h 360000"/>
                </a:gdLst>
                <a:ahLst/>
                <a:rect l="textAreaLeft" t="textAreaTop" r="textAreaRight" b="textAreaBottom"/>
                <a:pathLst>
                  <a:path w="137" h="453">
                    <a:moveTo>
                      <a:pt x="83" y="5"/>
                    </a:moveTo>
                    <a:lnTo>
                      <a:pt x="110" y="0"/>
                    </a:lnTo>
                    <a:lnTo>
                      <a:pt x="122" y="10"/>
                    </a:lnTo>
                    <a:lnTo>
                      <a:pt x="125" y="6"/>
                    </a:lnTo>
                    <a:lnTo>
                      <a:pt x="133" y="26"/>
                    </a:lnTo>
                    <a:lnTo>
                      <a:pt x="118" y="39"/>
                    </a:lnTo>
                    <a:lnTo>
                      <a:pt x="117" y="49"/>
                    </a:lnTo>
                    <a:lnTo>
                      <a:pt x="114" y="51"/>
                    </a:lnTo>
                    <a:lnTo>
                      <a:pt x="110" y="61"/>
                    </a:lnTo>
                    <a:lnTo>
                      <a:pt x="100" y="63"/>
                    </a:lnTo>
                    <a:lnTo>
                      <a:pt x="100" y="67"/>
                    </a:lnTo>
                    <a:lnTo>
                      <a:pt x="118" y="80"/>
                    </a:lnTo>
                    <a:lnTo>
                      <a:pt x="133" y="146"/>
                    </a:lnTo>
                    <a:lnTo>
                      <a:pt x="122" y="163"/>
                    </a:lnTo>
                    <a:lnTo>
                      <a:pt x="122" y="281"/>
                    </a:lnTo>
                    <a:lnTo>
                      <a:pt x="106" y="286"/>
                    </a:lnTo>
                    <a:lnTo>
                      <a:pt x="104" y="305"/>
                    </a:lnTo>
                    <a:lnTo>
                      <a:pt x="99" y="356"/>
                    </a:lnTo>
                    <a:lnTo>
                      <a:pt x="99" y="383"/>
                    </a:lnTo>
                    <a:lnTo>
                      <a:pt x="122" y="399"/>
                    </a:lnTo>
                    <a:lnTo>
                      <a:pt x="137" y="408"/>
                    </a:lnTo>
                    <a:lnTo>
                      <a:pt x="137" y="413"/>
                    </a:lnTo>
                    <a:lnTo>
                      <a:pt x="102" y="406"/>
                    </a:lnTo>
                    <a:lnTo>
                      <a:pt x="99" y="401"/>
                    </a:lnTo>
                    <a:lnTo>
                      <a:pt x="95" y="406"/>
                    </a:lnTo>
                    <a:lnTo>
                      <a:pt x="91" y="406"/>
                    </a:lnTo>
                    <a:lnTo>
                      <a:pt x="87" y="387"/>
                    </a:lnTo>
                    <a:lnTo>
                      <a:pt x="83" y="300"/>
                    </a:lnTo>
                    <a:lnTo>
                      <a:pt x="76" y="300"/>
                    </a:lnTo>
                    <a:lnTo>
                      <a:pt x="57" y="377"/>
                    </a:lnTo>
                    <a:lnTo>
                      <a:pt x="57" y="424"/>
                    </a:lnTo>
                    <a:lnTo>
                      <a:pt x="49" y="448"/>
                    </a:lnTo>
                    <a:lnTo>
                      <a:pt x="41" y="453"/>
                    </a:lnTo>
                    <a:lnTo>
                      <a:pt x="37" y="440"/>
                    </a:lnTo>
                    <a:lnTo>
                      <a:pt x="43" y="427"/>
                    </a:lnTo>
                    <a:lnTo>
                      <a:pt x="49" y="397"/>
                    </a:lnTo>
                    <a:lnTo>
                      <a:pt x="50" y="287"/>
                    </a:lnTo>
                    <a:lnTo>
                      <a:pt x="57" y="182"/>
                    </a:lnTo>
                    <a:lnTo>
                      <a:pt x="45" y="173"/>
                    </a:lnTo>
                    <a:lnTo>
                      <a:pt x="45" y="158"/>
                    </a:lnTo>
                    <a:lnTo>
                      <a:pt x="45" y="128"/>
                    </a:lnTo>
                    <a:lnTo>
                      <a:pt x="30" y="136"/>
                    </a:lnTo>
                    <a:lnTo>
                      <a:pt x="43" y="154"/>
                    </a:lnTo>
                    <a:lnTo>
                      <a:pt x="43" y="170"/>
                    </a:lnTo>
                    <a:lnTo>
                      <a:pt x="30" y="160"/>
                    </a:lnTo>
                    <a:lnTo>
                      <a:pt x="22" y="150"/>
                    </a:lnTo>
                    <a:lnTo>
                      <a:pt x="15" y="152"/>
                    </a:lnTo>
                    <a:lnTo>
                      <a:pt x="0" y="135"/>
                    </a:lnTo>
                    <a:lnTo>
                      <a:pt x="0" y="128"/>
                    </a:lnTo>
                    <a:lnTo>
                      <a:pt x="7" y="126"/>
                    </a:lnTo>
                    <a:lnTo>
                      <a:pt x="25" y="105"/>
                    </a:lnTo>
                    <a:lnTo>
                      <a:pt x="43" y="89"/>
                    </a:lnTo>
                    <a:lnTo>
                      <a:pt x="67" y="68"/>
                    </a:lnTo>
                    <a:lnTo>
                      <a:pt x="83" y="61"/>
                    </a:lnTo>
                    <a:lnTo>
                      <a:pt x="83" y="47"/>
                    </a:lnTo>
                    <a:lnTo>
                      <a:pt x="76" y="40"/>
                    </a:lnTo>
                    <a:lnTo>
                      <a:pt x="76" y="21"/>
                    </a:lnTo>
                    <a:lnTo>
                      <a:pt x="72" y="18"/>
                    </a:lnTo>
                    <a:lnTo>
                      <a:pt x="83"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3" name="Freeform 55"/>
              <p:cNvSpPr/>
              <p:nvPr/>
            </p:nvSpPr>
            <p:spPr>
              <a:xfrm>
                <a:off x="5835600" y="1560240"/>
                <a:ext cx="76320" cy="261360"/>
              </a:xfrm>
              <a:custGeom>
                <a:avLst/>
                <a:gdLst>
                  <a:gd name="textAreaLeft" fmla="*/ 0 w 76320"/>
                  <a:gd name="textAreaRight" fmla="*/ 76680 w 76320"/>
                  <a:gd name="textAreaTop" fmla="*/ 0 h 261360"/>
                  <a:gd name="textAreaBottom" fmla="*/ 261720 h 261360"/>
                </a:gdLst>
                <a:ahLst/>
                <a:rect l="textAreaLeft" t="textAreaTop" r="textAreaRight" b="textAreaBottom"/>
                <a:pathLst>
                  <a:path w="97" h="330">
                    <a:moveTo>
                      <a:pt x="58" y="3"/>
                    </a:moveTo>
                    <a:lnTo>
                      <a:pt x="77" y="0"/>
                    </a:lnTo>
                    <a:lnTo>
                      <a:pt x="86" y="6"/>
                    </a:lnTo>
                    <a:lnTo>
                      <a:pt x="89" y="4"/>
                    </a:lnTo>
                    <a:lnTo>
                      <a:pt x="94" y="19"/>
                    </a:lnTo>
                    <a:lnTo>
                      <a:pt x="84" y="28"/>
                    </a:lnTo>
                    <a:lnTo>
                      <a:pt x="83" y="36"/>
                    </a:lnTo>
                    <a:lnTo>
                      <a:pt x="81" y="37"/>
                    </a:lnTo>
                    <a:lnTo>
                      <a:pt x="77" y="45"/>
                    </a:lnTo>
                    <a:lnTo>
                      <a:pt x="71" y="46"/>
                    </a:lnTo>
                    <a:lnTo>
                      <a:pt x="71" y="48"/>
                    </a:lnTo>
                    <a:lnTo>
                      <a:pt x="84" y="59"/>
                    </a:lnTo>
                    <a:lnTo>
                      <a:pt x="94" y="106"/>
                    </a:lnTo>
                    <a:lnTo>
                      <a:pt x="86" y="118"/>
                    </a:lnTo>
                    <a:lnTo>
                      <a:pt x="86" y="205"/>
                    </a:lnTo>
                    <a:lnTo>
                      <a:pt x="75" y="209"/>
                    </a:lnTo>
                    <a:lnTo>
                      <a:pt x="74" y="223"/>
                    </a:lnTo>
                    <a:lnTo>
                      <a:pt x="70" y="260"/>
                    </a:lnTo>
                    <a:lnTo>
                      <a:pt x="70" y="279"/>
                    </a:lnTo>
                    <a:lnTo>
                      <a:pt x="86" y="292"/>
                    </a:lnTo>
                    <a:lnTo>
                      <a:pt x="97" y="298"/>
                    </a:lnTo>
                    <a:lnTo>
                      <a:pt x="97" y="302"/>
                    </a:lnTo>
                    <a:lnTo>
                      <a:pt x="72" y="295"/>
                    </a:lnTo>
                    <a:lnTo>
                      <a:pt x="70" y="293"/>
                    </a:lnTo>
                    <a:lnTo>
                      <a:pt x="67" y="295"/>
                    </a:lnTo>
                    <a:lnTo>
                      <a:pt x="65" y="295"/>
                    </a:lnTo>
                    <a:lnTo>
                      <a:pt x="61" y="281"/>
                    </a:lnTo>
                    <a:lnTo>
                      <a:pt x="58" y="219"/>
                    </a:lnTo>
                    <a:lnTo>
                      <a:pt x="53" y="219"/>
                    </a:lnTo>
                    <a:lnTo>
                      <a:pt x="39" y="275"/>
                    </a:lnTo>
                    <a:lnTo>
                      <a:pt x="39" y="309"/>
                    </a:lnTo>
                    <a:lnTo>
                      <a:pt x="34" y="327"/>
                    </a:lnTo>
                    <a:lnTo>
                      <a:pt x="29" y="330"/>
                    </a:lnTo>
                    <a:lnTo>
                      <a:pt x="25" y="321"/>
                    </a:lnTo>
                    <a:lnTo>
                      <a:pt x="29" y="312"/>
                    </a:lnTo>
                    <a:lnTo>
                      <a:pt x="34" y="289"/>
                    </a:lnTo>
                    <a:lnTo>
                      <a:pt x="35" y="210"/>
                    </a:lnTo>
                    <a:lnTo>
                      <a:pt x="39" y="132"/>
                    </a:lnTo>
                    <a:lnTo>
                      <a:pt x="32" y="126"/>
                    </a:lnTo>
                    <a:lnTo>
                      <a:pt x="32" y="115"/>
                    </a:lnTo>
                    <a:lnTo>
                      <a:pt x="32" y="93"/>
                    </a:lnTo>
                    <a:lnTo>
                      <a:pt x="20" y="99"/>
                    </a:lnTo>
                    <a:lnTo>
                      <a:pt x="29" y="112"/>
                    </a:lnTo>
                    <a:lnTo>
                      <a:pt x="29" y="123"/>
                    </a:lnTo>
                    <a:lnTo>
                      <a:pt x="20" y="117"/>
                    </a:lnTo>
                    <a:lnTo>
                      <a:pt x="15" y="109"/>
                    </a:lnTo>
                    <a:lnTo>
                      <a:pt x="9" y="111"/>
                    </a:lnTo>
                    <a:lnTo>
                      <a:pt x="0" y="98"/>
                    </a:lnTo>
                    <a:lnTo>
                      <a:pt x="0" y="93"/>
                    </a:lnTo>
                    <a:lnTo>
                      <a:pt x="3" y="92"/>
                    </a:lnTo>
                    <a:lnTo>
                      <a:pt x="16" y="76"/>
                    </a:lnTo>
                    <a:lnTo>
                      <a:pt x="29" y="65"/>
                    </a:lnTo>
                    <a:lnTo>
                      <a:pt x="47" y="50"/>
                    </a:lnTo>
                    <a:lnTo>
                      <a:pt x="58" y="45"/>
                    </a:lnTo>
                    <a:lnTo>
                      <a:pt x="58" y="34"/>
                    </a:lnTo>
                    <a:lnTo>
                      <a:pt x="53" y="29"/>
                    </a:lnTo>
                    <a:lnTo>
                      <a:pt x="53" y="15"/>
                    </a:lnTo>
                    <a:lnTo>
                      <a:pt x="51" y="13"/>
                    </a:lnTo>
                    <a:lnTo>
                      <a:pt x="58" y="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4" name="Freeform 56"/>
              <p:cNvSpPr/>
              <p:nvPr/>
            </p:nvSpPr>
            <p:spPr>
              <a:xfrm>
                <a:off x="5967360" y="1539720"/>
                <a:ext cx="65160" cy="318600"/>
              </a:xfrm>
              <a:custGeom>
                <a:avLst/>
                <a:gdLst>
                  <a:gd name="textAreaLeft" fmla="*/ 0 w 65160"/>
                  <a:gd name="textAreaRight" fmla="*/ 65520 w 65160"/>
                  <a:gd name="textAreaTop" fmla="*/ 0 h 318600"/>
                  <a:gd name="textAreaBottom" fmla="*/ 318960 h 318600"/>
                </a:gdLst>
                <a:ahLst/>
                <a:rect l="textAreaLeft" t="textAreaTop" r="textAreaRight" b="textAreaBottom"/>
                <a:pathLst>
                  <a:path w="83" h="403">
                    <a:moveTo>
                      <a:pt x="55" y="5"/>
                    </a:moveTo>
                    <a:lnTo>
                      <a:pt x="35" y="0"/>
                    </a:lnTo>
                    <a:lnTo>
                      <a:pt x="20" y="0"/>
                    </a:lnTo>
                    <a:lnTo>
                      <a:pt x="7" y="3"/>
                    </a:lnTo>
                    <a:lnTo>
                      <a:pt x="2" y="17"/>
                    </a:lnTo>
                    <a:lnTo>
                      <a:pt x="2" y="30"/>
                    </a:lnTo>
                    <a:lnTo>
                      <a:pt x="9" y="42"/>
                    </a:lnTo>
                    <a:lnTo>
                      <a:pt x="14" y="42"/>
                    </a:lnTo>
                    <a:lnTo>
                      <a:pt x="7" y="59"/>
                    </a:lnTo>
                    <a:lnTo>
                      <a:pt x="0" y="86"/>
                    </a:lnTo>
                    <a:lnTo>
                      <a:pt x="0" y="108"/>
                    </a:lnTo>
                    <a:lnTo>
                      <a:pt x="2" y="139"/>
                    </a:lnTo>
                    <a:lnTo>
                      <a:pt x="7" y="167"/>
                    </a:lnTo>
                    <a:lnTo>
                      <a:pt x="17" y="168"/>
                    </a:lnTo>
                    <a:lnTo>
                      <a:pt x="17" y="177"/>
                    </a:lnTo>
                    <a:lnTo>
                      <a:pt x="22" y="181"/>
                    </a:lnTo>
                    <a:lnTo>
                      <a:pt x="22" y="210"/>
                    </a:lnTo>
                    <a:lnTo>
                      <a:pt x="27" y="217"/>
                    </a:lnTo>
                    <a:lnTo>
                      <a:pt x="27" y="270"/>
                    </a:lnTo>
                    <a:lnTo>
                      <a:pt x="27" y="305"/>
                    </a:lnTo>
                    <a:lnTo>
                      <a:pt x="20" y="343"/>
                    </a:lnTo>
                    <a:lnTo>
                      <a:pt x="17" y="392"/>
                    </a:lnTo>
                    <a:lnTo>
                      <a:pt x="25" y="396"/>
                    </a:lnTo>
                    <a:lnTo>
                      <a:pt x="25" y="403"/>
                    </a:lnTo>
                    <a:lnTo>
                      <a:pt x="39" y="403"/>
                    </a:lnTo>
                    <a:lnTo>
                      <a:pt x="41" y="400"/>
                    </a:lnTo>
                    <a:lnTo>
                      <a:pt x="46" y="400"/>
                    </a:lnTo>
                    <a:lnTo>
                      <a:pt x="48" y="403"/>
                    </a:lnTo>
                    <a:lnTo>
                      <a:pt x="58" y="403"/>
                    </a:lnTo>
                    <a:lnTo>
                      <a:pt x="79" y="400"/>
                    </a:lnTo>
                    <a:lnTo>
                      <a:pt x="79" y="396"/>
                    </a:lnTo>
                    <a:lnTo>
                      <a:pt x="60" y="390"/>
                    </a:lnTo>
                    <a:lnTo>
                      <a:pt x="60" y="382"/>
                    </a:lnTo>
                    <a:lnTo>
                      <a:pt x="77" y="378"/>
                    </a:lnTo>
                    <a:lnTo>
                      <a:pt x="77" y="373"/>
                    </a:lnTo>
                    <a:lnTo>
                      <a:pt x="65" y="366"/>
                    </a:lnTo>
                    <a:lnTo>
                      <a:pt x="65" y="310"/>
                    </a:lnTo>
                    <a:lnTo>
                      <a:pt x="69" y="260"/>
                    </a:lnTo>
                    <a:lnTo>
                      <a:pt x="68" y="210"/>
                    </a:lnTo>
                    <a:lnTo>
                      <a:pt x="67" y="181"/>
                    </a:lnTo>
                    <a:lnTo>
                      <a:pt x="69" y="172"/>
                    </a:lnTo>
                    <a:lnTo>
                      <a:pt x="69" y="133"/>
                    </a:lnTo>
                    <a:lnTo>
                      <a:pt x="83" y="124"/>
                    </a:lnTo>
                    <a:lnTo>
                      <a:pt x="83" y="119"/>
                    </a:lnTo>
                    <a:lnTo>
                      <a:pt x="51" y="65"/>
                    </a:lnTo>
                    <a:lnTo>
                      <a:pt x="37" y="58"/>
                    </a:lnTo>
                    <a:lnTo>
                      <a:pt x="39" y="54"/>
                    </a:lnTo>
                    <a:lnTo>
                      <a:pt x="50" y="51"/>
                    </a:lnTo>
                    <a:lnTo>
                      <a:pt x="50" y="49"/>
                    </a:lnTo>
                    <a:lnTo>
                      <a:pt x="51" y="46"/>
                    </a:lnTo>
                    <a:lnTo>
                      <a:pt x="51" y="42"/>
                    </a:lnTo>
                    <a:lnTo>
                      <a:pt x="55" y="41"/>
                    </a:lnTo>
                    <a:lnTo>
                      <a:pt x="51" y="40"/>
                    </a:lnTo>
                    <a:lnTo>
                      <a:pt x="54" y="37"/>
                    </a:lnTo>
                    <a:lnTo>
                      <a:pt x="50" y="30"/>
                    </a:lnTo>
                    <a:lnTo>
                      <a:pt x="51" y="23"/>
                    </a:lnTo>
                    <a:lnTo>
                      <a:pt x="50" y="18"/>
                    </a:lnTo>
                    <a:lnTo>
                      <a:pt x="54" y="14"/>
                    </a:lnTo>
                    <a:lnTo>
                      <a:pt x="55"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95" name="Group 59"/>
              <p:cNvGrpSpPr/>
              <p:nvPr/>
            </p:nvGrpSpPr>
            <p:grpSpPr>
              <a:xfrm>
                <a:off x="7118280" y="1495080"/>
                <a:ext cx="189000" cy="410760"/>
                <a:chOff x="7118280" y="1495080"/>
                <a:chExt cx="189000" cy="410760"/>
              </a:xfrm>
            </p:grpSpPr>
            <p:sp>
              <p:nvSpPr>
                <p:cNvPr id="296" name="Freeform 57"/>
                <p:cNvSpPr/>
                <p:nvPr/>
              </p:nvSpPr>
              <p:spPr>
                <a:xfrm>
                  <a:off x="7184880" y="1495080"/>
                  <a:ext cx="122400" cy="410760"/>
                </a:xfrm>
                <a:custGeom>
                  <a:avLst/>
                  <a:gdLst>
                    <a:gd name="textAreaLeft" fmla="*/ 0 w 122400"/>
                    <a:gd name="textAreaRight" fmla="*/ 122760 w 122400"/>
                    <a:gd name="textAreaTop" fmla="*/ 0 h 410760"/>
                    <a:gd name="textAreaBottom" fmla="*/ 411120 h 410760"/>
                  </a:gdLst>
                  <a:ahLst/>
                  <a:rect l="textAreaLeft" t="textAreaTop" r="textAreaRight" b="textAreaBottom"/>
                  <a:pathLst>
                    <a:path w="155" h="516">
                      <a:moveTo>
                        <a:pt x="62" y="6"/>
                      </a:moveTo>
                      <a:lnTo>
                        <a:pt x="31" y="0"/>
                      </a:lnTo>
                      <a:lnTo>
                        <a:pt x="20" y="12"/>
                      </a:lnTo>
                      <a:lnTo>
                        <a:pt x="14" y="7"/>
                      </a:lnTo>
                      <a:lnTo>
                        <a:pt x="6" y="30"/>
                      </a:lnTo>
                      <a:lnTo>
                        <a:pt x="22" y="45"/>
                      </a:lnTo>
                      <a:lnTo>
                        <a:pt x="23" y="57"/>
                      </a:lnTo>
                      <a:lnTo>
                        <a:pt x="27" y="58"/>
                      </a:lnTo>
                      <a:lnTo>
                        <a:pt x="31" y="70"/>
                      </a:lnTo>
                      <a:lnTo>
                        <a:pt x="43" y="72"/>
                      </a:lnTo>
                      <a:lnTo>
                        <a:pt x="43" y="76"/>
                      </a:lnTo>
                      <a:lnTo>
                        <a:pt x="22" y="92"/>
                      </a:lnTo>
                      <a:lnTo>
                        <a:pt x="6" y="166"/>
                      </a:lnTo>
                      <a:lnTo>
                        <a:pt x="20" y="185"/>
                      </a:lnTo>
                      <a:lnTo>
                        <a:pt x="20" y="322"/>
                      </a:lnTo>
                      <a:lnTo>
                        <a:pt x="35" y="327"/>
                      </a:lnTo>
                      <a:lnTo>
                        <a:pt x="39" y="348"/>
                      </a:lnTo>
                      <a:lnTo>
                        <a:pt x="45" y="406"/>
                      </a:lnTo>
                      <a:lnTo>
                        <a:pt x="45" y="437"/>
                      </a:lnTo>
                      <a:lnTo>
                        <a:pt x="20" y="457"/>
                      </a:lnTo>
                      <a:lnTo>
                        <a:pt x="2" y="465"/>
                      </a:lnTo>
                      <a:lnTo>
                        <a:pt x="0" y="472"/>
                      </a:lnTo>
                      <a:lnTo>
                        <a:pt x="40" y="463"/>
                      </a:lnTo>
                      <a:lnTo>
                        <a:pt x="45" y="457"/>
                      </a:lnTo>
                      <a:lnTo>
                        <a:pt x="49" y="463"/>
                      </a:lnTo>
                      <a:lnTo>
                        <a:pt x="53" y="463"/>
                      </a:lnTo>
                      <a:lnTo>
                        <a:pt x="58" y="441"/>
                      </a:lnTo>
                      <a:lnTo>
                        <a:pt x="62" y="342"/>
                      </a:lnTo>
                      <a:lnTo>
                        <a:pt x="69" y="342"/>
                      </a:lnTo>
                      <a:lnTo>
                        <a:pt x="91" y="430"/>
                      </a:lnTo>
                      <a:lnTo>
                        <a:pt x="91" y="483"/>
                      </a:lnTo>
                      <a:lnTo>
                        <a:pt x="100" y="511"/>
                      </a:lnTo>
                      <a:lnTo>
                        <a:pt x="109" y="516"/>
                      </a:lnTo>
                      <a:lnTo>
                        <a:pt x="113" y="502"/>
                      </a:lnTo>
                      <a:lnTo>
                        <a:pt x="108" y="487"/>
                      </a:lnTo>
                      <a:lnTo>
                        <a:pt x="100" y="453"/>
                      </a:lnTo>
                      <a:lnTo>
                        <a:pt x="99" y="329"/>
                      </a:lnTo>
                      <a:lnTo>
                        <a:pt x="92" y="207"/>
                      </a:lnTo>
                      <a:lnTo>
                        <a:pt x="105" y="197"/>
                      </a:lnTo>
                      <a:lnTo>
                        <a:pt x="105" y="179"/>
                      </a:lnTo>
                      <a:lnTo>
                        <a:pt x="105" y="146"/>
                      </a:lnTo>
                      <a:lnTo>
                        <a:pt x="122" y="155"/>
                      </a:lnTo>
                      <a:lnTo>
                        <a:pt x="108" y="176"/>
                      </a:lnTo>
                      <a:lnTo>
                        <a:pt x="108" y="194"/>
                      </a:lnTo>
                      <a:lnTo>
                        <a:pt x="123" y="183"/>
                      </a:lnTo>
                      <a:lnTo>
                        <a:pt x="132" y="170"/>
                      </a:lnTo>
                      <a:lnTo>
                        <a:pt x="139" y="174"/>
                      </a:lnTo>
                      <a:lnTo>
                        <a:pt x="155" y="152"/>
                      </a:lnTo>
                      <a:lnTo>
                        <a:pt x="155" y="146"/>
                      </a:lnTo>
                      <a:lnTo>
                        <a:pt x="147" y="143"/>
                      </a:lnTo>
                      <a:lnTo>
                        <a:pt x="128" y="120"/>
                      </a:lnTo>
                      <a:lnTo>
                        <a:pt x="108" y="101"/>
                      </a:lnTo>
                      <a:lnTo>
                        <a:pt x="81" y="77"/>
                      </a:lnTo>
                      <a:lnTo>
                        <a:pt x="62" y="70"/>
                      </a:lnTo>
                      <a:lnTo>
                        <a:pt x="62" y="54"/>
                      </a:lnTo>
                      <a:lnTo>
                        <a:pt x="69" y="45"/>
                      </a:lnTo>
                      <a:lnTo>
                        <a:pt x="69" y="25"/>
                      </a:lnTo>
                      <a:lnTo>
                        <a:pt x="74" y="21"/>
                      </a:lnTo>
                      <a:lnTo>
                        <a:pt x="62" y="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7" name="Freeform 58"/>
                <p:cNvSpPr/>
                <p:nvPr/>
              </p:nvSpPr>
              <p:spPr>
                <a:xfrm>
                  <a:off x="7118280" y="1497960"/>
                  <a:ext cx="88920" cy="391680"/>
                </a:xfrm>
                <a:custGeom>
                  <a:avLst/>
                  <a:gdLst>
                    <a:gd name="textAreaLeft" fmla="*/ 0 w 88920"/>
                    <a:gd name="textAreaRight" fmla="*/ 89280 w 88920"/>
                    <a:gd name="textAreaTop" fmla="*/ 0 h 391680"/>
                    <a:gd name="textAreaBottom" fmla="*/ 392040 h 391680"/>
                  </a:gdLst>
                  <a:ahLst/>
                  <a:rect l="textAreaLeft" t="textAreaTop" r="textAreaRight" b="textAreaBottom"/>
                  <a:pathLst>
                    <a:path w="112" h="495">
                      <a:moveTo>
                        <a:pt x="87" y="9"/>
                      </a:moveTo>
                      <a:lnTo>
                        <a:pt x="87" y="22"/>
                      </a:lnTo>
                      <a:lnTo>
                        <a:pt x="84" y="26"/>
                      </a:lnTo>
                      <a:lnTo>
                        <a:pt x="89" y="36"/>
                      </a:lnTo>
                      <a:lnTo>
                        <a:pt x="87" y="38"/>
                      </a:lnTo>
                      <a:lnTo>
                        <a:pt x="87" y="42"/>
                      </a:lnTo>
                      <a:lnTo>
                        <a:pt x="84" y="56"/>
                      </a:lnTo>
                      <a:lnTo>
                        <a:pt x="84" y="57"/>
                      </a:lnTo>
                      <a:lnTo>
                        <a:pt x="103" y="71"/>
                      </a:lnTo>
                      <a:lnTo>
                        <a:pt x="112" y="174"/>
                      </a:lnTo>
                      <a:lnTo>
                        <a:pt x="101" y="192"/>
                      </a:lnTo>
                      <a:lnTo>
                        <a:pt x="106" y="247"/>
                      </a:lnTo>
                      <a:lnTo>
                        <a:pt x="98" y="253"/>
                      </a:lnTo>
                      <a:lnTo>
                        <a:pt x="94" y="340"/>
                      </a:lnTo>
                      <a:lnTo>
                        <a:pt x="88" y="429"/>
                      </a:lnTo>
                      <a:lnTo>
                        <a:pt x="91" y="434"/>
                      </a:lnTo>
                      <a:lnTo>
                        <a:pt x="111" y="449"/>
                      </a:lnTo>
                      <a:lnTo>
                        <a:pt x="108" y="453"/>
                      </a:lnTo>
                      <a:lnTo>
                        <a:pt x="101" y="456"/>
                      </a:lnTo>
                      <a:lnTo>
                        <a:pt x="89" y="453"/>
                      </a:lnTo>
                      <a:lnTo>
                        <a:pt x="78" y="447"/>
                      </a:lnTo>
                      <a:lnTo>
                        <a:pt x="68" y="443"/>
                      </a:lnTo>
                      <a:lnTo>
                        <a:pt x="68" y="458"/>
                      </a:lnTo>
                      <a:lnTo>
                        <a:pt x="64" y="458"/>
                      </a:lnTo>
                      <a:lnTo>
                        <a:pt x="71" y="472"/>
                      </a:lnTo>
                      <a:lnTo>
                        <a:pt x="68" y="493"/>
                      </a:lnTo>
                      <a:lnTo>
                        <a:pt x="60" y="495"/>
                      </a:lnTo>
                      <a:lnTo>
                        <a:pt x="48" y="479"/>
                      </a:lnTo>
                      <a:lnTo>
                        <a:pt x="48" y="466"/>
                      </a:lnTo>
                      <a:lnTo>
                        <a:pt x="45" y="463"/>
                      </a:lnTo>
                      <a:lnTo>
                        <a:pt x="40" y="351"/>
                      </a:lnTo>
                      <a:lnTo>
                        <a:pt x="45" y="340"/>
                      </a:lnTo>
                      <a:lnTo>
                        <a:pt x="31" y="264"/>
                      </a:lnTo>
                      <a:lnTo>
                        <a:pt x="23" y="261"/>
                      </a:lnTo>
                      <a:lnTo>
                        <a:pt x="20" y="182"/>
                      </a:lnTo>
                      <a:lnTo>
                        <a:pt x="0" y="173"/>
                      </a:lnTo>
                      <a:lnTo>
                        <a:pt x="8" y="88"/>
                      </a:lnTo>
                      <a:lnTo>
                        <a:pt x="41" y="65"/>
                      </a:lnTo>
                      <a:lnTo>
                        <a:pt x="48" y="57"/>
                      </a:lnTo>
                      <a:lnTo>
                        <a:pt x="48" y="50"/>
                      </a:lnTo>
                      <a:lnTo>
                        <a:pt x="46" y="43"/>
                      </a:lnTo>
                      <a:lnTo>
                        <a:pt x="42" y="40"/>
                      </a:lnTo>
                      <a:lnTo>
                        <a:pt x="38" y="33"/>
                      </a:lnTo>
                      <a:lnTo>
                        <a:pt x="37" y="27"/>
                      </a:lnTo>
                      <a:lnTo>
                        <a:pt x="37" y="22"/>
                      </a:lnTo>
                      <a:lnTo>
                        <a:pt x="38" y="14"/>
                      </a:lnTo>
                      <a:lnTo>
                        <a:pt x="43" y="8"/>
                      </a:lnTo>
                      <a:lnTo>
                        <a:pt x="48" y="3"/>
                      </a:lnTo>
                      <a:lnTo>
                        <a:pt x="56" y="0"/>
                      </a:lnTo>
                      <a:lnTo>
                        <a:pt x="64" y="0"/>
                      </a:lnTo>
                      <a:lnTo>
                        <a:pt x="71" y="0"/>
                      </a:lnTo>
                      <a:lnTo>
                        <a:pt x="78" y="3"/>
                      </a:lnTo>
                      <a:lnTo>
                        <a:pt x="87" y="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8" name="Freeform 60"/>
              <p:cNvSpPr/>
              <p:nvPr/>
            </p:nvSpPr>
            <p:spPr>
              <a:xfrm>
                <a:off x="7939080" y="1523520"/>
                <a:ext cx="108000" cy="360000"/>
              </a:xfrm>
              <a:custGeom>
                <a:avLst/>
                <a:gdLst>
                  <a:gd name="textAreaLeft" fmla="*/ 0 w 108000"/>
                  <a:gd name="textAreaRight" fmla="*/ 108360 w 108000"/>
                  <a:gd name="textAreaTop" fmla="*/ 0 h 360000"/>
                  <a:gd name="textAreaBottom" fmla="*/ 360360 h 360000"/>
                </a:gdLst>
                <a:ahLst/>
                <a:rect l="textAreaLeft" t="textAreaTop" r="textAreaRight" b="textAreaBottom"/>
                <a:pathLst>
                  <a:path w="136" h="453">
                    <a:moveTo>
                      <a:pt x="83" y="5"/>
                    </a:moveTo>
                    <a:lnTo>
                      <a:pt x="110" y="0"/>
                    </a:lnTo>
                    <a:lnTo>
                      <a:pt x="121" y="10"/>
                    </a:lnTo>
                    <a:lnTo>
                      <a:pt x="125" y="7"/>
                    </a:lnTo>
                    <a:lnTo>
                      <a:pt x="133" y="27"/>
                    </a:lnTo>
                    <a:lnTo>
                      <a:pt x="117" y="40"/>
                    </a:lnTo>
                    <a:lnTo>
                      <a:pt x="116" y="50"/>
                    </a:lnTo>
                    <a:lnTo>
                      <a:pt x="113" y="51"/>
                    </a:lnTo>
                    <a:lnTo>
                      <a:pt x="110" y="61"/>
                    </a:lnTo>
                    <a:lnTo>
                      <a:pt x="99" y="64"/>
                    </a:lnTo>
                    <a:lnTo>
                      <a:pt x="99" y="68"/>
                    </a:lnTo>
                    <a:lnTo>
                      <a:pt x="117" y="80"/>
                    </a:lnTo>
                    <a:lnTo>
                      <a:pt x="133" y="147"/>
                    </a:lnTo>
                    <a:lnTo>
                      <a:pt x="121" y="163"/>
                    </a:lnTo>
                    <a:lnTo>
                      <a:pt x="121" y="282"/>
                    </a:lnTo>
                    <a:lnTo>
                      <a:pt x="106" y="287"/>
                    </a:lnTo>
                    <a:lnTo>
                      <a:pt x="103" y="306"/>
                    </a:lnTo>
                    <a:lnTo>
                      <a:pt x="98" y="357"/>
                    </a:lnTo>
                    <a:lnTo>
                      <a:pt x="98" y="383"/>
                    </a:lnTo>
                    <a:lnTo>
                      <a:pt x="121" y="400"/>
                    </a:lnTo>
                    <a:lnTo>
                      <a:pt x="136" y="409"/>
                    </a:lnTo>
                    <a:lnTo>
                      <a:pt x="136" y="414"/>
                    </a:lnTo>
                    <a:lnTo>
                      <a:pt x="102" y="406"/>
                    </a:lnTo>
                    <a:lnTo>
                      <a:pt x="98" y="401"/>
                    </a:lnTo>
                    <a:lnTo>
                      <a:pt x="94" y="406"/>
                    </a:lnTo>
                    <a:lnTo>
                      <a:pt x="91" y="406"/>
                    </a:lnTo>
                    <a:lnTo>
                      <a:pt x="87" y="387"/>
                    </a:lnTo>
                    <a:lnTo>
                      <a:pt x="83" y="301"/>
                    </a:lnTo>
                    <a:lnTo>
                      <a:pt x="75" y="301"/>
                    </a:lnTo>
                    <a:lnTo>
                      <a:pt x="56" y="377"/>
                    </a:lnTo>
                    <a:lnTo>
                      <a:pt x="56" y="424"/>
                    </a:lnTo>
                    <a:lnTo>
                      <a:pt x="48" y="448"/>
                    </a:lnTo>
                    <a:lnTo>
                      <a:pt x="41" y="453"/>
                    </a:lnTo>
                    <a:lnTo>
                      <a:pt x="37" y="441"/>
                    </a:lnTo>
                    <a:lnTo>
                      <a:pt x="42" y="428"/>
                    </a:lnTo>
                    <a:lnTo>
                      <a:pt x="48" y="397"/>
                    </a:lnTo>
                    <a:lnTo>
                      <a:pt x="50" y="288"/>
                    </a:lnTo>
                    <a:lnTo>
                      <a:pt x="56" y="182"/>
                    </a:lnTo>
                    <a:lnTo>
                      <a:pt x="45" y="173"/>
                    </a:lnTo>
                    <a:lnTo>
                      <a:pt x="45" y="158"/>
                    </a:lnTo>
                    <a:lnTo>
                      <a:pt x="45" y="129"/>
                    </a:lnTo>
                    <a:lnTo>
                      <a:pt x="29" y="136"/>
                    </a:lnTo>
                    <a:lnTo>
                      <a:pt x="42" y="154"/>
                    </a:lnTo>
                    <a:lnTo>
                      <a:pt x="42" y="171"/>
                    </a:lnTo>
                    <a:lnTo>
                      <a:pt x="29" y="161"/>
                    </a:lnTo>
                    <a:lnTo>
                      <a:pt x="22" y="150"/>
                    </a:lnTo>
                    <a:lnTo>
                      <a:pt x="14" y="153"/>
                    </a:lnTo>
                    <a:lnTo>
                      <a:pt x="0" y="135"/>
                    </a:lnTo>
                    <a:lnTo>
                      <a:pt x="0" y="129"/>
                    </a:lnTo>
                    <a:lnTo>
                      <a:pt x="6" y="126"/>
                    </a:lnTo>
                    <a:lnTo>
                      <a:pt x="24" y="106"/>
                    </a:lnTo>
                    <a:lnTo>
                      <a:pt x="42" y="89"/>
                    </a:lnTo>
                    <a:lnTo>
                      <a:pt x="66" y="69"/>
                    </a:lnTo>
                    <a:lnTo>
                      <a:pt x="83" y="61"/>
                    </a:lnTo>
                    <a:lnTo>
                      <a:pt x="83" y="47"/>
                    </a:lnTo>
                    <a:lnTo>
                      <a:pt x="75" y="41"/>
                    </a:lnTo>
                    <a:lnTo>
                      <a:pt x="75" y="22"/>
                    </a:lnTo>
                    <a:lnTo>
                      <a:pt x="71" y="18"/>
                    </a:lnTo>
                    <a:lnTo>
                      <a:pt x="83"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9" name="Freeform 61"/>
              <p:cNvSpPr/>
              <p:nvPr/>
            </p:nvSpPr>
            <p:spPr>
              <a:xfrm>
                <a:off x="8223120" y="1442880"/>
                <a:ext cx="65160" cy="315360"/>
              </a:xfrm>
              <a:custGeom>
                <a:avLst/>
                <a:gdLst>
                  <a:gd name="textAreaLeft" fmla="*/ 0 w 65160"/>
                  <a:gd name="textAreaRight" fmla="*/ 65520 w 65160"/>
                  <a:gd name="textAreaTop" fmla="*/ 0 h 315360"/>
                  <a:gd name="textAreaBottom" fmla="*/ 315720 h 315360"/>
                </a:gdLst>
                <a:ahLst/>
                <a:rect l="textAreaLeft" t="textAreaTop" r="textAreaRight" b="textAreaBottom"/>
                <a:pathLst>
                  <a:path w="83" h="399">
                    <a:moveTo>
                      <a:pt x="54" y="5"/>
                    </a:moveTo>
                    <a:lnTo>
                      <a:pt x="35" y="0"/>
                    </a:lnTo>
                    <a:lnTo>
                      <a:pt x="19" y="0"/>
                    </a:lnTo>
                    <a:lnTo>
                      <a:pt x="7" y="3"/>
                    </a:lnTo>
                    <a:lnTo>
                      <a:pt x="2" y="17"/>
                    </a:lnTo>
                    <a:lnTo>
                      <a:pt x="2" y="28"/>
                    </a:lnTo>
                    <a:lnTo>
                      <a:pt x="9" y="42"/>
                    </a:lnTo>
                    <a:lnTo>
                      <a:pt x="14" y="42"/>
                    </a:lnTo>
                    <a:lnTo>
                      <a:pt x="7" y="59"/>
                    </a:lnTo>
                    <a:lnTo>
                      <a:pt x="0" y="85"/>
                    </a:lnTo>
                    <a:lnTo>
                      <a:pt x="0" y="108"/>
                    </a:lnTo>
                    <a:lnTo>
                      <a:pt x="2" y="138"/>
                    </a:lnTo>
                    <a:lnTo>
                      <a:pt x="7" y="166"/>
                    </a:lnTo>
                    <a:lnTo>
                      <a:pt x="17" y="167"/>
                    </a:lnTo>
                    <a:lnTo>
                      <a:pt x="17" y="176"/>
                    </a:lnTo>
                    <a:lnTo>
                      <a:pt x="22" y="180"/>
                    </a:lnTo>
                    <a:lnTo>
                      <a:pt x="22" y="209"/>
                    </a:lnTo>
                    <a:lnTo>
                      <a:pt x="27" y="214"/>
                    </a:lnTo>
                    <a:lnTo>
                      <a:pt x="27" y="267"/>
                    </a:lnTo>
                    <a:lnTo>
                      <a:pt x="27" y="302"/>
                    </a:lnTo>
                    <a:lnTo>
                      <a:pt x="19" y="340"/>
                    </a:lnTo>
                    <a:lnTo>
                      <a:pt x="16" y="388"/>
                    </a:lnTo>
                    <a:lnTo>
                      <a:pt x="25" y="392"/>
                    </a:lnTo>
                    <a:lnTo>
                      <a:pt x="25" y="397"/>
                    </a:lnTo>
                    <a:lnTo>
                      <a:pt x="40" y="397"/>
                    </a:lnTo>
                    <a:lnTo>
                      <a:pt x="41" y="396"/>
                    </a:lnTo>
                    <a:lnTo>
                      <a:pt x="47" y="396"/>
                    </a:lnTo>
                    <a:lnTo>
                      <a:pt x="47" y="399"/>
                    </a:lnTo>
                    <a:lnTo>
                      <a:pt x="58" y="397"/>
                    </a:lnTo>
                    <a:lnTo>
                      <a:pt x="79" y="396"/>
                    </a:lnTo>
                    <a:lnTo>
                      <a:pt x="79" y="392"/>
                    </a:lnTo>
                    <a:lnTo>
                      <a:pt x="59" y="385"/>
                    </a:lnTo>
                    <a:lnTo>
                      <a:pt x="59" y="378"/>
                    </a:lnTo>
                    <a:lnTo>
                      <a:pt x="77" y="374"/>
                    </a:lnTo>
                    <a:lnTo>
                      <a:pt x="77" y="369"/>
                    </a:lnTo>
                    <a:lnTo>
                      <a:pt x="64" y="362"/>
                    </a:lnTo>
                    <a:lnTo>
                      <a:pt x="64" y="307"/>
                    </a:lnTo>
                    <a:lnTo>
                      <a:pt x="69" y="257"/>
                    </a:lnTo>
                    <a:lnTo>
                      <a:pt x="68" y="208"/>
                    </a:lnTo>
                    <a:lnTo>
                      <a:pt x="67" y="180"/>
                    </a:lnTo>
                    <a:lnTo>
                      <a:pt x="69" y="171"/>
                    </a:lnTo>
                    <a:lnTo>
                      <a:pt x="69" y="132"/>
                    </a:lnTo>
                    <a:lnTo>
                      <a:pt x="83" y="122"/>
                    </a:lnTo>
                    <a:lnTo>
                      <a:pt x="83" y="117"/>
                    </a:lnTo>
                    <a:lnTo>
                      <a:pt x="53" y="64"/>
                    </a:lnTo>
                    <a:lnTo>
                      <a:pt x="37" y="57"/>
                    </a:lnTo>
                    <a:lnTo>
                      <a:pt x="39" y="54"/>
                    </a:lnTo>
                    <a:lnTo>
                      <a:pt x="49" y="51"/>
                    </a:lnTo>
                    <a:lnTo>
                      <a:pt x="49" y="48"/>
                    </a:lnTo>
                    <a:lnTo>
                      <a:pt x="53" y="46"/>
                    </a:lnTo>
                    <a:lnTo>
                      <a:pt x="53" y="42"/>
                    </a:lnTo>
                    <a:lnTo>
                      <a:pt x="54" y="41"/>
                    </a:lnTo>
                    <a:lnTo>
                      <a:pt x="53" y="40"/>
                    </a:lnTo>
                    <a:lnTo>
                      <a:pt x="54" y="37"/>
                    </a:lnTo>
                    <a:lnTo>
                      <a:pt x="49" y="28"/>
                    </a:lnTo>
                    <a:lnTo>
                      <a:pt x="53" y="23"/>
                    </a:lnTo>
                    <a:lnTo>
                      <a:pt x="49" y="18"/>
                    </a:lnTo>
                    <a:lnTo>
                      <a:pt x="54" y="14"/>
                    </a:lnTo>
                    <a:lnTo>
                      <a:pt x="54"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0" name="Freeform 62"/>
              <p:cNvSpPr/>
              <p:nvPr/>
            </p:nvSpPr>
            <p:spPr>
              <a:xfrm>
                <a:off x="6583320" y="1440000"/>
                <a:ext cx="84240" cy="285120"/>
              </a:xfrm>
              <a:custGeom>
                <a:avLst/>
                <a:gdLst>
                  <a:gd name="textAreaLeft" fmla="*/ 0 w 84240"/>
                  <a:gd name="textAreaRight" fmla="*/ 84600 w 84240"/>
                  <a:gd name="textAreaTop" fmla="*/ 0 h 285120"/>
                  <a:gd name="textAreaBottom" fmla="*/ 285480 h 285120"/>
                </a:gdLst>
                <a:ahLst/>
                <a:rect l="textAreaLeft" t="textAreaTop" r="textAreaRight" b="textAreaBottom"/>
                <a:pathLst>
                  <a:path w="107" h="361">
                    <a:moveTo>
                      <a:pt x="65" y="4"/>
                    </a:moveTo>
                    <a:lnTo>
                      <a:pt x="87" y="0"/>
                    </a:lnTo>
                    <a:lnTo>
                      <a:pt x="95" y="8"/>
                    </a:lnTo>
                    <a:lnTo>
                      <a:pt x="98" y="4"/>
                    </a:lnTo>
                    <a:lnTo>
                      <a:pt x="104" y="21"/>
                    </a:lnTo>
                    <a:lnTo>
                      <a:pt x="93" y="31"/>
                    </a:lnTo>
                    <a:lnTo>
                      <a:pt x="92" y="40"/>
                    </a:lnTo>
                    <a:lnTo>
                      <a:pt x="89" y="40"/>
                    </a:lnTo>
                    <a:lnTo>
                      <a:pt x="87" y="49"/>
                    </a:lnTo>
                    <a:lnTo>
                      <a:pt x="78" y="50"/>
                    </a:lnTo>
                    <a:lnTo>
                      <a:pt x="78" y="54"/>
                    </a:lnTo>
                    <a:lnTo>
                      <a:pt x="93" y="64"/>
                    </a:lnTo>
                    <a:lnTo>
                      <a:pt x="104" y="116"/>
                    </a:lnTo>
                    <a:lnTo>
                      <a:pt x="95" y="130"/>
                    </a:lnTo>
                    <a:lnTo>
                      <a:pt x="95" y="224"/>
                    </a:lnTo>
                    <a:lnTo>
                      <a:pt x="83" y="228"/>
                    </a:lnTo>
                    <a:lnTo>
                      <a:pt x="81" y="243"/>
                    </a:lnTo>
                    <a:lnTo>
                      <a:pt x="78" y="284"/>
                    </a:lnTo>
                    <a:lnTo>
                      <a:pt x="78" y="306"/>
                    </a:lnTo>
                    <a:lnTo>
                      <a:pt x="95" y="318"/>
                    </a:lnTo>
                    <a:lnTo>
                      <a:pt x="107" y="326"/>
                    </a:lnTo>
                    <a:lnTo>
                      <a:pt x="107" y="330"/>
                    </a:lnTo>
                    <a:lnTo>
                      <a:pt x="80" y="324"/>
                    </a:lnTo>
                    <a:lnTo>
                      <a:pt x="78" y="320"/>
                    </a:lnTo>
                    <a:lnTo>
                      <a:pt x="74" y="324"/>
                    </a:lnTo>
                    <a:lnTo>
                      <a:pt x="71" y="324"/>
                    </a:lnTo>
                    <a:lnTo>
                      <a:pt x="69" y="308"/>
                    </a:lnTo>
                    <a:lnTo>
                      <a:pt x="65" y="240"/>
                    </a:lnTo>
                    <a:lnTo>
                      <a:pt x="58" y="240"/>
                    </a:lnTo>
                    <a:lnTo>
                      <a:pt x="43" y="301"/>
                    </a:lnTo>
                    <a:lnTo>
                      <a:pt x="43" y="338"/>
                    </a:lnTo>
                    <a:lnTo>
                      <a:pt x="38" y="357"/>
                    </a:lnTo>
                    <a:lnTo>
                      <a:pt x="32" y="361"/>
                    </a:lnTo>
                    <a:lnTo>
                      <a:pt x="29" y="352"/>
                    </a:lnTo>
                    <a:lnTo>
                      <a:pt x="33" y="341"/>
                    </a:lnTo>
                    <a:lnTo>
                      <a:pt x="38" y="316"/>
                    </a:lnTo>
                    <a:lnTo>
                      <a:pt x="38" y="229"/>
                    </a:lnTo>
                    <a:lnTo>
                      <a:pt x="43" y="145"/>
                    </a:lnTo>
                    <a:lnTo>
                      <a:pt x="34" y="138"/>
                    </a:lnTo>
                    <a:lnTo>
                      <a:pt x="34" y="125"/>
                    </a:lnTo>
                    <a:lnTo>
                      <a:pt x="34" y="102"/>
                    </a:lnTo>
                    <a:lnTo>
                      <a:pt x="23" y="108"/>
                    </a:lnTo>
                    <a:lnTo>
                      <a:pt x="33" y="122"/>
                    </a:lnTo>
                    <a:lnTo>
                      <a:pt x="33" y="135"/>
                    </a:lnTo>
                    <a:lnTo>
                      <a:pt x="23" y="128"/>
                    </a:lnTo>
                    <a:lnTo>
                      <a:pt x="16" y="120"/>
                    </a:lnTo>
                    <a:lnTo>
                      <a:pt x="10" y="121"/>
                    </a:lnTo>
                    <a:lnTo>
                      <a:pt x="0" y="107"/>
                    </a:lnTo>
                    <a:lnTo>
                      <a:pt x="0" y="102"/>
                    </a:lnTo>
                    <a:lnTo>
                      <a:pt x="4" y="100"/>
                    </a:lnTo>
                    <a:lnTo>
                      <a:pt x="19" y="84"/>
                    </a:lnTo>
                    <a:lnTo>
                      <a:pt x="33" y="70"/>
                    </a:lnTo>
                    <a:lnTo>
                      <a:pt x="52" y="55"/>
                    </a:lnTo>
                    <a:lnTo>
                      <a:pt x="65" y="49"/>
                    </a:lnTo>
                    <a:lnTo>
                      <a:pt x="65" y="37"/>
                    </a:lnTo>
                    <a:lnTo>
                      <a:pt x="58" y="32"/>
                    </a:lnTo>
                    <a:lnTo>
                      <a:pt x="58" y="17"/>
                    </a:lnTo>
                    <a:lnTo>
                      <a:pt x="56" y="14"/>
                    </a:lnTo>
                    <a:lnTo>
                      <a:pt x="65" y="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1" name="Freeform 63"/>
              <p:cNvSpPr/>
              <p:nvPr/>
            </p:nvSpPr>
            <p:spPr>
              <a:xfrm>
                <a:off x="6342120" y="1515600"/>
                <a:ext cx="46080" cy="204480"/>
              </a:xfrm>
              <a:custGeom>
                <a:avLst/>
                <a:gdLst>
                  <a:gd name="textAreaLeft" fmla="*/ 0 w 46080"/>
                  <a:gd name="textAreaRight" fmla="*/ 46440 w 46080"/>
                  <a:gd name="textAreaTop" fmla="*/ 0 h 204480"/>
                  <a:gd name="textAreaBottom" fmla="*/ 204840 h 204480"/>
                </a:gdLst>
                <a:ahLst/>
                <a:rect l="textAreaLeft" t="textAreaTop" r="textAreaRight" b="textAreaBottom"/>
                <a:pathLst>
                  <a:path w="59" h="258">
                    <a:moveTo>
                      <a:pt x="45" y="5"/>
                    </a:moveTo>
                    <a:lnTo>
                      <a:pt x="45" y="11"/>
                    </a:lnTo>
                    <a:lnTo>
                      <a:pt x="45" y="13"/>
                    </a:lnTo>
                    <a:lnTo>
                      <a:pt x="47" y="18"/>
                    </a:lnTo>
                    <a:lnTo>
                      <a:pt x="45" y="19"/>
                    </a:lnTo>
                    <a:lnTo>
                      <a:pt x="46" y="22"/>
                    </a:lnTo>
                    <a:lnTo>
                      <a:pt x="43" y="28"/>
                    </a:lnTo>
                    <a:lnTo>
                      <a:pt x="43" y="31"/>
                    </a:lnTo>
                    <a:lnTo>
                      <a:pt x="54" y="37"/>
                    </a:lnTo>
                    <a:lnTo>
                      <a:pt x="59" y="90"/>
                    </a:lnTo>
                    <a:lnTo>
                      <a:pt x="52" y="99"/>
                    </a:lnTo>
                    <a:lnTo>
                      <a:pt x="55" y="129"/>
                    </a:lnTo>
                    <a:lnTo>
                      <a:pt x="51" y="132"/>
                    </a:lnTo>
                    <a:lnTo>
                      <a:pt x="50" y="178"/>
                    </a:lnTo>
                    <a:lnTo>
                      <a:pt x="46" y="224"/>
                    </a:lnTo>
                    <a:lnTo>
                      <a:pt x="47" y="227"/>
                    </a:lnTo>
                    <a:lnTo>
                      <a:pt x="57" y="236"/>
                    </a:lnTo>
                    <a:lnTo>
                      <a:pt x="56" y="237"/>
                    </a:lnTo>
                    <a:lnTo>
                      <a:pt x="52" y="238"/>
                    </a:lnTo>
                    <a:lnTo>
                      <a:pt x="46" y="237"/>
                    </a:lnTo>
                    <a:lnTo>
                      <a:pt x="41" y="233"/>
                    </a:lnTo>
                    <a:lnTo>
                      <a:pt x="36" y="232"/>
                    </a:lnTo>
                    <a:lnTo>
                      <a:pt x="36" y="239"/>
                    </a:lnTo>
                    <a:lnTo>
                      <a:pt x="33" y="239"/>
                    </a:lnTo>
                    <a:lnTo>
                      <a:pt x="37" y="247"/>
                    </a:lnTo>
                    <a:lnTo>
                      <a:pt x="36" y="257"/>
                    </a:lnTo>
                    <a:lnTo>
                      <a:pt x="32" y="258"/>
                    </a:lnTo>
                    <a:lnTo>
                      <a:pt x="26" y="250"/>
                    </a:lnTo>
                    <a:lnTo>
                      <a:pt x="26" y="243"/>
                    </a:lnTo>
                    <a:lnTo>
                      <a:pt x="23" y="242"/>
                    </a:lnTo>
                    <a:lnTo>
                      <a:pt x="21" y="183"/>
                    </a:lnTo>
                    <a:lnTo>
                      <a:pt x="23" y="177"/>
                    </a:lnTo>
                    <a:lnTo>
                      <a:pt x="17" y="137"/>
                    </a:lnTo>
                    <a:lnTo>
                      <a:pt x="13" y="136"/>
                    </a:lnTo>
                    <a:lnTo>
                      <a:pt x="10" y="95"/>
                    </a:lnTo>
                    <a:lnTo>
                      <a:pt x="0" y="90"/>
                    </a:lnTo>
                    <a:lnTo>
                      <a:pt x="4" y="46"/>
                    </a:lnTo>
                    <a:lnTo>
                      <a:pt x="22" y="34"/>
                    </a:lnTo>
                    <a:lnTo>
                      <a:pt x="26" y="31"/>
                    </a:lnTo>
                    <a:lnTo>
                      <a:pt x="26" y="25"/>
                    </a:lnTo>
                    <a:lnTo>
                      <a:pt x="24" y="23"/>
                    </a:lnTo>
                    <a:lnTo>
                      <a:pt x="22" y="20"/>
                    </a:lnTo>
                    <a:lnTo>
                      <a:pt x="21" y="17"/>
                    </a:lnTo>
                    <a:lnTo>
                      <a:pt x="19" y="14"/>
                    </a:lnTo>
                    <a:lnTo>
                      <a:pt x="19" y="10"/>
                    </a:lnTo>
                    <a:lnTo>
                      <a:pt x="21" y="8"/>
                    </a:lnTo>
                    <a:lnTo>
                      <a:pt x="23" y="4"/>
                    </a:lnTo>
                    <a:lnTo>
                      <a:pt x="26" y="1"/>
                    </a:lnTo>
                    <a:lnTo>
                      <a:pt x="29" y="0"/>
                    </a:lnTo>
                    <a:lnTo>
                      <a:pt x="33" y="0"/>
                    </a:lnTo>
                    <a:lnTo>
                      <a:pt x="37" y="0"/>
                    </a:lnTo>
                    <a:lnTo>
                      <a:pt x="41" y="1"/>
                    </a:lnTo>
                    <a:lnTo>
                      <a:pt x="45" y="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2" name="Freeform 64"/>
              <p:cNvSpPr/>
              <p:nvPr/>
            </p:nvSpPr>
            <p:spPr>
              <a:xfrm>
                <a:off x="6207120" y="1545840"/>
                <a:ext cx="87480" cy="377640"/>
              </a:xfrm>
              <a:custGeom>
                <a:avLst/>
                <a:gdLst>
                  <a:gd name="textAreaLeft" fmla="*/ 0 w 87480"/>
                  <a:gd name="textAreaRight" fmla="*/ 87840 w 87480"/>
                  <a:gd name="textAreaTop" fmla="*/ 0 h 377640"/>
                  <a:gd name="textAreaBottom" fmla="*/ 378000 h 377640"/>
                </a:gdLst>
                <a:ahLst/>
                <a:rect l="textAreaLeft" t="textAreaTop" r="textAreaRight" b="textAreaBottom"/>
                <a:pathLst>
                  <a:path w="109" h="476">
                    <a:moveTo>
                      <a:pt x="84" y="9"/>
                    </a:moveTo>
                    <a:lnTo>
                      <a:pt x="84" y="21"/>
                    </a:lnTo>
                    <a:lnTo>
                      <a:pt x="83" y="24"/>
                    </a:lnTo>
                    <a:lnTo>
                      <a:pt x="87" y="35"/>
                    </a:lnTo>
                    <a:lnTo>
                      <a:pt x="84" y="37"/>
                    </a:lnTo>
                    <a:lnTo>
                      <a:pt x="85" y="41"/>
                    </a:lnTo>
                    <a:lnTo>
                      <a:pt x="81" y="54"/>
                    </a:lnTo>
                    <a:lnTo>
                      <a:pt x="81" y="56"/>
                    </a:lnTo>
                    <a:lnTo>
                      <a:pt x="101" y="69"/>
                    </a:lnTo>
                    <a:lnTo>
                      <a:pt x="109" y="167"/>
                    </a:lnTo>
                    <a:lnTo>
                      <a:pt x="98" y="185"/>
                    </a:lnTo>
                    <a:lnTo>
                      <a:pt x="103" y="238"/>
                    </a:lnTo>
                    <a:lnTo>
                      <a:pt x="95" y="243"/>
                    </a:lnTo>
                    <a:lnTo>
                      <a:pt x="92" y="327"/>
                    </a:lnTo>
                    <a:lnTo>
                      <a:pt x="87" y="413"/>
                    </a:lnTo>
                    <a:lnTo>
                      <a:pt x="88" y="416"/>
                    </a:lnTo>
                    <a:lnTo>
                      <a:pt x="108" y="433"/>
                    </a:lnTo>
                    <a:lnTo>
                      <a:pt x="106" y="436"/>
                    </a:lnTo>
                    <a:lnTo>
                      <a:pt x="98" y="438"/>
                    </a:lnTo>
                    <a:lnTo>
                      <a:pt x="87" y="436"/>
                    </a:lnTo>
                    <a:lnTo>
                      <a:pt x="75" y="429"/>
                    </a:lnTo>
                    <a:lnTo>
                      <a:pt x="66" y="427"/>
                    </a:lnTo>
                    <a:lnTo>
                      <a:pt x="66" y="441"/>
                    </a:lnTo>
                    <a:lnTo>
                      <a:pt x="62" y="441"/>
                    </a:lnTo>
                    <a:lnTo>
                      <a:pt x="69" y="453"/>
                    </a:lnTo>
                    <a:lnTo>
                      <a:pt x="66" y="474"/>
                    </a:lnTo>
                    <a:lnTo>
                      <a:pt x="58" y="476"/>
                    </a:lnTo>
                    <a:lnTo>
                      <a:pt x="47" y="460"/>
                    </a:lnTo>
                    <a:lnTo>
                      <a:pt x="47" y="448"/>
                    </a:lnTo>
                    <a:lnTo>
                      <a:pt x="43" y="446"/>
                    </a:lnTo>
                    <a:lnTo>
                      <a:pt x="39" y="338"/>
                    </a:lnTo>
                    <a:lnTo>
                      <a:pt x="43" y="327"/>
                    </a:lnTo>
                    <a:lnTo>
                      <a:pt x="30" y="254"/>
                    </a:lnTo>
                    <a:lnTo>
                      <a:pt x="23" y="251"/>
                    </a:lnTo>
                    <a:lnTo>
                      <a:pt x="19" y="176"/>
                    </a:lnTo>
                    <a:lnTo>
                      <a:pt x="0" y="167"/>
                    </a:lnTo>
                    <a:lnTo>
                      <a:pt x="9" y="85"/>
                    </a:lnTo>
                    <a:lnTo>
                      <a:pt x="39" y="63"/>
                    </a:lnTo>
                    <a:lnTo>
                      <a:pt x="47" y="56"/>
                    </a:lnTo>
                    <a:lnTo>
                      <a:pt x="48" y="47"/>
                    </a:lnTo>
                    <a:lnTo>
                      <a:pt x="44" y="42"/>
                    </a:lnTo>
                    <a:lnTo>
                      <a:pt x="42" y="37"/>
                    </a:lnTo>
                    <a:lnTo>
                      <a:pt x="38" y="32"/>
                    </a:lnTo>
                    <a:lnTo>
                      <a:pt x="36" y="26"/>
                    </a:lnTo>
                    <a:lnTo>
                      <a:pt x="36" y="21"/>
                    </a:lnTo>
                    <a:lnTo>
                      <a:pt x="38" y="14"/>
                    </a:lnTo>
                    <a:lnTo>
                      <a:pt x="42" y="8"/>
                    </a:lnTo>
                    <a:lnTo>
                      <a:pt x="47" y="3"/>
                    </a:lnTo>
                    <a:lnTo>
                      <a:pt x="55" y="0"/>
                    </a:lnTo>
                    <a:lnTo>
                      <a:pt x="62" y="0"/>
                    </a:lnTo>
                    <a:lnTo>
                      <a:pt x="69" y="1"/>
                    </a:lnTo>
                    <a:lnTo>
                      <a:pt x="75" y="3"/>
                    </a:lnTo>
                    <a:lnTo>
                      <a:pt x="84" y="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03" name="Group 74"/>
            <p:cNvGrpSpPr/>
            <p:nvPr/>
          </p:nvGrpSpPr>
          <p:grpSpPr>
            <a:xfrm>
              <a:off x="5845320" y="1537920"/>
              <a:ext cx="2531880" cy="1242360"/>
              <a:chOff x="5845320" y="1537920"/>
              <a:chExt cx="2531880" cy="1242360"/>
            </a:xfrm>
          </p:grpSpPr>
          <p:grpSp>
            <p:nvGrpSpPr>
              <p:cNvPr id="304" name="Group 68"/>
              <p:cNvGrpSpPr/>
              <p:nvPr/>
            </p:nvGrpSpPr>
            <p:grpSpPr>
              <a:xfrm>
                <a:off x="7335720" y="1588320"/>
                <a:ext cx="416160" cy="885600"/>
                <a:chOff x="7335720" y="1588320"/>
                <a:chExt cx="416160" cy="885600"/>
              </a:xfrm>
            </p:grpSpPr>
            <p:sp>
              <p:nvSpPr>
                <p:cNvPr id="305" name="Freeform 66"/>
                <p:cNvSpPr/>
                <p:nvPr/>
              </p:nvSpPr>
              <p:spPr>
                <a:xfrm>
                  <a:off x="7335720" y="1588320"/>
                  <a:ext cx="266760" cy="885600"/>
                </a:xfrm>
                <a:custGeom>
                  <a:avLst/>
                  <a:gdLst>
                    <a:gd name="textAreaLeft" fmla="*/ 0 w 266760"/>
                    <a:gd name="textAreaRight" fmla="*/ 267120 w 266760"/>
                    <a:gd name="textAreaTop" fmla="*/ 0 h 885600"/>
                    <a:gd name="textAreaBottom" fmla="*/ 885960 h 885600"/>
                  </a:gdLst>
                  <a:ahLst/>
                  <a:rect l="textAreaLeft" t="textAreaTop" r="textAreaRight" b="textAreaBottom"/>
                  <a:pathLst>
                    <a:path w="336" h="1115">
                      <a:moveTo>
                        <a:pt x="204" y="14"/>
                      </a:moveTo>
                      <a:lnTo>
                        <a:pt x="269" y="0"/>
                      </a:lnTo>
                      <a:lnTo>
                        <a:pt x="295" y="28"/>
                      </a:lnTo>
                      <a:lnTo>
                        <a:pt x="306" y="19"/>
                      </a:lnTo>
                      <a:lnTo>
                        <a:pt x="324" y="67"/>
                      </a:lnTo>
                      <a:lnTo>
                        <a:pt x="289" y="99"/>
                      </a:lnTo>
                      <a:lnTo>
                        <a:pt x="286" y="123"/>
                      </a:lnTo>
                      <a:lnTo>
                        <a:pt x="277" y="126"/>
                      </a:lnTo>
                      <a:lnTo>
                        <a:pt x="269" y="151"/>
                      </a:lnTo>
                      <a:lnTo>
                        <a:pt x="244" y="157"/>
                      </a:lnTo>
                      <a:lnTo>
                        <a:pt x="244" y="167"/>
                      </a:lnTo>
                      <a:lnTo>
                        <a:pt x="289" y="200"/>
                      </a:lnTo>
                      <a:lnTo>
                        <a:pt x="324" y="360"/>
                      </a:lnTo>
                      <a:lnTo>
                        <a:pt x="295" y="401"/>
                      </a:lnTo>
                      <a:lnTo>
                        <a:pt x="295" y="694"/>
                      </a:lnTo>
                      <a:lnTo>
                        <a:pt x="261" y="706"/>
                      </a:lnTo>
                      <a:lnTo>
                        <a:pt x="254" y="753"/>
                      </a:lnTo>
                      <a:lnTo>
                        <a:pt x="240" y="876"/>
                      </a:lnTo>
                      <a:lnTo>
                        <a:pt x="240" y="943"/>
                      </a:lnTo>
                      <a:lnTo>
                        <a:pt x="295" y="984"/>
                      </a:lnTo>
                      <a:lnTo>
                        <a:pt x="334" y="1004"/>
                      </a:lnTo>
                      <a:lnTo>
                        <a:pt x="336" y="1018"/>
                      </a:lnTo>
                      <a:lnTo>
                        <a:pt x="250" y="998"/>
                      </a:lnTo>
                      <a:lnTo>
                        <a:pt x="240" y="985"/>
                      </a:lnTo>
                      <a:lnTo>
                        <a:pt x="232" y="998"/>
                      </a:lnTo>
                      <a:lnTo>
                        <a:pt x="222" y="998"/>
                      </a:lnTo>
                      <a:lnTo>
                        <a:pt x="213" y="952"/>
                      </a:lnTo>
                      <a:lnTo>
                        <a:pt x="204" y="739"/>
                      </a:lnTo>
                      <a:lnTo>
                        <a:pt x="187" y="739"/>
                      </a:lnTo>
                      <a:lnTo>
                        <a:pt x="139" y="928"/>
                      </a:lnTo>
                      <a:lnTo>
                        <a:pt x="139" y="1044"/>
                      </a:lnTo>
                      <a:lnTo>
                        <a:pt x="120" y="1102"/>
                      </a:lnTo>
                      <a:lnTo>
                        <a:pt x="102" y="1115"/>
                      </a:lnTo>
                      <a:lnTo>
                        <a:pt x="92" y="1084"/>
                      </a:lnTo>
                      <a:lnTo>
                        <a:pt x="105" y="1051"/>
                      </a:lnTo>
                      <a:lnTo>
                        <a:pt x="120" y="978"/>
                      </a:lnTo>
                      <a:lnTo>
                        <a:pt x="123" y="710"/>
                      </a:lnTo>
                      <a:lnTo>
                        <a:pt x="138" y="448"/>
                      </a:lnTo>
                      <a:lnTo>
                        <a:pt x="110" y="425"/>
                      </a:lnTo>
                      <a:lnTo>
                        <a:pt x="110" y="388"/>
                      </a:lnTo>
                      <a:lnTo>
                        <a:pt x="110" y="317"/>
                      </a:lnTo>
                      <a:lnTo>
                        <a:pt x="73" y="335"/>
                      </a:lnTo>
                      <a:lnTo>
                        <a:pt x="105" y="381"/>
                      </a:lnTo>
                      <a:lnTo>
                        <a:pt x="105" y="420"/>
                      </a:lnTo>
                      <a:lnTo>
                        <a:pt x="72" y="395"/>
                      </a:lnTo>
                      <a:lnTo>
                        <a:pt x="53" y="369"/>
                      </a:lnTo>
                      <a:lnTo>
                        <a:pt x="36" y="375"/>
                      </a:lnTo>
                      <a:lnTo>
                        <a:pt x="0" y="331"/>
                      </a:lnTo>
                      <a:lnTo>
                        <a:pt x="0" y="317"/>
                      </a:lnTo>
                      <a:lnTo>
                        <a:pt x="18" y="309"/>
                      </a:lnTo>
                      <a:lnTo>
                        <a:pt x="60" y="262"/>
                      </a:lnTo>
                      <a:lnTo>
                        <a:pt x="105" y="220"/>
                      </a:lnTo>
                      <a:lnTo>
                        <a:pt x="161" y="169"/>
                      </a:lnTo>
                      <a:lnTo>
                        <a:pt x="204" y="153"/>
                      </a:lnTo>
                      <a:lnTo>
                        <a:pt x="204" y="118"/>
                      </a:lnTo>
                      <a:lnTo>
                        <a:pt x="187" y="100"/>
                      </a:lnTo>
                      <a:lnTo>
                        <a:pt x="187" y="55"/>
                      </a:lnTo>
                      <a:lnTo>
                        <a:pt x="176" y="47"/>
                      </a:lnTo>
                      <a:lnTo>
                        <a:pt x="204" y="14"/>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6" name="Freeform 67"/>
                <p:cNvSpPr/>
                <p:nvPr/>
              </p:nvSpPr>
              <p:spPr>
                <a:xfrm>
                  <a:off x="7556400" y="1594440"/>
                  <a:ext cx="195480" cy="845640"/>
                </a:xfrm>
                <a:custGeom>
                  <a:avLst/>
                  <a:gdLst>
                    <a:gd name="textAreaLeft" fmla="*/ 0 w 195480"/>
                    <a:gd name="textAreaRight" fmla="*/ 195840 w 195480"/>
                    <a:gd name="textAreaTop" fmla="*/ 0 h 845640"/>
                    <a:gd name="textAreaBottom" fmla="*/ 846000 h 845640"/>
                  </a:gdLst>
                  <a:ahLst/>
                  <a:rect l="textAreaLeft" t="textAreaTop" r="textAreaRight" b="textAreaBottom"/>
                  <a:pathLst>
                    <a:path w="246" h="1067">
                      <a:moveTo>
                        <a:pt x="57" y="21"/>
                      </a:moveTo>
                      <a:lnTo>
                        <a:pt x="57" y="47"/>
                      </a:lnTo>
                      <a:lnTo>
                        <a:pt x="61" y="55"/>
                      </a:lnTo>
                      <a:lnTo>
                        <a:pt x="51" y="77"/>
                      </a:lnTo>
                      <a:lnTo>
                        <a:pt x="57" y="83"/>
                      </a:lnTo>
                      <a:lnTo>
                        <a:pt x="56" y="91"/>
                      </a:lnTo>
                      <a:lnTo>
                        <a:pt x="63" y="120"/>
                      </a:lnTo>
                      <a:lnTo>
                        <a:pt x="63" y="125"/>
                      </a:lnTo>
                      <a:lnTo>
                        <a:pt x="20" y="153"/>
                      </a:lnTo>
                      <a:lnTo>
                        <a:pt x="0" y="375"/>
                      </a:lnTo>
                      <a:lnTo>
                        <a:pt x="26" y="413"/>
                      </a:lnTo>
                      <a:lnTo>
                        <a:pt x="15" y="534"/>
                      </a:lnTo>
                      <a:lnTo>
                        <a:pt x="32" y="546"/>
                      </a:lnTo>
                      <a:lnTo>
                        <a:pt x="40" y="733"/>
                      </a:lnTo>
                      <a:lnTo>
                        <a:pt x="54" y="923"/>
                      </a:lnTo>
                      <a:lnTo>
                        <a:pt x="49" y="935"/>
                      </a:lnTo>
                      <a:lnTo>
                        <a:pt x="5" y="969"/>
                      </a:lnTo>
                      <a:lnTo>
                        <a:pt x="9" y="975"/>
                      </a:lnTo>
                      <a:lnTo>
                        <a:pt x="26" y="983"/>
                      </a:lnTo>
                      <a:lnTo>
                        <a:pt x="52" y="975"/>
                      </a:lnTo>
                      <a:lnTo>
                        <a:pt x="77" y="963"/>
                      </a:lnTo>
                      <a:lnTo>
                        <a:pt x="97" y="955"/>
                      </a:lnTo>
                      <a:lnTo>
                        <a:pt x="97" y="987"/>
                      </a:lnTo>
                      <a:lnTo>
                        <a:pt x="106" y="988"/>
                      </a:lnTo>
                      <a:lnTo>
                        <a:pt x="91" y="1017"/>
                      </a:lnTo>
                      <a:lnTo>
                        <a:pt x="98" y="1061"/>
                      </a:lnTo>
                      <a:lnTo>
                        <a:pt x="114" y="1067"/>
                      </a:lnTo>
                      <a:lnTo>
                        <a:pt x="139" y="1030"/>
                      </a:lnTo>
                      <a:lnTo>
                        <a:pt x="139" y="1003"/>
                      </a:lnTo>
                      <a:lnTo>
                        <a:pt x="148" y="1000"/>
                      </a:lnTo>
                      <a:lnTo>
                        <a:pt x="158" y="756"/>
                      </a:lnTo>
                      <a:lnTo>
                        <a:pt x="148" y="732"/>
                      </a:lnTo>
                      <a:lnTo>
                        <a:pt x="177" y="569"/>
                      </a:lnTo>
                      <a:lnTo>
                        <a:pt x="194" y="563"/>
                      </a:lnTo>
                      <a:lnTo>
                        <a:pt x="202" y="392"/>
                      </a:lnTo>
                      <a:lnTo>
                        <a:pt x="246" y="373"/>
                      </a:lnTo>
                      <a:lnTo>
                        <a:pt x="227" y="190"/>
                      </a:lnTo>
                      <a:lnTo>
                        <a:pt x="157" y="142"/>
                      </a:lnTo>
                      <a:lnTo>
                        <a:pt x="139" y="124"/>
                      </a:lnTo>
                      <a:lnTo>
                        <a:pt x="139" y="107"/>
                      </a:lnTo>
                      <a:lnTo>
                        <a:pt x="145" y="94"/>
                      </a:lnTo>
                      <a:lnTo>
                        <a:pt x="153" y="84"/>
                      </a:lnTo>
                      <a:lnTo>
                        <a:pt x="161" y="72"/>
                      </a:lnTo>
                      <a:lnTo>
                        <a:pt x="165" y="59"/>
                      </a:lnTo>
                      <a:lnTo>
                        <a:pt x="165" y="46"/>
                      </a:lnTo>
                      <a:lnTo>
                        <a:pt x="161" y="32"/>
                      </a:lnTo>
                      <a:lnTo>
                        <a:pt x="152" y="18"/>
                      </a:lnTo>
                      <a:lnTo>
                        <a:pt x="139" y="7"/>
                      </a:lnTo>
                      <a:lnTo>
                        <a:pt x="124" y="0"/>
                      </a:lnTo>
                      <a:lnTo>
                        <a:pt x="107" y="0"/>
                      </a:lnTo>
                      <a:lnTo>
                        <a:pt x="91" y="2"/>
                      </a:lnTo>
                      <a:lnTo>
                        <a:pt x="77" y="7"/>
                      </a:lnTo>
                      <a:lnTo>
                        <a:pt x="57" y="2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307" name="Freeform 69"/>
              <p:cNvSpPr/>
              <p:nvPr/>
            </p:nvSpPr>
            <p:spPr>
              <a:xfrm>
                <a:off x="8155080" y="1733040"/>
                <a:ext cx="222120" cy="1047240"/>
              </a:xfrm>
              <a:custGeom>
                <a:avLst/>
                <a:gdLst>
                  <a:gd name="textAreaLeft" fmla="*/ 0 w 222120"/>
                  <a:gd name="textAreaRight" fmla="*/ 222480 w 222120"/>
                  <a:gd name="textAreaTop" fmla="*/ 0 h 1047240"/>
                  <a:gd name="textAreaBottom" fmla="*/ 1047600 h 1047240"/>
                </a:gdLst>
                <a:ahLst/>
                <a:rect l="textAreaLeft" t="textAreaTop" r="textAreaRight" b="textAreaBottom"/>
                <a:pathLst>
                  <a:path w="279" h="1320">
                    <a:moveTo>
                      <a:pt x="98" y="19"/>
                    </a:moveTo>
                    <a:lnTo>
                      <a:pt x="163" y="0"/>
                    </a:lnTo>
                    <a:lnTo>
                      <a:pt x="212" y="0"/>
                    </a:lnTo>
                    <a:lnTo>
                      <a:pt x="255" y="11"/>
                    </a:lnTo>
                    <a:lnTo>
                      <a:pt x="273" y="56"/>
                    </a:lnTo>
                    <a:lnTo>
                      <a:pt x="273" y="95"/>
                    </a:lnTo>
                    <a:lnTo>
                      <a:pt x="247" y="142"/>
                    </a:lnTo>
                    <a:lnTo>
                      <a:pt x="229" y="141"/>
                    </a:lnTo>
                    <a:lnTo>
                      <a:pt x="256" y="194"/>
                    </a:lnTo>
                    <a:lnTo>
                      <a:pt x="279" y="282"/>
                    </a:lnTo>
                    <a:lnTo>
                      <a:pt x="279" y="360"/>
                    </a:lnTo>
                    <a:lnTo>
                      <a:pt x="273" y="455"/>
                    </a:lnTo>
                    <a:lnTo>
                      <a:pt x="255" y="550"/>
                    </a:lnTo>
                    <a:lnTo>
                      <a:pt x="223" y="555"/>
                    </a:lnTo>
                    <a:lnTo>
                      <a:pt x="223" y="584"/>
                    </a:lnTo>
                    <a:lnTo>
                      <a:pt x="206" y="595"/>
                    </a:lnTo>
                    <a:lnTo>
                      <a:pt x="206" y="690"/>
                    </a:lnTo>
                    <a:lnTo>
                      <a:pt x="189" y="709"/>
                    </a:lnTo>
                    <a:lnTo>
                      <a:pt x="189" y="886"/>
                    </a:lnTo>
                    <a:lnTo>
                      <a:pt x="189" y="998"/>
                    </a:lnTo>
                    <a:lnTo>
                      <a:pt x="214" y="1124"/>
                    </a:lnTo>
                    <a:lnTo>
                      <a:pt x="223" y="1284"/>
                    </a:lnTo>
                    <a:lnTo>
                      <a:pt x="196" y="1297"/>
                    </a:lnTo>
                    <a:lnTo>
                      <a:pt x="196" y="1315"/>
                    </a:lnTo>
                    <a:lnTo>
                      <a:pt x="148" y="1315"/>
                    </a:lnTo>
                    <a:lnTo>
                      <a:pt x="141" y="1308"/>
                    </a:lnTo>
                    <a:lnTo>
                      <a:pt x="122" y="1308"/>
                    </a:lnTo>
                    <a:lnTo>
                      <a:pt x="121" y="1320"/>
                    </a:lnTo>
                    <a:lnTo>
                      <a:pt x="88" y="1315"/>
                    </a:lnTo>
                    <a:lnTo>
                      <a:pt x="14" y="1308"/>
                    </a:lnTo>
                    <a:lnTo>
                      <a:pt x="14" y="1297"/>
                    </a:lnTo>
                    <a:lnTo>
                      <a:pt x="81" y="1273"/>
                    </a:lnTo>
                    <a:lnTo>
                      <a:pt x="81" y="1248"/>
                    </a:lnTo>
                    <a:lnTo>
                      <a:pt x="23" y="1238"/>
                    </a:lnTo>
                    <a:lnTo>
                      <a:pt x="23" y="1220"/>
                    </a:lnTo>
                    <a:lnTo>
                      <a:pt x="64" y="1196"/>
                    </a:lnTo>
                    <a:lnTo>
                      <a:pt x="64" y="1017"/>
                    </a:lnTo>
                    <a:lnTo>
                      <a:pt x="47" y="853"/>
                    </a:lnTo>
                    <a:lnTo>
                      <a:pt x="53" y="687"/>
                    </a:lnTo>
                    <a:lnTo>
                      <a:pt x="55" y="595"/>
                    </a:lnTo>
                    <a:lnTo>
                      <a:pt x="48" y="566"/>
                    </a:lnTo>
                    <a:lnTo>
                      <a:pt x="48" y="438"/>
                    </a:lnTo>
                    <a:lnTo>
                      <a:pt x="0" y="408"/>
                    </a:lnTo>
                    <a:lnTo>
                      <a:pt x="0" y="390"/>
                    </a:lnTo>
                    <a:lnTo>
                      <a:pt x="106" y="214"/>
                    </a:lnTo>
                    <a:lnTo>
                      <a:pt x="155" y="189"/>
                    </a:lnTo>
                    <a:lnTo>
                      <a:pt x="149" y="178"/>
                    </a:lnTo>
                    <a:lnTo>
                      <a:pt x="115" y="172"/>
                    </a:lnTo>
                    <a:lnTo>
                      <a:pt x="115" y="160"/>
                    </a:lnTo>
                    <a:lnTo>
                      <a:pt x="106" y="155"/>
                    </a:lnTo>
                    <a:lnTo>
                      <a:pt x="106" y="142"/>
                    </a:lnTo>
                    <a:lnTo>
                      <a:pt x="98" y="136"/>
                    </a:lnTo>
                    <a:lnTo>
                      <a:pt x="106" y="131"/>
                    </a:lnTo>
                    <a:lnTo>
                      <a:pt x="98" y="126"/>
                    </a:lnTo>
                    <a:lnTo>
                      <a:pt x="115" y="95"/>
                    </a:lnTo>
                    <a:lnTo>
                      <a:pt x="106" y="79"/>
                    </a:lnTo>
                    <a:lnTo>
                      <a:pt x="115" y="61"/>
                    </a:lnTo>
                    <a:lnTo>
                      <a:pt x="98" y="48"/>
                    </a:lnTo>
                    <a:lnTo>
                      <a:pt x="98" y="19"/>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8" name="Freeform 70"/>
              <p:cNvSpPr/>
              <p:nvPr/>
            </p:nvSpPr>
            <p:spPr>
              <a:xfrm>
                <a:off x="5845320" y="1724760"/>
                <a:ext cx="163440" cy="560160"/>
              </a:xfrm>
              <a:custGeom>
                <a:avLst/>
                <a:gdLst>
                  <a:gd name="textAreaLeft" fmla="*/ 0 w 163440"/>
                  <a:gd name="textAreaRight" fmla="*/ 163800 w 163440"/>
                  <a:gd name="textAreaTop" fmla="*/ 0 h 560160"/>
                  <a:gd name="textAreaBottom" fmla="*/ 560520 h 560160"/>
                </a:gdLst>
                <a:ahLst/>
                <a:rect l="textAreaLeft" t="textAreaTop" r="textAreaRight" b="textAreaBottom"/>
                <a:pathLst>
                  <a:path w="207" h="705">
                    <a:moveTo>
                      <a:pt x="104" y="5"/>
                    </a:moveTo>
                    <a:lnTo>
                      <a:pt x="81" y="9"/>
                    </a:lnTo>
                    <a:lnTo>
                      <a:pt x="71" y="34"/>
                    </a:lnTo>
                    <a:lnTo>
                      <a:pt x="71" y="47"/>
                    </a:lnTo>
                    <a:lnTo>
                      <a:pt x="81" y="47"/>
                    </a:lnTo>
                    <a:lnTo>
                      <a:pt x="77" y="52"/>
                    </a:lnTo>
                    <a:lnTo>
                      <a:pt x="81" y="55"/>
                    </a:lnTo>
                    <a:lnTo>
                      <a:pt x="83" y="66"/>
                    </a:lnTo>
                    <a:lnTo>
                      <a:pt x="86" y="69"/>
                    </a:lnTo>
                    <a:lnTo>
                      <a:pt x="93" y="90"/>
                    </a:lnTo>
                    <a:lnTo>
                      <a:pt x="93" y="95"/>
                    </a:lnTo>
                    <a:lnTo>
                      <a:pt x="83" y="95"/>
                    </a:lnTo>
                    <a:lnTo>
                      <a:pt x="67" y="122"/>
                    </a:lnTo>
                    <a:lnTo>
                      <a:pt x="36" y="131"/>
                    </a:lnTo>
                    <a:lnTo>
                      <a:pt x="22" y="153"/>
                    </a:lnTo>
                    <a:lnTo>
                      <a:pt x="7" y="346"/>
                    </a:lnTo>
                    <a:lnTo>
                      <a:pt x="13" y="349"/>
                    </a:lnTo>
                    <a:lnTo>
                      <a:pt x="0" y="383"/>
                    </a:lnTo>
                    <a:lnTo>
                      <a:pt x="7" y="405"/>
                    </a:lnTo>
                    <a:lnTo>
                      <a:pt x="13" y="405"/>
                    </a:lnTo>
                    <a:lnTo>
                      <a:pt x="17" y="408"/>
                    </a:lnTo>
                    <a:lnTo>
                      <a:pt x="22" y="408"/>
                    </a:lnTo>
                    <a:lnTo>
                      <a:pt x="20" y="388"/>
                    </a:lnTo>
                    <a:lnTo>
                      <a:pt x="22" y="375"/>
                    </a:lnTo>
                    <a:lnTo>
                      <a:pt x="26" y="385"/>
                    </a:lnTo>
                    <a:lnTo>
                      <a:pt x="22" y="392"/>
                    </a:lnTo>
                    <a:lnTo>
                      <a:pt x="26" y="397"/>
                    </a:lnTo>
                    <a:lnTo>
                      <a:pt x="34" y="380"/>
                    </a:lnTo>
                    <a:lnTo>
                      <a:pt x="28" y="352"/>
                    </a:lnTo>
                    <a:lnTo>
                      <a:pt x="40" y="354"/>
                    </a:lnTo>
                    <a:lnTo>
                      <a:pt x="34" y="528"/>
                    </a:lnTo>
                    <a:lnTo>
                      <a:pt x="68" y="538"/>
                    </a:lnTo>
                    <a:lnTo>
                      <a:pt x="83" y="640"/>
                    </a:lnTo>
                    <a:lnTo>
                      <a:pt x="81" y="650"/>
                    </a:lnTo>
                    <a:lnTo>
                      <a:pt x="73" y="694"/>
                    </a:lnTo>
                    <a:lnTo>
                      <a:pt x="73" y="701"/>
                    </a:lnTo>
                    <a:lnTo>
                      <a:pt x="97" y="705"/>
                    </a:lnTo>
                    <a:lnTo>
                      <a:pt x="106" y="694"/>
                    </a:lnTo>
                    <a:lnTo>
                      <a:pt x="101" y="655"/>
                    </a:lnTo>
                    <a:lnTo>
                      <a:pt x="97" y="630"/>
                    </a:lnTo>
                    <a:lnTo>
                      <a:pt x="107" y="542"/>
                    </a:lnTo>
                    <a:lnTo>
                      <a:pt x="110" y="543"/>
                    </a:lnTo>
                    <a:lnTo>
                      <a:pt x="120" y="575"/>
                    </a:lnTo>
                    <a:lnTo>
                      <a:pt x="114" y="627"/>
                    </a:lnTo>
                    <a:lnTo>
                      <a:pt x="106" y="632"/>
                    </a:lnTo>
                    <a:lnTo>
                      <a:pt x="120" y="687"/>
                    </a:lnTo>
                    <a:lnTo>
                      <a:pt x="143" y="694"/>
                    </a:lnTo>
                    <a:lnTo>
                      <a:pt x="148" y="688"/>
                    </a:lnTo>
                    <a:lnTo>
                      <a:pt x="130" y="632"/>
                    </a:lnTo>
                    <a:lnTo>
                      <a:pt x="157" y="538"/>
                    </a:lnTo>
                    <a:lnTo>
                      <a:pt x="170" y="531"/>
                    </a:lnTo>
                    <a:lnTo>
                      <a:pt x="170" y="524"/>
                    </a:lnTo>
                    <a:lnTo>
                      <a:pt x="194" y="525"/>
                    </a:lnTo>
                    <a:lnTo>
                      <a:pt x="202" y="538"/>
                    </a:lnTo>
                    <a:lnTo>
                      <a:pt x="207" y="531"/>
                    </a:lnTo>
                    <a:lnTo>
                      <a:pt x="184" y="360"/>
                    </a:lnTo>
                    <a:lnTo>
                      <a:pt x="188" y="360"/>
                    </a:lnTo>
                    <a:lnTo>
                      <a:pt x="188" y="326"/>
                    </a:lnTo>
                    <a:lnTo>
                      <a:pt x="190" y="321"/>
                    </a:lnTo>
                    <a:lnTo>
                      <a:pt x="184" y="237"/>
                    </a:lnTo>
                    <a:lnTo>
                      <a:pt x="178" y="137"/>
                    </a:lnTo>
                    <a:lnTo>
                      <a:pt x="138" y="117"/>
                    </a:lnTo>
                    <a:lnTo>
                      <a:pt x="127" y="95"/>
                    </a:lnTo>
                    <a:lnTo>
                      <a:pt x="137" y="76"/>
                    </a:lnTo>
                    <a:lnTo>
                      <a:pt x="143" y="77"/>
                    </a:lnTo>
                    <a:lnTo>
                      <a:pt x="148" y="69"/>
                    </a:lnTo>
                    <a:lnTo>
                      <a:pt x="148" y="58"/>
                    </a:lnTo>
                    <a:lnTo>
                      <a:pt x="157" y="57"/>
                    </a:lnTo>
                    <a:lnTo>
                      <a:pt x="161" y="28"/>
                    </a:lnTo>
                    <a:lnTo>
                      <a:pt x="151" y="9"/>
                    </a:lnTo>
                    <a:lnTo>
                      <a:pt x="141" y="1"/>
                    </a:lnTo>
                    <a:lnTo>
                      <a:pt x="125" y="1"/>
                    </a:lnTo>
                    <a:lnTo>
                      <a:pt x="115" y="0"/>
                    </a:lnTo>
                    <a:lnTo>
                      <a:pt x="104" y="5"/>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9" name="Freeform 71"/>
              <p:cNvSpPr/>
              <p:nvPr/>
            </p:nvSpPr>
            <p:spPr>
              <a:xfrm>
                <a:off x="7005600" y="1593000"/>
                <a:ext cx="117360" cy="556920"/>
              </a:xfrm>
              <a:custGeom>
                <a:avLst/>
                <a:gdLst>
                  <a:gd name="textAreaLeft" fmla="*/ 0 w 117360"/>
                  <a:gd name="textAreaRight" fmla="*/ 117720 w 117360"/>
                  <a:gd name="textAreaTop" fmla="*/ 0 h 556920"/>
                  <a:gd name="textAreaBottom" fmla="*/ 557280 h 556920"/>
                </a:gdLst>
                <a:ahLst/>
                <a:rect l="textAreaLeft" t="textAreaTop" r="textAreaRight" b="textAreaBottom"/>
                <a:pathLst>
                  <a:path w="148" h="703">
                    <a:moveTo>
                      <a:pt x="51" y="9"/>
                    </a:moveTo>
                    <a:lnTo>
                      <a:pt x="86" y="0"/>
                    </a:lnTo>
                    <a:lnTo>
                      <a:pt x="112" y="0"/>
                    </a:lnTo>
                    <a:lnTo>
                      <a:pt x="136" y="5"/>
                    </a:lnTo>
                    <a:lnTo>
                      <a:pt x="145" y="29"/>
                    </a:lnTo>
                    <a:lnTo>
                      <a:pt x="145" y="51"/>
                    </a:lnTo>
                    <a:lnTo>
                      <a:pt x="131" y="75"/>
                    </a:lnTo>
                    <a:lnTo>
                      <a:pt x="122" y="75"/>
                    </a:lnTo>
                    <a:lnTo>
                      <a:pt x="136" y="103"/>
                    </a:lnTo>
                    <a:lnTo>
                      <a:pt x="148" y="150"/>
                    </a:lnTo>
                    <a:lnTo>
                      <a:pt x="148" y="190"/>
                    </a:lnTo>
                    <a:lnTo>
                      <a:pt x="145" y="242"/>
                    </a:lnTo>
                    <a:lnTo>
                      <a:pt x="136" y="292"/>
                    </a:lnTo>
                    <a:lnTo>
                      <a:pt x="118" y="294"/>
                    </a:lnTo>
                    <a:lnTo>
                      <a:pt x="118" y="309"/>
                    </a:lnTo>
                    <a:lnTo>
                      <a:pt x="109" y="316"/>
                    </a:lnTo>
                    <a:lnTo>
                      <a:pt x="109" y="367"/>
                    </a:lnTo>
                    <a:lnTo>
                      <a:pt x="99" y="377"/>
                    </a:lnTo>
                    <a:lnTo>
                      <a:pt x="99" y="472"/>
                    </a:lnTo>
                    <a:lnTo>
                      <a:pt x="99" y="532"/>
                    </a:lnTo>
                    <a:lnTo>
                      <a:pt x="113" y="598"/>
                    </a:lnTo>
                    <a:lnTo>
                      <a:pt x="118" y="685"/>
                    </a:lnTo>
                    <a:lnTo>
                      <a:pt x="104" y="691"/>
                    </a:lnTo>
                    <a:lnTo>
                      <a:pt x="104" y="701"/>
                    </a:lnTo>
                    <a:lnTo>
                      <a:pt x="79" y="701"/>
                    </a:lnTo>
                    <a:lnTo>
                      <a:pt x="75" y="698"/>
                    </a:lnTo>
                    <a:lnTo>
                      <a:pt x="65" y="698"/>
                    </a:lnTo>
                    <a:lnTo>
                      <a:pt x="64" y="703"/>
                    </a:lnTo>
                    <a:lnTo>
                      <a:pt x="46" y="701"/>
                    </a:lnTo>
                    <a:lnTo>
                      <a:pt x="7" y="698"/>
                    </a:lnTo>
                    <a:lnTo>
                      <a:pt x="7" y="691"/>
                    </a:lnTo>
                    <a:lnTo>
                      <a:pt x="42" y="678"/>
                    </a:lnTo>
                    <a:lnTo>
                      <a:pt x="42" y="666"/>
                    </a:lnTo>
                    <a:lnTo>
                      <a:pt x="11" y="659"/>
                    </a:lnTo>
                    <a:lnTo>
                      <a:pt x="11" y="650"/>
                    </a:lnTo>
                    <a:lnTo>
                      <a:pt x="33" y="638"/>
                    </a:lnTo>
                    <a:lnTo>
                      <a:pt x="33" y="541"/>
                    </a:lnTo>
                    <a:lnTo>
                      <a:pt x="25" y="453"/>
                    </a:lnTo>
                    <a:lnTo>
                      <a:pt x="28" y="365"/>
                    </a:lnTo>
                    <a:lnTo>
                      <a:pt x="29" y="316"/>
                    </a:lnTo>
                    <a:lnTo>
                      <a:pt x="25" y="300"/>
                    </a:lnTo>
                    <a:lnTo>
                      <a:pt x="25" y="232"/>
                    </a:lnTo>
                    <a:lnTo>
                      <a:pt x="0" y="216"/>
                    </a:lnTo>
                    <a:lnTo>
                      <a:pt x="0" y="208"/>
                    </a:lnTo>
                    <a:lnTo>
                      <a:pt x="56" y="113"/>
                    </a:lnTo>
                    <a:lnTo>
                      <a:pt x="83" y="101"/>
                    </a:lnTo>
                    <a:lnTo>
                      <a:pt x="79" y="94"/>
                    </a:lnTo>
                    <a:lnTo>
                      <a:pt x="60" y="90"/>
                    </a:lnTo>
                    <a:lnTo>
                      <a:pt x="60" y="85"/>
                    </a:lnTo>
                    <a:lnTo>
                      <a:pt x="56" y="81"/>
                    </a:lnTo>
                    <a:lnTo>
                      <a:pt x="56" y="75"/>
                    </a:lnTo>
                    <a:lnTo>
                      <a:pt x="51" y="73"/>
                    </a:lnTo>
                    <a:lnTo>
                      <a:pt x="56" y="69"/>
                    </a:lnTo>
                    <a:lnTo>
                      <a:pt x="52" y="66"/>
                    </a:lnTo>
                    <a:lnTo>
                      <a:pt x="60" y="51"/>
                    </a:lnTo>
                    <a:lnTo>
                      <a:pt x="56" y="41"/>
                    </a:lnTo>
                    <a:lnTo>
                      <a:pt x="60" y="32"/>
                    </a:lnTo>
                    <a:lnTo>
                      <a:pt x="52" y="25"/>
                    </a:lnTo>
                    <a:lnTo>
                      <a:pt x="51" y="9"/>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0" name="Freeform 72"/>
              <p:cNvSpPr/>
              <p:nvPr/>
            </p:nvSpPr>
            <p:spPr>
              <a:xfrm>
                <a:off x="6837480" y="1537920"/>
                <a:ext cx="156960" cy="498240"/>
              </a:xfrm>
              <a:custGeom>
                <a:avLst/>
                <a:gdLst>
                  <a:gd name="textAreaLeft" fmla="*/ 0 w 156960"/>
                  <a:gd name="textAreaRight" fmla="*/ 157320 w 156960"/>
                  <a:gd name="textAreaTop" fmla="*/ 0 h 498240"/>
                  <a:gd name="textAreaBottom" fmla="*/ 498600 h 498240"/>
                </a:gdLst>
                <a:ahLst/>
                <a:rect l="textAreaLeft" t="textAreaTop" r="textAreaRight" b="textAreaBottom"/>
                <a:pathLst>
                  <a:path w="197" h="629">
                    <a:moveTo>
                      <a:pt x="98" y="4"/>
                    </a:moveTo>
                    <a:lnTo>
                      <a:pt x="121" y="8"/>
                    </a:lnTo>
                    <a:lnTo>
                      <a:pt x="130" y="32"/>
                    </a:lnTo>
                    <a:lnTo>
                      <a:pt x="130" y="42"/>
                    </a:lnTo>
                    <a:lnTo>
                      <a:pt x="120" y="42"/>
                    </a:lnTo>
                    <a:lnTo>
                      <a:pt x="124" y="46"/>
                    </a:lnTo>
                    <a:lnTo>
                      <a:pt x="121" y="48"/>
                    </a:lnTo>
                    <a:lnTo>
                      <a:pt x="118" y="59"/>
                    </a:lnTo>
                    <a:lnTo>
                      <a:pt x="115" y="61"/>
                    </a:lnTo>
                    <a:lnTo>
                      <a:pt x="108" y="80"/>
                    </a:lnTo>
                    <a:lnTo>
                      <a:pt x="108" y="84"/>
                    </a:lnTo>
                    <a:lnTo>
                      <a:pt x="118" y="84"/>
                    </a:lnTo>
                    <a:lnTo>
                      <a:pt x="134" y="108"/>
                    </a:lnTo>
                    <a:lnTo>
                      <a:pt x="163" y="117"/>
                    </a:lnTo>
                    <a:lnTo>
                      <a:pt x="176" y="136"/>
                    </a:lnTo>
                    <a:lnTo>
                      <a:pt x="191" y="308"/>
                    </a:lnTo>
                    <a:lnTo>
                      <a:pt x="185" y="311"/>
                    </a:lnTo>
                    <a:lnTo>
                      <a:pt x="197" y="340"/>
                    </a:lnTo>
                    <a:lnTo>
                      <a:pt x="191" y="359"/>
                    </a:lnTo>
                    <a:lnTo>
                      <a:pt x="185" y="359"/>
                    </a:lnTo>
                    <a:lnTo>
                      <a:pt x="182" y="364"/>
                    </a:lnTo>
                    <a:lnTo>
                      <a:pt x="176" y="364"/>
                    </a:lnTo>
                    <a:lnTo>
                      <a:pt x="178" y="345"/>
                    </a:lnTo>
                    <a:lnTo>
                      <a:pt x="176" y="334"/>
                    </a:lnTo>
                    <a:lnTo>
                      <a:pt x="173" y="342"/>
                    </a:lnTo>
                    <a:lnTo>
                      <a:pt x="176" y="349"/>
                    </a:lnTo>
                    <a:lnTo>
                      <a:pt x="172" y="353"/>
                    </a:lnTo>
                    <a:lnTo>
                      <a:pt x="166" y="339"/>
                    </a:lnTo>
                    <a:lnTo>
                      <a:pt x="169" y="313"/>
                    </a:lnTo>
                    <a:lnTo>
                      <a:pt x="159" y="314"/>
                    </a:lnTo>
                    <a:lnTo>
                      <a:pt x="166" y="471"/>
                    </a:lnTo>
                    <a:lnTo>
                      <a:pt x="132" y="479"/>
                    </a:lnTo>
                    <a:lnTo>
                      <a:pt x="118" y="570"/>
                    </a:lnTo>
                    <a:lnTo>
                      <a:pt x="121" y="580"/>
                    </a:lnTo>
                    <a:lnTo>
                      <a:pt x="127" y="619"/>
                    </a:lnTo>
                    <a:lnTo>
                      <a:pt x="127" y="625"/>
                    </a:lnTo>
                    <a:lnTo>
                      <a:pt x="104" y="629"/>
                    </a:lnTo>
                    <a:lnTo>
                      <a:pt x="95" y="619"/>
                    </a:lnTo>
                    <a:lnTo>
                      <a:pt x="101" y="586"/>
                    </a:lnTo>
                    <a:lnTo>
                      <a:pt x="104" y="561"/>
                    </a:lnTo>
                    <a:lnTo>
                      <a:pt x="95" y="484"/>
                    </a:lnTo>
                    <a:lnTo>
                      <a:pt x="92" y="484"/>
                    </a:lnTo>
                    <a:lnTo>
                      <a:pt x="83" y="512"/>
                    </a:lnTo>
                    <a:lnTo>
                      <a:pt x="89" y="559"/>
                    </a:lnTo>
                    <a:lnTo>
                      <a:pt x="95" y="564"/>
                    </a:lnTo>
                    <a:lnTo>
                      <a:pt x="83" y="612"/>
                    </a:lnTo>
                    <a:lnTo>
                      <a:pt x="60" y="619"/>
                    </a:lnTo>
                    <a:lnTo>
                      <a:pt x="56" y="615"/>
                    </a:lnTo>
                    <a:lnTo>
                      <a:pt x="73" y="565"/>
                    </a:lnTo>
                    <a:lnTo>
                      <a:pt x="47" y="479"/>
                    </a:lnTo>
                    <a:lnTo>
                      <a:pt x="34" y="472"/>
                    </a:lnTo>
                    <a:lnTo>
                      <a:pt x="34" y="466"/>
                    </a:lnTo>
                    <a:lnTo>
                      <a:pt x="11" y="468"/>
                    </a:lnTo>
                    <a:lnTo>
                      <a:pt x="5" y="479"/>
                    </a:lnTo>
                    <a:lnTo>
                      <a:pt x="0" y="472"/>
                    </a:lnTo>
                    <a:lnTo>
                      <a:pt x="22" y="320"/>
                    </a:lnTo>
                    <a:lnTo>
                      <a:pt x="18" y="321"/>
                    </a:lnTo>
                    <a:lnTo>
                      <a:pt x="18" y="289"/>
                    </a:lnTo>
                    <a:lnTo>
                      <a:pt x="15" y="285"/>
                    </a:lnTo>
                    <a:lnTo>
                      <a:pt x="22" y="210"/>
                    </a:lnTo>
                    <a:lnTo>
                      <a:pt x="28" y="122"/>
                    </a:lnTo>
                    <a:lnTo>
                      <a:pt x="66" y="104"/>
                    </a:lnTo>
                    <a:lnTo>
                      <a:pt x="76" y="84"/>
                    </a:lnTo>
                    <a:lnTo>
                      <a:pt x="66" y="67"/>
                    </a:lnTo>
                    <a:lnTo>
                      <a:pt x="60" y="70"/>
                    </a:lnTo>
                    <a:lnTo>
                      <a:pt x="56" y="61"/>
                    </a:lnTo>
                    <a:lnTo>
                      <a:pt x="56" y="52"/>
                    </a:lnTo>
                    <a:lnTo>
                      <a:pt x="47" y="51"/>
                    </a:lnTo>
                    <a:lnTo>
                      <a:pt x="44" y="25"/>
                    </a:lnTo>
                    <a:lnTo>
                      <a:pt x="53" y="8"/>
                    </a:lnTo>
                    <a:lnTo>
                      <a:pt x="64" y="1"/>
                    </a:lnTo>
                    <a:lnTo>
                      <a:pt x="78" y="1"/>
                    </a:lnTo>
                    <a:lnTo>
                      <a:pt x="88" y="0"/>
                    </a:lnTo>
                    <a:lnTo>
                      <a:pt x="98" y="4"/>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1" name="Freeform 73"/>
              <p:cNvSpPr/>
              <p:nvPr/>
            </p:nvSpPr>
            <p:spPr>
              <a:xfrm>
                <a:off x="6040440" y="1580400"/>
                <a:ext cx="103320" cy="352080"/>
              </a:xfrm>
              <a:custGeom>
                <a:avLst/>
                <a:gdLst>
                  <a:gd name="textAreaLeft" fmla="*/ 0 w 103320"/>
                  <a:gd name="textAreaRight" fmla="*/ 103680 w 103320"/>
                  <a:gd name="textAreaTop" fmla="*/ 0 h 352080"/>
                  <a:gd name="textAreaBottom" fmla="*/ 352440 h 352080"/>
                </a:gdLst>
                <a:ahLst/>
                <a:rect l="textAreaLeft" t="textAreaTop" r="textAreaRight" b="textAreaBottom"/>
                <a:pathLst>
                  <a:path w="131" h="446">
                    <a:moveTo>
                      <a:pt x="66" y="3"/>
                    </a:moveTo>
                    <a:lnTo>
                      <a:pt x="51" y="6"/>
                    </a:lnTo>
                    <a:lnTo>
                      <a:pt x="45" y="22"/>
                    </a:lnTo>
                    <a:lnTo>
                      <a:pt x="45" y="30"/>
                    </a:lnTo>
                    <a:lnTo>
                      <a:pt x="51" y="30"/>
                    </a:lnTo>
                    <a:lnTo>
                      <a:pt x="50" y="34"/>
                    </a:lnTo>
                    <a:lnTo>
                      <a:pt x="51" y="35"/>
                    </a:lnTo>
                    <a:lnTo>
                      <a:pt x="54" y="42"/>
                    </a:lnTo>
                    <a:lnTo>
                      <a:pt x="55" y="44"/>
                    </a:lnTo>
                    <a:lnTo>
                      <a:pt x="60" y="58"/>
                    </a:lnTo>
                    <a:lnTo>
                      <a:pt x="60" y="60"/>
                    </a:lnTo>
                    <a:lnTo>
                      <a:pt x="54" y="60"/>
                    </a:lnTo>
                    <a:lnTo>
                      <a:pt x="44" y="77"/>
                    </a:lnTo>
                    <a:lnTo>
                      <a:pt x="23" y="83"/>
                    </a:lnTo>
                    <a:lnTo>
                      <a:pt x="14" y="97"/>
                    </a:lnTo>
                    <a:lnTo>
                      <a:pt x="4" y="219"/>
                    </a:lnTo>
                    <a:lnTo>
                      <a:pt x="8" y="221"/>
                    </a:lnTo>
                    <a:lnTo>
                      <a:pt x="0" y="242"/>
                    </a:lnTo>
                    <a:lnTo>
                      <a:pt x="4" y="256"/>
                    </a:lnTo>
                    <a:lnTo>
                      <a:pt x="8" y="256"/>
                    </a:lnTo>
                    <a:lnTo>
                      <a:pt x="10" y="259"/>
                    </a:lnTo>
                    <a:lnTo>
                      <a:pt x="14" y="259"/>
                    </a:lnTo>
                    <a:lnTo>
                      <a:pt x="12" y="245"/>
                    </a:lnTo>
                    <a:lnTo>
                      <a:pt x="14" y="237"/>
                    </a:lnTo>
                    <a:lnTo>
                      <a:pt x="15" y="244"/>
                    </a:lnTo>
                    <a:lnTo>
                      <a:pt x="14" y="247"/>
                    </a:lnTo>
                    <a:lnTo>
                      <a:pt x="17" y="251"/>
                    </a:lnTo>
                    <a:lnTo>
                      <a:pt x="21" y="241"/>
                    </a:lnTo>
                    <a:lnTo>
                      <a:pt x="18" y="223"/>
                    </a:lnTo>
                    <a:lnTo>
                      <a:pt x="24" y="223"/>
                    </a:lnTo>
                    <a:lnTo>
                      <a:pt x="21" y="334"/>
                    </a:lnTo>
                    <a:lnTo>
                      <a:pt x="44" y="340"/>
                    </a:lnTo>
                    <a:lnTo>
                      <a:pt x="54" y="405"/>
                    </a:lnTo>
                    <a:lnTo>
                      <a:pt x="51" y="412"/>
                    </a:lnTo>
                    <a:lnTo>
                      <a:pt x="47" y="438"/>
                    </a:lnTo>
                    <a:lnTo>
                      <a:pt x="47" y="443"/>
                    </a:lnTo>
                    <a:lnTo>
                      <a:pt x="63" y="446"/>
                    </a:lnTo>
                    <a:lnTo>
                      <a:pt x="68" y="440"/>
                    </a:lnTo>
                    <a:lnTo>
                      <a:pt x="65" y="415"/>
                    </a:lnTo>
                    <a:lnTo>
                      <a:pt x="63" y="399"/>
                    </a:lnTo>
                    <a:lnTo>
                      <a:pt x="69" y="343"/>
                    </a:lnTo>
                    <a:lnTo>
                      <a:pt x="70" y="344"/>
                    </a:lnTo>
                    <a:lnTo>
                      <a:pt x="77" y="365"/>
                    </a:lnTo>
                    <a:lnTo>
                      <a:pt x="73" y="396"/>
                    </a:lnTo>
                    <a:lnTo>
                      <a:pt x="68" y="400"/>
                    </a:lnTo>
                    <a:lnTo>
                      <a:pt x="77" y="435"/>
                    </a:lnTo>
                    <a:lnTo>
                      <a:pt x="92" y="438"/>
                    </a:lnTo>
                    <a:lnTo>
                      <a:pt x="95" y="436"/>
                    </a:lnTo>
                    <a:lnTo>
                      <a:pt x="83" y="400"/>
                    </a:lnTo>
                    <a:lnTo>
                      <a:pt x="101" y="340"/>
                    </a:lnTo>
                    <a:lnTo>
                      <a:pt x="109" y="337"/>
                    </a:lnTo>
                    <a:lnTo>
                      <a:pt x="109" y="331"/>
                    </a:lnTo>
                    <a:lnTo>
                      <a:pt x="124" y="333"/>
                    </a:lnTo>
                    <a:lnTo>
                      <a:pt x="129" y="340"/>
                    </a:lnTo>
                    <a:lnTo>
                      <a:pt x="131" y="337"/>
                    </a:lnTo>
                    <a:lnTo>
                      <a:pt x="117" y="227"/>
                    </a:lnTo>
                    <a:lnTo>
                      <a:pt x="120" y="228"/>
                    </a:lnTo>
                    <a:lnTo>
                      <a:pt x="120" y="205"/>
                    </a:lnTo>
                    <a:lnTo>
                      <a:pt x="121" y="203"/>
                    </a:lnTo>
                    <a:lnTo>
                      <a:pt x="117" y="149"/>
                    </a:lnTo>
                    <a:lnTo>
                      <a:pt x="114" y="87"/>
                    </a:lnTo>
                    <a:lnTo>
                      <a:pt x="88" y="74"/>
                    </a:lnTo>
                    <a:lnTo>
                      <a:pt x="80" y="60"/>
                    </a:lnTo>
                    <a:lnTo>
                      <a:pt x="88" y="49"/>
                    </a:lnTo>
                    <a:lnTo>
                      <a:pt x="92" y="50"/>
                    </a:lnTo>
                    <a:lnTo>
                      <a:pt x="95" y="44"/>
                    </a:lnTo>
                    <a:lnTo>
                      <a:pt x="95" y="37"/>
                    </a:lnTo>
                    <a:lnTo>
                      <a:pt x="101" y="36"/>
                    </a:lnTo>
                    <a:lnTo>
                      <a:pt x="102" y="18"/>
                    </a:lnTo>
                    <a:lnTo>
                      <a:pt x="96" y="6"/>
                    </a:lnTo>
                    <a:lnTo>
                      <a:pt x="89" y="2"/>
                    </a:lnTo>
                    <a:lnTo>
                      <a:pt x="80" y="2"/>
                    </a:lnTo>
                    <a:lnTo>
                      <a:pt x="73" y="0"/>
                    </a:lnTo>
                    <a:lnTo>
                      <a:pt x="66" y="3"/>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312" name="Freeform 75"/>
            <p:cNvSpPr/>
            <p:nvPr/>
          </p:nvSpPr>
          <p:spPr>
            <a:xfrm>
              <a:off x="7950240" y="1731600"/>
              <a:ext cx="317520" cy="1069560"/>
            </a:xfrm>
            <a:custGeom>
              <a:avLst/>
              <a:gdLst>
                <a:gd name="textAreaLeft" fmla="*/ 0 w 317520"/>
                <a:gd name="textAreaRight" fmla="*/ 317880 w 317520"/>
                <a:gd name="textAreaTop" fmla="*/ 0 h 1069560"/>
                <a:gd name="textAreaBottom" fmla="*/ 1069920 h 1069560"/>
              </a:gdLst>
              <a:ahLst/>
              <a:rect l="textAreaLeft" t="textAreaTop" r="textAreaRight" b="textAreaBottom"/>
              <a:pathLst>
                <a:path w="399" h="1348">
                  <a:moveTo>
                    <a:pt x="202" y="9"/>
                  </a:moveTo>
                  <a:lnTo>
                    <a:pt x="155" y="18"/>
                  </a:lnTo>
                  <a:lnTo>
                    <a:pt x="135" y="69"/>
                  </a:lnTo>
                  <a:lnTo>
                    <a:pt x="135" y="92"/>
                  </a:lnTo>
                  <a:lnTo>
                    <a:pt x="156" y="92"/>
                  </a:lnTo>
                  <a:lnTo>
                    <a:pt x="148" y="100"/>
                  </a:lnTo>
                  <a:lnTo>
                    <a:pt x="155" y="106"/>
                  </a:lnTo>
                  <a:lnTo>
                    <a:pt x="161" y="129"/>
                  </a:lnTo>
                  <a:lnTo>
                    <a:pt x="167" y="132"/>
                  </a:lnTo>
                  <a:lnTo>
                    <a:pt x="181" y="175"/>
                  </a:lnTo>
                  <a:lnTo>
                    <a:pt x="181" y="184"/>
                  </a:lnTo>
                  <a:lnTo>
                    <a:pt x="161" y="184"/>
                  </a:lnTo>
                  <a:lnTo>
                    <a:pt x="129" y="235"/>
                  </a:lnTo>
                  <a:lnTo>
                    <a:pt x="70" y="251"/>
                  </a:lnTo>
                  <a:lnTo>
                    <a:pt x="44" y="294"/>
                  </a:lnTo>
                  <a:lnTo>
                    <a:pt x="13" y="664"/>
                  </a:lnTo>
                  <a:lnTo>
                    <a:pt x="27" y="667"/>
                  </a:lnTo>
                  <a:lnTo>
                    <a:pt x="0" y="732"/>
                  </a:lnTo>
                  <a:lnTo>
                    <a:pt x="13" y="773"/>
                  </a:lnTo>
                  <a:lnTo>
                    <a:pt x="26" y="773"/>
                  </a:lnTo>
                  <a:lnTo>
                    <a:pt x="32" y="782"/>
                  </a:lnTo>
                  <a:lnTo>
                    <a:pt x="44" y="782"/>
                  </a:lnTo>
                  <a:lnTo>
                    <a:pt x="39" y="743"/>
                  </a:lnTo>
                  <a:lnTo>
                    <a:pt x="44" y="720"/>
                  </a:lnTo>
                  <a:lnTo>
                    <a:pt x="50" y="737"/>
                  </a:lnTo>
                  <a:lnTo>
                    <a:pt x="44" y="749"/>
                  </a:lnTo>
                  <a:lnTo>
                    <a:pt x="51" y="759"/>
                  </a:lnTo>
                  <a:lnTo>
                    <a:pt x="64" y="727"/>
                  </a:lnTo>
                  <a:lnTo>
                    <a:pt x="56" y="674"/>
                  </a:lnTo>
                  <a:lnTo>
                    <a:pt x="78" y="676"/>
                  </a:lnTo>
                  <a:lnTo>
                    <a:pt x="64" y="1011"/>
                  </a:lnTo>
                  <a:lnTo>
                    <a:pt x="130" y="1029"/>
                  </a:lnTo>
                  <a:lnTo>
                    <a:pt x="161" y="1224"/>
                  </a:lnTo>
                  <a:lnTo>
                    <a:pt x="155" y="1243"/>
                  </a:lnTo>
                  <a:lnTo>
                    <a:pt x="142" y="1324"/>
                  </a:lnTo>
                  <a:lnTo>
                    <a:pt x="142" y="1340"/>
                  </a:lnTo>
                  <a:lnTo>
                    <a:pt x="188" y="1348"/>
                  </a:lnTo>
                  <a:lnTo>
                    <a:pt x="206" y="1327"/>
                  </a:lnTo>
                  <a:lnTo>
                    <a:pt x="195" y="1253"/>
                  </a:lnTo>
                  <a:lnTo>
                    <a:pt x="188" y="1203"/>
                  </a:lnTo>
                  <a:lnTo>
                    <a:pt x="207" y="1038"/>
                  </a:lnTo>
                  <a:lnTo>
                    <a:pt x="212" y="1039"/>
                  </a:lnTo>
                  <a:lnTo>
                    <a:pt x="232" y="1099"/>
                  </a:lnTo>
                  <a:lnTo>
                    <a:pt x="218" y="1198"/>
                  </a:lnTo>
                  <a:lnTo>
                    <a:pt x="206" y="1208"/>
                  </a:lnTo>
                  <a:lnTo>
                    <a:pt x="232" y="1313"/>
                  </a:lnTo>
                  <a:lnTo>
                    <a:pt x="277" y="1326"/>
                  </a:lnTo>
                  <a:lnTo>
                    <a:pt x="285" y="1318"/>
                  </a:lnTo>
                  <a:lnTo>
                    <a:pt x="251" y="1210"/>
                  </a:lnTo>
                  <a:lnTo>
                    <a:pt x="304" y="1029"/>
                  </a:lnTo>
                  <a:lnTo>
                    <a:pt x="328" y="1015"/>
                  </a:lnTo>
                  <a:lnTo>
                    <a:pt x="328" y="1002"/>
                  </a:lnTo>
                  <a:lnTo>
                    <a:pt x="374" y="1005"/>
                  </a:lnTo>
                  <a:lnTo>
                    <a:pt x="388" y="1029"/>
                  </a:lnTo>
                  <a:lnTo>
                    <a:pt x="399" y="1015"/>
                  </a:lnTo>
                  <a:lnTo>
                    <a:pt x="355" y="689"/>
                  </a:lnTo>
                  <a:lnTo>
                    <a:pt x="361" y="689"/>
                  </a:lnTo>
                  <a:lnTo>
                    <a:pt x="361" y="623"/>
                  </a:lnTo>
                  <a:lnTo>
                    <a:pt x="368" y="614"/>
                  </a:lnTo>
                  <a:lnTo>
                    <a:pt x="355" y="455"/>
                  </a:lnTo>
                  <a:lnTo>
                    <a:pt x="341" y="264"/>
                  </a:lnTo>
                  <a:lnTo>
                    <a:pt x="266" y="226"/>
                  </a:lnTo>
                  <a:lnTo>
                    <a:pt x="244" y="184"/>
                  </a:lnTo>
                  <a:lnTo>
                    <a:pt x="264" y="147"/>
                  </a:lnTo>
                  <a:lnTo>
                    <a:pt x="277" y="151"/>
                  </a:lnTo>
                  <a:lnTo>
                    <a:pt x="285" y="133"/>
                  </a:lnTo>
                  <a:lnTo>
                    <a:pt x="285" y="114"/>
                  </a:lnTo>
                  <a:lnTo>
                    <a:pt x="304" y="110"/>
                  </a:lnTo>
                  <a:lnTo>
                    <a:pt x="309" y="56"/>
                  </a:lnTo>
                  <a:lnTo>
                    <a:pt x="291" y="18"/>
                  </a:lnTo>
                  <a:lnTo>
                    <a:pt x="271" y="4"/>
                  </a:lnTo>
                  <a:lnTo>
                    <a:pt x="241" y="4"/>
                  </a:lnTo>
                  <a:lnTo>
                    <a:pt x="221" y="0"/>
                  </a:lnTo>
                  <a:lnTo>
                    <a:pt x="202"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3" name="Freeform 76"/>
            <p:cNvSpPr/>
            <p:nvPr/>
          </p:nvSpPr>
          <p:spPr>
            <a:xfrm>
              <a:off x="7135920" y="1795320"/>
              <a:ext cx="317520" cy="1061640"/>
            </a:xfrm>
            <a:custGeom>
              <a:avLst/>
              <a:gdLst>
                <a:gd name="textAreaLeft" fmla="*/ 0 w 317520"/>
                <a:gd name="textAreaRight" fmla="*/ 317880 w 317520"/>
                <a:gd name="textAreaTop" fmla="*/ 0 h 1061640"/>
                <a:gd name="textAreaBottom" fmla="*/ 1062000 h 1061640"/>
              </a:gdLst>
              <a:ahLst/>
              <a:rect l="textAreaLeft" t="textAreaTop" r="textAreaRight" b="textAreaBottom"/>
              <a:pathLst>
                <a:path w="399" h="1338">
                  <a:moveTo>
                    <a:pt x="300" y="17"/>
                  </a:moveTo>
                  <a:lnTo>
                    <a:pt x="251" y="0"/>
                  </a:lnTo>
                  <a:lnTo>
                    <a:pt x="199" y="9"/>
                  </a:lnTo>
                  <a:lnTo>
                    <a:pt x="163" y="42"/>
                  </a:lnTo>
                  <a:lnTo>
                    <a:pt x="150" y="84"/>
                  </a:lnTo>
                  <a:lnTo>
                    <a:pt x="162" y="133"/>
                  </a:lnTo>
                  <a:lnTo>
                    <a:pt x="144" y="162"/>
                  </a:lnTo>
                  <a:lnTo>
                    <a:pt x="119" y="175"/>
                  </a:lnTo>
                  <a:lnTo>
                    <a:pt x="48" y="204"/>
                  </a:lnTo>
                  <a:lnTo>
                    <a:pt x="29" y="224"/>
                  </a:lnTo>
                  <a:lnTo>
                    <a:pt x="0" y="438"/>
                  </a:lnTo>
                  <a:lnTo>
                    <a:pt x="11" y="483"/>
                  </a:lnTo>
                  <a:lnTo>
                    <a:pt x="85" y="501"/>
                  </a:lnTo>
                  <a:lnTo>
                    <a:pt x="74" y="703"/>
                  </a:lnTo>
                  <a:lnTo>
                    <a:pt x="124" y="722"/>
                  </a:lnTo>
                  <a:lnTo>
                    <a:pt x="138" y="871"/>
                  </a:lnTo>
                  <a:lnTo>
                    <a:pt x="127" y="1129"/>
                  </a:lnTo>
                  <a:lnTo>
                    <a:pt x="124" y="1272"/>
                  </a:lnTo>
                  <a:lnTo>
                    <a:pt x="136" y="1277"/>
                  </a:lnTo>
                  <a:lnTo>
                    <a:pt x="136" y="1289"/>
                  </a:lnTo>
                  <a:lnTo>
                    <a:pt x="176" y="1314"/>
                  </a:lnTo>
                  <a:lnTo>
                    <a:pt x="199" y="1332"/>
                  </a:lnTo>
                  <a:lnTo>
                    <a:pt x="214" y="1338"/>
                  </a:lnTo>
                  <a:lnTo>
                    <a:pt x="233" y="1338"/>
                  </a:lnTo>
                  <a:lnTo>
                    <a:pt x="252" y="1333"/>
                  </a:lnTo>
                  <a:lnTo>
                    <a:pt x="256" y="1327"/>
                  </a:lnTo>
                  <a:lnTo>
                    <a:pt x="252" y="1317"/>
                  </a:lnTo>
                  <a:lnTo>
                    <a:pt x="243" y="1305"/>
                  </a:lnTo>
                  <a:lnTo>
                    <a:pt x="231" y="1287"/>
                  </a:lnTo>
                  <a:lnTo>
                    <a:pt x="212" y="1272"/>
                  </a:lnTo>
                  <a:lnTo>
                    <a:pt x="226" y="1277"/>
                  </a:lnTo>
                  <a:lnTo>
                    <a:pt x="226" y="1259"/>
                  </a:lnTo>
                  <a:lnTo>
                    <a:pt x="282" y="1285"/>
                  </a:lnTo>
                  <a:lnTo>
                    <a:pt x="305" y="1285"/>
                  </a:lnTo>
                  <a:lnTo>
                    <a:pt x="311" y="1277"/>
                  </a:lnTo>
                  <a:lnTo>
                    <a:pt x="311" y="1268"/>
                  </a:lnTo>
                  <a:lnTo>
                    <a:pt x="309" y="1261"/>
                  </a:lnTo>
                  <a:lnTo>
                    <a:pt x="305" y="1250"/>
                  </a:lnTo>
                  <a:lnTo>
                    <a:pt x="291" y="1238"/>
                  </a:lnTo>
                  <a:lnTo>
                    <a:pt x="280" y="1226"/>
                  </a:lnTo>
                  <a:lnTo>
                    <a:pt x="294" y="1224"/>
                  </a:lnTo>
                  <a:lnTo>
                    <a:pt x="307" y="1098"/>
                  </a:lnTo>
                  <a:lnTo>
                    <a:pt x="312" y="896"/>
                  </a:lnTo>
                  <a:lnTo>
                    <a:pt x="335" y="732"/>
                  </a:lnTo>
                  <a:lnTo>
                    <a:pt x="342" y="686"/>
                  </a:lnTo>
                  <a:lnTo>
                    <a:pt x="348" y="662"/>
                  </a:lnTo>
                  <a:lnTo>
                    <a:pt x="331" y="562"/>
                  </a:lnTo>
                  <a:lnTo>
                    <a:pt x="325" y="517"/>
                  </a:lnTo>
                  <a:lnTo>
                    <a:pt x="337" y="522"/>
                  </a:lnTo>
                  <a:lnTo>
                    <a:pt x="343" y="516"/>
                  </a:lnTo>
                  <a:lnTo>
                    <a:pt x="348" y="516"/>
                  </a:lnTo>
                  <a:lnTo>
                    <a:pt x="358" y="509"/>
                  </a:lnTo>
                  <a:lnTo>
                    <a:pt x="370" y="511"/>
                  </a:lnTo>
                  <a:lnTo>
                    <a:pt x="375" y="501"/>
                  </a:lnTo>
                  <a:lnTo>
                    <a:pt x="381" y="498"/>
                  </a:lnTo>
                  <a:lnTo>
                    <a:pt x="385" y="489"/>
                  </a:lnTo>
                  <a:lnTo>
                    <a:pt x="394" y="483"/>
                  </a:lnTo>
                  <a:lnTo>
                    <a:pt x="399" y="471"/>
                  </a:lnTo>
                  <a:lnTo>
                    <a:pt x="379" y="427"/>
                  </a:lnTo>
                  <a:lnTo>
                    <a:pt x="388" y="397"/>
                  </a:lnTo>
                  <a:lnTo>
                    <a:pt x="349" y="427"/>
                  </a:lnTo>
                  <a:lnTo>
                    <a:pt x="292" y="229"/>
                  </a:lnTo>
                  <a:lnTo>
                    <a:pt x="247" y="190"/>
                  </a:lnTo>
                  <a:lnTo>
                    <a:pt x="256" y="181"/>
                  </a:lnTo>
                  <a:lnTo>
                    <a:pt x="294" y="175"/>
                  </a:lnTo>
                  <a:lnTo>
                    <a:pt x="298" y="149"/>
                  </a:lnTo>
                  <a:lnTo>
                    <a:pt x="287" y="143"/>
                  </a:lnTo>
                  <a:lnTo>
                    <a:pt x="301" y="142"/>
                  </a:lnTo>
                  <a:lnTo>
                    <a:pt x="300" y="133"/>
                  </a:lnTo>
                  <a:lnTo>
                    <a:pt x="314" y="128"/>
                  </a:lnTo>
                  <a:lnTo>
                    <a:pt x="303" y="95"/>
                  </a:lnTo>
                  <a:lnTo>
                    <a:pt x="312" y="91"/>
                  </a:lnTo>
                  <a:lnTo>
                    <a:pt x="307" y="47"/>
                  </a:lnTo>
                  <a:lnTo>
                    <a:pt x="317" y="47"/>
                  </a:lnTo>
                  <a:lnTo>
                    <a:pt x="300" y="1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4" name="Freeform 77"/>
            <p:cNvSpPr/>
            <p:nvPr/>
          </p:nvSpPr>
          <p:spPr>
            <a:xfrm>
              <a:off x="6535800" y="1733400"/>
              <a:ext cx="236520" cy="1013760"/>
            </a:xfrm>
            <a:custGeom>
              <a:avLst/>
              <a:gdLst>
                <a:gd name="textAreaLeft" fmla="*/ 0 w 236520"/>
                <a:gd name="textAreaRight" fmla="*/ 236880 w 236520"/>
                <a:gd name="textAreaTop" fmla="*/ 0 h 1013760"/>
                <a:gd name="textAreaBottom" fmla="*/ 1014120 h 1013760"/>
              </a:gdLst>
              <a:ahLst/>
              <a:rect l="textAreaLeft" t="textAreaTop" r="textAreaRight" b="textAreaBottom"/>
              <a:pathLst>
                <a:path w="298" h="1277">
                  <a:moveTo>
                    <a:pt x="228" y="25"/>
                  </a:moveTo>
                  <a:lnTo>
                    <a:pt x="228" y="57"/>
                  </a:lnTo>
                  <a:lnTo>
                    <a:pt x="223" y="66"/>
                  </a:lnTo>
                  <a:lnTo>
                    <a:pt x="236" y="93"/>
                  </a:lnTo>
                  <a:lnTo>
                    <a:pt x="228" y="99"/>
                  </a:lnTo>
                  <a:lnTo>
                    <a:pt x="231" y="109"/>
                  </a:lnTo>
                  <a:lnTo>
                    <a:pt x="222" y="144"/>
                  </a:lnTo>
                  <a:lnTo>
                    <a:pt x="222" y="151"/>
                  </a:lnTo>
                  <a:lnTo>
                    <a:pt x="273" y="185"/>
                  </a:lnTo>
                  <a:lnTo>
                    <a:pt x="298" y="449"/>
                  </a:lnTo>
                  <a:lnTo>
                    <a:pt x="266" y="495"/>
                  </a:lnTo>
                  <a:lnTo>
                    <a:pt x="278" y="638"/>
                  </a:lnTo>
                  <a:lnTo>
                    <a:pt x="257" y="654"/>
                  </a:lnTo>
                  <a:lnTo>
                    <a:pt x="249" y="877"/>
                  </a:lnTo>
                  <a:lnTo>
                    <a:pt x="233" y="1104"/>
                  </a:lnTo>
                  <a:lnTo>
                    <a:pt x="238" y="1116"/>
                  </a:lnTo>
                  <a:lnTo>
                    <a:pt x="292" y="1160"/>
                  </a:lnTo>
                  <a:lnTo>
                    <a:pt x="286" y="1167"/>
                  </a:lnTo>
                  <a:lnTo>
                    <a:pt x="266" y="1175"/>
                  </a:lnTo>
                  <a:lnTo>
                    <a:pt x="235" y="1167"/>
                  </a:lnTo>
                  <a:lnTo>
                    <a:pt x="205" y="1151"/>
                  </a:lnTo>
                  <a:lnTo>
                    <a:pt x="181" y="1142"/>
                  </a:lnTo>
                  <a:lnTo>
                    <a:pt x="181" y="1180"/>
                  </a:lnTo>
                  <a:lnTo>
                    <a:pt x="171" y="1181"/>
                  </a:lnTo>
                  <a:lnTo>
                    <a:pt x="187" y="1216"/>
                  </a:lnTo>
                  <a:lnTo>
                    <a:pt x="180" y="1269"/>
                  </a:lnTo>
                  <a:lnTo>
                    <a:pt x="161" y="1277"/>
                  </a:lnTo>
                  <a:lnTo>
                    <a:pt x="129" y="1232"/>
                  </a:lnTo>
                  <a:lnTo>
                    <a:pt x="129" y="1200"/>
                  </a:lnTo>
                  <a:lnTo>
                    <a:pt x="118" y="1195"/>
                  </a:lnTo>
                  <a:lnTo>
                    <a:pt x="107" y="905"/>
                  </a:lnTo>
                  <a:lnTo>
                    <a:pt x="118" y="876"/>
                  </a:lnTo>
                  <a:lnTo>
                    <a:pt x="84" y="681"/>
                  </a:lnTo>
                  <a:lnTo>
                    <a:pt x="64" y="673"/>
                  </a:lnTo>
                  <a:lnTo>
                    <a:pt x="55" y="472"/>
                  </a:lnTo>
                  <a:lnTo>
                    <a:pt x="0" y="448"/>
                  </a:lnTo>
                  <a:lnTo>
                    <a:pt x="24" y="229"/>
                  </a:lnTo>
                  <a:lnTo>
                    <a:pt x="108" y="169"/>
                  </a:lnTo>
                  <a:lnTo>
                    <a:pt x="130" y="150"/>
                  </a:lnTo>
                  <a:lnTo>
                    <a:pt x="131" y="129"/>
                  </a:lnTo>
                  <a:lnTo>
                    <a:pt x="122" y="115"/>
                  </a:lnTo>
                  <a:lnTo>
                    <a:pt x="113" y="102"/>
                  </a:lnTo>
                  <a:lnTo>
                    <a:pt x="104" y="87"/>
                  </a:lnTo>
                  <a:lnTo>
                    <a:pt x="99" y="71"/>
                  </a:lnTo>
                  <a:lnTo>
                    <a:pt x="99" y="56"/>
                  </a:lnTo>
                  <a:lnTo>
                    <a:pt x="104" y="41"/>
                  </a:lnTo>
                  <a:lnTo>
                    <a:pt x="115" y="23"/>
                  </a:lnTo>
                  <a:lnTo>
                    <a:pt x="130" y="10"/>
                  </a:lnTo>
                  <a:lnTo>
                    <a:pt x="148" y="3"/>
                  </a:lnTo>
                  <a:lnTo>
                    <a:pt x="168" y="0"/>
                  </a:lnTo>
                  <a:lnTo>
                    <a:pt x="187" y="4"/>
                  </a:lnTo>
                  <a:lnTo>
                    <a:pt x="205" y="9"/>
                  </a:lnTo>
                  <a:lnTo>
                    <a:pt x="228" y="2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5" name="Freeform 78"/>
            <p:cNvSpPr/>
            <p:nvPr/>
          </p:nvSpPr>
          <p:spPr>
            <a:xfrm>
              <a:off x="6018120" y="1723680"/>
              <a:ext cx="279360" cy="921960"/>
            </a:xfrm>
            <a:custGeom>
              <a:avLst/>
              <a:gdLst>
                <a:gd name="textAreaLeft" fmla="*/ 0 w 279360"/>
                <a:gd name="textAreaRight" fmla="*/ 279720 w 279360"/>
                <a:gd name="textAreaTop" fmla="*/ 0 h 921960"/>
                <a:gd name="textAreaBottom" fmla="*/ 922320 h 921960"/>
              </a:gdLst>
              <a:ahLst/>
              <a:rect l="textAreaLeft" t="textAreaTop" r="textAreaRight" b="textAreaBottom"/>
              <a:pathLst>
                <a:path w="353" h="1162">
                  <a:moveTo>
                    <a:pt x="216" y="14"/>
                  </a:moveTo>
                  <a:lnTo>
                    <a:pt x="284" y="0"/>
                  </a:lnTo>
                  <a:lnTo>
                    <a:pt x="311" y="28"/>
                  </a:lnTo>
                  <a:lnTo>
                    <a:pt x="323" y="19"/>
                  </a:lnTo>
                  <a:lnTo>
                    <a:pt x="342" y="70"/>
                  </a:lnTo>
                  <a:lnTo>
                    <a:pt x="304" y="103"/>
                  </a:lnTo>
                  <a:lnTo>
                    <a:pt x="301" y="129"/>
                  </a:lnTo>
                  <a:lnTo>
                    <a:pt x="292" y="131"/>
                  </a:lnTo>
                  <a:lnTo>
                    <a:pt x="284" y="158"/>
                  </a:lnTo>
                  <a:lnTo>
                    <a:pt x="258" y="163"/>
                  </a:lnTo>
                  <a:lnTo>
                    <a:pt x="258" y="173"/>
                  </a:lnTo>
                  <a:lnTo>
                    <a:pt x="304" y="208"/>
                  </a:lnTo>
                  <a:lnTo>
                    <a:pt x="342" y="376"/>
                  </a:lnTo>
                  <a:lnTo>
                    <a:pt x="311" y="419"/>
                  </a:lnTo>
                  <a:lnTo>
                    <a:pt x="311" y="723"/>
                  </a:lnTo>
                  <a:lnTo>
                    <a:pt x="274" y="736"/>
                  </a:lnTo>
                  <a:lnTo>
                    <a:pt x="268" y="784"/>
                  </a:lnTo>
                  <a:lnTo>
                    <a:pt x="254" y="913"/>
                  </a:lnTo>
                  <a:lnTo>
                    <a:pt x="254" y="983"/>
                  </a:lnTo>
                  <a:lnTo>
                    <a:pt x="311" y="1025"/>
                  </a:lnTo>
                  <a:lnTo>
                    <a:pt x="352" y="1047"/>
                  </a:lnTo>
                  <a:lnTo>
                    <a:pt x="353" y="1061"/>
                  </a:lnTo>
                  <a:lnTo>
                    <a:pt x="264" y="1040"/>
                  </a:lnTo>
                  <a:lnTo>
                    <a:pt x="254" y="1026"/>
                  </a:lnTo>
                  <a:lnTo>
                    <a:pt x="245" y="1040"/>
                  </a:lnTo>
                  <a:lnTo>
                    <a:pt x="235" y="1040"/>
                  </a:lnTo>
                  <a:lnTo>
                    <a:pt x="225" y="992"/>
                  </a:lnTo>
                  <a:lnTo>
                    <a:pt x="216" y="770"/>
                  </a:lnTo>
                  <a:lnTo>
                    <a:pt x="196" y="770"/>
                  </a:lnTo>
                  <a:lnTo>
                    <a:pt x="148" y="966"/>
                  </a:lnTo>
                  <a:lnTo>
                    <a:pt x="148" y="1087"/>
                  </a:lnTo>
                  <a:lnTo>
                    <a:pt x="128" y="1148"/>
                  </a:lnTo>
                  <a:lnTo>
                    <a:pt x="108" y="1162"/>
                  </a:lnTo>
                  <a:lnTo>
                    <a:pt x="98" y="1129"/>
                  </a:lnTo>
                  <a:lnTo>
                    <a:pt x="111" y="1095"/>
                  </a:lnTo>
                  <a:lnTo>
                    <a:pt x="128" y="1019"/>
                  </a:lnTo>
                  <a:lnTo>
                    <a:pt x="130" y="740"/>
                  </a:lnTo>
                  <a:lnTo>
                    <a:pt x="147" y="467"/>
                  </a:lnTo>
                  <a:lnTo>
                    <a:pt x="117" y="444"/>
                  </a:lnTo>
                  <a:lnTo>
                    <a:pt x="117" y="405"/>
                  </a:lnTo>
                  <a:lnTo>
                    <a:pt x="117" y="331"/>
                  </a:lnTo>
                  <a:lnTo>
                    <a:pt x="78" y="350"/>
                  </a:lnTo>
                  <a:lnTo>
                    <a:pt x="111" y="397"/>
                  </a:lnTo>
                  <a:lnTo>
                    <a:pt x="111" y="439"/>
                  </a:lnTo>
                  <a:lnTo>
                    <a:pt x="77" y="413"/>
                  </a:lnTo>
                  <a:lnTo>
                    <a:pt x="56" y="386"/>
                  </a:lnTo>
                  <a:lnTo>
                    <a:pt x="38" y="392"/>
                  </a:lnTo>
                  <a:lnTo>
                    <a:pt x="0" y="346"/>
                  </a:lnTo>
                  <a:lnTo>
                    <a:pt x="0" y="331"/>
                  </a:lnTo>
                  <a:lnTo>
                    <a:pt x="19" y="324"/>
                  </a:lnTo>
                  <a:lnTo>
                    <a:pt x="65" y="273"/>
                  </a:lnTo>
                  <a:lnTo>
                    <a:pt x="111" y="229"/>
                  </a:lnTo>
                  <a:lnTo>
                    <a:pt x="171" y="176"/>
                  </a:lnTo>
                  <a:lnTo>
                    <a:pt x="216" y="159"/>
                  </a:lnTo>
                  <a:lnTo>
                    <a:pt x="216" y="124"/>
                  </a:lnTo>
                  <a:lnTo>
                    <a:pt x="196" y="105"/>
                  </a:lnTo>
                  <a:lnTo>
                    <a:pt x="196" y="56"/>
                  </a:lnTo>
                  <a:lnTo>
                    <a:pt x="186" y="49"/>
                  </a:lnTo>
                  <a:lnTo>
                    <a:pt x="216" y="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6" name="Freeform 79"/>
            <p:cNvSpPr/>
            <p:nvPr/>
          </p:nvSpPr>
          <p:spPr>
            <a:xfrm>
              <a:off x="5186520" y="1746000"/>
              <a:ext cx="268200" cy="1139400"/>
            </a:xfrm>
            <a:custGeom>
              <a:avLst/>
              <a:gdLst>
                <a:gd name="textAreaLeft" fmla="*/ 0 w 268200"/>
                <a:gd name="textAreaRight" fmla="*/ 268560 w 268200"/>
                <a:gd name="textAreaTop" fmla="*/ 0 h 1139400"/>
                <a:gd name="textAreaBottom" fmla="*/ 1139760 h 1139400"/>
              </a:gdLst>
              <a:ahLst/>
              <a:rect l="textAreaLeft" t="textAreaTop" r="textAreaRight" b="textAreaBottom"/>
              <a:pathLst>
                <a:path w="338" h="1436">
                  <a:moveTo>
                    <a:pt x="79" y="28"/>
                  </a:moveTo>
                  <a:lnTo>
                    <a:pt x="79" y="64"/>
                  </a:lnTo>
                  <a:lnTo>
                    <a:pt x="86" y="74"/>
                  </a:lnTo>
                  <a:lnTo>
                    <a:pt x="70" y="105"/>
                  </a:lnTo>
                  <a:lnTo>
                    <a:pt x="79" y="111"/>
                  </a:lnTo>
                  <a:lnTo>
                    <a:pt x="77" y="122"/>
                  </a:lnTo>
                  <a:lnTo>
                    <a:pt x="87" y="162"/>
                  </a:lnTo>
                  <a:lnTo>
                    <a:pt x="87" y="170"/>
                  </a:lnTo>
                  <a:lnTo>
                    <a:pt x="28" y="208"/>
                  </a:lnTo>
                  <a:lnTo>
                    <a:pt x="0" y="506"/>
                  </a:lnTo>
                  <a:lnTo>
                    <a:pt x="36" y="556"/>
                  </a:lnTo>
                  <a:lnTo>
                    <a:pt x="23" y="717"/>
                  </a:lnTo>
                  <a:lnTo>
                    <a:pt x="46" y="736"/>
                  </a:lnTo>
                  <a:lnTo>
                    <a:pt x="56" y="987"/>
                  </a:lnTo>
                  <a:lnTo>
                    <a:pt x="73" y="1241"/>
                  </a:lnTo>
                  <a:lnTo>
                    <a:pt x="68" y="1257"/>
                  </a:lnTo>
                  <a:lnTo>
                    <a:pt x="7" y="1305"/>
                  </a:lnTo>
                  <a:lnTo>
                    <a:pt x="14" y="1314"/>
                  </a:lnTo>
                  <a:lnTo>
                    <a:pt x="36" y="1322"/>
                  </a:lnTo>
                  <a:lnTo>
                    <a:pt x="72" y="1314"/>
                  </a:lnTo>
                  <a:lnTo>
                    <a:pt x="105" y="1295"/>
                  </a:lnTo>
                  <a:lnTo>
                    <a:pt x="133" y="1285"/>
                  </a:lnTo>
                  <a:lnTo>
                    <a:pt x="133" y="1328"/>
                  </a:lnTo>
                  <a:lnTo>
                    <a:pt x="144" y="1329"/>
                  </a:lnTo>
                  <a:lnTo>
                    <a:pt x="125" y="1367"/>
                  </a:lnTo>
                  <a:lnTo>
                    <a:pt x="134" y="1428"/>
                  </a:lnTo>
                  <a:lnTo>
                    <a:pt x="156" y="1436"/>
                  </a:lnTo>
                  <a:lnTo>
                    <a:pt x="193" y="1386"/>
                  </a:lnTo>
                  <a:lnTo>
                    <a:pt x="193" y="1351"/>
                  </a:lnTo>
                  <a:lnTo>
                    <a:pt x="204" y="1344"/>
                  </a:lnTo>
                  <a:lnTo>
                    <a:pt x="217" y="1019"/>
                  </a:lnTo>
                  <a:lnTo>
                    <a:pt x="204" y="985"/>
                  </a:lnTo>
                  <a:lnTo>
                    <a:pt x="243" y="767"/>
                  </a:lnTo>
                  <a:lnTo>
                    <a:pt x="267" y="758"/>
                  </a:lnTo>
                  <a:lnTo>
                    <a:pt x="277" y="531"/>
                  </a:lnTo>
                  <a:lnTo>
                    <a:pt x="338" y="504"/>
                  </a:lnTo>
                  <a:lnTo>
                    <a:pt x="311" y="257"/>
                  </a:lnTo>
                  <a:lnTo>
                    <a:pt x="216" y="190"/>
                  </a:lnTo>
                  <a:lnTo>
                    <a:pt x="192" y="168"/>
                  </a:lnTo>
                  <a:lnTo>
                    <a:pt x="189" y="144"/>
                  </a:lnTo>
                  <a:lnTo>
                    <a:pt x="199" y="129"/>
                  </a:lnTo>
                  <a:lnTo>
                    <a:pt x="209" y="115"/>
                  </a:lnTo>
                  <a:lnTo>
                    <a:pt x="220" y="97"/>
                  </a:lnTo>
                  <a:lnTo>
                    <a:pt x="226" y="80"/>
                  </a:lnTo>
                  <a:lnTo>
                    <a:pt x="226" y="63"/>
                  </a:lnTo>
                  <a:lnTo>
                    <a:pt x="220" y="46"/>
                  </a:lnTo>
                  <a:lnTo>
                    <a:pt x="208" y="26"/>
                  </a:lnTo>
                  <a:lnTo>
                    <a:pt x="192" y="12"/>
                  </a:lnTo>
                  <a:lnTo>
                    <a:pt x="171" y="3"/>
                  </a:lnTo>
                  <a:lnTo>
                    <a:pt x="147" y="0"/>
                  </a:lnTo>
                  <a:lnTo>
                    <a:pt x="125" y="4"/>
                  </a:lnTo>
                  <a:lnTo>
                    <a:pt x="105" y="9"/>
                  </a:lnTo>
                  <a:lnTo>
                    <a:pt x="79" y="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7" name="Freeform 80"/>
            <p:cNvSpPr/>
            <p:nvPr/>
          </p:nvSpPr>
          <p:spPr>
            <a:xfrm>
              <a:off x="8426520" y="1612440"/>
              <a:ext cx="282600" cy="890280"/>
            </a:xfrm>
            <a:custGeom>
              <a:avLst/>
              <a:gdLst>
                <a:gd name="textAreaLeft" fmla="*/ 0 w 282600"/>
                <a:gd name="textAreaRight" fmla="*/ 282960 w 282600"/>
                <a:gd name="textAreaTop" fmla="*/ 0 h 890280"/>
                <a:gd name="textAreaBottom" fmla="*/ 890640 h 890280"/>
              </a:gdLst>
              <a:ahLst/>
              <a:rect l="textAreaLeft" t="textAreaTop" r="textAreaRight" b="textAreaBottom"/>
              <a:pathLst>
                <a:path w="357" h="1123">
                  <a:moveTo>
                    <a:pt x="267" y="13"/>
                  </a:moveTo>
                  <a:lnTo>
                    <a:pt x="224" y="0"/>
                  </a:lnTo>
                  <a:lnTo>
                    <a:pt x="178" y="7"/>
                  </a:lnTo>
                  <a:lnTo>
                    <a:pt x="145" y="35"/>
                  </a:lnTo>
                  <a:lnTo>
                    <a:pt x="133" y="70"/>
                  </a:lnTo>
                  <a:lnTo>
                    <a:pt x="144" y="111"/>
                  </a:lnTo>
                  <a:lnTo>
                    <a:pt x="128" y="135"/>
                  </a:lnTo>
                  <a:lnTo>
                    <a:pt x="105" y="147"/>
                  </a:lnTo>
                  <a:lnTo>
                    <a:pt x="43" y="171"/>
                  </a:lnTo>
                  <a:lnTo>
                    <a:pt x="25" y="186"/>
                  </a:lnTo>
                  <a:lnTo>
                    <a:pt x="0" y="367"/>
                  </a:lnTo>
                  <a:lnTo>
                    <a:pt x="10" y="404"/>
                  </a:lnTo>
                  <a:lnTo>
                    <a:pt x="76" y="419"/>
                  </a:lnTo>
                  <a:lnTo>
                    <a:pt x="66" y="590"/>
                  </a:lnTo>
                  <a:lnTo>
                    <a:pt x="110" y="606"/>
                  </a:lnTo>
                  <a:lnTo>
                    <a:pt x="122" y="731"/>
                  </a:lnTo>
                  <a:lnTo>
                    <a:pt x="113" y="949"/>
                  </a:lnTo>
                  <a:lnTo>
                    <a:pt x="110" y="1068"/>
                  </a:lnTo>
                  <a:lnTo>
                    <a:pt x="122" y="1072"/>
                  </a:lnTo>
                  <a:lnTo>
                    <a:pt x="122" y="1082"/>
                  </a:lnTo>
                  <a:lnTo>
                    <a:pt x="156" y="1103"/>
                  </a:lnTo>
                  <a:lnTo>
                    <a:pt x="178" y="1118"/>
                  </a:lnTo>
                  <a:lnTo>
                    <a:pt x="191" y="1123"/>
                  </a:lnTo>
                  <a:lnTo>
                    <a:pt x="209" y="1123"/>
                  </a:lnTo>
                  <a:lnTo>
                    <a:pt x="225" y="1119"/>
                  </a:lnTo>
                  <a:lnTo>
                    <a:pt x="229" y="1114"/>
                  </a:lnTo>
                  <a:lnTo>
                    <a:pt x="225" y="1105"/>
                  </a:lnTo>
                  <a:lnTo>
                    <a:pt x="218" y="1095"/>
                  </a:lnTo>
                  <a:lnTo>
                    <a:pt x="206" y="1081"/>
                  </a:lnTo>
                  <a:lnTo>
                    <a:pt x="190" y="1068"/>
                  </a:lnTo>
                  <a:lnTo>
                    <a:pt x="201" y="1072"/>
                  </a:lnTo>
                  <a:lnTo>
                    <a:pt x="201" y="1057"/>
                  </a:lnTo>
                  <a:lnTo>
                    <a:pt x="252" y="1078"/>
                  </a:lnTo>
                  <a:lnTo>
                    <a:pt x="272" y="1078"/>
                  </a:lnTo>
                  <a:lnTo>
                    <a:pt x="279" y="1072"/>
                  </a:lnTo>
                  <a:lnTo>
                    <a:pt x="279" y="1064"/>
                  </a:lnTo>
                  <a:lnTo>
                    <a:pt x="276" y="1058"/>
                  </a:lnTo>
                  <a:lnTo>
                    <a:pt x="272" y="1049"/>
                  </a:lnTo>
                  <a:lnTo>
                    <a:pt x="260" y="1039"/>
                  </a:lnTo>
                  <a:lnTo>
                    <a:pt x="251" y="1029"/>
                  </a:lnTo>
                  <a:lnTo>
                    <a:pt x="263" y="1027"/>
                  </a:lnTo>
                  <a:lnTo>
                    <a:pt x="275" y="922"/>
                  </a:lnTo>
                  <a:lnTo>
                    <a:pt x="279" y="752"/>
                  </a:lnTo>
                  <a:lnTo>
                    <a:pt x="300" y="615"/>
                  </a:lnTo>
                  <a:lnTo>
                    <a:pt x="306" y="576"/>
                  </a:lnTo>
                  <a:lnTo>
                    <a:pt x="312" y="555"/>
                  </a:lnTo>
                  <a:lnTo>
                    <a:pt x="297" y="471"/>
                  </a:lnTo>
                  <a:lnTo>
                    <a:pt x="290" y="433"/>
                  </a:lnTo>
                  <a:lnTo>
                    <a:pt x="300" y="437"/>
                  </a:lnTo>
                  <a:lnTo>
                    <a:pt x="307" y="432"/>
                  </a:lnTo>
                  <a:lnTo>
                    <a:pt x="312" y="432"/>
                  </a:lnTo>
                  <a:lnTo>
                    <a:pt x="321" y="427"/>
                  </a:lnTo>
                  <a:lnTo>
                    <a:pt x="331" y="427"/>
                  </a:lnTo>
                  <a:lnTo>
                    <a:pt x="335" y="419"/>
                  </a:lnTo>
                  <a:lnTo>
                    <a:pt x="341" y="416"/>
                  </a:lnTo>
                  <a:lnTo>
                    <a:pt x="345" y="409"/>
                  </a:lnTo>
                  <a:lnTo>
                    <a:pt x="353" y="404"/>
                  </a:lnTo>
                  <a:lnTo>
                    <a:pt x="357" y="394"/>
                  </a:lnTo>
                  <a:lnTo>
                    <a:pt x="339" y="357"/>
                  </a:lnTo>
                  <a:lnTo>
                    <a:pt x="346" y="332"/>
                  </a:lnTo>
                  <a:lnTo>
                    <a:pt x="312" y="357"/>
                  </a:lnTo>
                  <a:lnTo>
                    <a:pt x="261" y="191"/>
                  </a:lnTo>
                  <a:lnTo>
                    <a:pt x="221" y="159"/>
                  </a:lnTo>
                  <a:lnTo>
                    <a:pt x="229" y="152"/>
                  </a:lnTo>
                  <a:lnTo>
                    <a:pt x="263" y="147"/>
                  </a:lnTo>
                  <a:lnTo>
                    <a:pt x="267" y="125"/>
                  </a:lnTo>
                  <a:lnTo>
                    <a:pt x="256" y="120"/>
                  </a:lnTo>
                  <a:lnTo>
                    <a:pt x="269" y="119"/>
                  </a:lnTo>
                  <a:lnTo>
                    <a:pt x="267" y="111"/>
                  </a:lnTo>
                  <a:lnTo>
                    <a:pt x="280" y="106"/>
                  </a:lnTo>
                  <a:lnTo>
                    <a:pt x="271" y="79"/>
                  </a:lnTo>
                  <a:lnTo>
                    <a:pt x="279" y="75"/>
                  </a:lnTo>
                  <a:lnTo>
                    <a:pt x="275" y="40"/>
                  </a:lnTo>
                  <a:lnTo>
                    <a:pt x="284" y="40"/>
                  </a:lnTo>
                  <a:lnTo>
                    <a:pt x="267" y="1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8" name="Freeform 81"/>
            <p:cNvSpPr/>
            <p:nvPr/>
          </p:nvSpPr>
          <p:spPr>
            <a:xfrm>
              <a:off x="5457960" y="1763280"/>
              <a:ext cx="252360" cy="1187280"/>
            </a:xfrm>
            <a:custGeom>
              <a:avLst/>
              <a:gdLst>
                <a:gd name="textAreaLeft" fmla="*/ 0 w 252360"/>
                <a:gd name="textAreaRight" fmla="*/ 252720 w 252360"/>
                <a:gd name="textAreaTop" fmla="*/ 0 h 1187280"/>
                <a:gd name="textAreaBottom" fmla="*/ 1187640 h 1187280"/>
              </a:gdLst>
              <a:ahLst/>
              <a:rect l="textAreaLeft" t="textAreaTop" r="textAreaRight" b="textAreaBottom"/>
              <a:pathLst>
                <a:path w="318" h="1496">
                  <a:moveTo>
                    <a:pt x="207" y="22"/>
                  </a:moveTo>
                  <a:lnTo>
                    <a:pt x="131" y="0"/>
                  </a:lnTo>
                  <a:lnTo>
                    <a:pt x="77" y="0"/>
                  </a:lnTo>
                  <a:lnTo>
                    <a:pt x="27" y="13"/>
                  </a:lnTo>
                  <a:lnTo>
                    <a:pt x="8" y="64"/>
                  </a:lnTo>
                  <a:lnTo>
                    <a:pt x="8" y="109"/>
                  </a:lnTo>
                  <a:lnTo>
                    <a:pt x="36" y="162"/>
                  </a:lnTo>
                  <a:lnTo>
                    <a:pt x="56" y="160"/>
                  </a:lnTo>
                  <a:lnTo>
                    <a:pt x="27" y="220"/>
                  </a:lnTo>
                  <a:lnTo>
                    <a:pt x="0" y="322"/>
                  </a:lnTo>
                  <a:lnTo>
                    <a:pt x="0" y="407"/>
                  </a:lnTo>
                  <a:lnTo>
                    <a:pt x="8" y="517"/>
                  </a:lnTo>
                  <a:lnTo>
                    <a:pt x="27" y="624"/>
                  </a:lnTo>
                  <a:lnTo>
                    <a:pt x="64" y="629"/>
                  </a:lnTo>
                  <a:lnTo>
                    <a:pt x="64" y="662"/>
                  </a:lnTo>
                  <a:lnTo>
                    <a:pt x="83" y="675"/>
                  </a:lnTo>
                  <a:lnTo>
                    <a:pt x="83" y="783"/>
                  </a:lnTo>
                  <a:lnTo>
                    <a:pt x="103" y="803"/>
                  </a:lnTo>
                  <a:lnTo>
                    <a:pt x="103" y="1004"/>
                  </a:lnTo>
                  <a:lnTo>
                    <a:pt x="103" y="1131"/>
                  </a:lnTo>
                  <a:lnTo>
                    <a:pt x="74" y="1273"/>
                  </a:lnTo>
                  <a:lnTo>
                    <a:pt x="63" y="1456"/>
                  </a:lnTo>
                  <a:lnTo>
                    <a:pt x="94" y="1469"/>
                  </a:lnTo>
                  <a:lnTo>
                    <a:pt x="94" y="1490"/>
                  </a:lnTo>
                  <a:lnTo>
                    <a:pt x="149" y="1490"/>
                  </a:lnTo>
                  <a:lnTo>
                    <a:pt x="157" y="1483"/>
                  </a:lnTo>
                  <a:lnTo>
                    <a:pt x="179" y="1483"/>
                  </a:lnTo>
                  <a:lnTo>
                    <a:pt x="180" y="1496"/>
                  </a:lnTo>
                  <a:lnTo>
                    <a:pt x="218" y="1490"/>
                  </a:lnTo>
                  <a:lnTo>
                    <a:pt x="301" y="1483"/>
                  </a:lnTo>
                  <a:lnTo>
                    <a:pt x="301" y="1470"/>
                  </a:lnTo>
                  <a:lnTo>
                    <a:pt x="226" y="1442"/>
                  </a:lnTo>
                  <a:lnTo>
                    <a:pt x="226" y="1415"/>
                  </a:lnTo>
                  <a:lnTo>
                    <a:pt x="291" y="1403"/>
                  </a:lnTo>
                  <a:lnTo>
                    <a:pt x="291" y="1382"/>
                  </a:lnTo>
                  <a:lnTo>
                    <a:pt x="245" y="1356"/>
                  </a:lnTo>
                  <a:lnTo>
                    <a:pt x="245" y="1152"/>
                  </a:lnTo>
                  <a:lnTo>
                    <a:pt x="263" y="966"/>
                  </a:lnTo>
                  <a:lnTo>
                    <a:pt x="256" y="779"/>
                  </a:lnTo>
                  <a:lnTo>
                    <a:pt x="254" y="675"/>
                  </a:lnTo>
                  <a:lnTo>
                    <a:pt x="263" y="641"/>
                  </a:lnTo>
                  <a:lnTo>
                    <a:pt x="263" y="496"/>
                  </a:lnTo>
                  <a:lnTo>
                    <a:pt x="318" y="462"/>
                  </a:lnTo>
                  <a:lnTo>
                    <a:pt x="318" y="443"/>
                  </a:lnTo>
                  <a:lnTo>
                    <a:pt x="198" y="242"/>
                  </a:lnTo>
                  <a:lnTo>
                    <a:pt x="140" y="215"/>
                  </a:lnTo>
                  <a:lnTo>
                    <a:pt x="148" y="202"/>
                  </a:lnTo>
                  <a:lnTo>
                    <a:pt x="187" y="195"/>
                  </a:lnTo>
                  <a:lnTo>
                    <a:pt x="187" y="182"/>
                  </a:lnTo>
                  <a:lnTo>
                    <a:pt x="198" y="176"/>
                  </a:lnTo>
                  <a:lnTo>
                    <a:pt x="198" y="162"/>
                  </a:lnTo>
                  <a:lnTo>
                    <a:pt x="207" y="155"/>
                  </a:lnTo>
                  <a:lnTo>
                    <a:pt x="198" y="148"/>
                  </a:lnTo>
                  <a:lnTo>
                    <a:pt x="205" y="142"/>
                  </a:lnTo>
                  <a:lnTo>
                    <a:pt x="187" y="109"/>
                  </a:lnTo>
                  <a:lnTo>
                    <a:pt x="198" y="89"/>
                  </a:lnTo>
                  <a:lnTo>
                    <a:pt x="187" y="69"/>
                  </a:lnTo>
                  <a:lnTo>
                    <a:pt x="205" y="55"/>
                  </a:lnTo>
                  <a:lnTo>
                    <a:pt x="207" y="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9" name="Freeform 82"/>
            <p:cNvSpPr/>
            <p:nvPr/>
          </p:nvSpPr>
          <p:spPr>
            <a:xfrm>
              <a:off x="5681520" y="1925280"/>
              <a:ext cx="362160" cy="1223640"/>
            </a:xfrm>
            <a:custGeom>
              <a:avLst/>
              <a:gdLst>
                <a:gd name="textAreaLeft" fmla="*/ 0 w 362160"/>
                <a:gd name="textAreaRight" fmla="*/ 362520 w 362160"/>
                <a:gd name="textAreaTop" fmla="*/ 0 h 1223640"/>
                <a:gd name="textAreaBottom" fmla="*/ 1224000 h 1223640"/>
              </a:gdLst>
              <a:ahLst/>
              <a:rect l="textAreaLeft" t="textAreaTop" r="textAreaRight" b="textAreaBottom"/>
              <a:pathLst>
                <a:path w="456" h="1540">
                  <a:moveTo>
                    <a:pt x="229" y="11"/>
                  </a:moveTo>
                  <a:lnTo>
                    <a:pt x="177" y="20"/>
                  </a:lnTo>
                  <a:lnTo>
                    <a:pt x="154" y="79"/>
                  </a:lnTo>
                  <a:lnTo>
                    <a:pt x="154" y="105"/>
                  </a:lnTo>
                  <a:lnTo>
                    <a:pt x="177" y="105"/>
                  </a:lnTo>
                  <a:lnTo>
                    <a:pt x="169" y="116"/>
                  </a:lnTo>
                  <a:lnTo>
                    <a:pt x="177" y="122"/>
                  </a:lnTo>
                  <a:lnTo>
                    <a:pt x="183" y="147"/>
                  </a:lnTo>
                  <a:lnTo>
                    <a:pt x="190" y="151"/>
                  </a:lnTo>
                  <a:lnTo>
                    <a:pt x="206" y="200"/>
                  </a:lnTo>
                  <a:lnTo>
                    <a:pt x="206" y="210"/>
                  </a:lnTo>
                  <a:lnTo>
                    <a:pt x="183" y="210"/>
                  </a:lnTo>
                  <a:lnTo>
                    <a:pt x="148" y="268"/>
                  </a:lnTo>
                  <a:lnTo>
                    <a:pt x="80" y="287"/>
                  </a:lnTo>
                  <a:lnTo>
                    <a:pt x="50" y="335"/>
                  </a:lnTo>
                  <a:lnTo>
                    <a:pt x="14" y="756"/>
                  </a:lnTo>
                  <a:lnTo>
                    <a:pt x="30" y="761"/>
                  </a:lnTo>
                  <a:lnTo>
                    <a:pt x="0" y="835"/>
                  </a:lnTo>
                  <a:lnTo>
                    <a:pt x="14" y="882"/>
                  </a:lnTo>
                  <a:lnTo>
                    <a:pt x="29" y="882"/>
                  </a:lnTo>
                  <a:lnTo>
                    <a:pt x="37" y="892"/>
                  </a:lnTo>
                  <a:lnTo>
                    <a:pt x="50" y="892"/>
                  </a:lnTo>
                  <a:lnTo>
                    <a:pt x="43" y="846"/>
                  </a:lnTo>
                  <a:lnTo>
                    <a:pt x="50" y="820"/>
                  </a:lnTo>
                  <a:lnTo>
                    <a:pt x="57" y="841"/>
                  </a:lnTo>
                  <a:lnTo>
                    <a:pt x="50" y="855"/>
                  </a:lnTo>
                  <a:lnTo>
                    <a:pt x="58" y="867"/>
                  </a:lnTo>
                  <a:lnTo>
                    <a:pt x="74" y="830"/>
                  </a:lnTo>
                  <a:lnTo>
                    <a:pt x="64" y="769"/>
                  </a:lnTo>
                  <a:lnTo>
                    <a:pt x="88" y="771"/>
                  </a:lnTo>
                  <a:lnTo>
                    <a:pt x="74" y="1153"/>
                  </a:lnTo>
                  <a:lnTo>
                    <a:pt x="149" y="1175"/>
                  </a:lnTo>
                  <a:lnTo>
                    <a:pt x="183" y="1397"/>
                  </a:lnTo>
                  <a:lnTo>
                    <a:pt x="177" y="1419"/>
                  </a:lnTo>
                  <a:lnTo>
                    <a:pt x="162" y="1513"/>
                  </a:lnTo>
                  <a:lnTo>
                    <a:pt x="162" y="1530"/>
                  </a:lnTo>
                  <a:lnTo>
                    <a:pt x="214" y="1540"/>
                  </a:lnTo>
                  <a:lnTo>
                    <a:pt x="234" y="1515"/>
                  </a:lnTo>
                  <a:lnTo>
                    <a:pt x="223" y="1432"/>
                  </a:lnTo>
                  <a:lnTo>
                    <a:pt x="214" y="1375"/>
                  </a:lnTo>
                  <a:lnTo>
                    <a:pt x="236" y="1184"/>
                  </a:lnTo>
                  <a:lnTo>
                    <a:pt x="242" y="1185"/>
                  </a:lnTo>
                  <a:lnTo>
                    <a:pt x="265" y="1255"/>
                  </a:lnTo>
                  <a:lnTo>
                    <a:pt x="250" y="1369"/>
                  </a:lnTo>
                  <a:lnTo>
                    <a:pt x="234" y="1380"/>
                  </a:lnTo>
                  <a:lnTo>
                    <a:pt x="265" y="1499"/>
                  </a:lnTo>
                  <a:lnTo>
                    <a:pt x="316" y="1513"/>
                  </a:lnTo>
                  <a:lnTo>
                    <a:pt x="325" y="1504"/>
                  </a:lnTo>
                  <a:lnTo>
                    <a:pt x="287" y="1382"/>
                  </a:lnTo>
                  <a:lnTo>
                    <a:pt x="347" y="1175"/>
                  </a:lnTo>
                  <a:lnTo>
                    <a:pt x="375" y="1158"/>
                  </a:lnTo>
                  <a:lnTo>
                    <a:pt x="375" y="1143"/>
                  </a:lnTo>
                  <a:lnTo>
                    <a:pt x="427" y="1147"/>
                  </a:lnTo>
                  <a:lnTo>
                    <a:pt x="444" y="1175"/>
                  </a:lnTo>
                  <a:lnTo>
                    <a:pt x="456" y="1158"/>
                  </a:lnTo>
                  <a:lnTo>
                    <a:pt x="405" y="785"/>
                  </a:lnTo>
                  <a:lnTo>
                    <a:pt x="413" y="786"/>
                  </a:lnTo>
                  <a:lnTo>
                    <a:pt x="413" y="710"/>
                  </a:lnTo>
                  <a:lnTo>
                    <a:pt x="419" y="700"/>
                  </a:lnTo>
                  <a:lnTo>
                    <a:pt x="405" y="518"/>
                  </a:lnTo>
                  <a:lnTo>
                    <a:pt x="390" y="301"/>
                  </a:lnTo>
                  <a:lnTo>
                    <a:pt x="303" y="258"/>
                  </a:lnTo>
                  <a:lnTo>
                    <a:pt x="279" y="210"/>
                  </a:lnTo>
                  <a:lnTo>
                    <a:pt x="302" y="168"/>
                  </a:lnTo>
                  <a:lnTo>
                    <a:pt x="316" y="173"/>
                  </a:lnTo>
                  <a:lnTo>
                    <a:pt x="325" y="153"/>
                  </a:lnTo>
                  <a:lnTo>
                    <a:pt x="325" y="130"/>
                  </a:lnTo>
                  <a:lnTo>
                    <a:pt x="347" y="127"/>
                  </a:lnTo>
                  <a:lnTo>
                    <a:pt x="353" y="65"/>
                  </a:lnTo>
                  <a:lnTo>
                    <a:pt x="331" y="20"/>
                  </a:lnTo>
                  <a:lnTo>
                    <a:pt x="308" y="5"/>
                  </a:lnTo>
                  <a:lnTo>
                    <a:pt x="277" y="5"/>
                  </a:lnTo>
                  <a:lnTo>
                    <a:pt x="252" y="0"/>
                  </a:lnTo>
                  <a:lnTo>
                    <a:pt x="22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0" name="Freeform 83"/>
            <p:cNvSpPr/>
            <p:nvPr/>
          </p:nvSpPr>
          <p:spPr>
            <a:xfrm>
              <a:off x="7589880" y="1914120"/>
              <a:ext cx="399960" cy="1245960"/>
            </a:xfrm>
            <a:custGeom>
              <a:avLst/>
              <a:gdLst>
                <a:gd name="textAreaLeft" fmla="*/ 0 w 399960"/>
                <a:gd name="textAreaRight" fmla="*/ 400320 w 399960"/>
                <a:gd name="textAreaTop" fmla="*/ 0 h 1245960"/>
                <a:gd name="textAreaBottom" fmla="*/ 1246320 h 1245960"/>
              </a:gdLst>
              <a:ahLst/>
              <a:rect l="textAreaLeft" t="textAreaTop" r="textAreaRight" b="textAreaBottom"/>
              <a:pathLst>
                <a:path w="504" h="1570">
                  <a:moveTo>
                    <a:pt x="249" y="11"/>
                  </a:moveTo>
                  <a:lnTo>
                    <a:pt x="309" y="20"/>
                  </a:lnTo>
                  <a:lnTo>
                    <a:pt x="333" y="81"/>
                  </a:lnTo>
                  <a:lnTo>
                    <a:pt x="333" y="108"/>
                  </a:lnTo>
                  <a:lnTo>
                    <a:pt x="308" y="108"/>
                  </a:lnTo>
                  <a:lnTo>
                    <a:pt x="317" y="117"/>
                  </a:lnTo>
                  <a:lnTo>
                    <a:pt x="309" y="124"/>
                  </a:lnTo>
                  <a:lnTo>
                    <a:pt x="301" y="150"/>
                  </a:lnTo>
                  <a:lnTo>
                    <a:pt x="292" y="154"/>
                  </a:lnTo>
                  <a:lnTo>
                    <a:pt x="275" y="203"/>
                  </a:lnTo>
                  <a:lnTo>
                    <a:pt x="275" y="213"/>
                  </a:lnTo>
                  <a:lnTo>
                    <a:pt x="301" y="213"/>
                  </a:lnTo>
                  <a:lnTo>
                    <a:pt x="341" y="273"/>
                  </a:lnTo>
                  <a:lnTo>
                    <a:pt x="415" y="294"/>
                  </a:lnTo>
                  <a:lnTo>
                    <a:pt x="448" y="342"/>
                  </a:lnTo>
                  <a:lnTo>
                    <a:pt x="487" y="771"/>
                  </a:lnTo>
                  <a:lnTo>
                    <a:pt x="470" y="776"/>
                  </a:lnTo>
                  <a:lnTo>
                    <a:pt x="504" y="851"/>
                  </a:lnTo>
                  <a:lnTo>
                    <a:pt x="487" y="898"/>
                  </a:lnTo>
                  <a:lnTo>
                    <a:pt x="471" y="898"/>
                  </a:lnTo>
                  <a:lnTo>
                    <a:pt x="463" y="910"/>
                  </a:lnTo>
                  <a:lnTo>
                    <a:pt x="448" y="910"/>
                  </a:lnTo>
                  <a:lnTo>
                    <a:pt x="456" y="864"/>
                  </a:lnTo>
                  <a:lnTo>
                    <a:pt x="448" y="836"/>
                  </a:lnTo>
                  <a:lnTo>
                    <a:pt x="440" y="857"/>
                  </a:lnTo>
                  <a:lnTo>
                    <a:pt x="448" y="871"/>
                  </a:lnTo>
                  <a:lnTo>
                    <a:pt x="439" y="883"/>
                  </a:lnTo>
                  <a:lnTo>
                    <a:pt x="422" y="846"/>
                  </a:lnTo>
                  <a:lnTo>
                    <a:pt x="433" y="784"/>
                  </a:lnTo>
                  <a:lnTo>
                    <a:pt x="406" y="786"/>
                  </a:lnTo>
                  <a:lnTo>
                    <a:pt x="422" y="1176"/>
                  </a:lnTo>
                  <a:lnTo>
                    <a:pt x="340" y="1197"/>
                  </a:lnTo>
                  <a:lnTo>
                    <a:pt x="301" y="1424"/>
                  </a:lnTo>
                  <a:lnTo>
                    <a:pt x="309" y="1447"/>
                  </a:lnTo>
                  <a:lnTo>
                    <a:pt x="326" y="1542"/>
                  </a:lnTo>
                  <a:lnTo>
                    <a:pt x="326" y="1560"/>
                  </a:lnTo>
                  <a:lnTo>
                    <a:pt x="267" y="1570"/>
                  </a:lnTo>
                  <a:lnTo>
                    <a:pt x="244" y="1545"/>
                  </a:lnTo>
                  <a:lnTo>
                    <a:pt x="257" y="1460"/>
                  </a:lnTo>
                  <a:lnTo>
                    <a:pt x="267" y="1402"/>
                  </a:lnTo>
                  <a:lnTo>
                    <a:pt x="243" y="1208"/>
                  </a:lnTo>
                  <a:lnTo>
                    <a:pt x="235" y="1209"/>
                  </a:lnTo>
                  <a:lnTo>
                    <a:pt x="211" y="1279"/>
                  </a:lnTo>
                  <a:lnTo>
                    <a:pt x="227" y="1396"/>
                  </a:lnTo>
                  <a:lnTo>
                    <a:pt x="244" y="1406"/>
                  </a:lnTo>
                  <a:lnTo>
                    <a:pt x="211" y="1528"/>
                  </a:lnTo>
                  <a:lnTo>
                    <a:pt x="153" y="1544"/>
                  </a:lnTo>
                  <a:lnTo>
                    <a:pt x="145" y="1535"/>
                  </a:lnTo>
                  <a:lnTo>
                    <a:pt x="187" y="1409"/>
                  </a:lnTo>
                  <a:lnTo>
                    <a:pt x="120" y="1197"/>
                  </a:lnTo>
                  <a:lnTo>
                    <a:pt x="90" y="1181"/>
                  </a:lnTo>
                  <a:lnTo>
                    <a:pt x="90" y="1166"/>
                  </a:lnTo>
                  <a:lnTo>
                    <a:pt x="32" y="1169"/>
                  </a:lnTo>
                  <a:lnTo>
                    <a:pt x="14" y="1197"/>
                  </a:lnTo>
                  <a:lnTo>
                    <a:pt x="0" y="1181"/>
                  </a:lnTo>
                  <a:lnTo>
                    <a:pt x="57" y="800"/>
                  </a:lnTo>
                  <a:lnTo>
                    <a:pt x="48" y="801"/>
                  </a:lnTo>
                  <a:lnTo>
                    <a:pt x="48" y="724"/>
                  </a:lnTo>
                  <a:lnTo>
                    <a:pt x="40" y="714"/>
                  </a:lnTo>
                  <a:lnTo>
                    <a:pt x="55" y="528"/>
                  </a:lnTo>
                  <a:lnTo>
                    <a:pt x="73" y="308"/>
                  </a:lnTo>
                  <a:lnTo>
                    <a:pt x="169" y="263"/>
                  </a:lnTo>
                  <a:lnTo>
                    <a:pt x="196" y="213"/>
                  </a:lnTo>
                  <a:lnTo>
                    <a:pt x="170" y="171"/>
                  </a:lnTo>
                  <a:lnTo>
                    <a:pt x="153" y="176"/>
                  </a:lnTo>
                  <a:lnTo>
                    <a:pt x="145" y="155"/>
                  </a:lnTo>
                  <a:lnTo>
                    <a:pt x="145" y="132"/>
                  </a:lnTo>
                  <a:lnTo>
                    <a:pt x="120" y="129"/>
                  </a:lnTo>
                  <a:lnTo>
                    <a:pt x="114" y="66"/>
                  </a:lnTo>
                  <a:lnTo>
                    <a:pt x="137" y="20"/>
                  </a:lnTo>
                  <a:lnTo>
                    <a:pt x="162" y="5"/>
                  </a:lnTo>
                  <a:lnTo>
                    <a:pt x="198" y="5"/>
                  </a:lnTo>
                  <a:lnTo>
                    <a:pt x="225" y="0"/>
                  </a:lnTo>
                  <a:lnTo>
                    <a:pt x="24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1" name="Freeform 85"/>
            <p:cNvSpPr/>
            <p:nvPr/>
          </p:nvSpPr>
          <p:spPr>
            <a:xfrm>
              <a:off x="6280200" y="1722240"/>
              <a:ext cx="206280" cy="882000"/>
            </a:xfrm>
            <a:custGeom>
              <a:avLst/>
              <a:gdLst>
                <a:gd name="textAreaLeft" fmla="*/ 0 w 206280"/>
                <a:gd name="textAreaRight" fmla="*/ 206640 w 206280"/>
                <a:gd name="textAreaTop" fmla="*/ 0 h 882000"/>
                <a:gd name="textAreaBottom" fmla="*/ 882360 h 882000"/>
              </a:gdLst>
              <a:ahLst/>
              <a:rect l="textAreaLeft" t="textAreaTop" r="textAreaRight" b="textAreaBottom"/>
              <a:pathLst>
                <a:path w="258" h="1112">
                  <a:moveTo>
                    <a:pt x="60" y="21"/>
                  </a:moveTo>
                  <a:lnTo>
                    <a:pt x="60" y="49"/>
                  </a:lnTo>
                  <a:lnTo>
                    <a:pt x="65" y="57"/>
                  </a:lnTo>
                  <a:lnTo>
                    <a:pt x="53" y="80"/>
                  </a:lnTo>
                  <a:lnTo>
                    <a:pt x="60" y="86"/>
                  </a:lnTo>
                  <a:lnTo>
                    <a:pt x="58" y="95"/>
                  </a:lnTo>
                  <a:lnTo>
                    <a:pt x="66" y="124"/>
                  </a:lnTo>
                  <a:lnTo>
                    <a:pt x="66" y="131"/>
                  </a:lnTo>
                  <a:lnTo>
                    <a:pt x="21" y="160"/>
                  </a:lnTo>
                  <a:lnTo>
                    <a:pt x="0" y="392"/>
                  </a:lnTo>
                  <a:lnTo>
                    <a:pt x="26" y="431"/>
                  </a:lnTo>
                  <a:lnTo>
                    <a:pt x="16" y="556"/>
                  </a:lnTo>
                  <a:lnTo>
                    <a:pt x="34" y="570"/>
                  </a:lnTo>
                  <a:lnTo>
                    <a:pt x="42" y="765"/>
                  </a:lnTo>
                  <a:lnTo>
                    <a:pt x="56" y="962"/>
                  </a:lnTo>
                  <a:lnTo>
                    <a:pt x="51" y="973"/>
                  </a:lnTo>
                  <a:lnTo>
                    <a:pt x="5" y="1010"/>
                  </a:lnTo>
                  <a:lnTo>
                    <a:pt x="10" y="1017"/>
                  </a:lnTo>
                  <a:lnTo>
                    <a:pt x="26" y="1024"/>
                  </a:lnTo>
                  <a:lnTo>
                    <a:pt x="54" y="1017"/>
                  </a:lnTo>
                  <a:lnTo>
                    <a:pt x="80" y="1003"/>
                  </a:lnTo>
                  <a:lnTo>
                    <a:pt x="102" y="995"/>
                  </a:lnTo>
                  <a:lnTo>
                    <a:pt x="102" y="1028"/>
                  </a:lnTo>
                  <a:lnTo>
                    <a:pt x="111" y="1029"/>
                  </a:lnTo>
                  <a:lnTo>
                    <a:pt x="95" y="1060"/>
                  </a:lnTo>
                  <a:lnTo>
                    <a:pt x="103" y="1106"/>
                  </a:lnTo>
                  <a:lnTo>
                    <a:pt x="119" y="1112"/>
                  </a:lnTo>
                  <a:lnTo>
                    <a:pt x="146" y="1074"/>
                  </a:lnTo>
                  <a:lnTo>
                    <a:pt x="146" y="1046"/>
                  </a:lnTo>
                  <a:lnTo>
                    <a:pt x="155" y="1042"/>
                  </a:lnTo>
                  <a:lnTo>
                    <a:pt x="165" y="789"/>
                  </a:lnTo>
                  <a:lnTo>
                    <a:pt x="155" y="763"/>
                  </a:lnTo>
                  <a:lnTo>
                    <a:pt x="186" y="593"/>
                  </a:lnTo>
                  <a:lnTo>
                    <a:pt x="204" y="586"/>
                  </a:lnTo>
                  <a:lnTo>
                    <a:pt x="211" y="411"/>
                  </a:lnTo>
                  <a:lnTo>
                    <a:pt x="258" y="390"/>
                  </a:lnTo>
                  <a:lnTo>
                    <a:pt x="238" y="198"/>
                  </a:lnTo>
                  <a:lnTo>
                    <a:pt x="164" y="147"/>
                  </a:lnTo>
                  <a:lnTo>
                    <a:pt x="146" y="130"/>
                  </a:lnTo>
                  <a:lnTo>
                    <a:pt x="145" y="112"/>
                  </a:lnTo>
                  <a:lnTo>
                    <a:pt x="153" y="99"/>
                  </a:lnTo>
                  <a:lnTo>
                    <a:pt x="160" y="88"/>
                  </a:lnTo>
                  <a:lnTo>
                    <a:pt x="168" y="75"/>
                  </a:lnTo>
                  <a:lnTo>
                    <a:pt x="172" y="61"/>
                  </a:lnTo>
                  <a:lnTo>
                    <a:pt x="172" y="48"/>
                  </a:lnTo>
                  <a:lnTo>
                    <a:pt x="168" y="34"/>
                  </a:lnTo>
                  <a:lnTo>
                    <a:pt x="159" y="19"/>
                  </a:lnTo>
                  <a:lnTo>
                    <a:pt x="146" y="7"/>
                  </a:lnTo>
                  <a:lnTo>
                    <a:pt x="130" y="1"/>
                  </a:lnTo>
                  <a:lnTo>
                    <a:pt x="112" y="0"/>
                  </a:lnTo>
                  <a:lnTo>
                    <a:pt x="95" y="2"/>
                  </a:lnTo>
                  <a:lnTo>
                    <a:pt x="80" y="7"/>
                  </a:lnTo>
                  <a:lnTo>
                    <a:pt x="60" y="2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2" name="Freeform 86"/>
            <p:cNvSpPr/>
            <p:nvPr/>
          </p:nvSpPr>
          <p:spPr>
            <a:xfrm>
              <a:off x="8253360" y="1958760"/>
              <a:ext cx="385920" cy="1291680"/>
            </a:xfrm>
            <a:custGeom>
              <a:avLst/>
              <a:gdLst>
                <a:gd name="textAreaLeft" fmla="*/ 0 w 385920"/>
                <a:gd name="textAreaRight" fmla="*/ 386280 w 385920"/>
                <a:gd name="textAreaTop" fmla="*/ 0 h 1291680"/>
                <a:gd name="textAreaBottom" fmla="*/ 1292040 h 1291680"/>
              </a:gdLst>
              <a:ahLst/>
              <a:rect l="textAreaLeft" t="textAreaTop" r="textAreaRight" b="textAreaBottom"/>
              <a:pathLst>
                <a:path w="484" h="1628">
                  <a:moveTo>
                    <a:pt x="120" y="21"/>
                  </a:moveTo>
                  <a:lnTo>
                    <a:pt x="180" y="0"/>
                  </a:lnTo>
                  <a:lnTo>
                    <a:pt x="242" y="11"/>
                  </a:lnTo>
                  <a:lnTo>
                    <a:pt x="285" y="53"/>
                  </a:lnTo>
                  <a:lnTo>
                    <a:pt x="302" y="103"/>
                  </a:lnTo>
                  <a:lnTo>
                    <a:pt x="288" y="162"/>
                  </a:lnTo>
                  <a:lnTo>
                    <a:pt x="310" y="197"/>
                  </a:lnTo>
                  <a:lnTo>
                    <a:pt x="340" y="212"/>
                  </a:lnTo>
                  <a:lnTo>
                    <a:pt x="426" y="248"/>
                  </a:lnTo>
                  <a:lnTo>
                    <a:pt x="449" y="272"/>
                  </a:lnTo>
                  <a:lnTo>
                    <a:pt x="484" y="533"/>
                  </a:lnTo>
                  <a:lnTo>
                    <a:pt x="470" y="586"/>
                  </a:lnTo>
                  <a:lnTo>
                    <a:pt x="380" y="607"/>
                  </a:lnTo>
                  <a:lnTo>
                    <a:pt x="395" y="854"/>
                  </a:lnTo>
                  <a:lnTo>
                    <a:pt x="335" y="877"/>
                  </a:lnTo>
                  <a:lnTo>
                    <a:pt x="317" y="1057"/>
                  </a:lnTo>
                  <a:lnTo>
                    <a:pt x="330" y="1374"/>
                  </a:lnTo>
                  <a:lnTo>
                    <a:pt x="335" y="1547"/>
                  </a:lnTo>
                  <a:lnTo>
                    <a:pt x="319" y="1552"/>
                  </a:lnTo>
                  <a:lnTo>
                    <a:pt x="319" y="1566"/>
                  </a:lnTo>
                  <a:lnTo>
                    <a:pt x="271" y="1597"/>
                  </a:lnTo>
                  <a:lnTo>
                    <a:pt x="243" y="1620"/>
                  </a:lnTo>
                  <a:lnTo>
                    <a:pt x="224" y="1626"/>
                  </a:lnTo>
                  <a:lnTo>
                    <a:pt x="200" y="1628"/>
                  </a:lnTo>
                  <a:lnTo>
                    <a:pt x="177" y="1621"/>
                  </a:lnTo>
                  <a:lnTo>
                    <a:pt x="172" y="1614"/>
                  </a:lnTo>
                  <a:lnTo>
                    <a:pt x="177" y="1601"/>
                  </a:lnTo>
                  <a:lnTo>
                    <a:pt x="189" y="1587"/>
                  </a:lnTo>
                  <a:lnTo>
                    <a:pt x="204" y="1566"/>
                  </a:lnTo>
                  <a:lnTo>
                    <a:pt x="227" y="1546"/>
                  </a:lnTo>
                  <a:lnTo>
                    <a:pt x="210" y="1554"/>
                  </a:lnTo>
                  <a:lnTo>
                    <a:pt x="210" y="1532"/>
                  </a:lnTo>
                  <a:lnTo>
                    <a:pt x="141" y="1563"/>
                  </a:lnTo>
                  <a:lnTo>
                    <a:pt x="115" y="1563"/>
                  </a:lnTo>
                  <a:lnTo>
                    <a:pt x="107" y="1554"/>
                  </a:lnTo>
                  <a:lnTo>
                    <a:pt x="107" y="1542"/>
                  </a:lnTo>
                  <a:lnTo>
                    <a:pt x="109" y="1533"/>
                  </a:lnTo>
                  <a:lnTo>
                    <a:pt x="115" y="1521"/>
                  </a:lnTo>
                  <a:lnTo>
                    <a:pt x="131" y="1505"/>
                  </a:lnTo>
                  <a:lnTo>
                    <a:pt x="144" y="1491"/>
                  </a:lnTo>
                  <a:lnTo>
                    <a:pt x="127" y="1488"/>
                  </a:lnTo>
                  <a:lnTo>
                    <a:pt x="112" y="1335"/>
                  </a:lnTo>
                  <a:lnTo>
                    <a:pt x="106" y="1089"/>
                  </a:lnTo>
                  <a:lnTo>
                    <a:pt x="78" y="889"/>
                  </a:lnTo>
                  <a:lnTo>
                    <a:pt x="70" y="835"/>
                  </a:lnTo>
                  <a:lnTo>
                    <a:pt x="61" y="804"/>
                  </a:lnTo>
                  <a:lnTo>
                    <a:pt x="83" y="682"/>
                  </a:lnTo>
                  <a:lnTo>
                    <a:pt x="89" y="628"/>
                  </a:lnTo>
                  <a:lnTo>
                    <a:pt x="76" y="633"/>
                  </a:lnTo>
                  <a:lnTo>
                    <a:pt x="67" y="627"/>
                  </a:lnTo>
                  <a:lnTo>
                    <a:pt x="61" y="627"/>
                  </a:lnTo>
                  <a:lnTo>
                    <a:pt x="50" y="618"/>
                  </a:lnTo>
                  <a:lnTo>
                    <a:pt x="36" y="619"/>
                  </a:lnTo>
                  <a:lnTo>
                    <a:pt x="29" y="607"/>
                  </a:lnTo>
                  <a:lnTo>
                    <a:pt x="21" y="604"/>
                  </a:lnTo>
                  <a:lnTo>
                    <a:pt x="18" y="594"/>
                  </a:lnTo>
                  <a:lnTo>
                    <a:pt x="6" y="586"/>
                  </a:lnTo>
                  <a:lnTo>
                    <a:pt x="0" y="572"/>
                  </a:lnTo>
                  <a:lnTo>
                    <a:pt x="25" y="518"/>
                  </a:lnTo>
                  <a:lnTo>
                    <a:pt x="14" y="482"/>
                  </a:lnTo>
                  <a:lnTo>
                    <a:pt x="60" y="518"/>
                  </a:lnTo>
                  <a:lnTo>
                    <a:pt x="130" y="278"/>
                  </a:lnTo>
                  <a:lnTo>
                    <a:pt x="183" y="232"/>
                  </a:lnTo>
                  <a:lnTo>
                    <a:pt x="172" y="220"/>
                  </a:lnTo>
                  <a:lnTo>
                    <a:pt x="127" y="212"/>
                  </a:lnTo>
                  <a:lnTo>
                    <a:pt x="122" y="182"/>
                  </a:lnTo>
                  <a:lnTo>
                    <a:pt x="136" y="175"/>
                  </a:lnTo>
                  <a:lnTo>
                    <a:pt x="118" y="173"/>
                  </a:lnTo>
                  <a:lnTo>
                    <a:pt x="121" y="161"/>
                  </a:lnTo>
                  <a:lnTo>
                    <a:pt x="104" y="155"/>
                  </a:lnTo>
                  <a:lnTo>
                    <a:pt x="116" y="117"/>
                  </a:lnTo>
                  <a:lnTo>
                    <a:pt x="106" y="110"/>
                  </a:lnTo>
                  <a:lnTo>
                    <a:pt x="112" y="59"/>
                  </a:lnTo>
                  <a:lnTo>
                    <a:pt x="99" y="58"/>
                  </a:lnTo>
                  <a:lnTo>
                    <a:pt x="120" y="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23" name="Group 90"/>
            <p:cNvGrpSpPr/>
            <p:nvPr/>
          </p:nvGrpSpPr>
          <p:grpSpPr>
            <a:xfrm>
              <a:off x="6321600" y="2182320"/>
              <a:ext cx="1307880" cy="1352520"/>
              <a:chOff x="6321600" y="2182320"/>
              <a:chExt cx="1307880" cy="1352520"/>
            </a:xfrm>
          </p:grpSpPr>
          <p:sp>
            <p:nvSpPr>
              <p:cNvPr id="324" name="Freeform 87"/>
              <p:cNvSpPr/>
              <p:nvPr/>
            </p:nvSpPr>
            <p:spPr>
              <a:xfrm>
                <a:off x="6746760" y="2187000"/>
                <a:ext cx="400320" cy="1344240"/>
              </a:xfrm>
              <a:custGeom>
                <a:avLst/>
                <a:gdLst>
                  <a:gd name="textAreaLeft" fmla="*/ 0 w 400320"/>
                  <a:gd name="textAreaRight" fmla="*/ 400680 w 400320"/>
                  <a:gd name="textAreaTop" fmla="*/ 0 h 1344240"/>
                  <a:gd name="textAreaBottom" fmla="*/ 1344600 h 1344240"/>
                </a:gdLst>
                <a:ahLst/>
                <a:rect l="textAreaLeft" t="textAreaTop" r="textAreaRight" b="textAreaBottom"/>
                <a:pathLst>
                  <a:path w="504" h="1693">
                    <a:moveTo>
                      <a:pt x="254" y="13"/>
                    </a:moveTo>
                    <a:lnTo>
                      <a:pt x="195" y="23"/>
                    </a:lnTo>
                    <a:lnTo>
                      <a:pt x="171" y="87"/>
                    </a:lnTo>
                    <a:lnTo>
                      <a:pt x="171" y="116"/>
                    </a:lnTo>
                    <a:lnTo>
                      <a:pt x="197" y="116"/>
                    </a:lnTo>
                    <a:lnTo>
                      <a:pt x="188" y="127"/>
                    </a:lnTo>
                    <a:lnTo>
                      <a:pt x="195" y="134"/>
                    </a:lnTo>
                    <a:lnTo>
                      <a:pt x="203" y="162"/>
                    </a:lnTo>
                    <a:lnTo>
                      <a:pt x="211" y="166"/>
                    </a:lnTo>
                    <a:lnTo>
                      <a:pt x="229" y="219"/>
                    </a:lnTo>
                    <a:lnTo>
                      <a:pt x="229" y="231"/>
                    </a:lnTo>
                    <a:lnTo>
                      <a:pt x="203" y="231"/>
                    </a:lnTo>
                    <a:lnTo>
                      <a:pt x="164" y="295"/>
                    </a:lnTo>
                    <a:lnTo>
                      <a:pt x="90" y="316"/>
                    </a:lnTo>
                    <a:lnTo>
                      <a:pt x="56" y="368"/>
                    </a:lnTo>
                    <a:lnTo>
                      <a:pt x="17" y="832"/>
                    </a:lnTo>
                    <a:lnTo>
                      <a:pt x="35" y="837"/>
                    </a:lnTo>
                    <a:lnTo>
                      <a:pt x="0" y="918"/>
                    </a:lnTo>
                    <a:lnTo>
                      <a:pt x="17" y="969"/>
                    </a:lnTo>
                    <a:lnTo>
                      <a:pt x="34" y="969"/>
                    </a:lnTo>
                    <a:lnTo>
                      <a:pt x="41" y="981"/>
                    </a:lnTo>
                    <a:lnTo>
                      <a:pt x="56" y="981"/>
                    </a:lnTo>
                    <a:lnTo>
                      <a:pt x="49" y="931"/>
                    </a:lnTo>
                    <a:lnTo>
                      <a:pt x="56" y="902"/>
                    </a:lnTo>
                    <a:lnTo>
                      <a:pt x="64" y="925"/>
                    </a:lnTo>
                    <a:lnTo>
                      <a:pt x="56" y="940"/>
                    </a:lnTo>
                    <a:lnTo>
                      <a:pt x="65" y="953"/>
                    </a:lnTo>
                    <a:lnTo>
                      <a:pt x="82" y="912"/>
                    </a:lnTo>
                    <a:lnTo>
                      <a:pt x="72" y="844"/>
                    </a:lnTo>
                    <a:lnTo>
                      <a:pt x="99" y="848"/>
                    </a:lnTo>
                    <a:lnTo>
                      <a:pt x="82" y="1270"/>
                    </a:lnTo>
                    <a:lnTo>
                      <a:pt x="165" y="1292"/>
                    </a:lnTo>
                    <a:lnTo>
                      <a:pt x="203" y="1536"/>
                    </a:lnTo>
                    <a:lnTo>
                      <a:pt x="195" y="1560"/>
                    </a:lnTo>
                    <a:lnTo>
                      <a:pt x="179" y="1663"/>
                    </a:lnTo>
                    <a:lnTo>
                      <a:pt x="179" y="1682"/>
                    </a:lnTo>
                    <a:lnTo>
                      <a:pt x="236" y="1693"/>
                    </a:lnTo>
                    <a:lnTo>
                      <a:pt x="259" y="1665"/>
                    </a:lnTo>
                    <a:lnTo>
                      <a:pt x="246" y="1574"/>
                    </a:lnTo>
                    <a:lnTo>
                      <a:pt x="236" y="1511"/>
                    </a:lnTo>
                    <a:lnTo>
                      <a:pt x="260" y="1303"/>
                    </a:lnTo>
                    <a:lnTo>
                      <a:pt x="268" y="1304"/>
                    </a:lnTo>
                    <a:lnTo>
                      <a:pt x="292" y="1380"/>
                    </a:lnTo>
                    <a:lnTo>
                      <a:pt x="276" y="1505"/>
                    </a:lnTo>
                    <a:lnTo>
                      <a:pt x="259" y="1517"/>
                    </a:lnTo>
                    <a:lnTo>
                      <a:pt x="292" y="1648"/>
                    </a:lnTo>
                    <a:lnTo>
                      <a:pt x="350" y="1664"/>
                    </a:lnTo>
                    <a:lnTo>
                      <a:pt x="359" y="1654"/>
                    </a:lnTo>
                    <a:lnTo>
                      <a:pt x="317" y="1519"/>
                    </a:lnTo>
                    <a:lnTo>
                      <a:pt x="383" y="1292"/>
                    </a:lnTo>
                    <a:lnTo>
                      <a:pt x="413" y="1275"/>
                    </a:lnTo>
                    <a:lnTo>
                      <a:pt x="413" y="1258"/>
                    </a:lnTo>
                    <a:lnTo>
                      <a:pt x="471" y="1262"/>
                    </a:lnTo>
                    <a:lnTo>
                      <a:pt x="489" y="1292"/>
                    </a:lnTo>
                    <a:lnTo>
                      <a:pt x="504" y="1275"/>
                    </a:lnTo>
                    <a:lnTo>
                      <a:pt x="447" y="864"/>
                    </a:lnTo>
                    <a:lnTo>
                      <a:pt x="456" y="865"/>
                    </a:lnTo>
                    <a:lnTo>
                      <a:pt x="456" y="781"/>
                    </a:lnTo>
                    <a:lnTo>
                      <a:pt x="463" y="769"/>
                    </a:lnTo>
                    <a:lnTo>
                      <a:pt x="448" y="569"/>
                    </a:lnTo>
                    <a:lnTo>
                      <a:pt x="430" y="331"/>
                    </a:lnTo>
                    <a:lnTo>
                      <a:pt x="334" y="284"/>
                    </a:lnTo>
                    <a:lnTo>
                      <a:pt x="308" y="231"/>
                    </a:lnTo>
                    <a:lnTo>
                      <a:pt x="333" y="185"/>
                    </a:lnTo>
                    <a:lnTo>
                      <a:pt x="350" y="190"/>
                    </a:lnTo>
                    <a:lnTo>
                      <a:pt x="359" y="167"/>
                    </a:lnTo>
                    <a:lnTo>
                      <a:pt x="359" y="143"/>
                    </a:lnTo>
                    <a:lnTo>
                      <a:pt x="383" y="139"/>
                    </a:lnTo>
                    <a:lnTo>
                      <a:pt x="389" y="72"/>
                    </a:lnTo>
                    <a:lnTo>
                      <a:pt x="366" y="23"/>
                    </a:lnTo>
                    <a:lnTo>
                      <a:pt x="341" y="7"/>
                    </a:lnTo>
                    <a:lnTo>
                      <a:pt x="305" y="7"/>
                    </a:lnTo>
                    <a:lnTo>
                      <a:pt x="278" y="0"/>
                    </a:lnTo>
                    <a:lnTo>
                      <a:pt x="254" y="13"/>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5" name="Freeform 88"/>
              <p:cNvSpPr/>
              <p:nvPr/>
            </p:nvSpPr>
            <p:spPr>
              <a:xfrm>
                <a:off x="7226280" y="2183760"/>
                <a:ext cx="403200" cy="1345680"/>
              </a:xfrm>
              <a:custGeom>
                <a:avLst/>
                <a:gdLst>
                  <a:gd name="textAreaLeft" fmla="*/ 0 w 403200"/>
                  <a:gd name="textAreaRight" fmla="*/ 403560 w 403200"/>
                  <a:gd name="textAreaTop" fmla="*/ 0 h 1345680"/>
                  <a:gd name="textAreaBottom" fmla="*/ 1346040 h 1345680"/>
                </a:gdLst>
                <a:ahLst/>
                <a:rect l="textAreaLeft" t="textAreaTop" r="textAreaRight" b="textAreaBottom"/>
                <a:pathLst>
                  <a:path w="507" h="1697">
                    <a:moveTo>
                      <a:pt x="126" y="22"/>
                    </a:moveTo>
                    <a:lnTo>
                      <a:pt x="188" y="0"/>
                    </a:lnTo>
                    <a:lnTo>
                      <a:pt x="253" y="12"/>
                    </a:lnTo>
                    <a:lnTo>
                      <a:pt x="299" y="55"/>
                    </a:lnTo>
                    <a:lnTo>
                      <a:pt x="316" y="107"/>
                    </a:lnTo>
                    <a:lnTo>
                      <a:pt x="302" y="170"/>
                    </a:lnTo>
                    <a:lnTo>
                      <a:pt x="324" y="205"/>
                    </a:lnTo>
                    <a:lnTo>
                      <a:pt x="355" y="222"/>
                    </a:lnTo>
                    <a:lnTo>
                      <a:pt x="445" y="259"/>
                    </a:lnTo>
                    <a:lnTo>
                      <a:pt x="469" y="284"/>
                    </a:lnTo>
                    <a:lnTo>
                      <a:pt x="507" y="555"/>
                    </a:lnTo>
                    <a:lnTo>
                      <a:pt x="492" y="611"/>
                    </a:lnTo>
                    <a:lnTo>
                      <a:pt x="398" y="633"/>
                    </a:lnTo>
                    <a:lnTo>
                      <a:pt x="413" y="890"/>
                    </a:lnTo>
                    <a:lnTo>
                      <a:pt x="350" y="914"/>
                    </a:lnTo>
                    <a:lnTo>
                      <a:pt x="332" y="1104"/>
                    </a:lnTo>
                    <a:lnTo>
                      <a:pt x="345" y="1432"/>
                    </a:lnTo>
                    <a:lnTo>
                      <a:pt x="350" y="1613"/>
                    </a:lnTo>
                    <a:lnTo>
                      <a:pt x="334" y="1618"/>
                    </a:lnTo>
                    <a:lnTo>
                      <a:pt x="334" y="1634"/>
                    </a:lnTo>
                    <a:lnTo>
                      <a:pt x="284" y="1665"/>
                    </a:lnTo>
                    <a:lnTo>
                      <a:pt x="255" y="1688"/>
                    </a:lnTo>
                    <a:lnTo>
                      <a:pt x="234" y="1696"/>
                    </a:lnTo>
                    <a:lnTo>
                      <a:pt x="210" y="1697"/>
                    </a:lnTo>
                    <a:lnTo>
                      <a:pt x="186" y="1690"/>
                    </a:lnTo>
                    <a:lnTo>
                      <a:pt x="181" y="1682"/>
                    </a:lnTo>
                    <a:lnTo>
                      <a:pt x="186" y="1669"/>
                    </a:lnTo>
                    <a:lnTo>
                      <a:pt x="197" y="1654"/>
                    </a:lnTo>
                    <a:lnTo>
                      <a:pt x="214" y="1632"/>
                    </a:lnTo>
                    <a:lnTo>
                      <a:pt x="238" y="1612"/>
                    </a:lnTo>
                    <a:lnTo>
                      <a:pt x="220" y="1620"/>
                    </a:lnTo>
                    <a:lnTo>
                      <a:pt x="220" y="1597"/>
                    </a:lnTo>
                    <a:lnTo>
                      <a:pt x="149" y="1628"/>
                    </a:lnTo>
                    <a:lnTo>
                      <a:pt x="121" y="1628"/>
                    </a:lnTo>
                    <a:lnTo>
                      <a:pt x="112" y="1620"/>
                    </a:lnTo>
                    <a:lnTo>
                      <a:pt x="112" y="1608"/>
                    </a:lnTo>
                    <a:lnTo>
                      <a:pt x="114" y="1598"/>
                    </a:lnTo>
                    <a:lnTo>
                      <a:pt x="121" y="1585"/>
                    </a:lnTo>
                    <a:lnTo>
                      <a:pt x="137" y="1569"/>
                    </a:lnTo>
                    <a:lnTo>
                      <a:pt x="151" y="1555"/>
                    </a:lnTo>
                    <a:lnTo>
                      <a:pt x="134" y="1551"/>
                    </a:lnTo>
                    <a:lnTo>
                      <a:pt x="117" y="1392"/>
                    </a:lnTo>
                    <a:lnTo>
                      <a:pt x="111" y="1137"/>
                    </a:lnTo>
                    <a:lnTo>
                      <a:pt x="81" y="927"/>
                    </a:lnTo>
                    <a:lnTo>
                      <a:pt x="74" y="870"/>
                    </a:lnTo>
                    <a:lnTo>
                      <a:pt x="65" y="838"/>
                    </a:lnTo>
                    <a:lnTo>
                      <a:pt x="86" y="711"/>
                    </a:lnTo>
                    <a:lnTo>
                      <a:pt x="94" y="655"/>
                    </a:lnTo>
                    <a:lnTo>
                      <a:pt x="80" y="661"/>
                    </a:lnTo>
                    <a:lnTo>
                      <a:pt x="71" y="653"/>
                    </a:lnTo>
                    <a:lnTo>
                      <a:pt x="65" y="653"/>
                    </a:lnTo>
                    <a:lnTo>
                      <a:pt x="52" y="644"/>
                    </a:lnTo>
                    <a:lnTo>
                      <a:pt x="38" y="646"/>
                    </a:lnTo>
                    <a:lnTo>
                      <a:pt x="32" y="633"/>
                    </a:lnTo>
                    <a:lnTo>
                      <a:pt x="23" y="630"/>
                    </a:lnTo>
                    <a:lnTo>
                      <a:pt x="19" y="619"/>
                    </a:lnTo>
                    <a:lnTo>
                      <a:pt x="7" y="611"/>
                    </a:lnTo>
                    <a:lnTo>
                      <a:pt x="0" y="596"/>
                    </a:lnTo>
                    <a:lnTo>
                      <a:pt x="26" y="540"/>
                    </a:lnTo>
                    <a:lnTo>
                      <a:pt x="15" y="503"/>
                    </a:lnTo>
                    <a:lnTo>
                      <a:pt x="63" y="540"/>
                    </a:lnTo>
                    <a:lnTo>
                      <a:pt x="136" y="291"/>
                    </a:lnTo>
                    <a:lnTo>
                      <a:pt x="192" y="242"/>
                    </a:lnTo>
                    <a:lnTo>
                      <a:pt x="181" y="230"/>
                    </a:lnTo>
                    <a:lnTo>
                      <a:pt x="134" y="222"/>
                    </a:lnTo>
                    <a:lnTo>
                      <a:pt x="128" y="190"/>
                    </a:lnTo>
                    <a:lnTo>
                      <a:pt x="143" y="182"/>
                    </a:lnTo>
                    <a:lnTo>
                      <a:pt x="125" y="180"/>
                    </a:lnTo>
                    <a:lnTo>
                      <a:pt x="127" y="168"/>
                    </a:lnTo>
                    <a:lnTo>
                      <a:pt x="109" y="162"/>
                    </a:lnTo>
                    <a:lnTo>
                      <a:pt x="122" y="121"/>
                    </a:lnTo>
                    <a:lnTo>
                      <a:pt x="111" y="115"/>
                    </a:lnTo>
                    <a:lnTo>
                      <a:pt x="117" y="62"/>
                    </a:lnTo>
                    <a:lnTo>
                      <a:pt x="104" y="60"/>
                    </a:lnTo>
                    <a:lnTo>
                      <a:pt x="126" y="22"/>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6" name="Freeform 89"/>
              <p:cNvSpPr/>
              <p:nvPr/>
            </p:nvSpPr>
            <p:spPr>
              <a:xfrm>
                <a:off x="6321600" y="2182320"/>
                <a:ext cx="287280" cy="1352520"/>
              </a:xfrm>
              <a:custGeom>
                <a:avLst/>
                <a:gdLst>
                  <a:gd name="textAreaLeft" fmla="*/ 0 w 287280"/>
                  <a:gd name="textAreaRight" fmla="*/ 287640 w 287280"/>
                  <a:gd name="textAreaTop" fmla="*/ 0 h 1352520"/>
                  <a:gd name="textAreaBottom" fmla="*/ 1352880 h 1352520"/>
                </a:gdLst>
                <a:ahLst/>
                <a:rect l="textAreaLeft" t="textAreaTop" r="textAreaRight" b="textAreaBottom"/>
                <a:pathLst>
                  <a:path w="363" h="1705">
                    <a:moveTo>
                      <a:pt x="235" y="26"/>
                    </a:moveTo>
                    <a:lnTo>
                      <a:pt x="150" y="1"/>
                    </a:lnTo>
                    <a:lnTo>
                      <a:pt x="88" y="0"/>
                    </a:lnTo>
                    <a:lnTo>
                      <a:pt x="31" y="15"/>
                    </a:lnTo>
                    <a:lnTo>
                      <a:pt x="9" y="73"/>
                    </a:lnTo>
                    <a:lnTo>
                      <a:pt x="9" y="125"/>
                    </a:lnTo>
                    <a:lnTo>
                      <a:pt x="42" y="185"/>
                    </a:lnTo>
                    <a:lnTo>
                      <a:pt x="65" y="183"/>
                    </a:lnTo>
                    <a:lnTo>
                      <a:pt x="30" y="252"/>
                    </a:lnTo>
                    <a:lnTo>
                      <a:pt x="0" y="365"/>
                    </a:lnTo>
                    <a:lnTo>
                      <a:pt x="0" y="463"/>
                    </a:lnTo>
                    <a:lnTo>
                      <a:pt x="9" y="587"/>
                    </a:lnTo>
                    <a:lnTo>
                      <a:pt x="31" y="709"/>
                    </a:lnTo>
                    <a:lnTo>
                      <a:pt x="74" y="716"/>
                    </a:lnTo>
                    <a:lnTo>
                      <a:pt x="74" y="752"/>
                    </a:lnTo>
                    <a:lnTo>
                      <a:pt x="95" y="768"/>
                    </a:lnTo>
                    <a:lnTo>
                      <a:pt x="95" y="890"/>
                    </a:lnTo>
                    <a:lnTo>
                      <a:pt x="118" y="914"/>
                    </a:lnTo>
                    <a:lnTo>
                      <a:pt x="118" y="1143"/>
                    </a:lnTo>
                    <a:lnTo>
                      <a:pt x="118" y="1288"/>
                    </a:lnTo>
                    <a:lnTo>
                      <a:pt x="85" y="1450"/>
                    </a:lnTo>
                    <a:lnTo>
                      <a:pt x="72" y="1657"/>
                    </a:lnTo>
                    <a:lnTo>
                      <a:pt x="108" y="1673"/>
                    </a:lnTo>
                    <a:lnTo>
                      <a:pt x="108" y="1697"/>
                    </a:lnTo>
                    <a:lnTo>
                      <a:pt x="170" y="1697"/>
                    </a:lnTo>
                    <a:lnTo>
                      <a:pt x="179" y="1688"/>
                    </a:lnTo>
                    <a:lnTo>
                      <a:pt x="204" y="1688"/>
                    </a:lnTo>
                    <a:lnTo>
                      <a:pt x="205" y="1705"/>
                    </a:lnTo>
                    <a:lnTo>
                      <a:pt x="248" y="1697"/>
                    </a:lnTo>
                    <a:lnTo>
                      <a:pt x="344" y="1688"/>
                    </a:lnTo>
                    <a:lnTo>
                      <a:pt x="344" y="1674"/>
                    </a:lnTo>
                    <a:lnTo>
                      <a:pt x="257" y="1642"/>
                    </a:lnTo>
                    <a:lnTo>
                      <a:pt x="257" y="1612"/>
                    </a:lnTo>
                    <a:lnTo>
                      <a:pt x="332" y="1598"/>
                    </a:lnTo>
                    <a:lnTo>
                      <a:pt x="332" y="1575"/>
                    </a:lnTo>
                    <a:lnTo>
                      <a:pt x="279" y="1544"/>
                    </a:lnTo>
                    <a:lnTo>
                      <a:pt x="279" y="1312"/>
                    </a:lnTo>
                    <a:lnTo>
                      <a:pt x="301" y="1100"/>
                    </a:lnTo>
                    <a:lnTo>
                      <a:pt x="293" y="886"/>
                    </a:lnTo>
                    <a:lnTo>
                      <a:pt x="290" y="768"/>
                    </a:lnTo>
                    <a:lnTo>
                      <a:pt x="299" y="730"/>
                    </a:lnTo>
                    <a:lnTo>
                      <a:pt x="299" y="564"/>
                    </a:lnTo>
                    <a:lnTo>
                      <a:pt x="362" y="526"/>
                    </a:lnTo>
                    <a:lnTo>
                      <a:pt x="363" y="503"/>
                    </a:lnTo>
                    <a:lnTo>
                      <a:pt x="225" y="276"/>
                    </a:lnTo>
                    <a:lnTo>
                      <a:pt x="160" y="246"/>
                    </a:lnTo>
                    <a:lnTo>
                      <a:pt x="169" y="231"/>
                    </a:lnTo>
                    <a:lnTo>
                      <a:pt x="214" y="223"/>
                    </a:lnTo>
                    <a:lnTo>
                      <a:pt x="214" y="208"/>
                    </a:lnTo>
                    <a:lnTo>
                      <a:pt x="225" y="201"/>
                    </a:lnTo>
                    <a:lnTo>
                      <a:pt x="225" y="185"/>
                    </a:lnTo>
                    <a:lnTo>
                      <a:pt x="235" y="177"/>
                    </a:lnTo>
                    <a:lnTo>
                      <a:pt x="225" y="169"/>
                    </a:lnTo>
                    <a:lnTo>
                      <a:pt x="234" y="163"/>
                    </a:lnTo>
                    <a:lnTo>
                      <a:pt x="214" y="125"/>
                    </a:lnTo>
                    <a:lnTo>
                      <a:pt x="225" y="102"/>
                    </a:lnTo>
                    <a:lnTo>
                      <a:pt x="214" y="79"/>
                    </a:lnTo>
                    <a:lnTo>
                      <a:pt x="234" y="64"/>
                    </a:lnTo>
                    <a:lnTo>
                      <a:pt x="235" y="26"/>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327" name="Text Box 51"/>
          <p:cNvSpPr/>
          <p:nvPr/>
        </p:nvSpPr>
        <p:spPr>
          <a:xfrm>
            <a:off x="228600" y="4724280"/>
            <a:ext cx="464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ا تزيد أقصى مسافة بين مكان المأوي وأقرب موقع توزيع الماء عن </a:t>
            </a:r>
            <a:r>
              <a:rPr b="0" lang="ar-SA" sz="2400" spc="-1" strike="noStrike">
                <a:solidFill>
                  <a:srgbClr val="ffffff"/>
                </a:solidFill>
                <a:latin typeface="Arial"/>
                <a:ea typeface="Traditional Arabic"/>
              </a:rPr>
              <a:t>500</a:t>
            </a:r>
            <a:r>
              <a:rPr b="0" lang="ar-SA" sz="2400" spc="-1" strike="noStrike">
                <a:solidFill>
                  <a:srgbClr val="ffffff"/>
                </a:solidFill>
                <a:latin typeface="Arial"/>
                <a:ea typeface="Traditional Arabic"/>
              </a:rPr>
              <a:t> متر</a:t>
            </a:r>
            <a:endParaRPr b="0" lang="en-US" sz="2400" spc="-1" strike="noStrike">
              <a:solidFill>
                <a:srgbClr val="ccecff"/>
              </a:solidFill>
              <a:latin typeface="Times New Roman"/>
            </a:endParaRPr>
          </a:p>
        </p:txBody>
      </p:sp>
      <p:sp>
        <p:nvSpPr>
          <p:cNvPr id="328" name="Text Box 52"/>
          <p:cNvSpPr/>
          <p:nvPr/>
        </p:nvSpPr>
        <p:spPr>
          <a:xfrm>
            <a:off x="5105520" y="4724280"/>
            <a:ext cx="3520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وجد على الأقل موقع واحد لتوزيع الماء لكل </a:t>
            </a:r>
            <a:r>
              <a:rPr b="0" lang="ar-SA" sz="2400" spc="-1" strike="noStrike">
                <a:solidFill>
                  <a:srgbClr val="ffffff"/>
                </a:solidFill>
                <a:latin typeface="Arial"/>
                <a:ea typeface="Traditional Arabic"/>
              </a:rPr>
              <a:t>250</a:t>
            </a:r>
            <a:r>
              <a:rPr b="0" lang="ar-SA" sz="2400" spc="-1" strike="noStrike">
                <a:solidFill>
                  <a:srgbClr val="ffffff"/>
                </a:solidFill>
                <a:latin typeface="Arial"/>
                <a:ea typeface="Traditional Arabic"/>
              </a:rPr>
              <a:t> من السكان</a:t>
            </a:r>
            <a:r>
              <a:rPr b="0" lang="ar-SA" sz="2400" spc="-1" strike="noStrike">
                <a:solidFill>
                  <a:srgbClr val="ffffff"/>
                </a:solidFill>
                <a:latin typeface="Arial"/>
                <a:ea typeface="Traditional Arabic"/>
              </a:rPr>
              <a:t>*</a:t>
            </a:r>
            <a:endParaRPr b="0" lang="en-US" sz="2400" spc="-1" strike="noStrike">
              <a:solidFill>
                <a:srgbClr val="ccecff"/>
              </a:solidFill>
              <a:latin typeface="Times New Roman"/>
            </a:endParaRPr>
          </a:p>
        </p:txBody>
      </p:sp>
      <p:sp>
        <p:nvSpPr>
          <p:cNvPr id="329" name="Freeform 91"/>
          <p:cNvSpPr/>
          <p:nvPr/>
        </p:nvSpPr>
        <p:spPr>
          <a:xfrm>
            <a:off x="2438280" y="2352600"/>
            <a:ext cx="203400" cy="465120"/>
          </a:xfrm>
          <a:custGeom>
            <a:avLst/>
            <a:gdLst>
              <a:gd name="textAreaLeft" fmla="*/ 0 w 203400"/>
              <a:gd name="textAreaRight" fmla="*/ 203760 w 203400"/>
              <a:gd name="textAreaTop" fmla="*/ 0 h 465120"/>
              <a:gd name="textAreaBottom" fmla="*/ 465480 h 465120"/>
            </a:gdLst>
            <a:ahLst/>
            <a:rect l="textAreaLeft" t="textAreaTop" r="textAreaRight" b="textAreaBottom"/>
            <a:pathLst>
              <a:path w="353" h="1162">
                <a:moveTo>
                  <a:pt x="216" y="14"/>
                </a:moveTo>
                <a:lnTo>
                  <a:pt x="284" y="0"/>
                </a:lnTo>
                <a:lnTo>
                  <a:pt x="311" y="28"/>
                </a:lnTo>
                <a:lnTo>
                  <a:pt x="323" y="19"/>
                </a:lnTo>
                <a:lnTo>
                  <a:pt x="342" y="70"/>
                </a:lnTo>
                <a:lnTo>
                  <a:pt x="304" y="103"/>
                </a:lnTo>
                <a:lnTo>
                  <a:pt x="301" y="129"/>
                </a:lnTo>
                <a:lnTo>
                  <a:pt x="292" y="131"/>
                </a:lnTo>
                <a:lnTo>
                  <a:pt x="284" y="158"/>
                </a:lnTo>
                <a:lnTo>
                  <a:pt x="258" y="163"/>
                </a:lnTo>
                <a:lnTo>
                  <a:pt x="258" y="173"/>
                </a:lnTo>
                <a:lnTo>
                  <a:pt x="304" y="208"/>
                </a:lnTo>
                <a:lnTo>
                  <a:pt x="342" y="376"/>
                </a:lnTo>
                <a:lnTo>
                  <a:pt x="311" y="419"/>
                </a:lnTo>
                <a:lnTo>
                  <a:pt x="311" y="723"/>
                </a:lnTo>
                <a:lnTo>
                  <a:pt x="274" y="736"/>
                </a:lnTo>
                <a:lnTo>
                  <a:pt x="268" y="784"/>
                </a:lnTo>
                <a:lnTo>
                  <a:pt x="254" y="913"/>
                </a:lnTo>
                <a:lnTo>
                  <a:pt x="254" y="983"/>
                </a:lnTo>
                <a:lnTo>
                  <a:pt x="311" y="1025"/>
                </a:lnTo>
                <a:lnTo>
                  <a:pt x="352" y="1047"/>
                </a:lnTo>
                <a:lnTo>
                  <a:pt x="353" y="1061"/>
                </a:lnTo>
                <a:lnTo>
                  <a:pt x="264" y="1040"/>
                </a:lnTo>
                <a:lnTo>
                  <a:pt x="254" y="1026"/>
                </a:lnTo>
                <a:lnTo>
                  <a:pt x="245" y="1040"/>
                </a:lnTo>
                <a:lnTo>
                  <a:pt x="235" y="1040"/>
                </a:lnTo>
                <a:lnTo>
                  <a:pt x="225" y="992"/>
                </a:lnTo>
                <a:lnTo>
                  <a:pt x="216" y="770"/>
                </a:lnTo>
                <a:lnTo>
                  <a:pt x="196" y="770"/>
                </a:lnTo>
                <a:lnTo>
                  <a:pt x="148" y="966"/>
                </a:lnTo>
                <a:lnTo>
                  <a:pt x="148" y="1087"/>
                </a:lnTo>
                <a:lnTo>
                  <a:pt x="128" y="1148"/>
                </a:lnTo>
                <a:lnTo>
                  <a:pt x="108" y="1162"/>
                </a:lnTo>
                <a:lnTo>
                  <a:pt x="98" y="1129"/>
                </a:lnTo>
                <a:lnTo>
                  <a:pt x="111" y="1095"/>
                </a:lnTo>
                <a:lnTo>
                  <a:pt x="128" y="1019"/>
                </a:lnTo>
                <a:lnTo>
                  <a:pt x="130" y="740"/>
                </a:lnTo>
                <a:lnTo>
                  <a:pt x="147" y="467"/>
                </a:lnTo>
                <a:lnTo>
                  <a:pt x="117" y="444"/>
                </a:lnTo>
                <a:lnTo>
                  <a:pt x="117" y="405"/>
                </a:lnTo>
                <a:lnTo>
                  <a:pt x="117" y="331"/>
                </a:lnTo>
                <a:lnTo>
                  <a:pt x="78" y="350"/>
                </a:lnTo>
                <a:lnTo>
                  <a:pt x="111" y="397"/>
                </a:lnTo>
                <a:lnTo>
                  <a:pt x="111" y="439"/>
                </a:lnTo>
                <a:lnTo>
                  <a:pt x="77" y="413"/>
                </a:lnTo>
                <a:lnTo>
                  <a:pt x="56" y="386"/>
                </a:lnTo>
                <a:lnTo>
                  <a:pt x="38" y="392"/>
                </a:lnTo>
                <a:lnTo>
                  <a:pt x="0" y="346"/>
                </a:lnTo>
                <a:lnTo>
                  <a:pt x="0" y="331"/>
                </a:lnTo>
                <a:lnTo>
                  <a:pt x="19" y="324"/>
                </a:lnTo>
                <a:lnTo>
                  <a:pt x="65" y="273"/>
                </a:lnTo>
                <a:lnTo>
                  <a:pt x="111" y="229"/>
                </a:lnTo>
                <a:lnTo>
                  <a:pt x="171" y="176"/>
                </a:lnTo>
                <a:lnTo>
                  <a:pt x="216" y="159"/>
                </a:lnTo>
                <a:lnTo>
                  <a:pt x="216" y="124"/>
                </a:lnTo>
                <a:lnTo>
                  <a:pt x="196" y="105"/>
                </a:lnTo>
                <a:lnTo>
                  <a:pt x="196" y="56"/>
                </a:lnTo>
                <a:lnTo>
                  <a:pt x="186" y="49"/>
                </a:lnTo>
                <a:lnTo>
                  <a:pt x="216" y="1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30" name="Text Box 6"/>
          <p:cNvSpPr/>
          <p:nvPr/>
        </p:nvSpPr>
        <p:spPr>
          <a:xfrm>
            <a:off x="1267200" y="618984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94</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1"/>
          <p:cNvSpPr/>
          <p:nvPr/>
        </p:nvSpPr>
        <p:spPr>
          <a:xfrm>
            <a:off x="0" y="4572000"/>
            <a:ext cx="9144000" cy="2286000"/>
          </a:xfrm>
          <a:prstGeom prst="rect">
            <a:avLst/>
          </a:prstGeom>
          <a:gradFill rotWithShape="0">
            <a:gsLst>
              <a:gs pos="0">
                <a:srgbClr val="5e4776"/>
              </a:gs>
              <a:gs pos="100000">
                <a:srgbClr val="cc99ff"/>
              </a:gs>
            </a:gsLst>
            <a:lin ang="54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2" name="Text Box 2"/>
          <p:cNvSpPr/>
          <p:nvPr/>
        </p:nvSpPr>
        <p:spPr>
          <a:xfrm>
            <a:off x="533520" y="3808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بلغ متوسط الماء المستعمل يوميا للشرب والطهي والنظافة الشخصية </a:t>
            </a:r>
            <a:r>
              <a:rPr b="0" lang="ar-SA" sz="2800" spc="-1" strike="noStrike">
                <a:solidFill>
                  <a:srgbClr val="ffffff"/>
                </a:solidFill>
                <a:latin typeface="Times New Roman"/>
                <a:ea typeface="Traditional Arabic"/>
              </a:rPr>
              <a:t>15</a:t>
            </a:r>
            <a:r>
              <a:rPr b="0" lang="ar-SA" sz="2800" spc="-1" strike="noStrike">
                <a:solidFill>
                  <a:srgbClr val="ffffff"/>
                </a:solidFill>
                <a:latin typeface="Times New Roman"/>
                <a:ea typeface="Traditional Arabic"/>
              </a:rPr>
              <a:t> لتراً لكل شخص.</a:t>
            </a:r>
            <a:endParaRPr b="0" lang="en-US" sz="2800" spc="-1" strike="noStrike">
              <a:solidFill>
                <a:srgbClr val="ccecff"/>
              </a:solidFill>
              <a:latin typeface="Times New Roman"/>
            </a:endParaRPr>
          </a:p>
        </p:txBody>
      </p:sp>
      <p:sp>
        <p:nvSpPr>
          <p:cNvPr id="333" name="Text Box 3"/>
          <p:cNvSpPr/>
          <p:nvPr/>
        </p:nvSpPr>
        <p:spPr>
          <a:xfrm>
            <a:off x="609480" y="1676520"/>
            <a:ext cx="8458200" cy="1252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cs typeface="Traditional Arabic"/>
              </a:rPr>
              <a:t>أي </a:t>
            </a:r>
            <a:r>
              <a:rPr b="0" i="1" lang="en-US" sz="2400" spc="-1" strike="noStrike">
                <a:solidFill>
                  <a:srgbClr val="ffffff"/>
                </a:solidFill>
                <a:latin typeface="Arial"/>
                <a:ea typeface="Traditional Arabic"/>
              </a:rPr>
              <a:t>:</a:t>
            </a:r>
            <a:r>
              <a:rPr b="0" lang="ar-SA" sz="2400" spc="-1" strike="noStrike">
                <a:solidFill>
                  <a:srgbClr val="ffffff"/>
                </a:solidFill>
                <a:latin typeface="Arial"/>
                <a:ea typeface="Traditional Arabic"/>
              </a:rPr>
              <a:t> يحتاج </a:t>
            </a:r>
            <a:r>
              <a:rPr b="0" lang="ar-SA" sz="2000" spc="-1" strike="noStrike">
                <a:solidFill>
                  <a:srgbClr val="ffffff"/>
                </a:solidFill>
                <a:latin typeface="Arial"/>
                <a:ea typeface="Traditional Arabic"/>
              </a:rPr>
              <a:t>20,000</a:t>
            </a:r>
            <a:r>
              <a:rPr b="0" lang="ar-SA" sz="2400" spc="-1" strike="noStrike">
                <a:solidFill>
                  <a:srgbClr val="ffffff"/>
                </a:solidFill>
                <a:latin typeface="Arial"/>
                <a:ea typeface="Traditional Arabic"/>
              </a:rPr>
              <a:t> شخص إلى </a:t>
            </a:r>
            <a:r>
              <a:rPr b="0" lang="ar-SA" sz="2800" spc="-1" strike="noStrike">
                <a:solidFill>
                  <a:srgbClr val="ffffff"/>
                </a:solidFill>
                <a:latin typeface="Arial"/>
                <a:ea typeface="Traditional Arabic"/>
              </a:rPr>
              <a:t>(</a:t>
            </a:r>
            <a:r>
              <a:rPr b="0" lang="ar-SA" sz="2000" spc="-1" strike="noStrike">
                <a:solidFill>
                  <a:srgbClr val="ffffff"/>
                </a:solidFill>
                <a:latin typeface="Arial"/>
                <a:ea typeface="Traditional Arabic"/>
              </a:rPr>
              <a:t>20,000</a:t>
            </a:r>
            <a:r>
              <a:rPr b="0" lang="ar-SA" sz="2400" spc="-1" strike="noStrike">
                <a:solidFill>
                  <a:srgbClr val="ffffff"/>
                </a:solidFill>
                <a:latin typeface="Arial"/>
                <a:ea typeface="Traditional Arabic"/>
              </a:rPr>
              <a:t> </a:t>
            </a:r>
            <a:r>
              <a:rPr b="0" lang="ar-SA" sz="2000" spc="-1" strike="noStrike">
                <a:solidFill>
                  <a:srgbClr val="ffffff"/>
                </a:solidFill>
                <a:latin typeface="Arial"/>
                <a:ea typeface="Traditional Arabic"/>
              </a:rPr>
              <a:t>× </a:t>
            </a:r>
            <a:r>
              <a:rPr b="0" lang="ar-SA" sz="2000" spc="-1" strike="noStrike">
                <a:solidFill>
                  <a:srgbClr val="ffffff"/>
                </a:solidFill>
                <a:latin typeface="Arial"/>
                <a:ea typeface="Traditional Arabic"/>
              </a:rPr>
              <a:t>15</a:t>
            </a:r>
            <a:r>
              <a:rPr b="0" lang="ar-SA" sz="2000" spc="-1" strike="noStrike">
                <a:solidFill>
                  <a:srgbClr val="ffffff"/>
                </a:solidFill>
                <a:latin typeface="Arial"/>
                <a:ea typeface="Traditional Arabic"/>
              </a:rPr>
              <a:t> </a:t>
            </a:r>
            <a:r>
              <a:rPr b="0" lang="ar-SA" sz="2400" spc="-1" strike="noStrike">
                <a:solidFill>
                  <a:srgbClr val="ffffff"/>
                </a:solidFill>
                <a:latin typeface="Arial"/>
                <a:cs typeface="Traditional Arabic"/>
              </a:rPr>
              <a:t>لتر</a:t>
            </a:r>
            <a:r>
              <a:rPr b="0" lang="ar-SA" sz="2800" spc="-1" strike="noStrike">
                <a:solidFill>
                  <a:srgbClr val="ffffff"/>
                </a:solidFill>
                <a:latin typeface="Arial"/>
                <a:ea typeface="Traditional Arabic"/>
              </a:rPr>
              <a:t>)</a:t>
            </a:r>
            <a:r>
              <a:rPr b="0" lang="ar-SA" sz="2400" spc="-1" strike="noStrike">
                <a:solidFill>
                  <a:srgbClr val="ffffff"/>
                </a:solidFill>
                <a:latin typeface="Arial"/>
                <a:ea typeface="Traditional Arabic"/>
              </a:rPr>
              <a:t> = </a:t>
            </a:r>
            <a:r>
              <a:rPr b="1" lang="ar-SA" sz="2000" spc="-1" strike="noStrike">
                <a:solidFill>
                  <a:srgbClr val="ffffff"/>
                </a:solidFill>
                <a:latin typeface="Arial"/>
                <a:ea typeface="Traditional Arabic"/>
              </a:rPr>
              <a:t>300,000</a:t>
            </a:r>
            <a:r>
              <a:rPr b="0" lang="ar-SA" sz="2400" spc="-1" strike="noStrike">
                <a:solidFill>
                  <a:srgbClr val="ffffff"/>
                </a:solidFill>
                <a:latin typeface="Arial"/>
                <a:ea typeface="Traditional Arabic"/>
              </a:rPr>
              <a:t> لترا في اليوم. وهذا يتطلب خزان ماء يتسع لـ</a:t>
            </a:r>
            <a:r>
              <a:rPr b="0" lang="ar-SA" sz="2000" spc="-1" strike="noStrike">
                <a:solidFill>
                  <a:srgbClr val="ffffff"/>
                </a:solidFill>
                <a:latin typeface="Arial"/>
                <a:ea typeface="Traditional Arabic"/>
              </a:rPr>
              <a:t>300</a:t>
            </a:r>
            <a:r>
              <a:rPr b="0" lang="ar-SA" sz="2400" spc="-1" strike="noStrike">
                <a:solidFill>
                  <a:srgbClr val="ffffff"/>
                </a:solidFill>
                <a:latin typeface="Arial"/>
                <a:ea typeface="Traditional Arabic"/>
              </a:rPr>
              <a:t> متر مكعب من الماء أبعاده </a:t>
            </a:r>
            <a:r>
              <a:rPr b="0" lang="ar-SA" sz="2400" spc="-1" strike="noStrike">
                <a:solidFill>
                  <a:srgbClr val="ffffff"/>
                </a:solidFill>
                <a:latin typeface="Arial"/>
                <a:ea typeface="Traditional Arabic"/>
              </a:rPr>
              <a:t>6</a:t>
            </a:r>
            <a:r>
              <a:rPr b="0" lang="ar-SA" sz="2400" spc="-1" strike="noStrike">
                <a:solidFill>
                  <a:srgbClr val="ffffff"/>
                </a:solidFill>
                <a:latin typeface="Arial"/>
                <a:cs typeface="Traditional Arabic"/>
              </a:rPr>
              <a:t>متر× </a:t>
            </a:r>
            <a:r>
              <a:rPr b="0" lang="ar-SA" sz="2400" spc="-1" strike="noStrike">
                <a:solidFill>
                  <a:srgbClr val="ffffff"/>
                </a:solidFill>
                <a:latin typeface="Arial"/>
                <a:ea typeface="Traditional Arabic"/>
              </a:rPr>
              <a:t>7</a:t>
            </a:r>
            <a:r>
              <a:rPr b="0" lang="ar-SA" sz="2400" spc="-1" strike="noStrike">
                <a:solidFill>
                  <a:srgbClr val="ffffff"/>
                </a:solidFill>
                <a:latin typeface="Arial"/>
                <a:cs typeface="Traditional Arabic"/>
              </a:rPr>
              <a:t>متر× </a:t>
            </a:r>
            <a:r>
              <a:rPr b="0" lang="ar-SA" sz="2400" spc="-1" strike="noStrike">
                <a:solidFill>
                  <a:srgbClr val="ffffff"/>
                </a:solidFill>
                <a:latin typeface="Arial"/>
                <a:ea typeface="Traditional Arabic"/>
              </a:rPr>
              <a:t>7</a:t>
            </a:r>
            <a:r>
              <a:rPr b="0" lang="ar-SA" sz="2400" spc="-1" strike="noStrike">
                <a:solidFill>
                  <a:srgbClr val="ffffff"/>
                </a:solidFill>
                <a:latin typeface="Arial"/>
                <a:cs typeface="Traditional Arabic"/>
              </a:rPr>
              <a:t>متر</a:t>
            </a:r>
            <a:endParaRPr b="0" lang="en-US" sz="2400" spc="-1" strike="noStrike">
              <a:solidFill>
                <a:srgbClr val="ccecff"/>
              </a:solidFill>
              <a:latin typeface="Times New Roman"/>
            </a:endParaRPr>
          </a:p>
        </p:txBody>
      </p:sp>
      <p:sp>
        <p:nvSpPr>
          <p:cNvPr id="334" name="Freeform 5"/>
          <p:cNvSpPr/>
          <p:nvPr/>
        </p:nvSpPr>
        <p:spPr>
          <a:xfrm>
            <a:off x="1600200" y="3809880"/>
            <a:ext cx="1371600" cy="2362320"/>
          </a:xfrm>
          <a:custGeom>
            <a:avLst/>
            <a:gdLst>
              <a:gd name="textAreaLeft" fmla="*/ 0 w 1371600"/>
              <a:gd name="textAreaRight" fmla="*/ 1371960 w 1371600"/>
              <a:gd name="textAreaTop" fmla="*/ 0 h 2362320"/>
              <a:gd name="textAreaBottom" fmla="*/ 2362320 h 2362320"/>
            </a:gdLst>
            <a:ahLst/>
            <a:rect l="textAreaLeft" t="textAreaTop" r="textAreaRight" b="textAreaBottom"/>
            <a:pathLst>
              <a:path w="864" h="1488">
                <a:moveTo>
                  <a:pt x="0" y="144"/>
                </a:moveTo>
                <a:lnTo>
                  <a:pt x="0" y="1056"/>
                </a:lnTo>
                <a:lnTo>
                  <a:pt x="864" y="1488"/>
                </a:lnTo>
                <a:lnTo>
                  <a:pt x="864" y="384"/>
                </a:lnTo>
                <a:lnTo>
                  <a:pt x="0" y="0"/>
                </a:lnTo>
                <a:lnTo>
                  <a:pt x="0" y="144"/>
                </a:lnTo>
                <a:close/>
              </a:path>
            </a:pathLst>
          </a:custGeom>
          <a:blipFill rotWithShape="0">
            <a:blip r:embed="rId1"/>
            <a:srcRect/>
            <a:tile tx="0" ty="0" sx="100000" sy="100000" algn="ctr"/>
          </a:blip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5" name="Freeform 48"/>
          <p:cNvSpPr/>
          <p:nvPr/>
        </p:nvSpPr>
        <p:spPr>
          <a:xfrm>
            <a:off x="1600200" y="4952880"/>
            <a:ext cx="2743200" cy="1143000"/>
          </a:xfrm>
          <a:custGeom>
            <a:avLst/>
            <a:gdLst>
              <a:gd name="textAreaLeft" fmla="*/ 0 w 2743200"/>
              <a:gd name="textAreaRight" fmla="*/ 2743200 w 2743200"/>
              <a:gd name="textAreaTop" fmla="*/ 0 h 1143000"/>
              <a:gd name="textAreaBottom" fmla="*/ 1143360 h 1143000"/>
            </a:gdLst>
            <a:ahLst/>
            <a:rect l="textAreaLeft" t="textAreaTop" r="textAreaRight" b="textAreaBottom"/>
            <a:pathLst>
              <a:path w="1728" h="720">
                <a:moveTo>
                  <a:pt x="0" y="336"/>
                </a:moveTo>
                <a:lnTo>
                  <a:pt x="864" y="720"/>
                </a:lnTo>
                <a:lnTo>
                  <a:pt x="1728" y="336"/>
                </a:lnTo>
                <a:lnTo>
                  <a:pt x="864" y="0"/>
                </a:lnTo>
                <a:lnTo>
                  <a:pt x="0" y="336"/>
                </a:lnTo>
                <a:close/>
              </a:path>
            </a:pathLst>
          </a:custGeom>
          <a:solidFill>
            <a:srgbClr val="66ccff">
              <a:alpha val="50000"/>
            </a:srgbClr>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336" name="Group 8"/>
          <p:cNvGrpSpPr/>
          <p:nvPr/>
        </p:nvGrpSpPr>
        <p:grpSpPr>
          <a:xfrm>
            <a:off x="2971800" y="3809880"/>
            <a:ext cx="1371600" cy="2362320"/>
            <a:chOff x="2971800" y="3809880"/>
            <a:chExt cx="1371600" cy="2362320"/>
          </a:xfrm>
        </p:grpSpPr>
        <p:sp>
          <p:nvSpPr>
            <p:cNvPr id="337" name="Freeform 6"/>
            <p:cNvSpPr/>
            <p:nvPr/>
          </p:nvSpPr>
          <p:spPr>
            <a:xfrm flipH="1">
              <a:off x="2971800" y="3809880"/>
              <a:ext cx="1371600" cy="2362320"/>
            </a:xfrm>
            <a:custGeom>
              <a:avLst/>
              <a:gdLst>
                <a:gd name="textAreaLeft" fmla="*/ 360 w 1371600"/>
                <a:gd name="textAreaRight" fmla="*/ 1372320 w 1371600"/>
                <a:gd name="textAreaTop" fmla="*/ 0 h 2362320"/>
                <a:gd name="textAreaBottom" fmla="*/ 2362320 h 2362320"/>
              </a:gdLst>
              <a:ahLst/>
              <a:rect l="textAreaLeft" t="textAreaTop" r="textAreaRight" b="textAreaBottom"/>
              <a:pathLst>
                <a:path w="864" h="1488">
                  <a:moveTo>
                    <a:pt x="0" y="144"/>
                  </a:moveTo>
                  <a:lnTo>
                    <a:pt x="0" y="1056"/>
                  </a:lnTo>
                  <a:lnTo>
                    <a:pt x="864" y="1488"/>
                  </a:lnTo>
                  <a:lnTo>
                    <a:pt x="864" y="384"/>
                  </a:lnTo>
                  <a:lnTo>
                    <a:pt x="0" y="0"/>
                  </a:lnTo>
                  <a:lnTo>
                    <a:pt x="0" y="144"/>
                  </a:lnTo>
                  <a:close/>
                </a:path>
              </a:pathLst>
            </a:custGeom>
            <a:blipFill rotWithShape="0">
              <a:blip r:embed="rId2"/>
              <a:srcRect/>
              <a:tile tx="0" ty="0" sx="100000" sy="100000" algn="ctr"/>
            </a:blip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8" name="Freeform 7"/>
            <p:cNvSpPr/>
            <p:nvPr/>
          </p:nvSpPr>
          <p:spPr>
            <a:xfrm flipH="1">
              <a:off x="2971800" y="3809880"/>
              <a:ext cx="1371600" cy="2362320"/>
            </a:xfrm>
            <a:custGeom>
              <a:avLst/>
              <a:gdLst>
                <a:gd name="textAreaLeft" fmla="*/ 360 w 1371600"/>
                <a:gd name="textAreaRight" fmla="*/ 1372320 w 1371600"/>
                <a:gd name="textAreaTop" fmla="*/ 0 h 2362320"/>
                <a:gd name="textAreaBottom" fmla="*/ 2362320 h 2362320"/>
              </a:gdLst>
              <a:ahLst/>
              <a:rect l="textAreaLeft" t="textAreaTop" r="textAreaRight" b="textAreaBottom"/>
              <a:pathLst>
                <a:path w="864" h="1488">
                  <a:moveTo>
                    <a:pt x="0" y="144"/>
                  </a:moveTo>
                  <a:lnTo>
                    <a:pt x="0" y="1056"/>
                  </a:lnTo>
                  <a:lnTo>
                    <a:pt x="864" y="1488"/>
                  </a:lnTo>
                  <a:lnTo>
                    <a:pt x="864" y="384"/>
                  </a:lnTo>
                  <a:lnTo>
                    <a:pt x="0" y="0"/>
                  </a:lnTo>
                  <a:lnTo>
                    <a:pt x="0" y="144"/>
                  </a:lnTo>
                  <a:close/>
                </a:path>
              </a:pathLst>
            </a:custGeom>
            <a:solidFill>
              <a:srgbClr val="66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339" name="Freeform 9"/>
          <p:cNvSpPr/>
          <p:nvPr/>
        </p:nvSpPr>
        <p:spPr>
          <a:xfrm>
            <a:off x="1600200" y="3276720"/>
            <a:ext cx="2743200" cy="1143000"/>
          </a:xfrm>
          <a:custGeom>
            <a:avLst/>
            <a:gdLst>
              <a:gd name="textAreaLeft" fmla="*/ 0 w 2743200"/>
              <a:gd name="textAreaRight" fmla="*/ 2743200 w 2743200"/>
              <a:gd name="textAreaTop" fmla="*/ 0 h 1143000"/>
              <a:gd name="textAreaBottom" fmla="*/ 1143360 h 1143000"/>
            </a:gdLst>
            <a:ahLst/>
            <a:rect l="textAreaLeft" t="textAreaTop" r="textAreaRight" b="textAreaBottom"/>
            <a:pathLst>
              <a:path w="1728" h="720">
                <a:moveTo>
                  <a:pt x="0" y="336"/>
                </a:moveTo>
                <a:lnTo>
                  <a:pt x="864" y="720"/>
                </a:lnTo>
                <a:lnTo>
                  <a:pt x="1728" y="336"/>
                </a:lnTo>
                <a:lnTo>
                  <a:pt x="864" y="0"/>
                </a:lnTo>
                <a:lnTo>
                  <a:pt x="0" y="336"/>
                </a:lnTo>
                <a:close/>
              </a:path>
            </a:pathLst>
          </a:custGeom>
          <a:solidFill>
            <a:srgbClr val="ccff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40" name="Picture 12" descr=""/>
          <p:cNvPicPr/>
          <p:nvPr/>
        </p:nvPicPr>
        <p:blipFill>
          <a:blip r:embed="rId3"/>
          <a:stretch/>
        </p:blipFill>
        <p:spPr>
          <a:xfrm>
            <a:off x="2514600" y="5486400"/>
            <a:ext cx="258840" cy="685800"/>
          </a:xfrm>
          <a:prstGeom prst="rect">
            <a:avLst/>
          </a:prstGeom>
          <a:ln w="0">
            <a:noFill/>
          </a:ln>
        </p:spPr>
      </p:pic>
      <p:grpSp>
        <p:nvGrpSpPr>
          <p:cNvPr id="341" name="Group 13"/>
          <p:cNvGrpSpPr/>
          <p:nvPr/>
        </p:nvGrpSpPr>
        <p:grpSpPr>
          <a:xfrm>
            <a:off x="2209680" y="3200400"/>
            <a:ext cx="304920" cy="689040"/>
            <a:chOff x="2209680" y="3200400"/>
            <a:chExt cx="304920" cy="689040"/>
          </a:xfrm>
        </p:grpSpPr>
        <p:sp>
          <p:nvSpPr>
            <p:cNvPr id="342" name="Freeform 14"/>
            <p:cNvSpPr/>
            <p:nvPr/>
          </p:nvSpPr>
          <p:spPr>
            <a:xfrm>
              <a:off x="2209680" y="3200400"/>
              <a:ext cx="294120" cy="685800"/>
            </a:xfrm>
            <a:custGeom>
              <a:avLst/>
              <a:gdLst>
                <a:gd name="textAreaLeft" fmla="*/ 0 w 294120"/>
                <a:gd name="textAreaRight" fmla="*/ 294480 w 294120"/>
                <a:gd name="textAreaTop" fmla="*/ 0 h 685800"/>
                <a:gd name="textAreaBottom" fmla="*/ 686160 h 685800"/>
              </a:gdLst>
              <a:ahLst/>
              <a:rect l="textAreaLeft" t="textAreaTop" r="textAreaRight" b="textAreaBottom"/>
              <a:pathLst>
                <a:path w="3837" h="9184">
                  <a:moveTo>
                    <a:pt x="2981" y="3003"/>
                  </a:moveTo>
                  <a:lnTo>
                    <a:pt x="3000" y="2997"/>
                  </a:lnTo>
                  <a:lnTo>
                    <a:pt x="3020" y="2992"/>
                  </a:lnTo>
                  <a:lnTo>
                    <a:pt x="3040" y="2986"/>
                  </a:lnTo>
                  <a:lnTo>
                    <a:pt x="3061" y="2982"/>
                  </a:lnTo>
                  <a:lnTo>
                    <a:pt x="3084" y="2978"/>
                  </a:lnTo>
                  <a:lnTo>
                    <a:pt x="3106" y="2975"/>
                  </a:lnTo>
                  <a:lnTo>
                    <a:pt x="3129" y="2973"/>
                  </a:lnTo>
                  <a:lnTo>
                    <a:pt x="3151" y="2972"/>
                  </a:lnTo>
                  <a:lnTo>
                    <a:pt x="3161" y="2983"/>
                  </a:lnTo>
                  <a:lnTo>
                    <a:pt x="3172" y="2994"/>
                  </a:lnTo>
                  <a:lnTo>
                    <a:pt x="3182" y="3002"/>
                  </a:lnTo>
                  <a:lnTo>
                    <a:pt x="3194" y="3012"/>
                  </a:lnTo>
                  <a:lnTo>
                    <a:pt x="3206" y="3021"/>
                  </a:lnTo>
                  <a:lnTo>
                    <a:pt x="3217" y="3030"/>
                  </a:lnTo>
                  <a:lnTo>
                    <a:pt x="3227" y="3040"/>
                  </a:lnTo>
                  <a:lnTo>
                    <a:pt x="3237" y="3052"/>
                  </a:lnTo>
                  <a:lnTo>
                    <a:pt x="3227" y="3064"/>
                  </a:lnTo>
                  <a:lnTo>
                    <a:pt x="3218" y="3078"/>
                  </a:lnTo>
                  <a:lnTo>
                    <a:pt x="3208" y="3094"/>
                  </a:lnTo>
                  <a:lnTo>
                    <a:pt x="3198" y="3111"/>
                  </a:lnTo>
                  <a:lnTo>
                    <a:pt x="3188" y="3130"/>
                  </a:lnTo>
                  <a:lnTo>
                    <a:pt x="3178" y="3149"/>
                  </a:lnTo>
                  <a:lnTo>
                    <a:pt x="3169" y="3168"/>
                  </a:lnTo>
                  <a:lnTo>
                    <a:pt x="3161" y="3188"/>
                  </a:lnTo>
                  <a:lnTo>
                    <a:pt x="3153" y="3209"/>
                  </a:lnTo>
                  <a:lnTo>
                    <a:pt x="3147" y="3229"/>
                  </a:lnTo>
                  <a:lnTo>
                    <a:pt x="3142" y="3248"/>
                  </a:lnTo>
                  <a:lnTo>
                    <a:pt x="3137" y="3268"/>
                  </a:lnTo>
                  <a:lnTo>
                    <a:pt x="3135" y="3287"/>
                  </a:lnTo>
                  <a:lnTo>
                    <a:pt x="3134" y="3305"/>
                  </a:lnTo>
                  <a:lnTo>
                    <a:pt x="3136" y="3321"/>
                  </a:lnTo>
                  <a:lnTo>
                    <a:pt x="3139" y="3337"/>
                  </a:lnTo>
                  <a:lnTo>
                    <a:pt x="3134" y="3359"/>
                  </a:lnTo>
                  <a:lnTo>
                    <a:pt x="3126" y="3372"/>
                  </a:lnTo>
                  <a:lnTo>
                    <a:pt x="3116" y="3381"/>
                  </a:lnTo>
                  <a:lnTo>
                    <a:pt x="3105" y="3386"/>
                  </a:lnTo>
                  <a:lnTo>
                    <a:pt x="3093" y="3391"/>
                  </a:lnTo>
                  <a:lnTo>
                    <a:pt x="3084" y="3397"/>
                  </a:lnTo>
                  <a:lnTo>
                    <a:pt x="3075" y="3406"/>
                  </a:lnTo>
                  <a:lnTo>
                    <a:pt x="3069" y="3420"/>
                  </a:lnTo>
                  <a:lnTo>
                    <a:pt x="3060" y="3435"/>
                  </a:lnTo>
                  <a:lnTo>
                    <a:pt x="3055" y="3449"/>
                  </a:lnTo>
                  <a:lnTo>
                    <a:pt x="3052" y="3467"/>
                  </a:lnTo>
                  <a:lnTo>
                    <a:pt x="3051" y="3484"/>
                  </a:lnTo>
                  <a:lnTo>
                    <a:pt x="3052" y="3501"/>
                  </a:lnTo>
                  <a:lnTo>
                    <a:pt x="3053" y="3517"/>
                  </a:lnTo>
                  <a:lnTo>
                    <a:pt x="3054" y="3532"/>
                  </a:lnTo>
                  <a:lnTo>
                    <a:pt x="3054" y="3545"/>
                  </a:lnTo>
                  <a:lnTo>
                    <a:pt x="3038" y="3543"/>
                  </a:lnTo>
                  <a:lnTo>
                    <a:pt x="3019" y="3536"/>
                  </a:lnTo>
                  <a:lnTo>
                    <a:pt x="2997" y="3526"/>
                  </a:lnTo>
                  <a:lnTo>
                    <a:pt x="2975" y="3515"/>
                  </a:lnTo>
                  <a:lnTo>
                    <a:pt x="2952" y="3502"/>
                  </a:lnTo>
                  <a:lnTo>
                    <a:pt x="2933" y="3488"/>
                  </a:lnTo>
                  <a:lnTo>
                    <a:pt x="2916" y="3474"/>
                  </a:lnTo>
                  <a:lnTo>
                    <a:pt x="2904" y="3461"/>
                  </a:lnTo>
                  <a:lnTo>
                    <a:pt x="2917" y="3442"/>
                  </a:lnTo>
                  <a:lnTo>
                    <a:pt x="2929" y="3420"/>
                  </a:lnTo>
                  <a:lnTo>
                    <a:pt x="2939" y="3394"/>
                  </a:lnTo>
                  <a:lnTo>
                    <a:pt x="2949" y="3367"/>
                  </a:lnTo>
                  <a:lnTo>
                    <a:pt x="2956" y="3338"/>
                  </a:lnTo>
                  <a:lnTo>
                    <a:pt x="2964" y="3307"/>
                  </a:lnTo>
                  <a:lnTo>
                    <a:pt x="2969" y="3276"/>
                  </a:lnTo>
                  <a:lnTo>
                    <a:pt x="2975" y="3244"/>
                  </a:lnTo>
                  <a:lnTo>
                    <a:pt x="2979" y="3211"/>
                  </a:lnTo>
                  <a:lnTo>
                    <a:pt x="2981" y="3179"/>
                  </a:lnTo>
                  <a:lnTo>
                    <a:pt x="2983" y="3147"/>
                  </a:lnTo>
                  <a:lnTo>
                    <a:pt x="2984" y="3115"/>
                  </a:lnTo>
                  <a:lnTo>
                    <a:pt x="2984" y="3085"/>
                  </a:lnTo>
                  <a:lnTo>
                    <a:pt x="2984" y="3056"/>
                  </a:lnTo>
                  <a:lnTo>
                    <a:pt x="2983" y="3028"/>
                  </a:lnTo>
                  <a:lnTo>
                    <a:pt x="2981" y="3003"/>
                  </a:lnTo>
                  <a:close/>
                  <a:moveTo>
                    <a:pt x="745" y="2750"/>
                  </a:moveTo>
                  <a:lnTo>
                    <a:pt x="749" y="2768"/>
                  </a:lnTo>
                  <a:lnTo>
                    <a:pt x="755" y="2785"/>
                  </a:lnTo>
                  <a:lnTo>
                    <a:pt x="759" y="2803"/>
                  </a:lnTo>
                  <a:lnTo>
                    <a:pt x="762" y="2821"/>
                  </a:lnTo>
                  <a:lnTo>
                    <a:pt x="765" y="2839"/>
                  </a:lnTo>
                  <a:lnTo>
                    <a:pt x="767" y="2857"/>
                  </a:lnTo>
                  <a:lnTo>
                    <a:pt x="770" y="2874"/>
                  </a:lnTo>
                  <a:lnTo>
                    <a:pt x="770" y="2892"/>
                  </a:lnTo>
                  <a:lnTo>
                    <a:pt x="776" y="2902"/>
                  </a:lnTo>
                  <a:lnTo>
                    <a:pt x="784" y="2911"/>
                  </a:lnTo>
                  <a:lnTo>
                    <a:pt x="790" y="2921"/>
                  </a:lnTo>
                  <a:lnTo>
                    <a:pt x="796" y="2931"/>
                  </a:lnTo>
                  <a:lnTo>
                    <a:pt x="803" y="2941"/>
                  </a:lnTo>
                  <a:lnTo>
                    <a:pt x="809" y="2952"/>
                  </a:lnTo>
                  <a:lnTo>
                    <a:pt x="815" y="2963"/>
                  </a:lnTo>
                  <a:lnTo>
                    <a:pt x="820" y="2973"/>
                  </a:lnTo>
                  <a:lnTo>
                    <a:pt x="825" y="2985"/>
                  </a:lnTo>
                  <a:lnTo>
                    <a:pt x="830" y="2997"/>
                  </a:lnTo>
                  <a:lnTo>
                    <a:pt x="834" y="3008"/>
                  </a:lnTo>
                  <a:lnTo>
                    <a:pt x="837" y="3019"/>
                  </a:lnTo>
                  <a:lnTo>
                    <a:pt x="840" y="3031"/>
                  </a:lnTo>
                  <a:lnTo>
                    <a:pt x="841" y="3044"/>
                  </a:lnTo>
                  <a:lnTo>
                    <a:pt x="843" y="3056"/>
                  </a:lnTo>
                  <a:lnTo>
                    <a:pt x="843" y="3068"/>
                  </a:lnTo>
                  <a:lnTo>
                    <a:pt x="868" y="3068"/>
                  </a:lnTo>
                  <a:lnTo>
                    <a:pt x="889" y="3076"/>
                  </a:lnTo>
                  <a:lnTo>
                    <a:pt x="909" y="3090"/>
                  </a:lnTo>
                  <a:lnTo>
                    <a:pt x="926" y="3108"/>
                  </a:lnTo>
                  <a:lnTo>
                    <a:pt x="940" y="3129"/>
                  </a:lnTo>
                  <a:lnTo>
                    <a:pt x="953" y="3150"/>
                  </a:lnTo>
                  <a:lnTo>
                    <a:pt x="964" y="3168"/>
                  </a:lnTo>
                  <a:lnTo>
                    <a:pt x="975" y="3184"/>
                  </a:lnTo>
                  <a:lnTo>
                    <a:pt x="993" y="3187"/>
                  </a:lnTo>
                  <a:lnTo>
                    <a:pt x="1010" y="3195"/>
                  </a:lnTo>
                  <a:lnTo>
                    <a:pt x="1028" y="3208"/>
                  </a:lnTo>
                  <a:lnTo>
                    <a:pt x="1045" y="3224"/>
                  </a:lnTo>
                  <a:lnTo>
                    <a:pt x="1062" y="3242"/>
                  </a:lnTo>
                  <a:lnTo>
                    <a:pt x="1078" y="3263"/>
                  </a:lnTo>
                  <a:lnTo>
                    <a:pt x="1094" y="3286"/>
                  </a:lnTo>
                  <a:lnTo>
                    <a:pt x="1109" y="3309"/>
                  </a:lnTo>
                  <a:lnTo>
                    <a:pt x="1124" y="3333"/>
                  </a:lnTo>
                  <a:lnTo>
                    <a:pt x="1139" y="3356"/>
                  </a:lnTo>
                  <a:lnTo>
                    <a:pt x="1154" y="3379"/>
                  </a:lnTo>
                  <a:lnTo>
                    <a:pt x="1168" y="3399"/>
                  </a:lnTo>
                  <a:lnTo>
                    <a:pt x="1182" y="3416"/>
                  </a:lnTo>
                  <a:lnTo>
                    <a:pt x="1196" y="3431"/>
                  </a:lnTo>
                  <a:lnTo>
                    <a:pt x="1208" y="3442"/>
                  </a:lnTo>
                  <a:lnTo>
                    <a:pt x="1221" y="3448"/>
                  </a:lnTo>
                  <a:lnTo>
                    <a:pt x="1230" y="3438"/>
                  </a:lnTo>
                  <a:lnTo>
                    <a:pt x="1241" y="3430"/>
                  </a:lnTo>
                  <a:lnTo>
                    <a:pt x="1250" y="3426"/>
                  </a:lnTo>
                  <a:lnTo>
                    <a:pt x="1261" y="3423"/>
                  </a:lnTo>
                  <a:lnTo>
                    <a:pt x="1272" y="3422"/>
                  </a:lnTo>
                  <a:lnTo>
                    <a:pt x="1280" y="3421"/>
                  </a:lnTo>
                  <a:lnTo>
                    <a:pt x="1289" y="3420"/>
                  </a:lnTo>
                  <a:lnTo>
                    <a:pt x="1295" y="3417"/>
                  </a:lnTo>
                  <a:lnTo>
                    <a:pt x="1272" y="3386"/>
                  </a:lnTo>
                  <a:lnTo>
                    <a:pt x="1249" y="3355"/>
                  </a:lnTo>
                  <a:lnTo>
                    <a:pt x="1226" y="3322"/>
                  </a:lnTo>
                  <a:lnTo>
                    <a:pt x="1201" y="3289"/>
                  </a:lnTo>
                  <a:lnTo>
                    <a:pt x="1176" y="3255"/>
                  </a:lnTo>
                  <a:lnTo>
                    <a:pt x="1152" y="3222"/>
                  </a:lnTo>
                  <a:lnTo>
                    <a:pt x="1127" y="3187"/>
                  </a:lnTo>
                  <a:lnTo>
                    <a:pt x="1101" y="3154"/>
                  </a:lnTo>
                  <a:lnTo>
                    <a:pt x="1075" y="3122"/>
                  </a:lnTo>
                  <a:lnTo>
                    <a:pt x="1049" y="3091"/>
                  </a:lnTo>
                  <a:lnTo>
                    <a:pt x="1022" y="3061"/>
                  </a:lnTo>
                  <a:lnTo>
                    <a:pt x="994" y="3032"/>
                  </a:lnTo>
                  <a:lnTo>
                    <a:pt x="967" y="3006"/>
                  </a:lnTo>
                  <a:lnTo>
                    <a:pt x="938" y="2982"/>
                  </a:lnTo>
                  <a:lnTo>
                    <a:pt x="909" y="2960"/>
                  </a:lnTo>
                  <a:lnTo>
                    <a:pt x="880" y="2940"/>
                  </a:lnTo>
                  <a:lnTo>
                    <a:pt x="869" y="2933"/>
                  </a:lnTo>
                  <a:lnTo>
                    <a:pt x="858" y="2924"/>
                  </a:lnTo>
                  <a:lnTo>
                    <a:pt x="848" y="2914"/>
                  </a:lnTo>
                  <a:lnTo>
                    <a:pt x="838" y="2902"/>
                  </a:lnTo>
                  <a:lnTo>
                    <a:pt x="828" y="2888"/>
                  </a:lnTo>
                  <a:lnTo>
                    <a:pt x="820" y="2874"/>
                  </a:lnTo>
                  <a:lnTo>
                    <a:pt x="811" y="2860"/>
                  </a:lnTo>
                  <a:lnTo>
                    <a:pt x="803" y="2845"/>
                  </a:lnTo>
                  <a:lnTo>
                    <a:pt x="795" y="2830"/>
                  </a:lnTo>
                  <a:lnTo>
                    <a:pt x="788" y="2815"/>
                  </a:lnTo>
                  <a:lnTo>
                    <a:pt x="780" y="2801"/>
                  </a:lnTo>
                  <a:lnTo>
                    <a:pt x="773" y="2788"/>
                  </a:lnTo>
                  <a:lnTo>
                    <a:pt x="765" y="2777"/>
                  </a:lnTo>
                  <a:lnTo>
                    <a:pt x="759" y="2766"/>
                  </a:lnTo>
                  <a:lnTo>
                    <a:pt x="751" y="2756"/>
                  </a:lnTo>
                  <a:lnTo>
                    <a:pt x="745" y="2750"/>
                  </a:lnTo>
                  <a:close/>
                  <a:moveTo>
                    <a:pt x="2469" y="1228"/>
                  </a:moveTo>
                  <a:lnTo>
                    <a:pt x="2478" y="1239"/>
                  </a:lnTo>
                  <a:lnTo>
                    <a:pt x="2491" y="1252"/>
                  </a:lnTo>
                  <a:lnTo>
                    <a:pt x="2504" y="1270"/>
                  </a:lnTo>
                  <a:lnTo>
                    <a:pt x="2519" y="1290"/>
                  </a:lnTo>
                  <a:lnTo>
                    <a:pt x="2531" y="1312"/>
                  </a:lnTo>
                  <a:lnTo>
                    <a:pt x="2544" y="1337"/>
                  </a:lnTo>
                  <a:lnTo>
                    <a:pt x="2553" y="1363"/>
                  </a:lnTo>
                  <a:lnTo>
                    <a:pt x="2558" y="1390"/>
                  </a:lnTo>
                  <a:lnTo>
                    <a:pt x="2570" y="1409"/>
                  </a:lnTo>
                  <a:lnTo>
                    <a:pt x="2581" y="1425"/>
                  </a:lnTo>
                  <a:lnTo>
                    <a:pt x="2591" y="1438"/>
                  </a:lnTo>
                  <a:lnTo>
                    <a:pt x="2602" y="1449"/>
                  </a:lnTo>
                  <a:lnTo>
                    <a:pt x="2614" y="1460"/>
                  </a:lnTo>
                  <a:lnTo>
                    <a:pt x="2628" y="1470"/>
                  </a:lnTo>
                  <a:lnTo>
                    <a:pt x="2643" y="1480"/>
                  </a:lnTo>
                  <a:lnTo>
                    <a:pt x="2660" y="1491"/>
                  </a:lnTo>
                  <a:lnTo>
                    <a:pt x="2680" y="1504"/>
                  </a:lnTo>
                  <a:lnTo>
                    <a:pt x="2703" y="1519"/>
                  </a:lnTo>
                  <a:lnTo>
                    <a:pt x="2730" y="1536"/>
                  </a:lnTo>
                  <a:lnTo>
                    <a:pt x="2761" y="1556"/>
                  </a:lnTo>
                  <a:lnTo>
                    <a:pt x="2796" y="1581"/>
                  </a:lnTo>
                  <a:lnTo>
                    <a:pt x="2835" y="1611"/>
                  </a:lnTo>
                  <a:lnTo>
                    <a:pt x="2880" y="1645"/>
                  </a:lnTo>
                  <a:lnTo>
                    <a:pt x="2932" y="1685"/>
                  </a:lnTo>
                  <a:lnTo>
                    <a:pt x="2940" y="1688"/>
                  </a:lnTo>
                  <a:lnTo>
                    <a:pt x="2949" y="1697"/>
                  </a:lnTo>
                  <a:lnTo>
                    <a:pt x="2955" y="1709"/>
                  </a:lnTo>
                  <a:lnTo>
                    <a:pt x="2963" y="1724"/>
                  </a:lnTo>
                  <a:lnTo>
                    <a:pt x="2969" y="1739"/>
                  </a:lnTo>
                  <a:lnTo>
                    <a:pt x="2977" y="1751"/>
                  </a:lnTo>
                  <a:lnTo>
                    <a:pt x="2984" y="1761"/>
                  </a:lnTo>
                  <a:lnTo>
                    <a:pt x="2993" y="1764"/>
                  </a:lnTo>
                  <a:lnTo>
                    <a:pt x="3031" y="1787"/>
                  </a:lnTo>
                  <a:lnTo>
                    <a:pt x="3068" y="1814"/>
                  </a:lnTo>
                  <a:lnTo>
                    <a:pt x="3104" y="1845"/>
                  </a:lnTo>
                  <a:lnTo>
                    <a:pt x="3139" y="1879"/>
                  </a:lnTo>
                  <a:lnTo>
                    <a:pt x="3175" y="1916"/>
                  </a:lnTo>
                  <a:lnTo>
                    <a:pt x="3208" y="1955"/>
                  </a:lnTo>
                  <a:lnTo>
                    <a:pt x="3241" y="1997"/>
                  </a:lnTo>
                  <a:lnTo>
                    <a:pt x="3274" y="2040"/>
                  </a:lnTo>
                  <a:lnTo>
                    <a:pt x="3306" y="2085"/>
                  </a:lnTo>
                  <a:lnTo>
                    <a:pt x="3339" y="2131"/>
                  </a:lnTo>
                  <a:lnTo>
                    <a:pt x="3371" y="2177"/>
                  </a:lnTo>
                  <a:lnTo>
                    <a:pt x="3403" y="2223"/>
                  </a:lnTo>
                  <a:lnTo>
                    <a:pt x="3434" y="2269"/>
                  </a:lnTo>
                  <a:lnTo>
                    <a:pt x="3466" y="2314"/>
                  </a:lnTo>
                  <a:lnTo>
                    <a:pt x="3498" y="2357"/>
                  </a:lnTo>
                  <a:lnTo>
                    <a:pt x="3530" y="2400"/>
                  </a:lnTo>
                  <a:lnTo>
                    <a:pt x="3578" y="2400"/>
                  </a:lnTo>
                  <a:lnTo>
                    <a:pt x="3603" y="2431"/>
                  </a:lnTo>
                  <a:lnTo>
                    <a:pt x="3608" y="2449"/>
                  </a:lnTo>
                  <a:lnTo>
                    <a:pt x="3615" y="2470"/>
                  </a:lnTo>
                  <a:lnTo>
                    <a:pt x="3622" y="2489"/>
                  </a:lnTo>
                  <a:lnTo>
                    <a:pt x="3631" y="2510"/>
                  </a:lnTo>
                  <a:lnTo>
                    <a:pt x="3640" y="2531"/>
                  </a:lnTo>
                  <a:lnTo>
                    <a:pt x="3651" y="2552"/>
                  </a:lnTo>
                  <a:lnTo>
                    <a:pt x="3662" y="2573"/>
                  </a:lnTo>
                  <a:lnTo>
                    <a:pt x="3673" y="2595"/>
                  </a:lnTo>
                  <a:lnTo>
                    <a:pt x="3684" y="2615"/>
                  </a:lnTo>
                  <a:lnTo>
                    <a:pt x="3696" y="2635"/>
                  </a:lnTo>
                  <a:lnTo>
                    <a:pt x="3708" y="2655"/>
                  </a:lnTo>
                  <a:lnTo>
                    <a:pt x="3720" y="2673"/>
                  </a:lnTo>
                  <a:lnTo>
                    <a:pt x="3730" y="2690"/>
                  </a:lnTo>
                  <a:lnTo>
                    <a:pt x="3741" y="2706"/>
                  </a:lnTo>
                  <a:lnTo>
                    <a:pt x="3752" y="2721"/>
                  </a:lnTo>
                  <a:lnTo>
                    <a:pt x="3761" y="2734"/>
                  </a:lnTo>
                  <a:lnTo>
                    <a:pt x="3761" y="2752"/>
                  </a:lnTo>
                  <a:lnTo>
                    <a:pt x="3759" y="2771"/>
                  </a:lnTo>
                  <a:lnTo>
                    <a:pt x="3758" y="2792"/>
                  </a:lnTo>
                  <a:lnTo>
                    <a:pt x="3756" y="2811"/>
                  </a:lnTo>
                  <a:lnTo>
                    <a:pt x="3753" y="2830"/>
                  </a:lnTo>
                  <a:lnTo>
                    <a:pt x="3752" y="2847"/>
                  </a:lnTo>
                  <a:lnTo>
                    <a:pt x="3750" y="2863"/>
                  </a:lnTo>
                  <a:lnTo>
                    <a:pt x="3750" y="2876"/>
                  </a:lnTo>
                  <a:lnTo>
                    <a:pt x="3758" y="2888"/>
                  </a:lnTo>
                  <a:lnTo>
                    <a:pt x="3767" y="2901"/>
                  </a:lnTo>
                  <a:lnTo>
                    <a:pt x="3773" y="2914"/>
                  </a:lnTo>
                  <a:lnTo>
                    <a:pt x="3781" y="2926"/>
                  </a:lnTo>
                  <a:lnTo>
                    <a:pt x="3786" y="2939"/>
                  </a:lnTo>
                  <a:lnTo>
                    <a:pt x="3791" y="2953"/>
                  </a:lnTo>
                  <a:lnTo>
                    <a:pt x="3797" y="2966"/>
                  </a:lnTo>
                  <a:lnTo>
                    <a:pt x="3802" y="2980"/>
                  </a:lnTo>
                  <a:lnTo>
                    <a:pt x="3806" y="2994"/>
                  </a:lnTo>
                  <a:lnTo>
                    <a:pt x="3811" y="3007"/>
                  </a:lnTo>
                  <a:lnTo>
                    <a:pt x="3815" y="3021"/>
                  </a:lnTo>
                  <a:lnTo>
                    <a:pt x="3818" y="3033"/>
                  </a:lnTo>
                  <a:lnTo>
                    <a:pt x="3822" y="3046"/>
                  </a:lnTo>
                  <a:lnTo>
                    <a:pt x="3827" y="3059"/>
                  </a:lnTo>
                  <a:lnTo>
                    <a:pt x="3831" y="3072"/>
                  </a:lnTo>
                  <a:lnTo>
                    <a:pt x="3835" y="3084"/>
                  </a:lnTo>
                  <a:lnTo>
                    <a:pt x="3832" y="3093"/>
                  </a:lnTo>
                  <a:lnTo>
                    <a:pt x="3829" y="3103"/>
                  </a:lnTo>
                  <a:lnTo>
                    <a:pt x="3825" y="3114"/>
                  </a:lnTo>
                  <a:lnTo>
                    <a:pt x="3820" y="3124"/>
                  </a:lnTo>
                  <a:lnTo>
                    <a:pt x="3815" y="3135"/>
                  </a:lnTo>
                  <a:lnTo>
                    <a:pt x="3808" y="3147"/>
                  </a:lnTo>
                  <a:lnTo>
                    <a:pt x="3803" y="3159"/>
                  </a:lnTo>
                  <a:lnTo>
                    <a:pt x="3797" y="3170"/>
                  </a:lnTo>
                  <a:lnTo>
                    <a:pt x="3790" y="3183"/>
                  </a:lnTo>
                  <a:lnTo>
                    <a:pt x="3784" y="3195"/>
                  </a:lnTo>
                  <a:lnTo>
                    <a:pt x="3777" y="3207"/>
                  </a:lnTo>
                  <a:lnTo>
                    <a:pt x="3772" y="3217"/>
                  </a:lnTo>
                  <a:lnTo>
                    <a:pt x="3766" y="3228"/>
                  </a:lnTo>
                  <a:lnTo>
                    <a:pt x="3760" y="3239"/>
                  </a:lnTo>
                  <a:lnTo>
                    <a:pt x="3755" y="3248"/>
                  </a:lnTo>
                  <a:lnTo>
                    <a:pt x="3750" y="3258"/>
                  </a:lnTo>
                  <a:lnTo>
                    <a:pt x="3752" y="3268"/>
                  </a:lnTo>
                  <a:lnTo>
                    <a:pt x="3752" y="3279"/>
                  </a:lnTo>
                  <a:lnTo>
                    <a:pt x="3752" y="3292"/>
                  </a:lnTo>
                  <a:lnTo>
                    <a:pt x="3751" y="3306"/>
                  </a:lnTo>
                  <a:lnTo>
                    <a:pt x="3749" y="3321"/>
                  </a:lnTo>
                  <a:lnTo>
                    <a:pt x="3746" y="3337"/>
                  </a:lnTo>
                  <a:lnTo>
                    <a:pt x="3743" y="3353"/>
                  </a:lnTo>
                  <a:lnTo>
                    <a:pt x="3740" y="3369"/>
                  </a:lnTo>
                  <a:lnTo>
                    <a:pt x="3737" y="3386"/>
                  </a:lnTo>
                  <a:lnTo>
                    <a:pt x="3732" y="3402"/>
                  </a:lnTo>
                  <a:lnTo>
                    <a:pt x="3729" y="3417"/>
                  </a:lnTo>
                  <a:lnTo>
                    <a:pt x="3725" y="3432"/>
                  </a:lnTo>
                  <a:lnTo>
                    <a:pt x="3722" y="3446"/>
                  </a:lnTo>
                  <a:lnTo>
                    <a:pt x="3717" y="3459"/>
                  </a:lnTo>
                  <a:lnTo>
                    <a:pt x="3714" y="3471"/>
                  </a:lnTo>
                  <a:lnTo>
                    <a:pt x="3712" y="3480"/>
                  </a:lnTo>
                  <a:lnTo>
                    <a:pt x="3713" y="3487"/>
                  </a:lnTo>
                  <a:lnTo>
                    <a:pt x="3714" y="3492"/>
                  </a:lnTo>
                  <a:lnTo>
                    <a:pt x="3716" y="3499"/>
                  </a:lnTo>
                  <a:lnTo>
                    <a:pt x="3719" y="3504"/>
                  </a:lnTo>
                  <a:lnTo>
                    <a:pt x="3721" y="3510"/>
                  </a:lnTo>
                  <a:lnTo>
                    <a:pt x="3723" y="3517"/>
                  </a:lnTo>
                  <a:lnTo>
                    <a:pt x="3724" y="3522"/>
                  </a:lnTo>
                  <a:lnTo>
                    <a:pt x="3725" y="3529"/>
                  </a:lnTo>
                  <a:lnTo>
                    <a:pt x="3715" y="3539"/>
                  </a:lnTo>
                  <a:lnTo>
                    <a:pt x="3707" y="3547"/>
                  </a:lnTo>
                  <a:lnTo>
                    <a:pt x="3698" y="3554"/>
                  </a:lnTo>
                  <a:lnTo>
                    <a:pt x="3691" y="3560"/>
                  </a:lnTo>
                  <a:lnTo>
                    <a:pt x="3684" y="3566"/>
                  </a:lnTo>
                  <a:lnTo>
                    <a:pt x="3680" y="3572"/>
                  </a:lnTo>
                  <a:lnTo>
                    <a:pt x="3677" y="3581"/>
                  </a:lnTo>
                  <a:lnTo>
                    <a:pt x="3676" y="3592"/>
                  </a:lnTo>
                  <a:lnTo>
                    <a:pt x="3680" y="3591"/>
                  </a:lnTo>
                  <a:lnTo>
                    <a:pt x="3685" y="3590"/>
                  </a:lnTo>
                  <a:lnTo>
                    <a:pt x="3690" y="3586"/>
                  </a:lnTo>
                  <a:lnTo>
                    <a:pt x="3694" y="3583"/>
                  </a:lnTo>
                  <a:lnTo>
                    <a:pt x="3699" y="3581"/>
                  </a:lnTo>
                  <a:lnTo>
                    <a:pt x="3704" y="3578"/>
                  </a:lnTo>
                  <a:lnTo>
                    <a:pt x="3708" y="3577"/>
                  </a:lnTo>
                  <a:lnTo>
                    <a:pt x="3712" y="3576"/>
                  </a:lnTo>
                  <a:lnTo>
                    <a:pt x="3716" y="3577"/>
                  </a:lnTo>
                  <a:lnTo>
                    <a:pt x="3722" y="3578"/>
                  </a:lnTo>
                  <a:lnTo>
                    <a:pt x="3726" y="3581"/>
                  </a:lnTo>
                  <a:lnTo>
                    <a:pt x="3731" y="3583"/>
                  </a:lnTo>
                  <a:lnTo>
                    <a:pt x="3736" y="3586"/>
                  </a:lnTo>
                  <a:lnTo>
                    <a:pt x="3740" y="3590"/>
                  </a:lnTo>
                  <a:lnTo>
                    <a:pt x="3745" y="3591"/>
                  </a:lnTo>
                  <a:lnTo>
                    <a:pt x="3750" y="3592"/>
                  </a:lnTo>
                  <a:lnTo>
                    <a:pt x="3750" y="3656"/>
                  </a:lnTo>
                  <a:lnTo>
                    <a:pt x="3731" y="3678"/>
                  </a:lnTo>
                  <a:lnTo>
                    <a:pt x="3713" y="3698"/>
                  </a:lnTo>
                  <a:lnTo>
                    <a:pt x="3694" y="3716"/>
                  </a:lnTo>
                  <a:lnTo>
                    <a:pt x="3676" y="3733"/>
                  </a:lnTo>
                  <a:lnTo>
                    <a:pt x="3658" y="3749"/>
                  </a:lnTo>
                  <a:lnTo>
                    <a:pt x="3639" y="3765"/>
                  </a:lnTo>
                  <a:lnTo>
                    <a:pt x="3621" y="3781"/>
                  </a:lnTo>
                  <a:lnTo>
                    <a:pt x="3603" y="3798"/>
                  </a:lnTo>
                  <a:lnTo>
                    <a:pt x="3586" y="3790"/>
                  </a:lnTo>
                  <a:lnTo>
                    <a:pt x="3568" y="3782"/>
                  </a:lnTo>
                  <a:lnTo>
                    <a:pt x="3548" y="3777"/>
                  </a:lnTo>
                  <a:lnTo>
                    <a:pt x="3528" y="3770"/>
                  </a:lnTo>
                  <a:lnTo>
                    <a:pt x="3507" y="3766"/>
                  </a:lnTo>
                  <a:lnTo>
                    <a:pt x="3485" y="3762"/>
                  </a:lnTo>
                  <a:lnTo>
                    <a:pt x="3463" y="3760"/>
                  </a:lnTo>
                  <a:lnTo>
                    <a:pt x="3439" y="3756"/>
                  </a:lnTo>
                  <a:lnTo>
                    <a:pt x="3417" y="3754"/>
                  </a:lnTo>
                  <a:lnTo>
                    <a:pt x="3393" y="3753"/>
                  </a:lnTo>
                  <a:lnTo>
                    <a:pt x="3370" y="3752"/>
                  </a:lnTo>
                  <a:lnTo>
                    <a:pt x="3347" y="3751"/>
                  </a:lnTo>
                  <a:lnTo>
                    <a:pt x="3325" y="3751"/>
                  </a:lnTo>
                  <a:lnTo>
                    <a:pt x="3303" y="3751"/>
                  </a:lnTo>
                  <a:lnTo>
                    <a:pt x="3282" y="3751"/>
                  </a:lnTo>
                  <a:lnTo>
                    <a:pt x="3261" y="3751"/>
                  </a:lnTo>
                  <a:lnTo>
                    <a:pt x="3251" y="3762"/>
                  </a:lnTo>
                  <a:lnTo>
                    <a:pt x="3242" y="3771"/>
                  </a:lnTo>
                  <a:lnTo>
                    <a:pt x="3234" y="3782"/>
                  </a:lnTo>
                  <a:lnTo>
                    <a:pt x="3227" y="3793"/>
                  </a:lnTo>
                  <a:lnTo>
                    <a:pt x="3220" y="3805"/>
                  </a:lnTo>
                  <a:lnTo>
                    <a:pt x="3214" y="3815"/>
                  </a:lnTo>
                  <a:lnTo>
                    <a:pt x="3208" y="3827"/>
                  </a:lnTo>
                  <a:lnTo>
                    <a:pt x="3203" y="3838"/>
                  </a:lnTo>
                  <a:lnTo>
                    <a:pt x="3183" y="3852"/>
                  </a:lnTo>
                  <a:lnTo>
                    <a:pt x="3165" y="3860"/>
                  </a:lnTo>
                  <a:lnTo>
                    <a:pt x="3147" y="3863"/>
                  </a:lnTo>
                  <a:lnTo>
                    <a:pt x="3129" y="3863"/>
                  </a:lnTo>
                  <a:lnTo>
                    <a:pt x="3111" y="3861"/>
                  </a:lnTo>
                  <a:lnTo>
                    <a:pt x="3093" y="3855"/>
                  </a:lnTo>
                  <a:lnTo>
                    <a:pt x="3077" y="3847"/>
                  </a:lnTo>
                  <a:lnTo>
                    <a:pt x="3060" y="3839"/>
                  </a:lnTo>
                  <a:lnTo>
                    <a:pt x="3050" y="3839"/>
                  </a:lnTo>
                  <a:lnTo>
                    <a:pt x="3038" y="3838"/>
                  </a:lnTo>
                  <a:lnTo>
                    <a:pt x="3027" y="3837"/>
                  </a:lnTo>
                  <a:lnTo>
                    <a:pt x="3017" y="3836"/>
                  </a:lnTo>
                  <a:lnTo>
                    <a:pt x="3010" y="3832"/>
                  </a:lnTo>
                  <a:lnTo>
                    <a:pt x="3005" y="3828"/>
                  </a:lnTo>
                  <a:lnTo>
                    <a:pt x="3004" y="3823"/>
                  </a:lnTo>
                  <a:lnTo>
                    <a:pt x="3006" y="3814"/>
                  </a:lnTo>
                  <a:lnTo>
                    <a:pt x="3001" y="3815"/>
                  </a:lnTo>
                  <a:lnTo>
                    <a:pt x="2996" y="3816"/>
                  </a:lnTo>
                  <a:lnTo>
                    <a:pt x="2992" y="3820"/>
                  </a:lnTo>
                  <a:lnTo>
                    <a:pt x="2987" y="3822"/>
                  </a:lnTo>
                  <a:lnTo>
                    <a:pt x="2982" y="3825"/>
                  </a:lnTo>
                  <a:lnTo>
                    <a:pt x="2978" y="3828"/>
                  </a:lnTo>
                  <a:lnTo>
                    <a:pt x="2974" y="3829"/>
                  </a:lnTo>
                  <a:lnTo>
                    <a:pt x="2969" y="3830"/>
                  </a:lnTo>
                  <a:lnTo>
                    <a:pt x="2975" y="3845"/>
                  </a:lnTo>
                  <a:lnTo>
                    <a:pt x="2982" y="3864"/>
                  </a:lnTo>
                  <a:lnTo>
                    <a:pt x="2989" y="3886"/>
                  </a:lnTo>
                  <a:lnTo>
                    <a:pt x="2996" y="3909"/>
                  </a:lnTo>
                  <a:lnTo>
                    <a:pt x="3002" y="3934"/>
                  </a:lnTo>
                  <a:lnTo>
                    <a:pt x="3007" y="3955"/>
                  </a:lnTo>
                  <a:lnTo>
                    <a:pt x="3008" y="3975"/>
                  </a:lnTo>
                  <a:lnTo>
                    <a:pt x="3006" y="3990"/>
                  </a:lnTo>
                  <a:lnTo>
                    <a:pt x="3103" y="4117"/>
                  </a:lnTo>
                  <a:lnTo>
                    <a:pt x="3103" y="4130"/>
                  </a:lnTo>
                  <a:lnTo>
                    <a:pt x="3103" y="4143"/>
                  </a:lnTo>
                  <a:lnTo>
                    <a:pt x="3102" y="4158"/>
                  </a:lnTo>
                  <a:lnTo>
                    <a:pt x="3102" y="4173"/>
                  </a:lnTo>
                  <a:lnTo>
                    <a:pt x="3100" y="4188"/>
                  </a:lnTo>
                  <a:lnTo>
                    <a:pt x="3098" y="4201"/>
                  </a:lnTo>
                  <a:lnTo>
                    <a:pt x="3095" y="4215"/>
                  </a:lnTo>
                  <a:lnTo>
                    <a:pt x="3090" y="4228"/>
                  </a:lnTo>
                  <a:lnTo>
                    <a:pt x="3151" y="4307"/>
                  </a:lnTo>
                  <a:lnTo>
                    <a:pt x="3151" y="4370"/>
                  </a:lnTo>
                  <a:lnTo>
                    <a:pt x="3189" y="4419"/>
                  </a:lnTo>
                  <a:lnTo>
                    <a:pt x="3189" y="4482"/>
                  </a:lnTo>
                  <a:lnTo>
                    <a:pt x="3164" y="4514"/>
                  </a:lnTo>
                  <a:lnTo>
                    <a:pt x="3164" y="4546"/>
                  </a:lnTo>
                  <a:lnTo>
                    <a:pt x="3166" y="4553"/>
                  </a:lnTo>
                  <a:lnTo>
                    <a:pt x="3172" y="4563"/>
                  </a:lnTo>
                  <a:lnTo>
                    <a:pt x="3179" y="4573"/>
                  </a:lnTo>
                  <a:lnTo>
                    <a:pt x="3189" y="4583"/>
                  </a:lnTo>
                  <a:lnTo>
                    <a:pt x="3197" y="4593"/>
                  </a:lnTo>
                  <a:lnTo>
                    <a:pt x="3205" y="4601"/>
                  </a:lnTo>
                  <a:lnTo>
                    <a:pt x="3210" y="4607"/>
                  </a:lnTo>
                  <a:lnTo>
                    <a:pt x="3212" y="4609"/>
                  </a:lnTo>
                  <a:lnTo>
                    <a:pt x="3213" y="4638"/>
                  </a:lnTo>
                  <a:lnTo>
                    <a:pt x="3215" y="4667"/>
                  </a:lnTo>
                  <a:lnTo>
                    <a:pt x="3219" y="4693"/>
                  </a:lnTo>
                  <a:lnTo>
                    <a:pt x="3223" y="4720"/>
                  </a:lnTo>
                  <a:lnTo>
                    <a:pt x="3229" y="4746"/>
                  </a:lnTo>
                  <a:lnTo>
                    <a:pt x="3236" y="4770"/>
                  </a:lnTo>
                  <a:lnTo>
                    <a:pt x="3244" y="4794"/>
                  </a:lnTo>
                  <a:lnTo>
                    <a:pt x="3253" y="4818"/>
                  </a:lnTo>
                  <a:lnTo>
                    <a:pt x="3264" y="4840"/>
                  </a:lnTo>
                  <a:lnTo>
                    <a:pt x="3274" y="4862"/>
                  </a:lnTo>
                  <a:lnTo>
                    <a:pt x="3286" y="4884"/>
                  </a:lnTo>
                  <a:lnTo>
                    <a:pt x="3299" y="4905"/>
                  </a:lnTo>
                  <a:lnTo>
                    <a:pt x="3313" y="4927"/>
                  </a:lnTo>
                  <a:lnTo>
                    <a:pt x="3327" y="4948"/>
                  </a:lnTo>
                  <a:lnTo>
                    <a:pt x="3342" y="4969"/>
                  </a:lnTo>
                  <a:lnTo>
                    <a:pt x="3358" y="4990"/>
                  </a:lnTo>
                  <a:lnTo>
                    <a:pt x="3358" y="5003"/>
                  </a:lnTo>
                  <a:lnTo>
                    <a:pt x="3359" y="5016"/>
                  </a:lnTo>
                  <a:lnTo>
                    <a:pt x="3359" y="5031"/>
                  </a:lnTo>
                  <a:lnTo>
                    <a:pt x="3360" y="5048"/>
                  </a:lnTo>
                  <a:lnTo>
                    <a:pt x="3361" y="5064"/>
                  </a:lnTo>
                  <a:lnTo>
                    <a:pt x="3362" y="5081"/>
                  </a:lnTo>
                  <a:lnTo>
                    <a:pt x="3364" y="5099"/>
                  </a:lnTo>
                  <a:lnTo>
                    <a:pt x="3365" y="5117"/>
                  </a:lnTo>
                  <a:lnTo>
                    <a:pt x="3367" y="5134"/>
                  </a:lnTo>
                  <a:lnTo>
                    <a:pt x="3370" y="5152"/>
                  </a:lnTo>
                  <a:lnTo>
                    <a:pt x="3372" y="5169"/>
                  </a:lnTo>
                  <a:lnTo>
                    <a:pt x="3374" y="5187"/>
                  </a:lnTo>
                  <a:lnTo>
                    <a:pt x="3376" y="5203"/>
                  </a:lnTo>
                  <a:lnTo>
                    <a:pt x="3378" y="5218"/>
                  </a:lnTo>
                  <a:lnTo>
                    <a:pt x="3380" y="5231"/>
                  </a:lnTo>
                  <a:lnTo>
                    <a:pt x="3382" y="5244"/>
                  </a:lnTo>
                  <a:lnTo>
                    <a:pt x="3378" y="5257"/>
                  </a:lnTo>
                  <a:lnTo>
                    <a:pt x="3374" y="5270"/>
                  </a:lnTo>
                  <a:lnTo>
                    <a:pt x="3370" y="5285"/>
                  </a:lnTo>
                  <a:lnTo>
                    <a:pt x="3365" y="5301"/>
                  </a:lnTo>
                  <a:lnTo>
                    <a:pt x="3362" y="5318"/>
                  </a:lnTo>
                  <a:lnTo>
                    <a:pt x="3360" y="5335"/>
                  </a:lnTo>
                  <a:lnTo>
                    <a:pt x="3359" y="5352"/>
                  </a:lnTo>
                  <a:lnTo>
                    <a:pt x="3358" y="5371"/>
                  </a:lnTo>
                  <a:lnTo>
                    <a:pt x="3395" y="5419"/>
                  </a:lnTo>
                  <a:lnTo>
                    <a:pt x="3402" y="5441"/>
                  </a:lnTo>
                  <a:lnTo>
                    <a:pt x="3409" y="5467"/>
                  </a:lnTo>
                  <a:lnTo>
                    <a:pt x="3416" y="5496"/>
                  </a:lnTo>
                  <a:lnTo>
                    <a:pt x="3422" y="5528"/>
                  </a:lnTo>
                  <a:lnTo>
                    <a:pt x="3427" y="5561"/>
                  </a:lnTo>
                  <a:lnTo>
                    <a:pt x="3433" y="5595"/>
                  </a:lnTo>
                  <a:lnTo>
                    <a:pt x="3438" y="5630"/>
                  </a:lnTo>
                  <a:lnTo>
                    <a:pt x="3442" y="5667"/>
                  </a:lnTo>
                  <a:lnTo>
                    <a:pt x="3446" y="5704"/>
                  </a:lnTo>
                  <a:lnTo>
                    <a:pt x="3449" y="5741"/>
                  </a:lnTo>
                  <a:lnTo>
                    <a:pt x="3451" y="5776"/>
                  </a:lnTo>
                  <a:lnTo>
                    <a:pt x="3451" y="5810"/>
                  </a:lnTo>
                  <a:lnTo>
                    <a:pt x="3451" y="5843"/>
                  </a:lnTo>
                  <a:lnTo>
                    <a:pt x="3450" y="5874"/>
                  </a:lnTo>
                  <a:lnTo>
                    <a:pt x="3448" y="5902"/>
                  </a:lnTo>
                  <a:lnTo>
                    <a:pt x="3443" y="5928"/>
                  </a:lnTo>
                  <a:lnTo>
                    <a:pt x="3445" y="5941"/>
                  </a:lnTo>
                  <a:lnTo>
                    <a:pt x="3447" y="5953"/>
                  </a:lnTo>
                  <a:lnTo>
                    <a:pt x="3449" y="5967"/>
                  </a:lnTo>
                  <a:lnTo>
                    <a:pt x="3453" y="5982"/>
                  </a:lnTo>
                  <a:lnTo>
                    <a:pt x="3458" y="5998"/>
                  </a:lnTo>
                  <a:lnTo>
                    <a:pt x="3464" y="6014"/>
                  </a:lnTo>
                  <a:lnTo>
                    <a:pt x="3470" y="6030"/>
                  </a:lnTo>
                  <a:lnTo>
                    <a:pt x="3476" y="6047"/>
                  </a:lnTo>
                  <a:lnTo>
                    <a:pt x="3482" y="6063"/>
                  </a:lnTo>
                  <a:lnTo>
                    <a:pt x="3488" y="6079"/>
                  </a:lnTo>
                  <a:lnTo>
                    <a:pt x="3495" y="6095"/>
                  </a:lnTo>
                  <a:lnTo>
                    <a:pt x="3501" y="6111"/>
                  </a:lnTo>
                  <a:lnTo>
                    <a:pt x="3507" y="6126"/>
                  </a:lnTo>
                  <a:lnTo>
                    <a:pt x="3511" y="6140"/>
                  </a:lnTo>
                  <a:lnTo>
                    <a:pt x="3514" y="6152"/>
                  </a:lnTo>
                  <a:lnTo>
                    <a:pt x="3517" y="6165"/>
                  </a:lnTo>
                  <a:lnTo>
                    <a:pt x="3519" y="6178"/>
                  </a:lnTo>
                  <a:lnTo>
                    <a:pt x="3523" y="6191"/>
                  </a:lnTo>
                  <a:lnTo>
                    <a:pt x="3526" y="6206"/>
                  </a:lnTo>
                  <a:lnTo>
                    <a:pt x="3528" y="6221"/>
                  </a:lnTo>
                  <a:lnTo>
                    <a:pt x="3531" y="6236"/>
                  </a:lnTo>
                  <a:lnTo>
                    <a:pt x="3534" y="6252"/>
                  </a:lnTo>
                  <a:lnTo>
                    <a:pt x="3538" y="6269"/>
                  </a:lnTo>
                  <a:lnTo>
                    <a:pt x="3541" y="6285"/>
                  </a:lnTo>
                  <a:lnTo>
                    <a:pt x="3543" y="6301"/>
                  </a:lnTo>
                  <a:lnTo>
                    <a:pt x="3545" y="6317"/>
                  </a:lnTo>
                  <a:lnTo>
                    <a:pt x="3548" y="6333"/>
                  </a:lnTo>
                  <a:lnTo>
                    <a:pt x="3549" y="6349"/>
                  </a:lnTo>
                  <a:lnTo>
                    <a:pt x="3552" y="6364"/>
                  </a:lnTo>
                  <a:lnTo>
                    <a:pt x="3553" y="6378"/>
                  </a:lnTo>
                  <a:lnTo>
                    <a:pt x="3554" y="6391"/>
                  </a:lnTo>
                  <a:lnTo>
                    <a:pt x="3554" y="6404"/>
                  </a:lnTo>
                  <a:lnTo>
                    <a:pt x="3575" y="6436"/>
                  </a:lnTo>
                  <a:lnTo>
                    <a:pt x="3593" y="6471"/>
                  </a:lnTo>
                  <a:lnTo>
                    <a:pt x="3608" y="6510"/>
                  </a:lnTo>
                  <a:lnTo>
                    <a:pt x="3621" y="6551"/>
                  </a:lnTo>
                  <a:lnTo>
                    <a:pt x="3632" y="6594"/>
                  </a:lnTo>
                  <a:lnTo>
                    <a:pt x="3641" y="6640"/>
                  </a:lnTo>
                  <a:lnTo>
                    <a:pt x="3649" y="6686"/>
                  </a:lnTo>
                  <a:lnTo>
                    <a:pt x="3655" y="6734"/>
                  </a:lnTo>
                  <a:lnTo>
                    <a:pt x="3662" y="6781"/>
                  </a:lnTo>
                  <a:lnTo>
                    <a:pt x="3667" y="6830"/>
                  </a:lnTo>
                  <a:lnTo>
                    <a:pt x="3673" y="6877"/>
                  </a:lnTo>
                  <a:lnTo>
                    <a:pt x="3679" y="6923"/>
                  </a:lnTo>
                  <a:lnTo>
                    <a:pt x="3685" y="6967"/>
                  </a:lnTo>
                  <a:lnTo>
                    <a:pt x="3693" y="7010"/>
                  </a:lnTo>
                  <a:lnTo>
                    <a:pt x="3701" y="7050"/>
                  </a:lnTo>
                  <a:lnTo>
                    <a:pt x="3712" y="7087"/>
                  </a:lnTo>
                  <a:lnTo>
                    <a:pt x="3717" y="7099"/>
                  </a:lnTo>
                  <a:lnTo>
                    <a:pt x="3724" y="7112"/>
                  </a:lnTo>
                  <a:lnTo>
                    <a:pt x="3729" y="7124"/>
                  </a:lnTo>
                  <a:lnTo>
                    <a:pt x="3736" y="7138"/>
                  </a:lnTo>
                  <a:lnTo>
                    <a:pt x="3741" y="7151"/>
                  </a:lnTo>
                  <a:lnTo>
                    <a:pt x="3745" y="7165"/>
                  </a:lnTo>
                  <a:lnTo>
                    <a:pt x="3749" y="7181"/>
                  </a:lnTo>
                  <a:lnTo>
                    <a:pt x="3750" y="7199"/>
                  </a:lnTo>
                  <a:lnTo>
                    <a:pt x="3743" y="7208"/>
                  </a:lnTo>
                  <a:lnTo>
                    <a:pt x="3738" y="7221"/>
                  </a:lnTo>
                  <a:lnTo>
                    <a:pt x="3734" y="7235"/>
                  </a:lnTo>
                  <a:lnTo>
                    <a:pt x="3730" y="7250"/>
                  </a:lnTo>
                  <a:lnTo>
                    <a:pt x="3727" y="7266"/>
                  </a:lnTo>
                  <a:lnTo>
                    <a:pt x="3726" y="7284"/>
                  </a:lnTo>
                  <a:lnTo>
                    <a:pt x="3725" y="7301"/>
                  </a:lnTo>
                  <a:lnTo>
                    <a:pt x="3725" y="7320"/>
                  </a:lnTo>
                  <a:lnTo>
                    <a:pt x="3725" y="7339"/>
                  </a:lnTo>
                  <a:lnTo>
                    <a:pt x="3726" y="7358"/>
                  </a:lnTo>
                  <a:lnTo>
                    <a:pt x="3727" y="7376"/>
                  </a:lnTo>
                  <a:lnTo>
                    <a:pt x="3728" y="7393"/>
                  </a:lnTo>
                  <a:lnTo>
                    <a:pt x="3730" y="7410"/>
                  </a:lnTo>
                  <a:lnTo>
                    <a:pt x="3732" y="7426"/>
                  </a:lnTo>
                  <a:lnTo>
                    <a:pt x="3735" y="7440"/>
                  </a:lnTo>
                  <a:lnTo>
                    <a:pt x="3737" y="7453"/>
                  </a:lnTo>
                  <a:lnTo>
                    <a:pt x="3742" y="7484"/>
                  </a:lnTo>
                  <a:lnTo>
                    <a:pt x="3747" y="7515"/>
                  </a:lnTo>
                  <a:lnTo>
                    <a:pt x="3751" y="7546"/>
                  </a:lnTo>
                  <a:lnTo>
                    <a:pt x="3755" y="7577"/>
                  </a:lnTo>
                  <a:lnTo>
                    <a:pt x="3757" y="7608"/>
                  </a:lnTo>
                  <a:lnTo>
                    <a:pt x="3760" y="7639"/>
                  </a:lnTo>
                  <a:lnTo>
                    <a:pt x="3761" y="7670"/>
                  </a:lnTo>
                  <a:lnTo>
                    <a:pt x="3762" y="7701"/>
                  </a:lnTo>
                  <a:lnTo>
                    <a:pt x="3763" y="7731"/>
                  </a:lnTo>
                  <a:lnTo>
                    <a:pt x="3765" y="7762"/>
                  </a:lnTo>
                  <a:lnTo>
                    <a:pt x="3765" y="7793"/>
                  </a:lnTo>
                  <a:lnTo>
                    <a:pt x="3763" y="7823"/>
                  </a:lnTo>
                  <a:lnTo>
                    <a:pt x="3763" y="7854"/>
                  </a:lnTo>
                  <a:lnTo>
                    <a:pt x="3762" y="7884"/>
                  </a:lnTo>
                  <a:lnTo>
                    <a:pt x="3761" y="7915"/>
                  </a:lnTo>
                  <a:lnTo>
                    <a:pt x="3760" y="7945"/>
                  </a:lnTo>
                  <a:lnTo>
                    <a:pt x="3758" y="7976"/>
                  </a:lnTo>
                  <a:lnTo>
                    <a:pt x="3757" y="8007"/>
                  </a:lnTo>
                  <a:lnTo>
                    <a:pt x="3755" y="8037"/>
                  </a:lnTo>
                  <a:lnTo>
                    <a:pt x="3753" y="8068"/>
                  </a:lnTo>
                  <a:lnTo>
                    <a:pt x="3751" y="8098"/>
                  </a:lnTo>
                  <a:lnTo>
                    <a:pt x="3750" y="8129"/>
                  </a:lnTo>
                  <a:lnTo>
                    <a:pt x="3747" y="8160"/>
                  </a:lnTo>
                  <a:lnTo>
                    <a:pt x="3745" y="8190"/>
                  </a:lnTo>
                  <a:lnTo>
                    <a:pt x="3744" y="8221"/>
                  </a:lnTo>
                  <a:lnTo>
                    <a:pt x="3742" y="8252"/>
                  </a:lnTo>
                  <a:lnTo>
                    <a:pt x="3741" y="8283"/>
                  </a:lnTo>
                  <a:lnTo>
                    <a:pt x="3739" y="8314"/>
                  </a:lnTo>
                  <a:lnTo>
                    <a:pt x="3738" y="8345"/>
                  </a:lnTo>
                  <a:lnTo>
                    <a:pt x="3738" y="8376"/>
                  </a:lnTo>
                  <a:lnTo>
                    <a:pt x="3737" y="8407"/>
                  </a:lnTo>
                  <a:lnTo>
                    <a:pt x="3737" y="8438"/>
                  </a:lnTo>
                  <a:lnTo>
                    <a:pt x="3738" y="8445"/>
                  </a:lnTo>
                  <a:lnTo>
                    <a:pt x="3742" y="8452"/>
                  </a:lnTo>
                  <a:lnTo>
                    <a:pt x="3747" y="8459"/>
                  </a:lnTo>
                  <a:lnTo>
                    <a:pt x="3755" y="8466"/>
                  </a:lnTo>
                  <a:lnTo>
                    <a:pt x="3763" y="8474"/>
                  </a:lnTo>
                  <a:lnTo>
                    <a:pt x="3773" y="8481"/>
                  </a:lnTo>
                  <a:lnTo>
                    <a:pt x="3783" y="8491"/>
                  </a:lnTo>
                  <a:lnTo>
                    <a:pt x="3792" y="8501"/>
                  </a:lnTo>
                  <a:lnTo>
                    <a:pt x="3803" y="8513"/>
                  </a:lnTo>
                  <a:lnTo>
                    <a:pt x="3812" y="8526"/>
                  </a:lnTo>
                  <a:lnTo>
                    <a:pt x="3820" y="8541"/>
                  </a:lnTo>
                  <a:lnTo>
                    <a:pt x="3828" y="8557"/>
                  </a:lnTo>
                  <a:lnTo>
                    <a:pt x="3833" y="8576"/>
                  </a:lnTo>
                  <a:lnTo>
                    <a:pt x="3836" y="8597"/>
                  </a:lnTo>
                  <a:lnTo>
                    <a:pt x="3837" y="8620"/>
                  </a:lnTo>
                  <a:lnTo>
                    <a:pt x="3835" y="8646"/>
                  </a:lnTo>
                  <a:lnTo>
                    <a:pt x="3828" y="8654"/>
                  </a:lnTo>
                  <a:lnTo>
                    <a:pt x="3815" y="8667"/>
                  </a:lnTo>
                  <a:lnTo>
                    <a:pt x="3799" y="8684"/>
                  </a:lnTo>
                  <a:lnTo>
                    <a:pt x="3782" y="8702"/>
                  </a:lnTo>
                  <a:lnTo>
                    <a:pt x="3765" y="8723"/>
                  </a:lnTo>
                  <a:lnTo>
                    <a:pt x="3751" y="8741"/>
                  </a:lnTo>
                  <a:lnTo>
                    <a:pt x="3740" y="8758"/>
                  </a:lnTo>
                  <a:lnTo>
                    <a:pt x="3737" y="8772"/>
                  </a:lnTo>
                  <a:lnTo>
                    <a:pt x="3715" y="8755"/>
                  </a:lnTo>
                  <a:lnTo>
                    <a:pt x="3694" y="8740"/>
                  </a:lnTo>
                  <a:lnTo>
                    <a:pt x="3673" y="8727"/>
                  </a:lnTo>
                  <a:lnTo>
                    <a:pt x="3651" y="8717"/>
                  </a:lnTo>
                  <a:lnTo>
                    <a:pt x="3631" y="8710"/>
                  </a:lnTo>
                  <a:lnTo>
                    <a:pt x="3609" y="8705"/>
                  </a:lnTo>
                  <a:lnTo>
                    <a:pt x="3589" y="8702"/>
                  </a:lnTo>
                  <a:lnTo>
                    <a:pt x="3569" y="8701"/>
                  </a:lnTo>
                  <a:lnTo>
                    <a:pt x="3547" y="8702"/>
                  </a:lnTo>
                  <a:lnTo>
                    <a:pt x="3526" y="8706"/>
                  </a:lnTo>
                  <a:lnTo>
                    <a:pt x="3506" y="8711"/>
                  </a:lnTo>
                  <a:lnTo>
                    <a:pt x="3484" y="8718"/>
                  </a:lnTo>
                  <a:lnTo>
                    <a:pt x="3462" y="8727"/>
                  </a:lnTo>
                  <a:lnTo>
                    <a:pt x="3440" y="8737"/>
                  </a:lnTo>
                  <a:lnTo>
                    <a:pt x="3418" y="8749"/>
                  </a:lnTo>
                  <a:lnTo>
                    <a:pt x="3394" y="8762"/>
                  </a:lnTo>
                  <a:lnTo>
                    <a:pt x="3373" y="8786"/>
                  </a:lnTo>
                  <a:lnTo>
                    <a:pt x="3351" y="8812"/>
                  </a:lnTo>
                  <a:lnTo>
                    <a:pt x="3331" y="8838"/>
                  </a:lnTo>
                  <a:lnTo>
                    <a:pt x="3310" y="8866"/>
                  </a:lnTo>
                  <a:lnTo>
                    <a:pt x="3288" y="8895"/>
                  </a:lnTo>
                  <a:lnTo>
                    <a:pt x="3267" y="8924"/>
                  </a:lnTo>
                  <a:lnTo>
                    <a:pt x="3246" y="8953"/>
                  </a:lnTo>
                  <a:lnTo>
                    <a:pt x="3225" y="8981"/>
                  </a:lnTo>
                  <a:lnTo>
                    <a:pt x="3204" y="9007"/>
                  </a:lnTo>
                  <a:lnTo>
                    <a:pt x="3182" y="9032"/>
                  </a:lnTo>
                  <a:lnTo>
                    <a:pt x="3162" y="9054"/>
                  </a:lnTo>
                  <a:lnTo>
                    <a:pt x="3141" y="9075"/>
                  </a:lnTo>
                  <a:lnTo>
                    <a:pt x="3119" y="9093"/>
                  </a:lnTo>
                  <a:lnTo>
                    <a:pt x="3098" y="9107"/>
                  </a:lnTo>
                  <a:lnTo>
                    <a:pt x="3076" y="9116"/>
                  </a:lnTo>
                  <a:lnTo>
                    <a:pt x="3055" y="9123"/>
                  </a:lnTo>
                  <a:lnTo>
                    <a:pt x="3045" y="9129"/>
                  </a:lnTo>
                  <a:lnTo>
                    <a:pt x="3037" y="9131"/>
                  </a:lnTo>
                  <a:lnTo>
                    <a:pt x="3028" y="9130"/>
                  </a:lnTo>
                  <a:lnTo>
                    <a:pt x="3022" y="9125"/>
                  </a:lnTo>
                  <a:lnTo>
                    <a:pt x="3015" y="9117"/>
                  </a:lnTo>
                  <a:lnTo>
                    <a:pt x="3009" y="9107"/>
                  </a:lnTo>
                  <a:lnTo>
                    <a:pt x="3004" y="9095"/>
                  </a:lnTo>
                  <a:lnTo>
                    <a:pt x="2999" y="9081"/>
                  </a:lnTo>
                  <a:lnTo>
                    <a:pt x="2995" y="9067"/>
                  </a:lnTo>
                  <a:lnTo>
                    <a:pt x="2991" y="9052"/>
                  </a:lnTo>
                  <a:lnTo>
                    <a:pt x="2987" y="9037"/>
                  </a:lnTo>
                  <a:lnTo>
                    <a:pt x="2984" y="9023"/>
                  </a:lnTo>
                  <a:lnTo>
                    <a:pt x="2981" y="9009"/>
                  </a:lnTo>
                  <a:lnTo>
                    <a:pt x="2979" y="8998"/>
                  </a:lnTo>
                  <a:lnTo>
                    <a:pt x="2976" y="8988"/>
                  </a:lnTo>
                  <a:lnTo>
                    <a:pt x="2974" y="8981"/>
                  </a:lnTo>
                  <a:lnTo>
                    <a:pt x="2967" y="8959"/>
                  </a:lnTo>
                  <a:lnTo>
                    <a:pt x="2962" y="8936"/>
                  </a:lnTo>
                  <a:lnTo>
                    <a:pt x="2957" y="8912"/>
                  </a:lnTo>
                  <a:lnTo>
                    <a:pt x="2953" y="8886"/>
                  </a:lnTo>
                  <a:lnTo>
                    <a:pt x="2950" y="8861"/>
                  </a:lnTo>
                  <a:lnTo>
                    <a:pt x="2947" y="8835"/>
                  </a:lnTo>
                  <a:lnTo>
                    <a:pt x="2944" y="8808"/>
                  </a:lnTo>
                  <a:lnTo>
                    <a:pt x="2940" y="8781"/>
                  </a:lnTo>
                  <a:lnTo>
                    <a:pt x="2938" y="8754"/>
                  </a:lnTo>
                  <a:lnTo>
                    <a:pt x="2935" y="8727"/>
                  </a:lnTo>
                  <a:lnTo>
                    <a:pt x="2932" y="8701"/>
                  </a:lnTo>
                  <a:lnTo>
                    <a:pt x="2929" y="8676"/>
                  </a:lnTo>
                  <a:lnTo>
                    <a:pt x="2924" y="8650"/>
                  </a:lnTo>
                  <a:lnTo>
                    <a:pt x="2919" y="8626"/>
                  </a:lnTo>
                  <a:lnTo>
                    <a:pt x="2914" y="8603"/>
                  </a:lnTo>
                  <a:lnTo>
                    <a:pt x="2907" y="8582"/>
                  </a:lnTo>
                  <a:lnTo>
                    <a:pt x="2898" y="8555"/>
                  </a:lnTo>
                  <a:lnTo>
                    <a:pt x="2888" y="8528"/>
                  </a:lnTo>
                  <a:lnTo>
                    <a:pt x="2877" y="8501"/>
                  </a:lnTo>
                  <a:lnTo>
                    <a:pt x="2867" y="8474"/>
                  </a:lnTo>
                  <a:lnTo>
                    <a:pt x="2856" y="8447"/>
                  </a:lnTo>
                  <a:lnTo>
                    <a:pt x="2846" y="8420"/>
                  </a:lnTo>
                  <a:lnTo>
                    <a:pt x="2835" y="8392"/>
                  </a:lnTo>
                  <a:lnTo>
                    <a:pt x="2825" y="8365"/>
                  </a:lnTo>
                  <a:lnTo>
                    <a:pt x="2814" y="8338"/>
                  </a:lnTo>
                  <a:lnTo>
                    <a:pt x="2804" y="8310"/>
                  </a:lnTo>
                  <a:lnTo>
                    <a:pt x="2796" y="8282"/>
                  </a:lnTo>
                  <a:lnTo>
                    <a:pt x="2787" y="8253"/>
                  </a:lnTo>
                  <a:lnTo>
                    <a:pt x="2779" y="8224"/>
                  </a:lnTo>
                  <a:lnTo>
                    <a:pt x="2772" y="8195"/>
                  </a:lnTo>
                  <a:lnTo>
                    <a:pt x="2766" y="8167"/>
                  </a:lnTo>
                  <a:lnTo>
                    <a:pt x="2761" y="8137"/>
                  </a:lnTo>
                  <a:lnTo>
                    <a:pt x="2755" y="8106"/>
                  </a:lnTo>
                  <a:lnTo>
                    <a:pt x="2750" y="8075"/>
                  </a:lnTo>
                  <a:lnTo>
                    <a:pt x="2744" y="8041"/>
                  </a:lnTo>
                  <a:lnTo>
                    <a:pt x="2737" y="8007"/>
                  </a:lnTo>
                  <a:lnTo>
                    <a:pt x="2731" y="7973"/>
                  </a:lnTo>
                  <a:lnTo>
                    <a:pt x="2723" y="7938"/>
                  </a:lnTo>
                  <a:lnTo>
                    <a:pt x="2717" y="7902"/>
                  </a:lnTo>
                  <a:lnTo>
                    <a:pt x="2709" y="7866"/>
                  </a:lnTo>
                  <a:lnTo>
                    <a:pt x="2703" y="7831"/>
                  </a:lnTo>
                  <a:lnTo>
                    <a:pt x="2696" y="7795"/>
                  </a:lnTo>
                  <a:lnTo>
                    <a:pt x="2691" y="7760"/>
                  </a:lnTo>
                  <a:lnTo>
                    <a:pt x="2686" y="7725"/>
                  </a:lnTo>
                  <a:lnTo>
                    <a:pt x="2681" y="7692"/>
                  </a:lnTo>
                  <a:lnTo>
                    <a:pt x="2678" y="7658"/>
                  </a:lnTo>
                  <a:lnTo>
                    <a:pt x="2677" y="7626"/>
                  </a:lnTo>
                  <a:lnTo>
                    <a:pt x="2676" y="7596"/>
                  </a:lnTo>
                  <a:lnTo>
                    <a:pt x="2651" y="7564"/>
                  </a:lnTo>
                  <a:lnTo>
                    <a:pt x="2644" y="7541"/>
                  </a:lnTo>
                  <a:lnTo>
                    <a:pt x="2636" y="7516"/>
                  </a:lnTo>
                  <a:lnTo>
                    <a:pt x="2629" y="7492"/>
                  </a:lnTo>
                  <a:lnTo>
                    <a:pt x="2622" y="7466"/>
                  </a:lnTo>
                  <a:lnTo>
                    <a:pt x="2616" y="7441"/>
                  </a:lnTo>
                  <a:lnTo>
                    <a:pt x="2610" y="7416"/>
                  </a:lnTo>
                  <a:lnTo>
                    <a:pt x="2604" y="7390"/>
                  </a:lnTo>
                  <a:lnTo>
                    <a:pt x="2599" y="7363"/>
                  </a:lnTo>
                  <a:lnTo>
                    <a:pt x="2594" y="7338"/>
                  </a:lnTo>
                  <a:lnTo>
                    <a:pt x="2588" y="7311"/>
                  </a:lnTo>
                  <a:lnTo>
                    <a:pt x="2584" y="7284"/>
                  </a:lnTo>
                  <a:lnTo>
                    <a:pt x="2579" y="7258"/>
                  </a:lnTo>
                  <a:lnTo>
                    <a:pt x="2574" y="7232"/>
                  </a:lnTo>
                  <a:lnTo>
                    <a:pt x="2570" y="7205"/>
                  </a:lnTo>
                  <a:lnTo>
                    <a:pt x="2566" y="7178"/>
                  </a:lnTo>
                  <a:lnTo>
                    <a:pt x="2561" y="7150"/>
                  </a:lnTo>
                  <a:lnTo>
                    <a:pt x="2556" y="7124"/>
                  </a:lnTo>
                  <a:lnTo>
                    <a:pt x="2552" y="7097"/>
                  </a:lnTo>
                  <a:lnTo>
                    <a:pt x="2548" y="7070"/>
                  </a:lnTo>
                  <a:lnTo>
                    <a:pt x="2543" y="7043"/>
                  </a:lnTo>
                  <a:lnTo>
                    <a:pt x="2539" y="7018"/>
                  </a:lnTo>
                  <a:lnTo>
                    <a:pt x="2535" y="6991"/>
                  </a:lnTo>
                  <a:lnTo>
                    <a:pt x="2530" y="6964"/>
                  </a:lnTo>
                  <a:lnTo>
                    <a:pt x="2525" y="6939"/>
                  </a:lnTo>
                  <a:lnTo>
                    <a:pt x="2521" y="6912"/>
                  </a:lnTo>
                  <a:lnTo>
                    <a:pt x="2515" y="6886"/>
                  </a:lnTo>
                  <a:lnTo>
                    <a:pt x="2510" y="6861"/>
                  </a:lnTo>
                  <a:lnTo>
                    <a:pt x="2505" y="6836"/>
                  </a:lnTo>
                  <a:lnTo>
                    <a:pt x="2499" y="6810"/>
                  </a:lnTo>
                  <a:lnTo>
                    <a:pt x="2493" y="6786"/>
                  </a:lnTo>
                  <a:lnTo>
                    <a:pt x="2487" y="6761"/>
                  </a:lnTo>
                  <a:lnTo>
                    <a:pt x="2480" y="6738"/>
                  </a:lnTo>
                  <a:lnTo>
                    <a:pt x="2468" y="6698"/>
                  </a:lnTo>
                  <a:lnTo>
                    <a:pt x="2458" y="6658"/>
                  </a:lnTo>
                  <a:lnTo>
                    <a:pt x="2446" y="6619"/>
                  </a:lnTo>
                  <a:lnTo>
                    <a:pt x="2435" y="6577"/>
                  </a:lnTo>
                  <a:lnTo>
                    <a:pt x="2423" y="6536"/>
                  </a:lnTo>
                  <a:lnTo>
                    <a:pt x="2413" y="6495"/>
                  </a:lnTo>
                  <a:lnTo>
                    <a:pt x="2402" y="6452"/>
                  </a:lnTo>
                  <a:lnTo>
                    <a:pt x="2391" y="6410"/>
                  </a:lnTo>
                  <a:lnTo>
                    <a:pt x="2382" y="6367"/>
                  </a:lnTo>
                  <a:lnTo>
                    <a:pt x="2371" y="6325"/>
                  </a:lnTo>
                  <a:lnTo>
                    <a:pt x="2362" y="6282"/>
                  </a:lnTo>
                  <a:lnTo>
                    <a:pt x="2353" y="6239"/>
                  </a:lnTo>
                  <a:lnTo>
                    <a:pt x="2344" y="6196"/>
                  </a:lnTo>
                  <a:lnTo>
                    <a:pt x="2336" y="6155"/>
                  </a:lnTo>
                  <a:lnTo>
                    <a:pt x="2328" y="6112"/>
                  </a:lnTo>
                  <a:lnTo>
                    <a:pt x="2321" y="6070"/>
                  </a:lnTo>
                  <a:lnTo>
                    <a:pt x="2320" y="6097"/>
                  </a:lnTo>
                  <a:lnTo>
                    <a:pt x="2318" y="6122"/>
                  </a:lnTo>
                  <a:lnTo>
                    <a:pt x="2315" y="6148"/>
                  </a:lnTo>
                  <a:lnTo>
                    <a:pt x="2311" y="6173"/>
                  </a:lnTo>
                  <a:lnTo>
                    <a:pt x="2306" y="6196"/>
                  </a:lnTo>
                  <a:lnTo>
                    <a:pt x="2300" y="6220"/>
                  </a:lnTo>
                  <a:lnTo>
                    <a:pt x="2294" y="6243"/>
                  </a:lnTo>
                  <a:lnTo>
                    <a:pt x="2287" y="6267"/>
                  </a:lnTo>
                  <a:lnTo>
                    <a:pt x="2280" y="6290"/>
                  </a:lnTo>
                  <a:lnTo>
                    <a:pt x="2274" y="6313"/>
                  </a:lnTo>
                  <a:lnTo>
                    <a:pt x="2266" y="6335"/>
                  </a:lnTo>
                  <a:lnTo>
                    <a:pt x="2260" y="6359"/>
                  </a:lnTo>
                  <a:lnTo>
                    <a:pt x="2252" y="6381"/>
                  </a:lnTo>
                  <a:lnTo>
                    <a:pt x="2247" y="6405"/>
                  </a:lnTo>
                  <a:lnTo>
                    <a:pt x="2241" y="6428"/>
                  </a:lnTo>
                  <a:lnTo>
                    <a:pt x="2236" y="6452"/>
                  </a:lnTo>
                  <a:lnTo>
                    <a:pt x="2232" y="6479"/>
                  </a:lnTo>
                  <a:lnTo>
                    <a:pt x="2230" y="6506"/>
                  </a:lnTo>
                  <a:lnTo>
                    <a:pt x="2227" y="6533"/>
                  </a:lnTo>
                  <a:lnTo>
                    <a:pt x="2226" y="6561"/>
                  </a:lnTo>
                  <a:lnTo>
                    <a:pt x="2225" y="6589"/>
                  </a:lnTo>
                  <a:lnTo>
                    <a:pt x="2224" y="6617"/>
                  </a:lnTo>
                  <a:lnTo>
                    <a:pt x="2223" y="6643"/>
                  </a:lnTo>
                  <a:lnTo>
                    <a:pt x="2222" y="6670"/>
                  </a:lnTo>
                  <a:lnTo>
                    <a:pt x="2220" y="6697"/>
                  </a:lnTo>
                  <a:lnTo>
                    <a:pt x="2217" y="6723"/>
                  </a:lnTo>
                  <a:lnTo>
                    <a:pt x="2213" y="6748"/>
                  </a:lnTo>
                  <a:lnTo>
                    <a:pt x="2206" y="6774"/>
                  </a:lnTo>
                  <a:lnTo>
                    <a:pt x="2199" y="6797"/>
                  </a:lnTo>
                  <a:lnTo>
                    <a:pt x="2189" y="6821"/>
                  </a:lnTo>
                  <a:lnTo>
                    <a:pt x="2177" y="6843"/>
                  </a:lnTo>
                  <a:lnTo>
                    <a:pt x="2162" y="6865"/>
                  </a:lnTo>
                  <a:lnTo>
                    <a:pt x="2163" y="6878"/>
                  </a:lnTo>
                  <a:lnTo>
                    <a:pt x="2166" y="6894"/>
                  </a:lnTo>
                  <a:lnTo>
                    <a:pt x="2171" y="6911"/>
                  </a:lnTo>
                  <a:lnTo>
                    <a:pt x="2176" y="6928"/>
                  </a:lnTo>
                  <a:lnTo>
                    <a:pt x="2183" y="6946"/>
                  </a:lnTo>
                  <a:lnTo>
                    <a:pt x="2188" y="6963"/>
                  </a:lnTo>
                  <a:lnTo>
                    <a:pt x="2194" y="6979"/>
                  </a:lnTo>
                  <a:lnTo>
                    <a:pt x="2200" y="6992"/>
                  </a:lnTo>
                  <a:lnTo>
                    <a:pt x="2193" y="7034"/>
                  </a:lnTo>
                  <a:lnTo>
                    <a:pt x="2189" y="7077"/>
                  </a:lnTo>
                  <a:lnTo>
                    <a:pt x="2186" y="7118"/>
                  </a:lnTo>
                  <a:lnTo>
                    <a:pt x="2185" y="7161"/>
                  </a:lnTo>
                  <a:lnTo>
                    <a:pt x="2186" y="7204"/>
                  </a:lnTo>
                  <a:lnTo>
                    <a:pt x="2187" y="7246"/>
                  </a:lnTo>
                  <a:lnTo>
                    <a:pt x="2190" y="7288"/>
                  </a:lnTo>
                  <a:lnTo>
                    <a:pt x="2194" y="7330"/>
                  </a:lnTo>
                  <a:lnTo>
                    <a:pt x="2201" y="7372"/>
                  </a:lnTo>
                  <a:lnTo>
                    <a:pt x="2207" y="7412"/>
                  </a:lnTo>
                  <a:lnTo>
                    <a:pt x="2216" y="7453"/>
                  </a:lnTo>
                  <a:lnTo>
                    <a:pt x="2225" y="7493"/>
                  </a:lnTo>
                  <a:lnTo>
                    <a:pt x="2235" y="7532"/>
                  </a:lnTo>
                  <a:lnTo>
                    <a:pt x="2247" y="7570"/>
                  </a:lnTo>
                  <a:lnTo>
                    <a:pt x="2260" y="7607"/>
                  </a:lnTo>
                  <a:lnTo>
                    <a:pt x="2272" y="7643"/>
                  </a:lnTo>
                  <a:lnTo>
                    <a:pt x="2268" y="7662"/>
                  </a:lnTo>
                  <a:lnTo>
                    <a:pt x="2263" y="7680"/>
                  </a:lnTo>
                  <a:lnTo>
                    <a:pt x="2259" y="7698"/>
                  </a:lnTo>
                  <a:lnTo>
                    <a:pt x="2255" y="7717"/>
                  </a:lnTo>
                  <a:lnTo>
                    <a:pt x="2252" y="7738"/>
                  </a:lnTo>
                  <a:lnTo>
                    <a:pt x="2250" y="7758"/>
                  </a:lnTo>
                  <a:lnTo>
                    <a:pt x="2248" y="7780"/>
                  </a:lnTo>
                  <a:lnTo>
                    <a:pt x="2248" y="7803"/>
                  </a:lnTo>
                  <a:lnTo>
                    <a:pt x="2254" y="7812"/>
                  </a:lnTo>
                  <a:lnTo>
                    <a:pt x="2261" y="7823"/>
                  </a:lnTo>
                  <a:lnTo>
                    <a:pt x="2266" y="7834"/>
                  </a:lnTo>
                  <a:lnTo>
                    <a:pt x="2271" y="7847"/>
                  </a:lnTo>
                  <a:lnTo>
                    <a:pt x="2276" y="7858"/>
                  </a:lnTo>
                  <a:lnTo>
                    <a:pt x="2280" y="7871"/>
                  </a:lnTo>
                  <a:lnTo>
                    <a:pt x="2284" y="7885"/>
                  </a:lnTo>
                  <a:lnTo>
                    <a:pt x="2287" y="7898"/>
                  </a:lnTo>
                  <a:lnTo>
                    <a:pt x="2291" y="7912"/>
                  </a:lnTo>
                  <a:lnTo>
                    <a:pt x="2294" y="7925"/>
                  </a:lnTo>
                  <a:lnTo>
                    <a:pt x="2297" y="7938"/>
                  </a:lnTo>
                  <a:lnTo>
                    <a:pt x="2299" y="7950"/>
                  </a:lnTo>
                  <a:lnTo>
                    <a:pt x="2302" y="7962"/>
                  </a:lnTo>
                  <a:lnTo>
                    <a:pt x="2305" y="7974"/>
                  </a:lnTo>
                  <a:lnTo>
                    <a:pt x="2307" y="7984"/>
                  </a:lnTo>
                  <a:lnTo>
                    <a:pt x="2309" y="7993"/>
                  </a:lnTo>
                  <a:lnTo>
                    <a:pt x="2323" y="8029"/>
                  </a:lnTo>
                  <a:lnTo>
                    <a:pt x="2340" y="8064"/>
                  </a:lnTo>
                  <a:lnTo>
                    <a:pt x="2359" y="8098"/>
                  </a:lnTo>
                  <a:lnTo>
                    <a:pt x="2383" y="8132"/>
                  </a:lnTo>
                  <a:lnTo>
                    <a:pt x="2406" y="8167"/>
                  </a:lnTo>
                  <a:lnTo>
                    <a:pt x="2432" y="8201"/>
                  </a:lnTo>
                  <a:lnTo>
                    <a:pt x="2459" y="8235"/>
                  </a:lnTo>
                  <a:lnTo>
                    <a:pt x="2484" y="8269"/>
                  </a:lnTo>
                  <a:lnTo>
                    <a:pt x="2509" y="8306"/>
                  </a:lnTo>
                  <a:lnTo>
                    <a:pt x="2534" y="8341"/>
                  </a:lnTo>
                  <a:lnTo>
                    <a:pt x="2555" y="8378"/>
                  </a:lnTo>
                  <a:lnTo>
                    <a:pt x="2574" y="8416"/>
                  </a:lnTo>
                  <a:lnTo>
                    <a:pt x="2591" y="8455"/>
                  </a:lnTo>
                  <a:lnTo>
                    <a:pt x="2603" y="8496"/>
                  </a:lnTo>
                  <a:lnTo>
                    <a:pt x="2611" y="8538"/>
                  </a:lnTo>
                  <a:lnTo>
                    <a:pt x="2614" y="8582"/>
                  </a:lnTo>
                  <a:lnTo>
                    <a:pt x="2619" y="8589"/>
                  </a:lnTo>
                  <a:lnTo>
                    <a:pt x="2627" y="8599"/>
                  </a:lnTo>
                  <a:lnTo>
                    <a:pt x="2635" y="8610"/>
                  </a:lnTo>
                  <a:lnTo>
                    <a:pt x="2644" y="8623"/>
                  </a:lnTo>
                  <a:lnTo>
                    <a:pt x="2651" y="8637"/>
                  </a:lnTo>
                  <a:lnTo>
                    <a:pt x="2658" y="8651"/>
                  </a:lnTo>
                  <a:lnTo>
                    <a:pt x="2662" y="8664"/>
                  </a:lnTo>
                  <a:lnTo>
                    <a:pt x="2663" y="8677"/>
                  </a:lnTo>
                  <a:lnTo>
                    <a:pt x="2640" y="8691"/>
                  </a:lnTo>
                  <a:lnTo>
                    <a:pt x="2617" y="8708"/>
                  </a:lnTo>
                  <a:lnTo>
                    <a:pt x="2595" y="8727"/>
                  </a:lnTo>
                  <a:lnTo>
                    <a:pt x="2573" y="8747"/>
                  </a:lnTo>
                  <a:lnTo>
                    <a:pt x="2553" y="8768"/>
                  </a:lnTo>
                  <a:lnTo>
                    <a:pt x="2535" y="8787"/>
                  </a:lnTo>
                  <a:lnTo>
                    <a:pt x="2520" y="8805"/>
                  </a:lnTo>
                  <a:lnTo>
                    <a:pt x="2506" y="8820"/>
                  </a:lnTo>
                  <a:lnTo>
                    <a:pt x="2495" y="8832"/>
                  </a:lnTo>
                  <a:lnTo>
                    <a:pt x="2485" y="8840"/>
                  </a:lnTo>
                  <a:lnTo>
                    <a:pt x="2476" y="8847"/>
                  </a:lnTo>
                  <a:lnTo>
                    <a:pt x="2466" y="8850"/>
                  </a:lnTo>
                  <a:lnTo>
                    <a:pt x="2455" y="8852"/>
                  </a:lnTo>
                  <a:lnTo>
                    <a:pt x="2443" y="8853"/>
                  </a:lnTo>
                  <a:lnTo>
                    <a:pt x="2427" y="8852"/>
                  </a:lnTo>
                  <a:lnTo>
                    <a:pt x="2406" y="8852"/>
                  </a:lnTo>
                  <a:lnTo>
                    <a:pt x="2407" y="8864"/>
                  </a:lnTo>
                  <a:lnTo>
                    <a:pt x="2408" y="8876"/>
                  </a:lnTo>
                  <a:lnTo>
                    <a:pt x="2411" y="8887"/>
                  </a:lnTo>
                  <a:lnTo>
                    <a:pt x="2414" y="8899"/>
                  </a:lnTo>
                  <a:lnTo>
                    <a:pt x="2418" y="8912"/>
                  </a:lnTo>
                  <a:lnTo>
                    <a:pt x="2422" y="8924"/>
                  </a:lnTo>
                  <a:lnTo>
                    <a:pt x="2427" y="8936"/>
                  </a:lnTo>
                  <a:lnTo>
                    <a:pt x="2431" y="8947"/>
                  </a:lnTo>
                  <a:lnTo>
                    <a:pt x="2435" y="8959"/>
                  </a:lnTo>
                  <a:lnTo>
                    <a:pt x="2439" y="8971"/>
                  </a:lnTo>
                  <a:lnTo>
                    <a:pt x="2444" y="8983"/>
                  </a:lnTo>
                  <a:lnTo>
                    <a:pt x="2448" y="8995"/>
                  </a:lnTo>
                  <a:lnTo>
                    <a:pt x="2451" y="9007"/>
                  </a:lnTo>
                  <a:lnTo>
                    <a:pt x="2453" y="9019"/>
                  </a:lnTo>
                  <a:lnTo>
                    <a:pt x="2454" y="9031"/>
                  </a:lnTo>
                  <a:lnTo>
                    <a:pt x="2455" y="9043"/>
                  </a:lnTo>
                  <a:lnTo>
                    <a:pt x="2455" y="9049"/>
                  </a:lnTo>
                  <a:lnTo>
                    <a:pt x="2454" y="9054"/>
                  </a:lnTo>
                  <a:lnTo>
                    <a:pt x="2453" y="9060"/>
                  </a:lnTo>
                  <a:lnTo>
                    <a:pt x="2451" y="9064"/>
                  </a:lnTo>
                  <a:lnTo>
                    <a:pt x="2448" y="9068"/>
                  </a:lnTo>
                  <a:lnTo>
                    <a:pt x="2444" y="9071"/>
                  </a:lnTo>
                  <a:lnTo>
                    <a:pt x="2438" y="9074"/>
                  </a:lnTo>
                  <a:lnTo>
                    <a:pt x="2431" y="9075"/>
                  </a:lnTo>
                  <a:lnTo>
                    <a:pt x="2433" y="9081"/>
                  </a:lnTo>
                  <a:lnTo>
                    <a:pt x="2435" y="9089"/>
                  </a:lnTo>
                  <a:lnTo>
                    <a:pt x="2436" y="9096"/>
                  </a:lnTo>
                  <a:lnTo>
                    <a:pt x="2437" y="9105"/>
                  </a:lnTo>
                  <a:lnTo>
                    <a:pt x="2437" y="9113"/>
                  </a:lnTo>
                  <a:lnTo>
                    <a:pt x="2436" y="9122"/>
                  </a:lnTo>
                  <a:lnTo>
                    <a:pt x="2434" y="9129"/>
                  </a:lnTo>
                  <a:lnTo>
                    <a:pt x="2431" y="9138"/>
                  </a:lnTo>
                  <a:lnTo>
                    <a:pt x="2406" y="9170"/>
                  </a:lnTo>
                  <a:lnTo>
                    <a:pt x="2358" y="9170"/>
                  </a:lnTo>
                  <a:lnTo>
                    <a:pt x="2330" y="9175"/>
                  </a:lnTo>
                  <a:lnTo>
                    <a:pt x="2302" y="9179"/>
                  </a:lnTo>
                  <a:lnTo>
                    <a:pt x="2274" y="9182"/>
                  </a:lnTo>
                  <a:lnTo>
                    <a:pt x="2245" y="9184"/>
                  </a:lnTo>
                  <a:lnTo>
                    <a:pt x="2216" y="9184"/>
                  </a:lnTo>
                  <a:lnTo>
                    <a:pt x="2186" y="9184"/>
                  </a:lnTo>
                  <a:lnTo>
                    <a:pt x="2157" y="9183"/>
                  </a:lnTo>
                  <a:lnTo>
                    <a:pt x="2128" y="9182"/>
                  </a:lnTo>
                  <a:lnTo>
                    <a:pt x="2098" y="9181"/>
                  </a:lnTo>
                  <a:lnTo>
                    <a:pt x="2069" y="9178"/>
                  </a:lnTo>
                  <a:lnTo>
                    <a:pt x="2041" y="9176"/>
                  </a:lnTo>
                  <a:lnTo>
                    <a:pt x="2012" y="9174"/>
                  </a:lnTo>
                  <a:lnTo>
                    <a:pt x="1986" y="9173"/>
                  </a:lnTo>
                  <a:lnTo>
                    <a:pt x="1958" y="9171"/>
                  </a:lnTo>
                  <a:lnTo>
                    <a:pt x="1932" y="9170"/>
                  </a:lnTo>
                  <a:lnTo>
                    <a:pt x="1906" y="9170"/>
                  </a:lnTo>
                  <a:lnTo>
                    <a:pt x="1898" y="9161"/>
                  </a:lnTo>
                  <a:lnTo>
                    <a:pt x="1892" y="9152"/>
                  </a:lnTo>
                  <a:lnTo>
                    <a:pt x="1889" y="9140"/>
                  </a:lnTo>
                  <a:lnTo>
                    <a:pt x="1888" y="9127"/>
                  </a:lnTo>
                  <a:lnTo>
                    <a:pt x="1888" y="9114"/>
                  </a:lnTo>
                  <a:lnTo>
                    <a:pt x="1890" y="9101"/>
                  </a:lnTo>
                  <a:lnTo>
                    <a:pt x="1891" y="9087"/>
                  </a:lnTo>
                  <a:lnTo>
                    <a:pt x="1894" y="9075"/>
                  </a:lnTo>
                  <a:lnTo>
                    <a:pt x="1856" y="9030"/>
                  </a:lnTo>
                  <a:lnTo>
                    <a:pt x="1857" y="9018"/>
                  </a:lnTo>
                  <a:lnTo>
                    <a:pt x="1858" y="9008"/>
                  </a:lnTo>
                  <a:lnTo>
                    <a:pt x="1860" y="8998"/>
                  </a:lnTo>
                  <a:lnTo>
                    <a:pt x="1862" y="8988"/>
                  </a:lnTo>
                  <a:lnTo>
                    <a:pt x="1865" y="8979"/>
                  </a:lnTo>
                  <a:lnTo>
                    <a:pt x="1867" y="8969"/>
                  </a:lnTo>
                  <a:lnTo>
                    <a:pt x="1868" y="8959"/>
                  </a:lnTo>
                  <a:lnTo>
                    <a:pt x="1869" y="8947"/>
                  </a:lnTo>
                  <a:lnTo>
                    <a:pt x="1855" y="8941"/>
                  </a:lnTo>
                  <a:lnTo>
                    <a:pt x="1840" y="8935"/>
                  </a:lnTo>
                  <a:lnTo>
                    <a:pt x="1825" y="8927"/>
                  </a:lnTo>
                  <a:lnTo>
                    <a:pt x="1809" y="8917"/>
                  </a:lnTo>
                  <a:lnTo>
                    <a:pt x="1795" y="8906"/>
                  </a:lnTo>
                  <a:lnTo>
                    <a:pt x="1781" y="8892"/>
                  </a:lnTo>
                  <a:lnTo>
                    <a:pt x="1769" y="8874"/>
                  </a:lnTo>
                  <a:lnTo>
                    <a:pt x="1759" y="8852"/>
                  </a:lnTo>
                  <a:lnTo>
                    <a:pt x="1742" y="8847"/>
                  </a:lnTo>
                  <a:lnTo>
                    <a:pt x="1724" y="8834"/>
                  </a:lnTo>
                  <a:lnTo>
                    <a:pt x="1709" y="8816"/>
                  </a:lnTo>
                  <a:lnTo>
                    <a:pt x="1696" y="8792"/>
                  </a:lnTo>
                  <a:lnTo>
                    <a:pt x="1683" y="8769"/>
                  </a:lnTo>
                  <a:lnTo>
                    <a:pt x="1670" y="8745"/>
                  </a:lnTo>
                  <a:lnTo>
                    <a:pt x="1659" y="8724"/>
                  </a:lnTo>
                  <a:lnTo>
                    <a:pt x="1649" y="8709"/>
                  </a:lnTo>
                  <a:lnTo>
                    <a:pt x="1649" y="8646"/>
                  </a:lnTo>
                  <a:lnTo>
                    <a:pt x="1625" y="8614"/>
                  </a:lnTo>
                  <a:lnTo>
                    <a:pt x="1625" y="8518"/>
                  </a:lnTo>
                  <a:lnTo>
                    <a:pt x="1618" y="8511"/>
                  </a:lnTo>
                  <a:lnTo>
                    <a:pt x="1610" y="8501"/>
                  </a:lnTo>
                  <a:lnTo>
                    <a:pt x="1600" y="8491"/>
                  </a:lnTo>
                  <a:lnTo>
                    <a:pt x="1590" y="8478"/>
                  </a:lnTo>
                  <a:lnTo>
                    <a:pt x="1580" y="8466"/>
                  </a:lnTo>
                  <a:lnTo>
                    <a:pt x="1571" y="8455"/>
                  </a:lnTo>
                  <a:lnTo>
                    <a:pt x="1566" y="8446"/>
                  </a:lnTo>
                  <a:lnTo>
                    <a:pt x="1564" y="8438"/>
                  </a:lnTo>
                  <a:lnTo>
                    <a:pt x="1555" y="8410"/>
                  </a:lnTo>
                  <a:lnTo>
                    <a:pt x="1547" y="8382"/>
                  </a:lnTo>
                  <a:lnTo>
                    <a:pt x="1539" y="8351"/>
                  </a:lnTo>
                  <a:lnTo>
                    <a:pt x="1533" y="8318"/>
                  </a:lnTo>
                  <a:lnTo>
                    <a:pt x="1526" y="8285"/>
                  </a:lnTo>
                  <a:lnTo>
                    <a:pt x="1521" y="8252"/>
                  </a:lnTo>
                  <a:lnTo>
                    <a:pt x="1516" y="8218"/>
                  </a:lnTo>
                  <a:lnTo>
                    <a:pt x="1510" y="8183"/>
                  </a:lnTo>
                  <a:lnTo>
                    <a:pt x="1505" y="8147"/>
                  </a:lnTo>
                  <a:lnTo>
                    <a:pt x="1501" y="8112"/>
                  </a:lnTo>
                  <a:lnTo>
                    <a:pt x="1495" y="8078"/>
                  </a:lnTo>
                  <a:lnTo>
                    <a:pt x="1490" y="8044"/>
                  </a:lnTo>
                  <a:lnTo>
                    <a:pt x="1485" y="8009"/>
                  </a:lnTo>
                  <a:lnTo>
                    <a:pt x="1479" y="7976"/>
                  </a:lnTo>
                  <a:lnTo>
                    <a:pt x="1473" y="7945"/>
                  </a:lnTo>
                  <a:lnTo>
                    <a:pt x="1466" y="7914"/>
                  </a:lnTo>
                  <a:lnTo>
                    <a:pt x="1460" y="7886"/>
                  </a:lnTo>
                  <a:lnTo>
                    <a:pt x="1454" y="7857"/>
                  </a:lnTo>
                  <a:lnTo>
                    <a:pt x="1448" y="7827"/>
                  </a:lnTo>
                  <a:lnTo>
                    <a:pt x="1443" y="7796"/>
                  </a:lnTo>
                  <a:lnTo>
                    <a:pt x="1439" y="7764"/>
                  </a:lnTo>
                  <a:lnTo>
                    <a:pt x="1435" y="7732"/>
                  </a:lnTo>
                  <a:lnTo>
                    <a:pt x="1431" y="7699"/>
                  </a:lnTo>
                  <a:lnTo>
                    <a:pt x="1428" y="7666"/>
                  </a:lnTo>
                  <a:lnTo>
                    <a:pt x="1426" y="7632"/>
                  </a:lnTo>
                  <a:lnTo>
                    <a:pt x="1424" y="7599"/>
                  </a:lnTo>
                  <a:lnTo>
                    <a:pt x="1421" y="7564"/>
                  </a:lnTo>
                  <a:lnTo>
                    <a:pt x="1419" y="7531"/>
                  </a:lnTo>
                  <a:lnTo>
                    <a:pt x="1418" y="7499"/>
                  </a:lnTo>
                  <a:lnTo>
                    <a:pt x="1418" y="7467"/>
                  </a:lnTo>
                  <a:lnTo>
                    <a:pt x="1417" y="7435"/>
                  </a:lnTo>
                  <a:lnTo>
                    <a:pt x="1417" y="7405"/>
                  </a:lnTo>
                  <a:lnTo>
                    <a:pt x="1381" y="7358"/>
                  </a:lnTo>
                  <a:lnTo>
                    <a:pt x="1381" y="7294"/>
                  </a:lnTo>
                  <a:lnTo>
                    <a:pt x="1405" y="7263"/>
                  </a:lnTo>
                  <a:lnTo>
                    <a:pt x="1397" y="7238"/>
                  </a:lnTo>
                  <a:lnTo>
                    <a:pt x="1392" y="7213"/>
                  </a:lnTo>
                  <a:lnTo>
                    <a:pt x="1387" y="7188"/>
                  </a:lnTo>
                  <a:lnTo>
                    <a:pt x="1384" y="7162"/>
                  </a:lnTo>
                  <a:lnTo>
                    <a:pt x="1383" y="7135"/>
                  </a:lnTo>
                  <a:lnTo>
                    <a:pt x="1383" y="7110"/>
                  </a:lnTo>
                  <a:lnTo>
                    <a:pt x="1384" y="7083"/>
                  </a:lnTo>
                  <a:lnTo>
                    <a:pt x="1385" y="7055"/>
                  </a:lnTo>
                  <a:lnTo>
                    <a:pt x="1387" y="7028"/>
                  </a:lnTo>
                  <a:lnTo>
                    <a:pt x="1389" y="7002"/>
                  </a:lnTo>
                  <a:lnTo>
                    <a:pt x="1392" y="6976"/>
                  </a:lnTo>
                  <a:lnTo>
                    <a:pt x="1393" y="6949"/>
                  </a:lnTo>
                  <a:lnTo>
                    <a:pt x="1395" y="6924"/>
                  </a:lnTo>
                  <a:lnTo>
                    <a:pt x="1395" y="6898"/>
                  </a:lnTo>
                  <a:lnTo>
                    <a:pt x="1395" y="6873"/>
                  </a:lnTo>
                  <a:lnTo>
                    <a:pt x="1393" y="6849"/>
                  </a:lnTo>
                  <a:lnTo>
                    <a:pt x="1390" y="6826"/>
                  </a:lnTo>
                  <a:lnTo>
                    <a:pt x="1387" y="6803"/>
                  </a:lnTo>
                  <a:lnTo>
                    <a:pt x="1385" y="6776"/>
                  </a:lnTo>
                  <a:lnTo>
                    <a:pt x="1382" y="6748"/>
                  </a:lnTo>
                  <a:lnTo>
                    <a:pt x="1378" y="6718"/>
                  </a:lnTo>
                  <a:lnTo>
                    <a:pt x="1374" y="6688"/>
                  </a:lnTo>
                  <a:lnTo>
                    <a:pt x="1370" y="6657"/>
                  </a:lnTo>
                  <a:lnTo>
                    <a:pt x="1366" y="6626"/>
                  </a:lnTo>
                  <a:lnTo>
                    <a:pt x="1360" y="6595"/>
                  </a:lnTo>
                  <a:lnTo>
                    <a:pt x="1356" y="6564"/>
                  </a:lnTo>
                  <a:lnTo>
                    <a:pt x="1351" y="6534"/>
                  </a:lnTo>
                  <a:lnTo>
                    <a:pt x="1344" y="6504"/>
                  </a:lnTo>
                  <a:lnTo>
                    <a:pt x="1339" y="6477"/>
                  </a:lnTo>
                  <a:lnTo>
                    <a:pt x="1333" y="6450"/>
                  </a:lnTo>
                  <a:lnTo>
                    <a:pt x="1326" y="6426"/>
                  </a:lnTo>
                  <a:lnTo>
                    <a:pt x="1320" y="6404"/>
                  </a:lnTo>
                  <a:lnTo>
                    <a:pt x="1320" y="6397"/>
                  </a:lnTo>
                  <a:lnTo>
                    <a:pt x="1322" y="6392"/>
                  </a:lnTo>
                  <a:lnTo>
                    <a:pt x="1323" y="6386"/>
                  </a:lnTo>
                  <a:lnTo>
                    <a:pt x="1326" y="6380"/>
                  </a:lnTo>
                  <a:lnTo>
                    <a:pt x="1328" y="6375"/>
                  </a:lnTo>
                  <a:lnTo>
                    <a:pt x="1329" y="6368"/>
                  </a:lnTo>
                  <a:lnTo>
                    <a:pt x="1332" y="6363"/>
                  </a:lnTo>
                  <a:lnTo>
                    <a:pt x="1332" y="6357"/>
                  </a:lnTo>
                  <a:lnTo>
                    <a:pt x="1258" y="5912"/>
                  </a:lnTo>
                  <a:lnTo>
                    <a:pt x="1253" y="5874"/>
                  </a:lnTo>
                  <a:lnTo>
                    <a:pt x="1251" y="5836"/>
                  </a:lnTo>
                  <a:lnTo>
                    <a:pt x="1250" y="5795"/>
                  </a:lnTo>
                  <a:lnTo>
                    <a:pt x="1249" y="5753"/>
                  </a:lnTo>
                  <a:lnTo>
                    <a:pt x="1248" y="5711"/>
                  </a:lnTo>
                  <a:lnTo>
                    <a:pt x="1248" y="5668"/>
                  </a:lnTo>
                  <a:lnTo>
                    <a:pt x="1248" y="5624"/>
                  </a:lnTo>
                  <a:lnTo>
                    <a:pt x="1248" y="5579"/>
                  </a:lnTo>
                  <a:lnTo>
                    <a:pt x="1247" y="5535"/>
                  </a:lnTo>
                  <a:lnTo>
                    <a:pt x="1245" y="5492"/>
                  </a:lnTo>
                  <a:lnTo>
                    <a:pt x="1243" y="5450"/>
                  </a:lnTo>
                  <a:lnTo>
                    <a:pt x="1240" y="5408"/>
                  </a:lnTo>
                  <a:lnTo>
                    <a:pt x="1234" y="5368"/>
                  </a:lnTo>
                  <a:lnTo>
                    <a:pt x="1228" y="5330"/>
                  </a:lnTo>
                  <a:lnTo>
                    <a:pt x="1220" y="5294"/>
                  </a:lnTo>
                  <a:lnTo>
                    <a:pt x="1210" y="5259"/>
                  </a:lnTo>
                  <a:lnTo>
                    <a:pt x="1210" y="5254"/>
                  </a:lnTo>
                  <a:lnTo>
                    <a:pt x="1212" y="5248"/>
                  </a:lnTo>
                  <a:lnTo>
                    <a:pt x="1213" y="5242"/>
                  </a:lnTo>
                  <a:lnTo>
                    <a:pt x="1216" y="5236"/>
                  </a:lnTo>
                  <a:lnTo>
                    <a:pt x="1218" y="5230"/>
                  </a:lnTo>
                  <a:lnTo>
                    <a:pt x="1219" y="5224"/>
                  </a:lnTo>
                  <a:lnTo>
                    <a:pt x="1221" y="5219"/>
                  </a:lnTo>
                  <a:lnTo>
                    <a:pt x="1221" y="5212"/>
                  </a:lnTo>
                  <a:lnTo>
                    <a:pt x="1218" y="5179"/>
                  </a:lnTo>
                  <a:lnTo>
                    <a:pt x="1215" y="5144"/>
                  </a:lnTo>
                  <a:lnTo>
                    <a:pt x="1214" y="5107"/>
                  </a:lnTo>
                  <a:lnTo>
                    <a:pt x="1213" y="5071"/>
                  </a:lnTo>
                  <a:lnTo>
                    <a:pt x="1213" y="5034"/>
                  </a:lnTo>
                  <a:lnTo>
                    <a:pt x="1214" y="4995"/>
                  </a:lnTo>
                  <a:lnTo>
                    <a:pt x="1215" y="4957"/>
                  </a:lnTo>
                  <a:lnTo>
                    <a:pt x="1216" y="4918"/>
                  </a:lnTo>
                  <a:lnTo>
                    <a:pt x="1217" y="4880"/>
                  </a:lnTo>
                  <a:lnTo>
                    <a:pt x="1218" y="4841"/>
                  </a:lnTo>
                  <a:lnTo>
                    <a:pt x="1218" y="4804"/>
                  </a:lnTo>
                  <a:lnTo>
                    <a:pt x="1218" y="4765"/>
                  </a:lnTo>
                  <a:lnTo>
                    <a:pt x="1218" y="4729"/>
                  </a:lnTo>
                  <a:lnTo>
                    <a:pt x="1216" y="4693"/>
                  </a:lnTo>
                  <a:lnTo>
                    <a:pt x="1214" y="4658"/>
                  </a:lnTo>
                  <a:lnTo>
                    <a:pt x="1210" y="4625"/>
                  </a:lnTo>
                  <a:lnTo>
                    <a:pt x="1207" y="4612"/>
                  </a:lnTo>
                  <a:lnTo>
                    <a:pt x="1204" y="4597"/>
                  </a:lnTo>
                  <a:lnTo>
                    <a:pt x="1201" y="4581"/>
                  </a:lnTo>
                  <a:lnTo>
                    <a:pt x="1197" y="4563"/>
                  </a:lnTo>
                  <a:lnTo>
                    <a:pt x="1193" y="4544"/>
                  </a:lnTo>
                  <a:lnTo>
                    <a:pt x="1189" y="4523"/>
                  </a:lnTo>
                  <a:lnTo>
                    <a:pt x="1186" y="4503"/>
                  </a:lnTo>
                  <a:lnTo>
                    <a:pt x="1182" y="4482"/>
                  </a:lnTo>
                  <a:lnTo>
                    <a:pt x="1179" y="4461"/>
                  </a:lnTo>
                  <a:lnTo>
                    <a:pt x="1176" y="4441"/>
                  </a:lnTo>
                  <a:lnTo>
                    <a:pt x="1173" y="4421"/>
                  </a:lnTo>
                  <a:lnTo>
                    <a:pt x="1172" y="4401"/>
                  </a:lnTo>
                  <a:lnTo>
                    <a:pt x="1171" y="4383"/>
                  </a:lnTo>
                  <a:lnTo>
                    <a:pt x="1171" y="4367"/>
                  </a:lnTo>
                  <a:lnTo>
                    <a:pt x="1171" y="4352"/>
                  </a:lnTo>
                  <a:lnTo>
                    <a:pt x="1173" y="4339"/>
                  </a:lnTo>
                  <a:lnTo>
                    <a:pt x="1210" y="3958"/>
                  </a:lnTo>
                  <a:lnTo>
                    <a:pt x="1210" y="3948"/>
                  </a:lnTo>
                  <a:lnTo>
                    <a:pt x="1212" y="3936"/>
                  </a:lnTo>
                  <a:lnTo>
                    <a:pt x="1213" y="3923"/>
                  </a:lnTo>
                  <a:lnTo>
                    <a:pt x="1216" y="3909"/>
                  </a:lnTo>
                  <a:lnTo>
                    <a:pt x="1219" y="3893"/>
                  </a:lnTo>
                  <a:lnTo>
                    <a:pt x="1222" y="3878"/>
                  </a:lnTo>
                  <a:lnTo>
                    <a:pt x="1226" y="3861"/>
                  </a:lnTo>
                  <a:lnTo>
                    <a:pt x="1230" y="3845"/>
                  </a:lnTo>
                  <a:lnTo>
                    <a:pt x="1233" y="3829"/>
                  </a:lnTo>
                  <a:lnTo>
                    <a:pt x="1236" y="3812"/>
                  </a:lnTo>
                  <a:lnTo>
                    <a:pt x="1240" y="3797"/>
                  </a:lnTo>
                  <a:lnTo>
                    <a:pt x="1243" y="3781"/>
                  </a:lnTo>
                  <a:lnTo>
                    <a:pt x="1246" y="3767"/>
                  </a:lnTo>
                  <a:lnTo>
                    <a:pt x="1247" y="3754"/>
                  </a:lnTo>
                  <a:lnTo>
                    <a:pt x="1249" y="3743"/>
                  </a:lnTo>
                  <a:lnTo>
                    <a:pt x="1249" y="3733"/>
                  </a:lnTo>
                  <a:lnTo>
                    <a:pt x="1251" y="3722"/>
                  </a:lnTo>
                  <a:lnTo>
                    <a:pt x="1237" y="3727"/>
                  </a:lnTo>
                  <a:lnTo>
                    <a:pt x="1222" y="3730"/>
                  </a:lnTo>
                  <a:lnTo>
                    <a:pt x="1208" y="3733"/>
                  </a:lnTo>
                  <a:lnTo>
                    <a:pt x="1195" y="3736"/>
                  </a:lnTo>
                  <a:lnTo>
                    <a:pt x="1180" y="3737"/>
                  </a:lnTo>
                  <a:lnTo>
                    <a:pt x="1166" y="3738"/>
                  </a:lnTo>
                  <a:lnTo>
                    <a:pt x="1151" y="3737"/>
                  </a:lnTo>
                  <a:lnTo>
                    <a:pt x="1137" y="3735"/>
                  </a:lnTo>
                  <a:lnTo>
                    <a:pt x="1123" y="3732"/>
                  </a:lnTo>
                  <a:lnTo>
                    <a:pt x="1107" y="3724"/>
                  </a:lnTo>
                  <a:lnTo>
                    <a:pt x="1089" y="3715"/>
                  </a:lnTo>
                  <a:lnTo>
                    <a:pt x="1070" y="3704"/>
                  </a:lnTo>
                  <a:lnTo>
                    <a:pt x="1051" y="3692"/>
                  </a:lnTo>
                  <a:lnTo>
                    <a:pt x="1032" y="3683"/>
                  </a:lnTo>
                  <a:lnTo>
                    <a:pt x="1015" y="3675"/>
                  </a:lnTo>
                  <a:lnTo>
                    <a:pt x="1000" y="3671"/>
                  </a:lnTo>
                  <a:lnTo>
                    <a:pt x="999" y="3677"/>
                  </a:lnTo>
                  <a:lnTo>
                    <a:pt x="997" y="3686"/>
                  </a:lnTo>
                  <a:lnTo>
                    <a:pt x="992" y="3694"/>
                  </a:lnTo>
                  <a:lnTo>
                    <a:pt x="989" y="3703"/>
                  </a:lnTo>
                  <a:lnTo>
                    <a:pt x="985" y="3712"/>
                  </a:lnTo>
                  <a:lnTo>
                    <a:pt x="980" y="3720"/>
                  </a:lnTo>
                  <a:lnTo>
                    <a:pt x="978" y="3729"/>
                  </a:lnTo>
                  <a:lnTo>
                    <a:pt x="977" y="3735"/>
                  </a:lnTo>
                  <a:lnTo>
                    <a:pt x="989" y="3751"/>
                  </a:lnTo>
                  <a:lnTo>
                    <a:pt x="990" y="3760"/>
                  </a:lnTo>
                  <a:lnTo>
                    <a:pt x="990" y="3769"/>
                  </a:lnTo>
                  <a:lnTo>
                    <a:pt x="990" y="3779"/>
                  </a:lnTo>
                  <a:lnTo>
                    <a:pt x="990" y="3790"/>
                  </a:lnTo>
                  <a:lnTo>
                    <a:pt x="989" y="3801"/>
                  </a:lnTo>
                  <a:lnTo>
                    <a:pt x="988" y="3813"/>
                  </a:lnTo>
                  <a:lnTo>
                    <a:pt x="987" y="3825"/>
                  </a:lnTo>
                  <a:lnTo>
                    <a:pt x="985" y="3837"/>
                  </a:lnTo>
                  <a:lnTo>
                    <a:pt x="983" y="3850"/>
                  </a:lnTo>
                  <a:lnTo>
                    <a:pt x="979" y="3862"/>
                  </a:lnTo>
                  <a:lnTo>
                    <a:pt x="976" y="3875"/>
                  </a:lnTo>
                  <a:lnTo>
                    <a:pt x="972" y="3888"/>
                  </a:lnTo>
                  <a:lnTo>
                    <a:pt x="968" y="3901"/>
                  </a:lnTo>
                  <a:lnTo>
                    <a:pt x="962" y="3914"/>
                  </a:lnTo>
                  <a:lnTo>
                    <a:pt x="957" y="3927"/>
                  </a:lnTo>
                  <a:lnTo>
                    <a:pt x="951" y="3938"/>
                  </a:lnTo>
                  <a:lnTo>
                    <a:pt x="945" y="3947"/>
                  </a:lnTo>
                  <a:lnTo>
                    <a:pt x="939" y="3955"/>
                  </a:lnTo>
                  <a:lnTo>
                    <a:pt x="931" y="3964"/>
                  </a:lnTo>
                  <a:lnTo>
                    <a:pt x="923" y="3971"/>
                  </a:lnTo>
                  <a:lnTo>
                    <a:pt x="913" y="3978"/>
                  </a:lnTo>
                  <a:lnTo>
                    <a:pt x="902" y="3981"/>
                  </a:lnTo>
                  <a:lnTo>
                    <a:pt x="891" y="3982"/>
                  </a:lnTo>
                  <a:lnTo>
                    <a:pt x="878" y="3980"/>
                  </a:lnTo>
                  <a:lnTo>
                    <a:pt x="868" y="3986"/>
                  </a:lnTo>
                  <a:lnTo>
                    <a:pt x="858" y="3995"/>
                  </a:lnTo>
                  <a:lnTo>
                    <a:pt x="848" y="4002"/>
                  </a:lnTo>
                  <a:lnTo>
                    <a:pt x="837" y="4012"/>
                  </a:lnTo>
                  <a:lnTo>
                    <a:pt x="826" y="4021"/>
                  </a:lnTo>
                  <a:lnTo>
                    <a:pt x="815" y="4030"/>
                  </a:lnTo>
                  <a:lnTo>
                    <a:pt x="803" y="4040"/>
                  </a:lnTo>
                  <a:lnTo>
                    <a:pt x="791" y="4050"/>
                  </a:lnTo>
                  <a:lnTo>
                    <a:pt x="779" y="4058"/>
                  </a:lnTo>
                  <a:lnTo>
                    <a:pt x="769" y="4067"/>
                  </a:lnTo>
                  <a:lnTo>
                    <a:pt x="757" y="4074"/>
                  </a:lnTo>
                  <a:lnTo>
                    <a:pt x="745" y="4082"/>
                  </a:lnTo>
                  <a:lnTo>
                    <a:pt x="734" y="4088"/>
                  </a:lnTo>
                  <a:lnTo>
                    <a:pt x="724" y="4093"/>
                  </a:lnTo>
                  <a:lnTo>
                    <a:pt x="714" y="4098"/>
                  </a:lnTo>
                  <a:lnTo>
                    <a:pt x="704" y="4100"/>
                  </a:lnTo>
                  <a:lnTo>
                    <a:pt x="695" y="4101"/>
                  </a:lnTo>
                  <a:lnTo>
                    <a:pt x="687" y="4100"/>
                  </a:lnTo>
                  <a:lnTo>
                    <a:pt x="683" y="4098"/>
                  </a:lnTo>
                  <a:lnTo>
                    <a:pt x="679" y="4093"/>
                  </a:lnTo>
                  <a:lnTo>
                    <a:pt x="675" y="4088"/>
                  </a:lnTo>
                  <a:lnTo>
                    <a:pt x="671" y="4082"/>
                  </a:lnTo>
                  <a:lnTo>
                    <a:pt x="666" y="4075"/>
                  </a:lnTo>
                  <a:lnTo>
                    <a:pt x="659" y="4068"/>
                  </a:lnTo>
                  <a:lnTo>
                    <a:pt x="667" y="4057"/>
                  </a:lnTo>
                  <a:lnTo>
                    <a:pt x="674" y="4047"/>
                  </a:lnTo>
                  <a:lnTo>
                    <a:pt x="683" y="4037"/>
                  </a:lnTo>
                  <a:lnTo>
                    <a:pt x="691" y="4025"/>
                  </a:lnTo>
                  <a:lnTo>
                    <a:pt x="700" y="4012"/>
                  </a:lnTo>
                  <a:lnTo>
                    <a:pt x="710" y="3997"/>
                  </a:lnTo>
                  <a:lnTo>
                    <a:pt x="720" y="3981"/>
                  </a:lnTo>
                  <a:lnTo>
                    <a:pt x="732" y="3962"/>
                  </a:lnTo>
                  <a:lnTo>
                    <a:pt x="733" y="3942"/>
                  </a:lnTo>
                  <a:lnTo>
                    <a:pt x="733" y="3920"/>
                  </a:lnTo>
                  <a:lnTo>
                    <a:pt x="733" y="3899"/>
                  </a:lnTo>
                  <a:lnTo>
                    <a:pt x="732" y="3876"/>
                  </a:lnTo>
                  <a:lnTo>
                    <a:pt x="732" y="3856"/>
                  </a:lnTo>
                  <a:lnTo>
                    <a:pt x="733" y="3836"/>
                  </a:lnTo>
                  <a:lnTo>
                    <a:pt x="735" y="3817"/>
                  </a:lnTo>
                  <a:lnTo>
                    <a:pt x="739" y="3801"/>
                  </a:lnTo>
                  <a:lnTo>
                    <a:pt x="719" y="3791"/>
                  </a:lnTo>
                  <a:lnTo>
                    <a:pt x="699" y="3782"/>
                  </a:lnTo>
                  <a:lnTo>
                    <a:pt x="679" y="3775"/>
                  </a:lnTo>
                  <a:lnTo>
                    <a:pt x="657" y="3767"/>
                  </a:lnTo>
                  <a:lnTo>
                    <a:pt x="636" y="3761"/>
                  </a:lnTo>
                  <a:lnTo>
                    <a:pt x="615" y="3753"/>
                  </a:lnTo>
                  <a:lnTo>
                    <a:pt x="594" y="3745"/>
                  </a:lnTo>
                  <a:lnTo>
                    <a:pt x="575" y="3735"/>
                  </a:lnTo>
                  <a:lnTo>
                    <a:pt x="557" y="3724"/>
                  </a:lnTo>
                  <a:lnTo>
                    <a:pt x="537" y="3710"/>
                  </a:lnTo>
                  <a:lnTo>
                    <a:pt x="518" y="3693"/>
                  </a:lnTo>
                  <a:lnTo>
                    <a:pt x="500" y="3673"/>
                  </a:lnTo>
                  <a:lnTo>
                    <a:pt x="481" y="3652"/>
                  </a:lnTo>
                  <a:lnTo>
                    <a:pt x="462" y="3628"/>
                  </a:lnTo>
                  <a:lnTo>
                    <a:pt x="443" y="3604"/>
                  </a:lnTo>
                  <a:lnTo>
                    <a:pt x="425" y="3578"/>
                  </a:lnTo>
                  <a:lnTo>
                    <a:pt x="407" y="3551"/>
                  </a:lnTo>
                  <a:lnTo>
                    <a:pt x="389" y="3525"/>
                  </a:lnTo>
                  <a:lnTo>
                    <a:pt x="371" y="3499"/>
                  </a:lnTo>
                  <a:lnTo>
                    <a:pt x="354" y="3473"/>
                  </a:lnTo>
                  <a:lnTo>
                    <a:pt x="338" y="3448"/>
                  </a:lnTo>
                  <a:lnTo>
                    <a:pt x="322" y="3426"/>
                  </a:lnTo>
                  <a:lnTo>
                    <a:pt x="307" y="3405"/>
                  </a:lnTo>
                  <a:lnTo>
                    <a:pt x="293" y="3385"/>
                  </a:lnTo>
                  <a:lnTo>
                    <a:pt x="267" y="3349"/>
                  </a:lnTo>
                  <a:lnTo>
                    <a:pt x="243" y="3313"/>
                  </a:lnTo>
                  <a:lnTo>
                    <a:pt x="221" y="3275"/>
                  </a:lnTo>
                  <a:lnTo>
                    <a:pt x="200" y="3238"/>
                  </a:lnTo>
                  <a:lnTo>
                    <a:pt x="181" y="3199"/>
                  </a:lnTo>
                  <a:lnTo>
                    <a:pt x="164" y="3160"/>
                  </a:lnTo>
                  <a:lnTo>
                    <a:pt x="147" y="3121"/>
                  </a:lnTo>
                  <a:lnTo>
                    <a:pt x="132" y="3082"/>
                  </a:lnTo>
                  <a:lnTo>
                    <a:pt x="117" y="3042"/>
                  </a:lnTo>
                  <a:lnTo>
                    <a:pt x="104" y="3002"/>
                  </a:lnTo>
                  <a:lnTo>
                    <a:pt x="90" y="2963"/>
                  </a:lnTo>
                  <a:lnTo>
                    <a:pt x="77" y="2922"/>
                  </a:lnTo>
                  <a:lnTo>
                    <a:pt x="64" y="2883"/>
                  </a:lnTo>
                  <a:lnTo>
                    <a:pt x="51" y="2843"/>
                  </a:lnTo>
                  <a:lnTo>
                    <a:pt x="39" y="2804"/>
                  </a:lnTo>
                  <a:lnTo>
                    <a:pt x="25" y="2765"/>
                  </a:lnTo>
                  <a:lnTo>
                    <a:pt x="18" y="2757"/>
                  </a:lnTo>
                  <a:lnTo>
                    <a:pt x="13" y="2750"/>
                  </a:lnTo>
                  <a:lnTo>
                    <a:pt x="6" y="2741"/>
                  </a:lnTo>
                  <a:lnTo>
                    <a:pt x="0" y="2734"/>
                  </a:lnTo>
                  <a:lnTo>
                    <a:pt x="1" y="2715"/>
                  </a:lnTo>
                  <a:lnTo>
                    <a:pt x="5" y="2694"/>
                  </a:lnTo>
                  <a:lnTo>
                    <a:pt x="12" y="2673"/>
                  </a:lnTo>
                  <a:lnTo>
                    <a:pt x="19" y="2650"/>
                  </a:lnTo>
                  <a:lnTo>
                    <a:pt x="29" y="2627"/>
                  </a:lnTo>
                  <a:lnTo>
                    <a:pt x="40" y="2602"/>
                  </a:lnTo>
                  <a:lnTo>
                    <a:pt x="51" y="2578"/>
                  </a:lnTo>
                  <a:lnTo>
                    <a:pt x="64" y="2553"/>
                  </a:lnTo>
                  <a:lnTo>
                    <a:pt x="77" y="2529"/>
                  </a:lnTo>
                  <a:lnTo>
                    <a:pt x="90" y="2505"/>
                  </a:lnTo>
                  <a:lnTo>
                    <a:pt x="102" y="2481"/>
                  </a:lnTo>
                  <a:lnTo>
                    <a:pt x="113" y="2459"/>
                  </a:lnTo>
                  <a:lnTo>
                    <a:pt x="124" y="2438"/>
                  </a:lnTo>
                  <a:lnTo>
                    <a:pt x="134" y="2418"/>
                  </a:lnTo>
                  <a:lnTo>
                    <a:pt x="141" y="2400"/>
                  </a:lnTo>
                  <a:lnTo>
                    <a:pt x="147" y="2384"/>
                  </a:lnTo>
                  <a:lnTo>
                    <a:pt x="154" y="2366"/>
                  </a:lnTo>
                  <a:lnTo>
                    <a:pt x="167" y="2349"/>
                  </a:lnTo>
                  <a:lnTo>
                    <a:pt x="184" y="2332"/>
                  </a:lnTo>
                  <a:lnTo>
                    <a:pt x="203" y="2317"/>
                  </a:lnTo>
                  <a:lnTo>
                    <a:pt x="223" y="2303"/>
                  </a:lnTo>
                  <a:lnTo>
                    <a:pt x="241" y="2290"/>
                  </a:lnTo>
                  <a:lnTo>
                    <a:pt x="257" y="2280"/>
                  </a:lnTo>
                  <a:lnTo>
                    <a:pt x="269" y="2273"/>
                  </a:lnTo>
                  <a:lnTo>
                    <a:pt x="269" y="2241"/>
                  </a:lnTo>
                  <a:lnTo>
                    <a:pt x="315" y="2183"/>
                  </a:lnTo>
                  <a:lnTo>
                    <a:pt x="326" y="2170"/>
                  </a:lnTo>
                  <a:lnTo>
                    <a:pt x="340" y="2158"/>
                  </a:lnTo>
                  <a:lnTo>
                    <a:pt x="356" y="2147"/>
                  </a:lnTo>
                  <a:lnTo>
                    <a:pt x="375" y="2136"/>
                  </a:lnTo>
                  <a:lnTo>
                    <a:pt x="394" y="2124"/>
                  </a:lnTo>
                  <a:lnTo>
                    <a:pt x="414" y="2112"/>
                  </a:lnTo>
                  <a:lnTo>
                    <a:pt x="436" y="2100"/>
                  </a:lnTo>
                  <a:lnTo>
                    <a:pt x="457" y="2087"/>
                  </a:lnTo>
                  <a:lnTo>
                    <a:pt x="472" y="2074"/>
                  </a:lnTo>
                  <a:lnTo>
                    <a:pt x="486" y="2061"/>
                  </a:lnTo>
                  <a:lnTo>
                    <a:pt x="498" y="2046"/>
                  </a:lnTo>
                  <a:lnTo>
                    <a:pt x="510" y="2032"/>
                  </a:lnTo>
                  <a:lnTo>
                    <a:pt x="519" y="2018"/>
                  </a:lnTo>
                  <a:lnTo>
                    <a:pt x="529" y="2005"/>
                  </a:lnTo>
                  <a:lnTo>
                    <a:pt x="537" y="1993"/>
                  </a:lnTo>
                  <a:lnTo>
                    <a:pt x="545" y="1982"/>
                  </a:lnTo>
                  <a:lnTo>
                    <a:pt x="550" y="1974"/>
                  </a:lnTo>
                  <a:lnTo>
                    <a:pt x="557" y="1967"/>
                  </a:lnTo>
                  <a:lnTo>
                    <a:pt x="562" y="1958"/>
                  </a:lnTo>
                  <a:lnTo>
                    <a:pt x="568" y="1950"/>
                  </a:lnTo>
                  <a:lnTo>
                    <a:pt x="575" y="1941"/>
                  </a:lnTo>
                  <a:lnTo>
                    <a:pt x="580" y="1933"/>
                  </a:lnTo>
                  <a:lnTo>
                    <a:pt x="586" y="1924"/>
                  </a:lnTo>
                  <a:lnTo>
                    <a:pt x="591" y="1916"/>
                  </a:lnTo>
                  <a:lnTo>
                    <a:pt x="600" y="1900"/>
                  </a:lnTo>
                  <a:lnTo>
                    <a:pt x="611" y="1885"/>
                  </a:lnTo>
                  <a:lnTo>
                    <a:pt x="621" y="1869"/>
                  </a:lnTo>
                  <a:lnTo>
                    <a:pt x="630" y="1854"/>
                  </a:lnTo>
                  <a:lnTo>
                    <a:pt x="641" y="1839"/>
                  </a:lnTo>
                  <a:lnTo>
                    <a:pt x="651" y="1825"/>
                  </a:lnTo>
                  <a:lnTo>
                    <a:pt x="662" y="1810"/>
                  </a:lnTo>
                  <a:lnTo>
                    <a:pt x="671" y="1797"/>
                  </a:lnTo>
                  <a:lnTo>
                    <a:pt x="682" y="1784"/>
                  </a:lnTo>
                  <a:lnTo>
                    <a:pt x="693" y="1771"/>
                  </a:lnTo>
                  <a:lnTo>
                    <a:pt x="703" y="1759"/>
                  </a:lnTo>
                  <a:lnTo>
                    <a:pt x="714" y="1749"/>
                  </a:lnTo>
                  <a:lnTo>
                    <a:pt x="725" y="1739"/>
                  </a:lnTo>
                  <a:lnTo>
                    <a:pt x="735" y="1731"/>
                  </a:lnTo>
                  <a:lnTo>
                    <a:pt x="746" y="1723"/>
                  </a:lnTo>
                  <a:lnTo>
                    <a:pt x="758" y="1717"/>
                  </a:lnTo>
                  <a:lnTo>
                    <a:pt x="766" y="1712"/>
                  </a:lnTo>
                  <a:lnTo>
                    <a:pt x="775" y="1708"/>
                  </a:lnTo>
                  <a:lnTo>
                    <a:pt x="782" y="1703"/>
                  </a:lnTo>
                  <a:lnTo>
                    <a:pt x="789" y="1697"/>
                  </a:lnTo>
                  <a:lnTo>
                    <a:pt x="796" y="1692"/>
                  </a:lnTo>
                  <a:lnTo>
                    <a:pt x="803" y="1686"/>
                  </a:lnTo>
                  <a:lnTo>
                    <a:pt x="810" y="1678"/>
                  </a:lnTo>
                  <a:lnTo>
                    <a:pt x="818" y="1671"/>
                  </a:lnTo>
                  <a:lnTo>
                    <a:pt x="812" y="1661"/>
                  </a:lnTo>
                  <a:lnTo>
                    <a:pt x="816" y="1650"/>
                  </a:lnTo>
                  <a:lnTo>
                    <a:pt x="824" y="1641"/>
                  </a:lnTo>
                  <a:lnTo>
                    <a:pt x="837" y="1630"/>
                  </a:lnTo>
                  <a:lnTo>
                    <a:pt x="852" y="1619"/>
                  </a:lnTo>
                  <a:lnTo>
                    <a:pt x="868" y="1610"/>
                  </a:lnTo>
                  <a:lnTo>
                    <a:pt x="882" y="1599"/>
                  </a:lnTo>
                  <a:lnTo>
                    <a:pt x="892" y="1589"/>
                  </a:lnTo>
                  <a:lnTo>
                    <a:pt x="908" y="1570"/>
                  </a:lnTo>
                  <a:lnTo>
                    <a:pt x="924" y="1551"/>
                  </a:lnTo>
                  <a:lnTo>
                    <a:pt x="940" y="1533"/>
                  </a:lnTo>
                  <a:lnTo>
                    <a:pt x="957" y="1516"/>
                  </a:lnTo>
                  <a:lnTo>
                    <a:pt x="973" y="1500"/>
                  </a:lnTo>
                  <a:lnTo>
                    <a:pt x="991" y="1485"/>
                  </a:lnTo>
                  <a:lnTo>
                    <a:pt x="1008" y="1472"/>
                  </a:lnTo>
                  <a:lnTo>
                    <a:pt x="1027" y="1462"/>
                  </a:lnTo>
                  <a:lnTo>
                    <a:pt x="1046" y="1452"/>
                  </a:lnTo>
                  <a:lnTo>
                    <a:pt x="1065" y="1443"/>
                  </a:lnTo>
                  <a:lnTo>
                    <a:pt x="1085" y="1435"/>
                  </a:lnTo>
                  <a:lnTo>
                    <a:pt x="1107" y="1428"/>
                  </a:lnTo>
                  <a:lnTo>
                    <a:pt x="1129" y="1421"/>
                  </a:lnTo>
                  <a:lnTo>
                    <a:pt x="1152" y="1416"/>
                  </a:lnTo>
                  <a:lnTo>
                    <a:pt x="1175" y="1411"/>
                  </a:lnTo>
                  <a:lnTo>
                    <a:pt x="1200" y="1406"/>
                  </a:lnTo>
                  <a:lnTo>
                    <a:pt x="1223" y="1402"/>
                  </a:lnTo>
                  <a:lnTo>
                    <a:pt x="1249" y="1399"/>
                  </a:lnTo>
                  <a:lnTo>
                    <a:pt x="1274" y="1395"/>
                  </a:lnTo>
                  <a:lnTo>
                    <a:pt x="1299" y="1392"/>
                  </a:lnTo>
                  <a:lnTo>
                    <a:pt x="1325" y="1388"/>
                  </a:lnTo>
                  <a:lnTo>
                    <a:pt x="1351" y="1385"/>
                  </a:lnTo>
                  <a:lnTo>
                    <a:pt x="1377" y="1381"/>
                  </a:lnTo>
                  <a:lnTo>
                    <a:pt x="1402" y="1378"/>
                  </a:lnTo>
                  <a:lnTo>
                    <a:pt x="1428" y="1373"/>
                  </a:lnTo>
                  <a:lnTo>
                    <a:pt x="1454" y="1369"/>
                  </a:lnTo>
                  <a:lnTo>
                    <a:pt x="1478" y="1365"/>
                  </a:lnTo>
                  <a:lnTo>
                    <a:pt x="1503" y="1359"/>
                  </a:lnTo>
                  <a:lnTo>
                    <a:pt x="1527" y="1353"/>
                  </a:lnTo>
                  <a:lnTo>
                    <a:pt x="1552" y="1347"/>
                  </a:lnTo>
                  <a:lnTo>
                    <a:pt x="1576" y="1339"/>
                  </a:lnTo>
                  <a:lnTo>
                    <a:pt x="1598" y="1331"/>
                  </a:lnTo>
                  <a:lnTo>
                    <a:pt x="1621" y="1321"/>
                  </a:lnTo>
                  <a:lnTo>
                    <a:pt x="1642" y="1311"/>
                  </a:lnTo>
                  <a:lnTo>
                    <a:pt x="1662" y="1300"/>
                  </a:lnTo>
                  <a:lnTo>
                    <a:pt x="1683" y="1287"/>
                  </a:lnTo>
                  <a:lnTo>
                    <a:pt x="1701" y="1273"/>
                  </a:lnTo>
                  <a:lnTo>
                    <a:pt x="1719" y="1257"/>
                  </a:lnTo>
                  <a:lnTo>
                    <a:pt x="1735" y="1240"/>
                  </a:lnTo>
                  <a:lnTo>
                    <a:pt x="1751" y="1221"/>
                  </a:lnTo>
                  <a:lnTo>
                    <a:pt x="1769" y="1211"/>
                  </a:lnTo>
                  <a:lnTo>
                    <a:pt x="1782" y="1191"/>
                  </a:lnTo>
                  <a:lnTo>
                    <a:pt x="1794" y="1167"/>
                  </a:lnTo>
                  <a:lnTo>
                    <a:pt x="1806" y="1140"/>
                  </a:lnTo>
                  <a:lnTo>
                    <a:pt x="1816" y="1116"/>
                  </a:lnTo>
                  <a:lnTo>
                    <a:pt x="1831" y="1096"/>
                  </a:lnTo>
                  <a:lnTo>
                    <a:pt x="1849" y="1087"/>
                  </a:lnTo>
                  <a:lnTo>
                    <a:pt x="1872" y="1091"/>
                  </a:lnTo>
                  <a:lnTo>
                    <a:pt x="1880" y="1014"/>
                  </a:lnTo>
                  <a:lnTo>
                    <a:pt x="1880" y="997"/>
                  </a:lnTo>
                  <a:lnTo>
                    <a:pt x="1879" y="984"/>
                  </a:lnTo>
                  <a:lnTo>
                    <a:pt x="1877" y="972"/>
                  </a:lnTo>
                  <a:lnTo>
                    <a:pt x="1875" y="962"/>
                  </a:lnTo>
                  <a:lnTo>
                    <a:pt x="1871" y="951"/>
                  </a:lnTo>
                  <a:lnTo>
                    <a:pt x="1865" y="939"/>
                  </a:lnTo>
                  <a:lnTo>
                    <a:pt x="1856" y="924"/>
                  </a:lnTo>
                  <a:lnTo>
                    <a:pt x="1844" y="906"/>
                  </a:lnTo>
                  <a:lnTo>
                    <a:pt x="1783" y="890"/>
                  </a:lnTo>
                  <a:lnTo>
                    <a:pt x="1775" y="878"/>
                  </a:lnTo>
                  <a:lnTo>
                    <a:pt x="1766" y="865"/>
                  </a:lnTo>
                  <a:lnTo>
                    <a:pt x="1759" y="851"/>
                  </a:lnTo>
                  <a:lnTo>
                    <a:pt x="1752" y="837"/>
                  </a:lnTo>
                  <a:lnTo>
                    <a:pt x="1746" y="822"/>
                  </a:lnTo>
                  <a:lnTo>
                    <a:pt x="1739" y="807"/>
                  </a:lnTo>
                  <a:lnTo>
                    <a:pt x="1735" y="793"/>
                  </a:lnTo>
                  <a:lnTo>
                    <a:pt x="1731" y="776"/>
                  </a:lnTo>
                  <a:lnTo>
                    <a:pt x="1727" y="760"/>
                  </a:lnTo>
                  <a:lnTo>
                    <a:pt x="1723" y="745"/>
                  </a:lnTo>
                  <a:lnTo>
                    <a:pt x="1721" y="729"/>
                  </a:lnTo>
                  <a:lnTo>
                    <a:pt x="1720" y="713"/>
                  </a:lnTo>
                  <a:lnTo>
                    <a:pt x="1719" y="697"/>
                  </a:lnTo>
                  <a:lnTo>
                    <a:pt x="1719" y="681"/>
                  </a:lnTo>
                  <a:lnTo>
                    <a:pt x="1720" y="666"/>
                  </a:lnTo>
                  <a:lnTo>
                    <a:pt x="1722" y="651"/>
                  </a:lnTo>
                  <a:lnTo>
                    <a:pt x="1716" y="641"/>
                  </a:lnTo>
                  <a:lnTo>
                    <a:pt x="1712" y="629"/>
                  </a:lnTo>
                  <a:lnTo>
                    <a:pt x="1708" y="616"/>
                  </a:lnTo>
                  <a:lnTo>
                    <a:pt x="1706" y="602"/>
                  </a:lnTo>
                  <a:lnTo>
                    <a:pt x="1706" y="587"/>
                  </a:lnTo>
                  <a:lnTo>
                    <a:pt x="1706" y="572"/>
                  </a:lnTo>
                  <a:lnTo>
                    <a:pt x="1707" y="556"/>
                  </a:lnTo>
                  <a:lnTo>
                    <a:pt x="1709" y="539"/>
                  </a:lnTo>
                  <a:lnTo>
                    <a:pt x="1712" y="523"/>
                  </a:lnTo>
                  <a:lnTo>
                    <a:pt x="1714" y="507"/>
                  </a:lnTo>
                  <a:lnTo>
                    <a:pt x="1717" y="492"/>
                  </a:lnTo>
                  <a:lnTo>
                    <a:pt x="1720" y="477"/>
                  </a:lnTo>
                  <a:lnTo>
                    <a:pt x="1722" y="463"/>
                  </a:lnTo>
                  <a:lnTo>
                    <a:pt x="1724" y="450"/>
                  </a:lnTo>
                  <a:lnTo>
                    <a:pt x="1727" y="438"/>
                  </a:lnTo>
                  <a:lnTo>
                    <a:pt x="1728" y="428"/>
                  </a:lnTo>
                  <a:lnTo>
                    <a:pt x="1740" y="418"/>
                  </a:lnTo>
                  <a:lnTo>
                    <a:pt x="1750" y="402"/>
                  </a:lnTo>
                  <a:lnTo>
                    <a:pt x="1759" y="383"/>
                  </a:lnTo>
                  <a:lnTo>
                    <a:pt x="1767" y="363"/>
                  </a:lnTo>
                  <a:lnTo>
                    <a:pt x="1775" y="343"/>
                  </a:lnTo>
                  <a:lnTo>
                    <a:pt x="1783" y="327"/>
                  </a:lnTo>
                  <a:lnTo>
                    <a:pt x="1793" y="315"/>
                  </a:lnTo>
                  <a:lnTo>
                    <a:pt x="1806" y="311"/>
                  </a:lnTo>
                  <a:lnTo>
                    <a:pt x="1808" y="275"/>
                  </a:lnTo>
                  <a:lnTo>
                    <a:pt x="1812" y="243"/>
                  </a:lnTo>
                  <a:lnTo>
                    <a:pt x="1821" y="214"/>
                  </a:lnTo>
                  <a:lnTo>
                    <a:pt x="1831" y="189"/>
                  </a:lnTo>
                  <a:lnTo>
                    <a:pt x="1844" y="167"/>
                  </a:lnTo>
                  <a:lnTo>
                    <a:pt x="1859" y="149"/>
                  </a:lnTo>
                  <a:lnTo>
                    <a:pt x="1876" y="131"/>
                  </a:lnTo>
                  <a:lnTo>
                    <a:pt x="1896" y="118"/>
                  </a:lnTo>
                  <a:lnTo>
                    <a:pt x="1916" y="105"/>
                  </a:lnTo>
                  <a:lnTo>
                    <a:pt x="1937" y="93"/>
                  </a:lnTo>
                  <a:lnTo>
                    <a:pt x="1960" y="83"/>
                  </a:lnTo>
                  <a:lnTo>
                    <a:pt x="1982" y="73"/>
                  </a:lnTo>
                  <a:lnTo>
                    <a:pt x="2006" y="63"/>
                  </a:lnTo>
                  <a:lnTo>
                    <a:pt x="2029" y="53"/>
                  </a:lnTo>
                  <a:lnTo>
                    <a:pt x="2053" y="44"/>
                  </a:lnTo>
                  <a:lnTo>
                    <a:pt x="2077" y="32"/>
                  </a:lnTo>
                  <a:lnTo>
                    <a:pt x="2101" y="19"/>
                  </a:lnTo>
                  <a:lnTo>
                    <a:pt x="2127" y="10"/>
                  </a:lnTo>
                  <a:lnTo>
                    <a:pt x="2151" y="3"/>
                  </a:lnTo>
                  <a:lnTo>
                    <a:pt x="2176" y="1"/>
                  </a:lnTo>
                  <a:lnTo>
                    <a:pt x="2200" y="0"/>
                  </a:lnTo>
                  <a:lnTo>
                    <a:pt x="2224" y="1"/>
                  </a:lnTo>
                  <a:lnTo>
                    <a:pt x="2248" y="5"/>
                  </a:lnTo>
                  <a:lnTo>
                    <a:pt x="2272" y="10"/>
                  </a:lnTo>
                  <a:lnTo>
                    <a:pt x="2297" y="15"/>
                  </a:lnTo>
                  <a:lnTo>
                    <a:pt x="2321" y="21"/>
                  </a:lnTo>
                  <a:lnTo>
                    <a:pt x="2345" y="28"/>
                  </a:lnTo>
                  <a:lnTo>
                    <a:pt x="2369" y="33"/>
                  </a:lnTo>
                  <a:lnTo>
                    <a:pt x="2393" y="38"/>
                  </a:lnTo>
                  <a:lnTo>
                    <a:pt x="2418" y="43"/>
                  </a:lnTo>
                  <a:lnTo>
                    <a:pt x="2444" y="46"/>
                  </a:lnTo>
                  <a:lnTo>
                    <a:pt x="2468" y="47"/>
                  </a:lnTo>
                  <a:lnTo>
                    <a:pt x="2481" y="62"/>
                  </a:lnTo>
                  <a:lnTo>
                    <a:pt x="2495" y="76"/>
                  </a:lnTo>
                  <a:lnTo>
                    <a:pt x="2511" y="90"/>
                  </a:lnTo>
                  <a:lnTo>
                    <a:pt x="2529" y="103"/>
                  </a:lnTo>
                  <a:lnTo>
                    <a:pt x="2548" y="115"/>
                  </a:lnTo>
                  <a:lnTo>
                    <a:pt x="2567" y="129"/>
                  </a:lnTo>
                  <a:lnTo>
                    <a:pt x="2586" y="143"/>
                  </a:lnTo>
                  <a:lnTo>
                    <a:pt x="2605" y="156"/>
                  </a:lnTo>
                  <a:lnTo>
                    <a:pt x="2625" y="171"/>
                  </a:lnTo>
                  <a:lnTo>
                    <a:pt x="2643" y="186"/>
                  </a:lnTo>
                  <a:lnTo>
                    <a:pt x="2661" y="202"/>
                  </a:lnTo>
                  <a:lnTo>
                    <a:pt x="2677" y="219"/>
                  </a:lnTo>
                  <a:lnTo>
                    <a:pt x="2692" y="237"/>
                  </a:lnTo>
                  <a:lnTo>
                    <a:pt x="2705" y="258"/>
                  </a:lnTo>
                  <a:lnTo>
                    <a:pt x="2716" y="279"/>
                  </a:lnTo>
                  <a:lnTo>
                    <a:pt x="2724" y="302"/>
                  </a:lnTo>
                  <a:lnTo>
                    <a:pt x="2730" y="319"/>
                  </a:lnTo>
                  <a:lnTo>
                    <a:pt x="2735" y="338"/>
                  </a:lnTo>
                  <a:lnTo>
                    <a:pt x="2742" y="359"/>
                  </a:lnTo>
                  <a:lnTo>
                    <a:pt x="2749" y="384"/>
                  </a:lnTo>
                  <a:lnTo>
                    <a:pt x="2756" y="410"/>
                  </a:lnTo>
                  <a:lnTo>
                    <a:pt x="2763" y="436"/>
                  </a:lnTo>
                  <a:lnTo>
                    <a:pt x="2769" y="464"/>
                  </a:lnTo>
                  <a:lnTo>
                    <a:pt x="2774" y="493"/>
                  </a:lnTo>
                  <a:lnTo>
                    <a:pt x="2779" y="521"/>
                  </a:lnTo>
                  <a:lnTo>
                    <a:pt x="2782" y="549"/>
                  </a:lnTo>
                  <a:lnTo>
                    <a:pt x="2784" y="576"/>
                  </a:lnTo>
                  <a:lnTo>
                    <a:pt x="2784" y="602"/>
                  </a:lnTo>
                  <a:lnTo>
                    <a:pt x="2782" y="626"/>
                  </a:lnTo>
                  <a:lnTo>
                    <a:pt x="2778" y="647"/>
                  </a:lnTo>
                  <a:lnTo>
                    <a:pt x="2770" y="667"/>
                  </a:lnTo>
                  <a:lnTo>
                    <a:pt x="2761" y="683"/>
                  </a:lnTo>
                  <a:lnTo>
                    <a:pt x="2762" y="695"/>
                  </a:lnTo>
                  <a:lnTo>
                    <a:pt x="2763" y="705"/>
                  </a:lnTo>
                  <a:lnTo>
                    <a:pt x="2765" y="714"/>
                  </a:lnTo>
                  <a:lnTo>
                    <a:pt x="2767" y="723"/>
                  </a:lnTo>
                  <a:lnTo>
                    <a:pt x="2769" y="732"/>
                  </a:lnTo>
                  <a:lnTo>
                    <a:pt x="2771" y="741"/>
                  </a:lnTo>
                  <a:lnTo>
                    <a:pt x="2772" y="751"/>
                  </a:lnTo>
                  <a:lnTo>
                    <a:pt x="2773" y="763"/>
                  </a:lnTo>
                  <a:lnTo>
                    <a:pt x="2769" y="769"/>
                  </a:lnTo>
                  <a:lnTo>
                    <a:pt x="2764" y="774"/>
                  </a:lnTo>
                  <a:lnTo>
                    <a:pt x="2758" y="780"/>
                  </a:lnTo>
                  <a:lnTo>
                    <a:pt x="2753" y="785"/>
                  </a:lnTo>
                  <a:lnTo>
                    <a:pt x="2747" y="788"/>
                  </a:lnTo>
                  <a:lnTo>
                    <a:pt x="2740" y="791"/>
                  </a:lnTo>
                  <a:lnTo>
                    <a:pt x="2733" y="794"/>
                  </a:lnTo>
                  <a:lnTo>
                    <a:pt x="2724" y="795"/>
                  </a:lnTo>
                  <a:lnTo>
                    <a:pt x="2723" y="807"/>
                  </a:lnTo>
                  <a:lnTo>
                    <a:pt x="2721" y="820"/>
                  </a:lnTo>
                  <a:lnTo>
                    <a:pt x="2719" y="834"/>
                  </a:lnTo>
                  <a:lnTo>
                    <a:pt x="2715" y="849"/>
                  </a:lnTo>
                  <a:lnTo>
                    <a:pt x="2709" y="864"/>
                  </a:lnTo>
                  <a:lnTo>
                    <a:pt x="2703" y="880"/>
                  </a:lnTo>
                  <a:lnTo>
                    <a:pt x="2696" y="896"/>
                  </a:lnTo>
                  <a:lnTo>
                    <a:pt x="2689" y="911"/>
                  </a:lnTo>
                  <a:lnTo>
                    <a:pt x="2681" y="927"/>
                  </a:lnTo>
                  <a:lnTo>
                    <a:pt x="2674" y="942"/>
                  </a:lnTo>
                  <a:lnTo>
                    <a:pt x="2665" y="957"/>
                  </a:lnTo>
                  <a:lnTo>
                    <a:pt x="2658" y="971"/>
                  </a:lnTo>
                  <a:lnTo>
                    <a:pt x="2649" y="984"/>
                  </a:lnTo>
                  <a:lnTo>
                    <a:pt x="2642" y="997"/>
                  </a:lnTo>
                  <a:lnTo>
                    <a:pt x="2634" y="1008"/>
                  </a:lnTo>
                  <a:lnTo>
                    <a:pt x="2627" y="1017"/>
                  </a:lnTo>
                  <a:lnTo>
                    <a:pt x="2621" y="1021"/>
                  </a:lnTo>
                  <a:lnTo>
                    <a:pt x="2616" y="1025"/>
                  </a:lnTo>
                  <a:lnTo>
                    <a:pt x="2610" y="1027"/>
                  </a:lnTo>
                  <a:lnTo>
                    <a:pt x="2603" y="1028"/>
                  </a:lnTo>
                  <a:lnTo>
                    <a:pt x="2597" y="1028"/>
                  </a:lnTo>
                  <a:lnTo>
                    <a:pt x="2590" y="1027"/>
                  </a:lnTo>
                  <a:lnTo>
                    <a:pt x="2584" y="1022"/>
                  </a:lnTo>
                  <a:lnTo>
                    <a:pt x="2578" y="1017"/>
                  </a:lnTo>
                  <a:lnTo>
                    <a:pt x="2570" y="1036"/>
                  </a:lnTo>
                  <a:lnTo>
                    <a:pt x="2563" y="1057"/>
                  </a:lnTo>
                  <a:lnTo>
                    <a:pt x="2553" y="1078"/>
                  </a:lnTo>
                  <a:lnTo>
                    <a:pt x="2543" y="1101"/>
                  </a:lnTo>
                  <a:lnTo>
                    <a:pt x="2533" y="1122"/>
                  </a:lnTo>
                  <a:lnTo>
                    <a:pt x="2522" y="1142"/>
                  </a:lnTo>
                  <a:lnTo>
                    <a:pt x="2510" y="1160"/>
                  </a:lnTo>
                  <a:lnTo>
                    <a:pt x="2497" y="1178"/>
                  </a:lnTo>
                  <a:lnTo>
                    <a:pt x="2494" y="1182"/>
                  </a:lnTo>
                  <a:lnTo>
                    <a:pt x="2490" y="1187"/>
                  </a:lnTo>
                  <a:lnTo>
                    <a:pt x="2487" y="1194"/>
                  </a:lnTo>
                  <a:lnTo>
                    <a:pt x="2482" y="1201"/>
                  </a:lnTo>
                  <a:lnTo>
                    <a:pt x="2479" y="1209"/>
                  </a:lnTo>
                  <a:lnTo>
                    <a:pt x="2475" y="1215"/>
                  </a:lnTo>
                  <a:lnTo>
                    <a:pt x="2473" y="1223"/>
                  </a:lnTo>
                  <a:lnTo>
                    <a:pt x="2469" y="1228"/>
                  </a:lnTo>
                  <a:close/>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3" name="Freeform 15"/>
            <p:cNvSpPr/>
            <p:nvPr/>
          </p:nvSpPr>
          <p:spPr>
            <a:xfrm>
              <a:off x="2431800" y="3422520"/>
              <a:ext cx="25200" cy="42480"/>
            </a:xfrm>
            <a:custGeom>
              <a:avLst/>
              <a:gdLst>
                <a:gd name="textAreaLeft" fmla="*/ 0 w 25200"/>
                <a:gd name="textAreaRight" fmla="*/ 25560 w 25200"/>
                <a:gd name="textAreaTop" fmla="*/ 0 h 42480"/>
                <a:gd name="textAreaBottom" fmla="*/ 42840 h 42480"/>
              </a:gdLst>
              <a:ahLst/>
              <a:rect l="textAreaLeft" t="textAreaTop" r="textAreaRight" b="textAreaBottom"/>
              <a:pathLst>
                <a:path w="333" h="573">
                  <a:moveTo>
                    <a:pt x="77" y="31"/>
                  </a:moveTo>
                  <a:lnTo>
                    <a:pt x="77" y="31"/>
                  </a:lnTo>
                  <a:lnTo>
                    <a:pt x="96" y="25"/>
                  </a:lnTo>
                  <a:lnTo>
                    <a:pt x="116" y="20"/>
                  </a:lnTo>
                  <a:lnTo>
                    <a:pt x="136" y="14"/>
                  </a:lnTo>
                  <a:lnTo>
                    <a:pt x="157" y="10"/>
                  </a:lnTo>
                  <a:lnTo>
                    <a:pt x="180" y="6"/>
                  </a:lnTo>
                  <a:lnTo>
                    <a:pt x="202" y="3"/>
                  </a:lnTo>
                  <a:lnTo>
                    <a:pt x="225" y="1"/>
                  </a:lnTo>
                  <a:lnTo>
                    <a:pt x="247" y="0"/>
                  </a:lnTo>
                  <a:lnTo>
                    <a:pt x="257" y="11"/>
                  </a:lnTo>
                  <a:lnTo>
                    <a:pt x="268" y="22"/>
                  </a:lnTo>
                  <a:lnTo>
                    <a:pt x="278" y="30"/>
                  </a:lnTo>
                  <a:lnTo>
                    <a:pt x="290" y="40"/>
                  </a:lnTo>
                  <a:lnTo>
                    <a:pt x="302" y="49"/>
                  </a:lnTo>
                  <a:lnTo>
                    <a:pt x="313" y="58"/>
                  </a:lnTo>
                  <a:lnTo>
                    <a:pt x="323" y="68"/>
                  </a:lnTo>
                  <a:lnTo>
                    <a:pt x="333" y="80"/>
                  </a:lnTo>
                  <a:lnTo>
                    <a:pt x="323" y="92"/>
                  </a:lnTo>
                  <a:lnTo>
                    <a:pt x="314" y="106"/>
                  </a:lnTo>
                  <a:lnTo>
                    <a:pt x="304" y="122"/>
                  </a:lnTo>
                  <a:lnTo>
                    <a:pt x="294" y="139"/>
                  </a:lnTo>
                  <a:lnTo>
                    <a:pt x="284" y="158"/>
                  </a:lnTo>
                  <a:lnTo>
                    <a:pt x="274" y="177"/>
                  </a:lnTo>
                  <a:lnTo>
                    <a:pt x="265" y="196"/>
                  </a:lnTo>
                  <a:lnTo>
                    <a:pt x="257" y="216"/>
                  </a:lnTo>
                  <a:lnTo>
                    <a:pt x="249" y="237"/>
                  </a:lnTo>
                  <a:lnTo>
                    <a:pt x="243" y="257"/>
                  </a:lnTo>
                  <a:lnTo>
                    <a:pt x="238" y="276"/>
                  </a:lnTo>
                  <a:lnTo>
                    <a:pt x="233" y="296"/>
                  </a:lnTo>
                  <a:lnTo>
                    <a:pt x="231" y="315"/>
                  </a:lnTo>
                  <a:lnTo>
                    <a:pt x="230" y="333"/>
                  </a:lnTo>
                  <a:lnTo>
                    <a:pt x="232" y="349"/>
                  </a:lnTo>
                  <a:lnTo>
                    <a:pt x="235" y="365"/>
                  </a:lnTo>
                  <a:lnTo>
                    <a:pt x="230" y="387"/>
                  </a:lnTo>
                  <a:lnTo>
                    <a:pt x="222" y="400"/>
                  </a:lnTo>
                  <a:lnTo>
                    <a:pt x="212" y="409"/>
                  </a:lnTo>
                  <a:lnTo>
                    <a:pt x="201" y="414"/>
                  </a:lnTo>
                  <a:lnTo>
                    <a:pt x="189" y="419"/>
                  </a:lnTo>
                  <a:lnTo>
                    <a:pt x="180" y="425"/>
                  </a:lnTo>
                  <a:lnTo>
                    <a:pt x="171" y="434"/>
                  </a:lnTo>
                  <a:lnTo>
                    <a:pt x="165" y="448"/>
                  </a:lnTo>
                  <a:lnTo>
                    <a:pt x="156" y="463"/>
                  </a:lnTo>
                  <a:lnTo>
                    <a:pt x="151" y="477"/>
                  </a:lnTo>
                  <a:lnTo>
                    <a:pt x="148" y="495"/>
                  </a:lnTo>
                  <a:lnTo>
                    <a:pt x="147" y="512"/>
                  </a:lnTo>
                  <a:lnTo>
                    <a:pt x="148" y="529"/>
                  </a:lnTo>
                  <a:lnTo>
                    <a:pt x="149" y="545"/>
                  </a:lnTo>
                  <a:lnTo>
                    <a:pt x="150" y="560"/>
                  </a:lnTo>
                  <a:lnTo>
                    <a:pt x="150" y="573"/>
                  </a:lnTo>
                  <a:lnTo>
                    <a:pt x="134" y="571"/>
                  </a:lnTo>
                  <a:lnTo>
                    <a:pt x="115" y="564"/>
                  </a:lnTo>
                  <a:lnTo>
                    <a:pt x="93" y="554"/>
                  </a:lnTo>
                  <a:lnTo>
                    <a:pt x="71" y="543"/>
                  </a:lnTo>
                  <a:lnTo>
                    <a:pt x="48" y="530"/>
                  </a:lnTo>
                  <a:lnTo>
                    <a:pt x="29" y="516"/>
                  </a:lnTo>
                  <a:lnTo>
                    <a:pt x="12" y="502"/>
                  </a:lnTo>
                  <a:lnTo>
                    <a:pt x="0" y="489"/>
                  </a:lnTo>
                  <a:lnTo>
                    <a:pt x="13" y="470"/>
                  </a:lnTo>
                  <a:lnTo>
                    <a:pt x="25" y="448"/>
                  </a:lnTo>
                  <a:lnTo>
                    <a:pt x="35" y="422"/>
                  </a:lnTo>
                  <a:lnTo>
                    <a:pt x="45" y="395"/>
                  </a:lnTo>
                  <a:lnTo>
                    <a:pt x="52" y="366"/>
                  </a:lnTo>
                  <a:lnTo>
                    <a:pt x="60" y="335"/>
                  </a:lnTo>
                  <a:lnTo>
                    <a:pt x="65" y="304"/>
                  </a:lnTo>
                  <a:lnTo>
                    <a:pt x="71" y="272"/>
                  </a:lnTo>
                  <a:lnTo>
                    <a:pt x="75" y="239"/>
                  </a:lnTo>
                  <a:lnTo>
                    <a:pt x="77" y="207"/>
                  </a:lnTo>
                  <a:lnTo>
                    <a:pt x="79" y="175"/>
                  </a:lnTo>
                  <a:lnTo>
                    <a:pt x="80" y="143"/>
                  </a:lnTo>
                  <a:lnTo>
                    <a:pt x="80" y="113"/>
                  </a:lnTo>
                  <a:lnTo>
                    <a:pt x="80" y="84"/>
                  </a:lnTo>
                  <a:lnTo>
                    <a:pt x="79" y="56"/>
                  </a:lnTo>
                  <a:lnTo>
                    <a:pt x="77"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ccecff"/>
                </a:solidFill>
                <a:latin typeface="Times New Roman"/>
              </a:endParaRPr>
            </a:p>
          </p:txBody>
        </p:sp>
        <p:sp>
          <p:nvSpPr>
            <p:cNvPr id="344" name="Freeform 16"/>
            <p:cNvSpPr/>
            <p:nvPr/>
          </p:nvSpPr>
          <p:spPr>
            <a:xfrm>
              <a:off x="2266560" y="3405960"/>
              <a:ext cx="42120" cy="51840"/>
            </a:xfrm>
            <a:custGeom>
              <a:avLst/>
              <a:gdLst>
                <a:gd name="textAreaLeft" fmla="*/ 0 w 42120"/>
                <a:gd name="textAreaRight" fmla="*/ 42480 w 42120"/>
                <a:gd name="textAreaTop" fmla="*/ 0 h 51840"/>
                <a:gd name="textAreaBottom" fmla="*/ 52200 h 51840"/>
              </a:gdLst>
              <a:ahLst/>
              <a:rect l="textAreaLeft" t="textAreaTop" r="textAreaRight" b="textAreaBottom"/>
              <a:pathLst>
                <a:path w="550" h="698">
                  <a:moveTo>
                    <a:pt x="0" y="0"/>
                  </a:moveTo>
                  <a:lnTo>
                    <a:pt x="0" y="0"/>
                  </a:lnTo>
                  <a:lnTo>
                    <a:pt x="4" y="18"/>
                  </a:lnTo>
                  <a:lnTo>
                    <a:pt x="10" y="35"/>
                  </a:lnTo>
                  <a:lnTo>
                    <a:pt x="14" y="53"/>
                  </a:lnTo>
                  <a:lnTo>
                    <a:pt x="17" y="71"/>
                  </a:lnTo>
                  <a:lnTo>
                    <a:pt x="20" y="89"/>
                  </a:lnTo>
                  <a:lnTo>
                    <a:pt x="22" y="107"/>
                  </a:lnTo>
                  <a:lnTo>
                    <a:pt x="25" y="124"/>
                  </a:lnTo>
                  <a:lnTo>
                    <a:pt x="25" y="142"/>
                  </a:lnTo>
                  <a:lnTo>
                    <a:pt x="31" y="152"/>
                  </a:lnTo>
                  <a:lnTo>
                    <a:pt x="39" y="161"/>
                  </a:lnTo>
                  <a:lnTo>
                    <a:pt x="45" y="171"/>
                  </a:lnTo>
                  <a:lnTo>
                    <a:pt x="51" y="181"/>
                  </a:lnTo>
                  <a:lnTo>
                    <a:pt x="58" y="191"/>
                  </a:lnTo>
                  <a:lnTo>
                    <a:pt x="64" y="202"/>
                  </a:lnTo>
                  <a:lnTo>
                    <a:pt x="70" y="213"/>
                  </a:lnTo>
                  <a:lnTo>
                    <a:pt x="75" y="223"/>
                  </a:lnTo>
                  <a:lnTo>
                    <a:pt x="80" y="235"/>
                  </a:lnTo>
                  <a:lnTo>
                    <a:pt x="85" y="247"/>
                  </a:lnTo>
                  <a:lnTo>
                    <a:pt x="89" y="258"/>
                  </a:lnTo>
                  <a:lnTo>
                    <a:pt x="92" y="269"/>
                  </a:lnTo>
                  <a:lnTo>
                    <a:pt x="95" y="281"/>
                  </a:lnTo>
                  <a:lnTo>
                    <a:pt x="96" y="294"/>
                  </a:lnTo>
                  <a:lnTo>
                    <a:pt x="98" y="306"/>
                  </a:lnTo>
                  <a:lnTo>
                    <a:pt x="98" y="318"/>
                  </a:lnTo>
                  <a:lnTo>
                    <a:pt x="123" y="318"/>
                  </a:lnTo>
                  <a:lnTo>
                    <a:pt x="144" y="326"/>
                  </a:lnTo>
                  <a:lnTo>
                    <a:pt x="164" y="340"/>
                  </a:lnTo>
                  <a:lnTo>
                    <a:pt x="181" y="358"/>
                  </a:lnTo>
                  <a:lnTo>
                    <a:pt x="195" y="379"/>
                  </a:lnTo>
                  <a:lnTo>
                    <a:pt x="208" y="400"/>
                  </a:lnTo>
                  <a:lnTo>
                    <a:pt x="219" y="418"/>
                  </a:lnTo>
                  <a:lnTo>
                    <a:pt x="230" y="434"/>
                  </a:lnTo>
                  <a:lnTo>
                    <a:pt x="248" y="437"/>
                  </a:lnTo>
                  <a:lnTo>
                    <a:pt x="265" y="445"/>
                  </a:lnTo>
                  <a:lnTo>
                    <a:pt x="283" y="458"/>
                  </a:lnTo>
                  <a:lnTo>
                    <a:pt x="300" y="474"/>
                  </a:lnTo>
                  <a:lnTo>
                    <a:pt x="317" y="492"/>
                  </a:lnTo>
                  <a:lnTo>
                    <a:pt x="333" y="513"/>
                  </a:lnTo>
                  <a:lnTo>
                    <a:pt x="349" y="536"/>
                  </a:lnTo>
                  <a:lnTo>
                    <a:pt x="364" y="559"/>
                  </a:lnTo>
                  <a:lnTo>
                    <a:pt x="379" y="583"/>
                  </a:lnTo>
                  <a:lnTo>
                    <a:pt x="394" y="606"/>
                  </a:lnTo>
                  <a:lnTo>
                    <a:pt x="409" y="629"/>
                  </a:lnTo>
                  <a:lnTo>
                    <a:pt x="423" y="649"/>
                  </a:lnTo>
                  <a:lnTo>
                    <a:pt x="437" y="666"/>
                  </a:lnTo>
                  <a:lnTo>
                    <a:pt x="451" y="681"/>
                  </a:lnTo>
                  <a:lnTo>
                    <a:pt x="463" y="692"/>
                  </a:lnTo>
                  <a:lnTo>
                    <a:pt x="476" y="698"/>
                  </a:lnTo>
                  <a:lnTo>
                    <a:pt x="485" y="688"/>
                  </a:lnTo>
                  <a:lnTo>
                    <a:pt x="496" y="680"/>
                  </a:lnTo>
                  <a:lnTo>
                    <a:pt x="505" y="676"/>
                  </a:lnTo>
                  <a:lnTo>
                    <a:pt x="516" y="673"/>
                  </a:lnTo>
                  <a:lnTo>
                    <a:pt x="527" y="672"/>
                  </a:lnTo>
                  <a:lnTo>
                    <a:pt x="535" y="671"/>
                  </a:lnTo>
                  <a:lnTo>
                    <a:pt x="544" y="670"/>
                  </a:lnTo>
                  <a:lnTo>
                    <a:pt x="550" y="667"/>
                  </a:lnTo>
                  <a:lnTo>
                    <a:pt x="527" y="636"/>
                  </a:lnTo>
                  <a:lnTo>
                    <a:pt x="504" y="605"/>
                  </a:lnTo>
                  <a:lnTo>
                    <a:pt x="481" y="572"/>
                  </a:lnTo>
                  <a:lnTo>
                    <a:pt x="456" y="539"/>
                  </a:lnTo>
                  <a:lnTo>
                    <a:pt x="431" y="505"/>
                  </a:lnTo>
                  <a:lnTo>
                    <a:pt x="407" y="472"/>
                  </a:lnTo>
                  <a:lnTo>
                    <a:pt x="382" y="437"/>
                  </a:lnTo>
                  <a:lnTo>
                    <a:pt x="356" y="404"/>
                  </a:lnTo>
                  <a:lnTo>
                    <a:pt x="330" y="372"/>
                  </a:lnTo>
                  <a:lnTo>
                    <a:pt x="304" y="341"/>
                  </a:lnTo>
                  <a:lnTo>
                    <a:pt x="277" y="311"/>
                  </a:lnTo>
                  <a:lnTo>
                    <a:pt x="249" y="282"/>
                  </a:lnTo>
                  <a:lnTo>
                    <a:pt x="222" y="256"/>
                  </a:lnTo>
                  <a:lnTo>
                    <a:pt x="193" y="232"/>
                  </a:lnTo>
                  <a:lnTo>
                    <a:pt x="164" y="210"/>
                  </a:lnTo>
                  <a:lnTo>
                    <a:pt x="135" y="190"/>
                  </a:lnTo>
                  <a:lnTo>
                    <a:pt x="124" y="183"/>
                  </a:lnTo>
                  <a:lnTo>
                    <a:pt x="113" y="174"/>
                  </a:lnTo>
                  <a:lnTo>
                    <a:pt x="103" y="164"/>
                  </a:lnTo>
                  <a:lnTo>
                    <a:pt x="93" y="152"/>
                  </a:lnTo>
                  <a:lnTo>
                    <a:pt x="83" y="138"/>
                  </a:lnTo>
                  <a:lnTo>
                    <a:pt x="75" y="124"/>
                  </a:lnTo>
                  <a:lnTo>
                    <a:pt x="66" y="110"/>
                  </a:lnTo>
                  <a:lnTo>
                    <a:pt x="58" y="95"/>
                  </a:lnTo>
                  <a:lnTo>
                    <a:pt x="50" y="80"/>
                  </a:lnTo>
                  <a:lnTo>
                    <a:pt x="43" y="65"/>
                  </a:lnTo>
                  <a:lnTo>
                    <a:pt x="35" y="51"/>
                  </a:lnTo>
                  <a:lnTo>
                    <a:pt x="28" y="38"/>
                  </a:lnTo>
                  <a:lnTo>
                    <a:pt x="20" y="27"/>
                  </a:lnTo>
                  <a:lnTo>
                    <a:pt x="14" y="16"/>
                  </a:lnTo>
                  <a:lnTo>
                    <a:pt x="6" y="6"/>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ccecff"/>
                </a:solidFill>
                <a:latin typeface="Times New Roman"/>
              </a:endParaRPr>
            </a:p>
          </p:txBody>
        </p:sp>
        <p:sp>
          <p:nvSpPr>
            <p:cNvPr id="345" name="Freeform 17"/>
            <p:cNvSpPr/>
            <p:nvPr/>
          </p:nvSpPr>
          <p:spPr>
            <a:xfrm>
              <a:off x="2209680" y="3200400"/>
              <a:ext cx="294120" cy="685800"/>
            </a:xfrm>
            <a:custGeom>
              <a:avLst/>
              <a:gdLst>
                <a:gd name="textAreaLeft" fmla="*/ 0 w 294120"/>
                <a:gd name="textAreaRight" fmla="*/ 294480 w 294120"/>
                <a:gd name="textAreaTop" fmla="*/ 0 h 685800"/>
                <a:gd name="textAreaBottom" fmla="*/ 686160 h 685800"/>
              </a:gdLst>
              <a:ahLst/>
              <a:rect l="textAreaLeft" t="textAreaTop" r="textAreaRight" b="textAreaBottom"/>
              <a:pathLst>
                <a:path w="3837" h="9184">
                  <a:moveTo>
                    <a:pt x="2469" y="1228"/>
                  </a:moveTo>
                  <a:lnTo>
                    <a:pt x="2469" y="1228"/>
                  </a:lnTo>
                  <a:lnTo>
                    <a:pt x="2478" y="1239"/>
                  </a:lnTo>
                  <a:lnTo>
                    <a:pt x="2491" y="1252"/>
                  </a:lnTo>
                  <a:lnTo>
                    <a:pt x="2504" y="1270"/>
                  </a:lnTo>
                  <a:lnTo>
                    <a:pt x="2519" y="1290"/>
                  </a:lnTo>
                  <a:lnTo>
                    <a:pt x="2531" y="1312"/>
                  </a:lnTo>
                  <a:lnTo>
                    <a:pt x="2544" y="1337"/>
                  </a:lnTo>
                  <a:lnTo>
                    <a:pt x="2553" y="1363"/>
                  </a:lnTo>
                  <a:lnTo>
                    <a:pt x="2558" y="1390"/>
                  </a:lnTo>
                  <a:lnTo>
                    <a:pt x="2570" y="1409"/>
                  </a:lnTo>
                  <a:lnTo>
                    <a:pt x="2581" y="1425"/>
                  </a:lnTo>
                  <a:lnTo>
                    <a:pt x="2591" y="1438"/>
                  </a:lnTo>
                  <a:lnTo>
                    <a:pt x="2602" y="1449"/>
                  </a:lnTo>
                  <a:lnTo>
                    <a:pt x="2614" y="1460"/>
                  </a:lnTo>
                  <a:lnTo>
                    <a:pt x="2628" y="1470"/>
                  </a:lnTo>
                  <a:lnTo>
                    <a:pt x="2643" y="1480"/>
                  </a:lnTo>
                  <a:lnTo>
                    <a:pt x="2660" y="1491"/>
                  </a:lnTo>
                  <a:lnTo>
                    <a:pt x="2680" y="1504"/>
                  </a:lnTo>
                  <a:lnTo>
                    <a:pt x="2703" y="1519"/>
                  </a:lnTo>
                  <a:lnTo>
                    <a:pt x="2730" y="1536"/>
                  </a:lnTo>
                  <a:lnTo>
                    <a:pt x="2761" y="1556"/>
                  </a:lnTo>
                  <a:lnTo>
                    <a:pt x="2796" y="1581"/>
                  </a:lnTo>
                  <a:lnTo>
                    <a:pt x="2835" y="1611"/>
                  </a:lnTo>
                  <a:lnTo>
                    <a:pt x="2880" y="1645"/>
                  </a:lnTo>
                  <a:lnTo>
                    <a:pt x="2932" y="1685"/>
                  </a:lnTo>
                  <a:lnTo>
                    <a:pt x="2940" y="1688"/>
                  </a:lnTo>
                  <a:lnTo>
                    <a:pt x="2949" y="1697"/>
                  </a:lnTo>
                  <a:lnTo>
                    <a:pt x="2955" y="1709"/>
                  </a:lnTo>
                  <a:lnTo>
                    <a:pt x="2963" y="1724"/>
                  </a:lnTo>
                  <a:lnTo>
                    <a:pt x="2969" y="1739"/>
                  </a:lnTo>
                  <a:lnTo>
                    <a:pt x="2977" y="1751"/>
                  </a:lnTo>
                  <a:lnTo>
                    <a:pt x="2984" y="1761"/>
                  </a:lnTo>
                  <a:lnTo>
                    <a:pt x="2993" y="1764"/>
                  </a:lnTo>
                  <a:lnTo>
                    <a:pt x="3031" y="1787"/>
                  </a:lnTo>
                  <a:lnTo>
                    <a:pt x="3068" y="1814"/>
                  </a:lnTo>
                  <a:lnTo>
                    <a:pt x="3104" y="1845"/>
                  </a:lnTo>
                  <a:lnTo>
                    <a:pt x="3139" y="1879"/>
                  </a:lnTo>
                  <a:lnTo>
                    <a:pt x="3175" y="1916"/>
                  </a:lnTo>
                  <a:lnTo>
                    <a:pt x="3208" y="1955"/>
                  </a:lnTo>
                  <a:lnTo>
                    <a:pt x="3241" y="1997"/>
                  </a:lnTo>
                  <a:lnTo>
                    <a:pt x="3274" y="2040"/>
                  </a:lnTo>
                  <a:lnTo>
                    <a:pt x="3306" y="2085"/>
                  </a:lnTo>
                  <a:lnTo>
                    <a:pt x="3339" y="2131"/>
                  </a:lnTo>
                  <a:lnTo>
                    <a:pt x="3371" y="2177"/>
                  </a:lnTo>
                  <a:lnTo>
                    <a:pt x="3403" y="2223"/>
                  </a:lnTo>
                  <a:lnTo>
                    <a:pt x="3434" y="2269"/>
                  </a:lnTo>
                  <a:lnTo>
                    <a:pt x="3466" y="2314"/>
                  </a:lnTo>
                  <a:lnTo>
                    <a:pt x="3498" y="2357"/>
                  </a:lnTo>
                  <a:lnTo>
                    <a:pt x="3530" y="2400"/>
                  </a:lnTo>
                  <a:lnTo>
                    <a:pt x="3578" y="2400"/>
                  </a:lnTo>
                  <a:lnTo>
                    <a:pt x="3603" y="2431"/>
                  </a:lnTo>
                  <a:lnTo>
                    <a:pt x="3608" y="2449"/>
                  </a:lnTo>
                  <a:lnTo>
                    <a:pt x="3615" y="2470"/>
                  </a:lnTo>
                  <a:lnTo>
                    <a:pt x="3622" y="2489"/>
                  </a:lnTo>
                  <a:lnTo>
                    <a:pt x="3631" y="2510"/>
                  </a:lnTo>
                  <a:lnTo>
                    <a:pt x="3640" y="2531"/>
                  </a:lnTo>
                  <a:lnTo>
                    <a:pt x="3651" y="2552"/>
                  </a:lnTo>
                  <a:lnTo>
                    <a:pt x="3662" y="2573"/>
                  </a:lnTo>
                  <a:lnTo>
                    <a:pt x="3673" y="2595"/>
                  </a:lnTo>
                  <a:lnTo>
                    <a:pt x="3684" y="2615"/>
                  </a:lnTo>
                  <a:lnTo>
                    <a:pt x="3696" y="2635"/>
                  </a:lnTo>
                  <a:lnTo>
                    <a:pt x="3708" y="2655"/>
                  </a:lnTo>
                  <a:lnTo>
                    <a:pt x="3720" y="2673"/>
                  </a:lnTo>
                  <a:lnTo>
                    <a:pt x="3730" y="2690"/>
                  </a:lnTo>
                  <a:lnTo>
                    <a:pt x="3741" y="2706"/>
                  </a:lnTo>
                  <a:lnTo>
                    <a:pt x="3752" y="2721"/>
                  </a:lnTo>
                  <a:lnTo>
                    <a:pt x="3761" y="2734"/>
                  </a:lnTo>
                  <a:lnTo>
                    <a:pt x="3761" y="2752"/>
                  </a:lnTo>
                  <a:lnTo>
                    <a:pt x="3759" y="2771"/>
                  </a:lnTo>
                  <a:lnTo>
                    <a:pt x="3758" y="2792"/>
                  </a:lnTo>
                  <a:lnTo>
                    <a:pt x="3756" y="2811"/>
                  </a:lnTo>
                  <a:lnTo>
                    <a:pt x="3753" y="2830"/>
                  </a:lnTo>
                  <a:lnTo>
                    <a:pt x="3752" y="2847"/>
                  </a:lnTo>
                  <a:lnTo>
                    <a:pt x="3750" y="2863"/>
                  </a:lnTo>
                  <a:lnTo>
                    <a:pt x="3750" y="2876"/>
                  </a:lnTo>
                  <a:lnTo>
                    <a:pt x="3758" y="2888"/>
                  </a:lnTo>
                  <a:lnTo>
                    <a:pt x="3767" y="2901"/>
                  </a:lnTo>
                  <a:lnTo>
                    <a:pt x="3773" y="2914"/>
                  </a:lnTo>
                  <a:lnTo>
                    <a:pt x="3781" y="2926"/>
                  </a:lnTo>
                  <a:lnTo>
                    <a:pt x="3786" y="2939"/>
                  </a:lnTo>
                  <a:lnTo>
                    <a:pt x="3791" y="2953"/>
                  </a:lnTo>
                  <a:lnTo>
                    <a:pt x="3797" y="2966"/>
                  </a:lnTo>
                  <a:lnTo>
                    <a:pt x="3802" y="2980"/>
                  </a:lnTo>
                  <a:lnTo>
                    <a:pt x="3806" y="2994"/>
                  </a:lnTo>
                  <a:lnTo>
                    <a:pt x="3811" y="3007"/>
                  </a:lnTo>
                  <a:lnTo>
                    <a:pt x="3815" y="3021"/>
                  </a:lnTo>
                  <a:lnTo>
                    <a:pt x="3818" y="3033"/>
                  </a:lnTo>
                  <a:lnTo>
                    <a:pt x="3822" y="3046"/>
                  </a:lnTo>
                  <a:lnTo>
                    <a:pt x="3827" y="3059"/>
                  </a:lnTo>
                  <a:lnTo>
                    <a:pt x="3831" y="3072"/>
                  </a:lnTo>
                  <a:lnTo>
                    <a:pt x="3835" y="3084"/>
                  </a:lnTo>
                  <a:lnTo>
                    <a:pt x="3832" y="3093"/>
                  </a:lnTo>
                  <a:lnTo>
                    <a:pt x="3829" y="3103"/>
                  </a:lnTo>
                  <a:lnTo>
                    <a:pt x="3825" y="3114"/>
                  </a:lnTo>
                  <a:lnTo>
                    <a:pt x="3820" y="3124"/>
                  </a:lnTo>
                  <a:lnTo>
                    <a:pt x="3815" y="3135"/>
                  </a:lnTo>
                  <a:lnTo>
                    <a:pt x="3808" y="3147"/>
                  </a:lnTo>
                  <a:lnTo>
                    <a:pt x="3803" y="3159"/>
                  </a:lnTo>
                  <a:lnTo>
                    <a:pt x="3797" y="3170"/>
                  </a:lnTo>
                  <a:lnTo>
                    <a:pt x="3790" y="3183"/>
                  </a:lnTo>
                  <a:lnTo>
                    <a:pt x="3784" y="3195"/>
                  </a:lnTo>
                  <a:lnTo>
                    <a:pt x="3777" y="3207"/>
                  </a:lnTo>
                  <a:lnTo>
                    <a:pt x="3772" y="3217"/>
                  </a:lnTo>
                  <a:lnTo>
                    <a:pt x="3766" y="3228"/>
                  </a:lnTo>
                  <a:lnTo>
                    <a:pt x="3760" y="3239"/>
                  </a:lnTo>
                  <a:lnTo>
                    <a:pt x="3755" y="3248"/>
                  </a:lnTo>
                  <a:lnTo>
                    <a:pt x="3750" y="3258"/>
                  </a:lnTo>
                  <a:lnTo>
                    <a:pt x="3752" y="3268"/>
                  </a:lnTo>
                  <a:lnTo>
                    <a:pt x="3752" y="3279"/>
                  </a:lnTo>
                  <a:lnTo>
                    <a:pt x="3752" y="3292"/>
                  </a:lnTo>
                  <a:lnTo>
                    <a:pt x="3751" y="3306"/>
                  </a:lnTo>
                  <a:lnTo>
                    <a:pt x="3749" y="3321"/>
                  </a:lnTo>
                  <a:lnTo>
                    <a:pt x="3746" y="3337"/>
                  </a:lnTo>
                  <a:lnTo>
                    <a:pt x="3743" y="3353"/>
                  </a:lnTo>
                  <a:lnTo>
                    <a:pt x="3740" y="3369"/>
                  </a:lnTo>
                  <a:lnTo>
                    <a:pt x="3737" y="3386"/>
                  </a:lnTo>
                  <a:lnTo>
                    <a:pt x="3732" y="3402"/>
                  </a:lnTo>
                  <a:lnTo>
                    <a:pt x="3729" y="3417"/>
                  </a:lnTo>
                  <a:lnTo>
                    <a:pt x="3725" y="3432"/>
                  </a:lnTo>
                  <a:lnTo>
                    <a:pt x="3722" y="3446"/>
                  </a:lnTo>
                  <a:lnTo>
                    <a:pt x="3717" y="3459"/>
                  </a:lnTo>
                  <a:lnTo>
                    <a:pt x="3714" y="3471"/>
                  </a:lnTo>
                  <a:lnTo>
                    <a:pt x="3712" y="3480"/>
                  </a:lnTo>
                  <a:lnTo>
                    <a:pt x="3713" y="3487"/>
                  </a:lnTo>
                  <a:lnTo>
                    <a:pt x="3714" y="3492"/>
                  </a:lnTo>
                  <a:lnTo>
                    <a:pt x="3716" y="3499"/>
                  </a:lnTo>
                  <a:lnTo>
                    <a:pt x="3719" y="3504"/>
                  </a:lnTo>
                  <a:lnTo>
                    <a:pt x="3721" y="3510"/>
                  </a:lnTo>
                  <a:lnTo>
                    <a:pt x="3723" y="3517"/>
                  </a:lnTo>
                  <a:lnTo>
                    <a:pt x="3724" y="3522"/>
                  </a:lnTo>
                  <a:lnTo>
                    <a:pt x="3725" y="3529"/>
                  </a:lnTo>
                  <a:lnTo>
                    <a:pt x="3715" y="3539"/>
                  </a:lnTo>
                  <a:lnTo>
                    <a:pt x="3707" y="3547"/>
                  </a:lnTo>
                  <a:lnTo>
                    <a:pt x="3698" y="3554"/>
                  </a:lnTo>
                  <a:lnTo>
                    <a:pt x="3691" y="3560"/>
                  </a:lnTo>
                  <a:lnTo>
                    <a:pt x="3684" y="3566"/>
                  </a:lnTo>
                  <a:lnTo>
                    <a:pt x="3680" y="3572"/>
                  </a:lnTo>
                  <a:lnTo>
                    <a:pt x="3677" y="3581"/>
                  </a:lnTo>
                  <a:lnTo>
                    <a:pt x="3676" y="3592"/>
                  </a:lnTo>
                  <a:lnTo>
                    <a:pt x="3680" y="3591"/>
                  </a:lnTo>
                  <a:lnTo>
                    <a:pt x="3685" y="3590"/>
                  </a:lnTo>
                  <a:lnTo>
                    <a:pt x="3690" y="3586"/>
                  </a:lnTo>
                  <a:lnTo>
                    <a:pt x="3694" y="3583"/>
                  </a:lnTo>
                  <a:lnTo>
                    <a:pt x="3699" y="3581"/>
                  </a:lnTo>
                  <a:lnTo>
                    <a:pt x="3704" y="3578"/>
                  </a:lnTo>
                  <a:lnTo>
                    <a:pt x="3708" y="3577"/>
                  </a:lnTo>
                  <a:lnTo>
                    <a:pt x="3712" y="3576"/>
                  </a:lnTo>
                  <a:lnTo>
                    <a:pt x="3716" y="3577"/>
                  </a:lnTo>
                  <a:lnTo>
                    <a:pt x="3722" y="3578"/>
                  </a:lnTo>
                  <a:lnTo>
                    <a:pt x="3726" y="3581"/>
                  </a:lnTo>
                  <a:lnTo>
                    <a:pt x="3731" y="3583"/>
                  </a:lnTo>
                  <a:lnTo>
                    <a:pt x="3736" y="3586"/>
                  </a:lnTo>
                  <a:lnTo>
                    <a:pt x="3740" y="3590"/>
                  </a:lnTo>
                  <a:lnTo>
                    <a:pt x="3745" y="3591"/>
                  </a:lnTo>
                  <a:lnTo>
                    <a:pt x="3750" y="3592"/>
                  </a:lnTo>
                  <a:lnTo>
                    <a:pt x="3750" y="3656"/>
                  </a:lnTo>
                  <a:lnTo>
                    <a:pt x="3731" y="3678"/>
                  </a:lnTo>
                  <a:lnTo>
                    <a:pt x="3713" y="3698"/>
                  </a:lnTo>
                  <a:lnTo>
                    <a:pt x="3694" y="3716"/>
                  </a:lnTo>
                  <a:lnTo>
                    <a:pt x="3676" y="3733"/>
                  </a:lnTo>
                  <a:lnTo>
                    <a:pt x="3658" y="3749"/>
                  </a:lnTo>
                  <a:lnTo>
                    <a:pt x="3639" y="3765"/>
                  </a:lnTo>
                  <a:lnTo>
                    <a:pt x="3621" y="3781"/>
                  </a:lnTo>
                  <a:lnTo>
                    <a:pt x="3603" y="3798"/>
                  </a:lnTo>
                  <a:lnTo>
                    <a:pt x="3586" y="3790"/>
                  </a:lnTo>
                  <a:lnTo>
                    <a:pt x="3568" y="3782"/>
                  </a:lnTo>
                  <a:lnTo>
                    <a:pt x="3548" y="3777"/>
                  </a:lnTo>
                  <a:lnTo>
                    <a:pt x="3528" y="3770"/>
                  </a:lnTo>
                  <a:lnTo>
                    <a:pt x="3507" y="3766"/>
                  </a:lnTo>
                  <a:lnTo>
                    <a:pt x="3485" y="3762"/>
                  </a:lnTo>
                  <a:lnTo>
                    <a:pt x="3463" y="3760"/>
                  </a:lnTo>
                  <a:lnTo>
                    <a:pt x="3439" y="3756"/>
                  </a:lnTo>
                  <a:lnTo>
                    <a:pt x="3417" y="3754"/>
                  </a:lnTo>
                  <a:lnTo>
                    <a:pt x="3393" y="3753"/>
                  </a:lnTo>
                  <a:lnTo>
                    <a:pt x="3370" y="3752"/>
                  </a:lnTo>
                  <a:lnTo>
                    <a:pt x="3347" y="3751"/>
                  </a:lnTo>
                  <a:lnTo>
                    <a:pt x="3325" y="3751"/>
                  </a:lnTo>
                  <a:lnTo>
                    <a:pt x="3303" y="3751"/>
                  </a:lnTo>
                  <a:lnTo>
                    <a:pt x="3282" y="3751"/>
                  </a:lnTo>
                  <a:lnTo>
                    <a:pt x="3261" y="3751"/>
                  </a:lnTo>
                  <a:lnTo>
                    <a:pt x="3251" y="3762"/>
                  </a:lnTo>
                  <a:lnTo>
                    <a:pt x="3242" y="3771"/>
                  </a:lnTo>
                  <a:lnTo>
                    <a:pt x="3234" y="3782"/>
                  </a:lnTo>
                  <a:lnTo>
                    <a:pt x="3227" y="3793"/>
                  </a:lnTo>
                  <a:lnTo>
                    <a:pt x="3220" y="3805"/>
                  </a:lnTo>
                  <a:lnTo>
                    <a:pt x="3214" y="3815"/>
                  </a:lnTo>
                  <a:lnTo>
                    <a:pt x="3208" y="3827"/>
                  </a:lnTo>
                  <a:lnTo>
                    <a:pt x="3203" y="3838"/>
                  </a:lnTo>
                  <a:lnTo>
                    <a:pt x="3183" y="3852"/>
                  </a:lnTo>
                  <a:lnTo>
                    <a:pt x="3165" y="3860"/>
                  </a:lnTo>
                  <a:lnTo>
                    <a:pt x="3147" y="3863"/>
                  </a:lnTo>
                  <a:lnTo>
                    <a:pt x="3129" y="3863"/>
                  </a:lnTo>
                  <a:lnTo>
                    <a:pt x="3111" y="3861"/>
                  </a:lnTo>
                  <a:lnTo>
                    <a:pt x="3093" y="3855"/>
                  </a:lnTo>
                  <a:lnTo>
                    <a:pt x="3077" y="3847"/>
                  </a:lnTo>
                  <a:lnTo>
                    <a:pt x="3060" y="3839"/>
                  </a:lnTo>
                  <a:lnTo>
                    <a:pt x="3050" y="3839"/>
                  </a:lnTo>
                  <a:lnTo>
                    <a:pt x="3038" y="3838"/>
                  </a:lnTo>
                  <a:lnTo>
                    <a:pt x="3027" y="3837"/>
                  </a:lnTo>
                  <a:lnTo>
                    <a:pt x="3017" y="3836"/>
                  </a:lnTo>
                  <a:lnTo>
                    <a:pt x="3010" y="3832"/>
                  </a:lnTo>
                  <a:lnTo>
                    <a:pt x="3005" y="3828"/>
                  </a:lnTo>
                  <a:lnTo>
                    <a:pt x="3004" y="3823"/>
                  </a:lnTo>
                  <a:lnTo>
                    <a:pt x="3006" y="3814"/>
                  </a:lnTo>
                  <a:lnTo>
                    <a:pt x="3001" y="3815"/>
                  </a:lnTo>
                  <a:lnTo>
                    <a:pt x="2996" y="3816"/>
                  </a:lnTo>
                  <a:lnTo>
                    <a:pt x="2992" y="3820"/>
                  </a:lnTo>
                  <a:lnTo>
                    <a:pt x="2987" y="3822"/>
                  </a:lnTo>
                  <a:lnTo>
                    <a:pt x="2982" y="3825"/>
                  </a:lnTo>
                  <a:lnTo>
                    <a:pt x="2978" y="3828"/>
                  </a:lnTo>
                  <a:lnTo>
                    <a:pt x="2974" y="3829"/>
                  </a:lnTo>
                  <a:lnTo>
                    <a:pt x="2969" y="3830"/>
                  </a:lnTo>
                  <a:lnTo>
                    <a:pt x="2975" y="3845"/>
                  </a:lnTo>
                  <a:lnTo>
                    <a:pt x="2982" y="3864"/>
                  </a:lnTo>
                  <a:lnTo>
                    <a:pt x="2989" y="3886"/>
                  </a:lnTo>
                  <a:lnTo>
                    <a:pt x="2996" y="3909"/>
                  </a:lnTo>
                  <a:lnTo>
                    <a:pt x="3002" y="3934"/>
                  </a:lnTo>
                  <a:lnTo>
                    <a:pt x="3007" y="3955"/>
                  </a:lnTo>
                  <a:lnTo>
                    <a:pt x="3008" y="3975"/>
                  </a:lnTo>
                  <a:lnTo>
                    <a:pt x="3006" y="3990"/>
                  </a:lnTo>
                  <a:lnTo>
                    <a:pt x="3103" y="4117"/>
                  </a:lnTo>
                  <a:lnTo>
                    <a:pt x="3103" y="4130"/>
                  </a:lnTo>
                  <a:lnTo>
                    <a:pt x="3103" y="4143"/>
                  </a:lnTo>
                  <a:lnTo>
                    <a:pt x="3102" y="4158"/>
                  </a:lnTo>
                  <a:lnTo>
                    <a:pt x="3102" y="4173"/>
                  </a:lnTo>
                  <a:lnTo>
                    <a:pt x="3100" y="4188"/>
                  </a:lnTo>
                  <a:lnTo>
                    <a:pt x="3098" y="4201"/>
                  </a:lnTo>
                  <a:lnTo>
                    <a:pt x="3095" y="4215"/>
                  </a:lnTo>
                  <a:lnTo>
                    <a:pt x="3090" y="4228"/>
                  </a:lnTo>
                  <a:lnTo>
                    <a:pt x="3151" y="4307"/>
                  </a:lnTo>
                  <a:lnTo>
                    <a:pt x="3151" y="4370"/>
                  </a:lnTo>
                  <a:lnTo>
                    <a:pt x="3189" y="4419"/>
                  </a:lnTo>
                  <a:lnTo>
                    <a:pt x="3189" y="4482"/>
                  </a:lnTo>
                  <a:lnTo>
                    <a:pt x="3164" y="4514"/>
                  </a:lnTo>
                  <a:lnTo>
                    <a:pt x="3164" y="4546"/>
                  </a:lnTo>
                  <a:lnTo>
                    <a:pt x="3166" y="4553"/>
                  </a:lnTo>
                  <a:lnTo>
                    <a:pt x="3172" y="4563"/>
                  </a:lnTo>
                  <a:lnTo>
                    <a:pt x="3179" y="4573"/>
                  </a:lnTo>
                  <a:lnTo>
                    <a:pt x="3189" y="4583"/>
                  </a:lnTo>
                  <a:lnTo>
                    <a:pt x="3197" y="4593"/>
                  </a:lnTo>
                  <a:lnTo>
                    <a:pt x="3205" y="4601"/>
                  </a:lnTo>
                  <a:lnTo>
                    <a:pt x="3210" y="4607"/>
                  </a:lnTo>
                  <a:lnTo>
                    <a:pt x="3212" y="4609"/>
                  </a:lnTo>
                  <a:lnTo>
                    <a:pt x="3213" y="4638"/>
                  </a:lnTo>
                  <a:lnTo>
                    <a:pt x="3215" y="4667"/>
                  </a:lnTo>
                  <a:lnTo>
                    <a:pt x="3219" y="4693"/>
                  </a:lnTo>
                  <a:lnTo>
                    <a:pt x="3223" y="4720"/>
                  </a:lnTo>
                  <a:lnTo>
                    <a:pt x="3229" y="4746"/>
                  </a:lnTo>
                  <a:lnTo>
                    <a:pt x="3236" y="4770"/>
                  </a:lnTo>
                  <a:lnTo>
                    <a:pt x="3244" y="4794"/>
                  </a:lnTo>
                  <a:lnTo>
                    <a:pt x="3253" y="4818"/>
                  </a:lnTo>
                  <a:lnTo>
                    <a:pt x="3264" y="4840"/>
                  </a:lnTo>
                  <a:lnTo>
                    <a:pt x="3274" y="4862"/>
                  </a:lnTo>
                  <a:lnTo>
                    <a:pt x="3286" y="4884"/>
                  </a:lnTo>
                  <a:lnTo>
                    <a:pt x="3299" y="4905"/>
                  </a:lnTo>
                  <a:lnTo>
                    <a:pt x="3313" y="4927"/>
                  </a:lnTo>
                  <a:lnTo>
                    <a:pt x="3327" y="4948"/>
                  </a:lnTo>
                  <a:lnTo>
                    <a:pt x="3342" y="4969"/>
                  </a:lnTo>
                  <a:lnTo>
                    <a:pt x="3358" y="4990"/>
                  </a:lnTo>
                  <a:lnTo>
                    <a:pt x="3358" y="5003"/>
                  </a:lnTo>
                  <a:lnTo>
                    <a:pt x="3359" y="5016"/>
                  </a:lnTo>
                  <a:lnTo>
                    <a:pt x="3359" y="5031"/>
                  </a:lnTo>
                  <a:lnTo>
                    <a:pt x="3360" y="5048"/>
                  </a:lnTo>
                  <a:lnTo>
                    <a:pt x="3361" y="5064"/>
                  </a:lnTo>
                  <a:lnTo>
                    <a:pt x="3362" y="5081"/>
                  </a:lnTo>
                  <a:lnTo>
                    <a:pt x="3364" y="5099"/>
                  </a:lnTo>
                  <a:lnTo>
                    <a:pt x="3365" y="5117"/>
                  </a:lnTo>
                  <a:lnTo>
                    <a:pt x="3367" y="5134"/>
                  </a:lnTo>
                  <a:lnTo>
                    <a:pt x="3370" y="5152"/>
                  </a:lnTo>
                  <a:lnTo>
                    <a:pt x="3372" y="5169"/>
                  </a:lnTo>
                  <a:lnTo>
                    <a:pt x="3374" y="5187"/>
                  </a:lnTo>
                  <a:lnTo>
                    <a:pt x="3376" y="5203"/>
                  </a:lnTo>
                  <a:lnTo>
                    <a:pt x="3378" y="5218"/>
                  </a:lnTo>
                  <a:lnTo>
                    <a:pt x="3380" y="5231"/>
                  </a:lnTo>
                  <a:lnTo>
                    <a:pt x="3382" y="5244"/>
                  </a:lnTo>
                  <a:lnTo>
                    <a:pt x="3378" y="5257"/>
                  </a:lnTo>
                  <a:lnTo>
                    <a:pt x="3374" y="5270"/>
                  </a:lnTo>
                  <a:lnTo>
                    <a:pt x="3370" y="5285"/>
                  </a:lnTo>
                  <a:lnTo>
                    <a:pt x="3365" y="5301"/>
                  </a:lnTo>
                  <a:lnTo>
                    <a:pt x="3362" y="5318"/>
                  </a:lnTo>
                  <a:lnTo>
                    <a:pt x="3360" y="5335"/>
                  </a:lnTo>
                  <a:lnTo>
                    <a:pt x="3359" y="5352"/>
                  </a:lnTo>
                  <a:lnTo>
                    <a:pt x="3358" y="5371"/>
                  </a:lnTo>
                  <a:lnTo>
                    <a:pt x="3395" y="5419"/>
                  </a:lnTo>
                  <a:lnTo>
                    <a:pt x="3402" y="5441"/>
                  </a:lnTo>
                  <a:lnTo>
                    <a:pt x="3409" y="5467"/>
                  </a:lnTo>
                  <a:lnTo>
                    <a:pt x="3416" y="5496"/>
                  </a:lnTo>
                  <a:lnTo>
                    <a:pt x="3422" y="5528"/>
                  </a:lnTo>
                  <a:lnTo>
                    <a:pt x="3427" y="5561"/>
                  </a:lnTo>
                  <a:lnTo>
                    <a:pt x="3433" y="5595"/>
                  </a:lnTo>
                  <a:lnTo>
                    <a:pt x="3438" y="5630"/>
                  </a:lnTo>
                  <a:lnTo>
                    <a:pt x="3442" y="5667"/>
                  </a:lnTo>
                  <a:lnTo>
                    <a:pt x="3446" y="5704"/>
                  </a:lnTo>
                  <a:lnTo>
                    <a:pt x="3449" y="5741"/>
                  </a:lnTo>
                  <a:lnTo>
                    <a:pt x="3451" y="5776"/>
                  </a:lnTo>
                  <a:lnTo>
                    <a:pt x="3451" y="5810"/>
                  </a:lnTo>
                  <a:lnTo>
                    <a:pt x="3451" y="5843"/>
                  </a:lnTo>
                  <a:lnTo>
                    <a:pt x="3450" y="5874"/>
                  </a:lnTo>
                  <a:lnTo>
                    <a:pt x="3448" y="5902"/>
                  </a:lnTo>
                  <a:lnTo>
                    <a:pt x="3443" y="5928"/>
                  </a:lnTo>
                  <a:lnTo>
                    <a:pt x="3445" y="5941"/>
                  </a:lnTo>
                  <a:lnTo>
                    <a:pt x="3447" y="5953"/>
                  </a:lnTo>
                  <a:lnTo>
                    <a:pt x="3449" y="5967"/>
                  </a:lnTo>
                  <a:lnTo>
                    <a:pt x="3453" y="5982"/>
                  </a:lnTo>
                  <a:lnTo>
                    <a:pt x="3458" y="5998"/>
                  </a:lnTo>
                  <a:lnTo>
                    <a:pt x="3464" y="6014"/>
                  </a:lnTo>
                  <a:lnTo>
                    <a:pt x="3470" y="6030"/>
                  </a:lnTo>
                  <a:lnTo>
                    <a:pt x="3476" y="6047"/>
                  </a:lnTo>
                  <a:lnTo>
                    <a:pt x="3482" y="6063"/>
                  </a:lnTo>
                  <a:lnTo>
                    <a:pt x="3488" y="6079"/>
                  </a:lnTo>
                  <a:lnTo>
                    <a:pt x="3495" y="6095"/>
                  </a:lnTo>
                  <a:lnTo>
                    <a:pt x="3501" y="6111"/>
                  </a:lnTo>
                  <a:lnTo>
                    <a:pt x="3507" y="6126"/>
                  </a:lnTo>
                  <a:lnTo>
                    <a:pt x="3511" y="6140"/>
                  </a:lnTo>
                  <a:lnTo>
                    <a:pt x="3514" y="6152"/>
                  </a:lnTo>
                  <a:lnTo>
                    <a:pt x="3517" y="6165"/>
                  </a:lnTo>
                  <a:lnTo>
                    <a:pt x="3519" y="6178"/>
                  </a:lnTo>
                  <a:lnTo>
                    <a:pt x="3523" y="6191"/>
                  </a:lnTo>
                  <a:lnTo>
                    <a:pt x="3526" y="6206"/>
                  </a:lnTo>
                  <a:lnTo>
                    <a:pt x="3528" y="6221"/>
                  </a:lnTo>
                  <a:lnTo>
                    <a:pt x="3531" y="6236"/>
                  </a:lnTo>
                  <a:lnTo>
                    <a:pt x="3534" y="6252"/>
                  </a:lnTo>
                  <a:lnTo>
                    <a:pt x="3538" y="6269"/>
                  </a:lnTo>
                  <a:lnTo>
                    <a:pt x="3541" y="6285"/>
                  </a:lnTo>
                  <a:lnTo>
                    <a:pt x="3543" y="6301"/>
                  </a:lnTo>
                  <a:lnTo>
                    <a:pt x="3545" y="6317"/>
                  </a:lnTo>
                  <a:lnTo>
                    <a:pt x="3548" y="6333"/>
                  </a:lnTo>
                  <a:lnTo>
                    <a:pt x="3549" y="6349"/>
                  </a:lnTo>
                  <a:lnTo>
                    <a:pt x="3552" y="6364"/>
                  </a:lnTo>
                  <a:lnTo>
                    <a:pt x="3553" y="6378"/>
                  </a:lnTo>
                  <a:lnTo>
                    <a:pt x="3554" y="6391"/>
                  </a:lnTo>
                  <a:lnTo>
                    <a:pt x="3554" y="6404"/>
                  </a:lnTo>
                  <a:lnTo>
                    <a:pt x="3575" y="6436"/>
                  </a:lnTo>
                  <a:lnTo>
                    <a:pt x="3593" y="6471"/>
                  </a:lnTo>
                  <a:lnTo>
                    <a:pt x="3608" y="6510"/>
                  </a:lnTo>
                  <a:lnTo>
                    <a:pt x="3621" y="6551"/>
                  </a:lnTo>
                  <a:lnTo>
                    <a:pt x="3632" y="6594"/>
                  </a:lnTo>
                  <a:lnTo>
                    <a:pt x="3641" y="6640"/>
                  </a:lnTo>
                  <a:lnTo>
                    <a:pt x="3649" y="6686"/>
                  </a:lnTo>
                  <a:lnTo>
                    <a:pt x="3655" y="6734"/>
                  </a:lnTo>
                  <a:lnTo>
                    <a:pt x="3662" y="6781"/>
                  </a:lnTo>
                  <a:lnTo>
                    <a:pt x="3667" y="6830"/>
                  </a:lnTo>
                  <a:lnTo>
                    <a:pt x="3673" y="6877"/>
                  </a:lnTo>
                  <a:lnTo>
                    <a:pt x="3679" y="6923"/>
                  </a:lnTo>
                  <a:lnTo>
                    <a:pt x="3685" y="6967"/>
                  </a:lnTo>
                  <a:lnTo>
                    <a:pt x="3693" y="7010"/>
                  </a:lnTo>
                  <a:lnTo>
                    <a:pt x="3701" y="7050"/>
                  </a:lnTo>
                  <a:lnTo>
                    <a:pt x="3712" y="7087"/>
                  </a:lnTo>
                  <a:lnTo>
                    <a:pt x="3717" y="7099"/>
                  </a:lnTo>
                  <a:lnTo>
                    <a:pt x="3724" y="7112"/>
                  </a:lnTo>
                  <a:lnTo>
                    <a:pt x="3729" y="7124"/>
                  </a:lnTo>
                  <a:lnTo>
                    <a:pt x="3736" y="7138"/>
                  </a:lnTo>
                  <a:lnTo>
                    <a:pt x="3741" y="7151"/>
                  </a:lnTo>
                  <a:lnTo>
                    <a:pt x="3745" y="7165"/>
                  </a:lnTo>
                  <a:lnTo>
                    <a:pt x="3749" y="7181"/>
                  </a:lnTo>
                  <a:lnTo>
                    <a:pt x="3750" y="7199"/>
                  </a:lnTo>
                  <a:lnTo>
                    <a:pt x="3743" y="7208"/>
                  </a:lnTo>
                  <a:lnTo>
                    <a:pt x="3738" y="7221"/>
                  </a:lnTo>
                  <a:lnTo>
                    <a:pt x="3734" y="7235"/>
                  </a:lnTo>
                  <a:lnTo>
                    <a:pt x="3730" y="7250"/>
                  </a:lnTo>
                  <a:lnTo>
                    <a:pt x="3727" y="7266"/>
                  </a:lnTo>
                  <a:lnTo>
                    <a:pt x="3726" y="7284"/>
                  </a:lnTo>
                  <a:lnTo>
                    <a:pt x="3725" y="7301"/>
                  </a:lnTo>
                  <a:lnTo>
                    <a:pt x="3725" y="7320"/>
                  </a:lnTo>
                  <a:lnTo>
                    <a:pt x="3725" y="7339"/>
                  </a:lnTo>
                  <a:lnTo>
                    <a:pt x="3726" y="7358"/>
                  </a:lnTo>
                  <a:lnTo>
                    <a:pt x="3727" y="7376"/>
                  </a:lnTo>
                  <a:lnTo>
                    <a:pt x="3728" y="7393"/>
                  </a:lnTo>
                  <a:lnTo>
                    <a:pt x="3730" y="7410"/>
                  </a:lnTo>
                  <a:lnTo>
                    <a:pt x="3732" y="7426"/>
                  </a:lnTo>
                  <a:lnTo>
                    <a:pt x="3735" y="7440"/>
                  </a:lnTo>
                  <a:lnTo>
                    <a:pt x="3737" y="7453"/>
                  </a:lnTo>
                  <a:lnTo>
                    <a:pt x="3742" y="7484"/>
                  </a:lnTo>
                  <a:lnTo>
                    <a:pt x="3747" y="7515"/>
                  </a:lnTo>
                  <a:lnTo>
                    <a:pt x="3751" y="7546"/>
                  </a:lnTo>
                  <a:lnTo>
                    <a:pt x="3755" y="7577"/>
                  </a:lnTo>
                  <a:lnTo>
                    <a:pt x="3757" y="7608"/>
                  </a:lnTo>
                  <a:lnTo>
                    <a:pt x="3760" y="7639"/>
                  </a:lnTo>
                  <a:lnTo>
                    <a:pt x="3761" y="7670"/>
                  </a:lnTo>
                  <a:lnTo>
                    <a:pt x="3762" y="7701"/>
                  </a:lnTo>
                  <a:lnTo>
                    <a:pt x="3763" y="7731"/>
                  </a:lnTo>
                  <a:lnTo>
                    <a:pt x="3765" y="7762"/>
                  </a:lnTo>
                  <a:lnTo>
                    <a:pt x="3765" y="7793"/>
                  </a:lnTo>
                  <a:lnTo>
                    <a:pt x="3763" y="7823"/>
                  </a:lnTo>
                  <a:lnTo>
                    <a:pt x="3763" y="7854"/>
                  </a:lnTo>
                  <a:lnTo>
                    <a:pt x="3762" y="7884"/>
                  </a:lnTo>
                  <a:lnTo>
                    <a:pt x="3761" y="7915"/>
                  </a:lnTo>
                  <a:lnTo>
                    <a:pt x="3760" y="7945"/>
                  </a:lnTo>
                  <a:lnTo>
                    <a:pt x="3758" y="7976"/>
                  </a:lnTo>
                  <a:lnTo>
                    <a:pt x="3757" y="8007"/>
                  </a:lnTo>
                  <a:lnTo>
                    <a:pt x="3755" y="8037"/>
                  </a:lnTo>
                  <a:lnTo>
                    <a:pt x="3753" y="8068"/>
                  </a:lnTo>
                  <a:lnTo>
                    <a:pt x="3751" y="8098"/>
                  </a:lnTo>
                  <a:lnTo>
                    <a:pt x="3750" y="8129"/>
                  </a:lnTo>
                  <a:lnTo>
                    <a:pt x="3747" y="8160"/>
                  </a:lnTo>
                  <a:lnTo>
                    <a:pt x="3745" y="8190"/>
                  </a:lnTo>
                  <a:lnTo>
                    <a:pt x="3744" y="8221"/>
                  </a:lnTo>
                  <a:lnTo>
                    <a:pt x="3742" y="8252"/>
                  </a:lnTo>
                  <a:lnTo>
                    <a:pt x="3741" y="8283"/>
                  </a:lnTo>
                  <a:lnTo>
                    <a:pt x="3739" y="8314"/>
                  </a:lnTo>
                  <a:lnTo>
                    <a:pt x="3738" y="8345"/>
                  </a:lnTo>
                  <a:lnTo>
                    <a:pt x="3738" y="8376"/>
                  </a:lnTo>
                  <a:lnTo>
                    <a:pt x="3737" y="8407"/>
                  </a:lnTo>
                  <a:lnTo>
                    <a:pt x="3737" y="8438"/>
                  </a:lnTo>
                  <a:lnTo>
                    <a:pt x="3738" y="8445"/>
                  </a:lnTo>
                  <a:lnTo>
                    <a:pt x="3742" y="8452"/>
                  </a:lnTo>
                  <a:lnTo>
                    <a:pt x="3747" y="8459"/>
                  </a:lnTo>
                  <a:lnTo>
                    <a:pt x="3755" y="8466"/>
                  </a:lnTo>
                  <a:lnTo>
                    <a:pt x="3763" y="8474"/>
                  </a:lnTo>
                  <a:lnTo>
                    <a:pt x="3773" y="8481"/>
                  </a:lnTo>
                  <a:lnTo>
                    <a:pt x="3783" y="8491"/>
                  </a:lnTo>
                  <a:lnTo>
                    <a:pt x="3792" y="8501"/>
                  </a:lnTo>
                  <a:lnTo>
                    <a:pt x="3803" y="8513"/>
                  </a:lnTo>
                  <a:lnTo>
                    <a:pt x="3812" y="8526"/>
                  </a:lnTo>
                  <a:lnTo>
                    <a:pt x="3820" y="8541"/>
                  </a:lnTo>
                  <a:lnTo>
                    <a:pt x="3828" y="8557"/>
                  </a:lnTo>
                  <a:lnTo>
                    <a:pt x="3833" y="8576"/>
                  </a:lnTo>
                  <a:lnTo>
                    <a:pt x="3836" y="8597"/>
                  </a:lnTo>
                  <a:lnTo>
                    <a:pt x="3837" y="8620"/>
                  </a:lnTo>
                  <a:lnTo>
                    <a:pt x="3835" y="8646"/>
                  </a:lnTo>
                  <a:lnTo>
                    <a:pt x="3828" y="8654"/>
                  </a:lnTo>
                  <a:lnTo>
                    <a:pt x="3815" y="8667"/>
                  </a:lnTo>
                  <a:lnTo>
                    <a:pt x="3799" y="8684"/>
                  </a:lnTo>
                  <a:lnTo>
                    <a:pt x="3782" y="8702"/>
                  </a:lnTo>
                  <a:lnTo>
                    <a:pt x="3765" y="8723"/>
                  </a:lnTo>
                  <a:lnTo>
                    <a:pt x="3751" y="8741"/>
                  </a:lnTo>
                  <a:lnTo>
                    <a:pt x="3740" y="8758"/>
                  </a:lnTo>
                  <a:lnTo>
                    <a:pt x="3737" y="8772"/>
                  </a:lnTo>
                  <a:lnTo>
                    <a:pt x="3715" y="8755"/>
                  </a:lnTo>
                  <a:lnTo>
                    <a:pt x="3694" y="8740"/>
                  </a:lnTo>
                  <a:lnTo>
                    <a:pt x="3673" y="8727"/>
                  </a:lnTo>
                  <a:lnTo>
                    <a:pt x="3651" y="8717"/>
                  </a:lnTo>
                  <a:lnTo>
                    <a:pt x="3631" y="8710"/>
                  </a:lnTo>
                  <a:lnTo>
                    <a:pt x="3609" y="8705"/>
                  </a:lnTo>
                  <a:lnTo>
                    <a:pt x="3589" y="8702"/>
                  </a:lnTo>
                  <a:lnTo>
                    <a:pt x="3569" y="8701"/>
                  </a:lnTo>
                  <a:lnTo>
                    <a:pt x="3547" y="8702"/>
                  </a:lnTo>
                  <a:lnTo>
                    <a:pt x="3526" y="8706"/>
                  </a:lnTo>
                  <a:lnTo>
                    <a:pt x="3506" y="8711"/>
                  </a:lnTo>
                  <a:lnTo>
                    <a:pt x="3484" y="8718"/>
                  </a:lnTo>
                  <a:lnTo>
                    <a:pt x="3462" y="8727"/>
                  </a:lnTo>
                  <a:lnTo>
                    <a:pt x="3440" y="8737"/>
                  </a:lnTo>
                  <a:lnTo>
                    <a:pt x="3418" y="8749"/>
                  </a:lnTo>
                  <a:lnTo>
                    <a:pt x="3394" y="8762"/>
                  </a:lnTo>
                  <a:lnTo>
                    <a:pt x="3373" y="8786"/>
                  </a:lnTo>
                  <a:lnTo>
                    <a:pt x="3351" y="8812"/>
                  </a:lnTo>
                  <a:lnTo>
                    <a:pt x="3331" y="8838"/>
                  </a:lnTo>
                  <a:lnTo>
                    <a:pt x="3310" y="8866"/>
                  </a:lnTo>
                  <a:lnTo>
                    <a:pt x="3288" y="8895"/>
                  </a:lnTo>
                  <a:lnTo>
                    <a:pt x="3267" y="8924"/>
                  </a:lnTo>
                  <a:lnTo>
                    <a:pt x="3246" y="8953"/>
                  </a:lnTo>
                  <a:lnTo>
                    <a:pt x="3225" y="8981"/>
                  </a:lnTo>
                  <a:lnTo>
                    <a:pt x="3204" y="9007"/>
                  </a:lnTo>
                  <a:lnTo>
                    <a:pt x="3182" y="9032"/>
                  </a:lnTo>
                  <a:lnTo>
                    <a:pt x="3162" y="9054"/>
                  </a:lnTo>
                  <a:lnTo>
                    <a:pt x="3141" y="9075"/>
                  </a:lnTo>
                  <a:lnTo>
                    <a:pt x="3119" y="9093"/>
                  </a:lnTo>
                  <a:lnTo>
                    <a:pt x="3098" y="9107"/>
                  </a:lnTo>
                  <a:lnTo>
                    <a:pt x="3076" y="9116"/>
                  </a:lnTo>
                  <a:lnTo>
                    <a:pt x="3055" y="9123"/>
                  </a:lnTo>
                  <a:lnTo>
                    <a:pt x="3045" y="9129"/>
                  </a:lnTo>
                  <a:lnTo>
                    <a:pt x="3037" y="9131"/>
                  </a:lnTo>
                  <a:lnTo>
                    <a:pt x="3028" y="9130"/>
                  </a:lnTo>
                  <a:lnTo>
                    <a:pt x="3022" y="9125"/>
                  </a:lnTo>
                  <a:lnTo>
                    <a:pt x="3015" y="9117"/>
                  </a:lnTo>
                  <a:lnTo>
                    <a:pt x="3009" y="9107"/>
                  </a:lnTo>
                  <a:lnTo>
                    <a:pt x="3004" y="9095"/>
                  </a:lnTo>
                  <a:lnTo>
                    <a:pt x="2999" y="9081"/>
                  </a:lnTo>
                  <a:lnTo>
                    <a:pt x="2995" y="9067"/>
                  </a:lnTo>
                  <a:lnTo>
                    <a:pt x="2991" y="9052"/>
                  </a:lnTo>
                  <a:lnTo>
                    <a:pt x="2987" y="9037"/>
                  </a:lnTo>
                  <a:lnTo>
                    <a:pt x="2984" y="9023"/>
                  </a:lnTo>
                  <a:lnTo>
                    <a:pt x="2981" y="9009"/>
                  </a:lnTo>
                  <a:lnTo>
                    <a:pt x="2979" y="8998"/>
                  </a:lnTo>
                  <a:lnTo>
                    <a:pt x="2976" y="8988"/>
                  </a:lnTo>
                  <a:lnTo>
                    <a:pt x="2974" y="8981"/>
                  </a:lnTo>
                  <a:lnTo>
                    <a:pt x="2967" y="8959"/>
                  </a:lnTo>
                  <a:lnTo>
                    <a:pt x="2962" y="8936"/>
                  </a:lnTo>
                  <a:lnTo>
                    <a:pt x="2957" y="8912"/>
                  </a:lnTo>
                  <a:lnTo>
                    <a:pt x="2953" y="8886"/>
                  </a:lnTo>
                  <a:lnTo>
                    <a:pt x="2950" y="8861"/>
                  </a:lnTo>
                  <a:lnTo>
                    <a:pt x="2947" y="8835"/>
                  </a:lnTo>
                  <a:lnTo>
                    <a:pt x="2944" y="8808"/>
                  </a:lnTo>
                  <a:lnTo>
                    <a:pt x="2940" y="8781"/>
                  </a:lnTo>
                  <a:lnTo>
                    <a:pt x="2938" y="8754"/>
                  </a:lnTo>
                  <a:lnTo>
                    <a:pt x="2935" y="8727"/>
                  </a:lnTo>
                  <a:lnTo>
                    <a:pt x="2932" y="8701"/>
                  </a:lnTo>
                  <a:lnTo>
                    <a:pt x="2929" y="8676"/>
                  </a:lnTo>
                  <a:lnTo>
                    <a:pt x="2924" y="8650"/>
                  </a:lnTo>
                  <a:lnTo>
                    <a:pt x="2919" y="8626"/>
                  </a:lnTo>
                  <a:lnTo>
                    <a:pt x="2914" y="8603"/>
                  </a:lnTo>
                  <a:lnTo>
                    <a:pt x="2907" y="8582"/>
                  </a:lnTo>
                  <a:lnTo>
                    <a:pt x="2898" y="8555"/>
                  </a:lnTo>
                  <a:lnTo>
                    <a:pt x="2888" y="8528"/>
                  </a:lnTo>
                  <a:lnTo>
                    <a:pt x="2877" y="8501"/>
                  </a:lnTo>
                  <a:lnTo>
                    <a:pt x="2867" y="8474"/>
                  </a:lnTo>
                  <a:lnTo>
                    <a:pt x="2856" y="8447"/>
                  </a:lnTo>
                  <a:lnTo>
                    <a:pt x="2846" y="8420"/>
                  </a:lnTo>
                  <a:lnTo>
                    <a:pt x="2835" y="8392"/>
                  </a:lnTo>
                  <a:lnTo>
                    <a:pt x="2825" y="8365"/>
                  </a:lnTo>
                  <a:lnTo>
                    <a:pt x="2814" y="8338"/>
                  </a:lnTo>
                  <a:lnTo>
                    <a:pt x="2804" y="8310"/>
                  </a:lnTo>
                  <a:lnTo>
                    <a:pt x="2796" y="8282"/>
                  </a:lnTo>
                  <a:lnTo>
                    <a:pt x="2787" y="8253"/>
                  </a:lnTo>
                  <a:lnTo>
                    <a:pt x="2779" y="8224"/>
                  </a:lnTo>
                  <a:lnTo>
                    <a:pt x="2772" y="8195"/>
                  </a:lnTo>
                  <a:lnTo>
                    <a:pt x="2766" y="8167"/>
                  </a:lnTo>
                  <a:lnTo>
                    <a:pt x="2761" y="8137"/>
                  </a:lnTo>
                  <a:lnTo>
                    <a:pt x="2755" y="8106"/>
                  </a:lnTo>
                  <a:lnTo>
                    <a:pt x="2750" y="8075"/>
                  </a:lnTo>
                  <a:lnTo>
                    <a:pt x="2744" y="8041"/>
                  </a:lnTo>
                  <a:lnTo>
                    <a:pt x="2737" y="8007"/>
                  </a:lnTo>
                  <a:lnTo>
                    <a:pt x="2731" y="7973"/>
                  </a:lnTo>
                  <a:lnTo>
                    <a:pt x="2723" y="7938"/>
                  </a:lnTo>
                  <a:lnTo>
                    <a:pt x="2717" y="7902"/>
                  </a:lnTo>
                  <a:lnTo>
                    <a:pt x="2709" y="7866"/>
                  </a:lnTo>
                  <a:lnTo>
                    <a:pt x="2703" y="7831"/>
                  </a:lnTo>
                  <a:lnTo>
                    <a:pt x="2696" y="7795"/>
                  </a:lnTo>
                  <a:lnTo>
                    <a:pt x="2691" y="7760"/>
                  </a:lnTo>
                  <a:lnTo>
                    <a:pt x="2686" y="7725"/>
                  </a:lnTo>
                  <a:lnTo>
                    <a:pt x="2681" y="7692"/>
                  </a:lnTo>
                  <a:lnTo>
                    <a:pt x="2678" y="7658"/>
                  </a:lnTo>
                  <a:lnTo>
                    <a:pt x="2677" y="7626"/>
                  </a:lnTo>
                  <a:lnTo>
                    <a:pt x="2676" y="7596"/>
                  </a:lnTo>
                  <a:lnTo>
                    <a:pt x="2651" y="7564"/>
                  </a:lnTo>
                  <a:lnTo>
                    <a:pt x="2644" y="7541"/>
                  </a:lnTo>
                  <a:lnTo>
                    <a:pt x="2636" y="7516"/>
                  </a:lnTo>
                  <a:lnTo>
                    <a:pt x="2629" y="7492"/>
                  </a:lnTo>
                  <a:lnTo>
                    <a:pt x="2622" y="7466"/>
                  </a:lnTo>
                  <a:lnTo>
                    <a:pt x="2616" y="7441"/>
                  </a:lnTo>
                  <a:lnTo>
                    <a:pt x="2610" y="7416"/>
                  </a:lnTo>
                  <a:lnTo>
                    <a:pt x="2604" y="7390"/>
                  </a:lnTo>
                  <a:lnTo>
                    <a:pt x="2599" y="7363"/>
                  </a:lnTo>
                  <a:lnTo>
                    <a:pt x="2594" y="7338"/>
                  </a:lnTo>
                  <a:lnTo>
                    <a:pt x="2588" y="7311"/>
                  </a:lnTo>
                  <a:lnTo>
                    <a:pt x="2584" y="7284"/>
                  </a:lnTo>
                  <a:lnTo>
                    <a:pt x="2579" y="7258"/>
                  </a:lnTo>
                  <a:lnTo>
                    <a:pt x="2574" y="7232"/>
                  </a:lnTo>
                  <a:lnTo>
                    <a:pt x="2570" y="7205"/>
                  </a:lnTo>
                  <a:lnTo>
                    <a:pt x="2566" y="7178"/>
                  </a:lnTo>
                  <a:lnTo>
                    <a:pt x="2561" y="7150"/>
                  </a:lnTo>
                  <a:lnTo>
                    <a:pt x="2556" y="7124"/>
                  </a:lnTo>
                  <a:lnTo>
                    <a:pt x="2552" y="7097"/>
                  </a:lnTo>
                  <a:lnTo>
                    <a:pt x="2548" y="7070"/>
                  </a:lnTo>
                  <a:lnTo>
                    <a:pt x="2543" y="7043"/>
                  </a:lnTo>
                  <a:lnTo>
                    <a:pt x="2539" y="7018"/>
                  </a:lnTo>
                  <a:lnTo>
                    <a:pt x="2535" y="6991"/>
                  </a:lnTo>
                  <a:lnTo>
                    <a:pt x="2530" y="6964"/>
                  </a:lnTo>
                  <a:lnTo>
                    <a:pt x="2525" y="6939"/>
                  </a:lnTo>
                  <a:lnTo>
                    <a:pt x="2521" y="6912"/>
                  </a:lnTo>
                  <a:lnTo>
                    <a:pt x="2515" y="6886"/>
                  </a:lnTo>
                  <a:lnTo>
                    <a:pt x="2510" y="6861"/>
                  </a:lnTo>
                  <a:lnTo>
                    <a:pt x="2505" y="6836"/>
                  </a:lnTo>
                  <a:lnTo>
                    <a:pt x="2499" y="6810"/>
                  </a:lnTo>
                  <a:lnTo>
                    <a:pt x="2493" y="6786"/>
                  </a:lnTo>
                  <a:lnTo>
                    <a:pt x="2487" y="6761"/>
                  </a:lnTo>
                  <a:lnTo>
                    <a:pt x="2480" y="6738"/>
                  </a:lnTo>
                  <a:lnTo>
                    <a:pt x="2468" y="6698"/>
                  </a:lnTo>
                  <a:lnTo>
                    <a:pt x="2458" y="6658"/>
                  </a:lnTo>
                  <a:lnTo>
                    <a:pt x="2446" y="6619"/>
                  </a:lnTo>
                  <a:lnTo>
                    <a:pt x="2435" y="6577"/>
                  </a:lnTo>
                  <a:lnTo>
                    <a:pt x="2423" y="6536"/>
                  </a:lnTo>
                  <a:lnTo>
                    <a:pt x="2413" y="6495"/>
                  </a:lnTo>
                  <a:lnTo>
                    <a:pt x="2402" y="6452"/>
                  </a:lnTo>
                  <a:lnTo>
                    <a:pt x="2391" y="6410"/>
                  </a:lnTo>
                  <a:lnTo>
                    <a:pt x="2382" y="6367"/>
                  </a:lnTo>
                  <a:lnTo>
                    <a:pt x="2371" y="6325"/>
                  </a:lnTo>
                  <a:lnTo>
                    <a:pt x="2362" y="6282"/>
                  </a:lnTo>
                  <a:lnTo>
                    <a:pt x="2353" y="6239"/>
                  </a:lnTo>
                  <a:lnTo>
                    <a:pt x="2344" y="6196"/>
                  </a:lnTo>
                  <a:lnTo>
                    <a:pt x="2336" y="6155"/>
                  </a:lnTo>
                  <a:lnTo>
                    <a:pt x="2328" y="6112"/>
                  </a:lnTo>
                  <a:lnTo>
                    <a:pt x="2321" y="6070"/>
                  </a:lnTo>
                  <a:lnTo>
                    <a:pt x="2320" y="6097"/>
                  </a:lnTo>
                  <a:lnTo>
                    <a:pt x="2318" y="6122"/>
                  </a:lnTo>
                  <a:lnTo>
                    <a:pt x="2315" y="6148"/>
                  </a:lnTo>
                  <a:lnTo>
                    <a:pt x="2311" y="6173"/>
                  </a:lnTo>
                  <a:lnTo>
                    <a:pt x="2306" y="6196"/>
                  </a:lnTo>
                  <a:lnTo>
                    <a:pt x="2300" y="6220"/>
                  </a:lnTo>
                  <a:lnTo>
                    <a:pt x="2294" y="6243"/>
                  </a:lnTo>
                  <a:lnTo>
                    <a:pt x="2287" y="6267"/>
                  </a:lnTo>
                  <a:lnTo>
                    <a:pt x="2280" y="6290"/>
                  </a:lnTo>
                  <a:lnTo>
                    <a:pt x="2274" y="6313"/>
                  </a:lnTo>
                  <a:lnTo>
                    <a:pt x="2266" y="6335"/>
                  </a:lnTo>
                  <a:lnTo>
                    <a:pt x="2260" y="6359"/>
                  </a:lnTo>
                  <a:lnTo>
                    <a:pt x="2252" y="6381"/>
                  </a:lnTo>
                  <a:lnTo>
                    <a:pt x="2247" y="6405"/>
                  </a:lnTo>
                  <a:lnTo>
                    <a:pt x="2241" y="6428"/>
                  </a:lnTo>
                  <a:lnTo>
                    <a:pt x="2236" y="6452"/>
                  </a:lnTo>
                  <a:lnTo>
                    <a:pt x="2232" y="6479"/>
                  </a:lnTo>
                  <a:lnTo>
                    <a:pt x="2230" y="6506"/>
                  </a:lnTo>
                  <a:lnTo>
                    <a:pt x="2227" y="6533"/>
                  </a:lnTo>
                  <a:lnTo>
                    <a:pt x="2226" y="6561"/>
                  </a:lnTo>
                  <a:lnTo>
                    <a:pt x="2225" y="6589"/>
                  </a:lnTo>
                  <a:lnTo>
                    <a:pt x="2224" y="6617"/>
                  </a:lnTo>
                  <a:lnTo>
                    <a:pt x="2223" y="6643"/>
                  </a:lnTo>
                  <a:lnTo>
                    <a:pt x="2222" y="6670"/>
                  </a:lnTo>
                  <a:lnTo>
                    <a:pt x="2220" y="6697"/>
                  </a:lnTo>
                  <a:lnTo>
                    <a:pt x="2217" y="6723"/>
                  </a:lnTo>
                  <a:lnTo>
                    <a:pt x="2213" y="6748"/>
                  </a:lnTo>
                  <a:lnTo>
                    <a:pt x="2206" y="6774"/>
                  </a:lnTo>
                  <a:lnTo>
                    <a:pt x="2199" y="6797"/>
                  </a:lnTo>
                  <a:lnTo>
                    <a:pt x="2189" y="6821"/>
                  </a:lnTo>
                  <a:lnTo>
                    <a:pt x="2177" y="6843"/>
                  </a:lnTo>
                  <a:lnTo>
                    <a:pt x="2162" y="6865"/>
                  </a:lnTo>
                  <a:lnTo>
                    <a:pt x="2163" y="6878"/>
                  </a:lnTo>
                  <a:lnTo>
                    <a:pt x="2166" y="6894"/>
                  </a:lnTo>
                  <a:lnTo>
                    <a:pt x="2171" y="6911"/>
                  </a:lnTo>
                  <a:lnTo>
                    <a:pt x="2176" y="6928"/>
                  </a:lnTo>
                  <a:lnTo>
                    <a:pt x="2183" y="6946"/>
                  </a:lnTo>
                  <a:lnTo>
                    <a:pt x="2188" y="6963"/>
                  </a:lnTo>
                  <a:lnTo>
                    <a:pt x="2194" y="6979"/>
                  </a:lnTo>
                  <a:lnTo>
                    <a:pt x="2200" y="6992"/>
                  </a:lnTo>
                  <a:lnTo>
                    <a:pt x="2193" y="7034"/>
                  </a:lnTo>
                  <a:lnTo>
                    <a:pt x="2189" y="7077"/>
                  </a:lnTo>
                  <a:lnTo>
                    <a:pt x="2186" y="7118"/>
                  </a:lnTo>
                  <a:lnTo>
                    <a:pt x="2185" y="7161"/>
                  </a:lnTo>
                  <a:lnTo>
                    <a:pt x="2186" y="7204"/>
                  </a:lnTo>
                  <a:lnTo>
                    <a:pt x="2187" y="7246"/>
                  </a:lnTo>
                  <a:lnTo>
                    <a:pt x="2190" y="7288"/>
                  </a:lnTo>
                  <a:lnTo>
                    <a:pt x="2194" y="7330"/>
                  </a:lnTo>
                  <a:lnTo>
                    <a:pt x="2201" y="7372"/>
                  </a:lnTo>
                  <a:lnTo>
                    <a:pt x="2207" y="7412"/>
                  </a:lnTo>
                  <a:lnTo>
                    <a:pt x="2216" y="7453"/>
                  </a:lnTo>
                  <a:lnTo>
                    <a:pt x="2225" y="7493"/>
                  </a:lnTo>
                  <a:lnTo>
                    <a:pt x="2235" y="7532"/>
                  </a:lnTo>
                  <a:lnTo>
                    <a:pt x="2247" y="7570"/>
                  </a:lnTo>
                  <a:lnTo>
                    <a:pt x="2260" y="7607"/>
                  </a:lnTo>
                  <a:lnTo>
                    <a:pt x="2272" y="7643"/>
                  </a:lnTo>
                  <a:lnTo>
                    <a:pt x="2268" y="7662"/>
                  </a:lnTo>
                  <a:lnTo>
                    <a:pt x="2263" y="7680"/>
                  </a:lnTo>
                  <a:lnTo>
                    <a:pt x="2259" y="7698"/>
                  </a:lnTo>
                  <a:lnTo>
                    <a:pt x="2255" y="7717"/>
                  </a:lnTo>
                  <a:lnTo>
                    <a:pt x="2252" y="7738"/>
                  </a:lnTo>
                  <a:lnTo>
                    <a:pt x="2250" y="7758"/>
                  </a:lnTo>
                  <a:lnTo>
                    <a:pt x="2248" y="7780"/>
                  </a:lnTo>
                  <a:lnTo>
                    <a:pt x="2248" y="7803"/>
                  </a:lnTo>
                  <a:lnTo>
                    <a:pt x="2254" y="7812"/>
                  </a:lnTo>
                  <a:lnTo>
                    <a:pt x="2261" y="7823"/>
                  </a:lnTo>
                  <a:lnTo>
                    <a:pt x="2266" y="7834"/>
                  </a:lnTo>
                  <a:lnTo>
                    <a:pt x="2271" y="7847"/>
                  </a:lnTo>
                  <a:lnTo>
                    <a:pt x="2276" y="7858"/>
                  </a:lnTo>
                  <a:lnTo>
                    <a:pt x="2280" y="7871"/>
                  </a:lnTo>
                  <a:lnTo>
                    <a:pt x="2284" y="7885"/>
                  </a:lnTo>
                  <a:lnTo>
                    <a:pt x="2287" y="7898"/>
                  </a:lnTo>
                  <a:lnTo>
                    <a:pt x="2291" y="7912"/>
                  </a:lnTo>
                  <a:lnTo>
                    <a:pt x="2294" y="7925"/>
                  </a:lnTo>
                  <a:lnTo>
                    <a:pt x="2297" y="7938"/>
                  </a:lnTo>
                  <a:lnTo>
                    <a:pt x="2299" y="7950"/>
                  </a:lnTo>
                  <a:lnTo>
                    <a:pt x="2302" y="7962"/>
                  </a:lnTo>
                  <a:lnTo>
                    <a:pt x="2305" y="7974"/>
                  </a:lnTo>
                  <a:lnTo>
                    <a:pt x="2307" y="7984"/>
                  </a:lnTo>
                  <a:lnTo>
                    <a:pt x="2309" y="7993"/>
                  </a:lnTo>
                  <a:lnTo>
                    <a:pt x="2323" y="8029"/>
                  </a:lnTo>
                  <a:lnTo>
                    <a:pt x="2340" y="8064"/>
                  </a:lnTo>
                  <a:lnTo>
                    <a:pt x="2359" y="8098"/>
                  </a:lnTo>
                  <a:lnTo>
                    <a:pt x="2383" y="8132"/>
                  </a:lnTo>
                  <a:lnTo>
                    <a:pt x="2406" y="8167"/>
                  </a:lnTo>
                  <a:lnTo>
                    <a:pt x="2432" y="8201"/>
                  </a:lnTo>
                  <a:lnTo>
                    <a:pt x="2459" y="8235"/>
                  </a:lnTo>
                  <a:lnTo>
                    <a:pt x="2484" y="8269"/>
                  </a:lnTo>
                  <a:lnTo>
                    <a:pt x="2509" y="8306"/>
                  </a:lnTo>
                  <a:lnTo>
                    <a:pt x="2534" y="8341"/>
                  </a:lnTo>
                  <a:lnTo>
                    <a:pt x="2555" y="8378"/>
                  </a:lnTo>
                  <a:lnTo>
                    <a:pt x="2574" y="8416"/>
                  </a:lnTo>
                  <a:lnTo>
                    <a:pt x="2591" y="8455"/>
                  </a:lnTo>
                  <a:lnTo>
                    <a:pt x="2603" y="8496"/>
                  </a:lnTo>
                  <a:lnTo>
                    <a:pt x="2611" y="8538"/>
                  </a:lnTo>
                  <a:lnTo>
                    <a:pt x="2614" y="8582"/>
                  </a:lnTo>
                  <a:lnTo>
                    <a:pt x="2619" y="8589"/>
                  </a:lnTo>
                  <a:lnTo>
                    <a:pt x="2627" y="8599"/>
                  </a:lnTo>
                  <a:lnTo>
                    <a:pt x="2635" y="8610"/>
                  </a:lnTo>
                  <a:lnTo>
                    <a:pt x="2644" y="8623"/>
                  </a:lnTo>
                  <a:lnTo>
                    <a:pt x="2651" y="8637"/>
                  </a:lnTo>
                  <a:lnTo>
                    <a:pt x="2658" y="8651"/>
                  </a:lnTo>
                  <a:lnTo>
                    <a:pt x="2662" y="8664"/>
                  </a:lnTo>
                  <a:lnTo>
                    <a:pt x="2663" y="8677"/>
                  </a:lnTo>
                  <a:lnTo>
                    <a:pt x="2640" y="8691"/>
                  </a:lnTo>
                  <a:lnTo>
                    <a:pt x="2617" y="8708"/>
                  </a:lnTo>
                  <a:lnTo>
                    <a:pt x="2595" y="8727"/>
                  </a:lnTo>
                  <a:lnTo>
                    <a:pt x="2573" y="8747"/>
                  </a:lnTo>
                  <a:lnTo>
                    <a:pt x="2553" y="8768"/>
                  </a:lnTo>
                  <a:lnTo>
                    <a:pt x="2535" y="8787"/>
                  </a:lnTo>
                  <a:lnTo>
                    <a:pt x="2520" y="8805"/>
                  </a:lnTo>
                  <a:lnTo>
                    <a:pt x="2506" y="8820"/>
                  </a:lnTo>
                  <a:lnTo>
                    <a:pt x="2495" y="8832"/>
                  </a:lnTo>
                  <a:lnTo>
                    <a:pt x="2485" y="8840"/>
                  </a:lnTo>
                  <a:lnTo>
                    <a:pt x="2476" y="8847"/>
                  </a:lnTo>
                  <a:lnTo>
                    <a:pt x="2466" y="8850"/>
                  </a:lnTo>
                  <a:lnTo>
                    <a:pt x="2455" y="8852"/>
                  </a:lnTo>
                  <a:lnTo>
                    <a:pt x="2443" y="8853"/>
                  </a:lnTo>
                  <a:lnTo>
                    <a:pt x="2427" y="8852"/>
                  </a:lnTo>
                  <a:lnTo>
                    <a:pt x="2406" y="8852"/>
                  </a:lnTo>
                  <a:lnTo>
                    <a:pt x="2407" y="8864"/>
                  </a:lnTo>
                  <a:lnTo>
                    <a:pt x="2408" y="8876"/>
                  </a:lnTo>
                  <a:lnTo>
                    <a:pt x="2411" y="8887"/>
                  </a:lnTo>
                  <a:lnTo>
                    <a:pt x="2414" y="8899"/>
                  </a:lnTo>
                  <a:lnTo>
                    <a:pt x="2418" y="8912"/>
                  </a:lnTo>
                  <a:lnTo>
                    <a:pt x="2422" y="8924"/>
                  </a:lnTo>
                  <a:lnTo>
                    <a:pt x="2427" y="8936"/>
                  </a:lnTo>
                  <a:lnTo>
                    <a:pt x="2431" y="8947"/>
                  </a:lnTo>
                  <a:lnTo>
                    <a:pt x="2435" y="8959"/>
                  </a:lnTo>
                  <a:lnTo>
                    <a:pt x="2439" y="8971"/>
                  </a:lnTo>
                  <a:lnTo>
                    <a:pt x="2444" y="8983"/>
                  </a:lnTo>
                  <a:lnTo>
                    <a:pt x="2448" y="8995"/>
                  </a:lnTo>
                  <a:lnTo>
                    <a:pt x="2451" y="9007"/>
                  </a:lnTo>
                  <a:lnTo>
                    <a:pt x="2453" y="9019"/>
                  </a:lnTo>
                  <a:lnTo>
                    <a:pt x="2454" y="9031"/>
                  </a:lnTo>
                  <a:lnTo>
                    <a:pt x="2455" y="9043"/>
                  </a:lnTo>
                  <a:lnTo>
                    <a:pt x="2455" y="9049"/>
                  </a:lnTo>
                  <a:lnTo>
                    <a:pt x="2454" y="9054"/>
                  </a:lnTo>
                  <a:lnTo>
                    <a:pt x="2453" y="9060"/>
                  </a:lnTo>
                  <a:lnTo>
                    <a:pt x="2451" y="9064"/>
                  </a:lnTo>
                  <a:lnTo>
                    <a:pt x="2448" y="9068"/>
                  </a:lnTo>
                  <a:lnTo>
                    <a:pt x="2444" y="9071"/>
                  </a:lnTo>
                  <a:lnTo>
                    <a:pt x="2438" y="9074"/>
                  </a:lnTo>
                  <a:lnTo>
                    <a:pt x="2431" y="9075"/>
                  </a:lnTo>
                  <a:lnTo>
                    <a:pt x="2433" y="9081"/>
                  </a:lnTo>
                  <a:lnTo>
                    <a:pt x="2435" y="9089"/>
                  </a:lnTo>
                  <a:lnTo>
                    <a:pt x="2436" y="9096"/>
                  </a:lnTo>
                  <a:lnTo>
                    <a:pt x="2437" y="9105"/>
                  </a:lnTo>
                  <a:lnTo>
                    <a:pt x="2437" y="9113"/>
                  </a:lnTo>
                  <a:lnTo>
                    <a:pt x="2436" y="9122"/>
                  </a:lnTo>
                  <a:lnTo>
                    <a:pt x="2434" y="9129"/>
                  </a:lnTo>
                  <a:lnTo>
                    <a:pt x="2431" y="9138"/>
                  </a:lnTo>
                  <a:lnTo>
                    <a:pt x="2406" y="9170"/>
                  </a:lnTo>
                  <a:lnTo>
                    <a:pt x="2358" y="9170"/>
                  </a:lnTo>
                  <a:lnTo>
                    <a:pt x="2330" y="9175"/>
                  </a:lnTo>
                  <a:lnTo>
                    <a:pt x="2302" y="9179"/>
                  </a:lnTo>
                  <a:lnTo>
                    <a:pt x="2274" y="9182"/>
                  </a:lnTo>
                  <a:lnTo>
                    <a:pt x="2245" y="9184"/>
                  </a:lnTo>
                  <a:lnTo>
                    <a:pt x="2216" y="9184"/>
                  </a:lnTo>
                  <a:lnTo>
                    <a:pt x="2186" y="9184"/>
                  </a:lnTo>
                  <a:lnTo>
                    <a:pt x="2157" y="9183"/>
                  </a:lnTo>
                  <a:lnTo>
                    <a:pt x="2128" y="9182"/>
                  </a:lnTo>
                  <a:lnTo>
                    <a:pt x="2098" y="9181"/>
                  </a:lnTo>
                  <a:lnTo>
                    <a:pt x="2069" y="9178"/>
                  </a:lnTo>
                  <a:lnTo>
                    <a:pt x="2041" y="9176"/>
                  </a:lnTo>
                  <a:lnTo>
                    <a:pt x="2012" y="9174"/>
                  </a:lnTo>
                  <a:lnTo>
                    <a:pt x="1986" y="9173"/>
                  </a:lnTo>
                  <a:lnTo>
                    <a:pt x="1958" y="9171"/>
                  </a:lnTo>
                  <a:lnTo>
                    <a:pt x="1932" y="9170"/>
                  </a:lnTo>
                  <a:lnTo>
                    <a:pt x="1906" y="9170"/>
                  </a:lnTo>
                  <a:lnTo>
                    <a:pt x="1898" y="9161"/>
                  </a:lnTo>
                  <a:lnTo>
                    <a:pt x="1892" y="9152"/>
                  </a:lnTo>
                  <a:lnTo>
                    <a:pt x="1889" y="9140"/>
                  </a:lnTo>
                  <a:lnTo>
                    <a:pt x="1888" y="9127"/>
                  </a:lnTo>
                  <a:lnTo>
                    <a:pt x="1888" y="9114"/>
                  </a:lnTo>
                  <a:lnTo>
                    <a:pt x="1890" y="9101"/>
                  </a:lnTo>
                  <a:lnTo>
                    <a:pt x="1891" y="9087"/>
                  </a:lnTo>
                  <a:lnTo>
                    <a:pt x="1894" y="9075"/>
                  </a:lnTo>
                  <a:lnTo>
                    <a:pt x="1856" y="9030"/>
                  </a:lnTo>
                  <a:lnTo>
                    <a:pt x="1857" y="9018"/>
                  </a:lnTo>
                  <a:lnTo>
                    <a:pt x="1858" y="9008"/>
                  </a:lnTo>
                  <a:lnTo>
                    <a:pt x="1860" y="8998"/>
                  </a:lnTo>
                  <a:lnTo>
                    <a:pt x="1862" y="8988"/>
                  </a:lnTo>
                  <a:lnTo>
                    <a:pt x="1865" y="8979"/>
                  </a:lnTo>
                  <a:lnTo>
                    <a:pt x="1867" y="8969"/>
                  </a:lnTo>
                  <a:lnTo>
                    <a:pt x="1868" y="8959"/>
                  </a:lnTo>
                  <a:lnTo>
                    <a:pt x="1869" y="8947"/>
                  </a:lnTo>
                  <a:lnTo>
                    <a:pt x="1855" y="8941"/>
                  </a:lnTo>
                  <a:lnTo>
                    <a:pt x="1840" y="8935"/>
                  </a:lnTo>
                  <a:lnTo>
                    <a:pt x="1825" y="8927"/>
                  </a:lnTo>
                  <a:lnTo>
                    <a:pt x="1809" y="8917"/>
                  </a:lnTo>
                  <a:lnTo>
                    <a:pt x="1795" y="8906"/>
                  </a:lnTo>
                  <a:lnTo>
                    <a:pt x="1781" y="8892"/>
                  </a:lnTo>
                  <a:lnTo>
                    <a:pt x="1769" y="8874"/>
                  </a:lnTo>
                  <a:lnTo>
                    <a:pt x="1759" y="8852"/>
                  </a:lnTo>
                  <a:lnTo>
                    <a:pt x="1742" y="8847"/>
                  </a:lnTo>
                  <a:lnTo>
                    <a:pt x="1724" y="8834"/>
                  </a:lnTo>
                  <a:lnTo>
                    <a:pt x="1709" y="8816"/>
                  </a:lnTo>
                  <a:lnTo>
                    <a:pt x="1696" y="8792"/>
                  </a:lnTo>
                  <a:lnTo>
                    <a:pt x="1683" y="8769"/>
                  </a:lnTo>
                  <a:lnTo>
                    <a:pt x="1670" y="8745"/>
                  </a:lnTo>
                  <a:lnTo>
                    <a:pt x="1659" y="8724"/>
                  </a:lnTo>
                  <a:lnTo>
                    <a:pt x="1649" y="8709"/>
                  </a:lnTo>
                  <a:lnTo>
                    <a:pt x="1649" y="8646"/>
                  </a:lnTo>
                  <a:lnTo>
                    <a:pt x="1625" y="8614"/>
                  </a:lnTo>
                  <a:lnTo>
                    <a:pt x="1625" y="8518"/>
                  </a:lnTo>
                  <a:lnTo>
                    <a:pt x="1618" y="8511"/>
                  </a:lnTo>
                  <a:lnTo>
                    <a:pt x="1610" y="8501"/>
                  </a:lnTo>
                  <a:lnTo>
                    <a:pt x="1600" y="8491"/>
                  </a:lnTo>
                  <a:lnTo>
                    <a:pt x="1590" y="8478"/>
                  </a:lnTo>
                  <a:lnTo>
                    <a:pt x="1580" y="8466"/>
                  </a:lnTo>
                  <a:lnTo>
                    <a:pt x="1571" y="8455"/>
                  </a:lnTo>
                  <a:lnTo>
                    <a:pt x="1566" y="8446"/>
                  </a:lnTo>
                  <a:lnTo>
                    <a:pt x="1564" y="8438"/>
                  </a:lnTo>
                  <a:lnTo>
                    <a:pt x="1555" y="8410"/>
                  </a:lnTo>
                  <a:lnTo>
                    <a:pt x="1547" y="8382"/>
                  </a:lnTo>
                  <a:lnTo>
                    <a:pt x="1539" y="8351"/>
                  </a:lnTo>
                  <a:lnTo>
                    <a:pt x="1533" y="8318"/>
                  </a:lnTo>
                  <a:lnTo>
                    <a:pt x="1526" y="8285"/>
                  </a:lnTo>
                  <a:lnTo>
                    <a:pt x="1521" y="8252"/>
                  </a:lnTo>
                  <a:lnTo>
                    <a:pt x="1516" y="8218"/>
                  </a:lnTo>
                  <a:lnTo>
                    <a:pt x="1510" y="8183"/>
                  </a:lnTo>
                  <a:lnTo>
                    <a:pt x="1505" y="8147"/>
                  </a:lnTo>
                  <a:lnTo>
                    <a:pt x="1501" y="8112"/>
                  </a:lnTo>
                  <a:lnTo>
                    <a:pt x="1495" y="8078"/>
                  </a:lnTo>
                  <a:lnTo>
                    <a:pt x="1490" y="8044"/>
                  </a:lnTo>
                  <a:lnTo>
                    <a:pt x="1485" y="8009"/>
                  </a:lnTo>
                  <a:lnTo>
                    <a:pt x="1479" y="7976"/>
                  </a:lnTo>
                  <a:lnTo>
                    <a:pt x="1473" y="7945"/>
                  </a:lnTo>
                  <a:lnTo>
                    <a:pt x="1466" y="7914"/>
                  </a:lnTo>
                  <a:lnTo>
                    <a:pt x="1460" y="7886"/>
                  </a:lnTo>
                  <a:lnTo>
                    <a:pt x="1454" y="7857"/>
                  </a:lnTo>
                  <a:lnTo>
                    <a:pt x="1448" y="7827"/>
                  </a:lnTo>
                  <a:lnTo>
                    <a:pt x="1443" y="7796"/>
                  </a:lnTo>
                  <a:lnTo>
                    <a:pt x="1439" y="7764"/>
                  </a:lnTo>
                  <a:lnTo>
                    <a:pt x="1435" y="7732"/>
                  </a:lnTo>
                  <a:lnTo>
                    <a:pt x="1431" y="7699"/>
                  </a:lnTo>
                  <a:lnTo>
                    <a:pt x="1428" y="7666"/>
                  </a:lnTo>
                  <a:lnTo>
                    <a:pt x="1426" y="7632"/>
                  </a:lnTo>
                  <a:lnTo>
                    <a:pt x="1424" y="7599"/>
                  </a:lnTo>
                  <a:lnTo>
                    <a:pt x="1421" y="7564"/>
                  </a:lnTo>
                  <a:lnTo>
                    <a:pt x="1419" y="7531"/>
                  </a:lnTo>
                  <a:lnTo>
                    <a:pt x="1418" y="7499"/>
                  </a:lnTo>
                  <a:lnTo>
                    <a:pt x="1418" y="7467"/>
                  </a:lnTo>
                  <a:lnTo>
                    <a:pt x="1417" y="7435"/>
                  </a:lnTo>
                  <a:lnTo>
                    <a:pt x="1417" y="7405"/>
                  </a:lnTo>
                  <a:lnTo>
                    <a:pt x="1381" y="7358"/>
                  </a:lnTo>
                  <a:lnTo>
                    <a:pt x="1381" y="7294"/>
                  </a:lnTo>
                  <a:lnTo>
                    <a:pt x="1405" y="7263"/>
                  </a:lnTo>
                  <a:lnTo>
                    <a:pt x="1397" y="7238"/>
                  </a:lnTo>
                  <a:lnTo>
                    <a:pt x="1392" y="7213"/>
                  </a:lnTo>
                  <a:lnTo>
                    <a:pt x="1387" y="7188"/>
                  </a:lnTo>
                  <a:lnTo>
                    <a:pt x="1384" y="7162"/>
                  </a:lnTo>
                  <a:lnTo>
                    <a:pt x="1383" y="7135"/>
                  </a:lnTo>
                  <a:lnTo>
                    <a:pt x="1383" y="7110"/>
                  </a:lnTo>
                  <a:lnTo>
                    <a:pt x="1384" y="7083"/>
                  </a:lnTo>
                  <a:lnTo>
                    <a:pt x="1385" y="7055"/>
                  </a:lnTo>
                  <a:lnTo>
                    <a:pt x="1387" y="7028"/>
                  </a:lnTo>
                  <a:lnTo>
                    <a:pt x="1389" y="7002"/>
                  </a:lnTo>
                  <a:lnTo>
                    <a:pt x="1392" y="6976"/>
                  </a:lnTo>
                  <a:lnTo>
                    <a:pt x="1393" y="6949"/>
                  </a:lnTo>
                  <a:lnTo>
                    <a:pt x="1395" y="6924"/>
                  </a:lnTo>
                  <a:lnTo>
                    <a:pt x="1395" y="6898"/>
                  </a:lnTo>
                  <a:lnTo>
                    <a:pt x="1395" y="6873"/>
                  </a:lnTo>
                  <a:lnTo>
                    <a:pt x="1393" y="6849"/>
                  </a:lnTo>
                  <a:lnTo>
                    <a:pt x="1390" y="6826"/>
                  </a:lnTo>
                  <a:lnTo>
                    <a:pt x="1387" y="6803"/>
                  </a:lnTo>
                  <a:lnTo>
                    <a:pt x="1385" y="6776"/>
                  </a:lnTo>
                  <a:lnTo>
                    <a:pt x="1382" y="6748"/>
                  </a:lnTo>
                  <a:lnTo>
                    <a:pt x="1378" y="6718"/>
                  </a:lnTo>
                  <a:lnTo>
                    <a:pt x="1374" y="6688"/>
                  </a:lnTo>
                  <a:lnTo>
                    <a:pt x="1370" y="6657"/>
                  </a:lnTo>
                  <a:lnTo>
                    <a:pt x="1366" y="6626"/>
                  </a:lnTo>
                  <a:lnTo>
                    <a:pt x="1360" y="6595"/>
                  </a:lnTo>
                  <a:lnTo>
                    <a:pt x="1356" y="6564"/>
                  </a:lnTo>
                  <a:lnTo>
                    <a:pt x="1351" y="6534"/>
                  </a:lnTo>
                  <a:lnTo>
                    <a:pt x="1344" y="6504"/>
                  </a:lnTo>
                  <a:lnTo>
                    <a:pt x="1339" y="6477"/>
                  </a:lnTo>
                  <a:lnTo>
                    <a:pt x="1333" y="6450"/>
                  </a:lnTo>
                  <a:lnTo>
                    <a:pt x="1326" y="6426"/>
                  </a:lnTo>
                  <a:lnTo>
                    <a:pt x="1320" y="6404"/>
                  </a:lnTo>
                  <a:lnTo>
                    <a:pt x="1320" y="6397"/>
                  </a:lnTo>
                  <a:lnTo>
                    <a:pt x="1322" y="6392"/>
                  </a:lnTo>
                  <a:lnTo>
                    <a:pt x="1323" y="6386"/>
                  </a:lnTo>
                  <a:lnTo>
                    <a:pt x="1326" y="6380"/>
                  </a:lnTo>
                  <a:lnTo>
                    <a:pt x="1328" y="6375"/>
                  </a:lnTo>
                  <a:lnTo>
                    <a:pt x="1329" y="6368"/>
                  </a:lnTo>
                  <a:lnTo>
                    <a:pt x="1332" y="6363"/>
                  </a:lnTo>
                  <a:lnTo>
                    <a:pt x="1332" y="6357"/>
                  </a:lnTo>
                  <a:lnTo>
                    <a:pt x="1258" y="5912"/>
                  </a:lnTo>
                  <a:lnTo>
                    <a:pt x="1253" y="5874"/>
                  </a:lnTo>
                  <a:lnTo>
                    <a:pt x="1251" y="5836"/>
                  </a:lnTo>
                  <a:lnTo>
                    <a:pt x="1250" y="5795"/>
                  </a:lnTo>
                  <a:lnTo>
                    <a:pt x="1249" y="5753"/>
                  </a:lnTo>
                  <a:lnTo>
                    <a:pt x="1248" y="5711"/>
                  </a:lnTo>
                  <a:lnTo>
                    <a:pt x="1248" y="5668"/>
                  </a:lnTo>
                  <a:lnTo>
                    <a:pt x="1248" y="5624"/>
                  </a:lnTo>
                  <a:lnTo>
                    <a:pt x="1248" y="5579"/>
                  </a:lnTo>
                  <a:lnTo>
                    <a:pt x="1247" y="5535"/>
                  </a:lnTo>
                  <a:lnTo>
                    <a:pt x="1245" y="5492"/>
                  </a:lnTo>
                  <a:lnTo>
                    <a:pt x="1243" y="5450"/>
                  </a:lnTo>
                  <a:lnTo>
                    <a:pt x="1240" y="5408"/>
                  </a:lnTo>
                  <a:lnTo>
                    <a:pt x="1234" y="5368"/>
                  </a:lnTo>
                  <a:lnTo>
                    <a:pt x="1228" y="5330"/>
                  </a:lnTo>
                  <a:lnTo>
                    <a:pt x="1220" y="5294"/>
                  </a:lnTo>
                  <a:lnTo>
                    <a:pt x="1210" y="5259"/>
                  </a:lnTo>
                  <a:lnTo>
                    <a:pt x="1210" y="5254"/>
                  </a:lnTo>
                  <a:lnTo>
                    <a:pt x="1212" y="5248"/>
                  </a:lnTo>
                  <a:lnTo>
                    <a:pt x="1213" y="5242"/>
                  </a:lnTo>
                  <a:lnTo>
                    <a:pt x="1216" y="5236"/>
                  </a:lnTo>
                  <a:lnTo>
                    <a:pt x="1218" y="5230"/>
                  </a:lnTo>
                  <a:lnTo>
                    <a:pt x="1219" y="5224"/>
                  </a:lnTo>
                  <a:lnTo>
                    <a:pt x="1221" y="5219"/>
                  </a:lnTo>
                  <a:lnTo>
                    <a:pt x="1221" y="5212"/>
                  </a:lnTo>
                  <a:lnTo>
                    <a:pt x="1218" y="5179"/>
                  </a:lnTo>
                  <a:lnTo>
                    <a:pt x="1215" y="5144"/>
                  </a:lnTo>
                  <a:lnTo>
                    <a:pt x="1214" y="5107"/>
                  </a:lnTo>
                  <a:lnTo>
                    <a:pt x="1213" y="5071"/>
                  </a:lnTo>
                  <a:lnTo>
                    <a:pt x="1213" y="5034"/>
                  </a:lnTo>
                  <a:lnTo>
                    <a:pt x="1214" y="4995"/>
                  </a:lnTo>
                  <a:lnTo>
                    <a:pt x="1215" y="4957"/>
                  </a:lnTo>
                  <a:lnTo>
                    <a:pt x="1216" y="4918"/>
                  </a:lnTo>
                  <a:lnTo>
                    <a:pt x="1217" y="4880"/>
                  </a:lnTo>
                  <a:lnTo>
                    <a:pt x="1218" y="4841"/>
                  </a:lnTo>
                  <a:lnTo>
                    <a:pt x="1218" y="4804"/>
                  </a:lnTo>
                  <a:lnTo>
                    <a:pt x="1218" y="4765"/>
                  </a:lnTo>
                  <a:lnTo>
                    <a:pt x="1218" y="4729"/>
                  </a:lnTo>
                  <a:lnTo>
                    <a:pt x="1216" y="4693"/>
                  </a:lnTo>
                  <a:lnTo>
                    <a:pt x="1214" y="4658"/>
                  </a:lnTo>
                  <a:lnTo>
                    <a:pt x="1210" y="4625"/>
                  </a:lnTo>
                  <a:lnTo>
                    <a:pt x="1207" y="4612"/>
                  </a:lnTo>
                  <a:lnTo>
                    <a:pt x="1204" y="4597"/>
                  </a:lnTo>
                  <a:lnTo>
                    <a:pt x="1201" y="4581"/>
                  </a:lnTo>
                  <a:lnTo>
                    <a:pt x="1197" y="4563"/>
                  </a:lnTo>
                  <a:lnTo>
                    <a:pt x="1193" y="4544"/>
                  </a:lnTo>
                  <a:lnTo>
                    <a:pt x="1189" y="4523"/>
                  </a:lnTo>
                  <a:lnTo>
                    <a:pt x="1186" y="4503"/>
                  </a:lnTo>
                  <a:lnTo>
                    <a:pt x="1182" y="4482"/>
                  </a:lnTo>
                  <a:lnTo>
                    <a:pt x="1179" y="4461"/>
                  </a:lnTo>
                  <a:lnTo>
                    <a:pt x="1176" y="4441"/>
                  </a:lnTo>
                  <a:lnTo>
                    <a:pt x="1173" y="4421"/>
                  </a:lnTo>
                  <a:lnTo>
                    <a:pt x="1172" y="4401"/>
                  </a:lnTo>
                  <a:lnTo>
                    <a:pt x="1171" y="4383"/>
                  </a:lnTo>
                  <a:lnTo>
                    <a:pt x="1171" y="4367"/>
                  </a:lnTo>
                  <a:lnTo>
                    <a:pt x="1171" y="4352"/>
                  </a:lnTo>
                  <a:lnTo>
                    <a:pt x="1173" y="4339"/>
                  </a:lnTo>
                  <a:lnTo>
                    <a:pt x="1210" y="3958"/>
                  </a:lnTo>
                  <a:lnTo>
                    <a:pt x="1210" y="3948"/>
                  </a:lnTo>
                  <a:lnTo>
                    <a:pt x="1212" y="3936"/>
                  </a:lnTo>
                  <a:lnTo>
                    <a:pt x="1213" y="3923"/>
                  </a:lnTo>
                  <a:lnTo>
                    <a:pt x="1216" y="3909"/>
                  </a:lnTo>
                  <a:lnTo>
                    <a:pt x="1219" y="3893"/>
                  </a:lnTo>
                  <a:lnTo>
                    <a:pt x="1222" y="3878"/>
                  </a:lnTo>
                  <a:lnTo>
                    <a:pt x="1226" y="3861"/>
                  </a:lnTo>
                  <a:lnTo>
                    <a:pt x="1230" y="3845"/>
                  </a:lnTo>
                  <a:lnTo>
                    <a:pt x="1233" y="3829"/>
                  </a:lnTo>
                  <a:lnTo>
                    <a:pt x="1236" y="3812"/>
                  </a:lnTo>
                  <a:lnTo>
                    <a:pt x="1240" y="3797"/>
                  </a:lnTo>
                  <a:lnTo>
                    <a:pt x="1243" y="3781"/>
                  </a:lnTo>
                  <a:lnTo>
                    <a:pt x="1246" y="3767"/>
                  </a:lnTo>
                  <a:lnTo>
                    <a:pt x="1247" y="3754"/>
                  </a:lnTo>
                  <a:lnTo>
                    <a:pt x="1249" y="3743"/>
                  </a:lnTo>
                  <a:lnTo>
                    <a:pt x="1249" y="3733"/>
                  </a:lnTo>
                  <a:lnTo>
                    <a:pt x="1251" y="3722"/>
                  </a:lnTo>
                  <a:lnTo>
                    <a:pt x="1237" y="3727"/>
                  </a:lnTo>
                  <a:lnTo>
                    <a:pt x="1222" y="3730"/>
                  </a:lnTo>
                  <a:lnTo>
                    <a:pt x="1208" y="3733"/>
                  </a:lnTo>
                  <a:lnTo>
                    <a:pt x="1195" y="3736"/>
                  </a:lnTo>
                  <a:lnTo>
                    <a:pt x="1180" y="3737"/>
                  </a:lnTo>
                  <a:lnTo>
                    <a:pt x="1166" y="3738"/>
                  </a:lnTo>
                  <a:lnTo>
                    <a:pt x="1151" y="3737"/>
                  </a:lnTo>
                  <a:lnTo>
                    <a:pt x="1137" y="3735"/>
                  </a:lnTo>
                  <a:lnTo>
                    <a:pt x="1123" y="3732"/>
                  </a:lnTo>
                  <a:lnTo>
                    <a:pt x="1107" y="3724"/>
                  </a:lnTo>
                  <a:lnTo>
                    <a:pt x="1089" y="3715"/>
                  </a:lnTo>
                  <a:lnTo>
                    <a:pt x="1070" y="3704"/>
                  </a:lnTo>
                  <a:lnTo>
                    <a:pt x="1051" y="3692"/>
                  </a:lnTo>
                  <a:lnTo>
                    <a:pt x="1032" y="3683"/>
                  </a:lnTo>
                  <a:lnTo>
                    <a:pt x="1015" y="3675"/>
                  </a:lnTo>
                  <a:lnTo>
                    <a:pt x="1000" y="3671"/>
                  </a:lnTo>
                  <a:lnTo>
                    <a:pt x="999" y="3677"/>
                  </a:lnTo>
                  <a:lnTo>
                    <a:pt x="997" y="3686"/>
                  </a:lnTo>
                  <a:lnTo>
                    <a:pt x="992" y="3694"/>
                  </a:lnTo>
                  <a:lnTo>
                    <a:pt x="989" y="3703"/>
                  </a:lnTo>
                  <a:lnTo>
                    <a:pt x="985" y="3712"/>
                  </a:lnTo>
                  <a:lnTo>
                    <a:pt x="980" y="3720"/>
                  </a:lnTo>
                  <a:lnTo>
                    <a:pt x="978" y="3729"/>
                  </a:lnTo>
                  <a:lnTo>
                    <a:pt x="977" y="3735"/>
                  </a:lnTo>
                  <a:lnTo>
                    <a:pt x="989" y="3751"/>
                  </a:lnTo>
                  <a:lnTo>
                    <a:pt x="990" y="3760"/>
                  </a:lnTo>
                  <a:lnTo>
                    <a:pt x="990" y="3769"/>
                  </a:lnTo>
                  <a:lnTo>
                    <a:pt x="990" y="3779"/>
                  </a:lnTo>
                  <a:lnTo>
                    <a:pt x="990" y="3790"/>
                  </a:lnTo>
                  <a:lnTo>
                    <a:pt x="989" y="3801"/>
                  </a:lnTo>
                  <a:lnTo>
                    <a:pt x="988" y="3813"/>
                  </a:lnTo>
                  <a:lnTo>
                    <a:pt x="987" y="3825"/>
                  </a:lnTo>
                  <a:lnTo>
                    <a:pt x="985" y="3837"/>
                  </a:lnTo>
                  <a:lnTo>
                    <a:pt x="983" y="3850"/>
                  </a:lnTo>
                  <a:lnTo>
                    <a:pt x="979" y="3862"/>
                  </a:lnTo>
                  <a:lnTo>
                    <a:pt x="976" y="3875"/>
                  </a:lnTo>
                  <a:lnTo>
                    <a:pt x="972" y="3888"/>
                  </a:lnTo>
                  <a:lnTo>
                    <a:pt x="968" y="3901"/>
                  </a:lnTo>
                  <a:lnTo>
                    <a:pt x="962" y="3914"/>
                  </a:lnTo>
                  <a:lnTo>
                    <a:pt x="957" y="3927"/>
                  </a:lnTo>
                  <a:lnTo>
                    <a:pt x="951" y="3938"/>
                  </a:lnTo>
                  <a:lnTo>
                    <a:pt x="945" y="3947"/>
                  </a:lnTo>
                  <a:lnTo>
                    <a:pt x="939" y="3955"/>
                  </a:lnTo>
                  <a:lnTo>
                    <a:pt x="931" y="3964"/>
                  </a:lnTo>
                  <a:lnTo>
                    <a:pt x="923" y="3971"/>
                  </a:lnTo>
                  <a:lnTo>
                    <a:pt x="913" y="3978"/>
                  </a:lnTo>
                  <a:lnTo>
                    <a:pt x="902" y="3981"/>
                  </a:lnTo>
                  <a:lnTo>
                    <a:pt x="891" y="3982"/>
                  </a:lnTo>
                  <a:lnTo>
                    <a:pt x="878" y="3980"/>
                  </a:lnTo>
                  <a:lnTo>
                    <a:pt x="868" y="3986"/>
                  </a:lnTo>
                  <a:lnTo>
                    <a:pt x="858" y="3995"/>
                  </a:lnTo>
                  <a:lnTo>
                    <a:pt x="848" y="4002"/>
                  </a:lnTo>
                  <a:lnTo>
                    <a:pt x="837" y="4012"/>
                  </a:lnTo>
                  <a:lnTo>
                    <a:pt x="826" y="4021"/>
                  </a:lnTo>
                  <a:lnTo>
                    <a:pt x="815" y="4030"/>
                  </a:lnTo>
                  <a:lnTo>
                    <a:pt x="803" y="4040"/>
                  </a:lnTo>
                  <a:lnTo>
                    <a:pt x="791" y="4050"/>
                  </a:lnTo>
                  <a:lnTo>
                    <a:pt x="779" y="4058"/>
                  </a:lnTo>
                  <a:lnTo>
                    <a:pt x="769" y="4067"/>
                  </a:lnTo>
                  <a:lnTo>
                    <a:pt x="757" y="4074"/>
                  </a:lnTo>
                  <a:lnTo>
                    <a:pt x="745" y="4082"/>
                  </a:lnTo>
                  <a:lnTo>
                    <a:pt x="734" y="4088"/>
                  </a:lnTo>
                  <a:lnTo>
                    <a:pt x="724" y="4093"/>
                  </a:lnTo>
                  <a:lnTo>
                    <a:pt x="714" y="4098"/>
                  </a:lnTo>
                  <a:lnTo>
                    <a:pt x="704" y="4100"/>
                  </a:lnTo>
                  <a:lnTo>
                    <a:pt x="695" y="4101"/>
                  </a:lnTo>
                  <a:lnTo>
                    <a:pt x="687" y="4100"/>
                  </a:lnTo>
                  <a:lnTo>
                    <a:pt x="683" y="4098"/>
                  </a:lnTo>
                  <a:lnTo>
                    <a:pt x="679" y="4093"/>
                  </a:lnTo>
                  <a:lnTo>
                    <a:pt x="675" y="4088"/>
                  </a:lnTo>
                  <a:lnTo>
                    <a:pt x="671" y="4082"/>
                  </a:lnTo>
                  <a:lnTo>
                    <a:pt x="666" y="4075"/>
                  </a:lnTo>
                  <a:lnTo>
                    <a:pt x="659" y="4068"/>
                  </a:lnTo>
                  <a:lnTo>
                    <a:pt x="667" y="4057"/>
                  </a:lnTo>
                  <a:lnTo>
                    <a:pt x="674" y="4047"/>
                  </a:lnTo>
                  <a:lnTo>
                    <a:pt x="683" y="4037"/>
                  </a:lnTo>
                  <a:lnTo>
                    <a:pt x="691" y="4025"/>
                  </a:lnTo>
                  <a:lnTo>
                    <a:pt x="700" y="4012"/>
                  </a:lnTo>
                  <a:lnTo>
                    <a:pt x="710" y="3997"/>
                  </a:lnTo>
                  <a:lnTo>
                    <a:pt x="720" y="3981"/>
                  </a:lnTo>
                  <a:lnTo>
                    <a:pt x="732" y="3962"/>
                  </a:lnTo>
                  <a:lnTo>
                    <a:pt x="733" y="3942"/>
                  </a:lnTo>
                  <a:lnTo>
                    <a:pt x="733" y="3920"/>
                  </a:lnTo>
                  <a:lnTo>
                    <a:pt x="733" y="3899"/>
                  </a:lnTo>
                  <a:lnTo>
                    <a:pt x="732" y="3876"/>
                  </a:lnTo>
                  <a:lnTo>
                    <a:pt x="732" y="3856"/>
                  </a:lnTo>
                  <a:lnTo>
                    <a:pt x="733" y="3836"/>
                  </a:lnTo>
                  <a:lnTo>
                    <a:pt x="735" y="3817"/>
                  </a:lnTo>
                  <a:lnTo>
                    <a:pt x="739" y="3801"/>
                  </a:lnTo>
                  <a:lnTo>
                    <a:pt x="719" y="3791"/>
                  </a:lnTo>
                  <a:lnTo>
                    <a:pt x="699" y="3782"/>
                  </a:lnTo>
                  <a:lnTo>
                    <a:pt x="679" y="3775"/>
                  </a:lnTo>
                  <a:lnTo>
                    <a:pt x="657" y="3767"/>
                  </a:lnTo>
                  <a:lnTo>
                    <a:pt x="636" y="3761"/>
                  </a:lnTo>
                  <a:lnTo>
                    <a:pt x="615" y="3753"/>
                  </a:lnTo>
                  <a:lnTo>
                    <a:pt x="594" y="3745"/>
                  </a:lnTo>
                  <a:lnTo>
                    <a:pt x="575" y="3735"/>
                  </a:lnTo>
                  <a:lnTo>
                    <a:pt x="557" y="3724"/>
                  </a:lnTo>
                  <a:lnTo>
                    <a:pt x="537" y="3710"/>
                  </a:lnTo>
                  <a:lnTo>
                    <a:pt x="518" y="3693"/>
                  </a:lnTo>
                  <a:lnTo>
                    <a:pt x="500" y="3673"/>
                  </a:lnTo>
                  <a:lnTo>
                    <a:pt x="481" y="3652"/>
                  </a:lnTo>
                  <a:lnTo>
                    <a:pt x="462" y="3628"/>
                  </a:lnTo>
                  <a:lnTo>
                    <a:pt x="443" y="3604"/>
                  </a:lnTo>
                  <a:lnTo>
                    <a:pt x="425" y="3578"/>
                  </a:lnTo>
                  <a:lnTo>
                    <a:pt x="407" y="3551"/>
                  </a:lnTo>
                  <a:lnTo>
                    <a:pt x="389" y="3525"/>
                  </a:lnTo>
                  <a:lnTo>
                    <a:pt x="371" y="3499"/>
                  </a:lnTo>
                  <a:lnTo>
                    <a:pt x="354" y="3473"/>
                  </a:lnTo>
                  <a:lnTo>
                    <a:pt x="338" y="3448"/>
                  </a:lnTo>
                  <a:lnTo>
                    <a:pt x="322" y="3426"/>
                  </a:lnTo>
                  <a:lnTo>
                    <a:pt x="307" y="3405"/>
                  </a:lnTo>
                  <a:lnTo>
                    <a:pt x="293" y="3385"/>
                  </a:lnTo>
                  <a:lnTo>
                    <a:pt x="267" y="3349"/>
                  </a:lnTo>
                  <a:lnTo>
                    <a:pt x="243" y="3313"/>
                  </a:lnTo>
                  <a:lnTo>
                    <a:pt x="221" y="3275"/>
                  </a:lnTo>
                  <a:lnTo>
                    <a:pt x="200" y="3238"/>
                  </a:lnTo>
                  <a:lnTo>
                    <a:pt x="181" y="3199"/>
                  </a:lnTo>
                  <a:lnTo>
                    <a:pt x="164" y="3160"/>
                  </a:lnTo>
                  <a:lnTo>
                    <a:pt x="147" y="3121"/>
                  </a:lnTo>
                  <a:lnTo>
                    <a:pt x="132" y="3082"/>
                  </a:lnTo>
                  <a:lnTo>
                    <a:pt x="117" y="3042"/>
                  </a:lnTo>
                  <a:lnTo>
                    <a:pt x="104" y="3002"/>
                  </a:lnTo>
                  <a:lnTo>
                    <a:pt x="90" y="2963"/>
                  </a:lnTo>
                  <a:lnTo>
                    <a:pt x="77" y="2922"/>
                  </a:lnTo>
                  <a:lnTo>
                    <a:pt x="64" y="2883"/>
                  </a:lnTo>
                  <a:lnTo>
                    <a:pt x="51" y="2843"/>
                  </a:lnTo>
                  <a:lnTo>
                    <a:pt x="39" y="2804"/>
                  </a:lnTo>
                  <a:lnTo>
                    <a:pt x="25" y="2765"/>
                  </a:lnTo>
                  <a:lnTo>
                    <a:pt x="18" y="2757"/>
                  </a:lnTo>
                  <a:lnTo>
                    <a:pt x="13" y="2750"/>
                  </a:lnTo>
                  <a:lnTo>
                    <a:pt x="6" y="2741"/>
                  </a:lnTo>
                  <a:lnTo>
                    <a:pt x="0" y="2734"/>
                  </a:lnTo>
                  <a:lnTo>
                    <a:pt x="1" y="2715"/>
                  </a:lnTo>
                  <a:lnTo>
                    <a:pt x="5" y="2694"/>
                  </a:lnTo>
                  <a:lnTo>
                    <a:pt x="12" y="2673"/>
                  </a:lnTo>
                  <a:lnTo>
                    <a:pt x="19" y="2650"/>
                  </a:lnTo>
                  <a:lnTo>
                    <a:pt x="29" y="2627"/>
                  </a:lnTo>
                  <a:lnTo>
                    <a:pt x="40" y="2602"/>
                  </a:lnTo>
                  <a:lnTo>
                    <a:pt x="51" y="2578"/>
                  </a:lnTo>
                  <a:lnTo>
                    <a:pt x="64" y="2553"/>
                  </a:lnTo>
                  <a:lnTo>
                    <a:pt x="77" y="2529"/>
                  </a:lnTo>
                  <a:lnTo>
                    <a:pt x="90" y="2505"/>
                  </a:lnTo>
                  <a:lnTo>
                    <a:pt x="102" y="2481"/>
                  </a:lnTo>
                  <a:lnTo>
                    <a:pt x="113" y="2459"/>
                  </a:lnTo>
                  <a:lnTo>
                    <a:pt x="124" y="2438"/>
                  </a:lnTo>
                  <a:lnTo>
                    <a:pt x="134" y="2418"/>
                  </a:lnTo>
                  <a:lnTo>
                    <a:pt x="141" y="2400"/>
                  </a:lnTo>
                  <a:lnTo>
                    <a:pt x="147" y="2384"/>
                  </a:lnTo>
                  <a:lnTo>
                    <a:pt x="154" y="2366"/>
                  </a:lnTo>
                  <a:lnTo>
                    <a:pt x="167" y="2349"/>
                  </a:lnTo>
                  <a:lnTo>
                    <a:pt x="184" y="2332"/>
                  </a:lnTo>
                  <a:lnTo>
                    <a:pt x="203" y="2317"/>
                  </a:lnTo>
                  <a:lnTo>
                    <a:pt x="223" y="2303"/>
                  </a:lnTo>
                  <a:lnTo>
                    <a:pt x="241" y="2290"/>
                  </a:lnTo>
                  <a:lnTo>
                    <a:pt x="257" y="2280"/>
                  </a:lnTo>
                  <a:lnTo>
                    <a:pt x="269" y="2273"/>
                  </a:lnTo>
                  <a:lnTo>
                    <a:pt x="269" y="2241"/>
                  </a:lnTo>
                  <a:lnTo>
                    <a:pt x="315" y="2183"/>
                  </a:lnTo>
                  <a:lnTo>
                    <a:pt x="326" y="2170"/>
                  </a:lnTo>
                  <a:lnTo>
                    <a:pt x="340" y="2158"/>
                  </a:lnTo>
                  <a:lnTo>
                    <a:pt x="356" y="2147"/>
                  </a:lnTo>
                  <a:lnTo>
                    <a:pt x="375" y="2136"/>
                  </a:lnTo>
                  <a:lnTo>
                    <a:pt x="394" y="2124"/>
                  </a:lnTo>
                  <a:lnTo>
                    <a:pt x="414" y="2112"/>
                  </a:lnTo>
                  <a:lnTo>
                    <a:pt x="436" y="2100"/>
                  </a:lnTo>
                  <a:lnTo>
                    <a:pt x="457" y="2087"/>
                  </a:lnTo>
                  <a:lnTo>
                    <a:pt x="472" y="2074"/>
                  </a:lnTo>
                  <a:lnTo>
                    <a:pt x="486" y="2061"/>
                  </a:lnTo>
                  <a:lnTo>
                    <a:pt x="498" y="2046"/>
                  </a:lnTo>
                  <a:lnTo>
                    <a:pt x="510" y="2032"/>
                  </a:lnTo>
                  <a:lnTo>
                    <a:pt x="519" y="2018"/>
                  </a:lnTo>
                  <a:lnTo>
                    <a:pt x="529" y="2005"/>
                  </a:lnTo>
                  <a:lnTo>
                    <a:pt x="537" y="1993"/>
                  </a:lnTo>
                  <a:lnTo>
                    <a:pt x="545" y="1982"/>
                  </a:lnTo>
                  <a:lnTo>
                    <a:pt x="550" y="1974"/>
                  </a:lnTo>
                  <a:lnTo>
                    <a:pt x="557" y="1967"/>
                  </a:lnTo>
                  <a:lnTo>
                    <a:pt x="562" y="1958"/>
                  </a:lnTo>
                  <a:lnTo>
                    <a:pt x="568" y="1950"/>
                  </a:lnTo>
                  <a:lnTo>
                    <a:pt x="575" y="1941"/>
                  </a:lnTo>
                  <a:lnTo>
                    <a:pt x="580" y="1933"/>
                  </a:lnTo>
                  <a:lnTo>
                    <a:pt x="586" y="1924"/>
                  </a:lnTo>
                  <a:lnTo>
                    <a:pt x="591" y="1916"/>
                  </a:lnTo>
                  <a:lnTo>
                    <a:pt x="600" y="1900"/>
                  </a:lnTo>
                  <a:lnTo>
                    <a:pt x="611" y="1885"/>
                  </a:lnTo>
                  <a:lnTo>
                    <a:pt x="621" y="1869"/>
                  </a:lnTo>
                  <a:lnTo>
                    <a:pt x="630" y="1854"/>
                  </a:lnTo>
                  <a:lnTo>
                    <a:pt x="641" y="1839"/>
                  </a:lnTo>
                  <a:lnTo>
                    <a:pt x="651" y="1825"/>
                  </a:lnTo>
                  <a:lnTo>
                    <a:pt x="662" y="1810"/>
                  </a:lnTo>
                  <a:lnTo>
                    <a:pt x="671" y="1797"/>
                  </a:lnTo>
                  <a:lnTo>
                    <a:pt x="682" y="1784"/>
                  </a:lnTo>
                  <a:lnTo>
                    <a:pt x="693" y="1771"/>
                  </a:lnTo>
                  <a:lnTo>
                    <a:pt x="703" y="1759"/>
                  </a:lnTo>
                  <a:lnTo>
                    <a:pt x="714" y="1749"/>
                  </a:lnTo>
                  <a:lnTo>
                    <a:pt x="725" y="1739"/>
                  </a:lnTo>
                  <a:lnTo>
                    <a:pt x="735" y="1731"/>
                  </a:lnTo>
                  <a:lnTo>
                    <a:pt x="746" y="1723"/>
                  </a:lnTo>
                  <a:lnTo>
                    <a:pt x="758" y="1717"/>
                  </a:lnTo>
                  <a:lnTo>
                    <a:pt x="766" y="1712"/>
                  </a:lnTo>
                  <a:lnTo>
                    <a:pt x="775" y="1708"/>
                  </a:lnTo>
                  <a:lnTo>
                    <a:pt x="782" y="1703"/>
                  </a:lnTo>
                  <a:lnTo>
                    <a:pt x="789" y="1697"/>
                  </a:lnTo>
                  <a:lnTo>
                    <a:pt x="796" y="1692"/>
                  </a:lnTo>
                  <a:lnTo>
                    <a:pt x="803" y="1686"/>
                  </a:lnTo>
                  <a:lnTo>
                    <a:pt x="810" y="1678"/>
                  </a:lnTo>
                  <a:lnTo>
                    <a:pt x="818" y="1671"/>
                  </a:lnTo>
                  <a:lnTo>
                    <a:pt x="812" y="1661"/>
                  </a:lnTo>
                  <a:lnTo>
                    <a:pt x="816" y="1650"/>
                  </a:lnTo>
                  <a:lnTo>
                    <a:pt x="824" y="1641"/>
                  </a:lnTo>
                  <a:lnTo>
                    <a:pt x="837" y="1630"/>
                  </a:lnTo>
                  <a:lnTo>
                    <a:pt x="852" y="1619"/>
                  </a:lnTo>
                  <a:lnTo>
                    <a:pt x="868" y="1610"/>
                  </a:lnTo>
                  <a:lnTo>
                    <a:pt x="882" y="1599"/>
                  </a:lnTo>
                  <a:lnTo>
                    <a:pt x="892" y="1589"/>
                  </a:lnTo>
                  <a:lnTo>
                    <a:pt x="908" y="1570"/>
                  </a:lnTo>
                  <a:lnTo>
                    <a:pt x="924" y="1551"/>
                  </a:lnTo>
                  <a:lnTo>
                    <a:pt x="940" y="1533"/>
                  </a:lnTo>
                  <a:lnTo>
                    <a:pt x="957" y="1516"/>
                  </a:lnTo>
                  <a:lnTo>
                    <a:pt x="973" y="1500"/>
                  </a:lnTo>
                  <a:lnTo>
                    <a:pt x="991" y="1485"/>
                  </a:lnTo>
                  <a:lnTo>
                    <a:pt x="1008" y="1472"/>
                  </a:lnTo>
                  <a:lnTo>
                    <a:pt x="1027" y="1462"/>
                  </a:lnTo>
                  <a:lnTo>
                    <a:pt x="1046" y="1452"/>
                  </a:lnTo>
                  <a:lnTo>
                    <a:pt x="1065" y="1443"/>
                  </a:lnTo>
                  <a:lnTo>
                    <a:pt x="1085" y="1435"/>
                  </a:lnTo>
                  <a:lnTo>
                    <a:pt x="1107" y="1428"/>
                  </a:lnTo>
                  <a:lnTo>
                    <a:pt x="1129" y="1421"/>
                  </a:lnTo>
                  <a:lnTo>
                    <a:pt x="1152" y="1416"/>
                  </a:lnTo>
                  <a:lnTo>
                    <a:pt x="1175" y="1411"/>
                  </a:lnTo>
                  <a:lnTo>
                    <a:pt x="1200" y="1406"/>
                  </a:lnTo>
                  <a:lnTo>
                    <a:pt x="1223" y="1402"/>
                  </a:lnTo>
                  <a:lnTo>
                    <a:pt x="1249" y="1399"/>
                  </a:lnTo>
                  <a:lnTo>
                    <a:pt x="1274" y="1395"/>
                  </a:lnTo>
                  <a:lnTo>
                    <a:pt x="1299" y="1392"/>
                  </a:lnTo>
                  <a:lnTo>
                    <a:pt x="1325" y="1388"/>
                  </a:lnTo>
                  <a:lnTo>
                    <a:pt x="1351" y="1385"/>
                  </a:lnTo>
                  <a:lnTo>
                    <a:pt x="1377" y="1381"/>
                  </a:lnTo>
                  <a:lnTo>
                    <a:pt x="1402" y="1378"/>
                  </a:lnTo>
                  <a:lnTo>
                    <a:pt x="1428" y="1373"/>
                  </a:lnTo>
                  <a:lnTo>
                    <a:pt x="1454" y="1369"/>
                  </a:lnTo>
                  <a:lnTo>
                    <a:pt x="1478" y="1365"/>
                  </a:lnTo>
                  <a:lnTo>
                    <a:pt x="1503" y="1359"/>
                  </a:lnTo>
                  <a:lnTo>
                    <a:pt x="1527" y="1353"/>
                  </a:lnTo>
                  <a:lnTo>
                    <a:pt x="1552" y="1347"/>
                  </a:lnTo>
                  <a:lnTo>
                    <a:pt x="1576" y="1339"/>
                  </a:lnTo>
                  <a:lnTo>
                    <a:pt x="1598" y="1331"/>
                  </a:lnTo>
                  <a:lnTo>
                    <a:pt x="1621" y="1321"/>
                  </a:lnTo>
                  <a:lnTo>
                    <a:pt x="1642" y="1311"/>
                  </a:lnTo>
                  <a:lnTo>
                    <a:pt x="1662" y="1300"/>
                  </a:lnTo>
                  <a:lnTo>
                    <a:pt x="1683" y="1287"/>
                  </a:lnTo>
                  <a:lnTo>
                    <a:pt x="1701" y="1273"/>
                  </a:lnTo>
                  <a:lnTo>
                    <a:pt x="1719" y="1257"/>
                  </a:lnTo>
                  <a:lnTo>
                    <a:pt x="1735" y="1240"/>
                  </a:lnTo>
                  <a:lnTo>
                    <a:pt x="1751" y="1221"/>
                  </a:lnTo>
                  <a:lnTo>
                    <a:pt x="1769" y="1211"/>
                  </a:lnTo>
                  <a:lnTo>
                    <a:pt x="1782" y="1191"/>
                  </a:lnTo>
                  <a:lnTo>
                    <a:pt x="1794" y="1167"/>
                  </a:lnTo>
                  <a:lnTo>
                    <a:pt x="1806" y="1140"/>
                  </a:lnTo>
                  <a:lnTo>
                    <a:pt x="1816" y="1116"/>
                  </a:lnTo>
                  <a:lnTo>
                    <a:pt x="1831" y="1096"/>
                  </a:lnTo>
                  <a:lnTo>
                    <a:pt x="1849" y="1087"/>
                  </a:lnTo>
                  <a:lnTo>
                    <a:pt x="1872" y="1091"/>
                  </a:lnTo>
                  <a:lnTo>
                    <a:pt x="1880" y="1014"/>
                  </a:lnTo>
                  <a:lnTo>
                    <a:pt x="1880" y="997"/>
                  </a:lnTo>
                  <a:lnTo>
                    <a:pt x="1879" y="984"/>
                  </a:lnTo>
                  <a:lnTo>
                    <a:pt x="1877" y="972"/>
                  </a:lnTo>
                  <a:lnTo>
                    <a:pt x="1875" y="962"/>
                  </a:lnTo>
                  <a:lnTo>
                    <a:pt x="1871" y="951"/>
                  </a:lnTo>
                  <a:lnTo>
                    <a:pt x="1865" y="939"/>
                  </a:lnTo>
                  <a:lnTo>
                    <a:pt x="1856" y="924"/>
                  </a:lnTo>
                  <a:lnTo>
                    <a:pt x="1844" y="906"/>
                  </a:lnTo>
                  <a:lnTo>
                    <a:pt x="1783" y="890"/>
                  </a:lnTo>
                  <a:lnTo>
                    <a:pt x="1775" y="878"/>
                  </a:lnTo>
                  <a:lnTo>
                    <a:pt x="1766" y="865"/>
                  </a:lnTo>
                  <a:lnTo>
                    <a:pt x="1759" y="851"/>
                  </a:lnTo>
                  <a:lnTo>
                    <a:pt x="1752" y="837"/>
                  </a:lnTo>
                  <a:lnTo>
                    <a:pt x="1746" y="822"/>
                  </a:lnTo>
                  <a:lnTo>
                    <a:pt x="1739" y="807"/>
                  </a:lnTo>
                  <a:lnTo>
                    <a:pt x="1735" y="793"/>
                  </a:lnTo>
                  <a:lnTo>
                    <a:pt x="1731" y="776"/>
                  </a:lnTo>
                  <a:lnTo>
                    <a:pt x="1727" y="760"/>
                  </a:lnTo>
                  <a:lnTo>
                    <a:pt x="1723" y="745"/>
                  </a:lnTo>
                  <a:lnTo>
                    <a:pt x="1721" y="729"/>
                  </a:lnTo>
                  <a:lnTo>
                    <a:pt x="1720" y="713"/>
                  </a:lnTo>
                  <a:lnTo>
                    <a:pt x="1719" y="697"/>
                  </a:lnTo>
                  <a:lnTo>
                    <a:pt x="1719" y="681"/>
                  </a:lnTo>
                  <a:lnTo>
                    <a:pt x="1720" y="666"/>
                  </a:lnTo>
                  <a:lnTo>
                    <a:pt x="1722" y="651"/>
                  </a:lnTo>
                  <a:lnTo>
                    <a:pt x="1716" y="641"/>
                  </a:lnTo>
                  <a:lnTo>
                    <a:pt x="1712" y="629"/>
                  </a:lnTo>
                  <a:lnTo>
                    <a:pt x="1708" y="616"/>
                  </a:lnTo>
                  <a:lnTo>
                    <a:pt x="1706" y="602"/>
                  </a:lnTo>
                  <a:lnTo>
                    <a:pt x="1706" y="587"/>
                  </a:lnTo>
                  <a:lnTo>
                    <a:pt x="1706" y="572"/>
                  </a:lnTo>
                  <a:lnTo>
                    <a:pt x="1707" y="556"/>
                  </a:lnTo>
                  <a:lnTo>
                    <a:pt x="1709" y="539"/>
                  </a:lnTo>
                  <a:lnTo>
                    <a:pt x="1712" y="523"/>
                  </a:lnTo>
                  <a:lnTo>
                    <a:pt x="1714" y="507"/>
                  </a:lnTo>
                  <a:lnTo>
                    <a:pt x="1717" y="492"/>
                  </a:lnTo>
                  <a:lnTo>
                    <a:pt x="1720" y="477"/>
                  </a:lnTo>
                  <a:lnTo>
                    <a:pt x="1722" y="463"/>
                  </a:lnTo>
                  <a:lnTo>
                    <a:pt x="1724" y="450"/>
                  </a:lnTo>
                  <a:lnTo>
                    <a:pt x="1727" y="438"/>
                  </a:lnTo>
                  <a:lnTo>
                    <a:pt x="1728" y="428"/>
                  </a:lnTo>
                  <a:lnTo>
                    <a:pt x="1740" y="418"/>
                  </a:lnTo>
                  <a:lnTo>
                    <a:pt x="1750" y="402"/>
                  </a:lnTo>
                  <a:lnTo>
                    <a:pt x="1759" y="383"/>
                  </a:lnTo>
                  <a:lnTo>
                    <a:pt x="1767" y="363"/>
                  </a:lnTo>
                  <a:lnTo>
                    <a:pt x="1775" y="343"/>
                  </a:lnTo>
                  <a:lnTo>
                    <a:pt x="1783" y="327"/>
                  </a:lnTo>
                  <a:lnTo>
                    <a:pt x="1793" y="315"/>
                  </a:lnTo>
                  <a:lnTo>
                    <a:pt x="1806" y="311"/>
                  </a:lnTo>
                  <a:lnTo>
                    <a:pt x="1808" y="275"/>
                  </a:lnTo>
                  <a:lnTo>
                    <a:pt x="1812" y="243"/>
                  </a:lnTo>
                  <a:lnTo>
                    <a:pt x="1821" y="214"/>
                  </a:lnTo>
                  <a:lnTo>
                    <a:pt x="1831" y="189"/>
                  </a:lnTo>
                  <a:lnTo>
                    <a:pt x="1844" y="167"/>
                  </a:lnTo>
                  <a:lnTo>
                    <a:pt x="1859" y="149"/>
                  </a:lnTo>
                  <a:lnTo>
                    <a:pt x="1876" y="131"/>
                  </a:lnTo>
                  <a:lnTo>
                    <a:pt x="1896" y="118"/>
                  </a:lnTo>
                  <a:lnTo>
                    <a:pt x="1916" y="105"/>
                  </a:lnTo>
                  <a:lnTo>
                    <a:pt x="1937" y="93"/>
                  </a:lnTo>
                  <a:lnTo>
                    <a:pt x="1960" y="83"/>
                  </a:lnTo>
                  <a:lnTo>
                    <a:pt x="1982" y="73"/>
                  </a:lnTo>
                  <a:lnTo>
                    <a:pt x="2006" y="63"/>
                  </a:lnTo>
                  <a:lnTo>
                    <a:pt x="2029" y="53"/>
                  </a:lnTo>
                  <a:lnTo>
                    <a:pt x="2053" y="44"/>
                  </a:lnTo>
                  <a:lnTo>
                    <a:pt x="2077" y="32"/>
                  </a:lnTo>
                  <a:lnTo>
                    <a:pt x="2101" y="19"/>
                  </a:lnTo>
                  <a:lnTo>
                    <a:pt x="2127" y="10"/>
                  </a:lnTo>
                  <a:lnTo>
                    <a:pt x="2151" y="3"/>
                  </a:lnTo>
                  <a:lnTo>
                    <a:pt x="2176" y="1"/>
                  </a:lnTo>
                  <a:lnTo>
                    <a:pt x="2200" y="0"/>
                  </a:lnTo>
                  <a:lnTo>
                    <a:pt x="2224" y="1"/>
                  </a:lnTo>
                  <a:lnTo>
                    <a:pt x="2248" y="5"/>
                  </a:lnTo>
                  <a:lnTo>
                    <a:pt x="2272" y="10"/>
                  </a:lnTo>
                  <a:lnTo>
                    <a:pt x="2297" y="15"/>
                  </a:lnTo>
                  <a:lnTo>
                    <a:pt x="2321" y="21"/>
                  </a:lnTo>
                  <a:lnTo>
                    <a:pt x="2345" y="28"/>
                  </a:lnTo>
                  <a:lnTo>
                    <a:pt x="2369" y="33"/>
                  </a:lnTo>
                  <a:lnTo>
                    <a:pt x="2393" y="38"/>
                  </a:lnTo>
                  <a:lnTo>
                    <a:pt x="2418" y="43"/>
                  </a:lnTo>
                  <a:lnTo>
                    <a:pt x="2444" y="46"/>
                  </a:lnTo>
                  <a:lnTo>
                    <a:pt x="2468" y="47"/>
                  </a:lnTo>
                  <a:lnTo>
                    <a:pt x="2481" y="62"/>
                  </a:lnTo>
                  <a:lnTo>
                    <a:pt x="2495" y="76"/>
                  </a:lnTo>
                  <a:lnTo>
                    <a:pt x="2511" y="90"/>
                  </a:lnTo>
                  <a:lnTo>
                    <a:pt x="2529" y="103"/>
                  </a:lnTo>
                  <a:lnTo>
                    <a:pt x="2548" y="115"/>
                  </a:lnTo>
                  <a:lnTo>
                    <a:pt x="2567" y="129"/>
                  </a:lnTo>
                  <a:lnTo>
                    <a:pt x="2586" y="143"/>
                  </a:lnTo>
                  <a:lnTo>
                    <a:pt x="2605" y="156"/>
                  </a:lnTo>
                  <a:lnTo>
                    <a:pt x="2625" y="171"/>
                  </a:lnTo>
                  <a:lnTo>
                    <a:pt x="2643" y="186"/>
                  </a:lnTo>
                  <a:lnTo>
                    <a:pt x="2661" y="202"/>
                  </a:lnTo>
                  <a:lnTo>
                    <a:pt x="2677" y="219"/>
                  </a:lnTo>
                  <a:lnTo>
                    <a:pt x="2692" y="237"/>
                  </a:lnTo>
                  <a:lnTo>
                    <a:pt x="2705" y="258"/>
                  </a:lnTo>
                  <a:lnTo>
                    <a:pt x="2716" y="279"/>
                  </a:lnTo>
                  <a:lnTo>
                    <a:pt x="2724" y="302"/>
                  </a:lnTo>
                  <a:lnTo>
                    <a:pt x="2730" y="319"/>
                  </a:lnTo>
                  <a:lnTo>
                    <a:pt x="2735" y="338"/>
                  </a:lnTo>
                  <a:lnTo>
                    <a:pt x="2742" y="359"/>
                  </a:lnTo>
                  <a:lnTo>
                    <a:pt x="2749" y="384"/>
                  </a:lnTo>
                  <a:lnTo>
                    <a:pt x="2756" y="410"/>
                  </a:lnTo>
                  <a:lnTo>
                    <a:pt x="2763" y="436"/>
                  </a:lnTo>
                  <a:lnTo>
                    <a:pt x="2769" y="464"/>
                  </a:lnTo>
                  <a:lnTo>
                    <a:pt x="2774" y="493"/>
                  </a:lnTo>
                  <a:lnTo>
                    <a:pt x="2779" y="521"/>
                  </a:lnTo>
                  <a:lnTo>
                    <a:pt x="2782" y="549"/>
                  </a:lnTo>
                  <a:lnTo>
                    <a:pt x="2784" y="576"/>
                  </a:lnTo>
                  <a:lnTo>
                    <a:pt x="2784" y="602"/>
                  </a:lnTo>
                  <a:lnTo>
                    <a:pt x="2782" y="626"/>
                  </a:lnTo>
                  <a:lnTo>
                    <a:pt x="2778" y="647"/>
                  </a:lnTo>
                  <a:lnTo>
                    <a:pt x="2770" y="667"/>
                  </a:lnTo>
                  <a:lnTo>
                    <a:pt x="2761" y="683"/>
                  </a:lnTo>
                  <a:lnTo>
                    <a:pt x="2762" y="695"/>
                  </a:lnTo>
                  <a:lnTo>
                    <a:pt x="2763" y="705"/>
                  </a:lnTo>
                  <a:lnTo>
                    <a:pt x="2765" y="714"/>
                  </a:lnTo>
                  <a:lnTo>
                    <a:pt x="2767" y="723"/>
                  </a:lnTo>
                  <a:lnTo>
                    <a:pt x="2769" y="732"/>
                  </a:lnTo>
                  <a:lnTo>
                    <a:pt x="2771" y="741"/>
                  </a:lnTo>
                  <a:lnTo>
                    <a:pt x="2772" y="751"/>
                  </a:lnTo>
                  <a:lnTo>
                    <a:pt x="2773" y="763"/>
                  </a:lnTo>
                  <a:lnTo>
                    <a:pt x="2769" y="769"/>
                  </a:lnTo>
                  <a:lnTo>
                    <a:pt x="2764" y="774"/>
                  </a:lnTo>
                  <a:lnTo>
                    <a:pt x="2758" y="780"/>
                  </a:lnTo>
                  <a:lnTo>
                    <a:pt x="2753" y="785"/>
                  </a:lnTo>
                  <a:lnTo>
                    <a:pt x="2747" y="788"/>
                  </a:lnTo>
                  <a:lnTo>
                    <a:pt x="2740" y="791"/>
                  </a:lnTo>
                  <a:lnTo>
                    <a:pt x="2733" y="794"/>
                  </a:lnTo>
                  <a:lnTo>
                    <a:pt x="2724" y="795"/>
                  </a:lnTo>
                  <a:lnTo>
                    <a:pt x="2723" y="807"/>
                  </a:lnTo>
                  <a:lnTo>
                    <a:pt x="2721" y="820"/>
                  </a:lnTo>
                  <a:lnTo>
                    <a:pt x="2719" y="834"/>
                  </a:lnTo>
                  <a:lnTo>
                    <a:pt x="2715" y="849"/>
                  </a:lnTo>
                  <a:lnTo>
                    <a:pt x="2709" y="864"/>
                  </a:lnTo>
                  <a:lnTo>
                    <a:pt x="2703" y="880"/>
                  </a:lnTo>
                  <a:lnTo>
                    <a:pt x="2696" y="896"/>
                  </a:lnTo>
                  <a:lnTo>
                    <a:pt x="2689" y="911"/>
                  </a:lnTo>
                  <a:lnTo>
                    <a:pt x="2681" y="927"/>
                  </a:lnTo>
                  <a:lnTo>
                    <a:pt x="2674" y="942"/>
                  </a:lnTo>
                  <a:lnTo>
                    <a:pt x="2665" y="957"/>
                  </a:lnTo>
                  <a:lnTo>
                    <a:pt x="2658" y="971"/>
                  </a:lnTo>
                  <a:lnTo>
                    <a:pt x="2649" y="984"/>
                  </a:lnTo>
                  <a:lnTo>
                    <a:pt x="2642" y="997"/>
                  </a:lnTo>
                  <a:lnTo>
                    <a:pt x="2634" y="1008"/>
                  </a:lnTo>
                  <a:lnTo>
                    <a:pt x="2627" y="1017"/>
                  </a:lnTo>
                  <a:lnTo>
                    <a:pt x="2621" y="1021"/>
                  </a:lnTo>
                  <a:lnTo>
                    <a:pt x="2616" y="1025"/>
                  </a:lnTo>
                  <a:lnTo>
                    <a:pt x="2610" y="1027"/>
                  </a:lnTo>
                  <a:lnTo>
                    <a:pt x="2603" y="1028"/>
                  </a:lnTo>
                  <a:lnTo>
                    <a:pt x="2597" y="1028"/>
                  </a:lnTo>
                  <a:lnTo>
                    <a:pt x="2590" y="1027"/>
                  </a:lnTo>
                  <a:lnTo>
                    <a:pt x="2584" y="1022"/>
                  </a:lnTo>
                  <a:lnTo>
                    <a:pt x="2578" y="1017"/>
                  </a:lnTo>
                  <a:lnTo>
                    <a:pt x="2570" y="1036"/>
                  </a:lnTo>
                  <a:lnTo>
                    <a:pt x="2563" y="1057"/>
                  </a:lnTo>
                  <a:lnTo>
                    <a:pt x="2553" y="1078"/>
                  </a:lnTo>
                  <a:lnTo>
                    <a:pt x="2543" y="1101"/>
                  </a:lnTo>
                  <a:lnTo>
                    <a:pt x="2533" y="1122"/>
                  </a:lnTo>
                  <a:lnTo>
                    <a:pt x="2522" y="1142"/>
                  </a:lnTo>
                  <a:lnTo>
                    <a:pt x="2510" y="1160"/>
                  </a:lnTo>
                  <a:lnTo>
                    <a:pt x="2497" y="1178"/>
                  </a:lnTo>
                  <a:lnTo>
                    <a:pt x="2494" y="1182"/>
                  </a:lnTo>
                  <a:lnTo>
                    <a:pt x="2490" y="1187"/>
                  </a:lnTo>
                  <a:lnTo>
                    <a:pt x="2487" y="1194"/>
                  </a:lnTo>
                  <a:lnTo>
                    <a:pt x="2482" y="1201"/>
                  </a:lnTo>
                  <a:lnTo>
                    <a:pt x="2479" y="1209"/>
                  </a:lnTo>
                  <a:lnTo>
                    <a:pt x="2475" y="1215"/>
                  </a:lnTo>
                  <a:lnTo>
                    <a:pt x="2473" y="1223"/>
                  </a:lnTo>
                  <a:lnTo>
                    <a:pt x="2469" y="12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6" name="Freeform 18"/>
            <p:cNvSpPr/>
            <p:nvPr/>
          </p:nvSpPr>
          <p:spPr>
            <a:xfrm>
              <a:off x="2209680" y="3310920"/>
              <a:ext cx="283320" cy="310680"/>
            </a:xfrm>
            <a:custGeom>
              <a:avLst/>
              <a:gdLst>
                <a:gd name="textAreaLeft" fmla="*/ 0 w 283320"/>
                <a:gd name="textAreaRight" fmla="*/ 283680 w 283320"/>
                <a:gd name="textAreaTop" fmla="*/ 0 h 310680"/>
                <a:gd name="textAreaBottom" fmla="*/ 311040 h 310680"/>
              </a:gdLst>
              <a:ahLst/>
              <a:rect l="textAreaLeft" t="textAreaTop" r="textAreaRight" b="textAreaBottom"/>
              <a:pathLst>
                <a:path w="3700" h="4164">
                  <a:moveTo>
                    <a:pt x="1717" y="1708"/>
                  </a:moveTo>
                  <a:lnTo>
                    <a:pt x="1693" y="1689"/>
                  </a:lnTo>
                  <a:lnTo>
                    <a:pt x="1668" y="1668"/>
                  </a:lnTo>
                  <a:lnTo>
                    <a:pt x="1642" y="1643"/>
                  </a:lnTo>
                  <a:lnTo>
                    <a:pt x="1614" y="1616"/>
                  </a:lnTo>
                  <a:lnTo>
                    <a:pt x="1586" y="1588"/>
                  </a:lnTo>
                  <a:lnTo>
                    <a:pt x="1557" y="1560"/>
                  </a:lnTo>
                  <a:lnTo>
                    <a:pt x="1529" y="1529"/>
                  </a:lnTo>
                  <a:lnTo>
                    <a:pt x="1500" y="1498"/>
                  </a:lnTo>
                  <a:lnTo>
                    <a:pt x="1471" y="1467"/>
                  </a:lnTo>
                  <a:lnTo>
                    <a:pt x="1442" y="1434"/>
                  </a:lnTo>
                  <a:lnTo>
                    <a:pt x="1414" y="1402"/>
                  </a:lnTo>
                  <a:lnTo>
                    <a:pt x="1387" y="1371"/>
                  </a:lnTo>
                  <a:lnTo>
                    <a:pt x="1363" y="1340"/>
                  </a:lnTo>
                  <a:lnTo>
                    <a:pt x="1338" y="1311"/>
                  </a:lnTo>
                  <a:lnTo>
                    <a:pt x="1316" y="1284"/>
                  </a:lnTo>
                  <a:lnTo>
                    <a:pt x="1295" y="1257"/>
                  </a:lnTo>
                  <a:lnTo>
                    <a:pt x="1271" y="1225"/>
                  </a:lnTo>
                  <a:lnTo>
                    <a:pt x="1260" y="1208"/>
                  </a:lnTo>
                  <a:lnTo>
                    <a:pt x="1251" y="1191"/>
                  </a:lnTo>
                  <a:lnTo>
                    <a:pt x="1245" y="1172"/>
                  </a:lnTo>
                  <a:lnTo>
                    <a:pt x="1241" y="1154"/>
                  </a:lnTo>
                  <a:lnTo>
                    <a:pt x="1238" y="1136"/>
                  </a:lnTo>
                  <a:lnTo>
                    <a:pt x="1237" y="1118"/>
                  </a:lnTo>
                  <a:lnTo>
                    <a:pt x="1237" y="1101"/>
                  </a:lnTo>
                  <a:lnTo>
                    <a:pt x="1238" y="1084"/>
                  </a:lnTo>
                  <a:lnTo>
                    <a:pt x="1241" y="1068"/>
                  </a:lnTo>
                  <a:lnTo>
                    <a:pt x="1244" y="1054"/>
                  </a:lnTo>
                  <a:lnTo>
                    <a:pt x="1248" y="1040"/>
                  </a:lnTo>
                  <a:lnTo>
                    <a:pt x="1252" y="1028"/>
                  </a:lnTo>
                  <a:lnTo>
                    <a:pt x="1257" y="1018"/>
                  </a:lnTo>
                  <a:lnTo>
                    <a:pt x="1262" y="1011"/>
                  </a:lnTo>
                  <a:lnTo>
                    <a:pt x="1266" y="1006"/>
                  </a:lnTo>
                  <a:lnTo>
                    <a:pt x="1271" y="1002"/>
                  </a:lnTo>
                  <a:lnTo>
                    <a:pt x="1269" y="1045"/>
                  </a:lnTo>
                  <a:lnTo>
                    <a:pt x="1274" y="1084"/>
                  </a:lnTo>
                  <a:lnTo>
                    <a:pt x="1281" y="1120"/>
                  </a:lnTo>
                  <a:lnTo>
                    <a:pt x="1292" y="1154"/>
                  </a:lnTo>
                  <a:lnTo>
                    <a:pt x="1307" y="1186"/>
                  </a:lnTo>
                  <a:lnTo>
                    <a:pt x="1324" y="1216"/>
                  </a:lnTo>
                  <a:lnTo>
                    <a:pt x="1343" y="1245"/>
                  </a:lnTo>
                  <a:lnTo>
                    <a:pt x="1365" y="1272"/>
                  </a:lnTo>
                  <a:lnTo>
                    <a:pt x="1388" y="1300"/>
                  </a:lnTo>
                  <a:lnTo>
                    <a:pt x="1412" y="1326"/>
                  </a:lnTo>
                  <a:lnTo>
                    <a:pt x="1438" y="1354"/>
                  </a:lnTo>
                  <a:lnTo>
                    <a:pt x="1463" y="1382"/>
                  </a:lnTo>
                  <a:lnTo>
                    <a:pt x="1490" y="1412"/>
                  </a:lnTo>
                  <a:lnTo>
                    <a:pt x="1516" y="1443"/>
                  </a:lnTo>
                  <a:lnTo>
                    <a:pt x="1540" y="1475"/>
                  </a:lnTo>
                  <a:lnTo>
                    <a:pt x="1565" y="1510"/>
                  </a:lnTo>
                  <a:lnTo>
                    <a:pt x="1571" y="1520"/>
                  </a:lnTo>
                  <a:lnTo>
                    <a:pt x="1580" y="1531"/>
                  </a:lnTo>
                  <a:lnTo>
                    <a:pt x="1588" y="1542"/>
                  </a:lnTo>
                  <a:lnTo>
                    <a:pt x="1598" y="1554"/>
                  </a:lnTo>
                  <a:lnTo>
                    <a:pt x="1609" y="1567"/>
                  </a:lnTo>
                  <a:lnTo>
                    <a:pt x="1620" y="1580"/>
                  </a:lnTo>
                  <a:lnTo>
                    <a:pt x="1630" y="1593"/>
                  </a:lnTo>
                  <a:lnTo>
                    <a:pt x="1642" y="1607"/>
                  </a:lnTo>
                  <a:lnTo>
                    <a:pt x="1653" y="1621"/>
                  </a:lnTo>
                  <a:lnTo>
                    <a:pt x="1664" y="1633"/>
                  </a:lnTo>
                  <a:lnTo>
                    <a:pt x="1675" y="1647"/>
                  </a:lnTo>
                  <a:lnTo>
                    <a:pt x="1685" y="1660"/>
                  </a:lnTo>
                  <a:lnTo>
                    <a:pt x="1694" y="1673"/>
                  </a:lnTo>
                  <a:lnTo>
                    <a:pt x="1703" y="1685"/>
                  </a:lnTo>
                  <a:lnTo>
                    <a:pt x="1710" y="1698"/>
                  </a:lnTo>
                  <a:lnTo>
                    <a:pt x="1717" y="1708"/>
                  </a:lnTo>
                  <a:close/>
                  <a:moveTo>
                    <a:pt x="1169" y="229"/>
                  </a:moveTo>
                  <a:lnTo>
                    <a:pt x="1159" y="275"/>
                  </a:lnTo>
                  <a:lnTo>
                    <a:pt x="1152" y="319"/>
                  </a:lnTo>
                  <a:lnTo>
                    <a:pt x="1145" y="358"/>
                  </a:lnTo>
                  <a:lnTo>
                    <a:pt x="1141" y="396"/>
                  </a:lnTo>
                  <a:lnTo>
                    <a:pt x="1137" y="431"/>
                  </a:lnTo>
                  <a:lnTo>
                    <a:pt x="1135" y="465"/>
                  </a:lnTo>
                  <a:lnTo>
                    <a:pt x="1131" y="499"/>
                  </a:lnTo>
                  <a:lnTo>
                    <a:pt x="1130" y="531"/>
                  </a:lnTo>
                  <a:lnTo>
                    <a:pt x="1128" y="563"/>
                  </a:lnTo>
                  <a:lnTo>
                    <a:pt x="1126" y="595"/>
                  </a:lnTo>
                  <a:lnTo>
                    <a:pt x="1124" y="628"/>
                  </a:lnTo>
                  <a:lnTo>
                    <a:pt x="1121" y="662"/>
                  </a:lnTo>
                  <a:lnTo>
                    <a:pt x="1117" y="697"/>
                  </a:lnTo>
                  <a:lnTo>
                    <a:pt x="1112" y="736"/>
                  </a:lnTo>
                  <a:lnTo>
                    <a:pt x="1106" y="777"/>
                  </a:lnTo>
                  <a:lnTo>
                    <a:pt x="1098" y="820"/>
                  </a:lnTo>
                  <a:lnTo>
                    <a:pt x="1056" y="967"/>
                  </a:lnTo>
                  <a:lnTo>
                    <a:pt x="1041" y="1042"/>
                  </a:lnTo>
                  <a:lnTo>
                    <a:pt x="1031" y="1049"/>
                  </a:lnTo>
                  <a:lnTo>
                    <a:pt x="1019" y="1059"/>
                  </a:lnTo>
                  <a:lnTo>
                    <a:pt x="1007" y="1070"/>
                  </a:lnTo>
                  <a:lnTo>
                    <a:pt x="994" y="1080"/>
                  </a:lnTo>
                  <a:lnTo>
                    <a:pt x="980" y="1090"/>
                  </a:lnTo>
                  <a:lnTo>
                    <a:pt x="967" y="1100"/>
                  </a:lnTo>
                  <a:lnTo>
                    <a:pt x="953" y="1107"/>
                  </a:lnTo>
                  <a:lnTo>
                    <a:pt x="937" y="1111"/>
                  </a:lnTo>
                  <a:lnTo>
                    <a:pt x="948" y="1115"/>
                  </a:lnTo>
                  <a:lnTo>
                    <a:pt x="962" y="1111"/>
                  </a:lnTo>
                  <a:lnTo>
                    <a:pt x="977" y="1104"/>
                  </a:lnTo>
                  <a:lnTo>
                    <a:pt x="993" y="1092"/>
                  </a:lnTo>
                  <a:lnTo>
                    <a:pt x="1009" y="1078"/>
                  </a:lnTo>
                  <a:lnTo>
                    <a:pt x="1024" y="1063"/>
                  </a:lnTo>
                  <a:lnTo>
                    <a:pt x="1037" y="1048"/>
                  </a:lnTo>
                  <a:lnTo>
                    <a:pt x="1048" y="1035"/>
                  </a:lnTo>
                  <a:lnTo>
                    <a:pt x="1045" y="1045"/>
                  </a:lnTo>
                  <a:lnTo>
                    <a:pt x="1043" y="1057"/>
                  </a:lnTo>
                  <a:lnTo>
                    <a:pt x="1040" y="1072"/>
                  </a:lnTo>
                  <a:lnTo>
                    <a:pt x="1038" y="1089"/>
                  </a:lnTo>
                  <a:lnTo>
                    <a:pt x="1038" y="1108"/>
                  </a:lnTo>
                  <a:lnTo>
                    <a:pt x="1037" y="1130"/>
                  </a:lnTo>
                  <a:lnTo>
                    <a:pt x="1038" y="1152"/>
                  </a:lnTo>
                  <a:lnTo>
                    <a:pt x="1040" y="1176"/>
                  </a:lnTo>
                  <a:lnTo>
                    <a:pt x="1043" y="1201"/>
                  </a:lnTo>
                  <a:lnTo>
                    <a:pt x="1047" y="1227"/>
                  </a:lnTo>
                  <a:lnTo>
                    <a:pt x="1052" y="1253"/>
                  </a:lnTo>
                  <a:lnTo>
                    <a:pt x="1059" y="1279"/>
                  </a:lnTo>
                  <a:lnTo>
                    <a:pt x="1066" y="1306"/>
                  </a:lnTo>
                  <a:lnTo>
                    <a:pt x="1076" y="1333"/>
                  </a:lnTo>
                  <a:lnTo>
                    <a:pt x="1086" y="1359"/>
                  </a:lnTo>
                  <a:lnTo>
                    <a:pt x="1099" y="1384"/>
                  </a:lnTo>
                  <a:lnTo>
                    <a:pt x="1101" y="1421"/>
                  </a:lnTo>
                  <a:lnTo>
                    <a:pt x="1107" y="1456"/>
                  </a:lnTo>
                  <a:lnTo>
                    <a:pt x="1116" y="1492"/>
                  </a:lnTo>
                  <a:lnTo>
                    <a:pt x="1128" y="1528"/>
                  </a:lnTo>
                  <a:lnTo>
                    <a:pt x="1143" y="1562"/>
                  </a:lnTo>
                  <a:lnTo>
                    <a:pt x="1160" y="1596"/>
                  </a:lnTo>
                  <a:lnTo>
                    <a:pt x="1181" y="1629"/>
                  </a:lnTo>
                  <a:lnTo>
                    <a:pt x="1202" y="1660"/>
                  </a:lnTo>
                  <a:lnTo>
                    <a:pt x="1225" y="1690"/>
                  </a:lnTo>
                  <a:lnTo>
                    <a:pt x="1249" y="1718"/>
                  </a:lnTo>
                  <a:lnTo>
                    <a:pt x="1275" y="1743"/>
                  </a:lnTo>
                  <a:lnTo>
                    <a:pt x="1301" y="1766"/>
                  </a:lnTo>
                  <a:lnTo>
                    <a:pt x="1327" y="1786"/>
                  </a:lnTo>
                  <a:lnTo>
                    <a:pt x="1354" y="1805"/>
                  </a:lnTo>
                  <a:lnTo>
                    <a:pt x="1380" y="1818"/>
                  </a:lnTo>
                  <a:lnTo>
                    <a:pt x="1405" y="1829"/>
                  </a:lnTo>
                  <a:lnTo>
                    <a:pt x="1430" y="1829"/>
                  </a:lnTo>
                  <a:lnTo>
                    <a:pt x="1418" y="1814"/>
                  </a:lnTo>
                  <a:lnTo>
                    <a:pt x="1404" y="1798"/>
                  </a:lnTo>
                  <a:lnTo>
                    <a:pt x="1390" y="1781"/>
                  </a:lnTo>
                  <a:lnTo>
                    <a:pt x="1377" y="1764"/>
                  </a:lnTo>
                  <a:lnTo>
                    <a:pt x="1362" y="1747"/>
                  </a:lnTo>
                  <a:lnTo>
                    <a:pt x="1347" y="1729"/>
                  </a:lnTo>
                  <a:lnTo>
                    <a:pt x="1333" y="1710"/>
                  </a:lnTo>
                  <a:lnTo>
                    <a:pt x="1318" y="1691"/>
                  </a:lnTo>
                  <a:lnTo>
                    <a:pt x="1304" y="1673"/>
                  </a:lnTo>
                  <a:lnTo>
                    <a:pt x="1290" y="1654"/>
                  </a:lnTo>
                  <a:lnTo>
                    <a:pt x="1278" y="1634"/>
                  </a:lnTo>
                  <a:lnTo>
                    <a:pt x="1266" y="1616"/>
                  </a:lnTo>
                  <a:lnTo>
                    <a:pt x="1256" y="1597"/>
                  </a:lnTo>
                  <a:lnTo>
                    <a:pt x="1247" y="1579"/>
                  </a:lnTo>
                  <a:lnTo>
                    <a:pt x="1240" y="1561"/>
                  </a:lnTo>
                  <a:lnTo>
                    <a:pt x="1234" y="1542"/>
                  </a:lnTo>
                  <a:lnTo>
                    <a:pt x="1222" y="1503"/>
                  </a:lnTo>
                  <a:lnTo>
                    <a:pt x="1213" y="1463"/>
                  </a:lnTo>
                  <a:lnTo>
                    <a:pt x="1204" y="1423"/>
                  </a:lnTo>
                  <a:lnTo>
                    <a:pt x="1198" y="1381"/>
                  </a:lnTo>
                  <a:lnTo>
                    <a:pt x="1192" y="1339"/>
                  </a:lnTo>
                  <a:lnTo>
                    <a:pt x="1188" y="1296"/>
                  </a:lnTo>
                  <a:lnTo>
                    <a:pt x="1185" y="1254"/>
                  </a:lnTo>
                  <a:lnTo>
                    <a:pt x="1184" y="1210"/>
                  </a:lnTo>
                  <a:lnTo>
                    <a:pt x="1183" y="1165"/>
                  </a:lnTo>
                  <a:lnTo>
                    <a:pt x="1184" y="1121"/>
                  </a:lnTo>
                  <a:lnTo>
                    <a:pt x="1185" y="1075"/>
                  </a:lnTo>
                  <a:lnTo>
                    <a:pt x="1186" y="1030"/>
                  </a:lnTo>
                  <a:lnTo>
                    <a:pt x="1189" y="984"/>
                  </a:lnTo>
                  <a:lnTo>
                    <a:pt x="1191" y="938"/>
                  </a:lnTo>
                  <a:lnTo>
                    <a:pt x="1195" y="892"/>
                  </a:lnTo>
                  <a:lnTo>
                    <a:pt x="1199" y="845"/>
                  </a:lnTo>
                  <a:lnTo>
                    <a:pt x="1202" y="799"/>
                  </a:lnTo>
                  <a:lnTo>
                    <a:pt x="1206" y="752"/>
                  </a:lnTo>
                  <a:lnTo>
                    <a:pt x="1210" y="705"/>
                  </a:lnTo>
                  <a:lnTo>
                    <a:pt x="1214" y="659"/>
                  </a:lnTo>
                  <a:lnTo>
                    <a:pt x="1217" y="612"/>
                  </a:lnTo>
                  <a:lnTo>
                    <a:pt x="1220" y="565"/>
                  </a:lnTo>
                  <a:lnTo>
                    <a:pt x="1223" y="519"/>
                  </a:lnTo>
                  <a:lnTo>
                    <a:pt x="1226" y="472"/>
                  </a:lnTo>
                  <a:lnTo>
                    <a:pt x="1227" y="426"/>
                  </a:lnTo>
                  <a:lnTo>
                    <a:pt x="1228" y="380"/>
                  </a:lnTo>
                  <a:lnTo>
                    <a:pt x="1227" y="335"/>
                  </a:lnTo>
                  <a:lnTo>
                    <a:pt x="1226" y="289"/>
                  </a:lnTo>
                  <a:lnTo>
                    <a:pt x="1223" y="244"/>
                  </a:lnTo>
                  <a:lnTo>
                    <a:pt x="1220" y="200"/>
                  </a:lnTo>
                  <a:lnTo>
                    <a:pt x="1216" y="156"/>
                  </a:lnTo>
                  <a:lnTo>
                    <a:pt x="1210" y="112"/>
                  </a:lnTo>
                  <a:lnTo>
                    <a:pt x="1207" y="112"/>
                  </a:lnTo>
                  <a:lnTo>
                    <a:pt x="1203" y="124"/>
                  </a:lnTo>
                  <a:lnTo>
                    <a:pt x="1197" y="142"/>
                  </a:lnTo>
                  <a:lnTo>
                    <a:pt x="1189" y="165"/>
                  </a:lnTo>
                  <a:lnTo>
                    <a:pt x="1182" y="188"/>
                  </a:lnTo>
                  <a:lnTo>
                    <a:pt x="1175" y="209"/>
                  </a:lnTo>
                  <a:lnTo>
                    <a:pt x="1171" y="224"/>
                  </a:lnTo>
                  <a:lnTo>
                    <a:pt x="1169" y="229"/>
                  </a:lnTo>
                  <a:close/>
                  <a:moveTo>
                    <a:pt x="672" y="859"/>
                  </a:moveTo>
                  <a:lnTo>
                    <a:pt x="660" y="876"/>
                  </a:lnTo>
                  <a:lnTo>
                    <a:pt x="651" y="890"/>
                  </a:lnTo>
                  <a:lnTo>
                    <a:pt x="644" y="904"/>
                  </a:lnTo>
                  <a:lnTo>
                    <a:pt x="640" y="917"/>
                  </a:lnTo>
                  <a:lnTo>
                    <a:pt x="638" y="931"/>
                  </a:lnTo>
                  <a:lnTo>
                    <a:pt x="637" y="947"/>
                  </a:lnTo>
                  <a:lnTo>
                    <a:pt x="636" y="965"/>
                  </a:lnTo>
                  <a:lnTo>
                    <a:pt x="636" y="986"/>
                  </a:lnTo>
                  <a:lnTo>
                    <a:pt x="648" y="1004"/>
                  </a:lnTo>
                  <a:lnTo>
                    <a:pt x="657" y="1025"/>
                  </a:lnTo>
                  <a:lnTo>
                    <a:pt x="665" y="1045"/>
                  </a:lnTo>
                  <a:lnTo>
                    <a:pt x="672" y="1065"/>
                  </a:lnTo>
                  <a:lnTo>
                    <a:pt x="680" y="1087"/>
                  </a:lnTo>
                  <a:lnTo>
                    <a:pt x="687" y="1107"/>
                  </a:lnTo>
                  <a:lnTo>
                    <a:pt x="697" y="1127"/>
                  </a:lnTo>
                  <a:lnTo>
                    <a:pt x="709" y="1146"/>
                  </a:lnTo>
                  <a:lnTo>
                    <a:pt x="709" y="1209"/>
                  </a:lnTo>
                  <a:lnTo>
                    <a:pt x="745" y="1257"/>
                  </a:lnTo>
                  <a:lnTo>
                    <a:pt x="755" y="1245"/>
                  </a:lnTo>
                  <a:lnTo>
                    <a:pt x="765" y="1234"/>
                  </a:lnTo>
                  <a:lnTo>
                    <a:pt x="776" y="1225"/>
                  </a:lnTo>
                  <a:lnTo>
                    <a:pt x="788" y="1216"/>
                  </a:lnTo>
                  <a:lnTo>
                    <a:pt x="800" y="1208"/>
                  </a:lnTo>
                  <a:lnTo>
                    <a:pt x="811" y="1200"/>
                  </a:lnTo>
                  <a:lnTo>
                    <a:pt x="824" y="1193"/>
                  </a:lnTo>
                  <a:lnTo>
                    <a:pt x="837" y="1185"/>
                  </a:lnTo>
                  <a:lnTo>
                    <a:pt x="850" y="1178"/>
                  </a:lnTo>
                  <a:lnTo>
                    <a:pt x="862" y="1170"/>
                  </a:lnTo>
                  <a:lnTo>
                    <a:pt x="875" y="1162"/>
                  </a:lnTo>
                  <a:lnTo>
                    <a:pt x="886" y="1153"/>
                  </a:lnTo>
                  <a:lnTo>
                    <a:pt x="897" y="1145"/>
                  </a:lnTo>
                  <a:lnTo>
                    <a:pt x="909" y="1135"/>
                  </a:lnTo>
                  <a:lnTo>
                    <a:pt x="918" y="1125"/>
                  </a:lnTo>
                  <a:lnTo>
                    <a:pt x="928" y="1114"/>
                  </a:lnTo>
                  <a:lnTo>
                    <a:pt x="913" y="1119"/>
                  </a:lnTo>
                  <a:lnTo>
                    <a:pt x="900" y="1122"/>
                  </a:lnTo>
                  <a:lnTo>
                    <a:pt x="888" y="1122"/>
                  </a:lnTo>
                  <a:lnTo>
                    <a:pt x="877" y="1121"/>
                  </a:lnTo>
                  <a:lnTo>
                    <a:pt x="865" y="1119"/>
                  </a:lnTo>
                  <a:lnTo>
                    <a:pt x="854" y="1117"/>
                  </a:lnTo>
                  <a:lnTo>
                    <a:pt x="842" y="1115"/>
                  </a:lnTo>
                  <a:lnTo>
                    <a:pt x="831" y="1114"/>
                  </a:lnTo>
                  <a:lnTo>
                    <a:pt x="821" y="1102"/>
                  </a:lnTo>
                  <a:lnTo>
                    <a:pt x="811" y="1091"/>
                  </a:lnTo>
                  <a:lnTo>
                    <a:pt x="801" y="1080"/>
                  </a:lnTo>
                  <a:lnTo>
                    <a:pt x="790" y="1071"/>
                  </a:lnTo>
                  <a:lnTo>
                    <a:pt x="779" y="1060"/>
                  </a:lnTo>
                  <a:lnTo>
                    <a:pt x="770" y="1050"/>
                  </a:lnTo>
                  <a:lnTo>
                    <a:pt x="759" y="1041"/>
                  </a:lnTo>
                  <a:lnTo>
                    <a:pt x="748" y="1030"/>
                  </a:lnTo>
                  <a:lnTo>
                    <a:pt x="738" y="1019"/>
                  </a:lnTo>
                  <a:lnTo>
                    <a:pt x="728" y="1009"/>
                  </a:lnTo>
                  <a:lnTo>
                    <a:pt x="719" y="997"/>
                  </a:lnTo>
                  <a:lnTo>
                    <a:pt x="711" y="984"/>
                  </a:lnTo>
                  <a:lnTo>
                    <a:pt x="702" y="970"/>
                  </a:lnTo>
                  <a:lnTo>
                    <a:pt x="696" y="956"/>
                  </a:lnTo>
                  <a:lnTo>
                    <a:pt x="689" y="940"/>
                  </a:lnTo>
                  <a:lnTo>
                    <a:pt x="684" y="923"/>
                  </a:lnTo>
                  <a:lnTo>
                    <a:pt x="684" y="917"/>
                  </a:lnTo>
                  <a:lnTo>
                    <a:pt x="682" y="911"/>
                  </a:lnTo>
                  <a:lnTo>
                    <a:pt x="681" y="904"/>
                  </a:lnTo>
                  <a:lnTo>
                    <a:pt x="679" y="897"/>
                  </a:lnTo>
                  <a:lnTo>
                    <a:pt x="675" y="889"/>
                  </a:lnTo>
                  <a:lnTo>
                    <a:pt x="674" y="880"/>
                  </a:lnTo>
                  <a:lnTo>
                    <a:pt x="672" y="871"/>
                  </a:lnTo>
                  <a:lnTo>
                    <a:pt x="672" y="859"/>
                  </a:lnTo>
                  <a:close/>
                  <a:moveTo>
                    <a:pt x="354" y="859"/>
                  </a:moveTo>
                  <a:lnTo>
                    <a:pt x="349" y="860"/>
                  </a:lnTo>
                  <a:lnTo>
                    <a:pt x="344" y="862"/>
                  </a:lnTo>
                  <a:lnTo>
                    <a:pt x="337" y="865"/>
                  </a:lnTo>
                  <a:lnTo>
                    <a:pt x="332" y="869"/>
                  </a:lnTo>
                  <a:lnTo>
                    <a:pt x="326" y="874"/>
                  </a:lnTo>
                  <a:lnTo>
                    <a:pt x="322" y="879"/>
                  </a:lnTo>
                  <a:lnTo>
                    <a:pt x="319" y="885"/>
                  </a:lnTo>
                  <a:lnTo>
                    <a:pt x="318" y="891"/>
                  </a:lnTo>
                  <a:lnTo>
                    <a:pt x="322" y="897"/>
                  </a:lnTo>
                  <a:lnTo>
                    <a:pt x="326" y="906"/>
                  </a:lnTo>
                  <a:lnTo>
                    <a:pt x="332" y="915"/>
                  </a:lnTo>
                  <a:lnTo>
                    <a:pt x="336" y="923"/>
                  </a:lnTo>
                  <a:lnTo>
                    <a:pt x="340" y="932"/>
                  </a:lnTo>
                  <a:lnTo>
                    <a:pt x="346" y="940"/>
                  </a:lnTo>
                  <a:lnTo>
                    <a:pt x="350" y="948"/>
                  </a:lnTo>
                  <a:lnTo>
                    <a:pt x="354" y="954"/>
                  </a:lnTo>
                  <a:lnTo>
                    <a:pt x="374" y="955"/>
                  </a:lnTo>
                  <a:lnTo>
                    <a:pt x="393" y="960"/>
                  </a:lnTo>
                  <a:lnTo>
                    <a:pt x="413" y="965"/>
                  </a:lnTo>
                  <a:lnTo>
                    <a:pt x="435" y="973"/>
                  </a:lnTo>
                  <a:lnTo>
                    <a:pt x="457" y="983"/>
                  </a:lnTo>
                  <a:lnTo>
                    <a:pt x="478" y="995"/>
                  </a:lnTo>
                  <a:lnTo>
                    <a:pt x="501" y="1008"/>
                  </a:lnTo>
                  <a:lnTo>
                    <a:pt x="522" y="1022"/>
                  </a:lnTo>
                  <a:lnTo>
                    <a:pt x="544" y="1038"/>
                  </a:lnTo>
                  <a:lnTo>
                    <a:pt x="565" y="1054"/>
                  </a:lnTo>
                  <a:lnTo>
                    <a:pt x="586" y="1071"/>
                  </a:lnTo>
                  <a:lnTo>
                    <a:pt x="606" y="1089"/>
                  </a:lnTo>
                  <a:lnTo>
                    <a:pt x="624" y="1107"/>
                  </a:lnTo>
                  <a:lnTo>
                    <a:pt x="641" y="1125"/>
                  </a:lnTo>
                  <a:lnTo>
                    <a:pt x="657" y="1144"/>
                  </a:lnTo>
                  <a:lnTo>
                    <a:pt x="672" y="1162"/>
                  </a:lnTo>
                  <a:lnTo>
                    <a:pt x="675" y="1150"/>
                  </a:lnTo>
                  <a:lnTo>
                    <a:pt x="676" y="1137"/>
                  </a:lnTo>
                  <a:lnTo>
                    <a:pt x="675" y="1124"/>
                  </a:lnTo>
                  <a:lnTo>
                    <a:pt x="673" y="1111"/>
                  </a:lnTo>
                  <a:lnTo>
                    <a:pt x="669" y="1099"/>
                  </a:lnTo>
                  <a:lnTo>
                    <a:pt x="664" y="1085"/>
                  </a:lnTo>
                  <a:lnTo>
                    <a:pt x="657" y="1072"/>
                  </a:lnTo>
                  <a:lnTo>
                    <a:pt x="651" y="1058"/>
                  </a:lnTo>
                  <a:lnTo>
                    <a:pt x="644" y="1044"/>
                  </a:lnTo>
                  <a:lnTo>
                    <a:pt x="637" y="1031"/>
                  </a:lnTo>
                  <a:lnTo>
                    <a:pt x="630" y="1017"/>
                  </a:lnTo>
                  <a:lnTo>
                    <a:pt x="624" y="1004"/>
                  </a:lnTo>
                  <a:lnTo>
                    <a:pt x="619" y="992"/>
                  </a:lnTo>
                  <a:lnTo>
                    <a:pt x="614" y="979"/>
                  </a:lnTo>
                  <a:lnTo>
                    <a:pt x="612" y="966"/>
                  </a:lnTo>
                  <a:lnTo>
                    <a:pt x="611" y="954"/>
                  </a:lnTo>
                  <a:lnTo>
                    <a:pt x="599" y="946"/>
                  </a:lnTo>
                  <a:lnTo>
                    <a:pt x="586" y="936"/>
                  </a:lnTo>
                  <a:lnTo>
                    <a:pt x="572" y="926"/>
                  </a:lnTo>
                  <a:lnTo>
                    <a:pt x="556" y="917"/>
                  </a:lnTo>
                  <a:lnTo>
                    <a:pt x="539" y="908"/>
                  </a:lnTo>
                  <a:lnTo>
                    <a:pt x="522" y="900"/>
                  </a:lnTo>
                  <a:lnTo>
                    <a:pt x="505" y="891"/>
                  </a:lnTo>
                  <a:lnTo>
                    <a:pt x="487" y="883"/>
                  </a:lnTo>
                  <a:lnTo>
                    <a:pt x="469" y="876"/>
                  </a:lnTo>
                  <a:lnTo>
                    <a:pt x="452" y="870"/>
                  </a:lnTo>
                  <a:lnTo>
                    <a:pt x="434" y="864"/>
                  </a:lnTo>
                  <a:lnTo>
                    <a:pt x="416" y="860"/>
                  </a:lnTo>
                  <a:lnTo>
                    <a:pt x="400" y="858"/>
                  </a:lnTo>
                  <a:lnTo>
                    <a:pt x="383" y="857"/>
                  </a:lnTo>
                  <a:lnTo>
                    <a:pt x="368" y="857"/>
                  </a:lnTo>
                  <a:lnTo>
                    <a:pt x="354" y="859"/>
                  </a:lnTo>
                  <a:close/>
                  <a:moveTo>
                    <a:pt x="794" y="2369"/>
                  </a:moveTo>
                  <a:lnTo>
                    <a:pt x="789" y="2364"/>
                  </a:lnTo>
                  <a:lnTo>
                    <a:pt x="784" y="2358"/>
                  </a:lnTo>
                  <a:lnTo>
                    <a:pt x="777" y="2352"/>
                  </a:lnTo>
                  <a:lnTo>
                    <a:pt x="770" y="2346"/>
                  </a:lnTo>
                  <a:lnTo>
                    <a:pt x="762" y="2340"/>
                  </a:lnTo>
                  <a:lnTo>
                    <a:pt x="755" y="2335"/>
                  </a:lnTo>
                  <a:lnTo>
                    <a:pt x="747" y="2331"/>
                  </a:lnTo>
                  <a:lnTo>
                    <a:pt x="741" y="2327"/>
                  </a:lnTo>
                  <a:lnTo>
                    <a:pt x="721" y="2316"/>
                  </a:lnTo>
                  <a:lnTo>
                    <a:pt x="700" y="2307"/>
                  </a:lnTo>
                  <a:lnTo>
                    <a:pt x="680" y="2299"/>
                  </a:lnTo>
                  <a:lnTo>
                    <a:pt x="658" y="2291"/>
                  </a:lnTo>
                  <a:lnTo>
                    <a:pt x="637" y="2284"/>
                  </a:lnTo>
                  <a:lnTo>
                    <a:pt x="615" y="2276"/>
                  </a:lnTo>
                  <a:lnTo>
                    <a:pt x="595" y="2268"/>
                  </a:lnTo>
                  <a:lnTo>
                    <a:pt x="575" y="2258"/>
                  </a:lnTo>
                  <a:lnTo>
                    <a:pt x="557" y="2247"/>
                  </a:lnTo>
                  <a:lnTo>
                    <a:pt x="537" y="2233"/>
                  </a:lnTo>
                  <a:lnTo>
                    <a:pt x="518" y="2216"/>
                  </a:lnTo>
                  <a:lnTo>
                    <a:pt x="500" y="2196"/>
                  </a:lnTo>
                  <a:lnTo>
                    <a:pt x="481" y="2175"/>
                  </a:lnTo>
                  <a:lnTo>
                    <a:pt x="462" y="2151"/>
                  </a:lnTo>
                  <a:lnTo>
                    <a:pt x="443" y="2127"/>
                  </a:lnTo>
                  <a:lnTo>
                    <a:pt x="425" y="2101"/>
                  </a:lnTo>
                  <a:lnTo>
                    <a:pt x="407" y="2074"/>
                  </a:lnTo>
                  <a:lnTo>
                    <a:pt x="389" y="2048"/>
                  </a:lnTo>
                  <a:lnTo>
                    <a:pt x="371" y="2022"/>
                  </a:lnTo>
                  <a:lnTo>
                    <a:pt x="354" y="1996"/>
                  </a:lnTo>
                  <a:lnTo>
                    <a:pt x="338" y="1971"/>
                  </a:lnTo>
                  <a:lnTo>
                    <a:pt x="322" y="1949"/>
                  </a:lnTo>
                  <a:lnTo>
                    <a:pt x="307" y="1928"/>
                  </a:lnTo>
                  <a:lnTo>
                    <a:pt x="293" y="1908"/>
                  </a:lnTo>
                  <a:lnTo>
                    <a:pt x="267" y="1872"/>
                  </a:lnTo>
                  <a:lnTo>
                    <a:pt x="243" y="1836"/>
                  </a:lnTo>
                  <a:lnTo>
                    <a:pt x="221" y="1798"/>
                  </a:lnTo>
                  <a:lnTo>
                    <a:pt x="200" y="1761"/>
                  </a:lnTo>
                  <a:lnTo>
                    <a:pt x="181" y="1722"/>
                  </a:lnTo>
                  <a:lnTo>
                    <a:pt x="164" y="1683"/>
                  </a:lnTo>
                  <a:lnTo>
                    <a:pt x="147" y="1644"/>
                  </a:lnTo>
                  <a:lnTo>
                    <a:pt x="132" y="1605"/>
                  </a:lnTo>
                  <a:lnTo>
                    <a:pt x="117" y="1565"/>
                  </a:lnTo>
                  <a:lnTo>
                    <a:pt x="104" y="1525"/>
                  </a:lnTo>
                  <a:lnTo>
                    <a:pt x="90" y="1486"/>
                  </a:lnTo>
                  <a:lnTo>
                    <a:pt x="77" y="1445"/>
                  </a:lnTo>
                  <a:lnTo>
                    <a:pt x="64" y="1406"/>
                  </a:lnTo>
                  <a:lnTo>
                    <a:pt x="51" y="1366"/>
                  </a:lnTo>
                  <a:lnTo>
                    <a:pt x="39" y="1327"/>
                  </a:lnTo>
                  <a:lnTo>
                    <a:pt x="25" y="1288"/>
                  </a:lnTo>
                  <a:lnTo>
                    <a:pt x="18" y="1280"/>
                  </a:lnTo>
                  <a:lnTo>
                    <a:pt x="13" y="1273"/>
                  </a:lnTo>
                  <a:lnTo>
                    <a:pt x="6" y="1264"/>
                  </a:lnTo>
                  <a:lnTo>
                    <a:pt x="0" y="1257"/>
                  </a:lnTo>
                  <a:lnTo>
                    <a:pt x="1" y="1238"/>
                  </a:lnTo>
                  <a:lnTo>
                    <a:pt x="5" y="1217"/>
                  </a:lnTo>
                  <a:lnTo>
                    <a:pt x="12" y="1196"/>
                  </a:lnTo>
                  <a:lnTo>
                    <a:pt x="19" y="1173"/>
                  </a:lnTo>
                  <a:lnTo>
                    <a:pt x="29" y="1150"/>
                  </a:lnTo>
                  <a:lnTo>
                    <a:pt x="40" y="1125"/>
                  </a:lnTo>
                  <a:lnTo>
                    <a:pt x="51" y="1101"/>
                  </a:lnTo>
                  <a:lnTo>
                    <a:pt x="64" y="1076"/>
                  </a:lnTo>
                  <a:lnTo>
                    <a:pt x="77" y="1052"/>
                  </a:lnTo>
                  <a:lnTo>
                    <a:pt x="90" y="1028"/>
                  </a:lnTo>
                  <a:lnTo>
                    <a:pt x="102" y="1004"/>
                  </a:lnTo>
                  <a:lnTo>
                    <a:pt x="113" y="982"/>
                  </a:lnTo>
                  <a:lnTo>
                    <a:pt x="124" y="961"/>
                  </a:lnTo>
                  <a:lnTo>
                    <a:pt x="134" y="941"/>
                  </a:lnTo>
                  <a:lnTo>
                    <a:pt x="141" y="923"/>
                  </a:lnTo>
                  <a:lnTo>
                    <a:pt x="147" y="907"/>
                  </a:lnTo>
                  <a:lnTo>
                    <a:pt x="154" y="889"/>
                  </a:lnTo>
                  <a:lnTo>
                    <a:pt x="167" y="872"/>
                  </a:lnTo>
                  <a:lnTo>
                    <a:pt x="184" y="855"/>
                  </a:lnTo>
                  <a:lnTo>
                    <a:pt x="203" y="840"/>
                  </a:lnTo>
                  <a:lnTo>
                    <a:pt x="223" y="826"/>
                  </a:lnTo>
                  <a:lnTo>
                    <a:pt x="241" y="813"/>
                  </a:lnTo>
                  <a:lnTo>
                    <a:pt x="257" y="803"/>
                  </a:lnTo>
                  <a:lnTo>
                    <a:pt x="269" y="796"/>
                  </a:lnTo>
                  <a:lnTo>
                    <a:pt x="269" y="764"/>
                  </a:lnTo>
                  <a:lnTo>
                    <a:pt x="315" y="706"/>
                  </a:lnTo>
                  <a:lnTo>
                    <a:pt x="326" y="693"/>
                  </a:lnTo>
                  <a:lnTo>
                    <a:pt x="340" y="681"/>
                  </a:lnTo>
                  <a:lnTo>
                    <a:pt x="356" y="670"/>
                  </a:lnTo>
                  <a:lnTo>
                    <a:pt x="375" y="659"/>
                  </a:lnTo>
                  <a:lnTo>
                    <a:pt x="394" y="647"/>
                  </a:lnTo>
                  <a:lnTo>
                    <a:pt x="414" y="635"/>
                  </a:lnTo>
                  <a:lnTo>
                    <a:pt x="436" y="623"/>
                  </a:lnTo>
                  <a:lnTo>
                    <a:pt x="457" y="610"/>
                  </a:lnTo>
                  <a:lnTo>
                    <a:pt x="472" y="597"/>
                  </a:lnTo>
                  <a:lnTo>
                    <a:pt x="486" y="584"/>
                  </a:lnTo>
                  <a:lnTo>
                    <a:pt x="498" y="569"/>
                  </a:lnTo>
                  <a:lnTo>
                    <a:pt x="510" y="555"/>
                  </a:lnTo>
                  <a:lnTo>
                    <a:pt x="519" y="541"/>
                  </a:lnTo>
                  <a:lnTo>
                    <a:pt x="529" y="528"/>
                  </a:lnTo>
                  <a:lnTo>
                    <a:pt x="537" y="516"/>
                  </a:lnTo>
                  <a:lnTo>
                    <a:pt x="545" y="505"/>
                  </a:lnTo>
                  <a:lnTo>
                    <a:pt x="545" y="511"/>
                  </a:lnTo>
                  <a:lnTo>
                    <a:pt x="545" y="520"/>
                  </a:lnTo>
                  <a:lnTo>
                    <a:pt x="544" y="528"/>
                  </a:lnTo>
                  <a:lnTo>
                    <a:pt x="543" y="537"/>
                  </a:lnTo>
                  <a:lnTo>
                    <a:pt x="541" y="547"/>
                  </a:lnTo>
                  <a:lnTo>
                    <a:pt x="536" y="556"/>
                  </a:lnTo>
                  <a:lnTo>
                    <a:pt x="532" y="565"/>
                  </a:lnTo>
                  <a:lnTo>
                    <a:pt x="526" y="573"/>
                  </a:lnTo>
                  <a:lnTo>
                    <a:pt x="520" y="581"/>
                  </a:lnTo>
                  <a:lnTo>
                    <a:pt x="514" y="587"/>
                  </a:lnTo>
                  <a:lnTo>
                    <a:pt x="508" y="594"/>
                  </a:lnTo>
                  <a:lnTo>
                    <a:pt x="502" y="600"/>
                  </a:lnTo>
                  <a:lnTo>
                    <a:pt x="495" y="607"/>
                  </a:lnTo>
                  <a:lnTo>
                    <a:pt x="487" y="613"/>
                  </a:lnTo>
                  <a:lnTo>
                    <a:pt x="480" y="619"/>
                  </a:lnTo>
                  <a:lnTo>
                    <a:pt x="471" y="625"/>
                  </a:lnTo>
                  <a:lnTo>
                    <a:pt x="460" y="639"/>
                  </a:lnTo>
                  <a:lnTo>
                    <a:pt x="448" y="653"/>
                  </a:lnTo>
                  <a:lnTo>
                    <a:pt x="439" y="664"/>
                  </a:lnTo>
                  <a:lnTo>
                    <a:pt x="428" y="676"/>
                  </a:lnTo>
                  <a:lnTo>
                    <a:pt x="419" y="688"/>
                  </a:lnTo>
                  <a:lnTo>
                    <a:pt x="409" y="699"/>
                  </a:lnTo>
                  <a:lnTo>
                    <a:pt x="400" y="709"/>
                  </a:lnTo>
                  <a:lnTo>
                    <a:pt x="392" y="720"/>
                  </a:lnTo>
                  <a:lnTo>
                    <a:pt x="383" y="731"/>
                  </a:lnTo>
                  <a:lnTo>
                    <a:pt x="375" y="742"/>
                  </a:lnTo>
                  <a:lnTo>
                    <a:pt x="367" y="754"/>
                  </a:lnTo>
                  <a:lnTo>
                    <a:pt x="359" y="767"/>
                  </a:lnTo>
                  <a:lnTo>
                    <a:pt x="351" y="780"/>
                  </a:lnTo>
                  <a:lnTo>
                    <a:pt x="344" y="795"/>
                  </a:lnTo>
                  <a:lnTo>
                    <a:pt x="337" y="811"/>
                  </a:lnTo>
                  <a:lnTo>
                    <a:pt x="330" y="828"/>
                  </a:lnTo>
                  <a:lnTo>
                    <a:pt x="325" y="826"/>
                  </a:lnTo>
                  <a:lnTo>
                    <a:pt x="321" y="823"/>
                  </a:lnTo>
                  <a:lnTo>
                    <a:pt x="319" y="818"/>
                  </a:lnTo>
                  <a:lnTo>
                    <a:pt x="316" y="814"/>
                  </a:lnTo>
                  <a:lnTo>
                    <a:pt x="314" y="810"/>
                  </a:lnTo>
                  <a:lnTo>
                    <a:pt x="311" y="804"/>
                  </a:lnTo>
                  <a:lnTo>
                    <a:pt x="308" y="800"/>
                  </a:lnTo>
                  <a:lnTo>
                    <a:pt x="306" y="796"/>
                  </a:lnTo>
                  <a:lnTo>
                    <a:pt x="302" y="810"/>
                  </a:lnTo>
                  <a:lnTo>
                    <a:pt x="298" y="825"/>
                  </a:lnTo>
                  <a:lnTo>
                    <a:pt x="293" y="843"/>
                  </a:lnTo>
                  <a:lnTo>
                    <a:pt x="290" y="861"/>
                  </a:lnTo>
                  <a:lnTo>
                    <a:pt x="289" y="881"/>
                  </a:lnTo>
                  <a:lnTo>
                    <a:pt x="289" y="901"/>
                  </a:lnTo>
                  <a:lnTo>
                    <a:pt x="290" y="921"/>
                  </a:lnTo>
                  <a:lnTo>
                    <a:pt x="293" y="939"/>
                  </a:lnTo>
                  <a:lnTo>
                    <a:pt x="296" y="943"/>
                  </a:lnTo>
                  <a:lnTo>
                    <a:pt x="300" y="947"/>
                  </a:lnTo>
                  <a:lnTo>
                    <a:pt x="303" y="950"/>
                  </a:lnTo>
                  <a:lnTo>
                    <a:pt x="306" y="954"/>
                  </a:lnTo>
                  <a:lnTo>
                    <a:pt x="311" y="968"/>
                  </a:lnTo>
                  <a:lnTo>
                    <a:pt x="318" y="981"/>
                  </a:lnTo>
                  <a:lnTo>
                    <a:pt x="324" y="993"/>
                  </a:lnTo>
                  <a:lnTo>
                    <a:pt x="331" y="1004"/>
                  </a:lnTo>
                  <a:lnTo>
                    <a:pt x="338" y="1015"/>
                  </a:lnTo>
                  <a:lnTo>
                    <a:pt x="346" y="1025"/>
                  </a:lnTo>
                  <a:lnTo>
                    <a:pt x="353" y="1035"/>
                  </a:lnTo>
                  <a:lnTo>
                    <a:pt x="361" y="1046"/>
                  </a:lnTo>
                  <a:lnTo>
                    <a:pt x="368" y="1057"/>
                  </a:lnTo>
                  <a:lnTo>
                    <a:pt x="375" y="1068"/>
                  </a:lnTo>
                  <a:lnTo>
                    <a:pt x="382" y="1079"/>
                  </a:lnTo>
                  <a:lnTo>
                    <a:pt x="389" y="1092"/>
                  </a:lnTo>
                  <a:lnTo>
                    <a:pt x="394" y="1106"/>
                  </a:lnTo>
                  <a:lnTo>
                    <a:pt x="399" y="1121"/>
                  </a:lnTo>
                  <a:lnTo>
                    <a:pt x="404" y="1137"/>
                  </a:lnTo>
                  <a:lnTo>
                    <a:pt x="407" y="1155"/>
                  </a:lnTo>
                  <a:lnTo>
                    <a:pt x="410" y="1169"/>
                  </a:lnTo>
                  <a:lnTo>
                    <a:pt x="414" y="1184"/>
                  </a:lnTo>
                  <a:lnTo>
                    <a:pt x="417" y="1198"/>
                  </a:lnTo>
                  <a:lnTo>
                    <a:pt x="422" y="1213"/>
                  </a:lnTo>
                  <a:lnTo>
                    <a:pt x="425" y="1227"/>
                  </a:lnTo>
                  <a:lnTo>
                    <a:pt x="429" y="1242"/>
                  </a:lnTo>
                  <a:lnTo>
                    <a:pt x="434" y="1256"/>
                  </a:lnTo>
                  <a:lnTo>
                    <a:pt x="439" y="1270"/>
                  </a:lnTo>
                  <a:lnTo>
                    <a:pt x="443" y="1284"/>
                  </a:lnTo>
                  <a:lnTo>
                    <a:pt x="448" y="1298"/>
                  </a:lnTo>
                  <a:lnTo>
                    <a:pt x="455" y="1311"/>
                  </a:lnTo>
                  <a:lnTo>
                    <a:pt x="461" y="1324"/>
                  </a:lnTo>
                  <a:lnTo>
                    <a:pt x="468" y="1337"/>
                  </a:lnTo>
                  <a:lnTo>
                    <a:pt x="475" y="1349"/>
                  </a:lnTo>
                  <a:lnTo>
                    <a:pt x="484" y="1361"/>
                  </a:lnTo>
                  <a:lnTo>
                    <a:pt x="492" y="1371"/>
                  </a:lnTo>
                  <a:lnTo>
                    <a:pt x="490" y="1376"/>
                  </a:lnTo>
                  <a:lnTo>
                    <a:pt x="487" y="1379"/>
                  </a:lnTo>
                  <a:lnTo>
                    <a:pt x="484" y="1383"/>
                  </a:lnTo>
                  <a:lnTo>
                    <a:pt x="481" y="1386"/>
                  </a:lnTo>
                  <a:lnTo>
                    <a:pt x="474" y="1384"/>
                  </a:lnTo>
                  <a:lnTo>
                    <a:pt x="467" y="1377"/>
                  </a:lnTo>
                  <a:lnTo>
                    <a:pt x="459" y="1366"/>
                  </a:lnTo>
                  <a:lnTo>
                    <a:pt x="452" y="1352"/>
                  </a:lnTo>
                  <a:lnTo>
                    <a:pt x="445" y="1335"/>
                  </a:lnTo>
                  <a:lnTo>
                    <a:pt x="438" y="1317"/>
                  </a:lnTo>
                  <a:lnTo>
                    <a:pt x="430" y="1296"/>
                  </a:lnTo>
                  <a:lnTo>
                    <a:pt x="424" y="1275"/>
                  </a:lnTo>
                  <a:lnTo>
                    <a:pt x="417" y="1254"/>
                  </a:lnTo>
                  <a:lnTo>
                    <a:pt x="411" y="1232"/>
                  </a:lnTo>
                  <a:lnTo>
                    <a:pt x="405" y="1212"/>
                  </a:lnTo>
                  <a:lnTo>
                    <a:pt x="399" y="1194"/>
                  </a:lnTo>
                  <a:lnTo>
                    <a:pt x="395" y="1178"/>
                  </a:lnTo>
                  <a:lnTo>
                    <a:pt x="391" y="1165"/>
                  </a:lnTo>
                  <a:lnTo>
                    <a:pt x="386" y="1154"/>
                  </a:lnTo>
                  <a:lnTo>
                    <a:pt x="383" y="1149"/>
                  </a:lnTo>
                  <a:lnTo>
                    <a:pt x="372" y="1135"/>
                  </a:lnTo>
                  <a:lnTo>
                    <a:pt x="368" y="1130"/>
                  </a:lnTo>
                  <a:lnTo>
                    <a:pt x="371" y="1132"/>
                  </a:lnTo>
                  <a:lnTo>
                    <a:pt x="372" y="1135"/>
                  </a:lnTo>
                  <a:lnTo>
                    <a:pt x="371" y="1135"/>
                  </a:lnTo>
                  <a:lnTo>
                    <a:pt x="366" y="1129"/>
                  </a:lnTo>
                  <a:lnTo>
                    <a:pt x="352" y="1115"/>
                  </a:lnTo>
                  <a:lnTo>
                    <a:pt x="339" y="1103"/>
                  </a:lnTo>
                  <a:lnTo>
                    <a:pt x="326" y="1094"/>
                  </a:lnTo>
                  <a:lnTo>
                    <a:pt x="313" y="1088"/>
                  </a:lnTo>
                  <a:lnTo>
                    <a:pt x="298" y="1084"/>
                  </a:lnTo>
                  <a:lnTo>
                    <a:pt x="283" y="1080"/>
                  </a:lnTo>
                  <a:lnTo>
                    <a:pt x="267" y="1078"/>
                  </a:lnTo>
                  <a:lnTo>
                    <a:pt x="252" y="1077"/>
                  </a:lnTo>
                  <a:lnTo>
                    <a:pt x="235" y="1076"/>
                  </a:lnTo>
                  <a:lnTo>
                    <a:pt x="221" y="1076"/>
                  </a:lnTo>
                  <a:lnTo>
                    <a:pt x="206" y="1075"/>
                  </a:lnTo>
                  <a:lnTo>
                    <a:pt x="191" y="1073"/>
                  </a:lnTo>
                  <a:lnTo>
                    <a:pt x="177" y="1071"/>
                  </a:lnTo>
                  <a:lnTo>
                    <a:pt x="164" y="1067"/>
                  </a:lnTo>
                  <a:lnTo>
                    <a:pt x="151" y="1061"/>
                  </a:lnTo>
                  <a:lnTo>
                    <a:pt x="140" y="1053"/>
                  </a:lnTo>
                  <a:lnTo>
                    <a:pt x="131" y="1042"/>
                  </a:lnTo>
                  <a:lnTo>
                    <a:pt x="135" y="1067"/>
                  </a:lnTo>
                  <a:lnTo>
                    <a:pt x="142" y="1090"/>
                  </a:lnTo>
                  <a:lnTo>
                    <a:pt x="152" y="1111"/>
                  </a:lnTo>
                  <a:lnTo>
                    <a:pt x="163" y="1132"/>
                  </a:lnTo>
                  <a:lnTo>
                    <a:pt x="176" y="1151"/>
                  </a:lnTo>
                  <a:lnTo>
                    <a:pt x="189" y="1168"/>
                  </a:lnTo>
                  <a:lnTo>
                    <a:pt x="204" y="1185"/>
                  </a:lnTo>
                  <a:lnTo>
                    <a:pt x="219" y="1200"/>
                  </a:lnTo>
                  <a:lnTo>
                    <a:pt x="234" y="1214"/>
                  </a:lnTo>
                  <a:lnTo>
                    <a:pt x="249" y="1226"/>
                  </a:lnTo>
                  <a:lnTo>
                    <a:pt x="264" y="1237"/>
                  </a:lnTo>
                  <a:lnTo>
                    <a:pt x="277" y="1247"/>
                  </a:lnTo>
                  <a:lnTo>
                    <a:pt x="290" y="1255"/>
                  </a:lnTo>
                  <a:lnTo>
                    <a:pt x="302" y="1262"/>
                  </a:lnTo>
                  <a:lnTo>
                    <a:pt x="310" y="1269"/>
                  </a:lnTo>
                  <a:lnTo>
                    <a:pt x="318" y="1273"/>
                  </a:lnTo>
                  <a:lnTo>
                    <a:pt x="298" y="1267"/>
                  </a:lnTo>
                  <a:lnTo>
                    <a:pt x="276" y="1257"/>
                  </a:lnTo>
                  <a:lnTo>
                    <a:pt x="255" y="1245"/>
                  </a:lnTo>
                  <a:lnTo>
                    <a:pt x="232" y="1230"/>
                  </a:lnTo>
                  <a:lnTo>
                    <a:pt x="211" y="1214"/>
                  </a:lnTo>
                  <a:lnTo>
                    <a:pt x="192" y="1197"/>
                  </a:lnTo>
                  <a:lnTo>
                    <a:pt x="173" y="1180"/>
                  </a:lnTo>
                  <a:lnTo>
                    <a:pt x="158" y="1162"/>
                  </a:lnTo>
                  <a:lnTo>
                    <a:pt x="155" y="1180"/>
                  </a:lnTo>
                  <a:lnTo>
                    <a:pt x="159" y="1199"/>
                  </a:lnTo>
                  <a:lnTo>
                    <a:pt x="170" y="1218"/>
                  </a:lnTo>
                  <a:lnTo>
                    <a:pt x="185" y="1239"/>
                  </a:lnTo>
                  <a:lnTo>
                    <a:pt x="206" y="1258"/>
                  </a:lnTo>
                  <a:lnTo>
                    <a:pt x="228" y="1278"/>
                  </a:lnTo>
                  <a:lnTo>
                    <a:pt x="253" y="1299"/>
                  </a:lnTo>
                  <a:lnTo>
                    <a:pt x="278" y="1319"/>
                  </a:lnTo>
                  <a:lnTo>
                    <a:pt x="305" y="1338"/>
                  </a:lnTo>
                  <a:lnTo>
                    <a:pt x="330" y="1356"/>
                  </a:lnTo>
                  <a:lnTo>
                    <a:pt x="352" y="1375"/>
                  </a:lnTo>
                  <a:lnTo>
                    <a:pt x="372" y="1392"/>
                  </a:lnTo>
                  <a:lnTo>
                    <a:pt x="389" y="1408"/>
                  </a:lnTo>
                  <a:lnTo>
                    <a:pt x="400" y="1423"/>
                  </a:lnTo>
                  <a:lnTo>
                    <a:pt x="406" y="1436"/>
                  </a:lnTo>
                  <a:lnTo>
                    <a:pt x="404" y="1447"/>
                  </a:lnTo>
                  <a:lnTo>
                    <a:pt x="390" y="1472"/>
                  </a:lnTo>
                  <a:lnTo>
                    <a:pt x="406" y="1473"/>
                  </a:lnTo>
                  <a:lnTo>
                    <a:pt x="422" y="1477"/>
                  </a:lnTo>
                  <a:lnTo>
                    <a:pt x="437" y="1485"/>
                  </a:lnTo>
                  <a:lnTo>
                    <a:pt x="453" y="1493"/>
                  </a:lnTo>
                  <a:lnTo>
                    <a:pt x="468" y="1504"/>
                  </a:lnTo>
                  <a:lnTo>
                    <a:pt x="483" y="1517"/>
                  </a:lnTo>
                  <a:lnTo>
                    <a:pt x="498" y="1530"/>
                  </a:lnTo>
                  <a:lnTo>
                    <a:pt x="513" y="1545"/>
                  </a:lnTo>
                  <a:lnTo>
                    <a:pt x="528" y="1560"/>
                  </a:lnTo>
                  <a:lnTo>
                    <a:pt x="542" y="1576"/>
                  </a:lnTo>
                  <a:lnTo>
                    <a:pt x="556" y="1591"/>
                  </a:lnTo>
                  <a:lnTo>
                    <a:pt x="569" y="1607"/>
                  </a:lnTo>
                  <a:lnTo>
                    <a:pt x="583" y="1622"/>
                  </a:lnTo>
                  <a:lnTo>
                    <a:pt x="596" y="1636"/>
                  </a:lnTo>
                  <a:lnTo>
                    <a:pt x="609" y="1647"/>
                  </a:lnTo>
                  <a:lnTo>
                    <a:pt x="622" y="1659"/>
                  </a:lnTo>
                  <a:lnTo>
                    <a:pt x="632" y="1668"/>
                  </a:lnTo>
                  <a:lnTo>
                    <a:pt x="642" y="1678"/>
                  </a:lnTo>
                  <a:lnTo>
                    <a:pt x="653" y="1692"/>
                  </a:lnTo>
                  <a:lnTo>
                    <a:pt x="666" y="1707"/>
                  </a:lnTo>
                  <a:lnTo>
                    <a:pt x="678" y="1724"/>
                  </a:lnTo>
                  <a:lnTo>
                    <a:pt x="690" y="1743"/>
                  </a:lnTo>
                  <a:lnTo>
                    <a:pt x="702" y="1762"/>
                  </a:lnTo>
                  <a:lnTo>
                    <a:pt x="714" y="1782"/>
                  </a:lnTo>
                  <a:lnTo>
                    <a:pt x="725" y="1802"/>
                  </a:lnTo>
                  <a:lnTo>
                    <a:pt x="733" y="1824"/>
                  </a:lnTo>
                  <a:lnTo>
                    <a:pt x="742" y="1844"/>
                  </a:lnTo>
                  <a:lnTo>
                    <a:pt x="748" y="1864"/>
                  </a:lnTo>
                  <a:lnTo>
                    <a:pt x="752" y="1884"/>
                  </a:lnTo>
                  <a:lnTo>
                    <a:pt x="755" y="1903"/>
                  </a:lnTo>
                  <a:lnTo>
                    <a:pt x="755" y="1920"/>
                  </a:lnTo>
                  <a:lnTo>
                    <a:pt x="751" y="1936"/>
                  </a:lnTo>
                  <a:lnTo>
                    <a:pt x="744" y="1928"/>
                  </a:lnTo>
                  <a:lnTo>
                    <a:pt x="734" y="1918"/>
                  </a:lnTo>
                  <a:lnTo>
                    <a:pt x="723" y="1909"/>
                  </a:lnTo>
                  <a:lnTo>
                    <a:pt x="710" y="1901"/>
                  </a:lnTo>
                  <a:lnTo>
                    <a:pt x="695" y="1892"/>
                  </a:lnTo>
                  <a:lnTo>
                    <a:pt x="680" y="1885"/>
                  </a:lnTo>
                  <a:lnTo>
                    <a:pt x="664" y="1876"/>
                  </a:lnTo>
                  <a:lnTo>
                    <a:pt x="648" y="1869"/>
                  </a:lnTo>
                  <a:lnTo>
                    <a:pt x="632" y="1861"/>
                  </a:lnTo>
                  <a:lnTo>
                    <a:pt x="614" y="1854"/>
                  </a:lnTo>
                  <a:lnTo>
                    <a:pt x="597" y="1846"/>
                  </a:lnTo>
                  <a:lnTo>
                    <a:pt x="581" y="1839"/>
                  </a:lnTo>
                  <a:lnTo>
                    <a:pt x="566" y="1832"/>
                  </a:lnTo>
                  <a:lnTo>
                    <a:pt x="551" y="1826"/>
                  </a:lnTo>
                  <a:lnTo>
                    <a:pt x="537" y="1820"/>
                  </a:lnTo>
                  <a:lnTo>
                    <a:pt x="526" y="1813"/>
                  </a:lnTo>
                  <a:lnTo>
                    <a:pt x="515" y="1812"/>
                  </a:lnTo>
                  <a:lnTo>
                    <a:pt x="502" y="1811"/>
                  </a:lnTo>
                  <a:lnTo>
                    <a:pt x="487" y="1808"/>
                  </a:lnTo>
                  <a:lnTo>
                    <a:pt x="472" y="1805"/>
                  </a:lnTo>
                  <a:lnTo>
                    <a:pt x="457" y="1802"/>
                  </a:lnTo>
                  <a:lnTo>
                    <a:pt x="444" y="1799"/>
                  </a:lnTo>
                  <a:lnTo>
                    <a:pt x="434" y="1798"/>
                  </a:lnTo>
                  <a:lnTo>
                    <a:pt x="427" y="1797"/>
                  </a:lnTo>
                  <a:lnTo>
                    <a:pt x="414" y="1779"/>
                  </a:lnTo>
                  <a:lnTo>
                    <a:pt x="402" y="1759"/>
                  </a:lnTo>
                  <a:lnTo>
                    <a:pt x="391" y="1739"/>
                  </a:lnTo>
                  <a:lnTo>
                    <a:pt x="380" y="1719"/>
                  </a:lnTo>
                  <a:lnTo>
                    <a:pt x="370" y="1701"/>
                  </a:lnTo>
                  <a:lnTo>
                    <a:pt x="361" y="1683"/>
                  </a:lnTo>
                  <a:lnTo>
                    <a:pt x="352" y="1668"/>
                  </a:lnTo>
                  <a:lnTo>
                    <a:pt x="343" y="1654"/>
                  </a:lnTo>
                  <a:lnTo>
                    <a:pt x="344" y="1673"/>
                  </a:lnTo>
                  <a:lnTo>
                    <a:pt x="347" y="1697"/>
                  </a:lnTo>
                  <a:lnTo>
                    <a:pt x="352" y="1721"/>
                  </a:lnTo>
                  <a:lnTo>
                    <a:pt x="360" y="1749"/>
                  </a:lnTo>
                  <a:lnTo>
                    <a:pt x="368" y="1777"/>
                  </a:lnTo>
                  <a:lnTo>
                    <a:pt x="378" y="1807"/>
                  </a:lnTo>
                  <a:lnTo>
                    <a:pt x="390" y="1836"/>
                  </a:lnTo>
                  <a:lnTo>
                    <a:pt x="401" y="1864"/>
                  </a:lnTo>
                  <a:lnTo>
                    <a:pt x="414" y="1892"/>
                  </a:lnTo>
                  <a:lnTo>
                    <a:pt x="428" y="1918"/>
                  </a:lnTo>
                  <a:lnTo>
                    <a:pt x="442" y="1941"/>
                  </a:lnTo>
                  <a:lnTo>
                    <a:pt x="457" y="1962"/>
                  </a:lnTo>
                  <a:lnTo>
                    <a:pt x="471" y="1979"/>
                  </a:lnTo>
                  <a:lnTo>
                    <a:pt x="486" y="1993"/>
                  </a:lnTo>
                  <a:lnTo>
                    <a:pt x="500" y="2000"/>
                  </a:lnTo>
                  <a:lnTo>
                    <a:pt x="513" y="2003"/>
                  </a:lnTo>
                  <a:lnTo>
                    <a:pt x="545" y="2013"/>
                  </a:lnTo>
                  <a:lnTo>
                    <a:pt x="575" y="2024"/>
                  </a:lnTo>
                  <a:lnTo>
                    <a:pt x="600" y="2038"/>
                  </a:lnTo>
                  <a:lnTo>
                    <a:pt x="624" y="2054"/>
                  </a:lnTo>
                  <a:lnTo>
                    <a:pt x="645" y="2070"/>
                  </a:lnTo>
                  <a:lnTo>
                    <a:pt x="664" y="2087"/>
                  </a:lnTo>
                  <a:lnTo>
                    <a:pt x="681" y="2105"/>
                  </a:lnTo>
                  <a:lnTo>
                    <a:pt x="697" y="2123"/>
                  </a:lnTo>
                  <a:lnTo>
                    <a:pt x="711" y="2141"/>
                  </a:lnTo>
                  <a:lnTo>
                    <a:pt x="724" y="2159"/>
                  </a:lnTo>
                  <a:lnTo>
                    <a:pt x="735" y="2175"/>
                  </a:lnTo>
                  <a:lnTo>
                    <a:pt x="747" y="2190"/>
                  </a:lnTo>
                  <a:lnTo>
                    <a:pt x="759" y="2202"/>
                  </a:lnTo>
                  <a:lnTo>
                    <a:pt x="771" y="2213"/>
                  </a:lnTo>
                  <a:lnTo>
                    <a:pt x="782" y="2221"/>
                  </a:lnTo>
                  <a:lnTo>
                    <a:pt x="794" y="2226"/>
                  </a:lnTo>
                  <a:lnTo>
                    <a:pt x="806" y="2224"/>
                  </a:lnTo>
                  <a:lnTo>
                    <a:pt x="817" y="2218"/>
                  </a:lnTo>
                  <a:lnTo>
                    <a:pt x="825" y="2209"/>
                  </a:lnTo>
                  <a:lnTo>
                    <a:pt x="833" y="2197"/>
                  </a:lnTo>
                  <a:lnTo>
                    <a:pt x="839" y="2182"/>
                  </a:lnTo>
                  <a:lnTo>
                    <a:pt x="845" y="2166"/>
                  </a:lnTo>
                  <a:lnTo>
                    <a:pt x="849" y="2149"/>
                  </a:lnTo>
                  <a:lnTo>
                    <a:pt x="853" y="2130"/>
                  </a:lnTo>
                  <a:lnTo>
                    <a:pt x="857" y="2110"/>
                  </a:lnTo>
                  <a:lnTo>
                    <a:pt x="861" y="2092"/>
                  </a:lnTo>
                  <a:lnTo>
                    <a:pt x="865" y="2073"/>
                  </a:lnTo>
                  <a:lnTo>
                    <a:pt x="869" y="2056"/>
                  </a:lnTo>
                  <a:lnTo>
                    <a:pt x="875" y="2040"/>
                  </a:lnTo>
                  <a:lnTo>
                    <a:pt x="880" y="2026"/>
                  </a:lnTo>
                  <a:lnTo>
                    <a:pt x="886" y="2014"/>
                  </a:lnTo>
                  <a:lnTo>
                    <a:pt x="895" y="2006"/>
                  </a:lnTo>
                  <a:lnTo>
                    <a:pt x="894" y="2029"/>
                  </a:lnTo>
                  <a:lnTo>
                    <a:pt x="892" y="2052"/>
                  </a:lnTo>
                  <a:lnTo>
                    <a:pt x="888" y="2075"/>
                  </a:lnTo>
                  <a:lnTo>
                    <a:pt x="885" y="2098"/>
                  </a:lnTo>
                  <a:lnTo>
                    <a:pt x="880" y="2120"/>
                  </a:lnTo>
                  <a:lnTo>
                    <a:pt x="876" y="2143"/>
                  </a:lnTo>
                  <a:lnTo>
                    <a:pt x="869" y="2164"/>
                  </a:lnTo>
                  <a:lnTo>
                    <a:pt x="863" y="2186"/>
                  </a:lnTo>
                  <a:lnTo>
                    <a:pt x="856" y="2209"/>
                  </a:lnTo>
                  <a:lnTo>
                    <a:pt x="849" y="2231"/>
                  </a:lnTo>
                  <a:lnTo>
                    <a:pt x="840" y="2254"/>
                  </a:lnTo>
                  <a:lnTo>
                    <a:pt x="832" y="2276"/>
                  </a:lnTo>
                  <a:lnTo>
                    <a:pt x="823" y="2299"/>
                  </a:lnTo>
                  <a:lnTo>
                    <a:pt x="813" y="2322"/>
                  </a:lnTo>
                  <a:lnTo>
                    <a:pt x="804" y="2346"/>
                  </a:lnTo>
                  <a:lnTo>
                    <a:pt x="794" y="2369"/>
                  </a:lnTo>
                  <a:close/>
                  <a:moveTo>
                    <a:pt x="739" y="2323"/>
                  </a:moveTo>
                  <a:lnTo>
                    <a:pt x="745" y="2328"/>
                  </a:lnTo>
                  <a:lnTo>
                    <a:pt x="752" y="2332"/>
                  </a:lnTo>
                  <a:lnTo>
                    <a:pt x="761" y="2338"/>
                  </a:lnTo>
                  <a:lnTo>
                    <a:pt x="771" y="2344"/>
                  </a:lnTo>
                  <a:lnTo>
                    <a:pt x="778" y="2351"/>
                  </a:lnTo>
                  <a:lnTo>
                    <a:pt x="786" y="2356"/>
                  </a:lnTo>
                  <a:lnTo>
                    <a:pt x="790" y="2363"/>
                  </a:lnTo>
                  <a:lnTo>
                    <a:pt x="792" y="2368"/>
                  </a:lnTo>
                  <a:lnTo>
                    <a:pt x="789" y="2376"/>
                  </a:lnTo>
                  <a:lnTo>
                    <a:pt x="786" y="2383"/>
                  </a:lnTo>
                  <a:lnTo>
                    <a:pt x="781" y="2392"/>
                  </a:lnTo>
                  <a:lnTo>
                    <a:pt x="777" y="2400"/>
                  </a:lnTo>
                  <a:lnTo>
                    <a:pt x="773" y="2409"/>
                  </a:lnTo>
                  <a:lnTo>
                    <a:pt x="769" y="2417"/>
                  </a:lnTo>
                  <a:lnTo>
                    <a:pt x="765" y="2425"/>
                  </a:lnTo>
                  <a:lnTo>
                    <a:pt x="762" y="2431"/>
                  </a:lnTo>
                  <a:lnTo>
                    <a:pt x="758" y="2439"/>
                  </a:lnTo>
                  <a:lnTo>
                    <a:pt x="755" y="2445"/>
                  </a:lnTo>
                  <a:lnTo>
                    <a:pt x="751" y="2453"/>
                  </a:lnTo>
                  <a:lnTo>
                    <a:pt x="748" y="2458"/>
                  </a:lnTo>
                  <a:lnTo>
                    <a:pt x="744" y="2465"/>
                  </a:lnTo>
                  <a:lnTo>
                    <a:pt x="741" y="2470"/>
                  </a:lnTo>
                  <a:lnTo>
                    <a:pt x="738" y="2476"/>
                  </a:lnTo>
                  <a:lnTo>
                    <a:pt x="733" y="2482"/>
                  </a:lnTo>
                  <a:lnTo>
                    <a:pt x="734" y="2462"/>
                  </a:lnTo>
                  <a:lnTo>
                    <a:pt x="734" y="2442"/>
                  </a:lnTo>
                  <a:lnTo>
                    <a:pt x="733" y="2422"/>
                  </a:lnTo>
                  <a:lnTo>
                    <a:pt x="733" y="2401"/>
                  </a:lnTo>
                  <a:lnTo>
                    <a:pt x="733" y="2381"/>
                  </a:lnTo>
                  <a:lnTo>
                    <a:pt x="733" y="2362"/>
                  </a:lnTo>
                  <a:lnTo>
                    <a:pt x="735" y="2343"/>
                  </a:lnTo>
                  <a:lnTo>
                    <a:pt x="739" y="2323"/>
                  </a:lnTo>
                  <a:close/>
                  <a:moveTo>
                    <a:pt x="804" y="2409"/>
                  </a:moveTo>
                  <a:lnTo>
                    <a:pt x="818" y="2417"/>
                  </a:lnTo>
                  <a:lnTo>
                    <a:pt x="832" y="2429"/>
                  </a:lnTo>
                  <a:lnTo>
                    <a:pt x="848" y="2442"/>
                  </a:lnTo>
                  <a:lnTo>
                    <a:pt x="864" y="2455"/>
                  </a:lnTo>
                  <a:lnTo>
                    <a:pt x="881" y="2466"/>
                  </a:lnTo>
                  <a:lnTo>
                    <a:pt x="899" y="2472"/>
                  </a:lnTo>
                  <a:lnTo>
                    <a:pt x="918" y="2472"/>
                  </a:lnTo>
                  <a:lnTo>
                    <a:pt x="940" y="2463"/>
                  </a:lnTo>
                  <a:lnTo>
                    <a:pt x="903" y="2416"/>
                  </a:lnTo>
                  <a:lnTo>
                    <a:pt x="903" y="2398"/>
                  </a:lnTo>
                  <a:lnTo>
                    <a:pt x="901" y="2381"/>
                  </a:lnTo>
                  <a:lnTo>
                    <a:pt x="900" y="2364"/>
                  </a:lnTo>
                  <a:lnTo>
                    <a:pt x="898" y="2347"/>
                  </a:lnTo>
                  <a:lnTo>
                    <a:pt x="895" y="2331"/>
                  </a:lnTo>
                  <a:lnTo>
                    <a:pt x="894" y="2316"/>
                  </a:lnTo>
                  <a:lnTo>
                    <a:pt x="892" y="2303"/>
                  </a:lnTo>
                  <a:lnTo>
                    <a:pt x="892" y="2290"/>
                  </a:lnTo>
                  <a:lnTo>
                    <a:pt x="886" y="2308"/>
                  </a:lnTo>
                  <a:lnTo>
                    <a:pt x="881" y="2328"/>
                  </a:lnTo>
                  <a:lnTo>
                    <a:pt x="875" y="2346"/>
                  </a:lnTo>
                  <a:lnTo>
                    <a:pt x="866" y="2364"/>
                  </a:lnTo>
                  <a:lnTo>
                    <a:pt x="855" y="2380"/>
                  </a:lnTo>
                  <a:lnTo>
                    <a:pt x="842" y="2393"/>
                  </a:lnTo>
                  <a:lnTo>
                    <a:pt x="825" y="2402"/>
                  </a:lnTo>
                  <a:lnTo>
                    <a:pt x="804" y="2409"/>
                  </a:lnTo>
                  <a:close/>
                  <a:moveTo>
                    <a:pt x="794" y="2431"/>
                  </a:moveTo>
                  <a:lnTo>
                    <a:pt x="807" y="2443"/>
                  </a:lnTo>
                  <a:lnTo>
                    <a:pt x="819" y="2456"/>
                  </a:lnTo>
                  <a:lnTo>
                    <a:pt x="828" y="2468"/>
                  </a:lnTo>
                  <a:lnTo>
                    <a:pt x="838" y="2478"/>
                  </a:lnTo>
                  <a:lnTo>
                    <a:pt x="847" y="2488"/>
                  </a:lnTo>
                  <a:lnTo>
                    <a:pt x="856" y="2496"/>
                  </a:lnTo>
                  <a:lnTo>
                    <a:pt x="865" y="2500"/>
                  </a:lnTo>
                  <a:lnTo>
                    <a:pt x="873" y="2502"/>
                  </a:lnTo>
                  <a:lnTo>
                    <a:pt x="863" y="2506"/>
                  </a:lnTo>
                  <a:lnTo>
                    <a:pt x="850" y="2507"/>
                  </a:lnTo>
                  <a:lnTo>
                    <a:pt x="836" y="2506"/>
                  </a:lnTo>
                  <a:lnTo>
                    <a:pt x="820" y="2504"/>
                  </a:lnTo>
                  <a:lnTo>
                    <a:pt x="804" y="2501"/>
                  </a:lnTo>
                  <a:lnTo>
                    <a:pt x="788" y="2498"/>
                  </a:lnTo>
                  <a:lnTo>
                    <a:pt x="772" y="2496"/>
                  </a:lnTo>
                  <a:lnTo>
                    <a:pt x="758" y="2494"/>
                  </a:lnTo>
                  <a:lnTo>
                    <a:pt x="759" y="2483"/>
                  </a:lnTo>
                  <a:lnTo>
                    <a:pt x="760" y="2473"/>
                  </a:lnTo>
                  <a:lnTo>
                    <a:pt x="763" y="2465"/>
                  </a:lnTo>
                  <a:lnTo>
                    <a:pt x="767" y="2457"/>
                  </a:lnTo>
                  <a:lnTo>
                    <a:pt x="773" y="2450"/>
                  </a:lnTo>
                  <a:lnTo>
                    <a:pt x="778" y="2443"/>
                  </a:lnTo>
                  <a:lnTo>
                    <a:pt x="786" y="2438"/>
                  </a:lnTo>
                  <a:lnTo>
                    <a:pt x="794" y="2431"/>
                  </a:lnTo>
                  <a:close/>
                  <a:moveTo>
                    <a:pt x="976" y="1922"/>
                  </a:moveTo>
                  <a:lnTo>
                    <a:pt x="970" y="1934"/>
                  </a:lnTo>
                  <a:lnTo>
                    <a:pt x="962" y="1945"/>
                  </a:lnTo>
                  <a:lnTo>
                    <a:pt x="952" y="1956"/>
                  </a:lnTo>
                  <a:lnTo>
                    <a:pt x="941" y="1966"/>
                  </a:lnTo>
                  <a:lnTo>
                    <a:pt x="930" y="1977"/>
                  </a:lnTo>
                  <a:lnTo>
                    <a:pt x="921" y="1985"/>
                  </a:lnTo>
                  <a:lnTo>
                    <a:pt x="912" y="1993"/>
                  </a:lnTo>
                  <a:lnTo>
                    <a:pt x="906" y="2000"/>
                  </a:lnTo>
                  <a:lnTo>
                    <a:pt x="921" y="2008"/>
                  </a:lnTo>
                  <a:lnTo>
                    <a:pt x="937" y="2013"/>
                  </a:lnTo>
                  <a:lnTo>
                    <a:pt x="955" y="2016"/>
                  </a:lnTo>
                  <a:lnTo>
                    <a:pt x="973" y="2016"/>
                  </a:lnTo>
                  <a:lnTo>
                    <a:pt x="992" y="2015"/>
                  </a:lnTo>
                  <a:lnTo>
                    <a:pt x="1012" y="2013"/>
                  </a:lnTo>
                  <a:lnTo>
                    <a:pt x="1031" y="2011"/>
                  </a:lnTo>
                  <a:lnTo>
                    <a:pt x="1049" y="2008"/>
                  </a:lnTo>
                  <a:lnTo>
                    <a:pt x="1034" y="2005"/>
                  </a:lnTo>
                  <a:lnTo>
                    <a:pt x="1021" y="1999"/>
                  </a:lnTo>
                  <a:lnTo>
                    <a:pt x="1009" y="1992"/>
                  </a:lnTo>
                  <a:lnTo>
                    <a:pt x="1000" y="1982"/>
                  </a:lnTo>
                  <a:lnTo>
                    <a:pt x="991" y="1970"/>
                  </a:lnTo>
                  <a:lnTo>
                    <a:pt x="985" y="1956"/>
                  </a:lnTo>
                  <a:lnTo>
                    <a:pt x="979" y="1940"/>
                  </a:lnTo>
                  <a:lnTo>
                    <a:pt x="976" y="1922"/>
                  </a:lnTo>
                  <a:close/>
                  <a:moveTo>
                    <a:pt x="1978" y="3751"/>
                  </a:moveTo>
                  <a:lnTo>
                    <a:pt x="1979" y="3760"/>
                  </a:lnTo>
                  <a:lnTo>
                    <a:pt x="1981" y="3771"/>
                  </a:lnTo>
                  <a:lnTo>
                    <a:pt x="1986" y="3784"/>
                  </a:lnTo>
                  <a:lnTo>
                    <a:pt x="1990" y="3798"/>
                  </a:lnTo>
                  <a:lnTo>
                    <a:pt x="1994" y="3813"/>
                  </a:lnTo>
                  <a:lnTo>
                    <a:pt x="1998" y="3827"/>
                  </a:lnTo>
                  <a:lnTo>
                    <a:pt x="2001" y="3838"/>
                  </a:lnTo>
                  <a:lnTo>
                    <a:pt x="2002" y="3846"/>
                  </a:lnTo>
                  <a:lnTo>
                    <a:pt x="2014" y="3863"/>
                  </a:lnTo>
                  <a:lnTo>
                    <a:pt x="2025" y="3869"/>
                  </a:lnTo>
                  <a:lnTo>
                    <a:pt x="2039" y="3876"/>
                  </a:lnTo>
                  <a:lnTo>
                    <a:pt x="2054" y="3885"/>
                  </a:lnTo>
                  <a:lnTo>
                    <a:pt x="2070" y="3892"/>
                  </a:lnTo>
                  <a:lnTo>
                    <a:pt x="2085" y="3899"/>
                  </a:lnTo>
                  <a:lnTo>
                    <a:pt x="2100" y="3904"/>
                  </a:lnTo>
                  <a:lnTo>
                    <a:pt x="2114" y="3909"/>
                  </a:lnTo>
                  <a:lnTo>
                    <a:pt x="2125" y="3910"/>
                  </a:lnTo>
                  <a:lnTo>
                    <a:pt x="2125" y="3919"/>
                  </a:lnTo>
                  <a:lnTo>
                    <a:pt x="2124" y="3929"/>
                  </a:lnTo>
                  <a:lnTo>
                    <a:pt x="2124" y="3940"/>
                  </a:lnTo>
                  <a:lnTo>
                    <a:pt x="2123" y="3950"/>
                  </a:lnTo>
                  <a:lnTo>
                    <a:pt x="2122" y="3962"/>
                  </a:lnTo>
                  <a:lnTo>
                    <a:pt x="2120" y="3974"/>
                  </a:lnTo>
                  <a:lnTo>
                    <a:pt x="2119" y="3986"/>
                  </a:lnTo>
                  <a:lnTo>
                    <a:pt x="2118" y="3997"/>
                  </a:lnTo>
                  <a:lnTo>
                    <a:pt x="2117" y="4009"/>
                  </a:lnTo>
                  <a:lnTo>
                    <a:pt x="2116" y="4021"/>
                  </a:lnTo>
                  <a:lnTo>
                    <a:pt x="2115" y="4033"/>
                  </a:lnTo>
                  <a:lnTo>
                    <a:pt x="2114" y="4044"/>
                  </a:lnTo>
                  <a:lnTo>
                    <a:pt x="2113" y="4055"/>
                  </a:lnTo>
                  <a:lnTo>
                    <a:pt x="2113" y="4066"/>
                  </a:lnTo>
                  <a:lnTo>
                    <a:pt x="2112" y="4075"/>
                  </a:lnTo>
                  <a:lnTo>
                    <a:pt x="2112" y="4085"/>
                  </a:lnTo>
                  <a:lnTo>
                    <a:pt x="2173" y="4164"/>
                  </a:lnTo>
                  <a:lnTo>
                    <a:pt x="2177" y="4151"/>
                  </a:lnTo>
                  <a:lnTo>
                    <a:pt x="2180" y="4137"/>
                  </a:lnTo>
                  <a:lnTo>
                    <a:pt x="2183" y="4123"/>
                  </a:lnTo>
                  <a:lnTo>
                    <a:pt x="2185" y="4109"/>
                  </a:lnTo>
                  <a:lnTo>
                    <a:pt x="2185" y="4094"/>
                  </a:lnTo>
                  <a:lnTo>
                    <a:pt x="2186" y="4080"/>
                  </a:lnTo>
                  <a:lnTo>
                    <a:pt x="2186" y="4066"/>
                  </a:lnTo>
                  <a:lnTo>
                    <a:pt x="2186" y="4053"/>
                  </a:lnTo>
                  <a:lnTo>
                    <a:pt x="2191" y="4044"/>
                  </a:lnTo>
                  <a:lnTo>
                    <a:pt x="2196" y="4034"/>
                  </a:lnTo>
                  <a:lnTo>
                    <a:pt x="2203" y="4019"/>
                  </a:lnTo>
                  <a:lnTo>
                    <a:pt x="2208" y="4004"/>
                  </a:lnTo>
                  <a:lnTo>
                    <a:pt x="2214" y="3987"/>
                  </a:lnTo>
                  <a:lnTo>
                    <a:pt x="2218" y="3971"/>
                  </a:lnTo>
                  <a:lnTo>
                    <a:pt x="2221" y="3954"/>
                  </a:lnTo>
                  <a:lnTo>
                    <a:pt x="2222" y="3942"/>
                  </a:lnTo>
                  <a:lnTo>
                    <a:pt x="2239" y="3937"/>
                  </a:lnTo>
                  <a:lnTo>
                    <a:pt x="2255" y="3926"/>
                  </a:lnTo>
                  <a:lnTo>
                    <a:pt x="2270" y="3909"/>
                  </a:lnTo>
                  <a:lnTo>
                    <a:pt x="2283" y="3888"/>
                  </a:lnTo>
                  <a:lnTo>
                    <a:pt x="2294" y="3865"/>
                  </a:lnTo>
                  <a:lnTo>
                    <a:pt x="2301" y="3841"/>
                  </a:lnTo>
                  <a:lnTo>
                    <a:pt x="2306" y="3819"/>
                  </a:lnTo>
                  <a:lnTo>
                    <a:pt x="2308" y="3798"/>
                  </a:lnTo>
                  <a:lnTo>
                    <a:pt x="2270" y="3751"/>
                  </a:lnTo>
                  <a:lnTo>
                    <a:pt x="2270" y="3814"/>
                  </a:lnTo>
                  <a:lnTo>
                    <a:pt x="2247" y="3846"/>
                  </a:lnTo>
                  <a:lnTo>
                    <a:pt x="2198" y="3846"/>
                  </a:lnTo>
                  <a:lnTo>
                    <a:pt x="2188" y="3834"/>
                  </a:lnTo>
                  <a:lnTo>
                    <a:pt x="2179" y="3820"/>
                  </a:lnTo>
                  <a:lnTo>
                    <a:pt x="2171" y="3806"/>
                  </a:lnTo>
                  <a:lnTo>
                    <a:pt x="2162" y="3791"/>
                  </a:lnTo>
                  <a:lnTo>
                    <a:pt x="2155" y="3776"/>
                  </a:lnTo>
                  <a:lnTo>
                    <a:pt x="2148" y="3762"/>
                  </a:lnTo>
                  <a:lnTo>
                    <a:pt x="2142" y="3749"/>
                  </a:lnTo>
                  <a:lnTo>
                    <a:pt x="2137" y="3736"/>
                  </a:lnTo>
                  <a:lnTo>
                    <a:pt x="2137" y="3748"/>
                  </a:lnTo>
                  <a:lnTo>
                    <a:pt x="2134" y="3760"/>
                  </a:lnTo>
                  <a:lnTo>
                    <a:pt x="2133" y="3771"/>
                  </a:lnTo>
                  <a:lnTo>
                    <a:pt x="2131" y="3781"/>
                  </a:lnTo>
                  <a:lnTo>
                    <a:pt x="2128" y="3791"/>
                  </a:lnTo>
                  <a:lnTo>
                    <a:pt x="2127" y="3799"/>
                  </a:lnTo>
                  <a:lnTo>
                    <a:pt x="2125" y="3808"/>
                  </a:lnTo>
                  <a:lnTo>
                    <a:pt x="2125" y="3814"/>
                  </a:lnTo>
                  <a:lnTo>
                    <a:pt x="2112" y="3802"/>
                  </a:lnTo>
                  <a:lnTo>
                    <a:pt x="2095" y="3789"/>
                  </a:lnTo>
                  <a:lnTo>
                    <a:pt x="2073" y="3776"/>
                  </a:lnTo>
                  <a:lnTo>
                    <a:pt x="2051" y="3765"/>
                  </a:lnTo>
                  <a:lnTo>
                    <a:pt x="2028" y="3757"/>
                  </a:lnTo>
                  <a:lnTo>
                    <a:pt x="2007" y="3750"/>
                  </a:lnTo>
                  <a:lnTo>
                    <a:pt x="1990" y="3748"/>
                  </a:lnTo>
                  <a:lnTo>
                    <a:pt x="1978" y="3751"/>
                  </a:lnTo>
                  <a:close/>
                  <a:moveTo>
                    <a:pt x="1160" y="0"/>
                  </a:moveTo>
                  <a:lnTo>
                    <a:pt x="1143" y="11"/>
                  </a:lnTo>
                  <a:lnTo>
                    <a:pt x="1127" y="26"/>
                  </a:lnTo>
                  <a:lnTo>
                    <a:pt x="1112" y="45"/>
                  </a:lnTo>
                  <a:lnTo>
                    <a:pt x="1098" y="66"/>
                  </a:lnTo>
                  <a:lnTo>
                    <a:pt x="1086" y="91"/>
                  </a:lnTo>
                  <a:lnTo>
                    <a:pt x="1075" y="118"/>
                  </a:lnTo>
                  <a:lnTo>
                    <a:pt x="1065" y="147"/>
                  </a:lnTo>
                  <a:lnTo>
                    <a:pt x="1056" y="176"/>
                  </a:lnTo>
                  <a:lnTo>
                    <a:pt x="1049" y="207"/>
                  </a:lnTo>
                  <a:lnTo>
                    <a:pt x="1044" y="239"/>
                  </a:lnTo>
                  <a:lnTo>
                    <a:pt x="1038" y="270"/>
                  </a:lnTo>
                  <a:lnTo>
                    <a:pt x="1034" y="301"/>
                  </a:lnTo>
                  <a:lnTo>
                    <a:pt x="1031" y="332"/>
                  </a:lnTo>
                  <a:lnTo>
                    <a:pt x="1029" y="361"/>
                  </a:lnTo>
                  <a:lnTo>
                    <a:pt x="1027" y="387"/>
                  </a:lnTo>
                  <a:lnTo>
                    <a:pt x="1027" y="413"/>
                  </a:lnTo>
                  <a:lnTo>
                    <a:pt x="1027" y="405"/>
                  </a:lnTo>
                  <a:lnTo>
                    <a:pt x="1029" y="398"/>
                  </a:lnTo>
                  <a:lnTo>
                    <a:pt x="1030" y="388"/>
                  </a:lnTo>
                  <a:lnTo>
                    <a:pt x="1033" y="379"/>
                  </a:lnTo>
                  <a:lnTo>
                    <a:pt x="1035" y="368"/>
                  </a:lnTo>
                  <a:lnTo>
                    <a:pt x="1036" y="357"/>
                  </a:lnTo>
                  <a:lnTo>
                    <a:pt x="1038" y="346"/>
                  </a:lnTo>
                  <a:lnTo>
                    <a:pt x="1038" y="334"/>
                  </a:lnTo>
                  <a:lnTo>
                    <a:pt x="1049" y="311"/>
                  </a:lnTo>
                  <a:lnTo>
                    <a:pt x="1058" y="289"/>
                  </a:lnTo>
                  <a:lnTo>
                    <a:pt x="1065" y="266"/>
                  </a:lnTo>
                  <a:lnTo>
                    <a:pt x="1071" y="243"/>
                  </a:lnTo>
                  <a:lnTo>
                    <a:pt x="1078" y="220"/>
                  </a:lnTo>
                  <a:lnTo>
                    <a:pt x="1083" y="197"/>
                  </a:lnTo>
                  <a:lnTo>
                    <a:pt x="1089" y="174"/>
                  </a:lnTo>
                  <a:lnTo>
                    <a:pt x="1094" y="152"/>
                  </a:lnTo>
                  <a:lnTo>
                    <a:pt x="1099" y="131"/>
                  </a:lnTo>
                  <a:lnTo>
                    <a:pt x="1106" y="109"/>
                  </a:lnTo>
                  <a:lnTo>
                    <a:pt x="1112" y="89"/>
                  </a:lnTo>
                  <a:lnTo>
                    <a:pt x="1119" y="69"/>
                  </a:lnTo>
                  <a:lnTo>
                    <a:pt x="1127" y="50"/>
                  </a:lnTo>
                  <a:lnTo>
                    <a:pt x="1137" y="32"/>
                  </a:lnTo>
                  <a:lnTo>
                    <a:pt x="1147" y="15"/>
                  </a:lnTo>
                  <a:lnTo>
                    <a:pt x="1160" y="0"/>
                  </a:lnTo>
                  <a:close/>
                  <a:moveTo>
                    <a:pt x="1051" y="47"/>
                  </a:moveTo>
                  <a:lnTo>
                    <a:pt x="1043" y="66"/>
                  </a:lnTo>
                  <a:lnTo>
                    <a:pt x="1035" y="87"/>
                  </a:lnTo>
                  <a:lnTo>
                    <a:pt x="1028" y="109"/>
                  </a:lnTo>
                  <a:lnTo>
                    <a:pt x="1021" y="132"/>
                  </a:lnTo>
                  <a:lnTo>
                    <a:pt x="1014" y="154"/>
                  </a:lnTo>
                  <a:lnTo>
                    <a:pt x="1007" y="173"/>
                  </a:lnTo>
                  <a:lnTo>
                    <a:pt x="999" y="192"/>
                  </a:lnTo>
                  <a:lnTo>
                    <a:pt x="990" y="205"/>
                  </a:lnTo>
                  <a:lnTo>
                    <a:pt x="990" y="217"/>
                  </a:lnTo>
                  <a:lnTo>
                    <a:pt x="988" y="229"/>
                  </a:lnTo>
                  <a:lnTo>
                    <a:pt x="987" y="241"/>
                  </a:lnTo>
                  <a:lnTo>
                    <a:pt x="985" y="251"/>
                  </a:lnTo>
                  <a:lnTo>
                    <a:pt x="982" y="261"/>
                  </a:lnTo>
                  <a:lnTo>
                    <a:pt x="980" y="271"/>
                  </a:lnTo>
                  <a:lnTo>
                    <a:pt x="978" y="278"/>
                  </a:lnTo>
                  <a:lnTo>
                    <a:pt x="978" y="285"/>
                  </a:lnTo>
                  <a:lnTo>
                    <a:pt x="954" y="254"/>
                  </a:lnTo>
                  <a:lnTo>
                    <a:pt x="955" y="236"/>
                  </a:lnTo>
                  <a:lnTo>
                    <a:pt x="958" y="220"/>
                  </a:lnTo>
                  <a:lnTo>
                    <a:pt x="962" y="205"/>
                  </a:lnTo>
                  <a:lnTo>
                    <a:pt x="969" y="192"/>
                  </a:lnTo>
                  <a:lnTo>
                    <a:pt x="976" y="179"/>
                  </a:lnTo>
                  <a:lnTo>
                    <a:pt x="985" y="166"/>
                  </a:lnTo>
                  <a:lnTo>
                    <a:pt x="993" y="154"/>
                  </a:lnTo>
                  <a:lnTo>
                    <a:pt x="1003" y="142"/>
                  </a:lnTo>
                  <a:lnTo>
                    <a:pt x="1003" y="78"/>
                  </a:lnTo>
                  <a:lnTo>
                    <a:pt x="1051" y="47"/>
                  </a:lnTo>
                  <a:close/>
                  <a:moveTo>
                    <a:pt x="3200" y="588"/>
                  </a:moveTo>
                  <a:lnTo>
                    <a:pt x="3192" y="619"/>
                  </a:lnTo>
                  <a:lnTo>
                    <a:pt x="3184" y="651"/>
                  </a:lnTo>
                  <a:lnTo>
                    <a:pt x="3178" y="685"/>
                  </a:lnTo>
                  <a:lnTo>
                    <a:pt x="3172" y="719"/>
                  </a:lnTo>
                  <a:lnTo>
                    <a:pt x="3165" y="754"/>
                  </a:lnTo>
                  <a:lnTo>
                    <a:pt x="3160" y="789"/>
                  </a:lnTo>
                  <a:lnTo>
                    <a:pt x="3153" y="826"/>
                  </a:lnTo>
                  <a:lnTo>
                    <a:pt x="3147" y="861"/>
                  </a:lnTo>
                  <a:lnTo>
                    <a:pt x="3139" y="896"/>
                  </a:lnTo>
                  <a:lnTo>
                    <a:pt x="3132" y="931"/>
                  </a:lnTo>
                  <a:lnTo>
                    <a:pt x="3123" y="965"/>
                  </a:lnTo>
                  <a:lnTo>
                    <a:pt x="3113" y="997"/>
                  </a:lnTo>
                  <a:lnTo>
                    <a:pt x="3101" y="1028"/>
                  </a:lnTo>
                  <a:lnTo>
                    <a:pt x="3088" y="1058"/>
                  </a:lnTo>
                  <a:lnTo>
                    <a:pt x="3073" y="1086"/>
                  </a:lnTo>
                  <a:lnTo>
                    <a:pt x="3056" y="1110"/>
                  </a:lnTo>
                  <a:lnTo>
                    <a:pt x="3058" y="1129"/>
                  </a:lnTo>
                  <a:lnTo>
                    <a:pt x="3063" y="1147"/>
                  </a:lnTo>
                  <a:lnTo>
                    <a:pt x="3071" y="1164"/>
                  </a:lnTo>
                  <a:lnTo>
                    <a:pt x="3081" y="1181"/>
                  </a:lnTo>
                  <a:lnTo>
                    <a:pt x="3089" y="1197"/>
                  </a:lnTo>
                  <a:lnTo>
                    <a:pt x="3097" y="1212"/>
                  </a:lnTo>
                  <a:lnTo>
                    <a:pt x="3102" y="1226"/>
                  </a:lnTo>
                  <a:lnTo>
                    <a:pt x="3104" y="1239"/>
                  </a:lnTo>
                  <a:lnTo>
                    <a:pt x="3118" y="1241"/>
                  </a:lnTo>
                  <a:lnTo>
                    <a:pt x="3133" y="1246"/>
                  </a:lnTo>
                  <a:lnTo>
                    <a:pt x="3149" y="1255"/>
                  </a:lnTo>
                  <a:lnTo>
                    <a:pt x="3164" y="1264"/>
                  </a:lnTo>
                  <a:lnTo>
                    <a:pt x="3180" y="1275"/>
                  </a:lnTo>
                  <a:lnTo>
                    <a:pt x="3195" y="1286"/>
                  </a:lnTo>
                  <a:lnTo>
                    <a:pt x="3210" y="1295"/>
                  </a:lnTo>
                  <a:lnTo>
                    <a:pt x="3224" y="1303"/>
                  </a:lnTo>
                  <a:lnTo>
                    <a:pt x="3214" y="1315"/>
                  </a:lnTo>
                  <a:lnTo>
                    <a:pt x="3202" y="1326"/>
                  </a:lnTo>
                  <a:lnTo>
                    <a:pt x="3188" y="1337"/>
                  </a:lnTo>
                  <a:lnTo>
                    <a:pt x="3173" y="1347"/>
                  </a:lnTo>
                  <a:lnTo>
                    <a:pt x="3158" y="1353"/>
                  </a:lnTo>
                  <a:lnTo>
                    <a:pt x="3143" y="1356"/>
                  </a:lnTo>
                  <a:lnTo>
                    <a:pt x="3129" y="1355"/>
                  </a:lnTo>
                  <a:lnTo>
                    <a:pt x="3116" y="1350"/>
                  </a:lnTo>
                  <a:lnTo>
                    <a:pt x="3107" y="1337"/>
                  </a:lnTo>
                  <a:lnTo>
                    <a:pt x="3102" y="1324"/>
                  </a:lnTo>
                  <a:lnTo>
                    <a:pt x="3098" y="1309"/>
                  </a:lnTo>
                  <a:lnTo>
                    <a:pt x="3095" y="1294"/>
                  </a:lnTo>
                  <a:lnTo>
                    <a:pt x="3092" y="1279"/>
                  </a:lnTo>
                  <a:lnTo>
                    <a:pt x="3091" y="1265"/>
                  </a:lnTo>
                  <a:lnTo>
                    <a:pt x="3091" y="1252"/>
                  </a:lnTo>
                  <a:lnTo>
                    <a:pt x="3091" y="1239"/>
                  </a:lnTo>
                  <a:lnTo>
                    <a:pt x="3042" y="1239"/>
                  </a:lnTo>
                  <a:lnTo>
                    <a:pt x="3038" y="1229"/>
                  </a:lnTo>
                  <a:lnTo>
                    <a:pt x="3035" y="1219"/>
                  </a:lnTo>
                  <a:lnTo>
                    <a:pt x="3032" y="1211"/>
                  </a:lnTo>
                  <a:lnTo>
                    <a:pt x="3030" y="1203"/>
                  </a:lnTo>
                  <a:lnTo>
                    <a:pt x="3027" y="1196"/>
                  </a:lnTo>
                  <a:lnTo>
                    <a:pt x="3025" y="1188"/>
                  </a:lnTo>
                  <a:lnTo>
                    <a:pt x="3022" y="1182"/>
                  </a:lnTo>
                  <a:lnTo>
                    <a:pt x="3017" y="1176"/>
                  </a:lnTo>
                  <a:lnTo>
                    <a:pt x="3016" y="1183"/>
                  </a:lnTo>
                  <a:lnTo>
                    <a:pt x="3012" y="1192"/>
                  </a:lnTo>
                  <a:lnTo>
                    <a:pt x="3007" y="1203"/>
                  </a:lnTo>
                  <a:lnTo>
                    <a:pt x="3000" y="1217"/>
                  </a:lnTo>
                  <a:lnTo>
                    <a:pt x="2995" y="1232"/>
                  </a:lnTo>
                  <a:lnTo>
                    <a:pt x="2991" y="1250"/>
                  </a:lnTo>
                  <a:lnTo>
                    <a:pt x="2990" y="1272"/>
                  </a:lnTo>
                  <a:lnTo>
                    <a:pt x="2992" y="1294"/>
                  </a:lnTo>
                  <a:lnTo>
                    <a:pt x="2998" y="1302"/>
                  </a:lnTo>
                  <a:lnTo>
                    <a:pt x="3002" y="1310"/>
                  </a:lnTo>
                  <a:lnTo>
                    <a:pt x="3006" y="1320"/>
                  </a:lnTo>
                  <a:lnTo>
                    <a:pt x="3009" y="1331"/>
                  </a:lnTo>
                  <a:lnTo>
                    <a:pt x="3011" y="1341"/>
                  </a:lnTo>
                  <a:lnTo>
                    <a:pt x="3015" y="1351"/>
                  </a:lnTo>
                  <a:lnTo>
                    <a:pt x="3021" y="1360"/>
                  </a:lnTo>
                  <a:lnTo>
                    <a:pt x="3028" y="1367"/>
                  </a:lnTo>
                  <a:lnTo>
                    <a:pt x="3043" y="1380"/>
                  </a:lnTo>
                  <a:lnTo>
                    <a:pt x="3061" y="1394"/>
                  </a:lnTo>
                  <a:lnTo>
                    <a:pt x="3081" y="1407"/>
                  </a:lnTo>
                  <a:lnTo>
                    <a:pt x="3099" y="1419"/>
                  </a:lnTo>
                  <a:lnTo>
                    <a:pt x="3116" y="1432"/>
                  </a:lnTo>
                  <a:lnTo>
                    <a:pt x="3129" y="1444"/>
                  </a:lnTo>
                  <a:lnTo>
                    <a:pt x="3136" y="1454"/>
                  </a:lnTo>
                  <a:lnTo>
                    <a:pt x="3137" y="1462"/>
                  </a:lnTo>
                  <a:lnTo>
                    <a:pt x="3128" y="1465"/>
                  </a:lnTo>
                  <a:lnTo>
                    <a:pt x="3117" y="1463"/>
                  </a:lnTo>
                  <a:lnTo>
                    <a:pt x="3106" y="1459"/>
                  </a:lnTo>
                  <a:lnTo>
                    <a:pt x="3095" y="1452"/>
                  </a:lnTo>
                  <a:lnTo>
                    <a:pt x="3082" y="1444"/>
                  </a:lnTo>
                  <a:lnTo>
                    <a:pt x="3069" y="1438"/>
                  </a:lnTo>
                  <a:lnTo>
                    <a:pt x="3056" y="1432"/>
                  </a:lnTo>
                  <a:lnTo>
                    <a:pt x="3042" y="1430"/>
                  </a:lnTo>
                  <a:lnTo>
                    <a:pt x="3037" y="1417"/>
                  </a:lnTo>
                  <a:lnTo>
                    <a:pt x="3029" y="1403"/>
                  </a:lnTo>
                  <a:lnTo>
                    <a:pt x="3021" y="1390"/>
                  </a:lnTo>
                  <a:lnTo>
                    <a:pt x="3012" y="1376"/>
                  </a:lnTo>
                  <a:lnTo>
                    <a:pt x="3004" y="1362"/>
                  </a:lnTo>
                  <a:lnTo>
                    <a:pt x="2995" y="1350"/>
                  </a:lnTo>
                  <a:lnTo>
                    <a:pt x="2987" y="1340"/>
                  </a:lnTo>
                  <a:lnTo>
                    <a:pt x="2982" y="1333"/>
                  </a:lnTo>
                  <a:lnTo>
                    <a:pt x="2982" y="1306"/>
                  </a:lnTo>
                  <a:lnTo>
                    <a:pt x="2984" y="1279"/>
                  </a:lnTo>
                  <a:lnTo>
                    <a:pt x="2986" y="1253"/>
                  </a:lnTo>
                  <a:lnTo>
                    <a:pt x="2989" y="1226"/>
                  </a:lnTo>
                  <a:lnTo>
                    <a:pt x="2993" y="1199"/>
                  </a:lnTo>
                  <a:lnTo>
                    <a:pt x="2997" y="1173"/>
                  </a:lnTo>
                  <a:lnTo>
                    <a:pt x="3002" y="1147"/>
                  </a:lnTo>
                  <a:lnTo>
                    <a:pt x="3008" y="1120"/>
                  </a:lnTo>
                  <a:lnTo>
                    <a:pt x="3014" y="1094"/>
                  </a:lnTo>
                  <a:lnTo>
                    <a:pt x="3021" y="1069"/>
                  </a:lnTo>
                  <a:lnTo>
                    <a:pt x="3028" y="1043"/>
                  </a:lnTo>
                  <a:lnTo>
                    <a:pt x="3036" y="1017"/>
                  </a:lnTo>
                  <a:lnTo>
                    <a:pt x="3043" y="993"/>
                  </a:lnTo>
                  <a:lnTo>
                    <a:pt x="3052" y="967"/>
                  </a:lnTo>
                  <a:lnTo>
                    <a:pt x="3060" y="942"/>
                  </a:lnTo>
                  <a:lnTo>
                    <a:pt x="3069" y="919"/>
                  </a:lnTo>
                  <a:lnTo>
                    <a:pt x="3077" y="894"/>
                  </a:lnTo>
                  <a:lnTo>
                    <a:pt x="3087" y="871"/>
                  </a:lnTo>
                  <a:lnTo>
                    <a:pt x="3096" y="847"/>
                  </a:lnTo>
                  <a:lnTo>
                    <a:pt x="3105" y="825"/>
                  </a:lnTo>
                  <a:lnTo>
                    <a:pt x="3114" y="802"/>
                  </a:lnTo>
                  <a:lnTo>
                    <a:pt x="3123" y="780"/>
                  </a:lnTo>
                  <a:lnTo>
                    <a:pt x="3132" y="758"/>
                  </a:lnTo>
                  <a:lnTo>
                    <a:pt x="3142" y="738"/>
                  </a:lnTo>
                  <a:lnTo>
                    <a:pt x="3150" y="717"/>
                  </a:lnTo>
                  <a:lnTo>
                    <a:pt x="3158" y="697"/>
                  </a:lnTo>
                  <a:lnTo>
                    <a:pt x="3166" y="677"/>
                  </a:lnTo>
                  <a:lnTo>
                    <a:pt x="3174" y="658"/>
                  </a:lnTo>
                  <a:lnTo>
                    <a:pt x="3181" y="640"/>
                  </a:lnTo>
                  <a:lnTo>
                    <a:pt x="3188" y="623"/>
                  </a:lnTo>
                  <a:lnTo>
                    <a:pt x="3194" y="604"/>
                  </a:lnTo>
                  <a:lnTo>
                    <a:pt x="3200" y="588"/>
                  </a:lnTo>
                  <a:close/>
                  <a:moveTo>
                    <a:pt x="3445" y="1129"/>
                  </a:moveTo>
                  <a:lnTo>
                    <a:pt x="3439" y="1140"/>
                  </a:lnTo>
                  <a:lnTo>
                    <a:pt x="3434" y="1152"/>
                  </a:lnTo>
                  <a:lnTo>
                    <a:pt x="3427" y="1164"/>
                  </a:lnTo>
                  <a:lnTo>
                    <a:pt x="3421" y="1176"/>
                  </a:lnTo>
                  <a:lnTo>
                    <a:pt x="3413" y="1187"/>
                  </a:lnTo>
                  <a:lnTo>
                    <a:pt x="3406" y="1199"/>
                  </a:lnTo>
                  <a:lnTo>
                    <a:pt x="3397" y="1211"/>
                  </a:lnTo>
                  <a:lnTo>
                    <a:pt x="3389" y="1222"/>
                  </a:lnTo>
                  <a:lnTo>
                    <a:pt x="3380" y="1232"/>
                  </a:lnTo>
                  <a:lnTo>
                    <a:pt x="3372" y="1244"/>
                  </a:lnTo>
                  <a:lnTo>
                    <a:pt x="3363" y="1255"/>
                  </a:lnTo>
                  <a:lnTo>
                    <a:pt x="3355" y="1264"/>
                  </a:lnTo>
                  <a:lnTo>
                    <a:pt x="3346" y="1275"/>
                  </a:lnTo>
                  <a:lnTo>
                    <a:pt x="3339" y="1285"/>
                  </a:lnTo>
                  <a:lnTo>
                    <a:pt x="3331" y="1294"/>
                  </a:lnTo>
                  <a:lnTo>
                    <a:pt x="3324" y="1303"/>
                  </a:lnTo>
                  <a:lnTo>
                    <a:pt x="3342" y="1302"/>
                  </a:lnTo>
                  <a:lnTo>
                    <a:pt x="3360" y="1300"/>
                  </a:lnTo>
                  <a:lnTo>
                    <a:pt x="3378" y="1295"/>
                  </a:lnTo>
                  <a:lnTo>
                    <a:pt x="3396" y="1290"/>
                  </a:lnTo>
                  <a:lnTo>
                    <a:pt x="3415" y="1285"/>
                  </a:lnTo>
                  <a:lnTo>
                    <a:pt x="3433" y="1278"/>
                  </a:lnTo>
                  <a:lnTo>
                    <a:pt x="3451" y="1271"/>
                  </a:lnTo>
                  <a:lnTo>
                    <a:pt x="3469" y="1263"/>
                  </a:lnTo>
                  <a:lnTo>
                    <a:pt x="3487" y="1256"/>
                  </a:lnTo>
                  <a:lnTo>
                    <a:pt x="3506" y="1248"/>
                  </a:lnTo>
                  <a:lnTo>
                    <a:pt x="3524" y="1242"/>
                  </a:lnTo>
                  <a:lnTo>
                    <a:pt x="3542" y="1237"/>
                  </a:lnTo>
                  <a:lnTo>
                    <a:pt x="3560" y="1231"/>
                  </a:lnTo>
                  <a:lnTo>
                    <a:pt x="3579" y="1227"/>
                  </a:lnTo>
                  <a:lnTo>
                    <a:pt x="3598" y="1225"/>
                  </a:lnTo>
                  <a:lnTo>
                    <a:pt x="3616" y="1224"/>
                  </a:lnTo>
                  <a:lnTo>
                    <a:pt x="3620" y="1217"/>
                  </a:lnTo>
                  <a:lnTo>
                    <a:pt x="3624" y="1212"/>
                  </a:lnTo>
                  <a:lnTo>
                    <a:pt x="3630" y="1207"/>
                  </a:lnTo>
                  <a:lnTo>
                    <a:pt x="3635" y="1201"/>
                  </a:lnTo>
                  <a:lnTo>
                    <a:pt x="3641" y="1198"/>
                  </a:lnTo>
                  <a:lnTo>
                    <a:pt x="3648" y="1195"/>
                  </a:lnTo>
                  <a:lnTo>
                    <a:pt x="3655" y="1193"/>
                  </a:lnTo>
                  <a:lnTo>
                    <a:pt x="3664" y="1192"/>
                  </a:lnTo>
                  <a:lnTo>
                    <a:pt x="3659" y="1191"/>
                  </a:lnTo>
                  <a:lnTo>
                    <a:pt x="3651" y="1186"/>
                  </a:lnTo>
                  <a:lnTo>
                    <a:pt x="3643" y="1181"/>
                  </a:lnTo>
                  <a:lnTo>
                    <a:pt x="3634" y="1173"/>
                  </a:lnTo>
                  <a:lnTo>
                    <a:pt x="3624" y="1166"/>
                  </a:lnTo>
                  <a:lnTo>
                    <a:pt x="3616" y="1158"/>
                  </a:lnTo>
                  <a:lnTo>
                    <a:pt x="3608" y="1151"/>
                  </a:lnTo>
                  <a:lnTo>
                    <a:pt x="3603" y="1145"/>
                  </a:lnTo>
                  <a:lnTo>
                    <a:pt x="3585" y="1146"/>
                  </a:lnTo>
                  <a:lnTo>
                    <a:pt x="3567" y="1149"/>
                  </a:lnTo>
                  <a:lnTo>
                    <a:pt x="3547" y="1152"/>
                  </a:lnTo>
                  <a:lnTo>
                    <a:pt x="3529" y="1154"/>
                  </a:lnTo>
                  <a:lnTo>
                    <a:pt x="3509" y="1154"/>
                  </a:lnTo>
                  <a:lnTo>
                    <a:pt x="3488" y="1151"/>
                  </a:lnTo>
                  <a:lnTo>
                    <a:pt x="3467" y="1142"/>
                  </a:lnTo>
                  <a:lnTo>
                    <a:pt x="3445" y="1129"/>
                  </a:lnTo>
                  <a:close/>
                  <a:moveTo>
                    <a:pt x="3311" y="1733"/>
                  </a:moveTo>
                  <a:lnTo>
                    <a:pt x="3297" y="1731"/>
                  </a:lnTo>
                  <a:lnTo>
                    <a:pt x="3284" y="1726"/>
                  </a:lnTo>
                  <a:lnTo>
                    <a:pt x="3271" y="1721"/>
                  </a:lnTo>
                  <a:lnTo>
                    <a:pt x="3258" y="1716"/>
                  </a:lnTo>
                  <a:lnTo>
                    <a:pt x="3244" y="1711"/>
                  </a:lnTo>
                  <a:lnTo>
                    <a:pt x="3232" y="1709"/>
                  </a:lnTo>
                  <a:lnTo>
                    <a:pt x="3219" y="1710"/>
                  </a:lnTo>
                  <a:lnTo>
                    <a:pt x="3205" y="1717"/>
                  </a:lnTo>
                  <a:lnTo>
                    <a:pt x="3193" y="1725"/>
                  </a:lnTo>
                  <a:lnTo>
                    <a:pt x="3181" y="1739"/>
                  </a:lnTo>
                  <a:lnTo>
                    <a:pt x="3171" y="1756"/>
                  </a:lnTo>
                  <a:lnTo>
                    <a:pt x="3161" y="1777"/>
                  </a:lnTo>
                  <a:lnTo>
                    <a:pt x="3152" y="1798"/>
                  </a:lnTo>
                  <a:lnTo>
                    <a:pt x="3146" y="1820"/>
                  </a:lnTo>
                  <a:lnTo>
                    <a:pt x="3142" y="1840"/>
                  </a:lnTo>
                  <a:lnTo>
                    <a:pt x="3141" y="1859"/>
                  </a:lnTo>
                  <a:lnTo>
                    <a:pt x="3160" y="1838"/>
                  </a:lnTo>
                  <a:lnTo>
                    <a:pt x="3181" y="1821"/>
                  </a:lnTo>
                  <a:lnTo>
                    <a:pt x="3204" y="1808"/>
                  </a:lnTo>
                  <a:lnTo>
                    <a:pt x="3226" y="1795"/>
                  </a:lnTo>
                  <a:lnTo>
                    <a:pt x="3249" y="1783"/>
                  </a:lnTo>
                  <a:lnTo>
                    <a:pt x="3271" y="1769"/>
                  </a:lnTo>
                  <a:lnTo>
                    <a:pt x="3291" y="1753"/>
                  </a:lnTo>
                  <a:lnTo>
                    <a:pt x="3311" y="1733"/>
                  </a:lnTo>
                  <a:close/>
                  <a:moveTo>
                    <a:pt x="3469" y="1907"/>
                  </a:moveTo>
                  <a:lnTo>
                    <a:pt x="3483" y="1909"/>
                  </a:lnTo>
                  <a:lnTo>
                    <a:pt x="3498" y="1915"/>
                  </a:lnTo>
                  <a:lnTo>
                    <a:pt x="3513" y="1924"/>
                  </a:lnTo>
                  <a:lnTo>
                    <a:pt x="3529" y="1935"/>
                  </a:lnTo>
                  <a:lnTo>
                    <a:pt x="3543" y="1948"/>
                  </a:lnTo>
                  <a:lnTo>
                    <a:pt x="3557" y="1961"/>
                  </a:lnTo>
                  <a:lnTo>
                    <a:pt x="3569" y="1974"/>
                  </a:lnTo>
                  <a:lnTo>
                    <a:pt x="3578" y="1986"/>
                  </a:lnTo>
                  <a:lnTo>
                    <a:pt x="3579" y="1998"/>
                  </a:lnTo>
                  <a:lnTo>
                    <a:pt x="3580" y="2008"/>
                  </a:lnTo>
                  <a:lnTo>
                    <a:pt x="3583" y="2017"/>
                  </a:lnTo>
                  <a:lnTo>
                    <a:pt x="3585" y="2026"/>
                  </a:lnTo>
                  <a:lnTo>
                    <a:pt x="3587" y="2036"/>
                  </a:lnTo>
                  <a:lnTo>
                    <a:pt x="3589" y="2045"/>
                  </a:lnTo>
                  <a:lnTo>
                    <a:pt x="3590" y="2055"/>
                  </a:lnTo>
                  <a:lnTo>
                    <a:pt x="3591" y="2067"/>
                  </a:lnTo>
                  <a:lnTo>
                    <a:pt x="3583" y="2066"/>
                  </a:lnTo>
                  <a:lnTo>
                    <a:pt x="3575" y="2063"/>
                  </a:lnTo>
                  <a:lnTo>
                    <a:pt x="3569" y="2060"/>
                  </a:lnTo>
                  <a:lnTo>
                    <a:pt x="3562" y="2056"/>
                  </a:lnTo>
                  <a:lnTo>
                    <a:pt x="3557" y="2052"/>
                  </a:lnTo>
                  <a:lnTo>
                    <a:pt x="3552" y="2046"/>
                  </a:lnTo>
                  <a:lnTo>
                    <a:pt x="3546" y="2040"/>
                  </a:lnTo>
                  <a:lnTo>
                    <a:pt x="3542" y="2035"/>
                  </a:lnTo>
                  <a:lnTo>
                    <a:pt x="3533" y="2036"/>
                  </a:lnTo>
                  <a:lnTo>
                    <a:pt x="3526" y="2037"/>
                  </a:lnTo>
                  <a:lnTo>
                    <a:pt x="3518" y="2039"/>
                  </a:lnTo>
                  <a:lnTo>
                    <a:pt x="3512" y="2042"/>
                  </a:lnTo>
                  <a:lnTo>
                    <a:pt x="3504" y="2045"/>
                  </a:lnTo>
                  <a:lnTo>
                    <a:pt x="3497" y="2047"/>
                  </a:lnTo>
                  <a:lnTo>
                    <a:pt x="3489" y="2048"/>
                  </a:lnTo>
                  <a:lnTo>
                    <a:pt x="3481" y="2049"/>
                  </a:lnTo>
                  <a:lnTo>
                    <a:pt x="3476" y="2043"/>
                  </a:lnTo>
                  <a:lnTo>
                    <a:pt x="3468" y="2036"/>
                  </a:lnTo>
                  <a:lnTo>
                    <a:pt x="3460" y="2028"/>
                  </a:lnTo>
                  <a:lnTo>
                    <a:pt x="3451" y="2021"/>
                  </a:lnTo>
                  <a:lnTo>
                    <a:pt x="3442" y="2013"/>
                  </a:lnTo>
                  <a:lnTo>
                    <a:pt x="3434" y="2008"/>
                  </a:lnTo>
                  <a:lnTo>
                    <a:pt x="3426" y="2003"/>
                  </a:lnTo>
                  <a:lnTo>
                    <a:pt x="3421" y="2002"/>
                  </a:lnTo>
                  <a:lnTo>
                    <a:pt x="3431" y="2014"/>
                  </a:lnTo>
                  <a:lnTo>
                    <a:pt x="3440" y="2025"/>
                  </a:lnTo>
                  <a:lnTo>
                    <a:pt x="3452" y="2036"/>
                  </a:lnTo>
                  <a:lnTo>
                    <a:pt x="3463" y="2045"/>
                  </a:lnTo>
                  <a:lnTo>
                    <a:pt x="3476" y="2054"/>
                  </a:lnTo>
                  <a:lnTo>
                    <a:pt x="3487" y="2062"/>
                  </a:lnTo>
                  <a:lnTo>
                    <a:pt x="3500" y="2071"/>
                  </a:lnTo>
                  <a:lnTo>
                    <a:pt x="3514" y="2078"/>
                  </a:lnTo>
                  <a:lnTo>
                    <a:pt x="3527" y="2086"/>
                  </a:lnTo>
                  <a:lnTo>
                    <a:pt x="3540" y="2092"/>
                  </a:lnTo>
                  <a:lnTo>
                    <a:pt x="3554" y="2099"/>
                  </a:lnTo>
                  <a:lnTo>
                    <a:pt x="3567" y="2105"/>
                  </a:lnTo>
                  <a:lnTo>
                    <a:pt x="3579" y="2112"/>
                  </a:lnTo>
                  <a:lnTo>
                    <a:pt x="3592" y="2118"/>
                  </a:lnTo>
                  <a:lnTo>
                    <a:pt x="3604" y="2123"/>
                  </a:lnTo>
                  <a:lnTo>
                    <a:pt x="3616" y="2130"/>
                  </a:lnTo>
                  <a:lnTo>
                    <a:pt x="3616" y="2123"/>
                  </a:lnTo>
                  <a:lnTo>
                    <a:pt x="3618" y="2118"/>
                  </a:lnTo>
                  <a:lnTo>
                    <a:pt x="3619" y="2112"/>
                  </a:lnTo>
                  <a:lnTo>
                    <a:pt x="3622" y="2105"/>
                  </a:lnTo>
                  <a:lnTo>
                    <a:pt x="3624" y="2100"/>
                  </a:lnTo>
                  <a:lnTo>
                    <a:pt x="3625" y="2093"/>
                  </a:lnTo>
                  <a:lnTo>
                    <a:pt x="3628" y="2088"/>
                  </a:lnTo>
                  <a:lnTo>
                    <a:pt x="3628" y="2082"/>
                  </a:lnTo>
                  <a:lnTo>
                    <a:pt x="3700" y="2082"/>
                  </a:lnTo>
                  <a:lnTo>
                    <a:pt x="3699" y="2069"/>
                  </a:lnTo>
                  <a:lnTo>
                    <a:pt x="3697" y="2056"/>
                  </a:lnTo>
                  <a:lnTo>
                    <a:pt x="3693" y="2042"/>
                  </a:lnTo>
                  <a:lnTo>
                    <a:pt x="3689" y="2028"/>
                  </a:lnTo>
                  <a:lnTo>
                    <a:pt x="3684" y="2015"/>
                  </a:lnTo>
                  <a:lnTo>
                    <a:pt x="3680" y="2003"/>
                  </a:lnTo>
                  <a:lnTo>
                    <a:pt x="3678" y="1994"/>
                  </a:lnTo>
                  <a:lnTo>
                    <a:pt x="3677" y="1986"/>
                  </a:lnTo>
                  <a:lnTo>
                    <a:pt x="3652" y="2018"/>
                  </a:lnTo>
                  <a:lnTo>
                    <a:pt x="3638" y="2001"/>
                  </a:lnTo>
                  <a:lnTo>
                    <a:pt x="3623" y="1985"/>
                  </a:lnTo>
                  <a:lnTo>
                    <a:pt x="3608" y="1970"/>
                  </a:lnTo>
                  <a:lnTo>
                    <a:pt x="3592" y="1956"/>
                  </a:lnTo>
                  <a:lnTo>
                    <a:pt x="3578" y="1944"/>
                  </a:lnTo>
                  <a:lnTo>
                    <a:pt x="3564" y="1931"/>
                  </a:lnTo>
                  <a:lnTo>
                    <a:pt x="3553" y="1919"/>
                  </a:lnTo>
                  <a:lnTo>
                    <a:pt x="3542" y="1907"/>
                  </a:lnTo>
                  <a:lnTo>
                    <a:pt x="3532" y="1906"/>
                  </a:lnTo>
                  <a:lnTo>
                    <a:pt x="3522" y="1905"/>
                  </a:lnTo>
                  <a:lnTo>
                    <a:pt x="3511" y="1903"/>
                  </a:lnTo>
                  <a:lnTo>
                    <a:pt x="3501" y="1902"/>
                  </a:lnTo>
                  <a:lnTo>
                    <a:pt x="3491" y="1901"/>
                  </a:lnTo>
                  <a:lnTo>
                    <a:pt x="3482" y="1901"/>
                  </a:lnTo>
                  <a:lnTo>
                    <a:pt x="3474" y="1903"/>
                  </a:lnTo>
                  <a:lnTo>
                    <a:pt x="3469" y="1907"/>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7" name="Freeform 19"/>
            <p:cNvSpPr/>
            <p:nvPr/>
          </p:nvSpPr>
          <p:spPr>
            <a:xfrm>
              <a:off x="2265480" y="3322440"/>
              <a:ext cx="219600" cy="173160"/>
            </a:xfrm>
            <a:custGeom>
              <a:avLst/>
              <a:gdLst>
                <a:gd name="textAreaLeft" fmla="*/ 0 w 219600"/>
                <a:gd name="textAreaRight" fmla="*/ 219960 w 219600"/>
                <a:gd name="textAreaTop" fmla="*/ 0 h 173160"/>
                <a:gd name="textAreaBottom" fmla="*/ 173520 h 173160"/>
              </a:gdLst>
              <a:ahLst/>
              <a:rect l="textAreaLeft" t="textAreaTop" r="textAreaRight" b="textAreaBottom"/>
              <a:pathLst>
                <a:path w="2870" h="2323">
                  <a:moveTo>
                    <a:pt x="190" y="2069"/>
                  </a:moveTo>
                  <a:lnTo>
                    <a:pt x="208" y="2055"/>
                  </a:lnTo>
                  <a:lnTo>
                    <a:pt x="222" y="2046"/>
                  </a:lnTo>
                  <a:lnTo>
                    <a:pt x="232" y="2041"/>
                  </a:lnTo>
                  <a:lnTo>
                    <a:pt x="241" y="2039"/>
                  </a:lnTo>
                  <a:lnTo>
                    <a:pt x="247" y="2039"/>
                  </a:lnTo>
                  <a:lnTo>
                    <a:pt x="253" y="2039"/>
                  </a:lnTo>
                  <a:lnTo>
                    <a:pt x="259" y="2037"/>
                  </a:lnTo>
                  <a:lnTo>
                    <a:pt x="267" y="2033"/>
                  </a:lnTo>
                  <a:lnTo>
                    <a:pt x="262" y="2043"/>
                  </a:lnTo>
                  <a:lnTo>
                    <a:pt x="259" y="2053"/>
                  </a:lnTo>
                  <a:lnTo>
                    <a:pt x="256" y="2061"/>
                  </a:lnTo>
                  <a:lnTo>
                    <a:pt x="254" y="2067"/>
                  </a:lnTo>
                  <a:lnTo>
                    <a:pt x="251" y="2073"/>
                  </a:lnTo>
                  <a:lnTo>
                    <a:pt x="249" y="2080"/>
                  </a:lnTo>
                  <a:lnTo>
                    <a:pt x="246" y="2086"/>
                  </a:lnTo>
                  <a:lnTo>
                    <a:pt x="244" y="2095"/>
                  </a:lnTo>
                  <a:lnTo>
                    <a:pt x="250" y="2103"/>
                  </a:lnTo>
                  <a:lnTo>
                    <a:pt x="253" y="2114"/>
                  </a:lnTo>
                  <a:lnTo>
                    <a:pt x="255" y="2126"/>
                  </a:lnTo>
                  <a:lnTo>
                    <a:pt x="256" y="2140"/>
                  </a:lnTo>
                  <a:lnTo>
                    <a:pt x="256" y="2155"/>
                  </a:lnTo>
                  <a:lnTo>
                    <a:pt x="255" y="2170"/>
                  </a:lnTo>
                  <a:lnTo>
                    <a:pt x="253" y="2186"/>
                  </a:lnTo>
                  <a:lnTo>
                    <a:pt x="250" y="2203"/>
                  </a:lnTo>
                  <a:lnTo>
                    <a:pt x="246" y="2219"/>
                  </a:lnTo>
                  <a:lnTo>
                    <a:pt x="243" y="2234"/>
                  </a:lnTo>
                  <a:lnTo>
                    <a:pt x="239" y="2249"/>
                  </a:lnTo>
                  <a:lnTo>
                    <a:pt x="235" y="2263"/>
                  </a:lnTo>
                  <a:lnTo>
                    <a:pt x="230" y="2276"/>
                  </a:lnTo>
                  <a:lnTo>
                    <a:pt x="226" y="2286"/>
                  </a:lnTo>
                  <a:lnTo>
                    <a:pt x="222" y="2295"/>
                  </a:lnTo>
                  <a:lnTo>
                    <a:pt x="219" y="2301"/>
                  </a:lnTo>
                  <a:lnTo>
                    <a:pt x="213" y="2287"/>
                  </a:lnTo>
                  <a:lnTo>
                    <a:pt x="209" y="2272"/>
                  </a:lnTo>
                  <a:lnTo>
                    <a:pt x="206" y="2257"/>
                  </a:lnTo>
                  <a:lnTo>
                    <a:pt x="203" y="2242"/>
                  </a:lnTo>
                  <a:lnTo>
                    <a:pt x="200" y="2226"/>
                  </a:lnTo>
                  <a:lnTo>
                    <a:pt x="199" y="2211"/>
                  </a:lnTo>
                  <a:lnTo>
                    <a:pt x="198" y="2196"/>
                  </a:lnTo>
                  <a:lnTo>
                    <a:pt x="197" y="2180"/>
                  </a:lnTo>
                  <a:lnTo>
                    <a:pt x="196" y="2165"/>
                  </a:lnTo>
                  <a:lnTo>
                    <a:pt x="196" y="2150"/>
                  </a:lnTo>
                  <a:lnTo>
                    <a:pt x="195" y="2137"/>
                  </a:lnTo>
                  <a:lnTo>
                    <a:pt x="195" y="2122"/>
                  </a:lnTo>
                  <a:lnTo>
                    <a:pt x="194" y="2108"/>
                  </a:lnTo>
                  <a:lnTo>
                    <a:pt x="193" y="2095"/>
                  </a:lnTo>
                  <a:lnTo>
                    <a:pt x="192" y="2082"/>
                  </a:lnTo>
                  <a:lnTo>
                    <a:pt x="190" y="2069"/>
                  </a:lnTo>
                  <a:close/>
                  <a:moveTo>
                    <a:pt x="6" y="2164"/>
                  </a:moveTo>
                  <a:lnTo>
                    <a:pt x="12" y="2169"/>
                  </a:lnTo>
                  <a:lnTo>
                    <a:pt x="19" y="2173"/>
                  </a:lnTo>
                  <a:lnTo>
                    <a:pt x="28" y="2179"/>
                  </a:lnTo>
                  <a:lnTo>
                    <a:pt x="38" y="2185"/>
                  </a:lnTo>
                  <a:lnTo>
                    <a:pt x="45" y="2192"/>
                  </a:lnTo>
                  <a:lnTo>
                    <a:pt x="53" y="2197"/>
                  </a:lnTo>
                  <a:lnTo>
                    <a:pt x="57" y="2204"/>
                  </a:lnTo>
                  <a:lnTo>
                    <a:pt x="59" y="2209"/>
                  </a:lnTo>
                  <a:lnTo>
                    <a:pt x="56" y="2217"/>
                  </a:lnTo>
                  <a:lnTo>
                    <a:pt x="53" y="2224"/>
                  </a:lnTo>
                  <a:lnTo>
                    <a:pt x="48" y="2233"/>
                  </a:lnTo>
                  <a:lnTo>
                    <a:pt x="44" y="2241"/>
                  </a:lnTo>
                  <a:lnTo>
                    <a:pt x="40" y="2250"/>
                  </a:lnTo>
                  <a:lnTo>
                    <a:pt x="36" y="2258"/>
                  </a:lnTo>
                  <a:lnTo>
                    <a:pt x="32" y="2266"/>
                  </a:lnTo>
                  <a:lnTo>
                    <a:pt x="29" y="2272"/>
                  </a:lnTo>
                  <a:lnTo>
                    <a:pt x="25" y="2280"/>
                  </a:lnTo>
                  <a:lnTo>
                    <a:pt x="22" y="2286"/>
                  </a:lnTo>
                  <a:lnTo>
                    <a:pt x="18" y="2294"/>
                  </a:lnTo>
                  <a:lnTo>
                    <a:pt x="15" y="2299"/>
                  </a:lnTo>
                  <a:lnTo>
                    <a:pt x="11" y="2306"/>
                  </a:lnTo>
                  <a:lnTo>
                    <a:pt x="8" y="2311"/>
                  </a:lnTo>
                  <a:lnTo>
                    <a:pt x="5" y="2317"/>
                  </a:lnTo>
                  <a:lnTo>
                    <a:pt x="0" y="2323"/>
                  </a:lnTo>
                  <a:lnTo>
                    <a:pt x="1" y="2303"/>
                  </a:lnTo>
                  <a:lnTo>
                    <a:pt x="1" y="2283"/>
                  </a:lnTo>
                  <a:lnTo>
                    <a:pt x="0" y="2263"/>
                  </a:lnTo>
                  <a:lnTo>
                    <a:pt x="0" y="2242"/>
                  </a:lnTo>
                  <a:lnTo>
                    <a:pt x="0" y="2222"/>
                  </a:lnTo>
                  <a:lnTo>
                    <a:pt x="0" y="2203"/>
                  </a:lnTo>
                  <a:lnTo>
                    <a:pt x="2" y="2184"/>
                  </a:lnTo>
                  <a:lnTo>
                    <a:pt x="6" y="2164"/>
                  </a:lnTo>
                  <a:close/>
                  <a:moveTo>
                    <a:pt x="162" y="1578"/>
                  </a:moveTo>
                  <a:lnTo>
                    <a:pt x="170" y="1589"/>
                  </a:lnTo>
                  <a:lnTo>
                    <a:pt x="175" y="1600"/>
                  </a:lnTo>
                  <a:lnTo>
                    <a:pt x="178" y="1611"/>
                  </a:lnTo>
                  <a:lnTo>
                    <a:pt x="180" y="1621"/>
                  </a:lnTo>
                  <a:lnTo>
                    <a:pt x="183" y="1631"/>
                  </a:lnTo>
                  <a:lnTo>
                    <a:pt x="191" y="1638"/>
                  </a:lnTo>
                  <a:lnTo>
                    <a:pt x="204" y="1642"/>
                  </a:lnTo>
                  <a:lnTo>
                    <a:pt x="223" y="1644"/>
                  </a:lnTo>
                  <a:lnTo>
                    <a:pt x="227" y="1656"/>
                  </a:lnTo>
                  <a:lnTo>
                    <a:pt x="230" y="1669"/>
                  </a:lnTo>
                  <a:lnTo>
                    <a:pt x="230" y="1682"/>
                  </a:lnTo>
                  <a:lnTo>
                    <a:pt x="229" y="1695"/>
                  </a:lnTo>
                  <a:lnTo>
                    <a:pt x="228" y="1708"/>
                  </a:lnTo>
                  <a:lnTo>
                    <a:pt x="225" y="1720"/>
                  </a:lnTo>
                  <a:lnTo>
                    <a:pt x="222" y="1734"/>
                  </a:lnTo>
                  <a:lnTo>
                    <a:pt x="220" y="1747"/>
                  </a:lnTo>
                  <a:lnTo>
                    <a:pt x="195" y="1779"/>
                  </a:lnTo>
                  <a:lnTo>
                    <a:pt x="215" y="1763"/>
                  </a:lnTo>
                  <a:lnTo>
                    <a:pt x="231" y="1750"/>
                  </a:lnTo>
                  <a:lnTo>
                    <a:pt x="243" y="1739"/>
                  </a:lnTo>
                  <a:lnTo>
                    <a:pt x="252" y="1725"/>
                  </a:lnTo>
                  <a:lnTo>
                    <a:pt x="257" y="1709"/>
                  </a:lnTo>
                  <a:lnTo>
                    <a:pt x="260" y="1686"/>
                  </a:lnTo>
                  <a:lnTo>
                    <a:pt x="261" y="1657"/>
                  </a:lnTo>
                  <a:lnTo>
                    <a:pt x="260" y="1619"/>
                  </a:lnTo>
                  <a:lnTo>
                    <a:pt x="259" y="1595"/>
                  </a:lnTo>
                  <a:lnTo>
                    <a:pt x="251" y="1576"/>
                  </a:lnTo>
                  <a:lnTo>
                    <a:pt x="237" y="1562"/>
                  </a:lnTo>
                  <a:lnTo>
                    <a:pt x="220" y="1554"/>
                  </a:lnTo>
                  <a:lnTo>
                    <a:pt x="201" y="1549"/>
                  </a:lnTo>
                  <a:lnTo>
                    <a:pt x="184" y="1552"/>
                  </a:lnTo>
                  <a:lnTo>
                    <a:pt x="170" y="1562"/>
                  </a:lnTo>
                  <a:lnTo>
                    <a:pt x="162" y="1578"/>
                  </a:lnTo>
                  <a:close/>
                  <a:moveTo>
                    <a:pt x="122" y="1605"/>
                  </a:moveTo>
                  <a:lnTo>
                    <a:pt x="109" y="1622"/>
                  </a:lnTo>
                  <a:lnTo>
                    <a:pt x="99" y="1638"/>
                  </a:lnTo>
                  <a:lnTo>
                    <a:pt x="90" y="1654"/>
                  </a:lnTo>
                  <a:lnTo>
                    <a:pt x="83" y="1668"/>
                  </a:lnTo>
                  <a:lnTo>
                    <a:pt x="77" y="1683"/>
                  </a:lnTo>
                  <a:lnTo>
                    <a:pt x="72" y="1699"/>
                  </a:lnTo>
                  <a:lnTo>
                    <a:pt x="67" y="1715"/>
                  </a:lnTo>
                  <a:lnTo>
                    <a:pt x="62" y="1732"/>
                  </a:lnTo>
                  <a:lnTo>
                    <a:pt x="76" y="1750"/>
                  </a:lnTo>
                  <a:lnTo>
                    <a:pt x="92" y="1764"/>
                  </a:lnTo>
                  <a:lnTo>
                    <a:pt x="109" y="1775"/>
                  </a:lnTo>
                  <a:lnTo>
                    <a:pt x="127" y="1785"/>
                  </a:lnTo>
                  <a:lnTo>
                    <a:pt x="143" y="1793"/>
                  </a:lnTo>
                  <a:lnTo>
                    <a:pt x="155" y="1804"/>
                  </a:lnTo>
                  <a:lnTo>
                    <a:pt x="166" y="1818"/>
                  </a:lnTo>
                  <a:lnTo>
                    <a:pt x="171" y="1837"/>
                  </a:lnTo>
                  <a:lnTo>
                    <a:pt x="177" y="1836"/>
                  </a:lnTo>
                  <a:lnTo>
                    <a:pt x="182" y="1832"/>
                  </a:lnTo>
                  <a:lnTo>
                    <a:pt x="189" y="1826"/>
                  </a:lnTo>
                  <a:lnTo>
                    <a:pt x="195" y="1820"/>
                  </a:lnTo>
                  <a:lnTo>
                    <a:pt x="201" y="1813"/>
                  </a:lnTo>
                  <a:lnTo>
                    <a:pt x="208" y="1806"/>
                  </a:lnTo>
                  <a:lnTo>
                    <a:pt x="214" y="1801"/>
                  </a:lnTo>
                  <a:lnTo>
                    <a:pt x="220" y="1795"/>
                  </a:lnTo>
                  <a:lnTo>
                    <a:pt x="212" y="1787"/>
                  </a:lnTo>
                  <a:lnTo>
                    <a:pt x="204" y="1777"/>
                  </a:lnTo>
                  <a:lnTo>
                    <a:pt x="194" y="1767"/>
                  </a:lnTo>
                  <a:lnTo>
                    <a:pt x="183" y="1759"/>
                  </a:lnTo>
                  <a:lnTo>
                    <a:pt x="174" y="1749"/>
                  </a:lnTo>
                  <a:lnTo>
                    <a:pt x="163" y="1739"/>
                  </a:lnTo>
                  <a:lnTo>
                    <a:pt x="152" y="1729"/>
                  </a:lnTo>
                  <a:lnTo>
                    <a:pt x="144" y="1717"/>
                  </a:lnTo>
                  <a:lnTo>
                    <a:pt x="135" y="1707"/>
                  </a:lnTo>
                  <a:lnTo>
                    <a:pt x="128" y="1695"/>
                  </a:lnTo>
                  <a:lnTo>
                    <a:pt x="121" y="1682"/>
                  </a:lnTo>
                  <a:lnTo>
                    <a:pt x="117" y="1668"/>
                  </a:lnTo>
                  <a:lnTo>
                    <a:pt x="115" y="1654"/>
                  </a:lnTo>
                  <a:lnTo>
                    <a:pt x="115" y="1638"/>
                  </a:lnTo>
                  <a:lnTo>
                    <a:pt x="117" y="1622"/>
                  </a:lnTo>
                  <a:lnTo>
                    <a:pt x="122" y="1605"/>
                  </a:lnTo>
                  <a:close/>
                  <a:moveTo>
                    <a:pt x="2330" y="1899"/>
                  </a:moveTo>
                  <a:lnTo>
                    <a:pt x="2332" y="1892"/>
                  </a:lnTo>
                  <a:lnTo>
                    <a:pt x="2334" y="1882"/>
                  </a:lnTo>
                  <a:lnTo>
                    <a:pt x="2337" y="1870"/>
                  </a:lnTo>
                  <a:lnTo>
                    <a:pt x="2341" y="1857"/>
                  </a:lnTo>
                  <a:lnTo>
                    <a:pt x="2344" y="1846"/>
                  </a:lnTo>
                  <a:lnTo>
                    <a:pt x="2348" y="1833"/>
                  </a:lnTo>
                  <a:lnTo>
                    <a:pt x="2349" y="1822"/>
                  </a:lnTo>
                  <a:lnTo>
                    <a:pt x="2349" y="1813"/>
                  </a:lnTo>
                  <a:lnTo>
                    <a:pt x="2365" y="1812"/>
                  </a:lnTo>
                  <a:lnTo>
                    <a:pt x="2384" y="1810"/>
                  </a:lnTo>
                  <a:lnTo>
                    <a:pt x="2405" y="1807"/>
                  </a:lnTo>
                  <a:lnTo>
                    <a:pt x="2429" y="1803"/>
                  </a:lnTo>
                  <a:lnTo>
                    <a:pt x="2450" y="1797"/>
                  </a:lnTo>
                  <a:lnTo>
                    <a:pt x="2471" y="1791"/>
                  </a:lnTo>
                  <a:lnTo>
                    <a:pt x="2488" y="1786"/>
                  </a:lnTo>
                  <a:lnTo>
                    <a:pt x="2500" y="1779"/>
                  </a:lnTo>
                  <a:lnTo>
                    <a:pt x="2495" y="1778"/>
                  </a:lnTo>
                  <a:lnTo>
                    <a:pt x="2491" y="1777"/>
                  </a:lnTo>
                  <a:lnTo>
                    <a:pt x="2487" y="1775"/>
                  </a:lnTo>
                  <a:lnTo>
                    <a:pt x="2484" y="1772"/>
                  </a:lnTo>
                  <a:lnTo>
                    <a:pt x="2479" y="1769"/>
                  </a:lnTo>
                  <a:lnTo>
                    <a:pt x="2475" y="1766"/>
                  </a:lnTo>
                  <a:lnTo>
                    <a:pt x="2471" y="1765"/>
                  </a:lnTo>
                  <a:lnTo>
                    <a:pt x="2466" y="1764"/>
                  </a:lnTo>
                  <a:lnTo>
                    <a:pt x="2478" y="1765"/>
                  </a:lnTo>
                  <a:lnTo>
                    <a:pt x="2492" y="1766"/>
                  </a:lnTo>
                  <a:lnTo>
                    <a:pt x="2506" y="1769"/>
                  </a:lnTo>
                  <a:lnTo>
                    <a:pt x="2522" y="1772"/>
                  </a:lnTo>
                  <a:lnTo>
                    <a:pt x="2538" y="1776"/>
                  </a:lnTo>
                  <a:lnTo>
                    <a:pt x="2554" y="1781"/>
                  </a:lnTo>
                  <a:lnTo>
                    <a:pt x="2571" y="1787"/>
                  </a:lnTo>
                  <a:lnTo>
                    <a:pt x="2588" y="1792"/>
                  </a:lnTo>
                  <a:lnTo>
                    <a:pt x="2606" y="1799"/>
                  </a:lnTo>
                  <a:lnTo>
                    <a:pt x="2623" y="1805"/>
                  </a:lnTo>
                  <a:lnTo>
                    <a:pt x="2639" y="1811"/>
                  </a:lnTo>
                  <a:lnTo>
                    <a:pt x="2655" y="1819"/>
                  </a:lnTo>
                  <a:lnTo>
                    <a:pt x="2671" y="1825"/>
                  </a:lnTo>
                  <a:lnTo>
                    <a:pt x="2685" y="1832"/>
                  </a:lnTo>
                  <a:lnTo>
                    <a:pt x="2699" y="1838"/>
                  </a:lnTo>
                  <a:lnTo>
                    <a:pt x="2710" y="1844"/>
                  </a:lnTo>
                  <a:lnTo>
                    <a:pt x="2727" y="1854"/>
                  </a:lnTo>
                  <a:lnTo>
                    <a:pt x="2741" y="1864"/>
                  </a:lnTo>
                  <a:lnTo>
                    <a:pt x="2756" y="1876"/>
                  </a:lnTo>
                  <a:lnTo>
                    <a:pt x="2771" y="1888"/>
                  </a:lnTo>
                  <a:lnTo>
                    <a:pt x="2785" y="1902"/>
                  </a:lnTo>
                  <a:lnTo>
                    <a:pt x="2798" y="1916"/>
                  </a:lnTo>
                  <a:lnTo>
                    <a:pt x="2811" y="1932"/>
                  </a:lnTo>
                  <a:lnTo>
                    <a:pt x="2823" y="1948"/>
                  </a:lnTo>
                  <a:lnTo>
                    <a:pt x="2832" y="1966"/>
                  </a:lnTo>
                  <a:lnTo>
                    <a:pt x="2842" y="1985"/>
                  </a:lnTo>
                  <a:lnTo>
                    <a:pt x="2851" y="2004"/>
                  </a:lnTo>
                  <a:lnTo>
                    <a:pt x="2857" y="2024"/>
                  </a:lnTo>
                  <a:lnTo>
                    <a:pt x="2862" y="2046"/>
                  </a:lnTo>
                  <a:lnTo>
                    <a:pt x="2867" y="2067"/>
                  </a:lnTo>
                  <a:lnTo>
                    <a:pt x="2869" y="2089"/>
                  </a:lnTo>
                  <a:lnTo>
                    <a:pt x="2870" y="2113"/>
                  </a:lnTo>
                  <a:lnTo>
                    <a:pt x="2842" y="2149"/>
                  </a:lnTo>
                  <a:lnTo>
                    <a:pt x="2834" y="2146"/>
                  </a:lnTo>
                  <a:lnTo>
                    <a:pt x="2825" y="2143"/>
                  </a:lnTo>
                  <a:lnTo>
                    <a:pt x="2814" y="2140"/>
                  </a:lnTo>
                  <a:lnTo>
                    <a:pt x="2804" y="2137"/>
                  </a:lnTo>
                  <a:lnTo>
                    <a:pt x="2792" y="2133"/>
                  </a:lnTo>
                  <a:lnTo>
                    <a:pt x="2780" y="2131"/>
                  </a:lnTo>
                  <a:lnTo>
                    <a:pt x="2766" y="2128"/>
                  </a:lnTo>
                  <a:lnTo>
                    <a:pt x="2753" y="2126"/>
                  </a:lnTo>
                  <a:lnTo>
                    <a:pt x="2739" y="2124"/>
                  </a:lnTo>
                  <a:lnTo>
                    <a:pt x="2725" y="2122"/>
                  </a:lnTo>
                  <a:lnTo>
                    <a:pt x="2710" y="2119"/>
                  </a:lnTo>
                  <a:lnTo>
                    <a:pt x="2695" y="2118"/>
                  </a:lnTo>
                  <a:lnTo>
                    <a:pt x="2682" y="2117"/>
                  </a:lnTo>
                  <a:lnTo>
                    <a:pt x="2667" y="2116"/>
                  </a:lnTo>
                  <a:lnTo>
                    <a:pt x="2652" y="2116"/>
                  </a:lnTo>
                  <a:lnTo>
                    <a:pt x="2638" y="2116"/>
                  </a:lnTo>
                  <a:lnTo>
                    <a:pt x="2647" y="2110"/>
                  </a:lnTo>
                  <a:lnTo>
                    <a:pt x="2657" y="2102"/>
                  </a:lnTo>
                  <a:lnTo>
                    <a:pt x="2669" y="2094"/>
                  </a:lnTo>
                  <a:lnTo>
                    <a:pt x="2679" y="2084"/>
                  </a:lnTo>
                  <a:lnTo>
                    <a:pt x="2691" y="2074"/>
                  </a:lnTo>
                  <a:lnTo>
                    <a:pt x="2703" y="2064"/>
                  </a:lnTo>
                  <a:lnTo>
                    <a:pt x="2716" y="2052"/>
                  </a:lnTo>
                  <a:lnTo>
                    <a:pt x="2728" y="2041"/>
                  </a:lnTo>
                  <a:lnTo>
                    <a:pt x="2739" y="2030"/>
                  </a:lnTo>
                  <a:lnTo>
                    <a:pt x="2751" y="2018"/>
                  </a:lnTo>
                  <a:lnTo>
                    <a:pt x="2763" y="2006"/>
                  </a:lnTo>
                  <a:lnTo>
                    <a:pt x="2774" y="1995"/>
                  </a:lnTo>
                  <a:lnTo>
                    <a:pt x="2783" y="1985"/>
                  </a:lnTo>
                  <a:lnTo>
                    <a:pt x="2793" y="1974"/>
                  </a:lnTo>
                  <a:lnTo>
                    <a:pt x="2801" y="1964"/>
                  </a:lnTo>
                  <a:lnTo>
                    <a:pt x="2809" y="1955"/>
                  </a:lnTo>
                  <a:lnTo>
                    <a:pt x="2795" y="1938"/>
                  </a:lnTo>
                  <a:lnTo>
                    <a:pt x="2779" y="1922"/>
                  </a:lnTo>
                  <a:lnTo>
                    <a:pt x="2764" y="1907"/>
                  </a:lnTo>
                  <a:lnTo>
                    <a:pt x="2747" y="1893"/>
                  </a:lnTo>
                  <a:lnTo>
                    <a:pt x="2729" y="1879"/>
                  </a:lnTo>
                  <a:lnTo>
                    <a:pt x="2712" y="1867"/>
                  </a:lnTo>
                  <a:lnTo>
                    <a:pt x="2692" y="1855"/>
                  </a:lnTo>
                  <a:lnTo>
                    <a:pt x="2673" y="1844"/>
                  </a:lnTo>
                  <a:lnTo>
                    <a:pt x="2653" y="1835"/>
                  </a:lnTo>
                  <a:lnTo>
                    <a:pt x="2632" y="1826"/>
                  </a:lnTo>
                  <a:lnTo>
                    <a:pt x="2612" y="1818"/>
                  </a:lnTo>
                  <a:lnTo>
                    <a:pt x="2591" y="1809"/>
                  </a:lnTo>
                  <a:lnTo>
                    <a:pt x="2569" y="1802"/>
                  </a:lnTo>
                  <a:lnTo>
                    <a:pt x="2548" y="1794"/>
                  </a:lnTo>
                  <a:lnTo>
                    <a:pt x="2526" y="1787"/>
                  </a:lnTo>
                  <a:lnTo>
                    <a:pt x="2504" y="1780"/>
                  </a:lnTo>
                  <a:lnTo>
                    <a:pt x="2499" y="1784"/>
                  </a:lnTo>
                  <a:lnTo>
                    <a:pt x="2491" y="1789"/>
                  </a:lnTo>
                  <a:lnTo>
                    <a:pt x="2481" y="1794"/>
                  </a:lnTo>
                  <a:lnTo>
                    <a:pt x="2471" y="1801"/>
                  </a:lnTo>
                  <a:lnTo>
                    <a:pt x="2459" y="1807"/>
                  </a:lnTo>
                  <a:lnTo>
                    <a:pt x="2447" y="1815"/>
                  </a:lnTo>
                  <a:lnTo>
                    <a:pt x="2433" y="1823"/>
                  </a:lnTo>
                  <a:lnTo>
                    <a:pt x="2420" y="1832"/>
                  </a:lnTo>
                  <a:lnTo>
                    <a:pt x="2406" y="1840"/>
                  </a:lnTo>
                  <a:lnTo>
                    <a:pt x="2393" y="1849"/>
                  </a:lnTo>
                  <a:lnTo>
                    <a:pt x="2380" y="1858"/>
                  </a:lnTo>
                  <a:lnTo>
                    <a:pt x="2368" y="1867"/>
                  </a:lnTo>
                  <a:lnTo>
                    <a:pt x="2356" y="1876"/>
                  </a:lnTo>
                  <a:lnTo>
                    <a:pt x="2347" y="1884"/>
                  </a:lnTo>
                  <a:lnTo>
                    <a:pt x="2338" y="1892"/>
                  </a:lnTo>
                  <a:lnTo>
                    <a:pt x="2330" y="1899"/>
                  </a:lnTo>
                  <a:close/>
                  <a:moveTo>
                    <a:pt x="243" y="1763"/>
                  </a:moveTo>
                  <a:lnTo>
                    <a:pt x="237" y="1775"/>
                  </a:lnTo>
                  <a:lnTo>
                    <a:pt x="229" y="1786"/>
                  </a:lnTo>
                  <a:lnTo>
                    <a:pt x="219" y="1797"/>
                  </a:lnTo>
                  <a:lnTo>
                    <a:pt x="208" y="1807"/>
                  </a:lnTo>
                  <a:lnTo>
                    <a:pt x="197" y="1818"/>
                  </a:lnTo>
                  <a:lnTo>
                    <a:pt x="188" y="1826"/>
                  </a:lnTo>
                  <a:lnTo>
                    <a:pt x="179" y="1834"/>
                  </a:lnTo>
                  <a:lnTo>
                    <a:pt x="173" y="1841"/>
                  </a:lnTo>
                  <a:lnTo>
                    <a:pt x="188" y="1849"/>
                  </a:lnTo>
                  <a:lnTo>
                    <a:pt x="204" y="1854"/>
                  </a:lnTo>
                  <a:lnTo>
                    <a:pt x="222" y="1857"/>
                  </a:lnTo>
                  <a:lnTo>
                    <a:pt x="240" y="1857"/>
                  </a:lnTo>
                  <a:lnTo>
                    <a:pt x="259" y="1856"/>
                  </a:lnTo>
                  <a:lnTo>
                    <a:pt x="279" y="1854"/>
                  </a:lnTo>
                  <a:lnTo>
                    <a:pt x="298" y="1852"/>
                  </a:lnTo>
                  <a:lnTo>
                    <a:pt x="316" y="1849"/>
                  </a:lnTo>
                  <a:lnTo>
                    <a:pt x="301" y="1846"/>
                  </a:lnTo>
                  <a:lnTo>
                    <a:pt x="288" y="1840"/>
                  </a:lnTo>
                  <a:lnTo>
                    <a:pt x="276" y="1833"/>
                  </a:lnTo>
                  <a:lnTo>
                    <a:pt x="267" y="1823"/>
                  </a:lnTo>
                  <a:lnTo>
                    <a:pt x="258" y="1811"/>
                  </a:lnTo>
                  <a:lnTo>
                    <a:pt x="252" y="1797"/>
                  </a:lnTo>
                  <a:lnTo>
                    <a:pt x="246" y="1781"/>
                  </a:lnTo>
                  <a:lnTo>
                    <a:pt x="243" y="1763"/>
                  </a:lnTo>
                  <a:close/>
                  <a:moveTo>
                    <a:pt x="968" y="0"/>
                  </a:moveTo>
                  <a:lnTo>
                    <a:pt x="956" y="15"/>
                  </a:lnTo>
                  <a:lnTo>
                    <a:pt x="943" y="31"/>
                  </a:lnTo>
                  <a:lnTo>
                    <a:pt x="930" y="46"/>
                  </a:lnTo>
                  <a:lnTo>
                    <a:pt x="919" y="60"/>
                  </a:lnTo>
                  <a:lnTo>
                    <a:pt x="907" y="75"/>
                  </a:lnTo>
                  <a:lnTo>
                    <a:pt x="895" y="89"/>
                  </a:lnTo>
                  <a:lnTo>
                    <a:pt x="884" y="102"/>
                  </a:lnTo>
                  <a:lnTo>
                    <a:pt x="875" y="114"/>
                  </a:lnTo>
                  <a:lnTo>
                    <a:pt x="875" y="125"/>
                  </a:lnTo>
                  <a:lnTo>
                    <a:pt x="879" y="134"/>
                  </a:lnTo>
                  <a:lnTo>
                    <a:pt x="887" y="144"/>
                  </a:lnTo>
                  <a:lnTo>
                    <a:pt x="895" y="151"/>
                  </a:lnTo>
                  <a:lnTo>
                    <a:pt x="906" y="159"/>
                  </a:lnTo>
                  <a:lnTo>
                    <a:pt x="918" y="166"/>
                  </a:lnTo>
                  <a:lnTo>
                    <a:pt x="929" y="173"/>
                  </a:lnTo>
                  <a:lnTo>
                    <a:pt x="940" y="180"/>
                  </a:lnTo>
                  <a:lnTo>
                    <a:pt x="952" y="183"/>
                  </a:lnTo>
                  <a:lnTo>
                    <a:pt x="965" y="186"/>
                  </a:lnTo>
                  <a:lnTo>
                    <a:pt x="976" y="187"/>
                  </a:lnTo>
                  <a:lnTo>
                    <a:pt x="989" y="188"/>
                  </a:lnTo>
                  <a:lnTo>
                    <a:pt x="1001" y="189"/>
                  </a:lnTo>
                  <a:lnTo>
                    <a:pt x="1013" y="189"/>
                  </a:lnTo>
                  <a:lnTo>
                    <a:pt x="1026" y="190"/>
                  </a:lnTo>
                  <a:lnTo>
                    <a:pt x="1037" y="190"/>
                  </a:lnTo>
                  <a:lnTo>
                    <a:pt x="1050" y="190"/>
                  </a:lnTo>
                  <a:lnTo>
                    <a:pt x="1062" y="189"/>
                  </a:lnTo>
                  <a:lnTo>
                    <a:pt x="1074" y="189"/>
                  </a:lnTo>
                  <a:lnTo>
                    <a:pt x="1087" y="189"/>
                  </a:lnTo>
                  <a:lnTo>
                    <a:pt x="1098" y="189"/>
                  </a:lnTo>
                  <a:lnTo>
                    <a:pt x="1111" y="189"/>
                  </a:lnTo>
                  <a:lnTo>
                    <a:pt x="1123" y="189"/>
                  </a:lnTo>
                  <a:lnTo>
                    <a:pt x="1136" y="190"/>
                  </a:lnTo>
                  <a:lnTo>
                    <a:pt x="1147" y="194"/>
                  </a:lnTo>
                  <a:lnTo>
                    <a:pt x="1155" y="199"/>
                  </a:lnTo>
                  <a:lnTo>
                    <a:pt x="1163" y="207"/>
                  </a:lnTo>
                  <a:lnTo>
                    <a:pt x="1169" y="214"/>
                  </a:lnTo>
                  <a:lnTo>
                    <a:pt x="1174" y="223"/>
                  </a:lnTo>
                  <a:lnTo>
                    <a:pt x="1179" y="233"/>
                  </a:lnTo>
                  <a:lnTo>
                    <a:pt x="1182" y="242"/>
                  </a:lnTo>
                  <a:lnTo>
                    <a:pt x="1184" y="253"/>
                  </a:lnTo>
                  <a:lnTo>
                    <a:pt x="1186" y="271"/>
                  </a:lnTo>
                  <a:lnTo>
                    <a:pt x="1193" y="290"/>
                  </a:lnTo>
                  <a:lnTo>
                    <a:pt x="1201" y="309"/>
                  </a:lnTo>
                  <a:lnTo>
                    <a:pt x="1211" y="328"/>
                  </a:lnTo>
                  <a:lnTo>
                    <a:pt x="1222" y="345"/>
                  </a:lnTo>
                  <a:lnTo>
                    <a:pt x="1232" y="362"/>
                  </a:lnTo>
                  <a:lnTo>
                    <a:pt x="1241" y="377"/>
                  </a:lnTo>
                  <a:lnTo>
                    <a:pt x="1247" y="390"/>
                  </a:lnTo>
                  <a:lnTo>
                    <a:pt x="1249" y="402"/>
                  </a:lnTo>
                  <a:lnTo>
                    <a:pt x="1253" y="414"/>
                  </a:lnTo>
                  <a:lnTo>
                    <a:pt x="1256" y="428"/>
                  </a:lnTo>
                  <a:lnTo>
                    <a:pt x="1259" y="442"/>
                  </a:lnTo>
                  <a:lnTo>
                    <a:pt x="1262" y="456"/>
                  </a:lnTo>
                  <a:lnTo>
                    <a:pt x="1265" y="471"/>
                  </a:lnTo>
                  <a:lnTo>
                    <a:pt x="1270" y="486"/>
                  </a:lnTo>
                  <a:lnTo>
                    <a:pt x="1274" y="501"/>
                  </a:lnTo>
                  <a:lnTo>
                    <a:pt x="1278" y="515"/>
                  </a:lnTo>
                  <a:lnTo>
                    <a:pt x="1284" y="530"/>
                  </a:lnTo>
                  <a:lnTo>
                    <a:pt x="1288" y="544"/>
                  </a:lnTo>
                  <a:lnTo>
                    <a:pt x="1293" y="557"/>
                  </a:lnTo>
                  <a:lnTo>
                    <a:pt x="1300" y="569"/>
                  </a:lnTo>
                  <a:lnTo>
                    <a:pt x="1306" y="581"/>
                  </a:lnTo>
                  <a:lnTo>
                    <a:pt x="1313" y="593"/>
                  </a:lnTo>
                  <a:lnTo>
                    <a:pt x="1319" y="603"/>
                  </a:lnTo>
                  <a:lnTo>
                    <a:pt x="1355" y="651"/>
                  </a:lnTo>
                  <a:lnTo>
                    <a:pt x="1366" y="655"/>
                  </a:lnTo>
                  <a:lnTo>
                    <a:pt x="1375" y="661"/>
                  </a:lnTo>
                  <a:lnTo>
                    <a:pt x="1383" y="670"/>
                  </a:lnTo>
                  <a:lnTo>
                    <a:pt x="1391" y="681"/>
                  </a:lnTo>
                  <a:lnTo>
                    <a:pt x="1397" y="694"/>
                  </a:lnTo>
                  <a:lnTo>
                    <a:pt x="1405" y="709"/>
                  </a:lnTo>
                  <a:lnTo>
                    <a:pt x="1411" y="725"/>
                  </a:lnTo>
                  <a:lnTo>
                    <a:pt x="1418" y="742"/>
                  </a:lnTo>
                  <a:lnTo>
                    <a:pt x="1426" y="761"/>
                  </a:lnTo>
                  <a:lnTo>
                    <a:pt x="1433" y="781"/>
                  </a:lnTo>
                  <a:lnTo>
                    <a:pt x="1443" y="803"/>
                  </a:lnTo>
                  <a:lnTo>
                    <a:pt x="1453" y="824"/>
                  </a:lnTo>
                  <a:lnTo>
                    <a:pt x="1465" y="847"/>
                  </a:lnTo>
                  <a:lnTo>
                    <a:pt x="1478" y="870"/>
                  </a:lnTo>
                  <a:lnTo>
                    <a:pt x="1493" y="894"/>
                  </a:lnTo>
                  <a:lnTo>
                    <a:pt x="1511" y="917"/>
                  </a:lnTo>
                  <a:lnTo>
                    <a:pt x="1503" y="895"/>
                  </a:lnTo>
                  <a:lnTo>
                    <a:pt x="1496" y="871"/>
                  </a:lnTo>
                  <a:lnTo>
                    <a:pt x="1487" y="848"/>
                  </a:lnTo>
                  <a:lnTo>
                    <a:pt x="1480" y="823"/>
                  </a:lnTo>
                  <a:lnTo>
                    <a:pt x="1472" y="797"/>
                  </a:lnTo>
                  <a:lnTo>
                    <a:pt x="1463" y="772"/>
                  </a:lnTo>
                  <a:lnTo>
                    <a:pt x="1456" y="746"/>
                  </a:lnTo>
                  <a:lnTo>
                    <a:pt x="1447" y="719"/>
                  </a:lnTo>
                  <a:lnTo>
                    <a:pt x="1440" y="693"/>
                  </a:lnTo>
                  <a:lnTo>
                    <a:pt x="1432" y="667"/>
                  </a:lnTo>
                  <a:lnTo>
                    <a:pt x="1424" y="641"/>
                  </a:lnTo>
                  <a:lnTo>
                    <a:pt x="1416" y="615"/>
                  </a:lnTo>
                  <a:lnTo>
                    <a:pt x="1409" y="590"/>
                  </a:lnTo>
                  <a:lnTo>
                    <a:pt x="1401" y="565"/>
                  </a:lnTo>
                  <a:lnTo>
                    <a:pt x="1394" y="542"/>
                  </a:lnTo>
                  <a:lnTo>
                    <a:pt x="1386" y="518"/>
                  </a:lnTo>
                  <a:lnTo>
                    <a:pt x="1382" y="504"/>
                  </a:lnTo>
                  <a:lnTo>
                    <a:pt x="1376" y="489"/>
                  </a:lnTo>
                  <a:lnTo>
                    <a:pt x="1369" y="472"/>
                  </a:lnTo>
                  <a:lnTo>
                    <a:pt x="1363" y="455"/>
                  </a:lnTo>
                  <a:lnTo>
                    <a:pt x="1355" y="436"/>
                  </a:lnTo>
                  <a:lnTo>
                    <a:pt x="1347" y="417"/>
                  </a:lnTo>
                  <a:lnTo>
                    <a:pt x="1338" y="397"/>
                  </a:lnTo>
                  <a:lnTo>
                    <a:pt x="1330" y="377"/>
                  </a:lnTo>
                  <a:lnTo>
                    <a:pt x="1320" y="357"/>
                  </a:lnTo>
                  <a:lnTo>
                    <a:pt x="1310" y="336"/>
                  </a:lnTo>
                  <a:lnTo>
                    <a:pt x="1302" y="316"/>
                  </a:lnTo>
                  <a:lnTo>
                    <a:pt x="1292" y="297"/>
                  </a:lnTo>
                  <a:lnTo>
                    <a:pt x="1283" y="277"/>
                  </a:lnTo>
                  <a:lnTo>
                    <a:pt x="1274" y="259"/>
                  </a:lnTo>
                  <a:lnTo>
                    <a:pt x="1265" y="242"/>
                  </a:lnTo>
                  <a:lnTo>
                    <a:pt x="1257" y="226"/>
                  </a:lnTo>
                  <a:lnTo>
                    <a:pt x="1241" y="198"/>
                  </a:lnTo>
                  <a:lnTo>
                    <a:pt x="1228" y="176"/>
                  </a:lnTo>
                  <a:lnTo>
                    <a:pt x="1216" y="159"/>
                  </a:lnTo>
                  <a:lnTo>
                    <a:pt x="1207" y="146"/>
                  </a:lnTo>
                  <a:lnTo>
                    <a:pt x="1199" y="135"/>
                  </a:lnTo>
                  <a:lnTo>
                    <a:pt x="1195" y="129"/>
                  </a:lnTo>
                  <a:lnTo>
                    <a:pt x="1194" y="122"/>
                  </a:lnTo>
                  <a:lnTo>
                    <a:pt x="1196" y="118"/>
                  </a:lnTo>
                  <a:lnTo>
                    <a:pt x="1179" y="128"/>
                  </a:lnTo>
                  <a:lnTo>
                    <a:pt x="1162" y="136"/>
                  </a:lnTo>
                  <a:lnTo>
                    <a:pt x="1144" y="142"/>
                  </a:lnTo>
                  <a:lnTo>
                    <a:pt x="1126" y="146"/>
                  </a:lnTo>
                  <a:lnTo>
                    <a:pt x="1108" y="149"/>
                  </a:lnTo>
                  <a:lnTo>
                    <a:pt x="1090" y="150"/>
                  </a:lnTo>
                  <a:lnTo>
                    <a:pt x="1072" y="150"/>
                  </a:lnTo>
                  <a:lnTo>
                    <a:pt x="1053" y="148"/>
                  </a:lnTo>
                  <a:lnTo>
                    <a:pt x="1035" y="145"/>
                  </a:lnTo>
                  <a:lnTo>
                    <a:pt x="1017" y="141"/>
                  </a:lnTo>
                  <a:lnTo>
                    <a:pt x="999" y="135"/>
                  </a:lnTo>
                  <a:lnTo>
                    <a:pt x="982" y="130"/>
                  </a:lnTo>
                  <a:lnTo>
                    <a:pt x="966" y="122"/>
                  </a:lnTo>
                  <a:lnTo>
                    <a:pt x="949" y="114"/>
                  </a:lnTo>
                  <a:lnTo>
                    <a:pt x="934" y="105"/>
                  </a:lnTo>
                  <a:lnTo>
                    <a:pt x="919" y="96"/>
                  </a:lnTo>
                  <a:lnTo>
                    <a:pt x="927" y="84"/>
                  </a:lnTo>
                  <a:lnTo>
                    <a:pt x="934" y="72"/>
                  </a:lnTo>
                  <a:lnTo>
                    <a:pt x="941" y="61"/>
                  </a:lnTo>
                  <a:lnTo>
                    <a:pt x="946" y="51"/>
                  </a:lnTo>
                  <a:lnTo>
                    <a:pt x="953" y="40"/>
                  </a:lnTo>
                  <a:lnTo>
                    <a:pt x="958" y="28"/>
                  </a:lnTo>
                  <a:lnTo>
                    <a:pt x="963" y="14"/>
                  </a:lnTo>
                  <a:lnTo>
                    <a:pt x="968" y="0"/>
                  </a:lnTo>
                  <a:close/>
                  <a:moveTo>
                    <a:pt x="954" y="1590"/>
                  </a:moveTo>
                  <a:lnTo>
                    <a:pt x="960" y="1584"/>
                  </a:lnTo>
                  <a:lnTo>
                    <a:pt x="967" y="1578"/>
                  </a:lnTo>
                  <a:lnTo>
                    <a:pt x="972" y="1572"/>
                  </a:lnTo>
                  <a:lnTo>
                    <a:pt x="979" y="1566"/>
                  </a:lnTo>
                  <a:lnTo>
                    <a:pt x="983" y="1561"/>
                  </a:lnTo>
                  <a:lnTo>
                    <a:pt x="986" y="1555"/>
                  </a:lnTo>
                  <a:lnTo>
                    <a:pt x="988" y="1549"/>
                  </a:lnTo>
                  <a:lnTo>
                    <a:pt x="989" y="1543"/>
                  </a:lnTo>
                  <a:lnTo>
                    <a:pt x="929" y="1463"/>
                  </a:lnTo>
                  <a:lnTo>
                    <a:pt x="937" y="1464"/>
                  </a:lnTo>
                  <a:lnTo>
                    <a:pt x="945" y="1468"/>
                  </a:lnTo>
                  <a:lnTo>
                    <a:pt x="956" y="1473"/>
                  </a:lnTo>
                  <a:lnTo>
                    <a:pt x="968" y="1481"/>
                  </a:lnTo>
                  <a:lnTo>
                    <a:pt x="980" y="1489"/>
                  </a:lnTo>
                  <a:lnTo>
                    <a:pt x="992" y="1499"/>
                  </a:lnTo>
                  <a:lnTo>
                    <a:pt x="1006" y="1510"/>
                  </a:lnTo>
                  <a:lnTo>
                    <a:pt x="1020" y="1520"/>
                  </a:lnTo>
                  <a:lnTo>
                    <a:pt x="1033" y="1532"/>
                  </a:lnTo>
                  <a:lnTo>
                    <a:pt x="1047" y="1543"/>
                  </a:lnTo>
                  <a:lnTo>
                    <a:pt x="1060" y="1554"/>
                  </a:lnTo>
                  <a:lnTo>
                    <a:pt x="1073" y="1563"/>
                  </a:lnTo>
                  <a:lnTo>
                    <a:pt x="1085" y="1573"/>
                  </a:lnTo>
                  <a:lnTo>
                    <a:pt x="1094" y="1580"/>
                  </a:lnTo>
                  <a:lnTo>
                    <a:pt x="1104" y="1586"/>
                  </a:lnTo>
                  <a:lnTo>
                    <a:pt x="1111" y="1590"/>
                  </a:lnTo>
                  <a:lnTo>
                    <a:pt x="1122" y="1597"/>
                  </a:lnTo>
                  <a:lnTo>
                    <a:pt x="1132" y="1606"/>
                  </a:lnTo>
                  <a:lnTo>
                    <a:pt x="1141" y="1618"/>
                  </a:lnTo>
                  <a:lnTo>
                    <a:pt x="1150" y="1631"/>
                  </a:lnTo>
                  <a:lnTo>
                    <a:pt x="1157" y="1646"/>
                  </a:lnTo>
                  <a:lnTo>
                    <a:pt x="1165" y="1662"/>
                  </a:lnTo>
                  <a:lnTo>
                    <a:pt x="1172" y="1678"/>
                  </a:lnTo>
                  <a:lnTo>
                    <a:pt x="1180" y="1695"/>
                  </a:lnTo>
                  <a:lnTo>
                    <a:pt x="1187" y="1712"/>
                  </a:lnTo>
                  <a:lnTo>
                    <a:pt x="1195" y="1729"/>
                  </a:lnTo>
                  <a:lnTo>
                    <a:pt x="1203" y="1746"/>
                  </a:lnTo>
                  <a:lnTo>
                    <a:pt x="1213" y="1762"/>
                  </a:lnTo>
                  <a:lnTo>
                    <a:pt x="1223" y="1777"/>
                  </a:lnTo>
                  <a:lnTo>
                    <a:pt x="1233" y="1790"/>
                  </a:lnTo>
                  <a:lnTo>
                    <a:pt x="1245" y="1803"/>
                  </a:lnTo>
                  <a:lnTo>
                    <a:pt x="1258" y="1812"/>
                  </a:lnTo>
                  <a:lnTo>
                    <a:pt x="1268" y="1818"/>
                  </a:lnTo>
                  <a:lnTo>
                    <a:pt x="1278" y="1824"/>
                  </a:lnTo>
                  <a:lnTo>
                    <a:pt x="1288" y="1832"/>
                  </a:lnTo>
                  <a:lnTo>
                    <a:pt x="1298" y="1839"/>
                  </a:lnTo>
                  <a:lnTo>
                    <a:pt x="1306" y="1850"/>
                  </a:lnTo>
                  <a:lnTo>
                    <a:pt x="1313" y="1861"/>
                  </a:lnTo>
                  <a:lnTo>
                    <a:pt x="1317" y="1874"/>
                  </a:lnTo>
                  <a:lnTo>
                    <a:pt x="1319" y="1892"/>
                  </a:lnTo>
                  <a:lnTo>
                    <a:pt x="1315" y="1890"/>
                  </a:lnTo>
                  <a:lnTo>
                    <a:pt x="1310" y="1889"/>
                  </a:lnTo>
                  <a:lnTo>
                    <a:pt x="1305" y="1886"/>
                  </a:lnTo>
                  <a:lnTo>
                    <a:pt x="1301" y="1883"/>
                  </a:lnTo>
                  <a:lnTo>
                    <a:pt x="1296" y="1881"/>
                  </a:lnTo>
                  <a:lnTo>
                    <a:pt x="1291" y="1878"/>
                  </a:lnTo>
                  <a:lnTo>
                    <a:pt x="1287" y="1877"/>
                  </a:lnTo>
                  <a:lnTo>
                    <a:pt x="1283" y="1876"/>
                  </a:lnTo>
                  <a:lnTo>
                    <a:pt x="1201" y="1910"/>
                  </a:lnTo>
                  <a:lnTo>
                    <a:pt x="1198" y="1898"/>
                  </a:lnTo>
                  <a:lnTo>
                    <a:pt x="1198" y="1886"/>
                  </a:lnTo>
                  <a:lnTo>
                    <a:pt x="1198" y="1874"/>
                  </a:lnTo>
                  <a:lnTo>
                    <a:pt x="1199" y="1864"/>
                  </a:lnTo>
                  <a:lnTo>
                    <a:pt x="1198" y="1853"/>
                  </a:lnTo>
                  <a:lnTo>
                    <a:pt x="1195" y="1844"/>
                  </a:lnTo>
                  <a:lnTo>
                    <a:pt x="1188" y="1836"/>
                  </a:lnTo>
                  <a:lnTo>
                    <a:pt x="1178" y="1830"/>
                  </a:lnTo>
                  <a:lnTo>
                    <a:pt x="1171" y="1782"/>
                  </a:lnTo>
                  <a:lnTo>
                    <a:pt x="1165" y="1745"/>
                  </a:lnTo>
                  <a:lnTo>
                    <a:pt x="1159" y="1717"/>
                  </a:lnTo>
                  <a:lnTo>
                    <a:pt x="1152" y="1698"/>
                  </a:lnTo>
                  <a:lnTo>
                    <a:pt x="1144" y="1687"/>
                  </a:lnTo>
                  <a:lnTo>
                    <a:pt x="1135" y="1682"/>
                  </a:lnTo>
                  <a:lnTo>
                    <a:pt x="1123" y="1683"/>
                  </a:lnTo>
                  <a:lnTo>
                    <a:pt x="1110" y="1689"/>
                  </a:lnTo>
                  <a:lnTo>
                    <a:pt x="1095" y="1696"/>
                  </a:lnTo>
                  <a:lnTo>
                    <a:pt x="1078" y="1701"/>
                  </a:lnTo>
                  <a:lnTo>
                    <a:pt x="1062" y="1704"/>
                  </a:lnTo>
                  <a:lnTo>
                    <a:pt x="1046" y="1705"/>
                  </a:lnTo>
                  <a:lnTo>
                    <a:pt x="1031" y="1704"/>
                  </a:lnTo>
                  <a:lnTo>
                    <a:pt x="1019" y="1702"/>
                  </a:lnTo>
                  <a:lnTo>
                    <a:pt x="1009" y="1698"/>
                  </a:lnTo>
                  <a:lnTo>
                    <a:pt x="1002" y="1693"/>
                  </a:lnTo>
                  <a:lnTo>
                    <a:pt x="991" y="1698"/>
                  </a:lnTo>
                  <a:lnTo>
                    <a:pt x="977" y="1701"/>
                  </a:lnTo>
                  <a:lnTo>
                    <a:pt x="961" y="1702"/>
                  </a:lnTo>
                  <a:lnTo>
                    <a:pt x="943" y="1702"/>
                  </a:lnTo>
                  <a:lnTo>
                    <a:pt x="924" y="1702"/>
                  </a:lnTo>
                  <a:lnTo>
                    <a:pt x="905" y="1703"/>
                  </a:lnTo>
                  <a:lnTo>
                    <a:pt x="885" y="1705"/>
                  </a:lnTo>
                  <a:lnTo>
                    <a:pt x="868" y="1711"/>
                  </a:lnTo>
                  <a:lnTo>
                    <a:pt x="875" y="1707"/>
                  </a:lnTo>
                  <a:lnTo>
                    <a:pt x="880" y="1704"/>
                  </a:lnTo>
                  <a:lnTo>
                    <a:pt x="885" y="1702"/>
                  </a:lnTo>
                  <a:lnTo>
                    <a:pt x="891" y="1699"/>
                  </a:lnTo>
                  <a:lnTo>
                    <a:pt x="896" y="1697"/>
                  </a:lnTo>
                  <a:lnTo>
                    <a:pt x="900" y="1695"/>
                  </a:lnTo>
                  <a:lnTo>
                    <a:pt x="904" y="1690"/>
                  </a:lnTo>
                  <a:lnTo>
                    <a:pt x="906" y="1685"/>
                  </a:lnTo>
                  <a:lnTo>
                    <a:pt x="920" y="1692"/>
                  </a:lnTo>
                  <a:lnTo>
                    <a:pt x="934" y="1695"/>
                  </a:lnTo>
                  <a:lnTo>
                    <a:pt x="948" y="1697"/>
                  </a:lnTo>
                  <a:lnTo>
                    <a:pt x="961" y="1696"/>
                  </a:lnTo>
                  <a:lnTo>
                    <a:pt x="974" y="1695"/>
                  </a:lnTo>
                  <a:lnTo>
                    <a:pt x="986" y="1692"/>
                  </a:lnTo>
                  <a:lnTo>
                    <a:pt x="996" y="1688"/>
                  </a:lnTo>
                  <a:lnTo>
                    <a:pt x="1002" y="1685"/>
                  </a:lnTo>
                  <a:lnTo>
                    <a:pt x="1016" y="1692"/>
                  </a:lnTo>
                  <a:lnTo>
                    <a:pt x="1034" y="1695"/>
                  </a:lnTo>
                  <a:lnTo>
                    <a:pt x="1055" y="1695"/>
                  </a:lnTo>
                  <a:lnTo>
                    <a:pt x="1074" y="1692"/>
                  </a:lnTo>
                  <a:lnTo>
                    <a:pt x="1093" y="1686"/>
                  </a:lnTo>
                  <a:lnTo>
                    <a:pt x="1108" y="1677"/>
                  </a:lnTo>
                  <a:lnTo>
                    <a:pt x="1119" y="1665"/>
                  </a:lnTo>
                  <a:lnTo>
                    <a:pt x="1123" y="1651"/>
                  </a:lnTo>
                  <a:lnTo>
                    <a:pt x="1120" y="1639"/>
                  </a:lnTo>
                  <a:lnTo>
                    <a:pt x="1114" y="1628"/>
                  </a:lnTo>
                  <a:lnTo>
                    <a:pt x="1106" y="1620"/>
                  </a:lnTo>
                  <a:lnTo>
                    <a:pt x="1096" y="1612"/>
                  </a:lnTo>
                  <a:lnTo>
                    <a:pt x="1087" y="1607"/>
                  </a:lnTo>
                  <a:lnTo>
                    <a:pt x="1077" y="1604"/>
                  </a:lnTo>
                  <a:lnTo>
                    <a:pt x="1067" y="1603"/>
                  </a:lnTo>
                  <a:lnTo>
                    <a:pt x="1061" y="1604"/>
                  </a:lnTo>
                  <a:lnTo>
                    <a:pt x="1055" y="1598"/>
                  </a:lnTo>
                  <a:lnTo>
                    <a:pt x="1048" y="1594"/>
                  </a:lnTo>
                  <a:lnTo>
                    <a:pt x="1043" y="1592"/>
                  </a:lnTo>
                  <a:lnTo>
                    <a:pt x="1037" y="1590"/>
                  </a:lnTo>
                  <a:lnTo>
                    <a:pt x="1031" y="1590"/>
                  </a:lnTo>
                  <a:lnTo>
                    <a:pt x="1026" y="1589"/>
                  </a:lnTo>
                  <a:lnTo>
                    <a:pt x="1020" y="1590"/>
                  </a:lnTo>
                  <a:lnTo>
                    <a:pt x="1014" y="1590"/>
                  </a:lnTo>
                  <a:lnTo>
                    <a:pt x="954" y="1590"/>
                  </a:lnTo>
                  <a:close/>
                  <a:moveTo>
                    <a:pt x="2707" y="2064"/>
                  </a:moveTo>
                  <a:lnTo>
                    <a:pt x="2730" y="2063"/>
                  </a:lnTo>
                  <a:lnTo>
                    <a:pt x="2748" y="2058"/>
                  </a:lnTo>
                  <a:lnTo>
                    <a:pt x="2763" y="2051"/>
                  </a:lnTo>
                  <a:lnTo>
                    <a:pt x="2776" y="2041"/>
                  </a:lnTo>
                  <a:lnTo>
                    <a:pt x="2788" y="2028"/>
                  </a:lnTo>
                  <a:lnTo>
                    <a:pt x="2800" y="2011"/>
                  </a:lnTo>
                  <a:lnTo>
                    <a:pt x="2815" y="1992"/>
                  </a:lnTo>
                  <a:lnTo>
                    <a:pt x="2832" y="1969"/>
                  </a:lnTo>
                  <a:lnTo>
                    <a:pt x="2828" y="1962"/>
                  </a:lnTo>
                  <a:lnTo>
                    <a:pt x="2824" y="1956"/>
                  </a:lnTo>
                  <a:lnTo>
                    <a:pt x="2820" y="1949"/>
                  </a:lnTo>
                  <a:lnTo>
                    <a:pt x="2815" y="1943"/>
                  </a:lnTo>
                  <a:lnTo>
                    <a:pt x="2805" y="1959"/>
                  </a:lnTo>
                  <a:lnTo>
                    <a:pt x="2792" y="1975"/>
                  </a:lnTo>
                  <a:lnTo>
                    <a:pt x="2779" y="1990"/>
                  </a:lnTo>
                  <a:lnTo>
                    <a:pt x="2765" y="2006"/>
                  </a:lnTo>
                  <a:lnTo>
                    <a:pt x="2750" y="2021"/>
                  </a:lnTo>
                  <a:lnTo>
                    <a:pt x="2735" y="2036"/>
                  </a:lnTo>
                  <a:lnTo>
                    <a:pt x="2721" y="2050"/>
                  </a:lnTo>
                  <a:lnTo>
                    <a:pt x="2707" y="2064"/>
                  </a:lnTo>
                  <a:close/>
                  <a:moveTo>
                    <a:pt x="2249" y="1367"/>
                  </a:moveTo>
                  <a:lnTo>
                    <a:pt x="2249" y="1358"/>
                  </a:lnTo>
                  <a:lnTo>
                    <a:pt x="2249" y="1347"/>
                  </a:lnTo>
                  <a:lnTo>
                    <a:pt x="2250" y="1335"/>
                  </a:lnTo>
                  <a:lnTo>
                    <a:pt x="2250" y="1323"/>
                  </a:lnTo>
                  <a:lnTo>
                    <a:pt x="2251" y="1309"/>
                  </a:lnTo>
                  <a:lnTo>
                    <a:pt x="2252" y="1295"/>
                  </a:lnTo>
                  <a:lnTo>
                    <a:pt x="2252" y="1281"/>
                  </a:lnTo>
                  <a:lnTo>
                    <a:pt x="2253" y="1267"/>
                  </a:lnTo>
                  <a:lnTo>
                    <a:pt x="2253" y="1253"/>
                  </a:lnTo>
                  <a:lnTo>
                    <a:pt x="2253" y="1240"/>
                  </a:lnTo>
                  <a:lnTo>
                    <a:pt x="2253" y="1227"/>
                  </a:lnTo>
                  <a:lnTo>
                    <a:pt x="2253" y="1214"/>
                  </a:lnTo>
                  <a:lnTo>
                    <a:pt x="2253" y="1204"/>
                  </a:lnTo>
                  <a:lnTo>
                    <a:pt x="2252" y="1194"/>
                  </a:lnTo>
                  <a:lnTo>
                    <a:pt x="2251" y="1186"/>
                  </a:lnTo>
                  <a:lnTo>
                    <a:pt x="2249" y="1179"/>
                  </a:lnTo>
                  <a:lnTo>
                    <a:pt x="2256" y="1187"/>
                  </a:lnTo>
                  <a:lnTo>
                    <a:pt x="2263" y="1196"/>
                  </a:lnTo>
                  <a:lnTo>
                    <a:pt x="2271" y="1208"/>
                  </a:lnTo>
                  <a:lnTo>
                    <a:pt x="2280" y="1221"/>
                  </a:lnTo>
                  <a:lnTo>
                    <a:pt x="2289" y="1234"/>
                  </a:lnTo>
                  <a:lnTo>
                    <a:pt x="2296" y="1248"/>
                  </a:lnTo>
                  <a:lnTo>
                    <a:pt x="2303" y="1260"/>
                  </a:lnTo>
                  <a:lnTo>
                    <a:pt x="2308" y="1272"/>
                  </a:lnTo>
                  <a:lnTo>
                    <a:pt x="2323" y="1274"/>
                  </a:lnTo>
                  <a:lnTo>
                    <a:pt x="2337" y="1281"/>
                  </a:lnTo>
                  <a:lnTo>
                    <a:pt x="2351" y="1287"/>
                  </a:lnTo>
                  <a:lnTo>
                    <a:pt x="2363" y="1295"/>
                  </a:lnTo>
                  <a:lnTo>
                    <a:pt x="2374" y="1301"/>
                  </a:lnTo>
                  <a:lnTo>
                    <a:pt x="2385" y="1306"/>
                  </a:lnTo>
                  <a:lnTo>
                    <a:pt x="2395" y="1308"/>
                  </a:lnTo>
                  <a:lnTo>
                    <a:pt x="2404" y="1305"/>
                  </a:lnTo>
                  <a:lnTo>
                    <a:pt x="2396" y="1319"/>
                  </a:lnTo>
                  <a:lnTo>
                    <a:pt x="2387" y="1327"/>
                  </a:lnTo>
                  <a:lnTo>
                    <a:pt x="2382" y="1331"/>
                  </a:lnTo>
                  <a:lnTo>
                    <a:pt x="2384" y="1336"/>
                  </a:lnTo>
                  <a:lnTo>
                    <a:pt x="2367" y="1339"/>
                  </a:lnTo>
                  <a:lnTo>
                    <a:pt x="2351" y="1342"/>
                  </a:lnTo>
                  <a:lnTo>
                    <a:pt x="2335" y="1345"/>
                  </a:lnTo>
                  <a:lnTo>
                    <a:pt x="2319" y="1348"/>
                  </a:lnTo>
                  <a:lnTo>
                    <a:pt x="2302" y="1352"/>
                  </a:lnTo>
                  <a:lnTo>
                    <a:pt x="2286" y="1357"/>
                  </a:lnTo>
                  <a:lnTo>
                    <a:pt x="2267" y="1362"/>
                  </a:lnTo>
                  <a:lnTo>
                    <a:pt x="2249" y="1367"/>
                  </a:lnTo>
                  <a:close/>
                </a:path>
              </a:pathLst>
            </a:custGeom>
            <a:solidFill>
              <a:srgbClr val="194c7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8" name="Freeform 20"/>
            <p:cNvSpPr/>
            <p:nvPr/>
          </p:nvSpPr>
          <p:spPr>
            <a:xfrm>
              <a:off x="2260080" y="3281400"/>
              <a:ext cx="154800" cy="317160"/>
            </a:xfrm>
            <a:custGeom>
              <a:avLst/>
              <a:gdLst>
                <a:gd name="textAreaLeft" fmla="*/ 0 w 154800"/>
                <a:gd name="textAreaRight" fmla="*/ 155160 w 154800"/>
                <a:gd name="textAreaTop" fmla="*/ 0 h 317160"/>
                <a:gd name="textAreaBottom" fmla="*/ 317520 h 317160"/>
              </a:gdLst>
              <a:ahLst/>
              <a:rect l="textAreaLeft" t="textAreaTop" r="textAreaRight" b="textAreaBottom"/>
              <a:pathLst>
                <a:path w="2026" h="4251">
                  <a:moveTo>
                    <a:pt x="243" y="2398"/>
                  </a:moveTo>
                  <a:lnTo>
                    <a:pt x="238" y="2437"/>
                  </a:lnTo>
                  <a:lnTo>
                    <a:pt x="232" y="2476"/>
                  </a:lnTo>
                  <a:lnTo>
                    <a:pt x="223" y="2515"/>
                  </a:lnTo>
                  <a:lnTo>
                    <a:pt x="212" y="2555"/>
                  </a:lnTo>
                  <a:lnTo>
                    <a:pt x="202" y="2594"/>
                  </a:lnTo>
                  <a:lnTo>
                    <a:pt x="189" y="2633"/>
                  </a:lnTo>
                  <a:lnTo>
                    <a:pt x="174" y="2672"/>
                  </a:lnTo>
                  <a:lnTo>
                    <a:pt x="159" y="2711"/>
                  </a:lnTo>
                  <a:lnTo>
                    <a:pt x="143" y="2748"/>
                  </a:lnTo>
                  <a:lnTo>
                    <a:pt x="125" y="2786"/>
                  </a:lnTo>
                  <a:lnTo>
                    <a:pt x="106" y="2822"/>
                  </a:lnTo>
                  <a:lnTo>
                    <a:pt x="86" y="2857"/>
                  </a:lnTo>
                  <a:lnTo>
                    <a:pt x="66" y="2891"/>
                  </a:lnTo>
                  <a:lnTo>
                    <a:pt x="45" y="2925"/>
                  </a:lnTo>
                  <a:lnTo>
                    <a:pt x="23" y="2957"/>
                  </a:lnTo>
                  <a:lnTo>
                    <a:pt x="0" y="2988"/>
                  </a:lnTo>
                  <a:lnTo>
                    <a:pt x="25" y="3020"/>
                  </a:lnTo>
                  <a:lnTo>
                    <a:pt x="37" y="3019"/>
                  </a:lnTo>
                  <a:lnTo>
                    <a:pt x="49" y="3016"/>
                  </a:lnTo>
                  <a:lnTo>
                    <a:pt x="61" y="3011"/>
                  </a:lnTo>
                  <a:lnTo>
                    <a:pt x="74" y="3006"/>
                  </a:lnTo>
                  <a:lnTo>
                    <a:pt x="87" y="2998"/>
                  </a:lnTo>
                  <a:lnTo>
                    <a:pt x="101" y="2990"/>
                  </a:lnTo>
                  <a:lnTo>
                    <a:pt x="114" y="2981"/>
                  </a:lnTo>
                  <a:lnTo>
                    <a:pt x="128" y="2972"/>
                  </a:lnTo>
                  <a:lnTo>
                    <a:pt x="141" y="2962"/>
                  </a:lnTo>
                  <a:lnTo>
                    <a:pt x="153" y="2952"/>
                  </a:lnTo>
                  <a:lnTo>
                    <a:pt x="165" y="2942"/>
                  </a:lnTo>
                  <a:lnTo>
                    <a:pt x="178" y="2932"/>
                  </a:lnTo>
                  <a:lnTo>
                    <a:pt x="189" y="2922"/>
                  </a:lnTo>
                  <a:lnTo>
                    <a:pt x="201" y="2914"/>
                  </a:lnTo>
                  <a:lnTo>
                    <a:pt x="210" y="2906"/>
                  </a:lnTo>
                  <a:lnTo>
                    <a:pt x="220" y="2900"/>
                  </a:lnTo>
                  <a:lnTo>
                    <a:pt x="232" y="2902"/>
                  </a:lnTo>
                  <a:lnTo>
                    <a:pt x="242" y="2901"/>
                  </a:lnTo>
                  <a:lnTo>
                    <a:pt x="253" y="2897"/>
                  </a:lnTo>
                  <a:lnTo>
                    <a:pt x="263" y="2890"/>
                  </a:lnTo>
                  <a:lnTo>
                    <a:pt x="272" y="2883"/>
                  </a:lnTo>
                  <a:lnTo>
                    <a:pt x="280" y="2875"/>
                  </a:lnTo>
                  <a:lnTo>
                    <a:pt x="287" y="2867"/>
                  </a:lnTo>
                  <a:lnTo>
                    <a:pt x="293" y="2860"/>
                  </a:lnTo>
                  <a:lnTo>
                    <a:pt x="286" y="2842"/>
                  </a:lnTo>
                  <a:lnTo>
                    <a:pt x="281" y="2824"/>
                  </a:lnTo>
                  <a:lnTo>
                    <a:pt x="277" y="2806"/>
                  </a:lnTo>
                  <a:lnTo>
                    <a:pt x="274" y="2788"/>
                  </a:lnTo>
                  <a:lnTo>
                    <a:pt x="272" y="2770"/>
                  </a:lnTo>
                  <a:lnTo>
                    <a:pt x="271" y="2751"/>
                  </a:lnTo>
                  <a:lnTo>
                    <a:pt x="270" y="2734"/>
                  </a:lnTo>
                  <a:lnTo>
                    <a:pt x="270" y="2716"/>
                  </a:lnTo>
                  <a:lnTo>
                    <a:pt x="269" y="2698"/>
                  </a:lnTo>
                  <a:lnTo>
                    <a:pt x="269" y="2680"/>
                  </a:lnTo>
                  <a:lnTo>
                    <a:pt x="268" y="2661"/>
                  </a:lnTo>
                  <a:lnTo>
                    <a:pt x="266" y="2644"/>
                  </a:lnTo>
                  <a:lnTo>
                    <a:pt x="264" y="2626"/>
                  </a:lnTo>
                  <a:lnTo>
                    <a:pt x="260" y="2608"/>
                  </a:lnTo>
                  <a:lnTo>
                    <a:pt x="256" y="2591"/>
                  </a:lnTo>
                  <a:lnTo>
                    <a:pt x="250" y="2573"/>
                  </a:lnTo>
                  <a:lnTo>
                    <a:pt x="250" y="2564"/>
                  </a:lnTo>
                  <a:lnTo>
                    <a:pt x="251" y="2549"/>
                  </a:lnTo>
                  <a:lnTo>
                    <a:pt x="251" y="2531"/>
                  </a:lnTo>
                  <a:lnTo>
                    <a:pt x="252" y="2512"/>
                  </a:lnTo>
                  <a:lnTo>
                    <a:pt x="253" y="2490"/>
                  </a:lnTo>
                  <a:lnTo>
                    <a:pt x="253" y="2470"/>
                  </a:lnTo>
                  <a:lnTo>
                    <a:pt x="254" y="2452"/>
                  </a:lnTo>
                  <a:lnTo>
                    <a:pt x="254" y="2438"/>
                  </a:lnTo>
                  <a:lnTo>
                    <a:pt x="243" y="2398"/>
                  </a:lnTo>
                  <a:close/>
                  <a:moveTo>
                    <a:pt x="1809" y="147"/>
                  </a:moveTo>
                  <a:lnTo>
                    <a:pt x="1821" y="160"/>
                  </a:lnTo>
                  <a:lnTo>
                    <a:pt x="1834" y="175"/>
                  </a:lnTo>
                  <a:lnTo>
                    <a:pt x="1846" y="192"/>
                  </a:lnTo>
                  <a:lnTo>
                    <a:pt x="1859" y="210"/>
                  </a:lnTo>
                  <a:lnTo>
                    <a:pt x="1870" y="228"/>
                  </a:lnTo>
                  <a:lnTo>
                    <a:pt x="1880" y="247"/>
                  </a:lnTo>
                  <a:lnTo>
                    <a:pt x="1890" y="266"/>
                  </a:lnTo>
                  <a:lnTo>
                    <a:pt x="1896" y="284"/>
                  </a:lnTo>
                  <a:lnTo>
                    <a:pt x="1900" y="299"/>
                  </a:lnTo>
                  <a:lnTo>
                    <a:pt x="1904" y="314"/>
                  </a:lnTo>
                  <a:lnTo>
                    <a:pt x="1907" y="329"/>
                  </a:lnTo>
                  <a:lnTo>
                    <a:pt x="1909" y="345"/>
                  </a:lnTo>
                  <a:lnTo>
                    <a:pt x="1912" y="361"/>
                  </a:lnTo>
                  <a:lnTo>
                    <a:pt x="1914" y="377"/>
                  </a:lnTo>
                  <a:lnTo>
                    <a:pt x="1916" y="392"/>
                  </a:lnTo>
                  <a:lnTo>
                    <a:pt x="1920" y="406"/>
                  </a:lnTo>
                  <a:lnTo>
                    <a:pt x="1923" y="420"/>
                  </a:lnTo>
                  <a:lnTo>
                    <a:pt x="1925" y="433"/>
                  </a:lnTo>
                  <a:lnTo>
                    <a:pt x="1927" y="447"/>
                  </a:lnTo>
                  <a:lnTo>
                    <a:pt x="1930" y="461"/>
                  </a:lnTo>
                  <a:lnTo>
                    <a:pt x="1932" y="476"/>
                  </a:lnTo>
                  <a:lnTo>
                    <a:pt x="1935" y="490"/>
                  </a:lnTo>
                  <a:lnTo>
                    <a:pt x="1937" y="505"/>
                  </a:lnTo>
                  <a:lnTo>
                    <a:pt x="1939" y="519"/>
                  </a:lnTo>
                  <a:lnTo>
                    <a:pt x="1941" y="534"/>
                  </a:lnTo>
                  <a:lnTo>
                    <a:pt x="1943" y="549"/>
                  </a:lnTo>
                  <a:lnTo>
                    <a:pt x="1945" y="563"/>
                  </a:lnTo>
                  <a:lnTo>
                    <a:pt x="1948" y="578"/>
                  </a:lnTo>
                  <a:lnTo>
                    <a:pt x="1951" y="592"/>
                  </a:lnTo>
                  <a:lnTo>
                    <a:pt x="1954" y="606"/>
                  </a:lnTo>
                  <a:lnTo>
                    <a:pt x="1957" y="620"/>
                  </a:lnTo>
                  <a:lnTo>
                    <a:pt x="1961" y="633"/>
                  </a:lnTo>
                  <a:lnTo>
                    <a:pt x="1968" y="657"/>
                  </a:lnTo>
                  <a:lnTo>
                    <a:pt x="1975" y="681"/>
                  </a:lnTo>
                  <a:lnTo>
                    <a:pt x="1982" y="705"/>
                  </a:lnTo>
                  <a:lnTo>
                    <a:pt x="1989" y="730"/>
                  </a:lnTo>
                  <a:lnTo>
                    <a:pt x="1996" y="755"/>
                  </a:lnTo>
                  <a:lnTo>
                    <a:pt x="2002" y="781"/>
                  </a:lnTo>
                  <a:lnTo>
                    <a:pt x="2007" y="807"/>
                  </a:lnTo>
                  <a:lnTo>
                    <a:pt x="2013" y="832"/>
                  </a:lnTo>
                  <a:lnTo>
                    <a:pt x="2017" y="859"/>
                  </a:lnTo>
                  <a:lnTo>
                    <a:pt x="2020" y="885"/>
                  </a:lnTo>
                  <a:lnTo>
                    <a:pt x="2023" y="912"/>
                  </a:lnTo>
                  <a:lnTo>
                    <a:pt x="2024" y="938"/>
                  </a:lnTo>
                  <a:lnTo>
                    <a:pt x="2026" y="964"/>
                  </a:lnTo>
                  <a:lnTo>
                    <a:pt x="2024" y="991"/>
                  </a:lnTo>
                  <a:lnTo>
                    <a:pt x="2022" y="1017"/>
                  </a:lnTo>
                  <a:lnTo>
                    <a:pt x="2019" y="1043"/>
                  </a:lnTo>
                  <a:lnTo>
                    <a:pt x="2018" y="1050"/>
                  </a:lnTo>
                  <a:lnTo>
                    <a:pt x="2016" y="1056"/>
                  </a:lnTo>
                  <a:lnTo>
                    <a:pt x="2015" y="1062"/>
                  </a:lnTo>
                  <a:lnTo>
                    <a:pt x="2013" y="1069"/>
                  </a:lnTo>
                  <a:lnTo>
                    <a:pt x="2011" y="1075"/>
                  </a:lnTo>
                  <a:lnTo>
                    <a:pt x="2009" y="1082"/>
                  </a:lnTo>
                  <a:lnTo>
                    <a:pt x="2008" y="1087"/>
                  </a:lnTo>
                  <a:lnTo>
                    <a:pt x="2008" y="1093"/>
                  </a:lnTo>
                  <a:lnTo>
                    <a:pt x="2008" y="1075"/>
                  </a:lnTo>
                  <a:lnTo>
                    <a:pt x="2007" y="1057"/>
                  </a:lnTo>
                  <a:lnTo>
                    <a:pt x="2006" y="1039"/>
                  </a:lnTo>
                  <a:lnTo>
                    <a:pt x="2005" y="1022"/>
                  </a:lnTo>
                  <a:lnTo>
                    <a:pt x="2003" y="1005"/>
                  </a:lnTo>
                  <a:lnTo>
                    <a:pt x="2000" y="989"/>
                  </a:lnTo>
                  <a:lnTo>
                    <a:pt x="1996" y="971"/>
                  </a:lnTo>
                  <a:lnTo>
                    <a:pt x="1990" y="955"/>
                  </a:lnTo>
                  <a:lnTo>
                    <a:pt x="1988" y="948"/>
                  </a:lnTo>
                  <a:lnTo>
                    <a:pt x="1986" y="939"/>
                  </a:lnTo>
                  <a:lnTo>
                    <a:pt x="1985" y="931"/>
                  </a:lnTo>
                  <a:lnTo>
                    <a:pt x="1983" y="924"/>
                  </a:lnTo>
                  <a:lnTo>
                    <a:pt x="1976" y="908"/>
                  </a:lnTo>
                  <a:lnTo>
                    <a:pt x="1970" y="892"/>
                  </a:lnTo>
                  <a:lnTo>
                    <a:pt x="1961" y="876"/>
                  </a:lnTo>
                  <a:lnTo>
                    <a:pt x="1954" y="860"/>
                  </a:lnTo>
                  <a:lnTo>
                    <a:pt x="1945" y="843"/>
                  </a:lnTo>
                  <a:lnTo>
                    <a:pt x="1938" y="827"/>
                  </a:lnTo>
                  <a:lnTo>
                    <a:pt x="1930" y="811"/>
                  </a:lnTo>
                  <a:lnTo>
                    <a:pt x="1925" y="796"/>
                  </a:lnTo>
                  <a:lnTo>
                    <a:pt x="1923" y="787"/>
                  </a:lnTo>
                  <a:lnTo>
                    <a:pt x="1919" y="778"/>
                  </a:lnTo>
                  <a:lnTo>
                    <a:pt x="1914" y="768"/>
                  </a:lnTo>
                  <a:lnTo>
                    <a:pt x="1909" y="759"/>
                  </a:lnTo>
                  <a:lnTo>
                    <a:pt x="1904" y="750"/>
                  </a:lnTo>
                  <a:lnTo>
                    <a:pt x="1898" y="742"/>
                  </a:lnTo>
                  <a:lnTo>
                    <a:pt x="1893" y="734"/>
                  </a:lnTo>
                  <a:lnTo>
                    <a:pt x="1889" y="728"/>
                  </a:lnTo>
                  <a:lnTo>
                    <a:pt x="1889" y="723"/>
                  </a:lnTo>
                  <a:lnTo>
                    <a:pt x="1889" y="720"/>
                  </a:lnTo>
                  <a:lnTo>
                    <a:pt x="1889" y="717"/>
                  </a:lnTo>
                  <a:lnTo>
                    <a:pt x="1889" y="714"/>
                  </a:lnTo>
                  <a:lnTo>
                    <a:pt x="1886" y="710"/>
                  </a:lnTo>
                  <a:lnTo>
                    <a:pt x="1884" y="706"/>
                  </a:lnTo>
                  <a:lnTo>
                    <a:pt x="1882" y="701"/>
                  </a:lnTo>
                  <a:lnTo>
                    <a:pt x="1881" y="697"/>
                  </a:lnTo>
                  <a:lnTo>
                    <a:pt x="1874" y="699"/>
                  </a:lnTo>
                  <a:lnTo>
                    <a:pt x="1866" y="701"/>
                  </a:lnTo>
                  <a:lnTo>
                    <a:pt x="1860" y="703"/>
                  </a:lnTo>
                  <a:lnTo>
                    <a:pt x="1852" y="705"/>
                  </a:lnTo>
                  <a:lnTo>
                    <a:pt x="1846" y="707"/>
                  </a:lnTo>
                  <a:lnTo>
                    <a:pt x="1839" y="710"/>
                  </a:lnTo>
                  <a:lnTo>
                    <a:pt x="1834" y="714"/>
                  </a:lnTo>
                  <a:lnTo>
                    <a:pt x="1829" y="718"/>
                  </a:lnTo>
                  <a:lnTo>
                    <a:pt x="1820" y="721"/>
                  </a:lnTo>
                  <a:lnTo>
                    <a:pt x="1810" y="725"/>
                  </a:lnTo>
                  <a:lnTo>
                    <a:pt x="1801" y="732"/>
                  </a:lnTo>
                  <a:lnTo>
                    <a:pt x="1791" y="738"/>
                  </a:lnTo>
                  <a:lnTo>
                    <a:pt x="1781" y="746"/>
                  </a:lnTo>
                  <a:lnTo>
                    <a:pt x="1773" y="754"/>
                  </a:lnTo>
                  <a:lnTo>
                    <a:pt x="1764" y="763"/>
                  </a:lnTo>
                  <a:lnTo>
                    <a:pt x="1757" y="771"/>
                  </a:lnTo>
                  <a:lnTo>
                    <a:pt x="1758" y="760"/>
                  </a:lnTo>
                  <a:lnTo>
                    <a:pt x="1759" y="749"/>
                  </a:lnTo>
                  <a:lnTo>
                    <a:pt x="1762" y="739"/>
                  </a:lnTo>
                  <a:lnTo>
                    <a:pt x="1764" y="731"/>
                  </a:lnTo>
                  <a:lnTo>
                    <a:pt x="1768" y="722"/>
                  </a:lnTo>
                  <a:lnTo>
                    <a:pt x="1770" y="715"/>
                  </a:lnTo>
                  <a:lnTo>
                    <a:pt x="1772" y="706"/>
                  </a:lnTo>
                  <a:lnTo>
                    <a:pt x="1773" y="699"/>
                  </a:lnTo>
                  <a:lnTo>
                    <a:pt x="1774" y="691"/>
                  </a:lnTo>
                  <a:lnTo>
                    <a:pt x="1776" y="684"/>
                  </a:lnTo>
                  <a:lnTo>
                    <a:pt x="1778" y="677"/>
                  </a:lnTo>
                  <a:lnTo>
                    <a:pt x="1780" y="670"/>
                  </a:lnTo>
                  <a:lnTo>
                    <a:pt x="1783" y="663"/>
                  </a:lnTo>
                  <a:lnTo>
                    <a:pt x="1785" y="657"/>
                  </a:lnTo>
                  <a:lnTo>
                    <a:pt x="1787" y="650"/>
                  </a:lnTo>
                  <a:lnTo>
                    <a:pt x="1788" y="642"/>
                  </a:lnTo>
                  <a:lnTo>
                    <a:pt x="1792" y="621"/>
                  </a:lnTo>
                  <a:lnTo>
                    <a:pt x="1795" y="600"/>
                  </a:lnTo>
                  <a:lnTo>
                    <a:pt x="1798" y="580"/>
                  </a:lnTo>
                  <a:lnTo>
                    <a:pt x="1799" y="559"/>
                  </a:lnTo>
                  <a:lnTo>
                    <a:pt x="1799" y="538"/>
                  </a:lnTo>
                  <a:lnTo>
                    <a:pt x="1796" y="517"/>
                  </a:lnTo>
                  <a:lnTo>
                    <a:pt x="1794" y="495"/>
                  </a:lnTo>
                  <a:lnTo>
                    <a:pt x="1791" y="473"/>
                  </a:lnTo>
                  <a:lnTo>
                    <a:pt x="1787" y="448"/>
                  </a:lnTo>
                  <a:lnTo>
                    <a:pt x="1783" y="426"/>
                  </a:lnTo>
                  <a:lnTo>
                    <a:pt x="1779" y="406"/>
                  </a:lnTo>
                  <a:lnTo>
                    <a:pt x="1776" y="386"/>
                  </a:lnTo>
                  <a:lnTo>
                    <a:pt x="1773" y="368"/>
                  </a:lnTo>
                  <a:lnTo>
                    <a:pt x="1769" y="351"/>
                  </a:lnTo>
                  <a:lnTo>
                    <a:pt x="1763" y="333"/>
                  </a:lnTo>
                  <a:lnTo>
                    <a:pt x="1758" y="315"/>
                  </a:lnTo>
                  <a:lnTo>
                    <a:pt x="1758" y="305"/>
                  </a:lnTo>
                  <a:lnTo>
                    <a:pt x="1758" y="297"/>
                  </a:lnTo>
                  <a:lnTo>
                    <a:pt x="1759" y="288"/>
                  </a:lnTo>
                  <a:lnTo>
                    <a:pt x="1760" y="279"/>
                  </a:lnTo>
                  <a:lnTo>
                    <a:pt x="1760" y="272"/>
                  </a:lnTo>
                  <a:lnTo>
                    <a:pt x="1760" y="266"/>
                  </a:lnTo>
                  <a:lnTo>
                    <a:pt x="1759" y="260"/>
                  </a:lnTo>
                  <a:lnTo>
                    <a:pt x="1757" y="256"/>
                  </a:lnTo>
                  <a:lnTo>
                    <a:pt x="1759" y="249"/>
                  </a:lnTo>
                  <a:lnTo>
                    <a:pt x="1764" y="238"/>
                  </a:lnTo>
                  <a:lnTo>
                    <a:pt x="1773" y="221"/>
                  </a:lnTo>
                  <a:lnTo>
                    <a:pt x="1781" y="202"/>
                  </a:lnTo>
                  <a:lnTo>
                    <a:pt x="1791" y="184"/>
                  </a:lnTo>
                  <a:lnTo>
                    <a:pt x="1800" y="167"/>
                  </a:lnTo>
                  <a:lnTo>
                    <a:pt x="1806" y="154"/>
                  </a:lnTo>
                  <a:lnTo>
                    <a:pt x="1809" y="147"/>
                  </a:lnTo>
                  <a:close/>
                  <a:moveTo>
                    <a:pt x="1314" y="705"/>
                  </a:moveTo>
                  <a:lnTo>
                    <a:pt x="1313" y="689"/>
                  </a:lnTo>
                  <a:lnTo>
                    <a:pt x="1311" y="670"/>
                  </a:lnTo>
                  <a:lnTo>
                    <a:pt x="1306" y="645"/>
                  </a:lnTo>
                  <a:lnTo>
                    <a:pt x="1301" y="618"/>
                  </a:lnTo>
                  <a:lnTo>
                    <a:pt x="1293" y="589"/>
                  </a:lnTo>
                  <a:lnTo>
                    <a:pt x="1286" y="556"/>
                  </a:lnTo>
                  <a:lnTo>
                    <a:pt x="1277" y="522"/>
                  </a:lnTo>
                  <a:lnTo>
                    <a:pt x="1268" y="486"/>
                  </a:lnTo>
                  <a:lnTo>
                    <a:pt x="1258" y="448"/>
                  </a:lnTo>
                  <a:lnTo>
                    <a:pt x="1248" y="410"/>
                  </a:lnTo>
                  <a:lnTo>
                    <a:pt x="1239" y="370"/>
                  </a:lnTo>
                  <a:lnTo>
                    <a:pt x="1229" y="332"/>
                  </a:lnTo>
                  <a:lnTo>
                    <a:pt x="1221" y="293"/>
                  </a:lnTo>
                  <a:lnTo>
                    <a:pt x="1213" y="255"/>
                  </a:lnTo>
                  <a:lnTo>
                    <a:pt x="1206" y="218"/>
                  </a:lnTo>
                  <a:lnTo>
                    <a:pt x="1200" y="183"/>
                  </a:lnTo>
                  <a:lnTo>
                    <a:pt x="1200" y="178"/>
                  </a:lnTo>
                  <a:lnTo>
                    <a:pt x="1199" y="171"/>
                  </a:lnTo>
                  <a:lnTo>
                    <a:pt x="1199" y="165"/>
                  </a:lnTo>
                  <a:lnTo>
                    <a:pt x="1200" y="159"/>
                  </a:lnTo>
                  <a:lnTo>
                    <a:pt x="1200" y="151"/>
                  </a:lnTo>
                  <a:lnTo>
                    <a:pt x="1201" y="143"/>
                  </a:lnTo>
                  <a:lnTo>
                    <a:pt x="1201" y="134"/>
                  </a:lnTo>
                  <a:lnTo>
                    <a:pt x="1202" y="123"/>
                  </a:lnTo>
                  <a:lnTo>
                    <a:pt x="1203" y="114"/>
                  </a:lnTo>
                  <a:lnTo>
                    <a:pt x="1205" y="102"/>
                  </a:lnTo>
                  <a:lnTo>
                    <a:pt x="1206" y="89"/>
                  </a:lnTo>
                  <a:lnTo>
                    <a:pt x="1207" y="75"/>
                  </a:lnTo>
                  <a:lnTo>
                    <a:pt x="1208" y="61"/>
                  </a:lnTo>
                  <a:lnTo>
                    <a:pt x="1209" y="45"/>
                  </a:lnTo>
                  <a:lnTo>
                    <a:pt x="1209" y="28"/>
                  </a:lnTo>
                  <a:lnTo>
                    <a:pt x="1210" y="10"/>
                  </a:lnTo>
                  <a:lnTo>
                    <a:pt x="1203" y="3"/>
                  </a:lnTo>
                  <a:lnTo>
                    <a:pt x="1196" y="0"/>
                  </a:lnTo>
                  <a:lnTo>
                    <a:pt x="1187" y="0"/>
                  </a:lnTo>
                  <a:lnTo>
                    <a:pt x="1178" y="3"/>
                  </a:lnTo>
                  <a:lnTo>
                    <a:pt x="1168" y="11"/>
                  </a:lnTo>
                  <a:lnTo>
                    <a:pt x="1159" y="24"/>
                  </a:lnTo>
                  <a:lnTo>
                    <a:pt x="1150" y="41"/>
                  </a:lnTo>
                  <a:lnTo>
                    <a:pt x="1141" y="63"/>
                  </a:lnTo>
                  <a:lnTo>
                    <a:pt x="1134" y="86"/>
                  </a:lnTo>
                  <a:lnTo>
                    <a:pt x="1126" y="100"/>
                  </a:lnTo>
                  <a:lnTo>
                    <a:pt x="1118" y="109"/>
                  </a:lnTo>
                  <a:lnTo>
                    <a:pt x="1111" y="115"/>
                  </a:lnTo>
                  <a:lnTo>
                    <a:pt x="1105" y="118"/>
                  </a:lnTo>
                  <a:lnTo>
                    <a:pt x="1100" y="121"/>
                  </a:lnTo>
                  <a:lnTo>
                    <a:pt x="1095" y="125"/>
                  </a:lnTo>
                  <a:lnTo>
                    <a:pt x="1092" y="133"/>
                  </a:lnTo>
                  <a:lnTo>
                    <a:pt x="1092" y="166"/>
                  </a:lnTo>
                  <a:lnTo>
                    <a:pt x="1092" y="200"/>
                  </a:lnTo>
                  <a:lnTo>
                    <a:pt x="1091" y="236"/>
                  </a:lnTo>
                  <a:lnTo>
                    <a:pt x="1090" y="270"/>
                  </a:lnTo>
                  <a:lnTo>
                    <a:pt x="1089" y="305"/>
                  </a:lnTo>
                  <a:lnTo>
                    <a:pt x="1087" y="340"/>
                  </a:lnTo>
                  <a:lnTo>
                    <a:pt x="1083" y="376"/>
                  </a:lnTo>
                  <a:lnTo>
                    <a:pt x="1079" y="411"/>
                  </a:lnTo>
                  <a:lnTo>
                    <a:pt x="1073" y="445"/>
                  </a:lnTo>
                  <a:lnTo>
                    <a:pt x="1066" y="478"/>
                  </a:lnTo>
                  <a:lnTo>
                    <a:pt x="1059" y="510"/>
                  </a:lnTo>
                  <a:lnTo>
                    <a:pt x="1049" y="541"/>
                  </a:lnTo>
                  <a:lnTo>
                    <a:pt x="1038" y="571"/>
                  </a:lnTo>
                  <a:lnTo>
                    <a:pt x="1024" y="600"/>
                  </a:lnTo>
                  <a:lnTo>
                    <a:pt x="1009" y="627"/>
                  </a:lnTo>
                  <a:lnTo>
                    <a:pt x="992" y="652"/>
                  </a:lnTo>
                  <a:lnTo>
                    <a:pt x="1000" y="657"/>
                  </a:lnTo>
                  <a:lnTo>
                    <a:pt x="1010" y="663"/>
                  </a:lnTo>
                  <a:lnTo>
                    <a:pt x="1019" y="669"/>
                  </a:lnTo>
                  <a:lnTo>
                    <a:pt x="1031" y="674"/>
                  </a:lnTo>
                  <a:lnTo>
                    <a:pt x="1042" y="679"/>
                  </a:lnTo>
                  <a:lnTo>
                    <a:pt x="1054" y="685"/>
                  </a:lnTo>
                  <a:lnTo>
                    <a:pt x="1066" y="689"/>
                  </a:lnTo>
                  <a:lnTo>
                    <a:pt x="1079" y="693"/>
                  </a:lnTo>
                  <a:lnTo>
                    <a:pt x="1091" y="698"/>
                  </a:lnTo>
                  <a:lnTo>
                    <a:pt x="1104" y="701"/>
                  </a:lnTo>
                  <a:lnTo>
                    <a:pt x="1117" y="703"/>
                  </a:lnTo>
                  <a:lnTo>
                    <a:pt x="1130" y="705"/>
                  </a:lnTo>
                  <a:lnTo>
                    <a:pt x="1142" y="706"/>
                  </a:lnTo>
                  <a:lnTo>
                    <a:pt x="1155" y="707"/>
                  </a:lnTo>
                  <a:lnTo>
                    <a:pt x="1167" y="707"/>
                  </a:lnTo>
                  <a:lnTo>
                    <a:pt x="1179" y="706"/>
                  </a:lnTo>
                  <a:lnTo>
                    <a:pt x="1196" y="703"/>
                  </a:lnTo>
                  <a:lnTo>
                    <a:pt x="1209" y="700"/>
                  </a:lnTo>
                  <a:lnTo>
                    <a:pt x="1221" y="698"/>
                  </a:lnTo>
                  <a:lnTo>
                    <a:pt x="1230" y="694"/>
                  </a:lnTo>
                  <a:lnTo>
                    <a:pt x="1239" y="691"/>
                  </a:lnTo>
                  <a:lnTo>
                    <a:pt x="1248" y="687"/>
                  </a:lnTo>
                  <a:lnTo>
                    <a:pt x="1258" y="683"/>
                  </a:lnTo>
                  <a:lnTo>
                    <a:pt x="1270" y="676"/>
                  </a:lnTo>
                  <a:lnTo>
                    <a:pt x="1275" y="677"/>
                  </a:lnTo>
                  <a:lnTo>
                    <a:pt x="1282" y="679"/>
                  </a:lnTo>
                  <a:lnTo>
                    <a:pt x="1288" y="683"/>
                  </a:lnTo>
                  <a:lnTo>
                    <a:pt x="1293" y="687"/>
                  </a:lnTo>
                  <a:lnTo>
                    <a:pt x="1300" y="691"/>
                  </a:lnTo>
                  <a:lnTo>
                    <a:pt x="1305" y="697"/>
                  </a:lnTo>
                  <a:lnTo>
                    <a:pt x="1309" y="701"/>
                  </a:lnTo>
                  <a:lnTo>
                    <a:pt x="1314" y="705"/>
                  </a:lnTo>
                  <a:close/>
                  <a:moveTo>
                    <a:pt x="513" y="3337"/>
                  </a:moveTo>
                  <a:lnTo>
                    <a:pt x="551" y="3337"/>
                  </a:lnTo>
                  <a:lnTo>
                    <a:pt x="588" y="3340"/>
                  </a:lnTo>
                  <a:lnTo>
                    <a:pt x="627" y="3342"/>
                  </a:lnTo>
                  <a:lnTo>
                    <a:pt x="665" y="3344"/>
                  </a:lnTo>
                  <a:lnTo>
                    <a:pt x="705" y="3346"/>
                  </a:lnTo>
                  <a:lnTo>
                    <a:pt x="744" y="3349"/>
                  </a:lnTo>
                  <a:lnTo>
                    <a:pt x="784" y="3351"/>
                  </a:lnTo>
                  <a:lnTo>
                    <a:pt x="825" y="3354"/>
                  </a:lnTo>
                  <a:lnTo>
                    <a:pt x="864" y="3355"/>
                  </a:lnTo>
                  <a:lnTo>
                    <a:pt x="904" y="3355"/>
                  </a:lnTo>
                  <a:lnTo>
                    <a:pt x="943" y="3354"/>
                  </a:lnTo>
                  <a:lnTo>
                    <a:pt x="983" y="3351"/>
                  </a:lnTo>
                  <a:lnTo>
                    <a:pt x="1022" y="3347"/>
                  </a:lnTo>
                  <a:lnTo>
                    <a:pt x="1060" y="3341"/>
                  </a:lnTo>
                  <a:lnTo>
                    <a:pt x="1098" y="3333"/>
                  </a:lnTo>
                  <a:lnTo>
                    <a:pt x="1135" y="3323"/>
                  </a:lnTo>
                  <a:lnTo>
                    <a:pt x="1141" y="3321"/>
                  </a:lnTo>
                  <a:lnTo>
                    <a:pt x="1150" y="3318"/>
                  </a:lnTo>
                  <a:lnTo>
                    <a:pt x="1162" y="3313"/>
                  </a:lnTo>
                  <a:lnTo>
                    <a:pt x="1174" y="3309"/>
                  </a:lnTo>
                  <a:lnTo>
                    <a:pt x="1186" y="3304"/>
                  </a:lnTo>
                  <a:lnTo>
                    <a:pt x="1199" y="3302"/>
                  </a:lnTo>
                  <a:lnTo>
                    <a:pt x="1211" y="3302"/>
                  </a:lnTo>
                  <a:lnTo>
                    <a:pt x="1222" y="3306"/>
                  </a:lnTo>
                  <a:lnTo>
                    <a:pt x="1233" y="3323"/>
                  </a:lnTo>
                  <a:lnTo>
                    <a:pt x="1238" y="3335"/>
                  </a:lnTo>
                  <a:lnTo>
                    <a:pt x="1241" y="3350"/>
                  </a:lnTo>
                  <a:lnTo>
                    <a:pt x="1243" y="3367"/>
                  </a:lnTo>
                  <a:lnTo>
                    <a:pt x="1244" y="3387"/>
                  </a:lnTo>
                  <a:lnTo>
                    <a:pt x="1245" y="3407"/>
                  </a:lnTo>
                  <a:lnTo>
                    <a:pt x="1245" y="3428"/>
                  </a:lnTo>
                  <a:lnTo>
                    <a:pt x="1245" y="3450"/>
                  </a:lnTo>
                  <a:lnTo>
                    <a:pt x="1244" y="3472"/>
                  </a:lnTo>
                  <a:lnTo>
                    <a:pt x="1244" y="3495"/>
                  </a:lnTo>
                  <a:lnTo>
                    <a:pt x="1243" y="3516"/>
                  </a:lnTo>
                  <a:lnTo>
                    <a:pt x="1243" y="3538"/>
                  </a:lnTo>
                  <a:lnTo>
                    <a:pt x="1242" y="3558"/>
                  </a:lnTo>
                  <a:lnTo>
                    <a:pt x="1242" y="3577"/>
                  </a:lnTo>
                  <a:lnTo>
                    <a:pt x="1243" y="3594"/>
                  </a:lnTo>
                  <a:lnTo>
                    <a:pt x="1244" y="3610"/>
                  </a:lnTo>
                  <a:lnTo>
                    <a:pt x="1246" y="3623"/>
                  </a:lnTo>
                  <a:lnTo>
                    <a:pt x="1248" y="3644"/>
                  </a:lnTo>
                  <a:lnTo>
                    <a:pt x="1250" y="3667"/>
                  </a:lnTo>
                  <a:lnTo>
                    <a:pt x="1251" y="3690"/>
                  </a:lnTo>
                  <a:lnTo>
                    <a:pt x="1252" y="3714"/>
                  </a:lnTo>
                  <a:lnTo>
                    <a:pt x="1252" y="3738"/>
                  </a:lnTo>
                  <a:lnTo>
                    <a:pt x="1252" y="3762"/>
                  </a:lnTo>
                  <a:lnTo>
                    <a:pt x="1252" y="3788"/>
                  </a:lnTo>
                  <a:lnTo>
                    <a:pt x="1253" y="3812"/>
                  </a:lnTo>
                  <a:lnTo>
                    <a:pt x="1253" y="3837"/>
                  </a:lnTo>
                  <a:lnTo>
                    <a:pt x="1253" y="3861"/>
                  </a:lnTo>
                  <a:lnTo>
                    <a:pt x="1253" y="3884"/>
                  </a:lnTo>
                  <a:lnTo>
                    <a:pt x="1253" y="3908"/>
                  </a:lnTo>
                  <a:lnTo>
                    <a:pt x="1254" y="3929"/>
                  </a:lnTo>
                  <a:lnTo>
                    <a:pt x="1255" y="3950"/>
                  </a:lnTo>
                  <a:lnTo>
                    <a:pt x="1256" y="3971"/>
                  </a:lnTo>
                  <a:lnTo>
                    <a:pt x="1258" y="3989"/>
                  </a:lnTo>
                  <a:lnTo>
                    <a:pt x="1258" y="4116"/>
                  </a:lnTo>
                  <a:lnTo>
                    <a:pt x="1252" y="4126"/>
                  </a:lnTo>
                  <a:lnTo>
                    <a:pt x="1243" y="4141"/>
                  </a:lnTo>
                  <a:lnTo>
                    <a:pt x="1232" y="4158"/>
                  </a:lnTo>
                  <a:lnTo>
                    <a:pt x="1221" y="4178"/>
                  </a:lnTo>
                  <a:lnTo>
                    <a:pt x="1208" y="4196"/>
                  </a:lnTo>
                  <a:lnTo>
                    <a:pt x="1195" y="4212"/>
                  </a:lnTo>
                  <a:lnTo>
                    <a:pt x="1183" y="4223"/>
                  </a:lnTo>
                  <a:lnTo>
                    <a:pt x="1172" y="4227"/>
                  </a:lnTo>
                  <a:lnTo>
                    <a:pt x="1148" y="4227"/>
                  </a:lnTo>
                  <a:lnTo>
                    <a:pt x="1123" y="4195"/>
                  </a:lnTo>
                  <a:lnTo>
                    <a:pt x="1112" y="4196"/>
                  </a:lnTo>
                  <a:lnTo>
                    <a:pt x="1101" y="4197"/>
                  </a:lnTo>
                  <a:lnTo>
                    <a:pt x="1088" y="4201"/>
                  </a:lnTo>
                  <a:lnTo>
                    <a:pt x="1075" y="4203"/>
                  </a:lnTo>
                  <a:lnTo>
                    <a:pt x="1061" y="4206"/>
                  </a:lnTo>
                  <a:lnTo>
                    <a:pt x="1048" y="4209"/>
                  </a:lnTo>
                  <a:lnTo>
                    <a:pt x="1037" y="4210"/>
                  </a:lnTo>
                  <a:lnTo>
                    <a:pt x="1026" y="4211"/>
                  </a:lnTo>
                  <a:lnTo>
                    <a:pt x="1002" y="4222"/>
                  </a:lnTo>
                  <a:lnTo>
                    <a:pt x="979" y="4232"/>
                  </a:lnTo>
                  <a:lnTo>
                    <a:pt x="955" y="4238"/>
                  </a:lnTo>
                  <a:lnTo>
                    <a:pt x="931" y="4243"/>
                  </a:lnTo>
                  <a:lnTo>
                    <a:pt x="905" y="4248"/>
                  </a:lnTo>
                  <a:lnTo>
                    <a:pt x="879" y="4250"/>
                  </a:lnTo>
                  <a:lnTo>
                    <a:pt x="853" y="4251"/>
                  </a:lnTo>
                  <a:lnTo>
                    <a:pt x="828" y="4251"/>
                  </a:lnTo>
                  <a:lnTo>
                    <a:pt x="801" y="4251"/>
                  </a:lnTo>
                  <a:lnTo>
                    <a:pt x="774" y="4250"/>
                  </a:lnTo>
                  <a:lnTo>
                    <a:pt x="747" y="4249"/>
                  </a:lnTo>
                  <a:lnTo>
                    <a:pt x="720" y="4248"/>
                  </a:lnTo>
                  <a:lnTo>
                    <a:pt x="693" y="4246"/>
                  </a:lnTo>
                  <a:lnTo>
                    <a:pt x="665" y="4245"/>
                  </a:lnTo>
                  <a:lnTo>
                    <a:pt x="638" y="4243"/>
                  </a:lnTo>
                  <a:lnTo>
                    <a:pt x="610" y="4243"/>
                  </a:lnTo>
                  <a:lnTo>
                    <a:pt x="606" y="4232"/>
                  </a:lnTo>
                  <a:lnTo>
                    <a:pt x="602" y="4219"/>
                  </a:lnTo>
                  <a:lnTo>
                    <a:pt x="598" y="4206"/>
                  </a:lnTo>
                  <a:lnTo>
                    <a:pt x="594" y="4193"/>
                  </a:lnTo>
                  <a:lnTo>
                    <a:pt x="591" y="4180"/>
                  </a:lnTo>
                  <a:lnTo>
                    <a:pt x="588" y="4168"/>
                  </a:lnTo>
                  <a:lnTo>
                    <a:pt x="585" y="4155"/>
                  </a:lnTo>
                  <a:lnTo>
                    <a:pt x="582" y="4141"/>
                  </a:lnTo>
                  <a:lnTo>
                    <a:pt x="579" y="4127"/>
                  </a:lnTo>
                  <a:lnTo>
                    <a:pt x="577" y="4114"/>
                  </a:lnTo>
                  <a:lnTo>
                    <a:pt x="575" y="4100"/>
                  </a:lnTo>
                  <a:lnTo>
                    <a:pt x="573" y="4086"/>
                  </a:lnTo>
                  <a:lnTo>
                    <a:pt x="572" y="4072"/>
                  </a:lnTo>
                  <a:lnTo>
                    <a:pt x="570" y="4058"/>
                  </a:lnTo>
                  <a:lnTo>
                    <a:pt x="569" y="4043"/>
                  </a:lnTo>
                  <a:lnTo>
                    <a:pt x="568" y="4030"/>
                  </a:lnTo>
                  <a:lnTo>
                    <a:pt x="567" y="4015"/>
                  </a:lnTo>
                  <a:lnTo>
                    <a:pt x="566" y="4001"/>
                  </a:lnTo>
                  <a:lnTo>
                    <a:pt x="564" y="3986"/>
                  </a:lnTo>
                  <a:lnTo>
                    <a:pt x="564" y="3971"/>
                  </a:lnTo>
                  <a:lnTo>
                    <a:pt x="563" y="3956"/>
                  </a:lnTo>
                  <a:lnTo>
                    <a:pt x="562" y="3942"/>
                  </a:lnTo>
                  <a:lnTo>
                    <a:pt x="562" y="3927"/>
                  </a:lnTo>
                  <a:lnTo>
                    <a:pt x="562" y="3911"/>
                  </a:lnTo>
                  <a:lnTo>
                    <a:pt x="562" y="3896"/>
                  </a:lnTo>
                  <a:lnTo>
                    <a:pt x="561" y="3881"/>
                  </a:lnTo>
                  <a:lnTo>
                    <a:pt x="561" y="3866"/>
                  </a:lnTo>
                  <a:lnTo>
                    <a:pt x="561" y="3851"/>
                  </a:lnTo>
                  <a:lnTo>
                    <a:pt x="561" y="3836"/>
                  </a:lnTo>
                  <a:lnTo>
                    <a:pt x="561" y="3820"/>
                  </a:lnTo>
                  <a:lnTo>
                    <a:pt x="561" y="3805"/>
                  </a:lnTo>
                  <a:lnTo>
                    <a:pt x="561" y="3790"/>
                  </a:lnTo>
                  <a:lnTo>
                    <a:pt x="561" y="3775"/>
                  </a:lnTo>
                  <a:lnTo>
                    <a:pt x="561" y="3759"/>
                  </a:lnTo>
                  <a:lnTo>
                    <a:pt x="561" y="3743"/>
                  </a:lnTo>
                  <a:lnTo>
                    <a:pt x="562" y="3727"/>
                  </a:lnTo>
                  <a:lnTo>
                    <a:pt x="562" y="3710"/>
                  </a:lnTo>
                  <a:lnTo>
                    <a:pt x="562" y="3694"/>
                  </a:lnTo>
                  <a:lnTo>
                    <a:pt x="562" y="3678"/>
                  </a:lnTo>
                  <a:lnTo>
                    <a:pt x="562" y="3662"/>
                  </a:lnTo>
                  <a:lnTo>
                    <a:pt x="562" y="3646"/>
                  </a:lnTo>
                  <a:lnTo>
                    <a:pt x="561" y="3629"/>
                  </a:lnTo>
                  <a:lnTo>
                    <a:pt x="561" y="3615"/>
                  </a:lnTo>
                  <a:lnTo>
                    <a:pt x="560" y="3598"/>
                  </a:lnTo>
                  <a:lnTo>
                    <a:pt x="559" y="3585"/>
                  </a:lnTo>
                  <a:lnTo>
                    <a:pt x="558" y="3571"/>
                  </a:lnTo>
                  <a:lnTo>
                    <a:pt x="556" y="3557"/>
                  </a:lnTo>
                  <a:lnTo>
                    <a:pt x="554" y="3544"/>
                  </a:lnTo>
                  <a:lnTo>
                    <a:pt x="552" y="3531"/>
                  </a:lnTo>
                  <a:lnTo>
                    <a:pt x="548" y="3519"/>
                  </a:lnTo>
                  <a:lnTo>
                    <a:pt x="545" y="3508"/>
                  </a:lnTo>
                  <a:lnTo>
                    <a:pt x="543" y="3496"/>
                  </a:lnTo>
                  <a:lnTo>
                    <a:pt x="540" y="3484"/>
                  </a:lnTo>
                  <a:lnTo>
                    <a:pt x="538" y="3472"/>
                  </a:lnTo>
                  <a:lnTo>
                    <a:pt x="534" y="3459"/>
                  </a:lnTo>
                  <a:lnTo>
                    <a:pt x="532" y="3448"/>
                  </a:lnTo>
                  <a:lnTo>
                    <a:pt x="529" y="3435"/>
                  </a:lnTo>
                  <a:lnTo>
                    <a:pt x="527" y="3422"/>
                  </a:lnTo>
                  <a:lnTo>
                    <a:pt x="524" y="3409"/>
                  </a:lnTo>
                  <a:lnTo>
                    <a:pt x="522" y="3396"/>
                  </a:lnTo>
                  <a:lnTo>
                    <a:pt x="520" y="3382"/>
                  </a:lnTo>
                  <a:lnTo>
                    <a:pt x="517" y="3367"/>
                  </a:lnTo>
                  <a:lnTo>
                    <a:pt x="515" y="3354"/>
                  </a:lnTo>
                  <a:lnTo>
                    <a:pt x="513" y="3337"/>
                  </a:lnTo>
                  <a:close/>
                  <a:moveTo>
                    <a:pt x="529" y="3093"/>
                  </a:moveTo>
                  <a:lnTo>
                    <a:pt x="545" y="3089"/>
                  </a:lnTo>
                  <a:lnTo>
                    <a:pt x="562" y="3087"/>
                  </a:lnTo>
                  <a:lnTo>
                    <a:pt x="579" y="3086"/>
                  </a:lnTo>
                  <a:lnTo>
                    <a:pt x="599" y="3085"/>
                  </a:lnTo>
                  <a:lnTo>
                    <a:pt x="617" y="3085"/>
                  </a:lnTo>
                  <a:lnTo>
                    <a:pt x="637" y="3085"/>
                  </a:lnTo>
                  <a:lnTo>
                    <a:pt x="658" y="3085"/>
                  </a:lnTo>
                  <a:lnTo>
                    <a:pt x="679" y="3086"/>
                  </a:lnTo>
                  <a:lnTo>
                    <a:pt x="700" y="3086"/>
                  </a:lnTo>
                  <a:lnTo>
                    <a:pt x="722" y="3087"/>
                  </a:lnTo>
                  <a:lnTo>
                    <a:pt x="744" y="3089"/>
                  </a:lnTo>
                  <a:lnTo>
                    <a:pt x="767" y="3090"/>
                  </a:lnTo>
                  <a:lnTo>
                    <a:pt x="790" y="3091"/>
                  </a:lnTo>
                  <a:lnTo>
                    <a:pt x="814" y="3094"/>
                  </a:lnTo>
                  <a:lnTo>
                    <a:pt x="837" y="3095"/>
                  </a:lnTo>
                  <a:lnTo>
                    <a:pt x="861" y="3096"/>
                  </a:lnTo>
                  <a:lnTo>
                    <a:pt x="886" y="3097"/>
                  </a:lnTo>
                  <a:lnTo>
                    <a:pt x="909" y="3098"/>
                  </a:lnTo>
                  <a:lnTo>
                    <a:pt x="934" y="3099"/>
                  </a:lnTo>
                  <a:lnTo>
                    <a:pt x="958" y="3099"/>
                  </a:lnTo>
                  <a:lnTo>
                    <a:pt x="982" y="3099"/>
                  </a:lnTo>
                  <a:lnTo>
                    <a:pt x="1007" y="3098"/>
                  </a:lnTo>
                  <a:lnTo>
                    <a:pt x="1031" y="3097"/>
                  </a:lnTo>
                  <a:lnTo>
                    <a:pt x="1055" y="3096"/>
                  </a:lnTo>
                  <a:lnTo>
                    <a:pt x="1078" y="3094"/>
                  </a:lnTo>
                  <a:lnTo>
                    <a:pt x="1102" y="3090"/>
                  </a:lnTo>
                  <a:lnTo>
                    <a:pt x="1125" y="3087"/>
                  </a:lnTo>
                  <a:lnTo>
                    <a:pt x="1149" y="3083"/>
                  </a:lnTo>
                  <a:lnTo>
                    <a:pt x="1171" y="3078"/>
                  </a:lnTo>
                  <a:lnTo>
                    <a:pt x="1194" y="3071"/>
                  </a:lnTo>
                  <a:lnTo>
                    <a:pt x="1215" y="3064"/>
                  </a:lnTo>
                  <a:lnTo>
                    <a:pt x="1237" y="3056"/>
                  </a:lnTo>
                  <a:lnTo>
                    <a:pt x="1237" y="3064"/>
                  </a:lnTo>
                  <a:lnTo>
                    <a:pt x="1237" y="3074"/>
                  </a:lnTo>
                  <a:lnTo>
                    <a:pt x="1238" y="3087"/>
                  </a:lnTo>
                  <a:lnTo>
                    <a:pt x="1238" y="3101"/>
                  </a:lnTo>
                  <a:lnTo>
                    <a:pt x="1239" y="3118"/>
                  </a:lnTo>
                  <a:lnTo>
                    <a:pt x="1239" y="3135"/>
                  </a:lnTo>
                  <a:lnTo>
                    <a:pt x="1240" y="3154"/>
                  </a:lnTo>
                  <a:lnTo>
                    <a:pt x="1240" y="3173"/>
                  </a:lnTo>
                  <a:lnTo>
                    <a:pt x="1240" y="3192"/>
                  </a:lnTo>
                  <a:lnTo>
                    <a:pt x="1240" y="3210"/>
                  </a:lnTo>
                  <a:lnTo>
                    <a:pt x="1240" y="3227"/>
                  </a:lnTo>
                  <a:lnTo>
                    <a:pt x="1240" y="3243"/>
                  </a:lnTo>
                  <a:lnTo>
                    <a:pt x="1239" y="3258"/>
                  </a:lnTo>
                  <a:lnTo>
                    <a:pt x="1238" y="3271"/>
                  </a:lnTo>
                  <a:lnTo>
                    <a:pt x="1236" y="3282"/>
                  </a:lnTo>
                  <a:lnTo>
                    <a:pt x="1233" y="3289"/>
                  </a:lnTo>
                  <a:lnTo>
                    <a:pt x="1222" y="3304"/>
                  </a:lnTo>
                  <a:lnTo>
                    <a:pt x="1172" y="3304"/>
                  </a:lnTo>
                  <a:lnTo>
                    <a:pt x="1152" y="3311"/>
                  </a:lnTo>
                  <a:lnTo>
                    <a:pt x="1132" y="3318"/>
                  </a:lnTo>
                  <a:lnTo>
                    <a:pt x="1112" y="3326"/>
                  </a:lnTo>
                  <a:lnTo>
                    <a:pt x="1094" y="3332"/>
                  </a:lnTo>
                  <a:lnTo>
                    <a:pt x="1077" y="3339"/>
                  </a:lnTo>
                  <a:lnTo>
                    <a:pt x="1060" y="3344"/>
                  </a:lnTo>
                  <a:lnTo>
                    <a:pt x="1045" y="3347"/>
                  </a:lnTo>
                  <a:lnTo>
                    <a:pt x="1030" y="3348"/>
                  </a:lnTo>
                  <a:lnTo>
                    <a:pt x="1001" y="3351"/>
                  </a:lnTo>
                  <a:lnTo>
                    <a:pt x="971" y="3355"/>
                  </a:lnTo>
                  <a:lnTo>
                    <a:pt x="942" y="3356"/>
                  </a:lnTo>
                  <a:lnTo>
                    <a:pt x="914" y="3357"/>
                  </a:lnTo>
                  <a:lnTo>
                    <a:pt x="887" y="3358"/>
                  </a:lnTo>
                  <a:lnTo>
                    <a:pt x="859" y="3358"/>
                  </a:lnTo>
                  <a:lnTo>
                    <a:pt x="831" y="3357"/>
                  </a:lnTo>
                  <a:lnTo>
                    <a:pt x="804" y="3356"/>
                  </a:lnTo>
                  <a:lnTo>
                    <a:pt x="779" y="3355"/>
                  </a:lnTo>
                  <a:lnTo>
                    <a:pt x="753" y="3352"/>
                  </a:lnTo>
                  <a:lnTo>
                    <a:pt x="728" y="3351"/>
                  </a:lnTo>
                  <a:lnTo>
                    <a:pt x="704" y="3349"/>
                  </a:lnTo>
                  <a:lnTo>
                    <a:pt x="680" y="3346"/>
                  </a:lnTo>
                  <a:lnTo>
                    <a:pt x="658" y="3344"/>
                  </a:lnTo>
                  <a:lnTo>
                    <a:pt x="635" y="3342"/>
                  </a:lnTo>
                  <a:lnTo>
                    <a:pt x="614" y="3340"/>
                  </a:lnTo>
                  <a:lnTo>
                    <a:pt x="601" y="3339"/>
                  </a:lnTo>
                  <a:lnTo>
                    <a:pt x="587" y="3339"/>
                  </a:lnTo>
                  <a:lnTo>
                    <a:pt x="571" y="3339"/>
                  </a:lnTo>
                  <a:lnTo>
                    <a:pt x="555" y="3337"/>
                  </a:lnTo>
                  <a:lnTo>
                    <a:pt x="539" y="3337"/>
                  </a:lnTo>
                  <a:lnTo>
                    <a:pt x="523" y="3337"/>
                  </a:lnTo>
                  <a:lnTo>
                    <a:pt x="509" y="3337"/>
                  </a:lnTo>
                  <a:lnTo>
                    <a:pt x="497" y="3336"/>
                  </a:lnTo>
                  <a:lnTo>
                    <a:pt x="497" y="3325"/>
                  </a:lnTo>
                  <a:lnTo>
                    <a:pt x="498" y="3311"/>
                  </a:lnTo>
                  <a:lnTo>
                    <a:pt x="500" y="3297"/>
                  </a:lnTo>
                  <a:lnTo>
                    <a:pt x="501" y="3281"/>
                  </a:lnTo>
                  <a:lnTo>
                    <a:pt x="505" y="3265"/>
                  </a:lnTo>
                  <a:lnTo>
                    <a:pt x="507" y="3248"/>
                  </a:lnTo>
                  <a:lnTo>
                    <a:pt x="510" y="3229"/>
                  </a:lnTo>
                  <a:lnTo>
                    <a:pt x="512" y="3212"/>
                  </a:lnTo>
                  <a:lnTo>
                    <a:pt x="515" y="3195"/>
                  </a:lnTo>
                  <a:lnTo>
                    <a:pt x="518" y="3178"/>
                  </a:lnTo>
                  <a:lnTo>
                    <a:pt x="521" y="3161"/>
                  </a:lnTo>
                  <a:lnTo>
                    <a:pt x="523" y="3145"/>
                  </a:lnTo>
                  <a:lnTo>
                    <a:pt x="525" y="3130"/>
                  </a:lnTo>
                  <a:lnTo>
                    <a:pt x="527" y="3116"/>
                  </a:lnTo>
                  <a:lnTo>
                    <a:pt x="528" y="3103"/>
                  </a:lnTo>
                  <a:lnTo>
                    <a:pt x="529" y="3093"/>
                  </a:lnTo>
                  <a:close/>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9" name="Freeform 21"/>
            <p:cNvSpPr/>
            <p:nvPr/>
          </p:nvSpPr>
          <p:spPr>
            <a:xfrm>
              <a:off x="2260080" y="3459960"/>
              <a:ext cx="22320" cy="46440"/>
            </a:xfrm>
            <a:custGeom>
              <a:avLst/>
              <a:gdLst>
                <a:gd name="textAreaLeft" fmla="*/ 0 w 22320"/>
                <a:gd name="textAreaRight" fmla="*/ 22680 w 22320"/>
                <a:gd name="textAreaTop" fmla="*/ 0 h 46440"/>
                <a:gd name="textAreaBottom" fmla="*/ 46800 h 46440"/>
              </a:gdLst>
              <a:ahLst/>
              <a:rect l="textAreaLeft" t="textAreaTop" r="textAreaRight" b="textAreaBottom"/>
              <a:pathLst>
                <a:path w="293" h="622">
                  <a:moveTo>
                    <a:pt x="243" y="0"/>
                  </a:moveTo>
                  <a:lnTo>
                    <a:pt x="243" y="0"/>
                  </a:lnTo>
                  <a:lnTo>
                    <a:pt x="238" y="39"/>
                  </a:lnTo>
                  <a:lnTo>
                    <a:pt x="232" y="78"/>
                  </a:lnTo>
                  <a:lnTo>
                    <a:pt x="223" y="117"/>
                  </a:lnTo>
                  <a:lnTo>
                    <a:pt x="212" y="157"/>
                  </a:lnTo>
                  <a:lnTo>
                    <a:pt x="202" y="196"/>
                  </a:lnTo>
                  <a:lnTo>
                    <a:pt x="189" y="235"/>
                  </a:lnTo>
                  <a:lnTo>
                    <a:pt x="174" y="274"/>
                  </a:lnTo>
                  <a:lnTo>
                    <a:pt x="159" y="313"/>
                  </a:lnTo>
                  <a:lnTo>
                    <a:pt x="143" y="350"/>
                  </a:lnTo>
                  <a:lnTo>
                    <a:pt x="125" y="388"/>
                  </a:lnTo>
                  <a:lnTo>
                    <a:pt x="106" y="424"/>
                  </a:lnTo>
                  <a:lnTo>
                    <a:pt x="86" y="459"/>
                  </a:lnTo>
                  <a:lnTo>
                    <a:pt x="66" y="493"/>
                  </a:lnTo>
                  <a:lnTo>
                    <a:pt x="45" y="527"/>
                  </a:lnTo>
                  <a:lnTo>
                    <a:pt x="23" y="559"/>
                  </a:lnTo>
                  <a:lnTo>
                    <a:pt x="0" y="590"/>
                  </a:lnTo>
                  <a:lnTo>
                    <a:pt x="25" y="622"/>
                  </a:lnTo>
                  <a:lnTo>
                    <a:pt x="37" y="621"/>
                  </a:lnTo>
                  <a:lnTo>
                    <a:pt x="49" y="618"/>
                  </a:lnTo>
                  <a:lnTo>
                    <a:pt x="61" y="613"/>
                  </a:lnTo>
                  <a:lnTo>
                    <a:pt x="74" y="608"/>
                  </a:lnTo>
                  <a:lnTo>
                    <a:pt x="87" y="600"/>
                  </a:lnTo>
                  <a:lnTo>
                    <a:pt x="101" y="592"/>
                  </a:lnTo>
                  <a:lnTo>
                    <a:pt x="114" y="583"/>
                  </a:lnTo>
                  <a:lnTo>
                    <a:pt x="128" y="574"/>
                  </a:lnTo>
                  <a:lnTo>
                    <a:pt x="141" y="564"/>
                  </a:lnTo>
                  <a:lnTo>
                    <a:pt x="153" y="554"/>
                  </a:lnTo>
                  <a:lnTo>
                    <a:pt x="165" y="544"/>
                  </a:lnTo>
                  <a:lnTo>
                    <a:pt x="178" y="534"/>
                  </a:lnTo>
                  <a:lnTo>
                    <a:pt x="189" y="524"/>
                  </a:lnTo>
                  <a:lnTo>
                    <a:pt x="201" y="516"/>
                  </a:lnTo>
                  <a:lnTo>
                    <a:pt x="210" y="508"/>
                  </a:lnTo>
                  <a:lnTo>
                    <a:pt x="220" y="502"/>
                  </a:lnTo>
                  <a:lnTo>
                    <a:pt x="232" y="504"/>
                  </a:lnTo>
                  <a:lnTo>
                    <a:pt x="242" y="503"/>
                  </a:lnTo>
                  <a:lnTo>
                    <a:pt x="253" y="499"/>
                  </a:lnTo>
                  <a:lnTo>
                    <a:pt x="263" y="492"/>
                  </a:lnTo>
                  <a:lnTo>
                    <a:pt x="272" y="485"/>
                  </a:lnTo>
                  <a:lnTo>
                    <a:pt x="280" y="477"/>
                  </a:lnTo>
                  <a:lnTo>
                    <a:pt x="287" y="469"/>
                  </a:lnTo>
                  <a:lnTo>
                    <a:pt x="293" y="462"/>
                  </a:lnTo>
                  <a:lnTo>
                    <a:pt x="286" y="444"/>
                  </a:lnTo>
                  <a:lnTo>
                    <a:pt x="281" y="426"/>
                  </a:lnTo>
                  <a:lnTo>
                    <a:pt x="277" y="408"/>
                  </a:lnTo>
                  <a:lnTo>
                    <a:pt x="274" y="390"/>
                  </a:lnTo>
                  <a:lnTo>
                    <a:pt x="272" y="372"/>
                  </a:lnTo>
                  <a:lnTo>
                    <a:pt x="271" y="353"/>
                  </a:lnTo>
                  <a:lnTo>
                    <a:pt x="270" y="336"/>
                  </a:lnTo>
                  <a:lnTo>
                    <a:pt x="270" y="318"/>
                  </a:lnTo>
                  <a:lnTo>
                    <a:pt x="269" y="300"/>
                  </a:lnTo>
                  <a:lnTo>
                    <a:pt x="269" y="282"/>
                  </a:lnTo>
                  <a:lnTo>
                    <a:pt x="268" y="263"/>
                  </a:lnTo>
                  <a:lnTo>
                    <a:pt x="266" y="246"/>
                  </a:lnTo>
                  <a:lnTo>
                    <a:pt x="264" y="228"/>
                  </a:lnTo>
                  <a:lnTo>
                    <a:pt x="260" y="210"/>
                  </a:lnTo>
                  <a:lnTo>
                    <a:pt x="256" y="193"/>
                  </a:lnTo>
                  <a:lnTo>
                    <a:pt x="250" y="175"/>
                  </a:lnTo>
                  <a:lnTo>
                    <a:pt x="250" y="166"/>
                  </a:lnTo>
                  <a:lnTo>
                    <a:pt x="251" y="151"/>
                  </a:lnTo>
                  <a:lnTo>
                    <a:pt x="251" y="133"/>
                  </a:lnTo>
                  <a:lnTo>
                    <a:pt x="252" y="114"/>
                  </a:lnTo>
                  <a:lnTo>
                    <a:pt x="253" y="92"/>
                  </a:lnTo>
                  <a:lnTo>
                    <a:pt x="253" y="72"/>
                  </a:lnTo>
                  <a:lnTo>
                    <a:pt x="254" y="54"/>
                  </a:lnTo>
                  <a:lnTo>
                    <a:pt x="254" y="40"/>
                  </a:lnTo>
                  <a:lnTo>
                    <a:pt x="243" y="0"/>
                  </a:lnTo>
                </a:path>
              </a:pathLst>
            </a:custGeom>
            <a:no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ccecff"/>
                </a:solidFill>
                <a:latin typeface="Times New Roman"/>
              </a:endParaRPr>
            </a:p>
          </p:txBody>
        </p:sp>
        <p:sp>
          <p:nvSpPr>
            <p:cNvPr id="350" name="Freeform 22"/>
            <p:cNvSpPr/>
            <p:nvPr/>
          </p:nvSpPr>
          <p:spPr>
            <a:xfrm>
              <a:off x="2394720" y="3292200"/>
              <a:ext cx="20160" cy="70560"/>
            </a:xfrm>
            <a:custGeom>
              <a:avLst/>
              <a:gdLst>
                <a:gd name="textAreaLeft" fmla="*/ 0 w 20160"/>
                <a:gd name="textAreaRight" fmla="*/ 20520 w 20160"/>
                <a:gd name="textAreaTop" fmla="*/ 0 h 70560"/>
                <a:gd name="textAreaBottom" fmla="*/ 70920 h 70560"/>
              </a:gdLst>
              <a:ahLst/>
              <a:rect l="textAreaLeft" t="textAreaTop" r="textAreaRight" b="textAreaBottom"/>
              <a:pathLst>
                <a:path w="269" h="946">
                  <a:moveTo>
                    <a:pt x="52" y="0"/>
                  </a:moveTo>
                  <a:lnTo>
                    <a:pt x="52" y="0"/>
                  </a:lnTo>
                  <a:lnTo>
                    <a:pt x="64" y="13"/>
                  </a:lnTo>
                  <a:lnTo>
                    <a:pt x="77" y="28"/>
                  </a:lnTo>
                  <a:lnTo>
                    <a:pt x="89" y="45"/>
                  </a:lnTo>
                  <a:lnTo>
                    <a:pt x="102" y="63"/>
                  </a:lnTo>
                  <a:lnTo>
                    <a:pt x="113" y="81"/>
                  </a:lnTo>
                  <a:lnTo>
                    <a:pt x="123" y="100"/>
                  </a:lnTo>
                  <a:lnTo>
                    <a:pt x="133" y="119"/>
                  </a:lnTo>
                  <a:lnTo>
                    <a:pt x="139" y="137"/>
                  </a:lnTo>
                  <a:lnTo>
                    <a:pt x="143" y="152"/>
                  </a:lnTo>
                  <a:lnTo>
                    <a:pt x="147" y="167"/>
                  </a:lnTo>
                  <a:lnTo>
                    <a:pt x="150" y="182"/>
                  </a:lnTo>
                  <a:lnTo>
                    <a:pt x="152" y="198"/>
                  </a:lnTo>
                  <a:lnTo>
                    <a:pt x="155" y="214"/>
                  </a:lnTo>
                  <a:lnTo>
                    <a:pt x="157" y="230"/>
                  </a:lnTo>
                  <a:lnTo>
                    <a:pt x="159" y="245"/>
                  </a:lnTo>
                  <a:lnTo>
                    <a:pt x="163" y="259"/>
                  </a:lnTo>
                  <a:lnTo>
                    <a:pt x="166" y="273"/>
                  </a:lnTo>
                  <a:lnTo>
                    <a:pt x="168" y="286"/>
                  </a:lnTo>
                  <a:lnTo>
                    <a:pt x="170" y="300"/>
                  </a:lnTo>
                  <a:lnTo>
                    <a:pt x="173" y="314"/>
                  </a:lnTo>
                  <a:lnTo>
                    <a:pt x="175" y="329"/>
                  </a:lnTo>
                  <a:lnTo>
                    <a:pt x="178" y="343"/>
                  </a:lnTo>
                  <a:lnTo>
                    <a:pt x="180" y="358"/>
                  </a:lnTo>
                  <a:lnTo>
                    <a:pt x="182" y="372"/>
                  </a:lnTo>
                  <a:lnTo>
                    <a:pt x="184" y="387"/>
                  </a:lnTo>
                  <a:lnTo>
                    <a:pt x="186" y="402"/>
                  </a:lnTo>
                  <a:lnTo>
                    <a:pt x="188" y="416"/>
                  </a:lnTo>
                  <a:lnTo>
                    <a:pt x="191" y="431"/>
                  </a:lnTo>
                  <a:lnTo>
                    <a:pt x="194" y="445"/>
                  </a:lnTo>
                  <a:lnTo>
                    <a:pt x="197" y="459"/>
                  </a:lnTo>
                  <a:lnTo>
                    <a:pt x="200" y="473"/>
                  </a:lnTo>
                  <a:lnTo>
                    <a:pt x="204" y="486"/>
                  </a:lnTo>
                  <a:lnTo>
                    <a:pt x="211" y="510"/>
                  </a:lnTo>
                  <a:lnTo>
                    <a:pt x="218" y="534"/>
                  </a:lnTo>
                  <a:lnTo>
                    <a:pt x="225" y="558"/>
                  </a:lnTo>
                  <a:lnTo>
                    <a:pt x="232" y="583"/>
                  </a:lnTo>
                  <a:lnTo>
                    <a:pt x="239" y="608"/>
                  </a:lnTo>
                  <a:lnTo>
                    <a:pt x="245" y="634"/>
                  </a:lnTo>
                  <a:lnTo>
                    <a:pt x="250" y="660"/>
                  </a:lnTo>
                  <a:lnTo>
                    <a:pt x="256" y="685"/>
                  </a:lnTo>
                  <a:lnTo>
                    <a:pt x="260" y="712"/>
                  </a:lnTo>
                  <a:lnTo>
                    <a:pt x="263" y="738"/>
                  </a:lnTo>
                  <a:lnTo>
                    <a:pt x="266" y="765"/>
                  </a:lnTo>
                  <a:lnTo>
                    <a:pt x="267" y="791"/>
                  </a:lnTo>
                  <a:lnTo>
                    <a:pt x="269" y="817"/>
                  </a:lnTo>
                  <a:lnTo>
                    <a:pt x="267" y="844"/>
                  </a:lnTo>
                  <a:lnTo>
                    <a:pt x="265" y="870"/>
                  </a:lnTo>
                  <a:lnTo>
                    <a:pt x="262" y="896"/>
                  </a:lnTo>
                  <a:lnTo>
                    <a:pt x="261" y="903"/>
                  </a:lnTo>
                  <a:lnTo>
                    <a:pt x="259" y="909"/>
                  </a:lnTo>
                  <a:lnTo>
                    <a:pt x="258" y="915"/>
                  </a:lnTo>
                  <a:lnTo>
                    <a:pt x="256" y="922"/>
                  </a:lnTo>
                  <a:lnTo>
                    <a:pt x="254" y="928"/>
                  </a:lnTo>
                  <a:lnTo>
                    <a:pt x="252" y="935"/>
                  </a:lnTo>
                  <a:lnTo>
                    <a:pt x="251" y="940"/>
                  </a:lnTo>
                  <a:lnTo>
                    <a:pt x="251" y="946"/>
                  </a:lnTo>
                  <a:lnTo>
                    <a:pt x="251" y="928"/>
                  </a:lnTo>
                  <a:lnTo>
                    <a:pt x="250" y="910"/>
                  </a:lnTo>
                  <a:lnTo>
                    <a:pt x="249" y="892"/>
                  </a:lnTo>
                  <a:lnTo>
                    <a:pt x="248" y="875"/>
                  </a:lnTo>
                  <a:lnTo>
                    <a:pt x="246" y="858"/>
                  </a:lnTo>
                  <a:lnTo>
                    <a:pt x="243" y="842"/>
                  </a:lnTo>
                  <a:lnTo>
                    <a:pt x="239" y="824"/>
                  </a:lnTo>
                  <a:lnTo>
                    <a:pt x="233" y="808"/>
                  </a:lnTo>
                  <a:lnTo>
                    <a:pt x="231" y="801"/>
                  </a:lnTo>
                  <a:lnTo>
                    <a:pt x="229" y="792"/>
                  </a:lnTo>
                  <a:lnTo>
                    <a:pt x="228" y="784"/>
                  </a:lnTo>
                  <a:lnTo>
                    <a:pt x="226" y="777"/>
                  </a:lnTo>
                  <a:lnTo>
                    <a:pt x="219" y="761"/>
                  </a:lnTo>
                  <a:lnTo>
                    <a:pt x="213" y="745"/>
                  </a:lnTo>
                  <a:lnTo>
                    <a:pt x="204" y="729"/>
                  </a:lnTo>
                  <a:lnTo>
                    <a:pt x="197" y="713"/>
                  </a:lnTo>
                  <a:lnTo>
                    <a:pt x="188" y="696"/>
                  </a:lnTo>
                  <a:lnTo>
                    <a:pt x="181" y="680"/>
                  </a:lnTo>
                  <a:lnTo>
                    <a:pt x="173" y="664"/>
                  </a:lnTo>
                  <a:lnTo>
                    <a:pt x="168" y="649"/>
                  </a:lnTo>
                  <a:lnTo>
                    <a:pt x="166" y="640"/>
                  </a:lnTo>
                  <a:lnTo>
                    <a:pt x="162" y="631"/>
                  </a:lnTo>
                  <a:lnTo>
                    <a:pt x="157" y="621"/>
                  </a:lnTo>
                  <a:lnTo>
                    <a:pt x="152" y="612"/>
                  </a:lnTo>
                  <a:lnTo>
                    <a:pt x="147" y="603"/>
                  </a:lnTo>
                  <a:lnTo>
                    <a:pt x="141" y="595"/>
                  </a:lnTo>
                  <a:lnTo>
                    <a:pt x="136" y="587"/>
                  </a:lnTo>
                  <a:lnTo>
                    <a:pt x="132" y="581"/>
                  </a:lnTo>
                  <a:lnTo>
                    <a:pt x="132" y="576"/>
                  </a:lnTo>
                  <a:lnTo>
                    <a:pt x="132" y="573"/>
                  </a:lnTo>
                  <a:lnTo>
                    <a:pt x="132" y="570"/>
                  </a:lnTo>
                  <a:lnTo>
                    <a:pt x="132" y="567"/>
                  </a:lnTo>
                  <a:lnTo>
                    <a:pt x="129" y="563"/>
                  </a:lnTo>
                  <a:lnTo>
                    <a:pt x="127" y="559"/>
                  </a:lnTo>
                  <a:lnTo>
                    <a:pt x="125" y="554"/>
                  </a:lnTo>
                  <a:lnTo>
                    <a:pt x="124" y="550"/>
                  </a:lnTo>
                  <a:lnTo>
                    <a:pt x="117" y="552"/>
                  </a:lnTo>
                  <a:lnTo>
                    <a:pt x="109" y="554"/>
                  </a:lnTo>
                  <a:lnTo>
                    <a:pt x="103" y="556"/>
                  </a:lnTo>
                  <a:lnTo>
                    <a:pt x="95" y="558"/>
                  </a:lnTo>
                  <a:lnTo>
                    <a:pt x="89" y="560"/>
                  </a:lnTo>
                  <a:lnTo>
                    <a:pt x="82" y="563"/>
                  </a:lnTo>
                  <a:lnTo>
                    <a:pt x="77" y="567"/>
                  </a:lnTo>
                  <a:lnTo>
                    <a:pt x="72" y="571"/>
                  </a:lnTo>
                  <a:lnTo>
                    <a:pt x="63" y="574"/>
                  </a:lnTo>
                  <a:lnTo>
                    <a:pt x="53" y="578"/>
                  </a:lnTo>
                  <a:lnTo>
                    <a:pt x="44" y="585"/>
                  </a:lnTo>
                  <a:lnTo>
                    <a:pt x="34" y="591"/>
                  </a:lnTo>
                  <a:lnTo>
                    <a:pt x="24" y="599"/>
                  </a:lnTo>
                  <a:lnTo>
                    <a:pt x="16" y="607"/>
                  </a:lnTo>
                  <a:lnTo>
                    <a:pt x="7" y="616"/>
                  </a:lnTo>
                  <a:lnTo>
                    <a:pt x="0" y="624"/>
                  </a:lnTo>
                  <a:lnTo>
                    <a:pt x="1" y="613"/>
                  </a:lnTo>
                  <a:lnTo>
                    <a:pt x="2" y="602"/>
                  </a:lnTo>
                  <a:lnTo>
                    <a:pt x="5" y="592"/>
                  </a:lnTo>
                  <a:lnTo>
                    <a:pt x="7" y="584"/>
                  </a:lnTo>
                  <a:lnTo>
                    <a:pt x="11" y="575"/>
                  </a:lnTo>
                  <a:lnTo>
                    <a:pt x="13" y="568"/>
                  </a:lnTo>
                  <a:lnTo>
                    <a:pt x="15" y="559"/>
                  </a:lnTo>
                  <a:lnTo>
                    <a:pt x="16" y="552"/>
                  </a:lnTo>
                  <a:lnTo>
                    <a:pt x="17" y="544"/>
                  </a:lnTo>
                  <a:lnTo>
                    <a:pt x="19" y="537"/>
                  </a:lnTo>
                  <a:lnTo>
                    <a:pt x="21" y="530"/>
                  </a:lnTo>
                  <a:lnTo>
                    <a:pt x="23" y="523"/>
                  </a:lnTo>
                  <a:lnTo>
                    <a:pt x="26" y="516"/>
                  </a:lnTo>
                  <a:lnTo>
                    <a:pt x="28" y="510"/>
                  </a:lnTo>
                  <a:lnTo>
                    <a:pt x="30" y="503"/>
                  </a:lnTo>
                  <a:lnTo>
                    <a:pt x="31" y="495"/>
                  </a:lnTo>
                  <a:lnTo>
                    <a:pt x="35" y="474"/>
                  </a:lnTo>
                  <a:lnTo>
                    <a:pt x="38" y="453"/>
                  </a:lnTo>
                  <a:lnTo>
                    <a:pt x="41" y="433"/>
                  </a:lnTo>
                  <a:lnTo>
                    <a:pt x="42" y="412"/>
                  </a:lnTo>
                  <a:lnTo>
                    <a:pt x="42" y="391"/>
                  </a:lnTo>
                  <a:lnTo>
                    <a:pt x="39" y="370"/>
                  </a:lnTo>
                  <a:lnTo>
                    <a:pt x="37" y="348"/>
                  </a:lnTo>
                  <a:lnTo>
                    <a:pt x="34" y="326"/>
                  </a:lnTo>
                  <a:lnTo>
                    <a:pt x="30" y="301"/>
                  </a:lnTo>
                  <a:lnTo>
                    <a:pt x="26" y="279"/>
                  </a:lnTo>
                  <a:lnTo>
                    <a:pt x="22" y="259"/>
                  </a:lnTo>
                  <a:lnTo>
                    <a:pt x="19" y="239"/>
                  </a:lnTo>
                  <a:lnTo>
                    <a:pt x="16" y="221"/>
                  </a:lnTo>
                  <a:lnTo>
                    <a:pt x="12" y="204"/>
                  </a:lnTo>
                  <a:lnTo>
                    <a:pt x="6" y="186"/>
                  </a:lnTo>
                  <a:lnTo>
                    <a:pt x="1" y="168"/>
                  </a:lnTo>
                  <a:lnTo>
                    <a:pt x="1" y="158"/>
                  </a:lnTo>
                  <a:lnTo>
                    <a:pt x="1" y="150"/>
                  </a:lnTo>
                  <a:lnTo>
                    <a:pt x="2" y="141"/>
                  </a:lnTo>
                  <a:lnTo>
                    <a:pt x="3" y="132"/>
                  </a:lnTo>
                  <a:lnTo>
                    <a:pt x="3" y="125"/>
                  </a:lnTo>
                  <a:lnTo>
                    <a:pt x="3" y="119"/>
                  </a:lnTo>
                  <a:lnTo>
                    <a:pt x="2" y="113"/>
                  </a:lnTo>
                  <a:lnTo>
                    <a:pt x="0" y="109"/>
                  </a:lnTo>
                  <a:lnTo>
                    <a:pt x="2" y="102"/>
                  </a:lnTo>
                  <a:lnTo>
                    <a:pt x="7" y="91"/>
                  </a:lnTo>
                  <a:lnTo>
                    <a:pt x="16" y="74"/>
                  </a:lnTo>
                  <a:lnTo>
                    <a:pt x="24" y="55"/>
                  </a:lnTo>
                  <a:lnTo>
                    <a:pt x="34" y="37"/>
                  </a:lnTo>
                  <a:lnTo>
                    <a:pt x="43" y="20"/>
                  </a:lnTo>
                  <a:lnTo>
                    <a:pt x="49" y="7"/>
                  </a:lnTo>
                  <a:lnTo>
                    <a:pt x="52"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ccecff"/>
                </a:solidFill>
                <a:latin typeface="Times New Roman"/>
              </a:endParaRPr>
            </a:p>
          </p:txBody>
        </p:sp>
        <p:sp>
          <p:nvSpPr>
            <p:cNvPr id="351" name="Freeform 23"/>
            <p:cNvSpPr/>
            <p:nvPr/>
          </p:nvSpPr>
          <p:spPr>
            <a:xfrm>
              <a:off x="2336040" y="3281400"/>
              <a:ext cx="24480" cy="52200"/>
            </a:xfrm>
            <a:custGeom>
              <a:avLst/>
              <a:gdLst>
                <a:gd name="textAreaLeft" fmla="*/ 0 w 24480"/>
                <a:gd name="textAreaRight" fmla="*/ 24840 w 24480"/>
                <a:gd name="textAreaTop" fmla="*/ 0 h 52200"/>
                <a:gd name="textAreaBottom" fmla="*/ 52560 h 52200"/>
              </a:gdLst>
              <a:ahLst/>
              <a:rect l="textAreaLeft" t="textAreaTop" r="textAreaRight" b="textAreaBottom"/>
              <a:pathLst>
                <a:path w="322" h="707">
                  <a:moveTo>
                    <a:pt x="322" y="705"/>
                  </a:moveTo>
                  <a:lnTo>
                    <a:pt x="322" y="705"/>
                  </a:lnTo>
                  <a:lnTo>
                    <a:pt x="321" y="689"/>
                  </a:lnTo>
                  <a:lnTo>
                    <a:pt x="319" y="670"/>
                  </a:lnTo>
                  <a:lnTo>
                    <a:pt x="314" y="645"/>
                  </a:lnTo>
                  <a:lnTo>
                    <a:pt x="309" y="618"/>
                  </a:lnTo>
                  <a:lnTo>
                    <a:pt x="301" y="589"/>
                  </a:lnTo>
                  <a:lnTo>
                    <a:pt x="294" y="556"/>
                  </a:lnTo>
                  <a:lnTo>
                    <a:pt x="285" y="522"/>
                  </a:lnTo>
                  <a:lnTo>
                    <a:pt x="276" y="486"/>
                  </a:lnTo>
                  <a:lnTo>
                    <a:pt x="266" y="448"/>
                  </a:lnTo>
                  <a:lnTo>
                    <a:pt x="256" y="410"/>
                  </a:lnTo>
                  <a:lnTo>
                    <a:pt x="247" y="370"/>
                  </a:lnTo>
                  <a:lnTo>
                    <a:pt x="237" y="332"/>
                  </a:lnTo>
                  <a:lnTo>
                    <a:pt x="229" y="293"/>
                  </a:lnTo>
                  <a:lnTo>
                    <a:pt x="221" y="255"/>
                  </a:lnTo>
                  <a:lnTo>
                    <a:pt x="214" y="218"/>
                  </a:lnTo>
                  <a:lnTo>
                    <a:pt x="208" y="183"/>
                  </a:lnTo>
                  <a:lnTo>
                    <a:pt x="208" y="178"/>
                  </a:lnTo>
                  <a:lnTo>
                    <a:pt x="207" y="171"/>
                  </a:lnTo>
                  <a:lnTo>
                    <a:pt x="207" y="165"/>
                  </a:lnTo>
                  <a:lnTo>
                    <a:pt x="208" y="159"/>
                  </a:lnTo>
                  <a:lnTo>
                    <a:pt x="208" y="151"/>
                  </a:lnTo>
                  <a:lnTo>
                    <a:pt x="209" y="143"/>
                  </a:lnTo>
                  <a:lnTo>
                    <a:pt x="209" y="134"/>
                  </a:lnTo>
                  <a:lnTo>
                    <a:pt x="210" y="123"/>
                  </a:lnTo>
                  <a:lnTo>
                    <a:pt x="211" y="114"/>
                  </a:lnTo>
                  <a:lnTo>
                    <a:pt x="213" y="102"/>
                  </a:lnTo>
                  <a:lnTo>
                    <a:pt x="214" y="89"/>
                  </a:lnTo>
                  <a:lnTo>
                    <a:pt x="215" y="75"/>
                  </a:lnTo>
                  <a:lnTo>
                    <a:pt x="216" y="61"/>
                  </a:lnTo>
                  <a:lnTo>
                    <a:pt x="217" y="45"/>
                  </a:lnTo>
                  <a:lnTo>
                    <a:pt x="217" y="28"/>
                  </a:lnTo>
                  <a:lnTo>
                    <a:pt x="218" y="10"/>
                  </a:lnTo>
                  <a:lnTo>
                    <a:pt x="211" y="3"/>
                  </a:lnTo>
                  <a:lnTo>
                    <a:pt x="204" y="0"/>
                  </a:lnTo>
                  <a:lnTo>
                    <a:pt x="195" y="0"/>
                  </a:lnTo>
                  <a:lnTo>
                    <a:pt x="186" y="3"/>
                  </a:lnTo>
                  <a:lnTo>
                    <a:pt x="176" y="11"/>
                  </a:lnTo>
                  <a:lnTo>
                    <a:pt x="167" y="24"/>
                  </a:lnTo>
                  <a:lnTo>
                    <a:pt x="158" y="41"/>
                  </a:lnTo>
                  <a:lnTo>
                    <a:pt x="149" y="63"/>
                  </a:lnTo>
                  <a:lnTo>
                    <a:pt x="142" y="86"/>
                  </a:lnTo>
                  <a:lnTo>
                    <a:pt x="134" y="100"/>
                  </a:lnTo>
                  <a:lnTo>
                    <a:pt x="126" y="109"/>
                  </a:lnTo>
                  <a:lnTo>
                    <a:pt x="119" y="115"/>
                  </a:lnTo>
                  <a:lnTo>
                    <a:pt x="113" y="118"/>
                  </a:lnTo>
                  <a:lnTo>
                    <a:pt x="108" y="121"/>
                  </a:lnTo>
                  <a:lnTo>
                    <a:pt x="103" y="125"/>
                  </a:lnTo>
                  <a:lnTo>
                    <a:pt x="100" y="133"/>
                  </a:lnTo>
                  <a:lnTo>
                    <a:pt x="100" y="166"/>
                  </a:lnTo>
                  <a:lnTo>
                    <a:pt x="100" y="200"/>
                  </a:lnTo>
                  <a:lnTo>
                    <a:pt x="99" y="236"/>
                  </a:lnTo>
                  <a:lnTo>
                    <a:pt x="98" y="270"/>
                  </a:lnTo>
                  <a:lnTo>
                    <a:pt x="97" y="305"/>
                  </a:lnTo>
                  <a:lnTo>
                    <a:pt x="95" y="340"/>
                  </a:lnTo>
                  <a:lnTo>
                    <a:pt x="91" y="376"/>
                  </a:lnTo>
                  <a:lnTo>
                    <a:pt x="87" y="411"/>
                  </a:lnTo>
                  <a:lnTo>
                    <a:pt x="81" y="445"/>
                  </a:lnTo>
                  <a:lnTo>
                    <a:pt x="74" y="478"/>
                  </a:lnTo>
                  <a:lnTo>
                    <a:pt x="67" y="510"/>
                  </a:lnTo>
                  <a:lnTo>
                    <a:pt x="57" y="541"/>
                  </a:lnTo>
                  <a:lnTo>
                    <a:pt x="46" y="571"/>
                  </a:lnTo>
                  <a:lnTo>
                    <a:pt x="32" y="600"/>
                  </a:lnTo>
                  <a:lnTo>
                    <a:pt x="17" y="627"/>
                  </a:lnTo>
                  <a:lnTo>
                    <a:pt x="0" y="652"/>
                  </a:lnTo>
                  <a:lnTo>
                    <a:pt x="8" y="657"/>
                  </a:lnTo>
                  <a:lnTo>
                    <a:pt x="18" y="663"/>
                  </a:lnTo>
                  <a:lnTo>
                    <a:pt x="27" y="669"/>
                  </a:lnTo>
                  <a:lnTo>
                    <a:pt x="39" y="674"/>
                  </a:lnTo>
                  <a:lnTo>
                    <a:pt x="50" y="679"/>
                  </a:lnTo>
                  <a:lnTo>
                    <a:pt x="62" y="685"/>
                  </a:lnTo>
                  <a:lnTo>
                    <a:pt x="74" y="689"/>
                  </a:lnTo>
                  <a:lnTo>
                    <a:pt x="87" y="693"/>
                  </a:lnTo>
                  <a:lnTo>
                    <a:pt x="99" y="698"/>
                  </a:lnTo>
                  <a:lnTo>
                    <a:pt x="112" y="701"/>
                  </a:lnTo>
                  <a:lnTo>
                    <a:pt x="125" y="703"/>
                  </a:lnTo>
                  <a:lnTo>
                    <a:pt x="138" y="705"/>
                  </a:lnTo>
                  <a:lnTo>
                    <a:pt x="150" y="706"/>
                  </a:lnTo>
                  <a:lnTo>
                    <a:pt x="163" y="707"/>
                  </a:lnTo>
                  <a:lnTo>
                    <a:pt x="175" y="707"/>
                  </a:lnTo>
                  <a:lnTo>
                    <a:pt x="187" y="706"/>
                  </a:lnTo>
                  <a:lnTo>
                    <a:pt x="204" y="703"/>
                  </a:lnTo>
                  <a:lnTo>
                    <a:pt x="217" y="700"/>
                  </a:lnTo>
                  <a:lnTo>
                    <a:pt x="229" y="698"/>
                  </a:lnTo>
                  <a:lnTo>
                    <a:pt x="238" y="694"/>
                  </a:lnTo>
                  <a:lnTo>
                    <a:pt x="247" y="691"/>
                  </a:lnTo>
                  <a:lnTo>
                    <a:pt x="256" y="687"/>
                  </a:lnTo>
                  <a:lnTo>
                    <a:pt x="266" y="683"/>
                  </a:lnTo>
                  <a:lnTo>
                    <a:pt x="278" y="676"/>
                  </a:lnTo>
                  <a:lnTo>
                    <a:pt x="283" y="677"/>
                  </a:lnTo>
                  <a:lnTo>
                    <a:pt x="290" y="679"/>
                  </a:lnTo>
                  <a:lnTo>
                    <a:pt x="296" y="683"/>
                  </a:lnTo>
                  <a:lnTo>
                    <a:pt x="301" y="687"/>
                  </a:lnTo>
                  <a:lnTo>
                    <a:pt x="308" y="691"/>
                  </a:lnTo>
                  <a:lnTo>
                    <a:pt x="313" y="697"/>
                  </a:lnTo>
                  <a:lnTo>
                    <a:pt x="317" y="701"/>
                  </a:lnTo>
                  <a:lnTo>
                    <a:pt x="322" y="70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ccecff"/>
                </a:solidFill>
                <a:latin typeface="Times New Roman"/>
              </a:endParaRPr>
            </a:p>
          </p:txBody>
        </p:sp>
        <p:sp>
          <p:nvSpPr>
            <p:cNvPr id="352" name="Freeform 24"/>
            <p:cNvSpPr/>
            <p:nvPr/>
          </p:nvSpPr>
          <p:spPr>
            <a:xfrm>
              <a:off x="2298960" y="3527640"/>
              <a:ext cx="57240" cy="70560"/>
            </a:xfrm>
            <a:custGeom>
              <a:avLst/>
              <a:gdLst>
                <a:gd name="textAreaLeft" fmla="*/ 0 w 57240"/>
                <a:gd name="textAreaRight" fmla="*/ 57600 w 57240"/>
                <a:gd name="textAreaTop" fmla="*/ 0 h 70560"/>
                <a:gd name="textAreaBottom" fmla="*/ 70920 h 70560"/>
              </a:gdLst>
              <a:ahLst/>
              <a:rect l="textAreaLeft" t="textAreaTop" r="textAreaRight" b="textAreaBottom"/>
              <a:pathLst>
                <a:path w="745" h="949">
                  <a:moveTo>
                    <a:pt x="0" y="35"/>
                  </a:moveTo>
                  <a:lnTo>
                    <a:pt x="0" y="35"/>
                  </a:lnTo>
                  <a:lnTo>
                    <a:pt x="38" y="35"/>
                  </a:lnTo>
                  <a:lnTo>
                    <a:pt x="75" y="38"/>
                  </a:lnTo>
                  <a:lnTo>
                    <a:pt x="114" y="40"/>
                  </a:lnTo>
                  <a:lnTo>
                    <a:pt x="152" y="42"/>
                  </a:lnTo>
                  <a:lnTo>
                    <a:pt x="192" y="44"/>
                  </a:lnTo>
                  <a:lnTo>
                    <a:pt x="231" y="47"/>
                  </a:lnTo>
                  <a:lnTo>
                    <a:pt x="271" y="49"/>
                  </a:lnTo>
                  <a:lnTo>
                    <a:pt x="312" y="52"/>
                  </a:lnTo>
                  <a:lnTo>
                    <a:pt x="351" y="53"/>
                  </a:lnTo>
                  <a:lnTo>
                    <a:pt x="391" y="53"/>
                  </a:lnTo>
                  <a:lnTo>
                    <a:pt x="430" y="52"/>
                  </a:lnTo>
                  <a:lnTo>
                    <a:pt x="470" y="49"/>
                  </a:lnTo>
                  <a:lnTo>
                    <a:pt x="509" y="45"/>
                  </a:lnTo>
                  <a:lnTo>
                    <a:pt x="547" y="39"/>
                  </a:lnTo>
                  <a:lnTo>
                    <a:pt x="585" y="31"/>
                  </a:lnTo>
                  <a:lnTo>
                    <a:pt x="622" y="21"/>
                  </a:lnTo>
                  <a:lnTo>
                    <a:pt x="628" y="19"/>
                  </a:lnTo>
                  <a:lnTo>
                    <a:pt x="637" y="16"/>
                  </a:lnTo>
                  <a:lnTo>
                    <a:pt x="649" y="11"/>
                  </a:lnTo>
                  <a:lnTo>
                    <a:pt x="661" y="7"/>
                  </a:lnTo>
                  <a:lnTo>
                    <a:pt x="673" y="2"/>
                  </a:lnTo>
                  <a:lnTo>
                    <a:pt x="686" y="0"/>
                  </a:lnTo>
                  <a:lnTo>
                    <a:pt x="698" y="0"/>
                  </a:lnTo>
                  <a:lnTo>
                    <a:pt x="709" y="4"/>
                  </a:lnTo>
                  <a:lnTo>
                    <a:pt x="720" y="21"/>
                  </a:lnTo>
                  <a:lnTo>
                    <a:pt x="725" y="33"/>
                  </a:lnTo>
                  <a:lnTo>
                    <a:pt x="728" y="48"/>
                  </a:lnTo>
                  <a:lnTo>
                    <a:pt x="730" y="65"/>
                  </a:lnTo>
                  <a:lnTo>
                    <a:pt x="731" y="85"/>
                  </a:lnTo>
                  <a:lnTo>
                    <a:pt x="732" y="105"/>
                  </a:lnTo>
                  <a:lnTo>
                    <a:pt x="732" y="126"/>
                  </a:lnTo>
                  <a:lnTo>
                    <a:pt x="732" y="148"/>
                  </a:lnTo>
                  <a:lnTo>
                    <a:pt x="731" y="170"/>
                  </a:lnTo>
                  <a:lnTo>
                    <a:pt x="731" y="193"/>
                  </a:lnTo>
                  <a:lnTo>
                    <a:pt x="730" y="214"/>
                  </a:lnTo>
                  <a:lnTo>
                    <a:pt x="730" y="236"/>
                  </a:lnTo>
                  <a:lnTo>
                    <a:pt x="729" y="256"/>
                  </a:lnTo>
                  <a:lnTo>
                    <a:pt x="729" y="275"/>
                  </a:lnTo>
                  <a:lnTo>
                    <a:pt x="730" y="292"/>
                  </a:lnTo>
                  <a:lnTo>
                    <a:pt x="731" y="308"/>
                  </a:lnTo>
                  <a:lnTo>
                    <a:pt x="733" y="321"/>
                  </a:lnTo>
                  <a:lnTo>
                    <a:pt x="735" y="342"/>
                  </a:lnTo>
                  <a:lnTo>
                    <a:pt x="737" y="365"/>
                  </a:lnTo>
                  <a:lnTo>
                    <a:pt x="738" y="388"/>
                  </a:lnTo>
                  <a:lnTo>
                    <a:pt x="739" y="412"/>
                  </a:lnTo>
                  <a:lnTo>
                    <a:pt x="739" y="436"/>
                  </a:lnTo>
                  <a:lnTo>
                    <a:pt x="739" y="460"/>
                  </a:lnTo>
                  <a:lnTo>
                    <a:pt x="739" y="486"/>
                  </a:lnTo>
                  <a:lnTo>
                    <a:pt x="740" y="510"/>
                  </a:lnTo>
                  <a:lnTo>
                    <a:pt x="740" y="535"/>
                  </a:lnTo>
                  <a:lnTo>
                    <a:pt x="740" y="559"/>
                  </a:lnTo>
                  <a:lnTo>
                    <a:pt x="740" y="582"/>
                  </a:lnTo>
                  <a:lnTo>
                    <a:pt x="740" y="606"/>
                  </a:lnTo>
                  <a:lnTo>
                    <a:pt x="741" y="627"/>
                  </a:lnTo>
                  <a:lnTo>
                    <a:pt x="742" y="648"/>
                  </a:lnTo>
                  <a:lnTo>
                    <a:pt x="743" y="669"/>
                  </a:lnTo>
                  <a:lnTo>
                    <a:pt x="745" y="687"/>
                  </a:lnTo>
                  <a:lnTo>
                    <a:pt x="745" y="814"/>
                  </a:lnTo>
                  <a:lnTo>
                    <a:pt x="739" y="824"/>
                  </a:lnTo>
                  <a:lnTo>
                    <a:pt x="730" y="839"/>
                  </a:lnTo>
                  <a:lnTo>
                    <a:pt x="719" y="856"/>
                  </a:lnTo>
                  <a:lnTo>
                    <a:pt x="708" y="876"/>
                  </a:lnTo>
                  <a:lnTo>
                    <a:pt x="695" y="894"/>
                  </a:lnTo>
                  <a:lnTo>
                    <a:pt x="682" y="910"/>
                  </a:lnTo>
                  <a:lnTo>
                    <a:pt x="670" y="921"/>
                  </a:lnTo>
                  <a:lnTo>
                    <a:pt x="659" y="925"/>
                  </a:lnTo>
                  <a:lnTo>
                    <a:pt x="635" y="925"/>
                  </a:lnTo>
                  <a:lnTo>
                    <a:pt x="610" y="893"/>
                  </a:lnTo>
                  <a:lnTo>
                    <a:pt x="599" y="894"/>
                  </a:lnTo>
                  <a:lnTo>
                    <a:pt x="588" y="895"/>
                  </a:lnTo>
                  <a:lnTo>
                    <a:pt x="575" y="899"/>
                  </a:lnTo>
                  <a:lnTo>
                    <a:pt x="562" y="901"/>
                  </a:lnTo>
                  <a:lnTo>
                    <a:pt x="548" y="904"/>
                  </a:lnTo>
                  <a:lnTo>
                    <a:pt x="535" y="907"/>
                  </a:lnTo>
                  <a:lnTo>
                    <a:pt x="524" y="908"/>
                  </a:lnTo>
                  <a:lnTo>
                    <a:pt x="513" y="909"/>
                  </a:lnTo>
                  <a:lnTo>
                    <a:pt x="489" y="920"/>
                  </a:lnTo>
                  <a:lnTo>
                    <a:pt x="466" y="930"/>
                  </a:lnTo>
                  <a:lnTo>
                    <a:pt x="442" y="936"/>
                  </a:lnTo>
                  <a:lnTo>
                    <a:pt x="418" y="941"/>
                  </a:lnTo>
                  <a:lnTo>
                    <a:pt x="392" y="946"/>
                  </a:lnTo>
                  <a:lnTo>
                    <a:pt x="366" y="948"/>
                  </a:lnTo>
                  <a:lnTo>
                    <a:pt x="340" y="949"/>
                  </a:lnTo>
                  <a:lnTo>
                    <a:pt x="315" y="949"/>
                  </a:lnTo>
                  <a:lnTo>
                    <a:pt x="288" y="949"/>
                  </a:lnTo>
                  <a:lnTo>
                    <a:pt x="261" y="948"/>
                  </a:lnTo>
                  <a:lnTo>
                    <a:pt x="234" y="947"/>
                  </a:lnTo>
                  <a:lnTo>
                    <a:pt x="207" y="946"/>
                  </a:lnTo>
                  <a:lnTo>
                    <a:pt x="180" y="944"/>
                  </a:lnTo>
                  <a:lnTo>
                    <a:pt x="152" y="943"/>
                  </a:lnTo>
                  <a:lnTo>
                    <a:pt x="125" y="941"/>
                  </a:lnTo>
                  <a:lnTo>
                    <a:pt x="97" y="941"/>
                  </a:lnTo>
                  <a:lnTo>
                    <a:pt x="93" y="930"/>
                  </a:lnTo>
                  <a:lnTo>
                    <a:pt x="89" y="917"/>
                  </a:lnTo>
                  <a:lnTo>
                    <a:pt x="85" y="904"/>
                  </a:lnTo>
                  <a:lnTo>
                    <a:pt x="81" y="891"/>
                  </a:lnTo>
                  <a:lnTo>
                    <a:pt x="78" y="878"/>
                  </a:lnTo>
                  <a:lnTo>
                    <a:pt x="75" y="866"/>
                  </a:lnTo>
                  <a:lnTo>
                    <a:pt x="72" y="853"/>
                  </a:lnTo>
                  <a:lnTo>
                    <a:pt x="69" y="839"/>
                  </a:lnTo>
                  <a:lnTo>
                    <a:pt x="66" y="825"/>
                  </a:lnTo>
                  <a:lnTo>
                    <a:pt x="64" y="812"/>
                  </a:lnTo>
                  <a:lnTo>
                    <a:pt x="62" y="798"/>
                  </a:lnTo>
                  <a:lnTo>
                    <a:pt x="60" y="784"/>
                  </a:lnTo>
                  <a:lnTo>
                    <a:pt x="59" y="770"/>
                  </a:lnTo>
                  <a:lnTo>
                    <a:pt x="57" y="756"/>
                  </a:lnTo>
                  <a:lnTo>
                    <a:pt x="56" y="741"/>
                  </a:lnTo>
                  <a:lnTo>
                    <a:pt x="55" y="728"/>
                  </a:lnTo>
                  <a:lnTo>
                    <a:pt x="54" y="713"/>
                  </a:lnTo>
                  <a:lnTo>
                    <a:pt x="53" y="699"/>
                  </a:lnTo>
                  <a:lnTo>
                    <a:pt x="51" y="684"/>
                  </a:lnTo>
                  <a:lnTo>
                    <a:pt x="51" y="669"/>
                  </a:lnTo>
                  <a:lnTo>
                    <a:pt x="50" y="654"/>
                  </a:lnTo>
                  <a:lnTo>
                    <a:pt x="49" y="640"/>
                  </a:lnTo>
                  <a:lnTo>
                    <a:pt x="49" y="625"/>
                  </a:lnTo>
                  <a:lnTo>
                    <a:pt x="49" y="609"/>
                  </a:lnTo>
                  <a:lnTo>
                    <a:pt x="49" y="594"/>
                  </a:lnTo>
                  <a:lnTo>
                    <a:pt x="48" y="579"/>
                  </a:lnTo>
                  <a:lnTo>
                    <a:pt x="48" y="564"/>
                  </a:lnTo>
                  <a:lnTo>
                    <a:pt x="48" y="549"/>
                  </a:lnTo>
                  <a:lnTo>
                    <a:pt x="48" y="534"/>
                  </a:lnTo>
                  <a:lnTo>
                    <a:pt x="48" y="518"/>
                  </a:lnTo>
                  <a:lnTo>
                    <a:pt x="48" y="503"/>
                  </a:lnTo>
                  <a:lnTo>
                    <a:pt x="48" y="488"/>
                  </a:lnTo>
                  <a:lnTo>
                    <a:pt x="48" y="473"/>
                  </a:lnTo>
                  <a:lnTo>
                    <a:pt x="48" y="457"/>
                  </a:lnTo>
                  <a:lnTo>
                    <a:pt x="48" y="441"/>
                  </a:lnTo>
                  <a:lnTo>
                    <a:pt x="49" y="425"/>
                  </a:lnTo>
                  <a:lnTo>
                    <a:pt x="49" y="408"/>
                  </a:lnTo>
                  <a:lnTo>
                    <a:pt x="49" y="392"/>
                  </a:lnTo>
                  <a:lnTo>
                    <a:pt x="49" y="376"/>
                  </a:lnTo>
                  <a:lnTo>
                    <a:pt x="49" y="360"/>
                  </a:lnTo>
                  <a:lnTo>
                    <a:pt x="49" y="344"/>
                  </a:lnTo>
                  <a:lnTo>
                    <a:pt x="48" y="327"/>
                  </a:lnTo>
                  <a:lnTo>
                    <a:pt x="48" y="313"/>
                  </a:lnTo>
                  <a:lnTo>
                    <a:pt x="47" y="296"/>
                  </a:lnTo>
                  <a:lnTo>
                    <a:pt x="46" y="283"/>
                  </a:lnTo>
                  <a:lnTo>
                    <a:pt x="45" y="269"/>
                  </a:lnTo>
                  <a:lnTo>
                    <a:pt x="43" y="255"/>
                  </a:lnTo>
                  <a:lnTo>
                    <a:pt x="41" y="242"/>
                  </a:lnTo>
                  <a:lnTo>
                    <a:pt x="39" y="229"/>
                  </a:lnTo>
                  <a:lnTo>
                    <a:pt x="35" y="217"/>
                  </a:lnTo>
                  <a:lnTo>
                    <a:pt x="32" y="206"/>
                  </a:lnTo>
                  <a:lnTo>
                    <a:pt x="30" y="194"/>
                  </a:lnTo>
                  <a:lnTo>
                    <a:pt x="27" y="182"/>
                  </a:lnTo>
                  <a:lnTo>
                    <a:pt x="25" y="170"/>
                  </a:lnTo>
                  <a:lnTo>
                    <a:pt x="21" y="157"/>
                  </a:lnTo>
                  <a:lnTo>
                    <a:pt x="19" y="146"/>
                  </a:lnTo>
                  <a:lnTo>
                    <a:pt x="16" y="133"/>
                  </a:lnTo>
                  <a:lnTo>
                    <a:pt x="14" y="120"/>
                  </a:lnTo>
                  <a:lnTo>
                    <a:pt x="11" y="107"/>
                  </a:lnTo>
                  <a:lnTo>
                    <a:pt x="9" y="94"/>
                  </a:lnTo>
                  <a:lnTo>
                    <a:pt x="7" y="80"/>
                  </a:lnTo>
                  <a:lnTo>
                    <a:pt x="4" y="65"/>
                  </a:lnTo>
                  <a:lnTo>
                    <a:pt x="2" y="52"/>
                  </a:lnTo>
                  <a:lnTo>
                    <a:pt x="0" y="35"/>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ccecff"/>
                </a:solidFill>
                <a:latin typeface="Times New Roman"/>
              </a:endParaRPr>
            </a:p>
          </p:txBody>
        </p:sp>
        <p:sp>
          <p:nvSpPr>
            <p:cNvPr id="353" name="Freeform 25"/>
            <p:cNvSpPr/>
            <p:nvPr/>
          </p:nvSpPr>
          <p:spPr>
            <a:xfrm>
              <a:off x="2298240" y="3509280"/>
              <a:ext cx="56160" cy="22320"/>
            </a:xfrm>
            <a:custGeom>
              <a:avLst/>
              <a:gdLst>
                <a:gd name="textAreaLeft" fmla="*/ 0 w 56160"/>
                <a:gd name="textAreaRight" fmla="*/ 56520 w 56160"/>
                <a:gd name="textAreaTop" fmla="*/ 0 h 22320"/>
                <a:gd name="textAreaBottom" fmla="*/ 22680 h 22320"/>
              </a:gdLst>
              <a:ahLst/>
              <a:rect l="textAreaLeft" t="textAreaTop" r="textAreaRight" b="textAreaBottom"/>
              <a:pathLst>
                <a:path w="743" h="302">
                  <a:moveTo>
                    <a:pt x="32" y="37"/>
                  </a:moveTo>
                  <a:lnTo>
                    <a:pt x="32" y="37"/>
                  </a:lnTo>
                  <a:lnTo>
                    <a:pt x="48" y="33"/>
                  </a:lnTo>
                  <a:lnTo>
                    <a:pt x="65" y="31"/>
                  </a:lnTo>
                  <a:lnTo>
                    <a:pt x="82" y="30"/>
                  </a:lnTo>
                  <a:lnTo>
                    <a:pt x="102" y="29"/>
                  </a:lnTo>
                  <a:lnTo>
                    <a:pt x="120" y="29"/>
                  </a:lnTo>
                  <a:lnTo>
                    <a:pt x="140" y="29"/>
                  </a:lnTo>
                  <a:lnTo>
                    <a:pt x="161" y="29"/>
                  </a:lnTo>
                  <a:lnTo>
                    <a:pt x="182" y="30"/>
                  </a:lnTo>
                  <a:lnTo>
                    <a:pt x="203" y="30"/>
                  </a:lnTo>
                  <a:lnTo>
                    <a:pt x="225" y="31"/>
                  </a:lnTo>
                  <a:lnTo>
                    <a:pt x="247" y="33"/>
                  </a:lnTo>
                  <a:lnTo>
                    <a:pt x="270" y="34"/>
                  </a:lnTo>
                  <a:lnTo>
                    <a:pt x="293" y="35"/>
                  </a:lnTo>
                  <a:lnTo>
                    <a:pt x="317" y="38"/>
                  </a:lnTo>
                  <a:lnTo>
                    <a:pt x="340" y="39"/>
                  </a:lnTo>
                  <a:lnTo>
                    <a:pt x="364" y="40"/>
                  </a:lnTo>
                  <a:lnTo>
                    <a:pt x="389" y="41"/>
                  </a:lnTo>
                  <a:lnTo>
                    <a:pt x="412" y="42"/>
                  </a:lnTo>
                  <a:lnTo>
                    <a:pt x="437" y="43"/>
                  </a:lnTo>
                  <a:lnTo>
                    <a:pt x="461" y="43"/>
                  </a:lnTo>
                  <a:lnTo>
                    <a:pt x="485" y="43"/>
                  </a:lnTo>
                  <a:lnTo>
                    <a:pt x="510" y="42"/>
                  </a:lnTo>
                  <a:lnTo>
                    <a:pt x="534" y="41"/>
                  </a:lnTo>
                  <a:lnTo>
                    <a:pt x="558" y="40"/>
                  </a:lnTo>
                  <a:lnTo>
                    <a:pt x="581" y="38"/>
                  </a:lnTo>
                  <a:lnTo>
                    <a:pt x="605" y="34"/>
                  </a:lnTo>
                  <a:lnTo>
                    <a:pt x="628" y="31"/>
                  </a:lnTo>
                  <a:lnTo>
                    <a:pt x="652" y="27"/>
                  </a:lnTo>
                  <a:lnTo>
                    <a:pt x="674" y="22"/>
                  </a:lnTo>
                  <a:lnTo>
                    <a:pt x="697" y="15"/>
                  </a:lnTo>
                  <a:lnTo>
                    <a:pt x="718" y="8"/>
                  </a:lnTo>
                  <a:lnTo>
                    <a:pt x="740" y="0"/>
                  </a:lnTo>
                  <a:lnTo>
                    <a:pt x="740" y="8"/>
                  </a:lnTo>
                  <a:lnTo>
                    <a:pt x="740" y="18"/>
                  </a:lnTo>
                  <a:lnTo>
                    <a:pt x="741" y="31"/>
                  </a:lnTo>
                  <a:lnTo>
                    <a:pt x="741" y="45"/>
                  </a:lnTo>
                  <a:lnTo>
                    <a:pt x="742" y="62"/>
                  </a:lnTo>
                  <a:lnTo>
                    <a:pt x="742" y="79"/>
                  </a:lnTo>
                  <a:lnTo>
                    <a:pt x="743" y="98"/>
                  </a:lnTo>
                  <a:lnTo>
                    <a:pt x="743" y="117"/>
                  </a:lnTo>
                  <a:lnTo>
                    <a:pt x="743" y="136"/>
                  </a:lnTo>
                  <a:lnTo>
                    <a:pt x="743" y="154"/>
                  </a:lnTo>
                  <a:lnTo>
                    <a:pt x="743" y="171"/>
                  </a:lnTo>
                  <a:lnTo>
                    <a:pt x="743" y="187"/>
                  </a:lnTo>
                  <a:lnTo>
                    <a:pt x="742" y="202"/>
                  </a:lnTo>
                  <a:lnTo>
                    <a:pt x="741" y="215"/>
                  </a:lnTo>
                  <a:lnTo>
                    <a:pt x="739" y="226"/>
                  </a:lnTo>
                  <a:lnTo>
                    <a:pt x="736" y="233"/>
                  </a:lnTo>
                  <a:lnTo>
                    <a:pt x="725" y="248"/>
                  </a:lnTo>
                  <a:lnTo>
                    <a:pt x="675" y="248"/>
                  </a:lnTo>
                  <a:lnTo>
                    <a:pt x="655" y="255"/>
                  </a:lnTo>
                  <a:lnTo>
                    <a:pt x="635" y="262"/>
                  </a:lnTo>
                  <a:lnTo>
                    <a:pt x="615" y="270"/>
                  </a:lnTo>
                  <a:lnTo>
                    <a:pt x="597" y="276"/>
                  </a:lnTo>
                  <a:lnTo>
                    <a:pt x="580" y="283"/>
                  </a:lnTo>
                  <a:lnTo>
                    <a:pt x="563" y="288"/>
                  </a:lnTo>
                  <a:lnTo>
                    <a:pt x="548" y="291"/>
                  </a:lnTo>
                  <a:lnTo>
                    <a:pt x="533" y="292"/>
                  </a:lnTo>
                  <a:lnTo>
                    <a:pt x="504" y="295"/>
                  </a:lnTo>
                  <a:lnTo>
                    <a:pt x="474" y="299"/>
                  </a:lnTo>
                  <a:lnTo>
                    <a:pt x="445" y="300"/>
                  </a:lnTo>
                  <a:lnTo>
                    <a:pt x="417" y="301"/>
                  </a:lnTo>
                  <a:lnTo>
                    <a:pt x="390" y="302"/>
                  </a:lnTo>
                  <a:lnTo>
                    <a:pt x="362" y="302"/>
                  </a:lnTo>
                  <a:lnTo>
                    <a:pt x="334" y="301"/>
                  </a:lnTo>
                  <a:lnTo>
                    <a:pt x="307" y="300"/>
                  </a:lnTo>
                  <a:lnTo>
                    <a:pt x="282" y="299"/>
                  </a:lnTo>
                  <a:lnTo>
                    <a:pt x="256" y="296"/>
                  </a:lnTo>
                  <a:lnTo>
                    <a:pt x="231" y="295"/>
                  </a:lnTo>
                  <a:lnTo>
                    <a:pt x="207" y="293"/>
                  </a:lnTo>
                  <a:lnTo>
                    <a:pt x="183" y="290"/>
                  </a:lnTo>
                  <a:lnTo>
                    <a:pt x="161" y="288"/>
                  </a:lnTo>
                  <a:lnTo>
                    <a:pt x="138" y="286"/>
                  </a:lnTo>
                  <a:lnTo>
                    <a:pt x="117" y="284"/>
                  </a:lnTo>
                  <a:lnTo>
                    <a:pt x="104" y="283"/>
                  </a:lnTo>
                  <a:lnTo>
                    <a:pt x="90" y="283"/>
                  </a:lnTo>
                  <a:lnTo>
                    <a:pt x="74" y="283"/>
                  </a:lnTo>
                  <a:lnTo>
                    <a:pt x="58" y="281"/>
                  </a:lnTo>
                  <a:lnTo>
                    <a:pt x="42" y="281"/>
                  </a:lnTo>
                  <a:lnTo>
                    <a:pt x="26" y="281"/>
                  </a:lnTo>
                  <a:lnTo>
                    <a:pt x="12" y="281"/>
                  </a:lnTo>
                  <a:lnTo>
                    <a:pt x="0" y="280"/>
                  </a:lnTo>
                  <a:lnTo>
                    <a:pt x="0" y="269"/>
                  </a:lnTo>
                  <a:lnTo>
                    <a:pt x="1" y="255"/>
                  </a:lnTo>
                  <a:lnTo>
                    <a:pt x="3" y="241"/>
                  </a:lnTo>
                  <a:lnTo>
                    <a:pt x="4" y="225"/>
                  </a:lnTo>
                  <a:lnTo>
                    <a:pt x="8" y="209"/>
                  </a:lnTo>
                  <a:lnTo>
                    <a:pt x="10" y="192"/>
                  </a:lnTo>
                  <a:lnTo>
                    <a:pt x="13" y="173"/>
                  </a:lnTo>
                  <a:lnTo>
                    <a:pt x="15" y="156"/>
                  </a:lnTo>
                  <a:lnTo>
                    <a:pt x="18" y="139"/>
                  </a:lnTo>
                  <a:lnTo>
                    <a:pt x="21" y="122"/>
                  </a:lnTo>
                  <a:lnTo>
                    <a:pt x="24" y="105"/>
                  </a:lnTo>
                  <a:lnTo>
                    <a:pt x="26" y="89"/>
                  </a:lnTo>
                  <a:lnTo>
                    <a:pt x="28" y="74"/>
                  </a:lnTo>
                  <a:lnTo>
                    <a:pt x="30" y="60"/>
                  </a:lnTo>
                  <a:lnTo>
                    <a:pt x="31" y="47"/>
                  </a:lnTo>
                  <a:lnTo>
                    <a:pt x="32" y="37"/>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ccecff"/>
                </a:solidFill>
                <a:latin typeface="Times New Roman"/>
              </a:endParaRPr>
            </a:p>
          </p:txBody>
        </p:sp>
        <p:sp>
          <p:nvSpPr>
            <p:cNvPr id="354" name="Freeform 26"/>
            <p:cNvSpPr/>
            <p:nvPr/>
          </p:nvSpPr>
          <p:spPr>
            <a:xfrm>
              <a:off x="2209680" y="3324600"/>
              <a:ext cx="289800" cy="557280"/>
            </a:xfrm>
            <a:custGeom>
              <a:avLst/>
              <a:gdLst>
                <a:gd name="textAreaLeft" fmla="*/ 0 w 289800"/>
                <a:gd name="textAreaRight" fmla="*/ 290160 w 289800"/>
                <a:gd name="textAreaTop" fmla="*/ 0 h 557280"/>
                <a:gd name="textAreaBottom" fmla="*/ 557640 h 557280"/>
              </a:gdLst>
              <a:ahLst/>
              <a:rect l="textAreaLeft" t="textAreaTop" r="textAreaRight" b="textAreaBottom"/>
              <a:pathLst>
                <a:path w="3786" h="7464">
                  <a:moveTo>
                    <a:pt x="3236" y="1389"/>
                  </a:moveTo>
                  <a:lnTo>
                    <a:pt x="3241" y="1388"/>
                  </a:lnTo>
                  <a:lnTo>
                    <a:pt x="3248" y="1386"/>
                  </a:lnTo>
                  <a:lnTo>
                    <a:pt x="3254" y="1384"/>
                  </a:lnTo>
                  <a:lnTo>
                    <a:pt x="3260" y="1379"/>
                  </a:lnTo>
                  <a:lnTo>
                    <a:pt x="3268" y="1376"/>
                  </a:lnTo>
                  <a:lnTo>
                    <a:pt x="3274" y="1374"/>
                  </a:lnTo>
                  <a:lnTo>
                    <a:pt x="3280" y="1372"/>
                  </a:lnTo>
                  <a:lnTo>
                    <a:pt x="3285" y="1371"/>
                  </a:lnTo>
                  <a:lnTo>
                    <a:pt x="3283" y="1354"/>
                  </a:lnTo>
                  <a:lnTo>
                    <a:pt x="3275" y="1340"/>
                  </a:lnTo>
                  <a:lnTo>
                    <a:pt x="3266" y="1327"/>
                  </a:lnTo>
                  <a:lnTo>
                    <a:pt x="3255" y="1315"/>
                  </a:lnTo>
                  <a:lnTo>
                    <a:pt x="3244" y="1303"/>
                  </a:lnTo>
                  <a:lnTo>
                    <a:pt x="3235" y="1290"/>
                  </a:lnTo>
                  <a:lnTo>
                    <a:pt x="3227" y="1277"/>
                  </a:lnTo>
                  <a:lnTo>
                    <a:pt x="3225" y="1260"/>
                  </a:lnTo>
                  <a:lnTo>
                    <a:pt x="3225" y="1228"/>
                  </a:lnTo>
                  <a:lnTo>
                    <a:pt x="3230" y="1203"/>
                  </a:lnTo>
                  <a:lnTo>
                    <a:pt x="3238" y="1183"/>
                  </a:lnTo>
                  <a:lnTo>
                    <a:pt x="3246" y="1170"/>
                  </a:lnTo>
                  <a:lnTo>
                    <a:pt x="3257" y="1158"/>
                  </a:lnTo>
                  <a:lnTo>
                    <a:pt x="3270" y="1148"/>
                  </a:lnTo>
                  <a:lnTo>
                    <a:pt x="3285" y="1139"/>
                  </a:lnTo>
                  <a:lnTo>
                    <a:pt x="3302" y="1126"/>
                  </a:lnTo>
                  <a:lnTo>
                    <a:pt x="3320" y="1109"/>
                  </a:lnTo>
                  <a:lnTo>
                    <a:pt x="3330" y="1098"/>
                  </a:lnTo>
                  <a:lnTo>
                    <a:pt x="3344" y="1080"/>
                  </a:lnTo>
                  <a:lnTo>
                    <a:pt x="3361" y="1056"/>
                  </a:lnTo>
                  <a:lnTo>
                    <a:pt x="3380" y="1031"/>
                  </a:lnTo>
                  <a:lnTo>
                    <a:pt x="3398" y="1005"/>
                  </a:lnTo>
                  <a:lnTo>
                    <a:pt x="3413" y="980"/>
                  </a:lnTo>
                  <a:lnTo>
                    <a:pt x="3425" y="960"/>
                  </a:lnTo>
                  <a:lnTo>
                    <a:pt x="3432" y="945"/>
                  </a:lnTo>
                  <a:lnTo>
                    <a:pt x="3422" y="936"/>
                  </a:lnTo>
                  <a:lnTo>
                    <a:pt x="3413" y="931"/>
                  </a:lnTo>
                  <a:lnTo>
                    <a:pt x="3406" y="928"/>
                  </a:lnTo>
                  <a:lnTo>
                    <a:pt x="3398" y="928"/>
                  </a:lnTo>
                  <a:lnTo>
                    <a:pt x="3391" y="929"/>
                  </a:lnTo>
                  <a:lnTo>
                    <a:pt x="3385" y="932"/>
                  </a:lnTo>
                  <a:lnTo>
                    <a:pt x="3378" y="936"/>
                  </a:lnTo>
                  <a:lnTo>
                    <a:pt x="3372" y="942"/>
                  </a:lnTo>
                  <a:lnTo>
                    <a:pt x="3367" y="948"/>
                  </a:lnTo>
                  <a:lnTo>
                    <a:pt x="3364" y="956"/>
                  </a:lnTo>
                  <a:lnTo>
                    <a:pt x="3361" y="965"/>
                  </a:lnTo>
                  <a:lnTo>
                    <a:pt x="3358" y="976"/>
                  </a:lnTo>
                  <a:lnTo>
                    <a:pt x="3355" y="989"/>
                  </a:lnTo>
                  <a:lnTo>
                    <a:pt x="3350" y="1002"/>
                  </a:lnTo>
                  <a:lnTo>
                    <a:pt x="3345" y="1016"/>
                  </a:lnTo>
                  <a:lnTo>
                    <a:pt x="3339" y="1029"/>
                  </a:lnTo>
                  <a:lnTo>
                    <a:pt x="3332" y="1043"/>
                  </a:lnTo>
                  <a:lnTo>
                    <a:pt x="3322" y="1057"/>
                  </a:lnTo>
                  <a:lnTo>
                    <a:pt x="3312" y="1070"/>
                  </a:lnTo>
                  <a:lnTo>
                    <a:pt x="3300" y="1083"/>
                  </a:lnTo>
                  <a:lnTo>
                    <a:pt x="3285" y="1094"/>
                  </a:lnTo>
                  <a:lnTo>
                    <a:pt x="3268" y="1103"/>
                  </a:lnTo>
                  <a:lnTo>
                    <a:pt x="3248" y="1112"/>
                  </a:lnTo>
                  <a:lnTo>
                    <a:pt x="3225" y="1118"/>
                  </a:lnTo>
                  <a:lnTo>
                    <a:pt x="3218" y="1135"/>
                  </a:lnTo>
                  <a:lnTo>
                    <a:pt x="3207" y="1149"/>
                  </a:lnTo>
                  <a:lnTo>
                    <a:pt x="3194" y="1160"/>
                  </a:lnTo>
                  <a:lnTo>
                    <a:pt x="3178" y="1166"/>
                  </a:lnTo>
                  <a:lnTo>
                    <a:pt x="3162" y="1171"/>
                  </a:lnTo>
                  <a:lnTo>
                    <a:pt x="3145" y="1171"/>
                  </a:lnTo>
                  <a:lnTo>
                    <a:pt x="3128" y="1167"/>
                  </a:lnTo>
                  <a:lnTo>
                    <a:pt x="3111" y="1161"/>
                  </a:lnTo>
                  <a:lnTo>
                    <a:pt x="3103" y="1149"/>
                  </a:lnTo>
                  <a:lnTo>
                    <a:pt x="3097" y="1137"/>
                  </a:lnTo>
                  <a:lnTo>
                    <a:pt x="3093" y="1126"/>
                  </a:lnTo>
                  <a:lnTo>
                    <a:pt x="3091" y="1113"/>
                  </a:lnTo>
                  <a:lnTo>
                    <a:pt x="3090" y="1100"/>
                  </a:lnTo>
                  <a:lnTo>
                    <a:pt x="3090" y="1087"/>
                  </a:lnTo>
                  <a:lnTo>
                    <a:pt x="3090" y="1072"/>
                  </a:lnTo>
                  <a:lnTo>
                    <a:pt x="3090" y="1055"/>
                  </a:lnTo>
                  <a:lnTo>
                    <a:pt x="3043" y="1055"/>
                  </a:lnTo>
                  <a:lnTo>
                    <a:pt x="3019" y="991"/>
                  </a:lnTo>
                  <a:lnTo>
                    <a:pt x="3016" y="998"/>
                  </a:lnTo>
                  <a:lnTo>
                    <a:pt x="3012" y="1007"/>
                  </a:lnTo>
                  <a:lnTo>
                    <a:pt x="3006" y="1019"/>
                  </a:lnTo>
                  <a:lnTo>
                    <a:pt x="2999" y="1033"/>
                  </a:lnTo>
                  <a:lnTo>
                    <a:pt x="2993" y="1048"/>
                  </a:lnTo>
                  <a:lnTo>
                    <a:pt x="2990" y="1066"/>
                  </a:lnTo>
                  <a:lnTo>
                    <a:pt x="2989" y="1087"/>
                  </a:lnTo>
                  <a:lnTo>
                    <a:pt x="2992" y="1110"/>
                  </a:lnTo>
                  <a:lnTo>
                    <a:pt x="2996" y="1112"/>
                  </a:lnTo>
                  <a:lnTo>
                    <a:pt x="2999" y="1117"/>
                  </a:lnTo>
                  <a:lnTo>
                    <a:pt x="3002" y="1126"/>
                  </a:lnTo>
                  <a:lnTo>
                    <a:pt x="3006" y="1135"/>
                  </a:lnTo>
                  <a:lnTo>
                    <a:pt x="3008" y="1146"/>
                  </a:lnTo>
                  <a:lnTo>
                    <a:pt x="3011" y="1157"/>
                  </a:lnTo>
                  <a:lnTo>
                    <a:pt x="3014" y="1165"/>
                  </a:lnTo>
                  <a:lnTo>
                    <a:pt x="3019" y="1173"/>
                  </a:lnTo>
                  <a:lnTo>
                    <a:pt x="3027" y="1180"/>
                  </a:lnTo>
                  <a:lnTo>
                    <a:pt x="3035" y="1188"/>
                  </a:lnTo>
                  <a:lnTo>
                    <a:pt x="3043" y="1194"/>
                  </a:lnTo>
                  <a:lnTo>
                    <a:pt x="3052" y="1201"/>
                  </a:lnTo>
                  <a:lnTo>
                    <a:pt x="3060" y="1207"/>
                  </a:lnTo>
                  <a:lnTo>
                    <a:pt x="3069" y="1212"/>
                  </a:lnTo>
                  <a:lnTo>
                    <a:pt x="3076" y="1219"/>
                  </a:lnTo>
                  <a:lnTo>
                    <a:pt x="3085" y="1225"/>
                  </a:lnTo>
                  <a:lnTo>
                    <a:pt x="3100" y="1236"/>
                  </a:lnTo>
                  <a:lnTo>
                    <a:pt x="3114" y="1244"/>
                  </a:lnTo>
                  <a:lnTo>
                    <a:pt x="3124" y="1253"/>
                  </a:lnTo>
                  <a:lnTo>
                    <a:pt x="3133" y="1262"/>
                  </a:lnTo>
                  <a:lnTo>
                    <a:pt x="3136" y="1271"/>
                  </a:lnTo>
                  <a:lnTo>
                    <a:pt x="3136" y="1280"/>
                  </a:lnTo>
                  <a:lnTo>
                    <a:pt x="3129" y="1290"/>
                  </a:lnTo>
                  <a:lnTo>
                    <a:pt x="3115" y="1302"/>
                  </a:lnTo>
                  <a:lnTo>
                    <a:pt x="3117" y="1306"/>
                  </a:lnTo>
                  <a:lnTo>
                    <a:pt x="3120" y="1308"/>
                  </a:lnTo>
                  <a:lnTo>
                    <a:pt x="3127" y="1306"/>
                  </a:lnTo>
                  <a:lnTo>
                    <a:pt x="3134" y="1304"/>
                  </a:lnTo>
                  <a:lnTo>
                    <a:pt x="3141" y="1303"/>
                  </a:lnTo>
                  <a:lnTo>
                    <a:pt x="3147" y="1302"/>
                  </a:lnTo>
                  <a:lnTo>
                    <a:pt x="3150" y="1303"/>
                  </a:lnTo>
                  <a:lnTo>
                    <a:pt x="3152" y="1308"/>
                  </a:lnTo>
                  <a:lnTo>
                    <a:pt x="3162" y="1321"/>
                  </a:lnTo>
                  <a:lnTo>
                    <a:pt x="3173" y="1331"/>
                  </a:lnTo>
                  <a:lnTo>
                    <a:pt x="3183" y="1340"/>
                  </a:lnTo>
                  <a:lnTo>
                    <a:pt x="3194" y="1346"/>
                  </a:lnTo>
                  <a:lnTo>
                    <a:pt x="3206" y="1354"/>
                  </a:lnTo>
                  <a:lnTo>
                    <a:pt x="3215" y="1362"/>
                  </a:lnTo>
                  <a:lnTo>
                    <a:pt x="3226" y="1374"/>
                  </a:lnTo>
                  <a:lnTo>
                    <a:pt x="3236" y="1389"/>
                  </a:lnTo>
                  <a:close/>
                  <a:moveTo>
                    <a:pt x="1502" y="449"/>
                  </a:moveTo>
                  <a:lnTo>
                    <a:pt x="1502" y="479"/>
                  </a:lnTo>
                  <a:lnTo>
                    <a:pt x="1501" y="507"/>
                  </a:lnTo>
                  <a:lnTo>
                    <a:pt x="1501" y="536"/>
                  </a:lnTo>
                  <a:lnTo>
                    <a:pt x="1500" y="565"/>
                  </a:lnTo>
                  <a:lnTo>
                    <a:pt x="1499" y="593"/>
                  </a:lnTo>
                  <a:lnTo>
                    <a:pt x="1497" y="622"/>
                  </a:lnTo>
                  <a:lnTo>
                    <a:pt x="1496" y="650"/>
                  </a:lnTo>
                  <a:lnTo>
                    <a:pt x="1496" y="676"/>
                  </a:lnTo>
                  <a:lnTo>
                    <a:pt x="1495" y="704"/>
                  </a:lnTo>
                  <a:lnTo>
                    <a:pt x="1494" y="731"/>
                  </a:lnTo>
                  <a:lnTo>
                    <a:pt x="1494" y="758"/>
                  </a:lnTo>
                  <a:lnTo>
                    <a:pt x="1494" y="785"/>
                  </a:lnTo>
                  <a:lnTo>
                    <a:pt x="1495" y="811"/>
                  </a:lnTo>
                  <a:lnTo>
                    <a:pt x="1495" y="837"/>
                  </a:lnTo>
                  <a:lnTo>
                    <a:pt x="1496" y="864"/>
                  </a:lnTo>
                  <a:lnTo>
                    <a:pt x="1499" y="889"/>
                  </a:lnTo>
                  <a:lnTo>
                    <a:pt x="1501" y="915"/>
                  </a:lnTo>
                  <a:lnTo>
                    <a:pt x="1504" y="941"/>
                  </a:lnTo>
                  <a:lnTo>
                    <a:pt x="1508" y="966"/>
                  </a:lnTo>
                  <a:lnTo>
                    <a:pt x="1512" y="991"/>
                  </a:lnTo>
                  <a:lnTo>
                    <a:pt x="1518" y="1017"/>
                  </a:lnTo>
                  <a:lnTo>
                    <a:pt x="1524" y="1041"/>
                  </a:lnTo>
                  <a:lnTo>
                    <a:pt x="1531" y="1066"/>
                  </a:lnTo>
                  <a:lnTo>
                    <a:pt x="1539" y="1090"/>
                  </a:lnTo>
                  <a:lnTo>
                    <a:pt x="1549" y="1115"/>
                  </a:lnTo>
                  <a:lnTo>
                    <a:pt x="1558" y="1140"/>
                  </a:lnTo>
                  <a:lnTo>
                    <a:pt x="1570" y="1164"/>
                  </a:lnTo>
                  <a:lnTo>
                    <a:pt x="1583" y="1189"/>
                  </a:lnTo>
                  <a:lnTo>
                    <a:pt x="1597" y="1212"/>
                  </a:lnTo>
                  <a:lnTo>
                    <a:pt x="1612" y="1237"/>
                  </a:lnTo>
                  <a:lnTo>
                    <a:pt x="1629" y="1260"/>
                  </a:lnTo>
                  <a:lnTo>
                    <a:pt x="1647" y="1285"/>
                  </a:lnTo>
                  <a:lnTo>
                    <a:pt x="1651" y="1289"/>
                  </a:lnTo>
                  <a:lnTo>
                    <a:pt x="1658" y="1300"/>
                  </a:lnTo>
                  <a:lnTo>
                    <a:pt x="1670" y="1316"/>
                  </a:lnTo>
                  <a:lnTo>
                    <a:pt x="1686" y="1339"/>
                  </a:lnTo>
                  <a:lnTo>
                    <a:pt x="1704" y="1364"/>
                  </a:lnTo>
                  <a:lnTo>
                    <a:pt x="1725" y="1393"/>
                  </a:lnTo>
                  <a:lnTo>
                    <a:pt x="1748" y="1423"/>
                  </a:lnTo>
                  <a:lnTo>
                    <a:pt x="1770" y="1455"/>
                  </a:lnTo>
                  <a:lnTo>
                    <a:pt x="1793" y="1487"/>
                  </a:lnTo>
                  <a:lnTo>
                    <a:pt x="1815" y="1517"/>
                  </a:lnTo>
                  <a:lnTo>
                    <a:pt x="1837" y="1546"/>
                  </a:lnTo>
                  <a:lnTo>
                    <a:pt x="1855" y="1572"/>
                  </a:lnTo>
                  <a:lnTo>
                    <a:pt x="1871" y="1594"/>
                  </a:lnTo>
                  <a:lnTo>
                    <a:pt x="1883" y="1610"/>
                  </a:lnTo>
                  <a:lnTo>
                    <a:pt x="1890" y="1621"/>
                  </a:lnTo>
                  <a:lnTo>
                    <a:pt x="1894" y="1625"/>
                  </a:lnTo>
                  <a:lnTo>
                    <a:pt x="1904" y="1651"/>
                  </a:lnTo>
                  <a:lnTo>
                    <a:pt x="1916" y="1672"/>
                  </a:lnTo>
                  <a:lnTo>
                    <a:pt x="1931" y="1693"/>
                  </a:lnTo>
                  <a:lnTo>
                    <a:pt x="1947" y="1710"/>
                  </a:lnTo>
                  <a:lnTo>
                    <a:pt x="1965" y="1725"/>
                  </a:lnTo>
                  <a:lnTo>
                    <a:pt x="1985" y="1739"/>
                  </a:lnTo>
                  <a:lnTo>
                    <a:pt x="2004" y="1751"/>
                  </a:lnTo>
                  <a:lnTo>
                    <a:pt x="2025" y="1762"/>
                  </a:lnTo>
                  <a:lnTo>
                    <a:pt x="2046" y="1774"/>
                  </a:lnTo>
                  <a:lnTo>
                    <a:pt x="2066" y="1785"/>
                  </a:lnTo>
                  <a:lnTo>
                    <a:pt x="2086" y="1795"/>
                  </a:lnTo>
                  <a:lnTo>
                    <a:pt x="2107" y="1806"/>
                  </a:lnTo>
                  <a:lnTo>
                    <a:pt x="2126" y="1819"/>
                  </a:lnTo>
                  <a:lnTo>
                    <a:pt x="2144" y="1832"/>
                  </a:lnTo>
                  <a:lnTo>
                    <a:pt x="2160" y="1847"/>
                  </a:lnTo>
                  <a:lnTo>
                    <a:pt x="2175" y="1864"/>
                  </a:lnTo>
                  <a:lnTo>
                    <a:pt x="2174" y="1889"/>
                  </a:lnTo>
                  <a:lnTo>
                    <a:pt x="2173" y="1912"/>
                  </a:lnTo>
                  <a:lnTo>
                    <a:pt x="2171" y="1932"/>
                  </a:lnTo>
                  <a:lnTo>
                    <a:pt x="2168" y="1951"/>
                  </a:lnTo>
                  <a:lnTo>
                    <a:pt x="2163" y="1970"/>
                  </a:lnTo>
                  <a:lnTo>
                    <a:pt x="2159" y="1986"/>
                  </a:lnTo>
                  <a:lnTo>
                    <a:pt x="2155" y="2002"/>
                  </a:lnTo>
                  <a:lnTo>
                    <a:pt x="2150" y="2018"/>
                  </a:lnTo>
                  <a:lnTo>
                    <a:pt x="2146" y="2035"/>
                  </a:lnTo>
                  <a:lnTo>
                    <a:pt x="2142" y="2052"/>
                  </a:lnTo>
                  <a:lnTo>
                    <a:pt x="2138" y="2071"/>
                  </a:lnTo>
                  <a:lnTo>
                    <a:pt x="2133" y="2091"/>
                  </a:lnTo>
                  <a:lnTo>
                    <a:pt x="2130" y="2113"/>
                  </a:lnTo>
                  <a:lnTo>
                    <a:pt x="2128" y="2139"/>
                  </a:lnTo>
                  <a:lnTo>
                    <a:pt x="2127" y="2166"/>
                  </a:lnTo>
                  <a:lnTo>
                    <a:pt x="2126" y="2197"/>
                  </a:lnTo>
                  <a:lnTo>
                    <a:pt x="2150" y="2180"/>
                  </a:lnTo>
                  <a:lnTo>
                    <a:pt x="2173" y="2160"/>
                  </a:lnTo>
                  <a:lnTo>
                    <a:pt x="2192" y="2137"/>
                  </a:lnTo>
                  <a:lnTo>
                    <a:pt x="2208" y="2112"/>
                  </a:lnTo>
                  <a:lnTo>
                    <a:pt x="2221" y="2085"/>
                  </a:lnTo>
                  <a:lnTo>
                    <a:pt x="2233" y="2057"/>
                  </a:lnTo>
                  <a:lnTo>
                    <a:pt x="2241" y="2028"/>
                  </a:lnTo>
                  <a:lnTo>
                    <a:pt x="2247" y="2000"/>
                  </a:lnTo>
                  <a:lnTo>
                    <a:pt x="2250" y="1970"/>
                  </a:lnTo>
                  <a:lnTo>
                    <a:pt x="2251" y="1941"/>
                  </a:lnTo>
                  <a:lnTo>
                    <a:pt x="2250" y="1913"/>
                  </a:lnTo>
                  <a:lnTo>
                    <a:pt x="2247" y="1886"/>
                  </a:lnTo>
                  <a:lnTo>
                    <a:pt x="2241" y="1862"/>
                  </a:lnTo>
                  <a:lnTo>
                    <a:pt x="2233" y="1838"/>
                  </a:lnTo>
                  <a:lnTo>
                    <a:pt x="2223" y="1818"/>
                  </a:lnTo>
                  <a:lnTo>
                    <a:pt x="2211" y="1800"/>
                  </a:lnTo>
                  <a:lnTo>
                    <a:pt x="2194" y="1779"/>
                  </a:lnTo>
                  <a:lnTo>
                    <a:pt x="2177" y="1761"/>
                  </a:lnTo>
                  <a:lnTo>
                    <a:pt x="2159" y="1745"/>
                  </a:lnTo>
                  <a:lnTo>
                    <a:pt x="2140" y="1729"/>
                  </a:lnTo>
                  <a:lnTo>
                    <a:pt x="2120" y="1714"/>
                  </a:lnTo>
                  <a:lnTo>
                    <a:pt x="2100" y="1700"/>
                  </a:lnTo>
                  <a:lnTo>
                    <a:pt x="2080" y="1687"/>
                  </a:lnTo>
                  <a:lnTo>
                    <a:pt x="2061" y="1674"/>
                  </a:lnTo>
                  <a:lnTo>
                    <a:pt x="2040" y="1662"/>
                  </a:lnTo>
                  <a:lnTo>
                    <a:pt x="2020" y="1649"/>
                  </a:lnTo>
                  <a:lnTo>
                    <a:pt x="2002" y="1636"/>
                  </a:lnTo>
                  <a:lnTo>
                    <a:pt x="1982" y="1623"/>
                  </a:lnTo>
                  <a:lnTo>
                    <a:pt x="1965" y="1609"/>
                  </a:lnTo>
                  <a:lnTo>
                    <a:pt x="1948" y="1593"/>
                  </a:lnTo>
                  <a:lnTo>
                    <a:pt x="1932" y="1577"/>
                  </a:lnTo>
                  <a:lnTo>
                    <a:pt x="1918" y="1560"/>
                  </a:lnTo>
                  <a:lnTo>
                    <a:pt x="1899" y="1535"/>
                  </a:lnTo>
                  <a:lnTo>
                    <a:pt x="1883" y="1508"/>
                  </a:lnTo>
                  <a:lnTo>
                    <a:pt x="1869" y="1477"/>
                  </a:lnTo>
                  <a:lnTo>
                    <a:pt x="1856" y="1444"/>
                  </a:lnTo>
                  <a:lnTo>
                    <a:pt x="1844" y="1410"/>
                  </a:lnTo>
                  <a:lnTo>
                    <a:pt x="1835" y="1377"/>
                  </a:lnTo>
                  <a:lnTo>
                    <a:pt x="1825" y="1344"/>
                  </a:lnTo>
                  <a:lnTo>
                    <a:pt x="1816" y="1313"/>
                  </a:lnTo>
                  <a:lnTo>
                    <a:pt x="1807" y="1284"/>
                  </a:lnTo>
                  <a:lnTo>
                    <a:pt x="1798" y="1258"/>
                  </a:lnTo>
                  <a:lnTo>
                    <a:pt x="1789" y="1236"/>
                  </a:lnTo>
                  <a:lnTo>
                    <a:pt x="1779" y="1219"/>
                  </a:lnTo>
                  <a:lnTo>
                    <a:pt x="1767" y="1206"/>
                  </a:lnTo>
                  <a:lnTo>
                    <a:pt x="1754" y="1201"/>
                  </a:lnTo>
                  <a:lnTo>
                    <a:pt x="1739" y="1202"/>
                  </a:lnTo>
                  <a:lnTo>
                    <a:pt x="1723" y="1211"/>
                  </a:lnTo>
                  <a:lnTo>
                    <a:pt x="1721" y="1178"/>
                  </a:lnTo>
                  <a:lnTo>
                    <a:pt x="1716" y="1146"/>
                  </a:lnTo>
                  <a:lnTo>
                    <a:pt x="1707" y="1114"/>
                  </a:lnTo>
                  <a:lnTo>
                    <a:pt x="1697" y="1083"/>
                  </a:lnTo>
                  <a:lnTo>
                    <a:pt x="1685" y="1052"/>
                  </a:lnTo>
                  <a:lnTo>
                    <a:pt x="1671" y="1021"/>
                  </a:lnTo>
                  <a:lnTo>
                    <a:pt x="1657" y="990"/>
                  </a:lnTo>
                  <a:lnTo>
                    <a:pt x="1643" y="959"/>
                  </a:lnTo>
                  <a:lnTo>
                    <a:pt x="1629" y="928"/>
                  </a:lnTo>
                  <a:lnTo>
                    <a:pt x="1617" y="896"/>
                  </a:lnTo>
                  <a:lnTo>
                    <a:pt x="1607" y="864"/>
                  </a:lnTo>
                  <a:lnTo>
                    <a:pt x="1598" y="831"/>
                  </a:lnTo>
                  <a:lnTo>
                    <a:pt x="1593" y="796"/>
                  </a:lnTo>
                  <a:lnTo>
                    <a:pt x="1591" y="761"/>
                  </a:lnTo>
                  <a:lnTo>
                    <a:pt x="1594" y="726"/>
                  </a:lnTo>
                  <a:lnTo>
                    <a:pt x="1600" y="688"/>
                  </a:lnTo>
                  <a:lnTo>
                    <a:pt x="1595" y="675"/>
                  </a:lnTo>
                  <a:lnTo>
                    <a:pt x="1590" y="663"/>
                  </a:lnTo>
                  <a:lnTo>
                    <a:pt x="1584" y="648"/>
                  </a:lnTo>
                  <a:lnTo>
                    <a:pt x="1578" y="633"/>
                  </a:lnTo>
                  <a:lnTo>
                    <a:pt x="1571" y="618"/>
                  </a:lnTo>
                  <a:lnTo>
                    <a:pt x="1565" y="602"/>
                  </a:lnTo>
                  <a:lnTo>
                    <a:pt x="1557" y="584"/>
                  </a:lnTo>
                  <a:lnTo>
                    <a:pt x="1551" y="568"/>
                  </a:lnTo>
                  <a:lnTo>
                    <a:pt x="1545" y="552"/>
                  </a:lnTo>
                  <a:lnTo>
                    <a:pt x="1537" y="535"/>
                  </a:lnTo>
                  <a:lnTo>
                    <a:pt x="1531" y="519"/>
                  </a:lnTo>
                  <a:lnTo>
                    <a:pt x="1524" y="504"/>
                  </a:lnTo>
                  <a:lnTo>
                    <a:pt x="1518" y="489"/>
                  </a:lnTo>
                  <a:lnTo>
                    <a:pt x="1512" y="474"/>
                  </a:lnTo>
                  <a:lnTo>
                    <a:pt x="1507" y="461"/>
                  </a:lnTo>
                  <a:lnTo>
                    <a:pt x="1502" y="449"/>
                  </a:lnTo>
                  <a:close/>
                  <a:moveTo>
                    <a:pt x="1174" y="35"/>
                  </a:moveTo>
                  <a:lnTo>
                    <a:pt x="1174" y="65"/>
                  </a:lnTo>
                  <a:lnTo>
                    <a:pt x="1173" y="95"/>
                  </a:lnTo>
                  <a:lnTo>
                    <a:pt x="1173" y="125"/>
                  </a:lnTo>
                  <a:lnTo>
                    <a:pt x="1172" y="155"/>
                  </a:lnTo>
                  <a:lnTo>
                    <a:pt x="1172" y="184"/>
                  </a:lnTo>
                  <a:lnTo>
                    <a:pt x="1171" y="214"/>
                  </a:lnTo>
                  <a:lnTo>
                    <a:pt x="1171" y="244"/>
                  </a:lnTo>
                  <a:lnTo>
                    <a:pt x="1170" y="273"/>
                  </a:lnTo>
                  <a:lnTo>
                    <a:pt x="1170" y="303"/>
                  </a:lnTo>
                  <a:lnTo>
                    <a:pt x="1171" y="333"/>
                  </a:lnTo>
                  <a:lnTo>
                    <a:pt x="1171" y="363"/>
                  </a:lnTo>
                  <a:lnTo>
                    <a:pt x="1173" y="393"/>
                  </a:lnTo>
                  <a:lnTo>
                    <a:pt x="1175" y="423"/>
                  </a:lnTo>
                  <a:lnTo>
                    <a:pt x="1177" y="453"/>
                  </a:lnTo>
                  <a:lnTo>
                    <a:pt x="1181" y="483"/>
                  </a:lnTo>
                  <a:lnTo>
                    <a:pt x="1185" y="513"/>
                  </a:lnTo>
                  <a:lnTo>
                    <a:pt x="1187" y="544"/>
                  </a:lnTo>
                  <a:lnTo>
                    <a:pt x="1185" y="574"/>
                  </a:lnTo>
                  <a:lnTo>
                    <a:pt x="1181" y="601"/>
                  </a:lnTo>
                  <a:lnTo>
                    <a:pt x="1172" y="626"/>
                  </a:lnTo>
                  <a:lnTo>
                    <a:pt x="1161" y="650"/>
                  </a:lnTo>
                  <a:lnTo>
                    <a:pt x="1149" y="673"/>
                  </a:lnTo>
                  <a:lnTo>
                    <a:pt x="1135" y="695"/>
                  </a:lnTo>
                  <a:lnTo>
                    <a:pt x="1121" y="717"/>
                  </a:lnTo>
                  <a:lnTo>
                    <a:pt x="1106" y="739"/>
                  </a:lnTo>
                  <a:lnTo>
                    <a:pt x="1091" y="760"/>
                  </a:lnTo>
                  <a:lnTo>
                    <a:pt x="1077" y="782"/>
                  </a:lnTo>
                  <a:lnTo>
                    <a:pt x="1065" y="805"/>
                  </a:lnTo>
                  <a:lnTo>
                    <a:pt x="1054" y="828"/>
                  </a:lnTo>
                  <a:lnTo>
                    <a:pt x="1046" y="854"/>
                  </a:lnTo>
                  <a:lnTo>
                    <a:pt x="1040" y="881"/>
                  </a:lnTo>
                  <a:lnTo>
                    <a:pt x="1038" y="910"/>
                  </a:lnTo>
                  <a:lnTo>
                    <a:pt x="1037" y="899"/>
                  </a:lnTo>
                  <a:lnTo>
                    <a:pt x="1037" y="884"/>
                  </a:lnTo>
                  <a:lnTo>
                    <a:pt x="1040" y="867"/>
                  </a:lnTo>
                  <a:lnTo>
                    <a:pt x="1044" y="845"/>
                  </a:lnTo>
                  <a:lnTo>
                    <a:pt x="1048" y="823"/>
                  </a:lnTo>
                  <a:lnTo>
                    <a:pt x="1054" y="799"/>
                  </a:lnTo>
                  <a:lnTo>
                    <a:pt x="1061" y="774"/>
                  </a:lnTo>
                  <a:lnTo>
                    <a:pt x="1067" y="747"/>
                  </a:lnTo>
                  <a:lnTo>
                    <a:pt x="1075" y="720"/>
                  </a:lnTo>
                  <a:lnTo>
                    <a:pt x="1081" y="694"/>
                  </a:lnTo>
                  <a:lnTo>
                    <a:pt x="1089" y="667"/>
                  </a:lnTo>
                  <a:lnTo>
                    <a:pt x="1095" y="641"/>
                  </a:lnTo>
                  <a:lnTo>
                    <a:pt x="1100" y="618"/>
                  </a:lnTo>
                  <a:lnTo>
                    <a:pt x="1106" y="596"/>
                  </a:lnTo>
                  <a:lnTo>
                    <a:pt x="1110" y="577"/>
                  </a:lnTo>
                  <a:lnTo>
                    <a:pt x="1112" y="560"/>
                  </a:lnTo>
                  <a:lnTo>
                    <a:pt x="1116" y="520"/>
                  </a:lnTo>
                  <a:lnTo>
                    <a:pt x="1121" y="483"/>
                  </a:lnTo>
                  <a:lnTo>
                    <a:pt x="1123" y="448"/>
                  </a:lnTo>
                  <a:lnTo>
                    <a:pt x="1125" y="414"/>
                  </a:lnTo>
                  <a:lnTo>
                    <a:pt x="1127" y="382"/>
                  </a:lnTo>
                  <a:lnTo>
                    <a:pt x="1129" y="352"/>
                  </a:lnTo>
                  <a:lnTo>
                    <a:pt x="1130" y="322"/>
                  </a:lnTo>
                  <a:lnTo>
                    <a:pt x="1132" y="292"/>
                  </a:lnTo>
                  <a:lnTo>
                    <a:pt x="1135" y="264"/>
                  </a:lnTo>
                  <a:lnTo>
                    <a:pt x="1137" y="235"/>
                  </a:lnTo>
                  <a:lnTo>
                    <a:pt x="1141" y="205"/>
                  </a:lnTo>
                  <a:lnTo>
                    <a:pt x="1145" y="174"/>
                  </a:lnTo>
                  <a:lnTo>
                    <a:pt x="1150" y="142"/>
                  </a:lnTo>
                  <a:lnTo>
                    <a:pt x="1157" y="107"/>
                  </a:lnTo>
                  <a:lnTo>
                    <a:pt x="1165" y="72"/>
                  </a:lnTo>
                  <a:lnTo>
                    <a:pt x="1174" y="35"/>
                  </a:lnTo>
                  <a:close/>
                  <a:moveTo>
                    <a:pt x="575" y="2070"/>
                  </a:moveTo>
                  <a:lnTo>
                    <a:pt x="557" y="2060"/>
                  </a:lnTo>
                  <a:lnTo>
                    <a:pt x="537" y="2046"/>
                  </a:lnTo>
                  <a:lnTo>
                    <a:pt x="519" y="2028"/>
                  </a:lnTo>
                  <a:lnTo>
                    <a:pt x="500" y="2009"/>
                  </a:lnTo>
                  <a:lnTo>
                    <a:pt x="481" y="1988"/>
                  </a:lnTo>
                  <a:lnTo>
                    <a:pt x="462" y="1964"/>
                  </a:lnTo>
                  <a:lnTo>
                    <a:pt x="443" y="1940"/>
                  </a:lnTo>
                  <a:lnTo>
                    <a:pt x="425" y="1914"/>
                  </a:lnTo>
                  <a:lnTo>
                    <a:pt x="407" y="1887"/>
                  </a:lnTo>
                  <a:lnTo>
                    <a:pt x="389" y="1862"/>
                  </a:lnTo>
                  <a:lnTo>
                    <a:pt x="371" y="1835"/>
                  </a:lnTo>
                  <a:lnTo>
                    <a:pt x="354" y="1809"/>
                  </a:lnTo>
                  <a:lnTo>
                    <a:pt x="338" y="1785"/>
                  </a:lnTo>
                  <a:lnTo>
                    <a:pt x="322" y="1761"/>
                  </a:lnTo>
                  <a:lnTo>
                    <a:pt x="307" y="1740"/>
                  </a:lnTo>
                  <a:lnTo>
                    <a:pt x="293" y="1720"/>
                  </a:lnTo>
                  <a:lnTo>
                    <a:pt x="268" y="1684"/>
                  </a:lnTo>
                  <a:lnTo>
                    <a:pt x="243" y="1648"/>
                  </a:lnTo>
                  <a:lnTo>
                    <a:pt x="221" y="1610"/>
                  </a:lnTo>
                  <a:lnTo>
                    <a:pt x="200" y="1573"/>
                  </a:lnTo>
                  <a:lnTo>
                    <a:pt x="181" y="1534"/>
                  </a:lnTo>
                  <a:lnTo>
                    <a:pt x="164" y="1496"/>
                  </a:lnTo>
                  <a:lnTo>
                    <a:pt x="148" y="1456"/>
                  </a:lnTo>
                  <a:lnTo>
                    <a:pt x="132" y="1417"/>
                  </a:lnTo>
                  <a:lnTo>
                    <a:pt x="118" y="1377"/>
                  </a:lnTo>
                  <a:lnTo>
                    <a:pt x="104" y="1338"/>
                  </a:lnTo>
                  <a:lnTo>
                    <a:pt x="90" y="1298"/>
                  </a:lnTo>
                  <a:lnTo>
                    <a:pt x="77" y="1258"/>
                  </a:lnTo>
                  <a:lnTo>
                    <a:pt x="64" y="1218"/>
                  </a:lnTo>
                  <a:lnTo>
                    <a:pt x="51" y="1178"/>
                  </a:lnTo>
                  <a:lnTo>
                    <a:pt x="39" y="1140"/>
                  </a:lnTo>
                  <a:lnTo>
                    <a:pt x="25" y="1100"/>
                  </a:lnTo>
                  <a:lnTo>
                    <a:pt x="0" y="1070"/>
                  </a:lnTo>
                  <a:lnTo>
                    <a:pt x="1" y="1051"/>
                  </a:lnTo>
                  <a:lnTo>
                    <a:pt x="5" y="1031"/>
                  </a:lnTo>
                  <a:lnTo>
                    <a:pt x="12" y="1009"/>
                  </a:lnTo>
                  <a:lnTo>
                    <a:pt x="19" y="986"/>
                  </a:lnTo>
                  <a:lnTo>
                    <a:pt x="29" y="962"/>
                  </a:lnTo>
                  <a:lnTo>
                    <a:pt x="41" y="937"/>
                  </a:lnTo>
                  <a:lnTo>
                    <a:pt x="52" y="913"/>
                  </a:lnTo>
                  <a:lnTo>
                    <a:pt x="64" y="888"/>
                  </a:lnTo>
                  <a:lnTo>
                    <a:pt x="77" y="864"/>
                  </a:lnTo>
                  <a:lnTo>
                    <a:pt x="90" y="840"/>
                  </a:lnTo>
                  <a:lnTo>
                    <a:pt x="102" y="817"/>
                  </a:lnTo>
                  <a:lnTo>
                    <a:pt x="113" y="794"/>
                  </a:lnTo>
                  <a:lnTo>
                    <a:pt x="124" y="773"/>
                  </a:lnTo>
                  <a:lnTo>
                    <a:pt x="134" y="753"/>
                  </a:lnTo>
                  <a:lnTo>
                    <a:pt x="141" y="735"/>
                  </a:lnTo>
                  <a:lnTo>
                    <a:pt x="147" y="719"/>
                  </a:lnTo>
                  <a:lnTo>
                    <a:pt x="150" y="741"/>
                  </a:lnTo>
                  <a:lnTo>
                    <a:pt x="155" y="757"/>
                  </a:lnTo>
                  <a:lnTo>
                    <a:pt x="165" y="767"/>
                  </a:lnTo>
                  <a:lnTo>
                    <a:pt x="176" y="775"/>
                  </a:lnTo>
                  <a:lnTo>
                    <a:pt x="187" y="780"/>
                  </a:lnTo>
                  <a:lnTo>
                    <a:pt x="200" y="783"/>
                  </a:lnTo>
                  <a:lnTo>
                    <a:pt x="213" y="787"/>
                  </a:lnTo>
                  <a:lnTo>
                    <a:pt x="224" y="791"/>
                  </a:lnTo>
                  <a:lnTo>
                    <a:pt x="235" y="797"/>
                  </a:lnTo>
                  <a:lnTo>
                    <a:pt x="246" y="804"/>
                  </a:lnTo>
                  <a:lnTo>
                    <a:pt x="258" y="811"/>
                  </a:lnTo>
                  <a:lnTo>
                    <a:pt x="270" y="820"/>
                  </a:lnTo>
                  <a:lnTo>
                    <a:pt x="280" y="828"/>
                  </a:lnTo>
                  <a:lnTo>
                    <a:pt x="291" y="837"/>
                  </a:lnTo>
                  <a:lnTo>
                    <a:pt x="302" y="847"/>
                  </a:lnTo>
                  <a:lnTo>
                    <a:pt x="311" y="855"/>
                  </a:lnTo>
                  <a:lnTo>
                    <a:pt x="319" y="863"/>
                  </a:lnTo>
                  <a:lnTo>
                    <a:pt x="328" y="873"/>
                  </a:lnTo>
                  <a:lnTo>
                    <a:pt x="337" y="885"/>
                  </a:lnTo>
                  <a:lnTo>
                    <a:pt x="346" y="896"/>
                  </a:lnTo>
                  <a:lnTo>
                    <a:pt x="353" y="906"/>
                  </a:lnTo>
                  <a:lnTo>
                    <a:pt x="358" y="913"/>
                  </a:lnTo>
                  <a:lnTo>
                    <a:pt x="359" y="916"/>
                  </a:lnTo>
                  <a:lnTo>
                    <a:pt x="355" y="914"/>
                  </a:lnTo>
                  <a:lnTo>
                    <a:pt x="344" y="905"/>
                  </a:lnTo>
                  <a:lnTo>
                    <a:pt x="332" y="899"/>
                  </a:lnTo>
                  <a:lnTo>
                    <a:pt x="320" y="894"/>
                  </a:lnTo>
                  <a:lnTo>
                    <a:pt x="309" y="889"/>
                  </a:lnTo>
                  <a:lnTo>
                    <a:pt x="299" y="886"/>
                  </a:lnTo>
                  <a:lnTo>
                    <a:pt x="288" y="884"/>
                  </a:lnTo>
                  <a:lnTo>
                    <a:pt x="277" y="883"/>
                  </a:lnTo>
                  <a:lnTo>
                    <a:pt x="267" y="882"/>
                  </a:lnTo>
                  <a:lnTo>
                    <a:pt x="256" y="882"/>
                  </a:lnTo>
                  <a:lnTo>
                    <a:pt x="245" y="881"/>
                  </a:lnTo>
                  <a:lnTo>
                    <a:pt x="235" y="881"/>
                  </a:lnTo>
                  <a:lnTo>
                    <a:pt x="225" y="880"/>
                  </a:lnTo>
                  <a:lnTo>
                    <a:pt x="214" y="878"/>
                  </a:lnTo>
                  <a:lnTo>
                    <a:pt x="203" y="875"/>
                  </a:lnTo>
                  <a:lnTo>
                    <a:pt x="192" y="872"/>
                  </a:lnTo>
                  <a:lnTo>
                    <a:pt x="181" y="868"/>
                  </a:lnTo>
                  <a:lnTo>
                    <a:pt x="177" y="864"/>
                  </a:lnTo>
                  <a:lnTo>
                    <a:pt x="169" y="858"/>
                  </a:lnTo>
                  <a:lnTo>
                    <a:pt x="161" y="854"/>
                  </a:lnTo>
                  <a:lnTo>
                    <a:pt x="151" y="850"/>
                  </a:lnTo>
                  <a:lnTo>
                    <a:pt x="142" y="845"/>
                  </a:lnTo>
                  <a:lnTo>
                    <a:pt x="134" y="840"/>
                  </a:lnTo>
                  <a:lnTo>
                    <a:pt x="127" y="835"/>
                  </a:lnTo>
                  <a:lnTo>
                    <a:pt x="124" y="828"/>
                  </a:lnTo>
                  <a:lnTo>
                    <a:pt x="120" y="873"/>
                  </a:lnTo>
                  <a:lnTo>
                    <a:pt x="120" y="912"/>
                  </a:lnTo>
                  <a:lnTo>
                    <a:pt x="122" y="947"/>
                  </a:lnTo>
                  <a:lnTo>
                    <a:pt x="127" y="978"/>
                  </a:lnTo>
                  <a:lnTo>
                    <a:pt x="135" y="1006"/>
                  </a:lnTo>
                  <a:lnTo>
                    <a:pt x="145" y="1031"/>
                  </a:lnTo>
                  <a:lnTo>
                    <a:pt x="157" y="1053"/>
                  </a:lnTo>
                  <a:lnTo>
                    <a:pt x="172" y="1073"/>
                  </a:lnTo>
                  <a:lnTo>
                    <a:pt x="189" y="1093"/>
                  </a:lnTo>
                  <a:lnTo>
                    <a:pt x="209" y="1112"/>
                  </a:lnTo>
                  <a:lnTo>
                    <a:pt x="230" y="1130"/>
                  </a:lnTo>
                  <a:lnTo>
                    <a:pt x="253" y="1148"/>
                  </a:lnTo>
                  <a:lnTo>
                    <a:pt x="276" y="1167"/>
                  </a:lnTo>
                  <a:lnTo>
                    <a:pt x="302" y="1189"/>
                  </a:lnTo>
                  <a:lnTo>
                    <a:pt x="330" y="1211"/>
                  </a:lnTo>
                  <a:lnTo>
                    <a:pt x="358" y="1237"/>
                  </a:lnTo>
                  <a:lnTo>
                    <a:pt x="346" y="1248"/>
                  </a:lnTo>
                  <a:lnTo>
                    <a:pt x="329" y="1257"/>
                  </a:lnTo>
                  <a:lnTo>
                    <a:pt x="309" y="1264"/>
                  </a:lnTo>
                  <a:lnTo>
                    <a:pt x="289" y="1270"/>
                  </a:lnTo>
                  <a:lnTo>
                    <a:pt x="268" y="1275"/>
                  </a:lnTo>
                  <a:lnTo>
                    <a:pt x="248" y="1281"/>
                  </a:lnTo>
                  <a:lnTo>
                    <a:pt x="231" y="1286"/>
                  </a:lnTo>
                  <a:lnTo>
                    <a:pt x="219" y="1292"/>
                  </a:lnTo>
                  <a:lnTo>
                    <a:pt x="229" y="1292"/>
                  </a:lnTo>
                  <a:lnTo>
                    <a:pt x="240" y="1290"/>
                  </a:lnTo>
                  <a:lnTo>
                    <a:pt x="250" y="1289"/>
                  </a:lnTo>
                  <a:lnTo>
                    <a:pt x="262" y="1288"/>
                  </a:lnTo>
                  <a:lnTo>
                    <a:pt x="274" y="1287"/>
                  </a:lnTo>
                  <a:lnTo>
                    <a:pt x="286" y="1286"/>
                  </a:lnTo>
                  <a:lnTo>
                    <a:pt x="298" y="1285"/>
                  </a:lnTo>
                  <a:lnTo>
                    <a:pt x="310" y="1285"/>
                  </a:lnTo>
                  <a:lnTo>
                    <a:pt x="322" y="1285"/>
                  </a:lnTo>
                  <a:lnTo>
                    <a:pt x="334" y="1285"/>
                  </a:lnTo>
                  <a:lnTo>
                    <a:pt x="345" y="1286"/>
                  </a:lnTo>
                  <a:lnTo>
                    <a:pt x="355" y="1288"/>
                  </a:lnTo>
                  <a:lnTo>
                    <a:pt x="366" y="1292"/>
                  </a:lnTo>
                  <a:lnTo>
                    <a:pt x="375" y="1296"/>
                  </a:lnTo>
                  <a:lnTo>
                    <a:pt x="383" y="1301"/>
                  </a:lnTo>
                  <a:lnTo>
                    <a:pt x="391" y="1308"/>
                  </a:lnTo>
                  <a:lnTo>
                    <a:pt x="341" y="1308"/>
                  </a:lnTo>
                  <a:lnTo>
                    <a:pt x="349" y="1317"/>
                  </a:lnTo>
                  <a:lnTo>
                    <a:pt x="358" y="1328"/>
                  </a:lnTo>
                  <a:lnTo>
                    <a:pt x="367" y="1340"/>
                  </a:lnTo>
                  <a:lnTo>
                    <a:pt x="377" y="1352"/>
                  </a:lnTo>
                  <a:lnTo>
                    <a:pt x="387" y="1366"/>
                  </a:lnTo>
                  <a:lnTo>
                    <a:pt x="398" y="1380"/>
                  </a:lnTo>
                  <a:lnTo>
                    <a:pt x="409" y="1394"/>
                  </a:lnTo>
                  <a:lnTo>
                    <a:pt x="420" y="1409"/>
                  </a:lnTo>
                  <a:lnTo>
                    <a:pt x="430" y="1424"/>
                  </a:lnTo>
                  <a:lnTo>
                    <a:pt x="440" y="1439"/>
                  </a:lnTo>
                  <a:lnTo>
                    <a:pt x="448" y="1454"/>
                  </a:lnTo>
                  <a:lnTo>
                    <a:pt x="456" y="1469"/>
                  </a:lnTo>
                  <a:lnTo>
                    <a:pt x="462" y="1483"/>
                  </a:lnTo>
                  <a:lnTo>
                    <a:pt x="467" y="1497"/>
                  </a:lnTo>
                  <a:lnTo>
                    <a:pt x="470" y="1510"/>
                  </a:lnTo>
                  <a:lnTo>
                    <a:pt x="471" y="1521"/>
                  </a:lnTo>
                  <a:lnTo>
                    <a:pt x="472" y="1523"/>
                  </a:lnTo>
                  <a:lnTo>
                    <a:pt x="477" y="1526"/>
                  </a:lnTo>
                  <a:lnTo>
                    <a:pt x="487" y="1530"/>
                  </a:lnTo>
                  <a:lnTo>
                    <a:pt x="499" y="1535"/>
                  </a:lnTo>
                  <a:lnTo>
                    <a:pt x="513" y="1542"/>
                  </a:lnTo>
                  <a:lnTo>
                    <a:pt x="529" y="1549"/>
                  </a:lnTo>
                  <a:lnTo>
                    <a:pt x="546" y="1558"/>
                  </a:lnTo>
                  <a:lnTo>
                    <a:pt x="563" y="1565"/>
                  </a:lnTo>
                  <a:lnTo>
                    <a:pt x="581" y="1574"/>
                  </a:lnTo>
                  <a:lnTo>
                    <a:pt x="597" y="1582"/>
                  </a:lnTo>
                  <a:lnTo>
                    <a:pt x="613" y="1590"/>
                  </a:lnTo>
                  <a:lnTo>
                    <a:pt x="627" y="1596"/>
                  </a:lnTo>
                  <a:lnTo>
                    <a:pt x="638" y="1602"/>
                  </a:lnTo>
                  <a:lnTo>
                    <a:pt x="647" y="1606"/>
                  </a:lnTo>
                  <a:lnTo>
                    <a:pt x="651" y="1609"/>
                  </a:lnTo>
                  <a:lnTo>
                    <a:pt x="651" y="1610"/>
                  </a:lnTo>
                  <a:lnTo>
                    <a:pt x="647" y="1609"/>
                  </a:lnTo>
                  <a:lnTo>
                    <a:pt x="638" y="1606"/>
                  </a:lnTo>
                  <a:lnTo>
                    <a:pt x="625" y="1602"/>
                  </a:lnTo>
                  <a:lnTo>
                    <a:pt x="610" y="1596"/>
                  </a:lnTo>
                  <a:lnTo>
                    <a:pt x="592" y="1589"/>
                  </a:lnTo>
                  <a:lnTo>
                    <a:pt x="573" y="1581"/>
                  </a:lnTo>
                  <a:lnTo>
                    <a:pt x="551" y="1573"/>
                  </a:lnTo>
                  <a:lnTo>
                    <a:pt x="530" y="1564"/>
                  </a:lnTo>
                  <a:lnTo>
                    <a:pt x="519" y="1560"/>
                  </a:lnTo>
                  <a:lnTo>
                    <a:pt x="507" y="1557"/>
                  </a:lnTo>
                  <a:lnTo>
                    <a:pt x="498" y="1555"/>
                  </a:lnTo>
                  <a:lnTo>
                    <a:pt x="488" y="1555"/>
                  </a:lnTo>
                  <a:lnTo>
                    <a:pt x="482" y="1556"/>
                  </a:lnTo>
                  <a:lnTo>
                    <a:pt x="476" y="1561"/>
                  </a:lnTo>
                  <a:lnTo>
                    <a:pt x="475" y="1570"/>
                  </a:lnTo>
                  <a:lnTo>
                    <a:pt x="477" y="1581"/>
                  </a:lnTo>
                  <a:lnTo>
                    <a:pt x="462" y="1569"/>
                  </a:lnTo>
                  <a:lnTo>
                    <a:pt x="450" y="1557"/>
                  </a:lnTo>
                  <a:lnTo>
                    <a:pt x="438" y="1546"/>
                  </a:lnTo>
                  <a:lnTo>
                    <a:pt x="429" y="1536"/>
                  </a:lnTo>
                  <a:lnTo>
                    <a:pt x="422" y="1528"/>
                  </a:lnTo>
                  <a:lnTo>
                    <a:pt x="415" y="1521"/>
                  </a:lnTo>
                  <a:lnTo>
                    <a:pt x="412" y="1516"/>
                  </a:lnTo>
                  <a:lnTo>
                    <a:pt x="410" y="1514"/>
                  </a:lnTo>
                  <a:lnTo>
                    <a:pt x="402" y="1505"/>
                  </a:lnTo>
                  <a:lnTo>
                    <a:pt x="395" y="1497"/>
                  </a:lnTo>
                  <a:lnTo>
                    <a:pt x="387" y="1487"/>
                  </a:lnTo>
                  <a:lnTo>
                    <a:pt x="380" y="1477"/>
                  </a:lnTo>
                  <a:lnTo>
                    <a:pt x="374" y="1466"/>
                  </a:lnTo>
                  <a:lnTo>
                    <a:pt x="367" y="1455"/>
                  </a:lnTo>
                  <a:lnTo>
                    <a:pt x="361" y="1443"/>
                  </a:lnTo>
                  <a:lnTo>
                    <a:pt x="355" y="1432"/>
                  </a:lnTo>
                  <a:lnTo>
                    <a:pt x="350" y="1419"/>
                  </a:lnTo>
                  <a:lnTo>
                    <a:pt x="345" y="1406"/>
                  </a:lnTo>
                  <a:lnTo>
                    <a:pt x="340" y="1394"/>
                  </a:lnTo>
                  <a:lnTo>
                    <a:pt x="336" y="1381"/>
                  </a:lnTo>
                  <a:lnTo>
                    <a:pt x="333" y="1369"/>
                  </a:lnTo>
                  <a:lnTo>
                    <a:pt x="330" y="1356"/>
                  </a:lnTo>
                  <a:lnTo>
                    <a:pt x="328" y="1343"/>
                  </a:lnTo>
                  <a:lnTo>
                    <a:pt x="326" y="1330"/>
                  </a:lnTo>
                  <a:lnTo>
                    <a:pt x="318" y="1340"/>
                  </a:lnTo>
                  <a:lnTo>
                    <a:pt x="310" y="1351"/>
                  </a:lnTo>
                  <a:lnTo>
                    <a:pt x="304" y="1365"/>
                  </a:lnTo>
                  <a:lnTo>
                    <a:pt x="298" y="1380"/>
                  </a:lnTo>
                  <a:lnTo>
                    <a:pt x="293" y="1396"/>
                  </a:lnTo>
                  <a:lnTo>
                    <a:pt x="289" y="1413"/>
                  </a:lnTo>
                  <a:lnTo>
                    <a:pt x="287" y="1432"/>
                  </a:lnTo>
                  <a:lnTo>
                    <a:pt x="285" y="1450"/>
                  </a:lnTo>
                  <a:lnTo>
                    <a:pt x="285" y="1469"/>
                  </a:lnTo>
                  <a:lnTo>
                    <a:pt x="286" y="1488"/>
                  </a:lnTo>
                  <a:lnTo>
                    <a:pt x="288" y="1508"/>
                  </a:lnTo>
                  <a:lnTo>
                    <a:pt x="291" y="1528"/>
                  </a:lnTo>
                  <a:lnTo>
                    <a:pt x="295" y="1547"/>
                  </a:lnTo>
                  <a:lnTo>
                    <a:pt x="301" y="1566"/>
                  </a:lnTo>
                  <a:lnTo>
                    <a:pt x="308" y="1585"/>
                  </a:lnTo>
                  <a:lnTo>
                    <a:pt x="317" y="1602"/>
                  </a:lnTo>
                  <a:lnTo>
                    <a:pt x="319" y="1581"/>
                  </a:lnTo>
                  <a:lnTo>
                    <a:pt x="323" y="1570"/>
                  </a:lnTo>
                  <a:lnTo>
                    <a:pt x="326" y="1563"/>
                  </a:lnTo>
                  <a:lnTo>
                    <a:pt x="331" y="1562"/>
                  </a:lnTo>
                  <a:lnTo>
                    <a:pt x="335" y="1563"/>
                  </a:lnTo>
                  <a:lnTo>
                    <a:pt x="338" y="1565"/>
                  </a:lnTo>
                  <a:lnTo>
                    <a:pt x="340" y="1565"/>
                  </a:lnTo>
                  <a:lnTo>
                    <a:pt x="341" y="1562"/>
                  </a:lnTo>
                  <a:lnTo>
                    <a:pt x="341" y="1571"/>
                  </a:lnTo>
                  <a:lnTo>
                    <a:pt x="341" y="1578"/>
                  </a:lnTo>
                  <a:lnTo>
                    <a:pt x="341" y="1587"/>
                  </a:lnTo>
                  <a:lnTo>
                    <a:pt x="341" y="1594"/>
                  </a:lnTo>
                  <a:lnTo>
                    <a:pt x="341" y="1603"/>
                  </a:lnTo>
                  <a:lnTo>
                    <a:pt x="341" y="1610"/>
                  </a:lnTo>
                  <a:lnTo>
                    <a:pt x="341" y="1619"/>
                  </a:lnTo>
                  <a:lnTo>
                    <a:pt x="341" y="1626"/>
                  </a:lnTo>
                  <a:lnTo>
                    <a:pt x="340" y="1642"/>
                  </a:lnTo>
                  <a:lnTo>
                    <a:pt x="341" y="1659"/>
                  </a:lnTo>
                  <a:lnTo>
                    <a:pt x="346" y="1677"/>
                  </a:lnTo>
                  <a:lnTo>
                    <a:pt x="351" y="1695"/>
                  </a:lnTo>
                  <a:lnTo>
                    <a:pt x="359" y="1714"/>
                  </a:lnTo>
                  <a:lnTo>
                    <a:pt x="368" y="1732"/>
                  </a:lnTo>
                  <a:lnTo>
                    <a:pt x="379" y="1750"/>
                  </a:lnTo>
                  <a:lnTo>
                    <a:pt x="391" y="1769"/>
                  </a:lnTo>
                  <a:lnTo>
                    <a:pt x="402" y="1786"/>
                  </a:lnTo>
                  <a:lnTo>
                    <a:pt x="415" y="1803"/>
                  </a:lnTo>
                  <a:lnTo>
                    <a:pt x="428" y="1818"/>
                  </a:lnTo>
                  <a:lnTo>
                    <a:pt x="441" y="1832"/>
                  </a:lnTo>
                  <a:lnTo>
                    <a:pt x="453" y="1843"/>
                  </a:lnTo>
                  <a:lnTo>
                    <a:pt x="465" y="1853"/>
                  </a:lnTo>
                  <a:lnTo>
                    <a:pt x="475" y="1862"/>
                  </a:lnTo>
                  <a:lnTo>
                    <a:pt x="484" y="1867"/>
                  </a:lnTo>
                  <a:lnTo>
                    <a:pt x="477" y="1873"/>
                  </a:lnTo>
                  <a:lnTo>
                    <a:pt x="469" y="1873"/>
                  </a:lnTo>
                  <a:lnTo>
                    <a:pt x="459" y="1868"/>
                  </a:lnTo>
                  <a:lnTo>
                    <a:pt x="447" y="1859"/>
                  </a:lnTo>
                  <a:lnTo>
                    <a:pt x="436" y="1850"/>
                  </a:lnTo>
                  <a:lnTo>
                    <a:pt x="424" y="1841"/>
                  </a:lnTo>
                  <a:lnTo>
                    <a:pt x="413" y="1835"/>
                  </a:lnTo>
                  <a:lnTo>
                    <a:pt x="404" y="1832"/>
                  </a:lnTo>
                  <a:lnTo>
                    <a:pt x="413" y="1848"/>
                  </a:lnTo>
                  <a:lnTo>
                    <a:pt x="422" y="1864"/>
                  </a:lnTo>
                  <a:lnTo>
                    <a:pt x="430" y="1879"/>
                  </a:lnTo>
                  <a:lnTo>
                    <a:pt x="440" y="1894"/>
                  </a:lnTo>
                  <a:lnTo>
                    <a:pt x="448" y="1908"/>
                  </a:lnTo>
                  <a:lnTo>
                    <a:pt x="458" y="1923"/>
                  </a:lnTo>
                  <a:lnTo>
                    <a:pt x="467" y="1937"/>
                  </a:lnTo>
                  <a:lnTo>
                    <a:pt x="476" y="1950"/>
                  </a:lnTo>
                  <a:lnTo>
                    <a:pt x="487" y="1965"/>
                  </a:lnTo>
                  <a:lnTo>
                    <a:pt x="498" y="1979"/>
                  </a:lnTo>
                  <a:lnTo>
                    <a:pt x="508" y="1994"/>
                  </a:lnTo>
                  <a:lnTo>
                    <a:pt x="520" y="2008"/>
                  </a:lnTo>
                  <a:lnTo>
                    <a:pt x="533" y="2023"/>
                  </a:lnTo>
                  <a:lnTo>
                    <a:pt x="546" y="2038"/>
                  </a:lnTo>
                  <a:lnTo>
                    <a:pt x="560" y="2054"/>
                  </a:lnTo>
                  <a:lnTo>
                    <a:pt x="575" y="2070"/>
                  </a:lnTo>
                  <a:close/>
                  <a:moveTo>
                    <a:pt x="3285" y="7028"/>
                  </a:moveTo>
                  <a:lnTo>
                    <a:pt x="3287" y="7045"/>
                  </a:lnTo>
                  <a:lnTo>
                    <a:pt x="3290" y="7059"/>
                  </a:lnTo>
                  <a:lnTo>
                    <a:pt x="3297" y="7072"/>
                  </a:lnTo>
                  <a:lnTo>
                    <a:pt x="3304" y="7084"/>
                  </a:lnTo>
                  <a:lnTo>
                    <a:pt x="3311" y="7095"/>
                  </a:lnTo>
                  <a:lnTo>
                    <a:pt x="3317" y="7107"/>
                  </a:lnTo>
                  <a:lnTo>
                    <a:pt x="3320" y="7122"/>
                  </a:lnTo>
                  <a:lnTo>
                    <a:pt x="3322" y="7138"/>
                  </a:lnTo>
                  <a:lnTo>
                    <a:pt x="3309" y="7137"/>
                  </a:lnTo>
                  <a:lnTo>
                    <a:pt x="3295" y="7134"/>
                  </a:lnTo>
                  <a:lnTo>
                    <a:pt x="3281" y="7128"/>
                  </a:lnTo>
                  <a:lnTo>
                    <a:pt x="3267" y="7124"/>
                  </a:lnTo>
                  <a:lnTo>
                    <a:pt x="3253" y="7120"/>
                  </a:lnTo>
                  <a:lnTo>
                    <a:pt x="3240" y="7118"/>
                  </a:lnTo>
                  <a:lnTo>
                    <a:pt x="3226" y="7118"/>
                  </a:lnTo>
                  <a:lnTo>
                    <a:pt x="3212" y="7121"/>
                  </a:lnTo>
                  <a:lnTo>
                    <a:pt x="3222" y="7133"/>
                  </a:lnTo>
                  <a:lnTo>
                    <a:pt x="3233" y="7145"/>
                  </a:lnTo>
                  <a:lnTo>
                    <a:pt x="3244" y="7156"/>
                  </a:lnTo>
                  <a:lnTo>
                    <a:pt x="3257" y="7167"/>
                  </a:lnTo>
                  <a:lnTo>
                    <a:pt x="3271" y="7176"/>
                  </a:lnTo>
                  <a:lnTo>
                    <a:pt x="3285" y="7182"/>
                  </a:lnTo>
                  <a:lnTo>
                    <a:pt x="3300" y="7187"/>
                  </a:lnTo>
                  <a:lnTo>
                    <a:pt x="3316" y="7188"/>
                  </a:lnTo>
                  <a:lnTo>
                    <a:pt x="3305" y="7203"/>
                  </a:lnTo>
                  <a:lnTo>
                    <a:pt x="3295" y="7219"/>
                  </a:lnTo>
                  <a:lnTo>
                    <a:pt x="3281" y="7239"/>
                  </a:lnTo>
                  <a:lnTo>
                    <a:pt x="3267" y="7259"/>
                  </a:lnTo>
                  <a:lnTo>
                    <a:pt x="3252" y="7280"/>
                  </a:lnTo>
                  <a:lnTo>
                    <a:pt x="3236" y="7302"/>
                  </a:lnTo>
                  <a:lnTo>
                    <a:pt x="3219" y="7324"/>
                  </a:lnTo>
                  <a:lnTo>
                    <a:pt x="3200" y="7346"/>
                  </a:lnTo>
                  <a:lnTo>
                    <a:pt x="3182" y="7367"/>
                  </a:lnTo>
                  <a:lnTo>
                    <a:pt x="3164" y="7387"/>
                  </a:lnTo>
                  <a:lnTo>
                    <a:pt x="3145" y="7407"/>
                  </a:lnTo>
                  <a:lnTo>
                    <a:pt x="3126" y="7423"/>
                  </a:lnTo>
                  <a:lnTo>
                    <a:pt x="3106" y="7438"/>
                  </a:lnTo>
                  <a:lnTo>
                    <a:pt x="3087" y="7449"/>
                  </a:lnTo>
                  <a:lnTo>
                    <a:pt x="3068" y="7458"/>
                  </a:lnTo>
                  <a:lnTo>
                    <a:pt x="3050" y="7463"/>
                  </a:lnTo>
                  <a:lnTo>
                    <a:pt x="3033" y="7464"/>
                  </a:lnTo>
                  <a:lnTo>
                    <a:pt x="3021" y="7457"/>
                  </a:lnTo>
                  <a:lnTo>
                    <a:pt x="3011" y="7443"/>
                  </a:lnTo>
                  <a:lnTo>
                    <a:pt x="3004" y="7425"/>
                  </a:lnTo>
                  <a:lnTo>
                    <a:pt x="2996" y="7402"/>
                  </a:lnTo>
                  <a:lnTo>
                    <a:pt x="2990" y="7378"/>
                  </a:lnTo>
                  <a:lnTo>
                    <a:pt x="2983" y="7352"/>
                  </a:lnTo>
                  <a:lnTo>
                    <a:pt x="2975" y="7327"/>
                  </a:lnTo>
                  <a:lnTo>
                    <a:pt x="2971" y="7314"/>
                  </a:lnTo>
                  <a:lnTo>
                    <a:pt x="2967" y="7300"/>
                  </a:lnTo>
                  <a:lnTo>
                    <a:pt x="2964" y="7286"/>
                  </a:lnTo>
                  <a:lnTo>
                    <a:pt x="2962" y="7272"/>
                  </a:lnTo>
                  <a:lnTo>
                    <a:pt x="2959" y="7257"/>
                  </a:lnTo>
                  <a:lnTo>
                    <a:pt x="2956" y="7243"/>
                  </a:lnTo>
                  <a:lnTo>
                    <a:pt x="2954" y="7229"/>
                  </a:lnTo>
                  <a:lnTo>
                    <a:pt x="2952" y="7216"/>
                  </a:lnTo>
                  <a:lnTo>
                    <a:pt x="2950" y="7203"/>
                  </a:lnTo>
                  <a:lnTo>
                    <a:pt x="2949" y="7192"/>
                  </a:lnTo>
                  <a:lnTo>
                    <a:pt x="2948" y="7181"/>
                  </a:lnTo>
                  <a:lnTo>
                    <a:pt x="2947" y="7171"/>
                  </a:lnTo>
                  <a:lnTo>
                    <a:pt x="2946" y="7163"/>
                  </a:lnTo>
                  <a:lnTo>
                    <a:pt x="2945" y="7156"/>
                  </a:lnTo>
                  <a:lnTo>
                    <a:pt x="2945" y="7150"/>
                  </a:lnTo>
                  <a:lnTo>
                    <a:pt x="2945" y="7147"/>
                  </a:lnTo>
                  <a:lnTo>
                    <a:pt x="2953" y="7162"/>
                  </a:lnTo>
                  <a:lnTo>
                    <a:pt x="2960" y="7178"/>
                  </a:lnTo>
                  <a:lnTo>
                    <a:pt x="2965" y="7194"/>
                  </a:lnTo>
                  <a:lnTo>
                    <a:pt x="2969" y="7210"/>
                  </a:lnTo>
                  <a:lnTo>
                    <a:pt x="2972" y="7226"/>
                  </a:lnTo>
                  <a:lnTo>
                    <a:pt x="2976" y="7240"/>
                  </a:lnTo>
                  <a:lnTo>
                    <a:pt x="2978" y="7254"/>
                  </a:lnTo>
                  <a:lnTo>
                    <a:pt x="2981" y="7264"/>
                  </a:lnTo>
                  <a:lnTo>
                    <a:pt x="2996" y="7240"/>
                  </a:lnTo>
                  <a:lnTo>
                    <a:pt x="3007" y="7213"/>
                  </a:lnTo>
                  <a:lnTo>
                    <a:pt x="3013" y="7187"/>
                  </a:lnTo>
                  <a:lnTo>
                    <a:pt x="3021" y="7162"/>
                  </a:lnTo>
                  <a:lnTo>
                    <a:pt x="3030" y="7140"/>
                  </a:lnTo>
                  <a:lnTo>
                    <a:pt x="3045" y="7122"/>
                  </a:lnTo>
                  <a:lnTo>
                    <a:pt x="3069" y="7110"/>
                  </a:lnTo>
                  <a:lnTo>
                    <a:pt x="3103" y="7106"/>
                  </a:lnTo>
                  <a:lnTo>
                    <a:pt x="3108" y="7100"/>
                  </a:lnTo>
                  <a:lnTo>
                    <a:pt x="3116" y="7093"/>
                  </a:lnTo>
                  <a:lnTo>
                    <a:pt x="3126" y="7086"/>
                  </a:lnTo>
                  <a:lnTo>
                    <a:pt x="3136" y="7078"/>
                  </a:lnTo>
                  <a:lnTo>
                    <a:pt x="3147" y="7071"/>
                  </a:lnTo>
                  <a:lnTo>
                    <a:pt x="3160" y="7063"/>
                  </a:lnTo>
                  <a:lnTo>
                    <a:pt x="3173" y="7056"/>
                  </a:lnTo>
                  <a:lnTo>
                    <a:pt x="3187" y="7049"/>
                  </a:lnTo>
                  <a:lnTo>
                    <a:pt x="3200" y="7042"/>
                  </a:lnTo>
                  <a:lnTo>
                    <a:pt x="3213" y="7036"/>
                  </a:lnTo>
                  <a:lnTo>
                    <a:pt x="3227" y="7030"/>
                  </a:lnTo>
                  <a:lnTo>
                    <a:pt x="3239" y="7026"/>
                  </a:lnTo>
                  <a:lnTo>
                    <a:pt x="3251" y="7022"/>
                  </a:lnTo>
                  <a:lnTo>
                    <a:pt x="3261" y="7018"/>
                  </a:lnTo>
                  <a:lnTo>
                    <a:pt x="3271" y="7017"/>
                  </a:lnTo>
                  <a:lnTo>
                    <a:pt x="3279" y="7016"/>
                  </a:lnTo>
                  <a:lnTo>
                    <a:pt x="3296" y="7002"/>
                  </a:lnTo>
                  <a:lnTo>
                    <a:pt x="3313" y="6990"/>
                  </a:lnTo>
                  <a:lnTo>
                    <a:pt x="3329" y="6980"/>
                  </a:lnTo>
                  <a:lnTo>
                    <a:pt x="3344" y="6970"/>
                  </a:lnTo>
                  <a:lnTo>
                    <a:pt x="3360" y="6963"/>
                  </a:lnTo>
                  <a:lnTo>
                    <a:pt x="3375" y="6955"/>
                  </a:lnTo>
                  <a:lnTo>
                    <a:pt x="3390" y="6949"/>
                  </a:lnTo>
                  <a:lnTo>
                    <a:pt x="3406" y="6943"/>
                  </a:lnTo>
                  <a:lnTo>
                    <a:pt x="3421" y="6938"/>
                  </a:lnTo>
                  <a:lnTo>
                    <a:pt x="3437" y="6934"/>
                  </a:lnTo>
                  <a:lnTo>
                    <a:pt x="3454" y="6928"/>
                  </a:lnTo>
                  <a:lnTo>
                    <a:pt x="3471" y="6924"/>
                  </a:lnTo>
                  <a:lnTo>
                    <a:pt x="3489" y="6919"/>
                  </a:lnTo>
                  <a:lnTo>
                    <a:pt x="3509" y="6913"/>
                  </a:lnTo>
                  <a:lnTo>
                    <a:pt x="3529" y="6908"/>
                  </a:lnTo>
                  <a:lnTo>
                    <a:pt x="3550" y="6902"/>
                  </a:lnTo>
                  <a:lnTo>
                    <a:pt x="3561" y="6899"/>
                  </a:lnTo>
                  <a:lnTo>
                    <a:pt x="3575" y="6895"/>
                  </a:lnTo>
                  <a:lnTo>
                    <a:pt x="3590" y="6891"/>
                  </a:lnTo>
                  <a:lnTo>
                    <a:pt x="3608" y="6888"/>
                  </a:lnTo>
                  <a:lnTo>
                    <a:pt x="3626" y="6886"/>
                  </a:lnTo>
                  <a:lnTo>
                    <a:pt x="3647" y="6884"/>
                  </a:lnTo>
                  <a:lnTo>
                    <a:pt x="3667" y="6882"/>
                  </a:lnTo>
                  <a:lnTo>
                    <a:pt x="3686" y="6882"/>
                  </a:lnTo>
                  <a:lnTo>
                    <a:pt x="3706" y="6885"/>
                  </a:lnTo>
                  <a:lnTo>
                    <a:pt x="3725" y="6888"/>
                  </a:lnTo>
                  <a:lnTo>
                    <a:pt x="3741" y="6893"/>
                  </a:lnTo>
                  <a:lnTo>
                    <a:pt x="3756" y="6901"/>
                  </a:lnTo>
                  <a:lnTo>
                    <a:pt x="3769" y="6911"/>
                  </a:lnTo>
                  <a:lnTo>
                    <a:pt x="3777" y="6924"/>
                  </a:lnTo>
                  <a:lnTo>
                    <a:pt x="3784" y="6939"/>
                  </a:lnTo>
                  <a:lnTo>
                    <a:pt x="3786" y="6958"/>
                  </a:lnTo>
                  <a:lnTo>
                    <a:pt x="3781" y="6963"/>
                  </a:lnTo>
                  <a:lnTo>
                    <a:pt x="3780" y="6971"/>
                  </a:lnTo>
                  <a:lnTo>
                    <a:pt x="3777" y="6981"/>
                  </a:lnTo>
                  <a:lnTo>
                    <a:pt x="3772" y="6985"/>
                  </a:lnTo>
                  <a:lnTo>
                    <a:pt x="3739" y="6984"/>
                  </a:lnTo>
                  <a:lnTo>
                    <a:pt x="3708" y="6980"/>
                  </a:lnTo>
                  <a:lnTo>
                    <a:pt x="3681" y="6973"/>
                  </a:lnTo>
                  <a:lnTo>
                    <a:pt x="3655" y="6966"/>
                  </a:lnTo>
                  <a:lnTo>
                    <a:pt x="3632" y="6957"/>
                  </a:lnTo>
                  <a:lnTo>
                    <a:pt x="3609" y="6950"/>
                  </a:lnTo>
                  <a:lnTo>
                    <a:pt x="3586" y="6942"/>
                  </a:lnTo>
                  <a:lnTo>
                    <a:pt x="3563" y="6937"/>
                  </a:lnTo>
                  <a:lnTo>
                    <a:pt x="3539" y="6933"/>
                  </a:lnTo>
                  <a:lnTo>
                    <a:pt x="3513" y="6933"/>
                  </a:lnTo>
                  <a:lnTo>
                    <a:pt x="3484" y="6936"/>
                  </a:lnTo>
                  <a:lnTo>
                    <a:pt x="3453" y="6942"/>
                  </a:lnTo>
                  <a:lnTo>
                    <a:pt x="3418" y="6955"/>
                  </a:lnTo>
                  <a:lnTo>
                    <a:pt x="3379" y="6972"/>
                  </a:lnTo>
                  <a:lnTo>
                    <a:pt x="3335" y="6997"/>
                  </a:lnTo>
                  <a:lnTo>
                    <a:pt x="3285" y="7028"/>
                  </a:lnTo>
                  <a:close/>
                  <a:moveTo>
                    <a:pt x="1712" y="7053"/>
                  </a:moveTo>
                  <a:lnTo>
                    <a:pt x="1733" y="7048"/>
                  </a:lnTo>
                  <a:lnTo>
                    <a:pt x="1754" y="7044"/>
                  </a:lnTo>
                  <a:lnTo>
                    <a:pt x="1776" y="7040"/>
                  </a:lnTo>
                  <a:lnTo>
                    <a:pt x="1798" y="7035"/>
                  </a:lnTo>
                  <a:lnTo>
                    <a:pt x="1822" y="7031"/>
                  </a:lnTo>
                  <a:lnTo>
                    <a:pt x="1844" y="7027"/>
                  </a:lnTo>
                  <a:lnTo>
                    <a:pt x="1868" y="7024"/>
                  </a:lnTo>
                  <a:lnTo>
                    <a:pt x="1892" y="7019"/>
                  </a:lnTo>
                  <a:lnTo>
                    <a:pt x="1916" y="7016"/>
                  </a:lnTo>
                  <a:lnTo>
                    <a:pt x="1941" y="7013"/>
                  </a:lnTo>
                  <a:lnTo>
                    <a:pt x="1965" y="7010"/>
                  </a:lnTo>
                  <a:lnTo>
                    <a:pt x="1990" y="7007"/>
                  </a:lnTo>
                  <a:lnTo>
                    <a:pt x="2016" y="7004"/>
                  </a:lnTo>
                  <a:lnTo>
                    <a:pt x="2040" y="7002"/>
                  </a:lnTo>
                  <a:lnTo>
                    <a:pt x="2065" y="7000"/>
                  </a:lnTo>
                  <a:lnTo>
                    <a:pt x="2090" y="6998"/>
                  </a:lnTo>
                  <a:lnTo>
                    <a:pt x="2115" y="6997"/>
                  </a:lnTo>
                  <a:lnTo>
                    <a:pt x="2141" y="6995"/>
                  </a:lnTo>
                  <a:lnTo>
                    <a:pt x="2165" y="6995"/>
                  </a:lnTo>
                  <a:lnTo>
                    <a:pt x="2190" y="6994"/>
                  </a:lnTo>
                  <a:lnTo>
                    <a:pt x="2215" y="6994"/>
                  </a:lnTo>
                  <a:lnTo>
                    <a:pt x="2239" y="6995"/>
                  </a:lnTo>
                  <a:lnTo>
                    <a:pt x="2264" y="6996"/>
                  </a:lnTo>
                  <a:lnTo>
                    <a:pt x="2287" y="6997"/>
                  </a:lnTo>
                  <a:lnTo>
                    <a:pt x="2312" y="6998"/>
                  </a:lnTo>
                  <a:lnTo>
                    <a:pt x="2335" y="7001"/>
                  </a:lnTo>
                  <a:lnTo>
                    <a:pt x="2358" y="7003"/>
                  </a:lnTo>
                  <a:lnTo>
                    <a:pt x="2381" y="7007"/>
                  </a:lnTo>
                  <a:lnTo>
                    <a:pt x="2403" y="7011"/>
                  </a:lnTo>
                  <a:lnTo>
                    <a:pt x="2426" y="7015"/>
                  </a:lnTo>
                  <a:lnTo>
                    <a:pt x="2447" y="7020"/>
                  </a:lnTo>
                  <a:lnTo>
                    <a:pt x="2467" y="7026"/>
                  </a:lnTo>
                  <a:lnTo>
                    <a:pt x="2478" y="7027"/>
                  </a:lnTo>
                  <a:lnTo>
                    <a:pt x="2490" y="7031"/>
                  </a:lnTo>
                  <a:lnTo>
                    <a:pt x="2503" y="7038"/>
                  </a:lnTo>
                  <a:lnTo>
                    <a:pt x="2516" y="7046"/>
                  </a:lnTo>
                  <a:lnTo>
                    <a:pt x="2530" y="7056"/>
                  </a:lnTo>
                  <a:lnTo>
                    <a:pt x="2543" y="7066"/>
                  </a:lnTo>
                  <a:lnTo>
                    <a:pt x="2555" y="7078"/>
                  </a:lnTo>
                  <a:lnTo>
                    <a:pt x="2566" y="7090"/>
                  </a:lnTo>
                  <a:lnTo>
                    <a:pt x="2531" y="7119"/>
                  </a:lnTo>
                  <a:lnTo>
                    <a:pt x="2527" y="7104"/>
                  </a:lnTo>
                  <a:lnTo>
                    <a:pt x="2516" y="7093"/>
                  </a:lnTo>
                  <a:lnTo>
                    <a:pt x="2500" y="7088"/>
                  </a:lnTo>
                  <a:lnTo>
                    <a:pt x="2481" y="7086"/>
                  </a:lnTo>
                  <a:lnTo>
                    <a:pt x="2459" y="7088"/>
                  </a:lnTo>
                  <a:lnTo>
                    <a:pt x="2437" y="7092"/>
                  </a:lnTo>
                  <a:lnTo>
                    <a:pt x="2417" y="7099"/>
                  </a:lnTo>
                  <a:lnTo>
                    <a:pt x="2399" y="7107"/>
                  </a:lnTo>
                  <a:lnTo>
                    <a:pt x="2394" y="7089"/>
                  </a:lnTo>
                  <a:lnTo>
                    <a:pt x="2390" y="7074"/>
                  </a:lnTo>
                  <a:lnTo>
                    <a:pt x="2386" y="7061"/>
                  </a:lnTo>
                  <a:lnTo>
                    <a:pt x="2383" y="7050"/>
                  </a:lnTo>
                  <a:lnTo>
                    <a:pt x="2378" y="7042"/>
                  </a:lnTo>
                  <a:lnTo>
                    <a:pt x="2373" y="7035"/>
                  </a:lnTo>
                  <a:lnTo>
                    <a:pt x="2367" y="7031"/>
                  </a:lnTo>
                  <a:lnTo>
                    <a:pt x="2359" y="7029"/>
                  </a:lnTo>
                  <a:lnTo>
                    <a:pt x="2333" y="7026"/>
                  </a:lnTo>
                  <a:lnTo>
                    <a:pt x="2306" y="7023"/>
                  </a:lnTo>
                  <a:lnTo>
                    <a:pt x="2274" y="7019"/>
                  </a:lnTo>
                  <a:lnTo>
                    <a:pt x="2240" y="7017"/>
                  </a:lnTo>
                  <a:lnTo>
                    <a:pt x="2206" y="7015"/>
                  </a:lnTo>
                  <a:lnTo>
                    <a:pt x="2171" y="7014"/>
                  </a:lnTo>
                  <a:lnTo>
                    <a:pt x="2134" y="7015"/>
                  </a:lnTo>
                  <a:lnTo>
                    <a:pt x="2099" y="7017"/>
                  </a:lnTo>
                  <a:lnTo>
                    <a:pt x="2064" y="7023"/>
                  </a:lnTo>
                  <a:lnTo>
                    <a:pt x="2031" y="7031"/>
                  </a:lnTo>
                  <a:lnTo>
                    <a:pt x="1998" y="7042"/>
                  </a:lnTo>
                  <a:lnTo>
                    <a:pt x="1970" y="7057"/>
                  </a:lnTo>
                  <a:lnTo>
                    <a:pt x="1943" y="7076"/>
                  </a:lnTo>
                  <a:lnTo>
                    <a:pt x="1920" y="7099"/>
                  </a:lnTo>
                  <a:lnTo>
                    <a:pt x="1901" y="7126"/>
                  </a:lnTo>
                  <a:lnTo>
                    <a:pt x="1887" y="7159"/>
                  </a:lnTo>
                  <a:lnTo>
                    <a:pt x="1885" y="7166"/>
                  </a:lnTo>
                  <a:lnTo>
                    <a:pt x="1882" y="7177"/>
                  </a:lnTo>
                  <a:lnTo>
                    <a:pt x="1879" y="7188"/>
                  </a:lnTo>
                  <a:lnTo>
                    <a:pt x="1874" y="7203"/>
                  </a:lnTo>
                  <a:lnTo>
                    <a:pt x="1871" y="7220"/>
                  </a:lnTo>
                  <a:lnTo>
                    <a:pt x="1869" y="7240"/>
                  </a:lnTo>
                  <a:lnTo>
                    <a:pt x="1868" y="7259"/>
                  </a:lnTo>
                  <a:lnTo>
                    <a:pt x="1869" y="7280"/>
                  </a:lnTo>
                  <a:lnTo>
                    <a:pt x="1847" y="7260"/>
                  </a:lnTo>
                  <a:lnTo>
                    <a:pt x="1828" y="7240"/>
                  </a:lnTo>
                  <a:lnTo>
                    <a:pt x="1809" y="7222"/>
                  </a:lnTo>
                  <a:lnTo>
                    <a:pt x="1792" y="7204"/>
                  </a:lnTo>
                  <a:lnTo>
                    <a:pt x="1776" y="7187"/>
                  </a:lnTo>
                  <a:lnTo>
                    <a:pt x="1761" y="7172"/>
                  </a:lnTo>
                  <a:lnTo>
                    <a:pt x="1747" y="7157"/>
                  </a:lnTo>
                  <a:lnTo>
                    <a:pt x="1736" y="7143"/>
                  </a:lnTo>
                  <a:lnTo>
                    <a:pt x="1725" y="7131"/>
                  </a:lnTo>
                  <a:lnTo>
                    <a:pt x="1718" y="7119"/>
                  </a:lnTo>
                  <a:lnTo>
                    <a:pt x="1712" y="7106"/>
                  </a:lnTo>
                  <a:lnTo>
                    <a:pt x="1707" y="7095"/>
                  </a:lnTo>
                  <a:lnTo>
                    <a:pt x="1705" y="7084"/>
                  </a:lnTo>
                  <a:lnTo>
                    <a:pt x="1705" y="7073"/>
                  </a:lnTo>
                  <a:lnTo>
                    <a:pt x="1707" y="7063"/>
                  </a:lnTo>
                  <a:lnTo>
                    <a:pt x="1712" y="7053"/>
                  </a:lnTo>
                  <a:close/>
                  <a:moveTo>
                    <a:pt x="2321" y="4387"/>
                  </a:moveTo>
                  <a:lnTo>
                    <a:pt x="2320" y="4353"/>
                  </a:lnTo>
                  <a:lnTo>
                    <a:pt x="2315" y="4322"/>
                  </a:lnTo>
                  <a:lnTo>
                    <a:pt x="2310" y="4293"/>
                  </a:lnTo>
                  <a:lnTo>
                    <a:pt x="2302" y="4265"/>
                  </a:lnTo>
                  <a:lnTo>
                    <a:pt x="2294" y="4238"/>
                  </a:lnTo>
                  <a:lnTo>
                    <a:pt x="2283" y="4212"/>
                  </a:lnTo>
                  <a:lnTo>
                    <a:pt x="2272" y="4186"/>
                  </a:lnTo>
                  <a:lnTo>
                    <a:pt x="2262" y="4159"/>
                  </a:lnTo>
                  <a:lnTo>
                    <a:pt x="2250" y="4132"/>
                  </a:lnTo>
                  <a:lnTo>
                    <a:pt x="2238" y="4104"/>
                  </a:lnTo>
                  <a:lnTo>
                    <a:pt x="2226" y="4074"/>
                  </a:lnTo>
                  <a:lnTo>
                    <a:pt x="2216" y="4042"/>
                  </a:lnTo>
                  <a:lnTo>
                    <a:pt x="2206" y="4006"/>
                  </a:lnTo>
                  <a:lnTo>
                    <a:pt x="2198" y="3968"/>
                  </a:lnTo>
                  <a:lnTo>
                    <a:pt x="2191" y="3927"/>
                  </a:lnTo>
                  <a:lnTo>
                    <a:pt x="2186" y="3881"/>
                  </a:lnTo>
                  <a:lnTo>
                    <a:pt x="2174" y="3848"/>
                  </a:lnTo>
                  <a:lnTo>
                    <a:pt x="2173" y="3821"/>
                  </a:lnTo>
                  <a:lnTo>
                    <a:pt x="2178" y="3801"/>
                  </a:lnTo>
                  <a:lnTo>
                    <a:pt x="2188" y="3786"/>
                  </a:lnTo>
                  <a:lnTo>
                    <a:pt x="2201" y="3774"/>
                  </a:lnTo>
                  <a:lnTo>
                    <a:pt x="2211" y="3767"/>
                  </a:lnTo>
                  <a:lnTo>
                    <a:pt x="2221" y="3760"/>
                  </a:lnTo>
                  <a:lnTo>
                    <a:pt x="2224" y="3754"/>
                  </a:lnTo>
                  <a:lnTo>
                    <a:pt x="2261" y="3753"/>
                  </a:lnTo>
                  <a:lnTo>
                    <a:pt x="2294" y="3748"/>
                  </a:lnTo>
                  <a:lnTo>
                    <a:pt x="2324" y="3743"/>
                  </a:lnTo>
                  <a:lnTo>
                    <a:pt x="2351" y="3736"/>
                  </a:lnTo>
                  <a:lnTo>
                    <a:pt x="2374" y="3726"/>
                  </a:lnTo>
                  <a:lnTo>
                    <a:pt x="2396" y="3715"/>
                  </a:lnTo>
                  <a:lnTo>
                    <a:pt x="2415" y="3702"/>
                  </a:lnTo>
                  <a:lnTo>
                    <a:pt x="2432" y="3690"/>
                  </a:lnTo>
                  <a:lnTo>
                    <a:pt x="2448" y="3676"/>
                  </a:lnTo>
                  <a:lnTo>
                    <a:pt x="2462" y="3662"/>
                  </a:lnTo>
                  <a:lnTo>
                    <a:pt x="2475" y="3647"/>
                  </a:lnTo>
                  <a:lnTo>
                    <a:pt x="2487" y="3632"/>
                  </a:lnTo>
                  <a:lnTo>
                    <a:pt x="2498" y="3617"/>
                  </a:lnTo>
                  <a:lnTo>
                    <a:pt x="2509" y="3603"/>
                  </a:lnTo>
                  <a:lnTo>
                    <a:pt x="2520" y="3589"/>
                  </a:lnTo>
                  <a:lnTo>
                    <a:pt x="2531" y="3576"/>
                  </a:lnTo>
                  <a:lnTo>
                    <a:pt x="2543" y="3564"/>
                  </a:lnTo>
                  <a:lnTo>
                    <a:pt x="2555" y="3554"/>
                  </a:lnTo>
                  <a:lnTo>
                    <a:pt x="2569" y="3545"/>
                  </a:lnTo>
                  <a:lnTo>
                    <a:pt x="2583" y="3538"/>
                  </a:lnTo>
                  <a:lnTo>
                    <a:pt x="2600" y="3532"/>
                  </a:lnTo>
                  <a:lnTo>
                    <a:pt x="2617" y="3529"/>
                  </a:lnTo>
                  <a:lnTo>
                    <a:pt x="2637" y="3529"/>
                  </a:lnTo>
                  <a:lnTo>
                    <a:pt x="2660" y="3531"/>
                  </a:lnTo>
                  <a:lnTo>
                    <a:pt x="2686" y="3537"/>
                  </a:lnTo>
                  <a:lnTo>
                    <a:pt x="2713" y="3545"/>
                  </a:lnTo>
                  <a:lnTo>
                    <a:pt x="2744" y="3556"/>
                  </a:lnTo>
                  <a:lnTo>
                    <a:pt x="2779" y="3572"/>
                  </a:lnTo>
                  <a:lnTo>
                    <a:pt x="2817" y="3591"/>
                  </a:lnTo>
                  <a:lnTo>
                    <a:pt x="2859" y="3614"/>
                  </a:lnTo>
                  <a:lnTo>
                    <a:pt x="2905" y="3641"/>
                  </a:lnTo>
                  <a:lnTo>
                    <a:pt x="2956" y="3674"/>
                  </a:lnTo>
                  <a:lnTo>
                    <a:pt x="2957" y="3675"/>
                  </a:lnTo>
                  <a:lnTo>
                    <a:pt x="2959" y="3679"/>
                  </a:lnTo>
                  <a:lnTo>
                    <a:pt x="2961" y="3684"/>
                  </a:lnTo>
                  <a:lnTo>
                    <a:pt x="2963" y="3691"/>
                  </a:lnTo>
                  <a:lnTo>
                    <a:pt x="2965" y="3698"/>
                  </a:lnTo>
                  <a:lnTo>
                    <a:pt x="2967" y="3707"/>
                  </a:lnTo>
                  <a:lnTo>
                    <a:pt x="2968" y="3714"/>
                  </a:lnTo>
                  <a:lnTo>
                    <a:pt x="2969" y="3721"/>
                  </a:lnTo>
                  <a:lnTo>
                    <a:pt x="2953" y="3721"/>
                  </a:lnTo>
                  <a:lnTo>
                    <a:pt x="2936" y="3721"/>
                  </a:lnTo>
                  <a:lnTo>
                    <a:pt x="2920" y="3721"/>
                  </a:lnTo>
                  <a:lnTo>
                    <a:pt x="2903" y="3721"/>
                  </a:lnTo>
                  <a:lnTo>
                    <a:pt x="2886" y="3721"/>
                  </a:lnTo>
                  <a:lnTo>
                    <a:pt x="2869" y="3720"/>
                  </a:lnTo>
                  <a:lnTo>
                    <a:pt x="2853" y="3720"/>
                  </a:lnTo>
                  <a:lnTo>
                    <a:pt x="2835" y="3719"/>
                  </a:lnTo>
                  <a:lnTo>
                    <a:pt x="2819" y="3717"/>
                  </a:lnTo>
                  <a:lnTo>
                    <a:pt x="2802" y="3716"/>
                  </a:lnTo>
                  <a:lnTo>
                    <a:pt x="2786" y="3715"/>
                  </a:lnTo>
                  <a:lnTo>
                    <a:pt x="2771" y="3714"/>
                  </a:lnTo>
                  <a:lnTo>
                    <a:pt x="2755" y="3712"/>
                  </a:lnTo>
                  <a:lnTo>
                    <a:pt x="2741" y="3710"/>
                  </a:lnTo>
                  <a:lnTo>
                    <a:pt x="2726" y="3708"/>
                  </a:lnTo>
                  <a:lnTo>
                    <a:pt x="2712" y="3705"/>
                  </a:lnTo>
                  <a:lnTo>
                    <a:pt x="2698" y="3704"/>
                  </a:lnTo>
                  <a:lnTo>
                    <a:pt x="2683" y="3700"/>
                  </a:lnTo>
                  <a:lnTo>
                    <a:pt x="2667" y="3696"/>
                  </a:lnTo>
                  <a:lnTo>
                    <a:pt x="2651" y="3691"/>
                  </a:lnTo>
                  <a:lnTo>
                    <a:pt x="2635" y="3687"/>
                  </a:lnTo>
                  <a:lnTo>
                    <a:pt x="2619" y="3685"/>
                  </a:lnTo>
                  <a:lnTo>
                    <a:pt x="2604" y="3685"/>
                  </a:lnTo>
                  <a:lnTo>
                    <a:pt x="2590" y="3690"/>
                  </a:lnTo>
                  <a:lnTo>
                    <a:pt x="2627" y="3737"/>
                  </a:lnTo>
                  <a:lnTo>
                    <a:pt x="2627" y="3755"/>
                  </a:lnTo>
                  <a:lnTo>
                    <a:pt x="2629" y="3775"/>
                  </a:lnTo>
                  <a:lnTo>
                    <a:pt x="2630" y="3799"/>
                  </a:lnTo>
                  <a:lnTo>
                    <a:pt x="2632" y="3824"/>
                  </a:lnTo>
                  <a:lnTo>
                    <a:pt x="2634" y="3851"/>
                  </a:lnTo>
                  <a:lnTo>
                    <a:pt x="2635" y="3879"/>
                  </a:lnTo>
                  <a:lnTo>
                    <a:pt x="2636" y="3908"/>
                  </a:lnTo>
                  <a:lnTo>
                    <a:pt x="2636" y="3936"/>
                  </a:lnTo>
                  <a:lnTo>
                    <a:pt x="2635" y="3962"/>
                  </a:lnTo>
                  <a:lnTo>
                    <a:pt x="2633" y="3987"/>
                  </a:lnTo>
                  <a:lnTo>
                    <a:pt x="2630" y="4011"/>
                  </a:lnTo>
                  <a:lnTo>
                    <a:pt x="2624" y="4030"/>
                  </a:lnTo>
                  <a:lnTo>
                    <a:pt x="2616" y="4047"/>
                  </a:lnTo>
                  <a:lnTo>
                    <a:pt x="2606" y="4060"/>
                  </a:lnTo>
                  <a:lnTo>
                    <a:pt x="2594" y="4067"/>
                  </a:lnTo>
                  <a:lnTo>
                    <a:pt x="2578" y="4070"/>
                  </a:lnTo>
                  <a:lnTo>
                    <a:pt x="2581" y="4102"/>
                  </a:lnTo>
                  <a:lnTo>
                    <a:pt x="2589" y="4128"/>
                  </a:lnTo>
                  <a:lnTo>
                    <a:pt x="2603" y="4148"/>
                  </a:lnTo>
                  <a:lnTo>
                    <a:pt x="2620" y="4163"/>
                  </a:lnTo>
                  <a:lnTo>
                    <a:pt x="2642" y="4173"/>
                  </a:lnTo>
                  <a:lnTo>
                    <a:pt x="2666" y="4180"/>
                  </a:lnTo>
                  <a:lnTo>
                    <a:pt x="2693" y="4183"/>
                  </a:lnTo>
                  <a:lnTo>
                    <a:pt x="2721" y="4183"/>
                  </a:lnTo>
                  <a:lnTo>
                    <a:pt x="2750" y="4182"/>
                  </a:lnTo>
                  <a:lnTo>
                    <a:pt x="2779" y="4178"/>
                  </a:lnTo>
                  <a:lnTo>
                    <a:pt x="2808" y="4174"/>
                  </a:lnTo>
                  <a:lnTo>
                    <a:pt x="2835" y="4170"/>
                  </a:lnTo>
                  <a:lnTo>
                    <a:pt x="2861" y="4167"/>
                  </a:lnTo>
                  <a:lnTo>
                    <a:pt x="2884" y="4163"/>
                  </a:lnTo>
                  <a:lnTo>
                    <a:pt x="2904" y="4163"/>
                  </a:lnTo>
                  <a:lnTo>
                    <a:pt x="2920" y="4165"/>
                  </a:lnTo>
                  <a:lnTo>
                    <a:pt x="2925" y="4166"/>
                  </a:lnTo>
                  <a:lnTo>
                    <a:pt x="2931" y="4167"/>
                  </a:lnTo>
                  <a:lnTo>
                    <a:pt x="2938" y="4170"/>
                  </a:lnTo>
                  <a:lnTo>
                    <a:pt x="2946" y="4172"/>
                  </a:lnTo>
                  <a:lnTo>
                    <a:pt x="2954" y="4175"/>
                  </a:lnTo>
                  <a:lnTo>
                    <a:pt x="2963" y="4178"/>
                  </a:lnTo>
                  <a:lnTo>
                    <a:pt x="2971" y="4180"/>
                  </a:lnTo>
                  <a:lnTo>
                    <a:pt x="2981" y="4181"/>
                  </a:lnTo>
                  <a:lnTo>
                    <a:pt x="2997" y="4202"/>
                  </a:lnTo>
                  <a:lnTo>
                    <a:pt x="3011" y="4223"/>
                  </a:lnTo>
                  <a:lnTo>
                    <a:pt x="3023" y="4245"/>
                  </a:lnTo>
                  <a:lnTo>
                    <a:pt x="3033" y="4266"/>
                  </a:lnTo>
                  <a:lnTo>
                    <a:pt x="3043" y="4286"/>
                  </a:lnTo>
                  <a:lnTo>
                    <a:pt x="3052" y="4307"/>
                  </a:lnTo>
                  <a:lnTo>
                    <a:pt x="3058" y="4327"/>
                  </a:lnTo>
                  <a:lnTo>
                    <a:pt x="3065" y="4349"/>
                  </a:lnTo>
                  <a:lnTo>
                    <a:pt x="3069" y="4369"/>
                  </a:lnTo>
                  <a:lnTo>
                    <a:pt x="3072" y="4389"/>
                  </a:lnTo>
                  <a:lnTo>
                    <a:pt x="3075" y="4409"/>
                  </a:lnTo>
                  <a:lnTo>
                    <a:pt x="3077" y="4429"/>
                  </a:lnTo>
                  <a:lnTo>
                    <a:pt x="3078" y="4449"/>
                  </a:lnTo>
                  <a:lnTo>
                    <a:pt x="3078" y="4470"/>
                  </a:lnTo>
                  <a:lnTo>
                    <a:pt x="3078" y="4491"/>
                  </a:lnTo>
                  <a:lnTo>
                    <a:pt x="3077" y="4511"/>
                  </a:lnTo>
                  <a:lnTo>
                    <a:pt x="3075" y="4531"/>
                  </a:lnTo>
                  <a:lnTo>
                    <a:pt x="3073" y="4553"/>
                  </a:lnTo>
                  <a:lnTo>
                    <a:pt x="3071" y="4573"/>
                  </a:lnTo>
                  <a:lnTo>
                    <a:pt x="3069" y="4595"/>
                  </a:lnTo>
                  <a:lnTo>
                    <a:pt x="3066" y="4616"/>
                  </a:lnTo>
                  <a:lnTo>
                    <a:pt x="3063" y="4638"/>
                  </a:lnTo>
                  <a:lnTo>
                    <a:pt x="3060" y="4660"/>
                  </a:lnTo>
                  <a:lnTo>
                    <a:pt x="3057" y="4682"/>
                  </a:lnTo>
                  <a:lnTo>
                    <a:pt x="3054" y="4705"/>
                  </a:lnTo>
                  <a:lnTo>
                    <a:pt x="3052" y="4728"/>
                  </a:lnTo>
                  <a:lnTo>
                    <a:pt x="3048" y="4752"/>
                  </a:lnTo>
                  <a:lnTo>
                    <a:pt x="3046" y="4775"/>
                  </a:lnTo>
                  <a:lnTo>
                    <a:pt x="3044" y="4800"/>
                  </a:lnTo>
                  <a:lnTo>
                    <a:pt x="3043" y="4824"/>
                  </a:lnTo>
                  <a:lnTo>
                    <a:pt x="3042" y="4850"/>
                  </a:lnTo>
                  <a:lnTo>
                    <a:pt x="3042" y="4876"/>
                  </a:lnTo>
                  <a:lnTo>
                    <a:pt x="3025" y="4902"/>
                  </a:lnTo>
                  <a:lnTo>
                    <a:pt x="3009" y="4930"/>
                  </a:lnTo>
                  <a:lnTo>
                    <a:pt x="2994" y="4962"/>
                  </a:lnTo>
                  <a:lnTo>
                    <a:pt x="2981" y="4997"/>
                  </a:lnTo>
                  <a:lnTo>
                    <a:pt x="2969" y="5034"/>
                  </a:lnTo>
                  <a:lnTo>
                    <a:pt x="2959" y="5073"/>
                  </a:lnTo>
                  <a:lnTo>
                    <a:pt x="2949" y="5113"/>
                  </a:lnTo>
                  <a:lnTo>
                    <a:pt x="2941" y="5154"/>
                  </a:lnTo>
                  <a:lnTo>
                    <a:pt x="2933" y="5196"/>
                  </a:lnTo>
                  <a:lnTo>
                    <a:pt x="2926" y="5237"/>
                  </a:lnTo>
                  <a:lnTo>
                    <a:pt x="2920" y="5279"/>
                  </a:lnTo>
                  <a:lnTo>
                    <a:pt x="2915" y="5320"/>
                  </a:lnTo>
                  <a:lnTo>
                    <a:pt x="2909" y="5359"/>
                  </a:lnTo>
                  <a:lnTo>
                    <a:pt x="2904" y="5398"/>
                  </a:lnTo>
                  <a:lnTo>
                    <a:pt x="2899" y="5434"/>
                  </a:lnTo>
                  <a:lnTo>
                    <a:pt x="2894" y="5468"/>
                  </a:lnTo>
                  <a:lnTo>
                    <a:pt x="2893" y="5528"/>
                  </a:lnTo>
                  <a:lnTo>
                    <a:pt x="2889" y="5570"/>
                  </a:lnTo>
                  <a:lnTo>
                    <a:pt x="2883" y="5596"/>
                  </a:lnTo>
                  <a:lnTo>
                    <a:pt x="2875" y="5606"/>
                  </a:lnTo>
                  <a:lnTo>
                    <a:pt x="2865" y="5604"/>
                  </a:lnTo>
                  <a:lnTo>
                    <a:pt x="2855" y="5590"/>
                  </a:lnTo>
                  <a:lnTo>
                    <a:pt x="2843" y="5567"/>
                  </a:lnTo>
                  <a:lnTo>
                    <a:pt x="2830" y="5535"/>
                  </a:lnTo>
                  <a:lnTo>
                    <a:pt x="2817" y="5496"/>
                  </a:lnTo>
                  <a:lnTo>
                    <a:pt x="2805" y="5452"/>
                  </a:lnTo>
                  <a:lnTo>
                    <a:pt x="2793" y="5405"/>
                  </a:lnTo>
                  <a:lnTo>
                    <a:pt x="2782" y="5356"/>
                  </a:lnTo>
                  <a:lnTo>
                    <a:pt x="2771" y="5307"/>
                  </a:lnTo>
                  <a:lnTo>
                    <a:pt x="2763" y="5259"/>
                  </a:lnTo>
                  <a:lnTo>
                    <a:pt x="2755" y="5215"/>
                  </a:lnTo>
                  <a:lnTo>
                    <a:pt x="2750" y="5174"/>
                  </a:lnTo>
                  <a:lnTo>
                    <a:pt x="2746" y="5149"/>
                  </a:lnTo>
                  <a:lnTo>
                    <a:pt x="2742" y="5123"/>
                  </a:lnTo>
                  <a:lnTo>
                    <a:pt x="2739" y="5098"/>
                  </a:lnTo>
                  <a:lnTo>
                    <a:pt x="2737" y="5074"/>
                  </a:lnTo>
                  <a:lnTo>
                    <a:pt x="2735" y="5049"/>
                  </a:lnTo>
                  <a:lnTo>
                    <a:pt x="2734" y="5025"/>
                  </a:lnTo>
                  <a:lnTo>
                    <a:pt x="2733" y="5001"/>
                  </a:lnTo>
                  <a:lnTo>
                    <a:pt x="2732" y="4977"/>
                  </a:lnTo>
                  <a:lnTo>
                    <a:pt x="2731" y="4954"/>
                  </a:lnTo>
                  <a:lnTo>
                    <a:pt x="2730" y="4930"/>
                  </a:lnTo>
                  <a:lnTo>
                    <a:pt x="2730" y="4907"/>
                  </a:lnTo>
                  <a:lnTo>
                    <a:pt x="2728" y="4884"/>
                  </a:lnTo>
                  <a:lnTo>
                    <a:pt x="2727" y="4862"/>
                  </a:lnTo>
                  <a:lnTo>
                    <a:pt x="2726" y="4839"/>
                  </a:lnTo>
                  <a:lnTo>
                    <a:pt x="2725" y="4817"/>
                  </a:lnTo>
                  <a:lnTo>
                    <a:pt x="2724" y="4795"/>
                  </a:lnTo>
                  <a:lnTo>
                    <a:pt x="2722" y="4773"/>
                  </a:lnTo>
                  <a:lnTo>
                    <a:pt x="2720" y="4751"/>
                  </a:lnTo>
                  <a:lnTo>
                    <a:pt x="2717" y="4729"/>
                  </a:lnTo>
                  <a:lnTo>
                    <a:pt x="2713" y="4708"/>
                  </a:lnTo>
                  <a:lnTo>
                    <a:pt x="2709" y="4687"/>
                  </a:lnTo>
                  <a:lnTo>
                    <a:pt x="2704" y="4665"/>
                  </a:lnTo>
                  <a:lnTo>
                    <a:pt x="2698" y="4644"/>
                  </a:lnTo>
                  <a:lnTo>
                    <a:pt x="2692" y="4622"/>
                  </a:lnTo>
                  <a:lnTo>
                    <a:pt x="2685" y="4601"/>
                  </a:lnTo>
                  <a:lnTo>
                    <a:pt x="2676" y="4580"/>
                  </a:lnTo>
                  <a:lnTo>
                    <a:pt x="2667" y="4558"/>
                  </a:lnTo>
                  <a:lnTo>
                    <a:pt x="2657" y="4537"/>
                  </a:lnTo>
                  <a:lnTo>
                    <a:pt x="2645" y="4515"/>
                  </a:lnTo>
                  <a:lnTo>
                    <a:pt x="2632" y="4494"/>
                  </a:lnTo>
                  <a:lnTo>
                    <a:pt x="2618" y="4473"/>
                  </a:lnTo>
                  <a:lnTo>
                    <a:pt x="2602" y="4451"/>
                  </a:lnTo>
                  <a:lnTo>
                    <a:pt x="2602" y="4474"/>
                  </a:lnTo>
                  <a:lnTo>
                    <a:pt x="2602" y="4497"/>
                  </a:lnTo>
                  <a:lnTo>
                    <a:pt x="2603" y="4521"/>
                  </a:lnTo>
                  <a:lnTo>
                    <a:pt x="2603" y="4544"/>
                  </a:lnTo>
                  <a:lnTo>
                    <a:pt x="2604" y="4569"/>
                  </a:lnTo>
                  <a:lnTo>
                    <a:pt x="2605" y="4593"/>
                  </a:lnTo>
                  <a:lnTo>
                    <a:pt x="2606" y="4618"/>
                  </a:lnTo>
                  <a:lnTo>
                    <a:pt x="2607" y="4644"/>
                  </a:lnTo>
                  <a:lnTo>
                    <a:pt x="2609" y="4669"/>
                  </a:lnTo>
                  <a:lnTo>
                    <a:pt x="2611" y="4694"/>
                  </a:lnTo>
                  <a:lnTo>
                    <a:pt x="2612" y="4720"/>
                  </a:lnTo>
                  <a:lnTo>
                    <a:pt x="2614" y="4746"/>
                  </a:lnTo>
                  <a:lnTo>
                    <a:pt x="2616" y="4772"/>
                  </a:lnTo>
                  <a:lnTo>
                    <a:pt x="2618" y="4798"/>
                  </a:lnTo>
                  <a:lnTo>
                    <a:pt x="2620" y="4823"/>
                  </a:lnTo>
                  <a:lnTo>
                    <a:pt x="2624" y="4849"/>
                  </a:lnTo>
                  <a:lnTo>
                    <a:pt x="2626" y="4875"/>
                  </a:lnTo>
                  <a:lnTo>
                    <a:pt x="2629" y="4900"/>
                  </a:lnTo>
                  <a:lnTo>
                    <a:pt x="2632" y="4926"/>
                  </a:lnTo>
                  <a:lnTo>
                    <a:pt x="2635" y="4952"/>
                  </a:lnTo>
                  <a:lnTo>
                    <a:pt x="2639" y="4976"/>
                  </a:lnTo>
                  <a:lnTo>
                    <a:pt x="2643" y="5002"/>
                  </a:lnTo>
                  <a:lnTo>
                    <a:pt x="2646" y="5027"/>
                  </a:lnTo>
                  <a:lnTo>
                    <a:pt x="2650" y="5051"/>
                  </a:lnTo>
                  <a:lnTo>
                    <a:pt x="2655" y="5075"/>
                  </a:lnTo>
                  <a:lnTo>
                    <a:pt x="2659" y="5098"/>
                  </a:lnTo>
                  <a:lnTo>
                    <a:pt x="2663" y="5122"/>
                  </a:lnTo>
                  <a:lnTo>
                    <a:pt x="2667" y="5144"/>
                  </a:lnTo>
                  <a:lnTo>
                    <a:pt x="2673" y="5167"/>
                  </a:lnTo>
                  <a:lnTo>
                    <a:pt x="2677" y="5188"/>
                  </a:lnTo>
                  <a:lnTo>
                    <a:pt x="2682" y="5210"/>
                  </a:lnTo>
                  <a:lnTo>
                    <a:pt x="2688" y="5230"/>
                  </a:lnTo>
                  <a:lnTo>
                    <a:pt x="2702" y="5281"/>
                  </a:lnTo>
                  <a:lnTo>
                    <a:pt x="2716" y="5329"/>
                  </a:lnTo>
                  <a:lnTo>
                    <a:pt x="2728" y="5375"/>
                  </a:lnTo>
                  <a:lnTo>
                    <a:pt x="2741" y="5420"/>
                  </a:lnTo>
                  <a:lnTo>
                    <a:pt x="2754" y="5462"/>
                  </a:lnTo>
                  <a:lnTo>
                    <a:pt x="2766" y="5502"/>
                  </a:lnTo>
                  <a:lnTo>
                    <a:pt x="2777" y="5540"/>
                  </a:lnTo>
                  <a:lnTo>
                    <a:pt x="2788" y="5576"/>
                  </a:lnTo>
                  <a:lnTo>
                    <a:pt x="2798" y="5612"/>
                  </a:lnTo>
                  <a:lnTo>
                    <a:pt x="2808" y="5646"/>
                  </a:lnTo>
                  <a:lnTo>
                    <a:pt x="2817" y="5679"/>
                  </a:lnTo>
                  <a:lnTo>
                    <a:pt x="2826" y="5712"/>
                  </a:lnTo>
                  <a:lnTo>
                    <a:pt x="2834" y="5743"/>
                  </a:lnTo>
                  <a:lnTo>
                    <a:pt x="2842" y="5775"/>
                  </a:lnTo>
                  <a:lnTo>
                    <a:pt x="2849" y="5806"/>
                  </a:lnTo>
                  <a:lnTo>
                    <a:pt x="2856" y="5837"/>
                  </a:lnTo>
                  <a:lnTo>
                    <a:pt x="2861" y="5868"/>
                  </a:lnTo>
                  <a:lnTo>
                    <a:pt x="2865" y="5899"/>
                  </a:lnTo>
                  <a:lnTo>
                    <a:pt x="2870" y="5932"/>
                  </a:lnTo>
                  <a:lnTo>
                    <a:pt x="2874" y="5964"/>
                  </a:lnTo>
                  <a:lnTo>
                    <a:pt x="2876" y="5997"/>
                  </a:lnTo>
                  <a:lnTo>
                    <a:pt x="2878" y="6031"/>
                  </a:lnTo>
                  <a:lnTo>
                    <a:pt x="2879" y="6066"/>
                  </a:lnTo>
                  <a:lnTo>
                    <a:pt x="2880" y="6103"/>
                  </a:lnTo>
                  <a:lnTo>
                    <a:pt x="2879" y="6141"/>
                  </a:lnTo>
                  <a:lnTo>
                    <a:pt x="2878" y="6181"/>
                  </a:lnTo>
                  <a:lnTo>
                    <a:pt x="2876" y="6223"/>
                  </a:lnTo>
                  <a:lnTo>
                    <a:pt x="2874" y="6266"/>
                  </a:lnTo>
                  <a:lnTo>
                    <a:pt x="2870" y="6312"/>
                  </a:lnTo>
                  <a:lnTo>
                    <a:pt x="2865" y="6360"/>
                  </a:lnTo>
                  <a:lnTo>
                    <a:pt x="2859" y="6412"/>
                  </a:lnTo>
                  <a:lnTo>
                    <a:pt x="2853" y="6465"/>
                  </a:lnTo>
                  <a:lnTo>
                    <a:pt x="2853" y="6473"/>
                  </a:lnTo>
                  <a:lnTo>
                    <a:pt x="2854" y="6485"/>
                  </a:lnTo>
                  <a:lnTo>
                    <a:pt x="2855" y="6498"/>
                  </a:lnTo>
                  <a:lnTo>
                    <a:pt x="2856" y="6516"/>
                  </a:lnTo>
                  <a:lnTo>
                    <a:pt x="2858" y="6536"/>
                  </a:lnTo>
                  <a:lnTo>
                    <a:pt x="2860" y="6558"/>
                  </a:lnTo>
                  <a:lnTo>
                    <a:pt x="2862" y="6582"/>
                  </a:lnTo>
                  <a:lnTo>
                    <a:pt x="2867" y="6608"/>
                  </a:lnTo>
                  <a:lnTo>
                    <a:pt x="2870" y="6634"/>
                  </a:lnTo>
                  <a:lnTo>
                    <a:pt x="2874" y="6662"/>
                  </a:lnTo>
                  <a:lnTo>
                    <a:pt x="2879" y="6691"/>
                  </a:lnTo>
                  <a:lnTo>
                    <a:pt x="2885" y="6720"/>
                  </a:lnTo>
                  <a:lnTo>
                    <a:pt x="2890" y="6749"/>
                  </a:lnTo>
                  <a:lnTo>
                    <a:pt x="2896" y="6778"/>
                  </a:lnTo>
                  <a:lnTo>
                    <a:pt x="2904" y="6807"/>
                  </a:lnTo>
                  <a:lnTo>
                    <a:pt x="2911" y="6833"/>
                  </a:lnTo>
                  <a:lnTo>
                    <a:pt x="2906" y="6826"/>
                  </a:lnTo>
                  <a:lnTo>
                    <a:pt x="2901" y="6814"/>
                  </a:lnTo>
                  <a:lnTo>
                    <a:pt x="2894" y="6800"/>
                  </a:lnTo>
                  <a:lnTo>
                    <a:pt x="2888" y="6783"/>
                  </a:lnTo>
                  <a:lnTo>
                    <a:pt x="2881" y="6765"/>
                  </a:lnTo>
                  <a:lnTo>
                    <a:pt x="2874" y="6746"/>
                  </a:lnTo>
                  <a:lnTo>
                    <a:pt x="2868" y="6725"/>
                  </a:lnTo>
                  <a:lnTo>
                    <a:pt x="2860" y="6704"/>
                  </a:lnTo>
                  <a:lnTo>
                    <a:pt x="2853" y="6682"/>
                  </a:lnTo>
                  <a:lnTo>
                    <a:pt x="2846" y="6662"/>
                  </a:lnTo>
                  <a:lnTo>
                    <a:pt x="2840" y="6643"/>
                  </a:lnTo>
                  <a:lnTo>
                    <a:pt x="2834" y="6625"/>
                  </a:lnTo>
                  <a:lnTo>
                    <a:pt x="2829" y="6609"/>
                  </a:lnTo>
                  <a:lnTo>
                    <a:pt x="2824" y="6595"/>
                  </a:lnTo>
                  <a:lnTo>
                    <a:pt x="2820" y="6583"/>
                  </a:lnTo>
                  <a:lnTo>
                    <a:pt x="2817" y="6575"/>
                  </a:lnTo>
                  <a:lnTo>
                    <a:pt x="2816" y="6564"/>
                  </a:lnTo>
                  <a:lnTo>
                    <a:pt x="2814" y="6540"/>
                  </a:lnTo>
                  <a:lnTo>
                    <a:pt x="2810" y="6507"/>
                  </a:lnTo>
                  <a:lnTo>
                    <a:pt x="2804" y="6465"/>
                  </a:lnTo>
                  <a:lnTo>
                    <a:pt x="2797" y="6418"/>
                  </a:lnTo>
                  <a:lnTo>
                    <a:pt x="2789" y="6366"/>
                  </a:lnTo>
                  <a:lnTo>
                    <a:pt x="2780" y="6310"/>
                  </a:lnTo>
                  <a:lnTo>
                    <a:pt x="2770" y="6254"/>
                  </a:lnTo>
                  <a:lnTo>
                    <a:pt x="2761" y="6197"/>
                  </a:lnTo>
                  <a:lnTo>
                    <a:pt x="2750" y="6142"/>
                  </a:lnTo>
                  <a:lnTo>
                    <a:pt x="2738" y="6090"/>
                  </a:lnTo>
                  <a:lnTo>
                    <a:pt x="2727" y="6044"/>
                  </a:lnTo>
                  <a:lnTo>
                    <a:pt x="2717" y="6004"/>
                  </a:lnTo>
                  <a:lnTo>
                    <a:pt x="2705" y="5972"/>
                  </a:lnTo>
                  <a:lnTo>
                    <a:pt x="2694" y="5951"/>
                  </a:lnTo>
                  <a:lnTo>
                    <a:pt x="2685" y="5941"/>
                  </a:lnTo>
                  <a:lnTo>
                    <a:pt x="2679" y="5939"/>
                  </a:lnTo>
                  <a:lnTo>
                    <a:pt x="2674" y="5935"/>
                  </a:lnTo>
                  <a:lnTo>
                    <a:pt x="2670" y="5929"/>
                  </a:lnTo>
                  <a:lnTo>
                    <a:pt x="2664" y="5922"/>
                  </a:lnTo>
                  <a:lnTo>
                    <a:pt x="2660" y="5913"/>
                  </a:lnTo>
                  <a:lnTo>
                    <a:pt x="2655" y="5903"/>
                  </a:lnTo>
                  <a:lnTo>
                    <a:pt x="2649" y="5891"/>
                  </a:lnTo>
                  <a:lnTo>
                    <a:pt x="2645" y="5878"/>
                  </a:lnTo>
                  <a:lnTo>
                    <a:pt x="2640" y="5863"/>
                  </a:lnTo>
                  <a:lnTo>
                    <a:pt x="2635" y="5847"/>
                  </a:lnTo>
                  <a:lnTo>
                    <a:pt x="2630" y="5830"/>
                  </a:lnTo>
                  <a:lnTo>
                    <a:pt x="2625" y="5811"/>
                  </a:lnTo>
                  <a:lnTo>
                    <a:pt x="2620" y="5790"/>
                  </a:lnTo>
                  <a:lnTo>
                    <a:pt x="2615" y="5768"/>
                  </a:lnTo>
                  <a:lnTo>
                    <a:pt x="2610" y="5744"/>
                  </a:lnTo>
                  <a:lnTo>
                    <a:pt x="2604" y="5719"/>
                  </a:lnTo>
                  <a:lnTo>
                    <a:pt x="2599" y="5693"/>
                  </a:lnTo>
                  <a:lnTo>
                    <a:pt x="2594" y="5664"/>
                  </a:lnTo>
                  <a:lnTo>
                    <a:pt x="2587" y="5635"/>
                  </a:lnTo>
                  <a:lnTo>
                    <a:pt x="2582" y="5604"/>
                  </a:lnTo>
                  <a:lnTo>
                    <a:pt x="2575" y="5572"/>
                  </a:lnTo>
                  <a:lnTo>
                    <a:pt x="2569" y="5538"/>
                  </a:lnTo>
                  <a:lnTo>
                    <a:pt x="2563" y="5503"/>
                  </a:lnTo>
                  <a:lnTo>
                    <a:pt x="2556" y="5465"/>
                  </a:lnTo>
                  <a:lnTo>
                    <a:pt x="2549" y="5428"/>
                  </a:lnTo>
                  <a:lnTo>
                    <a:pt x="2541" y="5387"/>
                  </a:lnTo>
                  <a:lnTo>
                    <a:pt x="2534" y="5346"/>
                  </a:lnTo>
                  <a:lnTo>
                    <a:pt x="2526" y="5304"/>
                  </a:lnTo>
                  <a:lnTo>
                    <a:pt x="2518" y="5260"/>
                  </a:lnTo>
                  <a:lnTo>
                    <a:pt x="2510" y="5214"/>
                  </a:lnTo>
                  <a:lnTo>
                    <a:pt x="2500" y="5167"/>
                  </a:lnTo>
                  <a:lnTo>
                    <a:pt x="2492" y="5119"/>
                  </a:lnTo>
                  <a:lnTo>
                    <a:pt x="2487" y="5089"/>
                  </a:lnTo>
                  <a:lnTo>
                    <a:pt x="2480" y="5058"/>
                  </a:lnTo>
                  <a:lnTo>
                    <a:pt x="2474" y="5027"/>
                  </a:lnTo>
                  <a:lnTo>
                    <a:pt x="2466" y="4995"/>
                  </a:lnTo>
                  <a:lnTo>
                    <a:pt x="2458" y="4962"/>
                  </a:lnTo>
                  <a:lnTo>
                    <a:pt x="2449" y="4929"/>
                  </a:lnTo>
                  <a:lnTo>
                    <a:pt x="2440" y="4896"/>
                  </a:lnTo>
                  <a:lnTo>
                    <a:pt x="2431" y="4863"/>
                  </a:lnTo>
                  <a:lnTo>
                    <a:pt x="2421" y="4829"/>
                  </a:lnTo>
                  <a:lnTo>
                    <a:pt x="2413" y="4796"/>
                  </a:lnTo>
                  <a:lnTo>
                    <a:pt x="2404" y="4761"/>
                  </a:lnTo>
                  <a:lnTo>
                    <a:pt x="2396" y="4728"/>
                  </a:lnTo>
                  <a:lnTo>
                    <a:pt x="2388" y="4694"/>
                  </a:lnTo>
                  <a:lnTo>
                    <a:pt x="2382" y="4661"/>
                  </a:lnTo>
                  <a:lnTo>
                    <a:pt x="2375" y="4628"/>
                  </a:lnTo>
                  <a:lnTo>
                    <a:pt x="2370" y="4595"/>
                  </a:lnTo>
                  <a:lnTo>
                    <a:pt x="2370" y="4582"/>
                  </a:lnTo>
                  <a:lnTo>
                    <a:pt x="2369" y="4569"/>
                  </a:lnTo>
                  <a:lnTo>
                    <a:pt x="2367" y="4556"/>
                  </a:lnTo>
                  <a:lnTo>
                    <a:pt x="2364" y="4542"/>
                  </a:lnTo>
                  <a:lnTo>
                    <a:pt x="2361" y="4528"/>
                  </a:lnTo>
                  <a:lnTo>
                    <a:pt x="2358" y="4513"/>
                  </a:lnTo>
                  <a:lnTo>
                    <a:pt x="2354" y="4499"/>
                  </a:lnTo>
                  <a:lnTo>
                    <a:pt x="2351" y="4485"/>
                  </a:lnTo>
                  <a:lnTo>
                    <a:pt x="2346" y="4472"/>
                  </a:lnTo>
                  <a:lnTo>
                    <a:pt x="2342" y="4458"/>
                  </a:lnTo>
                  <a:lnTo>
                    <a:pt x="2338" y="4444"/>
                  </a:lnTo>
                  <a:lnTo>
                    <a:pt x="2333" y="4431"/>
                  </a:lnTo>
                  <a:lnTo>
                    <a:pt x="2330" y="4419"/>
                  </a:lnTo>
                  <a:lnTo>
                    <a:pt x="2326" y="4407"/>
                  </a:lnTo>
                  <a:lnTo>
                    <a:pt x="2323" y="4397"/>
                  </a:lnTo>
                  <a:lnTo>
                    <a:pt x="2321" y="4387"/>
                  </a:lnTo>
                  <a:close/>
                  <a:moveTo>
                    <a:pt x="1182" y="2817"/>
                  </a:moveTo>
                  <a:lnTo>
                    <a:pt x="1185" y="2838"/>
                  </a:lnTo>
                  <a:lnTo>
                    <a:pt x="1189" y="2859"/>
                  </a:lnTo>
                  <a:lnTo>
                    <a:pt x="1192" y="2879"/>
                  </a:lnTo>
                  <a:lnTo>
                    <a:pt x="1197" y="2898"/>
                  </a:lnTo>
                  <a:lnTo>
                    <a:pt x="1200" y="2916"/>
                  </a:lnTo>
                  <a:lnTo>
                    <a:pt x="1203" y="2932"/>
                  </a:lnTo>
                  <a:lnTo>
                    <a:pt x="1206" y="2947"/>
                  </a:lnTo>
                  <a:lnTo>
                    <a:pt x="1208" y="2960"/>
                  </a:lnTo>
                  <a:lnTo>
                    <a:pt x="1213" y="2993"/>
                  </a:lnTo>
                  <a:lnTo>
                    <a:pt x="1215" y="3028"/>
                  </a:lnTo>
                  <a:lnTo>
                    <a:pt x="1217" y="3064"/>
                  </a:lnTo>
                  <a:lnTo>
                    <a:pt x="1218" y="3100"/>
                  </a:lnTo>
                  <a:lnTo>
                    <a:pt x="1218" y="3138"/>
                  </a:lnTo>
                  <a:lnTo>
                    <a:pt x="1217" y="3175"/>
                  </a:lnTo>
                  <a:lnTo>
                    <a:pt x="1216" y="3214"/>
                  </a:lnTo>
                  <a:lnTo>
                    <a:pt x="1215" y="3252"/>
                  </a:lnTo>
                  <a:lnTo>
                    <a:pt x="1214" y="3291"/>
                  </a:lnTo>
                  <a:lnTo>
                    <a:pt x="1213" y="3329"/>
                  </a:lnTo>
                  <a:lnTo>
                    <a:pt x="1213" y="3368"/>
                  </a:lnTo>
                  <a:lnTo>
                    <a:pt x="1213" y="3405"/>
                  </a:lnTo>
                  <a:lnTo>
                    <a:pt x="1213" y="3441"/>
                  </a:lnTo>
                  <a:lnTo>
                    <a:pt x="1215" y="3478"/>
                  </a:lnTo>
                  <a:lnTo>
                    <a:pt x="1217" y="3513"/>
                  </a:lnTo>
                  <a:lnTo>
                    <a:pt x="1221" y="3546"/>
                  </a:lnTo>
                  <a:lnTo>
                    <a:pt x="1220" y="3552"/>
                  </a:lnTo>
                  <a:lnTo>
                    <a:pt x="1219" y="3558"/>
                  </a:lnTo>
                  <a:lnTo>
                    <a:pt x="1217" y="3563"/>
                  </a:lnTo>
                  <a:lnTo>
                    <a:pt x="1215" y="3570"/>
                  </a:lnTo>
                  <a:lnTo>
                    <a:pt x="1213" y="3576"/>
                  </a:lnTo>
                  <a:lnTo>
                    <a:pt x="1211" y="3583"/>
                  </a:lnTo>
                  <a:lnTo>
                    <a:pt x="1210" y="3588"/>
                  </a:lnTo>
                  <a:lnTo>
                    <a:pt x="1208" y="3594"/>
                  </a:lnTo>
                  <a:lnTo>
                    <a:pt x="1219" y="3629"/>
                  </a:lnTo>
                  <a:lnTo>
                    <a:pt x="1228" y="3665"/>
                  </a:lnTo>
                  <a:lnTo>
                    <a:pt x="1234" y="3702"/>
                  </a:lnTo>
                  <a:lnTo>
                    <a:pt x="1240" y="3743"/>
                  </a:lnTo>
                  <a:lnTo>
                    <a:pt x="1243" y="3784"/>
                  </a:lnTo>
                  <a:lnTo>
                    <a:pt x="1245" y="3827"/>
                  </a:lnTo>
                  <a:lnTo>
                    <a:pt x="1247" y="3869"/>
                  </a:lnTo>
                  <a:lnTo>
                    <a:pt x="1248" y="3913"/>
                  </a:lnTo>
                  <a:lnTo>
                    <a:pt x="1248" y="3957"/>
                  </a:lnTo>
                  <a:lnTo>
                    <a:pt x="1248" y="4001"/>
                  </a:lnTo>
                  <a:lnTo>
                    <a:pt x="1249" y="4044"/>
                  </a:lnTo>
                  <a:lnTo>
                    <a:pt x="1249" y="4086"/>
                  </a:lnTo>
                  <a:lnTo>
                    <a:pt x="1250" y="4128"/>
                  </a:lnTo>
                  <a:lnTo>
                    <a:pt x="1252" y="4169"/>
                  </a:lnTo>
                  <a:lnTo>
                    <a:pt x="1254" y="4207"/>
                  </a:lnTo>
                  <a:lnTo>
                    <a:pt x="1259" y="4245"/>
                  </a:lnTo>
                  <a:lnTo>
                    <a:pt x="1332" y="4690"/>
                  </a:lnTo>
                  <a:lnTo>
                    <a:pt x="1332" y="4696"/>
                  </a:lnTo>
                  <a:lnTo>
                    <a:pt x="1329" y="4701"/>
                  </a:lnTo>
                  <a:lnTo>
                    <a:pt x="1328" y="4708"/>
                  </a:lnTo>
                  <a:lnTo>
                    <a:pt x="1326" y="4713"/>
                  </a:lnTo>
                  <a:lnTo>
                    <a:pt x="1323" y="4719"/>
                  </a:lnTo>
                  <a:lnTo>
                    <a:pt x="1322" y="4725"/>
                  </a:lnTo>
                  <a:lnTo>
                    <a:pt x="1320" y="4730"/>
                  </a:lnTo>
                  <a:lnTo>
                    <a:pt x="1320" y="4737"/>
                  </a:lnTo>
                  <a:lnTo>
                    <a:pt x="1326" y="4759"/>
                  </a:lnTo>
                  <a:lnTo>
                    <a:pt x="1333" y="4783"/>
                  </a:lnTo>
                  <a:lnTo>
                    <a:pt x="1339" y="4810"/>
                  </a:lnTo>
                  <a:lnTo>
                    <a:pt x="1344" y="4837"/>
                  </a:lnTo>
                  <a:lnTo>
                    <a:pt x="1351" y="4867"/>
                  </a:lnTo>
                  <a:lnTo>
                    <a:pt x="1356" y="4897"/>
                  </a:lnTo>
                  <a:lnTo>
                    <a:pt x="1360" y="4928"/>
                  </a:lnTo>
                  <a:lnTo>
                    <a:pt x="1366" y="4959"/>
                  </a:lnTo>
                  <a:lnTo>
                    <a:pt x="1370" y="4990"/>
                  </a:lnTo>
                  <a:lnTo>
                    <a:pt x="1374" y="5021"/>
                  </a:lnTo>
                  <a:lnTo>
                    <a:pt x="1378" y="5051"/>
                  </a:lnTo>
                  <a:lnTo>
                    <a:pt x="1382" y="5080"/>
                  </a:lnTo>
                  <a:lnTo>
                    <a:pt x="1385" y="5108"/>
                  </a:lnTo>
                  <a:lnTo>
                    <a:pt x="1387" y="5135"/>
                  </a:lnTo>
                  <a:lnTo>
                    <a:pt x="1390" y="5159"/>
                  </a:lnTo>
                  <a:lnTo>
                    <a:pt x="1393" y="5181"/>
                  </a:lnTo>
                  <a:lnTo>
                    <a:pt x="1395" y="5205"/>
                  </a:lnTo>
                  <a:lnTo>
                    <a:pt x="1395" y="5230"/>
                  </a:lnTo>
                  <a:lnTo>
                    <a:pt x="1395" y="5256"/>
                  </a:lnTo>
                  <a:lnTo>
                    <a:pt x="1393" y="5281"/>
                  </a:lnTo>
                  <a:lnTo>
                    <a:pt x="1392" y="5308"/>
                  </a:lnTo>
                  <a:lnTo>
                    <a:pt x="1389" y="5335"/>
                  </a:lnTo>
                  <a:lnTo>
                    <a:pt x="1387" y="5361"/>
                  </a:lnTo>
                  <a:lnTo>
                    <a:pt x="1385" y="5388"/>
                  </a:lnTo>
                  <a:lnTo>
                    <a:pt x="1384" y="5415"/>
                  </a:lnTo>
                  <a:lnTo>
                    <a:pt x="1383" y="5442"/>
                  </a:lnTo>
                  <a:lnTo>
                    <a:pt x="1383" y="5468"/>
                  </a:lnTo>
                  <a:lnTo>
                    <a:pt x="1384" y="5495"/>
                  </a:lnTo>
                  <a:lnTo>
                    <a:pt x="1387" y="5521"/>
                  </a:lnTo>
                  <a:lnTo>
                    <a:pt x="1392" y="5545"/>
                  </a:lnTo>
                  <a:lnTo>
                    <a:pt x="1397" y="5571"/>
                  </a:lnTo>
                  <a:lnTo>
                    <a:pt x="1405" y="5595"/>
                  </a:lnTo>
                  <a:lnTo>
                    <a:pt x="1381" y="5628"/>
                  </a:lnTo>
                  <a:lnTo>
                    <a:pt x="1381" y="5691"/>
                  </a:lnTo>
                  <a:lnTo>
                    <a:pt x="1417" y="5738"/>
                  </a:lnTo>
                  <a:lnTo>
                    <a:pt x="1417" y="5768"/>
                  </a:lnTo>
                  <a:lnTo>
                    <a:pt x="1418" y="5800"/>
                  </a:lnTo>
                  <a:lnTo>
                    <a:pt x="1418" y="5832"/>
                  </a:lnTo>
                  <a:lnTo>
                    <a:pt x="1419" y="5864"/>
                  </a:lnTo>
                  <a:lnTo>
                    <a:pt x="1421" y="5897"/>
                  </a:lnTo>
                  <a:lnTo>
                    <a:pt x="1424" y="5932"/>
                  </a:lnTo>
                  <a:lnTo>
                    <a:pt x="1426" y="5965"/>
                  </a:lnTo>
                  <a:lnTo>
                    <a:pt x="1428" y="5999"/>
                  </a:lnTo>
                  <a:lnTo>
                    <a:pt x="1431" y="6032"/>
                  </a:lnTo>
                  <a:lnTo>
                    <a:pt x="1434" y="6065"/>
                  </a:lnTo>
                  <a:lnTo>
                    <a:pt x="1439" y="6098"/>
                  </a:lnTo>
                  <a:lnTo>
                    <a:pt x="1443" y="6129"/>
                  </a:lnTo>
                  <a:lnTo>
                    <a:pt x="1448" y="6162"/>
                  </a:lnTo>
                  <a:lnTo>
                    <a:pt x="1454" y="6191"/>
                  </a:lnTo>
                  <a:lnTo>
                    <a:pt x="1459" y="6220"/>
                  </a:lnTo>
                  <a:lnTo>
                    <a:pt x="1465" y="6248"/>
                  </a:lnTo>
                  <a:lnTo>
                    <a:pt x="1472" y="6278"/>
                  </a:lnTo>
                  <a:lnTo>
                    <a:pt x="1478" y="6310"/>
                  </a:lnTo>
                  <a:lnTo>
                    <a:pt x="1484" y="6342"/>
                  </a:lnTo>
                  <a:lnTo>
                    <a:pt x="1489" y="6377"/>
                  </a:lnTo>
                  <a:lnTo>
                    <a:pt x="1494" y="6411"/>
                  </a:lnTo>
                  <a:lnTo>
                    <a:pt x="1500" y="6445"/>
                  </a:lnTo>
                  <a:lnTo>
                    <a:pt x="1505" y="6480"/>
                  </a:lnTo>
                  <a:lnTo>
                    <a:pt x="1510" y="6516"/>
                  </a:lnTo>
                  <a:lnTo>
                    <a:pt x="1516" y="6550"/>
                  </a:lnTo>
                  <a:lnTo>
                    <a:pt x="1521" y="6584"/>
                  </a:lnTo>
                  <a:lnTo>
                    <a:pt x="1526" y="6618"/>
                  </a:lnTo>
                  <a:lnTo>
                    <a:pt x="1533" y="6651"/>
                  </a:lnTo>
                  <a:lnTo>
                    <a:pt x="1540" y="6684"/>
                  </a:lnTo>
                  <a:lnTo>
                    <a:pt x="1548" y="6713"/>
                  </a:lnTo>
                  <a:lnTo>
                    <a:pt x="1556" y="6742"/>
                  </a:lnTo>
                  <a:lnTo>
                    <a:pt x="1565" y="6770"/>
                  </a:lnTo>
                  <a:lnTo>
                    <a:pt x="1575" y="6780"/>
                  </a:lnTo>
                  <a:lnTo>
                    <a:pt x="1584" y="6786"/>
                  </a:lnTo>
                  <a:lnTo>
                    <a:pt x="1595" y="6792"/>
                  </a:lnTo>
                  <a:lnTo>
                    <a:pt x="1607" y="6795"/>
                  </a:lnTo>
                  <a:lnTo>
                    <a:pt x="1617" y="6798"/>
                  </a:lnTo>
                  <a:lnTo>
                    <a:pt x="1629" y="6802"/>
                  </a:lnTo>
                  <a:lnTo>
                    <a:pt x="1640" y="6809"/>
                  </a:lnTo>
                  <a:lnTo>
                    <a:pt x="1649" y="6819"/>
                  </a:lnTo>
                  <a:lnTo>
                    <a:pt x="1647" y="6833"/>
                  </a:lnTo>
                  <a:lnTo>
                    <a:pt x="1648" y="6853"/>
                  </a:lnTo>
                  <a:lnTo>
                    <a:pt x="1653" y="6875"/>
                  </a:lnTo>
                  <a:lnTo>
                    <a:pt x="1660" y="6899"/>
                  </a:lnTo>
                  <a:lnTo>
                    <a:pt x="1669" y="6922"/>
                  </a:lnTo>
                  <a:lnTo>
                    <a:pt x="1678" y="6945"/>
                  </a:lnTo>
                  <a:lnTo>
                    <a:pt x="1689" y="6964"/>
                  </a:lnTo>
                  <a:lnTo>
                    <a:pt x="1699" y="6979"/>
                  </a:lnTo>
                  <a:lnTo>
                    <a:pt x="1703" y="6979"/>
                  </a:lnTo>
                  <a:lnTo>
                    <a:pt x="1710" y="6980"/>
                  </a:lnTo>
                  <a:lnTo>
                    <a:pt x="1719" y="6982"/>
                  </a:lnTo>
                  <a:lnTo>
                    <a:pt x="1730" y="6984"/>
                  </a:lnTo>
                  <a:lnTo>
                    <a:pt x="1742" y="6986"/>
                  </a:lnTo>
                  <a:lnTo>
                    <a:pt x="1754" y="6989"/>
                  </a:lnTo>
                  <a:lnTo>
                    <a:pt x="1767" y="6992"/>
                  </a:lnTo>
                  <a:lnTo>
                    <a:pt x="1782" y="6995"/>
                  </a:lnTo>
                  <a:lnTo>
                    <a:pt x="1796" y="6997"/>
                  </a:lnTo>
                  <a:lnTo>
                    <a:pt x="1811" y="6999"/>
                  </a:lnTo>
                  <a:lnTo>
                    <a:pt x="1826" y="7000"/>
                  </a:lnTo>
                  <a:lnTo>
                    <a:pt x="1840" y="7001"/>
                  </a:lnTo>
                  <a:lnTo>
                    <a:pt x="1854" y="7001"/>
                  </a:lnTo>
                  <a:lnTo>
                    <a:pt x="1867" y="7000"/>
                  </a:lnTo>
                  <a:lnTo>
                    <a:pt x="1877" y="6999"/>
                  </a:lnTo>
                  <a:lnTo>
                    <a:pt x="1888" y="6996"/>
                  </a:lnTo>
                  <a:lnTo>
                    <a:pt x="1886" y="6983"/>
                  </a:lnTo>
                  <a:lnTo>
                    <a:pt x="1880" y="6971"/>
                  </a:lnTo>
                  <a:lnTo>
                    <a:pt x="1869" y="6959"/>
                  </a:lnTo>
                  <a:lnTo>
                    <a:pt x="1856" y="6949"/>
                  </a:lnTo>
                  <a:lnTo>
                    <a:pt x="1841" y="6938"/>
                  </a:lnTo>
                  <a:lnTo>
                    <a:pt x="1823" y="6928"/>
                  </a:lnTo>
                  <a:lnTo>
                    <a:pt x="1805" y="6918"/>
                  </a:lnTo>
                  <a:lnTo>
                    <a:pt x="1785" y="6907"/>
                  </a:lnTo>
                  <a:lnTo>
                    <a:pt x="1767" y="6896"/>
                  </a:lnTo>
                  <a:lnTo>
                    <a:pt x="1748" y="6884"/>
                  </a:lnTo>
                  <a:lnTo>
                    <a:pt x="1732" y="6871"/>
                  </a:lnTo>
                  <a:lnTo>
                    <a:pt x="1716" y="6857"/>
                  </a:lnTo>
                  <a:lnTo>
                    <a:pt x="1703" y="6842"/>
                  </a:lnTo>
                  <a:lnTo>
                    <a:pt x="1693" y="6825"/>
                  </a:lnTo>
                  <a:lnTo>
                    <a:pt x="1688" y="6807"/>
                  </a:lnTo>
                  <a:lnTo>
                    <a:pt x="1686" y="6786"/>
                  </a:lnTo>
                  <a:lnTo>
                    <a:pt x="1737" y="6800"/>
                  </a:lnTo>
                  <a:lnTo>
                    <a:pt x="1785" y="6810"/>
                  </a:lnTo>
                  <a:lnTo>
                    <a:pt x="1829" y="6817"/>
                  </a:lnTo>
                  <a:lnTo>
                    <a:pt x="1870" y="6821"/>
                  </a:lnTo>
                  <a:lnTo>
                    <a:pt x="1904" y="6823"/>
                  </a:lnTo>
                  <a:lnTo>
                    <a:pt x="1934" y="6823"/>
                  </a:lnTo>
                  <a:lnTo>
                    <a:pt x="1958" y="6819"/>
                  </a:lnTo>
                  <a:lnTo>
                    <a:pt x="1974" y="6814"/>
                  </a:lnTo>
                  <a:lnTo>
                    <a:pt x="1983" y="6808"/>
                  </a:lnTo>
                  <a:lnTo>
                    <a:pt x="1983" y="6800"/>
                  </a:lnTo>
                  <a:lnTo>
                    <a:pt x="1976" y="6792"/>
                  </a:lnTo>
                  <a:lnTo>
                    <a:pt x="1959" y="6782"/>
                  </a:lnTo>
                  <a:lnTo>
                    <a:pt x="1931" y="6771"/>
                  </a:lnTo>
                  <a:lnTo>
                    <a:pt x="1894" y="6761"/>
                  </a:lnTo>
                  <a:lnTo>
                    <a:pt x="1843" y="6750"/>
                  </a:lnTo>
                  <a:lnTo>
                    <a:pt x="1782" y="6739"/>
                  </a:lnTo>
                  <a:lnTo>
                    <a:pt x="1803" y="6727"/>
                  </a:lnTo>
                  <a:lnTo>
                    <a:pt x="1819" y="6718"/>
                  </a:lnTo>
                  <a:lnTo>
                    <a:pt x="1831" y="6707"/>
                  </a:lnTo>
                  <a:lnTo>
                    <a:pt x="1842" y="6695"/>
                  </a:lnTo>
                  <a:lnTo>
                    <a:pt x="1853" y="6684"/>
                  </a:lnTo>
                  <a:lnTo>
                    <a:pt x="1864" y="6669"/>
                  </a:lnTo>
                  <a:lnTo>
                    <a:pt x="1877" y="6650"/>
                  </a:lnTo>
                  <a:lnTo>
                    <a:pt x="1894" y="6629"/>
                  </a:lnTo>
                  <a:lnTo>
                    <a:pt x="1869" y="6613"/>
                  </a:lnTo>
                  <a:lnTo>
                    <a:pt x="1845" y="6598"/>
                  </a:lnTo>
                  <a:lnTo>
                    <a:pt x="1823" y="6582"/>
                  </a:lnTo>
                  <a:lnTo>
                    <a:pt x="1800" y="6567"/>
                  </a:lnTo>
                  <a:lnTo>
                    <a:pt x="1779" y="6552"/>
                  </a:lnTo>
                  <a:lnTo>
                    <a:pt x="1758" y="6536"/>
                  </a:lnTo>
                  <a:lnTo>
                    <a:pt x="1737" y="6520"/>
                  </a:lnTo>
                  <a:lnTo>
                    <a:pt x="1717" y="6503"/>
                  </a:lnTo>
                  <a:lnTo>
                    <a:pt x="1697" y="6486"/>
                  </a:lnTo>
                  <a:lnTo>
                    <a:pt x="1676" y="6466"/>
                  </a:lnTo>
                  <a:lnTo>
                    <a:pt x="1656" y="6447"/>
                  </a:lnTo>
                  <a:lnTo>
                    <a:pt x="1636" y="6426"/>
                  </a:lnTo>
                  <a:lnTo>
                    <a:pt x="1615" y="6403"/>
                  </a:lnTo>
                  <a:lnTo>
                    <a:pt x="1594" y="6380"/>
                  </a:lnTo>
                  <a:lnTo>
                    <a:pt x="1572" y="6354"/>
                  </a:lnTo>
                  <a:lnTo>
                    <a:pt x="1551" y="6326"/>
                  </a:lnTo>
                  <a:lnTo>
                    <a:pt x="1551" y="6313"/>
                  </a:lnTo>
                  <a:lnTo>
                    <a:pt x="1551" y="6300"/>
                  </a:lnTo>
                  <a:lnTo>
                    <a:pt x="1552" y="6286"/>
                  </a:lnTo>
                  <a:lnTo>
                    <a:pt x="1553" y="6271"/>
                  </a:lnTo>
                  <a:lnTo>
                    <a:pt x="1554" y="6257"/>
                  </a:lnTo>
                  <a:lnTo>
                    <a:pt x="1556" y="6242"/>
                  </a:lnTo>
                  <a:lnTo>
                    <a:pt x="1560" y="6228"/>
                  </a:lnTo>
                  <a:lnTo>
                    <a:pt x="1564" y="6215"/>
                  </a:lnTo>
                  <a:lnTo>
                    <a:pt x="1588" y="6239"/>
                  </a:lnTo>
                  <a:lnTo>
                    <a:pt x="1612" y="6255"/>
                  </a:lnTo>
                  <a:lnTo>
                    <a:pt x="1634" y="6264"/>
                  </a:lnTo>
                  <a:lnTo>
                    <a:pt x="1657" y="6267"/>
                  </a:lnTo>
                  <a:lnTo>
                    <a:pt x="1677" y="6266"/>
                  </a:lnTo>
                  <a:lnTo>
                    <a:pt x="1699" y="6260"/>
                  </a:lnTo>
                  <a:lnTo>
                    <a:pt x="1719" y="6251"/>
                  </a:lnTo>
                  <a:lnTo>
                    <a:pt x="1740" y="6240"/>
                  </a:lnTo>
                  <a:lnTo>
                    <a:pt x="1761" y="6226"/>
                  </a:lnTo>
                  <a:lnTo>
                    <a:pt x="1783" y="6211"/>
                  </a:lnTo>
                  <a:lnTo>
                    <a:pt x="1806" y="6197"/>
                  </a:lnTo>
                  <a:lnTo>
                    <a:pt x="1829" y="6183"/>
                  </a:lnTo>
                  <a:lnTo>
                    <a:pt x="1855" y="6170"/>
                  </a:lnTo>
                  <a:lnTo>
                    <a:pt x="1882" y="6160"/>
                  </a:lnTo>
                  <a:lnTo>
                    <a:pt x="1911" y="6154"/>
                  </a:lnTo>
                  <a:lnTo>
                    <a:pt x="1942" y="6152"/>
                  </a:lnTo>
                  <a:lnTo>
                    <a:pt x="1946" y="6164"/>
                  </a:lnTo>
                  <a:lnTo>
                    <a:pt x="1950" y="6177"/>
                  </a:lnTo>
                  <a:lnTo>
                    <a:pt x="1955" y="6190"/>
                  </a:lnTo>
                  <a:lnTo>
                    <a:pt x="1958" y="6204"/>
                  </a:lnTo>
                  <a:lnTo>
                    <a:pt x="1962" y="6218"/>
                  </a:lnTo>
                  <a:lnTo>
                    <a:pt x="1965" y="6233"/>
                  </a:lnTo>
                  <a:lnTo>
                    <a:pt x="1968" y="6248"/>
                  </a:lnTo>
                  <a:lnTo>
                    <a:pt x="1973" y="6263"/>
                  </a:lnTo>
                  <a:lnTo>
                    <a:pt x="1976" y="6278"/>
                  </a:lnTo>
                  <a:lnTo>
                    <a:pt x="1979" y="6292"/>
                  </a:lnTo>
                  <a:lnTo>
                    <a:pt x="1982" y="6307"/>
                  </a:lnTo>
                  <a:lnTo>
                    <a:pt x="1987" y="6321"/>
                  </a:lnTo>
                  <a:lnTo>
                    <a:pt x="1990" y="6336"/>
                  </a:lnTo>
                  <a:lnTo>
                    <a:pt x="1994" y="6349"/>
                  </a:lnTo>
                  <a:lnTo>
                    <a:pt x="1998" y="6362"/>
                  </a:lnTo>
                  <a:lnTo>
                    <a:pt x="2003" y="6374"/>
                  </a:lnTo>
                  <a:lnTo>
                    <a:pt x="2019" y="6406"/>
                  </a:lnTo>
                  <a:lnTo>
                    <a:pt x="2036" y="6430"/>
                  </a:lnTo>
                  <a:lnTo>
                    <a:pt x="2055" y="6446"/>
                  </a:lnTo>
                  <a:lnTo>
                    <a:pt x="2074" y="6455"/>
                  </a:lnTo>
                  <a:lnTo>
                    <a:pt x="2095" y="6457"/>
                  </a:lnTo>
                  <a:lnTo>
                    <a:pt x="2113" y="6452"/>
                  </a:lnTo>
                  <a:lnTo>
                    <a:pt x="2130" y="6443"/>
                  </a:lnTo>
                  <a:lnTo>
                    <a:pt x="2145" y="6426"/>
                  </a:lnTo>
                  <a:lnTo>
                    <a:pt x="2157" y="6404"/>
                  </a:lnTo>
                  <a:lnTo>
                    <a:pt x="2165" y="6379"/>
                  </a:lnTo>
                  <a:lnTo>
                    <a:pt x="2169" y="6348"/>
                  </a:lnTo>
                  <a:lnTo>
                    <a:pt x="2169" y="6311"/>
                  </a:lnTo>
                  <a:lnTo>
                    <a:pt x="2161" y="6273"/>
                  </a:lnTo>
                  <a:lnTo>
                    <a:pt x="2148" y="6230"/>
                  </a:lnTo>
                  <a:lnTo>
                    <a:pt x="2129" y="6184"/>
                  </a:lnTo>
                  <a:lnTo>
                    <a:pt x="2101" y="6135"/>
                  </a:lnTo>
                  <a:lnTo>
                    <a:pt x="2099" y="6132"/>
                  </a:lnTo>
                  <a:lnTo>
                    <a:pt x="2092" y="6121"/>
                  </a:lnTo>
                  <a:lnTo>
                    <a:pt x="2081" y="6106"/>
                  </a:lnTo>
                  <a:lnTo>
                    <a:pt x="2067" y="6086"/>
                  </a:lnTo>
                  <a:lnTo>
                    <a:pt x="2050" y="6061"/>
                  </a:lnTo>
                  <a:lnTo>
                    <a:pt x="2032" y="6034"/>
                  </a:lnTo>
                  <a:lnTo>
                    <a:pt x="2012" y="6006"/>
                  </a:lnTo>
                  <a:lnTo>
                    <a:pt x="1992" y="5976"/>
                  </a:lnTo>
                  <a:lnTo>
                    <a:pt x="1971" y="5947"/>
                  </a:lnTo>
                  <a:lnTo>
                    <a:pt x="1951" y="5919"/>
                  </a:lnTo>
                  <a:lnTo>
                    <a:pt x="1933" y="5892"/>
                  </a:lnTo>
                  <a:lnTo>
                    <a:pt x="1916" y="5867"/>
                  </a:lnTo>
                  <a:lnTo>
                    <a:pt x="1902" y="5847"/>
                  </a:lnTo>
                  <a:lnTo>
                    <a:pt x="1891" y="5832"/>
                  </a:lnTo>
                  <a:lnTo>
                    <a:pt x="1884" y="5821"/>
                  </a:lnTo>
                  <a:lnTo>
                    <a:pt x="1882" y="5818"/>
                  </a:lnTo>
                  <a:lnTo>
                    <a:pt x="1871" y="5791"/>
                  </a:lnTo>
                  <a:lnTo>
                    <a:pt x="1858" y="5765"/>
                  </a:lnTo>
                  <a:lnTo>
                    <a:pt x="1844" y="5739"/>
                  </a:lnTo>
                  <a:lnTo>
                    <a:pt x="1828" y="5713"/>
                  </a:lnTo>
                  <a:lnTo>
                    <a:pt x="1810" y="5687"/>
                  </a:lnTo>
                  <a:lnTo>
                    <a:pt x="1792" y="5661"/>
                  </a:lnTo>
                  <a:lnTo>
                    <a:pt x="1773" y="5635"/>
                  </a:lnTo>
                  <a:lnTo>
                    <a:pt x="1753" y="5610"/>
                  </a:lnTo>
                  <a:lnTo>
                    <a:pt x="1734" y="5583"/>
                  </a:lnTo>
                  <a:lnTo>
                    <a:pt x="1715" y="5556"/>
                  </a:lnTo>
                  <a:lnTo>
                    <a:pt x="1696" y="5529"/>
                  </a:lnTo>
                  <a:lnTo>
                    <a:pt x="1678" y="5503"/>
                  </a:lnTo>
                  <a:lnTo>
                    <a:pt x="1662" y="5475"/>
                  </a:lnTo>
                  <a:lnTo>
                    <a:pt x="1647" y="5447"/>
                  </a:lnTo>
                  <a:lnTo>
                    <a:pt x="1634" y="5418"/>
                  </a:lnTo>
                  <a:lnTo>
                    <a:pt x="1624" y="5388"/>
                  </a:lnTo>
                  <a:lnTo>
                    <a:pt x="1617" y="5366"/>
                  </a:lnTo>
                  <a:lnTo>
                    <a:pt x="1610" y="5341"/>
                  </a:lnTo>
                  <a:lnTo>
                    <a:pt x="1603" y="5314"/>
                  </a:lnTo>
                  <a:lnTo>
                    <a:pt x="1597" y="5286"/>
                  </a:lnTo>
                  <a:lnTo>
                    <a:pt x="1590" y="5256"/>
                  </a:lnTo>
                  <a:lnTo>
                    <a:pt x="1582" y="5225"/>
                  </a:lnTo>
                  <a:lnTo>
                    <a:pt x="1575" y="5194"/>
                  </a:lnTo>
                  <a:lnTo>
                    <a:pt x="1567" y="5161"/>
                  </a:lnTo>
                  <a:lnTo>
                    <a:pt x="1558" y="5130"/>
                  </a:lnTo>
                  <a:lnTo>
                    <a:pt x="1550" y="5100"/>
                  </a:lnTo>
                  <a:lnTo>
                    <a:pt x="1541" y="5072"/>
                  </a:lnTo>
                  <a:lnTo>
                    <a:pt x="1532" y="5044"/>
                  </a:lnTo>
                  <a:lnTo>
                    <a:pt x="1522" y="5019"/>
                  </a:lnTo>
                  <a:lnTo>
                    <a:pt x="1511" y="4996"/>
                  </a:lnTo>
                  <a:lnTo>
                    <a:pt x="1501" y="4976"/>
                  </a:lnTo>
                  <a:lnTo>
                    <a:pt x="1490" y="4959"/>
                  </a:lnTo>
                  <a:lnTo>
                    <a:pt x="1501" y="4973"/>
                  </a:lnTo>
                  <a:lnTo>
                    <a:pt x="1511" y="4986"/>
                  </a:lnTo>
                  <a:lnTo>
                    <a:pt x="1522" y="4998"/>
                  </a:lnTo>
                  <a:lnTo>
                    <a:pt x="1533" y="5008"/>
                  </a:lnTo>
                  <a:lnTo>
                    <a:pt x="1542" y="5017"/>
                  </a:lnTo>
                  <a:lnTo>
                    <a:pt x="1552" y="5026"/>
                  </a:lnTo>
                  <a:lnTo>
                    <a:pt x="1562" y="5033"/>
                  </a:lnTo>
                  <a:lnTo>
                    <a:pt x="1571" y="5038"/>
                  </a:lnTo>
                  <a:lnTo>
                    <a:pt x="1582" y="5044"/>
                  </a:lnTo>
                  <a:lnTo>
                    <a:pt x="1592" y="5048"/>
                  </a:lnTo>
                  <a:lnTo>
                    <a:pt x="1602" y="5051"/>
                  </a:lnTo>
                  <a:lnTo>
                    <a:pt x="1613" y="5054"/>
                  </a:lnTo>
                  <a:lnTo>
                    <a:pt x="1625" y="5057"/>
                  </a:lnTo>
                  <a:lnTo>
                    <a:pt x="1637" y="5058"/>
                  </a:lnTo>
                  <a:lnTo>
                    <a:pt x="1649" y="5059"/>
                  </a:lnTo>
                  <a:lnTo>
                    <a:pt x="1662" y="5059"/>
                  </a:lnTo>
                  <a:lnTo>
                    <a:pt x="1674" y="5050"/>
                  </a:lnTo>
                  <a:lnTo>
                    <a:pt x="1683" y="5037"/>
                  </a:lnTo>
                  <a:lnTo>
                    <a:pt x="1688" y="5021"/>
                  </a:lnTo>
                  <a:lnTo>
                    <a:pt x="1689" y="5002"/>
                  </a:lnTo>
                  <a:lnTo>
                    <a:pt x="1687" y="4980"/>
                  </a:lnTo>
                  <a:lnTo>
                    <a:pt x="1683" y="4953"/>
                  </a:lnTo>
                  <a:lnTo>
                    <a:pt x="1675" y="4924"/>
                  </a:lnTo>
                  <a:lnTo>
                    <a:pt x="1666" y="4892"/>
                  </a:lnTo>
                  <a:lnTo>
                    <a:pt x="1653" y="4858"/>
                  </a:lnTo>
                  <a:lnTo>
                    <a:pt x="1639" y="4821"/>
                  </a:lnTo>
                  <a:lnTo>
                    <a:pt x="1623" y="4782"/>
                  </a:lnTo>
                  <a:lnTo>
                    <a:pt x="1605" y="4741"/>
                  </a:lnTo>
                  <a:lnTo>
                    <a:pt x="1586" y="4698"/>
                  </a:lnTo>
                  <a:lnTo>
                    <a:pt x="1566" y="4653"/>
                  </a:lnTo>
                  <a:lnTo>
                    <a:pt x="1545" y="4607"/>
                  </a:lnTo>
                  <a:lnTo>
                    <a:pt x="1523" y="4560"/>
                  </a:lnTo>
                  <a:lnTo>
                    <a:pt x="1501" y="4512"/>
                  </a:lnTo>
                  <a:lnTo>
                    <a:pt x="1478" y="4463"/>
                  </a:lnTo>
                  <a:lnTo>
                    <a:pt x="1456" y="4413"/>
                  </a:lnTo>
                  <a:lnTo>
                    <a:pt x="1434" y="4362"/>
                  </a:lnTo>
                  <a:lnTo>
                    <a:pt x="1412" y="4311"/>
                  </a:lnTo>
                  <a:lnTo>
                    <a:pt x="1392" y="4261"/>
                  </a:lnTo>
                  <a:lnTo>
                    <a:pt x="1371" y="4209"/>
                  </a:lnTo>
                  <a:lnTo>
                    <a:pt x="1352" y="4158"/>
                  </a:lnTo>
                  <a:lnTo>
                    <a:pt x="1335" y="4108"/>
                  </a:lnTo>
                  <a:lnTo>
                    <a:pt x="1319" y="4059"/>
                  </a:lnTo>
                  <a:lnTo>
                    <a:pt x="1305" y="4009"/>
                  </a:lnTo>
                  <a:lnTo>
                    <a:pt x="1293" y="3961"/>
                  </a:lnTo>
                  <a:lnTo>
                    <a:pt x="1282" y="3914"/>
                  </a:lnTo>
                  <a:lnTo>
                    <a:pt x="1276" y="3869"/>
                  </a:lnTo>
                  <a:lnTo>
                    <a:pt x="1271" y="3825"/>
                  </a:lnTo>
                  <a:lnTo>
                    <a:pt x="1269" y="3783"/>
                  </a:lnTo>
                  <a:lnTo>
                    <a:pt x="1236" y="3627"/>
                  </a:lnTo>
                  <a:lnTo>
                    <a:pt x="1249" y="3650"/>
                  </a:lnTo>
                  <a:lnTo>
                    <a:pt x="1264" y="3666"/>
                  </a:lnTo>
                  <a:lnTo>
                    <a:pt x="1280" y="3676"/>
                  </a:lnTo>
                  <a:lnTo>
                    <a:pt x="1298" y="3681"/>
                  </a:lnTo>
                  <a:lnTo>
                    <a:pt x="1317" y="3682"/>
                  </a:lnTo>
                  <a:lnTo>
                    <a:pt x="1335" y="3682"/>
                  </a:lnTo>
                  <a:lnTo>
                    <a:pt x="1353" y="3681"/>
                  </a:lnTo>
                  <a:lnTo>
                    <a:pt x="1370" y="3680"/>
                  </a:lnTo>
                  <a:lnTo>
                    <a:pt x="1380" y="3778"/>
                  </a:lnTo>
                  <a:lnTo>
                    <a:pt x="1392" y="3871"/>
                  </a:lnTo>
                  <a:lnTo>
                    <a:pt x="1404" y="3958"/>
                  </a:lnTo>
                  <a:lnTo>
                    <a:pt x="1419" y="4039"/>
                  </a:lnTo>
                  <a:lnTo>
                    <a:pt x="1435" y="4115"/>
                  </a:lnTo>
                  <a:lnTo>
                    <a:pt x="1453" y="4185"/>
                  </a:lnTo>
                  <a:lnTo>
                    <a:pt x="1471" y="4250"/>
                  </a:lnTo>
                  <a:lnTo>
                    <a:pt x="1491" y="4311"/>
                  </a:lnTo>
                  <a:lnTo>
                    <a:pt x="1511" y="4366"/>
                  </a:lnTo>
                  <a:lnTo>
                    <a:pt x="1532" y="4417"/>
                  </a:lnTo>
                  <a:lnTo>
                    <a:pt x="1554" y="4463"/>
                  </a:lnTo>
                  <a:lnTo>
                    <a:pt x="1576" y="4505"/>
                  </a:lnTo>
                  <a:lnTo>
                    <a:pt x="1599" y="4542"/>
                  </a:lnTo>
                  <a:lnTo>
                    <a:pt x="1622" y="4576"/>
                  </a:lnTo>
                  <a:lnTo>
                    <a:pt x="1644" y="4606"/>
                  </a:lnTo>
                  <a:lnTo>
                    <a:pt x="1668" y="4632"/>
                  </a:lnTo>
                  <a:lnTo>
                    <a:pt x="1690" y="4654"/>
                  </a:lnTo>
                  <a:lnTo>
                    <a:pt x="1713" y="4675"/>
                  </a:lnTo>
                  <a:lnTo>
                    <a:pt x="1734" y="4691"/>
                  </a:lnTo>
                  <a:lnTo>
                    <a:pt x="1755" y="4704"/>
                  </a:lnTo>
                  <a:lnTo>
                    <a:pt x="1777" y="4714"/>
                  </a:lnTo>
                  <a:lnTo>
                    <a:pt x="1796" y="4722"/>
                  </a:lnTo>
                  <a:lnTo>
                    <a:pt x="1815" y="4727"/>
                  </a:lnTo>
                  <a:lnTo>
                    <a:pt x="1834" y="4729"/>
                  </a:lnTo>
                  <a:lnTo>
                    <a:pt x="1850" y="4730"/>
                  </a:lnTo>
                  <a:lnTo>
                    <a:pt x="1866" y="4729"/>
                  </a:lnTo>
                  <a:lnTo>
                    <a:pt x="1880" y="4726"/>
                  </a:lnTo>
                  <a:lnTo>
                    <a:pt x="1891" y="4721"/>
                  </a:lnTo>
                  <a:lnTo>
                    <a:pt x="1902" y="4714"/>
                  </a:lnTo>
                  <a:lnTo>
                    <a:pt x="1911" y="4707"/>
                  </a:lnTo>
                  <a:lnTo>
                    <a:pt x="1917" y="4697"/>
                  </a:lnTo>
                  <a:lnTo>
                    <a:pt x="1921" y="4688"/>
                  </a:lnTo>
                  <a:lnTo>
                    <a:pt x="1922" y="4677"/>
                  </a:lnTo>
                  <a:lnTo>
                    <a:pt x="1920" y="4664"/>
                  </a:lnTo>
                  <a:lnTo>
                    <a:pt x="1915" y="4651"/>
                  </a:lnTo>
                  <a:lnTo>
                    <a:pt x="1906" y="4636"/>
                  </a:lnTo>
                  <a:lnTo>
                    <a:pt x="1896" y="4621"/>
                  </a:lnTo>
                  <a:lnTo>
                    <a:pt x="1882" y="4604"/>
                  </a:lnTo>
                  <a:lnTo>
                    <a:pt x="1867" y="4586"/>
                  </a:lnTo>
                  <a:lnTo>
                    <a:pt x="1850" y="4568"/>
                  </a:lnTo>
                  <a:lnTo>
                    <a:pt x="1830" y="4549"/>
                  </a:lnTo>
                  <a:lnTo>
                    <a:pt x="1811" y="4527"/>
                  </a:lnTo>
                  <a:lnTo>
                    <a:pt x="1790" y="4506"/>
                  </a:lnTo>
                  <a:lnTo>
                    <a:pt x="1768" y="4483"/>
                  </a:lnTo>
                  <a:lnTo>
                    <a:pt x="1746" y="4461"/>
                  </a:lnTo>
                  <a:lnTo>
                    <a:pt x="1723" y="4437"/>
                  </a:lnTo>
                  <a:lnTo>
                    <a:pt x="1701" y="4412"/>
                  </a:lnTo>
                  <a:lnTo>
                    <a:pt x="1678" y="4387"/>
                  </a:lnTo>
                  <a:lnTo>
                    <a:pt x="1657" y="4360"/>
                  </a:lnTo>
                  <a:lnTo>
                    <a:pt x="1637" y="4334"/>
                  </a:lnTo>
                  <a:lnTo>
                    <a:pt x="1617" y="4307"/>
                  </a:lnTo>
                  <a:lnTo>
                    <a:pt x="1599" y="4279"/>
                  </a:lnTo>
                  <a:lnTo>
                    <a:pt x="1582" y="4250"/>
                  </a:lnTo>
                  <a:lnTo>
                    <a:pt x="1568" y="4221"/>
                  </a:lnTo>
                  <a:lnTo>
                    <a:pt x="1555" y="4192"/>
                  </a:lnTo>
                  <a:lnTo>
                    <a:pt x="1546" y="4162"/>
                  </a:lnTo>
                  <a:lnTo>
                    <a:pt x="1539" y="4131"/>
                  </a:lnTo>
                  <a:lnTo>
                    <a:pt x="1535" y="4101"/>
                  </a:lnTo>
                  <a:lnTo>
                    <a:pt x="1534" y="4070"/>
                  </a:lnTo>
                  <a:lnTo>
                    <a:pt x="1537" y="4038"/>
                  </a:lnTo>
                  <a:lnTo>
                    <a:pt x="1544" y="4007"/>
                  </a:lnTo>
                  <a:lnTo>
                    <a:pt x="1554" y="3975"/>
                  </a:lnTo>
                  <a:lnTo>
                    <a:pt x="1569" y="3943"/>
                  </a:lnTo>
                  <a:lnTo>
                    <a:pt x="1588" y="3911"/>
                  </a:lnTo>
                  <a:lnTo>
                    <a:pt x="1572" y="3877"/>
                  </a:lnTo>
                  <a:lnTo>
                    <a:pt x="1561" y="3847"/>
                  </a:lnTo>
                  <a:lnTo>
                    <a:pt x="1554" y="3820"/>
                  </a:lnTo>
                  <a:lnTo>
                    <a:pt x="1551" y="3798"/>
                  </a:lnTo>
                  <a:lnTo>
                    <a:pt x="1551" y="3778"/>
                  </a:lnTo>
                  <a:lnTo>
                    <a:pt x="1555" y="3761"/>
                  </a:lnTo>
                  <a:lnTo>
                    <a:pt x="1562" y="3747"/>
                  </a:lnTo>
                  <a:lnTo>
                    <a:pt x="1570" y="3736"/>
                  </a:lnTo>
                  <a:lnTo>
                    <a:pt x="1582" y="3727"/>
                  </a:lnTo>
                  <a:lnTo>
                    <a:pt x="1594" y="3720"/>
                  </a:lnTo>
                  <a:lnTo>
                    <a:pt x="1608" y="3714"/>
                  </a:lnTo>
                  <a:lnTo>
                    <a:pt x="1623" y="3711"/>
                  </a:lnTo>
                  <a:lnTo>
                    <a:pt x="1638" y="3708"/>
                  </a:lnTo>
                  <a:lnTo>
                    <a:pt x="1653" y="3707"/>
                  </a:lnTo>
                  <a:lnTo>
                    <a:pt x="1667" y="3706"/>
                  </a:lnTo>
                  <a:lnTo>
                    <a:pt x="1681" y="3706"/>
                  </a:lnTo>
                  <a:lnTo>
                    <a:pt x="1748" y="3625"/>
                  </a:lnTo>
                  <a:lnTo>
                    <a:pt x="1767" y="3646"/>
                  </a:lnTo>
                  <a:lnTo>
                    <a:pt x="1785" y="3675"/>
                  </a:lnTo>
                  <a:lnTo>
                    <a:pt x="1805" y="3710"/>
                  </a:lnTo>
                  <a:lnTo>
                    <a:pt x="1825" y="3751"/>
                  </a:lnTo>
                  <a:lnTo>
                    <a:pt x="1846" y="3796"/>
                  </a:lnTo>
                  <a:lnTo>
                    <a:pt x="1868" y="3842"/>
                  </a:lnTo>
                  <a:lnTo>
                    <a:pt x="1890" y="3890"/>
                  </a:lnTo>
                  <a:lnTo>
                    <a:pt x="1915" y="3936"/>
                  </a:lnTo>
                  <a:lnTo>
                    <a:pt x="1941" y="3981"/>
                  </a:lnTo>
                  <a:lnTo>
                    <a:pt x="1967" y="4022"/>
                  </a:lnTo>
                  <a:lnTo>
                    <a:pt x="1997" y="4059"/>
                  </a:lnTo>
                  <a:lnTo>
                    <a:pt x="2028" y="4089"/>
                  </a:lnTo>
                  <a:lnTo>
                    <a:pt x="2062" y="4111"/>
                  </a:lnTo>
                  <a:lnTo>
                    <a:pt x="2097" y="4125"/>
                  </a:lnTo>
                  <a:lnTo>
                    <a:pt x="2134" y="4127"/>
                  </a:lnTo>
                  <a:lnTo>
                    <a:pt x="2175" y="4117"/>
                  </a:lnTo>
                  <a:lnTo>
                    <a:pt x="2163" y="4093"/>
                  </a:lnTo>
                  <a:lnTo>
                    <a:pt x="2151" y="4068"/>
                  </a:lnTo>
                  <a:lnTo>
                    <a:pt x="2139" y="4043"/>
                  </a:lnTo>
                  <a:lnTo>
                    <a:pt x="2125" y="4017"/>
                  </a:lnTo>
                  <a:lnTo>
                    <a:pt x="2111" y="3991"/>
                  </a:lnTo>
                  <a:lnTo>
                    <a:pt x="2097" y="3966"/>
                  </a:lnTo>
                  <a:lnTo>
                    <a:pt x="2082" y="3939"/>
                  </a:lnTo>
                  <a:lnTo>
                    <a:pt x="2068" y="3913"/>
                  </a:lnTo>
                  <a:lnTo>
                    <a:pt x="2052" y="3888"/>
                  </a:lnTo>
                  <a:lnTo>
                    <a:pt x="2037" y="3862"/>
                  </a:lnTo>
                  <a:lnTo>
                    <a:pt x="2022" y="3836"/>
                  </a:lnTo>
                  <a:lnTo>
                    <a:pt x="2006" y="3812"/>
                  </a:lnTo>
                  <a:lnTo>
                    <a:pt x="1990" y="3788"/>
                  </a:lnTo>
                  <a:lnTo>
                    <a:pt x="1974" y="3764"/>
                  </a:lnTo>
                  <a:lnTo>
                    <a:pt x="1958" y="3742"/>
                  </a:lnTo>
                  <a:lnTo>
                    <a:pt x="1942" y="3721"/>
                  </a:lnTo>
                  <a:lnTo>
                    <a:pt x="1942" y="3529"/>
                  </a:lnTo>
                  <a:lnTo>
                    <a:pt x="1932" y="3543"/>
                  </a:lnTo>
                  <a:lnTo>
                    <a:pt x="1921" y="3560"/>
                  </a:lnTo>
                  <a:lnTo>
                    <a:pt x="1911" y="3578"/>
                  </a:lnTo>
                  <a:lnTo>
                    <a:pt x="1898" y="3597"/>
                  </a:lnTo>
                  <a:lnTo>
                    <a:pt x="1885" y="3614"/>
                  </a:lnTo>
                  <a:lnTo>
                    <a:pt x="1872" y="3628"/>
                  </a:lnTo>
                  <a:lnTo>
                    <a:pt x="1858" y="3637"/>
                  </a:lnTo>
                  <a:lnTo>
                    <a:pt x="1844" y="3640"/>
                  </a:lnTo>
                  <a:lnTo>
                    <a:pt x="1816" y="3606"/>
                  </a:lnTo>
                  <a:lnTo>
                    <a:pt x="1790" y="3578"/>
                  </a:lnTo>
                  <a:lnTo>
                    <a:pt x="1763" y="3555"/>
                  </a:lnTo>
                  <a:lnTo>
                    <a:pt x="1737" y="3537"/>
                  </a:lnTo>
                  <a:lnTo>
                    <a:pt x="1712" y="3522"/>
                  </a:lnTo>
                  <a:lnTo>
                    <a:pt x="1687" y="3509"/>
                  </a:lnTo>
                  <a:lnTo>
                    <a:pt x="1663" y="3496"/>
                  </a:lnTo>
                  <a:lnTo>
                    <a:pt x="1640" y="3484"/>
                  </a:lnTo>
                  <a:lnTo>
                    <a:pt x="1617" y="3470"/>
                  </a:lnTo>
                  <a:lnTo>
                    <a:pt x="1596" y="3454"/>
                  </a:lnTo>
                  <a:lnTo>
                    <a:pt x="1576" y="3435"/>
                  </a:lnTo>
                  <a:lnTo>
                    <a:pt x="1556" y="3410"/>
                  </a:lnTo>
                  <a:lnTo>
                    <a:pt x="1537" y="3381"/>
                  </a:lnTo>
                  <a:lnTo>
                    <a:pt x="1520" y="3344"/>
                  </a:lnTo>
                  <a:lnTo>
                    <a:pt x="1505" y="3299"/>
                  </a:lnTo>
                  <a:lnTo>
                    <a:pt x="1490" y="3246"/>
                  </a:lnTo>
                  <a:lnTo>
                    <a:pt x="1482" y="3222"/>
                  </a:lnTo>
                  <a:lnTo>
                    <a:pt x="1473" y="3200"/>
                  </a:lnTo>
                  <a:lnTo>
                    <a:pt x="1460" y="3177"/>
                  </a:lnTo>
                  <a:lnTo>
                    <a:pt x="1445" y="3155"/>
                  </a:lnTo>
                  <a:lnTo>
                    <a:pt x="1429" y="3133"/>
                  </a:lnTo>
                  <a:lnTo>
                    <a:pt x="1411" y="3113"/>
                  </a:lnTo>
                  <a:lnTo>
                    <a:pt x="1392" y="3092"/>
                  </a:lnTo>
                  <a:lnTo>
                    <a:pt x="1372" y="3071"/>
                  </a:lnTo>
                  <a:lnTo>
                    <a:pt x="1352" y="3051"/>
                  </a:lnTo>
                  <a:lnTo>
                    <a:pt x="1332" y="3031"/>
                  </a:lnTo>
                  <a:lnTo>
                    <a:pt x="1312" y="3010"/>
                  </a:lnTo>
                  <a:lnTo>
                    <a:pt x="1293" y="2991"/>
                  </a:lnTo>
                  <a:lnTo>
                    <a:pt x="1276" y="2971"/>
                  </a:lnTo>
                  <a:lnTo>
                    <a:pt x="1260" y="2952"/>
                  </a:lnTo>
                  <a:lnTo>
                    <a:pt x="1246" y="2932"/>
                  </a:lnTo>
                  <a:lnTo>
                    <a:pt x="1234" y="2912"/>
                  </a:lnTo>
                  <a:lnTo>
                    <a:pt x="1182" y="2817"/>
                  </a:lnTo>
                  <a:close/>
                  <a:moveTo>
                    <a:pt x="746" y="1082"/>
                  </a:moveTo>
                  <a:lnTo>
                    <a:pt x="754" y="1091"/>
                  </a:lnTo>
                  <a:lnTo>
                    <a:pt x="761" y="1102"/>
                  </a:lnTo>
                  <a:lnTo>
                    <a:pt x="769" y="1115"/>
                  </a:lnTo>
                  <a:lnTo>
                    <a:pt x="777" y="1128"/>
                  </a:lnTo>
                  <a:lnTo>
                    <a:pt x="785" y="1143"/>
                  </a:lnTo>
                  <a:lnTo>
                    <a:pt x="792" y="1158"/>
                  </a:lnTo>
                  <a:lnTo>
                    <a:pt x="801" y="1173"/>
                  </a:lnTo>
                  <a:lnTo>
                    <a:pt x="809" y="1188"/>
                  </a:lnTo>
                  <a:lnTo>
                    <a:pt x="818" y="1203"/>
                  </a:lnTo>
                  <a:lnTo>
                    <a:pt x="826" y="1217"/>
                  </a:lnTo>
                  <a:lnTo>
                    <a:pt x="836" y="1231"/>
                  </a:lnTo>
                  <a:lnTo>
                    <a:pt x="846" y="1243"/>
                  </a:lnTo>
                  <a:lnTo>
                    <a:pt x="855" y="1254"/>
                  </a:lnTo>
                  <a:lnTo>
                    <a:pt x="866" y="1264"/>
                  </a:lnTo>
                  <a:lnTo>
                    <a:pt x="877" y="1272"/>
                  </a:lnTo>
                  <a:lnTo>
                    <a:pt x="887" y="1278"/>
                  </a:lnTo>
                  <a:lnTo>
                    <a:pt x="870" y="1226"/>
                  </a:lnTo>
                  <a:lnTo>
                    <a:pt x="860" y="1191"/>
                  </a:lnTo>
                  <a:lnTo>
                    <a:pt x="854" y="1171"/>
                  </a:lnTo>
                  <a:lnTo>
                    <a:pt x="856" y="1160"/>
                  </a:lnTo>
                  <a:lnTo>
                    <a:pt x="864" y="1157"/>
                  </a:lnTo>
                  <a:lnTo>
                    <a:pt x="879" y="1159"/>
                  </a:lnTo>
                  <a:lnTo>
                    <a:pt x="900" y="1162"/>
                  </a:lnTo>
                  <a:lnTo>
                    <a:pt x="930" y="1164"/>
                  </a:lnTo>
                  <a:lnTo>
                    <a:pt x="923" y="1158"/>
                  </a:lnTo>
                  <a:lnTo>
                    <a:pt x="914" y="1151"/>
                  </a:lnTo>
                  <a:lnTo>
                    <a:pt x="907" y="1145"/>
                  </a:lnTo>
                  <a:lnTo>
                    <a:pt x="898" y="1139"/>
                  </a:lnTo>
                  <a:lnTo>
                    <a:pt x="891" y="1132"/>
                  </a:lnTo>
                  <a:lnTo>
                    <a:pt x="882" y="1126"/>
                  </a:lnTo>
                  <a:lnTo>
                    <a:pt x="875" y="1118"/>
                  </a:lnTo>
                  <a:lnTo>
                    <a:pt x="866" y="1112"/>
                  </a:lnTo>
                  <a:lnTo>
                    <a:pt x="875" y="1101"/>
                  </a:lnTo>
                  <a:lnTo>
                    <a:pt x="885" y="1090"/>
                  </a:lnTo>
                  <a:lnTo>
                    <a:pt x="896" y="1080"/>
                  </a:lnTo>
                  <a:lnTo>
                    <a:pt x="907" y="1069"/>
                  </a:lnTo>
                  <a:lnTo>
                    <a:pt x="916" y="1058"/>
                  </a:lnTo>
                  <a:lnTo>
                    <a:pt x="924" y="1047"/>
                  </a:lnTo>
                  <a:lnTo>
                    <a:pt x="928" y="1034"/>
                  </a:lnTo>
                  <a:lnTo>
                    <a:pt x="928" y="1019"/>
                  </a:lnTo>
                  <a:lnTo>
                    <a:pt x="926" y="1009"/>
                  </a:lnTo>
                  <a:lnTo>
                    <a:pt x="922" y="1006"/>
                  </a:lnTo>
                  <a:lnTo>
                    <a:pt x="915" y="1007"/>
                  </a:lnTo>
                  <a:lnTo>
                    <a:pt x="908" y="1008"/>
                  </a:lnTo>
                  <a:lnTo>
                    <a:pt x="901" y="1009"/>
                  </a:lnTo>
                  <a:lnTo>
                    <a:pt x="895" y="1004"/>
                  </a:lnTo>
                  <a:lnTo>
                    <a:pt x="891" y="992"/>
                  </a:lnTo>
                  <a:lnTo>
                    <a:pt x="889" y="970"/>
                  </a:lnTo>
                  <a:lnTo>
                    <a:pt x="871" y="983"/>
                  </a:lnTo>
                  <a:lnTo>
                    <a:pt x="851" y="997"/>
                  </a:lnTo>
                  <a:lnTo>
                    <a:pt x="830" y="1010"/>
                  </a:lnTo>
                  <a:lnTo>
                    <a:pt x="808" y="1023"/>
                  </a:lnTo>
                  <a:lnTo>
                    <a:pt x="788" y="1037"/>
                  </a:lnTo>
                  <a:lnTo>
                    <a:pt x="770" y="1051"/>
                  </a:lnTo>
                  <a:lnTo>
                    <a:pt x="756" y="1066"/>
                  </a:lnTo>
                  <a:lnTo>
                    <a:pt x="746" y="1082"/>
                  </a:lnTo>
                  <a:close/>
                  <a:moveTo>
                    <a:pt x="819" y="0"/>
                  </a:moveTo>
                  <a:lnTo>
                    <a:pt x="828" y="8"/>
                  </a:lnTo>
                  <a:lnTo>
                    <a:pt x="837" y="13"/>
                  </a:lnTo>
                  <a:lnTo>
                    <a:pt x="846" y="19"/>
                  </a:lnTo>
                  <a:lnTo>
                    <a:pt x="852" y="23"/>
                  </a:lnTo>
                  <a:lnTo>
                    <a:pt x="858" y="28"/>
                  </a:lnTo>
                  <a:lnTo>
                    <a:pt x="864" y="33"/>
                  </a:lnTo>
                  <a:lnTo>
                    <a:pt x="868" y="38"/>
                  </a:lnTo>
                  <a:lnTo>
                    <a:pt x="872" y="43"/>
                  </a:lnTo>
                  <a:lnTo>
                    <a:pt x="878" y="60"/>
                  </a:lnTo>
                  <a:lnTo>
                    <a:pt x="884" y="81"/>
                  </a:lnTo>
                  <a:lnTo>
                    <a:pt x="889" y="104"/>
                  </a:lnTo>
                  <a:lnTo>
                    <a:pt x="895" y="129"/>
                  </a:lnTo>
                  <a:lnTo>
                    <a:pt x="898" y="152"/>
                  </a:lnTo>
                  <a:lnTo>
                    <a:pt x="901" y="174"/>
                  </a:lnTo>
                  <a:lnTo>
                    <a:pt x="903" y="192"/>
                  </a:lnTo>
                  <a:lnTo>
                    <a:pt x="903" y="206"/>
                  </a:lnTo>
                  <a:lnTo>
                    <a:pt x="907" y="203"/>
                  </a:lnTo>
                  <a:lnTo>
                    <a:pt x="910" y="199"/>
                  </a:lnTo>
                  <a:lnTo>
                    <a:pt x="913" y="196"/>
                  </a:lnTo>
                  <a:lnTo>
                    <a:pt x="915" y="193"/>
                  </a:lnTo>
                  <a:lnTo>
                    <a:pt x="917" y="189"/>
                  </a:lnTo>
                  <a:lnTo>
                    <a:pt x="919" y="183"/>
                  </a:lnTo>
                  <a:lnTo>
                    <a:pt x="922" y="177"/>
                  </a:lnTo>
                  <a:lnTo>
                    <a:pt x="924" y="171"/>
                  </a:lnTo>
                  <a:lnTo>
                    <a:pt x="928" y="176"/>
                  </a:lnTo>
                  <a:lnTo>
                    <a:pt x="932" y="187"/>
                  </a:lnTo>
                  <a:lnTo>
                    <a:pt x="936" y="200"/>
                  </a:lnTo>
                  <a:lnTo>
                    <a:pt x="938" y="219"/>
                  </a:lnTo>
                  <a:lnTo>
                    <a:pt x="941" y="239"/>
                  </a:lnTo>
                  <a:lnTo>
                    <a:pt x="944" y="260"/>
                  </a:lnTo>
                  <a:lnTo>
                    <a:pt x="947" y="282"/>
                  </a:lnTo>
                  <a:lnTo>
                    <a:pt x="953" y="302"/>
                  </a:lnTo>
                  <a:lnTo>
                    <a:pt x="948" y="222"/>
                  </a:lnTo>
                  <a:lnTo>
                    <a:pt x="954" y="236"/>
                  </a:lnTo>
                  <a:lnTo>
                    <a:pt x="958" y="252"/>
                  </a:lnTo>
                  <a:lnTo>
                    <a:pt x="963" y="270"/>
                  </a:lnTo>
                  <a:lnTo>
                    <a:pt x="969" y="289"/>
                  </a:lnTo>
                  <a:lnTo>
                    <a:pt x="975" y="307"/>
                  </a:lnTo>
                  <a:lnTo>
                    <a:pt x="982" y="326"/>
                  </a:lnTo>
                  <a:lnTo>
                    <a:pt x="989" y="343"/>
                  </a:lnTo>
                  <a:lnTo>
                    <a:pt x="997" y="357"/>
                  </a:lnTo>
                  <a:lnTo>
                    <a:pt x="1000" y="364"/>
                  </a:lnTo>
                  <a:lnTo>
                    <a:pt x="1004" y="377"/>
                  </a:lnTo>
                  <a:lnTo>
                    <a:pt x="1008" y="393"/>
                  </a:lnTo>
                  <a:lnTo>
                    <a:pt x="1014" y="412"/>
                  </a:lnTo>
                  <a:lnTo>
                    <a:pt x="1019" y="435"/>
                  </a:lnTo>
                  <a:lnTo>
                    <a:pt x="1025" y="459"/>
                  </a:lnTo>
                  <a:lnTo>
                    <a:pt x="1031" y="485"/>
                  </a:lnTo>
                  <a:lnTo>
                    <a:pt x="1036" y="513"/>
                  </a:lnTo>
                  <a:lnTo>
                    <a:pt x="1040" y="542"/>
                  </a:lnTo>
                  <a:lnTo>
                    <a:pt x="1045" y="572"/>
                  </a:lnTo>
                  <a:lnTo>
                    <a:pt x="1047" y="601"/>
                  </a:lnTo>
                  <a:lnTo>
                    <a:pt x="1049" y="629"/>
                  </a:lnTo>
                  <a:lnTo>
                    <a:pt x="1049" y="657"/>
                  </a:lnTo>
                  <a:lnTo>
                    <a:pt x="1048" y="684"/>
                  </a:lnTo>
                  <a:lnTo>
                    <a:pt x="1044" y="709"/>
                  </a:lnTo>
                  <a:lnTo>
                    <a:pt x="1038" y="731"/>
                  </a:lnTo>
                  <a:lnTo>
                    <a:pt x="1043" y="704"/>
                  </a:lnTo>
                  <a:lnTo>
                    <a:pt x="1046" y="679"/>
                  </a:lnTo>
                  <a:lnTo>
                    <a:pt x="1048" y="653"/>
                  </a:lnTo>
                  <a:lnTo>
                    <a:pt x="1049" y="628"/>
                  </a:lnTo>
                  <a:lnTo>
                    <a:pt x="1049" y="604"/>
                  </a:lnTo>
                  <a:lnTo>
                    <a:pt x="1048" y="579"/>
                  </a:lnTo>
                  <a:lnTo>
                    <a:pt x="1047" y="556"/>
                  </a:lnTo>
                  <a:lnTo>
                    <a:pt x="1045" y="532"/>
                  </a:lnTo>
                  <a:lnTo>
                    <a:pt x="1041" y="510"/>
                  </a:lnTo>
                  <a:lnTo>
                    <a:pt x="1038" y="487"/>
                  </a:lnTo>
                  <a:lnTo>
                    <a:pt x="1034" y="465"/>
                  </a:lnTo>
                  <a:lnTo>
                    <a:pt x="1029" y="443"/>
                  </a:lnTo>
                  <a:lnTo>
                    <a:pt x="1023" y="421"/>
                  </a:lnTo>
                  <a:lnTo>
                    <a:pt x="1018" y="399"/>
                  </a:lnTo>
                  <a:lnTo>
                    <a:pt x="1012" y="378"/>
                  </a:lnTo>
                  <a:lnTo>
                    <a:pt x="1005" y="358"/>
                  </a:lnTo>
                  <a:lnTo>
                    <a:pt x="998" y="336"/>
                  </a:lnTo>
                  <a:lnTo>
                    <a:pt x="990" y="316"/>
                  </a:lnTo>
                  <a:lnTo>
                    <a:pt x="983" y="296"/>
                  </a:lnTo>
                  <a:lnTo>
                    <a:pt x="975" y="275"/>
                  </a:lnTo>
                  <a:lnTo>
                    <a:pt x="967" y="255"/>
                  </a:lnTo>
                  <a:lnTo>
                    <a:pt x="958" y="235"/>
                  </a:lnTo>
                  <a:lnTo>
                    <a:pt x="951" y="214"/>
                  </a:lnTo>
                  <a:lnTo>
                    <a:pt x="942" y="194"/>
                  </a:lnTo>
                  <a:lnTo>
                    <a:pt x="933" y="175"/>
                  </a:lnTo>
                  <a:lnTo>
                    <a:pt x="925" y="155"/>
                  </a:lnTo>
                  <a:lnTo>
                    <a:pt x="917" y="134"/>
                  </a:lnTo>
                  <a:lnTo>
                    <a:pt x="909" y="114"/>
                  </a:lnTo>
                  <a:lnTo>
                    <a:pt x="901" y="94"/>
                  </a:lnTo>
                  <a:lnTo>
                    <a:pt x="894" y="73"/>
                  </a:lnTo>
                  <a:lnTo>
                    <a:pt x="886" y="52"/>
                  </a:lnTo>
                  <a:lnTo>
                    <a:pt x="879" y="31"/>
                  </a:lnTo>
                  <a:lnTo>
                    <a:pt x="877" y="25"/>
                  </a:lnTo>
                  <a:lnTo>
                    <a:pt x="872" y="20"/>
                  </a:lnTo>
                  <a:lnTo>
                    <a:pt x="866" y="14"/>
                  </a:lnTo>
                  <a:lnTo>
                    <a:pt x="857" y="10"/>
                  </a:lnTo>
                  <a:lnTo>
                    <a:pt x="848" y="6"/>
                  </a:lnTo>
                  <a:lnTo>
                    <a:pt x="838" y="3"/>
                  </a:lnTo>
                  <a:lnTo>
                    <a:pt x="828" y="2"/>
                  </a:lnTo>
                  <a:lnTo>
                    <a:pt x="819"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5" name="Freeform 27"/>
            <p:cNvSpPr/>
            <p:nvPr/>
          </p:nvSpPr>
          <p:spPr>
            <a:xfrm>
              <a:off x="2286360" y="3221280"/>
              <a:ext cx="179640" cy="268920"/>
            </a:xfrm>
            <a:custGeom>
              <a:avLst/>
              <a:gdLst>
                <a:gd name="textAreaLeft" fmla="*/ 0 w 179640"/>
                <a:gd name="textAreaRight" fmla="*/ 180000 w 179640"/>
                <a:gd name="textAreaTop" fmla="*/ 0 h 268920"/>
                <a:gd name="textAreaBottom" fmla="*/ 269280 h 268920"/>
              </a:gdLst>
              <a:ahLst/>
              <a:rect l="textAreaLeft" t="textAreaTop" r="textAreaRight" b="textAreaBottom"/>
              <a:pathLst>
                <a:path w="2348" h="3600">
                  <a:moveTo>
                    <a:pt x="222" y="3172"/>
                  </a:moveTo>
                  <a:lnTo>
                    <a:pt x="214" y="3190"/>
                  </a:lnTo>
                  <a:lnTo>
                    <a:pt x="204" y="3206"/>
                  </a:lnTo>
                  <a:lnTo>
                    <a:pt x="192" y="3221"/>
                  </a:lnTo>
                  <a:lnTo>
                    <a:pt x="180" y="3235"/>
                  </a:lnTo>
                  <a:lnTo>
                    <a:pt x="166" y="3248"/>
                  </a:lnTo>
                  <a:lnTo>
                    <a:pt x="151" y="3262"/>
                  </a:lnTo>
                  <a:lnTo>
                    <a:pt x="136" y="3275"/>
                  </a:lnTo>
                  <a:lnTo>
                    <a:pt x="120" y="3288"/>
                  </a:lnTo>
                  <a:lnTo>
                    <a:pt x="104" y="3301"/>
                  </a:lnTo>
                  <a:lnTo>
                    <a:pt x="87" y="3313"/>
                  </a:lnTo>
                  <a:lnTo>
                    <a:pt x="70" y="3325"/>
                  </a:lnTo>
                  <a:lnTo>
                    <a:pt x="54" y="3338"/>
                  </a:lnTo>
                  <a:lnTo>
                    <a:pt x="39" y="3352"/>
                  </a:lnTo>
                  <a:lnTo>
                    <a:pt x="26" y="3365"/>
                  </a:lnTo>
                  <a:lnTo>
                    <a:pt x="12" y="3379"/>
                  </a:lnTo>
                  <a:lnTo>
                    <a:pt x="0" y="3394"/>
                  </a:lnTo>
                  <a:lnTo>
                    <a:pt x="19" y="3399"/>
                  </a:lnTo>
                  <a:lnTo>
                    <a:pt x="37" y="3408"/>
                  </a:lnTo>
                  <a:lnTo>
                    <a:pt x="54" y="3416"/>
                  </a:lnTo>
                  <a:lnTo>
                    <a:pt x="72" y="3427"/>
                  </a:lnTo>
                  <a:lnTo>
                    <a:pt x="88" y="3437"/>
                  </a:lnTo>
                  <a:lnTo>
                    <a:pt x="104" y="3446"/>
                  </a:lnTo>
                  <a:lnTo>
                    <a:pt x="120" y="3453"/>
                  </a:lnTo>
                  <a:lnTo>
                    <a:pt x="136" y="3457"/>
                  </a:lnTo>
                  <a:lnTo>
                    <a:pt x="149" y="3459"/>
                  </a:lnTo>
                  <a:lnTo>
                    <a:pt x="163" y="3460"/>
                  </a:lnTo>
                  <a:lnTo>
                    <a:pt x="176" y="3459"/>
                  </a:lnTo>
                  <a:lnTo>
                    <a:pt x="191" y="3458"/>
                  </a:lnTo>
                  <a:lnTo>
                    <a:pt x="205" y="3456"/>
                  </a:lnTo>
                  <a:lnTo>
                    <a:pt x="220" y="3453"/>
                  </a:lnTo>
                  <a:lnTo>
                    <a:pt x="235" y="3448"/>
                  </a:lnTo>
                  <a:lnTo>
                    <a:pt x="250" y="3444"/>
                  </a:lnTo>
                  <a:lnTo>
                    <a:pt x="258" y="3442"/>
                  </a:lnTo>
                  <a:lnTo>
                    <a:pt x="264" y="3439"/>
                  </a:lnTo>
                  <a:lnTo>
                    <a:pt x="271" y="3437"/>
                  </a:lnTo>
                  <a:lnTo>
                    <a:pt x="279" y="3433"/>
                  </a:lnTo>
                  <a:lnTo>
                    <a:pt x="289" y="3429"/>
                  </a:lnTo>
                  <a:lnTo>
                    <a:pt x="298" y="3425"/>
                  </a:lnTo>
                  <a:lnTo>
                    <a:pt x="309" y="3421"/>
                  </a:lnTo>
                  <a:lnTo>
                    <a:pt x="320" y="3415"/>
                  </a:lnTo>
                  <a:lnTo>
                    <a:pt x="331" y="3411"/>
                  </a:lnTo>
                  <a:lnTo>
                    <a:pt x="342" y="3406"/>
                  </a:lnTo>
                  <a:lnTo>
                    <a:pt x="354" y="3399"/>
                  </a:lnTo>
                  <a:lnTo>
                    <a:pt x="366" y="3394"/>
                  </a:lnTo>
                  <a:lnTo>
                    <a:pt x="372" y="3375"/>
                  </a:lnTo>
                  <a:lnTo>
                    <a:pt x="398" y="3379"/>
                  </a:lnTo>
                  <a:lnTo>
                    <a:pt x="416" y="3377"/>
                  </a:lnTo>
                  <a:lnTo>
                    <a:pt x="429" y="3372"/>
                  </a:lnTo>
                  <a:lnTo>
                    <a:pt x="440" y="3365"/>
                  </a:lnTo>
                  <a:lnTo>
                    <a:pt x="452" y="3358"/>
                  </a:lnTo>
                  <a:lnTo>
                    <a:pt x="467" y="3350"/>
                  </a:lnTo>
                  <a:lnTo>
                    <a:pt x="490" y="3346"/>
                  </a:lnTo>
                  <a:lnTo>
                    <a:pt x="523" y="3345"/>
                  </a:lnTo>
                  <a:lnTo>
                    <a:pt x="533" y="3354"/>
                  </a:lnTo>
                  <a:lnTo>
                    <a:pt x="541" y="3362"/>
                  </a:lnTo>
                  <a:lnTo>
                    <a:pt x="549" y="3367"/>
                  </a:lnTo>
                  <a:lnTo>
                    <a:pt x="556" y="3371"/>
                  </a:lnTo>
                  <a:lnTo>
                    <a:pt x="564" y="3374"/>
                  </a:lnTo>
                  <a:lnTo>
                    <a:pt x="574" y="3376"/>
                  </a:lnTo>
                  <a:lnTo>
                    <a:pt x="584" y="3377"/>
                  </a:lnTo>
                  <a:lnTo>
                    <a:pt x="598" y="3378"/>
                  </a:lnTo>
                  <a:lnTo>
                    <a:pt x="608" y="3381"/>
                  </a:lnTo>
                  <a:lnTo>
                    <a:pt x="615" y="3384"/>
                  </a:lnTo>
                  <a:lnTo>
                    <a:pt x="624" y="3386"/>
                  </a:lnTo>
                  <a:lnTo>
                    <a:pt x="631" y="3389"/>
                  </a:lnTo>
                  <a:lnTo>
                    <a:pt x="638" y="3391"/>
                  </a:lnTo>
                  <a:lnTo>
                    <a:pt x="646" y="3392"/>
                  </a:lnTo>
                  <a:lnTo>
                    <a:pt x="654" y="3394"/>
                  </a:lnTo>
                  <a:lnTo>
                    <a:pt x="663" y="3396"/>
                  </a:lnTo>
                  <a:lnTo>
                    <a:pt x="672" y="3407"/>
                  </a:lnTo>
                  <a:lnTo>
                    <a:pt x="681" y="3414"/>
                  </a:lnTo>
                  <a:lnTo>
                    <a:pt x="689" y="3420"/>
                  </a:lnTo>
                  <a:lnTo>
                    <a:pt x="698" y="3424"/>
                  </a:lnTo>
                  <a:lnTo>
                    <a:pt x="706" y="3426"/>
                  </a:lnTo>
                  <a:lnTo>
                    <a:pt x="715" y="3428"/>
                  </a:lnTo>
                  <a:lnTo>
                    <a:pt x="726" y="3430"/>
                  </a:lnTo>
                  <a:lnTo>
                    <a:pt x="736" y="3431"/>
                  </a:lnTo>
                  <a:lnTo>
                    <a:pt x="745" y="3430"/>
                  </a:lnTo>
                  <a:lnTo>
                    <a:pt x="752" y="3426"/>
                  </a:lnTo>
                  <a:lnTo>
                    <a:pt x="760" y="3421"/>
                  </a:lnTo>
                  <a:lnTo>
                    <a:pt x="766" y="3413"/>
                  </a:lnTo>
                  <a:lnTo>
                    <a:pt x="769" y="3405"/>
                  </a:lnTo>
                  <a:lnTo>
                    <a:pt x="772" y="3395"/>
                  </a:lnTo>
                  <a:lnTo>
                    <a:pt x="769" y="3384"/>
                  </a:lnTo>
                  <a:lnTo>
                    <a:pt x="764" y="3375"/>
                  </a:lnTo>
                  <a:lnTo>
                    <a:pt x="754" y="3368"/>
                  </a:lnTo>
                  <a:lnTo>
                    <a:pt x="746" y="3361"/>
                  </a:lnTo>
                  <a:lnTo>
                    <a:pt x="737" y="3352"/>
                  </a:lnTo>
                  <a:lnTo>
                    <a:pt x="729" y="3344"/>
                  </a:lnTo>
                  <a:lnTo>
                    <a:pt x="721" y="3335"/>
                  </a:lnTo>
                  <a:lnTo>
                    <a:pt x="714" y="3328"/>
                  </a:lnTo>
                  <a:lnTo>
                    <a:pt x="707" y="3321"/>
                  </a:lnTo>
                  <a:lnTo>
                    <a:pt x="701" y="3316"/>
                  </a:lnTo>
                  <a:lnTo>
                    <a:pt x="692" y="3312"/>
                  </a:lnTo>
                  <a:lnTo>
                    <a:pt x="681" y="3307"/>
                  </a:lnTo>
                  <a:lnTo>
                    <a:pt x="669" y="3301"/>
                  </a:lnTo>
                  <a:lnTo>
                    <a:pt x="656" y="3293"/>
                  </a:lnTo>
                  <a:lnTo>
                    <a:pt x="643" y="3287"/>
                  </a:lnTo>
                  <a:lnTo>
                    <a:pt x="631" y="3279"/>
                  </a:lnTo>
                  <a:lnTo>
                    <a:pt x="621" y="3272"/>
                  </a:lnTo>
                  <a:lnTo>
                    <a:pt x="613" y="3266"/>
                  </a:lnTo>
                  <a:lnTo>
                    <a:pt x="629" y="3267"/>
                  </a:lnTo>
                  <a:lnTo>
                    <a:pt x="645" y="3269"/>
                  </a:lnTo>
                  <a:lnTo>
                    <a:pt x="662" y="3273"/>
                  </a:lnTo>
                  <a:lnTo>
                    <a:pt x="678" y="3278"/>
                  </a:lnTo>
                  <a:lnTo>
                    <a:pt x="696" y="3284"/>
                  </a:lnTo>
                  <a:lnTo>
                    <a:pt x="713" y="3291"/>
                  </a:lnTo>
                  <a:lnTo>
                    <a:pt x="730" y="3299"/>
                  </a:lnTo>
                  <a:lnTo>
                    <a:pt x="747" y="3305"/>
                  </a:lnTo>
                  <a:lnTo>
                    <a:pt x="763" y="3313"/>
                  </a:lnTo>
                  <a:lnTo>
                    <a:pt x="780" y="3320"/>
                  </a:lnTo>
                  <a:lnTo>
                    <a:pt x="797" y="3328"/>
                  </a:lnTo>
                  <a:lnTo>
                    <a:pt x="814" y="3333"/>
                  </a:lnTo>
                  <a:lnTo>
                    <a:pt x="830" y="3338"/>
                  </a:lnTo>
                  <a:lnTo>
                    <a:pt x="848" y="3343"/>
                  </a:lnTo>
                  <a:lnTo>
                    <a:pt x="864" y="3345"/>
                  </a:lnTo>
                  <a:lnTo>
                    <a:pt x="880" y="3346"/>
                  </a:lnTo>
                  <a:lnTo>
                    <a:pt x="885" y="3345"/>
                  </a:lnTo>
                  <a:lnTo>
                    <a:pt x="889" y="3343"/>
                  </a:lnTo>
                  <a:lnTo>
                    <a:pt x="894" y="3339"/>
                  </a:lnTo>
                  <a:lnTo>
                    <a:pt x="897" y="3336"/>
                  </a:lnTo>
                  <a:lnTo>
                    <a:pt x="899" y="3332"/>
                  </a:lnTo>
                  <a:lnTo>
                    <a:pt x="901" y="3327"/>
                  </a:lnTo>
                  <a:lnTo>
                    <a:pt x="903" y="3320"/>
                  </a:lnTo>
                  <a:lnTo>
                    <a:pt x="904" y="3314"/>
                  </a:lnTo>
                  <a:lnTo>
                    <a:pt x="905" y="3307"/>
                  </a:lnTo>
                  <a:lnTo>
                    <a:pt x="906" y="3301"/>
                  </a:lnTo>
                  <a:lnTo>
                    <a:pt x="906" y="3295"/>
                  </a:lnTo>
                  <a:lnTo>
                    <a:pt x="906" y="3290"/>
                  </a:lnTo>
                  <a:lnTo>
                    <a:pt x="904" y="3285"/>
                  </a:lnTo>
                  <a:lnTo>
                    <a:pt x="903" y="3279"/>
                  </a:lnTo>
                  <a:lnTo>
                    <a:pt x="901" y="3275"/>
                  </a:lnTo>
                  <a:lnTo>
                    <a:pt x="898" y="3270"/>
                  </a:lnTo>
                  <a:lnTo>
                    <a:pt x="910" y="3267"/>
                  </a:lnTo>
                  <a:lnTo>
                    <a:pt x="918" y="3259"/>
                  </a:lnTo>
                  <a:lnTo>
                    <a:pt x="925" y="3249"/>
                  </a:lnTo>
                  <a:lnTo>
                    <a:pt x="928" y="3240"/>
                  </a:lnTo>
                  <a:lnTo>
                    <a:pt x="930" y="3229"/>
                  </a:lnTo>
                  <a:lnTo>
                    <a:pt x="930" y="3220"/>
                  </a:lnTo>
                  <a:lnTo>
                    <a:pt x="929" y="3212"/>
                  </a:lnTo>
                  <a:lnTo>
                    <a:pt x="927" y="3205"/>
                  </a:lnTo>
                  <a:lnTo>
                    <a:pt x="924" y="3199"/>
                  </a:lnTo>
                  <a:lnTo>
                    <a:pt x="918" y="3194"/>
                  </a:lnTo>
                  <a:lnTo>
                    <a:pt x="913" y="3189"/>
                  </a:lnTo>
                  <a:lnTo>
                    <a:pt x="905" y="3184"/>
                  </a:lnTo>
                  <a:lnTo>
                    <a:pt x="897" y="3179"/>
                  </a:lnTo>
                  <a:lnTo>
                    <a:pt x="889" y="3171"/>
                  </a:lnTo>
                  <a:lnTo>
                    <a:pt x="882" y="3164"/>
                  </a:lnTo>
                  <a:lnTo>
                    <a:pt x="874" y="3155"/>
                  </a:lnTo>
                  <a:lnTo>
                    <a:pt x="867" y="3149"/>
                  </a:lnTo>
                  <a:lnTo>
                    <a:pt x="860" y="3143"/>
                  </a:lnTo>
                  <a:lnTo>
                    <a:pt x="856" y="3139"/>
                  </a:lnTo>
                  <a:lnTo>
                    <a:pt x="852" y="3138"/>
                  </a:lnTo>
                  <a:lnTo>
                    <a:pt x="822" y="3128"/>
                  </a:lnTo>
                  <a:lnTo>
                    <a:pt x="797" y="3115"/>
                  </a:lnTo>
                  <a:lnTo>
                    <a:pt x="777" y="3103"/>
                  </a:lnTo>
                  <a:lnTo>
                    <a:pt x="761" y="3091"/>
                  </a:lnTo>
                  <a:lnTo>
                    <a:pt x="748" y="3082"/>
                  </a:lnTo>
                  <a:lnTo>
                    <a:pt x="738" y="3074"/>
                  </a:lnTo>
                  <a:lnTo>
                    <a:pt x="729" y="3071"/>
                  </a:lnTo>
                  <a:lnTo>
                    <a:pt x="721" y="3071"/>
                  </a:lnTo>
                  <a:lnTo>
                    <a:pt x="708" y="3068"/>
                  </a:lnTo>
                  <a:lnTo>
                    <a:pt x="693" y="3067"/>
                  </a:lnTo>
                  <a:lnTo>
                    <a:pt x="676" y="3068"/>
                  </a:lnTo>
                  <a:lnTo>
                    <a:pt x="660" y="3070"/>
                  </a:lnTo>
                  <a:lnTo>
                    <a:pt x="643" y="3072"/>
                  </a:lnTo>
                  <a:lnTo>
                    <a:pt x="626" y="3074"/>
                  </a:lnTo>
                  <a:lnTo>
                    <a:pt x="611" y="3073"/>
                  </a:lnTo>
                  <a:lnTo>
                    <a:pt x="598" y="3071"/>
                  </a:lnTo>
                  <a:lnTo>
                    <a:pt x="605" y="3067"/>
                  </a:lnTo>
                  <a:lnTo>
                    <a:pt x="611" y="3063"/>
                  </a:lnTo>
                  <a:lnTo>
                    <a:pt x="615" y="3061"/>
                  </a:lnTo>
                  <a:lnTo>
                    <a:pt x="621" y="3059"/>
                  </a:lnTo>
                  <a:lnTo>
                    <a:pt x="625" y="3056"/>
                  </a:lnTo>
                  <a:lnTo>
                    <a:pt x="629" y="3054"/>
                  </a:lnTo>
                  <a:lnTo>
                    <a:pt x="632" y="3049"/>
                  </a:lnTo>
                  <a:lnTo>
                    <a:pt x="636" y="3045"/>
                  </a:lnTo>
                  <a:lnTo>
                    <a:pt x="645" y="3051"/>
                  </a:lnTo>
                  <a:lnTo>
                    <a:pt x="657" y="3054"/>
                  </a:lnTo>
                  <a:lnTo>
                    <a:pt x="670" y="3056"/>
                  </a:lnTo>
                  <a:lnTo>
                    <a:pt x="684" y="3056"/>
                  </a:lnTo>
                  <a:lnTo>
                    <a:pt x="698" y="3056"/>
                  </a:lnTo>
                  <a:lnTo>
                    <a:pt x="711" y="3054"/>
                  </a:lnTo>
                  <a:lnTo>
                    <a:pt x="722" y="3051"/>
                  </a:lnTo>
                  <a:lnTo>
                    <a:pt x="733" y="3045"/>
                  </a:lnTo>
                  <a:lnTo>
                    <a:pt x="746" y="3049"/>
                  </a:lnTo>
                  <a:lnTo>
                    <a:pt x="759" y="3053"/>
                  </a:lnTo>
                  <a:lnTo>
                    <a:pt x="770" y="3055"/>
                  </a:lnTo>
                  <a:lnTo>
                    <a:pt x="783" y="3055"/>
                  </a:lnTo>
                  <a:lnTo>
                    <a:pt x="795" y="3053"/>
                  </a:lnTo>
                  <a:lnTo>
                    <a:pt x="807" y="3049"/>
                  </a:lnTo>
                  <a:lnTo>
                    <a:pt x="820" y="3045"/>
                  </a:lnTo>
                  <a:lnTo>
                    <a:pt x="833" y="3040"/>
                  </a:lnTo>
                  <a:lnTo>
                    <a:pt x="840" y="3036"/>
                  </a:lnTo>
                  <a:lnTo>
                    <a:pt x="846" y="3030"/>
                  </a:lnTo>
                  <a:lnTo>
                    <a:pt x="850" y="3025"/>
                  </a:lnTo>
                  <a:lnTo>
                    <a:pt x="852" y="3018"/>
                  </a:lnTo>
                  <a:lnTo>
                    <a:pt x="854" y="3013"/>
                  </a:lnTo>
                  <a:lnTo>
                    <a:pt x="855" y="3008"/>
                  </a:lnTo>
                  <a:lnTo>
                    <a:pt x="853" y="3001"/>
                  </a:lnTo>
                  <a:lnTo>
                    <a:pt x="848" y="2992"/>
                  </a:lnTo>
                  <a:lnTo>
                    <a:pt x="843" y="2985"/>
                  </a:lnTo>
                  <a:lnTo>
                    <a:pt x="837" y="2980"/>
                  </a:lnTo>
                  <a:lnTo>
                    <a:pt x="830" y="2975"/>
                  </a:lnTo>
                  <a:lnTo>
                    <a:pt x="824" y="2970"/>
                  </a:lnTo>
                  <a:lnTo>
                    <a:pt x="815" y="2967"/>
                  </a:lnTo>
                  <a:lnTo>
                    <a:pt x="808" y="2964"/>
                  </a:lnTo>
                  <a:lnTo>
                    <a:pt x="800" y="2963"/>
                  </a:lnTo>
                  <a:lnTo>
                    <a:pt x="793" y="2964"/>
                  </a:lnTo>
                  <a:lnTo>
                    <a:pt x="784" y="2956"/>
                  </a:lnTo>
                  <a:lnTo>
                    <a:pt x="776" y="2952"/>
                  </a:lnTo>
                  <a:lnTo>
                    <a:pt x="767" y="2949"/>
                  </a:lnTo>
                  <a:lnTo>
                    <a:pt x="758" y="2948"/>
                  </a:lnTo>
                  <a:lnTo>
                    <a:pt x="747" y="2948"/>
                  </a:lnTo>
                  <a:lnTo>
                    <a:pt x="735" y="2948"/>
                  </a:lnTo>
                  <a:lnTo>
                    <a:pt x="722" y="2949"/>
                  </a:lnTo>
                  <a:lnTo>
                    <a:pt x="708" y="2949"/>
                  </a:lnTo>
                  <a:lnTo>
                    <a:pt x="692" y="2948"/>
                  </a:lnTo>
                  <a:lnTo>
                    <a:pt x="674" y="2946"/>
                  </a:lnTo>
                  <a:lnTo>
                    <a:pt x="656" y="2944"/>
                  </a:lnTo>
                  <a:lnTo>
                    <a:pt x="638" y="2941"/>
                  </a:lnTo>
                  <a:lnTo>
                    <a:pt x="621" y="2940"/>
                  </a:lnTo>
                  <a:lnTo>
                    <a:pt x="606" y="2940"/>
                  </a:lnTo>
                  <a:lnTo>
                    <a:pt x="593" y="2944"/>
                  </a:lnTo>
                  <a:lnTo>
                    <a:pt x="584" y="2949"/>
                  </a:lnTo>
                  <a:lnTo>
                    <a:pt x="574" y="2962"/>
                  </a:lnTo>
                  <a:lnTo>
                    <a:pt x="561" y="2975"/>
                  </a:lnTo>
                  <a:lnTo>
                    <a:pt x="546" y="2987"/>
                  </a:lnTo>
                  <a:lnTo>
                    <a:pt x="529" y="3001"/>
                  </a:lnTo>
                  <a:lnTo>
                    <a:pt x="509" y="3015"/>
                  </a:lnTo>
                  <a:lnTo>
                    <a:pt x="489" y="3028"/>
                  </a:lnTo>
                  <a:lnTo>
                    <a:pt x="469" y="3042"/>
                  </a:lnTo>
                  <a:lnTo>
                    <a:pt x="447" y="3056"/>
                  </a:lnTo>
                  <a:lnTo>
                    <a:pt x="425" y="3069"/>
                  </a:lnTo>
                  <a:lnTo>
                    <a:pt x="403" y="3082"/>
                  </a:lnTo>
                  <a:lnTo>
                    <a:pt x="382" y="3093"/>
                  </a:lnTo>
                  <a:lnTo>
                    <a:pt x="362" y="3104"/>
                  </a:lnTo>
                  <a:lnTo>
                    <a:pt x="342" y="3115"/>
                  </a:lnTo>
                  <a:lnTo>
                    <a:pt x="323" y="3123"/>
                  </a:lnTo>
                  <a:lnTo>
                    <a:pt x="307" y="3132"/>
                  </a:lnTo>
                  <a:lnTo>
                    <a:pt x="292" y="3138"/>
                  </a:lnTo>
                  <a:lnTo>
                    <a:pt x="283" y="3143"/>
                  </a:lnTo>
                  <a:lnTo>
                    <a:pt x="274" y="3145"/>
                  </a:lnTo>
                  <a:lnTo>
                    <a:pt x="265" y="3146"/>
                  </a:lnTo>
                  <a:lnTo>
                    <a:pt x="257" y="3147"/>
                  </a:lnTo>
                  <a:lnTo>
                    <a:pt x="248" y="3149"/>
                  </a:lnTo>
                  <a:lnTo>
                    <a:pt x="240" y="3153"/>
                  </a:lnTo>
                  <a:lnTo>
                    <a:pt x="231" y="3161"/>
                  </a:lnTo>
                  <a:lnTo>
                    <a:pt x="222" y="3172"/>
                  </a:lnTo>
                  <a:close/>
                  <a:moveTo>
                    <a:pt x="2059" y="3271"/>
                  </a:moveTo>
                  <a:lnTo>
                    <a:pt x="2073" y="3270"/>
                  </a:lnTo>
                  <a:lnTo>
                    <a:pt x="2088" y="3264"/>
                  </a:lnTo>
                  <a:lnTo>
                    <a:pt x="2102" y="3257"/>
                  </a:lnTo>
                  <a:lnTo>
                    <a:pt x="2117" y="3247"/>
                  </a:lnTo>
                  <a:lnTo>
                    <a:pt x="2133" y="3239"/>
                  </a:lnTo>
                  <a:lnTo>
                    <a:pt x="2148" y="3232"/>
                  </a:lnTo>
                  <a:lnTo>
                    <a:pt x="2164" y="3231"/>
                  </a:lnTo>
                  <a:lnTo>
                    <a:pt x="2181" y="3236"/>
                  </a:lnTo>
                  <a:lnTo>
                    <a:pt x="2202" y="3246"/>
                  </a:lnTo>
                  <a:lnTo>
                    <a:pt x="2225" y="3260"/>
                  </a:lnTo>
                  <a:lnTo>
                    <a:pt x="2251" y="3279"/>
                  </a:lnTo>
                  <a:lnTo>
                    <a:pt x="2277" y="3300"/>
                  </a:lnTo>
                  <a:lnTo>
                    <a:pt x="2301" y="3323"/>
                  </a:lnTo>
                  <a:lnTo>
                    <a:pt x="2323" y="3348"/>
                  </a:lnTo>
                  <a:lnTo>
                    <a:pt x="2339" y="3372"/>
                  </a:lnTo>
                  <a:lnTo>
                    <a:pt x="2348" y="3398"/>
                  </a:lnTo>
                  <a:lnTo>
                    <a:pt x="2331" y="3411"/>
                  </a:lnTo>
                  <a:lnTo>
                    <a:pt x="2314" y="3425"/>
                  </a:lnTo>
                  <a:lnTo>
                    <a:pt x="2295" y="3439"/>
                  </a:lnTo>
                  <a:lnTo>
                    <a:pt x="2277" y="3456"/>
                  </a:lnTo>
                  <a:lnTo>
                    <a:pt x="2258" y="3473"/>
                  </a:lnTo>
                  <a:lnTo>
                    <a:pt x="2241" y="3493"/>
                  </a:lnTo>
                  <a:lnTo>
                    <a:pt x="2226" y="3514"/>
                  </a:lnTo>
                  <a:lnTo>
                    <a:pt x="2213" y="3537"/>
                  </a:lnTo>
                  <a:lnTo>
                    <a:pt x="2201" y="3558"/>
                  </a:lnTo>
                  <a:lnTo>
                    <a:pt x="2184" y="3573"/>
                  </a:lnTo>
                  <a:lnTo>
                    <a:pt x="2165" y="3581"/>
                  </a:lnTo>
                  <a:lnTo>
                    <a:pt x="2144" y="3584"/>
                  </a:lnTo>
                  <a:lnTo>
                    <a:pt x="2121" y="3583"/>
                  </a:lnTo>
                  <a:lnTo>
                    <a:pt x="2099" y="3579"/>
                  </a:lnTo>
                  <a:lnTo>
                    <a:pt x="2077" y="3570"/>
                  </a:lnTo>
                  <a:lnTo>
                    <a:pt x="2056" y="3559"/>
                  </a:lnTo>
                  <a:lnTo>
                    <a:pt x="2035" y="3560"/>
                  </a:lnTo>
                  <a:lnTo>
                    <a:pt x="2020" y="3558"/>
                  </a:lnTo>
                  <a:lnTo>
                    <a:pt x="2010" y="3554"/>
                  </a:lnTo>
                  <a:lnTo>
                    <a:pt x="2005" y="3550"/>
                  </a:lnTo>
                  <a:lnTo>
                    <a:pt x="2001" y="3546"/>
                  </a:lnTo>
                  <a:lnTo>
                    <a:pt x="1999" y="3541"/>
                  </a:lnTo>
                  <a:lnTo>
                    <a:pt x="1996" y="3538"/>
                  </a:lnTo>
                  <a:lnTo>
                    <a:pt x="1993" y="3537"/>
                  </a:lnTo>
                  <a:lnTo>
                    <a:pt x="1989" y="3541"/>
                  </a:lnTo>
                  <a:lnTo>
                    <a:pt x="1983" y="3546"/>
                  </a:lnTo>
                  <a:lnTo>
                    <a:pt x="1976" y="3551"/>
                  </a:lnTo>
                  <a:lnTo>
                    <a:pt x="1967" y="3555"/>
                  </a:lnTo>
                  <a:lnTo>
                    <a:pt x="1960" y="3560"/>
                  </a:lnTo>
                  <a:lnTo>
                    <a:pt x="1952" y="3565"/>
                  </a:lnTo>
                  <a:lnTo>
                    <a:pt x="1946" y="3569"/>
                  </a:lnTo>
                  <a:lnTo>
                    <a:pt x="1942" y="3574"/>
                  </a:lnTo>
                  <a:lnTo>
                    <a:pt x="1920" y="3580"/>
                  </a:lnTo>
                  <a:lnTo>
                    <a:pt x="1901" y="3585"/>
                  </a:lnTo>
                  <a:lnTo>
                    <a:pt x="1884" y="3590"/>
                  </a:lnTo>
                  <a:lnTo>
                    <a:pt x="1868" y="3594"/>
                  </a:lnTo>
                  <a:lnTo>
                    <a:pt x="1853" y="3597"/>
                  </a:lnTo>
                  <a:lnTo>
                    <a:pt x="1836" y="3598"/>
                  </a:lnTo>
                  <a:lnTo>
                    <a:pt x="1817" y="3600"/>
                  </a:lnTo>
                  <a:lnTo>
                    <a:pt x="1796" y="3600"/>
                  </a:lnTo>
                  <a:lnTo>
                    <a:pt x="1791" y="3600"/>
                  </a:lnTo>
                  <a:lnTo>
                    <a:pt x="1785" y="3599"/>
                  </a:lnTo>
                  <a:lnTo>
                    <a:pt x="1782" y="3597"/>
                  </a:lnTo>
                  <a:lnTo>
                    <a:pt x="1779" y="3594"/>
                  </a:lnTo>
                  <a:lnTo>
                    <a:pt x="1776" y="3590"/>
                  </a:lnTo>
                  <a:lnTo>
                    <a:pt x="1775" y="3584"/>
                  </a:lnTo>
                  <a:lnTo>
                    <a:pt x="1773" y="3577"/>
                  </a:lnTo>
                  <a:lnTo>
                    <a:pt x="1772" y="3568"/>
                  </a:lnTo>
                  <a:lnTo>
                    <a:pt x="1770" y="3559"/>
                  </a:lnTo>
                  <a:lnTo>
                    <a:pt x="1772" y="3549"/>
                  </a:lnTo>
                  <a:lnTo>
                    <a:pt x="1778" y="3540"/>
                  </a:lnTo>
                  <a:lnTo>
                    <a:pt x="1785" y="3533"/>
                  </a:lnTo>
                  <a:lnTo>
                    <a:pt x="1796" y="3524"/>
                  </a:lnTo>
                  <a:lnTo>
                    <a:pt x="1809" y="3517"/>
                  </a:lnTo>
                  <a:lnTo>
                    <a:pt x="1823" y="3509"/>
                  </a:lnTo>
                  <a:lnTo>
                    <a:pt x="1838" y="3502"/>
                  </a:lnTo>
                  <a:lnTo>
                    <a:pt x="1854" y="3494"/>
                  </a:lnTo>
                  <a:lnTo>
                    <a:pt x="1871" y="3486"/>
                  </a:lnTo>
                  <a:lnTo>
                    <a:pt x="1887" y="3477"/>
                  </a:lnTo>
                  <a:lnTo>
                    <a:pt x="1903" y="3469"/>
                  </a:lnTo>
                  <a:lnTo>
                    <a:pt x="1919" y="3460"/>
                  </a:lnTo>
                  <a:lnTo>
                    <a:pt x="1933" y="3451"/>
                  </a:lnTo>
                  <a:lnTo>
                    <a:pt x="1945" y="3440"/>
                  </a:lnTo>
                  <a:lnTo>
                    <a:pt x="1955" y="3428"/>
                  </a:lnTo>
                  <a:lnTo>
                    <a:pt x="1945" y="3427"/>
                  </a:lnTo>
                  <a:lnTo>
                    <a:pt x="1932" y="3429"/>
                  </a:lnTo>
                  <a:lnTo>
                    <a:pt x="1918" y="3432"/>
                  </a:lnTo>
                  <a:lnTo>
                    <a:pt x="1902" y="3437"/>
                  </a:lnTo>
                  <a:lnTo>
                    <a:pt x="1886" y="3442"/>
                  </a:lnTo>
                  <a:lnTo>
                    <a:pt x="1868" y="3450"/>
                  </a:lnTo>
                  <a:lnTo>
                    <a:pt x="1849" y="3456"/>
                  </a:lnTo>
                  <a:lnTo>
                    <a:pt x="1831" y="3463"/>
                  </a:lnTo>
                  <a:lnTo>
                    <a:pt x="1813" y="3471"/>
                  </a:lnTo>
                  <a:lnTo>
                    <a:pt x="1795" y="3477"/>
                  </a:lnTo>
                  <a:lnTo>
                    <a:pt x="1778" y="3483"/>
                  </a:lnTo>
                  <a:lnTo>
                    <a:pt x="1762" y="3488"/>
                  </a:lnTo>
                  <a:lnTo>
                    <a:pt x="1747" y="3491"/>
                  </a:lnTo>
                  <a:lnTo>
                    <a:pt x="1733" y="3492"/>
                  </a:lnTo>
                  <a:lnTo>
                    <a:pt x="1721" y="3492"/>
                  </a:lnTo>
                  <a:lnTo>
                    <a:pt x="1711" y="3489"/>
                  </a:lnTo>
                  <a:lnTo>
                    <a:pt x="1707" y="3487"/>
                  </a:lnTo>
                  <a:lnTo>
                    <a:pt x="1702" y="3485"/>
                  </a:lnTo>
                  <a:lnTo>
                    <a:pt x="1697" y="3483"/>
                  </a:lnTo>
                  <a:lnTo>
                    <a:pt x="1694" y="3478"/>
                  </a:lnTo>
                  <a:lnTo>
                    <a:pt x="1690" y="3475"/>
                  </a:lnTo>
                  <a:lnTo>
                    <a:pt x="1687" y="3470"/>
                  </a:lnTo>
                  <a:lnTo>
                    <a:pt x="1684" y="3463"/>
                  </a:lnTo>
                  <a:lnTo>
                    <a:pt x="1681" y="3456"/>
                  </a:lnTo>
                  <a:lnTo>
                    <a:pt x="1685" y="3445"/>
                  </a:lnTo>
                  <a:lnTo>
                    <a:pt x="1695" y="3435"/>
                  </a:lnTo>
                  <a:lnTo>
                    <a:pt x="1710" y="3423"/>
                  </a:lnTo>
                  <a:lnTo>
                    <a:pt x="1730" y="3411"/>
                  </a:lnTo>
                  <a:lnTo>
                    <a:pt x="1751" y="3400"/>
                  </a:lnTo>
                  <a:lnTo>
                    <a:pt x="1772" y="3390"/>
                  </a:lnTo>
                  <a:lnTo>
                    <a:pt x="1792" y="3379"/>
                  </a:lnTo>
                  <a:lnTo>
                    <a:pt x="1809" y="3369"/>
                  </a:lnTo>
                  <a:lnTo>
                    <a:pt x="1825" y="3361"/>
                  </a:lnTo>
                  <a:lnTo>
                    <a:pt x="1839" y="3355"/>
                  </a:lnTo>
                  <a:lnTo>
                    <a:pt x="1849" y="3354"/>
                  </a:lnTo>
                  <a:lnTo>
                    <a:pt x="1860" y="3353"/>
                  </a:lnTo>
                  <a:lnTo>
                    <a:pt x="1870" y="3354"/>
                  </a:lnTo>
                  <a:lnTo>
                    <a:pt x="1882" y="3353"/>
                  </a:lnTo>
                  <a:lnTo>
                    <a:pt x="1893" y="3351"/>
                  </a:lnTo>
                  <a:lnTo>
                    <a:pt x="1908" y="3345"/>
                  </a:lnTo>
                  <a:lnTo>
                    <a:pt x="1886" y="3346"/>
                  </a:lnTo>
                  <a:lnTo>
                    <a:pt x="1872" y="3346"/>
                  </a:lnTo>
                  <a:lnTo>
                    <a:pt x="1863" y="3346"/>
                  </a:lnTo>
                  <a:lnTo>
                    <a:pt x="1859" y="3345"/>
                  </a:lnTo>
                  <a:lnTo>
                    <a:pt x="1857" y="3345"/>
                  </a:lnTo>
                  <a:lnTo>
                    <a:pt x="1855" y="3345"/>
                  </a:lnTo>
                  <a:lnTo>
                    <a:pt x="1851" y="3345"/>
                  </a:lnTo>
                  <a:lnTo>
                    <a:pt x="1842" y="3345"/>
                  </a:lnTo>
                  <a:lnTo>
                    <a:pt x="1836" y="3346"/>
                  </a:lnTo>
                  <a:lnTo>
                    <a:pt x="1827" y="3348"/>
                  </a:lnTo>
                  <a:lnTo>
                    <a:pt x="1817" y="3350"/>
                  </a:lnTo>
                  <a:lnTo>
                    <a:pt x="1807" y="3353"/>
                  </a:lnTo>
                  <a:lnTo>
                    <a:pt x="1794" y="3358"/>
                  </a:lnTo>
                  <a:lnTo>
                    <a:pt x="1781" y="3362"/>
                  </a:lnTo>
                  <a:lnTo>
                    <a:pt x="1767" y="3366"/>
                  </a:lnTo>
                  <a:lnTo>
                    <a:pt x="1753" y="3369"/>
                  </a:lnTo>
                  <a:lnTo>
                    <a:pt x="1739" y="3374"/>
                  </a:lnTo>
                  <a:lnTo>
                    <a:pt x="1725" y="3378"/>
                  </a:lnTo>
                  <a:lnTo>
                    <a:pt x="1712" y="3380"/>
                  </a:lnTo>
                  <a:lnTo>
                    <a:pt x="1701" y="3383"/>
                  </a:lnTo>
                  <a:lnTo>
                    <a:pt x="1689" y="3384"/>
                  </a:lnTo>
                  <a:lnTo>
                    <a:pt x="1678" y="3385"/>
                  </a:lnTo>
                  <a:lnTo>
                    <a:pt x="1670" y="3384"/>
                  </a:lnTo>
                  <a:lnTo>
                    <a:pt x="1663" y="3382"/>
                  </a:lnTo>
                  <a:lnTo>
                    <a:pt x="1651" y="3363"/>
                  </a:lnTo>
                  <a:lnTo>
                    <a:pt x="1650" y="3346"/>
                  </a:lnTo>
                  <a:lnTo>
                    <a:pt x="1658" y="3330"/>
                  </a:lnTo>
                  <a:lnTo>
                    <a:pt x="1672" y="3316"/>
                  </a:lnTo>
                  <a:lnTo>
                    <a:pt x="1690" y="3303"/>
                  </a:lnTo>
                  <a:lnTo>
                    <a:pt x="1709" y="3290"/>
                  </a:lnTo>
                  <a:lnTo>
                    <a:pt x="1727" y="3279"/>
                  </a:lnTo>
                  <a:lnTo>
                    <a:pt x="1743" y="3269"/>
                  </a:lnTo>
                  <a:lnTo>
                    <a:pt x="1756" y="3259"/>
                  </a:lnTo>
                  <a:lnTo>
                    <a:pt x="1766" y="3253"/>
                  </a:lnTo>
                  <a:lnTo>
                    <a:pt x="1776" y="3248"/>
                  </a:lnTo>
                  <a:lnTo>
                    <a:pt x="1783" y="3244"/>
                  </a:lnTo>
                  <a:lnTo>
                    <a:pt x="1790" y="3242"/>
                  </a:lnTo>
                  <a:lnTo>
                    <a:pt x="1796" y="3240"/>
                  </a:lnTo>
                  <a:lnTo>
                    <a:pt x="1802" y="3238"/>
                  </a:lnTo>
                  <a:lnTo>
                    <a:pt x="1809" y="3236"/>
                  </a:lnTo>
                  <a:lnTo>
                    <a:pt x="1807" y="3230"/>
                  </a:lnTo>
                  <a:lnTo>
                    <a:pt x="1804" y="3226"/>
                  </a:lnTo>
                  <a:lnTo>
                    <a:pt x="1803" y="3223"/>
                  </a:lnTo>
                  <a:lnTo>
                    <a:pt x="1801" y="3221"/>
                  </a:lnTo>
                  <a:lnTo>
                    <a:pt x="1799" y="3217"/>
                  </a:lnTo>
                  <a:lnTo>
                    <a:pt x="1797" y="3214"/>
                  </a:lnTo>
                  <a:lnTo>
                    <a:pt x="1793" y="3210"/>
                  </a:lnTo>
                  <a:lnTo>
                    <a:pt x="1788" y="3203"/>
                  </a:lnTo>
                  <a:lnTo>
                    <a:pt x="1784" y="3203"/>
                  </a:lnTo>
                  <a:lnTo>
                    <a:pt x="1779" y="3203"/>
                  </a:lnTo>
                  <a:lnTo>
                    <a:pt x="1772" y="3203"/>
                  </a:lnTo>
                  <a:lnTo>
                    <a:pt x="1767" y="3203"/>
                  </a:lnTo>
                  <a:lnTo>
                    <a:pt x="1760" y="3203"/>
                  </a:lnTo>
                  <a:lnTo>
                    <a:pt x="1752" y="3203"/>
                  </a:lnTo>
                  <a:lnTo>
                    <a:pt x="1745" y="3203"/>
                  </a:lnTo>
                  <a:lnTo>
                    <a:pt x="1736" y="3203"/>
                  </a:lnTo>
                  <a:lnTo>
                    <a:pt x="1733" y="3199"/>
                  </a:lnTo>
                  <a:lnTo>
                    <a:pt x="1730" y="3195"/>
                  </a:lnTo>
                  <a:lnTo>
                    <a:pt x="1726" y="3192"/>
                  </a:lnTo>
                  <a:lnTo>
                    <a:pt x="1723" y="3187"/>
                  </a:lnTo>
                  <a:lnTo>
                    <a:pt x="1720" y="3183"/>
                  </a:lnTo>
                  <a:lnTo>
                    <a:pt x="1717" y="3179"/>
                  </a:lnTo>
                  <a:lnTo>
                    <a:pt x="1715" y="3176"/>
                  </a:lnTo>
                  <a:lnTo>
                    <a:pt x="1711" y="3171"/>
                  </a:lnTo>
                  <a:lnTo>
                    <a:pt x="1702" y="3171"/>
                  </a:lnTo>
                  <a:lnTo>
                    <a:pt x="1693" y="3171"/>
                  </a:lnTo>
                  <a:lnTo>
                    <a:pt x="1684" y="3171"/>
                  </a:lnTo>
                  <a:lnTo>
                    <a:pt x="1675" y="3171"/>
                  </a:lnTo>
                  <a:lnTo>
                    <a:pt x="1665" y="3171"/>
                  </a:lnTo>
                  <a:lnTo>
                    <a:pt x="1656" y="3171"/>
                  </a:lnTo>
                  <a:lnTo>
                    <a:pt x="1647" y="3171"/>
                  </a:lnTo>
                  <a:lnTo>
                    <a:pt x="1638" y="3171"/>
                  </a:lnTo>
                  <a:lnTo>
                    <a:pt x="1634" y="3167"/>
                  </a:lnTo>
                  <a:lnTo>
                    <a:pt x="1631" y="3163"/>
                  </a:lnTo>
                  <a:lnTo>
                    <a:pt x="1628" y="3160"/>
                  </a:lnTo>
                  <a:lnTo>
                    <a:pt x="1626" y="3155"/>
                  </a:lnTo>
                  <a:lnTo>
                    <a:pt x="1623" y="3151"/>
                  </a:lnTo>
                  <a:lnTo>
                    <a:pt x="1619" y="3147"/>
                  </a:lnTo>
                  <a:lnTo>
                    <a:pt x="1616" y="3144"/>
                  </a:lnTo>
                  <a:lnTo>
                    <a:pt x="1613" y="3139"/>
                  </a:lnTo>
                  <a:lnTo>
                    <a:pt x="1619" y="3132"/>
                  </a:lnTo>
                  <a:lnTo>
                    <a:pt x="1626" y="3124"/>
                  </a:lnTo>
                  <a:lnTo>
                    <a:pt x="1631" y="3116"/>
                  </a:lnTo>
                  <a:lnTo>
                    <a:pt x="1638" y="3108"/>
                  </a:lnTo>
                  <a:lnTo>
                    <a:pt x="1657" y="3107"/>
                  </a:lnTo>
                  <a:lnTo>
                    <a:pt x="1678" y="3106"/>
                  </a:lnTo>
                  <a:lnTo>
                    <a:pt x="1700" y="3103"/>
                  </a:lnTo>
                  <a:lnTo>
                    <a:pt x="1722" y="3100"/>
                  </a:lnTo>
                  <a:lnTo>
                    <a:pt x="1742" y="3098"/>
                  </a:lnTo>
                  <a:lnTo>
                    <a:pt x="1763" y="3094"/>
                  </a:lnTo>
                  <a:lnTo>
                    <a:pt x="1781" y="3093"/>
                  </a:lnTo>
                  <a:lnTo>
                    <a:pt x="1796" y="3092"/>
                  </a:lnTo>
                  <a:lnTo>
                    <a:pt x="1811" y="3103"/>
                  </a:lnTo>
                  <a:lnTo>
                    <a:pt x="1826" y="3115"/>
                  </a:lnTo>
                  <a:lnTo>
                    <a:pt x="1841" y="3128"/>
                  </a:lnTo>
                  <a:lnTo>
                    <a:pt x="1856" y="3140"/>
                  </a:lnTo>
                  <a:lnTo>
                    <a:pt x="1870" y="3154"/>
                  </a:lnTo>
                  <a:lnTo>
                    <a:pt x="1885" y="3168"/>
                  </a:lnTo>
                  <a:lnTo>
                    <a:pt x="1900" y="3181"/>
                  </a:lnTo>
                  <a:lnTo>
                    <a:pt x="1916" y="3195"/>
                  </a:lnTo>
                  <a:lnTo>
                    <a:pt x="1931" y="3208"/>
                  </a:lnTo>
                  <a:lnTo>
                    <a:pt x="1948" y="3221"/>
                  </a:lnTo>
                  <a:lnTo>
                    <a:pt x="1964" y="3231"/>
                  </a:lnTo>
                  <a:lnTo>
                    <a:pt x="1982" y="3242"/>
                  </a:lnTo>
                  <a:lnTo>
                    <a:pt x="1999" y="3252"/>
                  </a:lnTo>
                  <a:lnTo>
                    <a:pt x="2019" y="3260"/>
                  </a:lnTo>
                  <a:lnTo>
                    <a:pt x="2039" y="3267"/>
                  </a:lnTo>
                  <a:lnTo>
                    <a:pt x="2059" y="3271"/>
                  </a:lnTo>
                  <a:close/>
                  <a:moveTo>
                    <a:pt x="1722" y="517"/>
                  </a:moveTo>
                  <a:lnTo>
                    <a:pt x="1716" y="523"/>
                  </a:lnTo>
                  <a:lnTo>
                    <a:pt x="1707" y="525"/>
                  </a:lnTo>
                  <a:lnTo>
                    <a:pt x="1701" y="526"/>
                  </a:lnTo>
                  <a:lnTo>
                    <a:pt x="1699" y="534"/>
                  </a:lnTo>
                  <a:lnTo>
                    <a:pt x="1686" y="536"/>
                  </a:lnTo>
                  <a:lnTo>
                    <a:pt x="1673" y="541"/>
                  </a:lnTo>
                  <a:lnTo>
                    <a:pt x="1662" y="551"/>
                  </a:lnTo>
                  <a:lnTo>
                    <a:pt x="1651" y="562"/>
                  </a:lnTo>
                  <a:lnTo>
                    <a:pt x="1641" y="573"/>
                  </a:lnTo>
                  <a:lnTo>
                    <a:pt x="1631" y="587"/>
                  </a:lnTo>
                  <a:lnTo>
                    <a:pt x="1623" y="600"/>
                  </a:lnTo>
                  <a:lnTo>
                    <a:pt x="1613" y="613"/>
                  </a:lnTo>
                  <a:lnTo>
                    <a:pt x="1619" y="594"/>
                  </a:lnTo>
                  <a:lnTo>
                    <a:pt x="1626" y="570"/>
                  </a:lnTo>
                  <a:lnTo>
                    <a:pt x="1631" y="544"/>
                  </a:lnTo>
                  <a:lnTo>
                    <a:pt x="1636" y="516"/>
                  </a:lnTo>
                  <a:lnTo>
                    <a:pt x="1641" y="486"/>
                  </a:lnTo>
                  <a:lnTo>
                    <a:pt x="1644" y="453"/>
                  </a:lnTo>
                  <a:lnTo>
                    <a:pt x="1647" y="420"/>
                  </a:lnTo>
                  <a:lnTo>
                    <a:pt x="1650" y="386"/>
                  </a:lnTo>
                  <a:lnTo>
                    <a:pt x="1653" y="352"/>
                  </a:lnTo>
                  <a:lnTo>
                    <a:pt x="1654" y="318"/>
                  </a:lnTo>
                  <a:lnTo>
                    <a:pt x="1655" y="283"/>
                  </a:lnTo>
                  <a:lnTo>
                    <a:pt x="1655" y="250"/>
                  </a:lnTo>
                  <a:lnTo>
                    <a:pt x="1655" y="219"/>
                  </a:lnTo>
                  <a:lnTo>
                    <a:pt x="1654" y="189"/>
                  </a:lnTo>
                  <a:lnTo>
                    <a:pt x="1653" y="161"/>
                  </a:lnTo>
                  <a:lnTo>
                    <a:pt x="1650" y="136"/>
                  </a:lnTo>
                  <a:lnTo>
                    <a:pt x="1649" y="124"/>
                  </a:lnTo>
                  <a:lnTo>
                    <a:pt x="1646" y="112"/>
                  </a:lnTo>
                  <a:lnTo>
                    <a:pt x="1643" y="101"/>
                  </a:lnTo>
                  <a:lnTo>
                    <a:pt x="1639" y="89"/>
                  </a:lnTo>
                  <a:lnTo>
                    <a:pt x="1633" y="77"/>
                  </a:lnTo>
                  <a:lnTo>
                    <a:pt x="1630" y="64"/>
                  </a:lnTo>
                  <a:lnTo>
                    <a:pt x="1627" y="52"/>
                  </a:lnTo>
                  <a:lnTo>
                    <a:pt x="1626" y="41"/>
                  </a:lnTo>
                  <a:lnTo>
                    <a:pt x="1604" y="40"/>
                  </a:lnTo>
                  <a:lnTo>
                    <a:pt x="1583" y="38"/>
                  </a:lnTo>
                  <a:lnTo>
                    <a:pt x="1562" y="35"/>
                  </a:lnTo>
                  <a:lnTo>
                    <a:pt x="1539" y="31"/>
                  </a:lnTo>
                  <a:lnTo>
                    <a:pt x="1518" y="27"/>
                  </a:lnTo>
                  <a:lnTo>
                    <a:pt x="1495" y="22"/>
                  </a:lnTo>
                  <a:lnTo>
                    <a:pt x="1473" y="17"/>
                  </a:lnTo>
                  <a:lnTo>
                    <a:pt x="1450" y="13"/>
                  </a:lnTo>
                  <a:lnTo>
                    <a:pt x="1428" y="9"/>
                  </a:lnTo>
                  <a:lnTo>
                    <a:pt x="1406" y="5"/>
                  </a:lnTo>
                  <a:lnTo>
                    <a:pt x="1384" y="2"/>
                  </a:lnTo>
                  <a:lnTo>
                    <a:pt x="1362" y="0"/>
                  </a:lnTo>
                  <a:lnTo>
                    <a:pt x="1342" y="0"/>
                  </a:lnTo>
                  <a:lnTo>
                    <a:pt x="1322" y="1"/>
                  </a:lnTo>
                  <a:lnTo>
                    <a:pt x="1302" y="4"/>
                  </a:lnTo>
                  <a:lnTo>
                    <a:pt x="1283" y="9"/>
                  </a:lnTo>
                  <a:lnTo>
                    <a:pt x="1263" y="16"/>
                  </a:lnTo>
                  <a:lnTo>
                    <a:pt x="1245" y="26"/>
                  </a:lnTo>
                  <a:lnTo>
                    <a:pt x="1226" y="37"/>
                  </a:lnTo>
                  <a:lnTo>
                    <a:pt x="1208" y="50"/>
                  </a:lnTo>
                  <a:lnTo>
                    <a:pt x="1191" y="63"/>
                  </a:lnTo>
                  <a:lnTo>
                    <a:pt x="1174" y="77"/>
                  </a:lnTo>
                  <a:lnTo>
                    <a:pt x="1156" y="91"/>
                  </a:lnTo>
                  <a:lnTo>
                    <a:pt x="1139" y="104"/>
                  </a:lnTo>
                  <a:lnTo>
                    <a:pt x="1119" y="115"/>
                  </a:lnTo>
                  <a:lnTo>
                    <a:pt x="1100" y="125"/>
                  </a:lnTo>
                  <a:lnTo>
                    <a:pt x="1080" y="133"/>
                  </a:lnTo>
                  <a:lnTo>
                    <a:pt x="1058" y="138"/>
                  </a:lnTo>
                  <a:lnTo>
                    <a:pt x="1035" y="140"/>
                  </a:lnTo>
                  <a:lnTo>
                    <a:pt x="1010" y="138"/>
                  </a:lnTo>
                  <a:lnTo>
                    <a:pt x="982" y="132"/>
                  </a:lnTo>
                  <a:lnTo>
                    <a:pt x="954" y="120"/>
                  </a:lnTo>
                  <a:lnTo>
                    <a:pt x="952" y="127"/>
                  </a:lnTo>
                  <a:lnTo>
                    <a:pt x="949" y="137"/>
                  </a:lnTo>
                  <a:lnTo>
                    <a:pt x="945" y="148"/>
                  </a:lnTo>
                  <a:lnTo>
                    <a:pt x="941" y="159"/>
                  </a:lnTo>
                  <a:lnTo>
                    <a:pt x="934" y="172"/>
                  </a:lnTo>
                  <a:lnTo>
                    <a:pt x="928" y="183"/>
                  </a:lnTo>
                  <a:lnTo>
                    <a:pt x="922" y="192"/>
                  </a:lnTo>
                  <a:lnTo>
                    <a:pt x="917" y="200"/>
                  </a:lnTo>
                  <a:lnTo>
                    <a:pt x="917" y="218"/>
                  </a:lnTo>
                  <a:lnTo>
                    <a:pt x="916" y="235"/>
                  </a:lnTo>
                  <a:lnTo>
                    <a:pt x="915" y="253"/>
                  </a:lnTo>
                  <a:lnTo>
                    <a:pt x="913" y="272"/>
                  </a:lnTo>
                  <a:lnTo>
                    <a:pt x="912" y="289"/>
                  </a:lnTo>
                  <a:lnTo>
                    <a:pt x="910" y="307"/>
                  </a:lnTo>
                  <a:lnTo>
                    <a:pt x="908" y="325"/>
                  </a:lnTo>
                  <a:lnTo>
                    <a:pt x="905" y="342"/>
                  </a:lnTo>
                  <a:lnTo>
                    <a:pt x="902" y="360"/>
                  </a:lnTo>
                  <a:lnTo>
                    <a:pt x="900" y="379"/>
                  </a:lnTo>
                  <a:lnTo>
                    <a:pt x="898" y="397"/>
                  </a:lnTo>
                  <a:lnTo>
                    <a:pt x="897" y="414"/>
                  </a:lnTo>
                  <a:lnTo>
                    <a:pt x="895" y="432"/>
                  </a:lnTo>
                  <a:lnTo>
                    <a:pt x="894" y="450"/>
                  </a:lnTo>
                  <a:lnTo>
                    <a:pt x="893" y="467"/>
                  </a:lnTo>
                  <a:lnTo>
                    <a:pt x="893" y="486"/>
                  </a:lnTo>
                  <a:lnTo>
                    <a:pt x="888" y="487"/>
                  </a:lnTo>
                  <a:lnTo>
                    <a:pt x="884" y="488"/>
                  </a:lnTo>
                  <a:lnTo>
                    <a:pt x="879" y="491"/>
                  </a:lnTo>
                  <a:lnTo>
                    <a:pt x="874" y="493"/>
                  </a:lnTo>
                  <a:lnTo>
                    <a:pt x="870" y="496"/>
                  </a:lnTo>
                  <a:lnTo>
                    <a:pt x="865" y="499"/>
                  </a:lnTo>
                  <a:lnTo>
                    <a:pt x="860" y="501"/>
                  </a:lnTo>
                  <a:lnTo>
                    <a:pt x="856" y="502"/>
                  </a:lnTo>
                  <a:lnTo>
                    <a:pt x="856" y="406"/>
                  </a:lnTo>
                  <a:lnTo>
                    <a:pt x="838" y="384"/>
                  </a:lnTo>
                  <a:lnTo>
                    <a:pt x="821" y="366"/>
                  </a:lnTo>
                  <a:lnTo>
                    <a:pt x="805" y="353"/>
                  </a:lnTo>
                  <a:lnTo>
                    <a:pt x="789" y="344"/>
                  </a:lnTo>
                  <a:lnTo>
                    <a:pt x="772" y="342"/>
                  </a:lnTo>
                  <a:lnTo>
                    <a:pt x="756" y="347"/>
                  </a:lnTo>
                  <a:lnTo>
                    <a:pt x="738" y="358"/>
                  </a:lnTo>
                  <a:lnTo>
                    <a:pt x="720" y="379"/>
                  </a:lnTo>
                  <a:lnTo>
                    <a:pt x="718" y="398"/>
                  </a:lnTo>
                  <a:lnTo>
                    <a:pt x="718" y="417"/>
                  </a:lnTo>
                  <a:lnTo>
                    <a:pt x="718" y="435"/>
                  </a:lnTo>
                  <a:lnTo>
                    <a:pt x="720" y="453"/>
                  </a:lnTo>
                  <a:lnTo>
                    <a:pt x="722" y="470"/>
                  </a:lnTo>
                  <a:lnTo>
                    <a:pt x="726" y="487"/>
                  </a:lnTo>
                  <a:lnTo>
                    <a:pt x="729" y="502"/>
                  </a:lnTo>
                  <a:lnTo>
                    <a:pt x="734" y="517"/>
                  </a:lnTo>
                  <a:lnTo>
                    <a:pt x="738" y="532"/>
                  </a:lnTo>
                  <a:lnTo>
                    <a:pt x="744" y="545"/>
                  </a:lnTo>
                  <a:lnTo>
                    <a:pt x="750" y="558"/>
                  </a:lnTo>
                  <a:lnTo>
                    <a:pt x="757" y="570"/>
                  </a:lnTo>
                  <a:lnTo>
                    <a:pt x="763" y="582"/>
                  </a:lnTo>
                  <a:lnTo>
                    <a:pt x="769" y="593"/>
                  </a:lnTo>
                  <a:lnTo>
                    <a:pt x="777" y="603"/>
                  </a:lnTo>
                  <a:lnTo>
                    <a:pt x="783" y="613"/>
                  </a:lnTo>
                  <a:lnTo>
                    <a:pt x="792" y="614"/>
                  </a:lnTo>
                  <a:lnTo>
                    <a:pt x="799" y="615"/>
                  </a:lnTo>
                  <a:lnTo>
                    <a:pt x="807" y="618"/>
                  </a:lnTo>
                  <a:lnTo>
                    <a:pt x="813" y="621"/>
                  </a:lnTo>
                  <a:lnTo>
                    <a:pt x="820" y="624"/>
                  </a:lnTo>
                  <a:lnTo>
                    <a:pt x="827" y="627"/>
                  </a:lnTo>
                  <a:lnTo>
                    <a:pt x="836" y="629"/>
                  </a:lnTo>
                  <a:lnTo>
                    <a:pt x="844" y="630"/>
                  </a:lnTo>
                  <a:lnTo>
                    <a:pt x="846" y="636"/>
                  </a:lnTo>
                  <a:lnTo>
                    <a:pt x="851" y="643"/>
                  </a:lnTo>
                  <a:lnTo>
                    <a:pt x="857" y="649"/>
                  </a:lnTo>
                  <a:lnTo>
                    <a:pt x="866" y="655"/>
                  </a:lnTo>
                  <a:lnTo>
                    <a:pt x="873" y="661"/>
                  </a:lnTo>
                  <a:lnTo>
                    <a:pt x="880" y="666"/>
                  </a:lnTo>
                  <a:lnTo>
                    <a:pt x="884" y="673"/>
                  </a:lnTo>
                  <a:lnTo>
                    <a:pt x="886" y="678"/>
                  </a:lnTo>
                  <a:lnTo>
                    <a:pt x="887" y="703"/>
                  </a:lnTo>
                  <a:lnTo>
                    <a:pt x="889" y="727"/>
                  </a:lnTo>
                  <a:lnTo>
                    <a:pt x="893" y="751"/>
                  </a:lnTo>
                  <a:lnTo>
                    <a:pt x="898" y="772"/>
                  </a:lnTo>
                  <a:lnTo>
                    <a:pt x="904" y="794"/>
                  </a:lnTo>
                  <a:lnTo>
                    <a:pt x="912" y="814"/>
                  </a:lnTo>
                  <a:lnTo>
                    <a:pt x="921" y="833"/>
                  </a:lnTo>
                  <a:lnTo>
                    <a:pt x="931" y="852"/>
                  </a:lnTo>
                  <a:lnTo>
                    <a:pt x="943" y="870"/>
                  </a:lnTo>
                  <a:lnTo>
                    <a:pt x="955" y="886"/>
                  </a:lnTo>
                  <a:lnTo>
                    <a:pt x="969" y="902"/>
                  </a:lnTo>
                  <a:lnTo>
                    <a:pt x="982" y="916"/>
                  </a:lnTo>
                  <a:lnTo>
                    <a:pt x="998" y="929"/>
                  </a:lnTo>
                  <a:lnTo>
                    <a:pt x="1015" y="941"/>
                  </a:lnTo>
                  <a:lnTo>
                    <a:pt x="1031" y="952"/>
                  </a:lnTo>
                  <a:lnTo>
                    <a:pt x="1049" y="963"/>
                  </a:lnTo>
                  <a:lnTo>
                    <a:pt x="1066" y="972"/>
                  </a:lnTo>
                  <a:lnTo>
                    <a:pt x="1083" y="982"/>
                  </a:lnTo>
                  <a:lnTo>
                    <a:pt x="1098" y="992"/>
                  </a:lnTo>
                  <a:lnTo>
                    <a:pt x="1113" y="1001"/>
                  </a:lnTo>
                  <a:lnTo>
                    <a:pt x="1128" y="1010"/>
                  </a:lnTo>
                  <a:lnTo>
                    <a:pt x="1142" y="1018"/>
                  </a:lnTo>
                  <a:lnTo>
                    <a:pt x="1157" y="1026"/>
                  </a:lnTo>
                  <a:lnTo>
                    <a:pt x="1173" y="1032"/>
                  </a:lnTo>
                  <a:lnTo>
                    <a:pt x="1189" y="1037"/>
                  </a:lnTo>
                  <a:lnTo>
                    <a:pt x="1206" y="1041"/>
                  </a:lnTo>
                  <a:lnTo>
                    <a:pt x="1224" y="1043"/>
                  </a:lnTo>
                  <a:lnTo>
                    <a:pt x="1245" y="1043"/>
                  </a:lnTo>
                  <a:lnTo>
                    <a:pt x="1267" y="1041"/>
                  </a:lnTo>
                  <a:lnTo>
                    <a:pt x="1291" y="1037"/>
                  </a:lnTo>
                  <a:lnTo>
                    <a:pt x="1317" y="1030"/>
                  </a:lnTo>
                  <a:lnTo>
                    <a:pt x="1347" y="1021"/>
                  </a:lnTo>
                  <a:lnTo>
                    <a:pt x="1369" y="1005"/>
                  </a:lnTo>
                  <a:lnTo>
                    <a:pt x="1388" y="990"/>
                  </a:lnTo>
                  <a:lnTo>
                    <a:pt x="1406" y="978"/>
                  </a:lnTo>
                  <a:lnTo>
                    <a:pt x="1423" y="966"/>
                  </a:lnTo>
                  <a:lnTo>
                    <a:pt x="1438" y="955"/>
                  </a:lnTo>
                  <a:lnTo>
                    <a:pt x="1453" y="944"/>
                  </a:lnTo>
                  <a:lnTo>
                    <a:pt x="1466" y="933"/>
                  </a:lnTo>
                  <a:lnTo>
                    <a:pt x="1479" y="921"/>
                  </a:lnTo>
                  <a:lnTo>
                    <a:pt x="1491" y="907"/>
                  </a:lnTo>
                  <a:lnTo>
                    <a:pt x="1503" y="892"/>
                  </a:lnTo>
                  <a:lnTo>
                    <a:pt x="1514" y="875"/>
                  </a:lnTo>
                  <a:lnTo>
                    <a:pt x="1526" y="855"/>
                  </a:lnTo>
                  <a:lnTo>
                    <a:pt x="1538" y="832"/>
                  </a:lnTo>
                  <a:lnTo>
                    <a:pt x="1551" y="805"/>
                  </a:lnTo>
                  <a:lnTo>
                    <a:pt x="1564" y="775"/>
                  </a:lnTo>
                  <a:lnTo>
                    <a:pt x="1578" y="740"/>
                  </a:lnTo>
                  <a:lnTo>
                    <a:pt x="1583" y="745"/>
                  </a:lnTo>
                  <a:lnTo>
                    <a:pt x="1588" y="749"/>
                  </a:lnTo>
                  <a:lnTo>
                    <a:pt x="1595" y="751"/>
                  </a:lnTo>
                  <a:lnTo>
                    <a:pt x="1601" y="751"/>
                  </a:lnTo>
                  <a:lnTo>
                    <a:pt x="1608" y="750"/>
                  </a:lnTo>
                  <a:lnTo>
                    <a:pt x="1614" y="748"/>
                  </a:lnTo>
                  <a:lnTo>
                    <a:pt x="1619" y="744"/>
                  </a:lnTo>
                  <a:lnTo>
                    <a:pt x="1624" y="741"/>
                  </a:lnTo>
                  <a:lnTo>
                    <a:pt x="1628" y="735"/>
                  </a:lnTo>
                  <a:lnTo>
                    <a:pt x="1634" y="727"/>
                  </a:lnTo>
                  <a:lnTo>
                    <a:pt x="1641" y="717"/>
                  </a:lnTo>
                  <a:lnTo>
                    <a:pt x="1648" y="706"/>
                  </a:lnTo>
                  <a:lnTo>
                    <a:pt x="1656" y="693"/>
                  </a:lnTo>
                  <a:lnTo>
                    <a:pt x="1664" y="679"/>
                  </a:lnTo>
                  <a:lnTo>
                    <a:pt x="1673" y="664"/>
                  </a:lnTo>
                  <a:lnTo>
                    <a:pt x="1681" y="648"/>
                  </a:lnTo>
                  <a:lnTo>
                    <a:pt x="1689" y="632"/>
                  </a:lnTo>
                  <a:lnTo>
                    <a:pt x="1696" y="615"/>
                  </a:lnTo>
                  <a:lnTo>
                    <a:pt x="1703" y="598"/>
                  </a:lnTo>
                  <a:lnTo>
                    <a:pt x="1709" y="581"/>
                  </a:lnTo>
                  <a:lnTo>
                    <a:pt x="1715" y="565"/>
                  </a:lnTo>
                  <a:lnTo>
                    <a:pt x="1719" y="548"/>
                  </a:lnTo>
                  <a:lnTo>
                    <a:pt x="1721" y="532"/>
                  </a:lnTo>
                  <a:lnTo>
                    <a:pt x="1722" y="517"/>
                  </a:lnTo>
                  <a:close/>
                </a:path>
              </a:pathLst>
            </a:custGeom>
            <a:solidFill>
              <a:srgbClr val="ffba8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6" name="Freeform 28"/>
            <p:cNvSpPr/>
            <p:nvPr/>
          </p:nvSpPr>
          <p:spPr>
            <a:xfrm>
              <a:off x="2286360" y="3440880"/>
              <a:ext cx="71280" cy="38520"/>
            </a:xfrm>
            <a:custGeom>
              <a:avLst/>
              <a:gdLst>
                <a:gd name="textAreaLeft" fmla="*/ 0 w 71280"/>
                <a:gd name="textAreaRight" fmla="*/ 71640 w 71280"/>
                <a:gd name="textAreaTop" fmla="*/ 0 h 38520"/>
                <a:gd name="textAreaBottom" fmla="*/ 38880 h 38520"/>
              </a:gdLst>
              <a:ahLst/>
              <a:rect l="textAreaLeft" t="textAreaTop" r="textAreaRight" b="textAreaBottom"/>
              <a:pathLst>
                <a:path w="930" h="520">
                  <a:moveTo>
                    <a:pt x="222" y="232"/>
                  </a:moveTo>
                  <a:lnTo>
                    <a:pt x="222" y="232"/>
                  </a:lnTo>
                  <a:lnTo>
                    <a:pt x="214" y="250"/>
                  </a:lnTo>
                  <a:lnTo>
                    <a:pt x="204" y="266"/>
                  </a:lnTo>
                  <a:lnTo>
                    <a:pt x="192" y="281"/>
                  </a:lnTo>
                  <a:lnTo>
                    <a:pt x="180" y="295"/>
                  </a:lnTo>
                  <a:lnTo>
                    <a:pt x="166" y="308"/>
                  </a:lnTo>
                  <a:lnTo>
                    <a:pt x="151" y="322"/>
                  </a:lnTo>
                  <a:lnTo>
                    <a:pt x="136" y="335"/>
                  </a:lnTo>
                  <a:lnTo>
                    <a:pt x="120" y="348"/>
                  </a:lnTo>
                  <a:lnTo>
                    <a:pt x="104" y="361"/>
                  </a:lnTo>
                  <a:lnTo>
                    <a:pt x="87" y="373"/>
                  </a:lnTo>
                  <a:lnTo>
                    <a:pt x="70" y="385"/>
                  </a:lnTo>
                  <a:lnTo>
                    <a:pt x="54" y="398"/>
                  </a:lnTo>
                  <a:lnTo>
                    <a:pt x="39" y="412"/>
                  </a:lnTo>
                  <a:lnTo>
                    <a:pt x="26" y="425"/>
                  </a:lnTo>
                  <a:lnTo>
                    <a:pt x="12" y="439"/>
                  </a:lnTo>
                  <a:lnTo>
                    <a:pt x="0" y="454"/>
                  </a:lnTo>
                  <a:lnTo>
                    <a:pt x="19" y="459"/>
                  </a:lnTo>
                  <a:lnTo>
                    <a:pt x="37" y="468"/>
                  </a:lnTo>
                  <a:lnTo>
                    <a:pt x="54" y="476"/>
                  </a:lnTo>
                  <a:lnTo>
                    <a:pt x="72" y="487"/>
                  </a:lnTo>
                  <a:lnTo>
                    <a:pt x="88" y="497"/>
                  </a:lnTo>
                  <a:lnTo>
                    <a:pt x="104" y="506"/>
                  </a:lnTo>
                  <a:lnTo>
                    <a:pt x="120" y="513"/>
                  </a:lnTo>
                  <a:lnTo>
                    <a:pt x="136" y="517"/>
                  </a:lnTo>
                  <a:lnTo>
                    <a:pt x="149" y="519"/>
                  </a:lnTo>
                  <a:lnTo>
                    <a:pt x="163" y="520"/>
                  </a:lnTo>
                  <a:lnTo>
                    <a:pt x="176" y="519"/>
                  </a:lnTo>
                  <a:lnTo>
                    <a:pt x="191" y="518"/>
                  </a:lnTo>
                  <a:lnTo>
                    <a:pt x="205" y="516"/>
                  </a:lnTo>
                  <a:lnTo>
                    <a:pt x="220" y="513"/>
                  </a:lnTo>
                  <a:lnTo>
                    <a:pt x="235" y="508"/>
                  </a:lnTo>
                  <a:lnTo>
                    <a:pt x="250" y="504"/>
                  </a:lnTo>
                  <a:lnTo>
                    <a:pt x="258" y="502"/>
                  </a:lnTo>
                  <a:lnTo>
                    <a:pt x="264" y="499"/>
                  </a:lnTo>
                  <a:lnTo>
                    <a:pt x="271" y="497"/>
                  </a:lnTo>
                  <a:lnTo>
                    <a:pt x="279" y="493"/>
                  </a:lnTo>
                  <a:lnTo>
                    <a:pt x="289" y="489"/>
                  </a:lnTo>
                  <a:lnTo>
                    <a:pt x="298" y="485"/>
                  </a:lnTo>
                  <a:lnTo>
                    <a:pt x="309" y="481"/>
                  </a:lnTo>
                  <a:lnTo>
                    <a:pt x="320" y="475"/>
                  </a:lnTo>
                  <a:lnTo>
                    <a:pt x="331" y="471"/>
                  </a:lnTo>
                  <a:lnTo>
                    <a:pt x="342" y="466"/>
                  </a:lnTo>
                  <a:lnTo>
                    <a:pt x="354" y="459"/>
                  </a:lnTo>
                  <a:lnTo>
                    <a:pt x="366" y="454"/>
                  </a:lnTo>
                  <a:lnTo>
                    <a:pt x="372" y="435"/>
                  </a:lnTo>
                  <a:lnTo>
                    <a:pt x="398" y="439"/>
                  </a:lnTo>
                  <a:lnTo>
                    <a:pt x="416" y="437"/>
                  </a:lnTo>
                  <a:lnTo>
                    <a:pt x="429" y="432"/>
                  </a:lnTo>
                  <a:lnTo>
                    <a:pt x="440" y="425"/>
                  </a:lnTo>
                  <a:lnTo>
                    <a:pt x="452" y="418"/>
                  </a:lnTo>
                  <a:lnTo>
                    <a:pt x="467" y="410"/>
                  </a:lnTo>
                  <a:lnTo>
                    <a:pt x="490" y="406"/>
                  </a:lnTo>
                  <a:lnTo>
                    <a:pt x="523" y="405"/>
                  </a:lnTo>
                  <a:lnTo>
                    <a:pt x="533" y="414"/>
                  </a:lnTo>
                  <a:lnTo>
                    <a:pt x="541" y="422"/>
                  </a:lnTo>
                  <a:lnTo>
                    <a:pt x="549" y="427"/>
                  </a:lnTo>
                  <a:lnTo>
                    <a:pt x="556" y="431"/>
                  </a:lnTo>
                  <a:lnTo>
                    <a:pt x="564" y="434"/>
                  </a:lnTo>
                  <a:lnTo>
                    <a:pt x="574" y="436"/>
                  </a:lnTo>
                  <a:lnTo>
                    <a:pt x="584" y="437"/>
                  </a:lnTo>
                  <a:lnTo>
                    <a:pt x="598" y="438"/>
                  </a:lnTo>
                  <a:lnTo>
                    <a:pt x="608" y="441"/>
                  </a:lnTo>
                  <a:lnTo>
                    <a:pt x="615" y="444"/>
                  </a:lnTo>
                  <a:lnTo>
                    <a:pt x="624" y="446"/>
                  </a:lnTo>
                  <a:lnTo>
                    <a:pt x="631" y="449"/>
                  </a:lnTo>
                  <a:lnTo>
                    <a:pt x="638" y="451"/>
                  </a:lnTo>
                  <a:lnTo>
                    <a:pt x="646" y="452"/>
                  </a:lnTo>
                  <a:lnTo>
                    <a:pt x="654" y="454"/>
                  </a:lnTo>
                  <a:lnTo>
                    <a:pt x="663" y="456"/>
                  </a:lnTo>
                  <a:lnTo>
                    <a:pt x="672" y="467"/>
                  </a:lnTo>
                  <a:lnTo>
                    <a:pt x="681" y="474"/>
                  </a:lnTo>
                  <a:lnTo>
                    <a:pt x="689" y="480"/>
                  </a:lnTo>
                  <a:lnTo>
                    <a:pt x="698" y="484"/>
                  </a:lnTo>
                  <a:lnTo>
                    <a:pt x="706" y="486"/>
                  </a:lnTo>
                  <a:lnTo>
                    <a:pt x="715" y="488"/>
                  </a:lnTo>
                  <a:lnTo>
                    <a:pt x="726" y="490"/>
                  </a:lnTo>
                  <a:lnTo>
                    <a:pt x="736" y="491"/>
                  </a:lnTo>
                  <a:lnTo>
                    <a:pt x="745" y="490"/>
                  </a:lnTo>
                  <a:lnTo>
                    <a:pt x="752" y="486"/>
                  </a:lnTo>
                  <a:lnTo>
                    <a:pt x="760" y="481"/>
                  </a:lnTo>
                  <a:lnTo>
                    <a:pt x="766" y="473"/>
                  </a:lnTo>
                  <a:lnTo>
                    <a:pt x="769" y="465"/>
                  </a:lnTo>
                  <a:lnTo>
                    <a:pt x="772" y="455"/>
                  </a:lnTo>
                  <a:lnTo>
                    <a:pt x="769" y="444"/>
                  </a:lnTo>
                  <a:lnTo>
                    <a:pt x="764" y="435"/>
                  </a:lnTo>
                  <a:lnTo>
                    <a:pt x="754" y="428"/>
                  </a:lnTo>
                  <a:lnTo>
                    <a:pt x="746" y="421"/>
                  </a:lnTo>
                  <a:lnTo>
                    <a:pt x="737" y="412"/>
                  </a:lnTo>
                  <a:lnTo>
                    <a:pt x="729" y="404"/>
                  </a:lnTo>
                  <a:lnTo>
                    <a:pt x="721" y="395"/>
                  </a:lnTo>
                  <a:lnTo>
                    <a:pt x="714" y="388"/>
                  </a:lnTo>
                  <a:lnTo>
                    <a:pt x="707" y="381"/>
                  </a:lnTo>
                  <a:lnTo>
                    <a:pt x="701" y="376"/>
                  </a:lnTo>
                  <a:lnTo>
                    <a:pt x="692" y="372"/>
                  </a:lnTo>
                  <a:lnTo>
                    <a:pt x="681" y="367"/>
                  </a:lnTo>
                  <a:lnTo>
                    <a:pt x="669" y="361"/>
                  </a:lnTo>
                  <a:lnTo>
                    <a:pt x="656" y="353"/>
                  </a:lnTo>
                  <a:lnTo>
                    <a:pt x="643" y="347"/>
                  </a:lnTo>
                  <a:lnTo>
                    <a:pt x="631" y="339"/>
                  </a:lnTo>
                  <a:lnTo>
                    <a:pt x="621" y="332"/>
                  </a:lnTo>
                  <a:lnTo>
                    <a:pt x="613" y="326"/>
                  </a:lnTo>
                  <a:lnTo>
                    <a:pt x="629" y="327"/>
                  </a:lnTo>
                  <a:lnTo>
                    <a:pt x="645" y="329"/>
                  </a:lnTo>
                  <a:lnTo>
                    <a:pt x="662" y="333"/>
                  </a:lnTo>
                  <a:lnTo>
                    <a:pt x="678" y="338"/>
                  </a:lnTo>
                  <a:lnTo>
                    <a:pt x="696" y="344"/>
                  </a:lnTo>
                  <a:lnTo>
                    <a:pt x="713" y="351"/>
                  </a:lnTo>
                  <a:lnTo>
                    <a:pt x="730" y="359"/>
                  </a:lnTo>
                  <a:lnTo>
                    <a:pt x="747" y="365"/>
                  </a:lnTo>
                  <a:lnTo>
                    <a:pt x="763" y="373"/>
                  </a:lnTo>
                  <a:lnTo>
                    <a:pt x="780" y="380"/>
                  </a:lnTo>
                  <a:lnTo>
                    <a:pt x="797" y="388"/>
                  </a:lnTo>
                  <a:lnTo>
                    <a:pt x="814" y="393"/>
                  </a:lnTo>
                  <a:lnTo>
                    <a:pt x="830" y="398"/>
                  </a:lnTo>
                  <a:lnTo>
                    <a:pt x="848" y="403"/>
                  </a:lnTo>
                  <a:lnTo>
                    <a:pt x="864" y="405"/>
                  </a:lnTo>
                  <a:lnTo>
                    <a:pt x="880" y="406"/>
                  </a:lnTo>
                  <a:lnTo>
                    <a:pt x="885" y="405"/>
                  </a:lnTo>
                  <a:lnTo>
                    <a:pt x="889" y="403"/>
                  </a:lnTo>
                  <a:lnTo>
                    <a:pt x="894" y="399"/>
                  </a:lnTo>
                  <a:lnTo>
                    <a:pt x="897" y="396"/>
                  </a:lnTo>
                  <a:lnTo>
                    <a:pt x="899" y="392"/>
                  </a:lnTo>
                  <a:lnTo>
                    <a:pt x="901" y="387"/>
                  </a:lnTo>
                  <a:lnTo>
                    <a:pt x="903" y="380"/>
                  </a:lnTo>
                  <a:lnTo>
                    <a:pt x="904" y="374"/>
                  </a:lnTo>
                  <a:lnTo>
                    <a:pt x="905" y="367"/>
                  </a:lnTo>
                  <a:lnTo>
                    <a:pt x="906" y="361"/>
                  </a:lnTo>
                  <a:lnTo>
                    <a:pt x="906" y="355"/>
                  </a:lnTo>
                  <a:lnTo>
                    <a:pt x="906" y="350"/>
                  </a:lnTo>
                  <a:lnTo>
                    <a:pt x="904" y="345"/>
                  </a:lnTo>
                  <a:lnTo>
                    <a:pt x="903" y="339"/>
                  </a:lnTo>
                  <a:lnTo>
                    <a:pt x="901" y="335"/>
                  </a:lnTo>
                  <a:lnTo>
                    <a:pt x="898" y="330"/>
                  </a:lnTo>
                  <a:lnTo>
                    <a:pt x="910" y="327"/>
                  </a:lnTo>
                  <a:lnTo>
                    <a:pt x="918" y="319"/>
                  </a:lnTo>
                  <a:lnTo>
                    <a:pt x="925" y="309"/>
                  </a:lnTo>
                  <a:lnTo>
                    <a:pt x="928" y="300"/>
                  </a:lnTo>
                  <a:lnTo>
                    <a:pt x="930" y="289"/>
                  </a:lnTo>
                  <a:lnTo>
                    <a:pt x="930" y="280"/>
                  </a:lnTo>
                  <a:lnTo>
                    <a:pt x="929" y="272"/>
                  </a:lnTo>
                  <a:lnTo>
                    <a:pt x="927" y="265"/>
                  </a:lnTo>
                  <a:lnTo>
                    <a:pt x="924" y="259"/>
                  </a:lnTo>
                  <a:lnTo>
                    <a:pt x="918" y="254"/>
                  </a:lnTo>
                  <a:lnTo>
                    <a:pt x="913" y="249"/>
                  </a:lnTo>
                  <a:lnTo>
                    <a:pt x="905" y="244"/>
                  </a:lnTo>
                  <a:lnTo>
                    <a:pt x="897" y="239"/>
                  </a:lnTo>
                  <a:lnTo>
                    <a:pt x="889" y="231"/>
                  </a:lnTo>
                  <a:lnTo>
                    <a:pt x="882" y="224"/>
                  </a:lnTo>
                  <a:lnTo>
                    <a:pt x="874" y="215"/>
                  </a:lnTo>
                  <a:lnTo>
                    <a:pt x="867" y="209"/>
                  </a:lnTo>
                  <a:lnTo>
                    <a:pt x="860" y="203"/>
                  </a:lnTo>
                  <a:lnTo>
                    <a:pt x="856" y="199"/>
                  </a:lnTo>
                  <a:lnTo>
                    <a:pt x="852" y="198"/>
                  </a:lnTo>
                  <a:lnTo>
                    <a:pt x="822" y="188"/>
                  </a:lnTo>
                  <a:lnTo>
                    <a:pt x="797" y="175"/>
                  </a:lnTo>
                  <a:lnTo>
                    <a:pt x="777" y="163"/>
                  </a:lnTo>
                  <a:lnTo>
                    <a:pt x="761" y="151"/>
                  </a:lnTo>
                  <a:lnTo>
                    <a:pt x="748" y="142"/>
                  </a:lnTo>
                  <a:lnTo>
                    <a:pt x="738" y="134"/>
                  </a:lnTo>
                  <a:lnTo>
                    <a:pt x="729" y="131"/>
                  </a:lnTo>
                  <a:lnTo>
                    <a:pt x="721" y="131"/>
                  </a:lnTo>
                  <a:lnTo>
                    <a:pt x="708" y="128"/>
                  </a:lnTo>
                  <a:lnTo>
                    <a:pt x="693" y="127"/>
                  </a:lnTo>
                  <a:lnTo>
                    <a:pt x="676" y="128"/>
                  </a:lnTo>
                  <a:lnTo>
                    <a:pt x="660" y="130"/>
                  </a:lnTo>
                  <a:lnTo>
                    <a:pt x="643" y="132"/>
                  </a:lnTo>
                  <a:lnTo>
                    <a:pt x="626" y="134"/>
                  </a:lnTo>
                  <a:lnTo>
                    <a:pt x="611" y="133"/>
                  </a:lnTo>
                  <a:lnTo>
                    <a:pt x="598" y="131"/>
                  </a:lnTo>
                  <a:lnTo>
                    <a:pt x="605" y="127"/>
                  </a:lnTo>
                  <a:lnTo>
                    <a:pt x="611" y="123"/>
                  </a:lnTo>
                  <a:lnTo>
                    <a:pt x="615" y="121"/>
                  </a:lnTo>
                  <a:lnTo>
                    <a:pt x="621" y="119"/>
                  </a:lnTo>
                  <a:lnTo>
                    <a:pt x="625" y="116"/>
                  </a:lnTo>
                  <a:lnTo>
                    <a:pt x="629" y="114"/>
                  </a:lnTo>
                  <a:lnTo>
                    <a:pt x="632" y="109"/>
                  </a:lnTo>
                  <a:lnTo>
                    <a:pt x="636" y="105"/>
                  </a:lnTo>
                  <a:lnTo>
                    <a:pt x="645" y="111"/>
                  </a:lnTo>
                  <a:lnTo>
                    <a:pt x="657" y="114"/>
                  </a:lnTo>
                  <a:lnTo>
                    <a:pt x="670" y="116"/>
                  </a:lnTo>
                  <a:lnTo>
                    <a:pt x="684" y="116"/>
                  </a:lnTo>
                  <a:lnTo>
                    <a:pt x="698" y="116"/>
                  </a:lnTo>
                  <a:lnTo>
                    <a:pt x="711" y="114"/>
                  </a:lnTo>
                  <a:lnTo>
                    <a:pt x="722" y="111"/>
                  </a:lnTo>
                  <a:lnTo>
                    <a:pt x="733" y="105"/>
                  </a:lnTo>
                  <a:lnTo>
                    <a:pt x="746" y="109"/>
                  </a:lnTo>
                  <a:lnTo>
                    <a:pt x="759" y="113"/>
                  </a:lnTo>
                  <a:lnTo>
                    <a:pt x="770" y="115"/>
                  </a:lnTo>
                  <a:lnTo>
                    <a:pt x="783" y="115"/>
                  </a:lnTo>
                  <a:lnTo>
                    <a:pt x="795" y="113"/>
                  </a:lnTo>
                  <a:lnTo>
                    <a:pt x="807" y="109"/>
                  </a:lnTo>
                  <a:lnTo>
                    <a:pt x="820" y="105"/>
                  </a:lnTo>
                  <a:lnTo>
                    <a:pt x="833" y="100"/>
                  </a:lnTo>
                  <a:lnTo>
                    <a:pt x="840" y="96"/>
                  </a:lnTo>
                  <a:lnTo>
                    <a:pt x="846" y="90"/>
                  </a:lnTo>
                  <a:lnTo>
                    <a:pt x="850" y="85"/>
                  </a:lnTo>
                  <a:lnTo>
                    <a:pt x="852" y="78"/>
                  </a:lnTo>
                  <a:lnTo>
                    <a:pt x="854" y="73"/>
                  </a:lnTo>
                  <a:lnTo>
                    <a:pt x="855" y="68"/>
                  </a:lnTo>
                  <a:lnTo>
                    <a:pt x="853" y="61"/>
                  </a:lnTo>
                  <a:lnTo>
                    <a:pt x="848" y="52"/>
                  </a:lnTo>
                  <a:lnTo>
                    <a:pt x="843" y="45"/>
                  </a:lnTo>
                  <a:lnTo>
                    <a:pt x="837" y="40"/>
                  </a:lnTo>
                  <a:lnTo>
                    <a:pt x="830" y="35"/>
                  </a:lnTo>
                  <a:lnTo>
                    <a:pt x="824" y="30"/>
                  </a:lnTo>
                  <a:lnTo>
                    <a:pt x="815" y="27"/>
                  </a:lnTo>
                  <a:lnTo>
                    <a:pt x="808" y="24"/>
                  </a:lnTo>
                  <a:lnTo>
                    <a:pt x="800" y="23"/>
                  </a:lnTo>
                  <a:lnTo>
                    <a:pt x="793" y="24"/>
                  </a:lnTo>
                  <a:lnTo>
                    <a:pt x="784" y="16"/>
                  </a:lnTo>
                  <a:lnTo>
                    <a:pt x="776" y="12"/>
                  </a:lnTo>
                  <a:lnTo>
                    <a:pt x="767" y="9"/>
                  </a:lnTo>
                  <a:lnTo>
                    <a:pt x="758" y="8"/>
                  </a:lnTo>
                  <a:lnTo>
                    <a:pt x="747" y="8"/>
                  </a:lnTo>
                  <a:lnTo>
                    <a:pt x="735" y="8"/>
                  </a:lnTo>
                  <a:lnTo>
                    <a:pt x="722" y="9"/>
                  </a:lnTo>
                  <a:lnTo>
                    <a:pt x="708" y="9"/>
                  </a:lnTo>
                  <a:lnTo>
                    <a:pt x="692" y="8"/>
                  </a:lnTo>
                  <a:lnTo>
                    <a:pt x="674" y="6"/>
                  </a:lnTo>
                  <a:lnTo>
                    <a:pt x="656" y="4"/>
                  </a:lnTo>
                  <a:lnTo>
                    <a:pt x="638" y="1"/>
                  </a:lnTo>
                  <a:lnTo>
                    <a:pt x="621" y="0"/>
                  </a:lnTo>
                  <a:lnTo>
                    <a:pt x="606" y="0"/>
                  </a:lnTo>
                  <a:lnTo>
                    <a:pt x="593" y="4"/>
                  </a:lnTo>
                  <a:lnTo>
                    <a:pt x="584" y="9"/>
                  </a:lnTo>
                  <a:lnTo>
                    <a:pt x="574" y="22"/>
                  </a:lnTo>
                  <a:lnTo>
                    <a:pt x="561" y="35"/>
                  </a:lnTo>
                  <a:lnTo>
                    <a:pt x="546" y="47"/>
                  </a:lnTo>
                  <a:lnTo>
                    <a:pt x="529" y="61"/>
                  </a:lnTo>
                  <a:lnTo>
                    <a:pt x="509" y="75"/>
                  </a:lnTo>
                  <a:lnTo>
                    <a:pt x="489" y="88"/>
                  </a:lnTo>
                  <a:lnTo>
                    <a:pt x="469" y="102"/>
                  </a:lnTo>
                  <a:lnTo>
                    <a:pt x="447" y="116"/>
                  </a:lnTo>
                  <a:lnTo>
                    <a:pt x="425" y="129"/>
                  </a:lnTo>
                  <a:lnTo>
                    <a:pt x="403" y="142"/>
                  </a:lnTo>
                  <a:lnTo>
                    <a:pt x="382" y="153"/>
                  </a:lnTo>
                  <a:lnTo>
                    <a:pt x="362" y="164"/>
                  </a:lnTo>
                  <a:lnTo>
                    <a:pt x="342" y="175"/>
                  </a:lnTo>
                  <a:lnTo>
                    <a:pt x="323" y="183"/>
                  </a:lnTo>
                  <a:lnTo>
                    <a:pt x="307" y="192"/>
                  </a:lnTo>
                  <a:lnTo>
                    <a:pt x="292" y="198"/>
                  </a:lnTo>
                  <a:lnTo>
                    <a:pt x="283" y="203"/>
                  </a:lnTo>
                  <a:lnTo>
                    <a:pt x="274" y="205"/>
                  </a:lnTo>
                  <a:lnTo>
                    <a:pt x="265" y="206"/>
                  </a:lnTo>
                  <a:lnTo>
                    <a:pt x="257" y="207"/>
                  </a:lnTo>
                  <a:lnTo>
                    <a:pt x="248" y="209"/>
                  </a:lnTo>
                  <a:lnTo>
                    <a:pt x="240" y="213"/>
                  </a:lnTo>
                  <a:lnTo>
                    <a:pt x="231" y="221"/>
                  </a:lnTo>
                  <a:lnTo>
                    <a:pt x="222" y="232"/>
                  </a:lnTo>
                </a:path>
              </a:pathLst>
            </a:custGeom>
            <a:solidFill>
              <a:srgbClr val="996600"/>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ccecff"/>
                </a:solidFill>
                <a:latin typeface="Times New Roman"/>
              </a:endParaRPr>
            </a:p>
          </p:txBody>
        </p:sp>
        <p:sp>
          <p:nvSpPr>
            <p:cNvPr id="357" name="Freeform 29"/>
            <p:cNvSpPr/>
            <p:nvPr/>
          </p:nvSpPr>
          <p:spPr>
            <a:xfrm>
              <a:off x="2409840" y="3452040"/>
              <a:ext cx="55800" cy="37800"/>
            </a:xfrm>
            <a:custGeom>
              <a:avLst/>
              <a:gdLst>
                <a:gd name="textAreaLeft" fmla="*/ 0 w 55800"/>
                <a:gd name="textAreaRight" fmla="*/ 56160 w 55800"/>
                <a:gd name="textAreaTop" fmla="*/ 0 h 37800"/>
                <a:gd name="textAreaBottom" fmla="*/ 38160 h 37800"/>
              </a:gdLst>
              <a:ahLst/>
              <a:rect l="textAreaLeft" t="textAreaTop" r="textAreaRight" b="textAreaBottom"/>
              <a:pathLst>
                <a:path w="735" h="508">
                  <a:moveTo>
                    <a:pt x="446" y="179"/>
                  </a:moveTo>
                  <a:lnTo>
                    <a:pt x="446" y="179"/>
                  </a:lnTo>
                  <a:lnTo>
                    <a:pt x="460" y="178"/>
                  </a:lnTo>
                  <a:lnTo>
                    <a:pt x="475" y="172"/>
                  </a:lnTo>
                  <a:lnTo>
                    <a:pt x="489" y="165"/>
                  </a:lnTo>
                  <a:lnTo>
                    <a:pt x="504" y="155"/>
                  </a:lnTo>
                  <a:lnTo>
                    <a:pt x="520" y="147"/>
                  </a:lnTo>
                  <a:lnTo>
                    <a:pt x="535" y="140"/>
                  </a:lnTo>
                  <a:lnTo>
                    <a:pt x="551" y="139"/>
                  </a:lnTo>
                  <a:lnTo>
                    <a:pt x="568" y="144"/>
                  </a:lnTo>
                  <a:lnTo>
                    <a:pt x="589" y="154"/>
                  </a:lnTo>
                  <a:lnTo>
                    <a:pt x="612" y="168"/>
                  </a:lnTo>
                  <a:lnTo>
                    <a:pt x="638" y="187"/>
                  </a:lnTo>
                  <a:lnTo>
                    <a:pt x="664" y="208"/>
                  </a:lnTo>
                  <a:lnTo>
                    <a:pt x="688" y="231"/>
                  </a:lnTo>
                  <a:lnTo>
                    <a:pt x="710" y="256"/>
                  </a:lnTo>
                  <a:lnTo>
                    <a:pt x="726" y="280"/>
                  </a:lnTo>
                  <a:lnTo>
                    <a:pt x="735" y="306"/>
                  </a:lnTo>
                  <a:lnTo>
                    <a:pt x="718" y="319"/>
                  </a:lnTo>
                  <a:lnTo>
                    <a:pt x="701" y="333"/>
                  </a:lnTo>
                  <a:lnTo>
                    <a:pt x="682" y="347"/>
                  </a:lnTo>
                  <a:lnTo>
                    <a:pt x="664" y="364"/>
                  </a:lnTo>
                  <a:lnTo>
                    <a:pt x="645" y="381"/>
                  </a:lnTo>
                  <a:lnTo>
                    <a:pt x="628" y="401"/>
                  </a:lnTo>
                  <a:lnTo>
                    <a:pt x="613" y="422"/>
                  </a:lnTo>
                  <a:lnTo>
                    <a:pt x="600" y="445"/>
                  </a:lnTo>
                  <a:lnTo>
                    <a:pt x="588" y="466"/>
                  </a:lnTo>
                  <a:lnTo>
                    <a:pt x="571" y="481"/>
                  </a:lnTo>
                  <a:lnTo>
                    <a:pt x="552" y="489"/>
                  </a:lnTo>
                  <a:lnTo>
                    <a:pt x="531" y="492"/>
                  </a:lnTo>
                  <a:lnTo>
                    <a:pt x="508" y="491"/>
                  </a:lnTo>
                  <a:lnTo>
                    <a:pt x="486" y="487"/>
                  </a:lnTo>
                  <a:lnTo>
                    <a:pt x="464" y="478"/>
                  </a:lnTo>
                  <a:lnTo>
                    <a:pt x="443" y="467"/>
                  </a:lnTo>
                  <a:lnTo>
                    <a:pt x="422" y="468"/>
                  </a:lnTo>
                  <a:lnTo>
                    <a:pt x="407" y="466"/>
                  </a:lnTo>
                  <a:lnTo>
                    <a:pt x="397" y="462"/>
                  </a:lnTo>
                  <a:lnTo>
                    <a:pt x="392" y="458"/>
                  </a:lnTo>
                  <a:lnTo>
                    <a:pt x="388" y="454"/>
                  </a:lnTo>
                  <a:lnTo>
                    <a:pt x="386" y="449"/>
                  </a:lnTo>
                  <a:lnTo>
                    <a:pt x="383" y="446"/>
                  </a:lnTo>
                  <a:lnTo>
                    <a:pt x="380" y="445"/>
                  </a:lnTo>
                  <a:lnTo>
                    <a:pt x="376" y="449"/>
                  </a:lnTo>
                  <a:lnTo>
                    <a:pt x="370" y="454"/>
                  </a:lnTo>
                  <a:lnTo>
                    <a:pt x="363" y="459"/>
                  </a:lnTo>
                  <a:lnTo>
                    <a:pt x="354" y="463"/>
                  </a:lnTo>
                  <a:lnTo>
                    <a:pt x="347" y="468"/>
                  </a:lnTo>
                  <a:lnTo>
                    <a:pt x="339" y="473"/>
                  </a:lnTo>
                  <a:lnTo>
                    <a:pt x="333" y="477"/>
                  </a:lnTo>
                  <a:lnTo>
                    <a:pt x="329" y="482"/>
                  </a:lnTo>
                  <a:lnTo>
                    <a:pt x="307" y="488"/>
                  </a:lnTo>
                  <a:lnTo>
                    <a:pt x="288" y="493"/>
                  </a:lnTo>
                  <a:lnTo>
                    <a:pt x="271" y="498"/>
                  </a:lnTo>
                  <a:lnTo>
                    <a:pt x="255" y="502"/>
                  </a:lnTo>
                  <a:lnTo>
                    <a:pt x="240" y="505"/>
                  </a:lnTo>
                  <a:lnTo>
                    <a:pt x="223" y="506"/>
                  </a:lnTo>
                  <a:lnTo>
                    <a:pt x="204" y="508"/>
                  </a:lnTo>
                  <a:lnTo>
                    <a:pt x="183" y="508"/>
                  </a:lnTo>
                  <a:lnTo>
                    <a:pt x="178" y="508"/>
                  </a:lnTo>
                  <a:lnTo>
                    <a:pt x="172" y="507"/>
                  </a:lnTo>
                  <a:lnTo>
                    <a:pt x="169" y="505"/>
                  </a:lnTo>
                  <a:lnTo>
                    <a:pt x="166" y="502"/>
                  </a:lnTo>
                  <a:lnTo>
                    <a:pt x="163" y="498"/>
                  </a:lnTo>
                  <a:lnTo>
                    <a:pt x="162" y="492"/>
                  </a:lnTo>
                  <a:lnTo>
                    <a:pt x="160" y="485"/>
                  </a:lnTo>
                  <a:lnTo>
                    <a:pt x="159" y="476"/>
                  </a:lnTo>
                  <a:lnTo>
                    <a:pt x="157" y="467"/>
                  </a:lnTo>
                  <a:lnTo>
                    <a:pt x="159" y="457"/>
                  </a:lnTo>
                  <a:lnTo>
                    <a:pt x="165" y="448"/>
                  </a:lnTo>
                  <a:lnTo>
                    <a:pt x="172" y="441"/>
                  </a:lnTo>
                  <a:lnTo>
                    <a:pt x="183" y="432"/>
                  </a:lnTo>
                  <a:lnTo>
                    <a:pt x="196" y="425"/>
                  </a:lnTo>
                  <a:lnTo>
                    <a:pt x="210" y="417"/>
                  </a:lnTo>
                  <a:lnTo>
                    <a:pt x="225" y="410"/>
                  </a:lnTo>
                  <a:lnTo>
                    <a:pt x="241" y="402"/>
                  </a:lnTo>
                  <a:lnTo>
                    <a:pt x="258" y="394"/>
                  </a:lnTo>
                  <a:lnTo>
                    <a:pt x="274" y="385"/>
                  </a:lnTo>
                  <a:lnTo>
                    <a:pt x="290" y="377"/>
                  </a:lnTo>
                  <a:lnTo>
                    <a:pt x="306" y="368"/>
                  </a:lnTo>
                  <a:lnTo>
                    <a:pt x="320" y="359"/>
                  </a:lnTo>
                  <a:lnTo>
                    <a:pt x="332" y="348"/>
                  </a:lnTo>
                  <a:lnTo>
                    <a:pt x="342" y="336"/>
                  </a:lnTo>
                  <a:lnTo>
                    <a:pt x="332" y="335"/>
                  </a:lnTo>
                  <a:lnTo>
                    <a:pt x="319" y="337"/>
                  </a:lnTo>
                  <a:lnTo>
                    <a:pt x="305" y="340"/>
                  </a:lnTo>
                  <a:lnTo>
                    <a:pt x="289" y="345"/>
                  </a:lnTo>
                  <a:lnTo>
                    <a:pt x="273" y="350"/>
                  </a:lnTo>
                  <a:lnTo>
                    <a:pt x="255" y="358"/>
                  </a:lnTo>
                  <a:lnTo>
                    <a:pt x="236" y="364"/>
                  </a:lnTo>
                  <a:lnTo>
                    <a:pt x="218" y="371"/>
                  </a:lnTo>
                  <a:lnTo>
                    <a:pt x="200" y="379"/>
                  </a:lnTo>
                  <a:lnTo>
                    <a:pt x="182" y="385"/>
                  </a:lnTo>
                  <a:lnTo>
                    <a:pt x="165" y="391"/>
                  </a:lnTo>
                  <a:lnTo>
                    <a:pt x="149" y="396"/>
                  </a:lnTo>
                  <a:lnTo>
                    <a:pt x="134" y="399"/>
                  </a:lnTo>
                  <a:lnTo>
                    <a:pt x="120" y="400"/>
                  </a:lnTo>
                  <a:lnTo>
                    <a:pt x="108" y="400"/>
                  </a:lnTo>
                  <a:lnTo>
                    <a:pt x="98" y="397"/>
                  </a:lnTo>
                  <a:lnTo>
                    <a:pt x="94" y="395"/>
                  </a:lnTo>
                  <a:lnTo>
                    <a:pt x="89" y="393"/>
                  </a:lnTo>
                  <a:lnTo>
                    <a:pt x="84" y="391"/>
                  </a:lnTo>
                  <a:lnTo>
                    <a:pt x="81" y="386"/>
                  </a:lnTo>
                  <a:lnTo>
                    <a:pt x="77" y="383"/>
                  </a:lnTo>
                  <a:lnTo>
                    <a:pt x="74" y="378"/>
                  </a:lnTo>
                  <a:lnTo>
                    <a:pt x="71" y="371"/>
                  </a:lnTo>
                  <a:lnTo>
                    <a:pt x="68" y="364"/>
                  </a:lnTo>
                  <a:lnTo>
                    <a:pt x="72" y="353"/>
                  </a:lnTo>
                  <a:lnTo>
                    <a:pt x="82" y="343"/>
                  </a:lnTo>
                  <a:lnTo>
                    <a:pt x="97" y="331"/>
                  </a:lnTo>
                  <a:lnTo>
                    <a:pt x="117" y="319"/>
                  </a:lnTo>
                  <a:lnTo>
                    <a:pt x="138" y="308"/>
                  </a:lnTo>
                  <a:lnTo>
                    <a:pt x="159" y="298"/>
                  </a:lnTo>
                  <a:lnTo>
                    <a:pt x="179" y="287"/>
                  </a:lnTo>
                  <a:lnTo>
                    <a:pt x="196" y="277"/>
                  </a:lnTo>
                  <a:lnTo>
                    <a:pt x="212" y="269"/>
                  </a:lnTo>
                  <a:lnTo>
                    <a:pt x="226" y="263"/>
                  </a:lnTo>
                  <a:lnTo>
                    <a:pt x="236" y="262"/>
                  </a:lnTo>
                  <a:lnTo>
                    <a:pt x="247" y="261"/>
                  </a:lnTo>
                  <a:lnTo>
                    <a:pt x="257" y="262"/>
                  </a:lnTo>
                  <a:lnTo>
                    <a:pt x="269" y="261"/>
                  </a:lnTo>
                  <a:lnTo>
                    <a:pt x="280" y="259"/>
                  </a:lnTo>
                  <a:lnTo>
                    <a:pt x="295" y="253"/>
                  </a:lnTo>
                  <a:lnTo>
                    <a:pt x="273" y="254"/>
                  </a:lnTo>
                  <a:lnTo>
                    <a:pt x="259" y="254"/>
                  </a:lnTo>
                  <a:lnTo>
                    <a:pt x="250" y="254"/>
                  </a:lnTo>
                  <a:lnTo>
                    <a:pt x="246" y="253"/>
                  </a:lnTo>
                  <a:lnTo>
                    <a:pt x="244" y="253"/>
                  </a:lnTo>
                  <a:lnTo>
                    <a:pt x="242" y="253"/>
                  </a:lnTo>
                  <a:lnTo>
                    <a:pt x="238" y="253"/>
                  </a:lnTo>
                  <a:lnTo>
                    <a:pt x="229" y="253"/>
                  </a:lnTo>
                  <a:lnTo>
                    <a:pt x="223" y="254"/>
                  </a:lnTo>
                  <a:lnTo>
                    <a:pt x="214" y="256"/>
                  </a:lnTo>
                  <a:lnTo>
                    <a:pt x="204" y="258"/>
                  </a:lnTo>
                  <a:lnTo>
                    <a:pt x="194" y="261"/>
                  </a:lnTo>
                  <a:lnTo>
                    <a:pt x="181" y="266"/>
                  </a:lnTo>
                  <a:lnTo>
                    <a:pt x="168" y="270"/>
                  </a:lnTo>
                  <a:lnTo>
                    <a:pt x="154" y="274"/>
                  </a:lnTo>
                  <a:lnTo>
                    <a:pt x="140" y="277"/>
                  </a:lnTo>
                  <a:lnTo>
                    <a:pt x="126" y="282"/>
                  </a:lnTo>
                  <a:lnTo>
                    <a:pt x="112" y="286"/>
                  </a:lnTo>
                  <a:lnTo>
                    <a:pt x="99" y="288"/>
                  </a:lnTo>
                  <a:lnTo>
                    <a:pt x="88" y="291"/>
                  </a:lnTo>
                  <a:lnTo>
                    <a:pt x="76" y="292"/>
                  </a:lnTo>
                  <a:lnTo>
                    <a:pt x="65" y="293"/>
                  </a:lnTo>
                  <a:lnTo>
                    <a:pt x="57" y="292"/>
                  </a:lnTo>
                  <a:lnTo>
                    <a:pt x="50" y="290"/>
                  </a:lnTo>
                  <a:lnTo>
                    <a:pt x="38" y="271"/>
                  </a:lnTo>
                  <a:lnTo>
                    <a:pt x="37" y="254"/>
                  </a:lnTo>
                  <a:lnTo>
                    <a:pt x="45" y="238"/>
                  </a:lnTo>
                  <a:lnTo>
                    <a:pt x="59" y="224"/>
                  </a:lnTo>
                  <a:lnTo>
                    <a:pt x="77" y="211"/>
                  </a:lnTo>
                  <a:lnTo>
                    <a:pt x="96" y="198"/>
                  </a:lnTo>
                  <a:lnTo>
                    <a:pt x="114" y="187"/>
                  </a:lnTo>
                  <a:lnTo>
                    <a:pt x="130" y="177"/>
                  </a:lnTo>
                  <a:lnTo>
                    <a:pt x="143" y="167"/>
                  </a:lnTo>
                  <a:lnTo>
                    <a:pt x="153" y="161"/>
                  </a:lnTo>
                  <a:lnTo>
                    <a:pt x="163" y="156"/>
                  </a:lnTo>
                  <a:lnTo>
                    <a:pt x="170" y="152"/>
                  </a:lnTo>
                  <a:lnTo>
                    <a:pt x="177" y="150"/>
                  </a:lnTo>
                  <a:lnTo>
                    <a:pt x="183" y="148"/>
                  </a:lnTo>
                  <a:lnTo>
                    <a:pt x="189" y="146"/>
                  </a:lnTo>
                  <a:lnTo>
                    <a:pt x="196" y="144"/>
                  </a:lnTo>
                  <a:lnTo>
                    <a:pt x="194" y="138"/>
                  </a:lnTo>
                  <a:lnTo>
                    <a:pt x="191" y="134"/>
                  </a:lnTo>
                  <a:lnTo>
                    <a:pt x="190" y="131"/>
                  </a:lnTo>
                  <a:lnTo>
                    <a:pt x="188" y="129"/>
                  </a:lnTo>
                  <a:lnTo>
                    <a:pt x="186" y="125"/>
                  </a:lnTo>
                  <a:lnTo>
                    <a:pt x="184" y="122"/>
                  </a:lnTo>
                  <a:lnTo>
                    <a:pt x="180" y="118"/>
                  </a:lnTo>
                  <a:lnTo>
                    <a:pt x="175" y="111"/>
                  </a:lnTo>
                  <a:lnTo>
                    <a:pt x="171" y="111"/>
                  </a:lnTo>
                  <a:lnTo>
                    <a:pt x="166" y="111"/>
                  </a:lnTo>
                  <a:lnTo>
                    <a:pt x="159" y="111"/>
                  </a:lnTo>
                  <a:lnTo>
                    <a:pt x="154" y="111"/>
                  </a:lnTo>
                  <a:lnTo>
                    <a:pt x="147" y="111"/>
                  </a:lnTo>
                  <a:lnTo>
                    <a:pt x="139" y="111"/>
                  </a:lnTo>
                  <a:lnTo>
                    <a:pt x="132" y="111"/>
                  </a:lnTo>
                  <a:lnTo>
                    <a:pt x="123" y="111"/>
                  </a:lnTo>
                  <a:lnTo>
                    <a:pt x="120" y="107"/>
                  </a:lnTo>
                  <a:lnTo>
                    <a:pt x="117" y="103"/>
                  </a:lnTo>
                  <a:lnTo>
                    <a:pt x="113" y="100"/>
                  </a:lnTo>
                  <a:lnTo>
                    <a:pt x="110" y="95"/>
                  </a:lnTo>
                  <a:lnTo>
                    <a:pt x="107" y="91"/>
                  </a:lnTo>
                  <a:lnTo>
                    <a:pt x="104" y="87"/>
                  </a:lnTo>
                  <a:lnTo>
                    <a:pt x="102" y="84"/>
                  </a:lnTo>
                  <a:lnTo>
                    <a:pt x="98" y="79"/>
                  </a:lnTo>
                  <a:lnTo>
                    <a:pt x="89" y="79"/>
                  </a:lnTo>
                  <a:lnTo>
                    <a:pt x="80" y="79"/>
                  </a:lnTo>
                  <a:lnTo>
                    <a:pt x="71" y="79"/>
                  </a:lnTo>
                  <a:lnTo>
                    <a:pt x="62" y="79"/>
                  </a:lnTo>
                  <a:lnTo>
                    <a:pt x="52" y="79"/>
                  </a:lnTo>
                  <a:lnTo>
                    <a:pt x="43" y="79"/>
                  </a:lnTo>
                  <a:lnTo>
                    <a:pt x="34" y="79"/>
                  </a:lnTo>
                  <a:lnTo>
                    <a:pt x="25" y="79"/>
                  </a:lnTo>
                  <a:lnTo>
                    <a:pt x="21" y="75"/>
                  </a:lnTo>
                  <a:lnTo>
                    <a:pt x="18" y="71"/>
                  </a:lnTo>
                  <a:lnTo>
                    <a:pt x="15" y="68"/>
                  </a:lnTo>
                  <a:lnTo>
                    <a:pt x="13" y="63"/>
                  </a:lnTo>
                  <a:lnTo>
                    <a:pt x="10" y="59"/>
                  </a:lnTo>
                  <a:lnTo>
                    <a:pt x="6" y="55"/>
                  </a:lnTo>
                  <a:lnTo>
                    <a:pt x="3" y="52"/>
                  </a:lnTo>
                  <a:lnTo>
                    <a:pt x="0" y="47"/>
                  </a:lnTo>
                  <a:lnTo>
                    <a:pt x="6" y="40"/>
                  </a:lnTo>
                  <a:lnTo>
                    <a:pt x="13" y="32"/>
                  </a:lnTo>
                  <a:lnTo>
                    <a:pt x="18" y="24"/>
                  </a:lnTo>
                  <a:lnTo>
                    <a:pt x="25" y="16"/>
                  </a:lnTo>
                  <a:lnTo>
                    <a:pt x="44" y="15"/>
                  </a:lnTo>
                  <a:lnTo>
                    <a:pt x="65" y="14"/>
                  </a:lnTo>
                  <a:lnTo>
                    <a:pt x="87" y="11"/>
                  </a:lnTo>
                  <a:lnTo>
                    <a:pt x="109" y="8"/>
                  </a:lnTo>
                  <a:lnTo>
                    <a:pt x="129" y="6"/>
                  </a:lnTo>
                  <a:lnTo>
                    <a:pt x="150" y="2"/>
                  </a:lnTo>
                  <a:lnTo>
                    <a:pt x="168" y="1"/>
                  </a:lnTo>
                  <a:lnTo>
                    <a:pt x="183" y="0"/>
                  </a:lnTo>
                  <a:lnTo>
                    <a:pt x="198" y="11"/>
                  </a:lnTo>
                  <a:lnTo>
                    <a:pt x="213" y="23"/>
                  </a:lnTo>
                  <a:lnTo>
                    <a:pt x="228" y="36"/>
                  </a:lnTo>
                  <a:lnTo>
                    <a:pt x="243" y="48"/>
                  </a:lnTo>
                  <a:lnTo>
                    <a:pt x="257" y="62"/>
                  </a:lnTo>
                  <a:lnTo>
                    <a:pt x="272" y="76"/>
                  </a:lnTo>
                  <a:lnTo>
                    <a:pt x="287" y="89"/>
                  </a:lnTo>
                  <a:lnTo>
                    <a:pt x="303" y="103"/>
                  </a:lnTo>
                  <a:lnTo>
                    <a:pt x="318" y="116"/>
                  </a:lnTo>
                  <a:lnTo>
                    <a:pt x="335" y="129"/>
                  </a:lnTo>
                  <a:lnTo>
                    <a:pt x="351" y="139"/>
                  </a:lnTo>
                  <a:lnTo>
                    <a:pt x="369" y="150"/>
                  </a:lnTo>
                  <a:lnTo>
                    <a:pt x="386" y="160"/>
                  </a:lnTo>
                  <a:lnTo>
                    <a:pt x="406" y="168"/>
                  </a:lnTo>
                  <a:lnTo>
                    <a:pt x="426" y="175"/>
                  </a:lnTo>
                  <a:lnTo>
                    <a:pt x="446" y="179"/>
                  </a:lnTo>
                </a:path>
              </a:pathLst>
            </a:custGeom>
            <a:solidFill>
              <a:srgbClr val="9966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ccecff"/>
                </a:solidFill>
                <a:latin typeface="Times New Roman"/>
              </a:endParaRPr>
            </a:p>
          </p:txBody>
        </p:sp>
        <p:sp>
          <p:nvSpPr>
            <p:cNvPr id="358" name="Freeform 30"/>
            <p:cNvSpPr/>
            <p:nvPr/>
          </p:nvSpPr>
          <p:spPr>
            <a:xfrm>
              <a:off x="2341440" y="3221280"/>
              <a:ext cx="76680" cy="77400"/>
            </a:xfrm>
            <a:custGeom>
              <a:avLst/>
              <a:gdLst>
                <a:gd name="textAreaLeft" fmla="*/ 0 w 76680"/>
                <a:gd name="textAreaRight" fmla="*/ 77040 w 76680"/>
                <a:gd name="textAreaTop" fmla="*/ 0 h 77400"/>
                <a:gd name="textAreaBottom" fmla="*/ 77760 h 77400"/>
              </a:gdLst>
              <a:ahLst/>
              <a:rect l="textAreaLeft" t="textAreaTop" r="textAreaRight" b="textAreaBottom"/>
              <a:pathLst>
                <a:path w="1004" h="1043">
                  <a:moveTo>
                    <a:pt x="1004" y="517"/>
                  </a:moveTo>
                  <a:lnTo>
                    <a:pt x="1004" y="517"/>
                  </a:lnTo>
                  <a:lnTo>
                    <a:pt x="998" y="523"/>
                  </a:lnTo>
                  <a:lnTo>
                    <a:pt x="989" y="525"/>
                  </a:lnTo>
                  <a:lnTo>
                    <a:pt x="983" y="526"/>
                  </a:lnTo>
                  <a:lnTo>
                    <a:pt x="981" y="534"/>
                  </a:lnTo>
                  <a:lnTo>
                    <a:pt x="968" y="536"/>
                  </a:lnTo>
                  <a:lnTo>
                    <a:pt x="955" y="541"/>
                  </a:lnTo>
                  <a:lnTo>
                    <a:pt x="944" y="551"/>
                  </a:lnTo>
                  <a:lnTo>
                    <a:pt x="933" y="562"/>
                  </a:lnTo>
                  <a:lnTo>
                    <a:pt x="923" y="573"/>
                  </a:lnTo>
                  <a:lnTo>
                    <a:pt x="913" y="587"/>
                  </a:lnTo>
                  <a:lnTo>
                    <a:pt x="905" y="600"/>
                  </a:lnTo>
                  <a:lnTo>
                    <a:pt x="895" y="613"/>
                  </a:lnTo>
                  <a:lnTo>
                    <a:pt x="901" y="594"/>
                  </a:lnTo>
                  <a:lnTo>
                    <a:pt x="908" y="570"/>
                  </a:lnTo>
                  <a:lnTo>
                    <a:pt x="913" y="544"/>
                  </a:lnTo>
                  <a:lnTo>
                    <a:pt x="918" y="516"/>
                  </a:lnTo>
                  <a:lnTo>
                    <a:pt x="923" y="486"/>
                  </a:lnTo>
                  <a:lnTo>
                    <a:pt x="926" y="453"/>
                  </a:lnTo>
                  <a:lnTo>
                    <a:pt x="929" y="420"/>
                  </a:lnTo>
                  <a:lnTo>
                    <a:pt x="932" y="386"/>
                  </a:lnTo>
                  <a:lnTo>
                    <a:pt x="935" y="352"/>
                  </a:lnTo>
                  <a:lnTo>
                    <a:pt x="936" y="318"/>
                  </a:lnTo>
                  <a:lnTo>
                    <a:pt x="937" y="283"/>
                  </a:lnTo>
                  <a:lnTo>
                    <a:pt x="937" y="250"/>
                  </a:lnTo>
                  <a:lnTo>
                    <a:pt x="937" y="219"/>
                  </a:lnTo>
                  <a:lnTo>
                    <a:pt x="936" y="189"/>
                  </a:lnTo>
                  <a:lnTo>
                    <a:pt x="935" y="161"/>
                  </a:lnTo>
                  <a:lnTo>
                    <a:pt x="932" y="136"/>
                  </a:lnTo>
                  <a:lnTo>
                    <a:pt x="931" y="124"/>
                  </a:lnTo>
                  <a:lnTo>
                    <a:pt x="928" y="112"/>
                  </a:lnTo>
                  <a:lnTo>
                    <a:pt x="925" y="101"/>
                  </a:lnTo>
                  <a:lnTo>
                    <a:pt x="921" y="89"/>
                  </a:lnTo>
                  <a:lnTo>
                    <a:pt x="915" y="77"/>
                  </a:lnTo>
                  <a:lnTo>
                    <a:pt x="912" y="64"/>
                  </a:lnTo>
                  <a:lnTo>
                    <a:pt x="909" y="52"/>
                  </a:lnTo>
                  <a:lnTo>
                    <a:pt x="908" y="41"/>
                  </a:lnTo>
                  <a:lnTo>
                    <a:pt x="886" y="40"/>
                  </a:lnTo>
                  <a:lnTo>
                    <a:pt x="865" y="38"/>
                  </a:lnTo>
                  <a:lnTo>
                    <a:pt x="844" y="35"/>
                  </a:lnTo>
                  <a:lnTo>
                    <a:pt x="821" y="31"/>
                  </a:lnTo>
                  <a:lnTo>
                    <a:pt x="800" y="27"/>
                  </a:lnTo>
                  <a:lnTo>
                    <a:pt x="777" y="22"/>
                  </a:lnTo>
                  <a:lnTo>
                    <a:pt x="755" y="17"/>
                  </a:lnTo>
                  <a:lnTo>
                    <a:pt x="732" y="13"/>
                  </a:lnTo>
                  <a:lnTo>
                    <a:pt x="710" y="9"/>
                  </a:lnTo>
                  <a:lnTo>
                    <a:pt x="688" y="5"/>
                  </a:lnTo>
                  <a:lnTo>
                    <a:pt x="666" y="2"/>
                  </a:lnTo>
                  <a:lnTo>
                    <a:pt x="644" y="0"/>
                  </a:lnTo>
                  <a:lnTo>
                    <a:pt x="624" y="0"/>
                  </a:lnTo>
                  <a:lnTo>
                    <a:pt x="604" y="1"/>
                  </a:lnTo>
                  <a:lnTo>
                    <a:pt x="584" y="4"/>
                  </a:lnTo>
                  <a:lnTo>
                    <a:pt x="565" y="9"/>
                  </a:lnTo>
                  <a:lnTo>
                    <a:pt x="545" y="16"/>
                  </a:lnTo>
                  <a:lnTo>
                    <a:pt x="527" y="26"/>
                  </a:lnTo>
                  <a:lnTo>
                    <a:pt x="508" y="37"/>
                  </a:lnTo>
                  <a:lnTo>
                    <a:pt x="490" y="50"/>
                  </a:lnTo>
                  <a:lnTo>
                    <a:pt x="473" y="63"/>
                  </a:lnTo>
                  <a:lnTo>
                    <a:pt x="456" y="77"/>
                  </a:lnTo>
                  <a:lnTo>
                    <a:pt x="438" y="91"/>
                  </a:lnTo>
                  <a:lnTo>
                    <a:pt x="421" y="104"/>
                  </a:lnTo>
                  <a:lnTo>
                    <a:pt x="401" y="115"/>
                  </a:lnTo>
                  <a:lnTo>
                    <a:pt x="382" y="125"/>
                  </a:lnTo>
                  <a:lnTo>
                    <a:pt x="362" y="133"/>
                  </a:lnTo>
                  <a:lnTo>
                    <a:pt x="340" y="138"/>
                  </a:lnTo>
                  <a:lnTo>
                    <a:pt x="317" y="140"/>
                  </a:lnTo>
                  <a:lnTo>
                    <a:pt x="292" y="138"/>
                  </a:lnTo>
                  <a:lnTo>
                    <a:pt x="264" y="132"/>
                  </a:lnTo>
                  <a:lnTo>
                    <a:pt x="236" y="120"/>
                  </a:lnTo>
                  <a:lnTo>
                    <a:pt x="234" y="127"/>
                  </a:lnTo>
                  <a:lnTo>
                    <a:pt x="231" y="137"/>
                  </a:lnTo>
                  <a:lnTo>
                    <a:pt x="227" y="148"/>
                  </a:lnTo>
                  <a:lnTo>
                    <a:pt x="223" y="159"/>
                  </a:lnTo>
                  <a:lnTo>
                    <a:pt x="216" y="172"/>
                  </a:lnTo>
                  <a:lnTo>
                    <a:pt x="210" y="183"/>
                  </a:lnTo>
                  <a:lnTo>
                    <a:pt x="204" y="192"/>
                  </a:lnTo>
                  <a:lnTo>
                    <a:pt x="199" y="200"/>
                  </a:lnTo>
                  <a:lnTo>
                    <a:pt x="199" y="218"/>
                  </a:lnTo>
                  <a:lnTo>
                    <a:pt x="198" y="235"/>
                  </a:lnTo>
                  <a:lnTo>
                    <a:pt x="197" y="253"/>
                  </a:lnTo>
                  <a:lnTo>
                    <a:pt x="195" y="272"/>
                  </a:lnTo>
                  <a:lnTo>
                    <a:pt x="194" y="289"/>
                  </a:lnTo>
                  <a:lnTo>
                    <a:pt x="192" y="307"/>
                  </a:lnTo>
                  <a:lnTo>
                    <a:pt x="190" y="325"/>
                  </a:lnTo>
                  <a:lnTo>
                    <a:pt x="187" y="342"/>
                  </a:lnTo>
                  <a:lnTo>
                    <a:pt x="184" y="360"/>
                  </a:lnTo>
                  <a:lnTo>
                    <a:pt x="182" y="379"/>
                  </a:lnTo>
                  <a:lnTo>
                    <a:pt x="180" y="397"/>
                  </a:lnTo>
                  <a:lnTo>
                    <a:pt x="179" y="414"/>
                  </a:lnTo>
                  <a:lnTo>
                    <a:pt x="177" y="432"/>
                  </a:lnTo>
                  <a:lnTo>
                    <a:pt x="176" y="450"/>
                  </a:lnTo>
                  <a:lnTo>
                    <a:pt x="175" y="467"/>
                  </a:lnTo>
                  <a:lnTo>
                    <a:pt x="175" y="486"/>
                  </a:lnTo>
                  <a:lnTo>
                    <a:pt x="170" y="487"/>
                  </a:lnTo>
                  <a:lnTo>
                    <a:pt x="166" y="488"/>
                  </a:lnTo>
                  <a:lnTo>
                    <a:pt x="161" y="491"/>
                  </a:lnTo>
                  <a:lnTo>
                    <a:pt x="156" y="493"/>
                  </a:lnTo>
                  <a:lnTo>
                    <a:pt x="152" y="496"/>
                  </a:lnTo>
                  <a:lnTo>
                    <a:pt x="147" y="499"/>
                  </a:lnTo>
                  <a:lnTo>
                    <a:pt x="142" y="501"/>
                  </a:lnTo>
                  <a:lnTo>
                    <a:pt x="138" y="502"/>
                  </a:lnTo>
                  <a:lnTo>
                    <a:pt x="138" y="406"/>
                  </a:lnTo>
                  <a:lnTo>
                    <a:pt x="120" y="384"/>
                  </a:lnTo>
                  <a:lnTo>
                    <a:pt x="103" y="366"/>
                  </a:lnTo>
                  <a:lnTo>
                    <a:pt x="87" y="353"/>
                  </a:lnTo>
                  <a:lnTo>
                    <a:pt x="71" y="344"/>
                  </a:lnTo>
                  <a:lnTo>
                    <a:pt x="54" y="342"/>
                  </a:lnTo>
                  <a:lnTo>
                    <a:pt x="38" y="347"/>
                  </a:lnTo>
                  <a:lnTo>
                    <a:pt x="20" y="358"/>
                  </a:lnTo>
                  <a:lnTo>
                    <a:pt x="2" y="379"/>
                  </a:lnTo>
                  <a:lnTo>
                    <a:pt x="0" y="398"/>
                  </a:lnTo>
                  <a:lnTo>
                    <a:pt x="0" y="417"/>
                  </a:lnTo>
                  <a:lnTo>
                    <a:pt x="0" y="435"/>
                  </a:lnTo>
                  <a:lnTo>
                    <a:pt x="2" y="453"/>
                  </a:lnTo>
                  <a:lnTo>
                    <a:pt x="4" y="470"/>
                  </a:lnTo>
                  <a:lnTo>
                    <a:pt x="8" y="487"/>
                  </a:lnTo>
                  <a:lnTo>
                    <a:pt x="11" y="502"/>
                  </a:lnTo>
                  <a:lnTo>
                    <a:pt x="16" y="517"/>
                  </a:lnTo>
                  <a:lnTo>
                    <a:pt x="20" y="532"/>
                  </a:lnTo>
                  <a:lnTo>
                    <a:pt x="26" y="545"/>
                  </a:lnTo>
                  <a:lnTo>
                    <a:pt x="32" y="558"/>
                  </a:lnTo>
                  <a:lnTo>
                    <a:pt x="39" y="570"/>
                  </a:lnTo>
                  <a:lnTo>
                    <a:pt x="45" y="582"/>
                  </a:lnTo>
                  <a:lnTo>
                    <a:pt x="51" y="593"/>
                  </a:lnTo>
                  <a:lnTo>
                    <a:pt x="59" y="603"/>
                  </a:lnTo>
                  <a:lnTo>
                    <a:pt x="65" y="613"/>
                  </a:lnTo>
                  <a:lnTo>
                    <a:pt x="74" y="614"/>
                  </a:lnTo>
                  <a:lnTo>
                    <a:pt x="81" y="615"/>
                  </a:lnTo>
                  <a:lnTo>
                    <a:pt x="89" y="618"/>
                  </a:lnTo>
                  <a:lnTo>
                    <a:pt x="95" y="621"/>
                  </a:lnTo>
                  <a:lnTo>
                    <a:pt x="102" y="624"/>
                  </a:lnTo>
                  <a:lnTo>
                    <a:pt x="109" y="627"/>
                  </a:lnTo>
                  <a:lnTo>
                    <a:pt x="118" y="629"/>
                  </a:lnTo>
                  <a:lnTo>
                    <a:pt x="126" y="630"/>
                  </a:lnTo>
                  <a:lnTo>
                    <a:pt x="128" y="636"/>
                  </a:lnTo>
                  <a:lnTo>
                    <a:pt x="133" y="643"/>
                  </a:lnTo>
                  <a:lnTo>
                    <a:pt x="139" y="649"/>
                  </a:lnTo>
                  <a:lnTo>
                    <a:pt x="148" y="655"/>
                  </a:lnTo>
                  <a:lnTo>
                    <a:pt x="155" y="661"/>
                  </a:lnTo>
                  <a:lnTo>
                    <a:pt x="162" y="666"/>
                  </a:lnTo>
                  <a:lnTo>
                    <a:pt x="166" y="673"/>
                  </a:lnTo>
                  <a:lnTo>
                    <a:pt x="168" y="678"/>
                  </a:lnTo>
                  <a:lnTo>
                    <a:pt x="169" y="703"/>
                  </a:lnTo>
                  <a:lnTo>
                    <a:pt x="171" y="727"/>
                  </a:lnTo>
                  <a:lnTo>
                    <a:pt x="175" y="751"/>
                  </a:lnTo>
                  <a:lnTo>
                    <a:pt x="180" y="772"/>
                  </a:lnTo>
                  <a:lnTo>
                    <a:pt x="186" y="794"/>
                  </a:lnTo>
                  <a:lnTo>
                    <a:pt x="194" y="814"/>
                  </a:lnTo>
                  <a:lnTo>
                    <a:pt x="203" y="833"/>
                  </a:lnTo>
                  <a:lnTo>
                    <a:pt x="213" y="852"/>
                  </a:lnTo>
                  <a:lnTo>
                    <a:pt x="225" y="870"/>
                  </a:lnTo>
                  <a:lnTo>
                    <a:pt x="237" y="886"/>
                  </a:lnTo>
                  <a:lnTo>
                    <a:pt x="251" y="902"/>
                  </a:lnTo>
                  <a:lnTo>
                    <a:pt x="264" y="916"/>
                  </a:lnTo>
                  <a:lnTo>
                    <a:pt x="280" y="929"/>
                  </a:lnTo>
                  <a:lnTo>
                    <a:pt x="297" y="941"/>
                  </a:lnTo>
                  <a:lnTo>
                    <a:pt x="313" y="952"/>
                  </a:lnTo>
                  <a:lnTo>
                    <a:pt x="331" y="963"/>
                  </a:lnTo>
                  <a:lnTo>
                    <a:pt x="348" y="972"/>
                  </a:lnTo>
                  <a:lnTo>
                    <a:pt x="365" y="982"/>
                  </a:lnTo>
                  <a:lnTo>
                    <a:pt x="380" y="992"/>
                  </a:lnTo>
                  <a:lnTo>
                    <a:pt x="395" y="1001"/>
                  </a:lnTo>
                  <a:lnTo>
                    <a:pt x="410" y="1010"/>
                  </a:lnTo>
                  <a:lnTo>
                    <a:pt x="424" y="1018"/>
                  </a:lnTo>
                  <a:lnTo>
                    <a:pt x="439" y="1026"/>
                  </a:lnTo>
                  <a:lnTo>
                    <a:pt x="455" y="1032"/>
                  </a:lnTo>
                  <a:lnTo>
                    <a:pt x="471" y="1037"/>
                  </a:lnTo>
                  <a:lnTo>
                    <a:pt x="488" y="1041"/>
                  </a:lnTo>
                  <a:lnTo>
                    <a:pt x="506" y="1043"/>
                  </a:lnTo>
                  <a:lnTo>
                    <a:pt x="527" y="1043"/>
                  </a:lnTo>
                  <a:lnTo>
                    <a:pt x="549" y="1041"/>
                  </a:lnTo>
                  <a:lnTo>
                    <a:pt x="573" y="1037"/>
                  </a:lnTo>
                  <a:lnTo>
                    <a:pt x="599" y="1030"/>
                  </a:lnTo>
                  <a:lnTo>
                    <a:pt x="629" y="1021"/>
                  </a:lnTo>
                  <a:lnTo>
                    <a:pt x="651" y="1005"/>
                  </a:lnTo>
                  <a:lnTo>
                    <a:pt x="670" y="990"/>
                  </a:lnTo>
                  <a:lnTo>
                    <a:pt x="688" y="978"/>
                  </a:lnTo>
                  <a:lnTo>
                    <a:pt x="705" y="966"/>
                  </a:lnTo>
                  <a:lnTo>
                    <a:pt x="720" y="955"/>
                  </a:lnTo>
                  <a:lnTo>
                    <a:pt x="735" y="944"/>
                  </a:lnTo>
                  <a:lnTo>
                    <a:pt x="748" y="933"/>
                  </a:lnTo>
                  <a:lnTo>
                    <a:pt x="761" y="921"/>
                  </a:lnTo>
                  <a:lnTo>
                    <a:pt x="773" y="907"/>
                  </a:lnTo>
                  <a:lnTo>
                    <a:pt x="785" y="892"/>
                  </a:lnTo>
                  <a:lnTo>
                    <a:pt x="796" y="875"/>
                  </a:lnTo>
                  <a:lnTo>
                    <a:pt x="808" y="855"/>
                  </a:lnTo>
                  <a:lnTo>
                    <a:pt x="820" y="832"/>
                  </a:lnTo>
                  <a:lnTo>
                    <a:pt x="833" y="805"/>
                  </a:lnTo>
                  <a:lnTo>
                    <a:pt x="846" y="775"/>
                  </a:lnTo>
                  <a:lnTo>
                    <a:pt x="860" y="740"/>
                  </a:lnTo>
                  <a:lnTo>
                    <a:pt x="865" y="745"/>
                  </a:lnTo>
                  <a:lnTo>
                    <a:pt x="870" y="749"/>
                  </a:lnTo>
                  <a:lnTo>
                    <a:pt x="877" y="751"/>
                  </a:lnTo>
                  <a:lnTo>
                    <a:pt x="883" y="751"/>
                  </a:lnTo>
                  <a:lnTo>
                    <a:pt x="890" y="750"/>
                  </a:lnTo>
                  <a:lnTo>
                    <a:pt x="896" y="748"/>
                  </a:lnTo>
                  <a:lnTo>
                    <a:pt x="901" y="744"/>
                  </a:lnTo>
                  <a:lnTo>
                    <a:pt x="906" y="741"/>
                  </a:lnTo>
                  <a:lnTo>
                    <a:pt x="910" y="735"/>
                  </a:lnTo>
                  <a:lnTo>
                    <a:pt x="916" y="727"/>
                  </a:lnTo>
                  <a:lnTo>
                    <a:pt x="923" y="717"/>
                  </a:lnTo>
                  <a:lnTo>
                    <a:pt x="930" y="706"/>
                  </a:lnTo>
                  <a:lnTo>
                    <a:pt x="938" y="693"/>
                  </a:lnTo>
                  <a:lnTo>
                    <a:pt x="946" y="679"/>
                  </a:lnTo>
                  <a:lnTo>
                    <a:pt x="955" y="664"/>
                  </a:lnTo>
                  <a:lnTo>
                    <a:pt x="963" y="648"/>
                  </a:lnTo>
                  <a:lnTo>
                    <a:pt x="971" y="632"/>
                  </a:lnTo>
                  <a:lnTo>
                    <a:pt x="978" y="615"/>
                  </a:lnTo>
                  <a:lnTo>
                    <a:pt x="985" y="598"/>
                  </a:lnTo>
                  <a:lnTo>
                    <a:pt x="991" y="581"/>
                  </a:lnTo>
                  <a:lnTo>
                    <a:pt x="997" y="565"/>
                  </a:lnTo>
                  <a:lnTo>
                    <a:pt x="1001" y="548"/>
                  </a:lnTo>
                  <a:lnTo>
                    <a:pt x="1003" y="532"/>
                  </a:lnTo>
                  <a:lnTo>
                    <a:pt x="1004" y="517"/>
                  </a:lnTo>
                </a:path>
              </a:pathLst>
            </a:custGeom>
            <a:solidFill>
              <a:srgbClr val="9966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ccecff"/>
                </a:solidFill>
                <a:latin typeface="Times New Roman"/>
              </a:endParaRPr>
            </a:p>
          </p:txBody>
        </p:sp>
        <p:sp>
          <p:nvSpPr>
            <p:cNvPr id="359" name="Freeform 31"/>
            <p:cNvSpPr/>
            <p:nvPr/>
          </p:nvSpPr>
          <p:spPr>
            <a:xfrm>
              <a:off x="2341440" y="3229920"/>
              <a:ext cx="65160" cy="68760"/>
            </a:xfrm>
            <a:custGeom>
              <a:avLst/>
              <a:gdLst>
                <a:gd name="textAreaLeft" fmla="*/ 0 w 65160"/>
                <a:gd name="textAreaRight" fmla="*/ 65520 w 65160"/>
                <a:gd name="textAreaTop" fmla="*/ 0 h 68760"/>
                <a:gd name="textAreaBottom" fmla="*/ 69120 h 68760"/>
              </a:gdLst>
              <a:ahLst/>
              <a:rect l="textAreaLeft" t="textAreaTop" r="textAreaRight" b="textAreaBottom"/>
              <a:pathLst>
                <a:path w="854" h="925">
                  <a:moveTo>
                    <a:pt x="808" y="310"/>
                  </a:moveTo>
                  <a:lnTo>
                    <a:pt x="820" y="309"/>
                  </a:lnTo>
                  <a:lnTo>
                    <a:pt x="829" y="307"/>
                  </a:lnTo>
                  <a:lnTo>
                    <a:pt x="836" y="304"/>
                  </a:lnTo>
                  <a:lnTo>
                    <a:pt x="841" y="301"/>
                  </a:lnTo>
                  <a:lnTo>
                    <a:pt x="846" y="297"/>
                  </a:lnTo>
                  <a:lnTo>
                    <a:pt x="849" y="291"/>
                  </a:lnTo>
                  <a:lnTo>
                    <a:pt x="852" y="286"/>
                  </a:lnTo>
                  <a:lnTo>
                    <a:pt x="854" y="279"/>
                  </a:lnTo>
                  <a:lnTo>
                    <a:pt x="846" y="273"/>
                  </a:lnTo>
                  <a:lnTo>
                    <a:pt x="838" y="268"/>
                  </a:lnTo>
                  <a:lnTo>
                    <a:pt x="832" y="263"/>
                  </a:lnTo>
                  <a:lnTo>
                    <a:pt x="825" y="257"/>
                  </a:lnTo>
                  <a:lnTo>
                    <a:pt x="819" y="253"/>
                  </a:lnTo>
                  <a:lnTo>
                    <a:pt x="811" y="248"/>
                  </a:lnTo>
                  <a:lnTo>
                    <a:pt x="805" y="242"/>
                  </a:lnTo>
                  <a:lnTo>
                    <a:pt x="796" y="237"/>
                  </a:lnTo>
                  <a:lnTo>
                    <a:pt x="788" y="236"/>
                  </a:lnTo>
                  <a:lnTo>
                    <a:pt x="779" y="235"/>
                  </a:lnTo>
                  <a:lnTo>
                    <a:pt x="770" y="235"/>
                  </a:lnTo>
                  <a:lnTo>
                    <a:pt x="759" y="235"/>
                  </a:lnTo>
                  <a:lnTo>
                    <a:pt x="749" y="235"/>
                  </a:lnTo>
                  <a:lnTo>
                    <a:pt x="739" y="235"/>
                  </a:lnTo>
                  <a:lnTo>
                    <a:pt x="729" y="236"/>
                  </a:lnTo>
                  <a:lnTo>
                    <a:pt x="720" y="236"/>
                  </a:lnTo>
                  <a:lnTo>
                    <a:pt x="710" y="234"/>
                  </a:lnTo>
                  <a:lnTo>
                    <a:pt x="701" y="230"/>
                  </a:lnTo>
                  <a:lnTo>
                    <a:pt x="694" y="228"/>
                  </a:lnTo>
                  <a:lnTo>
                    <a:pt x="688" y="225"/>
                  </a:lnTo>
                  <a:lnTo>
                    <a:pt x="682" y="222"/>
                  </a:lnTo>
                  <a:lnTo>
                    <a:pt x="678" y="219"/>
                  </a:lnTo>
                  <a:lnTo>
                    <a:pt x="672" y="214"/>
                  </a:lnTo>
                  <a:lnTo>
                    <a:pt x="668" y="209"/>
                  </a:lnTo>
                  <a:lnTo>
                    <a:pt x="658" y="214"/>
                  </a:lnTo>
                  <a:lnTo>
                    <a:pt x="648" y="218"/>
                  </a:lnTo>
                  <a:lnTo>
                    <a:pt x="636" y="220"/>
                  </a:lnTo>
                  <a:lnTo>
                    <a:pt x="624" y="221"/>
                  </a:lnTo>
                  <a:lnTo>
                    <a:pt x="612" y="219"/>
                  </a:lnTo>
                  <a:lnTo>
                    <a:pt x="603" y="214"/>
                  </a:lnTo>
                  <a:lnTo>
                    <a:pt x="593" y="207"/>
                  </a:lnTo>
                  <a:lnTo>
                    <a:pt x="586" y="196"/>
                  </a:lnTo>
                  <a:lnTo>
                    <a:pt x="586" y="206"/>
                  </a:lnTo>
                  <a:lnTo>
                    <a:pt x="589" y="213"/>
                  </a:lnTo>
                  <a:lnTo>
                    <a:pt x="593" y="221"/>
                  </a:lnTo>
                  <a:lnTo>
                    <a:pt x="598" y="227"/>
                  </a:lnTo>
                  <a:lnTo>
                    <a:pt x="604" y="235"/>
                  </a:lnTo>
                  <a:lnTo>
                    <a:pt x="608" y="242"/>
                  </a:lnTo>
                  <a:lnTo>
                    <a:pt x="611" y="250"/>
                  </a:lnTo>
                  <a:lnTo>
                    <a:pt x="613" y="259"/>
                  </a:lnTo>
                  <a:lnTo>
                    <a:pt x="618" y="261"/>
                  </a:lnTo>
                  <a:lnTo>
                    <a:pt x="623" y="264"/>
                  </a:lnTo>
                  <a:lnTo>
                    <a:pt x="628" y="265"/>
                  </a:lnTo>
                  <a:lnTo>
                    <a:pt x="634" y="266"/>
                  </a:lnTo>
                  <a:lnTo>
                    <a:pt x="639" y="266"/>
                  </a:lnTo>
                  <a:lnTo>
                    <a:pt x="644" y="266"/>
                  </a:lnTo>
                  <a:lnTo>
                    <a:pt x="651" y="265"/>
                  </a:lnTo>
                  <a:lnTo>
                    <a:pt x="656" y="263"/>
                  </a:lnTo>
                  <a:lnTo>
                    <a:pt x="648" y="270"/>
                  </a:lnTo>
                  <a:lnTo>
                    <a:pt x="640" y="278"/>
                  </a:lnTo>
                  <a:lnTo>
                    <a:pt x="634" y="285"/>
                  </a:lnTo>
                  <a:lnTo>
                    <a:pt x="628" y="292"/>
                  </a:lnTo>
                  <a:lnTo>
                    <a:pt x="623" y="301"/>
                  </a:lnTo>
                  <a:lnTo>
                    <a:pt x="618" y="309"/>
                  </a:lnTo>
                  <a:lnTo>
                    <a:pt x="612" y="316"/>
                  </a:lnTo>
                  <a:lnTo>
                    <a:pt x="608" y="324"/>
                  </a:lnTo>
                  <a:lnTo>
                    <a:pt x="611" y="326"/>
                  </a:lnTo>
                  <a:lnTo>
                    <a:pt x="617" y="329"/>
                  </a:lnTo>
                  <a:lnTo>
                    <a:pt x="622" y="332"/>
                  </a:lnTo>
                  <a:lnTo>
                    <a:pt x="628" y="335"/>
                  </a:lnTo>
                  <a:lnTo>
                    <a:pt x="636" y="338"/>
                  </a:lnTo>
                  <a:lnTo>
                    <a:pt x="642" y="342"/>
                  </a:lnTo>
                  <a:lnTo>
                    <a:pt x="650" y="344"/>
                  </a:lnTo>
                  <a:lnTo>
                    <a:pt x="655" y="345"/>
                  </a:lnTo>
                  <a:lnTo>
                    <a:pt x="664" y="343"/>
                  </a:lnTo>
                  <a:lnTo>
                    <a:pt x="669" y="337"/>
                  </a:lnTo>
                  <a:lnTo>
                    <a:pt x="670" y="331"/>
                  </a:lnTo>
                  <a:lnTo>
                    <a:pt x="669" y="326"/>
                  </a:lnTo>
                  <a:lnTo>
                    <a:pt x="659" y="324"/>
                  </a:lnTo>
                  <a:lnTo>
                    <a:pt x="651" y="322"/>
                  </a:lnTo>
                  <a:lnTo>
                    <a:pt x="642" y="322"/>
                  </a:lnTo>
                  <a:lnTo>
                    <a:pt x="636" y="322"/>
                  </a:lnTo>
                  <a:lnTo>
                    <a:pt x="629" y="322"/>
                  </a:lnTo>
                  <a:lnTo>
                    <a:pt x="625" y="322"/>
                  </a:lnTo>
                  <a:lnTo>
                    <a:pt x="622" y="321"/>
                  </a:lnTo>
                  <a:lnTo>
                    <a:pt x="620" y="318"/>
                  </a:lnTo>
                  <a:lnTo>
                    <a:pt x="623" y="314"/>
                  </a:lnTo>
                  <a:lnTo>
                    <a:pt x="627" y="309"/>
                  </a:lnTo>
                  <a:lnTo>
                    <a:pt x="632" y="302"/>
                  </a:lnTo>
                  <a:lnTo>
                    <a:pt x="636" y="296"/>
                  </a:lnTo>
                  <a:lnTo>
                    <a:pt x="641" y="289"/>
                  </a:lnTo>
                  <a:lnTo>
                    <a:pt x="645" y="283"/>
                  </a:lnTo>
                  <a:lnTo>
                    <a:pt x="652" y="278"/>
                  </a:lnTo>
                  <a:lnTo>
                    <a:pt x="658" y="273"/>
                  </a:lnTo>
                  <a:lnTo>
                    <a:pt x="662" y="271"/>
                  </a:lnTo>
                  <a:lnTo>
                    <a:pt x="667" y="269"/>
                  </a:lnTo>
                  <a:lnTo>
                    <a:pt x="675" y="267"/>
                  </a:lnTo>
                  <a:lnTo>
                    <a:pt x="684" y="265"/>
                  </a:lnTo>
                  <a:lnTo>
                    <a:pt x="695" y="264"/>
                  </a:lnTo>
                  <a:lnTo>
                    <a:pt x="707" y="265"/>
                  </a:lnTo>
                  <a:lnTo>
                    <a:pt x="719" y="266"/>
                  </a:lnTo>
                  <a:lnTo>
                    <a:pt x="732" y="268"/>
                  </a:lnTo>
                  <a:lnTo>
                    <a:pt x="745" y="271"/>
                  </a:lnTo>
                  <a:lnTo>
                    <a:pt x="757" y="275"/>
                  </a:lnTo>
                  <a:lnTo>
                    <a:pt x="770" y="280"/>
                  </a:lnTo>
                  <a:lnTo>
                    <a:pt x="780" y="284"/>
                  </a:lnTo>
                  <a:lnTo>
                    <a:pt x="791" y="289"/>
                  </a:lnTo>
                  <a:lnTo>
                    <a:pt x="799" y="295"/>
                  </a:lnTo>
                  <a:lnTo>
                    <a:pt x="805" y="302"/>
                  </a:lnTo>
                  <a:lnTo>
                    <a:pt x="808" y="310"/>
                  </a:lnTo>
                  <a:close/>
                  <a:moveTo>
                    <a:pt x="623" y="902"/>
                  </a:moveTo>
                  <a:lnTo>
                    <a:pt x="619" y="897"/>
                  </a:lnTo>
                  <a:lnTo>
                    <a:pt x="611" y="893"/>
                  </a:lnTo>
                  <a:lnTo>
                    <a:pt x="601" y="889"/>
                  </a:lnTo>
                  <a:lnTo>
                    <a:pt x="586" y="886"/>
                  </a:lnTo>
                  <a:lnTo>
                    <a:pt x="569" y="883"/>
                  </a:lnTo>
                  <a:lnTo>
                    <a:pt x="551" y="881"/>
                  </a:lnTo>
                  <a:lnTo>
                    <a:pt x="532" y="878"/>
                  </a:lnTo>
                  <a:lnTo>
                    <a:pt x="513" y="874"/>
                  </a:lnTo>
                  <a:lnTo>
                    <a:pt x="494" y="871"/>
                  </a:lnTo>
                  <a:lnTo>
                    <a:pt x="474" y="867"/>
                  </a:lnTo>
                  <a:lnTo>
                    <a:pt x="457" y="860"/>
                  </a:lnTo>
                  <a:lnTo>
                    <a:pt x="441" y="854"/>
                  </a:lnTo>
                  <a:lnTo>
                    <a:pt x="428" y="845"/>
                  </a:lnTo>
                  <a:lnTo>
                    <a:pt x="418" y="836"/>
                  </a:lnTo>
                  <a:lnTo>
                    <a:pt x="411" y="824"/>
                  </a:lnTo>
                  <a:lnTo>
                    <a:pt x="409" y="810"/>
                  </a:lnTo>
                  <a:lnTo>
                    <a:pt x="412" y="791"/>
                  </a:lnTo>
                  <a:lnTo>
                    <a:pt x="416" y="777"/>
                  </a:lnTo>
                  <a:lnTo>
                    <a:pt x="423" y="770"/>
                  </a:lnTo>
                  <a:lnTo>
                    <a:pt x="431" y="764"/>
                  </a:lnTo>
                  <a:lnTo>
                    <a:pt x="443" y="760"/>
                  </a:lnTo>
                  <a:lnTo>
                    <a:pt x="458" y="755"/>
                  </a:lnTo>
                  <a:lnTo>
                    <a:pt x="477" y="747"/>
                  </a:lnTo>
                  <a:lnTo>
                    <a:pt x="502" y="735"/>
                  </a:lnTo>
                  <a:lnTo>
                    <a:pt x="516" y="736"/>
                  </a:lnTo>
                  <a:lnTo>
                    <a:pt x="525" y="735"/>
                  </a:lnTo>
                  <a:lnTo>
                    <a:pt x="531" y="731"/>
                  </a:lnTo>
                  <a:lnTo>
                    <a:pt x="536" y="727"/>
                  </a:lnTo>
                  <a:lnTo>
                    <a:pt x="542" y="720"/>
                  </a:lnTo>
                  <a:lnTo>
                    <a:pt x="549" y="715"/>
                  </a:lnTo>
                  <a:lnTo>
                    <a:pt x="559" y="710"/>
                  </a:lnTo>
                  <a:lnTo>
                    <a:pt x="574" y="705"/>
                  </a:lnTo>
                  <a:lnTo>
                    <a:pt x="561" y="698"/>
                  </a:lnTo>
                  <a:lnTo>
                    <a:pt x="548" y="693"/>
                  </a:lnTo>
                  <a:lnTo>
                    <a:pt x="533" y="689"/>
                  </a:lnTo>
                  <a:lnTo>
                    <a:pt x="518" y="688"/>
                  </a:lnTo>
                  <a:lnTo>
                    <a:pt x="502" y="689"/>
                  </a:lnTo>
                  <a:lnTo>
                    <a:pt x="487" y="690"/>
                  </a:lnTo>
                  <a:lnTo>
                    <a:pt x="472" y="691"/>
                  </a:lnTo>
                  <a:lnTo>
                    <a:pt x="458" y="691"/>
                  </a:lnTo>
                  <a:lnTo>
                    <a:pt x="447" y="684"/>
                  </a:lnTo>
                  <a:lnTo>
                    <a:pt x="438" y="678"/>
                  </a:lnTo>
                  <a:lnTo>
                    <a:pt x="430" y="670"/>
                  </a:lnTo>
                  <a:lnTo>
                    <a:pt x="423" y="663"/>
                  </a:lnTo>
                  <a:lnTo>
                    <a:pt x="415" y="656"/>
                  </a:lnTo>
                  <a:lnTo>
                    <a:pt x="409" y="650"/>
                  </a:lnTo>
                  <a:lnTo>
                    <a:pt x="403" y="643"/>
                  </a:lnTo>
                  <a:lnTo>
                    <a:pt x="395" y="637"/>
                  </a:lnTo>
                  <a:lnTo>
                    <a:pt x="399" y="634"/>
                  </a:lnTo>
                  <a:lnTo>
                    <a:pt x="406" y="632"/>
                  </a:lnTo>
                  <a:lnTo>
                    <a:pt x="415" y="630"/>
                  </a:lnTo>
                  <a:lnTo>
                    <a:pt x="426" y="629"/>
                  </a:lnTo>
                  <a:lnTo>
                    <a:pt x="437" y="628"/>
                  </a:lnTo>
                  <a:lnTo>
                    <a:pt x="445" y="627"/>
                  </a:lnTo>
                  <a:lnTo>
                    <a:pt x="452" y="626"/>
                  </a:lnTo>
                  <a:lnTo>
                    <a:pt x="455" y="625"/>
                  </a:lnTo>
                  <a:lnTo>
                    <a:pt x="469" y="621"/>
                  </a:lnTo>
                  <a:lnTo>
                    <a:pt x="476" y="616"/>
                  </a:lnTo>
                  <a:lnTo>
                    <a:pt x="480" y="610"/>
                  </a:lnTo>
                  <a:lnTo>
                    <a:pt x="480" y="604"/>
                  </a:lnTo>
                  <a:lnTo>
                    <a:pt x="480" y="598"/>
                  </a:lnTo>
                  <a:lnTo>
                    <a:pt x="480" y="593"/>
                  </a:lnTo>
                  <a:lnTo>
                    <a:pt x="482" y="590"/>
                  </a:lnTo>
                  <a:lnTo>
                    <a:pt x="488" y="588"/>
                  </a:lnTo>
                  <a:lnTo>
                    <a:pt x="488" y="580"/>
                  </a:lnTo>
                  <a:lnTo>
                    <a:pt x="489" y="571"/>
                  </a:lnTo>
                  <a:lnTo>
                    <a:pt x="490" y="559"/>
                  </a:lnTo>
                  <a:lnTo>
                    <a:pt x="491" y="547"/>
                  </a:lnTo>
                  <a:lnTo>
                    <a:pt x="494" y="536"/>
                  </a:lnTo>
                  <a:lnTo>
                    <a:pt x="496" y="528"/>
                  </a:lnTo>
                  <a:lnTo>
                    <a:pt x="499" y="521"/>
                  </a:lnTo>
                  <a:lnTo>
                    <a:pt x="503" y="519"/>
                  </a:lnTo>
                  <a:lnTo>
                    <a:pt x="497" y="520"/>
                  </a:lnTo>
                  <a:lnTo>
                    <a:pt x="490" y="520"/>
                  </a:lnTo>
                  <a:lnTo>
                    <a:pt x="483" y="519"/>
                  </a:lnTo>
                  <a:lnTo>
                    <a:pt x="475" y="517"/>
                  </a:lnTo>
                  <a:lnTo>
                    <a:pt x="468" y="515"/>
                  </a:lnTo>
                  <a:lnTo>
                    <a:pt x="459" y="514"/>
                  </a:lnTo>
                  <a:lnTo>
                    <a:pt x="452" y="514"/>
                  </a:lnTo>
                  <a:lnTo>
                    <a:pt x="444" y="513"/>
                  </a:lnTo>
                  <a:lnTo>
                    <a:pt x="437" y="511"/>
                  </a:lnTo>
                  <a:lnTo>
                    <a:pt x="432" y="506"/>
                  </a:lnTo>
                  <a:lnTo>
                    <a:pt x="428" y="501"/>
                  </a:lnTo>
                  <a:lnTo>
                    <a:pt x="427" y="493"/>
                  </a:lnTo>
                  <a:lnTo>
                    <a:pt x="437" y="475"/>
                  </a:lnTo>
                  <a:lnTo>
                    <a:pt x="447" y="464"/>
                  </a:lnTo>
                  <a:lnTo>
                    <a:pt x="457" y="457"/>
                  </a:lnTo>
                  <a:lnTo>
                    <a:pt x="468" y="455"/>
                  </a:lnTo>
                  <a:lnTo>
                    <a:pt x="477" y="454"/>
                  </a:lnTo>
                  <a:lnTo>
                    <a:pt x="487" y="453"/>
                  </a:lnTo>
                  <a:lnTo>
                    <a:pt x="496" y="450"/>
                  </a:lnTo>
                  <a:lnTo>
                    <a:pt x="504" y="444"/>
                  </a:lnTo>
                  <a:lnTo>
                    <a:pt x="501" y="438"/>
                  </a:lnTo>
                  <a:lnTo>
                    <a:pt x="500" y="432"/>
                  </a:lnTo>
                  <a:lnTo>
                    <a:pt x="500" y="425"/>
                  </a:lnTo>
                  <a:lnTo>
                    <a:pt x="501" y="419"/>
                  </a:lnTo>
                  <a:lnTo>
                    <a:pt x="503" y="412"/>
                  </a:lnTo>
                  <a:lnTo>
                    <a:pt x="506" y="404"/>
                  </a:lnTo>
                  <a:lnTo>
                    <a:pt x="510" y="395"/>
                  </a:lnTo>
                  <a:lnTo>
                    <a:pt x="513" y="386"/>
                  </a:lnTo>
                  <a:lnTo>
                    <a:pt x="515" y="375"/>
                  </a:lnTo>
                  <a:lnTo>
                    <a:pt x="517" y="362"/>
                  </a:lnTo>
                  <a:lnTo>
                    <a:pt x="519" y="348"/>
                  </a:lnTo>
                  <a:lnTo>
                    <a:pt x="519" y="333"/>
                  </a:lnTo>
                  <a:lnTo>
                    <a:pt x="518" y="315"/>
                  </a:lnTo>
                  <a:lnTo>
                    <a:pt x="516" y="295"/>
                  </a:lnTo>
                  <a:lnTo>
                    <a:pt x="512" y="272"/>
                  </a:lnTo>
                  <a:lnTo>
                    <a:pt x="504" y="248"/>
                  </a:lnTo>
                  <a:lnTo>
                    <a:pt x="504" y="241"/>
                  </a:lnTo>
                  <a:lnTo>
                    <a:pt x="507" y="235"/>
                  </a:lnTo>
                  <a:lnTo>
                    <a:pt x="512" y="227"/>
                  </a:lnTo>
                  <a:lnTo>
                    <a:pt x="516" y="220"/>
                  </a:lnTo>
                  <a:lnTo>
                    <a:pt x="519" y="212"/>
                  </a:lnTo>
                  <a:lnTo>
                    <a:pt x="522" y="204"/>
                  </a:lnTo>
                  <a:lnTo>
                    <a:pt x="523" y="196"/>
                  </a:lnTo>
                  <a:lnTo>
                    <a:pt x="521" y="189"/>
                  </a:lnTo>
                  <a:lnTo>
                    <a:pt x="515" y="188"/>
                  </a:lnTo>
                  <a:lnTo>
                    <a:pt x="511" y="184"/>
                  </a:lnTo>
                  <a:lnTo>
                    <a:pt x="506" y="179"/>
                  </a:lnTo>
                  <a:lnTo>
                    <a:pt x="499" y="171"/>
                  </a:lnTo>
                  <a:lnTo>
                    <a:pt x="485" y="160"/>
                  </a:lnTo>
                  <a:lnTo>
                    <a:pt x="462" y="147"/>
                  </a:lnTo>
                  <a:lnTo>
                    <a:pt x="428" y="133"/>
                  </a:lnTo>
                  <a:lnTo>
                    <a:pt x="379" y="118"/>
                  </a:lnTo>
                  <a:lnTo>
                    <a:pt x="374" y="107"/>
                  </a:lnTo>
                  <a:lnTo>
                    <a:pt x="374" y="92"/>
                  </a:lnTo>
                  <a:lnTo>
                    <a:pt x="378" y="74"/>
                  </a:lnTo>
                  <a:lnTo>
                    <a:pt x="384" y="55"/>
                  </a:lnTo>
                  <a:lnTo>
                    <a:pt x="392" y="37"/>
                  </a:lnTo>
                  <a:lnTo>
                    <a:pt x="399" y="20"/>
                  </a:lnTo>
                  <a:lnTo>
                    <a:pt x="405" y="7"/>
                  </a:lnTo>
                  <a:lnTo>
                    <a:pt x="408" y="0"/>
                  </a:lnTo>
                  <a:lnTo>
                    <a:pt x="399" y="6"/>
                  </a:lnTo>
                  <a:lnTo>
                    <a:pt x="390" y="10"/>
                  </a:lnTo>
                  <a:lnTo>
                    <a:pt x="381" y="14"/>
                  </a:lnTo>
                  <a:lnTo>
                    <a:pt x="371" y="18"/>
                  </a:lnTo>
                  <a:lnTo>
                    <a:pt x="362" y="21"/>
                  </a:lnTo>
                  <a:lnTo>
                    <a:pt x="353" y="24"/>
                  </a:lnTo>
                  <a:lnTo>
                    <a:pt x="343" y="25"/>
                  </a:lnTo>
                  <a:lnTo>
                    <a:pt x="333" y="27"/>
                  </a:lnTo>
                  <a:lnTo>
                    <a:pt x="322" y="27"/>
                  </a:lnTo>
                  <a:lnTo>
                    <a:pt x="312" y="27"/>
                  </a:lnTo>
                  <a:lnTo>
                    <a:pt x="301" y="26"/>
                  </a:lnTo>
                  <a:lnTo>
                    <a:pt x="289" y="24"/>
                  </a:lnTo>
                  <a:lnTo>
                    <a:pt x="276" y="22"/>
                  </a:lnTo>
                  <a:lnTo>
                    <a:pt x="263" y="18"/>
                  </a:lnTo>
                  <a:lnTo>
                    <a:pt x="249" y="13"/>
                  </a:lnTo>
                  <a:lnTo>
                    <a:pt x="236" y="7"/>
                  </a:lnTo>
                  <a:lnTo>
                    <a:pt x="234" y="14"/>
                  </a:lnTo>
                  <a:lnTo>
                    <a:pt x="231" y="24"/>
                  </a:lnTo>
                  <a:lnTo>
                    <a:pt x="227" y="35"/>
                  </a:lnTo>
                  <a:lnTo>
                    <a:pt x="223" y="45"/>
                  </a:lnTo>
                  <a:lnTo>
                    <a:pt x="216" y="57"/>
                  </a:lnTo>
                  <a:lnTo>
                    <a:pt x="210" y="68"/>
                  </a:lnTo>
                  <a:lnTo>
                    <a:pt x="204" y="77"/>
                  </a:lnTo>
                  <a:lnTo>
                    <a:pt x="199" y="85"/>
                  </a:lnTo>
                  <a:lnTo>
                    <a:pt x="199" y="103"/>
                  </a:lnTo>
                  <a:lnTo>
                    <a:pt x="198" y="120"/>
                  </a:lnTo>
                  <a:lnTo>
                    <a:pt x="197" y="138"/>
                  </a:lnTo>
                  <a:lnTo>
                    <a:pt x="195" y="157"/>
                  </a:lnTo>
                  <a:lnTo>
                    <a:pt x="194" y="174"/>
                  </a:lnTo>
                  <a:lnTo>
                    <a:pt x="192" y="192"/>
                  </a:lnTo>
                  <a:lnTo>
                    <a:pt x="190" y="210"/>
                  </a:lnTo>
                  <a:lnTo>
                    <a:pt x="187" y="227"/>
                  </a:lnTo>
                  <a:lnTo>
                    <a:pt x="184" y="245"/>
                  </a:lnTo>
                  <a:lnTo>
                    <a:pt x="182" y="264"/>
                  </a:lnTo>
                  <a:lnTo>
                    <a:pt x="180" y="282"/>
                  </a:lnTo>
                  <a:lnTo>
                    <a:pt x="179" y="299"/>
                  </a:lnTo>
                  <a:lnTo>
                    <a:pt x="177" y="317"/>
                  </a:lnTo>
                  <a:lnTo>
                    <a:pt x="176" y="335"/>
                  </a:lnTo>
                  <a:lnTo>
                    <a:pt x="175" y="352"/>
                  </a:lnTo>
                  <a:lnTo>
                    <a:pt x="175" y="371"/>
                  </a:lnTo>
                  <a:lnTo>
                    <a:pt x="170" y="372"/>
                  </a:lnTo>
                  <a:lnTo>
                    <a:pt x="166" y="373"/>
                  </a:lnTo>
                  <a:lnTo>
                    <a:pt x="161" y="376"/>
                  </a:lnTo>
                  <a:lnTo>
                    <a:pt x="156" y="378"/>
                  </a:lnTo>
                  <a:lnTo>
                    <a:pt x="152" y="381"/>
                  </a:lnTo>
                  <a:lnTo>
                    <a:pt x="147" y="384"/>
                  </a:lnTo>
                  <a:lnTo>
                    <a:pt x="142" y="386"/>
                  </a:lnTo>
                  <a:lnTo>
                    <a:pt x="138" y="387"/>
                  </a:lnTo>
                  <a:lnTo>
                    <a:pt x="138" y="291"/>
                  </a:lnTo>
                  <a:lnTo>
                    <a:pt x="120" y="269"/>
                  </a:lnTo>
                  <a:lnTo>
                    <a:pt x="103" y="251"/>
                  </a:lnTo>
                  <a:lnTo>
                    <a:pt x="87" y="238"/>
                  </a:lnTo>
                  <a:lnTo>
                    <a:pt x="71" y="229"/>
                  </a:lnTo>
                  <a:lnTo>
                    <a:pt x="54" y="227"/>
                  </a:lnTo>
                  <a:lnTo>
                    <a:pt x="38" y="232"/>
                  </a:lnTo>
                  <a:lnTo>
                    <a:pt x="20" y="243"/>
                  </a:lnTo>
                  <a:lnTo>
                    <a:pt x="2" y="264"/>
                  </a:lnTo>
                  <a:lnTo>
                    <a:pt x="0" y="283"/>
                  </a:lnTo>
                  <a:lnTo>
                    <a:pt x="0" y="302"/>
                  </a:lnTo>
                  <a:lnTo>
                    <a:pt x="0" y="320"/>
                  </a:lnTo>
                  <a:lnTo>
                    <a:pt x="2" y="338"/>
                  </a:lnTo>
                  <a:lnTo>
                    <a:pt x="4" y="355"/>
                  </a:lnTo>
                  <a:lnTo>
                    <a:pt x="8" y="372"/>
                  </a:lnTo>
                  <a:lnTo>
                    <a:pt x="11" y="387"/>
                  </a:lnTo>
                  <a:lnTo>
                    <a:pt x="16" y="402"/>
                  </a:lnTo>
                  <a:lnTo>
                    <a:pt x="20" y="417"/>
                  </a:lnTo>
                  <a:lnTo>
                    <a:pt x="26" y="430"/>
                  </a:lnTo>
                  <a:lnTo>
                    <a:pt x="32" y="443"/>
                  </a:lnTo>
                  <a:lnTo>
                    <a:pt x="39" y="455"/>
                  </a:lnTo>
                  <a:lnTo>
                    <a:pt x="45" y="467"/>
                  </a:lnTo>
                  <a:lnTo>
                    <a:pt x="51" y="478"/>
                  </a:lnTo>
                  <a:lnTo>
                    <a:pt x="59" y="488"/>
                  </a:lnTo>
                  <a:lnTo>
                    <a:pt x="65" y="498"/>
                  </a:lnTo>
                  <a:lnTo>
                    <a:pt x="74" y="499"/>
                  </a:lnTo>
                  <a:lnTo>
                    <a:pt x="81" y="500"/>
                  </a:lnTo>
                  <a:lnTo>
                    <a:pt x="89" y="503"/>
                  </a:lnTo>
                  <a:lnTo>
                    <a:pt x="95" y="506"/>
                  </a:lnTo>
                  <a:lnTo>
                    <a:pt x="102" y="509"/>
                  </a:lnTo>
                  <a:lnTo>
                    <a:pt x="109" y="512"/>
                  </a:lnTo>
                  <a:lnTo>
                    <a:pt x="118" y="514"/>
                  </a:lnTo>
                  <a:lnTo>
                    <a:pt x="126" y="515"/>
                  </a:lnTo>
                  <a:lnTo>
                    <a:pt x="128" y="521"/>
                  </a:lnTo>
                  <a:lnTo>
                    <a:pt x="133" y="528"/>
                  </a:lnTo>
                  <a:lnTo>
                    <a:pt x="139" y="534"/>
                  </a:lnTo>
                  <a:lnTo>
                    <a:pt x="148" y="540"/>
                  </a:lnTo>
                  <a:lnTo>
                    <a:pt x="155" y="546"/>
                  </a:lnTo>
                  <a:lnTo>
                    <a:pt x="162" y="551"/>
                  </a:lnTo>
                  <a:lnTo>
                    <a:pt x="166" y="558"/>
                  </a:lnTo>
                  <a:lnTo>
                    <a:pt x="168" y="563"/>
                  </a:lnTo>
                  <a:lnTo>
                    <a:pt x="169" y="588"/>
                  </a:lnTo>
                  <a:lnTo>
                    <a:pt x="171" y="612"/>
                  </a:lnTo>
                  <a:lnTo>
                    <a:pt x="175" y="636"/>
                  </a:lnTo>
                  <a:lnTo>
                    <a:pt x="180" y="657"/>
                  </a:lnTo>
                  <a:lnTo>
                    <a:pt x="186" y="679"/>
                  </a:lnTo>
                  <a:lnTo>
                    <a:pt x="194" y="699"/>
                  </a:lnTo>
                  <a:lnTo>
                    <a:pt x="203" y="718"/>
                  </a:lnTo>
                  <a:lnTo>
                    <a:pt x="213" y="737"/>
                  </a:lnTo>
                  <a:lnTo>
                    <a:pt x="225" y="755"/>
                  </a:lnTo>
                  <a:lnTo>
                    <a:pt x="237" y="771"/>
                  </a:lnTo>
                  <a:lnTo>
                    <a:pt x="251" y="787"/>
                  </a:lnTo>
                  <a:lnTo>
                    <a:pt x="264" y="801"/>
                  </a:lnTo>
                  <a:lnTo>
                    <a:pt x="280" y="814"/>
                  </a:lnTo>
                  <a:lnTo>
                    <a:pt x="297" y="826"/>
                  </a:lnTo>
                  <a:lnTo>
                    <a:pt x="313" y="837"/>
                  </a:lnTo>
                  <a:lnTo>
                    <a:pt x="331" y="848"/>
                  </a:lnTo>
                  <a:lnTo>
                    <a:pt x="348" y="857"/>
                  </a:lnTo>
                  <a:lnTo>
                    <a:pt x="364" y="867"/>
                  </a:lnTo>
                  <a:lnTo>
                    <a:pt x="379" y="877"/>
                  </a:lnTo>
                  <a:lnTo>
                    <a:pt x="394" y="886"/>
                  </a:lnTo>
                  <a:lnTo>
                    <a:pt x="408" y="895"/>
                  </a:lnTo>
                  <a:lnTo>
                    <a:pt x="422" y="902"/>
                  </a:lnTo>
                  <a:lnTo>
                    <a:pt x="437" y="909"/>
                  </a:lnTo>
                  <a:lnTo>
                    <a:pt x="452" y="915"/>
                  </a:lnTo>
                  <a:lnTo>
                    <a:pt x="467" y="919"/>
                  </a:lnTo>
                  <a:lnTo>
                    <a:pt x="484" y="922"/>
                  </a:lnTo>
                  <a:lnTo>
                    <a:pt x="502" y="925"/>
                  </a:lnTo>
                  <a:lnTo>
                    <a:pt x="521" y="925"/>
                  </a:lnTo>
                  <a:lnTo>
                    <a:pt x="543" y="922"/>
                  </a:lnTo>
                  <a:lnTo>
                    <a:pt x="567" y="918"/>
                  </a:lnTo>
                  <a:lnTo>
                    <a:pt x="594" y="912"/>
                  </a:lnTo>
                  <a:lnTo>
                    <a:pt x="623" y="902"/>
                  </a:lnTo>
                  <a:close/>
                  <a:moveTo>
                    <a:pt x="518" y="531"/>
                  </a:moveTo>
                  <a:lnTo>
                    <a:pt x="521" y="533"/>
                  </a:lnTo>
                  <a:lnTo>
                    <a:pt x="526" y="533"/>
                  </a:lnTo>
                  <a:lnTo>
                    <a:pt x="529" y="534"/>
                  </a:lnTo>
                  <a:lnTo>
                    <a:pt x="532" y="536"/>
                  </a:lnTo>
                  <a:lnTo>
                    <a:pt x="537" y="533"/>
                  </a:lnTo>
                  <a:lnTo>
                    <a:pt x="543" y="532"/>
                  </a:lnTo>
                  <a:lnTo>
                    <a:pt x="547" y="531"/>
                  </a:lnTo>
                  <a:lnTo>
                    <a:pt x="552" y="529"/>
                  </a:lnTo>
                  <a:lnTo>
                    <a:pt x="553" y="537"/>
                  </a:lnTo>
                  <a:lnTo>
                    <a:pt x="556" y="545"/>
                  </a:lnTo>
                  <a:lnTo>
                    <a:pt x="557" y="550"/>
                  </a:lnTo>
                  <a:lnTo>
                    <a:pt x="558" y="556"/>
                  </a:lnTo>
                  <a:lnTo>
                    <a:pt x="558" y="561"/>
                  </a:lnTo>
                  <a:lnTo>
                    <a:pt x="559" y="567"/>
                  </a:lnTo>
                  <a:lnTo>
                    <a:pt x="561" y="574"/>
                  </a:lnTo>
                  <a:lnTo>
                    <a:pt x="562" y="583"/>
                  </a:lnTo>
                  <a:lnTo>
                    <a:pt x="555" y="584"/>
                  </a:lnTo>
                  <a:lnTo>
                    <a:pt x="548" y="587"/>
                  </a:lnTo>
                  <a:lnTo>
                    <a:pt x="542" y="590"/>
                  </a:lnTo>
                  <a:lnTo>
                    <a:pt x="534" y="591"/>
                  </a:lnTo>
                  <a:lnTo>
                    <a:pt x="529" y="588"/>
                  </a:lnTo>
                  <a:lnTo>
                    <a:pt x="523" y="584"/>
                  </a:lnTo>
                  <a:lnTo>
                    <a:pt x="519" y="582"/>
                  </a:lnTo>
                  <a:lnTo>
                    <a:pt x="514" y="579"/>
                  </a:lnTo>
                  <a:lnTo>
                    <a:pt x="514" y="572"/>
                  </a:lnTo>
                  <a:lnTo>
                    <a:pt x="514" y="564"/>
                  </a:lnTo>
                  <a:lnTo>
                    <a:pt x="514" y="559"/>
                  </a:lnTo>
                  <a:lnTo>
                    <a:pt x="513" y="555"/>
                  </a:lnTo>
                  <a:lnTo>
                    <a:pt x="513" y="549"/>
                  </a:lnTo>
                  <a:lnTo>
                    <a:pt x="514" y="544"/>
                  </a:lnTo>
                  <a:lnTo>
                    <a:pt x="516" y="539"/>
                  </a:lnTo>
                  <a:lnTo>
                    <a:pt x="518" y="531"/>
                  </a:lnTo>
                  <a:close/>
                </a:path>
              </a:pathLst>
            </a:custGeom>
            <a:solidFill>
              <a:srgbClr val="cc9900"/>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360" name="Freeform 32"/>
            <p:cNvSpPr/>
            <p:nvPr/>
          </p:nvSpPr>
          <p:spPr>
            <a:xfrm>
              <a:off x="2278800" y="3311640"/>
              <a:ext cx="201600" cy="165240"/>
            </a:xfrm>
            <a:custGeom>
              <a:avLst/>
              <a:gdLst>
                <a:gd name="textAreaLeft" fmla="*/ 0 w 201600"/>
                <a:gd name="textAreaRight" fmla="*/ 201960 w 201600"/>
                <a:gd name="textAreaTop" fmla="*/ 0 h 165240"/>
                <a:gd name="textAreaBottom" fmla="*/ 165600 h 165240"/>
              </a:gdLst>
              <a:ahLst/>
              <a:rect l="textAreaLeft" t="textAreaTop" r="textAreaRight" b="textAreaBottom"/>
              <a:pathLst>
                <a:path w="2639" h="2213">
                  <a:moveTo>
                    <a:pt x="0" y="1987"/>
                  </a:moveTo>
                  <a:lnTo>
                    <a:pt x="4" y="1995"/>
                  </a:lnTo>
                  <a:lnTo>
                    <a:pt x="7" y="2003"/>
                  </a:lnTo>
                  <a:lnTo>
                    <a:pt x="8" y="2012"/>
                  </a:lnTo>
                  <a:lnTo>
                    <a:pt x="10" y="2021"/>
                  </a:lnTo>
                  <a:lnTo>
                    <a:pt x="10" y="2029"/>
                  </a:lnTo>
                  <a:lnTo>
                    <a:pt x="10" y="2039"/>
                  </a:lnTo>
                  <a:lnTo>
                    <a:pt x="10" y="2048"/>
                  </a:lnTo>
                  <a:lnTo>
                    <a:pt x="9" y="2059"/>
                  </a:lnTo>
                  <a:lnTo>
                    <a:pt x="9" y="2070"/>
                  </a:lnTo>
                  <a:lnTo>
                    <a:pt x="8" y="2082"/>
                  </a:lnTo>
                  <a:lnTo>
                    <a:pt x="7" y="2093"/>
                  </a:lnTo>
                  <a:lnTo>
                    <a:pt x="6" y="2105"/>
                  </a:lnTo>
                  <a:lnTo>
                    <a:pt x="6" y="2118"/>
                  </a:lnTo>
                  <a:lnTo>
                    <a:pt x="6" y="2132"/>
                  </a:lnTo>
                  <a:lnTo>
                    <a:pt x="6" y="2146"/>
                  </a:lnTo>
                  <a:lnTo>
                    <a:pt x="7" y="2161"/>
                  </a:lnTo>
                  <a:lnTo>
                    <a:pt x="19" y="2213"/>
                  </a:lnTo>
                  <a:lnTo>
                    <a:pt x="31" y="2203"/>
                  </a:lnTo>
                  <a:lnTo>
                    <a:pt x="42" y="2195"/>
                  </a:lnTo>
                  <a:lnTo>
                    <a:pt x="52" y="2189"/>
                  </a:lnTo>
                  <a:lnTo>
                    <a:pt x="61" y="2181"/>
                  </a:lnTo>
                  <a:lnTo>
                    <a:pt x="72" y="2174"/>
                  </a:lnTo>
                  <a:lnTo>
                    <a:pt x="85" y="2165"/>
                  </a:lnTo>
                  <a:lnTo>
                    <a:pt x="102" y="2153"/>
                  </a:lnTo>
                  <a:lnTo>
                    <a:pt x="122" y="2138"/>
                  </a:lnTo>
                  <a:lnTo>
                    <a:pt x="103" y="2128"/>
                  </a:lnTo>
                  <a:lnTo>
                    <a:pt x="89" y="2112"/>
                  </a:lnTo>
                  <a:lnTo>
                    <a:pt x="77" y="2093"/>
                  </a:lnTo>
                  <a:lnTo>
                    <a:pt x="68" y="2072"/>
                  </a:lnTo>
                  <a:lnTo>
                    <a:pt x="57" y="2051"/>
                  </a:lnTo>
                  <a:lnTo>
                    <a:pt x="43" y="2028"/>
                  </a:lnTo>
                  <a:lnTo>
                    <a:pt x="25" y="2007"/>
                  </a:lnTo>
                  <a:lnTo>
                    <a:pt x="0" y="1987"/>
                  </a:lnTo>
                  <a:close/>
                  <a:moveTo>
                    <a:pt x="2473" y="1976"/>
                  </a:moveTo>
                  <a:lnTo>
                    <a:pt x="2483" y="1983"/>
                  </a:lnTo>
                  <a:lnTo>
                    <a:pt x="2491" y="1992"/>
                  </a:lnTo>
                  <a:lnTo>
                    <a:pt x="2498" y="2003"/>
                  </a:lnTo>
                  <a:lnTo>
                    <a:pt x="2503" y="2015"/>
                  </a:lnTo>
                  <a:lnTo>
                    <a:pt x="2508" y="2028"/>
                  </a:lnTo>
                  <a:lnTo>
                    <a:pt x="2515" y="2041"/>
                  </a:lnTo>
                  <a:lnTo>
                    <a:pt x="2521" y="2054"/>
                  </a:lnTo>
                  <a:lnTo>
                    <a:pt x="2529" y="2067"/>
                  </a:lnTo>
                  <a:lnTo>
                    <a:pt x="2529" y="2078"/>
                  </a:lnTo>
                  <a:lnTo>
                    <a:pt x="2527" y="2088"/>
                  </a:lnTo>
                  <a:lnTo>
                    <a:pt x="2525" y="2098"/>
                  </a:lnTo>
                  <a:lnTo>
                    <a:pt x="2523" y="2106"/>
                  </a:lnTo>
                  <a:lnTo>
                    <a:pt x="2520" y="2115"/>
                  </a:lnTo>
                  <a:lnTo>
                    <a:pt x="2519" y="2124"/>
                  </a:lnTo>
                  <a:lnTo>
                    <a:pt x="2517" y="2134"/>
                  </a:lnTo>
                  <a:lnTo>
                    <a:pt x="2517" y="2146"/>
                  </a:lnTo>
                  <a:lnTo>
                    <a:pt x="2547" y="2196"/>
                  </a:lnTo>
                  <a:lnTo>
                    <a:pt x="2560" y="2184"/>
                  </a:lnTo>
                  <a:lnTo>
                    <a:pt x="2573" y="2171"/>
                  </a:lnTo>
                  <a:lnTo>
                    <a:pt x="2585" y="2157"/>
                  </a:lnTo>
                  <a:lnTo>
                    <a:pt x="2598" y="2144"/>
                  </a:lnTo>
                  <a:lnTo>
                    <a:pt x="2611" y="2131"/>
                  </a:lnTo>
                  <a:lnTo>
                    <a:pt x="2622" y="2118"/>
                  </a:lnTo>
                  <a:lnTo>
                    <a:pt x="2631" y="2107"/>
                  </a:lnTo>
                  <a:lnTo>
                    <a:pt x="2639" y="2099"/>
                  </a:lnTo>
                  <a:lnTo>
                    <a:pt x="2624" y="2079"/>
                  </a:lnTo>
                  <a:lnTo>
                    <a:pt x="2605" y="2060"/>
                  </a:lnTo>
                  <a:lnTo>
                    <a:pt x="2583" y="2041"/>
                  </a:lnTo>
                  <a:lnTo>
                    <a:pt x="2561" y="2024"/>
                  </a:lnTo>
                  <a:lnTo>
                    <a:pt x="2537" y="2008"/>
                  </a:lnTo>
                  <a:lnTo>
                    <a:pt x="2514" y="1994"/>
                  </a:lnTo>
                  <a:lnTo>
                    <a:pt x="2492" y="1983"/>
                  </a:lnTo>
                  <a:lnTo>
                    <a:pt x="2473" y="1976"/>
                  </a:lnTo>
                  <a:close/>
                  <a:moveTo>
                    <a:pt x="1361" y="1068"/>
                  </a:moveTo>
                  <a:lnTo>
                    <a:pt x="1361" y="1017"/>
                  </a:lnTo>
                  <a:lnTo>
                    <a:pt x="1365" y="968"/>
                  </a:lnTo>
                  <a:lnTo>
                    <a:pt x="1373" y="921"/>
                  </a:lnTo>
                  <a:lnTo>
                    <a:pt x="1382" y="875"/>
                  </a:lnTo>
                  <a:lnTo>
                    <a:pt x="1394" y="831"/>
                  </a:lnTo>
                  <a:lnTo>
                    <a:pt x="1407" y="787"/>
                  </a:lnTo>
                  <a:lnTo>
                    <a:pt x="1422" y="746"/>
                  </a:lnTo>
                  <a:lnTo>
                    <a:pt x="1437" y="705"/>
                  </a:lnTo>
                  <a:lnTo>
                    <a:pt x="1451" y="665"/>
                  </a:lnTo>
                  <a:lnTo>
                    <a:pt x="1466" y="626"/>
                  </a:lnTo>
                  <a:lnTo>
                    <a:pt x="1479" y="587"/>
                  </a:lnTo>
                  <a:lnTo>
                    <a:pt x="1490" y="549"/>
                  </a:lnTo>
                  <a:lnTo>
                    <a:pt x="1500" y="511"/>
                  </a:lnTo>
                  <a:lnTo>
                    <a:pt x="1506" y="474"/>
                  </a:lnTo>
                  <a:lnTo>
                    <a:pt x="1510" y="435"/>
                  </a:lnTo>
                  <a:lnTo>
                    <a:pt x="1510" y="398"/>
                  </a:lnTo>
                  <a:lnTo>
                    <a:pt x="1505" y="389"/>
                  </a:lnTo>
                  <a:lnTo>
                    <a:pt x="1501" y="374"/>
                  </a:lnTo>
                  <a:lnTo>
                    <a:pt x="1497" y="354"/>
                  </a:lnTo>
                  <a:lnTo>
                    <a:pt x="1491" y="330"/>
                  </a:lnTo>
                  <a:lnTo>
                    <a:pt x="1485" y="301"/>
                  </a:lnTo>
                  <a:lnTo>
                    <a:pt x="1478" y="271"/>
                  </a:lnTo>
                  <a:lnTo>
                    <a:pt x="1470" y="238"/>
                  </a:lnTo>
                  <a:lnTo>
                    <a:pt x="1461" y="203"/>
                  </a:lnTo>
                  <a:lnTo>
                    <a:pt x="1451" y="170"/>
                  </a:lnTo>
                  <a:lnTo>
                    <a:pt x="1440" y="137"/>
                  </a:lnTo>
                  <a:lnTo>
                    <a:pt x="1428" y="105"/>
                  </a:lnTo>
                  <a:lnTo>
                    <a:pt x="1414" y="76"/>
                  </a:lnTo>
                  <a:lnTo>
                    <a:pt x="1399" y="50"/>
                  </a:lnTo>
                  <a:lnTo>
                    <a:pt x="1383" y="28"/>
                  </a:lnTo>
                  <a:lnTo>
                    <a:pt x="1365" y="11"/>
                  </a:lnTo>
                  <a:lnTo>
                    <a:pt x="1346" y="0"/>
                  </a:lnTo>
                  <a:lnTo>
                    <a:pt x="1266" y="0"/>
                  </a:lnTo>
                  <a:lnTo>
                    <a:pt x="1247" y="13"/>
                  </a:lnTo>
                  <a:lnTo>
                    <a:pt x="1231" y="26"/>
                  </a:lnTo>
                  <a:lnTo>
                    <a:pt x="1217" y="40"/>
                  </a:lnTo>
                  <a:lnTo>
                    <a:pt x="1206" y="54"/>
                  </a:lnTo>
                  <a:lnTo>
                    <a:pt x="1194" y="69"/>
                  </a:lnTo>
                  <a:lnTo>
                    <a:pt x="1184" y="85"/>
                  </a:lnTo>
                  <a:lnTo>
                    <a:pt x="1176" y="103"/>
                  </a:lnTo>
                  <a:lnTo>
                    <a:pt x="1168" y="121"/>
                  </a:lnTo>
                  <a:lnTo>
                    <a:pt x="1162" y="141"/>
                  </a:lnTo>
                  <a:lnTo>
                    <a:pt x="1155" y="163"/>
                  </a:lnTo>
                  <a:lnTo>
                    <a:pt x="1149" y="185"/>
                  </a:lnTo>
                  <a:lnTo>
                    <a:pt x="1143" y="211"/>
                  </a:lnTo>
                  <a:lnTo>
                    <a:pt x="1136" y="238"/>
                  </a:lnTo>
                  <a:lnTo>
                    <a:pt x="1130" y="266"/>
                  </a:lnTo>
                  <a:lnTo>
                    <a:pt x="1122" y="298"/>
                  </a:lnTo>
                  <a:lnTo>
                    <a:pt x="1115" y="332"/>
                  </a:lnTo>
                  <a:lnTo>
                    <a:pt x="1119" y="343"/>
                  </a:lnTo>
                  <a:lnTo>
                    <a:pt x="1125" y="357"/>
                  </a:lnTo>
                  <a:lnTo>
                    <a:pt x="1132" y="373"/>
                  </a:lnTo>
                  <a:lnTo>
                    <a:pt x="1140" y="388"/>
                  </a:lnTo>
                  <a:lnTo>
                    <a:pt x="1148" y="402"/>
                  </a:lnTo>
                  <a:lnTo>
                    <a:pt x="1153" y="414"/>
                  </a:lnTo>
                  <a:lnTo>
                    <a:pt x="1158" y="421"/>
                  </a:lnTo>
                  <a:lnTo>
                    <a:pt x="1160" y="425"/>
                  </a:lnTo>
                  <a:lnTo>
                    <a:pt x="1165" y="434"/>
                  </a:lnTo>
                  <a:lnTo>
                    <a:pt x="1171" y="445"/>
                  </a:lnTo>
                  <a:lnTo>
                    <a:pt x="1177" y="458"/>
                  </a:lnTo>
                  <a:lnTo>
                    <a:pt x="1182" y="471"/>
                  </a:lnTo>
                  <a:lnTo>
                    <a:pt x="1189" y="486"/>
                  </a:lnTo>
                  <a:lnTo>
                    <a:pt x="1194" y="501"/>
                  </a:lnTo>
                  <a:lnTo>
                    <a:pt x="1200" y="516"/>
                  </a:lnTo>
                  <a:lnTo>
                    <a:pt x="1207" y="533"/>
                  </a:lnTo>
                  <a:lnTo>
                    <a:pt x="1212" y="549"/>
                  </a:lnTo>
                  <a:lnTo>
                    <a:pt x="1219" y="566"/>
                  </a:lnTo>
                  <a:lnTo>
                    <a:pt x="1224" y="584"/>
                  </a:lnTo>
                  <a:lnTo>
                    <a:pt x="1230" y="601"/>
                  </a:lnTo>
                  <a:lnTo>
                    <a:pt x="1236" y="618"/>
                  </a:lnTo>
                  <a:lnTo>
                    <a:pt x="1241" y="635"/>
                  </a:lnTo>
                  <a:lnTo>
                    <a:pt x="1247" y="653"/>
                  </a:lnTo>
                  <a:lnTo>
                    <a:pt x="1253" y="670"/>
                  </a:lnTo>
                  <a:lnTo>
                    <a:pt x="1261" y="694"/>
                  </a:lnTo>
                  <a:lnTo>
                    <a:pt x="1270" y="718"/>
                  </a:lnTo>
                  <a:lnTo>
                    <a:pt x="1277" y="741"/>
                  </a:lnTo>
                  <a:lnTo>
                    <a:pt x="1286" y="765"/>
                  </a:lnTo>
                  <a:lnTo>
                    <a:pt x="1293" y="787"/>
                  </a:lnTo>
                  <a:lnTo>
                    <a:pt x="1300" y="811"/>
                  </a:lnTo>
                  <a:lnTo>
                    <a:pt x="1307" y="833"/>
                  </a:lnTo>
                  <a:lnTo>
                    <a:pt x="1314" y="857"/>
                  </a:lnTo>
                  <a:lnTo>
                    <a:pt x="1320" y="880"/>
                  </a:lnTo>
                  <a:lnTo>
                    <a:pt x="1327" y="904"/>
                  </a:lnTo>
                  <a:lnTo>
                    <a:pt x="1333" y="928"/>
                  </a:lnTo>
                  <a:lnTo>
                    <a:pt x="1338" y="954"/>
                  </a:lnTo>
                  <a:lnTo>
                    <a:pt x="1345" y="981"/>
                  </a:lnTo>
                  <a:lnTo>
                    <a:pt x="1350" y="1009"/>
                  </a:lnTo>
                  <a:lnTo>
                    <a:pt x="1356" y="1038"/>
                  </a:lnTo>
                  <a:lnTo>
                    <a:pt x="1361" y="106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61" name="Freeform 33"/>
            <p:cNvSpPr/>
            <p:nvPr/>
          </p:nvSpPr>
          <p:spPr>
            <a:xfrm>
              <a:off x="2363400" y="3247200"/>
              <a:ext cx="38520" cy="7560"/>
            </a:xfrm>
            <a:custGeom>
              <a:avLst/>
              <a:gdLst>
                <a:gd name="textAreaLeft" fmla="*/ 0 w 38520"/>
                <a:gd name="textAreaRight" fmla="*/ 38880 w 38520"/>
                <a:gd name="textAreaTop" fmla="*/ 0 h 7560"/>
                <a:gd name="textAreaBottom" fmla="*/ 7920 h 7560"/>
              </a:gdLst>
              <a:ahLst/>
              <a:rect l="textAreaLeft" t="textAreaTop" r="textAreaRight" b="textAreaBottom"/>
              <a:pathLst>
                <a:path w="505" h="99">
                  <a:moveTo>
                    <a:pt x="364" y="63"/>
                  </a:moveTo>
                  <a:lnTo>
                    <a:pt x="366" y="70"/>
                  </a:lnTo>
                  <a:lnTo>
                    <a:pt x="370" y="76"/>
                  </a:lnTo>
                  <a:lnTo>
                    <a:pt x="378" y="80"/>
                  </a:lnTo>
                  <a:lnTo>
                    <a:pt x="385" y="80"/>
                  </a:lnTo>
                  <a:lnTo>
                    <a:pt x="399" y="87"/>
                  </a:lnTo>
                  <a:lnTo>
                    <a:pt x="413" y="94"/>
                  </a:lnTo>
                  <a:lnTo>
                    <a:pt x="428" y="97"/>
                  </a:lnTo>
                  <a:lnTo>
                    <a:pt x="443" y="99"/>
                  </a:lnTo>
                  <a:lnTo>
                    <a:pt x="458" y="99"/>
                  </a:lnTo>
                  <a:lnTo>
                    <a:pt x="474" y="96"/>
                  </a:lnTo>
                  <a:lnTo>
                    <a:pt x="489" y="91"/>
                  </a:lnTo>
                  <a:lnTo>
                    <a:pt x="505" y="81"/>
                  </a:lnTo>
                  <a:lnTo>
                    <a:pt x="492" y="69"/>
                  </a:lnTo>
                  <a:lnTo>
                    <a:pt x="482" y="62"/>
                  </a:lnTo>
                  <a:lnTo>
                    <a:pt x="473" y="56"/>
                  </a:lnTo>
                  <a:lnTo>
                    <a:pt x="466" y="53"/>
                  </a:lnTo>
                  <a:lnTo>
                    <a:pt x="458" y="52"/>
                  </a:lnTo>
                  <a:lnTo>
                    <a:pt x="451" y="51"/>
                  </a:lnTo>
                  <a:lnTo>
                    <a:pt x="441" y="50"/>
                  </a:lnTo>
                  <a:lnTo>
                    <a:pt x="430" y="48"/>
                  </a:lnTo>
                  <a:lnTo>
                    <a:pt x="416" y="44"/>
                  </a:lnTo>
                  <a:lnTo>
                    <a:pt x="404" y="41"/>
                  </a:lnTo>
                  <a:lnTo>
                    <a:pt x="394" y="41"/>
                  </a:lnTo>
                  <a:lnTo>
                    <a:pt x="384" y="41"/>
                  </a:lnTo>
                  <a:lnTo>
                    <a:pt x="378" y="45"/>
                  </a:lnTo>
                  <a:lnTo>
                    <a:pt x="371" y="49"/>
                  </a:lnTo>
                  <a:lnTo>
                    <a:pt x="367" y="54"/>
                  </a:lnTo>
                  <a:lnTo>
                    <a:pt x="364" y="63"/>
                  </a:lnTo>
                  <a:close/>
                  <a:moveTo>
                    <a:pt x="141" y="28"/>
                  </a:moveTo>
                  <a:lnTo>
                    <a:pt x="138" y="34"/>
                  </a:lnTo>
                  <a:lnTo>
                    <a:pt x="133" y="39"/>
                  </a:lnTo>
                  <a:lnTo>
                    <a:pt x="125" y="41"/>
                  </a:lnTo>
                  <a:lnTo>
                    <a:pt x="117" y="40"/>
                  </a:lnTo>
                  <a:lnTo>
                    <a:pt x="103" y="45"/>
                  </a:lnTo>
                  <a:lnTo>
                    <a:pt x="89" y="48"/>
                  </a:lnTo>
                  <a:lnTo>
                    <a:pt x="74" y="50"/>
                  </a:lnTo>
                  <a:lnTo>
                    <a:pt x="59" y="49"/>
                  </a:lnTo>
                  <a:lnTo>
                    <a:pt x="44" y="46"/>
                  </a:lnTo>
                  <a:lnTo>
                    <a:pt x="29" y="40"/>
                  </a:lnTo>
                  <a:lnTo>
                    <a:pt x="14" y="31"/>
                  </a:lnTo>
                  <a:lnTo>
                    <a:pt x="0" y="19"/>
                  </a:lnTo>
                  <a:lnTo>
                    <a:pt x="15" y="10"/>
                  </a:lnTo>
                  <a:lnTo>
                    <a:pt x="26" y="5"/>
                  </a:lnTo>
                  <a:lnTo>
                    <a:pt x="35" y="2"/>
                  </a:lnTo>
                  <a:lnTo>
                    <a:pt x="43" y="0"/>
                  </a:lnTo>
                  <a:lnTo>
                    <a:pt x="50" y="0"/>
                  </a:lnTo>
                  <a:lnTo>
                    <a:pt x="58" y="1"/>
                  </a:lnTo>
                  <a:lnTo>
                    <a:pt x="66" y="1"/>
                  </a:lnTo>
                  <a:lnTo>
                    <a:pt x="78" y="1"/>
                  </a:lnTo>
                  <a:lnTo>
                    <a:pt x="93" y="0"/>
                  </a:lnTo>
                  <a:lnTo>
                    <a:pt x="105" y="0"/>
                  </a:lnTo>
                  <a:lnTo>
                    <a:pt x="116" y="1"/>
                  </a:lnTo>
                  <a:lnTo>
                    <a:pt x="124" y="3"/>
                  </a:lnTo>
                  <a:lnTo>
                    <a:pt x="131" y="6"/>
                  </a:lnTo>
                  <a:lnTo>
                    <a:pt x="136" y="11"/>
                  </a:lnTo>
                  <a:lnTo>
                    <a:pt x="139" y="19"/>
                  </a:lnTo>
                  <a:lnTo>
                    <a:pt x="141" y="2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362" name="Freeform 34"/>
            <p:cNvSpPr/>
            <p:nvPr/>
          </p:nvSpPr>
          <p:spPr>
            <a:xfrm>
              <a:off x="2351160" y="3264840"/>
              <a:ext cx="48600" cy="46800"/>
            </a:xfrm>
            <a:custGeom>
              <a:avLst/>
              <a:gdLst>
                <a:gd name="textAreaLeft" fmla="*/ 0 w 48600"/>
                <a:gd name="textAreaRight" fmla="*/ 48960 w 48600"/>
                <a:gd name="textAreaTop" fmla="*/ 0 h 46800"/>
                <a:gd name="textAreaBottom" fmla="*/ 47160 h 46800"/>
              </a:gdLst>
              <a:ahLst/>
              <a:rect l="textAreaLeft" t="textAreaTop" r="textAreaRight" b="textAreaBottom"/>
              <a:pathLst>
                <a:path w="635" h="629">
                  <a:moveTo>
                    <a:pt x="433" y="64"/>
                  </a:moveTo>
                  <a:lnTo>
                    <a:pt x="451" y="66"/>
                  </a:lnTo>
                  <a:lnTo>
                    <a:pt x="466" y="65"/>
                  </a:lnTo>
                  <a:lnTo>
                    <a:pt x="477" y="61"/>
                  </a:lnTo>
                  <a:lnTo>
                    <a:pt x="485" y="53"/>
                  </a:lnTo>
                  <a:lnTo>
                    <a:pt x="488" y="44"/>
                  </a:lnTo>
                  <a:lnTo>
                    <a:pt x="490" y="32"/>
                  </a:lnTo>
                  <a:lnTo>
                    <a:pt x="489" y="17"/>
                  </a:lnTo>
                  <a:lnTo>
                    <a:pt x="487" y="0"/>
                  </a:lnTo>
                  <a:lnTo>
                    <a:pt x="493" y="19"/>
                  </a:lnTo>
                  <a:lnTo>
                    <a:pt x="495" y="36"/>
                  </a:lnTo>
                  <a:lnTo>
                    <a:pt x="495" y="50"/>
                  </a:lnTo>
                  <a:lnTo>
                    <a:pt x="492" y="61"/>
                  </a:lnTo>
                  <a:lnTo>
                    <a:pt x="483" y="68"/>
                  </a:lnTo>
                  <a:lnTo>
                    <a:pt x="472" y="72"/>
                  </a:lnTo>
                  <a:lnTo>
                    <a:pt x="455" y="71"/>
                  </a:lnTo>
                  <a:lnTo>
                    <a:pt x="433" y="64"/>
                  </a:lnTo>
                  <a:close/>
                  <a:moveTo>
                    <a:pt x="259" y="167"/>
                  </a:moveTo>
                  <a:lnTo>
                    <a:pt x="266" y="174"/>
                  </a:lnTo>
                  <a:lnTo>
                    <a:pt x="274" y="182"/>
                  </a:lnTo>
                  <a:lnTo>
                    <a:pt x="281" y="189"/>
                  </a:lnTo>
                  <a:lnTo>
                    <a:pt x="289" y="197"/>
                  </a:lnTo>
                  <a:lnTo>
                    <a:pt x="296" y="204"/>
                  </a:lnTo>
                  <a:lnTo>
                    <a:pt x="305" y="211"/>
                  </a:lnTo>
                  <a:lnTo>
                    <a:pt x="313" y="217"/>
                  </a:lnTo>
                  <a:lnTo>
                    <a:pt x="322" y="222"/>
                  </a:lnTo>
                  <a:lnTo>
                    <a:pt x="335" y="223"/>
                  </a:lnTo>
                  <a:lnTo>
                    <a:pt x="346" y="223"/>
                  </a:lnTo>
                  <a:lnTo>
                    <a:pt x="359" y="222"/>
                  </a:lnTo>
                  <a:lnTo>
                    <a:pt x="372" y="221"/>
                  </a:lnTo>
                  <a:lnTo>
                    <a:pt x="387" y="222"/>
                  </a:lnTo>
                  <a:lnTo>
                    <a:pt x="402" y="223"/>
                  </a:lnTo>
                  <a:lnTo>
                    <a:pt x="419" y="228"/>
                  </a:lnTo>
                  <a:lnTo>
                    <a:pt x="438" y="234"/>
                  </a:lnTo>
                  <a:lnTo>
                    <a:pt x="445" y="233"/>
                  </a:lnTo>
                  <a:lnTo>
                    <a:pt x="452" y="230"/>
                  </a:lnTo>
                  <a:lnTo>
                    <a:pt x="461" y="225"/>
                  </a:lnTo>
                  <a:lnTo>
                    <a:pt x="472" y="217"/>
                  </a:lnTo>
                  <a:lnTo>
                    <a:pt x="485" y="208"/>
                  </a:lnTo>
                  <a:lnTo>
                    <a:pt x="501" y="201"/>
                  </a:lnTo>
                  <a:lnTo>
                    <a:pt x="520" y="194"/>
                  </a:lnTo>
                  <a:lnTo>
                    <a:pt x="544" y="188"/>
                  </a:lnTo>
                  <a:lnTo>
                    <a:pt x="509" y="180"/>
                  </a:lnTo>
                  <a:lnTo>
                    <a:pt x="483" y="175"/>
                  </a:lnTo>
                  <a:lnTo>
                    <a:pt x="464" y="175"/>
                  </a:lnTo>
                  <a:lnTo>
                    <a:pt x="449" y="176"/>
                  </a:lnTo>
                  <a:lnTo>
                    <a:pt x="437" y="180"/>
                  </a:lnTo>
                  <a:lnTo>
                    <a:pt x="426" y="183"/>
                  </a:lnTo>
                  <a:lnTo>
                    <a:pt x="413" y="185"/>
                  </a:lnTo>
                  <a:lnTo>
                    <a:pt x="398" y="185"/>
                  </a:lnTo>
                  <a:lnTo>
                    <a:pt x="382" y="183"/>
                  </a:lnTo>
                  <a:lnTo>
                    <a:pt x="370" y="180"/>
                  </a:lnTo>
                  <a:lnTo>
                    <a:pt x="360" y="176"/>
                  </a:lnTo>
                  <a:lnTo>
                    <a:pt x="350" y="173"/>
                  </a:lnTo>
                  <a:lnTo>
                    <a:pt x="336" y="170"/>
                  </a:lnTo>
                  <a:lnTo>
                    <a:pt x="318" y="168"/>
                  </a:lnTo>
                  <a:lnTo>
                    <a:pt x="293" y="167"/>
                  </a:lnTo>
                  <a:lnTo>
                    <a:pt x="259" y="167"/>
                  </a:lnTo>
                  <a:close/>
                  <a:moveTo>
                    <a:pt x="0" y="57"/>
                  </a:moveTo>
                  <a:lnTo>
                    <a:pt x="4" y="60"/>
                  </a:lnTo>
                  <a:lnTo>
                    <a:pt x="8" y="64"/>
                  </a:lnTo>
                  <a:lnTo>
                    <a:pt x="12" y="68"/>
                  </a:lnTo>
                  <a:lnTo>
                    <a:pt x="18" y="73"/>
                  </a:lnTo>
                  <a:lnTo>
                    <a:pt x="22" y="77"/>
                  </a:lnTo>
                  <a:lnTo>
                    <a:pt x="26" y="81"/>
                  </a:lnTo>
                  <a:lnTo>
                    <a:pt x="32" y="85"/>
                  </a:lnTo>
                  <a:lnTo>
                    <a:pt x="36" y="90"/>
                  </a:lnTo>
                  <a:lnTo>
                    <a:pt x="38" y="109"/>
                  </a:lnTo>
                  <a:lnTo>
                    <a:pt x="40" y="128"/>
                  </a:lnTo>
                  <a:lnTo>
                    <a:pt x="42" y="148"/>
                  </a:lnTo>
                  <a:lnTo>
                    <a:pt x="46" y="167"/>
                  </a:lnTo>
                  <a:lnTo>
                    <a:pt x="51" y="186"/>
                  </a:lnTo>
                  <a:lnTo>
                    <a:pt x="56" y="206"/>
                  </a:lnTo>
                  <a:lnTo>
                    <a:pt x="63" y="226"/>
                  </a:lnTo>
                  <a:lnTo>
                    <a:pt x="70" y="245"/>
                  </a:lnTo>
                  <a:lnTo>
                    <a:pt x="80" y="263"/>
                  </a:lnTo>
                  <a:lnTo>
                    <a:pt x="92" y="282"/>
                  </a:lnTo>
                  <a:lnTo>
                    <a:pt x="105" y="300"/>
                  </a:lnTo>
                  <a:lnTo>
                    <a:pt x="120" y="318"/>
                  </a:lnTo>
                  <a:lnTo>
                    <a:pt x="137" y="335"/>
                  </a:lnTo>
                  <a:lnTo>
                    <a:pt x="156" y="351"/>
                  </a:lnTo>
                  <a:lnTo>
                    <a:pt x="178" y="367"/>
                  </a:lnTo>
                  <a:lnTo>
                    <a:pt x="203" y="382"/>
                  </a:lnTo>
                  <a:lnTo>
                    <a:pt x="212" y="384"/>
                  </a:lnTo>
                  <a:lnTo>
                    <a:pt x="221" y="388"/>
                  </a:lnTo>
                  <a:lnTo>
                    <a:pt x="232" y="395"/>
                  </a:lnTo>
                  <a:lnTo>
                    <a:pt x="244" y="403"/>
                  </a:lnTo>
                  <a:lnTo>
                    <a:pt x="257" y="412"/>
                  </a:lnTo>
                  <a:lnTo>
                    <a:pt x="270" y="421"/>
                  </a:lnTo>
                  <a:lnTo>
                    <a:pt x="287" y="430"/>
                  </a:lnTo>
                  <a:lnTo>
                    <a:pt x="304" y="438"/>
                  </a:lnTo>
                  <a:lnTo>
                    <a:pt x="323" y="446"/>
                  </a:lnTo>
                  <a:lnTo>
                    <a:pt x="344" y="452"/>
                  </a:lnTo>
                  <a:lnTo>
                    <a:pt x="367" y="456"/>
                  </a:lnTo>
                  <a:lnTo>
                    <a:pt x="391" y="457"/>
                  </a:lnTo>
                  <a:lnTo>
                    <a:pt x="419" y="454"/>
                  </a:lnTo>
                  <a:lnTo>
                    <a:pt x="448" y="449"/>
                  </a:lnTo>
                  <a:lnTo>
                    <a:pt x="480" y="440"/>
                  </a:lnTo>
                  <a:lnTo>
                    <a:pt x="514" y="426"/>
                  </a:lnTo>
                  <a:lnTo>
                    <a:pt x="529" y="414"/>
                  </a:lnTo>
                  <a:lnTo>
                    <a:pt x="546" y="402"/>
                  </a:lnTo>
                  <a:lnTo>
                    <a:pt x="561" y="390"/>
                  </a:lnTo>
                  <a:lnTo>
                    <a:pt x="577" y="380"/>
                  </a:lnTo>
                  <a:lnTo>
                    <a:pt x="592" y="368"/>
                  </a:lnTo>
                  <a:lnTo>
                    <a:pt x="607" y="356"/>
                  </a:lnTo>
                  <a:lnTo>
                    <a:pt x="622" y="344"/>
                  </a:lnTo>
                  <a:lnTo>
                    <a:pt x="635" y="330"/>
                  </a:lnTo>
                  <a:lnTo>
                    <a:pt x="623" y="355"/>
                  </a:lnTo>
                  <a:lnTo>
                    <a:pt x="611" y="379"/>
                  </a:lnTo>
                  <a:lnTo>
                    <a:pt x="602" y="400"/>
                  </a:lnTo>
                  <a:lnTo>
                    <a:pt x="594" y="419"/>
                  </a:lnTo>
                  <a:lnTo>
                    <a:pt x="586" y="436"/>
                  </a:lnTo>
                  <a:lnTo>
                    <a:pt x="579" y="451"/>
                  </a:lnTo>
                  <a:lnTo>
                    <a:pt x="572" y="464"/>
                  </a:lnTo>
                  <a:lnTo>
                    <a:pt x="566" y="474"/>
                  </a:lnTo>
                  <a:lnTo>
                    <a:pt x="554" y="490"/>
                  </a:lnTo>
                  <a:lnTo>
                    <a:pt x="542" y="505"/>
                  </a:lnTo>
                  <a:lnTo>
                    <a:pt x="532" y="519"/>
                  </a:lnTo>
                  <a:lnTo>
                    <a:pt x="521" y="533"/>
                  </a:lnTo>
                  <a:lnTo>
                    <a:pt x="509" y="544"/>
                  </a:lnTo>
                  <a:lnTo>
                    <a:pt x="500" y="557"/>
                  </a:lnTo>
                  <a:lnTo>
                    <a:pt x="489" y="568"/>
                  </a:lnTo>
                  <a:lnTo>
                    <a:pt x="478" y="578"/>
                  </a:lnTo>
                  <a:lnTo>
                    <a:pt x="467" y="587"/>
                  </a:lnTo>
                  <a:lnTo>
                    <a:pt x="458" y="596"/>
                  </a:lnTo>
                  <a:lnTo>
                    <a:pt x="447" y="603"/>
                  </a:lnTo>
                  <a:lnTo>
                    <a:pt x="436" y="610"/>
                  </a:lnTo>
                  <a:lnTo>
                    <a:pt x="426" y="616"/>
                  </a:lnTo>
                  <a:lnTo>
                    <a:pt x="414" y="620"/>
                  </a:lnTo>
                  <a:lnTo>
                    <a:pt x="403" y="623"/>
                  </a:lnTo>
                  <a:lnTo>
                    <a:pt x="391" y="627"/>
                  </a:lnTo>
                  <a:lnTo>
                    <a:pt x="383" y="627"/>
                  </a:lnTo>
                  <a:lnTo>
                    <a:pt x="374" y="628"/>
                  </a:lnTo>
                  <a:lnTo>
                    <a:pt x="366" y="628"/>
                  </a:lnTo>
                  <a:lnTo>
                    <a:pt x="358" y="628"/>
                  </a:lnTo>
                  <a:lnTo>
                    <a:pt x="350" y="629"/>
                  </a:lnTo>
                  <a:lnTo>
                    <a:pt x="341" y="629"/>
                  </a:lnTo>
                  <a:lnTo>
                    <a:pt x="333" y="629"/>
                  </a:lnTo>
                  <a:lnTo>
                    <a:pt x="324" y="629"/>
                  </a:lnTo>
                  <a:lnTo>
                    <a:pt x="281" y="604"/>
                  </a:lnTo>
                  <a:lnTo>
                    <a:pt x="243" y="582"/>
                  </a:lnTo>
                  <a:lnTo>
                    <a:pt x="209" y="559"/>
                  </a:lnTo>
                  <a:lnTo>
                    <a:pt x="181" y="538"/>
                  </a:lnTo>
                  <a:lnTo>
                    <a:pt x="156" y="518"/>
                  </a:lnTo>
                  <a:lnTo>
                    <a:pt x="135" y="497"/>
                  </a:lnTo>
                  <a:lnTo>
                    <a:pt x="116" y="477"/>
                  </a:lnTo>
                  <a:lnTo>
                    <a:pt x="101" y="458"/>
                  </a:lnTo>
                  <a:lnTo>
                    <a:pt x="87" y="437"/>
                  </a:lnTo>
                  <a:lnTo>
                    <a:pt x="76" y="417"/>
                  </a:lnTo>
                  <a:lnTo>
                    <a:pt x="66" y="397"/>
                  </a:lnTo>
                  <a:lnTo>
                    <a:pt x="56" y="375"/>
                  </a:lnTo>
                  <a:lnTo>
                    <a:pt x="47" y="354"/>
                  </a:lnTo>
                  <a:lnTo>
                    <a:pt x="38" y="331"/>
                  </a:lnTo>
                  <a:lnTo>
                    <a:pt x="29" y="308"/>
                  </a:lnTo>
                  <a:lnTo>
                    <a:pt x="18" y="283"/>
                  </a:lnTo>
                  <a:lnTo>
                    <a:pt x="19" y="262"/>
                  </a:lnTo>
                  <a:lnTo>
                    <a:pt x="21" y="241"/>
                  </a:lnTo>
                  <a:lnTo>
                    <a:pt x="22" y="221"/>
                  </a:lnTo>
                  <a:lnTo>
                    <a:pt x="23" y="201"/>
                  </a:lnTo>
                  <a:lnTo>
                    <a:pt x="24" y="182"/>
                  </a:lnTo>
                  <a:lnTo>
                    <a:pt x="26" y="162"/>
                  </a:lnTo>
                  <a:lnTo>
                    <a:pt x="27" y="141"/>
                  </a:lnTo>
                  <a:lnTo>
                    <a:pt x="30" y="120"/>
                  </a:lnTo>
                  <a:lnTo>
                    <a:pt x="27" y="112"/>
                  </a:lnTo>
                  <a:lnTo>
                    <a:pt x="24" y="104"/>
                  </a:lnTo>
                  <a:lnTo>
                    <a:pt x="21" y="96"/>
                  </a:lnTo>
                  <a:lnTo>
                    <a:pt x="18" y="89"/>
                  </a:lnTo>
                  <a:lnTo>
                    <a:pt x="14" y="81"/>
                  </a:lnTo>
                  <a:lnTo>
                    <a:pt x="9" y="73"/>
                  </a:lnTo>
                  <a:lnTo>
                    <a:pt x="5" y="65"/>
                  </a:lnTo>
                  <a:lnTo>
                    <a:pt x="0" y="57"/>
                  </a:lnTo>
                  <a:close/>
                </a:path>
              </a:pathLst>
            </a:custGeom>
            <a:solidFill>
              <a:srgbClr val="864d2a"/>
            </a:solidFill>
            <a:ln w="0">
              <a:noFill/>
            </a:ln>
          </p:spPr>
          <p:style>
            <a:lnRef idx="0"/>
            <a:fillRef idx="0"/>
            <a:effectRef idx="0"/>
            <a:fontRef idx="minor"/>
          </p:style>
          <p:txBody>
            <a:bodyPr lIns="90000" rIns="90000" tIns="360" bIns="360" anchor="t">
              <a:noAutofit/>
            </a:bodyPr>
            <a:p>
              <a:endParaRPr b="0" lang="en-US" sz="2400" spc="-1" strike="noStrike">
                <a:solidFill>
                  <a:srgbClr val="ccecff"/>
                </a:solidFill>
                <a:latin typeface="Times New Roman"/>
              </a:endParaRPr>
            </a:p>
          </p:txBody>
        </p:sp>
        <p:sp>
          <p:nvSpPr>
            <p:cNvPr id="363" name="Freeform 35"/>
            <p:cNvSpPr/>
            <p:nvPr/>
          </p:nvSpPr>
          <p:spPr>
            <a:xfrm>
              <a:off x="2340360" y="3200760"/>
              <a:ext cx="173520" cy="688680"/>
            </a:xfrm>
            <a:custGeom>
              <a:avLst/>
              <a:gdLst>
                <a:gd name="textAreaLeft" fmla="*/ 0 w 173520"/>
                <a:gd name="textAreaRight" fmla="*/ 173880 w 173520"/>
                <a:gd name="textAreaTop" fmla="*/ 0 h 688680"/>
                <a:gd name="textAreaBottom" fmla="*/ 688680 h 688680"/>
              </a:gdLst>
              <a:ahLst/>
              <a:rect l="textAreaLeft" t="textAreaTop" r="textAreaRight" b="textAreaBottom"/>
              <a:pathLst>
                <a:path w="2274" h="9220">
                  <a:moveTo>
                    <a:pt x="235" y="1760"/>
                  </a:moveTo>
                  <a:lnTo>
                    <a:pt x="237" y="1764"/>
                  </a:lnTo>
                  <a:lnTo>
                    <a:pt x="240" y="1769"/>
                  </a:lnTo>
                  <a:lnTo>
                    <a:pt x="244" y="1776"/>
                  </a:lnTo>
                  <a:lnTo>
                    <a:pt x="248" y="1782"/>
                  </a:lnTo>
                  <a:lnTo>
                    <a:pt x="252" y="1790"/>
                  </a:lnTo>
                  <a:lnTo>
                    <a:pt x="256" y="1798"/>
                  </a:lnTo>
                  <a:lnTo>
                    <a:pt x="261" y="1806"/>
                  </a:lnTo>
                  <a:lnTo>
                    <a:pt x="266" y="1814"/>
                  </a:lnTo>
                  <a:lnTo>
                    <a:pt x="275" y="1827"/>
                  </a:lnTo>
                  <a:lnTo>
                    <a:pt x="286" y="1842"/>
                  </a:lnTo>
                  <a:lnTo>
                    <a:pt x="297" y="1860"/>
                  </a:lnTo>
                  <a:lnTo>
                    <a:pt x="307" y="1879"/>
                  </a:lnTo>
                  <a:lnTo>
                    <a:pt x="318" y="1901"/>
                  </a:lnTo>
                  <a:lnTo>
                    <a:pt x="330" y="1923"/>
                  </a:lnTo>
                  <a:lnTo>
                    <a:pt x="341" y="1946"/>
                  </a:lnTo>
                  <a:lnTo>
                    <a:pt x="351" y="1970"/>
                  </a:lnTo>
                  <a:lnTo>
                    <a:pt x="362" y="1994"/>
                  </a:lnTo>
                  <a:lnTo>
                    <a:pt x="372" y="2019"/>
                  </a:lnTo>
                  <a:lnTo>
                    <a:pt x="381" y="2042"/>
                  </a:lnTo>
                  <a:lnTo>
                    <a:pt x="391" y="2065"/>
                  </a:lnTo>
                  <a:lnTo>
                    <a:pt x="398" y="2087"/>
                  </a:lnTo>
                  <a:lnTo>
                    <a:pt x="406" y="2107"/>
                  </a:lnTo>
                  <a:lnTo>
                    <a:pt x="412" y="2125"/>
                  </a:lnTo>
                  <a:lnTo>
                    <a:pt x="418" y="2142"/>
                  </a:lnTo>
                  <a:lnTo>
                    <a:pt x="503" y="2427"/>
                  </a:lnTo>
                  <a:lnTo>
                    <a:pt x="510" y="2441"/>
                  </a:lnTo>
                  <a:lnTo>
                    <a:pt x="516" y="2456"/>
                  </a:lnTo>
                  <a:lnTo>
                    <a:pt x="522" y="2472"/>
                  </a:lnTo>
                  <a:lnTo>
                    <a:pt x="528" y="2490"/>
                  </a:lnTo>
                  <a:lnTo>
                    <a:pt x="533" y="2509"/>
                  </a:lnTo>
                  <a:lnTo>
                    <a:pt x="539" y="2530"/>
                  </a:lnTo>
                  <a:lnTo>
                    <a:pt x="544" y="2551"/>
                  </a:lnTo>
                  <a:lnTo>
                    <a:pt x="549" y="2575"/>
                  </a:lnTo>
                  <a:lnTo>
                    <a:pt x="554" y="2598"/>
                  </a:lnTo>
                  <a:lnTo>
                    <a:pt x="559" y="2623"/>
                  </a:lnTo>
                  <a:lnTo>
                    <a:pt x="563" y="2649"/>
                  </a:lnTo>
                  <a:lnTo>
                    <a:pt x="568" y="2674"/>
                  </a:lnTo>
                  <a:lnTo>
                    <a:pt x="572" y="2702"/>
                  </a:lnTo>
                  <a:lnTo>
                    <a:pt x="576" y="2729"/>
                  </a:lnTo>
                  <a:lnTo>
                    <a:pt x="580" y="2757"/>
                  </a:lnTo>
                  <a:lnTo>
                    <a:pt x="585" y="2785"/>
                  </a:lnTo>
                  <a:lnTo>
                    <a:pt x="588" y="2813"/>
                  </a:lnTo>
                  <a:lnTo>
                    <a:pt x="592" y="2842"/>
                  </a:lnTo>
                  <a:lnTo>
                    <a:pt x="595" y="2871"/>
                  </a:lnTo>
                  <a:lnTo>
                    <a:pt x="600" y="2900"/>
                  </a:lnTo>
                  <a:lnTo>
                    <a:pt x="603" y="2929"/>
                  </a:lnTo>
                  <a:lnTo>
                    <a:pt x="607" y="2958"/>
                  </a:lnTo>
                  <a:lnTo>
                    <a:pt x="610" y="2987"/>
                  </a:lnTo>
                  <a:lnTo>
                    <a:pt x="614" y="3014"/>
                  </a:lnTo>
                  <a:lnTo>
                    <a:pt x="617" y="3042"/>
                  </a:lnTo>
                  <a:lnTo>
                    <a:pt x="621" y="3069"/>
                  </a:lnTo>
                  <a:lnTo>
                    <a:pt x="624" y="3096"/>
                  </a:lnTo>
                  <a:lnTo>
                    <a:pt x="628" y="3121"/>
                  </a:lnTo>
                  <a:lnTo>
                    <a:pt x="631" y="3146"/>
                  </a:lnTo>
                  <a:lnTo>
                    <a:pt x="634" y="3171"/>
                  </a:lnTo>
                  <a:lnTo>
                    <a:pt x="638" y="3193"/>
                  </a:lnTo>
                  <a:lnTo>
                    <a:pt x="641" y="3215"/>
                  </a:lnTo>
                  <a:lnTo>
                    <a:pt x="644" y="3228"/>
                  </a:lnTo>
                  <a:lnTo>
                    <a:pt x="645" y="3242"/>
                  </a:lnTo>
                  <a:lnTo>
                    <a:pt x="647" y="3255"/>
                  </a:lnTo>
                  <a:lnTo>
                    <a:pt x="647" y="3268"/>
                  </a:lnTo>
                  <a:lnTo>
                    <a:pt x="648" y="3281"/>
                  </a:lnTo>
                  <a:lnTo>
                    <a:pt x="648" y="3295"/>
                  </a:lnTo>
                  <a:lnTo>
                    <a:pt x="649" y="3308"/>
                  </a:lnTo>
                  <a:lnTo>
                    <a:pt x="648" y="3321"/>
                  </a:lnTo>
                  <a:lnTo>
                    <a:pt x="648" y="3336"/>
                  </a:lnTo>
                  <a:lnTo>
                    <a:pt x="648" y="3351"/>
                  </a:lnTo>
                  <a:lnTo>
                    <a:pt x="647" y="3366"/>
                  </a:lnTo>
                  <a:lnTo>
                    <a:pt x="647" y="3382"/>
                  </a:lnTo>
                  <a:lnTo>
                    <a:pt x="646" y="3399"/>
                  </a:lnTo>
                  <a:lnTo>
                    <a:pt x="646" y="3417"/>
                  </a:lnTo>
                  <a:lnTo>
                    <a:pt x="645" y="3435"/>
                  </a:lnTo>
                  <a:lnTo>
                    <a:pt x="644" y="3454"/>
                  </a:lnTo>
                  <a:lnTo>
                    <a:pt x="644" y="3475"/>
                  </a:lnTo>
                  <a:lnTo>
                    <a:pt x="643" y="3497"/>
                  </a:lnTo>
                  <a:lnTo>
                    <a:pt x="643" y="3519"/>
                  </a:lnTo>
                  <a:lnTo>
                    <a:pt x="643" y="3544"/>
                  </a:lnTo>
                  <a:lnTo>
                    <a:pt x="643" y="3569"/>
                  </a:lnTo>
                  <a:lnTo>
                    <a:pt x="643" y="3596"/>
                  </a:lnTo>
                  <a:lnTo>
                    <a:pt x="643" y="3625"/>
                  </a:lnTo>
                  <a:lnTo>
                    <a:pt x="644" y="3656"/>
                  </a:lnTo>
                  <a:lnTo>
                    <a:pt x="645" y="3688"/>
                  </a:lnTo>
                  <a:lnTo>
                    <a:pt x="646" y="3721"/>
                  </a:lnTo>
                  <a:lnTo>
                    <a:pt x="647" y="3758"/>
                  </a:lnTo>
                  <a:lnTo>
                    <a:pt x="649" y="3795"/>
                  </a:lnTo>
                  <a:lnTo>
                    <a:pt x="652" y="3836"/>
                  </a:lnTo>
                  <a:lnTo>
                    <a:pt x="654" y="3878"/>
                  </a:lnTo>
                  <a:lnTo>
                    <a:pt x="657" y="3921"/>
                  </a:lnTo>
                  <a:lnTo>
                    <a:pt x="662" y="3968"/>
                  </a:lnTo>
                  <a:lnTo>
                    <a:pt x="662" y="3987"/>
                  </a:lnTo>
                  <a:lnTo>
                    <a:pt x="660" y="4007"/>
                  </a:lnTo>
                  <a:lnTo>
                    <a:pt x="659" y="4026"/>
                  </a:lnTo>
                  <a:lnTo>
                    <a:pt x="656" y="4047"/>
                  </a:lnTo>
                  <a:lnTo>
                    <a:pt x="653" y="4065"/>
                  </a:lnTo>
                  <a:lnTo>
                    <a:pt x="652" y="4083"/>
                  </a:lnTo>
                  <a:lnTo>
                    <a:pt x="650" y="4098"/>
                  </a:lnTo>
                  <a:lnTo>
                    <a:pt x="650" y="4112"/>
                  </a:lnTo>
                  <a:lnTo>
                    <a:pt x="646" y="4136"/>
                  </a:lnTo>
                  <a:lnTo>
                    <a:pt x="643" y="4162"/>
                  </a:lnTo>
                  <a:lnTo>
                    <a:pt x="640" y="4190"/>
                  </a:lnTo>
                  <a:lnTo>
                    <a:pt x="639" y="4218"/>
                  </a:lnTo>
                  <a:lnTo>
                    <a:pt x="639" y="4247"/>
                  </a:lnTo>
                  <a:lnTo>
                    <a:pt x="639" y="4277"/>
                  </a:lnTo>
                  <a:lnTo>
                    <a:pt x="639" y="4306"/>
                  </a:lnTo>
                  <a:lnTo>
                    <a:pt x="640" y="4336"/>
                  </a:lnTo>
                  <a:lnTo>
                    <a:pt x="641" y="4367"/>
                  </a:lnTo>
                  <a:lnTo>
                    <a:pt x="643" y="4397"/>
                  </a:lnTo>
                  <a:lnTo>
                    <a:pt x="645" y="4427"/>
                  </a:lnTo>
                  <a:lnTo>
                    <a:pt x="646" y="4456"/>
                  </a:lnTo>
                  <a:lnTo>
                    <a:pt x="647" y="4484"/>
                  </a:lnTo>
                  <a:lnTo>
                    <a:pt x="648" y="4512"/>
                  </a:lnTo>
                  <a:lnTo>
                    <a:pt x="649" y="4537"/>
                  </a:lnTo>
                  <a:lnTo>
                    <a:pt x="649" y="4562"/>
                  </a:lnTo>
                  <a:lnTo>
                    <a:pt x="675" y="4923"/>
                  </a:lnTo>
                  <a:lnTo>
                    <a:pt x="650" y="4955"/>
                  </a:lnTo>
                  <a:lnTo>
                    <a:pt x="651" y="4972"/>
                  </a:lnTo>
                  <a:lnTo>
                    <a:pt x="652" y="4987"/>
                  </a:lnTo>
                  <a:lnTo>
                    <a:pt x="655" y="5001"/>
                  </a:lnTo>
                  <a:lnTo>
                    <a:pt x="659" y="5011"/>
                  </a:lnTo>
                  <a:lnTo>
                    <a:pt x="664" y="5021"/>
                  </a:lnTo>
                  <a:lnTo>
                    <a:pt x="670" y="5028"/>
                  </a:lnTo>
                  <a:lnTo>
                    <a:pt x="678" y="5033"/>
                  </a:lnTo>
                  <a:lnTo>
                    <a:pt x="686" y="5034"/>
                  </a:lnTo>
                  <a:lnTo>
                    <a:pt x="686" y="5022"/>
                  </a:lnTo>
                  <a:lnTo>
                    <a:pt x="689" y="5010"/>
                  </a:lnTo>
                  <a:lnTo>
                    <a:pt x="690" y="4999"/>
                  </a:lnTo>
                  <a:lnTo>
                    <a:pt x="693" y="4988"/>
                  </a:lnTo>
                  <a:lnTo>
                    <a:pt x="695" y="4978"/>
                  </a:lnTo>
                  <a:lnTo>
                    <a:pt x="696" y="4969"/>
                  </a:lnTo>
                  <a:lnTo>
                    <a:pt x="698" y="4961"/>
                  </a:lnTo>
                  <a:lnTo>
                    <a:pt x="698" y="4955"/>
                  </a:lnTo>
                  <a:lnTo>
                    <a:pt x="675" y="4923"/>
                  </a:lnTo>
                  <a:lnTo>
                    <a:pt x="675" y="4894"/>
                  </a:lnTo>
                  <a:lnTo>
                    <a:pt x="674" y="4866"/>
                  </a:lnTo>
                  <a:lnTo>
                    <a:pt x="674" y="4837"/>
                  </a:lnTo>
                  <a:lnTo>
                    <a:pt x="672" y="4808"/>
                  </a:lnTo>
                  <a:lnTo>
                    <a:pt x="671" y="4779"/>
                  </a:lnTo>
                  <a:lnTo>
                    <a:pt x="670" y="4750"/>
                  </a:lnTo>
                  <a:lnTo>
                    <a:pt x="669" y="4720"/>
                  </a:lnTo>
                  <a:lnTo>
                    <a:pt x="668" y="4692"/>
                  </a:lnTo>
                  <a:lnTo>
                    <a:pt x="666" y="4663"/>
                  </a:lnTo>
                  <a:lnTo>
                    <a:pt x="665" y="4633"/>
                  </a:lnTo>
                  <a:lnTo>
                    <a:pt x="663" y="4604"/>
                  </a:lnTo>
                  <a:lnTo>
                    <a:pt x="662" y="4574"/>
                  </a:lnTo>
                  <a:lnTo>
                    <a:pt x="660" y="4544"/>
                  </a:lnTo>
                  <a:lnTo>
                    <a:pt x="659" y="4515"/>
                  </a:lnTo>
                  <a:lnTo>
                    <a:pt x="657" y="4485"/>
                  </a:lnTo>
                  <a:lnTo>
                    <a:pt x="656" y="4456"/>
                  </a:lnTo>
                  <a:lnTo>
                    <a:pt x="655" y="4426"/>
                  </a:lnTo>
                  <a:lnTo>
                    <a:pt x="654" y="4397"/>
                  </a:lnTo>
                  <a:lnTo>
                    <a:pt x="653" y="4367"/>
                  </a:lnTo>
                  <a:lnTo>
                    <a:pt x="653" y="4339"/>
                  </a:lnTo>
                  <a:lnTo>
                    <a:pt x="653" y="4310"/>
                  </a:lnTo>
                  <a:lnTo>
                    <a:pt x="653" y="4281"/>
                  </a:lnTo>
                  <a:lnTo>
                    <a:pt x="653" y="4252"/>
                  </a:lnTo>
                  <a:lnTo>
                    <a:pt x="654" y="4223"/>
                  </a:lnTo>
                  <a:lnTo>
                    <a:pt x="655" y="4194"/>
                  </a:lnTo>
                  <a:lnTo>
                    <a:pt x="656" y="4166"/>
                  </a:lnTo>
                  <a:lnTo>
                    <a:pt x="659" y="4139"/>
                  </a:lnTo>
                  <a:lnTo>
                    <a:pt x="661" y="4110"/>
                  </a:lnTo>
                  <a:lnTo>
                    <a:pt x="663" y="4082"/>
                  </a:lnTo>
                  <a:lnTo>
                    <a:pt x="666" y="4055"/>
                  </a:lnTo>
                  <a:lnTo>
                    <a:pt x="670" y="4027"/>
                  </a:lnTo>
                  <a:lnTo>
                    <a:pt x="675" y="4001"/>
                  </a:lnTo>
                  <a:lnTo>
                    <a:pt x="677" y="3988"/>
                  </a:lnTo>
                  <a:lnTo>
                    <a:pt x="678" y="3974"/>
                  </a:lnTo>
                  <a:lnTo>
                    <a:pt x="678" y="3959"/>
                  </a:lnTo>
                  <a:lnTo>
                    <a:pt x="678" y="3943"/>
                  </a:lnTo>
                  <a:lnTo>
                    <a:pt x="677" y="3927"/>
                  </a:lnTo>
                  <a:lnTo>
                    <a:pt x="676" y="3910"/>
                  </a:lnTo>
                  <a:lnTo>
                    <a:pt x="675" y="3893"/>
                  </a:lnTo>
                  <a:lnTo>
                    <a:pt x="672" y="3875"/>
                  </a:lnTo>
                  <a:lnTo>
                    <a:pt x="670" y="3858"/>
                  </a:lnTo>
                  <a:lnTo>
                    <a:pt x="669" y="3842"/>
                  </a:lnTo>
                  <a:lnTo>
                    <a:pt x="667" y="3826"/>
                  </a:lnTo>
                  <a:lnTo>
                    <a:pt x="665" y="3810"/>
                  </a:lnTo>
                  <a:lnTo>
                    <a:pt x="664" y="3796"/>
                  </a:lnTo>
                  <a:lnTo>
                    <a:pt x="663" y="3783"/>
                  </a:lnTo>
                  <a:lnTo>
                    <a:pt x="662" y="3772"/>
                  </a:lnTo>
                  <a:lnTo>
                    <a:pt x="662" y="3762"/>
                  </a:lnTo>
                  <a:lnTo>
                    <a:pt x="657" y="3729"/>
                  </a:lnTo>
                  <a:lnTo>
                    <a:pt x="655" y="3695"/>
                  </a:lnTo>
                  <a:lnTo>
                    <a:pt x="654" y="3660"/>
                  </a:lnTo>
                  <a:lnTo>
                    <a:pt x="653" y="3624"/>
                  </a:lnTo>
                  <a:lnTo>
                    <a:pt x="653" y="3589"/>
                  </a:lnTo>
                  <a:lnTo>
                    <a:pt x="654" y="3552"/>
                  </a:lnTo>
                  <a:lnTo>
                    <a:pt x="655" y="3515"/>
                  </a:lnTo>
                  <a:lnTo>
                    <a:pt x="656" y="3479"/>
                  </a:lnTo>
                  <a:lnTo>
                    <a:pt x="657" y="3442"/>
                  </a:lnTo>
                  <a:lnTo>
                    <a:pt x="659" y="3405"/>
                  </a:lnTo>
                  <a:lnTo>
                    <a:pt x="660" y="3368"/>
                  </a:lnTo>
                  <a:lnTo>
                    <a:pt x="660" y="3333"/>
                  </a:lnTo>
                  <a:lnTo>
                    <a:pt x="659" y="3297"/>
                  </a:lnTo>
                  <a:lnTo>
                    <a:pt x="657" y="3262"/>
                  </a:lnTo>
                  <a:lnTo>
                    <a:pt x="655" y="3228"/>
                  </a:lnTo>
                  <a:lnTo>
                    <a:pt x="651" y="3195"/>
                  </a:lnTo>
                  <a:lnTo>
                    <a:pt x="647" y="3167"/>
                  </a:lnTo>
                  <a:lnTo>
                    <a:pt x="643" y="3138"/>
                  </a:lnTo>
                  <a:lnTo>
                    <a:pt x="639" y="3111"/>
                  </a:lnTo>
                  <a:lnTo>
                    <a:pt x="635" y="3083"/>
                  </a:lnTo>
                  <a:lnTo>
                    <a:pt x="631" y="3054"/>
                  </a:lnTo>
                  <a:lnTo>
                    <a:pt x="628" y="3026"/>
                  </a:lnTo>
                  <a:lnTo>
                    <a:pt x="623" y="2998"/>
                  </a:lnTo>
                  <a:lnTo>
                    <a:pt x="620" y="2970"/>
                  </a:lnTo>
                  <a:lnTo>
                    <a:pt x="617" y="2943"/>
                  </a:lnTo>
                  <a:lnTo>
                    <a:pt x="613" y="2915"/>
                  </a:lnTo>
                  <a:lnTo>
                    <a:pt x="609" y="2887"/>
                  </a:lnTo>
                  <a:lnTo>
                    <a:pt x="605" y="2859"/>
                  </a:lnTo>
                  <a:lnTo>
                    <a:pt x="602" y="2831"/>
                  </a:lnTo>
                  <a:lnTo>
                    <a:pt x="598" y="2805"/>
                  </a:lnTo>
                  <a:lnTo>
                    <a:pt x="593" y="2777"/>
                  </a:lnTo>
                  <a:lnTo>
                    <a:pt x="590" y="2750"/>
                  </a:lnTo>
                  <a:lnTo>
                    <a:pt x="586" y="2722"/>
                  </a:lnTo>
                  <a:lnTo>
                    <a:pt x="581" y="2696"/>
                  </a:lnTo>
                  <a:lnTo>
                    <a:pt x="577" y="2669"/>
                  </a:lnTo>
                  <a:lnTo>
                    <a:pt x="573" y="2642"/>
                  </a:lnTo>
                  <a:lnTo>
                    <a:pt x="568" y="2615"/>
                  </a:lnTo>
                  <a:lnTo>
                    <a:pt x="563" y="2589"/>
                  </a:lnTo>
                  <a:lnTo>
                    <a:pt x="558" y="2563"/>
                  </a:lnTo>
                  <a:lnTo>
                    <a:pt x="553" y="2536"/>
                  </a:lnTo>
                  <a:lnTo>
                    <a:pt x="547" y="2511"/>
                  </a:lnTo>
                  <a:lnTo>
                    <a:pt x="542" y="2484"/>
                  </a:lnTo>
                  <a:lnTo>
                    <a:pt x="537" y="2458"/>
                  </a:lnTo>
                  <a:lnTo>
                    <a:pt x="530" y="2432"/>
                  </a:lnTo>
                  <a:lnTo>
                    <a:pt x="524" y="2407"/>
                  </a:lnTo>
                  <a:lnTo>
                    <a:pt x="517" y="2382"/>
                  </a:lnTo>
                  <a:lnTo>
                    <a:pt x="511" y="2357"/>
                  </a:lnTo>
                  <a:lnTo>
                    <a:pt x="503" y="2332"/>
                  </a:lnTo>
                  <a:lnTo>
                    <a:pt x="372" y="1973"/>
                  </a:lnTo>
                  <a:lnTo>
                    <a:pt x="366" y="1960"/>
                  </a:lnTo>
                  <a:lnTo>
                    <a:pt x="360" y="1946"/>
                  </a:lnTo>
                  <a:lnTo>
                    <a:pt x="352" y="1931"/>
                  </a:lnTo>
                  <a:lnTo>
                    <a:pt x="344" y="1915"/>
                  </a:lnTo>
                  <a:lnTo>
                    <a:pt x="334" y="1898"/>
                  </a:lnTo>
                  <a:lnTo>
                    <a:pt x="325" y="1882"/>
                  </a:lnTo>
                  <a:lnTo>
                    <a:pt x="315" y="1864"/>
                  </a:lnTo>
                  <a:lnTo>
                    <a:pt x="304" y="1848"/>
                  </a:lnTo>
                  <a:lnTo>
                    <a:pt x="294" y="1832"/>
                  </a:lnTo>
                  <a:lnTo>
                    <a:pt x="283" y="1817"/>
                  </a:lnTo>
                  <a:lnTo>
                    <a:pt x="273" y="1804"/>
                  </a:lnTo>
                  <a:lnTo>
                    <a:pt x="264" y="1791"/>
                  </a:lnTo>
                  <a:lnTo>
                    <a:pt x="255" y="1780"/>
                  </a:lnTo>
                  <a:lnTo>
                    <a:pt x="246" y="1771"/>
                  </a:lnTo>
                  <a:lnTo>
                    <a:pt x="240" y="1764"/>
                  </a:lnTo>
                  <a:lnTo>
                    <a:pt x="235" y="1760"/>
                  </a:lnTo>
                  <a:close/>
                  <a:moveTo>
                    <a:pt x="1017" y="795"/>
                  </a:moveTo>
                  <a:lnTo>
                    <a:pt x="1026" y="794"/>
                  </a:lnTo>
                  <a:lnTo>
                    <a:pt x="1033" y="792"/>
                  </a:lnTo>
                  <a:lnTo>
                    <a:pt x="1040" y="788"/>
                  </a:lnTo>
                  <a:lnTo>
                    <a:pt x="1046" y="785"/>
                  </a:lnTo>
                  <a:lnTo>
                    <a:pt x="1051" y="780"/>
                  </a:lnTo>
                  <a:lnTo>
                    <a:pt x="1057" y="775"/>
                  </a:lnTo>
                  <a:lnTo>
                    <a:pt x="1061" y="769"/>
                  </a:lnTo>
                  <a:lnTo>
                    <a:pt x="1065" y="763"/>
                  </a:lnTo>
                  <a:lnTo>
                    <a:pt x="1065" y="751"/>
                  </a:lnTo>
                  <a:lnTo>
                    <a:pt x="1063" y="741"/>
                  </a:lnTo>
                  <a:lnTo>
                    <a:pt x="1062" y="732"/>
                  </a:lnTo>
                  <a:lnTo>
                    <a:pt x="1060" y="722"/>
                  </a:lnTo>
                  <a:lnTo>
                    <a:pt x="1057" y="714"/>
                  </a:lnTo>
                  <a:lnTo>
                    <a:pt x="1056" y="704"/>
                  </a:lnTo>
                  <a:lnTo>
                    <a:pt x="1054" y="694"/>
                  </a:lnTo>
                  <a:lnTo>
                    <a:pt x="1054" y="683"/>
                  </a:lnTo>
                  <a:lnTo>
                    <a:pt x="1063" y="667"/>
                  </a:lnTo>
                  <a:lnTo>
                    <a:pt x="1071" y="646"/>
                  </a:lnTo>
                  <a:lnTo>
                    <a:pt x="1075" y="625"/>
                  </a:lnTo>
                  <a:lnTo>
                    <a:pt x="1077" y="601"/>
                  </a:lnTo>
                  <a:lnTo>
                    <a:pt x="1077" y="576"/>
                  </a:lnTo>
                  <a:lnTo>
                    <a:pt x="1075" y="548"/>
                  </a:lnTo>
                  <a:lnTo>
                    <a:pt x="1072" y="520"/>
                  </a:lnTo>
                  <a:lnTo>
                    <a:pt x="1067" y="492"/>
                  </a:lnTo>
                  <a:lnTo>
                    <a:pt x="1062" y="463"/>
                  </a:lnTo>
                  <a:lnTo>
                    <a:pt x="1056" y="435"/>
                  </a:lnTo>
                  <a:lnTo>
                    <a:pt x="1049" y="409"/>
                  </a:lnTo>
                  <a:lnTo>
                    <a:pt x="1042" y="383"/>
                  </a:lnTo>
                  <a:lnTo>
                    <a:pt x="1035" y="358"/>
                  </a:lnTo>
                  <a:lnTo>
                    <a:pt x="1028" y="337"/>
                  </a:lnTo>
                  <a:lnTo>
                    <a:pt x="1023" y="318"/>
                  </a:lnTo>
                  <a:lnTo>
                    <a:pt x="1017" y="301"/>
                  </a:lnTo>
                  <a:lnTo>
                    <a:pt x="1009" y="278"/>
                  </a:lnTo>
                  <a:lnTo>
                    <a:pt x="998" y="257"/>
                  </a:lnTo>
                  <a:lnTo>
                    <a:pt x="985" y="237"/>
                  </a:lnTo>
                  <a:lnTo>
                    <a:pt x="970" y="218"/>
                  </a:lnTo>
                  <a:lnTo>
                    <a:pt x="954" y="201"/>
                  </a:lnTo>
                  <a:lnTo>
                    <a:pt x="936" y="185"/>
                  </a:lnTo>
                  <a:lnTo>
                    <a:pt x="918" y="170"/>
                  </a:lnTo>
                  <a:lnTo>
                    <a:pt x="898" y="156"/>
                  </a:lnTo>
                  <a:lnTo>
                    <a:pt x="879" y="142"/>
                  </a:lnTo>
                  <a:lnTo>
                    <a:pt x="859" y="128"/>
                  </a:lnTo>
                  <a:lnTo>
                    <a:pt x="841" y="116"/>
                  </a:lnTo>
                  <a:lnTo>
                    <a:pt x="821" y="103"/>
                  </a:lnTo>
                  <a:lnTo>
                    <a:pt x="804" y="89"/>
                  </a:lnTo>
                  <a:lnTo>
                    <a:pt x="788" y="76"/>
                  </a:lnTo>
                  <a:lnTo>
                    <a:pt x="773" y="62"/>
                  </a:lnTo>
                  <a:lnTo>
                    <a:pt x="760" y="47"/>
                  </a:lnTo>
                  <a:lnTo>
                    <a:pt x="736" y="46"/>
                  </a:lnTo>
                  <a:lnTo>
                    <a:pt x="711" y="43"/>
                  </a:lnTo>
                  <a:lnTo>
                    <a:pt x="686" y="39"/>
                  </a:lnTo>
                  <a:lnTo>
                    <a:pt x="662" y="33"/>
                  </a:lnTo>
                  <a:lnTo>
                    <a:pt x="637" y="28"/>
                  </a:lnTo>
                  <a:lnTo>
                    <a:pt x="614" y="22"/>
                  </a:lnTo>
                  <a:lnTo>
                    <a:pt x="589" y="15"/>
                  </a:lnTo>
                  <a:lnTo>
                    <a:pt x="565" y="10"/>
                  </a:lnTo>
                  <a:lnTo>
                    <a:pt x="541" y="4"/>
                  </a:lnTo>
                  <a:lnTo>
                    <a:pt x="517" y="1"/>
                  </a:lnTo>
                  <a:lnTo>
                    <a:pt x="493" y="0"/>
                  </a:lnTo>
                  <a:lnTo>
                    <a:pt x="469" y="0"/>
                  </a:lnTo>
                  <a:lnTo>
                    <a:pt x="444" y="3"/>
                  </a:lnTo>
                  <a:lnTo>
                    <a:pt x="420" y="9"/>
                  </a:lnTo>
                  <a:lnTo>
                    <a:pt x="394" y="18"/>
                  </a:lnTo>
                  <a:lnTo>
                    <a:pt x="370" y="31"/>
                  </a:lnTo>
                  <a:lnTo>
                    <a:pt x="346" y="43"/>
                  </a:lnTo>
                  <a:lnTo>
                    <a:pt x="322" y="53"/>
                  </a:lnTo>
                  <a:lnTo>
                    <a:pt x="299" y="62"/>
                  </a:lnTo>
                  <a:lnTo>
                    <a:pt x="275" y="73"/>
                  </a:lnTo>
                  <a:lnTo>
                    <a:pt x="253" y="82"/>
                  </a:lnTo>
                  <a:lnTo>
                    <a:pt x="230" y="93"/>
                  </a:lnTo>
                  <a:lnTo>
                    <a:pt x="209" y="104"/>
                  </a:lnTo>
                  <a:lnTo>
                    <a:pt x="189" y="117"/>
                  </a:lnTo>
                  <a:lnTo>
                    <a:pt x="169" y="132"/>
                  </a:lnTo>
                  <a:lnTo>
                    <a:pt x="152" y="148"/>
                  </a:lnTo>
                  <a:lnTo>
                    <a:pt x="137" y="167"/>
                  </a:lnTo>
                  <a:lnTo>
                    <a:pt x="124" y="188"/>
                  </a:lnTo>
                  <a:lnTo>
                    <a:pt x="114" y="213"/>
                  </a:lnTo>
                  <a:lnTo>
                    <a:pt x="105" y="242"/>
                  </a:lnTo>
                  <a:lnTo>
                    <a:pt x="101" y="274"/>
                  </a:lnTo>
                  <a:lnTo>
                    <a:pt x="99" y="310"/>
                  </a:lnTo>
                  <a:lnTo>
                    <a:pt x="86" y="315"/>
                  </a:lnTo>
                  <a:lnTo>
                    <a:pt x="76" y="326"/>
                  </a:lnTo>
                  <a:lnTo>
                    <a:pt x="68" y="343"/>
                  </a:lnTo>
                  <a:lnTo>
                    <a:pt x="60" y="363"/>
                  </a:lnTo>
                  <a:lnTo>
                    <a:pt x="52" y="383"/>
                  </a:lnTo>
                  <a:lnTo>
                    <a:pt x="43" y="402"/>
                  </a:lnTo>
                  <a:lnTo>
                    <a:pt x="33" y="417"/>
                  </a:lnTo>
                  <a:lnTo>
                    <a:pt x="22" y="427"/>
                  </a:lnTo>
                  <a:lnTo>
                    <a:pt x="21" y="438"/>
                  </a:lnTo>
                  <a:lnTo>
                    <a:pt x="18" y="449"/>
                  </a:lnTo>
                  <a:lnTo>
                    <a:pt x="16" y="463"/>
                  </a:lnTo>
                  <a:lnTo>
                    <a:pt x="14" y="477"/>
                  </a:lnTo>
                  <a:lnTo>
                    <a:pt x="11" y="492"/>
                  </a:lnTo>
                  <a:lnTo>
                    <a:pt x="8" y="508"/>
                  </a:lnTo>
                  <a:lnTo>
                    <a:pt x="6" y="523"/>
                  </a:lnTo>
                  <a:lnTo>
                    <a:pt x="3" y="539"/>
                  </a:lnTo>
                  <a:lnTo>
                    <a:pt x="1" y="556"/>
                  </a:lnTo>
                  <a:lnTo>
                    <a:pt x="0" y="571"/>
                  </a:lnTo>
                  <a:lnTo>
                    <a:pt x="0" y="587"/>
                  </a:lnTo>
                  <a:lnTo>
                    <a:pt x="0" y="602"/>
                  </a:lnTo>
                  <a:lnTo>
                    <a:pt x="2" y="616"/>
                  </a:lnTo>
                  <a:lnTo>
                    <a:pt x="5" y="630"/>
                  </a:lnTo>
                  <a:lnTo>
                    <a:pt x="9" y="642"/>
                  </a:lnTo>
                  <a:lnTo>
                    <a:pt x="15" y="653"/>
                  </a:lnTo>
                  <a:lnTo>
                    <a:pt x="32" y="634"/>
                  </a:lnTo>
                  <a:lnTo>
                    <a:pt x="50" y="623"/>
                  </a:lnTo>
                  <a:lnTo>
                    <a:pt x="67" y="619"/>
                  </a:lnTo>
                  <a:lnTo>
                    <a:pt x="83" y="622"/>
                  </a:lnTo>
                  <a:lnTo>
                    <a:pt x="99" y="629"/>
                  </a:lnTo>
                  <a:lnTo>
                    <a:pt x="115" y="643"/>
                  </a:lnTo>
                  <a:lnTo>
                    <a:pt x="132" y="661"/>
                  </a:lnTo>
                  <a:lnTo>
                    <a:pt x="150" y="683"/>
                  </a:lnTo>
                  <a:lnTo>
                    <a:pt x="150" y="779"/>
                  </a:lnTo>
                  <a:lnTo>
                    <a:pt x="154" y="778"/>
                  </a:lnTo>
                  <a:lnTo>
                    <a:pt x="159" y="777"/>
                  </a:lnTo>
                  <a:lnTo>
                    <a:pt x="164" y="773"/>
                  </a:lnTo>
                  <a:lnTo>
                    <a:pt x="168" y="770"/>
                  </a:lnTo>
                  <a:lnTo>
                    <a:pt x="173" y="768"/>
                  </a:lnTo>
                  <a:lnTo>
                    <a:pt x="178" y="765"/>
                  </a:lnTo>
                  <a:lnTo>
                    <a:pt x="182" y="764"/>
                  </a:lnTo>
                  <a:lnTo>
                    <a:pt x="187" y="763"/>
                  </a:lnTo>
                  <a:lnTo>
                    <a:pt x="187" y="745"/>
                  </a:lnTo>
                  <a:lnTo>
                    <a:pt x="188" y="727"/>
                  </a:lnTo>
                  <a:lnTo>
                    <a:pt x="189" y="709"/>
                  </a:lnTo>
                  <a:lnTo>
                    <a:pt x="191" y="691"/>
                  </a:lnTo>
                  <a:lnTo>
                    <a:pt x="192" y="674"/>
                  </a:lnTo>
                  <a:lnTo>
                    <a:pt x="194" y="656"/>
                  </a:lnTo>
                  <a:lnTo>
                    <a:pt x="196" y="638"/>
                  </a:lnTo>
                  <a:lnTo>
                    <a:pt x="199" y="619"/>
                  </a:lnTo>
                  <a:lnTo>
                    <a:pt x="202" y="602"/>
                  </a:lnTo>
                  <a:lnTo>
                    <a:pt x="204" y="584"/>
                  </a:lnTo>
                  <a:lnTo>
                    <a:pt x="206" y="566"/>
                  </a:lnTo>
                  <a:lnTo>
                    <a:pt x="207" y="549"/>
                  </a:lnTo>
                  <a:lnTo>
                    <a:pt x="209" y="531"/>
                  </a:lnTo>
                  <a:lnTo>
                    <a:pt x="210" y="512"/>
                  </a:lnTo>
                  <a:lnTo>
                    <a:pt x="211" y="495"/>
                  </a:lnTo>
                  <a:lnTo>
                    <a:pt x="211" y="477"/>
                  </a:lnTo>
                  <a:lnTo>
                    <a:pt x="216" y="470"/>
                  </a:lnTo>
                  <a:lnTo>
                    <a:pt x="222" y="460"/>
                  </a:lnTo>
                  <a:lnTo>
                    <a:pt x="228" y="448"/>
                  </a:lnTo>
                  <a:lnTo>
                    <a:pt x="234" y="437"/>
                  </a:lnTo>
                  <a:lnTo>
                    <a:pt x="239" y="425"/>
                  </a:lnTo>
                  <a:lnTo>
                    <a:pt x="243" y="414"/>
                  </a:lnTo>
                  <a:lnTo>
                    <a:pt x="246" y="404"/>
                  </a:lnTo>
                  <a:lnTo>
                    <a:pt x="248" y="397"/>
                  </a:lnTo>
                  <a:lnTo>
                    <a:pt x="278" y="409"/>
                  </a:lnTo>
                  <a:lnTo>
                    <a:pt x="304" y="415"/>
                  </a:lnTo>
                  <a:lnTo>
                    <a:pt x="329" y="417"/>
                  </a:lnTo>
                  <a:lnTo>
                    <a:pt x="352" y="415"/>
                  </a:lnTo>
                  <a:lnTo>
                    <a:pt x="375" y="410"/>
                  </a:lnTo>
                  <a:lnTo>
                    <a:pt x="395" y="402"/>
                  </a:lnTo>
                  <a:lnTo>
                    <a:pt x="415" y="393"/>
                  </a:lnTo>
                  <a:lnTo>
                    <a:pt x="433" y="381"/>
                  </a:lnTo>
                  <a:lnTo>
                    <a:pt x="451" y="367"/>
                  </a:lnTo>
                  <a:lnTo>
                    <a:pt x="468" y="354"/>
                  </a:lnTo>
                  <a:lnTo>
                    <a:pt x="485" y="340"/>
                  </a:lnTo>
                  <a:lnTo>
                    <a:pt x="502" y="326"/>
                  </a:lnTo>
                  <a:lnTo>
                    <a:pt x="520" y="314"/>
                  </a:lnTo>
                  <a:lnTo>
                    <a:pt x="539" y="302"/>
                  </a:lnTo>
                  <a:lnTo>
                    <a:pt x="557" y="292"/>
                  </a:lnTo>
                  <a:lnTo>
                    <a:pt x="577" y="285"/>
                  </a:lnTo>
                  <a:lnTo>
                    <a:pt x="596" y="280"/>
                  </a:lnTo>
                  <a:lnTo>
                    <a:pt x="616" y="277"/>
                  </a:lnTo>
                  <a:lnTo>
                    <a:pt x="636" y="276"/>
                  </a:lnTo>
                  <a:lnTo>
                    <a:pt x="656" y="276"/>
                  </a:lnTo>
                  <a:lnTo>
                    <a:pt x="678" y="278"/>
                  </a:lnTo>
                  <a:lnTo>
                    <a:pt x="700" y="281"/>
                  </a:lnTo>
                  <a:lnTo>
                    <a:pt x="722" y="285"/>
                  </a:lnTo>
                  <a:lnTo>
                    <a:pt x="744" y="289"/>
                  </a:lnTo>
                  <a:lnTo>
                    <a:pt x="767" y="293"/>
                  </a:lnTo>
                  <a:lnTo>
                    <a:pt x="789" y="299"/>
                  </a:lnTo>
                  <a:lnTo>
                    <a:pt x="812" y="303"/>
                  </a:lnTo>
                  <a:lnTo>
                    <a:pt x="833" y="307"/>
                  </a:lnTo>
                  <a:lnTo>
                    <a:pt x="856" y="311"/>
                  </a:lnTo>
                  <a:lnTo>
                    <a:pt x="877" y="315"/>
                  </a:lnTo>
                  <a:lnTo>
                    <a:pt x="898" y="316"/>
                  </a:lnTo>
                  <a:lnTo>
                    <a:pt x="920" y="317"/>
                  </a:lnTo>
                  <a:lnTo>
                    <a:pt x="921" y="329"/>
                  </a:lnTo>
                  <a:lnTo>
                    <a:pt x="924" y="340"/>
                  </a:lnTo>
                  <a:lnTo>
                    <a:pt x="927" y="353"/>
                  </a:lnTo>
                  <a:lnTo>
                    <a:pt x="933" y="365"/>
                  </a:lnTo>
                  <a:lnTo>
                    <a:pt x="937" y="377"/>
                  </a:lnTo>
                  <a:lnTo>
                    <a:pt x="940" y="388"/>
                  </a:lnTo>
                  <a:lnTo>
                    <a:pt x="943" y="401"/>
                  </a:lnTo>
                  <a:lnTo>
                    <a:pt x="944" y="413"/>
                  </a:lnTo>
                  <a:lnTo>
                    <a:pt x="947" y="439"/>
                  </a:lnTo>
                  <a:lnTo>
                    <a:pt x="948" y="466"/>
                  </a:lnTo>
                  <a:lnTo>
                    <a:pt x="949" y="496"/>
                  </a:lnTo>
                  <a:lnTo>
                    <a:pt x="949" y="527"/>
                  </a:lnTo>
                  <a:lnTo>
                    <a:pt x="949" y="561"/>
                  </a:lnTo>
                  <a:lnTo>
                    <a:pt x="948" y="595"/>
                  </a:lnTo>
                  <a:lnTo>
                    <a:pt x="947" y="629"/>
                  </a:lnTo>
                  <a:lnTo>
                    <a:pt x="944" y="663"/>
                  </a:lnTo>
                  <a:lnTo>
                    <a:pt x="941" y="698"/>
                  </a:lnTo>
                  <a:lnTo>
                    <a:pt x="938" y="731"/>
                  </a:lnTo>
                  <a:lnTo>
                    <a:pt x="935" y="763"/>
                  </a:lnTo>
                  <a:lnTo>
                    <a:pt x="930" y="793"/>
                  </a:lnTo>
                  <a:lnTo>
                    <a:pt x="925" y="822"/>
                  </a:lnTo>
                  <a:lnTo>
                    <a:pt x="920" y="847"/>
                  </a:lnTo>
                  <a:lnTo>
                    <a:pt x="913" y="871"/>
                  </a:lnTo>
                  <a:lnTo>
                    <a:pt x="907" y="890"/>
                  </a:lnTo>
                  <a:lnTo>
                    <a:pt x="917" y="877"/>
                  </a:lnTo>
                  <a:lnTo>
                    <a:pt x="925" y="864"/>
                  </a:lnTo>
                  <a:lnTo>
                    <a:pt x="935" y="850"/>
                  </a:lnTo>
                  <a:lnTo>
                    <a:pt x="945" y="838"/>
                  </a:lnTo>
                  <a:lnTo>
                    <a:pt x="956" y="827"/>
                  </a:lnTo>
                  <a:lnTo>
                    <a:pt x="967" y="817"/>
                  </a:lnTo>
                  <a:lnTo>
                    <a:pt x="980" y="812"/>
                  </a:lnTo>
                  <a:lnTo>
                    <a:pt x="993" y="810"/>
                  </a:lnTo>
                  <a:lnTo>
                    <a:pt x="995" y="803"/>
                  </a:lnTo>
                  <a:lnTo>
                    <a:pt x="1002" y="802"/>
                  </a:lnTo>
                  <a:lnTo>
                    <a:pt x="1010" y="801"/>
                  </a:lnTo>
                  <a:lnTo>
                    <a:pt x="1017" y="795"/>
                  </a:lnTo>
                  <a:close/>
                  <a:moveTo>
                    <a:pt x="600" y="583"/>
                  </a:moveTo>
                  <a:lnTo>
                    <a:pt x="605" y="594"/>
                  </a:lnTo>
                  <a:lnTo>
                    <a:pt x="614" y="602"/>
                  </a:lnTo>
                  <a:lnTo>
                    <a:pt x="624" y="608"/>
                  </a:lnTo>
                  <a:lnTo>
                    <a:pt x="636" y="610"/>
                  </a:lnTo>
                  <a:lnTo>
                    <a:pt x="648" y="611"/>
                  </a:lnTo>
                  <a:lnTo>
                    <a:pt x="660" y="609"/>
                  </a:lnTo>
                  <a:lnTo>
                    <a:pt x="670" y="606"/>
                  </a:lnTo>
                  <a:lnTo>
                    <a:pt x="679" y="600"/>
                  </a:lnTo>
                  <a:lnTo>
                    <a:pt x="695" y="613"/>
                  </a:lnTo>
                  <a:lnTo>
                    <a:pt x="711" y="622"/>
                  </a:lnTo>
                  <a:lnTo>
                    <a:pt x="728" y="625"/>
                  </a:lnTo>
                  <a:lnTo>
                    <a:pt x="745" y="626"/>
                  </a:lnTo>
                  <a:lnTo>
                    <a:pt x="761" y="626"/>
                  </a:lnTo>
                  <a:lnTo>
                    <a:pt x="777" y="625"/>
                  </a:lnTo>
                  <a:lnTo>
                    <a:pt x="793" y="626"/>
                  </a:lnTo>
                  <a:lnTo>
                    <a:pt x="808" y="628"/>
                  </a:lnTo>
                  <a:lnTo>
                    <a:pt x="815" y="631"/>
                  </a:lnTo>
                  <a:lnTo>
                    <a:pt x="821" y="635"/>
                  </a:lnTo>
                  <a:lnTo>
                    <a:pt x="829" y="641"/>
                  </a:lnTo>
                  <a:lnTo>
                    <a:pt x="837" y="647"/>
                  </a:lnTo>
                  <a:lnTo>
                    <a:pt x="846" y="654"/>
                  </a:lnTo>
                  <a:lnTo>
                    <a:pt x="854" y="660"/>
                  </a:lnTo>
                  <a:lnTo>
                    <a:pt x="863" y="665"/>
                  </a:lnTo>
                  <a:lnTo>
                    <a:pt x="872" y="669"/>
                  </a:lnTo>
                  <a:lnTo>
                    <a:pt x="865" y="662"/>
                  </a:lnTo>
                  <a:lnTo>
                    <a:pt x="853" y="653"/>
                  </a:lnTo>
                  <a:lnTo>
                    <a:pt x="838" y="643"/>
                  </a:lnTo>
                  <a:lnTo>
                    <a:pt x="824" y="633"/>
                  </a:lnTo>
                  <a:lnTo>
                    <a:pt x="812" y="626"/>
                  </a:lnTo>
                  <a:lnTo>
                    <a:pt x="802" y="619"/>
                  </a:lnTo>
                  <a:lnTo>
                    <a:pt x="800" y="616"/>
                  </a:lnTo>
                  <a:lnTo>
                    <a:pt x="806" y="617"/>
                  </a:lnTo>
                  <a:lnTo>
                    <a:pt x="789" y="611"/>
                  </a:lnTo>
                  <a:lnTo>
                    <a:pt x="772" y="604"/>
                  </a:lnTo>
                  <a:lnTo>
                    <a:pt x="755" y="597"/>
                  </a:lnTo>
                  <a:lnTo>
                    <a:pt x="738" y="589"/>
                  </a:lnTo>
                  <a:lnTo>
                    <a:pt x="721" y="583"/>
                  </a:lnTo>
                  <a:lnTo>
                    <a:pt x="705" y="579"/>
                  </a:lnTo>
                  <a:lnTo>
                    <a:pt x="689" y="577"/>
                  </a:lnTo>
                  <a:lnTo>
                    <a:pt x="672" y="578"/>
                  </a:lnTo>
                  <a:lnTo>
                    <a:pt x="669" y="578"/>
                  </a:lnTo>
                  <a:lnTo>
                    <a:pt x="662" y="579"/>
                  </a:lnTo>
                  <a:lnTo>
                    <a:pt x="651" y="580"/>
                  </a:lnTo>
                  <a:lnTo>
                    <a:pt x="638" y="581"/>
                  </a:lnTo>
                  <a:lnTo>
                    <a:pt x="626" y="582"/>
                  </a:lnTo>
                  <a:lnTo>
                    <a:pt x="615" y="583"/>
                  </a:lnTo>
                  <a:lnTo>
                    <a:pt x="605" y="583"/>
                  </a:lnTo>
                  <a:lnTo>
                    <a:pt x="600" y="583"/>
                  </a:lnTo>
                  <a:close/>
                  <a:moveTo>
                    <a:pt x="523" y="573"/>
                  </a:moveTo>
                  <a:lnTo>
                    <a:pt x="515" y="584"/>
                  </a:lnTo>
                  <a:lnTo>
                    <a:pt x="507" y="589"/>
                  </a:lnTo>
                  <a:lnTo>
                    <a:pt x="496" y="589"/>
                  </a:lnTo>
                  <a:lnTo>
                    <a:pt x="486" y="586"/>
                  </a:lnTo>
                  <a:lnTo>
                    <a:pt x="477" y="580"/>
                  </a:lnTo>
                  <a:lnTo>
                    <a:pt x="467" y="571"/>
                  </a:lnTo>
                  <a:lnTo>
                    <a:pt x="459" y="562"/>
                  </a:lnTo>
                  <a:lnTo>
                    <a:pt x="453" y="551"/>
                  </a:lnTo>
                  <a:lnTo>
                    <a:pt x="434" y="561"/>
                  </a:lnTo>
                  <a:lnTo>
                    <a:pt x="416" y="566"/>
                  </a:lnTo>
                  <a:lnTo>
                    <a:pt x="397" y="568"/>
                  </a:lnTo>
                  <a:lnTo>
                    <a:pt x="379" y="569"/>
                  </a:lnTo>
                  <a:lnTo>
                    <a:pt x="362" y="568"/>
                  </a:lnTo>
                  <a:lnTo>
                    <a:pt x="346" y="566"/>
                  </a:lnTo>
                  <a:lnTo>
                    <a:pt x="330" y="563"/>
                  </a:lnTo>
                  <a:lnTo>
                    <a:pt x="314" y="561"/>
                  </a:lnTo>
                  <a:lnTo>
                    <a:pt x="307" y="560"/>
                  </a:lnTo>
                  <a:lnTo>
                    <a:pt x="300" y="561"/>
                  </a:lnTo>
                  <a:lnTo>
                    <a:pt x="291" y="562"/>
                  </a:lnTo>
                  <a:lnTo>
                    <a:pt x="282" y="563"/>
                  </a:lnTo>
                  <a:lnTo>
                    <a:pt x="272" y="565"/>
                  </a:lnTo>
                  <a:lnTo>
                    <a:pt x="263" y="566"/>
                  </a:lnTo>
                  <a:lnTo>
                    <a:pt x="253" y="567"/>
                  </a:lnTo>
                  <a:lnTo>
                    <a:pt x="243" y="566"/>
                  </a:lnTo>
                  <a:lnTo>
                    <a:pt x="251" y="562"/>
                  </a:lnTo>
                  <a:lnTo>
                    <a:pt x="261" y="557"/>
                  </a:lnTo>
                  <a:lnTo>
                    <a:pt x="273" y="554"/>
                  </a:lnTo>
                  <a:lnTo>
                    <a:pt x="285" y="551"/>
                  </a:lnTo>
                  <a:lnTo>
                    <a:pt x="298" y="549"/>
                  </a:lnTo>
                  <a:lnTo>
                    <a:pt x="307" y="546"/>
                  </a:lnTo>
                  <a:lnTo>
                    <a:pt x="316" y="542"/>
                  </a:lnTo>
                  <a:lnTo>
                    <a:pt x="320" y="538"/>
                  </a:lnTo>
                  <a:lnTo>
                    <a:pt x="321" y="534"/>
                  </a:lnTo>
                  <a:lnTo>
                    <a:pt x="327" y="530"/>
                  </a:lnTo>
                  <a:lnTo>
                    <a:pt x="335" y="527"/>
                  </a:lnTo>
                  <a:lnTo>
                    <a:pt x="347" y="525"/>
                  </a:lnTo>
                  <a:lnTo>
                    <a:pt x="361" y="524"/>
                  </a:lnTo>
                  <a:lnTo>
                    <a:pt x="377" y="524"/>
                  </a:lnTo>
                  <a:lnTo>
                    <a:pt x="394" y="524"/>
                  </a:lnTo>
                  <a:lnTo>
                    <a:pt x="412" y="526"/>
                  </a:lnTo>
                  <a:lnTo>
                    <a:pt x="431" y="529"/>
                  </a:lnTo>
                  <a:lnTo>
                    <a:pt x="449" y="532"/>
                  </a:lnTo>
                  <a:lnTo>
                    <a:pt x="466" y="536"/>
                  </a:lnTo>
                  <a:lnTo>
                    <a:pt x="482" y="541"/>
                  </a:lnTo>
                  <a:lnTo>
                    <a:pt x="497" y="548"/>
                  </a:lnTo>
                  <a:lnTo>
                    <a:pt x="509" y="555"/>
                  </a:lnTo>
                  <a:lnTo>
                    <a:pt x="517" y="564"/>
                  </a:lnTo>
                  <a:lnTo>
                    <a:pt x="523" y="573"/>
                  </a:lnTo>
                  <a:close/>
                  <a:moveTo>
                    <a:pt x="328" y="667"/>
                  </a:moveTo>
                  <a:lnTo>
                    <a:pt x="324" y="664"/>
                  </a:lnTo>
                  <a:lnTo>
                    <a:pt x="319" y="661"/>
                  </a:lnTo>
                  <a:lnTo>
                    <a:pt x="315" y="659"/>
                  </a:lnTo>
                  <a:lnTo>
                    <a:pt x="311" y="656"/>
                  </a:lnTo>
                  <a:lnTo>
                    <a:pt x="306" y="654"/>
                  </a:lnTo>
                  <a:lnTo>
                    <a:pt x="302" y="652"/>
                  </a:lnTo>
                  <a:lnTo>
                    <a:pt x="298" y="648"/>
                  </a:lnTo>
                  <a:lnTo>
                    <a:pt x="294" y="646"/>
                  </a:lnTo>
                  <a:lnTo>
                    <a:pt x="303" y="633"/>
                  </a:lnTo>
                  <a:lnTo>
                    <a:pt x="314" y="624"/>
                  </a:lnTo>
                  <a:lnTo>
                    <a:pt x="325" y="617"/>
                  </a:lnTo>
                  <a:lnTo>
                    <a:pt x="334" y="613"/>
                  </a:lnTo>
                  <a:lnTo>
                    <a:pt x="344" y="611"/>
                  </a:lnTo>
                  <a:lnTo>
                    <a:pt x="354" y="610"/>
                  </a:lnTo>
                  <a:lnTo>
                    <a:pt x="362" y="610"/>
                  </a:lnTo>
                  <a:lnTo>
                    <a:pt x="370" y="609"/>
                  </a:lnTo>
                  <a:lnTo>
                    <a:pt x="396" y="608"/>
                  </a:lnTo>
                  <a:lnTo>
                    <a:pt x="417" y="613"/>
                  </a:lnTo>
                  <a:lnTo>
                    <a:pt x="432" y="621"/>
                  </a:lnTo>
                  <a:lnTo>
                    <a:pt x="442" y="631"/>
                  </a:lnTo>
                  <a:lnTo>
                    <a:pt x="450" y="644"/>
                  </a:lnTo>
                  <a:lnTo>
                    <a:pt x="456" y="656"/>
                  </a:lnTo>
                  <a:lnTo>
                    <a:pt x="462" y="667"/>
                  </a:lnTo>
                  <a:lnTo>
                    <a:pt x="467" y="674"/>
                  </a:lnTo>
                  <a:lnTo>
                    <a:pt x="459" y="673"/>
                  </a:lnTo>
                  <a:lnTo>
                    <a:pt x="453" y="672"/>
                  </a:lnTo>
                  <a:lnTo>
                    <a:pt x="447" y="671"/>
                  </a:lnTo>
                  <a:lnTo>
                    <a:pt x="439" y="670"/>
                  </a:lnTo>
                  <a:lnTo>
                    <a:pt x="433" y="669"/>
                  </a:lnTo>
                  <a:lnTo>
                    <a:pt x="426" y="668"/>
                  </a:lnTo>
                  <a:lnTo>
                    <a:pt x="421" y="667"/>
                  </a:lnTo>
                  <a:lnTo>
                    <a:pt x="415" y="665"/>
                  </a:lnTo>
                  <a:lnTo>
                    <a:pt x="424" y="665"/>
                  </a:lnTo>
                  <a:lnTo>
                    <a:pt x="434" y="663"/>
                  </a:lnTo>
                  <a:lnTo>
                    <a:pt x="440" y="660"/>
                  </a:lnTo>
                  <a:lnTo>
                    <a:pt x="446" y="657"/>
                  </a:lnTo>
                  <a:lnTo>
                    <a:pt x="443" y="649"/>
                  </a:lnTo>
                  <a:lnTo>
                    <a:pt x="440" y="644"/>
                  </a:lnTo>
                  <a:lnTo>
                    <a:pt x="437" y="639"/>
                  </a:lnTo>
                  <a:lnTo>
                    <a:pt x="433" y="633"/>
                  </a:lnTo>
                  <a:lnTo>
                    <a:pt x="427" y="630"/>
                  </a:lnTo>
                  <a:lnTo>
                    <a:pt x="422" y="627"/>
                  </a:lnTo>
                  <a:lnTo>
                    <a:pt x="415" y="625"/>
                  </a:lnTo>
                  <a:lnTo>
                    <a:pt x="406" y="624"/>
                  </a:lnTo>
                  <a:lnTo>
                    <a:pt x="406" y="630"/>
                  </a:lnTo>
                  <a:lnTo>
                    <a:pt x="405" y="637"/>
                  </a:lnTo>
                  <a:lnTo>
                    <a:pt x="404" y="644"/>
                  </a:lnTo>
                  <a:lnTo>
                    <a:pt x="402" y="650"/>
                  </a:lnTo>
                  <a:lnTo>
                    <a:pt x="397" y="657"/>
                  </a:lnTo>
                  <a:lnTo>
                    <a:pt x="391" y="662"/>
                  </a:lnTo>
                  <a:lnTo>
                    <a:pt x="382" y="667"/>
                  </a:lnTo>
                  <a:lnTo>
                    <a:pt x="371" y="670"/>
                  </a:lnTo>
                  <a:lnTo>
                    <a:pt x="362" y="669"/>
                  </a:lnTo>
                  <a:lnTo>
                    <a:pt x="355" y="665"/>
                  </a:lnTo>
                  <a:lnTo>
                    <a:pt x="349" y="661"/>
                  </a:lnTo>
                  <a:lnTo>
                    <a:pt x="345" y="656"/>
                  </a:lnTo>
                  <a:lnTo>
                    <a:pt x="343" y="649"/>
                  </a:lnTo>
                  <a:lnTo>
                    <a:pt x="341" y="643"/>
                  </a:lnTo>
                  <a:lnTo>
                    <a:pt x="341" y="635"/>
                  </a:lnTo>
                  <a:lnTo>
                    <a:pt x="341" y="628"/>
                  </a:lnTo>
                  <a:lnTo>
                    <a:pt x="335" y="628"/>
                  </a:lnTo>
                  <a:lnTo>
                    <a:pt x="330" y="629"/>
                  </a:lnTo>
                  <a:lnTo>
                    <a:pt x="325" y="630"/>
                  </a:lnTo>
                  <a:lnTo>
                    <a:pt x="319" y="632"/>
                  </a:lnTo>
                  <a:lnTo>
                    <a:pt x="315" y="634"/>
                  </a:lnTo>
                  <a:lnTo>
                    <a:pt x="310" y="637"/>
                  </a:lnTo>
                  <a:lnTo>
                    <a:pt x="305" y="640"/>
                  </a:lnTo>
                  <a:lnTo>
                    <a:pt x="301" y="643"/>
                  </a:lnTo>
                  <a:lnTo>
                    <a:pt x="307" y="649"/>
                  </a:lnTo>
                  <a:lnTo>
                    <a:pt x="314" y="655"/>
                  </a:lnTo>
                  <a:lnTo>
                    <a:pt x="320" y="660"/>
                  </a:lnTo>
                  <a:lnTo>
                    <a:pt x="328" y="667"/>
                  </a:lnTo>
                  <a:close/>
                  <a:moveTo>
                    <a:pt x="770" y="724"/>
                  </a:moveTo>
                  <a:lnTo>
                    <a:pt x="774" y="722"/>
                  </a:lnTo>
                  <a:lnTo>
                    <a:pt x="780" y="720"/>
                  </a:lnTo>
                  <a:lnTo>
                    <a:pt x="784" y="719"/>
                  </a:lnTo>
                  <a:lnTo>
                    <a:pt x="788" y="717"/>
                  </a:lnTo>
                  <a:lnTo>
                    <a:pt x="793" y="715"/>
                  </a:lnTo>
                  <a:lnTo>
                    <a:pt x="798" y="714"/>
                  </a:lnTo>
                  <a:lnTo>
                    <a:pt x="802" y="711"/>
                  </a:lnTo>
                  <a:lnTo>
                    <a:pt x="806" y="709"/>
                  </a:lnTo>
                  <a:lnTo>
                    <a:pt x="799" y="694"/>
                  </a:lnTo>
                  <a:lnTo>
                    <a:pt x="790" y="684"/>
                  </a:lnTo>
                  <a:lnTo>
                    <a:pt x="781" y="676"/>
                  </a:lnTo>
                  <a:lnTo>
                    <a:pt x="771" y="671"/>
                  </a:lnTo>
                  <a:lnTo>
                    <a:pt x="761" y="667"/>
                  </a:lnTo>
                  <a:lnTo>
                    <a:pt x="753" y="664"/>
                  </a:lnTo>
                  <a:lnTo>
                    <a:pt x="744" y="662"/>
                  </a:lnTo>
                  <a:lnTo>
                    <a:pt x="737" y="660"/>
                  </a:lnTo>
                  <a:lnTo>
                    <a:pt x="711" y="654"/>
                  </a:lnTo>
                  <a:lnTo>
                    <a:pt x="690" y="655"/>
                  </a:lnTo>
                  <a:lnTo>
                    <a:pt x="674" y="660"/>
                  </a:lnTo>
                  <a:lnTo>
                    <a:pt x="662" y="669"/>
                  </a:lnTo>
                  <a:lnTo>
                    <a:pt x="652" y="679"/>
                  </a:lnTo>
                  <a:lnTo>
                    <a:pt x="645" y="690"/>
                  </a:lnTo>
                  <a:lnTo>
                    <a:pt x="638" y="700"/>
                  </a:lnTo>
                  <a:lnTo>
                    <a:pt x="632" y="706"/>
                  </a:lnTo>
                  <a:lnTo>
                    <a:pt x="638" y="707"/>
                  </a:lnTo>
                  <a:lnTo>
                    <a:pt x="644" y="706"/>
                  </a:lnTo>
                  <a:lnTo>
                    <a:pt x="648" y="704"/>
                  </a:lnTo>
                  <a:lnTo>
                    <a:pt x="653" y="703"/>
                  </a:lnTo>
                  <a:lnTo>
                    <a:pt x="660" y="704"/>
                  </a:lnTo>
                  <a:lnTo>
                    <a:pt x="668" y="707"/>
                  </a:lnTo>
                  <a:lnTo>
                    <a:pt x="677" y="709"/>
                  </a:lnTo>
                  <a:lnTo>
                    <a:pt x="683" y="708"/>
                  </a:lnTo>
                  <a:lnTo>
                    <a:pt x="672" y="705"/>
                  </a:lnTo>
                  <a:lnTo>
                    <a:pt x="664" y="702"/>
                  </a:lnTo>
                  <a:lnTo>
                    <a:pt x="659" y="696"/>
                  </a:lnTo>
                  <a:lnTo>
                    <a:pt x="654" y="692"/>
                  </a:lnTo>
                  <a:lnTo>
                    <a:pt x="657" y="686"/>
                  </a:lnTo>
                  <a:lnTo>
                    <a:pt x="662" y="680"/>
                  </a:lnTo>
                  <a:lnTo>
                    <a:pt x="665" y="676"/>
                  </a:lnTo>
                  <a:lnTo>
                    <a:pt x="670" y="672"/>
                  </a:lnTo>
                  <a:lnTo>
                    <a:pt x="676" y="670"/>
                  </a:lnTo>
                  <a:lnTo>
                    <a:pt x="682" y="669"/>
                  </a:lnTo>
                  <a:lnTo>
                    <a:pt x="691" y="668"/>
                  </a:lnTo>
                  <a:lnTo>
                    <a:pt x="699" y="669"/>
                  </a:lnTo>
                  <a:lnTo>
                    <a:pt x="698" y="675"/>
                  </a:lnTo>
                  <a:lnTo>
                    <a:pt x="698" y="681"/>
                  </a:lnTo>
                  <a:lnTo>
                    <a:pt x="698" y="688"/>
                  </a:lnTo>
                  <a:lnTo>
                    <a:pt x="699" y="695"/>
                  </a:lnTo>
                  <a:lnTo>
                    <a:pt x="702" y="702"/>
                  </a:lnTo>
                  <a:lnTo>
                    <a:pt x="707" y="708"/>
                  </a:lnTo>
                  <a:lnTo>
                    <a:pt x="715" y="715"/>
                  </a:lnTo>
                  <a:lnTo>
                    <a:pt x="727" y="719"/>
                  </a:lnTo>
                  <a:lnTo>
                    <a:pt x="736" y="719"/>
                  </a:lnTo>
                  <a:lnTo>
                    <a:pt x="743" y="718"/>
                  </a:lnTo>
                  <a:lnTo>
                    <a:pt x="748" y="715"/>
                  </a:lnTo>
                  <a:lnTo>
                    <a:pt x="754" y="710"/>
                  </a:lnTo>
                  <a:lnTo>
                    <a:pt x="757" y="705"/>
                  </a:lnTo>
                  <a:lnTo>
                    <a:pt x="760" y="699"/>
                  </a:lnTo>
                  <a:lnTo>
                    <a:pt x="762" y="691"/>
                  </a:lnTo>
                  <a:lnTo>
                    <a:pt x="763" y="684"/>
                  </a:lnTo>
                  <a:lnTo>
                    <a:pt x="769" y="685"/>
                  </a:lnTo>
                  <a:lnTo>
                    <a:pt x="773" y="687"/>
                  </a:lnTo>
                  <a:lnTo>
                    <a:pt x="778" y="689"/>
                  </a:lnTo>
                  <a:lnTo>
                    <a:pt x="783" y="692"/>
                  </a:lnTo>
                  <a:lnTo>
                    <a:pt x="787" y="695"/>
                  </a:lnTo>
                  <a:lnTo>
                    <a:pt x="791" y="699"/>
                  </a:lnTo>
                  <a:lnTo>
                    <a:pt x="796" y="702"/>
                  </a:lnTo>
                  <a:lnTo>
                    <a:pt x="799" y="706"/>
                  </a:lnTo>
                  <a:lnTo>
                    <a:pt x="791" y="710"/>
                  </a:lnTo>
                  <a:lnTo>
                    <a:pt x="785" y="715"/>
                  </a:lnTo>
                  <a:lnTo>
                    <a:pt x="777" y="719"/>
                  </a:lnTo>
                  <a:lnTo>
                    <a:pt x="770" y="724"/>
                  </a:lnTo>
                  <a:close/>
                  <a:moveTo>
                    <a:pt x="465" y="880"/>
                  </a:moveTo>
                  <a:lnTo>
                    <a:pt x="469" y="874"/>
                  </a:lnTo>
                  <a:lnTo>
                    <a:pt x="472" y="870"/>
                  </a:lnTo>
                  <a:lnTo>
                    <a:pt x="476" y="868"/>
                  </a:lnTo>
                  <a:lnTo>
                    <a:pt x="480" y="868"/>
                  </a:lnTo>
                  <a:lnTo>
                    <a:pt x="483" y="869"/>
                  </a:lnTo>
                  <a:lnTo>
                    <a:pt x="487" y="871"/>
                  </a:lnTo>
                  <a:lnTo>
                    <a:pt x="492" y="873"/>
                  </a:lnTo>
                  <a:lnTo>
                    <a:pt x="497" y="875"/>
                  </a:lnTo>
                  <a:lnTo>
                    <a:pt x="501" y="880"/>
                  </a:lnTo>
                  <a:lnTo>
                    <a:pt x="507" y="879"/>
                  </a:lnTo>
                  <a:lnTo>
                    <a:pt x="512" y="878"/>
                  </a:lnTo>
                  <a:lnTo>
                    <a:pt x="517" y="878"/>
                  </a:lnTo>
                  <a:lnTo>
                    <a:pt x="515" y="890"/>
                  </a:lnTo>
                  <a:lnTo>
                    <a:pt x="508" y="898"/>
                  </a:lnTo>
                  <a:lnTo>
                    <a:pt x="498" y="901"/>
                  </a:lnTo>
                  <a:lnTo>
                    <a:pt x="488" y="900"/>
                  </a:lnTo>
                  <a:lnTo>
                    <a:pt x="478" y="898"/>
                  </a:lnTo>
                  <a:lnTo>
                    <a:pt x="469" y="892"/>
                  </a:lnTo>
                  <a:lnTo>
                    <a:pt x="465" y="887"/>
                  </a:lnTo>
                  <a:lnTo>
                    <a:pt x="465" y="880"/>
                  </a:lnTo>
                  <a:close/>
                  <a:moveTo>
                    <a:pt x="558" y="895"/>
                  </a:moveTo>
                  <a:lnTo>
                    <a:pt x="562" y="892"/>
                  </a:lnTo>
                  <a:lnTo>
                    <a:pt x="567" y="892"/>
                  </a:lnTo>
                  <a:lnTo>
                    <a:pt x="570" y="894"/>
                  </a:lnTo>
                  <a:lnTo>
                    <a:pt x="573" y="896"/>
                  </a:lnTo>
                  <a:lnTo>
                    <a:pt x="577" y="900"/>
                  </a:lnTo>
                  <a:lnTo>
                    <a:pt x="581" y="903"/>
                  </a:lnTo>
                  <a:lnTo>
                    <a:pt x="586" y="904"/>
                  </a:lnTo>
                  <a:lnTo>
                    <a:pt x="592" y="904"/>
                  </a:lnTo>
                  <a:lnTo>
                    <a:pt x="595" y="902"/>
                  </a:lnTo>
                  <a:lnTo>
                    <a:pt x="598" y="899"/>
                  </a:lnTo>
                  <a:lnTo>
                    <a:pt x="600" y="895"/>
                  </a:lnTo>
                  <a:lnTo>
                    <a:pt x="600" y="891"/>
                  </a:lnTo>
                  <a:lnTo>
                    <a:pt x="598" y="887"/>
                  </a:lnTo>
                  <a:lnTo>
                    <a:pt x="593" y="883"/>
                  </a:lnTo>
                  <a:lnTo>
                    <a:pt x="585" y="878"/>
                  </a:lnTo>
                  <a:lnTo>
                    <a:pt x="571" y="873"/>
                  </a:lnTo>
                  <a:lnTo>
                    <a:pt x="565" y="878"/>
                  </a:lnTo>
                  <a:lnTo>
                    <a:pt x="560" y="882"/>
                  </a:lnTo>
                  <a:lnTo>
                    <a:pt x="553" y="883"/>
                  </a:lnTo>
                  <a:lnTo>
                    <a:pt x="545" y="884"/>
                  </a:lnTo>
                  <a:lnTo>
                    <a:pt x="547" y="887"/>
                  </a:lnTo>
                  <a:lnTo>
                    <a:pt x="550" y="890"/>
                  </a:lnTo>
                  <a:lnTo>
                    <a:pt x="554" y="893"/>
                  </a:lnTo>
                  <a:lnTo>
                    <a:pt x="558" y="895"/>
                  </a:lnTo>
                  <a:close/>
                  <a:moveTo>
                    <a:pt x="396" y="1024"/>
                  </a:moveTo>
                  <a:lnTo>
                    <a:pt x="406" y="1022"/>
                  </a:lnTo>
                  <a:lnTo>
                    <a:pt x="415" y="1019"/>
                  </a:lnTo>
                  <a:lnTo>
                    <a:pt x="424" y="1018"/>
                  </a:lnTo>
                  <a:lnTo>
                    <a:pt x="434" y="1017"/>
                  </a:lnTo>
                  <a:lnTo>
                    <a:pt x="443" y="1017"/>
                  </a:lnTo>
                  <a:lnTo>
                    <a:pt x="453" y="1017"/>
                  </a:lnTo>
                  <a:lnTo>
                    <a:pt x="463" y="1016"/>
                  </a:lnTo>
                  <a:lnTo>
                    <a:pt x="472" y="1015"/>
                  </a:lnTo>
                  <a:lnTo>
                    <a:pt x="480" y="1016"/>
                  </a:lnTo>
                  <a:lnTo>
                    <a:pt x="487" y="1018"/>
                  </a:lnTo>
                  <a:lnTo>
                    <a:pt x="495" y="1019"/>
                  </a:lnTo>
                  <a:lnTo>
                    <a:pt x="503" y="1021"/>
                  </a:lnTo>
                  <a:lnTo>
                    <a:pt x="512" y="1023"/>
                  </a:lnTo>
                  <a:lnTo>
                    <a:pt x="519" y="1024"/>
                  </a:lnTo>
                  <a:lnTo>
                    <a:pt x="527" y="1026"/>
                  </a:lnTo>
                  <a:lnTo>
                    <a:pt x="534" y="1027"/>
                  </a:lnTo>
                  <a:lnTo>
                    <a:pt x="543" y="1026"/>
                  </a:lnTo>
                  <a:lnTo>
                    <a:pt x="552" y="1025"/>
                  </a:lnTo>
                  <a:lnTo>
                    <a:pt x="560" y="1024"/>
                  </a:lnTo>
                  <a:lnTo>
                    <a:pt x="569" y="1023"/>
                  </a:lnTo>
                  <a:lnTo>
                    <a:pt x="577" y="1022"/>
                  </a:lnTo>
                  <a:lnTo>
                    <a:pt x="586" y="1021"/>
                  </a:lnTo>
                  <a:lnTo>
                    <a:pt x="594" y="1019"/>
                  </a:lnTo>
                  <a:lnTo>
                    <a:pt x="603" y="1018"/>
                  </a:lnTo>
                  <a:lnTo>
                    <a:pt x="614" y="1022"/>
                  </a:lnTo>
                  <a:lnTo>
                    <a:pt x="624" y="1024"/>
                  </a:lnTo>
                  <a:lnTo>
                    <a:pt x="634" y="1026"/>
                  </a:lnTo>
                  <a:lnTo>
                    <a:pt x="645" y="1029"/>
                  </a:lnTo>
                  <a:lnTo>
                    <a:pt x="653" y="1032"/>
                  </a:lnTo>
                  <a:lnTo>
                    <a:pt x="663" y="1036"/>
                  </a:lnTo>
                  <a:lnTo>
                    <a:pt x="672" y="1040"/>
                  </a:lnTo>
                  <a:lnTo>
                    <a:pt x="682" y="1045"/>
                  </a:lnTo>
                  <a:lnTo>
                    <a:pt x="669" y="1042"/>
                  </a:lnTo>
                  <a:lnTo>
                    <a:pt x="657" y="1040"/>
                  </a:lnTo>
                  <a:lnTo>
                    <a:pt x="647" y="1037"/>
                  </a:lnTo>
                  <a:lnTo>
                    <a:pt x="637" y="1034"/>
                  </a:lnTo>
                  <a:lnTo>
                    <a:pt x="628" y="1033"/>
                  </a:lnTo>
                  <a:lnTo>
                    <a:pt x="616" y="1032"/>
                  </a:lnTo>
                  <a:lnTo>
                    <a:pt x="604" y="1031"/>
                  </a:lnTo>
                  <a:lnTo>
                    <a:pt x="589" y="1032"/>
                  </a:lnTo>
                  <a:lnTo>
                    <a:pt x="585" y="1033"/>
                  </a:lnTo>
                  <a:lnTo>
                    <a:pt x="579" y="1036"/>
                  </a:lnTo>
                  <a:lnTo>
                    <a:pt x="572" y="1038"/>
                  </a:lnTo>
                  <a:lnTo>
                    <a:pt x="565" y="1040"/>
                  </a:lnTo>
                  <a:lnTo>
                    <a:pt x="557" y="1041"/>
                  </a:lnTo>
                  <a:lnTo>
                    <a:pt x="548" y="1042"/>
                  </a:lnTo>
                  <a:lnTo>
                    <a:pt x="540" y="1043"/>
                  </a:lnTo>
                  <a:lnTo>
                    <a:pt x="531" y="1042"/>
                  </a:lnTo>
                  <a:lnTo>
                    <a:pt x="525" y="1041"/>
                  </a:lnTo>
                  <a:lnTo>
                    <a:pt x="517" y="1039"/>
                  </a:lnTo>
                  <a:lnTo>
                    <a:pt x="511" y="1038"/>
                  </a:lnTo>
                  <a:lnTo>
                    <a:pt x="503" y="1036"/>
                  </a:lnTo>
                  <a:lnTo>
                    <a:pt x="497" y="1034"/>
                  </a:lnTo>
                  <a:lnTo>
                    <a:pt x="492" y="1032"/>
                  </a:lnTo>
                  <a:lnTo>
                    <a:pt x="486" y="1031"/>
                  </a:lnTo>
                  <a:lnTo>
                    <a:pt x="482" y="1029"/>
                  </a:lnTo>
                  <a:lnTo>
                    <a:pt x="469" y="1026"/>
                  </a:lnTo>
                  <a:lnTo>
                    <a:pt x="457" y="1024"/>
                  </a:lnTo>
                  <a:lnTo>
                    <a:pt x="447" y="1023"/>
                  </a:lnTo>
                  <a:lnTo>
                    <a:pt x="437" y="1023"/>
                  </a:lnTo>
                  <a:lnTo>
                    <a:pt x="427" y="1023"/>
                  </a:lnTo>
                  <a:lnTo>
                    <a:pt x="418" y="1024"/>
                  </a:lnTo>
                  <a:lnTo>
                    <a:pt x="408" y="1024"/>
                  </a:lnTo>
                  <a:lnTo>
                    <a:pt x="396" y="1024"/>
                  </a:lnTo>
                  <a:close/>
                  <a:moveTo>
                    <a:pt x="464" y="1732"/>
                  </a:moveTo>
                  <a:lnTo>
                    <a:pt x="422" y="2079"/>
                  </a:lnTo>
                  <a:lnTo>
                    <a:pt x="432" y="2109"/>
                  </a:lnTo>
                  <a:lnTo>
                    <a:pt x="440" y="2137"/>
                  </a:lnTo>
                  <a:lnTo>
                    <a:pt x="450" y="2163"/>
                  </a:lnTo>
                  <a:lnTo>
                    <a:pt x="458" y="2188"/>
                  </a:lnTo>
                  <a:lnTo>
                    <a:pt x="467" y="2211"/>
                  </a:lnTo>
                  <a:lnTo>
                    <a:pt x="476" y="2235"/>
                  </a:lnTo>
                  <a:lnTo>
                    <a:pt x="483" y="2258"/>
                  </a:lnTo>
                  <a:lnTo>
                    <a:pt x="492" y="2282"/>
                  </a:lnTo>
                  <a:lnTo>
                    <a:pt x="499" y="2306"/>
                  </a:lnTo>
                  <a:lnTo>
                    <a:pt x="507" y="2333"/>
                  </a:lnTo>
                  <a:lnTo>
                    <a:pt x="514" y="2360"/>
                  </a:lnTo>
                  <a:lnTo>
                    <a:pt x="522" y="2390"/>
                  </a:lnTo>
                  <a:lnTo>
                    <a:pt x="529" y="2422"/>
                  </a:lnTo>
                  <a:lnTo>
                    <a:pt x="537" y="2457"/>
                  </a:lnTo>
                  <a:lnTo>
                    <a:pt x="544" y="2496"/>
                  </a:lnTo>
                  <a:lnTo>
                    <a:pt x="552" y="2538"/>
                  </a:lnTo>
                  <a:lnTo>
                    <a:pt x="554" y="2503"/>
                  </a:lnTo>
                  <a:lnTo>
                    <a:pt x="558" y="2469"/>
                  </a:lnTo>
                  <a:lnTo>
                    <a:pt x="563" y="2436"/>
                  </a:lnTo>
                  <a:lnTo>
                    <a:pt x="569" y="2405"/>
                  </a:lnTo>
                  <a:lnTo>
                    <a:pt x="576" y="2374"/>
                  </a:lnTo>
                  <a:lnTo>
                    <a:pt x="584" y="2344"/>
                  </a:lnTo>
                  <a:lnTo>
                    <a:pt x="591" y="2315"/>
                  </a:lnTo>
                  <a:lnTo>
                    <a:pt x="601" y="2287"/>
                  </a:lnTo>
                  <a:lnTo>
                    <a:pt x="609" y="2259"/>
                  </a:lnTo>
                  <a:lnTo>
                    <a:pt x="619" y="2231"/>
                  </a:lnTo>
                  <a:lnTo>
                    <a:pt x="629" y="2204"/>
                  </a:lnTo>
                  <a:lnTo>
                    <a:pt x="638" y="2177"/>
                  </a:lnTo>
                  <a:lnTo>
                    <a:pt x="647" y="2149"/>
                  </a:lnTo>
                  <a:lnTo>
                    <a:pt x="656" y="2121"/>
                  </a:lnTo>
                  <a:lnTo>
                    <a:pt x="665" y="2092"/>
                  </a:lnTo>
                  <a:lnTo>
                    <a:pt x="672" y="2063"/>
                  </a:lnTo>
                  <a:lnTo>
                    <a:pt x="568" y="1732"/>
                  </a:lnTo>
                  <a:lnTo>
                    <a:pt x="555" y="1721"/>
                  </a:lnTo>
                  <a:lnTo>
                    <a:pt x="543" y="1714"/>
                  </a:lnTo>
                  <a:lnTo>
                    <a:pt x="530" y="1708"/>
                  </a:lnTo>
                  <a:lnTo>
                    <a:pt x="517" y="1707"/>
                  </a:lnTo>
                  <a:lnTo>
                    <a:pt x="504" y="1708"/>
                  </a:lnTo>
                  <a:lnTo>
                    <a:pt x="492" y="1714"/>
                  </a:lnTo>
                  <a:lnTo>
                    <a:pt x="478" y="1721"/>
                  </a:lnTo>
                  <a:lnTo>
                    <a:pt x="464" y="1732"/>
                  </a:lnTo>
                  <a:close/>
                  <a:moveTo>
                    <a:pt x="382" y="1565"/>
                  </a:moveTo>
                  <a:lnTo>
                    <a:pt x="388" y="1576"/>
                  </a:lnTo>
                  <a:lnTo>
                    <a:pt x="393" y="1586"/>
                  </a:lnTo>
                  <a:lnTo>
                    <a:pt x="397" y="1597"/>
                  </a:lnTo>
                  <a:lnTo>
                    <a:pt x="402" y="1607"/>
                  </a:lnTo>
                  <a:lnTo>
                    <a:pt x="406" y="1617"/>
                  </a:lnTo>
                  <a:lnTo>
                    <a:pt x="410" y="1629"/>
                  </a:lnTo>
                  <a:lnTo>
                    <a:pt x="415" y="1640"/>
                  </a:lnTo>
                  <a:lnTo>
                    <a:pt x="419" y="1651"/>
                  </a:lnTo>
                  <a:lnTo>
                    <a:pt x="423" y="1661"/>
                  </a:lnTo>
                  <a:lnTo>
                    <a:pt x="427" y="1672"/>
                  </a:lnTo>
                  <a:lnTo>
                    <a:pt x="432" y="1683"/>
                  </a:lnTo>
                  <a:lnTo>
                    <a:pt x="437" y="1693"/>
                  </a:lnTo>
                  <a:lnTo>
                    <a:pt x="441" y="1704"/>
                  </a:lnTo>
                  <a:lnTo>
                    <a:pt x="447" y="1715"/>
                  </a:lnTo>
                  <a:lnTo>
                    <a:pt x="452" y="1725"/>
                  </a:lnTo>
                  <a:lnTo>
                    <a:pt x="457" y="1736"/>
                  </a:lnTo>
                  <a:lnTo>
                    <a:pt x="470" y="1722"/>
                  </a:lnTo>
                  <a:lnTo>
                    <a:pt x="485" y="1714"/>
                  </a:lnTo>
                  <a:lnTo>
                    <a:pt x="501" y="1709"/>
                  </a:lnTo>
                  <a:lnTo>
                    <a:pt x="517" y="1708"/>
                  </a:lnTo>
                  <a:lnTo>
                    <a:pt x="533" y="1710"/>
                  </a:lnTo>
                  <a:lnTo>
                    <a:pt x="548" y="1716"/>
                  </a:lnTo>
                  <a:lnTo>
                    <a:pt x="561" y="1723"/>
                  </a:lnTo>
                  <a:lnTo>
                    <a:pt x="571" y="1733"/>
                  </a:lnTo>
                  <a:lnTo>
                    <a:pt x="577" y="1714"/>
                  </a:lnTo>
                  <a:lnTo>
                    <a:pt x="584" y="1694"/>
                  </a:lnTo>
                  <a:lnTo>
                    <a:pt x="590" y="1676"/>
                  </a:lnTo>
                  <a:lnTo>
                    <a:pt x="596" y="1657"/>
                  </a:lnTo>
                  <a:lnTo>
                    <a:pt x="603" y="1639"/>
                  </a:lnTo>
                  <a:lnTo>
                    <a:pt x="609" y="1621"/>
                  </a:lnTo>
                  <a:lnTo>
                    <a:pt x="617" y="1601"/>
                  </a:lnTo>
                  <a:lnTo>
                    <a:pt x="623" y="1583"/>
                  </a:lnTo>
                  <a:lnTo>
                    <a:pt x="615" y="1570"/>
                  </a:lnTo>
                  <a:lnTo>
                    <a:pt x="606" y="1558"/>
                  </a:lnTo>
                  <a:lnTo>
                    <a:pt x="599" y="1546"/>
                  </a:lnTo>
                  <a:lnTo>
                    <a:pt x="590" y="1534"/>
                  </a:lnTo>
                  <a:lnTo>
                    <a:pt x="580" y="1523"/>
                  </a:lnTo>
                  <a:lnTo>
                    <a:pt x="570" y="1512"/>
                  </a:lnTo>
                  <a:lnTo>
                    <a:pt x="557" y="1500"/>
                  </a:lnTo>
                  <a:lnTo>
                    <a:pt x="541" y="1488"/>
                  </a:lnTo>
                  <a:lnTo>
                    <a:pt x="530" y="1488"/>
                  </a:lnTo>
                  <a:lnTo>
                    <a:pt x="518" y="1488"/>
                  </a:lnTo>
                  <a:lnTo>
                    <a:pt x="507" y="1489"/>
                  </a:lnTo>
                  <a:lnTo>
                    <a:pt x="494" y="1489"/>
                  </a:lnTo>
                  <a:lnTo>
                    <a:pt x="481" y="1490"/>
                  </a:lnTo>
                  <a:lnTo>
                    <a:pt x="469" y="1491"/>
                  </a:lnTo>
                  <a:lnTo>
                    <a:pt x="457" y="1491"/>
                  </a:lnTo>
                  <a:lnTo>
                    <a:pt x="447" y="1491"/>
                  </a:lnTo>
                  <a:lnTo>
                    <a:pt x="438" y="1501"/>
                  </a:lnTo>
                  <a:lnTo>
                    <a:pt x="430" y="1510"/>
                  </a:lnTo>
                  <a:lnTo>
                    <a:pt x="422" y="1519"/>
                  </a:lnTo>
                  <a:lnTo>
                    <a:pt x="415" y="1529"/>
                  </a:lnTo>
                  <a:lnTo>
                    <a:pt x="407" y="1537"/>
                  </a:lnTo>
                  <a:lnTo>
                    <a:pt x="400" y="1547"/>
                  </a:lnTo>
                  <a:lnTo>
                    <a:pt x="391" y="1555"/>
                  </a:lnTo>
                  <a:lnTo>
                    <a:pt x="382" y="1565"/>
                  </a:lnTo>
                  <a:close/>
                  <a:moveTo>
                    <a:pt x="1554" y="3748"/>
                  </a:moveTo>
                  <a:lnTo>
                    <a:pt x="1564" y="3732"/>
                  </a:lnTo>
                  <a:lnTo>
                    <a:pt x="1579" y="3718"/>
                  </a:lnTo>
                  <a:lnTo>
                    <a:pt x="1596" y="3705"/>
                  </a:lnTo>
                  <a:lnTo>
                    <a:pt x="1612" y="3691"/>
                  </a:lnTo>
                  <a:lnTo>
                    <a:pt x="1624" y="3676"/>
                  </a:lnTo>
                  <a:lnTo>
                    <a:pt x="1628" y="3657"/>
                  </a:lnTo>
                  <a:lnTo>
                    <a:pt x="1621" y="3633"/>
                  </a:lnTo>
                  <a:lnTo>
                    <a:pt x="1599" y="3601"/>
                  </a:lnTo>
                  <a:lnTo>
                    <a:pt x="1612" y="3617"/>
                  </a:lnTo>
                  <a:lnTo>
                    <a:pt x="1624" y="3633"/>
                  </a:lnTo>
                  <a:lnTo>
                    <a:pt x="1633" y="3648"/>
                  </a:lnTo>
                  <a:lnTo>
                    <a:pt x="1640" y="3661"/>
                  </a:lnTo>
                  <a:lnTo>
                    <a:pt x="1647" y="3675"/>
                  </a:lnTo>
                  <a:lnTo>
                    <a:pt x="1653" y="3689"/>
                  </a:lnTo>
                  <a:lnTo>
                    <a:pt x="1658" y="3702"/>
                  </a:lnTo>
                  <a:lnTo>
                    <a:pt x="1664" y="3715"/>
                  </a:lnTo>
                  <a:lnTo>
                    <a:pt x="1660" y="3719"/>
                  </a:lnTo>
                  <a:lnTo>
                    <a:pt x="1657" y="3724"/>
                  </a:lnTo>
                  <a:lnTo>
                    <a:pt x="1654" y="3728"/>
                  </a:lnTo>
                  <a:lnTo>
                    <a:pt x="1651" y="3732"/>
                  </a:lnTo>
                  <a:lnTo>
                    <a:pt x="1648" y="3736"/>
                  </a:lnTo>
                  <a:lnTo>
                    <a:pt x="1644" y="3741"/>
                  </a:lnTo>
                  <a:lnTo>
                    <a:pt x="1641" y="3745"/>
                  </a:lnTo>
                  <a:lnTo>
                    <a:pt x="1638" y="3749"/>
                  </a:lnTo>
                  <a:lnTo>
                    <a:pt x="1627" y="3749"/>
                  </a:lnTo>
                  <a:lnTo>
                    <a:pt x="1617" y="3749"/>
                  </a:lnTo>
                  <a:lnTo>
                    <a:pt x="1606" y="3749"/>
                  </a:lnTo>
                  <a:lnTo>
                    <a:pt x="1596" y="3748"/>
                  </a:lnTo>
                  <a:lnTo>
                    <a:pt x="1586" y="3748"/>
                  </a:lnTo>
                  <a:lnTo>
                    <a:pt x="1575" y="3748"/>
                  </a:lnTo>
                  <a:lnTo>
                    <a:pt x="1565" y="3748"/>
                  </a:lnTo>
                  <a:lnTo>
                    <a:pt x="1554" y="3748"/>
                  </a:lnTo>
                  <a:close/>
                  <a:moveTo>
                    <a:pt x="2030" y="8769"/>
                  </a:moveTo>
                  <a:lnTo>
                    <a:pt x="2039" y="8781"/>
                  </a:lnTo>
                  <a:lnTo>
                    <a:pt x="2050" y="8796"/>
                  </a:lnTo>
                  <a:lnTo>
                    <a:pt x="2061" y="8813"/>
                  </a:lnTo>
                  <a:lnTo>
                    <a:pt x="2073" y="8830"/>
                  </a:lnTo>
                  <a:lnTo>
                    <a:pt x="2085" y="8846"/>
                  </a:lnTo>
                  <a:lnTo>
                    <a:pt x="2098" y="8861"/>
                  </a:lnTo>
                  <a:lnTo>
                    <a:pt x="2112" y="8874"/>
                  </a:lnTo>
                  <a:lnTo>
                    <a:pt x="2126" y="8881"/>
                  </a:lnTo>
                  <a:lnTo>
                    <a:pt x="2146" y="8887"/>
                  </a:lnTo>
                  <a:lnTo>
                    <a:pt x="2167" y="8894"/>
                  </a:lnTo>
                  <a:lnTo>
                    <a:pt x="2186" y="8904"/>
                  </a:lnTo>
                  <a:lnTo>
                    <a:pt x="2206" y="8915"/>
                  </a:lnTo>
                  <a:lnTo>
                    <a:pt x="2225" y="8928"/>
                  </a:lnTo>
                  <a:lnTo>
                    <a:pt x="2243" y="8942"/>
                  </a:lnTo>
                  <a:lnTo>
                    <a:pt x="2259" y="8958"/>
                  </a:lnTo>
                  <a:lnTo>
                    <a:pt x="2274" y="8975"/>
                  </a:lnTo>
                  <a:lnTo>
                    <a:pt x="2274" y="8987"/>
                  </a:lnTo>
                  <a:lnTo>
                    <a:pt x="2273" y="9000"/>
                  </a:lnTo>
                  <a:lnTo>
                    <a:pt x="2273" y="9014"/>
                  </a:lnTo>
                  <a:lnTo>
                    <a:pt x="2272" y="9028"/>
                  </a:lnTo>
                  <a:lnTo>
                    <a:pt x="2270" y="9042"/>
                  </a:lnTo>
                  <a:lnTo>
                    <a:pt x="2267" y="9056"/>
                  </a:lnTo>
                  <a:lnTo>
                    <a:pt x="2265" y="9071"/>
                  </a:lnTo>
                  <a:lnTo>
                    <a:pt x="2263" y="9084"/>
                  </a:lnTo>
                  <a:lnTo>
                    <a:pt x="2260" y="9098"/>
                  </a:lnTo>
                  <a:lnTo>
                    <a:pt x="2256" y="9112"/>
                  </a:lnTo>
                  <a:lnTo>
                    <a:pt x="2252" y="9126"/>
                  </a:lnTo>
                  <a:lnTo>
                    <a:pt x="2248" y="9139"/>
                  </a:lnTo>
                  <a:lnTo>
                    <a:pt x="2243" y="9151"/>
                  </a:lnTo>
                  <a:lnTo>
                    <a:pt x="2237" y="9161"/>
                  </a:lnTo>
                  <a:lnTo>
                    <a:pt x="2231" y="9172"/>
                  </a:lnTo>
                  <a:lnTo>
                    <a:pt x="2225" y="9182"/>
                  </a:lnTo>
                  <a:lnTo>
                    <a:pt x="2201" y="9190"/>
                  </a:lnTo>
                  <a:lnTo>
                    <a:pt x="2174" y="9197"/>
                  </a:lnTo>
                  <a:lnTo>
                    <a:pt x="2144" y="9204"/>
                  </a:lnTo>
                  <a:lnTo>
                    <a:pt x="2112" y="9210"/>
                  </a:lnTo>
                  <a:lnTo>
                    <a:pt x="2077" y="9214"/>
                  </a:lnTo>
                  <a:lnTo>
                    <a:pt x="2040" y="9217"/>
                  </a:lnTo>
                  <a:lnTo>
                    <a:pt x="2002" y="9220"/>
                  </a:lnTo>
                  <a:lnTo>
                    <a:pt x="1963" y="9220"/>
                  </a:lnTo>
                  <a:lnTo>
                    <a:pt x="1924" y="9220"/>
                  </a:lnTo>
                  <a:lnTo>
                    <a:pt x="1884" y="9218"/>
                  </a:lnTo>
                  <a:lnTo>
                    <a:pt x="1846" y="9214"/>
                  </a:lnTo>
                  <a:lnTo>
                    <a:pt x="1808" y="9209"/>
                  </a:lnTo>
                  <a:lnTo>
                    <a:pt x="1772" y="9201"/>
                  </a:lnTo>
                  <a:lnTo>
                    <a:pt x="1738" y="9191"/>
                  </a:lnTo>
                  <a:lnTo>
                    <a:pt x="1706" y="9180"/>
                  </a:lnTo>
                  <a:lnTo>
                    <a:pt x="1678" y="9166"/>
                  </a:lnTo>
                  <a:lnTo>
                    <a:pt x="1648" y="9153"/>
                  </a:lnTo>
                  <a:lnTo>
                    <a:pt x="1624" y="9144"/>
                  </a:lnTo>
                  <a:lnTo>
                    <a:pt x="1606" y="9138"/>
                  </a:lnTo>
                  <a:lnTo>
                    <a:pt x="1590" y="9134"/>
                  </a:lnTo>
                  <a:lnTo>
                    <a:pt x="1576" y="9132"/>
                  </a:lnTo>
                  <a:lnTo>
                    <a:pt x="1562" y="9132"/>
                  </a:lnTo>
                  <a:lnTo>
                    <a:pt x="1547" y="9132"/>
                  </a:lnTo>
                  <a:lnTo>
                    <a:pt x="1528" y="9132"/>
                  </a:lnTo>
                  <a:lnTo>
                    <a:pt x="1522" y="9134"/>
                  </a:lnTo>
                  <a:lnTo>
                    <a:pt x="1515" y="9136"/>
                  </a:lnTo>
                  <a:lnTo>
                    <a:pt x="1505" y="9137"/>
                  </a:lnTo>
                  <a:lnTo>
                    <a:pt x="1495" y="9137"/>
                  </a:lnTo>
                  <a:lnTo>
                    <a:pt x="1483" y="9136"/>
                  </a:lnTo>
                  <a:lnTo>
                    <a:pt x="1470" y="9135"/>
                  </a:lnTo>
                  <a:lnTo>
                    <a:pt x="1457" y="9134"/>
                  </a:lnTo>
                  <a:lnTo>
                    <a:pt x="1443" y="9133"/>
                  </a:lnTo>
                  <a:lnTo>
                    <a:pt x="1429" y="9130"/>
                  </a:lnTo>
                  <a:lnTo>
                    <a:pt x="1415" y="9128"/>
                  </a:lnTo>
                  <a:lnTo>
                    <a:pt x="1401" y="9126"/>
                  </a:lnTo>
                  <a:lnTo>
                    <a:pt x="1389" y="9125"/>
                  </a:lnTo>
                  <a:lnTo>
                    <a:pt x="1377" y="9123"/>
                  </a:lnTo>
                  <a:lnTo>
                    <a:pt x="1366" y="9122"/>
                  </a:lnTo>
                  <a:lnTo>
                    <a:pt x="1356" y="9121"/>
                  </a:lnTo>
                  <a:lnTo>
                    <a:pt x="1349" y="9121"/>
                  </a:lnTo>
                  <a:lnTo>
                    <a:pt x="1370" y="9114"/>
                  </a:lnTo>
                  <a:lnTo>
                    <a:pt x="1392" y="9105"/>
                  </a:lnTo>
                  <a:lnTo>
                    <a:pt x="1412" y="9090"/>
                  </a:lnTo>
                  <a:lnTo>
                    <a:pt x="1434" y="9073"/>
                  </a:lnTo>
                  <a:lnTo>
                    <a:pt x="1455" y="9052"/>
                  </a:lnTo>
                  <a:lnTo>
                    <a:pt x="1476" y="9029"/>
                  </a:lnTo>
                  <a:lnTo>
                    <a:pt x="1497" y="9004"/>
                  </a:lnTo>
                  <a:lnTo>
                    <a:pt x="1518" y="8978"/>
                  </a:lnTo>
                  <a:lnTo>
                    <a:pt x="1539" y="8950"/>
                  </a:lnTo>
                  <a:lnTo>
                    <a:pt x="1561" y="8921"/>
                  </a:lnTo>
                  <a:lnTo>
                    <a:pt x="1581" y="8892"/>
                  </a:lnTo>
                  <a:lnTo>
                    <a:pt x="1603" y="8863"/>
                  </a:lnTo>
                  <a:lnTo>
                    <a:pt x="1624" y="8835"/>
                  </a:lnTo>
                  <a:lnTo>
                    <a:pt x="1645" y="8809"/>
                  </a:lnTo>
                  <a:lnTo>
                    <a:pt x="1667" y="8782"/>
                  </a:lnTo>
                  <a:lnTo>
                    <a:pt x="1688" y="8758"/>
                  </a:lnTo>
                  <a:lnTo>
                    <a:pt x="1711" y="8745"/>
                  </a:lnTo>
                  <a:lnTo>
                    <a:pt x="1733" y="8734"/>
                  </a:lnTo>
                  <a:lnTo>
                    <a:pt x="1755" y="8723"/>
                  </a:lnTo>
                  <a:lnTo>
                    <a:pt x="1777" y="8714"/>
                  </a:lnTo>
                  <a:lnTo>
                    <a:pt x="1799" y="8708"/>
                  </a:lnTo>
                  <a:lnTo>
                    <a:pt x="1819" y="8703"/>
                  </a:lnTo>
                  <a:lnTo>
                    <a:pt x="1840" y="8699"/>
                  </a:lnTo>
                  <a:lnTo>
                    <a:pt x="1861" y="8697"/>
                  </a:lnTo>
                  <a:lnTo>
                    <a:pt x="1882" y="8698"/>
                  </a:lnTo>
                  <a:lnTo>
                    <a:pt x="1902" y="8702"/>
                  </a:lnTo>
                  <a:lnTo>
                    <a:pt x="1924" y="8707"/>
                  </a:lnTo>
                  <a:lnTo>
                    <a:pt x="1944" y="8714"/>
                  </a:lnTo>
                  <a:lnTo>
                    <a:pt x="1966" y="8724"/>
                  </a:lnTo>
                  <a:lnTo>
                    <a:pt x="1987" y="8736"/>
                  </a:lnTo>
                  <a:lnTo>
                    <a:pt x="2008" y="8751"/>
                  </a:lnTo>
                  <a:lnTo>
                    <a:pt x="2030" y="8769"/>
                  </a:lnTo>
                  <a:close/>
                  <a:moveTo>
                    <a:pt x="216" y="8866"/>
                  </a:moveTo>
                  <a:lnTo>
                    <a:pt x="202" y="8883"/>
                  </a:lnTo>
                  <a:lnTo>
                    <a:pt x="189" y="8899"/>
                  </a:lnTo>
                  <a:lnTo>
                    <a:pt x="178" y="8915"/>
                  </a:lnTo>
                  <a:lnTo>
                    <a:pt x="169" y="8933"/>
                  </a:lnTo>
                  <a:lnTo>
                    <a:pt x="163" y="8951"/>
                  </a:lnTo>
                  <a:lnTo>
                    <a:pt x="158" y="8972"/>
                  </a:lnTo>
                  <a:lnTo>
                    <a:pt x="153" y="8997"/>
                  </a:lnTo>
                  <a:lnTo>
                    <a:pt x="149" y="9026"/>
                  </a:lnTo>
                  <a:lnTo>
                    <a:pt x="154" y="9032"/>
                  </a:lnTo>
                  <a:lnTo>
                    <a:pt x="160" y="9037"/>
                  </a:lnTo>
                  <a:lnTo>
                    <a:pt x="164" y="9044"/>
                  </a:lnTo>
                  <a:lnTo>
                    <a:pt x="169" y="9050"/>
                  </a:lnTo>
                  <a:lnTo>
                    <a:pt x="174" y="9056"/>
                  </a:lnTo>
                  <a:lnTo>
                    <a:pt x="179" y="9062"/>
                  </a:lnTo>
                  <a:lnTo>
                    <a:pt x="183" y="9068"/>
                  </a:lnTo>
                  <a:lnTo>
                    <a:pt x="188" y="9075"/>
                  </a:lnTo>
                  <a:lnTo>
                    <a:pt x="183" y="9094"/>
                  </a:lnTo>
                  <a:lnTo>
                    <a:pt x="182" y="9112"/>
                  </a:lnTo>
                  <a:lnTo>
                    <a:pt x="182" y="9128"/>
                  </a:lnTo>
                  <a:lnTo>
                    <a:pt x="184" y="9142"/>
                  </a:lnTo>
                  <a:lnTo>
                    <a:pt x="188" y="9153"/>
                  </a:lnTo>
                  <a:lnTo>
                    <a:pt x="192" y="9161"/>
                  </a:lnTo>
                  <a:lnTo>
                    <a:pt x="197" y="9166"/>
                  </a:lnTo>
                  <a:lnTo>
                    <a:pt x="203" y="9167"/>
                  </a:lnTo>
                  <a:lnTo>
                    <a:pt x="220" y="9167"/>
                  </a:lnTo>
                  <a:lnTo>
                    <a:pt x="239" y="9168"/>
                  </a:lnTo>
                  <a:lnTo>
                    <a:pt x="259" y="9168"/>
                  </a:lnTo>
                  <a:lnTo>
                    <a:pt x="283" y="9169"/>
                  </a:lnTo>
                  <a:lnTo>
                    <a:pt x="306" y="9171"/>
                  </a:lnTo>
                  <a:lnTo>
                    <a:pt x="331" y="9172"/>
                  </a:lnTo>
                  <a:lnTo>
                    <a:pt x="357" y="9174"/>
                  </a:lnTo>
                  <a:lnTo>
                    <a:pt x="383" y="9175"/>
                  </a:lnTo>
                  <a:lnTo>
                    <a:pt x="409" y="9178"/>
                  </a:lnTo>
                  <a:lnTo>
                    <a:pt x="435" y="9179"/>
                  </a:lnTo>
                  <a:lnTo>
                    <a:pt x="461" y="9180"/>
                  </a:lnTo>
                  <a:lnTo>
                    <a:pt x="484" y="9181"/>
                  </a:lnTo>
                  <a:lnTo>
                    <a:pt x="508" y="9181"/>
                  </a:lnTo>
                  <a:lnTo>
                    <a:pt x="529" y="9181"/>
                  </a:lnTo>
                  <a:lnTo>
                    <a:pt x="548" y="9181"/>
                  </a:lnTo>
                  <a:lnTo>
                    <a:pt x="565" y="9180"/>
                  </a:lnTo>
                  <a:lnTo>
                    <a:pt x="576" y="9179"/>
                  </a:lnTo>
                  <a:lnTo>
                    <a:pt x="588" y="9178"/>
                  </a:lnTo>
                  <a:lnTo>
                    <a:pt x="600" y="9175"/>
                  </a:lnTo>
                  <a:lnTo>
                    <a:pt x="613" y="9173"/>
                  </a:lnTo>
                  <a:lnTo>
                    <a:pt x="629" y="9171"/>
                  </a:lnTo>
                  <a:lnTo>
                    <a:pt x="648" y="9169"/>
                  </a:lnTo>
                  <a:lnTo>
                    <a:pt x="671" y="9168"/>
                  </a:lnTo>
                  <a:lnTo>
                    <a:pt x="700" y="9167"/>
                  </a:lnTo>
                  <a:lnTo>
                    <a:pt x="707" y="9159"/>
                  </a:lnTo>
                  <a:lnTo>
                    <a:pt x="712" y="9151"/>
                  </a:lnTo>
                  <a:lnTo>
                    <a:pt x="719" y="9143"/>
                  </a:lnTo>
                  <a:lnTo>
                    <a:pt x="724" y="9136"/>
                  </a:lnTo>
                  <a:lnTo>
                    <a:pt x="721" y="9132"/>
                  </a:lnTo>
                  <a:lnTo>
                    <a:pt x="717" y="9127"/>
                  </a:lnTo>
                  <a:lnTo>
                    <a:pt x="714" y="9123"/>
                  </a:lnTo>
                  <a:lnTo>
                    <a:pt x="711" y="9118"/>
                  </a:lnTo>
                  <a:lnTo>
                    <a:pt x="708" y="9113"/>
                  </a:lnTo>
                  <a:lnTo>
                    <a:pt x="705" y="9109"/>
                  </a:lnTo>
                  <a:lnTo>
                    <a:pt x="701" y="9105"/>
                  </a:lnTo>
                  <a:lnTo>
                    <a:pt x="698" y="9101"/>
                  </a:lnTo>
                  <a:lnTo>
                    <a:pt x="693" y="9101"/>
                  </a:lnTo>
                  <a:lnTo>
                    <a:pt x="686" y="9101"/>
                  </a:lnTo>
                  <a:lnTo>
                    <a:pt x="681" y="9101"/>
                  </a:lnTo>
                  <a:lnTo>
                    <a:pt x="676" y="9102"/>
                  </a:lnTo>
                  <a:lnTo>
                    <a:pt x="669" y="9102"/>
                  </a:lnTo>
                  <a:lnTo>
                    <a:pt x="664" y="9102"/>
                  </a:lnTo>
                  <a:lnTo>
                    <a:pt x="657" y="9103"/>
                  </a:lnTo>
                  <a:lnTo>
                    <a:pt x="652" y="9103"/>
                  </a:lnTo>
                  <a:lnTo>
                    <a:pt x="647" y="9095"/>
                  </a:lnTo>
                  <a:lnTo>
                    <a:pt x="640" y="9087"/>
                  </a:lnTo>
                  <a:lnTo>
                    <a:pt x="634" y="9079"/>
                  </a:lnTo>
                  <a:lnTo>
                    <a:pt x="628" y="9072"/>
                  </a:lnTo>
                  <a:lnTo>
                    <a:pt x="616" y="9070"/>
                  </a:lnTo>
                  <a:lnTo>
                    <a:pt x="605" y="9066"/>
                  </a:lnTo>
                  <a:lnTo>
                    <a:pt x="592" y="9064"/>
                  </a:lnTo>
                  <a:lnTo>
                    <a:pt x="580" y="9061"/>
                  </a:lnTo>
                  <a:lnTo>
                    <a:pt x="569" y="9059"/>
                  </a:lnTo>
                  <a:lnTo>
                    <a:pt x="556" y="9057"/>
                  </a:lnTo>
                  <a:lnTo>
                    <a:pt x="542" y="9055"/>
                  </a:lnTo>
                  <a:lnTo>
                    <a:pt x="529" y="9053"/>
                  </a:lnTo>
                  <a:lnTo>
                    <a:pt x="515" y="9052"/>
                  </a:lnTo>
                  <a:lnTo>
                    <a:pt x="501" y="9052"/>
                  </a:lnTo>
                  <a:lnTo>
                    <a:pt x="486" y="9053"/>
                  </a:lnTo>
                  <a:lnTo>
                    <a:pt x="471" y="9055"/>
                  </a:lnTo>
                  <a:lnTo>
                    <a:pt x="456" y="9058"/>
                  </a:lnTo>
                  <a:lnTo>
                    <a:pt x="440" y="9062"/>
                  </a:lnTo>
                  <a:lnTo>
                    <a:pt x="424" y="9067"/>
                  </a:lnTo>
                  <a:lnTo>
                    <a:pt x="407" y="9074"/>
                  </a:lnTo>
                  <a:lnTo>
                    <a:pt x="400" y="9068"/>
                  </a:lnTo>
                  <a:lnTo>
                    <a:pt x="392" y="9062"/>
                  </a:lnTo>
                  <a:lnTo>
                    <a:pt x="386" y="9057"/>
                  </a:lnTo>
                  <a:lnTo>
                    <a:pt x="378" y="9051"/>
                  </a:lnTo>
                  <a:lnTo>
                    <a:pt x="381" y="9044"/>
                  </a:lnTo>
                  <a:lnTo>
                    <a:pt x="383" y="9037"/>
                  </a:lnTo>
                  <a:lnTo>
                    <a:pt x="386" y="9031"/>
                  </a:lnTo>
                  <a:lnTo>
                    <a:pt x="388" y="9026"/>
                  </a:lnTo>
                  <a:lnTo>
                    <a:pt x="397" y="9019"/>
                  </a:lnTo>
                  <a:lnTo>
                    <a:pt x="405" y="9014"/>
                  </a:lnTo>
                  <a:lnTo>
                    <a:pt x="413" y="9011"/>
                  </a:lnTo>
                  <a:lnTo>
                    <a:pt x="420" y="9007"/>
                  </a:lnTo>
                  <a:lnTo>
                    <a:pt x="427" y="9005"/>
                  </a:lnTo>
                  <a:lnTo>
                    <a:pt x="434" y="9004"/>
                  </a:lnTo>
                  <a:lnTo>
                    <a:pt x="441" y="9003"/>
                  </a:lnTo>
                  <a:lnTo>
                    <a:pt x="449" y="9002"/>
                  </a:lnTo>
                  <a:lnTo>
                    <a:pt x="454" y="8996"/>
                  </a:lnTo>
                  <a:lnTo>
                    <a:pt x="461" y="8989"/>
                  </a:lnTo>
                  <a:lnTo>
                    <a:pt x="466" y="8983"/>
                  </a:lnTo>
                  <a:lnTo>
                    <a:pt x="471" y="8978"/>
                  </a:lnTo>
                  <a:lnTo>
                    <a:pt x="470" y="8973"/>
                  </a:lnTo>
                  <a:lnTo>
                    <a:pt x="470" y="8969"/>
                  </a:lnTo>
                  <a:lnTo>
                    <a:pt x="469" y="8965"/>
                  </a:lnTo>
                  <a:lnTo>
                    <a:pt x="469" y="8961"/>
                  </a:lnTo>
                  <a:lnTo>
                    <a:pt x="451" y="8955"/>
                  </a:lnTo>
                  <a:lnTo>
                    <a:pt x="434" y="8948"/>
                  </a:lnTo>
                  <a:lnTo>
                    <a:pt x="416" y="8940"/>
                  </a:lnTo>
                  <a:lnTo>
                    <a:pt x="398" y="8933"/>
                  </a:lnTo>
                  <a:lnTo>
                    <a:pt x="380" y="8925"/>
                  </a:lnTo>
                  <a:lnTo>
                    <a:pt x="362" y="8920"/>
                  </a:lnTo>
                  <a:lnTo>
                    <a:pt x="344" y="8914"/>
                  </a:lnTo>
                  <a:lnTo>
                    <a:pt x="324" y="8911"/>
                  </a:lnTo>
                  <a:lnTo>
                    <a:pt x="311" y="8913"/>
                  </a:lnTo>
                  <a:lnTo>
                    <a:pt x="299" y="8918"/>
                  </a:lnTo>
                  <a:lnTo>
                    <a:pt x="286" y="8922"/>
                  </a:lnTo>
                  <a:lnTo>
                    <a:pt x="274" y="8927"/>
                  </a:lnTo>
                  <a:lnTo>
                    <a:pt x="263" y="8934"/>
                  </a:lnTo>
                  <a:lnTo>
                    <a:pt x="251" y="8940"/>
                  </a:lnTo>
                  <a:lnTo>
                    <a:pt x="239" y="8945"/>
                  </a:lnTo>
                  <a:lnTo>
                    <a:pt x="227" y="8951"/>
                  </a:lnTo>
                  <a:lnTo>
                    <a:pt x="219" y="8952"/>
                  </a:lnTo>
                  <a:lnTo>
                    <a:pt x="208" y="8952"/>
                  </a:lnTo>
                  <a:lnTo>
                    <a:pt x="198" y="8950"/>
                  </a:lnTo>
                  <a:lnTo>
                    <a:pt x="190" y="8943"/>
                  </a:lnTo>
                  <a:lnTo>
                    <a:pt x="187" y="8934"/>
                  </a:lnTo>
                  <a:lnTo>
                    <a:pt x="188" y="8918"/>
                  </a:lnTo>
                  <a:lnTo>
                    <a:pt x="197" y="8895"/>
                  </a:lnTo>
                  <a:lnTo>
                    <a:pt x="216" y="8866"/>
                  </a:lnTo>
                  <a:close/>
                  <a:moveTo>
                    <a:pt x="699" y="8849"/>
                  </a:moveTo>
                  <a:lnTo>
                    <a:pt x="715" y="8849"/>
                  </a:lnTo>
                  <a:lnTo>
                    <a:pt x="729" y="8850"/>
                  </a:lnTo>
                  <a:lnTo>
                    <a:pt x="742" y="8850"/>
                  </a:lnTo>
                  <a:lnTo>
                    <a:pt x="754" y="8848"/>
                  </a:lnTo>
                  <a:lnTo>
                    <a:pt x="765" y="8846"/>
                  </a:lnTo>
                  <a:lnTo>
                    <a:pt x="775" y="8841"/>
                  </a:lnTo>
                  <a:lnTo>
                    <a:pt x="786" y="8832"/>
                  </a:lnTo>
                  <a:lnTo>
                    <a:pt x="798" y="8819"/>
                  </a:lnTo>
                  <a:lnTo>
                    <a:pt x="788" y="8819"/>
                  </a:lnTo>
                  <a:lnTo>
                    <a:pt x="778" y="8820"/>
                  </a:lnTo>
                  <a:lnTo>
                    <a:pt x="769" y="8821"/>
                  </a:lnTo>
                  <a:lnTo>
                    <a:pt x="759" y="8822"/>
                  </a:lnTo>
                  <a:lnTo>
                    <a:pt x="750" y="8823"/>
                  </a:lnTo>
                  <a:lnTo>
                    <a:pt x="740" y="8825"/>
                  </a:lnTo>
                  <a:lnTo>
                    <a:pt x="730" y="8826"/>
                  </a:lnTo>
                  <a:lnTo>
                    <a:pt x="721" y="8826"/>
                  </a:lnTo>
                  <a:lnTo>
                    <a:pt x="715" y="8807"/>
                  </a:lnTo>
                  <a:lnTo>
                    <a:pt x="709" y="8788"/>
                  </a:lnTo>
                  <a:lnTo>
                    <a:pt x="700" y="8769"/>
                  </a:lnTo>
                  <a:lnTo>
                    <a:pt x="693" y="8751"/>
                  </a:lnTo>
                  <a:lnTo>
                    <a:pt x="683" y="8733"/>
                  </a:lnTo>
                  <a:lnTo>
                    <a:pt x="674" y="8715"/>
                  </a:lnTo>
                  <a:lnTo>
                    <a:pt x="664" y="8699"/>
                  </a:lnTo>
                  <a:lnTo>
                    <a:pt x="654" y="8687"/>
                  </a:lnTo>
                  <a:lnTo>
                    <a:pt x="623" y="8686"/>
                  </a:lnTo>
                  <a:lnTo>
                    <a:pt x="589" y="8683"/>
                  </a:lnTo>
                  <a:lnTo>
                    <a:pt x="554" y="8681"/>
                  </a:lnTo>
                  <a:lnTo>
                    <a:pt x="516" y="8679"/>
                  </a:lnTo>
                  <a:lnTo>
                    <a:pt x="478" y="8678"/>
                  </a:lnTo>
                  <a:lnTo>
                    <a:pt x="439" y="8678"/>
                  </a:lnTo>
                  <a:lnTo>
                    <a:pt x="401" y="8679"/>
                  </a:lnTo>
                  <a:lnTo>
                    <a:pt x="363" y="8684"/>
                  </a:lnTo>
                  <a:lnTo>
                    <a:pt x="327" y="8692"/>
                  </a:lnTo>
                  <a:lnTo>
                    <a:pt x="292" y="8705"/>
                  </a:lnTo>
                  <a:lnTo>
                    <a:pt x="260" y="8721"/>
                  </a:lnTo>
                  <a:lnTo>
                    <a:pt x="233" y="8743"/>
                  </a:lnTo>
                  <a:lnTo>
                    <a:pt x="208" y="8771"/>
                  </a:lnTo>
                  <a:lnTo>
                    <a:pt x="188" y="8805"/>
                  </a:lnTo>
                  <a:lnTo>
                    <a:pt x="172" y="8847"/>
                  </a:lnTo>
                  <a:lnTo>
                    <a:pt x="162" y="8896"/>
                  </a:lnTo>
                  <a:lnTo>
                    <a:pt x="162" y="8903"/>
                  </a:lnTo>
                  <a:lnTo>
                    <a:pt x="162" y="8909"/>
                  </a:lnTo>
                  <a:lnTo>
                    <a:pt x="162" y="8915"/>
                  </a:lnTo>
                  <a:lnTo>
                    <a:pt x="163" y="8922"/>
                  </a:lnTo>
                  <a:lnTo>
                    <a:pt x="163" y="8928"/>
                  </a:lnTo>
                  <a:lnTo>
                    <a:pt x="163" y="8935"/>
                  </a:lnTo>
                  <a:lnTo>
                    <a:pt x="163" y="8941"/>
                  </a:lnTo>
                  <a:lnTo>
                    <a:pt x="163" y="8948"/>
                  </a:lnTo>
                  <a:lnTo>
                    <a:pt x="170" y="8930"/>
                  </a:lnTo>
                  <a:lnTo>
                    <a:pt x="178" y="8915"/>
                  </a:lnTo>
                  <a:lnTo>
                    <a:pt x="187" y="8902"/>
                  </a:lnTo>
                  <a:lnTo>
                    <a:pt x="196" y="8889"/>
                  </a:lnTo>
                  <a:lnTo>
                    <a:pt x="207" y="8878"/>
                  </a:lnTo>
                  <a:lnTo>
                    <a:pt x="218" y="8867"/>
                  </a:lnTo>
                  <a:lnTo>
                    <a:pt x="228" y="8858"/>
                  </a:lnTo>
                  <a:lnTo>
                    <a:pt x="240" y="8849"/>
                  </a:lnTo>
                  <a:lnTo>
                    <a:pt x="252" y="8841"/>
                  </a:lnTo>
                  <a:lnTo>
                    <a:pt x="265" y="8833"/>
                  </a:lnTo>
                  <a:lnTo>
                    <a:pt x="278" y="8826"/>
                  </a:lnTo>
                  <a:lnTo>
                    <a:pt x="290" y="8818"/>
                  </a:lnTo>
                  <a:lnTo>
                    <a:pt x="304" y="8810"/>
                  </a:lnTo>
                  <a:lnTo>
                    <a:pt x="317" y="8802"/>
                  </a:lnTo>
                  <a:lnTo>
                    <a:pt x="331" y="8794"/>
                  </a:lnTo>
                  <a:lnTo>
                    <a:pt x="345" y="8785"/>
                  </a:lnTo>
                  <a:lnTo>
                    <a:pt x="333" y="8735"/>
                  </a:lnTo>
                  <a:lnTo>
                    <a:pt x="342" y="8735"/>
                  </a:lnTo>
                  <a:lnTo>
                    <a:pt x="350" y="8736"/>
                  </a:lnTo>
                  <a:lnTo>
                    <a:pt x="358" y="8736"/>
                  </a:lnTo>
                  <a:lnTo>
                    <a:pt x="365" y="8736"/>
                  </a:lnTo>
                  <a:lnTo>
                    <a:pt x="372" y="8736"/>
                  </a:lnTo>
                  <a:lnTo>
                    <a:pt x="379" y="8736"/>
                  </a:lnTo>
                  <a:lnTo>
                    <a:pt x="387" y="8734"/>
                  </a:lnTo>
                  <a:lnTo>
                    <a:pt x="395" y="8732"/>
                  </a:lnTo>
                  <a:lnTo>
                    <a:pt x="398" y="8728"/>
                  </a:lnTo>
                  <a:lnTo>
                    <a:pt x="400" y="8724"/>
                  </a:lnTo>
                  <a:lnTo>
                    <a:pt x="400" y="8720"/>
                  </a:lnTo>
                  <a:lnTo>
                    <a:pt x="400" y="8714"/>
                  </a:lnTo>
                  <a:lnTo>
                    <a:pt x="397" y="8710"/>
                  </a:lnTo>
                  <a:lnTo>
                    <a:pt x="395" y="8704"/>
                  </a:lnTo>
                  <a:lnTo>
                    <a:pt x="394" y="8698"/>
                  </a:lnTo>
                  <a:lnTo>
                    <a:pt x="393" y="8692"/>
                  </a:lnTo>
                  <a:lnTo>
                    <a:pt x="400" y="8691"/>
                  </a:lnTo>
                  <a:lnTo>
                    <a:pt x="409" y="8691"/>
                  </a:lnTo>
                  <a:lnTo>
                    <a:pt x="421" y="8690"/>
                  </a:lnTo>
                  <a:lnTo>
                    <a:pt x="434" y="8691"/>
                  </a:lnTo>
                  <a:lnTo>
                    <a:pt x="449" y="8691"/>
                  </a:lnTo>
                  <a:lnTo>
                    <a:pt x="466" y="8692"/>
                  </a:lnTo>
                  <a:lnTo>
                    <a:pt x="483" y="8694"/>
                  </a:lnTo>
                  <a:lnTo>
                    <a:pt x="501" y="8696"/>
                  </a:lnTo>
                  <a:lnTo>
                    <a:pt x="520" y="8698"/>
                  </a:lnTo>
                  <a:lnTo>
                    <a:pt x="539" y="8702"/>
                  </a:lnTo>
                  <a:lnTo>
                    <a:pt x="558" y="8706"/>
                  </a:lnTo>
                  <a:lnTo>
                    <a:pt x="575" y="8709"/>
                  </a:lnTo>
                  <a:lnTo>
                    <a:pt x="592" y="8714"/>
                  </a:lnTo>
                  <a:lnTo>
                    <a:pt x="608" y="8720"/>
                  </a:lnTo>
                  <a:lnTo>
                    <a:pt x="622" y="8725"/>
                  </a:lnTo>
                  <a:lnTo>
                    <a:pt x="635" y="8732"/>
                  </a:lnTo>
                  <a:lnTo>
                    <a:pt x="641" y="8738"/>
                  </a:lnTo>
                  <a:lnTo>
                    <a:pt x="649" y="8745"/>
                  </a:lnTo>
                  <a:lnTo>
                    <a:pt x="657" y="8755"/>
                  </a:lnTo>
                  <a:lnTo>
                    <a:pt x="667" y="8766"/>
                  </a:lnTo>
                  <a:lnTo>
                    <a:pt x="677" y="8781"/>
                  </a:lnTo>
                  <a:lnTo>
                    <a:pt x="686" y="8799"/>
                  </a:lnTo>
                  <a:lnTo>
                    <a:pt x="694" y="8821"/>
                  </a:lnTo>
                  <a:lnTo>
                    <a:pt x="699" y="8849"/>
                  </a:lnTo>
                  <a:close/>
                  <a:moveTo>
                    <a:pt x="1987" y="8594"/>
                  </a:moveTo>
                  <a:lnTo>
                    <a:pt x="1962" y="8594"/>
                  </a:lnTo>
                  <a:lnTo>
                    <a:pt x="1937" y="8594"/>
                  </a:lnTo>
                  <a:lnTo>
                    <a:pt x="1910" y="8594"/>
                  </a:lnTo>
                  <a:lnTo>
                    <a:pt x="1882" y="8596"/>
                  </a:lnTo>
                  <a:lnTo>
                    <a:pt x="1853" y="8598"/>
                  </a:lnTo>
                  <a:lnTo>
                    <a:pt x="1823" y="8601"/>
                  </a:lnTo>
                  <a:lnTo>
                    <a:pt x="1794" y="8605"/>
                  </a:lnTo>
                  <a:lnTo>
                    <a:pt x="1764" y="8611"/>
                  </a:lnTo>
                  <a:lnTo>
                    <a:pt x="1735" y="8617"/>
                  </a:lnTo>
                  <a:lnTo>
                    <a:pt x="1708" y="8623"/>
                  </a:lnTo>
                  <a:lnTo>
                    <a:pt x="1680" y="8632"/>
                  </a:lnTo>
                  <a:lnTo>
                    <a:pt x="1654" y="8642"/>
                  </a:lnTo>
                  <a:lnTo>
                    <a:pt x="1630" y="8653"/>
                  </a:lnTo>
                  <a:lnTo>
                    <a:pt x="1608" y="8665"/>
                  </a:lnTo>
                  <a:lnTo>
                    <a:pt x="1588" y="8679"/>
                  </a:lnTo>
                  <a:lnTo>
                    <a:pt x="1569" y="8694"/>
                  </a:lnTo>
                  <a:lnTo>
                    <a:pt x="1558" y="8707"/>
                  </a:lnTo>
                  <a:lnTo>
                    <a:pt x="1539" y="8724"/>
                  </a:lnTo>
                  <a:lnTo>
                    <a:pt x="1517" y="8743"/>
                  </a:lnTo>
                  <a:lnTo>
                    <a:pt x="1491" y="8765"/>
                  </a:lnTo>
                  <a:lnTo>
                    <a:pt x="1466" y="8785"/>
                  </a:lnTo>
                  <a:lnTo>
                    <a:pt x="1442" y="8801"/>
                  </a:lnTo>
                  <a:lnTo>
                    <a:pt x="1423" y="8813"/>
                  </a:lnTo>
                  <a:lnTo>
                    <a:pt x="1409" y="8817"/>
                  </a:lnTo>
                  <a:lnTo>
                    <a:pt x="1393" y="8817"/>
                  </a:lnTo>
                  <a:lnTo>
                    <a:pt x="1382" y="8815"/>
                  </a:lnTo>
                  <a:lnTo>
                    <a:pt x="1376" y="8810"/>
                  </a:lnTo>
                  <a:lnTo>
                    <a:pt x="1374" y="8804"/>
                  </a:lnTo>
                  <a:lnTo>
                    <a:pt x="1374" y="8798"/>
                  </a:lnTo>
                  <a:lnTo>
                    <a:pt x="1376" y="8791"/>
                  </a:lnTo>
                  <a:lnTo>
                    <a:pt x="1380" y="8787"/>
                  </a:lnTo>
                  <a:lnTo>
                    <a:pt x="1384" y="8785"/>
                  </a:lnTo>
                  <a:lnTo>
                    <a:pt x="1395" y="8775"/>
                  </a:lnTo>
                  <a:lnTo>
                    <a:pt x="1406" y="8767"/>
                  </a:lnTo>
                  <a:lnTo>
                    <a:pt x="1415" y="8758"/>
                  </a:lnTo>
                  <a:lnTo>
                    <a:pt x="1425" y="8751"/>
                  </a:lnTo>
                  <a:lnTo>
                    <a:pt x="1435" y="8744"/>
                  </a:lnTo>
                  <a:lnTo>
                    <a:pt x="1443" y="8738"/>
                  </a:lnTo>
                  <a:lnTo>
                    <a:pt x="1453" y="8733"/>
                  </a:lnTo>
                  <a:lnTo>
                    <a:pt x="1462" y="8727"/>
                  </a:lnTo>
                  <a:lnTo>
                    <a:pt x="1472" y="8722"/>
                  </a:lnTo>
                  <a:lnTo>
                    <a:pt x="1483" y="8718"/>
                  </a:lnTo>
                  <a:lnTo>
                    <a:pt x="1493" y="8713"/>
                  </a:lnTo>
                  <a:lnTo>
                    <a:pt x="1505" y="8709"/>
                  </a:lnTo>
                  <a:lnTo>
                    <a:pt x="1518" y="8705"/>
                  </a:lnTo>
                  <a:lnTo>
                    <a:pt x="1532" y="8700"/>
                  </a:lnTo>
                  <a:lnTo>
                    <a:pt x="1547" y="8696"/>
                  </a:lnTo>
                  <a:lnTo>
                    <a:pt x="1563" y="8692"/>
                  </a:lnTo>
                  <a:lnTo>
                    <a:pt x="1577" y="8679"/>
                  </a:lnTo>
                  <a:lnTo>
                    <a:pt x="1592" y="8668"/>
                  </a:lnTo>
                  <a:lnTo>
                    <a:pt x="1608" y="8658"/>
                  </a:lnTo>
                  <a:lnTo>
                    <a:pt x="1626" y="8648"/>
                  </a:lnTo>
                  <a:lnTo>
                    <a:pt x="1645" y="8638"/>
                  </a:lnTo>
                  <a:lnTo>
                    <a:pt x="1666" y="8631"/>
                  </a:lnTo>
                  <a:lnTo>
                    <a:pt x="1688" y="8623"/>
                  </a:lnTo>
                  <a:lnTo>
                    <a:pt x="1710" y="8616"/>
                  </a:lnTo>
                  <a:lnTo>
                    <a:pt x="1733" y="8610"/>
                  </a:lnTo>
                  <a:lnTo>
                    <a:pt x="1757" y="8604"/>
                  </a:lnTo>
                  <a:lnTo>
                    <a:pt x="1781" y="8599"/>
                  </a:lnTo>
                  <a:lnTo>
                    <a:pt x="1806" y="8594"/>
                  </a:lnTo>
                  <a:lnTo>
                    <a:pt x="1831" y="8588"/>
                  </a:lnTo>
                  <a:lnTo>
                    <a:pt x="1855" y="8584"/>
                  </a:lnTo>
                  <a:lnTo>
                    <a:pt x="1880" y="8579"/>
                  </a:lnTo>
                  <a:lnTo>
                    <a:pt x="1905" y="8574"/>
                  </a:lnTo>
                  <a:lnTo>
                    <a:pt x="1936" y="8571"/>
                  </a:lnTo>
                  <a:lnTo>
                    <a:pt x="1961" y="8568"/>
                  </a:lnTo>
                  <a:lnTo>
                    <a:pt x="1984" y="8567"/>
                  </a:lnTo>
                  <a:lnTo>
                    <a:pt x="2002" y="8568"/>
                  </a:lnTo>
                  <a:lnTo>
                    <a:pt x="2017" y="8569"/>
                  </a:lnTo>
                  <a:lnTo>
                    <a:pt x="2028" y="8572"/>
                  </a:lnTo>
                  <a:lnTo>
                    <a:pt x="2036" y="8575"/>
                  </a:lnTo>
                  <a:lnTo>
                    <a:pt x="2043" y="8581"/>
                  </a:lnTo>
                  <a:lnTo>
                    <a:pt x="2047" y="8588"/>
                  </a:lnTo>
                  <a:lnTo>
                    <a:pt x="2049" y="8598"/>
                  </a:lnTo>
                  <a:lnTo>
                    <a:pt x="2049" y="8607"/>
                  </a:lnTo>
                  <a:lnTo>
                    <a:pt x="2046" y="8615"/>
                  </a:lnTo>
                  <a:lnTo>
                    <a:pt x="2039" y="8619"/>
                  </a:lnTo>
                  <a:lnTo>
                    <a:pt x="2028" y="8618"/>
                  </a:lnTo>
                  <a:lnTo>
                    <a:pt x="2010" y="8611"/>
                  </a:lnTo>
                  <a:lnTo>
                    <a:pt x="1987" y="8594"/>
                  </a:lnTo>
                  <a:close/>
                  <a:moveTo>
                    <a:pt x="1970" y="8627"/>
                  </a:moveTo>
                  <a:lnTo>
                    <a:pt x="1975" y="8645"/>
                  </a:lnTo>
                  <a:lnTo>
                    <a:pt x="1983" y="8664"/>
                  </a:lnTo>
                  <a:lnTo>
                    <a:pt x="1991" y="8686"/>
                  </a:lnTo>
                  <a:lnTo>
                    <a:pt x="2000" y="8706"/>
                  </a:lnTo>
                  <a:lnTo>
                    <a:pt x="2008" y="8726"/>
                  </a:lnTo>
                  <a:lnTo>
                    <a:pt x="2017" y="8746"/>
                  </a:lnTo>
                  <a:lnTo>
                    <a:pt x="2024" y="8767"/>
                  </a:lnTo>
                  <a:lnTo>
                    <a:pt x="2030" y="8785"/>
                  </a:lnTo>
                  <a:lnTo>
                    <a:pt x="2029" y="8772"/>
                  </a:lnTo>
                  <a:lnTo>
                    <a:pt x="2034" y="8759"/>
                  </a:lnTo>
                  <a:lnTo>
                    <a:pt x="2045" y="8744"/>
                  </a:lnTo>
                  <a:lnTo>
                    <a:pt x="2056" y="8729"/>
                  </a:lnTo>
                  <a:lnTo>
                    <a:pt x="2069" y="8714"/>
                  </a:lnTo>
                  <a:lnTo>
                    <a:pt x="2080" y="8700"/>
                  </a:lnTo>
                  <a:lnTo>
                    <a:pt x="2089" y="8687"/>
                  </a:lnTo>
                  <a:lnTo>
                    <a:pt x="2092" y="8674"/>
                  </a:lnTo>
                  <a:lnTo>
                    <a:pt x="2088" y="8675"/>
                  </a:lnTo>
                  <a:lnTo>
                    <a:pt x="2082" y="8676"/>
                  </a:lnTo>
                  <a:lnTo>
                    <a:pt x="2078" y="8679"/>
                  </a:lnTo>
                  <a:lnTo>
                    <a:pt x="2074" y="8681"/>
                  </a:lnTo>
                  <a:lnTo>
                    <a:pt x="2068" y="8684"/>
                  </a:lnTo>
                  <a:lnTo>
                    <a:pt x="2064" y="8688"/>
                  </a:lnTo>
                  <a:lnTo>
                    <a:pt x="2059" y="8689"/>
                  </a:lnTo>
                  <a:lnTo>
                    <a:pt x="2054" y="8690"/>
                  </a:lnTo>
                  <a:lnTo>
                    <a:pt x="2045" y="8679"/>
                  </a:lnTo>
                  <a:lnTo>
                    <a:pt x="2036" y="8671"/>
                  </a:lnTo>
                  <a:lnTo>
                    <a:pt x="2027" y="8664"/>
                  </a:lnTo>
                  <a:lnTo>
                    <a:pt x="2017" y="8658"/>
                  </a:lnTo>
                  <a:lnTo>
                    <a:pt x="2006" y="8652"/>
                  </a:lnTo>
                  <a:lnTo>
                    <a:pt x="1994" y="8645"/>
                  </a:lnTo>
                  <a:lnTo>
                    <a:pt x="1983" y="8637"/>
                  </a:lnTo>
                  <a:lnTo>
                    <a:pt x="1970" y="86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64" name="Freeform 36"/>
            <p:cNvSpPr/>
            <p:nvPr/>
          </p:nvSpPr>
          <p:spPr>
            <a:xfrm>
              <a:off x="2278800" y="3286080"/>
              <a:ext cx="194760" cy="194400"/>
            </a:xfrm>
            <a:custGeom>
              <a:avLst/>
              <a:gdLst>
                <a:gd name="textAreaLeft" fmla="*/ 0 w 194760"/>
                <a:gd name="textAreaRight" fmla="*/ 195120 w 194760"/>
                <a:gd name="textAreaTop" fmla="*/ 0 h 194400"/>
                <a:gd name="textAreaBottom" fmla="*/ 194760 h 194400"/>
              </a:gdLst>
              <a:ahLst/>
              <a:rect l="textAreaLeft" t="textAreaTop" r="textAreaRight" b="textAreaBottom"/>
              <a:pathLst>
                <a:path w="2546" h="2604">
                  <a:moveTo>
                    <a:pt x="2334" y="2269"/>
                  </a:moveTo>
                  <a:lnTo>
                    <a:pt x="2323" y="2276"/>
                  </a:lnTo>
                  <a:lnTo>
                    <a:pt x="2311" y="2283"/>
                  </a:lnTo>
                  <a:lnTo>
                    <a:pt x="2299" y="2291"/>
                  </a:lnTo>
                  <a:lnTo>
                    <a:pt x="2286" y="2298"/>
                  </a:lnTo>
                  <a:lnTo>
                    <a:pt x="2272" y="2307"/>
                  </a:lnTo>
                  <a:lnTo>
                    <a:pt x="2258" y="2315"/>
                  </a:lnTo>
                  <a:lnTo>
                    <a:pt x="2245" y="2324"/>
                  </a:lnTo>
                  <a:lnTo>
                    <a:pt x="2232" y="2332"/>
                  </a:lnTo>
                  <a:lnTo>
                    <a:pt x="2219" y="2340"/>
                  </a:lnTo>
                  <a:lnTo>
                    <a:pt x="2208" y="2349"/>
                  </a:lnTo>
                  <a:lnTo>
                    <a:pt x="2197" y="2356"/>
                  </a:lnTo>
                  <a:lnTo>
                    <a:pt x="2186" y="2364"/>
                  </a:lnTo>
                  <a:lnTo>
                    <a:pt x="2178" y="2371"/>
                  </a:lnTo>
                  <a:lnTo>
                    <a:pt x="2171" y="2377"/>
                  </a:lnTo>
                  <a:lnTo>
                    <a:pt x="2166" y="2384"/>
                  </a:lnTo>
                  <a:lnTo>
                    <a:pt x="2163" y="2389"/>
                  </a:lnTo>
                  <a:lnTo>
                    <a:pt x="2182" y="2393"/>
                  </a:lnTo>
                  <a:lnTo>
                    <a:pt x="2220" y="2371"/>
                  </a:lnTo>
                  <a:lnTo>
                    <a:pt x="2228" y="2368"/>
                  </a:lnTo>
                  <a:lnTo>
                    <a:pt x="2234" y="2365"/>
                  </a:lnTo>
                  <a:lnTo>
                    <a:pt x="2241" y="2362"/>
                  </a:lnTo>
                  <a:lnTo>
                    <a:pt x="2248" y="2360"/>
                  </a:lnTo>
                  <a:lnTo>
                    <a:pt x="2255" y="2359"/>
                  </a:lnTo>
                  <a:lnTo>
                    <a:pt x="2261" y="2359"/>
                  </a:lnTo>
                  <a:lnTo>
                    <a:pt x="2269" y="2359"/>
                  </a:lnTo>
                  <a:lnTo>
                    <a:pt x="2276" y="2360"/>
                  </a:lnTo>
                  <a:lnTo>
                    <a:pt x="2294" y="2372"/>
                  </a:lnTo>
                  <a:lnTo>
                    <a:pt x="2310" y="2382"/>
                  </a:lnTo>
                  <a:lnTo>
                    <a:pt x="2325" y="2392"/>
                  </a:lnTo>
                  <a:lnTo>
                    <a:pt x="2340" y="2402"/>
                  </a:lnTo>
                  <a:lnTo>
                    <a:pt x="2354" y="2412"/>
                  </a:lnTo>
                  <a:lnTo>
                    <a:pt x="2367" y="2421"/>
                  </a:lnTo>
                  <a:lnTo>
                    <a:pt x="2379" y="2431"/>
                  </a:lnTo>
                  <a:lnTo>
                    <a:pt x="2391" y="2441"/>
                  </a:lnTo>
                  <a:lnTo>
                    <a:pt x="2401" y="2452"/>
                  </a:lnTo>
                  <a:lnTo>
                    <a:pt x="2412" y="2464"/>
                  </a:lnTo>
                  <a:lnTo>
                    <a:pt x="2422" y="2478"/>
                  </a:lnTo>
                  <a:lnTo>
                    <a:pt x="2431" y="2492"/>
                  </a:lnTo>
                  <a:lnTo>
                    <a:pt x="2441" y="2509"/>
                  </a:lnTo>
                  <a:lnTo>
                    <a:pt x="2451" y="2527"/>
                  </a:lnTo>
                  <a:lnTo>
                    <a:pt x="2459" y="2547"/>
                  </a:lnTo>
                  <a:lnTo>
                    <a:pt x="2469" y="2570"/>
                  </a:lnTo>
                  <a:lnTo>
                    <a:pt x="2442" y="2604"/>
                  </a:lnTo>
                  <a:lnTo>
                    <a:pt x="2454" y="2604"/>
                  </a:lnTo>
                  <a:lnTo>
                    <a:pt x="2456" y="2604"/>
                  </a:lnTo>
                  <a:lnTo>
                    <a:pt x="2458" y="2604"/>
                  </a:lnTo>
                  <a:lnTo>
                    <a:pt x="2470" y="2604"/>
                  </a:lnTo>
                  <a:lnTo>
                    <a:pt x="2477" y="2599"/>
                  </a:lnTo>
                  <a:lnTo>
                    <a:pt x="2487" y="2591"/>
                  </a:lnTo>
                  <a:lnTo>
                    <a:pt x="2499" y="2583"/>
                  </a:lnTo>
                  <a:lnTo>
                    <a:pt x="2509" y="2573"/>
                  </a:lnTo>
                  <a:lnTo>
                    <a:pt x="2521" y="2565"/>
                  </a:lnTo>
                  <a:lnTo>
                    <a:pt x="2532" y="2555"/>
                  </a:lnTo>
                  <a:lnTo>
                    <a:pt x="2539" y="2547"/>
                  </a:lnTo>
                  <a:lnTo>
                    <a:pt x="2546" y="2541"/>
                  </a:lnTo>
                  <a:lnTo>
                    <a:pt x="2543" y="2535"/>
                  </a:lnTo>
                  <a:lnTo>
                    <a:pt x="2539" y="2528"/>
                  </a:lnTo>
                  <a:lnTo>
                    <a:pt x="2536" y="2523"/>
                  </a:lnTo>
                  <a:lnTo>
                    <a:pt x="2533" y="2518"/>
                  </a:lnTo>
                  <a:lnTo>
                    <a:pt x="2531" y="2513"/>
                  </a:lnTo>
                  <a:lnTo>
                    <a:pt x="2528" y="2507"/>
                  </a:lnTo>
                  <a:lnTo>
                    <a:pt x="2524" y="2501"/>
                  </a:lnTo>
                  <a:lnTo>
                    <a:pt x="2520" y="2495"/>
                  </a:lnTo>
                  <a:lnTo>
                    <a:pt x="2518" y="2488"/>
                  </a:lnTo>
                  <a:lnTo>
                    <a:pt x="2517" y="2478"/>
                  </a:lnTo>
                  <a:lnTo>
                    <a:pt x="2518" y="2468"/>
                  </a:lnTo>
                  <a:lnTo>
                    <a:pt x="2520" y="2459"/>
                  </a:lnTo>
                  <a:lnTo>
                    <a:pt x="2523" y="2447"/>
                  </a:lnTo>
                  <a:lnTo>
                    <a:pt x="2525" y="2436"/>
                  </a:lnTo>
                  <a:lnTo>
                    <a:pt x="2528" y="2424"/>
                  </a:lnTo>
                  <a:lnTo>
                    <a:pt x="2529" y="2413"/>
                  </a:lnTo>
                  <a:lnTo>
                    <a:pt x="2519" y="2396"/>
                  </a:lnTo>
                  <a:lnTo>
                    <a:pt x="2512" y="2380"/>
                  </a:lnTo>
                  <a:lnTo>
                    <a:pt x="2506" y="2366"/>
                  </a:lnTo>
                  <a:lnTo>
                    <a:pt x="2501" y="2353"/>
                  </a:lnTo>
                  <a:lnTo>
                    <a:pt x="2495" y="2342"/>
                  </a:lnTo>
                  <a:lnTo>
                    <a:pt x="2490" y="2334"/>
                  </a:lnTo>
                  <a:lnTo>
                    <a:pt x="2485" y="2326"/>
                  </a:lnTo>
                  <a:lnTo>
                    <a:pt x="2477" y="2322"/>
                  </a:lnTo>
                  <a:lnTo>
                    <a:pt x="2468" y="2318"/>
                  </a:lnTo>
                  <a:lnTo>
                    <a:pt x="2456" y="2312"/>
                  </a:lnTo>
                  <a:lnTo>
                    <a:pt x="2441" y="2306"/>
                  </a:lnTo>
                  <a:lnTo>
                    <a:pt x="2424" y="2299"/>
                  </a:lnTo>
                  <a:lnTo>
                    <a:pt x="2405" y="2292"/>
                  </a:lnTo>
                  <a:lnTo>
                    <a:pt x="2383" y="2284"/>
                  </a:lnTo>
                  <a:lnTo>
                    <a:pt x="2360" y="2277"/>
                  </a:lnTo>
                  <a:lnTo>
                    <a:pt x="2334" y="2269"/>
                  </a:lnTo>
                  <a:close/>
                  <a:moveTo>
                    <a:pt x="0" y="2331"/>
                  </a:moveTo>
                  <a:lnTo>
                    <a:pt x="4" y="2339"/>
                  </a:lnTo>
                  <a:lnTo>
                    <a:pt x="7" y="2347"/>
                  </a:lnTo>
                  <a:lnTo>
                    <a:pt x="8" y="2356"/>
                  </a:lnTo>
                  <a:lnTo>
                    <a:pt x="10" y="2365"/>
                  </a:lnTo>
                  <a:lnTo>
                    <a:pt x="10" y="2373"/>
                  </a:lnTo>
                  <a:lnTo>
                    <a:pt x="10" y="2383"/>
                  </a:lnTo>
                  <a:lnTo>
                    <a:pt x="10" y="2392"/>
                  </a:lnTo>
                  <a:lnTo>
                    <a:pt x="9" y="2403"/>
                  </a:lnTo>
                  <a:lnTo>
                    <a:pt x="9" y="2414"/>
                  </a:lnTo>
                  <a:lnTo>
                    <a:pt x="8" y="2426"/>
                  </a:lnTo>
                  <a:lnTo>
                    <a:pt x="7" y="2437"/>
                  </a:lnTo>
                  <a:lnTo>
                    <a:pt x="6" y="2449"/>
                  </a:lnTo>
                  <a:lnTo>
                    <a:pt x="6" y="2462"/>
                  </a:lnTo>
                  <a:lnTo>
                    <a:pt x="6" y="2476"/>
                  </a:lnTo>
                  <a:lnTo>
                    <a:pt x="6" y="2490"/>
                  </a:lnTo>
                  <a:lnTo>
                    <a:pt x="7" y="2505"/>
                  </a:lnTo>
                  <a:lnTo>
                    <a:pt x="19" y="2557"/>
                  </a:lnTo>
                  <a:lnTo>
                    <a:pt x="35" y="2545"/>
                  </a:lnTo>
                  <a:lnTo>
                    <a:pt x="53" y="2533"/>
                  </a:lnTo>
                  <a:lnTo>
                    <a:pt x="72" y="2519"/>
                  </a:lnTo>
                  <a:lnTo>
                    <a:pt x="92" y="2505"/>
                  </a:lnTo>
                  <a:lnTo>
                    <a:pt x="114" y="2490"/>
                  </a:lnTo>
                  <a:lnTo>
                    <a:pt x="135" y="2475"/>
                  </a:lnTo>
                  <a:lnTo>
                    <a:pt x="158" y="2460"/>
                  </a:lnTo>
                  <a:lnTo>
                    <a:pt x="179" y="2444"/>
                  </a:lnTo>
                  <a:lnTo>
                    <a:pt x="201" y="2428"/>
                  </a:lnTo>
                  <a:lnTo>
                    <a:pt x="221" y="2413"/>
                  </a:lnTo>
                  <a:lnTo>
                    <a:pt x="240" y="2397"/>
                  </a:lnTo>
                  <a:lnTo>
                    <a:pt x="257" y="2381"/>
                  </a:lnTo>
                  <a:lnTo>
                    <a:pt x="274" y="2366"/>
                  </a:lnTo>
                  <a:lnTo>
                    <a:pt x="288" y="2351"/>
                  </a:lnTo>
                  <a:lnTo>
                    <a:pt x="300" y="2336"/>
                  </a:lnTo>
                  <a:lnTo>
                    <a:pt x="310" y="2322"/>
                  </a:lnTo>
                  <a:lnTo>
                    <a:pt x="297" y="2318"/>
                  </a:lnTo>
                  <a:lnTo>
                    <a:pt x="283" y="2315"/>
                  </a:lnTo>
                  <a:lnTo>
                    <a:pt x="267" y="2315"/>
                  </a:lnTo>
                  <a:lnTo>
                    <a:pt x="250" y="2316"/>
                  </a:lnTo>
                  <a:lnTo>
                    <a:pt x="231" y="2320"/>
                  </a:lnTo>
                  <a:lnTo>
                    <a:pt x="211" y="2324"/>
                  </a:lnTo>
                  <a:lnTo>
                    <a:pt x="190" y="2328"/>
                  </a:lnTo>
                  <a:lnTo>
                    <a:pt x="168" y="2332"/>
                  </a:lnTo>
                  <a:lnTo>
                    <a:pt x="147" y="2337"/>
                  </a:lnTo>
                  <a:lnTo>
                    <a:pt x="125" y="2341"/>
                  </a:lnTo>
                  <a:lnTo>
                    <a:pt x="103" y="2344"/>
                  </a:lnTo>
                  <a:lnTo>
                    <a:pt x="82" y="2345"/>
                  </a:lnTo>
                  <a:lnTo>
                    <a:pt x="60" y="2345"/>
                  </a:lnTo>
                  <a:lnTo>
                    <a:pt x="39" y="2343"/>
                  </a:lnTo>
                  <a:lnTo>
                    <a:pt x="20" y="2339"/>
                  </a:lnTo>
                  <a:lnTo>
                    <a:pt x="0" y="2331"/>
                  </a:lnTo>
                  <a:close/>
                  <a:moveTo>
                    <a:pt x="1345" y="342"/>
                  </a:moveTo>
                  <a:lnTo>
                    <a:pt x="1380" y="328"/>
                  </a:lnTo>
                  <a:lnTo>
                    <a:pt x="1410" y="309"/>
                  </a:lnTo>
                  <a:lnTo>
                    <a:pt x="1435" y="288"/>
                  </a:lnTo>
                  <a:lnTo>
                    <a:pt x="1457" y="265"/>
                  </a:lnTo>
                  <a:lnTo>
                    <a:pt x="1474" y="242"/>
                  </a:lnTo>
                  <a:lnTo>
                    <a:pt x="1489" y="221"/>
                  </a:lnTo>
                  <a:lnTo>
                    <a:pt x="1502" y="203"/>
                  </a:lnTo>
                  <a:lnTo>
                    <a:pt x="1512" y="188"/>
                  </a:lnTo>
                  <a:lnTo>
                    <a:pt x="1514" y="190"/>
                  </a:lnTo>
                  <a:lnTo>
                    <a:pt x="1515" y="193"/>
                  </a:lnTo>
                  <a:lnTo>
                    <a:pt x="1516" y="198"/>
                  </a:lnTo>
                  <a:lnTo>
                    <a:pt x="1516" y="203"/>
                  </a:lnTo>
                  <a:lnTo>
                    <a:pt x="1516" y="208"/>
                  </a:lnTo>
                  <a:lnTo>
                    <a:pt x="1515" y="214"/>
                  </a:lnTo>
                  <a:lnTo>
                    <a:pt x="1514" y="220"/>
                  </a:lnTo>
                  <a:lnTo>
                    <a:pt x="1514" y="225"/>
                  </a:lnTo>
                  <a:lnTo>
                    <a:pt x="1514" y="231"/>
                  </a:lnTo>
                  <a:lnTo>
                    <a:pt x="1515" y="236"/>
                  </a:lnTo>
                  <a:lnTo>
                    <a:pt x="1515" y="240"/>
                  </a:lnTo>
                  <a:lnTo>
                    <a:pt x="1516" y="246"/>
                  </a:lnTo>
                  <a:lnTo>
                    <a:pt x="1517" y="250"/>
                  </a:lnTo>
                  <a:lnTo>
                    <a:pt x="1518" y="254"/>
                  </a:lnTo>
                  <a:lnTo>
                    <a:pt x="1519" y="260"/>
                  </a:lnTo>
                  <a:lnTo>
                    <a:pt x="1520" y="264"/>
                  </a:lnTo>
                  <a:lnTo>
                    <a:pt x="1523" y="273"/>
                  </a:lnTo>
                  <a:lnTo>
                    <a:pt x="1524" y="283"/>
                  </a:lnTo>
                  <a:lnTo>
                    <a:pt x="1526" y="293"/>
                  </a:lnTo>
                  <a:lnTo>
                    <a:pt x="1528" y="303"/>
                  </a:lnTo>
                  <a:lnTo>
                    <a:pt x="1530" y="313"/>
                  </a:lnTo>
                  <a:lnTo>
                    <a:pt x="1532" y="324"/>
                  </a:lnTo>
                  <a:lnTo>
                    <a:pt x="1534" y="333"/>
                  </a:lnTo>
                  <a:lnTo>
                    <a:pt x="1536" y="344"/>
                  </a:lnTo>
                  <a:lnTo>
                    <a:pt x="1541" y="364"/>
                  </a:lnTo>
                  <a:lnTo>
                    <a:pt x="1545" y="385"/>
                  </a:lnTo>
                  <a:lnTo>
                    <a:pt x="1548" y="405"/>
                  </a:lnTo>
                  <a:lnTo>
                    <a:pt x="1551" y="425"/>
                  </a:lnTo>
                  <a:lnTo>
                    <a:pt x="1554" y="445"/>
                  </a:lnTo>
                  <a:lnTo>
                    <a:pt x="1555" y="464"/>
                  </a:lnTo>
                  <a:lnTo>
                    <a:pt x="1555" y="483"/>
                  </a:lnTo>
                  <a:lnTo>
                    <a:pt x="1554" y="501"/>
                  </a:lnTo>
                  <a:lnTo>
                    <a:pt x="1554" y="516"/>
                  </a:lnTo>
                  <a:lnTo>
                    <a:pt x="1551" y="531"/>
                  </a:lnTo>
                  <a:lnTo>
                    <a:pt x="1549" y="546"/>
                  </a:lnTo>
                  <a:lnTo>
                    <a:pt x="1547" y="561"/>
                  </a:lnTo>
                  <a:lnTo>
                    <a:pt x="1543" y="576"/>
                  </a:lnTo>
                  <a:lnTo>
                    <a:pt x="1540" y="592"/>
                  </a:lnTo>
                  <a:lnTo>
                    <a:pt x="1535" y="607"/>
                  </a:lnTo>
                  <a:lnTo>
                    <a:pt x="1532" y="622"/>
                  </a:lnTo>
                  <a:lnTo>
                    <a:pt x="1528" y="637"/>
                  </a:lnTo>
                  <a:lnTo>
                    <a:pt x="1524" y="652"/>
                  </a:lnTo>
                  <a:lnTo>
                    <a:pt x="1520" y="668"/>
                  </a:lnTo>
                  <a:lnTo>
                    <a:pt x="1516" y="683"/>
                  </a:lnTo>
                  <a:lnTo>
                    <a:pt x="1514" y="698"/>
                  </a:lnTo>
                  <a:lnTo>
                    <a:pt x="1512" y="713"/>
                  </a:lnTo>
                  <a:lnTo>
                    <a:pt x="1510" y="728"/>
                  </a:lnTo>
                  <a:lnTo>
                    <a:pt x="1510" y="743"/>
                  </a:lnTo>
                  <a:lnTo>
                    <a:pt x="1503" y="721"/>
                  </a:lnTo>
                  <a:lnTo>
                    <a:pt x="1496" y="696"/>
                  </a:lnTo>
                  <a:lnTo>
                    <a:pt x="1489" y="669"/>
                  </a:lnTo>
                  <a:lnTo>
                    <a:pt x="1483" y="640"/>
                  </a:lnTo>
                  <a:lnTo>
                    <a:pt x="1475" y="610"/>
                  </a:lnTo>
                  <a:lnTo>
                    <a:pt x="1468" y="580"/>
                  </a:lnTo>
                  <a:lnTo>
                    <a:pt x="1460" y="549"/>
                  </a:lnTo>
                  <a:lnTo>
                    <a:pt x="1452" y="518"/>
                  </a:lnTo>
                  <a:lnTo>
                    <a:pt x="1443" y="490"/>
                  </a:lnTo>
                  <a:lnTo>
                    <a:pt x="1433" y="461"/>
                  </a:lnTo>
                  <a:lnTo>
                    <a:pt x="1422" y="434"/>
                  </a:lnTo>
                  <a:lnTo>
                    <a:pt x="1409" y="409"/>
                  </a:lnTo>
                  <a:lnTo>
                    <a:pt x="1395" y="387"/>
                  </a:lnTo>
                  <a:lnTo>
                    <a:pt x="1380" y="369"/>
                  </a:lnTo>
                  <a:lnTo>
                    <a:pt x="1363" y="353"/>
                  </a:lnTo>
                  <a:lnTo>
                    <a:pt x="1345" y="342"/>
                  </a:lnTo>
                  <a:close/>
                  <a:moveTo>
                    <a:pt x="1271" y="341"/>
                  </a:moveTo>
                  <a:lnTo>
                    <a:pt x="1257" y="346"/>
                  </a:lnTo>
                  <a:lnTo>
                    <a:pt x="1243" y="354"/>
                  </a:lnTo>
                  <a:lnTo>
                    <a:pt x="1231" y="363"/>
                  </a:lnTo>
                  <a:lnTo>
                    <a:pt x="1220" y="375"/>
                  </a:lnTo>
                  <a:lnTo>
                    <a:pt x="1209" y="388"/>
                  </a:lnTo>
                  <a:lnTo>
                    <a:pt x="1199" y="402"/>
                  </a:lnTo>
                  <a:lnTo>
                    <a:pt x="1191" y="418"/>
                  </a:lnTo>
                  <a:lnTo>
                    <a:pt x="1182" y="434"/>
                  </a:lnTo>
                  <a:lnTo>
                    <a:pt x="1175" y="450"/>
                  </a:lnTo>
                  <a:lnTo>
                    <a:pt x="1167" y="467"/>
                  </a:lnTo>
                  <a:lnTo>
                    <a:pt x="1161" y="485"/>
                  </a:lnTo>
                  <a:lnTo>
                    <a:pt x="1155" y="501"/>
                  </a:lnTo>
                  <a:lnTo>
                    <a:pt x="1151" y="518"/>
                  </a:lnTo>
                  <a:lnTo>
                    <a:pt x="1147" y="534"/>
                  </a:lnTo>
                  <a:lnTo>
                    <a:pt x="1143" y="549"/>
                  </a:lnTo>
                  <a:lnTo>
                    <a:pt x="1139" y="563"/>
                  </a:lnTo>
                  <a:lnTo>
                    <a:pt x="1116" y="672"/>
                  </a:lnTo>
                  <a:lnTo>
                    <a:pt x="1100" y="644"/>
                  </a:lnTo>
                  <a:lnTo>
                    <a:pt x="1094" y="637"/>
                  </a:lnTo>
                  <a:lnTo>
                    <a:pt x="1087" y="631"/>
                  </a:lnTo>
                  <a:lnTo>
                    <a:pt x="1079" y="624"/>
                  </a:lnTo>
                  <a:lnTo>
                    <a:pt x="1072" y="622"/>
                  </a:lnTo>
                  <a:lnTo>
                    <a:pt x="1072" y="611"/>
                  </a:lnTo>
                  <a:lnTo>
                    <a:pt x="1071" y="602"/>
                  </a:lnTo>
                  <a:lnTo>
                    <a:pt x="1069" y="591"/>
                  </a:lnTo>
                  <a:lnTo>
                    <a:pt x="1068" y="580"/>
                  </a:lnTo>
                  <a:lnTo>
                    <a:pt x="1065" y="572"/>
                  </a:lnTo>
                  <a:lnTo>
                    <a:pt x="1063" y="563"/>
                  </a:lnTo>
                  <a:lnTo>
                    <a:pt x="1062" y="557"/>
                  </a:lnTo>
                  <a:lnTo>
                    <a:pt x="1061" y="552"/>
                  </a:lnTo>
                  <a:lnTo>
                    <a:pt x="996" y="285"/>
                  </a:lnTo>
                  <a:lnTo>
                    <a:pt x="970" y="178"/>
                  </a:lnTo>
                  <a:lnTo>
                    <a:pt x="966" y="161"/>
                  </a:lnTo>
                  <a:lnTo>
                    <a:pt x="963" y="147"/>
                  </a:lnTo>
                  <a:lnTo>
                    <a:pt x="959" y="137"/>
                  </a:lnTo>
                  <a:lnTo>
                    <a:pt x="958" y="127"/>
                  </a:lnTo>
                  <a:lnTo>
                    <a:pt x="956" y="117"/>
                  </a:lnTo>
                  <a:lnTo>
                    <a:pt x="956" y="107"/>
                  </a:lnTo>
                  <a:lnTo>
                    <a:pt x="957" y="93"/>
                  </a:lnTo>
                  <a:lnTo>
                    <a:pt x="958" y="76"/>
                  </a:lnTo>
                  <a:lnTo>
                    <a:pt x="965" y="0"/>
                  </a:lnTo>
                  <a:lnTo>
                    <a:pt x="970" y="10"/>
                  </a:lnTo>
                  <a:lnTo>
                    <a:pt x="976" y="21"/>
                  </a:lnTo>
                  <a:lnTo>
                    <a:pt x="981" y="34"/>
                  </a:lnTo>
                  <a:lnTo>
                    <a:pt x="986" y="48"/>
                  </a:lnTo>
                  <a:lnTo>
                    <a:pt x="992" y="61"/>
                  </a:lnTo>
                  <a:lnTo>
                    <a:pt x="997" y="72"/>
                  </a:lnTo>
                  <a:lnTo>
                    <a:pt x="1002" y="83"/>
                  </a:lnTo>
                  <a:lnTo>
                    <a:pt x="1007" y="93"/>
                  </a:lnTo>
                  <a:lnTo>
                    <a:pt x="1011" y="100"/>
                  </a:lnTo>
                  <a:lnTo>
                    <a:pt x="1016" y="110"/>
                  </a:lnTo>
                  <a:lnTo>
                    <a:pt x="1022" y="119"/>
                  </a:lnTo>
                  <a:lnTo>
                    <a:pt x="1027" y="130"/>
                  </a:lnTo>
                  <a:lnTo>
                    <a:pt x="1032" y="140"/>
                  </a:lnTo>
                  <a:lnTo>
                    <a:pt x="1038" y="149"/>
                  </a:lnTo>
                  <a:lnTo>
                    <a:pt x="1043" y="158"/>
                  </a:lnTo>
                  <a:lnTo>
                    <a:pt x="1047" y="165"/>
                  </a:lnTo>
                  <a:lnTo>
                    <a:pt x="1067" y="188"/>
                  </a:lnTo>
                  <a:lnTo>
                    <a:pt x="1086" y="209"/>
                  </a:lnTo>
                  <a:lnTo>
                    <a:pt x="1107" y="231"/>
                  </a:lnTo>
                  <a:lnTo>
                    <a:pt x="1129" y="250"/>
                  </a:lnTo>
                  <a:lnTo>
                    <a:pt x="1149" y="267"/>
                  </a:lnTo>
                  <a:lnTo>
                    <a:pt x="1170" y="284"/>
                  </a:lnTo>
                  <a:lnTo>
                    <a:pt x="1190" y="298"/>
                  </a:lnTo>
                  <a:lnTo>
                    <a:pt x="1209" y="310"/>
                  </a:lnTo>
                  <a:lnTo>
                    <a:pt x="1216" y="314"/>
                  </a:lnTo>
                  <a:lnTo>
                    <a:pt x="1224" y="318"/>
                  </a:lnTo>
                  <a:lnTo>
                    <a:pt x="1231" y="323"/>
                  </a:lnTo>
                  <a:lnTo>
                    <a:pt x="1239" y="326"/>
                  </a:lnTo>
                  <a:lnTo>
                    <a:pt x="1245" y="330"/>
                  </a:lnTo>
                  <a:lnTo>
                    <a:pt x="1254" y="333"/>
                  </a:lnTo>
                  <a:lnTo>
                    <a:pt x="1261" y="338"/>
                  </a:lnTo>
                  <a:lnTo>
                    <a:pt x="1271" y="3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65" name="Freeform 37"/>
            <p:cNvSpPr/>
            <p:nvPr/>
          </p:nvSpPr>
          <p:spPr>
            <a:xfrm>
              <a:off x="2444400" y="3455640"/>
              <a:ext cx="29160" cy="24840"/>
            </a:xfrm>
            <a:custGeom>
              <a:avLst/>
              <a:gdLst>
                <a:gd name="textAreaLeft" fmla="*/ 0 w 29160"/>
                <a:gd name="textAreaRight" fmla="*/ 29520 w 29160"/>
                <a:gd name="textAreaTop" fmla="*/ 0 h 24840"/>
                <a:gd name="textAreaBottom" fmla="*/ 25200 h 24840"/>
              </a:gdLst>
              <a:ahLst/>
              <a:rect l="textAreaLeft" t="textAreaTop" r="textAreaRight" b="textAreaBottom"/>
              <a:pathLst>
                <a:path w="383" h="335">
                  <a:moveTo>
                    <a:pt x="171" y="0"/>
                  </a:moveTo>
                  <a:lnTo>
                    <a:pt x="171" y="0"/>
                  </a:lnTo>
                  <a:lnTo>
                    <a:pt x="160" y="7"/>
                  </a:lnTo>
                  <a:lnTo>
                    <a:pt x="148" y="14"/>
                  </a:lnTo>
                  <a:lnTo>
                    <a:pt x="136" y="22"/>
                  </a:lnTo>
                  <a:lnTo>
                    <a:pt x="123" y="29"/>
                  </a:lnTo>
                  <a:lnTo>
                    <a:pt x="109" y="38"/>
                  </a:lnTo>
                  <a:lnTo>
                    <a:pt x="95" y="46"/>
                  </a:lnTo>
                  <a:lnTo>
                    <a:pt x="82" y="55"/>
                  </a:lnTo>
                  <a:lnTo>
                    <a:pt x="69" y="63"/>
                  </a:lnTo>
                  <a:lnTo>
                    <a:pt x="56" y="71"/>
                  </a:lnTo>
                  <a:lnTo>
                    <a:pt x="45" y="80"/>
                  </a:lnTo>
                  <a:lnTo>
                    <a:pt x="34" y="87"/>
                  </a:lnTo>
                  <a:lnTo>
                    <a:pt x="23" y="95"/>
                  </a:lnTo>
                  <a:lnTo>
                    <a:pt x="15" y="102"/>
                  </a:lnTo>
                  <a:lnTo>
                    <a:pt x="8" y="108"/>
                  </a:lnTo>
                  <a:lnTo>
                    <a:pt x="3" y="115"/>
                  </a:lnTo>
                  <a:lnTo>
                    <a:pt x="0" y="120"/>
                  </a:lnTo>
                  <a:lnTo>
                    <a:pt x="19" y="124"/>
                  </a:lnTo>
                  <a:lnTo>
                    <a:pt x="57" y="102"/>
                  </a:lnTo>
                  <a:lnTo>
                    <a:pt x="65" y="99"/>
                  </a:lnTo>
                  <a:lnTo>
                    <a:pt x="71" y="96"/>
                  </a:lnTo>
                  <a:lnTo>
                    <a:pt x="78" y="93"/>
                  </a:lnTo>
                  <a:lnTo>
                    <a:pt x="85" y="91"/>
                  </a:lnTo>
                  <a:lnTo>
                    <a:pt x="92" y="90"/>
                  </a:lnTo>
                  <a:lnTo>
                    <a:pt x="98" y="90"/>
                  </a:lnTo>
                  <a:lnTo>
                    <a:pt x="106" y="90"/>
                  </a:lnTo>
                  <a:lnTo>
                    <a:pt x="113" y="91"/>
                  </a:lnTo>
                  <a:lnTo>
                    <a:pt x="131" y="103"/>
                  </a:lnTo>
                  <a:lnTo>
                    <a:pt x="147" y="113"/>
                  </a:lnTo>
                  <a:lnTo>
                    <a:pt x="162" y="123"/>
                  </a:lnTo>
                  <a:lnTo>
                    <a:pt x="177" y="133"/>
                  </a:lnTo>
                  <a:lnTo>
                    <a:pt x="191" y="143"/>
                  </a:lnTo>
                  <a:lnTo>
                    <a:pt x="204" y="152"/>
                  </a:lnTo>
                  <a:lnTo>
                    <a:pt x="216" y="162"/>
                  </a:lnTo>
                  <a:lnTo>
                    <a:pt x="228" y="172"/>
                  </a:lnTo>
                  <a:lnTo>
                    <a:pt x="238" y="183"/>
                  </a:lnTo>
                  <a:lnTo>
                    <a:pt x="249" y="195"/>
                  </a:lnTo>
                  <a:lnTo>
                    <a:pt x="259" y="209"/>
                  </a:lnTo>
                  <a:lnTo>
                    <a:pt x="268" y="223"/>
                  </a:lnTo>
                  <a:lnTo>
                    <a:pt x="278" y="240"/>
                  </a:lnTo>
                  <a:lnTo>
                    <a:pt x="288" y="258"/>
                  </a:lnTo>
                  <a:lnTo>
                    <a:pt x="296" y="278"/>
                  </a:lnTo>
                  <a:lnTo>
                    <a:pt x="306" y="301"/>
                  </a:lnTo>
                  <a:lnTo>
                    <a:pt x="279" y="335"/>
                  </a:lnTo>
                  <a:lnTo>
                    <a:pt x="291" y="335"/>
                  </a:lnTo>
                  <a:lnTo>
                    <a:pt x="293" y="335"/>
                  </a:lnTo>
                  <a:lnTo>
                    <a:pt x="295" y="335"/>
                  </a:lnTo>
                  <a:lnTo>
                    <a:pt x="307" y="335"/>
                  </a:lnTo>
                  <a:lnTo>
                    <a:pt x="314" y="330"/>
                  </a:lnTo>
                  <a:lnTo>
                    <a:pt x="324" y="322"/>
                  </a:lnTo>
                  <a:lnTo>
                    <a:pt x="336" y="314"/>
                  </a:lnTo>
                  <a:lnTo>
                    <a:pt x="346" y="304"/>
                  </a:lnTo>
                  <a:lnTo>
                    <a:pt x="358" y="296"/>
                  </a:lnTo>
                  <a:lnTo>
                    <a:pt x="369" y="286"/>
                  </a:lnTo>
                  <a:lnTo>
                    <a:pt x="376" y="278"/>
                  </a:lnTo>
                  <a:lnTo>
                    <a:pt x="383" y="272"/>
                  </a:lnTo>
                  <a:lnTo>
                    <a:pt x="380" y="266"/>
                  </a:lnTo>
                  <a:lnTo>
                    <a:pt x="376" y="259"/>
                  </a:lnTo>
                  <a:lnTo>
                    <a:pt x="373" y="254"/>
                  </a:lnTo>
                  <a:lnTo>
                    <a:pt x="370" y="249"/>
                  </a:lnTo>
                  <a:lnTo>
                    <a:pt x="368" y="244"/>
                  </a:lnTo>
                  <a:lnTo>
                    <a:pt x="365" y="238"/>
                  </a:lnTo>
                  <a:lnTo>
                    <a:pt x="361" y="232"/>
                  </a:lnTo>
                  <a:lnTo>
                    <a:pt x="357" y="226"/>
                  </a:lnTo>
                  <a:lnTo>
                    <a:pt x="355" y="219"/>
                  </a:lnTo>
                  <a:lnTo>
                    <a:pt x="354" y="209"/>
                  </a:lnTo>
                  <a:lnTo>
                    <a:pt x="355" y="199"/>
                  </a:lnTo>
                  <a:lnTo>
                    <a:pt x="357" y="190"/>
                  </a:lnTo>
                  <a:lnTo>
                    <a:pt x="360" y="178"/>
                  </a:lnTo>
                  <a:lnTo>
                    <a:pt x="362" y="167"/>
                  </a:lnTo>
                  <a:lnTo>
                    <a:pt x="365" y="155"/>
                  </a:lnTo>
                  <a:lnTo>
                    <a:pt x="366" y="144"/>
                  </a:lnTo>
                  <a:lnTo>
                    <a:pt x="356" y="127"/>
                  </a:lnTo>
                  <a:lnTo>
                    <a:pt x="349" y="111"/>
                  </a:lnTo>
                  <a:lnTo>
                    <a:pt x="343" y="97"/>
                  </a:lnTo>
                  <a:lnTo>
                    <a:pt x="338" y="84"/>
                  </a:lnTo>
                  <a:lnTo>
                    <a:pt x="332" y="73"/>
                  </a:lnTo>
                  <a:lnTo>
                    <a:pt x="327" y="65"/>
                  </a:lnTo>
                  <a:lnTo>
                    <a:pt x="322" y="57"/>
                  </a:lnTo>
                  <a:lnTo>
                    <a:pt x="314" y="53"/>
                  </a:lnTo>
                  <a:lnTo>
                    <a:pt x="305" y="49"/>
                  </a:lnTo>
                  <a:lnTo>
                    <a:pt x="293" y="43"/>
                  </a:lnTo>
                  <a:lnTo>
                    <a:pt x="278" y="37"/>
                  </a:lnTo>
                  <a:lnTo>
                    <a:pt x="261" y="30"/>
                  </a:lnTo>
                  <a:lnTo>
                    <a:pt x="242" y="23"/>
                  </a:lnTo>
                  <a:lnTo>
                    <a:pt x="220" y="15"/>
                  </a:lnTo>
                  <a:lnTo>
                    <a:pt x="197" y="8"/>
                  </a:lnTo>
                  <a:lnTo>
                    <a:pt x="171" y="0"/>
                  </a:lnTo>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ccecff"/>
                </a:solidFill>
                <a:latin typeface="Times New Roman"/>
              </a:endParaRPr>
            </a:p>
          </p:txBody>
        </p:sp>
        <p:sp>
          <p:nvSpPr>
            <p:cNvPr id="366" name="Freeform 38"/>
            <p:cNvSpPr/>
            <p:nvPr/>
          </p:nvSpPr>
          <p:spPr>
            <a:xfrm>
              <a:off x="2278800" y="3459240"/>
              <a:ext cx="23400" cy="17640"/>
            </a:xfrm>
            <a:custGeom>
              <a:avLst/>
              <a:gdLst>
                <a:gd name="textAreaLeft" fmla="*/ 0 w 23400"/>
                <a:gd name="textAreaRight" fmla="*/ 23760 w 23400"/>
                <a:gd name="textAreaTop" fmla="*/ 0 h 17640"/>
                <a:gd name="textAreaBottom" fmla="*/ 18000 h 17640"/>
              </a:gdLst>
              <a:ahLst/>
              <a:rect l="textAreaLeft" t="textAreaTop" r="textAreaRight" b="textAreaBottom"/>
              <a:pathLst>
                <a:path w="310" h="242">
                  <a:moveTo>
                    <a:pt x="0" y="16"/>
                  </a:moveTo>
                  <a:lnTo>
                    <a:pt x="0" y="16"/>
                  </a:lnTo>
                  <a:lnTo>
                    <a:pt x="4" y="24"/>
                  </a:lnTo>
                  <a:lnTo>
                    <a:pt x="7" y="32"/>
                  </a:lnTo>
                  <a:lnTo>
                    <a:pt x="8" y="41"/>
                  </a:lnTo>
                  <a:lnTo>
                    <a:pt x="10" y="50"/>
                  </a:lnTo>
                  <a:lnTo>
                    <a:pt x="10" y="58"/>
                  </a:lnTo>
                  <a:lnTo>
                    <a:pt x="10" y="68"/>
                  </a:lnTo>
                  <a:lnTo>
                    <a:pt x="10" y="77"/>
                  </a:lnTo>
                  <a:lnTo>
                    <a:pt x="9" y="88"/>
                  </a:lnTo>
                  <a:lnTo>
                    <a:pt x="9" y="99"/>
                  </a:lnTo>
                  <a:lnTo>
                    <a:pt x="8" y="111"/>
                  </a:lnTo>
                  <a:lnTo>
                    <a:pt x="7" y="122"/>
                  </a:lnTo>
                  <a:lnTo>
                    <a:pt x="6" y="134"/>
                  </a:lnTo>
                  <a:lnTo>
                    <a:pt x="6" y="147"/>
                  </a:lnTo>
                  <a:lnTo>
                    <a:pt x="6" y="161"/>
                  </a:lnTo>
                  <a:lnTo>
                    <a:pt x="6" y="175"/>
                  </a:lnTo>
                  <a:lnTo>
                    <a:pt x="7" y="190"/>
                  </a:lnTo>
                  <a:lnTo>
                    <a:pt x="19" y="242"/>
                  </a:lnTo>
                  <a:lnTo>
                    <a:pt x="35" y="230"/>
                  </a:lnTo>
                  <a:lnTo>
                    <a:pt x="53" y="218"/>
                  </a:lnTo>
                  <a:lnTo>
                    <a:pt x="72" y="204"/>
                  </a:lnTo>
                  <a:lnTo>
                    <a:pt x="92" y="190"/>
                  </a:lnTo>
                  <a:lnTo>
                    <a:pt x="114" y="175"/>
                  </a:lnTo>
                  <a:lnTo>
                    <a:pt x="135" y="160"/>
                  </a:lnTo>
                  <a:lnTo>
                    <a:pt x="158" y="145"/>
                  </a:lnTo>
                  <a:lnTo>
                    <a:pt x="179" y="129"/>
                  </a:lnTo>
                  <a:lnTo>
                    <a:pt x="201" y="113"/>
                  </a:lnTo>
                  <a:lnTo>
                    <a:pt x="221" y="98"/>
                  </a:lnTo>
                  <a:lnTo>
                    <a:pt x="240" y="82"/>
                  </a:lnTo>
                  <a:lnTo>
                    <a:pt x="257" y="66"/>
                  </a:lnTo>
                  <a:lnTo>
                    <a:pt x="274" y="51"/>
                  </a:lnTo>
                  <a:lnTo>
                    <a:pt x="288" y="36"/>
                  </a:lnTo>
                  <a:lnTo>
                    <a:pt x="300" y="21"/>
                  </a:lnTo>
                  <a:lnTo>
                    <a:pt x="310" y="7"/>
                  </a:lnTo>
                  <a:lnTo>
                    <a:pt x="297" y="3"/>
                  </a:lnTo>
                  <a:lnTo>
                    <a:pt x="283" y="0"/>
                  </a:lnTo>
                  <a:lnTo>
                    <a:pt x="267" y="0"/>
                  </a:lnTo>
                  <a:lnTo>
                    <a:pt x="250" y="1"/>
                  </a:lnTo>
                  <a:lnTo>
                    <a:pt x="231" y="5"/>
                  </a:lnTo>
                  <a:lnTo>
                    <a:pt x="211" y="9"/>
                  </a:lnTo>
                  <a:lnTo>
                    <a:pt x="190" y="13"/>
                  </a:lnTo>
                  <a:lnTo>
                    <a:pt x="168" y="17"/>
                  </a:lnTo>
                  <a:lnTo>
                    <a:pt x="147" y="22"/>
                  </a:lnTo>
                  <a:lnTo>
                    <a:pt x="125" y="26"/>
                  </a:lnTo>
                  <a:lnTo>
                    <a:pt x="103" y="29"/>
                  </a:lnTo>
                  <a:lnTo>
                    <a:pt x="82" y="30"/>
                  </a:lnTo>
                  <a:lnTo>
                    <a:pt x="60" y="30"/>
                  </a:lnTo>
                  <a:lnTo>
                    <a:pt x="39" y="28"/>
                  </a:lnTo>
                  <a:lnTo>
                    <a:pt x="20" y="24"/>
                  </a:lnTo>
                  <a:lnTo>
                    <a:pt x="0" y="16"/>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ccecff"/>
                </a:solidFill>
                <a:latin typeface="Times New Roman"/>
              </a:endParaRPr>
            </a:p>
          </p:txBody>
        </p:sp>
        <p:sp>
          <p:nvSpPr>
            <p:cNvPr id="367" name="Freeform 39"/>
            <p:cNvSpPr/>
            <p:nvPr/>
          </p:nvSpPr>
          <p:spPr>
            <a:xfrm>
              <a:off x="2381760" y="3300120"/>
              <a:ext cx="15840" cy="41400"/>
            </a:xfrm>
            <a:custGeom>
              <a:avLst/>
              <a:gdLst>
                <a:gd name="textAreaLeft" fmla="*/ 0 w 15840"/>
                <a:gd name="textAreaRight" fmla="*/ 16200 w 15840"/>
                <a:gd name="textAreaTop" fmla="*/ 0 h 41400"/>
                <a:gd name="textAreaBottom" fmla="*/ 41760 h 41400"/>
              </a:gdLst>
              <a:ahLst/>
              <a:rect l="textAreaLeft" t="textAreaTop" r="textAreaRight" b="textAreaBottom"/>
              <a:pathLst>
                <a:path w="210" h="555">
                  <a:moveTo>
                    <a:pt x="0" y="154"/>
                  </a:moveTo>
                  <a:lnTo>
                    <a:pt x="0" y="154"/>
                  </a:lnTo>
                  <a:lnTo>
                    <a:pt x="35" y="140"/>
                  </a:lnTo>
                  <a:lnTo>
                    <a:pt x="65" y="121"/>
                  </a:lnTo>
                  <a:lnTo>
                    <a:pt x="90" y="100"/>
                  </a:lnTo>
                  <a:lnTo>
                    <a:pt x="112" y="77"/>
                  </a:lnTo>
                  <a:lnTo>
                    <a:pt x="129" y="54"/>
                  </a:lnTo>
                  <a:lnTo>
                    <a:pt x="144" y="33"/>
                  </a:lnTo>
                  <a:lnTo>
                    <a:pt x="157" y="15"/>
                  </a:lnTo>
                  <a:lnTo>
                    <a:pt x="167" y="0"/>
                  </a:lnTo>
                  <a:lnTo>
                    <a:pt x="169" y="2"/>
                  </a:lnTo>
                  <a:lnTo>
                    <a:pt x="170" y="5"/>
                  </a:lnTo>
                  <a:lnTo>
                    <a:pt x="171" y="10"/>
                  </a:lnTo>
                  <a:lnTo>
                    <a:pt x="171" y="15"/>
                  </a:lnTo>
                  <a:lnTo>
                    <a:pt x="171" y="20"/>
                  </a:lnTo>
                  <a:lnTo>
                    <a:pt x="170" y="26"/>
                  </a:lnTo>
                  <a:lnTo>
                    <a:pt x="169" y="32"/>
                  </a:lnTo>
                  <a:lnTo>
                    <a:pt x="169" y="37"/>
                  </a:lnTo>
                  <a:lnTo>
                    <a:pt x="169" y="43"/>
                  </a:lnTo>
                  <a:lnTo>
                    <a:pt x="170" y="48"/>
                  </a:lnTo>
                  <a:lnTo>
                    <a:pt x="170" y="52"/>
                  </a:lnTo>
                  <a:lnTo>
                    <a:pt x="171" y="58"/>
                  </a:lnTo>
                  <a:lnTo>
                    <a:pt x="172" y="62"/>
                  </a:lnTo>
                  <a:lnTo>
                    <a:pt x="173" y="66"/>
                  </a:lnTo>
                  <a:lnTo>
                    <a:pt x="174" y="72"/>
                  </a:lnTo>
                  <a:lnTo>
                    <a:pt x="175" y="76"/>
                  </a:lnTo>
                  <a:lnTo>
                    <a:pt x="178" y="85"/>
                  </a:lnTo>
                  <a:lnTo>
                    <a:pt x="179" y="95"/>
                  </a:lnTo>
                  <a:lnTo>
                    <a:pt x="181" y="105"/>
                  </a:lnTo>
                  <a:lnTo>
                    <a:pt x="183" y="115"/>
                  </a:lnTo>
                  <a:lnTo>
                    <a:pt x="185" y="125"/>
                  </a:lnTo>
                  <a:lnTo>
                    <a:pt x="187" y="136"/>
                  </a:lnTo>
                  <a:lnTo>
                    <a:pt x="189" y="145"/>
                  </a:lnTo>
                  <a:lnTo>
                    <a:pt x="191" y="156"/>
                  </a:lnTo>
                  <a:lnTo>
                    <a:pt x="196" y="176"/>
                  </a:lnTo>
                  <a:lnTo>
                    <a:pt x="200" y="197"/>
                  </a:lnTo>
                  <a:lnTo>
                    <a:pt x="203" y="217"/>
                  </a:lnTo>
                  <a:lnTo>
                    <a:pt x="206" y="237"/>
                  </a:lnTo>
                  <a:lnTo>
                    <a:pt x="209" y="257"/>
                  </a:lnTo>
                  <a:lnTo>
                    <a:pt x="210" y="276"/>
                  </a:lnTo>
                  <a:lnTo>
                    <a:pt x="210" y="295"/>
                  </a:lnTo>
                  <a:lnTo>
                    <a:pt x="209" y="313"/>
                  </a:lnTo>
                  <a:lnTo>
                    <a:pt x="209" y="328"/>
                  </a:lnTo>
                  <a:lnTo>
                    <a:pt x="206" y="343"/>
                  </a:lnTo>
                  <a:lnTo>
                    <a:pt x="204" y="358"/>
                  </a:lnTo>
                  <a:lnTo>
                    <a:pt x="202" y="373"/>
                  </a:lnTo>
                  <a:lnTo>
                    <a:pt x="198" y="388"/>
                  </a:lnTo>
                  <a:lnTo>
                    <a:pt x="195" y="404"/>
                  </a:lnTo>
                  <a:lnTo>
                    <a:pt x="190" y="419"/>
                  </a:lnTo>
                  <a:lnTo>
                    <a:pt x="187" y="434"/>
                  </a:lnTo>
                  <a:lnTo>
                    <a:pt x="183" y="449"/>
                  </a:lnTo>
                  <a:lnTo>
                    <a:pt x="179" y="464"/>
                  </a:lnTo>
                  <a:lnTo>
                    <a:pt x="175" y="480"/>
                  </a:lnTo>
                  <a:lnTo>
                    <a:pt x="171" y="495"/>
                  </a:lnTo>
                  <a:lnTo>
                    <a:pt x="169" y="510"/>
                  </a:lnTo>
                  <a:lnTo>
                    <a:pt x="167" y="525"/>
                  </a:lnTo>
                  <a:lnTo>
                    <a:pt x="165" y="540"/>
                  </a:lnTo>
                  <a:lnTo>
                    <a:pt x="165" y="555"/>
                  </a:lnTo>
                  <a:lnTo>
                    <a:pt x="158" y="533"/>
                  </a:lnTo>
                  <a:lnTo>
                    <a:pt x="151" y="508"/>
                  </a:lnTo>
                  <a:lnTo>
                    <a:pt x="144" y="481"/>
                  </a:lnTo>
                  <a:lnTo>
                    <a:pt x="138" y="452"/>
                  </a:lnTo>
                  <a:lnTo>
                    <a:pt x="130" y="422"/>
                  </a:lnTo>
                  <a:lnTo>
                    <a:pt x="123" y="392"/>
                  </a:lnTo>
                  <a:lnTo>
                    <a:pt x="115" y="361"/>
                  </a:lnTo>
                  <a:lnTo>
                    <a:pt x="107" y="330"/>
                  </a:lnTo>
                  <a:lnTo>
                    <a:pt x="98" y="302"/>
                  </a:lnTo>
                  <a:lnTo>
                    <a:pt x="88" y="273"/>
                  </a:lnTo>
                  <a:lnTo>
                    <a:pt x="77" y="246"/>
                  </a:lnTo>
                  <a:lnTo>
                    <a:pt x="64" y="221"/>
                  </a:lnTo>
                  <a:lnTo>
                    <a:pt x="50" y="199"/>
                  </a:lnTo>
                  <a:lnTo>
                    <a:pt x="35" y="181"/>
                  </a:lnTo>
                  <a:lnTo>
                    <a:pt x="18" y="165"/>
                  </a:lnTo>
                  <a:lnTo>
                    <a:pt x="0" y="154"/>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368" name="Freeform 40"/>
            <p:cNvSpPr/>
            <p:nvPr/>
          </p:nvSpPr>
          <p:spPr>
            <a:xfrm>
              <a:off x="2351880" y="3286080"/>
              <a:ext cx="23760" cy="50040"/>
            </a:xfrm>
            <a:custGeom>
              <a:avLst/>
              <a:gdLst>
                <a:gd name="textAreaLeft" fmla="*/ 0 w 23760"/>
                <a:gd name="textAreaRight" fmla="*/ 24120 w 23760"/>
                <a:gd name="textAreaTop" fmla="*/ 0 h 50040"/>
                <a:gd name="textAreaBottom" fmla="*/ 50400 h 50040"/>
              </a:gdLst>
              <a:ahLst/>
              <a:rect l="textAreaLeft" t="textAreaTop" r="textAreaRight" b="textAreaBottom"/>
              <a:pathLst>
                <a:path w="315" h="672">
                  <a:moveTo>
                    <a:pt x="315" y="341"/>
                  </a:moveTo>
                  <a:lnTo>
                    <a:pt x="315" y="341"/>
                  </a:lnTo>
                  <a:lnTo>
                    <a:pt x="301" y="346"/>
                  </a:lnTo>
                  <a:lnTo>
                    <a:pt x="287" y="354"/>
                  </a:lnTo>
                  <a:lnTo>
                    <a:pt x="275" y="363"/>
                  </a:lnTo>
                  <a:lnTo>
                    <a:pt x="264" y="375"/>
                  </a:lnTo>
                  <a:lnTo>
                    <a:pt x="253" y="388"/>
                  </a:lnTo>
                  <a:lnTo>
                    <a:pt x="243" y="402"/>
                  </a:lnTo>
                  <a:lnTo>
                    <a:pt x="235" y="418"/>
                  </a:lnTo>
                  <a:lnTo>
                    <a:pt x="226" y="434"/>
                  </a:lnTo>
                  <a:lnTo>
                    <a:pt x="219" y="450"/>
                  </a:lnTo>
                  <a:lnTo>
                    <a:pt x="211" y="467"/>
                  </a:lnTo>
                  <a:lnTo>
                    <a:pt x="205" y="485"/>
                  </a:lnTo>
                  <a:lnTo>
                    <a:pt x="199" y="501"/>
                  </a:lnTo>
                  <a:lnTo>
                    <a:pt x="195" y="518"/>
                  </a:lnTo>
                  <a:lnTo>
                    <a:pt x="191" y="534"/>
                  </a:lnTo>
                  <a:lnTo>
                    <a:pt x="187" y="549"/>
                  </a:lnTo>
                  <a:lnTo>
                    <a:pt x="183" y="563"/>
                  </a:lnTo>
                  <a:lnTo>
                    <a:pt x="160" y="672"/>
                  </a:lnTo>
                  <a:lnTo>
                    <a:pt x="144" y="644"/>
                  </a:lnTo>
                  <a:lnTo>
                    <a:pt x="138" y="637"/>
                  </a:lnTo>
                  <a:lnTo>
                    <a:pt x="131" y="631"/>
                  </a:lnTo>
                  <a:lnTo>
                    <a:pt x="123" y="624"/>
                  </a:lnTo>
                  <a:lnTo>
                    <a:pt x="116" y="622"/>
                  </a:lnTo>
                  <a:lnTo>
                    <a:pt x="116" y="611"/>
                  </a:lnTo>
                  <a:lnTo>
                    <a:pt x="115" y="602"/>
                  </a:lnTo>
                  <a:lnTo>
                    <a:pt x="113" y="591"/>
                  </a:lnTo>
                  <a:lnTo>
                    <a:pt x="112" y="580"/>
                  </a:lnTo>
                  <a:lnTo>
                    <a:pt x="109" y="572"/>
                  </a:lnTo>
                  <a:lnTo>
                    <a:pt x="107" y="563"/>
                  </a:lnTo>
                  <a:lnTo>
                    <a:pt x="106" y="557"/>
                  </a:lnTo>
                  <a:lnTo>
                    <a:pt x="105" y="552"/>
                  </a:lnTo>
                  <a:lnTo>
                    <a:pt x="40" y="285"/>
                  </a:lnTo>
                  <a:lnTo>
                    <a:pt x="14" y="178"/>
                  </a:lnTo>
                  <a:lnTo>
                    <a:pt x="10" y="161"/>
                  </a:lnTo>
                  <a:lnTo>
                    <a:pt x="7" y="147"/>
                  </a:lnTo>
                  <a:lnTo>
                    <a:pt x="3" y="137"/>
                  </a:lnTo>
                  <a:lnTo>
                    <a:pt x="2" y="127"/>
                  </a:lnTo>
                  <a:lnTo>
                    <a:pt x="0" y="117"/>
                  </a:lnTo>
                  <a:lnTo>
                    <a:pt x="0" y="107"/>
                  </a:lnTo>
                  <a:lnTo>
                    <a:pt x="1" y="93"/>
                  </a:lnTo>
                  <a:lnTo>
                    <a:pt x="2" y="76"/>
                  </a:lnTo>
                  <a:lnTo>
                    <a:pt x="9" y="0"/>
                  </a:lnTo>
                  <a:lnTo>
                    <a:pt x="14" y="10"/>
                  </a:lnTo>
                  <a:lnTo>
                    <a:pt x="20" y="21"/>
                  </a:lnTo>
                  <a:lnTo>
                    <a:pt x="25" y="34"/>
                  </a:lnTo>
                  <a:lnTo>
                    <a:pt x="30" y="48"/>
                  </a:lnTo>
                  <a:lnTo>
                    <a:pt x="36" y="61"/>
                  </a:lnTo>
                  <a:lnTo>
                    <a:pt x="41" y="72"/>
                  </a:lnTo>
                  <a:lnTo>
                    <a:pt x="46" y="83"/>
                  </a:lnTo>
                  <a:lnTo>
                    <a:pt x="51" y="93"/>
                  </a:lnTo>
                  <a:lnTo>
                    <a:pt x="55" y="100"/>
                  </a:lnTo>
                  <a:lnTo>
                    <a:pt x="60" y="110"/>
                  </a:lnTo>
                  <a:lnTo>
                    <a:pt x="66" y="119"/>
                  </a:lnTo>
                  <a:lnTo>
                    <a:pt x="71" y="130"/>
                  </a:lnTo>
                  <a:lnTo>
                    <a:pt x="76" y="140"/>
                  </a:lnTo>
                  <a:lnTo>
                    <a:pt x="82" y="149"/>
                  </a:lnTo>
                  <a:lnTo>
                    <a:pt x="87" y="158"/>
                  </a:lnTo>
                  <a:lnTo>
                    <a:pt x="91" y="165"/>
                  </a:lnTo>
                  <a:lnTo>
                    <a:pt x="111" y="188"/>
                  </a:lnTo>
                  <a:lnTo>
                    <a:pt x="130" y="209"/>
                  </a:lnTo>
                  <a:lnTo>
                    <a:pt x="151" y="231"/>
                  </a:lnTo>
                  <a:lnTo>
                    <a:pt x="173" y="250"/>
                  </a:lnTo>
                  <a:lnTo>
                    <a:pt x="193" y="267"/>
                  </a:lnTo>
                  <a:lnTo>
                    <a:pt x="214" y="284"/>
                  </a:lnTo>
                  <a:lnTo>
                    <a:pt x="234" y="298"/>
                  </a:lnTo>
                  <a:lnTo>
                    <a:pt x="253" y="310"/>
                  </a:lnTo>
                  <a:lnTo>
                    <a:pt x="260" y="314"/>
                  </a:lnTo>
                  <a:lnTo>
                    <a:pt x="268" y="318"/>
                  </a:lnTo>
                  <a:lnTo>
                    <a:pt x="275" y="323"/>
                  </a:lnTo>
                  <a:lnTo>
                    <a:pt x="283" y="326"/>
                  </a:lnTo>
                  <a:lnTo>
                    <a:pt x="289" y="330"/>
                  </a:lnTo>
                  <a:lnTo>
                    <a:pt x="298" y="333"/>
                  </a:lnTo>
                  <a:lnTo>
                    <a:pt x="305" y="338"/>
                  </a:lnTo>
                  <a:lnTo>
                    <a:pt x="315" y="341"/>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ccecff"/>
                </a:solidFill>
                <a:latin typeface="Times New Roman"/>
              </a:endParaRPr>
            </a:p>
          </p:txBody>
        </p:sp>
        <p:sp>
          <p:nvSpPr>
            <p:cNvPr id="369" name="Freeform 41"/>
            <p:cNvSpPr/>
            <p:nvPr/>
          </p:nvSpPr>
          <p:spPr>
            <a:xfrm>
              <a:off x="2354760" y="3849480"/>
              <a:ext cx="159840" cy="34920"/>
            </a:xfrm>
            <a:custGeom>
              <a:avLst/>
              <a:gdLst>
                <a:gd name="textAreaLeft" fmla="*/ 0 w 159840"/>
                <a:gd name="textAreaRight" fmla="*/ 160200 w 159840"/>
                <a:gd name="textAreaTop" fmla="*/ 0 h 34920"/>
                <a:gd name="textAreaBottom" fmla="*/ 35280 h 34920"/>
              </a:gdLst>
              <a:ahLst/>
              <a:rect l="textAreaLeft" t="textAreaTop" r="textAreaRight" b="textAreaBottom"/>
              <a:pathLst>
                <a:path w="2089" h="465">
                  <a:moveTo>
                    <a:pt x="1843" y="78"/>
                  </a:moveTo>
                  <a:lnTo>
                    <a:pt x="1821" y="61"/>
                  </a:lnTo>
                  <a:lnTo>
                    <a:pt x="1800" y="46"/>
                  </a:lnTo>
                  <a:lnTo>
                    <a:pt x="1779" y="33"/>
                  </a:lnTo>
                  <a:lnTo>
                    <a:pt x="1758" y="23"/>
                  </a:lnTo>
                  <a:lnTo>
                    <a:pt x="1737" y="16"/>
                  </a:lnTo>
                  <a:lnTo>
                    <a:pt x="1717" y="11"/>
                  </a:lnTo>
                  <a:lnTo>
                    <a:pt x="1695" y="8"/>
                  </a:lnTo>
                  <a:lnTo>
                    <a:pt x="1675" y="7"/>
                  </a:lnTo>
                  <a:lnTo>
                    <a:pt x="1653" y="8"/>
                  </a:lnTo>
                  <a:lnTo>
                    <a:pt x="1632" y="12"/>
                  </a:lnTo>
                  <a:lnTo>
                    <a:pt x="1611" y="17"/>
                  </a:lnTo>
                  <a:lnTo>
                    <a:pt x="1589" y="24"/>
                  </a:lnTo>
                  <a:lnTo>
                    <a:pt x="1568" y="33"/>
                  </a:lnTo>
                  <a:lnTo>
                    <a:pt x="1545" y="43"/>
                  </a:lnTo>
                  <a:lnTo>
                    <a:pt x="1523" y="55"/>
                  </a:lnTo>
                  <a:lnTo>
                    <a:pt x="1500" y="68"/>
                  </a:lnTo>
                  <a:lnTo>
                    <a:pt x="1479" y="92"/>
                  </a:lnTo>
                  <a:lnTo>
                    <a:pt x="1457" y="118"/>
                  </a:lnTo>
                  <a:lnTo>
                    <a:pt x="1437" y="145"/>
                  </a:lnTo>
                  <a:lnTo>
                    <a:pt x="1416" y="173"/>
                  </a:lnTo>
                  <a:lnTo>
                    <a:pt x="1394" y="202"/>
                  </a:lnTo>
                  <a:lnTo>
                    <a:pt x="1373" y="231"/>
                  </a:lnTo>
                  <a:lnTo>
                    <a:pt x="1353" y="260"/>
                  </a:lnTo>
                  <a:lnTo>
                    <a:pt x="1331" y="288"/>
                  </a:lnTo>
                  <a:lnTo>
                    <a:pt x="1310" y="314"/>
                  </a:lnTo>
                  <a:lnTo>
                    <a:pt x="1288" y="339"/>
                  </a:lnTo>
                  <a:lnTo>
                    <a:pt x="1268" y="361"/>
                  </a:lnTo>
                  <a:lnTo>
                    <a:pt x="1247" y="382"/>
                  </a:lnTo>
                  <a:lnTo>
                    <a:pt x="1225" y="400"/>
                  </a:lnTo>
                  <a:lnTo>
                    <a:pt x="1204" y="414"/>
                  </a:lnTo>
                  <a:lnTo>
                    <a:pt x="1182" y="423"/>
                  </a:lnTo>
                  <a:lnTo>
                    <a:pt x="1161" y="430"/>
                  </a:lnTo>
                  <a:lnTo>
                    <a:pt x="1172" y="431"/>
                  </a:lnTo>
                  <a:lnTo>
                    <a:pt x="1182" y="432"/>
                  </a:lnTo>
                  <a:lnTo>
                    <a:pt x="1194" y="433"/>
                  </a:lnTo>
                  <a:lnTo>
                    <a:pt x="1207" y="435"/>
                  </a:lnTo>
                  <a:lnTo>
                    <a:pt x="1220" y="436"/>
                  </a:lnTo>
                  <a:lnTo>
                    <a:pt x="1233" y="438"/>
                  </a:lnTo>
                  <a:lnTo>
                    <a:pt x="1246" y="441"/>
                  </a:lnTo>
                  <a:lnTo>
                    <a:pt x="1259" y="442"/>
                  </a:lnTo>
                  <a:lnTo>
                    <a:pt x="1272" y="444"/>
                  </a:lnTo>
                  <a:lnTo>
                    <a:pt x="1284" y="445"/>
                  </a:lnTo>
                  <a:lnTo>
                    <a:pt x="1296" y="446"/>
                  </a:lnTo>
                  <a:lnTo>
                    <a:pt x="1308" y="446"/>
                  </a:lnTo>
                  <a:lnTo>
                    <a:pt x="1317" y="446"/>
                  </a:lnTo>
                  <a:lnTo>
                    <a:pt x="1326" y="445"/>
                  </a:lnTo>
                  <a:lnTo>
                    <a:pt x="1333" y="443"/>
                  </a:lnTo>
                  <a:lnTo>
                    <a:pt x="1340" y="441"/>
                  </a:lnTo>
                  <a:lnTo>
                    <a:pt x="1340" y="417"/>
                  </a:lnTo>
                  <a:lnTo>
                    <a:pt x="1341" y="397"/>
                  </a:lnTo>
                  <a:lnTo>
                    <a:pt x="1342" y="376"/>
                  </a:lnTo>
                  <a:lnTo>
                    <a:pt x="1343" y="358"/>
                  </a:lnTo>
                  <a:lnTo>
                    <a:pt x="1345" y="340"/>
                  </a:lnTo>
                  <a:lnTo>
                    <a:pt x="1347" y="323"/>
                  </a:lnTo>
                  <a:lnTo>
                    <a:pt x="1350" y="306"/>
                  </a:lnTo>
                  <a:lnTo>
                    <a:pt x="1355" y="288"/>
                  </a:lnTo>
                  <a:lnTo>
                    <a:pt x="1364" y="299"/>
                  </a:lnTo>
                  <a:lnTo>
                    <a:pt x="1375" y="311"/>
                  </a:lnTo>
                  <a:lnTo>
                    <a:pt x="1387" y="323"/>
                  </a:lnTo>
                  <a:lnTo>
                    <a:pt x="1399" y="335"/>
                  </a:lnTo>
                  <a:lnTo>
                    <a:pt x="1411" y="346"/>
                  </a:lnTo>
                  <a:lnTo>
                    <a:pt x="1423" y="358"/>
                  </a:lnTo>
                  <a:lnTo>
                    <a:pt x="1436" y="369"/>
                  </a:lnTo>
                  <a:lnTo>
                    <a:pt x="1449" y="381"/>
                  </a:lnTo>
                  <a:lnTo>
                    <a:pt x="1461" y="391"/>
                  </a:lnTo>
                  <a:lnTo>
                    <a:pt x="1471" y="402"/>
                  </a:lnTo>
                  <a:lnTo>
                    <a:pt x="1481" y="414"/>
                  </a:lnTo>
                  <a:lnTo>
                    <a:pt x="1490" y="425"/>
                  </a:lnTo>
                  <a:lnTo>
                    <a:pt x="1497" y="435"/>
                  </a:lnTo>
                  <a:lnTo>
                    <a:pt x="1502" y="445"/>
                  </a:lnTo>
                  <a:lnTo>
                    <a:pt x="1507" y="456"/>
                  </a:lnTo>
                  <a:lnTo>
                    <a:pt x="1508" y="465"/>
                  </a:lnTo>
                  <a:lnTo>
                    <a:pt x="1539" y="464"/>
                  </a:lnTo>
                  <a:lnTo>
                    <a:pt x="1571" y="461"/>
                  </a:lnTo>
                  <a:lnTo>
                    <a:pt x="1604" y="456"/>
                  </a:lnTo>
                  <a:lnTo>
                    <a:pt x="1639" y="448"/>
                  </a:lnTo>
                  <a:lnTo>
                    <a:pt x="1675" y="441"/>
                  </a:lnTo>
                  <a:lnTo>
                    <a:pt x="1711" y="433"/>
                  </a:lnTo>
                  <a:lnTo>
                    <a:pt x="1749" y="425"/>
                  </a:lnTo>
                  <a:lnTo>
                    <a:pt x="1785" y="417"/>
                  </a:lnTo>
                  <a:lnTo>
                    <a:pt x="1822" y="411"/>
                  </a:lnTo>
                  <a:lnTo>
                    <a:pt x="1859" y="405"/>
                  </a:lnTo>
                  <a:lnTo>
                    <a:pt x="1894" y="402"/>
                  </a:lnTo>
                  <a:lnTo>
                    <a:pt x="1928" y="401"/>
                  </a:lnTo>
                  <a:lnTo>
                    <a:pt x="1963" y="403"/>
                  </a:lnTo>
                  <a:lnTo>
                    <a:pt x="1994" y="407"/>
                  </a:lnTo>
                  <a:lnTo>
                    <a:pt x="2025" y="416"/>
                  </a:lnTo>
                  <a:lnTo>
                    <a:pt x="2053" y="429"/>
                  </a:lnTo>
                  <a:lnTo>
                    <a:pt x="2057" y="429"/>
                  </a:lnTo>
                  <a:lnTo>
                    <a:pt x="2061" y="421"/>
                  </a:lnTo>
                  <a:lnTo>
                    <a:pt x="2065" y="414"/>
                  </a:lnTo>
                  <a:lnTo>
                    <a:pt x="2070" y="413"/>
                  </a:lnTo>
                  <a:lnTo>
                    <a:pt x="2075" y="391"/>
                  </a:lnTo>
                  <a:lnTo>
                    <a:pt x="2079" y="372"/>
                  </a:lnTo>
                  <a:lnTo>
                    <a:pt x="2083" y="356"/>
                  </a:lnTo>
                  <a:lnTo>
                    <a:pt x="2086" y="341"/>
                  </a:lnTo>
                  <a:lnTo>
                    <a:pt x="2087" y="327"/>
                  </a:lnTo>
                  <a:lnTo>
                    <a:pt x="2089" y="313"/>
                  </a:lnTo>
                  <a:lnTo>
                    <a:pt x="2089" y="299"/>
                  </a:lnTo>
                  <a:lnTo>
                    <a:pt x="2089" y="285"/>
                  </a:lnTo>
                  <a:lnTo>
                    <a:pt x="2077" y="273"/>
                  </a:lnTo>
                  <a:lnTo>
                    <a:pt x="2062" y="258"/>
                  </a:lnTo>
                  <a:lnTo>
                    <a:pt x="2044" y="242"/>
                  </a:lnTo>
                  <a:lnTo>
                    <a:pt x="2025" y="227"/>
                  </a:lnTo>
                  <a:lnTo>
                    <a:pt x="2003" y="213"/>
                  </a:lnTo>
                  <a:lnTo>
                    <a:pt x="1983" y="202"/>
                  </a:lnTo>
                  <a:lnTo>
                    <a:pt x="1964" y="195"/>
                  </a:lnTo>
                  <a:lnTo>
                    <a:pt x="1946" y="191"/>
                  </a:lnTo>
                  <a:lnTo>
                    <a:pt x="1932" y="186"/>
                  </a:lnTo>
                  <a:lnTo>
                    <a:pt x="1918" y="176"/>
                  </a:lnTo>
                  <a:lnTo>
                    <a:pt x="1905" y="161"/>
                  </a:lnTo>
                  <a:lnTo>
                    <a:pt x="1891" y="144"/>
                  </a:lnTo>
                  <a:lnTo>
                    <a:pt x="1878" y="126"/>
                  </a:lnTo>
                  <a:lnTo>
                    <a:pt x="1865" y="109"/>
                  </a:lnTo>
                  <a:lnTo>
                    <a:pt x="1854" y="92"/>
                  </a:lnTo>
                  <a:lnTo>
                    <a:pt x="1843" y="78"/>
                  </a:lnTo>
                  <a:close/>
                  <a:moveTo>
                    <a:pt x="146" y="46"/>
                  </a:moveTo>
                  <a:lnTo>
                    <a:pt x="152" y="46"/>
                  </a:lnTo>
                  <a:lnTo>
                    <a:pt x="159" y="46"/>
                  </a:lnTo>
                  <a:lnTo>
                    <a:pt x="169" y="46"/>
                  </a:lnTo>
                  <a:lnTo>
                    <a:pt x="178" y="46"/>
                  </a:lnTo>
                  <a:lnTo>
                    <a:pt x="188" y="45"/>
                  </a:lnTo>
                  <a:lnTo>
                    <a:pt x="197" y="44"/>
                  </a:lnTo>
                  <a:lnTo>
                    <a:pt x="204" y="43"/>
                  </a:lnTo>
                  <a:lnTo>
                    <a:pt x="209" y="39"/>
                  </a:lnTo>
                  <a:lnTo>
                    <a:pt x="212" y="35"/>
                  </a:lnTo>
                  <a:lnTo>
                    <a:pt x="212" y="31"/>
                  </a:lnTo>
                  <a:lnTo>
                    <a:pt x="210" y="26"/>
                  </a:lnTo>
                  <a:lnTo>
                    <a:pt x="209" y="19"/>
                  </a:lnTo>
                  <a:lnTo>
                    <a:pt x="207" y="14"/>
                  </a:lnTo>
                  <a:lnTo>
                    <a:pt x="205" y="8"/>
                  </a:lnTo>
                  <a:lnTo>
                    <a:pt x="205" y="3"/>
                  </a:lnTo>
                  <a:lnTo>
                    <a:pt x="206" y="0"/>
                  </a:lnTo>
                  <a:lnTo>
                    <a:pt x="227" y="1"/>
                  </a:lnTo>
                  <a:lnTo>
                    <a:pt x="248" y="1"/>
                  </a:lnTo>
                  <a:lnTo>
                    <a:pt x="270" y="2"/>
                  </a:lnTo>
                  <a:lnTo>
                    <a:pt x="292" y="4"/>
                  </a:lnTo>
                  <a:lnTo>
                    <a:pt x="314" y="5"/>
                  </a:lnTo>
                  <a:lnTo>
                    <a:pt x="336" y="8"/>
                  </a:lnTo>
                  <a:lnTo>
                    <a:pt x="357" y="12"/>
                  </a:lnTo>
                  <a:lnTo>
                    <a:pt x="377" y="16"/>
                  </a:lnTo>
                  <a:lnTo>
                    <a:pt x="398" y="21"/>
                  </a:lnTo>
                  <a:lnTo>
                    <a:pt x="416" y="28"/>
                  </a:lnTo>
                  <a:lnTo>
                    <a:pt x="434" y="36"/>
                  </a:lnTo>
                  <a:lnTo>
                    <a:pt x="449" y="46"/>
                  </a:lnTo>
                  <a:lnTo>
                    <a:pt x="464" y="57"/>
                  </a:lnTo>
                  <a:lnTo>
                    <a:pt x="476" y="69"/>
                  </a:lnTo>
                  <a:lnTo>
                    <a:pt x="487" y="83"/>
                  </a:lnTo>
                  <a:lnTo>
                    <a:pt x="494" y="100"/>
                  </a:lnTo>
                  <a:lnTo>
                    <a:pt x="498" y="110"/>
                  </a:lnTo>
                  <a:lnTo>
                    <a:pt x="503" y="118"/>
                  </a:lnTo>
                  <a:lnTo>
                    <a:pt x="505" y="126"/>
                  </a:lnTo>
                  <a:lnTo>
                    <a:pt x="508" y="135"/>
                  </a:lnTo>
                  <a:lnTo>
                    <a:pt x="510" y="145"/>
                  </a:lnTo>
                  <a:lnTo>
                    <a:pt x="511" y="156"/>
                  </a:lnTo>
                  <a:lnTo>
                    <a:pt x="513" y="170"/>
                  </a:lnTo>
                  <a:lnTo>
                    <a:pt x="514" y="186"/>
                  </a:lnTo>
                  <a:lnTo>
                    <a:pt x="521" y="206"/>
                  </a:lnTo>
                  <a:lnTo>
                    <a:pt x="528" y="230"/>
                  </a:lnTo>
                  <a:lnTo>
                    <a:pt x="537" y="254"/>
                  </a:lnTo>
                  <a:lnTo>
                    <a:pt x="545" y="279"/>
                  </a:lnTo>
                  <a:lnTo>
                    <a:pt x="553" y="303"/>
                  </a:lnTo>
                  <a:lnTo>
                    <a:pt x="558" y="322"/>
                  </a:lnTo>
                  <a:lnTo>
                    <a:pt x="563" y="338"/>
                  </a:lnTo>
                  <a:lnTo>
                    <a:pt x="564" y="347"/>
                  </a:lnTo>
                  <a:lnTo>
                    <a:pt x="563" y="358"/>
                  </a:lnTo>
                  <a:lnTo>
                    <a:pt x="560" y="366"/>
                  </a:lnTo>
                  <a:lnTo>
                    <a:pt x="558" y="371"/>
                  </a:lnTo>
                  <a:lnTo>
                    <a:pt x="556" y="373"/>
                  </a:lnTo>
                  <a:lnTo>
                    <a:pt x="553" y="375"/>
                  </a:lnTo>
                  <a:lnTo>
                    <a:pt x="549" y="376"/>
                  </a:lnTo>
                  <a:lnTo>
                    <a:pt x="543" y="379"/>
                  </a:lnTo>
                  <a:lnTo>
                    <a:pt x="537" y="381"/>
                  </a:lnTo>
                  <a:lnTo>
                    <a:pt x="531" y="381"/>
                  </a:lnTo>
                  <a:lnTo>
                    <a:pt x="525" y="380"/>
                  </a:lnTo>
                  <a:lnTo>
                    <a:pt x="520" y="377"/>
                  </a:lnTo>
                  <a:lnTo>
                    <a:pt x="516" y="373"/>
                  </a:lnTo>
                  <a:lnTo>
                    <a:pt x="510" y="369"/>
                  </a:lnTo>
                  <a:lnTo>
                    <a:pt x="506" y="362"/>
                  </a:lnTo>
                  <a:lnTo>
                    <a:pt x="502" y="354"/>
                  </a:lnTo>
                  <a:lnTo>
                    <a:pt x="497" y="344"/>
                  </a:lnTo>
                  <a:lnTo>
                    <a:pt x="484" y="336"/>
                  </a:lnTo>
                  <a:lnTo>
                    <a:pt x="468" y="328"/>
                  </a:lnTo>
                  <a:lnTo>
                    <a:pt x="450" y="321"/>
                  </a:lnTo>
                  <a:lnTo>
                    <a:pt x="430" y="314"/>
                  </a:lnTo>
                  <a:lnTo>
                    <a:pt x="406" y="309"/>
                  </a:lnTo>
                  <a:lnTo>
                    <a:pt x="383" y="305"/>
                  </a:lnTo>
                  <a:lnTo>
                    <a:pt x="356" y="303"/>
                  </a:lnTo>
                  <a:lnTo>
                    <a:pt x="329" y="301"/>
                  </a:lnTo>
                  <a:lnTo>
                    <a:pt x="322" y="301"/>
                  </a:lnTo>
                  <a:lnTo>
                    <a:pt x="314" y="301"/>
                  </a:lnTo>
                  <a:lnTo>
                    <a:pt x="307" y="301"/>
                  </a:lnTo>
                  <a:lnTo>
                    <a:pt x="298" y="303"/>
                  </a:lnTo>
                  <a:lnTo>
                    <a:pt x="290" y="303"/>
                  </a:lnTo>
                  <a:lnTo>
                    <a:pt x="281" y="304"/>
                  </a:lnTo>
                  <a:lnTo>
                    <a:pt x="271" y="306"/>
                  </a:lnTo>
                  <a:lnTo>
                    <a:pt x="261" y="308"/>
                  </a:lnTo>
                  <a:lnTo>
                    <a:pt x="264" y="304"/>
                  </a:lnTo>
                  <a:lnTo>
                    <a:pt x="268" y="299"/>
                  </a:lnTo>
                  <a:lnTo>
                    <a:pt x="274" y="296"/>
                  </a:lnTo>
                  <a:lnTo>
                    <a:pt x="279" y="292"/>
                  </a:lnTo>
                  <a:lnTo>
                    <a:pt x="282" y="288"/>
                  </a:lnTo>
                  <a:lnTo>
                    <a:pt x="284" y="282"/>
                  </a:lnTo>
                  <a:lnTo>
                    <a:pt x="284" y="277"/>
                  </a:lnTo>
                  <a:lnTo>
                    <a:pt x="280" y="269"/>
                  </a:lnTo>
                  <a:lnTo>
                    <a:pt x="267" y="265"/>
                  </a:lnTo>
                  <a:lnTo>
                    <a:pt x="252" y="260"/>
                  </a:lnTo>
                  <a:lnTo>
                    <a:pt x="236" y="252"/>
                  </a:lnTo>
                  <a:lnTo>
                    <a:pt x="218" y="245"/>
                  </a:lnTo>
                  <a:lnTo>
                    <a:pt x="200" y="238"/>
                  </a:lnTo>
                  <a:lnTo>
                    <a:pt x="179" y="231"/>
                  </a:lnTo>
                  <a:lnTo>
                    <a:pt x="160" y="226"/>
                  </a:lnTo>
                  <a:lnTo>
                    <a:pt x="141" y="221"/>
                  </a:lnTo>
                  <a:lnTo>
                    <a:pt x="123" y="223"/>
                  </a:lnTo>
                  <a:lnTo>
                    <a:pt x="104" y="230"/>
                  </a:lnTo>
                  <a:lnTo>
                    <a:pt x="86" y="237"/>
                  </a:lnTo>
                  <a:lnTo>
                    <a:pt x="69" y="247"/>
                  </a:lnTo>
                  <a:lnTo>
                    <a:pt x="52" y="254"/>
                  </a:lnTo>
                  <a:lnTo>
                    <a:pt x="35" y="259"/>
                  </a:lnTo>
                  <a:lnTo>
                    <a:pt x="17" y="260"/>
                  </a:lnTo>
                  <a:lnTo>
                    <a:pt x="0" y="253"/>
                  </a:lnTo>
                  <a:lnTo>
                    <a:pt x="2" y="224"/>
                  </a:lnTo>
                  <a:lnTo>
                    <a:pt x="14" y="198"/>
                  </a:lnTo>
                  <a:lnTo>
                    <a:pt x="34" y="174"/>
                  </a:lnTo>
                  <a:lnTo>
                    <a:pt x="60" y="153"/>
                  </a:lnTo>
                  <a:lnTo>
                    <a:pt x="86" y="135"/>
                  </a:lnTo>
                  <a:lnTo>
                    <a:pt x="114" y="120"/>
                  </a:lnTo>
                  <a:lnTo>
                    <a:pt x="139" y="107"/>
                  </a:lnTo>
                  <a:lnTo>
                    <a:pt x="157" y="97"/>
                  </a:lnTo>
                  <a:lnTo>
                    <a:pt x="157" y="93"/>
                  </a:lnTo>
                  <a:lnTo>
                    <a:pt x="157" y="90"/>
                  </a:lnTo>
                  <a:lnTo>
                    <a:pt x="156" y="88"/>
                  </a:lnTo>
                  <a:lnTo>
                    <a:pt x="156" y="85"/>
                  </a:lnTo>
                  <a:lnTo>
                    <a:pt x="155" y="81"/>
                  </a:lnTo>
                  <a:lnTo>
                    <a:pt x="153" y="74"/>
                  </a:lnTo>
                  <a:lnTo>
                    <a:pt x="149" y="63"/>
                  </a:lnTo>
                  <a:lnTo>
                    <a:pt x="146" y="46"/>
                  </a:lnTo>
                  <a:close/>
                </a:path>
              </a:pathLst>
            </a:custGeom>
            <a:solidFill>
              <a:srgbClr val="e0bf5c"/>
            </a:solidFill>
            <a:ln w="0">
              <a:noFill/>
            </a:ln>
          </p:spPr>
          <p:style>
            <a:lnRef idx="0"/>
            <a:fillRef idx="0"/>
            <a:effectRef idx="0"/>
            <a:fontRef idx="minor"/>
          </p:style>
          <p:txBody>
            <a:bodyPr lIns="90000" rIns="90000" tIns="-11520" bIns="-11520" anchor="t">
              <a:noAutofit/>
            </a:bodyPr>
            <a:p>
              <a:endParaRPr b="0" lang="en-US" sz="2400" spc="-1" strike="noStrike">
                <a:solidFill>
                  <a:srgbClr val="ccecff"/>
                </a:solidFill>
                <a:latin typeface="Times New Roman"/>
              </a:endParaRPr>
            </a:p>
          </p:txBody>
        </p:sp>
        <p:sp>
          <p:nvSpPr>
            <p:cNvPr id="370" name="Freeform 42"/>
            <p:cNvSpPr/>
            <p:nvPr/>
          </p:nvSpPr>
          <p:spPr>
            <a:xfrm>
              <a:off x="2443320" y="3850560"/>
              <a:ext cx="70920" cy="33840"/>
            </a:xfrm>
            <a:custGeom>
              <a:avLst/>
              <a:gdLst>
                <a:gd name="textAreaLeft" fmla="*/ 0 w 70920"/>
                <a:gd name="textAreaRight" fmla="*/ 71280 w 70920"/>
                <a:gd name="textAreaTop" fmla="*/ 0 h 33840"/>
                <a:gd name="textAreaBottom" fmla="*/ 34200 h 33840"/>
              </a:gdLst>
              <a:ahLst/>
              <a:rect l="textAreaLeft" t="textAreaTop" r="textAreaRight" b="textAreaBottom"/>
              <a:pathLst>
                <a:path w="928" h="458">
                  <a:moveTo>
                    <a:pt x="682" y="71"/>
                  </a:moveTo>
                  <a:lnTo>
                    <a:pt x="682" y="71"/>
                  </a:lnTo>
                  <a:lnTo>
                    <a:pt x="660" y="54"/>
                  </a:lnTo>
                  <a:lnTo>
                    <a:pt x="639" y="39"/>
                  </a:lnTo>
                  <a:lnTo>
                    <a:pt x="618" y="26"/>
                  </a:lnTo>
                  <a:lnTo>
                    <a:pt x="597" y="16"/>
                  </a:lnTo>
                  <a:lnTo>
                    <a:pt x="576" y="9"/>
                  </a:lnTo>
                  <a:lnTo>
                    <a:pt x="556" y="4"/>
                  </a:lnTo>
                  <a:lnTo>
                    <a:pt x="534" y="1"/>
                  </a:lnTo>
                  <a:lnTo>
                    <a:pt x="514" y="0"/>
                  </a:lnTo>
                  <a:lnTo>
                    <a:pt x="492" y="1"/>
                  </a:lnTo>
                  <a:lnTo>
                    <a:pt x="471" y="5"/>
                  </a:lnTo>
                  <a:lnTo>
                    <a:pt x="450" y="10"/>
                  </a:lnTo>
                  <a:lnTo>
                    <a:pt x="428" y="17"/>
                  </a:lnTo>
                  <a:lnTo>
                    <a:pt x="407" y="26"/>
                  </a:lnTo>
                  <a:lnTo>
                    <a:pt x="384" y="36"/>
                  </a:lnTo>
                  <a:lnTo>
                    <a:pt x="362" y="48"/>
                  </a:lnTo>
                  <a:lnTo>
                    <a:pt x="339" y="61"/>
                  </a:lnTo>
                  <a:lnTo>
                    <a:pt x="318" y="85"/>
                  </a:lnTo>
                  <a:lnTo>
                    <a:pt x="296" y="111"/>
                  </a:lnTo>
                  <a:lnTo>
                    <a:pt x="276" y="138"/>
                  </a:lnTo>
                  <a:lnTo>
                    <a:pt x="255" y="166"/>
                  </a:lnTo>
                  <a:lnTo>
                    <a:pt x="233" y="195"/>
                  </a:lnTo>
                  <a:lnTo>
                    <a:pt x="212" y="224"/>
                  </a:lnTo>
                  <a:lnTo>
                    <a:pt x="192" y="253"/>
                  </a:lnTo>
                  <a:lnTo>
                    <a:pt x="170" y="281"/>
                  </a:lnTo>
                  <a:lnTo>
                    <a:pt x="149" y="307"/>
                  </a:lnTo>
                  <a:lnTo>
                    <a:pt x="127" y="332"/>
                  </a:lnTo>
                  <a:lnTo>
                    <a:pt x="107" y="354"/>
                  </a:lnTo>
                  <a:lnTo>
                    <a:pt x="86" y="375"/>
                  </a:lnTo>
                  <a:lnTo>
                    <a:pt x="64" y="393"/>
                  </a:lnTo>
                  <a:lnTo>
                    <a:pt x="43" y="407"/>
                  </a:lnTo>
                  <a:lnTo>
                    <a:pt x="21" y="416"/>
                  </a:lnTo>
                  <a:lnTo>
                    <a:pt x="0" y="423"/>
                  </a:lnTo>
                  <a:lnTo>
                    <a:pt x="11" y="424"/>
                  </a:lnTo>
                  <a:lnTo>
                    <a:pt x="21" y="425"/>
                  </a:lnTo>
                  <a:lnTo>
                    <a:pt x="33" y="426"/>
                  </a:lnTo>
                  <a:lnTo>
                    <a:pt x="46" y="428"/>
                  </a:lnTo>
                  <a:lnTo>
                    <a:pt x="59" y="429"/>
                  </a:lnTo>
                  <a:lnTo>
                    <a:pt x="72" y="431"/>
                  </a:lnTo>
                  <a:lnTo>
                    <a:pt x="85" y="434"/>
                  </a:lnTo>
                  <a:lnTo>
                    <a:pt x="98" y="435"/>
                  </a:lnTo>
                  <a:lnTo>
                    <a:pt x="111" y="437"/>
                  </a:lnTo>
                  <a:lnTo>
                    <a:pt x="123" y="438"/>
                  </a:lnTo>
                  <a:lnTo>
                    <a:pt x="135" y="439"/>
                  </a:lnTo>
                  <a:lnTo>
                    <a:pt x="147" y="439"/>
                  </a:lnTo>
                  <a:lnTo>
                    <a:pt x="156" y="439"/>
                  </a:lnTo>
                  <a:lnTo>
                    <a:pt x="165" y="438"/>
                  </a:lnTo>
                  <a:lnTo>
                    <a:pt x="172" y="436"/>
                  </a:lnTo>
                  <a:lnTo>
                    <a:pt x="179" y="434"/>
                  </a:lnTo>
                  <a:lnTo>
                    <a:pt x="179" y="410"/>
                  </a:lnTo>
                  <a:lnTo>
                    <a:pt x="180" y="390"/>
                  </a:lnTo>
                  <a:lnTo>
                    <a:pt x="181" y="369"/>
                  </a:lnTo>
                  <a:lnTo>
                    <a:pt x="182" y="351"/>
                  </a:lnTo>
                  <a:lnTo>
                    <a:pt x="184" y="333"/>
                  </a:lnTo>
                  <a:lnTo>
                    <a:pt x="186" y="316"/>
                  </a:lnTo>
                  <a:lnTo>
                    <a:pt x="189" y="299"/>
                  </a:lnTo>
                  <a:lnTo>
                    <a:pt x="194" y="281"/>
                  </a:lnTo>
                  <a:lnTo>
                    <a:pt x="203" y="292"/>
                  </a:lnTo>
                  <a:lnTo>
                    <a:pt x="214" y="304"/>
                  </a:lnTo>
                  <a:lnTo>
                    <a:pt x="226" y="316"/>
                  </a:lnTo>
                  <a:lnTo>
                    <a:pt x="238" y="328"/>
                  </a:lnTo>
                  <a:lnTo>
                    <a:pt x="250" y="339"/>
                  </a:lnTo>
                  <a:lnTo>
                    <a:pt x="262" y="351"/>
                  </a:lnTo>
                  <a:lnTo>
                    <a:pt x="275" y="362"/>
                  </a:lnTo>
                  <a:lnTo>
                    <a:pt x="288" y="374"/>
                  </a:lnTo>
                  <a:lnTo>
                    <a:pt x="300" y="384"/>
                  </a:lnTo>
                  <a:lnTo>
                    <a:pt x="310" y="395"/>
                  </a:lnTo>
                  <a:lnTo>
                    <a:pt x="320" y="407"/>
                  </a:lnTo>
                  <a:lnTo>
                    <a:pt x="329" y="418"/>
                  </a:lnTo>
                  <a:lnTo>
                    <a:pt x="336" y="428"/>
                  </a:lnTo>
                  <a:lnTo>
                    <a:pt x="341" y="438"/>
                  </a:lnTo>
                  <a:lnTo>
                    <a:pt x="346" y="449"/>
                  </a:lnTo>
                  <a:lnTo>
                    <a:pt x="347" y="458"/>
                  </a:lnTo>
                  <a:lnTo>
                    <a:pt x="378" y="457"/>
                  </a:lnTo>
                  <a:lnTo>
                    <a:pt x="410" y="454"/>
                  </a:lnTo>
                  <a:lnTo>
                    <a:pt x="443" y="449"/>
                  </a:lnTo>
                  <a:lnTo>
                    <a:pt x="478" y="441"/>
                  </a:lnTo>
                  <a:lnTo>
                    <a:pt x="514" y="434"/>
                  </a:lnTo>
                  <a:lnTo>
                    <a:pt x="550" y="426"/>
                  </a:lnTo>
                  <a:lnTo>
                    <a:pt x="588" y="418"/>
                  </a:lnTo>
                  <a:lnTo>
                    <a:pt x="624" y="410"/>
                  </a:lnTo>
                  <a:lnTo>
                    <a:pt x="661" y="404"/>
                  </a:lnTo>
                  <a:lnTo>
                    <a:pt x="698" y="398"/>
                  </a:lnTo>
                  <a:lnTo>
                    <a:pt x="733" y="395"/>
                  </a:lnTo>
                  <a:lnTo>
                    <a:pt x="767" y="394"/>
                  </a:lnTo>
                  <a:lnTo>
                    <a:pt x="802" y="396"/>
                  </a:lnTo>
                  <a:lnTo>
                    <a:pt x="833" y="400"/>
                  </a:lnTo>
                  <a:lnTo>
                    <a:pt x="864" y="409"/>
                  </a:lnTo>
                  <a:lnTo>
                    <a:pt x="892" y="422"/>
                  </a:lnTo>
                  <a:lnTo>
                    <a:pt x="896" y="422"/>
                  </a:lnTo>
                  <a:lnTo>
                    <a:pt x="900" y="414"/>
                  </a:lnTo>
                  <a:lnTo>
                    <a:pt x="904" y="407"/>
                  </a:lnTo>
                  <a:lnTo>
                    <a:pt x="909" y="406"/>
                  </a:lnTo>
                  <a:lnTo>
                    <a:pt x="914" y="384"/>
                  </a:lnTo>
                  <a:lnTo>
                    <a:pt x="918" y="365"/>
                  </a:lnTo>
                  <a:lnTo>
                    <a:pt x="922" y="349"/>
                  </a:lnTo>
                  <a:lnTo>
                    <a:pt x="925" y="334"/>
                  </a:lnTo>
                  <a:lnTo>
                    <a:pt x="926" y="320"/>
                  </a:lnTo>
                  <a:lnTo>
                    <a:pt x="928" y="306"/>
                  </a:lnTo>
                  <a:lnTo>
                    <a:pt x="928" y="292"/>
                  </a:lnTo>
                  <a:lnTo>
                    <a:pt x="928" y="278"/>
                  </a:lnTo>
                  <a:lnTo>
                    <a:pt x="916" y="266"/>
                  </a:lnTo>
                  <a:lnTo>
                    <a:pt x="901" y="251"/>
                  </a:lnTo>
                  <a:lnTo>
                    <a:pt x="883" y="235"/>
                  </a:lnTo>
                  <a:lnTo>
                    <a:pt x="864" y="220"/>
                  </a:lnTo>
                  <a:lnTo>
                    <a:pt x="842" y="206"/>
                  </a:lnTo>
                  <a:lnTo>
                    <a:pt x="822" y="195"/>
                  </a:lnTo>
                  <a:lnTo>
                    <a:pt x="803" y="188"/>
                  </a:lnTo>
                  <a:lnTo>
                    <a:pt x="785" y="184"/>
                  </a:lnTo>
                  <a:lnTo>
                    <a:pt x="771" y="179"/>
                  </a:lnTo>
                  <a:lnTo>
                    <a:pt x="757" y="169"/>
                  </a:lnTo>
                  <a:lnTo>
                    <a:pt x="744" y="154"/>
                  </a:lnTo>
                  <a:lnTo>
                    <a:pt x="730" y="137"/>
                  </a:lnTo>
                  <a:lnTo>
                    <a:pt x="717" y="119"/>
                  </a:lnTo>
                  <a:lnTo>
                    <a:pt x="704" y="102"/>
                  </a:lnTo>
                  <a:lnTo>
                    <a:pt x="693" y="85"/>
                  </a:lnTo>
                  <a:lnTo>
                    <a:pt x="682" y="71"/>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ccecff"/>
                </a:solidFill>
                <a:latin typeface="Times New Roman"/>
              </a:endParaRPr>
            </a:p>
          </p:txBody>
        </p:sp>
        <p:sp>
          <p:nvSpPr>
            <p:cNvPr id="371" name="Freeform 43"/>
            <p:cNvSpPr/>
            <p:nvPr/>
          </p:nvSpPr>
          <p:spPr>
            <a:xfrm>
              <a:off x="2354760" y="3849480"/>
              <a:ext cx="43200" cy="28440"/>
            </a:xfrm>
            <a:custGeom>
              <a:avLst/>
              <a:gdLst>
                <a:gd name="textAreaLeft" fmla="*/ 0 w 43200"/>
                <a:gd name="textAreaRight" fmla="*/ 43560 w 43200"/>
                <a:gd name="textAreaTop" fmla="*/ 0 h 28440"/>
                <a:gd name="textAreaBottom" fmla="*/ 28800 h 28440"/>
              </a:gdLst>
              <a:ahLst/>
              <a:rect l="textAreaLeft" t="textAreaTop" r="textAreaRight" b="textAreaBottom"/>
              <a:pathLst>
                <a:path w="564" h="381">
                  <a:moveTo>
                    <a:pt x="146" y="46"/>
                  </a:moveTo>
                  <a:lnTo>
                    <a:pt x="146" y="46"/>
                  </a:lnTo>
                  <a:lnTo>
                    <a:pt x="152" y="46"/>
                  </a:lnTo>
                  <a:lnTo>
                    <a:pt x="159" y="46"/>
                  </a:lnTo>
                  <a:lnTo>
                    <a:pt x="169" y="46"/>
                  </a:lnTo>
                  <a:lnTo>
                    <a:pt x="178" y="46"/>
                  </a:lnTo>
                  <a:lnTo>
                    <a:pt x="188" y="45"/>
                  </a:lnTo>
                  <a:lnTo>
                    <a:pt x="197" y="44"/>
                  </a:lnTo>
                  <a:lnTo>
                    <a:pt x="204" y="43"/>
                  </a:lnTo>
                  <a:lnTo>
                    <a:pt x="209" y="39"/>
                  </a:lnTo>
                  <a:lnTo>
                    <a:pt x="212" y="35"/>
                  </a:lnTo>
                  <a:lnTo>
                    <a:pt x="212" y="31"/>
                  </a:lnTo>
                  <a:lnTo>
                    <a:pt x="210" y="26"/>
                  </a:lnTo>
                  <a:lnTo>
                    <a:pt x="209" y="19"/>
                  </a:lnTo>
                  <a:lnTo>
                    <a:pt x="207" y="14"/>
                  </a:lnTo>
                  <a:lnTo>
                    <a:pt x="205" y="8"/>
                  </a:lnTo>
                  <a:lnTo>
                    <a:pt x="205" y="3"/>
                  </a:lnTo>
                  <a:lnTo>
                    <a:pt x="206" y="0"/>
                  </a:lnTo>
                  <a:lnTo>
                    <a:pt x="227" y="1"/>
                  </a:lnTo>
                  <a:lnTo>
                    <a:pt x="248" y="1"/>
                  </a:lnTo>
                  <a:lnTo>
                    <a:pt x="270" y="2"/>
                  </a:lnTo>
                  <a:lnTo>
                    <a:pt x="292" y="4"/>
                  </a:lnTo>
                  <a:lnTo>
                    <a:pt x="314" y="5"/>
                  </a:lnTo>
                  <a:lnTo>
                    <a:pt x="336" y="8"/>
                  </a:lnTo>
                  <a:lnTo>
                    <a:pt x="357" y="12"/>
                  </a:lnTo>
                  <a:lnTo>
                    <a:pt x="377" y="16"/>
                  </a:lnTo>
                  <a:lnTo>
                    <a:pt x="398" y="21"/>
                  </a:lnTo>
                  <a:lnTo>
                    <a:pt x="416" y="28"/>
                  </a:lnTo>
                  <a:lnTo>
                    <a:pt x="434" y="36"/>
                  </a:lnTo>
                  <a:lnTo>
                    <a:pt x="449" y="46"/>
                  </a:lnTo>
                  <a:lnTo>
                    <a:pt x="464" y="57"/>
                  </a:lnTo>
                  <a:lnTo>
                    <a:pt x="476" y="69"/>
                  </a:lnTo>
                  <a:lnTo>
                    <a:pt x="487" y="83"/>
                  </a:lnTo>
                  <a:lnTo>
                    <a:pt x="494" y="100"/>
                  </a:lnTo>
                  <a:lnTo>
                    <a:pt x="498" y="110"/>
                  </a:lnTo>
                  <a:lnTo>
                    <a:pt x="503" y="118"/>
                  </a:lnTo>
                  <a:lnTo>
                    <a:pt x="505" y="126"/>
                  </a:lnTo>
                  <a:lnTo>
                    <a:pt x="508" y="135"/>
                  </a:lnTo>
                  <a:lnTo>
                    <a:pt x="510" y="145"/>
                  </a:lnTo>
                  <a:lnTo>
                    <a:pt x="511" y="156"/>
                  </a:lnTo>
                  <a:lnTo>
                    <a:pt x="513" y="170"/>
                  </a:lnTo>
                  <a:lnTo>
                    <a:pt x="514" y="186"/>
                  </a:lnTo>
                  <a:lnTo>
                    <a:pt x="521" y="206"/>
                  </a:lnTo>
                  <a:lnTo>
                    <a:pt x="528" y="230"/>
                  </a:lnTo>
                  <a:lnTo>
                    <a:pt x="537" y="254"/>
                  </a:lnTo>
                  <a:lnTo>
                    <a:pt x="545" y="279"/>
                  </a:lnTo>
                  <a:lnTo>
                    <a:pt x="553" y="303"/>
                  </a:lnTo>
                  <a:lnTo>
                    <a:pt x="558" y="322"/>
                  </a:lnTo>
                  <a:lnTo>
                    <a:pt x="563" y="338"/>
                  </a:lnTo>
                  <a:lnTo>
                    <a:pt x="564" y="347"/>
                  </a:lnTo>
                  <a:lnTo>
                    <a:pt x="563" y="358"/>
                  </a:lnTo>
                  <a:lnTo>
                    <a:pt x="560" y="366"/>
                  </a:lnTo>
                  <a:lnTo>
                    <a:pt x="558" y="371"/>
                  </a:lnTo>
                  <a:lnTo>
                    <a:pt x="556" y="373"/>
                  </a:lnTo>
                  <a:lnTo>
                    <a:pt x="553" y="375"/>
                  </a:lnTo>
                  <a:lnTo>
                    <a:pt x="549" y="376"/>
                  </a:lnTo>
                  <a:lnTo>
                    <a:pt x="543" y="379"/>
                  </a:lnTo>
                  <a:lnTo>
                    <a:pt x="537" y="381"/>
                  </a:lnTo>
                  <a:lnTo>
                    <a:pt x="531" y="381"/>
                  </a:lnTo>
                  <a:lnTo>
                    <a:pt x="525" y="380"/>
                  </a:lnTo>
                  <a:lnTo>
                    <a:pt x="520" y="377"/>
                  </a:lnTo>
                  <a:lnTo>
                    <a:pt x="516" y="373"/>
                  </a:lnTo>
                  <a:lnTo>
                    <a:pt x="510" y="369"/>
                  </a:lnTo>
                  <a:lnTo>
                    <a:pt x="506" y="362"/>
                  </a:lnTo>
                  <a:lnTo>
                    <a:pt x="502" y="354"/>
                  </a:lnTo>
                  <a:lnTo>
                    <a:pt x="497" y="344"/>
                  </a:lnTo>
                  <a:lnTo>
                    <a:pt x="484" y="336"/>
                  </a:lnTo>
                  <a:lnTo>
                    <a:pt x="468" y="328"/>
                  </a:lnTo>
                  <a:lnTo>
                    <a:pt x="450" y="321"/>
                  </a:lnTo>
                  <a:lnTo>
                    <a:pt x="430" y="314"/>
                  </a:lnTo>
                  <a:lnTo>
                    <a:pt x="406" y="309"/>
                  </a:lnTo>
                  <a:lnTo>
                    <a:pt x="383" y="305"/>
                  </a:lnTo>
                  <a:lnTo>
                    <a:pt x="356" y="303"/>
                  </a:lnTo>
                  <a:lnTo>
                    <a:pt x="329" y="301"/>
                  </a:lnTo>
                  <a:lnTo>
                    <a:pt x="322" y="301"/>
                  </a:lnTo>
                  <a:lnTo>
                    <a:pt x="314" y="301"/>
                  </a:lnTo>
                  <a:lnTo>
                    <a:pt x="307" y="301"/>
                  </a:lnTo>
                  <a:lnTo>
                    <a:pt x="298" y="303"/>
                  </a:lnTo>
                  <a:lnTo>
                    <a:pt x="290" y="303"/>
                  </a:lnTo>
                  <a:lnTo>
                    <a:pt x="281" y="304"/>
                  </a:lnTo>
                  <a:lnTo>
                    <a:pt x="271" y="306"/>
                  </a:lnTo>
                  <a:lnTo>
                    <a:pt x="261" y="308"/>
                  </a:lnTo>
                  <a:lnTo>
                    <a:pt x="264" y="304"/>
                  </a:lnTo>
                  <a:lnTo>
                    <a:pt x="268" y="299"/>
                  </a:lnTo>
                  <a:lnTo>
                    <a:pt x="274" y="296"/>
                  </a:lnTo>
                  <a:lnTo>
                    <a:pt x="279" y="292"/>
                  </a:lnTo>
                  <a:lnTo>
                    <a:pt x="282" y="288"/>
                  </a:lnTo>
                  <a:lnTo>
                    <a:pt x="284" y="282"/>
                  </a:lnTo>
                  <a:lnTo>
                    <a:pt x="284" y="277"/>
                  </a:lnTo>
                  <a:lnTo>
                    <a:pt x="280" y="269"/>
                  </a:lnTo>
                  <a:lnTo>
                    <a:pt x="267" y="265"/>
                  </a:lnTo>
                  <a:lnTo>
                    <a:pt x="252" y="260"/>
                  </a:lnTo>
                  <a:lnTo>
                    <a:pt x="236" y="252"/>
                  </a:lnTo>
                  <a:lnTo>
                    <a:pt x="218" y="245"/>
                  </a:lnTo>
                  <a:lnTo>
                    <a:pt x="200" y="238"/>
                  </a:lnTo>
                  <a:lnTo>
                    <a:pt x="179" y="231"/>
                  </a:lnTo>
                  <a:lnTo>
                    <a:pt x="160" y="226"/>
                  </a:lnTo>
                  <a:lnTo>
                    <a:pt x="141" y="221"/>
                  </a:lnTo>
                  <a:lnTo>
                    <a:pt x="123" y="223"/>
                  </a:lnTo>
                  <a:lnTo>
                    <a:pt x="104" y="230"/>
                  </a:lnTo>
                  <a:lnTo>
                    <a:pt x="86" y="237"/>
                  </a:lnTo>
                  <a:lnTo>
                    <a:pt x="69" y="247"/>
                  </a:lnTo>
                  <a:lnTo>
                    <a:pt x="52" y="254"/>
                  </a:lnTo>
                  <a:lnTo>
                    <a:pt x="35" y="259"/>
                  </a:lnTo>
                  <a:lnTo>
                    <a:pt x="17" y="260"/>
                  </a:lnTo>
                  <a:lnTo>
                    <a:pt x="0" y="253"/>
                  </a:lnTo>
                  <a:lnTo>
                    <a:pt x="2" y="224"/>
                  </a:lnTo>
                  <a:lnTo>
                    <a:pt x="14" y="198"/>
                  </a:lnTo>
                  <a:lnTo>
                    <a:pt x="34" y="174"/>
                  </a:lnTo>
                  <a:lnTo>
                    <a:pt x="60" y="153"/>
                  </a:lnTo>
                  <a:lnTo>
                    <a:pt x="86" y="135"/>
                  </a:lnTo>
                  <a:lnTo>
                    <a:pt x="114" y="120"/>
                  </a:lnTo>
                  <a:lnTo>
                    <a:pt x="139" y="107"/>
                  </a:lnTo>
                  <a:lnTo>
                    <a:pt x="157" y="97"/>
                  </a:lnTo>
                  <a:lnTo>
                    <a:pt x="157" y="93"/>
                  </a:lnTo>
                  <a:lnTo>
                    <a:pt x="157" y="90"/>
                  </a:lnTo>
                  <a:lnTo>
                    <a:pt x="156" y="88"/>
                  </a:lnTo>
                  <a:lnTo>
                    <a:pt x="156" y="85"/>
                  </a:lnTo>
                  <a:lnTo>
                    <a:pt x="155" y="81"/>
                  </a:lnTo>
                  <a:lnTo>
                    <a:pt x="153" y="74"/>
                  </a:lnTo>
                  <a:lnTo>
                    <a:pt x="149" y="63"/>
                  </a:lnTo>
                  <a:lnTo>
                    <a:pt x="146" y="46"/>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ccecff"/>
                </a:solidFill>
                <a:latin typeface="Times New Roman"/>
              </a:endParaRPr>
            </a:p>
          </p:txBody>
        </p:sp>
        <p:sp>
          <p:nvSpPr>
            <p:cNvPr id="372" name="Freeform 44"/>
            <p:cNvSpPr/>
            <p:nvPr/>
          </p:nvSpPr>
          <p:spPr>
            <a:xfrm>
              <a:off x="2369520" y="3867480"/>
              <a:ext cx="145080" cy="16920"/>
            </a:xfrm>
            <a:custGeom>
              <a:avLst/>
              <a:gdLst>
                <a:gd name="textAreaLeft" fmla="*/ 0 w 145080"/>
                <a:gd name="textAreaRight" fmla="*/ 145440 w 145080"/>
                <a:gd name="textAreaTop" fmla="*/ 0 h 16920"/>
                <a:gd name="textAreaBottom" fmla="*/ 17280 h 16920"/>
              </a:gdLst>
              <a:ahLst/>
              <a:rect l="textAreaLeft" t="textAreaTop" r="textAreaRight" b="textAreaBottom"/>
              <a:pathLst>
                <a:path w="1896" h="226">
                  <a:moveTo>
                    <a:pt x="1174" y="0"/>
                  </a:moveTo>
                  <a:lnTo>
                    <a:pt x="1197" y="25"/>
                  </a:lnTo>
                  <a:lnTo>
                    <a:pt x="1218" y="48"/>
                  </a:lnTo>
                  <a:lnTo>
                    <a:pt x="1241" y="69"/>
                  </a:lnTo>
                  <a:lnTo>
                    <a:pt x="1261" y="89"/>
                  </a:lnTo>
                  <a:lnTo>
                    <a:pt x="1282" y="108"/>
                  </a:lnTo>
                  <a:lnTo>
                    <a:pt x="1300" y="127"/>
                  </a:lnTo>
                  <a:lnTo>
                    <a:pt x="1317" y="144"/>
                  </a:lnTo>
                  <a:lnTo>
                    <a:pt x="1332" y="162"/>
                  </a:lnTo>
                  <a:lnTo>
                    <a:pt x="1355" y="164"/>
                  </a:lnTo>
                  <a:lnTo>
                    <a:pt x="1377" y="164"/>
                  </a:lnTo>
                  <a:lnTo>
                    <a:pt x="1398" y="162"/>
                  </a:lnTo>
                  <a:lnTo>
                    <a:pt x="1420" y="159"/>
                  </a:lnTo>
                  <a:lnTo>
                    <a:pt x="1440" y="153"/>
                  </a:lnTo>
                  <a:lnTo>
                    <a:pt x="1460" y="148"/>
                  </a:lnTo>
                  <a:lnTo>
                    <a:pt x="1481" y="142"/>
                  </a:lnTo>
                  <a:lnTo>
                    <a:pt x="1501" y="133"/>
                  </a:lnTo>
                  <a:lnTo>
                    <a:pt x="1521" y="125"/>
                  </a:lnTo>
                  <a:lnTo>
                    <a:pt x="1542" y="117"/>
                  </a:lnTo>
                  <a:lnTo>
                    <a:pt x="1563" y="108"/>
                  </a:lnTo>
                  <a:lnTo>
                    <a:pt x="1584" y="100"/>
                  </a:lnTo>
                  <a:lnTo>
                    <a:pt x="1606" y="91"/>
                  </a:lnTo>
                  <a:lnTo>
                    <a:pt x="1629" y="84"/>
                  </a:lnTo>
                  <a:lnTo>
                    <a:pt x="1653" y="76"/>
                  </a:lnTo>
                  <a:lnTo>
                    <a:pt x="1678" y="70"/>
                  </a:lnTo>
                  <a:lnTo>
                    <a:pt x="1689" y="67"/>
                  </a:lnTo>
                  <a:lnTo>
                    <a:pt x="1703" y="64"/>
                  </a:lnTo>
                  <a:lnTo>
                    <a:pt x="1718" y="63"/>
                  </a:lnTo>
                  <a:lnTo>
                    <a:pt x="1733" y="62"/>
                  </a:lnTo>
                  <a:lnTo>
                    <a:pt x="1749" y="62"/>
                  </a:lnTo>
                  <a:lnTo>
                    <a:pt x="1765" y="63"/>
                  </a:lnTo>
                  <a:lnTo>
                    <a:pt x="1781" y="64"/>
                  </a:lnTo>
                  <a:lnTo>
                    <a:pt x="1799" y="68"/>
                  </a:lnTo>
                  <a:lnTo>
                    <a:pt x="1814" y="71"/>
                  </a:lnTo>
                  <a:lnTo>
                    <a:pt x="1830" y="76"/>
                  </a:lnTo>
                  <a:lnTo>
                    <a:pt x="1843" y="82"/>
                  </a:lnTo>
                  <a:lnTo>
                    <a:pt x="1857" y="88"/>
                  </a:lnTo>
                  <a:lnTo>
                    <a:pt x="1869" y="97"/>
                  </a:lnTo>
                  <a:lnTo>
                    <a:pt x="1880" y="106"/>
                  </a:lnTo>
                  <a:lnTo>
                    <a:pt x="1890" y="117"/>
                  </a:lnTo>
                  <a:lnTo>
                    <a:pt x="1896" y="129"/>
                  </a:lnTo>
                  <a:lnTo>
                    <a:pt x="1892" y="134"/>
                  </a:lnTo>
                  <a:lnTo>
                    <a:pt x="1886" y="140"/>
                  </a:lnTo>
                  <a:lnTo>
                    <a:pt x="1882" y="147"/>
                  </a:lnTo>
                  <a:lnTo>
                    <a:pt x="1879" y="154"/>
                  </a:lnTo>
                  <a:lnTo>
                    <a:pt x="1876" y="162"/>
                  </a:lnTo>
                  <a:lnTo>
                    <a:pt x="1873" y="171"/>
                  </a:lnTo>
                  <a:lnTo>
                    <a:pt x="1871" y="181"/>
                  </a:lnTo>
                  <a:lnTo>
                    <a:pt x="1871" y="192"/>
                  </a:lnTo>
                  <a:lnTo>
                    <a:pt x="1835" y="182"/>
                  </a:lnTo>
                  <a:lnTo>
                    <a:pt x="1799" y="175"/>
                  </a:lnTo>
                  <a:lnTo>
                    <a:pt x="1763" y="171"/>
                  </a:lnTo>
                  <a:lnTo>
                    <a:pt x="1728" y="170"/>
                  </a:lnTo>
                  <a:lnTo>
                    <a:pt x="1694" y="171"/>
                  </a:lnTo>
                  <a:lnTo>
                    <a:pt x="1659" y="175"/>
                  </a:lnTo>
                  <a:lnTo>
                    <a:pt x="1625" y="180"/>
                  </a:lnTo>
                  <a:lnTo>
                    <a:pt x="1591" y="185"/>
                  </a:lnTo>
                  <a:lnTo>
                    <a:pt x="1557" y="192"/>
                  </a:lnTo>
                  <a:lnTo>
                    <a:pt x="1523" y="198"/>
                  </a:lnTo>
                  <a:lnTo>
                    <a:pt x="1489" y="206"/>
                  </a:lnTo>
                  <a:lnTo>
                    <a:pt x="1456" y="212"/>
                  </a:lnTo>
                  <a:lnTo>
                    <a:pt x="1422" y="217"/>
                  </a:lnTo>
                  <a:lnTo>
                    <a:pt x="1389" y="222"/>
                  </a:lnTo>
                  <a:lnTo>
                    <a:pt x="1354" y="225"/>
                  </a:lnTo>
                  <a:lnTo>
                    <a:pt x="1320" y="226"/>
                  </a:lnTo>
                  <a:lnTo>
                    <a:pt x="1318" y="215"/>
                  </a:lnTo>
                  <a:lnTo>
                    <a:pt x="1313" y="204"/>
                  </a:lnTo>
                  <a:lnTo>
                    <a:pt x="1306" y="193"/>
                  </a:lnTo>
                  <a:lnTo>
                    <a:pt x="1298" y="181"/>
                  </a:lnTo>
                  <a:lnTo>
                    <a:pt x="1287" y="169"/>
                  </a:lnTo>
                  <a:lnTo>
                    <a:pt x="1276" y="159"/>
                  </a:lnTo>
                  <a:lnTo>
                    <a:pt x="1263" y="147"/>
                  </a:lnTo>
                  <a:lnTo>
                    <a:pt x="1250" y="135"/>
                  </a:lnTo>
                  <a:lnTo>
                    <a:pt x="1237" y="122"/>
                  </a:lnTo>
                  <a:lnTo>
                    <a:pt x="1224" y="110"/>
                  </a:lnTo>
                  <a:lnTo>
                    <a:pt x="1210" y="98"/>
                  </a:lnTo>
                  <a:lnTo>
                    <a:pt x="1197" y="85"/>
                  </a:lnTo>
                  <a:lnTo>
                    <a:pt x="1185" y="71"/>
                  </a:lnTo>
                  <a:lnTo>
                    <a:pt x="1173" y="57"/>
                  </a:lnTo>
                  <a:lnTo>
                    <a:pt x="1164" y="43"/>
                  </a:lnTo>
                  <a:lnTo>
                    <a:pt x="1155" y="28"/>
                  </a:lnTo>
                  <a:lnTo>
                    <a:pt x="1163" y="21"/>
                  </a:lnTo>
                  <a:lnTo>
                    <a:pt x="1167" y="14"/>
                  </a:lnTo>
                  <a:lnTo>
                    <a:pt x="1170" y="8"/>
                  </a:lnTo>
                  <a:lnTo>
                    <a:pt x="1174" y="0"/>
                  </a:lnTo>
                  <a:close/>
                  <a:moveTo>
                    <a:pt x="12" y="94"/>
                  </a:moveTo>
                  <a:lnTo>
                    <a:pt x="24" y="88"/>
                  </a:lnTo>
                  <a:lnTo>
                    <a:pt x="37" y="83"/>
                  </a:lnTo>
                  <a:lnTo>
                    <a:pt x="50" y="77"/>
                  </a:lnTo>
                  <a:lnTo>
                    <a:pt x="64" y="73"/>
                  </a:lnTo>
                  <a:lnTo>
                    <a:pt x="79" y="70"/>
                  </a:lnTo>
                  <a:lnTo>
                    <a:pt x="96" y="67"/>
                  </a:lnTo>
                  <a:lnTo>
                    <a:pt x="113" y="66"/>
                  </a:lnTo>
                  <a:lnTo>
                    <a:pt x="131" y="64"/>
                  </a:lnTo>
                  <a:lnTo>
                    <a:pt x="149" y="64"/>
                  </a:lnTo>
                  <a:lnTo>
                    <a:pt x="168" y="66"/>
                  </a:lnTo>
                  <a:lnTo>
                    <a:pt x="188" y="68"/>
                  </a:lnTo>
                  <a:lnTo>
                    <a:pt x="208" y="71"/>
                  </a:lnTo>
                  <a:lnTo>
                    <a:pt x="228" y="76"/>
                  </a:lnTo>
                  <a:lnTo>
                    <a:pt x="250" y="82"/>
                  </a:lnTo>
                  <a:lnTo>
                    <a:pt x="271" y="89"/>
                  </a:lnTo>
                  <a:lnTo>
                    <a:pt x="292" y="98"/>
                  </a:lnTo>
                  <a:lnTo>
                    <a:pt x="301" y="103"/>
                  </a:lnTo>
                  <a:lnTo>
                    <a:pt x="306" y="109"/>
                  </a:lnTo>
                  <a:lnTo>
                    <a:pt x="311" y="117"/>
                  </a:lnTo>
                  <a:lnTo>
                    <a:pt x="315" y="125"/>
                  </a:lnTo>
                  <a:lnTo>
                    <a:pt x="319" y="132"/>
                  </a:lnTo>
                  <a:lnTo>
                    <a:pt x="326" y="138"/>
                  </a:lnTo>
                  <a:lnTo>
                    <a:pt x="334" y="143"/>
                  </a:lnTo>
                  <a:lnTo>
                    <a:pt x="346" y="144"/>
                  </a:lnTo>
                  <a:lnTo>
                    <a:pt x="348" y="155"/>
                  </a:lnTo>
                  <a:lnTo>
                    <a:pt x="349" y="165"/>
                  </a:lnTo>
                  <a:lnTo>
                    <a:pt x="349" y="175"/>
                  </a:lnTo>
                  <a:lnTo>
                    <a:pt x="349" y="182"/>
                  </a:lnTo>
                  <a:lnTo>
                    <a:pt x="348" y="190"/>
                  </a:lnTo>
                  <a:lnTo>
                    <a:pt x="347" y="196"/>
                  </a:lnTo>
                  <a:lnTo>
                    <a:pt x="346" y="202"/>
                  </a:lnTo>
                  <a:lnTo>
                    <a:pt x="345" y="208"/>
                  </a:lnTo>
                  <a:lnTo>
                    <a:pt x="320" y="176"/>
                  </a:lnTo>
                  <a:lnTo>
                    <a:pt x="272" y="176"/>
                  </a:lnTo>
                  <a:lnTo>
                    <a:pt x="248" y="144"/>
                  </a:lnTo>
                  <a:lnTo>
                    <a:pt x="235" y="140"/>
                  </a:lnTo>
                  <a:lnTo>
                    <a:pt x="222" y="137"/>
                  </a:lnTo>
                  <a:lnTo>
                    <a:pt x="209" y="134"/>
                  </a:lnTo>
                  <a:lnTo>
                    <a:pt x="196" y="132"/>
                  </a:lnTo>
                  <a:lnTo>
                    <a:pt x="184" y="130"/>
                  </a:lnTo>
                  <a:lnTo>
                    <a:pt x="172" y="128"/>
                  </a:lnTo>
                  <a:lnTo>
                    <a:pt x="158" y="125"/>
                  </a:lnTo>
                  <a:lnTo>
                    <a:pt x="145" y="124"/>
                  </a:lnTo>
                  <a:lnTo>
                    <a:pt x="132" y="124"/>
                  </a:lnTo>
                  <a:lnTo>
                    <a:pt x="118" y="124"/>
                  </a:lnTo>
                  <a:lnTo>
                    <a:pt x="104" y="125"/>
                  </a:lnTo>
                  <a:lnTo>
                    <a:pt x="89" y="128"/>
                  </a:lnTo>
                  <a:lnTo>
                    <a:pt x="74" y="130"/>
                  </a:lnTo>
                  <a:lnTo>
                    <a:pt x="59" y="133"/>
                  </a:lnTo>
                  <a:lnTo>
                    <a:pt x="43" y="138"/>
                  </a:lnTo>
                  <a:lnTo>
                    <a:pt x="27" y="144"/>
                  </a:lnTo>
                  <a:lnTo>
                    <a:pt x="23" y="142"/>
                  </a:lnTo>
                  <a:lnTo>
                    <a:pt x="16" y="137"/>
                  </a:lnTo>
                  <a:lnTo>
                    <a:pt x="9" y="131"/>
                  </a:lnTo>
                  <a:lnTo>
                    <a:pt x="0" y="125"/>
                  </a:lnTo>
                  <a:lnTo>
                    <a:pt x="2" y="115"/>
                  </a:lnTo>
                  <a:lnTo>
                    <a:pt x="7" y="104"/>
                  </a:lnTo>
                  <a:lnTo>
                    <a:pt x="10" y="98"/>
                  </a:lnTo>
                  <a:lnTo>
                    <a:pt x="12" y="94"/>
                  </a:lnTo>
                  <a:close/>
                </a:path>
              </a:pathLst>
            </a:custGeom>
            <a:solidFill>
              <a:srgbClr val="ad8c29"/>
            </a:solidFill>
            <a:ln w="0">
              <a:noFill/>
            </a:ln>
          </p:spPr>
          <p:style>
            <a:lnRef idx="0"/>
            <a:fillRef idx="0"/>
            <a:effectRef idx="0"/>
            <a:fontRef idx="minor"/>
          </p:style>
          <p:txBody>
            <a:bodyPr lIns="90000" rIns="90000" tIns="-29520" bIns="-29520" anchor="t">
              <a:noAutofit/>
            </a:bodyPr>
            <a:p>
              <a:endParaRPr b="0" lang="en-US" sz="2400" spc="-1" strike="noStrike">
                <a:solidFill>
                  <a:srgbClr val="ccecff"/>
                </a:solidFill>
                <a:latin typeface="Times New Roman"/>
              </a:endParaRPr>
            </a:p>
          </p:txBody>
        </p:sp>
        <p:sp>
          <p:nvSpPr>
            <p:cNvPr id="373" name="Freeform 45"/>
            <p:cNvSpPr/>
            <p:nvPr/>
          </p:nvSpPr>
          <p:spPr>
            <a:xfrm>
              <a:off x="2457720" y="3867480"/>
              <a:ext cx="56880" cy="16920"/>
            </a:xfrm>
            <a:custGeom>
              <a:avLst/>
              <a:gdLst>
                <a:gd name="textAreaLeft" fmla="*/ 0 w 56880"/>
                <a:gd name="textAreaRight" fmla="*/ 57240 w 56880"/>
                <a:gd name="textAreaTop" fmla="*/ 0 h 16920"/>
                <a:gd name="textAreaBottom" fmla="*/ 17280 h 16920"/>
              </a:gdLst>
              <a:ahLst/>
              <a:rect l="textAreaLeft" t="textAreaTop" r="textAreaRight" b="textAreaBottom"/>
              <a:pathLst>
                <a:path w="741" h="226">
                  <a:moveTo>
                    <a:pt x="19" y="0"/>
                  </a:moveTo>
                  <a:lnTo>
                    <a:pt x="19" y="0"/>
                  </a:lnTo>
                  <a:lnTo>
                    <a:pt x="42" y="25"/>
                  </a:lnTo>
                  <a:lnTo>
                    <a:pt x="63" y="48"/>
                  </a:lnTo>
                  <a:lnTo>
                    <a:pt x="86" y="69"/>
                  </a:lnTo>
                  <a:lnTo>
                    <a:pt x="106" y="89"/>
                  </a:lnTo>
                  <a:lnTo>
                    <a:pt x="127" y="108"/>
                  </a:lnTo>
                  <a:lnTo>
                    <a:pt x="145" y="127"/>
                  </a:lnTo>
                  <a:lnTo>
                    <a:pt x="162" y="144"/>
                  </a:lnTo>
                  <a:lnTo>
                    <a:pt x="177" y="162"/>
                  </a:lnTo>
                  <a:lnTo>
                    <a:pt x="200" y="164"/>
                  </a:lnTo>
                  <a:lnTo>
                    <a:pt x="222" y="164"/>
                  </a:lnTo>
                  <a:lnTo>
                    <a:pt x="243" y="162"/>
                  </a:lnTo>
                  <a:lnTo>
                    <a:pt x="265" y="159"/>
                  </a:lnTo>
                  <a:lnTo>
                    <a:pt x="285" y="153"/>
                  </a:lnTo>
                  <a:lnTo>
                    <a:pt x="305" y="148"/>
                  </a:lnTo>
                  <a:lnTo>
                    <a:pt x="326" y="142"/>
                  </a:lnTo>
                  <a:lnTo>
                    <a:pt x="346" y="133"/>
                  </a:lnTo>
                  <a:lnTo>
                    <a:pt x="366" y="125"/>
                  </a:lnTo>
                  <a:lnTo>
                    <a:pt x="387" y="117"/>
                  </a:lnTo>
                  <a:lnTo>
                    <a:pt x="408" y="108"/>
                  </a:lnTo>
                  <a:lnTo>
                    <a:pt x="429" y="100"/>
                  </a:lnTo>
                  <a:lnTo>
                    <a:pt x="451" y="91"/>
                  </a:lnTo>
                  <a:lnTo>
                    <a:pt x="474" y="84"/>
                  </a:lnTo>
                  <a:lnTo>
                    <a:pt x="498" y="76"/>
                  </a:lnTo>
                  <a:lnTo>
                    <a:pt x="523" y="70"/>
                  </a:lnTo>
                  <a:lnTo>
                    <a:pt x="534" y="67"/>
                  </a:lnTo>
                  <a:lnTo>
                    <a:pt x="548" y="64"/>
                  </a:lnTo>
                  <a:lnTo>
                    <a:pt x="563" y="63"/>
                  </a:lnTo>
                  <a:lnTo>
                    <a:pt x="578" y="62"/>
                  </a:lnTo>
                  <a:lnTo>
                    <a:pt x="594" y="62"/>
                  </a:lnTo>
                  <a:lnTo>
                    <a:pt x="610" y="63"/>
                  </a:lnTo>
                  <a:lnTo>
                    <a:pt x="626" y="64"/>
                  </a:lnTo>
                  <a:lnTo>
                    <a:pt x="644" y="68"/>
                  </a:lnTo>
                  <a:lnTo>
                    <a:pt x="659" y="71"/>
                  </a:lnTo>
                  <a:lnTo>
                    <a:pt x="675" y="76"/>
                  </a:lnTo>
                  <a:lnTo>
                    <a:pt x="688" y="82"/>
                  </a:lnTo>
                  <a:lnTo>
                    <a:pt x="702" y="88"/>
                  </a:lnTo>
                  <a:lnTo>
                    <a:pt x="714" y="97"/>
                  </a:lnTo>
                  <a:lnTo>
                    <a:pt x="725" y="106"/>
                  </a:lnTo>
                  <a:lnTo>
                    <a:pt x="735" y="117"/>
                  </a:lnTo>
                  <a:lnTo>
                    <a:pt x="741" y="129"/>
                  </a:lnTo>
                  <a:lnTo>
                    <a:pt x="737" y="134"/>
                  </a:lnTo>
                  <a:lnTo>
                    <a:pt x="731" y="140"/>
                  </a:lnTo>
                  <a:lnTo>
                    <a:pt x="727" y="147"/>
                  </a:lnTo>
                  <a:lnTo>
                    <a:pt x="724" y="154"/>
                  </a:lnTo>
                  <a:lnTo>
                    <a:pt x="721" y="162"/>
                  </a:lnTo>
                  <a:lnTo>
                    <a:pt x="718" y="171"/>
                  </a:lnTo>
                  <a:lnTo>
                    <a:pt x="716" y="181"/>
                  </a:lnTo>
                  <a:lnTo>
                    <a:pt x="716" y="192"/>
                  </a:lnTo>
                  <a:lnTo>
                    <a:pt x="680" y="182"/>
                  </a:lnTo>
                  <a:lnTo>
                    <a:pt x="644" y="175"/>
                  </a:lnTo>
                  <a:lnTo>
                    <a:pt x="608" y="171"/>
                  </a:lnTo>
                  <a:lnTo>
                    <a:pt x="573" y="170"/>
                  </a:lnTo>
                  <a:lnTo>
                    <a:pt x="539" y="171"/>
                  </a:lnTo>
                  <a:lnTo>
                    <a:pt x="504" y="175"/>
                  </a:lnTo>
                  <a:lnTo>
                    <a:pt x="470" y="180"/>
                  </a:lnTo>
                  <a:lnTo>
                    <a:pt x="436" y="185"/>
                  </a:lnTo>
                  <a:lnTo>
                    <a:pt x="402" y="192"/>
                  </a:lnTo>
                  <a:lnTo>
                    <a:pt x="368" y="198"/>
                  </a:lnTo>
                  <a:lnTo>
                    <a:pt x="334" y="206"/>
                  </a:lnTo>
                  <a:lnTo>
                    <a:pt x="301" y="212"/>
                  </a:lnTo>
                  <a:lnTo>
                    <a:pt x="267" y="217"/>
                  </a:lnTo>
                  <a:lnTo>
                    <a:pt x="234" y="222"/>
                  </a:lnTo>
                  <a:lnTo>
                    <a:pt x="199" y="225"/>
                  </a:lnTo>
                  <a:lnTo>
                    <a:pt x="165" y="226"/>
                  </a:lnTo>
                  <a:lnTo>
                    <a:pt x="163" y="215"/>
                  </a:lnTo>
                  <a:lnTo>
                    <a:pt x="158" y="204"/>
                  </a:lnTo>
                  <a:lnTo>
                    <a:pt x="151" y="193"/>
                  </a:lnTo>
                  <a:lnTo>
                    <a:pt x="143" y="181"/>
                  </a:lnTo>
                  <a:lnTo>
                    <a:pt x="132" y="169"/>
                  </a:lnTo>
                  <a:lnTo>
                    <a:pt x="121" y="159"/>
                  </a:lnTo>
                  <a:lnTo>
                    <a:pt x="108" y="147"/>
                  </a:lnTo>
                  <a:lnTo>
                    <a:pt x="95" y="135"/>
                  </a:lnTo>
                  <a:lnTo>
                    <a:pt x="82" y="122"/>
                  </a:lnTo>
                  <a:lnTo>
                    <a:pt x="69" y="110"/>
                  </a:lnTo>
                  <a:lnTo>
                    <a:pt x="55" y="98"/>
                  </a:lnTo>
                  <a:lnTo>
                    <a:pt x="42" y="85"/>
                  </a:lnTo>
                  <a:lnTo>
                    <a:pt x="30" y="71"/>
                  </a:lnTo>
                  <a:lnTo>
                    <a:pt x="18" y="57"/>
                  </a:lnTo>
                  <a:lnTo>
                    <a:pt x="9" y="43"/>
                  </a:lnTo>
                  <a:lnTo>
                    <a:pt x="0" y="28"/>
                  </a:lnTo>
                  <a:lnTo>
                    <a:pt x="8" y="21"/>
                  </a:lnTo>
                  <a:lnTo>
                    <a:pt x="12" y="14"/>
                  </a:lnTo>
                  <a:lnTo>
                    <a:pt x="15" y="8"/>
                  </a:lnTo>
                  <a:lnTo>
                    <a:pt x="19"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ccecff"/>
                </a:solidFill>
                <a:latin typeface="Times New Roman"/>
              </a:endParaRPr>
            </a:p>
          </p:txBody>
        </p:sp>
        <p:sp>
          <p:nvSpPr>
            <p:cNvPr id="374" name="Freeform 46"/>
            <p:cNvSpPr/>
            <p:nvPr/>
          </p:nvSpPr>
          <p:spPr>
            <a:xfrm>
              <a:off x="2369520" y="3872520"/>
              <a:ext cx="26280" cy="10440"/>
            </a:xfrm>
            <a:custGeom>
              <a:avLst/>
              <a:gdLst>
                <a:gd name="textAreaLeft" fmla="*/ 0 w 26280"/>
                <a:gd name="textAreaRight" fmla="*/ 26640 w 26280"/>
                <a:gd name="textAreaTop" fmla="*/ 0 h 10440"/>
                <a:gd name="textAreaBottom" fmla="*/ 10800 h 10440"/>
              </a:gdLst>
              <a:ahLst/>
              <a:rect l="textAreaLeft" t="textAreaTop" r="textAreaRight" b="textAreaBottom"/>
              <a:pathLst>
                <a:path w="349" h="144">
                  <a:moveTo>
                    <a:pt x="12" y="30"/>
                  </a:moveTo>
                  <a:lnTo>
                    <a:pt x="12" y="30"/>
                  </a:lnTo>
                  <a:lnTo>
                    <a:pt x="24" y="24"/>
                  </a:lnTo>
                  <a:lnTo>
                    <a:pt x="37" y="19"/>
                  </a:lnTo>
                  <a:lnTo>
                    <a:pt x="50" y="13"/>
                  </a:lnTo>
                  <a:lnTo>
                    <a:pt x="64" y="9"/>
                  </a:lnTo>
                  <a:lnTo>
                    <a:pt x="79" y="6"/>
                  </a:lnTo>
                  <a:lnTo>
                    <a:pt x="96" y="3"/>
                  </a:lnTo>
                  <a:lnTo>
                    <a:pt x="113" y="2"/>
                  </a:lnTo>
                  <a:lnTo>
                    <a:pt x="131" y="0"/>
                  </a:lnTo>
                  <a:lnTo>
                    <a:pt x="149" y="0"/>
                  </a:lnTo>
                  <a:lnTo>
                    <a:pt x="168" y="2"/>
                  </a:lnTo>
                  <a:lnTo>
                    <a:pt x="188" y="4"/>
                  </a:lnTo>
                  <a:lnTo>
                    <a:pt x="208" y="7"/>
                  </a:lnTo>
                  <a:lnTo>
                    <a:pt x="228" y="12"/>
                  </a:lnTo>
                  <a:lnTo>
                    <a:pt x="250" y="18"/>
                  </a:lnTo>
                  <a:lnTo>
                    <a:pt x="271" y="25"/>
                  </a:lnTo>
                  <a:lnTo>
                    <a:pt x="292" y="34"/>
                  </a:lnTo>
                  <a:lnTo>
                    <a:pt x="301" y="39"/>
                  </a:lnTo>
                  <a:lnTo>
                    <a:pt x="306" y="45"/>
                  </a:lnTo>
                  <a:lnTo>
                    <a:pt x="311" y="53"/>
                  </a:lnTo>
                  <a:lnTo>
                    <a:pt x="315" y="61"/>
                  </a:lnTo>
                  <a:lnTo>
                    <a:pt x="319" y="68"/>
                  </a:lnTo>
                  <a:lnTo>
                    <a:pt x="326" y="74"/>
                  </a:lnTo>
                  <a:lnTo>
                    <a:pt x="334" y="79"/>
                  </a:lnTo>
                  <a:lnTo>
                    <a:pt x="346" y="80"/>
                  </a:lnTo>
                  <a:lnTo>
                    <a:pt x="348" y="91"/>
                  </a:lnTo>
                  <a:lnTo>
                    <a:pt x="349" y="101"/>
                  </a:lnTo>
                  <a:lnTo>
                    <a:pt x="349" y="111"/>
                  </a:lnTo>
                  <a:lnTo>
                    <a:pt x="349" y="118"/>
                  </a:lnTo>
                  <a:lnTo>
                    <a:pt x="348" y="126"/>
                  </a:lnTo>
                  <a:lnTo>
                    <a:pt x="347" y="132"/>
                  </a:lnTo>
                  <a:lnTo>
                    <a:pt x="346" y="138"/>
                  </a:lnTo>
                  <a:lnTo>
                    <a:pt x="345" y="144"/>
                  </a:lnTo>
                  <a:lnTo>
                    <a:pt x="320" y="112"/>
                  </a:lnTo>
                  <a:lnTo>
                    <a:pt x="272" y="112"/>
                  </a:lnTo>
                  <a:lnTo>
                    <a:pt x="248" y="80"/>
                  </a:lnTo>
                  <a:lnTo>
                    <a:pt x="235" y="76"/>
                  </a:lnTo>
                  <a:lnTo>
                    <a:pt x="222" y="73"/>
                  </a:lnTo>
                  <a:lnTo>
                    <a:pt x="209" y="70"/>
                  </a:lnTo>
                  <a:lnTo>
                    <a:pt x="196" y="68"/>
                  </a:lnTo>
                  <a:lnTo>
                    <a:pt x="184" y="66"/>
                  </a:lnTo>
                  <a:lnTo>
                    <a:pt x="172" y="64"/>
                  </a:lnTo>
                  <a:lnTo>
                    <a:pt x="158" y="61"/>
                  </a:lnTo>
                  <a:lnTo>
                    <a:pt x="145" y="60"/>
                  </a:lnTo>
                  <a:lnTo>
                    <a:pt x="132" y="60"/>
                  </a:lnTo>
                  <a:lnTo>
                    <a:pt x="118" y="60"/>
                  </a:lnTo>
                  <a:lnTo>
                    <a:pt x="104" y="61"/>
                  </a:lnTo>
                  <a:lnTo>
                    <a:pt x="89" y="64"/>
                  </a:lnTo>
                  <a:lnTo>
                    <a:pt x="74" y="66"/>
                  </a:lnTo>
                  <a:lnTo>
                    <a:pt x="59" y="69"/>
                  </a:lnTo>
                  <a:lnTo>
                    <a:pt x="43" y="74"/>
                  </a:lnTo>
                  <a:lnTo>
                    <a:pt x="27" y="80"/>
                  </a:lnTo>
                  <a:lnTo>
                    <a:pt x="23" y="78"/>
                  </a:lnTo>
                  <a:lnTo>
                    <a:pt x="16" y="73"/>
                  </a:lnTo>
                  <a:lnTo>
                    <a:pt x="9" y="67"/>
                  </a:lnTo>
                  <a:lnTo>
                    <a:pt x="0" y="61"/>
                  </a:lnTo>
                  <a:lnTo>
                    <a:pt x="2" y="51"/>
                  </a:lnTo>
                  <a:lnTo>
                    <a:pt x="7" y="40"/>
                  </a:lnTo>
                  <a:lnTo>
                    <a:pt x="10" y="34"/>
                  </a:lnTo>
                  <a:lnTo>
                    <a:pt x="12" y="30"/>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375" name="Freeform 47"/>
            <p:cNvSpPr/>
            <p:nvPr/>
          </p:nvSpPr>
          <p:spPr>
            <a:xfrm>
              <a:off x="2283120" y="3444840"/>
              <a:ext cx="74160" cy="34200"/>
            </a:xfrm>
            <a:custGeom>
              <a:avLst/>
              <a:gdLst>
                <a:gd name="textAreaLeft" fmla="*/ 0 w 74160"/>
                <a:gd name="textAreaRight" fmla="*/ 74520 w 74160"/>
                <a:gd name="textAreaTop" fmla="*/ 0 h 34200"/>
                <a:gd name="textAreaBottom" fmla="*/ 34560 h 34200"/>
              </a:gdLst>
              <a:ahLst/>
              <a:rect l="textAreaLeft" t="textAreaTop" r="textAreaRight" b="textAreaBottom"/>
              <a:pathLst>
                <a:path w="970" h="464">
                  <a:moveTo>
                    <a:pt x="894" y="20"/>
                  </a:moveTo>
                  <a:lnTo>
                    <a:pt x="879" y="33"/>
                  </a:lnTo>
                  <a:lnTo>
                    <a:pt x="864" y="42"/>
                  </a:lnTo>
                  <a:lnTo>
                    <a:pt x="849" y="47"/>
                  </a:lnTo>
                  <a:lnTo>
                    <a:pt x="835" y="49"/>
                  </a:lnTo>
                  <a:lnTo>
                    <a:pt x="821" y="50"/>
                  </a:lnTo>
                  <a:lnTo>
                    <a:pt x="807" y="49"/>
                  </a:lnTo>
                  <a:lnTo>
                    <a:pt x="793" y="47"/>
                  </a:lnTo>
                  <a:lnTo>
                    <a:pt x="779" y="45"/>
                  </a:lnTo>
                  <a:lnTo>
                    <a:pt x="781" y="37"/>
                  </a:lnTo>
                  <a:lnTo>
                    <a:pt x="781" y="30"/>
                  </a:lnTo>
                  <a:lnTo>
                    <a:pt x="778" y="22"/>
                  </a:lnTo>
                  <a:lnTo>
                    <a:pt x="775" y="15"/>
                  </a:lnTo>
                  <a:lnTo>
                    <a:pt x="776" y="25"/>
                  </a:lnTo>
                  <a:lnTo>
                    <a:pt x="776" y="33"/>
                  </a:lnTo>
                  <a:lnTo>
                    <a:pt x="775" y="40"/>
                  </a:lnTo>
                  <a:lnTo>
                    <a:pt x="772" y="43"/>
                  </a:lnTo>
                  <a:lnTo>
                    <a:pt x="762" y="45"/>
                  </a:lnTo>
                  <a:lnTo>
                    <a:pt x="755" y="46"/>
                  </a:lnTo>
                  <a:lnTo>
                    <a:pt x="747" y="48"/>
                  </a:lnTo>
                  <a:lnTo>
                    <a:pt x="740" y="49"/>
                  </a:lnTo>
                  <a:lnTo>
                    <a:pt x="732" y="49"/>
                  </a:lnTo>
                  <a:lnTo>
                    <a:pt x="724" y="49"/>
                  </a:lnTo>
                  <a:lnTo>
                    <a:pt x="713" y="47"/>
                  </a:lnTo>
                  <a:lnTo>
                    <a:pt x="701" y="44"/>
                  </a:lnTo>
                  <a:lnTo>
                    <a:pt x="697" y="41"/>
                  </a:lnTo>
                  <a:lnTo>
                    <a:pt x="693" y="36"/>
                  </a:lnTo>
                  <a:lnTo>
                    <a:pt x="690" y="31"/>
                  </a:lnTo>
                  <a:lnTo>
                    <a:pt x="686" y="25"/>
                  </a:lnTo>
                  <a:lnTo>
                    <a:pt x="683" y="18"/>
                  </a:lnTo>
                  <a:lnTo>
                    <a:pt x="680" y="12"/>
                  </a:lnTo>
                  <a:lnTo>
                    <a:pt x="677" y="5"/>
                  </a:lnTo>
                  <a:lnTo>
                    <a:pt x="675" y="0"/>
                  </a:lnTo>
                  <a:lnTo>
                    <a:pt x="671" y="9"/>
                  </a:lnTo>
                  <a:lnTo>
                    <a:pt x="669" y="17"/>
                  </a:lnTo>
                  <a:lnTo>
                    <a:pt x="668" y="26"/>
                  </a:lnTo>
                  <a:lnTo>
                    <a:pt x="667" y="34"/>
                  </a:lnTo>
                  <a:lnTo>
                    <a:pt x="665" y="43"/>
                  </a:lnTo>
                  <a:lnTo>
                    <a:pt x="660" y="52"/>
                  </a:lnTo>
                  <a:lnTo>
                    <a:pt x="652" y="62"/>
                  </a:lnTo>
                  <a:lnTo>
                    <a:pt x="639" y="74"/>
                  </a:lnTo>
                  <a:lnTo>
                    <a:pt x="646" y="70"/>
                  </a:lnTo>
                  <a:lnTo>
                    <a:pt x="652" y="66"/>
                  </a:lnTo>
                  <a:lnTo>
                    <a:pt x="657" y="64"/>
                  </a:lnTo>
                  <a:lnTo>
                    <a:pt x="662" y="62"/>
                  </a:lnTo>
                  <a:lnTo>
                    <a:pt x="666" y="59"/>
                  </a:lnTo>
                  <a:lnTo>
                    <a:pt x="670" y="56"/>
                  </a:lnTo>
                  <a:lnTo>
                    <a:pt x="673" y="52"/>
                  </a:lnTo>
                  <a:lnTo>
                    <a:pt x="677" y="47"/>
                  </a:lnTo>
                  <a:lnTo>
                    <a:pt x="686" y="52"/>
                  </a:lnTo>
                  <a:lnTo>
                    <a:pt x="698" y="56"/>
                  </a:lnTo>
                  <a:lnTo>
                    <a:pt x="711" y="59"/>
                  </a:lnTo>
                  <a:lnTo>
                    <a:pt x="725" y="59"/>
                  </a:lnTo>
                  <a:lnTo>
                    <a:pt x="739" y="59"/>
                  </a:lnTo>
                  <a:lnTo>
                    <a:pt x="752" y="56"/>
                  </a:lnTo>
                  <a:lnTo>
                    <a:pt x="763" y="52"/>
                  </a:lnTo>
                  <a:lnTo>
                    <a:pt x="774" y="47"/>
                  </a:lnTo>
                  <a:lnTo>
                    <a:pt x="788" y="52"/>
                  </a:lnTo>
                  <a:lnTo>
                    <a:pt x="803" y="56"/>
                  </a:lnTo>
                  <a:lnTo>
                    <a:pt x="819" y="57"/>
                  </a:lnTo>
                  <a:lnTo>
                    <a:pt x="833" y="57"/>
                  </a:lnTo>
                  <a:lnTo>
                    <a:pt x="847" y="55"/>
                  </a:lnTo>
                  <a:lnTo>
                    <a:pt x="859" y="51"/>
                  </a:lnTo>
                  <a:lnTo>
                    <a:pt x="868" y="47"/>
                  </a:lnTo>
                  <a:lnTo>
                    <a:pt x="875" y="43"/>
                  </a:lnTo>
                  <a:lnTo>
                    <a:pt x="882" y="37"/>
                  </a:lnTo>
                  <a:lnTo>
                    <a:pt x="888" y="32"/>
                  </a:lnTo>
                  <a:lnTo>
                    <a:pt x="892" y="27"/>
                  </a:lnTo>
                  <a:lnTo>
                    <a:pt x="894" y="20"/>
                  </a:lnTo>
                  <a:close/>
                  <a:moveTo>
                    <a:pt x="970" y="239"/>
                  </a:moveTo>
                  <a:lnTo>
                    <a:pt x="967" y="249"/>
                  </a:lnTo>
                  <a:lnTo>
                    <a:pt x="962" y="259"/>
                  </a:lnTo>
                  <a:lnTo>
                    <a:pt x="955" y="265"/>
                  </a:lnTo>
                  <a:lnTo>
                    <a:pt x="945" y="270"/>
                  </a:lnTo>
                  <a:lnTo>
                    <a:pt x="939" y="272"/>
                  </a:lnTo>
                  <a:lnTo>
                    <a:pt x="935" y="272"/>
                  </a:lnTo>
                  <a:lnTo>
                    <a:pt x="930" y="270"/>
                  </a:lnTo>
                  <a:lnTo>
                    <a:pt x="925" y="266"/>
                  </a:lnTo>
                  <a:lnTo>
                    <a:pt x="920" y="263"/>
                  </a:lnTo>
                  <a:lnTo>
                    <a:pt x="914" y="261"/>
                  </a:lnTo>
                  <a:lnTo>
                    <a:pt x="909" y="259"/>
                  </a:lnTo>
                  <a:lnTo>
                    <a:pt x="905" y="257"/>
                  </a:lnTo>
                  <a:lnTo>
                    <a:pt x="900" y="255"/>
                  </a:lnTo>
                  <a:lnTo>
                    <a:pt x="896" y="251"/>
                  </a:lnTo>
                  <a:lnTo>
                    <a:pt x="892" y="248"/>
                  </a:lnTo>
                  <a:lnTo>
                    <a:pt x="889" y="243"/>
                  </a:lnTo>
                  <a:lnTo>
                    <a:pt x="879" y="236"/>
                  </a:lnTo>
                  <a:lnTo>
                    <a:pt x="869" y="231"/>
                  </a:lnTo>
                  <a:lnTo>
                    <a:pt x="860" y="227"/>
                  </a:lnTo>
                  <a:lnTo>
                    <a:pt x="850" y="222"/>
                  </a:lnTo>
                  <a:lnTo>
                    <a:pt x="840" y="218"/>
                  </a:lnTo>
                  <a:lnTo>
                    <a:pt x="830" y="215"/>
                  </a:lnTo>
                  <a:lnTo>
                    <a:pt x="819" y="212"/>
                  </a:lnTo>
                  <a:lnTo>
                    <a:pt x="807" y="209"/>
                  </a:lnTo>
                  <a:lnTo>
                    <a:pt x="802" y="205"/>
                  </a:lnTo>
                  <a:lnTo>
                    <a:pt x="797" y="203"/>
                  </a:lnTo>
                  <a:lnTo>
                    <a:pt x="790" y="200"/>
                  </a:lnTo>
                  <a:lnTo>
                    <a:pt x="785" y="198"/>
                  </a:lnTo>
                  <a:lnTo>
                    <a:pt x="779" y="196"/>
                  </a:lnTo>
                  <a:lnTo>
                    <a:pt x="774" y="194"/>
                  </a:lnTo>
                  <a:lnTo>
                    <a:pt x="768" y="190"/>
                  </a:lnTo>
                  <a:lnTo>
                    <a:pt x="762" y="188"/>
                  </a:lnTo>
                  <a:lnTo>
                    <a:pt x="756" y="185"/>
                  </a:lnTo>
                  <a:lnTo>
                    <a:pt x="749" y="181"/>
                  </a:lnTo>
                  <a:lnTo>
                    <a:pt x="742" y="176"/>
                  </a:lnTo>
                  <a:lnTo>
                    <a:pt x="735" y="171"/>
                  </a:lnTo>
                  <a:lnTo>
                    <a:pt x="726" y="168"/>
                  </a:lnTo>
                  <a:lnTo>
                    <a:pt x="717" y="164"/>
                  </a:lnTo>
                  <a:lnTo>
                    <a:pt x="709" y="162"/>
                  </a:lnTo>
                  <a:lnTo>
                    <a:pt x="700" y="160"/>
                  </a:lnTo>
                  <a:lnTo>
                    <a:pt x="679" y="162"/>
                  </a:lnTo>
                  <a:lnTo>
                    <a:pt x="659" y="163"/>
                  </a:lnTo>
                  <a:lnTo>
                    <a:pt x="639" y="164"/>
                  </a:lnTo>
                  <a:lnTo>
                    <a:pt x="621" y="166"/>
                  </a:lnTo>
                  <a:lnTo>
                    <a:pt x="603" y="166"/>
                  </a:lnTo>
                  <a:lnTo>
                    <a:pt x="585" y="166"/>
                  </a:lnTo>
                  <a:lnTo>
                    <a:pt x="564" y="163"/>
                  </a:lnTo>
                  <a:lnTo>
                    <a:pt x="542" y="158"/>
                  </a:lnTo>
                  <a:lnTo>
                    <a:pt x="543" y="153"/>
                  </a:lnTo>
                  <a:lnTo>
                    <a:pt x="544" y="148"/>
                  </a:lnTo>
                  <a:lnTo>
                    <a:pt x="545" y="142"/>
                  </a:lnTo>
                  <a:lnTo>
                    <a:pt x="546" y="138"/>
                  </a:lnTo>
                  <a:lnTo>
                    <a:pt x="548" y="133"/>
                  </a:lnTo>
                  <a:lnTo>
                    <a:pt x="551" y="127"/>
                  </a:lnTo>
                  <a:lnTo>
                    <a:pt x="556" y="121"/>
                  </a:lnTo>
                  <a:lnTo>
                    <a:pt x="562" y="114"/>
                  </a:lnTo>
                  <a:lnTo>
                    <a:pt x="573" y="125"/>
                  </a:lnTo>
                  <a:lnTo>
                    <a:pt x="581" y="132"/>
                  </a:lnTo>
                  <a:lnTo>
                    <a:pt x="589" y="135"/>
                  </a:lnTo>
                  <a:lnTo>
                    <a:pt x="596" y="136"/>
                  </a:lnTo>
                  <a:lnTo>
                    <a:pt x="605" y="136"/>
                  </a:lnTo>
                  <a:lnTo>
                    <a:pt x="615" y="136"/>
                  </a:lnTo>
                  <a:lnTo>
                    <a:pt x="626" y="136"/>
                  </a:lnTo>
                  <a:lnTo>
                    <a:pt x="640" y="137"/>
                  </a:lnTo>
                  <a:lnTo>
                    <a:pt x="644" y="132"/>
                  </a:lnTo>
                  <a:lnTo>
                    <a:pt x="646" y="126"/>
                  </a:lnTo>
                  <a:lnTo>
                    <a:pt x="647" y="121"/>
                  </a:lnTo>
                  <a:lnTo>
                    <a:pt x="649" y="118"/>
                  </a:lnTo>
                  <a:lnTo>
                    <a:pt x="652" y="114"/>
                  </a:lnTo>
                  <a:lnTo>
                    <a:pt x="660" y="112"/>
                  </a:lnTo>
                  <a:lnTo>
                    <a:pt x="669" y="110"/>
                  </a:lnTo>
                  <a:lnTo>
                    <a:pt x="685" y="110"/>
                  </a:lnTo>
                  <a:lnTo>
                    <a:pt x="698" y="112"/>
                  </a:lnTo>
                  <a:lnTo>
                    <a:pt x="705" y="118"/>
                  </a:lnTo>
                  <a:lnTo>
                    <a:pt x="705" y="124"/>
                  </a:lnTo>
                  <a:lnTo>
                    <a:pt x="702" y="132"/>
                  </a:lnTo>
                  <a:lnTo>
                    <a:pt x="699" y="139"/>
                  </a:lnTo>
                  <a:lnTo>
                    <a:pt x="696" y="147"/>
                  </a:lnTo>
                  <a:lnTo>
                    <a:pt x="696" y="154"/>
                  </a:lnTo>
                  <a:lnTo>
                    <a:pt x="700" y="158"/>
                  </a:lnTo>
                  <a:lnTo>
                    <a:pt x="711" y="157"/>
                  </a:lnTo>
                  <a:lnTo>
                    <a:pt x="722" y="157"/>
                  </a:lnTo>
                  <a:lnTo>
                    <a:pt x="733" y="158"/>
                  </a:lnTo>
                  <a:lnTo>
                    <a:pt x="745" y="160"/>
                  </a:lnTo>
                  <a:lnTo>
                    <a:pt x="757" y="163"/>
                  </a:lnTo>
                  <a:lnTo>
                    <a:pt x="769" y="167"/>
                  </a:lnTo>
                  <a:lnTo>
                    <a:pt x="782" y="170"/>
                  </a:lnTo>
                  <a:lnTo>
                    <a:pt x="793" y="174"/>
                  </a:lnTo>
                  <a:lnTo>
                    <a:pt x="806" y="180"/>
                  </a:lnTo>
                  <a:lnTo>
                    <a:pt x="818" y="184"/>
                  </a:lnTo>
                  <a:lnTo>
                    <a:pt x="831" y="188"/>
                  </a:lnTo>
                  <a:lnTo>
                    <a:pt x="843" y="193"/>
                  </a:lnTo>
                  <a:lnTo>
                    <a:pt x="854" y="197"/>
                  </a:lnTo>
                  <a:lnTo>
                    <a:pt x="865" y="200"/>
                  </a:lnTo>
                  <a:lnTo>
                    <a:pt x="876" y="202"/>
                  </a:lnTo>
                  <a:lnTo>
                    <a:pt x="886" y="204"/>
                  </a:lnTo>
                  <a:lnTo>
                    <a:pt x="897" y="217"/>
                  </a:lnTo>
                  <a:lnTo>
                    <a:pt x="909" y="228"/>
                  </a:lnTo>
                  <a:lnTo>
                    <a:pt x="920" y="239"/>
                  </a:lnTo>
                  <a:lnTo>
                    <a:pt x="931" y="245"/>
                  </a:lnTo>
                  <a:lnTo>
                    <a:pt x="942" y="250"/>
                  </a:lnTo>
                  <a:lnTo>
                    <a:pt x="952" y="250"/>
                  </a:lnTo>
                  <a:lnTo>
                    <a:pt x="961" y="247"/>
                  </a:lnTo>
                  <a:lnTo>
                    <a:pt x="970" y="239"/>
                  </a:lnTo>
                  <a:close/>
                  <a:moveTo>
                    <a:pt x="640" y="73"/>
                  </a:moveTo>
                  <a:lnTo>
                    <a:pt x="631" y="76"/>
                  </a:lnTo>
                  <a:lnTo>
                    <a:pt x="621" y="78"/>
                  </a:lnTo>
                  <a:lnTo>
                    <a:pt x="612" y="81"/>
                  </a:lnTo>
                  <a:lnTo>
                    <a:pt x="605" y="83"/>
                  </a:lnTo>
                  <a:lnTo>
                    <a:pt x="599" y="87"/>
                  </a:lnTo>
                  <a:lnTo>
                    <a:pt x="592" y="89"/>
                  </a:lnTo>
                  <a:lnTo>
                    <a:pt x="586" y="92"/>
                  </a:lnTo>
                  <a:lnTo>
                    <a:pt x="579" y="95"/>
                  </a:lnTo>
                  <a:lnTo>
                    <a:pt x="576" y="89"/>
                  </a:lnTo>
                  <a:lnTo>
                    <a:pt x="571" y="81"/>
                  </a:lnTo>
                  <a:lnTo>
                    <a:pt x="563" y="75"/>
                  </a:lnTo>
                  <a:lnTo>
                    <a:pt x="555" y="67"/>
                  </a:lnTo>
                  <a:lnTo>
                    <a:pt x="546" y="61"/>
                  </a:lnTo>
                  <a:lnTo>
                    <a:pt x="536" y="55"/>
                  </a:lnTo>
                  <a:lnTo>
                    <a:pt x="527" y="50"/>
                  </a:lnTo>
                  <a:lnTo>
                    <a:pt x="518" y="47"/>
                  </a:lnTo>
                  <a:lnTo>
                    <a:pt x="530" y="48"/>
                  </a:lnTo>
                  <a:lnTo>
                    <a:pt x="539" y="51"/>
                  </a:lnTo>
                  <a:lnTo>
                    <a:pt x="547" y="56"/>
                  </a:lnTo>
                  <a:lnTo>
                    <a:pt x="554" y="61"/>
                  </a:lnTo>
                  <a:lnTo>
                    <a:pt x="559" y="67"/>
                  </a:lnTo>
                  <a:lnTo>
                    <a:pt x="565" y="73"/>
                  </a:lnTo>
                  <a:lnTo>
                    <a:pt x="572" y="77"/>
                  </a:lnTo>
                  <a:lnTo>
                    <a:pt x="579" y="79"/>
                  </a:lnTo>
                  <a:lnTo>
                    <a:pt x="586" y="79"/>
                  </a:lnTo>
                  <a:lnTo>
                    <a:pt x="592" y="77"/>
                  </a:lnTo>
                  <a:lnTo>
                    <a:pt x="601" y="75"/>
                  </a:lnTo>
                  <a:lnTo>
                    <a:pt x="608" y="73"/>
                  </a:lnTo>
                  <a:lnTo>
                    <a:pt x="617" y="72"/>
                  </a:lnTo>
                  <a:lnTo>
                    <a:pt x="625" y="71"/>
                  </a:lnTo>
                  <a:lnTo>
                    <a:pt x="633" y="71"/>
                  </a:lnTo>
                  <a:lnTo>
                    <a:pt x="640" y="73"/>
                  </a:lnTo>
                  <a:close/>
                  <a:moveTo>
                    <a:pt x="68" y="358"/>
                  </a:moveTo>
                  <a:lnTo>
                    <a:pt x="80" y="369"/>
                  </a:lnTo>
                  <a:lnTo>
                    <a:pt x="92" y="378"/>
                  </a:lnTo>
                  <a:lnTo>
                    <a:pt x="104" y="384"/>
                  </a:lnTo>
                  <a:lnTo>
                    <a:pt x="116" y="389"/>
                  </a:lnTo>
                  <a:lnTo>
                    <a:pt x="127" y="393"/>
                  </a:lnTo>
                  <a:lnTo>
                    <a:pt x="138" y="395"/>
                  </a:lnTo>
                  <a:lnTo>
                    <a:pt x="150" y="397"/>
                  </a:lnTo>
                  <a:lnTo>
                    <a:pt x="163" y="397"/>
                  </a:lnTo>
                  <a:lnTo>
                    <a:pt x="163" y="380"/>
                  </a:lnTo>
                  <a:lnTo>
                    <a:pt x="165" y="364"/>
                  </a:lnTo>
                  <a:lnTo>
                    <a:pt x="169" y="350"/>
                  </a:lnTo>
                  <a:lnTo>
                    <a:pt x="175" y="338"/>
                  </a:lnTo>
                  <a:lnTo>
                    <a:pt x="181" y="328"/>
                  </a:lnTo>
                  <a:lnTo>
                    <a:pt x="188" y="321"/>
                  </a:lnTo>
                  <a:lnTo>
                    <a:pt x="195" y="318"/>
                  </a:lnTo>
                  <a:lnTo>
                    <a:pt x="200" y="318"/>
                  </a:lnTo>
                  <a:lnTo>
                    <a:pt x="199" y="333"/>
                  </a:lnTo>
                  <a:lnTo>
                    <a:pt x="200" y="345"/>
                  </a:lnTo>
                  <a:lnTo>
                    <a:pt x="201" y="357"/>
                  </a:lnTo>
                  <a:lnTo>
                    <a:pt x="205" y="368"/>
                  </a:lnTo>
                  <a:lnTo>
                    <a:pt x="208" y="376"/>
                  </a:lnTo>
                  <a:lnTo>
                    <a:pt x="212" y="384"/>
                  </a:lnTo>
                  <a:lnTo>
                    <a:pt x="215" y="390"/>
                  </a:lnTo>
                  <a:lnTo>
                    <a:pt x="219" y="395"/>
                  </a:lnTo>
                  <a:lnTo>
                    <a:pt x="226" y="398"/>
                  </a:lnTo>
                  <a:lnTo>
                    <a:pt x="234" y="399"/>
                  </a:lnTo>
                  <a:lnTo>
                    <a:pt x="241" y="399"/>
                  </a:lnTo>
                  <a:lnTo>
                    <a:pt x="249" y="398"/>
                  </a:lnTo>
                  <a:lnTo>
                    <a:pt x="255" y="396"/>
                  </a:lnTo>
                  <a:lnTo>
                    <a:pt x="261" y="394"/>
                  </a:lnTo>
                  <a:lnTo>
                    <a:pt x="267" y="391"/>
                  </a:lnTo>
                  <a:lnTo>
                    <a:pt x="271" y="389"/>
                  </a:lnTo>
                  <a:lnTo>
                    <a:pt x="267" y="383"/>
                  </a:lnTo>
                  <a:lnTo>
                    <a:pt x="264" y="374"/>
                  </a:lnTo>
                  <a:lnTo>
                    <a:pt x="260" y="364"/>
                  </a:lnTo>
                  <a:lnTo>
                    <a:pt x="259" y="352"/>
                  </a:lnTo>
                  <a:lnTo>
                    <a:pt x="259" y="338"/>
                  </a:lnTo>
                  <a:lnTo>
                    <a:pt x="259" y="325"/>
                  </a:lnTo>
                  <a:lnTo>
                    <a:pt x="260" y="313"/>
                  </a:lnTo>
                  <a:lnTo>
                    <a:pt x="261" y="302"/>
                  </a:lnTo>
                  <a:lnTo>
                    <a:pt x="264" y="310"/>
                  </a:lnTo>
                  <a:lnTo>
                    <a:pt x="267" y="320"/>
                  </a:lnTo>
                  <a:lnTo>
                    <a:pt x="271" y="329"/>
                  </a:lnTo>
                  <a:lnTo>
                    <a:pt x="275" y="338"/>
                  </a:lnTo>
                  <a:lnTo>
                    <a:pt x="280" y="348"/>
                  </a:lnTo>
                  <a:lnTo>
                    <a:pt x="285" y="357"/>
                  </a:lnTo>
                  <a:lnTo>
                    <a:pt x="290" y="366"/>
                  </a:lnTo>
                  <a:lnTo>
                    <a:pt x="297" y="374"/>
                  </a:lnTo>
                  <a:lnTo>
                    <a:pt x="310" y="372"/>
                  </a:lnTo>
                  <a:lnTo>
                    <a:pt x="319" y="374"/>
                  </a:lnTo>
                  <a:lnTo>
                    <a:pt x="326" y="382"/>
                  </a:lnTo>
                  <a:lnTo>
                    <a:pt x="330" y="391"/>
                  </a:lnTo>
                  <a:lnTo>
                    <a:pt x="334" y="402"/>
                  </a:lnTo>
                  <a:lnTo>
                    <a:pt x="338" y="412"/>
                  </a:lnTo>
                  <a:lnTo>
                    <a:pt x="344" y="420"/>
                  </a:lnTo>
                  <a:lnTo>
                    <a:pt x="351" y="424"/>
                  </a:lnTo>
                  <a:lnTo>
                    <a:pt x="340" y="429"/>
                  </a:lnTo>
                  <a:lnTo>
                    <a:pt x="329" y="433"/>
                  </a:lnTo>
                  <a:lnTo>
                    <a:pt x="317" y="437"/>
                  </a:lnTo>
                  <a:lnTo>
                    <a:pt x="305" y="443"/>
                  </a:lnTo>
                  <a:lnTo>
                    <a:pt x="293" y="446"/>
                  </a:lnTo>
                  <a:lnTo>
                    <a:pt x="282" y="450"/>
                  </a:lnTo>
                  <a:lnTo>
                    <a:pt x="269" y="454"/>
                  </a:lnTo>
                  <a:lnTo>
                    <a:pt x="257" y="457"/>
                  </a:lnTo>
                  <a:lnTo>
                    <a:pt x="245" y="460"/>
                  </a:lnTo>
                  <a:lnTo>
                    <a:pt x="234" y="462"/>
                  </a:lnTo>
                  <a:lnTo>
                    <a:pt x="222" y="463"/>
                  </a:lnTo>
                  <a:lnTo>
                    <a:pt x="210" y="464"/>
                  </a:lnTo>
                  <a:lnTo>
                    <a:pt x="198" y="463"/>
                  </a:lnTo>
                  <a:lnTo>
                    <a:pt x="186" y="462"/>
                  </a:lnTo>
                  <a:lnTo>
                    <a:pt x="175" y="461"/>
                  </a:lnTo>
                  <a:lnTo>
                    <a:pt x="164" y="458"/>
                  </a:lnTo>
                  <a:lnTo>
                    <a:pt x="151" y="452"/>
                  </a:lnTo>
                  <a:lnTo>
                    <a:pt x="138" y="446"/>
                  </a:lnTo>
                  <a:lnTo>
                    <a:pt x="125" y="439"/>
                  </a:lnTo>
                  <a:lnTo>
                    <a:pt x="114" y="431"/>
                  </a:lnTo>
                  <a:lnTo>
                    <a:pt x="102" y="425"/>
                  </a:lnTo>
                  <a:lnTo>
                    <a:pt x="91" y="418"/>
                  </a:lnTo>
                  <a:lnTo>
                    <a:pt x="80" y="412"/>
                  </a:lnTo>
                  <a:lnTo>
                    <a:pt x="71" y="408"/>
                  </a:lnTo>
                  <a:lnTo>
                    <a:pt x="61" y="402"/>
                  </a:lnTo>
                  <a:lnTo>
                    <a:pt x="53" y="399"/>
                  </a:lnTo>
                  <a:lnTo>
                    <a:pt x="45" y="398"/>
                  </a:lnTo>
                  <a:lnTo>
                    <a:pt x="39" y="399"/>
                  </a:lnTo>
                  <a:lnTo>
                    <a:pt x="31" y="400"/>
                  </a:lnTo>
                  <a:lnTo>
                    <a:pt x="23" y="401"/>
                  </a:lnTo>
                  <a:lnTo>
                    <a:pt x="13" y="402"/>
                  </a:lnTo>
                  <a:lnTo>
                    <a:pt x="0" y="403"/>
                  </a:lnTo>
                  <a:lnTo>
                    <a:pt x="8" y="399"/>
                  </a:lnTo>
                  <a:lnTo>
                    <a:pt x="16" y="394"/>
                  </a:lnTo>
                  <a:lnTo>
                    <a:pt x="27" y="387"/>
                  </a:lnTo>
                  <a:lnTo>
                    <a:pt x="38" y="381"/>
                  </a:lnTo>
                  <a:lnTo>
                    <a:pt x="47" y="373"/>
                  </a:lnTo>
                  <a:lnTo>
                    <a:pt x="56" y="367"/>
                  </a:lnTo>
                  <a:lnTo>
                    <a:pt x="63" y="362"/>
                  </a:lnTo>
                  <a:lnTo>
                    <a:pt x="68" y="358"/>
                  </a:lnTo>
                  <a:close/>
                  <a:moveTo>
                    <a:pt x="347" y="239"/>
                  </a:moveTo>
                  <a:lnTo>
                    <a:pt x="352" y="253"/>
                  </a:lnTo>
                  <a:lnTo>
                    <a:pt x="358" y="265"/>
                  </a:lnTo>
                  <a:lnTo>
                    <a:pt x="365" y="273"/>
                  </a:lnTo>
                  <a:lnTo>
                    <a:pt x="374" y="278"/>
                  </a:lnTo>
                  <a:lnTo>
                    <a:pt x="383" y="279"/>
                  </a:lnTo>
                  <a:lnTo>
                    <a:pt x="395" y="278"/>
                  </a:lnTo>
                  <a:lnTo>
                    <a:pt x="407" y="275"/>
                  </a:lnTo>
                  <a:lnTo>
                    <a:pt x="420" y="270"/>
                  </a:lnTo>
                  <a:lnTo>
                    <a:pt x="414" y="263"/>
                  </a:lnTo>
                  <a:lnTo>
                    <a:pt x="409" y="256"/>
                  </a:lnTo>
                  <a:lnTo>
                    <a:pt x="402" y="248"/>
                  </a:lnTo>
                  <a:lnTo>
                    <a:pt x="393" y="242"/>
                  </a:lnTo>
                  <a:lnTo>
                    <a:pt x="383" y="236"/>
                  </a:lnTo>
                  <a:lnTo>
                    <a:pt x="372" y="234"/>
                  </a:lnTo>
                  <a:lnTo>
                    <a:pt x="360" y="234"/>
                  </a:lnTo>
                  <a:lnTo>
                    <a:pt x="347" y="239"/>
                  </a:lnTo>
                  <a:close/>
                  <a:moveTo>
                    <a:pt x="389" y="193"/>
                  </a:moveTo>
                  <a:lnTo>
                    <a:pt x="403" y="203"/>
                  </a:lnTo>
                  <a:lnTo>
                    <a:pt x="412" y="207"/>
                  </a:lnTo>
                  <a:lnTo>
                    <a:pt x="422" y="207"/>
                  </a:lnTo>
                  <a:lnTo>
                    <a:pt x="429" y="204"/>
                  </a:lnTo>
                  <a:lnTo>
                    <a:pt x="439" y="200"/>
                  </a:lnTo>
                  <a:lnTo>
                    <a:pt x="450" y="196"/>
                  </a:lnTo>
                  <a:lnTo>
                    <a:pt x="465" y="194"/>
                  </a:lnTo>
                  <a:lnTo>
                    <a:pt x="484" y="196"/>
                  </a:lnTo>
                  <a:lnTo>
                    <a:pt x="475" y="193"/>
                  </a:lnTo>
                  <a:lnTo>
                    <a:pt x="469" y="188"/>
                  </a:lnTo>
                  <a:lnTo>
                    <a:pt x="464" y="184"/>
                  </a:lnTo>
                  <a:lnTo>
                    <a:pt x="457" y="180"/>
                  </a:lnTo>
                  <a:lnTo>
                    <a:pt x="451" y="175"/>
                  </a:lnTo>
                  <a:lnTo>
                    <a:pt x="443" y="173"/>
                  </a:lnTo>
                  <a:lnTo>
                    <a:pt x="434" y="172"/>
                  </a:lnTo>
                  <a:lnTo>
                    <a:pt x="422" y="173"/>
                  </a:lnTo>
                  <a:lnTo>
                    <a:pt x="389" y="193"/>
                  </a:lnTo>
                  <a:close/>
                  <a:moveTo>
                    <a:pt x="488" y="87"/>
                  </a:moveTo>
                  <a:lnTo>
                    <a:pt x="478" y="90"/>
                  </a:lnTo>
                  <a:lnTo>
                    <a:pt x="467" y="94"/>
                  </a:lnTo>
                  <a:lnTo>
                    <a:pt x="457" y="98"/>
                  </a:lnTo>
                  <a:lnTo>
                    <a:pt x="448" y="104"/>
                  </a:lnTo>
                  <a:lnTo>
                    <a:pt x="439" y="109"/>
                  </a:lnTo>
                  <a:lnTo>
                    <a:pt x="432" y="114"/>
                  </a:lnTo>
                  <a:lnTo>
                    <a:pt x="425" y="121"/>
                  </a:lnTo>
                  <a:lnTo>
                    <a:pt x="420" y="127"/>
                  </a:lnTo>
                  <a:lnTo>
                    <a:pt x="425" y="128"/>
                  </a:lnTo>
                  <a:lnTo>
                    <a:pt x="431" y="133"/>
                  </a:lnTo>
                  <a:lnTo>
                    <a:pt x="437" y="137"/>
                  </a:lnTo>
                  <a:lnTo>
                    <a:pt x="444" y="142"/>
                  </a:lnTo>
                  <a:lnTo>
                    <a:pt x="451" y="149"/>
                  </a:lnTo>
                  <a:lnTo>
                    <a:pt x="457" y="153"/>
                  </a:lnTo>
                  <a:lnTo>
                    <a:pt x="464" y="157"/>
                  </a:lnTo>
                  <a:lnTo>
                    <a:pt x="469" y="158"/>
                  </a:lnTo>
                  <a:lnTo>
                    <a:pt x="469" y="153"/>
                  </a:lnTo>
                  <a:lnTo>
                    <a:pt x="468" y="148"/>
                  </a:lnTo>
                  <a:lnTo>
                    <a:pt x="466" y="143"/>
                  </a:lnTo>
                  <a:lnTo>
                    <a:pt x="465" y="139"/>
                  </a:lnTo>
                  <a:lnTo>
                    <a:pt x="463" y="136"/>
                  </a:lnTo>
                  <a:lnTo>
                    <a:pt x="460" y="132"/>
                  </a:lnTo>
                  <a:lnTo>
                    <a:pt x="459" y="126"/>
                  </a:lnTo>
                  <a:lnTo>
                    <a:pt x="459" y="121"/>
                  </a:lnTo>
                  <a:lnTo>
                    <a:pt x="464" y="116"/>
                  </a:lnTo>
                  <a:lnTo>
                    <a:pt x="467" y="110"/>
                  </a:lnTo>
                  <a:lnTo>
                    <a:pt x="469" y="107"/>
                  </a:lnTo>
                  <a:lnTo>
                    <a:pt x="471" y="103"/>
                  </a:lnTo>
                  <a:lnTo>
                    <a:pt x="474" y="99"/>
                  </a:lnTo>
                  <a:lnTo>
                    <a:pt x="478" y="96"/>
                  </a:lnTo>
                  <a:lnTo>
                    <a:pt x="482" y="92"/>
                  </a:lnTo>
                  <a:lnTo>
                    <a:pt x="488" y="87"/>
                  </a:lnTo>
                  <a:close/>
                  <a:moveTo>
                    <a:pt x="921" y="350"/>
                  </a:moveTo>
                  <a:lnTo>
                    <a:pt x="905" y="349"/>
                  </a:lnTo>
                  <a:lnTo>
                    <a:pt x="889" y="347"/>
                  </a:lnTo>
                  <a:lnTo>
                    <a:pt x="872" y="342"/>
                  </a:lnTo>
                  <a:lnTo>
                    <a:pt x="855" y="337"/>
                  </a:lnTo>
                  <a:lnTo>
                    <a:pt x="838" y="332"/>
                  </a:lnTo>
                  <a:lnTo>
                    <a:pt x="821" y="324"/>
                  </a:lnTo>
                  <a:lnTo>
                    <a:pt x="805" y="317"/>
                  </a:lnTo>
                  <a:lnTo>
                    <a:pt x="788" y="309"/>
                  </a:lnTo>
                  <a:lnTo>
                    <a:pt x="771" y="303"/>
                  </a:lnTo>
                  <a:lnTo>
                    <a:pt x="754" y="295"/>
                  </a:lnTo>
                  <a:lnTo>
                    <a:pt x="738" y="288"/>
                  </a:lnTo>
                  <a:lnTo>
                    <a:pt x="721" y="282"/>
                  </a:lnTo>
                  <a:lnTo>
                    <a:pt x="703" y="277"/>
                  </a:lnTo>
                  <a:lnTo>
                    <a:pt x="687" y="273"/>
                  </a:lnTo>
                  <a:lnTo>
                    <a:pt x="670" y="271"/>
                  </a:lnTo>
                  <a:lnTo>
                    <a:pt x="654" y="270"/>
                  </a:lnTo>
                  <a:lnTo>
                    <a:pt x="651" y="264"/>
                  </a:lnTo>
                  <a:lnTo>
                    <a:pt x="646" y="259"/>
                  </a:lnTo>
                  <a:lnTo>
                    <a:pt x="639" y="252"/>
                  </a:lnTo>
                  <a:lnTo>
                    <a:pt x="630" y="247"/>
                  </a:lnTo>
                  <a:lnTo>
                    <a:pt x="621" y="244"/>
                  </a:lnTo>
                  <a:lnTo>
                    <a:pt x="611" y="241"/>
                  </a:lnTo>
                  <a:lnTo>
                    <a:pt x="599" y="239"/>
                  </a:lnTo>
                  <a:lnTo>
                    <a:pt x="586" y="237"/>
                  </a:lnTo>
                  <a:lnTo>
                    <a:pt x="571" y="236"/>
                  </a:lnTo>
                  <a:lnTo>
                    <a:pt x="555" y="236"/>
                  </a:lnTo>
                  <a:lnTo>
                    <a:pt x="539" y="237"/>
                  </a:lnTo>
                  <a:lnTo>
                    <a:pt x="521" y="239"/>
                  </a:lnTo>
                  <a:lnTo>
                    <a:pt x="527" y="233"/>
                  </a:lnTo>
                  <a:lnTo>
                    <a:pt x="536" y="231"/>
                  </a:lnTo>
                  <a:lnTo>
                    <a:pt x="549" y="230"/>
                  </a:lnTo>
                  <a:lnTo>
                    <a:pt x="565" y="230"/>
                  </a:lnTo>
                  <a:lnTo>
                    <a:pt x="584" y="229"/>
                  </a:lnTo>
                  <a:lnTo>
                    <a:pt x="604" y="228"/>
                  </a:lnTo>
                  <a:lnTo>
                    <a:pt x="624" y="225"/>
                  </a:lnTo>
                  <a:lnTo>
                    <a:pt x="646" y="219"/>
                  </a:lnTo>
                  <a:lnTo>
                    <a:pt x="647" y="225"/>
                  </a:lnTo>
                  <a:lnTo>
                    <a:pt x="649" y="231"/>
                  </a:lnTo>
                  <a:lnTo>
                    <a:pt x="653" y="237"/>
                  </a:lnTo>
                  <a:lnTo>
                    <a:pt x="659" y="244"/>
                  </a:lnTo>
                  <a:lnTo>
                    <a:pt x="665" y="249"/>
                  </a:lnTo>
                  <a:lnTo>
                    <a:pt x="671" y="253"/>
                  </a:lnTo>
                  <a:lnTo>
                    <a:pt x="678" y="257"/>
                  </a:lnTo>
                  <a:lnTo>
                    <a:pt x="684" y="259"/>
                  </a:lnTo>
                  <a:lnTo>
                    <a:pt x="699" y="261"/>
                  </a:lnTo>
                  <a:lnTo>
                    <a:pt x="712" y="260"/>
                  </a:lnTo>
                  <a:lnTo>
                    <a:pt x="722" y="256"/>
                  </a:lnTo>
                  <a:lnTo>
                    <a:pt x="731" y="250"/>
                  </a:lnTo>
                  <a:lnTo>
                    <a:pt x="739" y="246"/>
                  </a:lnTo>
                  <a:lnTo>
                    <a:pt x="745" y="244"/>
                  </a:lnTo>
                  <a:lnTo>
                    <a:pt x="752" y="246"/>
                  </a:lnTo>
                  <a:lnTo>
                    <a:pt x="758" y="253"/>
                  </a:lnTo>
                  <a:lnTo>
                    <a:pt x="767" y="263"/>
                  </a:lnTo>
                  <a:lnTo>
                    <a:pt x="778" y="270"/>
                  </a:lnTo>
                  <a:lnTo>
                    <a:pt x="791" y="276"/>
                  </a:lnTo>
                  <a:lnTo>
                    <a:pt x="804" y="280"/>
                  </a:lnTo>
                  <a:lnTo>
                    <a:pt x="818" y="286"/>
                  </a:lnTo>
                  <a:lnTo>
                    <a:pt x="830" y="290"/>
                  </a:lnTo>
                  <a:lnTo>
                    <a:pt x="838" y="295"/>
                  </a:lnTo>
                  <a:lnTo>
                    <a:pt x="844" y="302"/>
                  </a:lnTo>
                  <a:lnTo>
                    <a:pt x="846" y="294"/>
                  </a:lnTo>
                  <a:lnTo>
                    <a:pt x="849" y="285"/>
                  </a:lnTo>
                  <a:lnTo>
                    <a:pt x="852" y="276"/>
                  </a:lnTo>
                  <a:lnTo>
                    <a:pt x="857" y="267"/>
                  </a:lnTo>
                  <a:lnTo>
                    <a:pt x="862" y="260"/>
                  </a:lnTo>
                  <a:lnTo>
                    <a:pt x="867" y="255"/>
                  </a:lnTo>
                  <a:lnTo>
                    <a:pt x="875" y="251"/>
                  </a:lnTo>
                  <a:lnTo>
                    <a:pt x="883" y="251"/>
                  </a:lnTo>
                  <a:lnTo>
                    <a:pt x="880" y="256"/>
                  </a:lnTo>
                  <a:lnTo>
                    <a:pt x="878" y="261"/>
                  </a:lnTo>
                  <a:lnTo>
                    <a:pt x="876" y="267"/>
                  </a:lnTo>
                  <a:lnTo>
                    <a:pt x="874" y="275"/>
                  </a:lnTo>
                  <a:lnTo>
                    <a:pt x="873" y="282"/>
                  </a:lnTo>
                  <a:lnTo>
                    <a:pt x="873" y="290"/>
                  </a:lnTo>
                  <a:lnTo>
                    <a:pt x="873" y="296"/>
                  </a:lnTo>
                  <a:lnTo>
                    <a:pt x="873" y="302"/>
                  </a:lnTo>
                  <a:lnTo>
                    <a:pt x="877" y="307"/>
                  </a:lnTo>
                  <a:lnTo>
                    <a:pt x="881" y="312"/>
                  </a:lnTo>
                  <a:lnTo>
                    <a:pt x="886" y="318"/>
                  </a:lnTo>
                  <a:lnTo>
                    <a:pt x="892" y="322"/>
                  </a:lnTo>
                  <a:lnTo>
                    <a:pt x="897" y="325"/>
                  </a:lnTo>
                  <a:lnTo>
                    <a:pt x="903" y="328"/>
                  </a:lnTo>
                  <a:lnTo>
                    <a:pt x="907" y="332"/>
                  </a:lnTo>
                  <a:lnTo>
                    <a:pt x="911" y="333"/>
                  </a:lnTo>
                  <a:lnTo>
                    <a:pt x="914" y="335"/>
                  </a:lnTo>
                  <a:lnTo>
                    <a:pt x="919" y="335"/>
                  </a:lnTo>
                  <a:lnTo>
                    <a:pt x="923" y="334"/>
                  </a:lnTo>
                  <a:lnTo>
                    <a:pt x="927" y="332"/>
                  </a:lnTo>
                  <a:lnTo>
                    <a:pt x="931" y="329"/>
                  </a:lnTo>
                  <a:lnTo>
                    <a:pt x="937" y="326"/>
                  </a:lnTo>
                  <a:lnTo>
                    <a:pt x="941" y="322"/>
                  </a:lnTo>
                  <a:lnTo>
                    <a:pt x="946" y="318"/>
                  </a:lnTo>
                  <a:lnTo>
                    <a:pt x="945" y="324"/>
                  </a:lnTo>
                  <a:lnTo>
                    <a:pt x="943" y="329"/>
                  </a:lnTo>
                  <a:lnTo>
                    <a:pt x="940" y="336"/>
                  </a:lnTo>
                  <a:lnTo>
                    <a:pt x="937" y="340"/>
                  </a:lnTo>
                  <a:lnTo>
                    <a:pt x="934" y="344"/>
                  </a:lnTo>
                  <a:lnTo>
                    <a:pt x="929" y="348"/>
                  </a:lnTo>
                  <a:lnTo>
                    <a:pt x="925" y="349"/>
                  </a:lnTo>
                  <a:lnTo>
                    <a:pt x="921" y="350"/>
                  </a:lnTo>
                  <a:close/>
                  <a:moveTo>
                    <a:pt x="640" y="381"/>
                  </a:moveTo>
                  <a:lnTo>
                    <a:pt x="626" y="380"/>
                  </a:lnTo>
                  <a:lnTo>
                    <a:pt x="615" y="379"/>
                  </a:lnTo>
                  <a:lnTo>
                    <a:pt x="606" y="376"/>
                  </a:lnTo>
                  <a:lnTo>
                    <a:pt x="597" y="374"/>
                  </a:lnTo>
                  <a:lnTo>
                    <a:pt x="590" y="370"/>
                  </a:lnTo>
                  <a:lnTo>
                    <a:pt x="583" y="365"/>
                  </a:lnTo>
                  <a:lnTo>
                    <a:pt x="574" y="357"/>
                  </a:lnTo>
                  <a:lnTo>
                    <a:pt x="564" y="348"/>
                  </a:lnTo>
                  <a:lnTo>
                    <a:pt x="531" y="349"/>
                  </a:lnTo>
                  <a:lnTo>
                    <a:pt x="509" y="353"/>
                  </a:lnTo>
                  <a:lnTo>
                    <a:pt x="493" y="360"/>
                  </a:lnTo>
                  <a:lnTo>
                    <a:pt x="481" y="368"/>
                  </a:lnTo>
                  <a:lnTo>
                    <a:pt x="470" y="375"/>
                  </a:lnTo>
                  <a:lnTo>
                    <a:pt x="457" y="380"/>
                  </a:lnTo>
                  <a:lnTo>
                    <a:pt x="439" y="382"/>
                  </a:lnTo>
                  <a:lnTo>
                    <a:pt x="413" y="378"/>
                  </a:lnTo>
                  <a:lnTo>
                    <a:pt x="419" y="371"/>
                  </a:lnTo>
                  <a:lnTo>
                    <a:pt x="426" y="367"/>
                  </a:lnTo>
                  <a:lnTo>
                    <a:pt x="435" y="363"/>
                  </a:lnTo>
                  <a:lnTo>
                    <a:pt x="444" y="357"/>
                  </a:lnTo>
                  <a:lnTo>
                    <a:pt x="454" y="353"/>
                  </a:lnTo>
                  <a:lnTo>
                    <a:pt x="464" y="345"/>
                  </a:lnTo>
                  <a:lnTo>
                    <a:pt x="472" y="337"/>
                  </a:lnTo>
                  <a:lnTo>
                    <a:pt x="479" y="325"/>
                  </a:lnTo>
                  <a:lnTo>
                    <a:pt x="494" y="334"/>
                  </a:lnTo>
                  <a:lnTo>
                    <a:pt x="494" y="333"/>
                  </a:lnTo>
                  <a:lnTo>
                    <a:pt x="495" y="331"/>
                  </a:lnTo>
                  <a:lnTo>
                    <a:pt x="496" y="327"/>
                  </a:lnTo>
                  <a:lnTo>
                    <a:pt x="497" y="323"/>
                  </a:lnTo>
                  <a:lnTo>
                    <a:pt x="499" y="319"/>
                  </a:lnTo>
                  <a:lnTo>
                    <a:pt x="500" y="313"/>
                  </a:lnTo>
                  <a:lnTo>
                    <a:pt x="503" y="307"/>
                  </a:lnTo>
                  <a:lnTo>
                    <a:pt x="505" y="302"/>
                  </a:lnTo>
                  <a:lnTo>
                    <a:pt x="511" y="302"/>
                  </a:lnTo>
                  <a:lnTo>
                    <a:pt x="517" y="303"/>
                  </a:lnTo>
                  <a:lnTo>
                    <a:pt x="525" y="305"/>
                  </a:lnTo>
                  <a:lnTo>
                    <a:pt x="532" y="306"/>
                  </a:lnTo>
                  <a:lnTo>
                    <a:pt x="540" y="307"/>
                  </a:lnTo>
                  <a:lnTo>
                    <a:pt x="549" y="309"/>
                  </a:lnTo>
                  <a:lnTo>
                    <a:pt x="558" y="310"/>
                  </a:lnTo>
                  <a:lnTo>
                    <a:pt x="566" y="310"/>
                  </a:lnTo>
                  <a:lnTo>
                    <a:pt x="569" y="326"/>
                  </a:lnTo>
                  <a:lnTo>
                    <a:pt x="575" y="339"/>
                  </a:lnTo>
                  <a:lnTo>
                    <a:pt x="584" y="349"/>
                  </a:lnTo>
                  <a:lnTo>
                    <a:pt x="594" y="357"/>
                  </a:lnTo>
                  <a:lnTo>
                    <a:pt x="606" y="364"/>
                  </a:lnTo>
                  <a:lnTo>
                    <a:pt x="619" y="370"/>
                  </a:lnTo>
                  <a:lnTo>
                    <a:pt x="630" y="375"/>
                  </a:lnTo>
                  <a:lnTo>
                    <a:pt x="640" y="381"/>
                  </a:lnTo>
                  <a:close/>
                </a:path>
              </a:pathLst>
            </a:custGeom>
            <a:solidFill>
              <a:srgbClr val="b26d42"/>
            </a:solidFill>
            <a:ln w="0">
              <a:noFill/>
            </a:ln>
          </p:spPr>
          <p:style>
            <a:lnRef idx="0"/>
            <a:fillRef idx="0"/>
            <a:effectRef idx="0"/>
            <a:fontRef idx="minor"/>
          </p:style>
          <p:txBody>
            <a:bodyPr lIns="90000" rIns="90000" tIns="-12240" bIns="-12240" anchor="t">
              <a:noAutofit/>
            </a:bodyPr>
            <a:p>
              <a:endParaRPr b="0" lang="en-US" sz="2400" spc="-1" strike="noStrike">
                <a:solidFill>
                  <a:srgbClr val="ccecff"/>
                </a:solidFill>
                <a:latin typeface="Times New Roman"/>
              </a:endParaRPr>
            </a:p>
          </p:txBody>
        </p:sp>
      </p:grpSp>
      <p:sp>
        <p:nvSpPr>
          <p:cNvPr id="376" name="Line 49"/>
          <p:cNvSpPr/>
          <p:nvPr/>
        </p:nvSpPr>
        <p:spPr>
          <a:xfrm flipH="1" flipV="1">
            <a:off x="3048120" y="4952880"/>
            <a:ext cx="1295280" cy="533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228600" y="141120"/>
            <a:ext cx="83818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imes New Roman"/>
                <a:cs typeface="Traditional Arabic"/>
              </a:rPr>
              <a:t>معيار الإمداد بالماء والإصحاح والنهوض بالنظافة رقم </a:t>
            </a:r>
            <a:r>
              <a:rPr b="1" lang="ar-SA" sz="3200" spc="-1" strike="noStrike">
                <a:solidFill>
                  <a:srgbClr val="ccecff"/>
                </a:solidFill>
                <a:latin typeface="Times New Roman"/>
                <a:ea typeface="Traditional Arabic"/>
              </a:rPr>
              <a:t>1</a:t>
            </a:r>
            <a:r>
              <a:rPr b="1" lang="ar-SA" sz="3200" spc="-1" strike="noStrike">
                <a:solidFill>
                  <a:srgbClr val="ccecff"/>
                </a:solidFill>
                <a:latin typeface="Times New Roman"/>
                <a:ea typeface="Traditional Arabic"/>
              </a:rPr>
              <a:t>: إعداد البرنامج وتنفيذه</a:t>
            </a:r>
            <a:endParaRPr b="0" lang="en-US" sz="3200" spc="-1" strike="noStrike">
              <a:solidFill>
                <a:srgbClr val="ccecff"/>
              </a:solidFill>
              <a:latin typeface="Times New Roman"/>
            </a:endParaRPr>
          </a:p>
        </p:txBody>
      </p:sp>
      <p:sp>
        <p:nvSpPr>
          <p:cNvPr id="98" name="Text Box 5"/>
          <p:cNvSpPr/>
          <p:nvPr/>
        </p:nvSpPr>
        <p:spPr>
          <a:xfrm>
            <a:off x="3870360" y="2514600"/>
            <a:ext cx="504504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تلبية حاجات السكان المتضررين في مجال الماء والإصحاح والنهوض بالنظافة، وإشراك المستفيدين في تصميم المرافق وإدارتها وصيانتها حيثما كان ذلك مناسبا. </a:t>
            </a:r>
            <a:endParaRPr b="0" lang="en-US" sz="2800" spc="-1" strike="noStrike">
              <a:solidFill>
                <a:srgbClr val="ccecff"/>
              </a:solidFill>
              <a:latin typeface="Times New Roman"/>
            </a:endParaRPr>
          </a:p>
        </p:txBody>
      </p:sp>
      <p:sp>
        <p:nvSpPr>
          <p:cNvPr id="99" name="Line 5"/>
          <p:cNvSpPr/>
          <p:nvPr/>
        </p:nvSpPr>
        <p:spPr>
          <a:xfrm>
            <a:off x="304920" y="2284560"/>
            <a:ext cx="8458200" cy="1440"/>
          </a:xfrm>
          <a:prstGeom prst="line">
            <a:avLst/>
          </a:prstGeom>
          <a:ln w="7632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ccecff"/>
              </a:solidFill>
              <a:latin typeface="Times New Roman"/>
            </a:endParaRPr>
          </a:p>
        </p:txBody>
      </p:sp>
      <p:sp>
        <p:nvSpPr>
          <p:cNvPr id="100" name="Text Box 6"/>
          <p:cNvSpPr/>
          <p:nvPr/>
        </p:nvSpPr>
        <p:spPr>
          <a:xfrm>
            <a:off x="1404360" y="624996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84</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pic>
        <p:nvPicPr>
          <p:cNvPr id="101" name="Picture 2" descr="© Ton Koene Clean water distribution in Charsadda"/>
          <p:cNvPicPr/>
          <p:nvPr/>
        </p:nvPicPr>
        <p:blipFill>
          <a:blip r:embed="rId1"/>
          <a:srcRect l="19674" t="0" r="9834" b="8934"/>
          <a:stretch/>
        </p:blipFill>
        <p:spPr>
          <a:xfrm>
            <a:off x="243000" y="2479680"/>
            <a:ext cx="3276360" cy="2819520"/>
          </a:xfrm>
          <a:prstGeom prst="rect">
            <a:avLst/>
          </a:prstGeom>
          <a:ln w="0">
            <a:noFill/>
          </a:ln>
        </p:spPr>
      </p:pic>
      <p:sp>
        <p:nvSpPr>
          <p:cNvPr id="102" name="TextBox 8"/>
          <p:cNvSpPr/>
          <p:nvPr/>
        </p:nvSpPr>
        <p:spPr>
          <a:xfrm>
            <a:off x="228600" y="5327640"/>
            <a:ext cx="3429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cs typeface="Traditional Arabic"/>
              </a:rPr>
              <a:t>فريق الإمداد بالماء والإصحاح التابع لمنظمة أطباء بلا حدود – حقوق طبع الصورة لمنظمة أطباء بلا حدود</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46"/>
          <p:cNvSpPr/>
          <p:nvPr/>
        </p:nvSpPr>
        <p:spPr>
          <a:xfrm>
            <a:off x="-1167840" y="5181480"/>
            <a:ext cx="1163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300 </a:t>
            </a:r>
            <a:r>
              <a:rPr b="0" lang="ar-SA" sz="2400" spc="-1" strike="noStrike">
                <a:solidFill>
                  <a:srgbClr val="ffffff"/>
                </a:solidFill>
                <a:latin typeface="Arial"/>
                <a:cs typeface="Traditional Arabic"/>
              </a:rPr>
              <a:t>متر مكعب = </a:t>
            </a:r>
            <a:r>
              <a:rPr b="0" lang="ar-SA" sz="2400" spc="-1" strike="noStrike">
                <a:solidFill>
                  <a:srgbClr val="ffffff"/>
                </a:solidFill>
                <a:latin typeface="Arial"/>
                <a:ea typeface="Traditional Arabic"/>
              </a:rPr>
              <a:t>10</a:t>
            </a:r>
            <a:r>
              <a:rPr b="0" lang="ar-SA" sz="2400" spc="-1" strike="noStrike">
                <a:solidFill>
                  <a:srgbClr val="ffffff"/>
                </a:solidFill>
                <a:latin typeface="Arial"/>
                <a:ea typeface="Traditional Arabic"/>
              </a:rPr>
              <a:t> خزانات من المطاط سعة الواحدة منها </a:t>
            </a:r>
            <a:r>
              <a:rPr b="0" lang="ar-SA" sz="2400" spc="-1" strike="noStrike">
                <a:solidFill>
                  <a:srgbClr val="ffffff"/>
                </a:solidFill>
                <a:latin typeface="Arial"/>
                <a:ea typeface="Traditional Arabic"/>
              </a:rPr>
              <a:t>30,000</a:t>
            </a:r>
            <a:r>
              <a:rPr b="0" lang="ar-SA" sz="2400" spc="-1" strike="noStrike">
                <a:solidFill>
                  <a:srgbClr val="ffffff"/>
                </a:solidFill>
                <a:latin typeface="Arial"/>
                <a:ea typeface="Traditional Arabic"/>
              </a:rPr>
              <a:t> أو </a:t>
            </a:r>
            <a:r>
              <a:rPr b="0" lang="ar-SA" sz="2400" spc="-1" strike="noStrike">
                <a:solidFill>
                  <a:srgbClr val="ffffff"/>
                </a:solidFill>
                <a:latin typeface="Arial"/>
                <a:ea typeface="Traditional Arabic"/>
              </a:rPr>
              <a:t>10</a:t>
            </a:r>
            <a:r>
              <a:rPr b="0" lang="ar-SA" sz="2400" spc="-1" strike="noStrike">
                <a:solidFill>
                  <a:srgbClr val="ffffff"/>
                </a:solidFill>
                <a:latin typeface="Arial"/>
                <a:ea typeface="Traditional Arabic"/>
              </a:rPr>
              <a:t> حاويات معدنية</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سعة الواحدة منها </a:t>
            </a:r>
            <a:r>
              <a:rPr b="0" lang="ar-SA" sz="2400" spc="-1" strike="noStrike">
                <a:solidFill>
                  <a:srgbClr val="ffffff"/>
                </a:solidFill>
                <a:latin typeface="Arial"/>
                <a:ea typeface="Traditional Arabic"/>
              </a:rPr>
              <a:t>10</a:t>
            </a:r>
            <a:r>
              <a:rPr b="0" lang="ar-SA" sz="2400" spc="-1" strike="noStrike">
                <a:solidFill>
                  <a:srgbClr val="ffffff"/>
                </a:solidFill>
                <a:latin typeface="Arial"/>
                <a:ea typeface="Traditional Arabic"/>
              </a:rPr>
              <a:t> طن متري</a:t>
            </a:r>
            <a:endParaRPr b="0" lang="en-US" sz="2400" spc="-1" strike="noStrike">
              <a:solidFill>
                <a:srgbClr val="ccecff"/>
              </a:solidFill>
              <a:latin typeface="Times New Roman"/>
            </a:endParaRPr>
          </a:p>
        </p:txBody>
      </p:sp>
      <p:sp>
        <p:nvSpPr>
          <p:cNvPr id="378" name="Text Box 136"/>
          <p:cNvSpPr/>
          <p:nvPr/>
        </p:nvSpPr>
        <p:spPr>
          <a:xfrm>
            <a:off x="228600" y="228600"/>
            <a:ext cx="8229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ماذا يعني ذلك بالنسبة إلى تخطيط البرامج؟</a:t>
            </a:r>
            <a:endParaRPr b="0" lang="en-US" sz="3600" spc="-1" strike="noStrike">
              <a:solidFill>
                <a:srgbClr val="ccecff"/>
              </a:solidFill>
              <a:latin typeface="Times New Roman"/>
            </a:endParaRPr>
          </a:p>
        </p:txBody>
      </p:sp>
      <p:pic>
        <p:nvPicPr>
          <p:cNvPr id="379" name="Picture 2" descr=""/>
          <p:cNvPicPr/>
          <p:nvPr/>
        </p:nvPicPr>
        <p:blipFill>
          <a:blip r:embed="rId1"/>
          <a:stretch/>
        </p:blipFill>
        <p:spPr>
          <a:xfrm>
            <a:off x="409680" y="2009880"/>
            <a:ext cx="8324640" cy="283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846000" y="436680"/>
            <a:ext cx="3040200" cy="3360600"/>
          </a:xfrm>
          <a:prstGeom prst="rect">
            <a:avLst/>
          </a:prstGeom>
          <a:ln w="0">
            <a:noFill/>
          </a:ln>
        </p:spPr>
      </p:pic>
      <p:sp>
        <p:nvSpPr>
          <p:cNvPr id="381" name="Text Box 3"/>
          <p:cNvSpPr/>
          <p:nvPr/>
        </p:nvSpPr>
        <p:spPr>
          <a:xfrm>
            <a:off x="228600" y="3886200"/>
            <a:ext cx="4038480" cy="3390840"/>
          </a:xfrm>
          <a:prstGeom prst="rect">
            <a:avLst/>
          </a:prstGeom>
          <a:noFill/>
          <a:ln w="0">
            <a:noFill/>
          </a:ln>
        </p:spPr>
        <p:style>
          <a:lnRef idx="0"/>
          <a:fillRef idx="0"/>
          <a:effectRef idx="0"/>
          <a:fontRef idx="minor"/>
        </p:style>
        <p:txBody>
          <a:bodyPr lIns="90000" rIns="90000" tIns="46800" bIns="46800" anchor="t">
            <a:spAutoFit/>
          </a:bodyPr>
          <a:p>
            <a:pPr lvl="4" marL="457200" algn="r" rtl="1">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أطفال من السلفادور يجمعون الماء من الصنابير التي تم تركيبها حديثاً (الخزان في الخلفية سعته </a:t>
            </a:r>
            <a:r>
              <a:rPr b="0" lang="ar-SA" sz="2400" spc="-1" strike="noStrike">
                <a:solidFill>
                  <a:srgbClr val="ffffff"/>
                </a:solidFill>
                <a:latin typeface="Arial"/>
                <a:ea typeface="Traditional Arabic"/>
              </a:rPr>
              <a:t>10,000</a:t>
            </a:r>
            <a:r>
              <a:rPr b="0" lang="ar-SA" sz="2400" spc="-1" strike="noStrike">
                <a:solidFill>
                  <a:srgbClr val="ffffff"/>
                </a:solidFill>
                <a:latin typeface="Arial"/>
                <a:ea typeface="Traditional Arabic"/>
              </a:rPr>
              <a:t> لتر). المساعدة مقدمة في إطار برامج الاستجابة للزلزال.</a:t>
            </a:r>
            <a:endParaRPr b="0" lang="en-US" sz="2400" spc="-1" strike="noStrike">
              <a:solidFill>
                <a:srgbClr val="ccecff"/>
              </a:solidFill>
              <a:latin typeface="Times New Roman"/>
            </a:endParaRPr>
          </a:p>
          <a:p>
            <a:pPr lvl="4" marL="457200" algn="r" rtl="1">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raditional Arabic"/>
              </a:rPr>
              <a:t>حقوق طبع الصورة لراشيل ستاب/ أوكسفام</a:t>
            </a:r>
            <a:endParaRPr b="0" lang="en-US" sz="2000" spc="-1" strike="noStrike">
              <a:solidFill>
                <a:srgbClr val="ccecff"/>
              </a:solidFill>
              <a:latin typeface="Times New Roman"/>
            </a:endParaRPr>
          </a:p>
        </p:txBody>
      </p:sp>
      <p:sp>
        <p:nvSpPr>
          <p:cNvPr id="382" name="Text Box 4"/>
          <p:cNvSpPr/>
          <p:nvPr/>
        </p:nvSpPr>
        <p:spPr>
          <a:xfrm>
            <a:off x="4495680" y="1143000"/>
            <a:ext cx="4419720" cy="3018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ما هي الموضوعات التي يجب أن تدرسها في هذا الموقف إذا أردت أن تقييم المشروع من حيث التزامه بمعايير اسفير للاستجابة الإنسانية؟</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62"/>
          <p:cNvGrpSpPr/>
          <p:nvPr/>
        </p:nvGrpSpPr>
        <p:grpSpPr>
          <a:xfrm>
            <a:off x="5941800" y="2431080"/>
            <a:ext cx="2288880" cy="2299320"/>
            <a:chOff x="5941800" y="2431080"/>
            <a:chExt cx="2288880" cy="2299320"/>
          </a:xfrm>
        </p:grpSpPr>
        <p:sp>
          <p:nvSpPr>
            <p:cNvPr id="384" name="Oval 63"/>
            <p:cNvSpPr/>
            <p:nvPr/>
          </p:nvSpPr>
          <p:spPr>
            <a:xfrm rot="10777800">
              <a:off x="5952960" y="413820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5" name="Oval 64"/>
            <p:cNvSpPr/>
            <p:nvPr/>
          </p:nvSpPr>
          <p:spPr>
            <a:xfrm rot="10777800">
              <a:off x="5952960" y="403200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6" name="Oval 65"/>
            <p:cNvSpPr/>
            <p:nvPr/>
          </p:nvSpPr>
          <p:spPr>
            <a:xfrm rot="10777800">
              <a:off x="5951880" y="392544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7" name="Oval 66"/>
            <p:cNvSpPr/>
            <p:nvPr/>
          </p:nvSpPr>
          <p:spPr>
            <a:xfrm rot="10777800">
              <a:off x="5951880" y="381924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8" name="Oval 67"/>
            <p:cNvSpPr/>
            <p:nvPr/>
          </p:nvSpPr>
          <p:spPr>
            <a:xfrm rot="10777800">
              <a:off x="5950440" y="371304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9" name="Oval 68"/>
            <p:cNvSpPr/>
            <p:nvPr/>
          </p:nvSpPr>
          <p:spPr>
            <a:xfrm rot="10777800">
              <a:off x="5949360" y="360648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0" name="Oval 69"/>
            <p:cNvSpPr/>
            <p:nvPr/>
          </p:nvSpPr>
          <p:spPr>
            <a:xfrm rot="10777800">
              <a:off x="5949360" y="350028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1" name="Oval 70"/>
            <p:cNvSpPr/>
            <p:nvPr/>
          </p:nvSpPr>
          <p:spPr>
            <a:xfrm rot="10777800">
              <a:off x="5948640" y="339408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2" name="Oval 71"/>
            <p:cNvSpPr/>
            <p:nvPr/>
          </p:nvSpPr>
          <p:spPr>
            <a:xfrm rot="10777800">
              <a:off x="5948640" y="328860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3" name="Oval 72"/>
            <p:cNvSpPr/>
            <p:nvPr/>
          </p:nvSpPr>
          <p:spPr>
            <a:xfrm rot="10777800">
              <a:off x="5947200" y="318240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4" name="Oval 73"/>
            <p:cNvSpPr/>
            <p:nvPr/>
          </p:nvSpPr>
          <p:spPr>
            <a:xfrm rot="10777800">
              <a:off x="5946120" y="307584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5" name="Oval 74"/>
            <p:cNvSpPr/>
            <p:nvPr/>
          </p:nvSpPr>
          <p:spPr>
            <a:xfrm rot="10777800">
              <a:off x="5946120" y="296964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6" name="Oval 75"/>
            <p:cNvSpPr/>
            <p:nvPr/>
          </p:nvSpPr>
          <p:spPr>
            <a:xfrm rot="10777800">
              <a:off x="5944680" y="286344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7" name="Oval 76"/>
            <p:cNvSpPr/>
            <p:nvPr/>
          </p:nvSpPr>
          <p:spPr>
            <a:xfrm rot="10777800">
              <a:off x="5943600" y="2756880"/>
              <a:ext cx="2275560" cy="584640"/>
            </a:xfrm>
            <a:prstGeom prst="ellipse">
              <a:avLst/>
            </a:prstGeom>
            <a:gradFill rotWithShape="0">
              <a:gsLst>
                <a:gs pos="0">
                  <a:srgbClr val="5e5e76"/>
                </a:gs>
                <a:gs pos="50000">
                  <a:srgbClr val="ccccff"/>
                </a:gs>
                <a:gs pos="100000">
                  <a:srgbClr val="5e5e76"/>
                </a:gs>
              </a:gsLst>
              <a:lin ang="0"/>
            </a:gra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8" name="Oval 77"/>
            <p:cNvSpPr/>
            <p:nvPr/>
          </p:nvSpPr>
          <p:spPr>
            <a:xfrm rot="10777800">
              <a:off x="5943600" y="2650680"/>
              <a:ext cx="2273400" cy="584640"/>
            </a:xfrm>
            <a:prstGeom prst="ellipse">
              <a:avLst/>
            </a:prstGeom>
            <a:gradFill rotWithShape="0">
              <a:gsLst>
                <a:gs pos="0">
                  <a:srgbClr val="000099"/>
                </a:gs>
                <a:gs pos="50000">
                  <a:srgbClr val="0066ff"/>
                </a:gs>
                <a:gs pos="100000">
                  <a:srgbClr val="000099"/>
                </a:gs>
              </a:gsLst>
              <a:lin ang="0"/>
            </a:grad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9" name="Oval 78"/>
            <p:cNvSpPr/>
            <p:nvPr/>
          </p:nvSpPr>
          <p:spPr>
            <a:xfrm rot="10777800">
              <a:off x="5943240" y="2544480"/>
              <a:ext cx="2274480" cy="584640"/>
            </a:xfrm>
            <a:prstGeom prst="ellipse">
              <a:avLst/>
            </a:prstGeom>
            <a:gradFill rotWithShape="0">
              <a:gsLst>
                <a:gs pos="0">
                  <a:srgbClr val="000099"/>
                </a:gs>
                <a:gs pos="50000">
                  <a:srgbClr val="0066ff"/>
                </a:gs>
                <a:gs pos="100000">
                  <a:srgbClr val="000099"/>
                </a:gs>
              </a:gsLst>
              <a:lin ang="0"/>
            </a:grad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0" name="Oval 79"/>
            <p:cNvSpPr/>
            <p:nvPr/>
          </p:nvSpPr>
          <p:spPr>
            <a:xfrm rot="10777800">
              <a:off x="5943240" y="2438280"/>
              <a:ext cx="2274480" cy="584640"/>
            </a:xfrm>
            <a:prstGeom prst="ellipse">
              <a:avLst/>
            </a:prstGeom>
            <a:gradFill rotWithShape="0">
              <a:gsLst>
                <a:gs pos="0">
                  <a:srgbClr val="000099"/>
                </a:gs>
                <a:gs pos="50000">
                  <a:srgbClr val="0066ff"/>
                </a:gs>
                <a:gs pos="100000">
                  <a:srgbClr val="000099"/>
                </a:gs>
              </a:gsLst>
              <a:lin ang="0"/>
            </a:grad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1" name="Oval 80"/>
            <p:cNvSpPr/>
            <p:nvPr/>
          </p:nvSpPr>
          <p:spPr>
            <a:xfrm>
              <a:off x="6115680" y="2650680"/>
              <a:ext cx="1998000" cy="371880"/>
            </a:xfrm>
            <a:prstGeom prst="ellipse">
              <a:avLst/>
            </a:prstGeom>
            <a:gradFill rotWithShape="0">
              <a:gsLst>
                <a:gs pos="0">
                  <a:srgbClr val="0066ff"/>
                </a:gs>
                <a:gs pos="100000">
                  <a:srgbClr val="ccffff"/>
                </a:gs>
              </a:gsLst>
              <a:path path="rect">
                <a:fillToRect l="50000" t="50000" r="50000" b="50000"/>
              </a:path>
            </a:gra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nvGrpSpPr>
          <p:cNvPr id="402" name="Group 43"/>
          <p:cNvGrpSpPr/>
          <p:nvPr/>
        </p:nvGrpSpPr>
        <p:grpSpPr>
          <a:xfrm>
            <a:off x="4037040" y="3422160"/>
            <a:ext cx="2136240" cy="1688040"/>
            <a:chOff x="4037040" y="3422160"/>
            <a:chExt cx="2136240" cy="1688040"/>
          </a:xfrm>
        </p:grpSpPr>
        <p:sp>
          <p:nvSpPr>
            <p:cNvPr id="403" name="Oval 44"/>
            <p:cNvSpPr/>
            <p:nvPr/>
          </p:nvSpPr>
          <p:spPr>
            <a:xfrm rot="10777800">
              <a:off x="4047840" y="467496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4" name="Oval 45"/>
            <p:cNvSpPr/>
            <p:nvPr/>
          </p:nvSpPr>
          <p:spPr>
            <a:xfrm rot="10777800">
              <a:off x="4047840" y="459720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5" name="Oval 46"/>
            <p:cNvSpPr/>
            <p:nvPr/>
          </p:nvSpPr>
          <p:spPr>
            <a:xfrm rot="10777800">
              <a:off x="4046760" y="4518720"/>
              <a:ext cx="2124000" cy="4287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6" name="Oval 47"/>
            <p:cNvSpPr/>
            <p:nvPr/>
          </p:nvSpPr>
          <p:spPr>
            <a:xfrm rot="10777800">
              <a:off x="4046760" y="444132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7" name="Oval 48"/>
            <p:cNvSpPr/>
            <p:nvPr/>
          </p:nvSpPr>
          <p:spPr>
            <a:xfrm rot="10777800">
              <a:off x="4045680" y="436356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8" name="Oval 49"/>
            <p:cNvSpPr/>
            <p:nvPr/>
          </p:nvSpPr>
          <p:spPr>
            <a:xfrm rot="10777800">
              <a:off x="4044600" y="4285080"/>
              <a:ext cx="2124000" cy="4287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9" name="Oval 50"/>
            <p:cNvSpPr/>
            <p:nvPr/>
          </p:nvSpPr>
          <p:spPr>
            <a:xfrm rot="10777800">
              <a:off x="4044600" y="420732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0" name="Oval 51"/>
            <p:cNvSpPr/>
            <p:nvPr/>
          </p:nvSpPr>
          <p:spPr>
            <a:xfrm rot="10777800">
              <a:off x="4043520" y="412956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1" name="Oval 52"/>
            <p:cNvSpPr/>
            <p:nvPr/>
          </p:nvSpPr>
          <p:spPr>
            <a:xfrm rot="10777800">
              <a:off x="4043520" y="405252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2" name="Oval 53"/>
            <p:cNvSpPr/>
            <p:nvPr/>
          </p:nvSpPr>
          <p:spPr>
            <a:xfrm rot="10777800">
              <a:off x="4042440" y="3974040"/>
              <a:ext cx="2124000" cy="4287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3" name="Oval 54"/>
            <p:cNvSpPr/>
            <p:nvPr/>
          </p:nvSpPr>
          <p:spPr>
            <a:xfrm rot="10777800">
              <a:off x="4041360" y="389664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4" name="Oval 55"/>
            <p:cNvSpPr/>
            <p:nvPr/>
          </p:nvSpPr>
          <p:spPr>
            <a:xfrm rot="10777800">
              <a:off x="4041360" y="381852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5" name="Oval 56"/>
            <p:cNvSpPr/>
            <p:nvPr/>
          </p:nvSpPr>
          <p:spPr>
            <a:xfrm rot="10777800">
              <a:off x="4040280" y="3740040"/>
              <a:ext cx="2124000" cy="4287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6" name="Oval 57"/>
            <p:cNvSpPr/>
            <p:nvPr/>
          </p:nvSpPr>
          <p:spPr>
            <a:xfrm rot="10777800">
              <a:off x="4039200" y="3662640"/>
              <a:ext cx="2124000" cy="42840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7" name="Oval 58"/>
            <p:cNvSpPr/>
            <p:nvPr/>
          </p:nvSpPr>
          <p:spPr>
            <a:xfrm rot="10777800">
              <a:off x="4039200" y="3584880"/>
              <a:ext cx="2124000" cy="428400"/>
            </a:xfrm>
            <a:prstGeom prst="ellipse">
              <a:avLst/>
            </a:prstGeom>
            <a:gradFill rotWithShape="0">
              <a:gsLst>
                <a:gs pos="0">
                  <a:srgbClr val="000099"/>
                </a:gs>
                <a:gs pos="50000">
                  <a:srgbClr val="0066ff"/>
                </a:gs>
                <a:gs pos="100000">
                  <a:srgbClr val="000099"/>
                </a:gs>
              </a:gsLst>
              <a:lin ang="0"/>
            </a:grad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8" name="Oval 59"/>
            <p:cNvSpPr/>
            <p:nvPr/>
          </p:nvSpPr>
          <p:spPr>
            <a:xfrm rot="10777800">
              <a:off x="4038480" y="3506400"/>
              <a:ext cx="2124000" cy="428760"/>
            </a:xfrm>
            <a:prstGeom prst="ellipse">
              <a:avLst/>
            </a:prstGeom>
            <a:gradFill rotWithShape="0">
              <a:gsLst>
                <a:gs pos="0">
                  <a:srgbClr val="000099"/>
                </a:gs>
                <a:gs pos="50000">
                  <a:srgbClr val="0066ff"/>
                </a:gs>
                <a:gs pos="100000">
                  <a:srgbClr val="000099"/>
                </a:gs>
              </a:gsLst>
              <a:lin ang="0"/>
            </a:grad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9" name="Oval 60"/>
            <p:cNvSpPr/>
            <p:nvPr/>
          </p:nvSpPr>
          <p:spPr>
            <a:xfrm rot="10777800">
              <a:off x="4038480" y="3429000"/>
              <a:ext cx="2124000" cy="428400"/>
            </a:xfrm>
            <a:prstGeom prst="ellipse">
              <a:avLst/>
            </a:prstGeom>
            <a:gradFill rotWithShape="0">
              <a:gsLst>
                <a:gs pos="0">
                  <a:srgbClr val="000099"/>
                </a:gs>
                <a:gs pos="50000">
                  <a:srgbClr val="0066ff"/>
                </a:gs>
                <a:gs pos="100000">
                  <a:srgbClr val="000099"/>
                </a:gs>
              </a:gsLst>
              <a:lin ang="0"/>
            </a:grad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0" name="Oval 61"/>
            <p:cNvSpPr/>
            <p:nvPr/>
          </p:nvSpPr>
          <p:spPr>
            <a:xfrm>
              <a:off x="4199040" y="3584880"/>
              <a:ext cx="1864800" cy="272520"/>
            </a:xfrm>
            <a:prstGeom prst="ellipse">
              <a:avLst/>
            </a:prstGeom>
            <a:gradFill rotWithShape="0">
              <a:gsLst>
                <a:gs pos="0">
                  <a:srgbClr val="0066ff"/>
                </a:gs>
                <a:gs pos="100000">
                  <a:srgbClr val="ccffff"/>
                </a:gs>
              </a:gsLst>
              <a:path path="rect">
                <a:fillToRect l="50000" t="50000" r="50000" b="50000"/>
              </a:path>
            </a:grad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nvGrpSpPr>
          <p:cNvPr id="421" name="Group 83"/>
          <p:cNvGrpSpPr/>
          <p:nvPr/>
        </p:nvGrpSpPr>
        <p:grpSpPr>
          <a:xfrm>
            <a:off x="2360880" y="4336200"/>
            <a:ext cx="2135160" cy="1078920"/>
            <a:chOff x="2360880" y="4336200"/>
            <a:chExt cx="2135160" cy="1078920"/>
          </a:xfrm>
        </p:grpSpPr>
        <p:sp>
          <p:nvSpPr>
            <p:cNvPr id="422" name="Oval 25"/>
            <p:cNvSpPr/>
            <p:nvPr/>
          </p:nvSpPr>
          <p:spPr>
            <a:xfrm rot="10777800">
              <a:off x="2370960" y="5136120"/>
              <a:ext cx="212400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3" name="Oval 26"/>
            <p:cNvSpPr/>
            <p:nvPr/>
          </p:nvSpPr>
          <p:spPr>
            <a:xfrm rot="10777800">
              <a:off x="2370960" y="5086080"/>
              <a:ext cx="212400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4" name="Oval 27"/>
            <p:cNvSpPr/>
            <p:nvPr/>
          </p:nvSpPr>
          <p:spPr>
            <a:xfrm rot="10777800">
              <a:off x="2369160" y="503640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5" name="Oval 28"/>
            <p:cNvSpPr/>
            <p:nvPr/>
          </p:nvSpPr>
          <p:spPr>
            <a:xfrm rot="10777800">
              <a:off x="2369160" y="498780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6" name="Oval 29"/>
            <p:cNvSpPr/>
            <p:nvPr/>
          </p:nvSpPr>
          <p:spPr>
            <a:xfrm rot="10777800">
              <a:off x="2369160" y="493812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Oval 30"/>
            <p:cNvSpPr/>
            <p:nvPr/>
          </p:nvSpPr>
          <p:spPr>
            <a:xfrm rot="10777800">
              <a:off x="2367720" y="488808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Oval 31"/>
            <p:cNvSpPr/>
            <p:nvPr/>
          </p:nvSpPr>
          <p:spPr>
            <a:xfrm rot="10777800">
              <a:off x="2367720" y="483804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9" name="Oval 32"/>
            <p:cNvSpPr/>
            <p:nvPr/>
          </p:nvSpPr>
          <p:spPr>
            <a:xfrm rot="10777800">
              <a:off x="2365920" y="478980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0" name="Oval 33"/>
            <p:cNvSpPr/>
            <p:nvPr/>
          </p:nvSpPr>
          <p:spPr>
            <a:xfrm rot="10777800">
              <a:off x="2365920" y="473976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1" name="Oval 34"/>
            <p:cNvSpPr/>
            <p:nvPr/>
          </p:nvSpPr>
          <p:spPr>
            <a:xfrm rot="10777800">
              <a:off x="2365920" y="468972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2" name="Oval 35"/>
            <p:cNvSpPr/>
            <p:nvPr/>
          </p:nvSpPr>
          <p:spPr>
            <a:xfrm rot="10777800">
              <a:off x="2364480" y="4641120"/>
              <a:ext cx="2123640" cy="27252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3" name="Oval 36"/>
            <p:cNvSpPr/>
            <p:nvPr/>
          </p:nvSpPr>
          <p:spPr>
            <a:xfrm rot="10777800">
              <a:off x="2364480" y="4591440"/>
              <a:ext cx="212364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4" name="Oval 37"/>
            <p:cNvSpPr/>
            <p:nvPr/>
          </p:nvSpPr>
          <p:spPr>
            <a:xfrm rot="10777800">
              <a:off x="2363040" y="4541400"/>
              <a:ext cx="212400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5" name="Oval 38"/>
            <p:cNvSpPr/>
            <p:nvPr/>
          </p:nvSpPr>
          <p:spPr>
            <a:xfrm rot="10777800">
              <a:off x="2363040" y="4491360"/>
              <a:ext cx="2124000" cy="272160"/>
            </a:xfrm>
            <a:prstGeom prst="ellipse">
              <a:avLst/>
            </a:prstGeom>
            <a:gradFill rotWithShape="0">
              <a:gsLst>
                <a:gs pos="0">
                  <a:srgbClr val="5e5e76"/>
                </a:gs>
                <a:gs pos="50000">
                  <a:srgbClr val="ccccff"/>
                </a:gs>
                <a:gs pos="100000">
                  <a:srgbClr val="5e5e76"/>
                </a:gs>
              </a:gsLst>
              <a:lin ang="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6" name="Oval 39"/>
            <p:cNvSpPr/>
            <p:nvPr/>
          </p:nvSpPr>
          <p:spPr>
            <a:xfrm rot="10777800">
              <a:off x="2363040" y="4442760"/>
              <a:ext cx="2124000" cy="272520"/>
            </a:xfrm>
            <a:prstGeom prst="ellipse">
              <a:avLst/>
            </a:prstGeom>
            <a:gradFill rotWithShape="0">
              <a:gsLst>
                <a:gs pos="0">
                  <a:srgbClr val="000099"/>
                </a:gs>
                <a:gs pos="50000">
                  <a:srgbClr val="0066ff"/>
                </a:gs>
                <a:gs pos="100000">
                  <a:srgbClr val="000099"/>
                </a:gs>
              </a:gsLst>
              <a:lin ang="0"/>
            </a:grad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7" name="Oval 40"/>
            <p:cNvSpPr/>
            <p:nvPr/>
          </p:nvSpPr>
          <p:spPr>
            <a:xfrm rot="10777800">
              <a:off x="2361600" y="4392720"/>
              <a:ext cx="2123640" cy="272520"/>
            </a:xfrm>
            <a:prstGeom prst="ellipse">
              <a:avLst/>
            </a:prstGeom>
            <a:gradFill rotWithShape="0">
              <a:gsLst>
                <a:gs pos="0">
                  <a:srgbClr val="000099"/>
                </a:gs>
                <a:gs pos="50000">
                  <a:srgbClr val="0066ff"/>
                </a:gs>
                <a:gs pos="100000">
                  <a:srgbClr val="000099"/>
                </a:gs>
              </a:gsLst>
              <a:lin ang="0"/>
            </a:grad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8" name="Oval 41"/>
            <p:cNvSpPr/>
            <p:nvPr/>
          </p:nvSpPr>
          <p:spPr>
            <a:xfrm rot="10777800">
              <a:off x="2361600" y="4343040"/>
              <a:ext cx="2123640" cy="272520"/>
            </a:xfrm>
            <a:prstGeom prst="ellipse">
              <a:avLst/>
            </a:prstGeom>
            <a:gradFill rotWithShape="0">
              <a:gsLst>
                <a:gs pos="0">
                  <a:srgbClr val="000099"/>
                </a:gs>
                <a:gs pos="50000">
                  <a:srgbClr val="0066ff"/>
                </a:gs>
                <a:gs pos="100000">
                  <a:srgbClr val="000099"/>
                </a:gs>
              </a:gsLst>
              <a:lin ang="0"/>
            </a:grad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9" name="Oval 42"/>
            <p:cNvSpPr/>
            <p:nvPr/>
          </p:nvSpPr>
          <p:spPr>
            <a:xfrm>
              <a:off x="2522160" y="4443120"/>
              <a:ext cx="1865160" cy="172440"/>
            </a:xfrm>
            <a:prstGeom prst="ellipse">
              <a:avLst/>
            </a:prstGeom>
            <a:gradFill rotWithShape="0">
              <a:gsLst>
                <a:gs pos="0">
                  <a:srgbClr val="0066ff"/>
                </a:gs>
                <a:gs pos="100000">
                  <a:srgbClr val="ccffff"/>
                </a:gs>
              </a:gsLst>
              <a:path path="rect">
                <a:fillToRect l="50000" t="50000" r="50000" b="50000"/>
              </a:path>
            </a:grad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440" name="Text Box 81"/>
          <p:cNvSpPr/>
          <p:nvPr/>
        </p:nvSpPr>
        <p:spPr>
          <a:xfrm>
            <a:off x="-702360" y="135000"/>
            <a:ext cx="10487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خزانات التي تستخدمها منظمة أوكسفام – الأحجام والسعات القياسية</a:t>
            </a:r>
            <a:r>
              <a:rPr b="0" lang="ar-SA" sz="2800" spc="-1" strike="noStrike">
                <a:solidFill>
                  <a:srgbClr val="ffffff"/>
                </a:solidFill>
                <a:latin typeface="Arial"/>
                <a:ea typeface="Traditional Arabic"/>
              </a:rPr>
              <a:t> </a:t>
            </a:r>
            <a:endParaRPr b="0" lang="en-US" sz="2800" spc="-1" strike="noStrike">
              <a:solidFill>
                <a:srgbClr val="ccecff"/>
              </a:solidFill>
              <a:latin typeface="Times New Roman"/>
            </a:endParaRPr>
          </a:p>
        </p:txBody>
      </p:sp>
      <p:grpSp>
        <p:nvGrpSpPr>
          <p:cNvPr id="441" name="Group 82"/>
          <p:cNvGrpSpPr/>
          <p:nvPr/>
        </p:nvGrpSpPr>
        <p:grpSpPr>
          <a:xfrm>
            <a:off x="455400" y="4186800"/>
            <a:ext cx="1221120" cy="1530000"/>
            <a:chOff x="455400" y="4186800"/>
            <a:chExt cx="1221120" cy="1530000"/>
          </a:xfrm>
        </p:grpSpPr>
        <p:sp>
          <p:nvSpPr>
            <p:cNvPr id="442" name="Oval 2"/>
            <p:cNvSpPr/>
            <p:nvPr/>
          </p:nvSpPr>
          <p:spPr>
            <a:xfrm rot="10777800">
              <a:off x="461520" y="5323320"/>
              <a:ext cx="1213560" cy="38916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3" name="Oval 3"/>
            <p:cNvSpPr/>
            <p:nvPr/>
          </p:nvSpPr>
          <p:spPr>
            <a:xfrm rot="10777800">
              <a:off x="461520" y="5252760"/>
              <a:ext cx="121356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4" name="Oval 4"/>
            <p:cNvSpPr/>
            <p:nvPr/>
          </p:nvSpPr>
          <p:spPr>
            <a:xfrm rot="10777800">
              <a:off x="461520" y="5181120"/>
              <a:ext cx="1213560" cy="39096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5" name="Oval 5"/>
            <p:cNvSpPr/>
            <p:nvPr/>
          </p:nvSpPr>
          <p:spPr>
            <a:xfrm rot="10777800">
              <a:off x="461520" y="5110920"/>
              <a:ext cx="1213560" cy="38916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6" name="Oval 6"/>
            <p:cNvSpPr/>
            <p:nvPr/>
          </p:nvSpPr>
          <p:spPr>
            <a:xfrm rot="10777800">
              <a:off x="459720" y="5040360"/>
              <a:ext cx="121428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7" name="Oval 7"/>
            <p:cNvSpPr/>
            <p:nvPr/>
          </p:nvSpPr>
          <p:spPr>
            <a:xfrm rot="10777800">
              <a:off x="459720" y="4968720"/>
              <a:ext cx="1214280" cy="39096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8" name="Oval 8"/>
            <p:cNvSpPr/>
            <p:nvPr/>
          </p:nvSpPr>
          <p:spPr>
            <a:xfrm rot="10777800">
              <a:off x="459720" y="4899240"/>
              <a:ext cx="121428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9" name="Oval 9"/>
            <p:cNvSpPr/>
            <p:nvPr/>
          </p:nvSpPr>
          <p:spPr>
            <a:xfrm rot="10777800">
              <a:off x="459720" y="4827960"/>
              <a:ext cx="121428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0" name="Oval 10"/>
            <p:cNvSpPr/>
            <p:nvPr/>
          </p:nvSpPr>
          <p:spPr>
            <a:xfrm rot="10777800">
              <a:off x="459720" y="4758480"/>
              <a:ext cx="121428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1" name="Oval 11"/>
            <p:cNvSpPr/>
            <p:nvPr/>
          </p:nvSpPr>
          <p:spPr>
            <a:xfrm rot="10777800">
              <a:off x="457920" y="4686840"/>
              <a:ext cx="121356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2" name="Oval 12"/>
            <p:cNvSpPr/>
            <p:nvPr/>
          </p:nvSpPr>
          <p:spPr>
            <a:xfrm rot="10777800">
              <a:off x="457920" y="4615560"/>
              <a:ext cx="121356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3" name="Oval 13"/>
            <p:cNvSpPr/>
            <p:nvPr/>
          </p:nvSpPr>
          <p:spPr>
            <a:xfrm rot="10777800">
              <a:off x="457920" y="4543920"/>
              <a:ext cx="1213560" cy="39096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4" name="Oval 14"/>
            <p:cNvSpPr/>
            <p:nvPr/>
          </p:nvSpPr>
          <p:spPr>
            <a:xfrm rot="10777800">
              <a:off x="457920" y="4474440"/>
              <a:ext cx="121356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5" name="Oval 15"/>
            <p:cNvSpPr/>
            <p:nvPr/>
          </p:nvSpPr>
          <p:spPr>
            <a:xfrm rot="10777800">
              <a:off x="456480" y="4403160"/>
              <a:ext cx="1213560" cy="388800"/>
            </a:xfrm>
            <a:prstGeom prst="ellipse">
              <a:avLst/>
            </a:prstGeom>
            <a:gradFill rotWithShape="0">
              <a:gsLst>
                <a:gs pos="0">
                  <a:srgbClr val="5e5e76"/>
                </a:gs>
                <a:gs pos="50000">
                  <a:srgbClr val="ccccff"/>
                </a:gs>
                <a:gs pos="100000">
                  <a:srgbClr val="5e5e76"/>
                </a:gs>
              </a:gsLst>
              <a:lin ang="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6" name="Oval 16"/>
            <p:cNvSpPr/>
            <p:nvPr/>
          </p:nvSpPr>
          <p:spPr>
            <a:xfrm rot="10777800">
              <a:off x="456480" y="4331520"/>
              <a:ext cx="1213560" cy="390960"/>
            </a:xfrm>
            <a:prstGeom prst="ellipse">
              <a:avLst/>
            </a:prstGeom>
            <a:gradFill rotWithShape="0">
              <a:gsLst>
                <a:gs pos="0">
                  <a:srgbClr val="000099"/>
                </a:gs>
                <a:gs pos="50000">
                  <a:srgbClr val="0066ff"/>
                </a:gs>
                <a:gs pos="100000">
                  <a:srgbClr val="000099"/>
                </a:gs>
              </a:gsLst>
              <a:lin ang="0"/>
            </a:grad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7" name="Oval 17"/>
            <p:cNvSpPr/>
            <p:nvPr/>
          </p:nvSpPr>
          <p:spPr>
            <a:xfrm rot="10777800">
              <a:off x="456480" y="4262040"/>
              <a:ext cx="1213560" cy="388800"/>
            </a:xfrm>
            <a:prstGeom prst="ellipse">
              <a:avLst/>
            </a:prstGeom>
            <a:gradFill rotWithShape="0">
              <a:gsLst>
                <a:gs pos="0">
                  <a:srgbClr val="000099"/>
                </a:gs>
                <a:gs pos="50000">
                  <a:srgbClr val="0066ff"/>
                </a:gs>
                <a:gs pos="100000">
                  <a:srgbClr val="000099"/>
                </a:gs>
              </a:gsLst>
              <a:lin ang="0"/>
            </a:grad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8" name="Oval 18"/>
            <p:cNvSpPr/>
            <p:nvPr/>
          </p:nvSpPr>
          <p:spPr>
            <a:xfrm rot="10777800">
              <a:off x="456480" y="4190400"/>
              <a:ext cx="1213560" cy="389160"/>
            </a:xfrm>
            <a:prstGeom prst="ellipse">
              <a:avLst/>
            </a:prstGeom>
            <a:gradFill rotWithShape="0">
              <a:gsLst>
                <a:gs pos="0">
                  <a:srgbClr val="000099"/>
                </a:gs>
                <a:gs pos="50000">
                  <a:srgbClr val="0066ff"/>
                </a:gs>
                <a:gs pos="100000">
                  <a:srgbClr val="000099"/>
                </a:gs>
              </a:gsLst>
              <a:lin ang="0"/>
            </a:grad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9" name="Oval 20"/>
            <p:cNvSpPr/>
            <p:nvPr/>
          </p:nvSpPr>
          <p:spPr>
            <a:xfrm>
              <a:off x="549720" y="4331880"/>
              <a:ext cx="1064880" cy="248400"/>
            </a:xfrm>
            <a:prstGeom prst="ellipse">
              <a:avLst/>
            </a:prstGeom>
            <a:gradFill rotWithShape="0">
              <a:gsLst>
                <a:gs pos="0">
                  <a:srgbClr val="0066ff"/>
                </a:gs>
                <a:gs pos="100000">
                  <a:srgbClr val="ccffff"/>
                </a:gs>
              </a:gsLst>
              <a:path path="rect">
                <a:fillToRect l="50000" t="50000" r="50000" b="50000"/>
              </a:path>
            </a:grad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460" name="Line 84"/>
          <p:cNvSpPr/>
          <p:nvPr/>
        </p:nvSpPr>
        <p:spPr>
          <a:xfrm>
            <a:off x="2362320" y="2895480"/>
            <a:ext cx="1440" cy="1371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1" name="Line 85"/>
          <p:cNvSpPr/>
          <p:nvPr/>
        </p:nvSpPr>
        <p:spPr>
          <a:xfrm>
            <a:off x="4495680" y="2895480"/>
            <a:ext cx="1800" cy="15242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Line 86"/>
          <p:cNvSpPr/>
          <p:nvPr/>
        </p:nvSpPr>
        <p:spPr>
          <a:xfrm>
            <a:off x="2209680" y="3048120"/>
            <a:ext cx="2514600" cy="1440"/>
          </a:xfrm>
          <a:prstGeom prst="line">
            <a:avLst/>
          </a:prstGeom>
          <a:ln w="9360">
            <a:solidFill>
              <a:srgbClr val="ccecff"/>
            </a:solidFill>
            <a:miter/>
          </a:ln>
        </p:spPr>
        <p:style>
          <a:lnRef idx="0"/>
          <a:fillRef idx="0"/>
          <a:effectRef idx="0"/>
          <a:fontRef idx="minor"/>
        </p:style>
        <p:txBody>
          <a:bodyPr lIns="90000" rIns="90000" tIns="-45360" bIns="-45360" anchor="ctr">
            <a:noAutofit/>
          </a:bodyPr>
          <a:p>
            <a:endParaRPr b="0" lang="en-US" sz="2400" spc="-1" strike="noStrike">
              <a:solidFill>
                <a:srgbClr val="ccecff"/>
              </a:solidFill>
              <a:latin typeface="Times New Roman"/>
            </a:endParaRPr>
          </a:p>
        </p:txBody>
      </p:sp>
      <p:grpSp>
        <p:nvGrpSpPr>
          <p:cNvPr id="463" name="Group 90"/>
          <p:cNvGrpSpPr/>
          <p:nvPr/>
        </p:nvGrpSpPr>
        <p:grpSpPr>
          <a:xfrm>
            <a:off x="380880" y="3048120"/>
            <a:ext cx="1371600" cy="1599840"/>
            <a:chOff x="380880" y="3048120"/>
            <a:chExt cx="1371600" cy="1599840"/>
          </a:xfrm>
        </p:grpSpPr>
        <p:sp>
          <p:nvSpPr>
            <p:cNvPr id="464" name="Line 87"/>
            <p:cNvSpPr/>
            <p:nvPr/>
          </p:nvSpPr>
          <p:spPr>
            <a:xfrm>
              <a:off x="463680" y="3048120"/>
              <a:ext cx="720" cy="14400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5" name="Line 88"/>
            <p:cNvSpPr/>
            <p:nvPr/>
          </p:nvSpPr>
          <p:spPr>
            <a:xfrm>
              <a:off x="1627920" y="3048120"/>
              <a:ext cx="720" cy="15998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6" name="Line 89"/>
            <p:cNvSpPr/>
            <p:nvPr/>
          </p:nvSpPr>
          <p:spPr>
            <a:xfrm>
              <a:off x="380880" y="3207960"/>
              <a:ext cx="1371600" cy="1440"/>
            </a:xfrm>
            <a:prstGeom prst="line">
              <a:avLst/>
            </a:prstGeom>
            <a:ln w="9360">
              <a:solidFill>
                <a:srgbClr val="ccecff"/>
              </a:solidFill>
              <a:miter/>
            </a:ln>
          </p:spPr>
          <p:style>
            <a:lnRef idx="0"/>
            <a:fillRef idx="0"/>
            <a:effectRef idx="0"/>
            <a:fontRef idx="minor"/>
          </p:style>
          <p:txBody>
            <a:bodyPr lIns="90000" rIns="90000" tIns="-45360" bIns="-45360" anchor="ctr">
              <a:noAutofit/>
            </a:bodyPr>
            <a:p>
              <a:endParaRPr b="0" lang="en-US" sz="2400" spc="-1" strike="noStrike">
                <a:solidFill>
                  <a:srgbClr val="ccecff"/>
                </a:solidFill>
                <a:latin typeface="Times New Roman"/>
              </a:endParaRPr>
            </a:p>
          </p:txBody>
        </p:sp>
      </p:grpSp>
      <p:grpSp>
        <p:nvGrpSpPr>
          <p:cNvPr id="467" name="Group 91"/>
          <p:cNvGrpSpPr/>
          <p:nvPr/>
        </p:nvGrpSpPr>
        <p:grpSpPr>
          <a:xfrm>
            <a:off x="1676520" y="4343400"/>
            <a:ext cx="495360" cy="1371600"/>
            <a:chOff x="1676520" y="4343400"/>
            <a:chExt cx="495360" cy="1371600"/>
          </a:xfrm>
        </p:grpSpPr>
        <p:sp>
          <p:nvSpPr>
            <p:cNvPr id="468" name="Line 92"/>
            <p:cNvSpPr/>
            <p:nvPr/>
          </p:nvSpPr>
          <p:spPr>
            <a:xfrm flipH="1">
              <a:off x="1725840" y="4426200"/>
              <a:ext cx="446040" cy="720"/>
            </a:xfrm>
            <a:prstGeom prst="line">
              <a:avLst/>
            </a:prstGeom>
            <a:ln w="9360">
              <a:solidFill>
                <a:srgbClr val="ccecff"/>
              </a:solidFill>
              <a:miter/>
            </a:ln>
          </p:spPr>
          <p:style>
            <a:lnRef idx="0"/>
            <a:fillRef idx="0"/>
            <a:effectRef idx="0"/>
            <a:fontRef idx="minor"/>
          </p:style>
          <p:txBody>
            <a:bodyPr lIns="90000" rIns="90000" tIns="-46080" bIns="-46080" anchor="ctr">
              <a:noAutofit/>
            </a:bodyPr>
            <a:p>
              <a:endParaRPr b="0" lang="en-US" sz="2400" spc="-1" strike="noStrike">
                <a:solidFill>
                  <a:srgbClr val="ccecff"/>
                </a:solidFill>
                <a:latin typeface="Times New Roman"/>
              </a:endParaRPr>
            </a:p>
          </p:txBody>
        </p:sp>
        <p:sp>
          <p:nvSpPr>
            <p:cNvPr id="469" name="Line 93"/>
            <p:cNvSpPr/>
            <p:nvPr/>
          </p:nvSpPr>
          <p:spPr>
            <a:xfrm flipH="1">
              <a:off x="1676520" y="5590440"/>
              <a:ext cx="495360" cy="720"/>
            </a:xfrm>
            <a:prstGeom prst="line">
              <a:avLst/>
            </a:prstGeom>
            <a:ln w="9360">
              <a:solidFill>
                <a:srgbClr val="ccecff"/>
              </a:solidFill>
              <a:miter/>
            </a:ln>
          </p:spPr>
          <p:style>
            <a:lnRef idx="0"/>
            <a:fillRef idx="0"/>
            <a:effectRef idx="0"/>
            <a:fontRef idx="minor"/>
          </p:style>
          <p:txBody>
            <a:bodyPr lIns="90000" rIns="90000" tIns="-46080" bIns="-46080" anchor="ctr">
              <a:noAutofit/>
            </a:bodyPr>
            <a:p>
              <a:endParaRPr b="0" lang="en-US" sz="2400" spc="-1" strike="noStrike">
                <a:solidFill>
                  <a:srgbClr val="ccecff"/>
                </a:solidFill>
                <a:latin typeface="Times New Roman"/>
              </a:endParaRPr>
            </a:p>
          </p:txBody>
        </p:sp>
        <p:sp>
          <p:nvSpPr>
            <p:cNvPr id="470" name="Line 94"/>
            <p:cNvSpPr/>
            <p:nvPr/>
          </p:nvSpPr>
          <p:spPr>
            <a:xfrm flipH="1">
              <a:off x="2122200" y="4343400"/>
              <a:ext cx="360" cy="1371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471" name="Group 95"/>
          <p:cNvGrpSpPr/>
          <p:nvPr/>
        </p:nvGrpSpPr>
        <p:grpSpPr>
          <a:xfrm>
            <a:off x="8001000" y="2590920"/>
            <a:ext cx="838080" cy="2286000"/>
            <a:chOff x="8001000" y="2590920"/>
            <a:chExt cx="838080" cy="2286000"/>
          </a:xfrm>
        </p:grpSpPr>
        <p:sp>
          <p:nvSpPr>
            <p:cNvPr id="472" name="Line 96"/>
            <p:cNvSpPr/>
            <p:nvPr/>
          </p:nvSpPr>
          <p:spPr>
            <a:xfrm flipH="1">
              <a:off x="8084880" y="2729160"/>
              <a:ext cx="754200" cy="1080"/>
            </a:xfrm>
            <a:prstGeom prst="line">
              <a:avLst/>
            </a:prstGeom>
            <a:ln w="9360">
              <a:solidFill>
                <a:srgbClr val="ccecff"/>
              </a:solidFill>
              <a:miter/>
            </a:ln>
          </p:spPr>
          <p:style>
            <a:lnRef idx="0"/>
            <a:fillRef idx="0"/>
            <a:effectRef idx="0"/>
            <a:fontRef idx="minor"/>
          </p:style>
          <p:txBody>
            <a:bodyPr lIns="90000" rIns="90000" tIns="-45720" bIns="-45720" anchor="ctr">
              <a:noAutofit/>
            </a:bodyPr>
            <a:p>
              <a:endParaRPr b="0" lang="en-US" sz="2400" spc="-1" strike="noStrike">
                <a:solidFill>
                  <a:srgbClr val="ccecff"/>
                </a:solidFill>
                <a:latin typeface="Times New Roman"/>
              </a:endParaRPr>
            </a:p>
          </p:txBody>
        </p:sp>
        <p:sp>
          <p:nvSpPr>
            <p:cNvPr id="473" name="Line 97"/>
            <p:cNvSpPr/>
            <p:nvPr/>
          </p:nvSpPr>
          <p:spPr>
            <a:xfrm flipH="1">
              <a:off x="8001000" y="4668840"/>
              <a:ext cx="838080" cy="1080"/>
            </a:xfrm>
            <a:prstGeom prst="line">
              <a:avLst/>
            </a:prstGeom>
            <a:ln w="9360">
              <a:solidFill>
                <a:srgbClr val="ccecff"/>
              </a:solidFill>
              <a:miter/>
            </a:ln>
          </p:spPr>
          <p:style>
            <a:lnRef idx="0"/>
            <a:fillRef idx="0"/>
            <a:effectRef idx="0"/>
            <a:fontRef idx="minor"/>
          </p:style>
          <p:txBody>
            <a:bodyPr lIns="90000" rIns="90000" tIns="-45720" bIns="-45720" anchor="ctr">
              <a:noAutofit/>
            </a:bodyPr>
            <a:p>
              <a:endParaRPr b="0" lang="en-US" sz="2400" spc="-1" strike="noStrike">
                <a:solidFill>
                  <a:srgbClr val="ccecff"/>
                </a:solidFill>
                <a:latin typeface="Times New Roman"/>
              </a:endParaRPr>
            </a:p>
          </p:txBody>
        </p:sp>
        <p:sp>
          <p:nvSpPr>
            <p:cNvPr id="474" name="Line 98"/>
            <p:cNvSpPr/>
            <p:nvPr/>
          </p:nvSpPr>
          <p:spPr>
            <a:xfrm flipH="1">
              <a:off x="8754840" y="2590920"/>
              <a:ext cx="720" cy="22860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475" name="Group 99"/>
          <p:cNvGrpSpPr/>
          <p:nvPr/>
        </p:nvGrpSpPr>
        <p:grpSpPr>
          <a:xfrm>
            <a:off x="6172200" y="3505320"/>
            <a:ext cx="495360" cy="1676160"/>
            <a:chOff x="6172200" y="3505320"/>
            <a:chExt cx="495360" cy="1676160"/>
          </a:xfrm>
        </p:grpSpPr>
        <p:sp>
          <p:nvSpPr>
            <p:cNvPr id="476" name="Line 100"/>
            <p:cNvSpPr/>
            <p:nvPr/>
          </p:nvSpPr>
          <p:spPr>
            <a:xfrm flipH="1">
              <a:off x="6221520" y="3606480"/>
              <a:ext cx="446040" cy="720"/>
            </a:xfrm>
            <a:prstGeom prst="line">
              <a:avLst/>
            </a:prstGeom>
            <a:ln w="9360">
              <a:solidFill>
                <a:srgbClr val="ccecff"/>
              </a:solidFill>
              <a:miter/>
            </a:ln>
          </p:spPr>
          <p:style>
            <a:lnRef idx="0"/>
            <a:fillRef idx="0"/>
            <a:effectRef idx="0"/>
            <a:fontRef idx="minor"/>
          </p:style>
          <p:txBody>
            <a:bodyPr lIns="90000" rIns="90000" tIns="-46080" bIns="-46080" anchor="ctr">
              <a:noAutofit/>
            </a:bodyPr>
            <a:p>
              <a:endParaRPr b="0" lang="en-US" sz="2400" spc="-1" strike="noStrike">
                <a:solidFill>
                  <a:srgbClr val="ccecff"/>
                </a:solidFill>
                <a:latin typeface="Times New Roman"/>
              </a:endParaRPr>
            </a:p>
          </p:txBody>
        </p:sp>
        <p:sp>
          <p:nvSpPr>
            <p:cNvPr id="477" name="Line 101"/>
            <p:cNvSpPr/>
            <p:nvPr/>
          </p:nvSpPr>
          <p:spPr>
            <a:xfrm flipH="1">
              <a:off x="6172200" y="5029200"/>
              <a:ext cx="495360" cy="720"/>
            </a:xfrm>
            <a:prstGeom prst="line">
              <a:avLst/>
            </a:prstGeom>
            <a:ln w="9360">
              <a:solidFill>
                <a:srgbClr val="ccecff"/>
              </a:solidFill>
              <a:miter/>
            </a:ln>
          </p:spPr>
          <p:style>
            <a:lnRef idx="0"/>
            <a:fillRef idx="0"/>
            <a:effectRef idx="0"/>
            <a:fontRef idx="minor"/>
          </p:style>
          <p:txBody>
            <a:bodyPr lIns="90000" rIns="90000" tIns="-46080" bIns="-46080" anchor="ctr">
              <a:noAutofit/>
            </a:bodyPr>
            <a:p>
              <a:endParaRPr b="0" lang="en-US" sz="2400" spc="-1" strike="noStrike">
                <a:solidFill>
                  <a:srgbClr val="ccecff"/>
                </a:solidFill>
                <a:latin typeface="Times New Roman"/>
              </a:endParaRPr>
            </a:p>
          </p:txBody>
        </p:sp>
        <p:sp>
          <p:nvSpPr>
            <p:cNvPr id="478" name="Line 102"/>
            <p:cNvSpPr/>
            <p:nvPr/>
          </p:nvSpPr>
          <p:spPr>
            <a:xfrm flipH="1">
              <a:off x="6617880" y="3505320"/>
              <a:ext cx="36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479" name="Group 103"/>
          <p:cNvGrpSpPr/>
          <p:nvPr/>
        </p:nvGrpSpPr>
        <p:grpSpPr>
          <a:xfrm>
            <a:off x="4343400" y="4419720"/>
            <a:ext cx="495360" cy="1066680"/>
            <a:chOff x="4343400" y="4419720"/>
            <a:chExt cx="495360" cy="1066680"/>
          </a:xfrm>
        </p:grpSpPr>
        <p:sp>
          <p:nvSpPr>
            <p:cNvPr id="480" name="Line 104"/>
            <p:cNvSpPr/>
            <p:nvPr/>
          </p:nvSpPr>
          <p:spPr>
            <a:xfrm flipH="1">
              <a:off x="4392720" y="4484160"/>
              <a:ext cx="446040" cy="360"/>
            </a:xfrm>
            <a:prstGeom prst="line">
              <a:avLst/>
            </a:prstGeom>
            <a:ln w="9360">
              <a:solidFill>
                <a:srgbClr val="ccecff"/>
              </a:solidFill>
              <a:miter/>
            </a:ln>
          </p:spPr>
          <p:style>
            <a:lnRef idx="0"/>
            <a:fillRef idx="0"/>
            <a:effectRef idx="0"/>
            <a:fontRef idx="minor"/>
          </p:style>
          <p:txBody>
            <a:bodyPr lIns="90000" rIns="90000" tIns="-46440" bIns="-46440" anchor="ctr">
              <a:noAutofit/>
            </a:bodyPr>
            <a:p>
              <a:endParaRPr b="0" lang="en-US" sz="2400" spc="-1" strike="noStrike">
                <a:solidFill>
                  <a:srgbClr val="ccecff"/>
                </a:solidFill>
                <a:latin typeface="Times New Roman"/>
              </a:endParaRPr>
            </a:p>
          </p:txBody>
        </p:sp>
        <p:sp>
          <p:nvSpPr>
            <p:cNvPr id="481" name="Line 105"/>
            <p:cNvSpPr/>
            <p:nvPr/>
          </p:nvSpPr>
          <p:spPr>
            <a:xfrm flipH="1">
              <a:off x="4343400" y="5389560"/>
              <a:ext cx="495360" cy="360"/>
            </a:xfrm>
            <a:prstGeom prst="line">
              <a:avLst/>
            </a:prstGeom>
            <a:ln w="9360">
              <a:solidFill>
                <a:srgbClr val="ccecff"/>
              </a:solidFill>
              <a:miter/>
            </a:ln>
          </p:spPr>
          <p:style>
            <a:lnRef idx="0"/>
            <a:fillRef idx="0"/>
            <a:effectRef idx="0"/>
            <a:fontRef idx="minor"/>
          </p:style>
          <p:txBody>
            <a:bodyPr lIns="90000" rIns="90000" tIns="-46440" bIns="-46440" anchor="ctr">
              <a:noAutofit/>
            </a:bodyPr>
            <a:p>
              <a:endParaRPr b="0" lang="en-US" sz="2400" spc="-1" strike="noStrike">
                <a:solidFill>
                  <a:srgbClr val="ccecff"/>
                </a:solidFill>
                <a:latin typeface="Times New Roman"/>
              </a:endParaRPr>
            </a:p>
          </p:txBody>
        </p:sp>
        <p:sp>
          <p:nvSpPr>
            <p:cNvPr id="482" name="Line 106"/>
            <p:cNvSpPr/>
            <p:nvPr/>
          </p:nvSpPr>
          <p:spPr>
            <a:xfrm flipH="1">
              <a:off x="4789080" y="4419720"/>
              <a:ext cx="360" cy="10666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483" name="Text Box 107"/>
          <p:cNvSpPr/>
          <p:nvPr/>
        </p:nvSpPr>
        <p:spPr>
          <a:xfrm>
            <a:off x="302760" y="5791320"/>
            <a:ext cx="13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ecff"/>
                </a:solidFill>
                <a:latin typeface="Times New Roman"/>
                <a:ea typeface="Traditional Arabic"/>
              </a:rPr>
              <a:t>10,500 </a:t>
            </a:r>
            <a:r>
              <a:rPr b="1" lang="ar-SA" sz="2000" spc="-1" strike="noStrike">
                <a:solidFill>
                  <a:srgbClr val="ccecff"/>
                </a:solidFill>
                <a:latin typeface="Times New Roman"/>
                <a:cs typeface="Traditional Arabic"/>
              </a:rPr>
              <a:t>لتر</a:t>
            </a:r>
            <a:endParaRPr b="0" lang="en-US" sz="2000" spc="-1" strike="noStrike">
              <a:solidFill>
                <a:srgbClr val="ccecff"/>
              </a:solidFill>
              <a:latin typeface="Times New Roman"/>
            </a:endParaRPr>
          </a:p>
        </p:txBody>
      </p:sp>
      <p:sp>
        <p:nvSpPr>
          <p:cNvPr id="484" name="Text Box 108"/>
          <p:cNvSpPr/>
          <p:nvPr/>
        </p:nvSpPr>
        <p:spPr>
          <a:xfrm>
            <a:off x="2741400" y="5805360"/>
            <a:ext cx="13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ecff"/>
                </a:solidFill>
                <a:latin typeface="Times New Roman"/>
                <a:ea typeface="Traditional Arabic"/>
              </a:rPr>
              <a:t>45,000 </a:t>
            </a:r>
            <a:r>
              <a:rPr b="1" lang="ar-SA" sz="2000" spc="-1" strike="noStrike">
                <a:solidFill>
                  <a:srgbClr val="ccecff"/>
                </a:solidFill>
                <a:latin typeface="Times New Roman"/>
                <a:cs typeface="Traditional Arabic"/>
              </a:rPr>
              <a:t>لتر</a:t>
            </a:r>
            <a:endParaRPr b="0" lang="en-US" sz="2000" spc="-1" strike="noStrike">
              <a:solidFill>
                <a:srgbClr val="ccecff"/>
              </a:solidFill>
              <a:latin typeface="Times New Roman"/>
            </a:endParaRPr>
          </a:p>
        </p:txBody>
      </p:sp>
      <p:sp>
        <p:nvSpPr>
          <p:cNvPr id="485" name="Text Box 109"/>
          <p:cNvSpPr/>
          <p:nvPr/>
        </p:nvSpPr>
        <p:spPr>
          <a:xfrm>
            <a:off x="4646160" y="5805360"/>
            <a:ext cx="13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ecff"/>
                </a:solidFill>
                <a:latin typeface="Times New Roman"/>
                <a:ea typeface="Traditional Arabic"/>
              </a:rPr>
              <a:t>70,000 </a:t>
            </a:r>
            <a:r>
              <a:rPr b="1" lang="ar-SA" sz="2000" spc="-1" strike="noStrike">
                <a:solidFill>
                  <a:srgbClr val="ccecff"/>
                </a:solidFill>
                <a:latin typeface="Times New Roman"/>
                <a:cs typeface="Traditional Arabic"/>
              </a:rPr>
              <a:t>لتر</a:t>
            </a:r>
            <a:endParaRPr b="0" lang="en-US" sz="2000" spc="-1" strike="noStrike">
              <a:solidFill>
                <a:srgbClr val="ccecff"/>
              </a:solidFill>
              <a:latin typeface="Times New Roman"/>
            </a:endParaRPr>
          </a:p>
        </p:txBody>
      </p:sp>
      <p:sp>
        <p:nvSpPr>
          <p:cNvPr id="486" name="Text Box 110"/>
          <p:cNvSpPr/>
          <p:nvPr/>
        </p:nvSpPr>
        <p:spPr>
          <a:xfrm>
            <a:off x="6551280" y="5805360"/>
            <a:ext cx="13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ecff"/>
                </a:solidFill>
                <a:latin typeface="Times New Roman"/>
                <a:ea typeface="Traditional Arabic"/>
              </a:rPr>
              <a:t>95,000 </a:t>
            </a:r>
            <a:r>
              <a:rPr b="1" lang="ar-SA" sz="2000" spc="-1" strike="noStrike">
                <a:solidFill>
                  <a:srgbClr val="ccecff"/>
                </a:solidFill>
                <a:latin typeface="Times New Roman"/>
                <a:cs typeface="Traditional Arabic"/>
              </a:rPr>
              <a:t>لتر</a:t>
            </a:r>
            <a:endParaRPr b="0" lang="en-US" sz="2000" spc="-1" strike="noStrike">
              <a:solidFill>
                <a:srgbClr val="ccecff"/>
              </a:solidFill>
              <a:latin typeface="Times New Roman"/>
            </a:endParaRPr>
          </a:p>
        </p:txBody>
      </p:sp>
      <p:sp>
        <p:nvSpPr>
          <p:cNvPr id="487" name="Text Box 111"/>
          <p:cNvSpPr/>
          <p:nvPr/>
        </p:nvSpPr>
        <p:spPr>
          <a:xfrm>
            <a:off x="738000" y="2857680"/>
            <a:ext cx="84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rPr>
              <a:t>2.5 </a:t>
            </a:r>
            <a:r>
              <a:rPr b="0" lang="ar-SA" sz="1800" spc="-1" strike="noStrike">
                <a:solidFill>
                  <a:srgbClr val="ccecff"/>
                </a:solidFill>
                <a:latin typeface="Times New Roman"/>
              </a:rPr>
              <a:t>متر</a:t>
            </a:r>
            <a:endParaRPr b="0" lang="en-US" sz="1800" spc="-1" strike="noStrike">
              <a:solidFill>
                <a:srgbClr val="ccecff"/>
              </a:solidFill>
              <a:latin typeface="Times New Roman"/>
            </a:endParaRPr>
          </a:p>
        </p:txBody>
      </p:sp>
      <p:sp>
        <p:nvSpPr>
          <p:cNvPr id="488" name="Text Box 112"/>
          <p:cNvSpPr/>
          <p:nvPr/>
        </p:nvSpPr>
        <p:spPr>
          <a:xfrm>
            <a:off x="2919960" y="2590920"/>
            <a:ext cx="87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rPr>
              <a:t>6.4 </a:t>
            </a:r>
            <a:r>
              <a:rPr b="0" lang="ar-SA" sz="2000" spc="-1" strike="noStrike">
                <a:solidFill>
                  <a:srgbClr val="ccecff"/>
                </a:solidFill>
                <a:latin typeface="Times New Roman"/>
                <a:cs typeface="Traditional Arabic"/>
              </a:rPr>
              <a:t>متر</a:t>
            </a:r>
            <a:endParaRPr b="0" lang="en-US" sz="2000" spc="-1" strike="noStrike">
              <a:solidFill>
                <a:srgbClr val="ccecff"/>
              </a:solidFill>
              <a:latin typeface="Times New Roman"/>
            </a:endParaRPr>
          </a:p>
        </p:txBody>
      </p:sp>
      <p:sp>
        <p:nvSpPr>
          <p:cNvPr id="489" name="Text Box 113"/>
          <p:cNvSpPr/>
          <p:nvPr/>
        </p:nvSpPr>
        <p:spPr>
          <a:xfrm rot="16200000">
            <a:off x="1604160" y="4949280"/>
            <a:ext cx="84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rPr>
              <a:t>2.3 </a:t>
            </a:r>
            <a:r>
              <a:rPr b="0" lang="ar-SA" sz="1800" spc="-1" strike="noStrike">
                <a:solidFill>
                  <a:srgbClr val="ccecff"/>
                </a:solidFill>
                <a:latin typeface="Times New Roman"/>
              </a:rPr>
              <a:t>متر</a:t>
            </a:r>
            <a:endParaRPr b="0" lang="en-US" sz="1800" spc="-1" strike="noStrike">
              <a:solidFill>
                <a:srgbClr val="ccecff"/>
              </a:solidFill>
              <a:latin typeface="Times New Roman"/>
            </a:endParaRPr>
          </a:p>
        </p:txBody>
      </p:sp>
      <p:sp>
        <p:nvSpPr>
          <p:cNvPr id="490" name="Text Box 114"/>
          <p:cNvSpPr/>
          <p:nvPr/>
        </p:nvSpPr>
        <p:spPr>
          <a:xfrm rot="16200000">
            <a:off x="4118760" y="4814280"/>
            <a:ext cx="84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rPr>
              <a:t>1.2 </a:t>
            </a:r>
            <a:r>
              <a:rPr b="0" lang="ar-SA" sz="1800" spc="-1" strike="noStrike">
                <a:solidFill>
                  <a:srgbClr val="ccecff"/>
                </a:solidFill>
                <a:latin typeface="Times New Roman"/>
              </a:rPr>
              <a:t>متر</a:t>
            </a:r>
            <a:endParaRPr b="0" lang="en-US" sz="1800" spc="-1" strike="noStrike">
              <a:solidFill>
                <a:srgbClr val="ccecff"/>
              </a:solidFill>
              <a:latin typeface="Times New Roman"/>
            </a:endParaRPr>
          </a:p>
        </p:txBody>
      </p:sp>
      <p:sp>
        <p:nvSpPr>
          <p:cNvPr id="491" name="Text Box 115"/>
          <p:cNvSpPr/>
          <p:nvPr/>
        </p:nvSpPr>
        <p:spPr>
          <a:xfrm rot="16200000">
            <a:off x="5933520" y="4204440"/>
            <a:ext cx="84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rPr>
              <a:t>2.3 </a:t>
            </a:r>
            <a:r>
              <a:rPr b="0" lang="ar-SA" sz="1800" spc="-1" strike="noStrike">
                <a:solidFill>
                  <a:srgbClr val="ccecff"/>
                </a:solidFill>
                <a:latin typeface="Times New Roman"/>
              </a:rPr>
              <a:t>متر</a:t>
            </a:r>
            <a:endParaRPr b="0" lang="en-US" sz="1800" spc="-1" strike="noStrike">
              <a:solidFill>
                <a:srgbClr val="ccecff"/>
              </a:solidFill>
              <a:latin typeface="Times New Roman"/>
            </a:endParaRPr>
          </a:p>
        </p:txBody>
      </p:sp>
      <p:sp>
        <p:nvSpPr>
          <p:cNvPr id="492" name="Text Box 116"/>
          <p:cNvSpPr/>
          <p:nvPr/>
        </p:nvSpPr>
        <p:spPr>
          <a:xfrm rot="16200000">
            <a:off x="8244000" y="35953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rPr>
              <a:t>3 </a:t>
            </a:r>
            <a:r>
              <a:rPr b="0" lang="ar-SA" sz="1800" spc="-1" strike="noStrike">
                <a:solidFill>
                  <a:srgbClr val="ccecff"/>
                </a:solidFill>
                <a:latin typeface="Times New Roman"/>
              </a:rPr>
              <a:t>متر</a:t>
            </a:r>
            <a:endParaRPr b="0" lang="en-US" sz="1800" spc="-1" strike="noStrike">
              <a:solidFill>
                <a:srgbClr val="ccecff"/>
              </a:solidFill>
              <a:latin typeface="Times New Roman"/>
            </a:endParaRPr>
          </a:p>
        </p:txBody>
      </p:sp>
      <p:grpSp>
        <p:nvGrpSpPr>
          <p:cNvPr id="493" name="Group 117"/>
          <p:cNvGrpSpPr/>
          <p:nvPr/>
        </p:nvGrpSpPr>
        <p:grpSpPr>
          <a:xfrm>
            <a:off x="5334120" y="4038480"/>
            <a:ext cx="609480" cy="1218960"/>
            <a:chOff x="5334120" y="4038480"/>
            <a:chExt cx="609480" cy="1218960"/>
          </a:xfrm>
        </p:grpSpPr>
        <p:sp>
          <p:nvSpPr>
            <p:cNvPr id="494" name="Freeform 118"/>
            <p:cNvSpPr/>
            <p:nvPr/>
          </p:nvSpPr>
          <p:spPr>
            <a:xfrm>
              <a:off x="5334120" y="4038480"/>
              <a:ext cx="587520" cy="1213920"/>
            </a:xfrm>
            <a:custGeom>
              <a:avLst/>
              <a:gdLst>
                <a:gd name="textAreaLeft" fmla="*/ 0 w 587520"/>
                <a:gd name="textAreaRight" fmla="*/ 587880 w 587520"/>
                <a:gd name="textAreaTop" fmla="*/ 0 h 1213920"/>
                <a:gd name="textAreaBottom" fmla="*/ 1213920 h 1213920"/>
              </a:gdLst>
              <a:ahLst/>
              <a:rect l="textAreaLeft" t="textAreaTop" r="textAreaRight" b="textAreaBottom"/>
              <a:pathLst>
                <a:path w="3837" h="9184">
                  <a:moveTo>
                    <a:pt x="2981" y="3003"/>
                  </a:moveTo>
                  <a:lnTo>
                    <a:pt x="3000" y="2997"/>
                  </a:lnTo>
                  <a:lnTo>
                    <a:pt x="3020" y="2992"/>
                  </a:lnTo>
                  <a:lnTo>
                    <a:pt x="3040" y="2986"/>
                  </a:lnTo>
                  <a:lnTo>
                    <a:pt x="3061" y="2982"/>
                  </a:lnTo>
                  <a:lnTo>
                    <a:pt x="3084" y="2978"/>
                  </a:lnTo>
                  <a:lnTo>
                    <a:pt x="3106" y="2975"/>
                  </a:lnTo>
                  <a:lnTo>
                    <a:pt x="3129" y="2973"/>
                  </a:lnTo>
                  <a:lnTo>
                    <a:pt x="3151" y="2972"/>
                  </a:lnTo>
                  <a:lnTo>
                    <a:pt x="3161" y="2983"/>
                  </a:lnTo>
                  <a:lnTo>
                    <a:pt x="3172" y="2994"/>
                  </a:lnTo>
                  <a:lnTo>
                    <a:pt x="3182" y="3002"/>
                  </a:lnTo>
                  <a:lnTo>
                    <a:pt x="3194" y="3012"/>
                  </a:lnTo>
                  <a:lnTo>
                    <a:pt x="3206" y="3021"/>
                  </a:lnTo>
                  <a:lnTo>
                    <a:pt x="3217" y="3030"/>
                  </a:lnTo>
                  <a:lnTo>
                    <a:pt x="3227" y="3040"/>
                  </a:lnTo>
                  <a:lnTo>
                    <a:pt x="3237" y="3052"/>
                  </a:lnTo>
                  <a:lnTo>
                    <a:pt x="3227" y="3064"/>
                  </a:lnTo>
                  <a:lnTo>
                    <a:pt x="3218" y="3078"/>
                  </a:lnTo>
                  <a:lnTo>
                    <a:pt x="3208" y="3094"/>
                  </a:lnTo>
                  <a:lnTo>
                    <a:pt x="3198" y="3111"/>
                  </a:lnTo>
                  <a:lnTo>
                    <a:pt x="3188" y="3130"/>
                  </a:lnTo>
                  <a:lnTo>
                    <a:pt x="3178" y="3149"/>
                  </a:lnTo>
                  <a:lnTo>
                    <a:pt x="3169" y="3168"/>
                  </a:lnTo>
                  <a:lnTo>
                    <a:pt x="3161" y="3188"/>
                  </a:lnTo>
                  <a:lnTo>
                    <a:pt x="3153" y="3209"/>
                  </a:lnTo>
                  <a:lnTo>
                    <a:pt x="3147" y="3229"/>
                  </a:lnTo>
                  <a:lnTo>
                    <a:pt x="3142" y="3248"/>
                  </a:lnTo>
                  <a:lnTo>
                    <a:pt x="3137" y="3268"/>
                  </a:lnTo>
                  <a:lnTo>
                    <a:pt x="3135" y="3287"/>
                  </a:lnTo>
                  <a:lnTo>
                    <a:pt x="3134" y="3305"/>
                  </a:lnTo>
                  <a:lnTo>
                    <a:pt x="3136" y="3321"/>
                  </a:lnTo>
                  <a:lnTo>
                    <a:pt x="3139" y="3337"/>
                  </a:lnTo>
                  <a:lnTo>
                    <a:pt x="3134" y="3359"/>
                  </a:lnTo>
                  <a:lnTo>
                    <a:pt x="3126" y="3372"/>
                  </a:lnTo>
                  <a:lnTo>
                    <a:pt x="3116" y="3381"/>
                  </a:lnTo>
                  <a:lnTo>
                    <a:pt x="3105" y="3386"/>
                  </a:lnTo>
                  <a:lnTo>
                    <a:pt x="3093" y="3391"/>
                  </a:lnTo>
                  <a:lnTo>
                    <a:pt x="3084" y="3397"/>
                  </a:lnTo>
                  <a:lnTo>
                    <a:pt x="3075" y="3406"/>
                  </a:lnTo>
                  <a:lnTo>
                    <a:pt x="3069" y="3420"/>
                  </a:lnTo>
                  <a:lnTo>
                    <a:pt x="3060" y="3435"/>
                  </a:lnTo>
                  <a:lnTo>
                    <a:pt x="3055" y="3449"/>
                  </a:lnTo>
                  <a:lnTo>
                    <a:pt x="3052" y="3467"/>
                  </a:lnTo>
                  <a:lnTo>
                    <a:pt x="3051" y="3484"/>
                  </a:lnTo>
                  <a:lnTo>
                    <a:pt x="3052" y="3501"/>
                  </a:lnTo>
                  <a:lnTo>
                    <a:pt x="3053" y="3517"/>
                  </a:lnTo>
                  <a:lnTo>
                    <a:pt x="3054" y="3532"/>
                  </a:lnTo>
                  <a:lnTo>
                    <a:pt x="3054" y="3545"/>
                  </a:lnTo>
                  <a:lnTo>
                    <a:pt x="3038" y="3543"/>
                  </a:lnTo>
                  <a:lnTo>
                    <a:pt x="3019" y="3536"/>
                  </a:lnTo>
                  <a:lnTo>
                    <a:pt x="2997" y="3526"/>
                  </a:lnTo>
                  <a:lnTo>
                    <a:pt x="2975" y="3515"/>
                  </a:lnTo>
                  <a:lnTo>
                    <a:pt x="2952" y="3502"/>
                  </a:lnTo>
                  <a:lnTo>
                    <a:pt x="2933" y="3488"/>
                  </a:lnTo>
                  <a:lnTo>
                    <a:pt x="2916" y="3474"/>
                  </a:lnTo>
                  <a:lnTo>
                    <a:pt x="2904" y="3461"/>
                  </a:lnTo>
                  <a:lnTo>
                    <a:pt x="2917" y="3442"/>
                  </a:lnTo>
                  <a:lnTo>
                    <a:pt x="2929" y="3420"/>
                  </a:lnTo>
                  <a:lnTo>
                    <a:pt x="2939" y="3394"/>
                  </a:lnTo>
                  <a:lnTo>
                    <a:pt x="2949" y="3367"/>
                  </a:lnTo>
                  <a:lnTo>
                    <a:pt x="2956" y="3338"/>
                  </a:lnTo>
                  <a:lnTo>
                    <a:pt x="2964" y="3307"/>
                  </a:lnTo>
                  <a:lnTo>
                    <a:pt x="2969" y="3276"/>
                  </a:lnTo>
                  <a:lnTo>
                    <a:pt x="2975" y="3244"/>
                  </a:lnTo>
                  <a:lnTo>
                    <a:pt x="2979" y="3211"/>
                  </a:lnTo>
                  <a:lnTo>
                    <a:pt x="2981" y="3179"/>
                  </a:lnTo>
                  <a:lnTo>
                    <a:pt x="2983" y="3147"/>
                  </a:lnTo>
                  <a:lnTo>
                    <a:pt x="2984" y="3115"/>
                  </a:lnTo>
                  <a:lnTo>
                    <a:pt x="2984" y="3085"/>
                  </a:lnTo>
                  <a:lnTo>
                    <a:pt x="2984" y="3056"/>
                  </a:lnTo>
                  <a:lnTo>
                    <a:pt x="2983" y="3028"/>
                  </a:lnTo>
                  <a:lnTo>
                    <a:pt x="2981" y="3003"/>
                  </a:lnTo>
                  <a:close/>
                  <a:moveTo>
                    <a:pt x="745" y="2750"/>
                  </a:moveTo>
                  <a:lnTo>
                    <a:pt x="749" y="2768"/>
                  </a:lnTo>
                  <a:lnTo>
                    <a:pt x="755" y="2785"/>
                  </a:lnTo>
                  <a:lnTo>
                    <a:pt x="759" y="2803"/>
                  </a:lnTo>
                  <a:lnTo>
                    <a:pt x="762" y="2821"/>
                  </a:lnTo>
                  <a:lnTo>
                    <a:pt x="765" y="2839"/>
                  </a:lnTo>
                  <a:lnTo>
                    <a:pt x="767" y="2857"/>
                  </a:lnTo>
                  <a:lnTo>
                    <a:pt x="770" y="2874"/>
                  </a:lnTo>
                  <a:lnTo>
                    <a:pt x="770" y="2892"/>
                  </a:lnTo>
                  <a:lnTo>
                    <a:pt x="776" y="2902"/>
                  </a:lnTo>
                  <a:lnTo>
                    <a:pt x="784" y="2911"/>
                  </a:lnTo>
                  <a:lnTo>
                    <a:pt x="790" y="2921"/>
                  </a:lnTo>
                  <a:lnTo>
                    <a:pt x="796" y="2931"/>
                  </a:lnTo>
                  <a:lnTo>
                    <a:pt x="803" y="2941"/>
                  </a:lnTo>
                  <a:lnTo>
                    <a:pt x="809" y="2952"/>
                  </a:lnTo>
                  <a:lnTo>
                    <a:pt x="815" y="2963"/>
                  </a:lnTo>
                  <a:lnTo>
                    <a:pt x="820" y="2973"/>
                  </a:lnTo>
                  <a:lnTo>
                    <a:pt x="825" y="2985"/>
                  </a:lnTo>
                  <a:lnTo>
                    <a:pt x="830" y="2997"/>
                  </a:lnTo>
                  <a:lnTo>
                    <a:pt x="834" y="3008"/>
                  </a:lnTo>
                  <a:lnTo>
                    <a:pt x="837" y="3019"/>
                  </a:lnTo>
                  <a:lnTo>
                    <a:pt x="840" y="3031"/>
                  </a:lnTo>
                  <a:lnTo>
                    <a:pt x="841" y="3044"/>
                  </a:lnTo>
                  <a:lnTo>
                    <a:pt x="843" y="3056"/>
                  </a:lnTo>
                  <a:lnTo>
                    <a:pt x="843" y="3068"/>
                  </a:lnTo>
                  <a:lnTo>
                    <a:pt x="868" y="3068"/>
                  </a:lnTo>
                  <a:lnTo>
                    <a:pt x="889" y="3076"/>
                  </a:lnTo>
                  <a:lnTo>
                    <a:pt x="909" y="3090"/>
                  </a:lnTo>
                  <a:lnTo>
                    <a:pt x="926" y="3108"/>
                  </a:lnTo>
                  <a:lnTo>
                    <a:pt x="940" y="3129"/>
                  </a:lnTo>
                  <a:lnTo>
                    <a:pt x="953" y="3150"/>
                  </a:lnTo>
                  <a:lnTo>
                    <a:pt x="964" y="3168"/>
                  </a:lnTo>
                  <a:lnTo>
                    <a:pt x="975" y="3184"/>
                  </a:lnTo>
                  <a:lnTo>
                    <a:pt x="993" y="3187"/>
                  </a:lnTo>
                  <a:lnTo>
                    <a:pt x="1010" y="3195"/>
                  </a:lnTo>
                  <a:lnTo>
                    <a:pt x="1028" y="3208"/>
                  </a:lnTo>
                  <a:lnTo>
                    <a:pt x="1045" y="3224"/>
                  </a:lnTo>
                  <a:lnTo>
                    <a:pt x="1062" y="3242"/>
                  </a:lnTo>
                  <a:lnTo>
                    <a:pt x="1078" y="3263"/>
                  </a:lnTo>
                  <a:lnTo>
                    <a:pt x="1094" y="3286"/>
                  </a:lnTo>
                  <a:lnTo>
                    <a:pt x="1109" y="3309"/>
                  </a:lnTo>
                  <a:lnTo>
                    <a:pt x="1124" y="3333"/>
                  </a:lnTo>
                  <a:lnTo>
                    <a:pt x="1139" y="3356"/>
                  </a:lnTo>
                  <a:lnTo>
                    <a:pt x="1154" y="3379"/>
                  </a:lnTo>
                  <a:lnTo>
                    <a:pt x="1168" y="3399"/>
                  </a:lnTo>
                  <a:lnTo>
                    <a:pt x="1182" y="3416"/>
                  </a:lnTo>
                  <a:lnTo>
                    <a:pt x="1196" y="3431"/>
                  </a:lnTo>
                  <a:lnTo>
                    <a:pt x="1208" y="3442"/>
                  </a:lnTo>
                  <a:lnTo>
                    <a:pt x="1221" y="3448"/>
                  </a:lnTo>
                  <a:lnTo>
                    <a:pt x="1230" y="3438"/>
                  </a:lnTo>
                  <a:lnTo>
                    <a:pt x="1241" y="3430"/>
                  </a:lnTo>
                  <a:lnTo>
                    <a:pt x="1250" y="3426"/>
                  </a:lnTo>
                  <a:lnTo>
                    <a:pt x="1261" y="3423"/>
                  </a:lnTo>
                  <a:lnTo>
                    <a:pt x="1272" y="3422"/>
                  </a:lnTo>
                  <a:lnTo>
                    <a:pt x="1280" y="3421"/>
                  </a:lnTo>
                  <a:lnTo>
                    <a:pt x="1289" y="3420"/>
                  </a:lnTo>
                  <a:lnTo>
                    <a:pt x="1295" y="3417"/>
                  </a:lnTo>
                  <a:lnTo>
                    <a:pt x="1272" y="3386"/>
                  </a:lnTo>
                  <a:lnTo>
                    <a:pt x="1249" y="3355"/>
                  </a:lnTo>
                  <a:lnTo>
                    <a:pt x="1226" y="3322"/>
                  </a:lnTo>
                  <a:lnTo>
                    <a:pt x="1201" y="3289"/>
                  </a:lnTo>
                  <a:lnTo>
                    <a:pt x="1176" y="3255"/>
                  </a:lnTo>
                  <a:lnTo>
                    <a:pt x="1152" y="3222"/>
                  </a:lnTo>
                  <a:lnTo>
                    <a:pt x="1127" y="3187"/>
                  </a:lnTo>
                  <a:lnTo>
                    <a:pt x="1101" y="3154"/>
                  </a:lnTo>
                  <a:lnTo>
                    <a:pt x="1075" y="3122"/>
                  </a:lnTo>
                  <a:lnTo>
                    <a:pt x="1049" y="3091"/>
                  </a:lnTo>
                  <a:lnTo>
                    <a:pt x="1022" y="3061"/>
                  </a:lnTo>
                  <a:lnTo>
                    <a:pt x="994" y="3032"/>
                  </a:lnTo>
                  <a:lnTo>
                    <a:pt x="967" y="3006"/>
                  </a:lnTo>
                  <a:lnTo>
                    <a:pt x="938" y="2982"/>
                  </a:lnTo>
                  <a:lnTo>
                    <a:pt x="909" y="2960"/>
                  </a:lnTo>
                  <a:lnTo>
                    <a:pt x="880" y="2940"/>
                  </a:lnTo>
                  <a:lnTo>
                    <a:pt x="869" y="2933"/>
                  </a:lnTo>
                  <a:lnTo>
                    <a:pt x="858" y="2924"/>
                  </a:lnTo>
                  <a:lnTo>
                    <a:pt x="848" y="2914"/>
                  </a:lnTo>
                  <a:lnTo>
                    <a:pt x="838" y="2902"/>
                  </a:lnTo>
                  <a:lnTo>
                    <a:pt x="828" y="2888"/>
                  </a:lnTo>
                  <a:lnTo>
                    <a:pt x="820" y="2874"/>
                  </a:lnTo>
                  <a:lnTo>
                    <a:pt x="811" y="2860"/>
                  </a:lnTo>
                  <a:lnTo>
                    <a:pt x="803" y="2845"/>
                  </a:lnTo>
                  <a:lnTo>
                    <a:pt x="795" y="2830"/>
                  </a:lnTo>
                  <a:lnTo>
                    <a:pt x="788" y="2815"/>
                  </a:lnTo>
                  <a:lnTo>
                    <a:pt x="780" y="2801"/>
                  </a:lnTo>
                  <a:lnTo>
                    <a:pt x="773" y="2788"/>
                  </a:lnTo>
                  <a:lnTo>
                    <a:pt x="765" y="2777"/>
                  </a:lnTo>
                  <a:lnTo>
                    <a:pt x="759" y="2766"/>
                  </a:lnTo>
                  <a:lnTo>
                    <a:pt x="751" y="2756"/>
                  </a:lnTo>
                  <a:lnTo>
                    <a:pt x="745" y="2750"/>
                  </a:lnTo>
                  <a:close/>
                  <a:moveTo>
                    <a:pt x="2469" y="1228"/>
                  </a:moveTo>
                  <a:lnTo>
                    <a:pt x="2478" y="1239"/>
                  </a:lnTo>
                  <a:lnTo>
                    <a:pt x="2491" y="1252"/>
                  </a:lnTo>
                  <a:lnTo>
                    <a:pt x="2504" y="1270"/>
                  </a:lnTo>
                  <a:lnTo>
                    <a:pt x="2519" y="1290"/>
                  </a:lnTo>
                  <a:lnTo>
                    <a:pt x="2531" y="1312"/>
                  </a:lnTo>
                  <a:lnTo>
                    <a:pt x="2544" y="1337"/>
                  </a:lnTo>
                  <a:lnTo>
                    <a:pt x="2553" y="1363"/>
                  </a:lnTo>
                  <a:lnTo>
                    <a:pt x="2558" y="1390"/>
                  </a:lnTo>
                  <a:lnTo>
                    <a:pt x="2570" y="1409"/>
                  </a:lnTo>
                  <a:lnTo>
                    <a:pt x="2581" y="1425"/>
                  </a:lnTo>
                  <a:lnTo>
                    <a:pt x="2591" y="1438"/>
                  </a:lnTo>
                  <a:lnTo>
                    <a:pt x="2602" y="1449"/>
                  </a:lnTo>
                  <a:lnTo>
                    <a:pt x="2614" y="1460"/>
                  </a:lnTo>
                  <a:lnTo>
                    <a:pt x="2628" y="1470"/>
                  </a:lnTo>
                  <a:lnTo>
                    <a:pt x="2643" y="1480"/>
                  </a:lnTo>
                  <a:lnTo>
                    <a:pt x="2660" y="1491"/>
                  </a:lnTo>
                  <a:lnTo>
                    <a:pt x="2680" y="1504"/>
                  </a:lnTo>
                  <a:lnTo>
                    <a:pt x="2703" y="1519"/>
                  </a:lnTo>
                  <a:lnTo>
                    <a:pt x="2730" y="1536"/>
                  </a:lnTo>
                  <a:lnTo>
                    <a:pt x="2761" y="1556"/>
                  </a:lnTo>
                  <a:lnTo>
                    <a:pt x="2796" y="1581"/>
                  </a:lnTo>
                  <a:lnTo>
                    <a:pt x="2835" y="1611"/>
                  </a:lnTo>
                  <a:lnTo>
                    <a:pt x="2880" y="1645"/>
                  </a:lnTo>
                  <a:lnTo>
                    <a:pt x="2932" y="1685"/>
                  </a:lnTo>
                  <a:lnTo>
                    <a:pt x="2940" y="1688"/>
                  </a:lnTo>
                  <a:lnTo>
                    <a:pt x="2949" y="1697"/>
                  </a:lnTo>
                  <a:lnTo>
                    <a:pt x="2955" y="1709"/>
                  </a:lnTo>
                  <a:lnTo>
                    <a:pt x="2963" y="1724"/>
                  </a:lnTo>
                  <a:lnTo>
                    <a:pt x="2969" y="1739"/>
                  </a:lnTo>
                  <a:lnTo>
                    <a:pt x="2977" y="1751"/>
                  </a:lnTo>
                  <a:lnTo>
                    <a:pt x="2984" y="1761"/>
                  </a:lnTo>
                  <a:lnTo>
                    <a:pt x="2993" y="1764"/>
                  </a:lnTo>
                  <a:lnTo>
                    <a:pt x="3031" y="1787"/>
                  </a:lnTo>
                  <a:lnTo>
                    <a:pt x="3068" y="1814"/>
                  </a:lnTo>
                  <a:lnTo>
                    <a:pt x="3104" y="1845"/>
                  </a:lnTo>
                  <a:lnTo>
                    <a:pt x="3139" y="1879"/>
                  </a:lnTo>
                  <a:lnTo>
                    <a:pt x="3175" y="1916"/>
                  </a:lnTo>
                  <a:lnTo>
                    <a:pt x="3208" y="1955"/>
                  </a:lnTo>
                  <a:lnTo>
                    <a:pt x="3241" y="1997"/>
                  </a:lnTo>
                  <a:lnTo>
                    <a:pt x="3274" y="2040"/>
                  </a:lnTo>
                  <a:lnTo>
                    <a:pt x="3306" y="2085"/>
                  </a:lnTo>
                  <a:lnTo>
                    <a:pt x="3339" y="2131"/>
                  </a:lnTo>
                  <a:lnTo>
                    <a:pt x="3371" y="2177"/>
                  </a:lnTo>
                  <a:lnTo>
                    <a:pt x="3403" y="2223"/>
                  </a:lnTo>
                  <a:lnTo>
                    <a:pt x="3434" y="2269"/>
                  </a:lnTo>
                  <a:lnTo>
                    <a:pt x="3466" y="2314"/>
                  </a:lnTo>
                  <a:lnTo>
                    <a:pt x="3498" y="2357"/>
                  </a:lnTo>
                  <a:lnTo>
                    <a:pt x="3530" y="2400"/>
                  </a:lnTo>
                  <a:lnTo>
                    <a:pt x="3578" y="2400"/>
                  </a:lnTo>
                  <a:lnTo>
                    <a:pt x="3603" y="2431"/>
                  </a:lnTo>
                  <a:lnTo>
                    <a:pt x="3608" y="2449"/>
                  </a:lnTo>
                  <a:lnTo>
                    <a:pt x="3615" y="2470"/>
                  </a:lnTo>
                  <a:lnTo>
                    <a:pt x="3622" y="2489"/>
                  </a:lnTo>
                  <a:lnTo>
                    <a:pt x="3631" y="2510"/>
                  </a:lnTo>
                  <a:lnTo>
                    <a:pt x="3640" y="2531"/>
                  </a:lnTo>
                  <a:lnTo>
                    <a:pt x="3651" y="2552"/>
                  </a:lnTo>
                  <a:lnTo>
                    <a:pt x="3662" y="2573"/>
                  </a:lnTo>
                  <a:lnTo>
                    <a:pt x="3673" y="2595"/>
                  </a:lnTo>
                  <a:lnTo>
                    <a:pt x="3684" y="2615"/>
                  </a:lnTo>
                  <a:lnTo>
                    <a:pt x="3696" y="2635"/>
                  </a:lnTo>
                  <a:lnTo>
                    <a:pt x="3708" y="2655"/>
                  </a:lnTo>
                  <a:lnTo>
                    <a:pt x="3720" y="2673"/>
                  </a:lnTo>
                  <a:lnTo>
                    <a:pt x="3730" y="2690"/>
                  </a:lnTo>
                  <a:lnTo>
                    <a:pt x="3741" y="2706"/>
                  </a:lnTo>
                  <a:lnTo>
                    <a:pt x="3752" y="2721"/>
                  </a:lnTo>
                  <a:lnTo>
                    <a:pt x="3761" y="2734"/>
                  </a:lnTo>
                  <a:lnTo>
                    <a:pt x="3761" y="2752"/>
                  </a:lnTo>
                  <a:lnTo>
                    <a:pt x="3759" y="2771"/>
                  </a:lnTo>
                  <a:lnTo>
                    <a:pt x="3758" y="2792"/>
                  </a:lnTo>
                  <a:lnTo>
                    <a:pt x="3756" y="2811"/>
                  </a:lnTo>
                  <a:lnTo>
                    <a:pt x="3753" y="2830"/>
                  </a:lnTo>
                  <a:lnTo>
                    <a:pt x="3752" y="2847"/>
                  </a:lnTo>
                  <a:lnTo>
                    <a:pt x="3750" y="2863"/>
                  </a:lnTo>
                  <a:lnTo>
                    <a:pt x="3750" y="2876"/>
                  </a:lnTo>
                  <a:lnTo>
                    <a:pt x="3758" y="2888"/>
                  </a:lnTo>
                  <a:lnTo>
                    <a:pt x="3767" y="2901"/>
                  </a:lnTo>
                  <a:lnTo>
                    <a:pt x="3773" y="2914"/>
                  </a:lnTo>
                  <a:lnTo>
                    <a:pt x="3781" y="2926"/>
                  </a:lnTo>
                  <a:lnTo>
                    <a:pt x="3786" y="2939"/>
                  </a:lnTo>
                  <a:lnTo>
                    <a:pt x="3791" y="2953"/>
                  </a:lnTo>
                  <a:lnTo>
                    <a:pt x="3797" y="2966"/>
                  </a:lnTo>
                  <a:lnTo>
                    <a:pt x="3802" y="2980"/>
                  </a:lnTo>
                  <a:lnTo>
                    <a:pt x="3806" y="2994"/>
                  </a:lnTo>
                  <a:lnTo>
                    <a:pt x="3811" y="3007"/>
                  </a:lnTo>
                  <a:lnTo>
                    <a:pt x="3815" y="3021"/>
                  </a:lnTo>
                  <a:lnTo>
                    <a:pt x="3818" y="3033"/>
                  </a:lnTo>
                  <a:lnTo>
                    <a:pt x="3822" y="3046"/>
                  </a:lnTo>
                  <a:lnTo>
                    <a:pt x="3827" y="3059"/>
                  </a:lnTo>
                  <a:lnTo>
                    <a:pt x="3831" y="3072"/>
                  </a:lnTo>
                  <a:lnTo>
                    <a:pt x="3835" y="3084"/>
                  </a:lnTo>
                  <a:lnTo>
                    <a:pt x="3832" y="3093"/>
                  </a:lnTo>
                  <a:lnTo>
                    <a:pt x="3829" y="3103"/>
                  </a:lnTo>
                  <a:lnTo>
                    <a:pt x="3825" y="3114"/>
                  </a:lnTo>
                  <a:lnTo>
                    <a:pt x="3820" y="3124"/>
                  </a:lnTo>
                  <a:lnTo>
                    <a:pt x="3815" y="3135"/>
                  </a:lnTo>
                  <a:lnTo>
                    <a:pt x="3808" y="3147"/>
                  </a:lnTo>
                  <a:lnTo>
                    <a:pt x="3803" y="3159"/>
                  </a:lnTo>
                  <a:lnTo>
                    <a:pt x="3797" y="3170"/>
                  </a:lnTo>
                  <a:lnTo>
                    <a:pt x="3790" y="3183"/>
                  </a:lnTo>
                  <a:lnTo>
                    <a:pt x="3784" y="3195"/>
                  </a:lnTo>
                  <a:lnTo>
                    <a:pt x="3777" y="3207"/>
                  </a:lnTo>
                  <a:lnTo>
                    <a:pt x="3772" y="3217"/>
                  </a:lnTo>
                  <a:lnTo>
                    <a:pt x="3766" y="3228"/>
                  </a:lnTo>
                  <a:lnTo>
                    <a:pt x="3760" y="3239"/>
                  </a:lnTo>
                  <a:lnTo>
                    <a:pt x="3755" y="3248"/>
                  </a:lnTo>
                  <a:lnTo>
                    <a:pt x="3750" y="3258"/>
                  </a:lnTo>
                  <a:lnTo>
                    <a:pt x="3752" y="3268"/>
                  </a:lnTo>
                  <a:lnTo>
                    <a:pt x="3752" y="3279"/>
                  </a:lnTo>
                  <a:lnTo>
                    <a:pt x="3752" y="3292"/>
                  </a:lnTo>
                  <a:lnTo>
                    <a:pt x="3751" y="3306"/>
                  </a:lnTo>
                  <a:lnTo>
                    <a:pt x="3749" y="3321"/>
                  </a:lnTo>
                  <a:lnTo>
                    <a:pt x="3746" y="3337"/>
                  </a:lnTo>
                  <a:lnTo>
                    <a:pt x="3743" y="3353"/>
                  </a:lnTo>
                  <a:lnTo>
                    <a:pt x="3740" y="3369"/>
                  </a:lnTo>
                  <a:lnTo>
                    <a:pt x="3737" y="3386"/>
                  </a:lnTo>
                  <a:lnTo>
                    <a:pt x="3732" y="3402"/>
                  </a:lnTo>
                  <a:lnTo>
                    <a:pt x="3729" y="3417"/>
                  </a:lnTo>
                  <a:lnTo>
                    <a:pt x="3725" y="3432"/>
                  </a:lnTo>
                  <a:lnTo>
                    <a:pt x="3722" y="3446"/>
                  </a:lnTo>
                  <a:lnTo>
                    <a:pt x="3717" y="3459"/>
                  </a:lnTo>
                  <a:lnTo>
                    <a:pt x="3714" y="3471"/>
                  </a:lnTo>
                  <a:lnTo>
                    <a:pt x="3712" y="3480"/>
                  </a:lnTo>
                  <a:lnTo>
                    <a:pt x="3713" y="3487"/>
                  </a:lnTo>
                  <a:lnTo>
                    <a:pt x="3714" y="3492"/>
                  </a:lnTo>
                  <a:lnTo>
                    <a:pt x="3716" y="3499"/>
                  </a:lnTo>
                  <a:lnTo>
                    <a:pt x="3719" y="3504"/>
                  </a:lnTo>
                  <a:lnTo>
                    <a:pt x="3721" y="3510"/>
                  </a:lnTo>
                  <a:lnTo>
                    <a:pt x="3723" y="3517"/>
                  </a:lnTo>
                  <a:lnTo>
                    <a:pt x="3724" y="3522"/>
                  </a:lnTo>
                  <a:lnTo>
                    <a:pt x="3725" y="3529"/>
                  </a:lnTo>
                  <a:lnTo>
                    <a:pt x="3715" y="3539"/>
                  </a:lnTo>
                  <a:lnTo>
                    <a:pt x="3707" y="3547"/>
                  </a:lnTo>
                  <a:lnTo>
                    <a:pt x="3698" y="3554"/>
                  </a:lnTo>
                  <a:lnTo>
                    <a:pt x="3691" y="3560"/>
                  </a:lnTo>
                  <a:lnTo>
                    <a:pt x="3684" y="3566"/>
                  </a:lnTo>
                  <a:lnTo>
                    <a:pt x="3680" y="3572"/>
                  </a:lnTo>
                  <a:lnTo>
                    <a:pt x="3677" y="3581"/>
                  </a:lnTo>
                  <a:lnTo>
                    <a:pt x="3676" y="3592"/>
                  </a:lnTo>
                  <a:lnTo>
                    <a:pt x="3680" y="3591"/>
                  </a:lnTo>
                  <a:lnTo>
                    <a:pt x="3685" y="3590"/>
                  </a:lnTo>
                  <a:lnTo>
                    <a:pt x="3690" y="3586"/>
                  </a:lnTo>
                  <a:lnTo>
                    <a:pt x="3694" y="3583"/>
                  </a:lnTo>
                  <a:lnTo>
                    <a:pt x="3699" y="3581"/>
                  </a:lnTo>
                  <a:lnTo>
                    <a:pt x="3704" y="3578"/>
                  </a:lnTo>
                  <a:lnTo>
                    <a:pt x="3708" y="3577"/>
                  </a:lnTo>
                  <a:lnTo>
                    <a:pt x="3712" y="3576"/>
                  </a:lnTo>
                  <a:lnTo>
                    <a:pt x="3716" y="3577"/>
                  </a:lnTo>
                  <a:lnTo>
                    <a:pt x="3722" y="3578"/>
                  </a:lnTo>
                  <a:lnTo>
                    <a:pt x="3726" y="3581"/>
                  </a:lnTo>
                  <a:lnTo>
                    <a:pt x="3731" y="3583"/>
                  </a:lnTo>
                  <a:lnTo>
                    <a:pt x="3736" y="3586"/>
                  </a:lnTo>
                  <a:lnTo>
                    <a:pt x="3740" y="3590"/>
                  </a:lnTo>
                  <a:lnTo>
                    <a:pt x="3745" y="3591"/>
                  </a:lnTo>
                  <a:lnTo>
                    <a:pt x="3750" y="3592"/>
                  </a:lnTo>
                  <a:lnTo>
                    <a:pt x="3750" y="3656"/>
                  </a:lnTo>
                  <a:lnTo>
                    <a:pt x="3731" y="3678"/>
                  </a:lnTo>
                  <a:lnTo>
                    <a:pt x="3713" y="3698"/>
                  </a:lnTo>
                  <a:lnTo>
                    <a:pt x="3694" y="3716"/>
                  </a:lnTo>
                  <a:lnTo>
                    <a:pt x="3676" y="3733"/>
                  </a:lnTo>
                  <a:lnTo>
                    <a:pt x="3658" y="3749"/>
                  </a:lnTo>
                  <a:lnTo>
                    <a:pt x="3639" y="3765"/>
                  </a:lnTo>
                  <a:lnTo>
                    <a:pt x="3621" y="3781"/>
                  </a:lnTo>
                  <a:lnTo>
                    <a:pt x="3603" y="3798"/>
                  </a:lnTo>
                  <a:lnTo>
                    <a:pt x="3586" y="3790"/>
                  </a:lnTo>
                  <a:lnTo>
                    <a:pt x="3568" y="3782"/>
                  </a:lnTo>
                  <a:lnTo>
                    <a:pt x="3548" y="3777"/>
                  </a:lnTo>
                  <a:lnTo>
                    <a:pt x="3528" y="3770"/>
                  </a:lnTo>
                  <a:lnTo>
                    <a:pt x="3507" y="3766"/>
                  </a:lnTo>
                  <a:lnTo>
                    <a:pt x="3485" y="3762"/>
                  </a:lnTo>
                  <a:lnTo>
                    <a:pt x="3463" y="3760"/>
                  </a:lnTo>
                  <a:lnTo>
                    <a:pt x="3439" y="3756"/>
                  </a:lnTo>
                  <a:lnTo>
                    <a:pt x="3417" y="3754"/>
                  </a:lnTo>
                  <a:lnTo>
                    <a:pt x="3393" y="3753"/>
                  </a:lnTo>
                  <a:lnTo>
                    <a:pt x="3370" y="3752"/>
                  </a:lnTo>
                  <a:lnTo>
                    <a:pt x="3347" y="3751"/>
                  </a:lnTo>
                  <a:lnTo>
                    <a:pt x="3325" y="3751"/>
                  </a:lnTo>
                  <a:lnTo>
                    <a:pt x="3303" y="3751"/>
                  </a:lnTo>
                  <a:lnTo>
                    <a:pt x="3282" y="3751"/>
                  </a:lnTo>
                  <a:lnTo>
                    <a:pt x="3261" y="3751"/>
                  </a:lnTo>
                  <a:lnTo>
                    <a:pt x="3251" y="3762"/>
                  </a:lnTo>
                  <a:lnTo>
                    <a:pt x="3242" y="3771"/>
                  </a:lnTo>
                  <a:lnTo>
                    <a:pt x="3234" y="3782"/>
                  </a:lnTo>
                  <a:lnTo>
                    <a:pt x="3227" y="3793"/>
                  </a:lnTo>
                  <a:lnTo>
                    <a:pt x="3220" y="3805"/>
                  </a:lnTo>
                  <a:lnTo>
                    <a:pt x="3214" y="3815"/>
                  </a:lnTo>
                  <a:lnTo>
                    <a:pt x="3208" y="3827"/>
                  </a:lnTo>
                  <a:lnTo>
                    <a:pt x="3203" y="3838"/>
                  </a:lnTo>
                  <a:lnTo>
                    <a:pt x="3183" y="3852"/>
                  </a:lnTo>
                  <a:lnTo>
                    <a:pt x="3165" y="3860"/>
                  </a:lnTo>
                  <a:lnTo>
                    <a:pt x="3147" y="3863"/>
                  </a:lnTo>
                  <a:lnTo>
                    <a:pt x="3129" y="3863"/>
                  </a:lnTo>
                  <a:lnTo>
                    <a:pt x="3111" y="3861"/>
                  </a:lnTo>
                  <a:lnTo>
                    <a:pt x="3093" y="3855"/>
                  </a:lnTo>
                  <a:lnTo>
                    <a:pt x="3077" y="3847"/>
                  </a:lnTo>
                  <a:lnTo>
                    <a:pt x="3060" y="3839"/>
                  </a:lnTo>
                  <a:lnTo>
                    <a:pt x="3050" y="3839"/>
                  </a:lnTo>
                  <a:lnTo>
                    <a:pt x="3038" y="3838"/>
                  </a:lnTo>
                  <a:lnTo>
                    <a:pt x="3027" y="3837"/>
                  </a:lnTo>
                  <a:lnTo>
                    <a:pt x="3017" y="3836"/>
                  </a:lnTo>
                  <a:lnTo>
                    <a:pt x="3010" y="3832"/>
                  </a:lnTo>
                  <a:lnTo>
                    <a:pt x="3005" y="3828"/>
                  </a:lnTo>
                  <a:lnTo>
                    <a:pt x="3004" y="3823"/>
                  </a:lnTo>
                  <a:lnTo>
                    <a:pt x="3006" y="3814"/>
                  </a:lnTo>
                  <a:lnTo>
                    <a:pt x="3001" y="3815"/>
                  </a:lnTo>
                  <a:lnTo>
                    <a:pt x="2996" y="3816"/>
                  </a:lnTo>
                  <a:lnTo>
                    <a:pt x="2992" y="3820"/>
                  </a:lnTo>
                  <a:lnTo>
                    <a:pt x="2987" y="3822"/>
                  </a:lnTo>
                  <a:lnTo>
                    <a:pt x="2982" y="3825"/>
                  </a:lnTo>
                  <a:lnTo>
                    <a:pt x="2978" y="3828"/>
                  </a:lnTo>
                  <a:lnTo>
                    <a:pt x="2974" y="3829"/>
                  </a:lnTo>
                  <a:lnTo>
                    <a:pt x="2969" y="3830"/>
                  </a:lnTo>
                  <a:lnTo>
                    <a:pt x="2975" y="3845"/>
                  </a:lnTo>
                  <a:lnTo>
                    <a:pt x="2982" y="3864"/>
                  </a:lnTo>
                  <a:lnTo>
                    <a:pt x="2989" y="3886"/>
                  </a:lnTo>
                  <a:lnTo>
                    <a:pt x="2996" y="3909"/>
                  </a:lnTo>
                  <a:lnTo>
                    <a:pt x="3002" y="3934"/>
                  </a:lnTo>
                  <a:lnTo>
                    <a:pt x="3007" y="3955"/>
                  </a:lnTo>
                  <a:lnTo>
                    <a:pt x="3008" y="3975"/>
                  </a:lnTo>
                  <a:lnTo>
                    <a:pt x="3006" y="3990"/>
                  </a:lnTo>
                  <a:lnTo>
                    <a:pt x="3103" y="4117"/>
                  </a:lnTo>
                  <a:lnTo>
                    <a:pt x="3103" y="4130"/>
                  </a:lnTo>
                  <a:lnTo>
                    <a:pt x="3103" y="4143"/>
                  </a:lnTo>
                  <a:lnTo>
                    <a:pt x="3102" y="4158"/>
                  </a:lnTo>
                  <a:lnTo>
                    <a:pt x="3102" y="4173"/>
                  </a:lnTo>
                  <a:lnTo>
                    <a:pt x="3100" y="4188"/>
                  </a:lnTo>
                  <a:lnTo>
                    <a:pt x="3098" y="4201"/>
                  </a:lnTo>
                  <a:lnTo>
                    <a:pt x="3095" y="4215"/>
                  </a:lnTo>
                  <a:lnTo>
                    <a:pt x="3090" y="4228"/>
                  </a:lnTo>
                  <a:lnTo>
                    <a:pt x="3151" y="4307"/>
                  </a:lnTo>
                  <a:lnTo>
                    <a:pt x="3151" y="4370"/>
                  </a:lnTo>
                  <a:lnTo>
                    <a:pt x="3189" y="4419"/>
                  </a:lnTo>
                  <a:lnTo>
                    <a:pt x="3189" y="4482"/>
                  </a:lnTo>
                  <a:lnTo>
                    <a:pt x="3164" y="4514"/>
                  </a:lnTo>
                  <a:lnTo>
                    <a:pt x="3164" y="4546"/>
                  </a:lnTo>
                  <a:lnTo>
                    <a:pt x="3166" y="4553"/>
                  </a:lnTo>
                  <a:lnTo>
                    <a:pt x="3172" y="4563"/>
                  </a:lnTo>
                  <a:lnTo>
                    <a:pt x="3179" y="4573"/>
                  </a:lnTo>
                  <a:lnTo>
                    <a:pt x="3189" y="4583"/>
                  </a:lnTo>
                  <a:lnTo>
                    <a:pt x="3197" y="4593"/>
                  </a:lnTo>
                  <a:lnTo>
                    <a:pt x="3205" y="4601"/>
                  </a:lnTo>
                  <a:lnTo>
                    <a:pt x="3210" y="4607"/>
                  </a:lnTo>
                  <a:lnTo>
                    <a:pt x="3212" y="4609"/>
                  </a:lnTo>
                  <a:lnTo>
                    <a:pt x="3213" y="4638"/>
                  </a:lnTo>
                  <a:lnTo>
                    <a:pt x="3215" y="4667"/>
                  </a:lnTo>
                  <a:lnTo>
                    <a:pt x="3219" y="4693"/>
                  </a:lnTo>
                  <a:lnTo>
                    <a:pt x="3223" y="4720"/>
                  </a:lnTo>
                  <a:lnTo>
                    <a:pt x="3229" y="4746"/>
                  </a:lnTo>
                  <a:lnTo>
                    <a:pt x="3236" y="4770"/>
                  </a:lnTo>
                  <a:lnTo>
                    <a:pt x="3244" y="4794"/>
                  </a:lnTo>
                  <a:lnTo>
                    <a:pt x="3253" y="4818"/>
                  </a:lnTo>
                  <a:lnTo>
                    <a:pt x="3264" y="4840"/>
                  </a:lnTo>
                  <a:lnTo>
                    <a:pt x="3274" y="4862"/>
                  </a:lnTo>
                  <a:lnTo>
                    <a:pt x="3286" y="4884"/>
                  </a:lnTo>
                  <a:lnTo>
                    <a:pt x="3299" y="4905"/>
                  </a:lnTo>
                  <a:lnTo>
                    <a:pt x="3313" y="4927"/>
                  </a:lnTo>
                  <a:lnTo>
                    <a:pt x="3327" y="4948"/>
                  </a:lnTo>
                  <a:lnTo>
                    <a:pt x="3342" y="4969"/>
                  </a:lnTo>
                  <a:lnTo>
                    <a:pt x="3358" y="4990"/>
                  </a:lnTo>
                  <a:lnTo>
                    <a:pt x="3358" y="5003"/>
                  </a:lnTo>
                  <a:lnTo>
                    <a:pt x="3359" y="5016"/>
                  </a:lnTo>
                  <a:lnTo>
                    <a:pt x="3359" y="5031"/>
                  </a:lnTo>
                  <a:lnTo>
                    <a:pt x="3360" y="5048"/>
                  </a:lnTo>
                  <a:lnTo>
                    <a:pt x="3361" y="5064"/>
                  </a:lnTo>
                  <a:lnTo>
                    <a:pt x="3362" y="5081"/>
                  </a:lnTo>
                  <a:lnTo>
                    <a:pt x="3364" y="5099"/>
                  </a:lnTo>
                  <a:lnTo>
                    <a:pt x="3365" y="5117"/>
                  </a:lnTo>
                  <a:lnTo>
                    <a:pt x="3367" y="5134"/>
                  </a:lnTo>
                  <a:lnTo>
                    <a:pt x="3370" y="5152"/>
                  </a:lnTo>
                  <a:lnTo>
                    <a:pt x="3372" y="5169"/>
                  </a:lnTo>
                  <a:lnTo>
                    <a:pt x="3374" y="5187"/>
                  </a:lnTo>
                  <a:lnTo>
                    <a:pt x="3376" y="5203"/>
                  </a:lnTo>
                  <a:lnTo>
                    <a:pt x="3378" y="5218"/>
                  </a:lnTo>
                  <a:lnTo>
                    <a:pt x="3380" y="5231"/>
                  </a:lnTo>
                  <a:lnTo>
                    <a:pt x="3382" y="5244"/>
                  </a:lnTo>
                  <a:lnTo>
                    <a:pt x="3378" y="5257"/>
                  </a:lnTo>
                  <a:lnTo>
                    <a:pt x="3374" y="5270"/>
                  </a:lnTo>
                  <a:lnTo>
                    <a:pt x="3370" y="5285"/>
                  </a:lnTo>
                  <a:lnTo>
                    <a:pt x="3365" y="5301"/>
                  </a:lnTo>
                  <a:lnTo>
                    <a:pt x="3362" y="5318"/>
                  </a:lnTo>
                  <a:lnTo>
                    <a:pt x="3360" y="5335"/>
                  </a:lnTo>
                  <a:lnTo>
                    <a:pt x="3359" y="5352"/>
                  </a:lnTo>
                  <a:lnTo>
                    <a:pt x="3358" y="5371"/>
                  </a:lnTo>
                  <a:lnTo>
                    <a:pt x="3395" y="5419"/>
                  </a:lnTo>
                  <a:lnTo>
                    <a:pt x="3402" y="5441"/>
                  </a:lnTo>
                  <a:lnTo>
                    <a:pt x="3409" y="5467"/>
                  </a:lnTo>
                  <a:lnTo>
                    <a:pt x="3416" y="5496"/>
                  </a:lnTo>
                  <a:lnTo>
                    <a:pt x="3422" y="5528"/>
                  </a:lnTo>
                  <a:lnTo>
                    <a:pt x="3427" y="5561"/>
                  </a:lnTo>
                  <a:lnTo>
                    <a:pt x="3433" y="5595"/>
                  </a:lnTo>
                  <a:lnTo>
                    <a:pt x="3438" y="5630"/>
                  </a:lnTo>
                  <a:lnTo>
                    <a:pt x="3442" y="5667"/>
                  </a:lnTo>
                  <a:lnTo>
                    <a:pt x="3446" y="5704"/>
                  </a:lnTo>
                  <a:lnTo>
                    <a:pt x="3449" y="5741"/>
                  </a:lnTo>
                  <a:lnTo>
                    <a:pt x="3451" y="5776"/>
                  </a:lnTo>
                  <a:lnTo>
                    <a:pt x="3451" y="5810"/>
                  </a:lnTo>
                  <a:lnTo>
                    <a:pt x="3451" y="5843"/>
                  </a:lnTo>
                  <a:lnTo>
                    <a:pt x="3450" y="5874"/>
                  </a:lnTo>
                  <a:lnTo>
                    <a:pt x="3448" y="5902"/>
                  </a:lnTo>
                  <a:lnTo>
                    <a:pt x="3443" y="5928"/>
                  </a:lnTo>
                  <a:lnTo>
                    <a:pt x="3445" y="5941"/>
                  </a:lnTo>
                  <a:lnTo>
                    <a:pt x="3447" y="5953"/>
                  </a:lnTo>
                  <a:lnTo>
                    <a:pt x="3449" y="5967"/>
                  </a:lnTo>
                  <a:lnTo>
                    <a:pt x="3453" y="5982"/>
                  </a:lnTo>
                  <a:lnTo>
                    <a:pt x="3458" y="5998"/>
                  </a:lnTo>
                  <a:lnTo>
                    <a:pt x="3464" y="6014"/>
                  </a:lnTo>
                  <a:lnTo>
                    <a:pt x="3470" y="6030"/>
                  </a:lnTo>
                  <a:lnTo>
                    <a:pt x="3476" y="6047"/>
                  </a:lnTo>
                  <a:lnTo>
                    <a:pt x="3482" y="6063"/>
                  </a:lnTo>
                  <a:lnTo>
                    <a:pt x="3488" y="6079"/>
                  </a:lnTo>
                  <a:lnTo>
                    <a:pt x="3495" y="6095"/>
                  </a:lnTo>
                  <a:lnTo>
                    <a:pt x="3501" y="6111"/>
                  </a:lnTo>
                  <a:lnTo>
                    <a:pt x="3507" y="6126"/>
                  </a:lnTo>
                  <a:lnTo>
                    <a:pt x="3511" y="6140"/>
                  </a:lnTo>
                  <a:lnTo>
                    <a:pt x="3514" y="6152"/>
                  </a:lnTo>
                  <a:lnTo>
                    <a:pt x="3517" y="6165"/>
                  </a:lnTo>
                  <a:lnTo>
                    <a:pt x="3519" y="6178"/>
                  </a:lnTo>
                  <a:lnTo>
                    <a:pt x="3523" y="6191"/>
                  </a:lnTo>
                  <a:lnTo>
                    <a:pt x="3526" y="6206"/>
                  </a:lnTo>
                  <a:lnTo>
                    <a:pt x="3528" y="6221"/>
                  </a:lnTo>
                  <a:lnTo>
                    <a:pt x="3531" y="6236"/>
                  </a:lnTo>
                  <a:lnTo>
                    <a:pt x="3534" y="6252"/>
                  </a:lnTo>
                  <a:lnTo>
                    <a:pt x="3538" y="6269"/>
                  </a:lnTo>
                  <a:lnTo>
                    <a:pt x="3541" y="6285"/>
                  </a:lnTo>
                  <a:lnTo>
                    <a:pt x="3543" y="6301"/>
                  </a:lnTo>
                  <a:lnTo>
                    <a:pt x="3545" y="6317"/>
                  </a:lnTo>
                  <a:lnTo>
                    <a:pt x="3548" y="6333"/>
                  </a:lnTo>
                  <a:lnTo>
                    <a:pt x="3549" y="6349"/>
                  </a:lnTo>
                  <a:lnTo>
                    <a:pt x="3552" y="6364"/>
                  </a:lnTo>
                  <a:lnTo>
                    <a:pt x="3553" y="6378"/>
                  </a:lnTo>
                  <a:lnTo>
                    <a:pt x="3554" y="6391"/>
                  </a:lnTo>
                  <a:lnTo>
                    <a:pt x="3554" y="6404"/>
                  </a:lnTo>
                  <a:lnTo>
                    <a:pt x="3575" y="6436"/>
                  </a:lnTo>
                  <a:lnTo>
                    <a:pt x="3593" y="6471"/>
                  </a:lnTo>
                  <a:lnTo>
                    <a:pt x="3608" y="6510"/>
                  </a:lnTo>
                  <a:lnTo>
                    <a:pt x="3621" y="6551"/>
                  </a:lnTo>
                  <a:lnTo>
                    <a:pt x="3632" y="6594"/>
                  </a:lnTo>
                  <a:lnTo>
                    <a:pt x="3641" y="6640"/>
                  </a:lnTo>
                  <a:lnTo>
                    <a:pt x="3649" y="6686"/>
                  </a:lnTo>
                  <a:lnTo>
                    <a:pt x="3655" y="6734"/>
                  </a:lnTo>
                  <a:lnTo>
                    <a:pt x="3662" y="6781"/>
                  </a:lnTo>
                  <a:lnTo>
                    <a:pt x="3667" y="6830"/>
                  </a:lnTo>
                  <a:lnTo>
                    <a:pt x="3673" y="6877"/>
                  </a:lnTo>
                  <a:lnTo>
                    <a:pt x="3679" y="6923"/>
                  </a:lnTo>
                  <a:lnTo>
                    <a:pt x="3685" y="6967"/>
                  </a:lnTo>
                  <a:lnTo>
                    <a:pt x="3693" y="7010"/>
                  </a:lnTo>
                  <a:lnTo>
                    <a:pt x="3701" y="7050"/>
                  </a:lnTo>
                  <a:lnTo>
                    <a:pt x="3712" y="7087"/>
                  </a:lnTo>
                  <a:lnTo>
                    <a:pt x="3717" y="7099"/>
                  </a:lnTo>
                  <a:lnTo>
                    <a:pt x="3724" y="7112"/>
                  </a:lnTo>
                  <a:lnTo>
                    <a:pt x="3729" y="7124"/>
                  </a:lnTo>
                  <a:lnTo>
                    <a:pt x="3736" y="7138"/>
                  </a:lnTo>
                  <a:lnTo>
                    <a:pt x="3741" y="7151"/>
                  </a:lnTo>
                  <a:lnTo>
                    <a:pt x="3745" y="7165"/>
                  </a:lnTo>
                  <a:lnTo>
                    <a:pt x="3749" y="7181"/>
                  </a:lnTo>
                  <a:lnTo>
                    <a:pt x="3750" y="7199"/>
                  </a:lnTo>
                  <a:lnTo>
                    <a:pt x="3743" y="7208"/>
                  </a:lnTo>
                  <a:lnTo>
                    <a:pt x="3738" y="7221"/>
                  </a:lnTo>
                  <a:lnTo>
                    <a:pt x="3734" y="7235"/>
                  </a:lnTo>
                  <a:lnTo>
                    <a:pt x="3730" y="7250"/>
                  </a:lnTo>
                  <a:lnTo>
                    <a:pt x="3727" y="7266"/>
                  </a:lnTo>
                  <a:lnTo>
                    <a:pt x="3726" y="7284"/>
                  </a:lnTo>
                  <a:lnTo>
                    <a:pt x="3725" y="7301"/>
                  </a:lnTo>
                  <a:lnTo>
                    <a:pt x="3725" y="7320"/>
                  </a:lnTo>
                  <a:lnTo>
                    <a:pt x="3725" y="7339"/>
                  </a:lnTo>
                  <a:lnTo>
                    <a:pt x="3726" y="7358"/>
                  </a:lnTo>
                  <a:lnTo>
                    <a:pt x="3727" y="7376"/>
                  </a:lnTo>
                  <a:lnTo>
                    <a:pt x="3728" y="7393"/>
                  </a:lnTo>
                  <a:lnTo>
                    <a:pt x="3730" y="7410"/>
                  </a:lnTo>
                  <a:lnTo>
                    <a:pt x="3732" y="7426"/>
                  </a:lnTo>
                  <a:lnTo>
                    <a:pt x="3735" y="7440"/>
                  </a:lnTo>
                  <a:lnTo>
                    <a:pt x="3737" y="7453"/>
                  </a:lnTo>
                  <a:lnTo>
                    <a:pt x="3742" y="7484"/>
                  </a:lnTo>
                  <a:lnTo>
                    <a:pt x="3747" y="7515"/>
                  </a:lnTo>
                  <a:lnTo>
                    <a:pt x="3751" y="7546"/>
                  </a:lnTo>
                  <a:lnTo>
                    <a:pt x="3755" y="7577"/>
                  </a:lnTo>
                  <a:lnTo>
                    <a:pt x="3757" y="7608"/>
                  </a:lnTo>
                  <a:lnTo>
                    <a:pt x="3760" y="7639"/>
                  </a:lnTo>
                  <a:lnTo>
                    <a:pt x="3761" y="7670"/>
                  </a:lnTo>
                  <a:lnTo>
                    <a:pt x="3762" y="7701"/>
                  </a:lnTo>
                  <a:lnTo>
                    <a:pt x="3763" y="7731"/>
                  </a:lnTo>
                  <a:lnTo>
                    <a:pt x="3765" y="7762"/>
                  </a:lnTo>
                  <a:lnTo>
                    <a:pt x="3765" y="7793"/>
                  </a:lnTo>
                  <a:lnTo>
                    <a:pt x="3763" y="7823"/>
                  </a:lnTo>
                  <a:lnTo>
                    <a:pt x="3763" y="7854"/>
                  </a:lnTo>
                  <a:lnTo>
                    <a:pt x="3762" y="7884"/>
                  </a:lnTo>
                  <a:lnTo>
                    <a:pt x="3761" y="7915"/>
                  </a:lnTo>
                  <a:lnTo>
                    <a:pt x="3760" y="7945"/>
                  </a:lnTo>
                  <a:lnTo>
                    <a:pt x="3758" y="7976"/>
                  </a:lnTo>
                  <a:lnTo>
                    <a:pt x="3757" y="8007"/>
                  </a:lnTo>
                  <a:lnTo>
                    <a:pt x="3755" y="8037"/>
                  </a:lnTo>
                  <a:lnTo>
                    <a:pt x="3753" y="8068"/>
                  </a:lnTo>
                  <a:lnTo>
                    <a:pt x="3751" y="8098"/>
                  </a:lnTo>
                  <a:lnTo>
                    <a:pt x="3750" y="8129"/>
                  </a:lnTo>
                  <a:lnTo>
                    <a:pt x="3747" y="8160"/>
                  </a:lnTo>
                  <a:lnTo>
                    <a:pt x="3745" y="8190"/>
                  </a:lnTo>
                  <a:lnTo>
                    <a:pt x="3744" y="8221"/>
                  </a:lnTo>
                  <a:lnTo>
                    <a:pt x="3742" y="8252"/>
                  </a:lnTo>
                  <a:lnTo>
                    <a:pt x="3741" y="8283"/>
                  </a:lnTo>
                  <a:lnTo>
                    <a:pt x="3739" y="8314"/>
                  </a:lnTo>
                  <a:lnTo>
                    <a:pt x="3738" y="8345"/>
                  </a:lnTo>
                  <a:lnTo>
                    <a:pt x="3738" y="8376"/>
                  </a:lnTo>
                  <a:lnTo>
                    <a:pt x="3737" y="8407"/>
                  </a:lnTo>
                  <a:lnTo>
                    <a:pt x="3737" y="8438"/>
                  </a:lnTo>
                  <a:lnTo>
                    <a:pt x="3738" y="8445"/>
                  </a:lnTo>
                  <a:lnTo>
                    <a:pt x="3742" y="8452"/>
                  </a:lnTo>
                  <a:lnTo>
                    <a:pt x="3747" y="8459"/>
                  </a:lnTo>
                  <a:lnTo>
                    <a:pt x="3755" y="8466"/>
                  </a:lnTo>
                  <a:lnTo>
                    <a:pt x="3763" y="8474"/>
                  </a:lnTo>
                  <a:lnTo>
                    <a:pt x="3773" y="8481"/>
                  </a:lnTo>
                  <a:lnTo>
                    <a:pt x="3783" y="8491"/>
                  </a:lnTo>
                  <a:lnTo>
                    <a:pt x="3792" y="8501"/>
                  </a:lnTo>
                  <a:lnTo>
                    <a:pt x="3803" y="8513"/>
                  </a:lnTo>
                  <a:lnTo>
                    <a:pt x="3812" y="8526"/>
                  </a:lnTo>
                  <a:lnTo>
                    <a:pt x="3820" y="8541"/>
                  </a:lnTo>
                  <a:lnTo>
                    <a:pt x="3828" y="8557"/>
                  </a:lnTo>
                  <a:lnTo>
                    <a:pt x="3833" y="8576"/>
                  </a:lnTo>
                  <a:lnTo>
                    <a:pt x="3836" y="8597"/>
                  </a:lnTo>
                  <a:lnTo>
                    <a:pt x="3837" y="8620"/>
                  </a:lnTo>
                  <a:lnTo>
                    <a:pt x="3835" y="8646"/>
                  </a:lnTo>
                  <a:lnTo>
                    <a:pt x="3828" y="8654"/>
                  </a:lnTo>
                  <a:lnTo>
                    <a:pt x="3815" y="8667"/>
                  </a:lnTo>
                  <a:lnTo>
                    <a:pt x="3799" y="8684"/>
                  </a:lnTo>
                  <a:lnTo>
                    <a:pt x="3782" y="8702"/>
                  </a:lnTo>
                  <a:lnTo>
                    <a:pt x="3765" y="8723"/>
                  </a:lnTo>
                  <a:lnTo>
                    <a:pt x="3751" y="8741"/>
                  </a:lnTo>
                  <a:lnTo>
                    <a:pt x="3740" y="8758"/>
                  </a:lnTo>
                  <a:lnTo>
                    <a:pt x="3737" y="8772"/>
                  </a:lnTo>
                  <a:lnTo>
                    <a:pt x="3715" y="8755"/>
                  </a:lnTo>
                  <a:lnTo>
                    <a:pt x="3694" y="8740"/>
                  </a:lnTo>
                  <a:lnTo>
                    <a:pt x="3673" y="8727"/>
                  </a:lnTo>
                  <a:lnTo>
                    <a:pt x="3651" y="8717"/>
                  </a:lnTo>
                  <a:lnTo>
                    <a:pt x="3631" y="8710"/>
                  </a:lnTo>
                  <a:lnTo>
                    <a:pt x="3609" y="8705"/>
                  </a:lnTo>
                  <a:lnTo>
                    <a:pt x="3589" y="8702"/>
                  </a:lnTo>
                  <a:lnTo>
                    <a:pt x="3569" y="8701"/>
                  </a:lnTo>
                  <a:lnTo>
                    <a:pt x="3547" y="8702"/>
                  </a:lnTo>
                  <a:lnTo>
                    <a:pt x="3526" y="8706"/>
                  </a:lnTo>
                  <a:lnTo>
                    <a:pt x="3506" y="8711"/>
                  </a:lnTo>
                  <a:lnTo>
                    <a:pt x="3484" y="8718"/>
                  </a:lnTo>
                  <a:lnTo>
                    <a:pt x="3462" y="8727"/>
                  </a:lnTo>
                  <a:lnTo>
                    <a:pt x="3440" y="8737"/>
                  </a:lnTo>
                  <a:lnTo>
                    <a:pt x="3418" y="8749"/>
                  </a:lnTo>
                  <a:lnTo>
                    <a:pt x="3394" y="8762"/>
                  </a:lnTo>
                  <a:lnTo>
                    <a:pt x="3373" y="8786"/>
                  </a:lnTo>
                  <a:lnTo>
                    <a:pt x="3351" y="8812"/>
                  </a:lnTo>
                  <a:lnTo>
                    <a:pt x="3331" y="8838"/>
                  </a:lnTo>
                  <a:lnTo>
                    <a:pt x="3310" y="8866"/>
                  </a:lnTo>
                  <a:lnTo>
                    <a:pt x="3288" y="8895"/>
                  </a:lnTo>
                  <a:lnTo>
                    <a:pt x="3267" y="8924"/>
                  </a:lnTo>
                  <a:lnTo>
                    <a:pt x="3246" y="8953"/>
                  </a:lnTo>
                  <a:lnTo>
                    <a:pt x="3225" y="8981"/>
                  </a:lnTo>
                  <a:lnTo>
                    <a:pt x="3204" y="9007"/>
                  </a:lnTo>
                  <a:lnTo>
                    <a:pt x="3182" y="9032"/>
                  </a:lnTo>
                  <a:lnTo>
                    <a:pt x="3162" y="9054"/>
                  </a:lnTo>
                  <a:lnTo>
                    <a:pt x="3141" y="9075"/>
                  </a:lnTo>
                  <a:lnTo>
                    <a:pt x="3119" y="9093"/>
                  </a:lnTo>
                  <a:lnTo>
                    <a:pt x="3098" y="9107"/>
                  </a:lnTo>
                  <a:lnTo>
                    <a:pt x="3076" y="9116"/>
                  </a:lnTo>
                  <a:lnTo>
                    <a:pt x="3055" y="9123"/>
                  </a:lnTo>
                  <a:lnTo>
                    <a:pt x="3045" y="9129"/>
                  </a:lnTo>
                  <a:lnTo>
                    <a:pt x="3037" y="9131"/>
                  </a:lnTo>
                  <a:lnTo>
                    <a:pt x="3028" y="9130"/>
                  </a:lnTo>
                  <a:lnTo>
                    <a:pt x="3022" y="9125"/>
                  </a:lnTo>
                  <a:lnTo>
                    <a:pt x="3015" y="9117"/>
                  </a:lnTo>
                  <a:lnTo>
                    <a:pt x="3009" y="9107"/>
                  </a:lnTo>
                  <a:lnTo>
                    <a:pt x="3004" y="9095"/>
                  </a:lnTo>
                  <a:lnTo>
                    <a:pt x="2999" y="9081"/>
                  </a:lnTo>
                  <a:lnTo>
                    <a:pt x="2995" y="9067"/>
                  </a:lnTo>
                  <a:lnTo>
                    <a:pt x="2991" y="9052"/>
                  </a:lnTo>
                  <a:lnTo>
                    <a:pt x="2987" y="9037"/>
                  </a:lnTo>
                  <a:lnTo>
                    <a:pt x="2984" y="9023"/>
                  </a:lnTo>
                  <a:lnTo>
                    <a:pt x="2981" y="9009"/>
                  </a:lnTo>
                  <a:lnTo>
                    <a:pt x="2979" y="8998"/>
                  </a:lnTo>
                  <a:lnTo>
                    <a:pt x="2976" y="8988"/>
                  </a:lnTo>
                  <a:lnTo>
                    <a:pt x="2974" y="8981"/>
                  </a:lnTo>
                  <a:lnTo>
                    <a:pt x="2967" y="8959"/>
                  </a:lnTo>
                  <a:lnTo>
                    <a:pt x="2962" y="8936"/>
                  </a:lnTo>
                  <a:lnTo>
                    <a:pt x="2957" y="8912"/>
                  </a:lnTo>
                  <a:lnTo>
                    <a:pt x="2953" y="8886"/>
                  </a:lnTo>
                  <a:lnTo>
                    <a:pt x="2950" y="8861"/>
                  </a:lnTo>
                  <a:lnTo>
                    <a:pt x="2947" y="8835"/>
                  </a:lnTo>
                  <a:lnTo>
                    <a:pt x="2944" y="8808"/>
                  </a:lnTo>
                  <a:lnTo>
                    <a:pt x="2940" y="8781"/>
                  </a:lnTo>
                  <a:lnTo>
                    <a:pt x="2938" y="8754"/>
                  </a:lnTo>
                  <a:lnTo>
                    <a:pt x="2935" y="8727"/>
                  </a:lnTo>
                  <a:lnTo>
                    <a:pt x="2932" y="8701"/>
                  </a:lnTo>
                  <a:lnTo>
                    <a:pt x="2929" y="8676"/>
                  </a:lnTo>
                  <a:lnTo>
                    <a:pt x="2924" y="8650"/>
                  </a:lnTo>
                  <a:lnTo>
                    <a:pt x="2919" y="8626"/>
                  </a:lnTo>
                  <a:lnTo>
                    <a:pt x="2914" y="8603"/>
                  </a:lnTo>
                  <a:lnTo>
                    <a:pt x="2907" y="8582"/>
                  </a:lnTo>
                  <a:lnTo>
                    <a:pt x="2898" y="8555"/>
                  </a:lnTo>
                  <a:lnTo>
                    <a:pt x="2888" y="8528"/>
                  </a:lnTo>
                  <a:lnTo>
                    <a:pt x="2877" y="8501"/>
                  </a:lnTo>
                  <a:lnTo>
                    <a:pt x="2867" y="8474"/>
                  </a:lnTo>
                  <a:lnTo>
                    <a:pt x="2856" y="8447"/>
                  </a:lnTo>
                  <a:lnTo>
                    <a:pt x="2846" y="8420"/>
                  </a:lnTo>
                  <a:lnTo>
                    <a:pt x="2835" y="8392"/>
                  </a:lnTo>
                  <a:lnTo>
                    <a:pt x="2825" y="8365"/>
                  </a:lnTo>
                  <a:lnTo>
                    <a:pt x="2814" y="8338"/>
                  </a:lnTo>
                  <a:lnTo>
                    <a:pt x="2804" y="8310"/>
                  </a:lnTo>
                  <a:lnTo>
                    <a:pt x="2796" y="8282"/>
                  </a:lnTo>
                  <a:lnTo>
                    <a:pt x="2787" y="8253"/>
                  </a:lnTo>
                  <a:lnTo>
                    <a:pt x="2779" y="8224"/>
                  </a:lnTo>
                  <a:lnTo>
                    <a:pt x="2772" y="8195"/>
                  </a:lnTo>
                  <a:lnTo>
                    <a:pt x="2766" y="8167"/>
                  </a:lnTo>
                  <a:lnTo>
                    <a:pt x="2761" y="8137"/>
                  </a:lnTo>
                  <a:lnTo>
                    <a:pt x="2755" y="8106"/>
                  </a:lnTo>
                  <a:lnTo>
                    <a:pt x="2750" y="8075"/>
                  </a:lnTo>
                  <a:lnTo>
                    <a:pt x="2744" y="8041"/>
                  </a:lnTo>
                  <a:lnTo>
                    <a:pt x="2737" y="8007"/>
                  </a:lnTo>
                  <a:lnTo>
                    <a:pt x="2731" y="7973"/>
                  </a:lnTo>
                  <a:lnTo>
                    <a:pt x="2723" y="7938"/>
                  </a:lnTo>
                  <a:lnTo>
                    <a:pt x="2717" y="7902"/>
                  </a:lnTo>
                  <a:lnTo>
                    <a:pt x="2709" y="7866"/>
                  </a:lnTo>
                  <a:lnTo>
                    <a:pt x="2703" y="7831"/>
                  </a:lnTo>
                  <a:lnTo>
                    <a:pt x="2696" y="7795"/>
                  </a:lnTo>
                  <a:lnTo>
                    <a:pt x="2691" y="7760"/>
                  </a:lnTo>
                  <a:lnTo>
                    <a:pt x="2686" y="7725"/>
                  </a:lnTo>
                  <a:lnTo>
                    <a:pt x="2681" y="7692"/>
                  </a:lnTo>
                  <a:lnTo>
                    <a:pt x="2678" y="7658"/>
                  </a:lnTo>
                  <a:lnTo>
                    <a:pt x="2677" y="7626"/>
                  </a:lnTo>
                  <a:lnTo>
                    <a:pt x="2676" y="7596"/>
                  </a:lnTo>
                  <a:lnTo>
                    <a:pt x="2651" y="7564"/>
                  </a:lnTo>
                  <a:lnTo>
                    <a:pt x="2644" y="7541"/>
                  </a:lnTo>
                  <a:lnTo>
                    <a:pt x="2636" y="7516"/>
                  </a:lnTo>
                  <a:lnTo>
                    <a:pt x="2629" y="7492"/>
                  </a:lnTo>
                  <a:lnTo>
                    <a:pt x="2622" y="7466"/>
                  </a:lnTo>
                  <a:lnTo>
                    <a:pt x="2616" y="7441"/>
                  </a:lnTo>
                  <a:lnTo>
                    <a:pt x="2610" y="7416"/>
                  </a:lnTo>
                  <a:lnTo>
                    <a:pt x="2604" y="7390"/>
                  </a:lnTo>
                  <a:lnTo>
                    <a:pt x="2599" y="7363"/>
                  </a:lnTo>
                  <a:lnTo>
                    <a:pt x="2594" y="7338"/>
                  </a:lnTo>
                  <a:lnTo>
                    <a:pt x="2588" y="7311"/>
                  </a:lnTo>
                  <a:lnTo>
                    <a:pt x="2584" y="7284"/>
                  </a:lnTo>
                  <a:lnTo>
                    <a:pt x="2579" y="7258"/>
                  </a:lnTo>
                  <a:lnTo>
                    <a:pt x="2574" y="7232"/>
                  </a:lnTo>
                  <a:lnTo>
                    <a:pt x="2570" y="7205"/>
                  </a:lnTo>
                  <a:lnTo>
                    <a:pt x="2566" y="7178"/>
                  </a:lnTo>
                  <a:lnTo>
                    <a:pt x="2561" y="7150"/>
                  </a:lnTo>
                  <a:lnTo>
                    <a:pt x="2556" y="7124"/>
                  </a:lnTo>
                  <a:lnTo>
                    <a:pt x="2552" y="7097"/>
                  </a:lnTo>
                  <a:lnTo>
                    <a:pt x="2548" y="7070"/>
                  </a:lnTo>
                  <a:lnTo>
                    <a:pt x="2543" y="7043"/>
                  </a:lnTo>
                  <a:lnTo>
                    <a:pt x="2539" y="7018"/>
                  </a:lnTo>
                  <a:lnTo>
                    <a:pt x="2535" y="6991"/>
                  </a:lnTo>
                  <a:lnTo>
                    <a:pt x="2530" y="6964"/>
                  </a:lnTo>
                  <a:lnTo>
                    <a:pt x="2525" y="6939"/>
                  </a:lnTo>
                  <a:lnTo>
                    <a:pt x="2521" y="6912"/>
                  </a:lnTo>
                  <a:lnTo>
                    <a:pt x="2515" y="6886"/>
                  </a:lnTo>
                  <a:lnTo>
                    <a:pt x="2510" y="6861"/>
                  </a:lnTo>
                  <a:lnTo>
                    <a:pt x="2505" y="6836"/>
                  </a:lnTo>
                  <a:lnTo>
                    <a:pt x="2499" y="6810"/>
                  </a:lnTo>
                  <a:lnTo>
                    <a:pt x="2493" y="6786"/>
                  </a:lnTo>
                  <a:lnTo>
                    <a:pt x="2487" y="6761"/>
                  </a:lnTo>
                  <a:lnTo>
                    <a:pt x="2480" y="6738"/>
                  </a:lnTo>
                  <a:lnTo>
                    <a:pt x="2468" y="6698"/>
                  </a:lnTo>
                  <a:lnTo>
                    <a:pt x="2458" y="6658"/>
                  </a:lnTo>
                  <a:lnTo>
                    <a:pt x="2446" y="6619"/>
                  </a:lnTo>
                  <a:lnTo>
                    <a:pt x="2435" y="6577"/>
                  </a:lnTo>
                  <a:lnTo>
                    <a:pt x="2423" y="6536"/>
                  </a:lnTo>
                  <a:lnTo>
                    <a:pt x="2413" y="6495"/>
                  </a:lnTo>
                  <a:lnTo>
                    <a:pt x="2402" y="6452"/>
                  </a:lnTo>
                  <a:lnTo>
                    <a:pt x="2391" y="6410"/>
                  </a:lnTo>
                  <a:lnTo>
                    <a:pt x="2382" y="6367"/>
                  </a:lnTo>
                  <a:lnTo>
                    <a:pt x="2371" y="6325"/>
                  </a:lnTo>
                  <a:lnTo>
                    <a:pt x="2362" y="6282"/>
                  </a:lnTo>
                  <a:lnTo>
                    <a:pt x="2353" y="6239"/>
                  </a:lnTo>
                  <a:lnTo>
                    <a:pt x="2344" y="6196"/>
                  </a:lnTo>
                  <a:lnTo>
                    <a:pt x="2336" y="6155"/>
                  </a:lnTo>
                  <a:lnTo>
                    <a:pt x="2328" y="6112"/>
                  </a:lnTo>
                  <a:lnTo>
                    <a:pt x="2321" y="6070"/>
                  </a:lnTo>
                  <a:lnTo>
                    <a:pt x="2320" y="6097"/>
                  </a:lnTo>
                  <a:lnTo>
                    <a:pt x="2318" y="6122"/>
                  </a:lnTo>
                  <a:lnTo>
                    <a:pt x="2315" y="6148"/>
                  </a:lnTo>
                  <a:lnTo>
                    <a:pt x="2311" y="6173"/>
                  </a:lnTo>
                  <a:lnTo>
                    <a:pt x="2306" y="6196"/>
                  </a:lnTo>
                  <a:lnTo>
                    <a:pt x="2300" y="6220"/>
                  </a:lnTo>
                  <a:lnTo>
                    <a:pt x="2294" y="6243"/>
                  </a:lnTo>
                  <a:lnTo>
                    <a:pt x="2287" y="6267"/>
                  </a:lnTo>
                  <a:lnTo>
                    <a:pt x="2280" y="6290"/>
                  </a:lnTo>
                  <a:lnTo>
                    <a:pt x="2274" y="6313"/>
                  </a:lnTo>
                  <a:lnTo>
                    <a:pt x="2266" y="6335"/>
                  </a:lnTo>
                  <a:lnTo>
                    <a:pt x="2260" y="6359"/>
                  </a:lnTo>
                  <a:lnTo>
                    <a:pt x="2252" y="6381"/>
                  </a:lnTo>
                  <a:lnTo>
                    <a:pt x="2247" y="6405"/>
                  </a:lnTo>
                  <a:lnTo>
                    <a:pt x="2241" y="6428"/>
                  </a:lnTo>
                  <a:lnTo>
                    <a:pt x="2236" y="6452"/>
                  </a:lnTo>
                  <a:lnTo>
                    <a:pt x="2232" y="6479"/>
                  </a:lnTo>
                  <a:lnTo>
                    <a:pt x="2230" y="6506"/>
                  </a:lnTo>
                  <a:lnTo>
                    <a:pt x="2227" y="6533"/>
                  </a:lnTo>
                  <a:lnTo>
                    <a:pt x="2226" y="6561"/>
                  </a:lnTo>
                  <a:lnTo>
                    <a:pt x="2225" y="6589"/>
                  </a:lnTo>
                  <a:lnTo>
                    <a:pt x="2224" y="6617"/>
                  </a:lnTo>
                  <a:lnTo>
                    <a:pt x="2223" y="6643"/>
                  </a:lnTo>
                  <a:lnTo>
                    <a:pt x="2222" y="6670"/>
                  </a:lnTo>
                  <a:lnTo>
                    <a:pt x="2220" y="6697"/>
                  </a:lnTo>
                  <a:lnTo>
                    <a:pt x="2217" y="6723"/>
                  </a:lnTo>
                  <a:lnTo>
                    <a:pt x="2213" y="6748"/>
                  </a:lnTo>
                  <a:lnTo>
                    <a:pt x="2206" y="6774"/>
                  </a:lnTo>
                  <a:lnTo>
                    <a:pt x="2199" y="6797"/>
                  </a:lnTo>
                  <a:lnTo>
                    <a:pt x="2189" y="6821"/>
                  </a:lnTo>
                  <a:lnTo>
                    <a:pt x="2177" y="6843"/>
                  </a:lnTo>
                  <a:lnTo>
                    <a:pt x="2162" y="6865"/>
                  </a:lnTo>
                  <a:lnTo>
                    <a:pt x="2163" y="6878"/>
                  </a:lnTo>
                  <a:lnTo>
                    <a:pt x="2166" y="6894"/>
                  </a:lnTo>
                  <a:lnTo>
                    <a:pt x="2171" y="6911"/>
                  </a:lnTo>
                  <a:lnTo>
                    <a:pt x="2176" y="6928"/>
                  </a:lnTo>
                  <a:lnTo>
                    <a:pt x="2183" y="6946"/>
                  </a:lnTo>
                  <a:lnTo>
                    <a:pt x="2188" y="6963"/>
                  </a:lnTo>
                  <a:lnTo>
                    <a:pt x="2194" y="6979"/>
                  </a:lnTo>
                  <a:lnTo>
                    <a:pt x="2200" y="6992"/>
                  </a:lnTo>
                  <a:lnTo>
                    <a:pt x="2193" y="7034"/>
                  </a:lnTo>
                  <a:lnTo>
                    <a:pt x="2189" y="7077"/>
                  </a:lnTo>
                  <a:lnTo>
                    <a:pt x="2186" y="7118"/>
                  </a:lnTo>
                  <a:lnTo>
                    <a:pt x="2185" y="7161"/>
                  </a:lnTo>
                  <a:lnTo>
                    <a:pt x="2186" y="7204"/>
                  </a:lnTo>
                  <a:lnTo>
                    <a:pt x="2187" y="7246"/>
                  </a:lnTo>
                  <a:lnTo>
                    <a:pt x="2190" y="7288"/>
                  </a:lnTo>
                  <a:lnTo>
                    <a:pt x="2194" y="7330"/>
                  </a:lnTo>
                  <a:lnTo>
                    <a:pt x="2201" y="7372"/>
                  </a:lnTo>
                  <a:lnTo>
                    <a:pt x="2207" y="7412"/>
                  </a:lnTo>
                  <a:lnTo>
                    <a:pt x="2216" y="7453"/>
                  </a:lnTo>
                  <a:lnTo>
                    <a:pt x="2225" y="7493"/>
                  </a:lnTo>
                  <a:lnTo>
                    <a:pt x="2235" y="7532"/>
                  </a:lnTo>
                  <a:lnTo>
                    <a:pt x="2247" y="7570"/>
                  </a:lnTo>
                  <a:lnTo>
                    <a:pt x="2260" y="7607"/>
                  </a:lnTo>
                  <a:lnTo>
                    <a:pt x="2272" y="7643"/>
                  </a:lnTo>
                  <a:lnTo>
                    <a:pt x="2268" y="7662"/>
                  </a:lnTo>
                  <a:lnTo>
                    <a:pt x="2263" y="7680"/>
                  </a:lnTo>
                  <a:lnTo>
                    <a:pt x="2259" y="7698"/>
                  </a:lnTo>
                  <a:lnTo>
                    <a:pt x="2255" y="7717"/>
                  </a:lnTo>
                  <a:lnTo>
                    <a:pt x="2252" y="7738"/>
                  </a:lnTo>
                  <a:lnTo>
                    <a:pt x="2250" y="7758"/>
                  </a:lnTo>
                  <a:lnTo>
                    <a:pt x="2248" y="7780"/>
                  </a:lnTo>
                  <a:lnTo>
                    <a:pt x="2248" y="7803"/>
                  </a:lnTo>
                  <a:lnTo>
                    <a:pt x="2254" y="7812"/>
                  </a:lnTo>
                  <a:lnTo>
                    <a:pt x="2261" y="7823"/>
                  </a:lnTo>
                  <a:lnTo>
                    <a:pt x="2266" y="7834"/>
                  </a:lnTo>
                  <a:lnTo>
                    <a:pt x="2271" y="7847"/>
                  </a:lnTo>
                  <a:lnTo>
                    <a:pt x="2276" y="7858"/>
                  </a:lnTo>
                  <a:lnTo>
                    <a:pt x="2280" y="7871"/>
                  </a:lnTo>
                  <a:lnTo>
                    <a:pt x="2284" y="7885"/>
                  </a:lnTo>
                  <a:lnTo>
                    <a:pt x="2287" y="7898"/>
                  </a:lnTo>
                  <a:lnTo>
                    <a:pt x="2291" y="7912"/>
                  </a:lnTo>
                  <a:lnTo>
                    <a:pt x="2294" y="7925"/>
                  </a:lnTo>
                  <a:lnTo>
                    <a:pt x="2297" y="7938"/>
                  </a:lnTo>
                  <a:lnTo>
                    <a:pt x="2299" y="7950"/>
                  </a:lnTo>
                  <a:lnTo>
                    <a:pt x="2302" y="7962"/>
                  </a:lnTo>
                  <a:lnTo>
                    <a:pt x="2305" y="7974"/>
                  </a:lnTo>
                  <a:lnTo>
                    <a:pt x="2307" y="7984"/>
                  </a:lnTo>
                  <a:lnTo>
                    <a:pt x="2309" y="7993"/>
                  </a:lnTo>
                  <a:lnTo>
                    <a:pt x="2323" y="8029"/>
                  </a:lnTo>
                  <a:lnTo>
                    <a:pt x="2340" y="8064"/>
                  </a:lnTo>
                  <a:lnTo>
                    <a:pt x="2359" y="8098"/>
                  </a:lnTo>
                  <a:lnTo>
                    <a:pt x="2383" y="8132"/>
                  </a:lnTo>
                  <a:lnTo>
                    <a:pt x="2406" y="8167"/>
                  </a:lnTo>
                  <a:lnTo>
                    <a:pt x="2432" y="8201"/>
                  </a:lnTo>
                  <a:lnTo>
                    <a:pt x="2459" y="8235"/>
                  </a:lnTo>
                  <a:lnTo>
                    <a:pt x="2484" y="8269"/>
                  </a:lnTo>
                  <a:lnTo>
                    <a:pt x="2509" y="8306"/>
                  </a:lnTo>
                  <a:lnTo>
                    <a:pt x="2534" y="8341"/>
                  </a:lnTo>
                  <a:lnTo>
                    <a:pt x="2555" y="8378"/>
                  </a:lnTo>
                  <a:lnTo>
                    <a:pt x="2574" y="8416"/>
                  </a:lnTo>
                  <a:lnTo>
                    <a:pt x="2591" y="8455"/>
                  </a:lnTo>
                  <a:lnTo>
                    <a:pt x="2603" y="8496"/>
                  </a:lnTo>
                  <a:lnTo>
                    <a:pt x="2611" y="8538"/>
                  </a:lnTo>
                  <a:lnTo>
                    <a:pt x="2614" y="8582"/>
                  </a:lnTo>
                  <a:lnTo>
                    <a:pt x="2619" y="8589"/>
                  </a:lnTo>
                  <a:lnTo>
                    <a:pt x="2627" y="8599"/>
                  </a:lnTo>
                  <a:lnTo>
                    <a:pt x="2635" y="8610"/>
                  </a:lnTo>
                  <a:lnTo>
                    <a:pt x="2644" y="8623"/>
                  </a:lnTo>
                  <a:lnTo>
                    <a:pt x="2651" y="8637"/>
                  </a:lnTo>
                  <a:lnTo>
                    <a:pt x="2658" y="8651"/>
                  </a:lnTo>
                  <a:lnTo>
                    <a:pt x="2662" y="8664"/>
                  </a:lnTo>
                  <a:lnTo>
                    <a:pt x="2663" y="8677"/>
                  </a:lnTo>
                  <a:lnTo>
                    <a:pt x="2640" y="8691"/>
                  </a:lnTo>
                  <a:lnTo>
                    <a:pt x="2617" y="8708"/>
                  </a:lnTo>
                  <a:lnTo>
                    <a:pt x="2595" y="8727"/>
                  </a:lnTo>
                  <a:lnTo>
                    <a:pt x="2573" y="8747"/>
                  </a:lnTo>
                  <a:lnTo>
                    <a:pt x="2553" y="8768"/>
                  </a:lnTo>
                  <a:lnTo>
                    <a:pt x="2535" y="8787"/>
                  </a:lnTo>
                  <a:lnTo>
                    <a:pt x="2520" y="8805"/>
                  </a:lnTo>
                  <a:lnTo>
                    <a:pt x="2506" y="8820"/>
                  </a:lnTo>
                  <a:lnTo>
                    <a:pt x="2495" y="8832"/>
                  </a:lnTo>
                  <a:lnTo>
                    <a:pt x="2485" y="8840"/>
                  </a:lnTo>
                  <a:lnTo>
                    <a:pt x="2476" y="8847"/>
                  </a:lnTo>
                  <a:lnTo>
                    <a:pt x="2466" y="8850"/>
                  </a:lnTo>
                  <a:lnTo>
                    <a:pt x="2455" y="8852"/>
                  </a:lnTo>
                  <a:lnTo>
                    <a:pt x="2443" y="8853"/>
                  </a:lnTo>
                  <a:lnTo>
                    <a:pt x="2427" y="8852"/>
                  </a:lnTo>
                  <a:lnTo>
                    <a:pt x="2406" y="8852"/>
                  </a:lnTo>
                  <a:lnTo>
                    <a:pt x="2407" y="8864"/>
                  </a:lnTo>
                  <a:lnTo>
                    <a:pt x="2408" y="8876"/>
                  </a:lnTo>
                  <a:lnTo>
                    <a:pt x="2411" y="8887"/>
                  </a:lnTo>
                  <a:lnTo>
                    <a:pt x="2414" y="8899"/>
                  </a:lnTo>
                  <a:lnTo>
                    <a:pt x="2418" y="8912"/>
                  </a:lnTo>
                  <a:lnTo>
                    <a:pt x="2422" y="8924"/>
                  </a:lnTo>
                  <a:lnTo>
                    <a:pt x="2427" y="8936"/>
                  </a:lnTo>
                  <a:lnTo>
                    <a:pt x="2431" y="8947"/>
                  </a:lnTo>
                  <a:lnTo>
                    <a:pt x="2435" y="8959"/>
                  </a:lnTo>
                  <a:lnTo>
                    <a:pt x="2439" y="8971"/>
                  </a:lnTo>
                  <a:lnTo>
                    <a:pt x="2444" y="8983"/>
                  </a:lnTo>
                  <a:lnTo>
                    <a:pt x="2448" y="8995"/>
                  </a:lnTo>
                  <a:lnTo>
                    <a:pt x="2451" y="9007"/>
                  </a:lnTo>
                  <a:lnTo>
                    <a:pt x="2453" y="9019"/>
                  </a:lnTo>
                  <a:lnTo>
                    <a:pt x="2454" y="9031"/>
                  </a:lnTo>
                  <a:lnTo>
                    <a:pt x="2455" y="9043"/>
                  </a:lnTo>
                  <a:lnTo>
                    <a:pt x="2455" y="9049"/>
                  </a:lnTo>
                  <a:lnTo>
                    <a:pt x="2454" y="9054"/>
                  </a:lnTo>
                  <a:lnTo>
                    <a:pt x="2453" y="9060"/>
                  </a:lnTo>
                  <a:lnTo>
                    <a:pt x="2451" y="9064"/>
                  </a:lnTo>
                  <a:lnTo>
                    <a:pt x="2448" y="9068"/>
                  </a:lnTo>
                  <a:lnTo>
                    <a:pt x="2444" y="9071"/>
                  </a:lnTo>
                  <a:lnTo>
                    <a:pt x="2438" y="9074"/>
                  </a:lnTo>
                  <a:lnTo>
                    <a:pt x="2431" y="9075"/>
                  </a:lnTo>
                  <a:lnTo>
                    <a:pt x="2433" y="9081"/>
                  </a:lnTo>
                  <a:lnTo>
                    <a:pt x="2435" y="9089"/>
                  </a:lnTo>
                  <a:lnTo>
                    <a:pt x="2436" y="9096"/>
                  </a:lnTo>
                  <a:lnTo>
                    <a:pt x="2437" y="9105"/>
                  </a:lnTo>
                  <a:lnTo>
                    <a:pt x="2437" y="9113"/>
                  </a:lnTo>
                  <a:lnTo>
                    <a:pt x="2436" y="9122"/>
                  </a:lnTo>
                  <a:lnTo>
                    <a:pt x="2434" y="9129"/>
                  </a:lnTo>
                  <a:lnTo>
                    <a:pt x="2431" y="9138"/>
                  </a:lnTo>
                  <a:lnTo>
                    <a:pt x="2406" y="9170"/>
                  </a:lnTo>
                  <a:lnTo>
                    <a:pt x="2358" y="9170"/>
                  </a:lnTo>
                  <a:lnTo>
                    <a:pt x="2330" y="9175"/>
                  </a:lnTo>
                  <a:lnTo>
                    <a:pt x="2302" y="9179"/>
                  </a:lnTo>
                  <a:lnTo>
                    <a:pt x="2274" y="9182"/>
                  </a:lnTo>
                  <a:lnTo>
                    <a:pt x="2245" y="9184"/>
                  </a:lnTo>
                  <a:lnTo>
                    <a:pt x="2216" y="9184"/>
                  </a:lnTo>
                  <a:lnTo>
                    <a:pt x="2186" y="9184"/>
                  </a:lnTo>
                  <a:lnTo>
                    <a:pt x="2157" y="9183"/>
                  </a:lnTo>
                  <a:lnTo>
                    <a:pt x="2128" y="9182"/>
                  </a:lnTo>
                  <a:lnTo>
                    <a:pt x="2098" y="9181"/>
                  </a:lnTo>
                  <a:lnTo>
                    <a:pt x="2069" y="9178"/>
                  </a:lnTo>
                  <a:lnTo>
                    <a:pt x="2041" y="9176"/>
                  </a:lnTo>
                  <a:lnTo>
                    <a:pt x="2012" y="9174"/>
                  </a:lnTo>
                  <a:lnTo>
                    <a:pt x="1986" y="9173"/>
                  </a:lnTo>
                  <a:lnTo>
                    <a:pt x="1958" y="9171"/>
                  </a:lnTo>
                  <a:lnTo>
                    <a:pt x="1932" y="9170"/>
                  </a:lnTo>
                  <a:lnTo>
                    <a:pt x="1906" y="9170"/>
                  </a:lnTo>
                  <a:lnTo>
                    <a:pt x="1898" y="9161"/>
                  </a:lnTo>
                  <a:lnTo>
                    <a:pt x="1892" y="9152"/>
                  </a:lnTo>
                  <a:lnTo>
                    <a:pt x="1889" y="9140"/>
                  </a:lnTo>
                  <a:lnTo>
                    <a:pt x="1888" y="9127"/>
                  </a:lnTo>
                  <a:lnTo>
                    <a:pt x="1888" y="9114"/>
                  </a:lnTo>
                  <a:lnTo>
                    <a:pt x="1890" y="9101"/>
                  </a:lnTo>
                  <a:lnTo>
                    <a:pt x="1891" y="9087"/>
                  </a:lnTo>
                  <a:lnTo>
                    <a:pt x="1894" y="9075"/>
                  </a:lnTo>
                  <a:lnTo>
                    <a:pt x="1856" y="9030"/>
                  </a:lnTo>
                  <a:lnTo>
                    <a:pt x="1857" y="9018"/>
                  </a:lnTo>
                  <a:lnTo>
                    <a:pt x="1858" y="9008"/>
                  </a:lnTo>
                  <a:lnTo>
                    <a:pt x="1860" y="8998"/>
                  </a:lnTo>
                  <a:lnTo>
                    <a:pt x="1862" y="8988"/>
                  </a:lnTo>
                  <a:lnTo>
                    <a:pt x="1865" y="8979"/>
                  </a:lnTo>
                  <a:lnTo>
                    <a:pt x="1867" y="8969"/>
                  </a:lnTo>
                  <a:lnTo>
                    <a:pt x="1868" y="8959"/>
                  </a:lnTo>
                  <a:lnTo>
                    <a:pt x="1869" y="8947"/>
                  </a:lnTo>
                  <a:lnTo>
                    <a:pt x="1855" y="8941"/>
                  </a:lnTo>
                  <a:lnTo>
                    <a:pt x="1840" y="8935"/>
                  </a:lnTo>
                  <a:lnTo>
                    <a:pt x="1825" y="8927"/>
                  </a:lnTo>
                  <a:lnTo>
                    <a:pt x="1809" y="8917"/>
                  </a:lnTo>
                  <a:lnTo>
                    <a:pt x="1795" y="8906"/>
                  </a:lnTo>
                  <a:lnTo>
                    <a:pt x="1781" y="8892"/>
                  </a:lnTo>
                  <a:lnTo>
                    <a:pt x="1769" y="8874"/>
                  </a:lnTo>
                  <a:lnTo>
                    <a:pt x="1759" y="8852"/>
                  </a:lnTo>
                  <a:lnTo>
                    <a:pt x="1742" y="8847"/>
                  </a:lnTo>
                  <a:lnTo>
                    <a:pt x="1724" y="8834"/>
                  </a:lnTo>
                  <a:lnTo>
                    <a:pt x="1709" y="8816"/>
                  </a:lnTo>
                  <a:lnTo>
                    <a:pt x="1696" y="8792"/>
                  </a:lnTo>
                  <a:lnTo>
                    <a:pt x="1683" y="8769"/>
                  </a:lnTo>
                  <a:lnTo>
                    <a:pt x="1670" y="8745"/>
                  </a:lnTo>
                  <a:lnTo>
                    <a:pt x="1659" y="8724"/>
                  </a:lnTo>
                  <a:lnTo>
                    <a:pt x="1649" y="8709"/>
                  </a:lnTo>
                  <a:lnTo>
                    <a:pt x="1649" y="8646"/>
                  </a:lnTo>
                  <a:lnTo>
                    <a:pt x="1625" y="8614"/>
                  </a:lnTo>
                  <a:lnTo>
                    <a:pt x="1625" y="8518"/>
                  </a:lnTo>
                  <a:lnTo>
                    <a:pt x="1618" y="8511"/>
                  </a:lnTo>
                  <a:lnTo>
                    <a:pt x="1610" y="8501"/>
                  </a:lnTo>
                  <a:lnTo>
                    <a:pt x="1600" y="8491"/>
                  </a:lnTo>
                  <a:lnTo>
                    <a:pt x="1590" y="8478"/>
                  </a:lnTo>
                  <a:lnTo>
                    <a:pt x="1580" y="8466"/>
                  </a:lnTo>
                  <a:lnTo>
                    <a:pt x="1571" y="8455"/>
                  </a:lnTo>
                  <a:lnTo>
                    <a:pt x="1566" y="8446"/>
                  </a:lnTo>
                  <a:lnTo>
                    <a:pt x="1564" y="8438"/>
                  </a:lnTo>
                  <a:lnTo>
                    <a:pt x="1555" y="8410"/>
                  </a:lnTo>
                  <a:lnTo>
                    <a:pt x="1547" y="8382"/>
                  </a:lnTo>
                  <a:lnTo>
                    <a:pt x="1539" y="8351"/>
                  </a:lnTo>
                  <a:lnTo>
                    <a:pt x="1533" y="8318"/>
                  </a:lnTo>
                  <a:lnTo>
                    <a:pt x="1526" y="8285"/>
                  </a:lnTo>
                  <a:lnTo>
                    <a:pt x="1521" y="8252"/>
                  </a:lnTo>
                  <a:lnTo>
                    <a:pt x="1516" y="8218"/>
                  </a:lnTo>
                  <a:lnTo>
                    <a:pt x="1510" y="8183"/>
                  </a:lnTo>
                  <a:lnTo>
                    <a:pt x="1505" y="8147"/>
                  </a:lnTo>
                  <a:lnTo>
                    <a:pt x="1501" y="8112"/>
                  </a:lnTo>
                  <a:lnTo>
                    <a:pt x="1495" y="8078"/>
                  </a:lnTo>
                  <a:lnTo>
                    <a:pt x="1490" y="8044"/>
                  </a:lnTo>
                  <a:lnTo>
                    <a:pt x="1485" y="8009"/>
                  </a:lnTo>
                  <a:lnTo>
                    <a:pt x="1479" y="7976"/>
                  </a:lnTo>
                  <a:lnTo>
                    <a:pt x="1473" y="7945"/>
                  </a:lnTo>
                  <a:lnTo>
                    <a:pt x="1466" y="7914"/>
                  </a:lnTo>
                  <a:lnTo>
                    <a:pt x="1460" y="7886"/>
                  </a:lnTo>
                  <a:lnTo>
                    <a:pt x="1454" y="7857"/>
                  </a:lnTo>
                  <a:lnTo>
                    <a:pt x="1448" y="7827"/>
                  </a:lnTo>
                  <a:lnTo>
                    <a:pt x="1443" y="7796"/>
                  </a:lnTo>
                  <a:lnTo>
                    <a:pt x="1439" y="7764"/>
                  </a:lnTo>
                  <a:lnTo>
                    <a:pt x="1435" y="7732"/>
                  </a:lnTo>
                  <a:lnTo>
                    <a:pt x="1431" y="7699"/>
                  </a:lnTo>
                  <a:lnTo>
                    <a:pt x="1428" y="7666"/>
                  </a:lnTo>
                  <a:lnTo>
                    <a:pt x="1426" y="7632"/>
                  </a:lnTo>
                  <a:lnTo>
                    <a:pt x="1424" y="7599"/>
                  </a:lnTo>
                  <a:lnTo>
                    <a:pt x="1421" y="7564"/>
                  </a:lnTo>
                  <a:lnTo>
                    <a:pt x="1419" y="7531"/>
                  </a:lnTo>
                  <a:lnTo>
                    <a:pt x="1418" y="7499"/>
                  </a:lnTo>
                  <a:lnTo>
                    <a:pt x="1418" y="7467"/>
                  </a:lnTo>
                  <a:lnTo>
                    <a:pt x="1417" y="7435"/>
                  </a:lnTo>
                  <a:lnTo>
                    <a:pt x="1417" y="7405"/>
                  </a:lnTo>
                  <a:lnTo>
                    <a:pt x="1381" y="7358"/>
                  </a:lnTo>
                  <a:lnTo>
                    <a:pt x="1381" y="7294"/>
                  </a:lnTo>
                  <a:lnTo>
                    <a:pt x="1405" y="7263"/>
                  </a:lnTo>
                  <a:lnTo>
                    <a:pt x="1397" y="7238"/>
                  </a:lnTo>
                  <a:lnTo>
                    <a:pt x="1392" y="7213"/>
                  </a:lnTo>
                  <a:lnTo>
                    <a:pt x="1387" y="7188"/>
                  </a:lnTo>
                  <a:lnTo>
                    <a:pt x="1384" y="7162"/>
                  </a:lnTo>
                  <a:lnTo>
                    <a:pt x="1383" y="7135"/>
                  </a:lnTo>
                  <a:lnTo>
                    <a:pt x="1383" y="7110"/>
                  </a:lnTo>
                  <a:lnTo>
                    <a:pt x="1384" y="7083"/>
                  </a:lnTo>
                  <a:lnTo>
                    <a:pt x="1385" y="7055"/>
                  </a:lnTo>
                  <a:lnTo>
                    <a:pt x="1387" y="7028"/>
                  </a:lnTo>
                  <a:lnTo>
                    <a:pt x="1389" y="7002"/>
                  </a:lnTo>
                  <a:lnTo>
                    <a:pt x="1392" y="6976"/>
                  </a:lnTo>
                  <a:lnTo>
                    <a:pt x="1393" y="6949"/>
                  </a:lnTo>
                  <a:lnTo>
                    <a:pt x="1395" y="6924"/>
                  </a:lnTo>
                  <a:lnTo>
                    <a:pt x="1395" y="6898"/>
                  </a:lnTo>
                  <a:lnTo>
                    <a:pt x="1395" y="6873"/>
                  </a:lnTo>
                  <a:lnTo>
                    <a:pt x="1393" y="6849"/>
                  </a:lnTo>
                  <a:lnTo>
                    <a:pt x="1390" y="6826"/>
                  </a:lnTo>
                  <a:lnTo>
                    <a:pt x="1387" y="6803"/>
                  </a:lnTo>
                  <a:lnTo>
                    <a:pt x="1385" y="6776"/>
                  </a:lnTo>
                  <a:lnTo>
                    <a:pt x="1382" y="6748"/>
                  </a:lnTo>
                  <a:lnTo>
                    <a:pt x="1378" y="6718"/>
                  </a:lnTo>
                  <a:lnTo>
                    <a:pt x="1374" y="6688"/>
                  </a:lnTo>
                  <a:lnTo>
                    <a:pt x="1370" y="6657"/>
                  </a:lnTo>
                  <a:lnTo>
                    <a:pt x="1366" y="6626"/>
                  </a:lnTo>
                  <a:lnTo>
                    <a:pt x="1360" y="6595"/>
                  </a:lnTo>
                  <a:lnTo>
                    <a:pt x="1356" y="6564"/>
                  </a:lnTo>
                  <a:lnTo>
                    <a:pt x="1351" y="6534"/>
                  </a:lnTo>
                  <a:lnTo>
                    <a:pt x="1344" y="6504"/>
                  </a:lnTo>
                  <a:lnTo>
                    <a:pt x="1339" y="6477"/>
                  </a:lnTo>
                  <a:lnTo>
                    <a:pt x="1333" y="6450"/>
                  </a:lnTo>
                  <a:lnTo>
                    <a:pt x="1326" y="6426"/>
                  </a:lnTo>
                  <a:lnTo>
                    <a:pt x="1320" y="6404"/>
                  </a:lnTo>
                  <a:lnTo>
                    <a:pt x="1320" y="6397"/>
                  </a:lnTo>
                  <a:lnTo>
                    <a:pt x="1322" y="6392"/>
                  </a:lnTo>
                  <a:lnTo>
                    <a:pt x="1323" y="6386"/>
                  </a:lnTo>
                  <a:lnTo>
                    <a:pt x="1326" y="6380"/>
                  </a:lnTo>
                  <a:lnTo>
                    <a:pt x="1328" y="6375"/>
                  </a:lnTo>
                  <a:lnTo>
                    <a:pt x="1329" y="6368"/>
                  </a:lnTo>
                  <a:lnTo>
                    <a:pt x="1332" y="6363"/>
                  </a:lnTo>
                  <a:lnTo>
                    <a:pt x="1332" y="6357"/>
                  </a:lnTo>
                  <a:lnTo>
                    <a:pt x="1258" y="5912"/>
                  </a:lnTo>
                  <a:lnTo>
                    <a:pt x="1253" y="5874"/>
                  </a:lnTo>
                  <a:lnTo>
                    <a:pt x="1251" y="5836"/>
                  </a:lnTo>
                  <a:lnTo>
                    <a:pt x="1250" y="5795"/>
                  </a:lnTo>
                  <a:lnTo>
                    <a:pt x="1249" y="5753"/>
                  </a:lnTo>
                  <a:lnTo>
                    <a:pt x="1248" y="5711"/>
                  </a:lnTo>
                  <a:lnTo>
                    <a:pt x="1248" y="5668"/>
                  </a:lnTo>
                  <a:lnTo>
                    <a:pt x="1248" y="5624"/>
                  </a:lnTo>
                  <a:lnTo>
                    <a:pt x="1248" y="5579"/>
                  </a:lnTo>
                  <a:lnTo>
                    <a:pt x="1247" y="5535"/>
                  </a:lnTo>
                  <a:lnTo>
                    <a:pt x="1245" y="5492"/>
                  </a:lnTo>
                  <a:lnTo>
                    <a:pt x="1243" y="5450"/>
                  </a:lnTo>
                  <a:lnTo>
                    <a:pt x="1240" y="5408"/>
                  </a:lnTo>
                  <a:lnTo>
                    <a:pt x="1234" y="5368"/>
                  </a:lnTo>
                  <a:lnTo>
                    <a:pt x="1228" y="5330"/>
                  </a:lnTo>
                  <a:lnTo>
                    <a:pt x="1220" y="5294"/>
                  </a:lnTo>
                  <a:lnTo>
                    <a:pt x="1210" y="5259"/>
                  </a:lnTo>
                  <a:lnTo>
                    <a:pt x="1210" y="5254"/>
                  </a:lnTo>
                  <a:lnTo>
                    <a:pt x="1212" y="5248"/>
                  </a:lnTo>
                  <a:lnTo>
                    <a:pt x="1213" y="5242"/>
                  </a:lnTo>
                  <a:lnTo>
                    <a:pt x="1216" y="5236"/>
                  </a:lnTo>
                  <a:lnTo>
                    <a:pt x="1218" y="5230"/>
                  </a:lnTo>
                  <a:lnTo>
                    <a:pt x="1219" y="5224"/>
                  </a:lnTo>
                  <a:lnTo>
                    <a:pt x="1221" y="5219"/>
                  </a:lnTo>
                  <a:lnTo>
                    <a:pt x="1221" y="5212"/>
                  </a:lnTo>
                  <a:lnTo>
                    <a:pt x="1218" y="5179"/>
                  </a:lnTo>
                  <a:lnTo>
                    <a:pt x="1215" y="5144"/>
                  </a:lnTo>
                  <a:lnTo>
                    <a:pt x="1214" y="5107"/>
                  </a:lnTo>
                  <a:lnTo>
                    <a:pt x="1213" y="5071"/>
                  </a:lnTo>
                  <a:lnTo>
                    <a:pt x="1213" y="5034"/>
                  </a:lnTo>
                  <a:lnTo>
                    <a:pt x="1214" y="4995"/>
                  </a:lnTo>
                  <a:lnTo>
                    <a:pt x="1215" y="4957"/>
                  </a:lnTo>
                  <a:lnTo>
                    <a:pt x="1216" y="4918"/>
                  </a:lnTo>
                  <a:lnTo>
                    <a:pt x="1217" y="4880"/>
                  </a:lnTo>
                  <a:lnTo>
                    <a:pt x="1218" y="4841"/>
                  </a:lnTo>
                  <a:lnTo>
                    <a:pt x="1218" y="4804"/>
                  </a:lnTo>
                  <a:lnTo>
                    <a:pt x="1218" y="4765"/>
                  </a:lnTo>
                  <a:lnTo>
                    <a:pt x="1218" y="4729"/>
                  </a:lnTo>
                  <a:lnTo>
                    <a:pt x="1216" y="4693"/>
                  </a:lnTo>
                  <a:lnTo>
                    <a:pt x="1214" y="4658"/>
                  </a:lnTo>
                  <a:lnTo>
                    <a:pt x="1210" y="4625"/>
                  </a:lnTo>
                  <a:lnTo>
                    <a:pt x="1207" y="4612"/>
                  </a:lnTo>
                  <a:lnTo>
                    <a:pt x="1204" y="4597"/>
                  </a:lnTo>
                  <a:lnTo>
                    <a:pt x="1201" y="4581"/>
                  </a:lnTo>
                  <a:lnTo>
                    <a:pt x="1197" y="4563"/>
                  </a:lnTo>
                  <a:lnTo>
                    <a:pt x="1193" y="4544"/>
                  </a:lnTo>
                  <a:lnTo>
                    <a:pt x="1189" y="4523"/>
                  </a:lnTo>
                  <a:lnTo>
                    <a:pt x="1186" y="4503"/>
                  </a:lnTo>
                  <a:lnTo>
                    <a:pt x="1182" y="4482"/>
                  </a:lnTo>
                  <a:lnTo>
                    <a:pt x="1179" y="4461"/>
                  </a:lnTo>
                  <a:lnTo>
                    <a:pt x="1176" y="4441"/>
                  </a:lnTo>
                  <a:lnTo>
                    <a:pt x="1173" y="4421"/>
                  </a:lnTo>
                  <a:lnTo>
                    <a:pt x="1172" y="4401"/>
                  </a:lnTo>
                  <a:lnTo>
                    <a:pt x="1171" y="4383"/>
                  </a:lnTo>
                  <a:lnTo>
                    <a:pt x="1171" y="4367"/>
                  </a:lnTo>
                  <a:lnTo>
                    <a:pt x="1171" y="4352"/>
                  </a:lnTo>
                  <a:lnTo>
                    <a:pt x="1173" y="4339"/>
                  </a:lnTo>
                  <a:lnTo>
                    <a:pt x="1210" y="3958"/>
                  </a:lnTo>
                  <a:lnTo>
                    <a:pt x="1210" y="3948"/>
                  </a:lnTo>
                  <a:lnTo>
                    <a:pt x="1212" y="3936"/>
                  </a:lnTo>
                  <a:lnTo>
                    <a:pt x="1213" y="3923"/>
                  </a:lnTo>
                  <a:lnTo>
                    <a:pt x="1216" y="3909"/>
                  </a:lnTo>
                  <a:lnTo>
                    <a:pt x="1219" y="3893"/>
                  </a:lnTo>
                  <a:lnTo>
                    <a:pt x="1222" y="3878"/>
                  </a:lnTo>
                  <a:lnTo>
                    <a:pt x="1226" y="3861"/>
                  </a:lnTo>
                  <a:lnTo>
                    <a:pt x="1230" y="3845"/>
                  </a:lnTo>
                  <a:lnTo>
                    <a:pt x="1233" y="3829"/>
                  </a:lnTo>
                  <a:lnTo>
                    <a:pt x="1236" y="3812"/>
                  </a:lnTo>
                  <a:lnTo>
                    <a:pt x="1240" y="3797"/>
                  </a:lnTo>
                  <a:lnTo>
                    <a:pt x="1243" y="3781"/>
                  </a:lnTo>
                  <a:lnTo>
                    <a:pt x="1246" y="3767"/>
                  </a:lnTo>
                  <a:lnTo>
                    <a:pt x="1247" y="3754"/>
                  </a:lnTo>
                  <a:lnTo>
                    <a:pt x="1249" y="3743"/>
                  </a:lnTo>
                  <a:lnTo>
                    <a:pt x="1249" y="3733"/>
                  </a:lnTo>
                  <a:lnTo>
                    <a:pt x="1251" y="3722"/>
                  </a:lnTo>
                  <a:lnTo>
                    <a:pt x="1237" y="3727"/>
                  </a:lnTo>
                  <a:lnTo>
                    <a:pt x="1222" y="3730"/>
                  </a:lnTo>
                  <a:lnTo>
                    <a:pt x="1208" y="3733"/>
                  </a:lnTo>
                  <a:lnTo>
                    <a:pt x="1195" y="3736"/>
                  </a:lnTo>
                  <a:lnTo>
                    <a:pt x="1180" y="3737"/>
                  </a:lnTo>
                  <a:lnTo>
                    <a:pt x="1166" y="3738"/>
                  </a:lnTo>
                  <a:lnTo>
                    <a:pt x="1151" y="3737"/>
                  </a:lnTo>
                  <a:lnTo>
                    <a:pt x="1137" y="3735"/>
                  </a:lnTo>
                  <a:lnTo>
                    <a:pt x="1123" y="3732"/>
                  </a:lnTo>
                  <a:lnTo>
                    <a:pt x="1107" y="3724"/>
                  </a:lnTo>
                  <a:lnTo>
                    <a:pt x="1089" y="3715"/>
                  </a:lnTo>
                  <a:lnTo>
                    <a:pt x="1070" y="3704"/>
                  </a:lnTo>
                  <a:lnTo>
                    <a:pt x="1051" y="3692"/>
                  </a:lnTo>
                  <a:lnTo>
                    <a:pt x="1032" y="3683"/>
                  </a:lnTo>
                  <a:lnTo>
                    <a:pt x="1015" y="3675"/>
                  </a:lnTo>
                  <a:lnTo>
                    <a:pt x="1000" y="3671"/>
                  </a:lnTo>
                  <a:lnTo>
                    <a:pt x="999" y="3677"/>
                  </a:lnTo>
                  <a:lnTo>
                    <a:pt x="997" y="3686"/>
                  </a:lnTo>
                  <a:lnTo>
                    <a:pt x="992" y="3694"/>
                  </a:lnTo>
                  <a:lnTo>
                    <a:pt x="989" y="3703"/>
                  </a:lnTo>
                  <a:lnTo>
                    <a:pt x="985" y="3712"/>
                  </a:lnTo>
                  <a:lnTo>
                    <a:pt x="980" y="3720"/>
                  </a:lnTo>
                  <a:lnTo>
                    <a:pt x="978" y="3729"/>
                  </a:lnTo>
                  <a:lnTo>
                    <a:pt x="977" y="3735"/>
                  </a:lnTo>
                  <a:lnTo>
                    <a:pt x="989" y="3751"/>
                  </a:lnTo>
                  <a:lnTo>
                    <a:pt x="990" y="3760"/>
                  </a:lnTo>
                  <a:lnTo>
                    <a:pt x="990" y="3769"/>
                  </a:lnTo>
                  <a:lnTo>
                    <a:pt x="990" y="3779"/>
                  </a:lnTo>
                  <a:lnTo>
                    <a:pt x="990" y="3790"/>
                  </a:lnTo>
                  <a:lnTo>
                    <a:pt x="989" y="3801"/>
                  </a:lnTo>
                  <a:lnTo>
                    <a:pt x="988" y="3813"/>
                  </a:lnTo>
                  <a:lnTo>
                    <a:pt x="987" y="3825"/>
                  </a:lnTo>
                  <a:lnTo>
                    <a:pt x="985" y="3837"/>
                  </a:lnTo>
                  <a:lnTo>
                    <a:pt x="983" y="3850"/>
                  </a:lnTo>
                  <a:lnTo>
                    <a:pt x="979" y="3862"/>
                  </a:lnTo>
                  <a:lnTo>
                    <a:pt x="976" y="3875"/>
                  </a:lnTo>
                  <a:lnTo>
                    <a:pt x="972" y="3888"/>
                  </a:lnTo>
                  <a:lnTo>
                    <a:pt x="968" y="3901"/>
                  </a:lnTo>
                  <a:lnTo>
                    <a:pt x="962" y="3914"/>
                  </a:lnTo>
                  <a:lnTo>
                    <a:pt x="957" y="3927"/>
                  </a:lnTo>
                  <a:lnTo>
                    <a:pt x="951" y="3938"/>
                  </a:lnTo>
                  <a:lnTo>
                    <a:pt x="945" y="3947"/>
                  </a:lnTo>
                  <a:lnTo>
                    <a:pt x="939" y="3955"/>
                  </a:lnTo>
                  <a:lnTo>
                    <a:pt x="931" y="3964"/>
                  </a:lnTo>
                  <a:lnTo>
                    <a:pt x="923" y="3971"/>
                  </a:lnTo>
                  <a:lnTo>
                    <a:pt x="913" y="3978"/>
                  </a:lnTo>
                  <a:lnTo>
                    <a:pt x="902" y="3981"/>
                  </a:lnTo>
                  <a:lnTo>
                    <a:pt x="891" y="3982"/>
                  </a:lnTo>
                  <a:lnTo>
                    <a:pt x="878" y="3980"/>
                  </a:lnTo>
                  <a:lnTo>
                    <a:pt x="868" y="3986"/>
                  </a:lnTo>
                  <a:lnTo>
                    <a:pt x="858" y="3995"/>
                  </a:lnTo>
                  <a:lnTo>
                    <a:pt x="848" y="4002"/>
                  </a:lnTo>
                  <a:lnTo>
                    <a:pt x="837" y="4012"/>
                  </a:lnTo>
                  <a:lnTo>
                    <a:pt x="826" y="4021"/>
                  </a:lnTo>
                  <a:lnTo>
                    <a:pt x="815" y="4030"/>
                  </a:lnTo>
                  <a:lnTo>
                    <a:pt x="803" y="4040"/>
                  </a:lnTo>
                  <a:lnTo>
                    <a:pt x="791" y="4050"/>
                  </a:lnTo>
                  <a:lnTo>
                    <a:pt x="779" y="4058"/>
                  </a:lnTo>
                  <a:lnTo>
                    <a:pt x="769" y="4067"/>
                  </a:lnTo>
                  <a:lnTo>
                    <a:pt x="757" y="4074"/>
                  </a:lnTo>
                  <a:lnTo>
                    <a:pt x="745" y="4082"/>
                  </a:lnTo>
                  <a:lnTo>
                    <a:pt x="734" y="4088"/>
                  </a:lnTo>
                  <a:lnTo>
                    <a:pt x="724" y="4093"/>
                  </a:lnTo>
                  <a:lnTo>
                    <a:pt x="714" y="4098"/>
                  </a:lnTo>
                  <a:lnTo>
                    <a:pt x="704" y="4100"/>
                  </a:lnTo>
                  <a:lnTo>
                    <a:pt x="695" y="4101"/>
                  </a:lnTo>
                  <a:lnTo>
                    <a:pt x="687" y="4100"/>
                  </a:lnTo>
                  <a:lnTo>
                    <a:pt x="683" y="4098"/>
                  </a:lnTo>
                  <a:lnTo>
                    <a:pt x="679" y="4093"/>
                  </a:lnTo>
                  <a:lnTo>
                    <a:pt x="675" y="4088"/>
                  </a:lnTo>
                  <a:lnTo>
                    <a:pt x="671" y="4082"/>
                  </a:lnTo>
                  <a:lnTo>
                    <a:pt x="666" y="4075"/>
                  </a:lnTo>
                  <a:lnTo>
                    <a:pt x="659" y="4068"/>
                  </a:lnTo>
                  <a:lnTo>
                    <a:pt x="667" y="4057"/>
                  </a:lnTo>
                  <a:lnTo>
                    <a:pt x="674" y="4047"/>
                  </a:lnTo>
                  <a:lnTo>
                    <a:pt x="683" y="4037"/>
                  </a:lnTo>
                  <a:lnTo>
                    <a:pt x="691" y="4025"/>
                  </a:lnTo>
                  <a:lnTo>
                    <a:pt x="700" y="4012"/>
                  </a:lnTo>
                  <a:lnTo>
                    <a:pt x="710" y="3997"/>
                  </a:lnTo>
                  <a:lnTo>
                    <a:pt x="720" y="3981"/>
                  </a:lnTo>
                  <a:lnTo>
                    <a:pt x="732" y="3962"/>
                  </a:lnTo>
                  <a:lnTo>
                    <a:pt x="733" y="3942"/>
                  </a:lnTo>
                  <a:lnTo>
                    <a:pt x="733" y="3920"/>
                  </a:lnTo>
                  <a:lnTo>
                    <a:pt x="733" y="3899"/>
                  </a:lnTo>
                  <a:lnTo>
                    <a:pt x="732" y="3876"/>
                  </a:lnTo>
                  <a:lnTo>
                    <a:pt x="732" y="3856"/>
                  </a:lnTo>
                  <a:lnTo>
                    <a:pt x="733" y="3836"/>
                  </a:lnTo>
                  <a:lnTo>
                    <a:pt x="735" y="3817"/>
                  </a:lnTo>
                  <a:lnTo>
                    <a:pt x="739" y="3801"/>
                  </a:lnTo>
                  <a:lnTo>
                    <a:pt x="719" y="3791"/>
                  </a:lnTo>
                  <a:lnTo>
                    <a:pt x="699" y="3782"/>
                  </a:lnTo>
                  <a:lnTo>
                    <a:pt x="679" y="3775"/>
                  </a:lnTo>
                  <a:lnTo>
                    <a:pt x="657" y="3767"/>
                  </a:lnTo>
                  <a:lnTo>
                    <a:pt x="636" y="3761"/>
                  </a:lnTo>
                  <a:lnTo>
                    <a:pt x="615" y="3753"/>
                  </a:lnTo>
                  <a:lnTo>
                    <a:pt x="594" y="3745"/>
                  </a:lnTo>
                  <a:lnTo>
                    <a:pt x="575" y="3735"/>
                  </a:lnTo>
                  <a:lnTo>
                    <a:pt x="557" y="3724"/>
                  </a:lnTo>
                  <a:lnTo>
                    <a:pt x="537" y="3710"/>
                  </a:lnTo>
                  <a:lnTo>
                    <a:pt x="518" y="3693"/>
                  </a:lnTo>
                  <a:lnTo>
                    <a:pt x="500" y="3673"/>
                  </a:lnTo>
                  <a:lnTo>
                    <a:pt x="481" y="3652"/>
                  </a:lnTo>
                  <a:lnTo>
                    <a:pt x="462" y="3628"/>
                  </a:lnTo>
                  <a:lnTo>
                    <a:pt x="443" y="3604"/>
                  </a:lnTo>
                  <a:lnTo>
                    <a:pt x="425" y="3578"/>
                  </a:lnTo>
                  <a:lnTo>
                    <a:pt x="407" y="3551"/>
                  </a:lnTo>
                  <a:lnTo>
                    <a:pt x="389" y="3525"/>
                  </a:lnTo>
                  <a:lnTo>
                    <a:pt x="371" y="3499"/>
                  </a:lnTo>
                  <a:lnTo>
                    <a:pt x="354" y="3473"/>
                  </a:lnTo>
                  <a:lnTo>
                    <a:pt x="338" y="3448"/>
                  </a:lnTo>
                  <a:lnTo>
                    <a:pt x="322" y="3426"/>
                  </a:lnTo>
                  <a:lnTo>
                    <a:pt x="307" y="3405"/>
                  </a:lnTo>
                  <a:lnTo>
                    <a:pt x="293" y="3385"/>
                  </a:lnTo>
                  <a:lnTo>
                    <a:pt x="267" y="3349"/>
                  </a:lnTo>
                  <a:lnTo>
                    <a:pt x="243" y="3313"/>
                  </a:lnTo>
                  <a:lnTo>
                    <a:pt x="221" y="3275"/>
                  </a:lnTo>
                  <a:lnTo>
                    <a:pt x="200" y="3238"/>
                  </a:lnTo>
                  <a:lnTo>
                    <a:pt x="181" y="3199"/>
                  </a:lnTo>
                  <a:lnTo>
                    <a:pt x="164" y="3160"/>
                  </a:lnTo>
                  <a:lnTo>
                    <a:pt x="147" y="3121"/>
                  </a:lnTo>
                  <a:lnTo>
                    <a:pt x="132" y="3082"/>
                  </a:lnTo>
                  <a:lnTo>
                    <a:pt x="117" y="3042"/>
                  </a:lnTo>
                  <a:lnTo>
                    <a:pt x="104" y="3002"/>
                  </a:lnTo>
                  <a:lnTo>
                    <a:pt x="90" y="2963"/>
                  </a:lnTo>
                  <a:lnTo>
                    <a:pt x="77" y="2922"/>
                  </a:lnTo>
                  <a:lnTo>
                    <a:pt x="64" y="2883"/>
                  </a:lnTo>
                  <a:lnTo>
                    <a:pt x="51" y="2843"/>
                  </a:lnTo>
                  <a:lnTo>
                    <a:pt x="39" y="2804"/>
                  </a:lnTo>
                  <a:lnTo>
                    <a:pt x="25" y="2765"/>
                  </a:lnTo>
                  <a:lnTo>
                    <a:pt x="18" y="2757"/>
                  </a:lnTo>
                  <a:lnTo>
                    <a:pt x="13" y="2750"/>
                  </a:lnTo>
                  <a:lnTo>
                    <a:pt x="6" y="2741"/>
                  </a:lnTo>
                  <a:lnTo>
                    <a:pt x="0" y="2734"/>
                  </a:lnTo>
                  <a:lnTo>
                    <a:pt x="1" y="2715"/>
                  </a:lnTo>
                  <a:lnTo>
                    <a:pt x="5" y="2694"/>
                  </a:lnTo>
                  <a:lnTo>
                    <a:pt x="12" y="2673"/>
                  </a:lnTo>
                  <a:lnTo>
                    <a:pt x="19" y="2650"/>
                  </a:lnTo>
                  <a:lnTo>
                    <a:pt x="29" y="2627"/>
                  </a:lnTo>
                  <a:lnTo>
                    <a:pt x="40" y="2602"/>
                  </a:lnTo>
                  <a:lnTo>
                    <a:pt x="51" y="2578"/>
                  </a:lnTo>
                  <a:lnTo>
                    <a:pt x="64" y="2553"/>
                  </a:lnTo>
                  <a:lnTo>
                    <a:pt x="77" y="2529"/>
                  </a:lnTo>
                  <a:lnTo>
                    <a:pt x="90" y="2505"/>
                  </a:lnTo>
                  <a:lnTo>
                    <a:pt x="102" y="2481"/>
                  </a:lnTo>
                  <a:lnTo>
                    <a:pt x="113" y="2459"/>
                  </a:lnTo>
                  <a:lnTo>
                    <a:pt x="124" y="2438"/>
                  </a:lnTo>
                  <a:lnTo>
                    <a:pt x="134" y="2418"/>
                  </a:lnTo>
                  <a:lnTo>
                    <a:pt x="141" y="2400"/>
                  </a:lnTo>
                  <a:lnTo>
                    <a:pt x="147" y="2384"/>
                  </a:lnTo>
                  <a:lnTo>
                    <a:pt x="154" y="2366"/>
                  </a:lnTo>
                  <a:lnTo>
                    <a:pt x="167" y="2349"/>
                  </a:lnTo>
                  <a:lnTo>
                    <a:pt x="184" y="2332"/>
                  </a:lnTo>
                  <a:lnTo>
                    <a:pt x="203" y="2317"/>
                  </a:lnTo>
                  <a:lnTo>
                    <a:pt x="223" y="2303"/>
                  </a:lnTo>
                  <a:lnTo>
                    <a:pt x="241" y="2290"/>
                  </a:lnTo>
                  <a:lnTo>
                    <a:pt x="257" y="2280"/>
                  </a:lnTo>
                  <a:lnTo>
                    <a:pt x="269" y="2273"/>
                  </a:lnTo>
                  <a:lnTo>
                    <a:pt x="269" y="2241"/>
                  </a:lnTo>
                  <a:lnTo>
                    <a:pt x="315" y="2183"/>
                  </a:lnTo>
                  <a:lnTo>
                    <a:pt x="326" y="2170"/>
                  </a:lnTo>
                  <a:lnTo>
                    <a:pt x="340" y="2158"/>
                  </a:lnTo>
                  <a:lnTo>
                    <a:pt x="356" y="2147"/>
                  </a:lnTo>
                  <a:lnTo>
                    <a:pt x="375" y="2136"/>
                  </a:lnTo>
                  <a:lnTo>
                    <a:pt x="394" y="2124"/>
                  </a:lnTo>
                  <a:lnTo>
                    <a:pt x="414" y="2112"/>
                  </a:lnTo>
                  <a:lnTo>
                    <a:pt x="436" y="2100"/>
                  </a:lnTo>
                  <a:lnTo>
                    <a:pt x="457" y="2087"/>
                  </a:lnTo>
                  <a:lnTo>
                    <a:pt x="472" y="2074"/>
                  </a:lnTo>
                  <a:lnTo>
                    <a:pt x="486" y="2061"/>
                  </a:lnTo>
                  <a:lnTo>
                    <a:pt x="498" y="2046"/>
                  </a:lnTo>
                  <a:lnTo>
                    <a:pt x="510" y="2032"/>
                  </a:lnTo>
                  <a:lnTo>
                    <a:pt x="519" y="2018"/>
                  </a:lnTo>
                  <a:lnTo>
                    <a:pt x="529" y="2005"/>
                  </a:lnTo>
                  <a:lnTo>
                    <a:pt x="537" y="1993"/>
                  </a:lnTo>
                  <a:lnTo>
                    <a:pt x="545" y="1982"/>
                  </a:lnTo>
                  <a:lnTo>
                    <a:pt x="550" y="1974"/>
                  </a:lnTo>
                  <a:lnTo>
                    <a:pt x="557" y="1967"/>
                  </a:lnTo>
                  <a:lnTo>
                    <a:pt x="562" y="1958"/>
                  </a:lnTo>
                  <a:lnTo>
                    <a:pt x="568" y="1950"/>
                  </a:lnTo>
                  <a:lnTo>
                    <a:pt x="575" y="1941"/>
                  </a:lnTo>
                  <a:lnTo>
                    <a:pt x="580" y="1933"/>
                  </a:lnTo>
                  <a:lnTo>
                    <a:pt x="586" y="1924"/>
                  </a:lnTo>
                  <a:lnTo>
                    <a:pt x="591" y="1916"/>
                  </a:lnTo>
                  <a:lnTo>
                    <a:pt x="600" y="1900"/>
                  </a:lnTo>
                  <a:lnTo>
                    <a:pt x="611" y="1885"/>
                  </a:lnTo>
                  <a:lnTo>
                    <a:pt x="621" y="1869"/>
                  </a:lnTo>
                  <a:lnTo>
                    <a:pt x="630" y="1854"/>
                  </a:lnTo>
                  <a:lnTo>
                    <a:pt x="641" y="1839"/>
                  </a:lnTo>
                  <a:lnTo>
                    <a:pt x="651" y="1825"/>
                  </a:lnTo>
                  <a:lnTo>
                    <a:pt x="662" y="1810"/>
                  </a:lnTo>
                  <a:lnTo>
                    <a:pt x="671" y="1797"/>
                  </a:lnTo>
                  <a:lnTo>
                    <a:pt x="682" y="1784"/>
                  </a:lnTo>
                  <a:lnTo>
                    <a:pt x="693" y="1771"/>
                  </a:lnTo>
                  <a:lnTo>
                    <a:pt x="703" y="1759"/>
                  </a:lnTo>
                  <a:lnTo>
                    <a:pt x="714" y="1749"/>
                  </a:lnTo>
                  <a:lnTo>
                    <a:pt x="725" y="1739"/>
                  </a:lnTo>
                  <a:lnTo>
                    <a:pt x="735" y="1731"/>
                  </a:lnTo>
                  <a:lnTo>
                    <a:pt x="746" y="1723"/>
                  </a:lnTo>
                  <a:lnTo>
                    <a:pt x="758" y="1717"/>
                  </a:lnTo>
                  <a:lnTo>
                    <a:pt x="766" y="1712"/>
                  </a:lnTo>
                  <a:lnTo>
                    <a:pt x="775" y="1708"/>
                  </a:lnTo>
                  <a:lnTo>
                    <a:pt x="782" y="1703"/>
                  </a:lnTo>
                  <a:lnTo>
                    <a:pt x="789" y="1697"/>
                  </a:lnTo>
                  <a:lnTo>
                    <a:pt x="796" y="1692"/>
                  </a:lnTo>
                  <a:lnTo>
                    <a:pt x="803" y="1686"/>
                  </a:lnTo>
                  <a:lnTo>
                    <a:pt x="810" y="1678"/>
                  </a:lnTo>
                  <a:lnTo>
                    <a:pt x="818" y="1671"/>
                  </a:lnTo>
                  <a:lnTo>
                    <a:pt x="812" y="1661"/>
                  </a:lnTo>
                  <a:lnTo>
                    <a:pt x="816" y="1650"/>
                  </a:lnTo>
                  <a:lnTo>
                    <a:pt x="824" y="1641"/>
                  </a:lnTo>
                  <a:lnTo>
                    <a:pt x="837" y="1630"/>
                  </a:lnTo>
                  <a:lnTo>
                    <a:pt x="852" y="1619"/>
                  </a:lnTo>
                  <a:lnTo>
                    <a:pt x="868" y="1610"/>
                  </a:lnTo>
                  <a:lnTo>
                    <a:pt x="882" y="1599"/>
                  </a:lnTo>
                  <a:lnTo>
                    <a:pt x="892" y="1589"/>
                  </a:lnTo>
                  <a:lnTo>
                    <a:pt x="908" y="1570"/>
                  </a:lnTo>
                  <a:lnTo>
                    <a:pt x="924" y="1551"/>
                  </a:lnTo>
                  <a:lnTo>
                    <a:pt x="940" y="1533"/>
                  </a:lnTo>
                  <a:lnTo>
                    <a:pt x="957" y="1516"/>
                  </a:lnTo>
                  <a:lnTo>
                    <a:pt x="973" y="1500"/>
                  </a:lnTo>
                  <a:lnTo>
                    <a:pt x="991" y="1485"/>
                  </a:lnTo>
                  <a:lnTo>
                    <a:pt x="1008" y="1472"/>
                  </a:lnTo>
                  <a:lnTo>
                    <a:pt x="1027" y="1462"/>
                  </a:lnTo>
                  <a:lnTo>
                    <a:pt x="1046" y="1452"/>
                  </a:lnTo>
                  <a:lnTo>
                    <a:pt x="1065" y="1443"/>
                  </a:lnTo>
                  <a:lnTo>
                    <a:pt x="1085" y="1435"/>
                  </a:lnTo>
                  <a:lnTo>
                    <a:pt x="1107" y="1428"/>
                  </a:lnTo>
                  <a:lnTo>
                    <a:pt x="1129" y="1421"/>
                  </a:lnTo>
                  <a:lnTo>
                    <a:pt x="1152" y="1416"/>
                  </a:lnTo>
                  <a:lnTo>
                    <a:pt x="1175" y="1411"/>
                  </a:lnTo>
                  <a:lnTo>
                    <a:pt x="1200" y="1406"/>
                  </a:lnTo>
                  <a:lnTo>
                    <a:pt x="1223" y="1402"/>
                  </a:lnTo>
                  <a:lnTo>
                    <a:pt x="1249" y="1399"/>
                  </a:lnTo>
                  <a:lnTo>
                    <a:pt x="1274" y="1395"/>
                  </a:lnTo>
                  <a:lnTo>
                    <a:pt x="1299" y="1392"/>
                  </a:lnTo>
                  <a:lnTo>
                    <a:pt x="1325" y="1388"/>
                  </a:lnTo>
                  <a:lnTo>
                    <a:pt x="1351" y="1385"/>
                  </a:lnTo>
                  <a:lnTo>
                    <a:pt x="1377" y="1381"/>
                  </a:lnTo>
                  <a:lnTo>
                    <a:pt x="1402" y="1378"/>
                  </a:lnTo>
                  <a:lnTo>
                    <a:pt x="1428" y="1373"/>
                  </a:lnTo>
                  <a:lnTo>
                    <a:pt x="1454" y="1369"/>
                  </a:lnTo>
                  <a:lnTo>
                    <a:pt x="1478" y="1365"/>
                  </a:lnTo>
                  <a:lnTo>
                    <a:pt x="1503" y="1359"/>
                  </a:lnTo>
                  <a:lnTo>
                    <a:pt x="1527" y="1353"/>
                  </a:lnTo>
                  <a:lnTo>
                    <a:pt x="1552" y="1347"/>
                  </a:lnTo>
                  <a:lnTo>
                    <a:pt x="1576" y="1339"/>
                  </a:lnTo>
                  <a:lnTo>
                    <a:pt x="1598" y="1331"/>
                  </a:lnTo>
                  <a:lnTo>
                    <a:pt x="1621" y="1321"/>
                  </a:lnTo>
                  <a:lnTo>
                    <a:pt x="1642" y="1311"/>
                  </a:lnTo>
                  <a:lnTo>
                    <a:pt x="1662" y="1300"/>
                  </a:lnTo>
                  <a:lnTo>
                    <a:pt x="1683" y="1287"/>
                  </a:lnTo>
                  <a:lnTo>
                    <a:pt x="1701" y="1273"/>
                  </a:lnTo>
                  <a:lnTo>
                    <a:pt x="1719" y="1257"/>
                  </a:lnTo>
                  <a:lnTo>
                    <a:pt x="1735" y="1240"/>
                  </a:lnTo>
                  <a:lnTo>
                    <a:pt x="1751" y="1221"/>
                  </a:lnTo>
                  <a:lnTo>
                    <a:pt x="1769" y="1211"/>
                  </a:lnTo>
                  <a:lnTo>
                    <a:pt x="1782" y="1191"/>
                  </a:lnTo>
                  <a:lnTo>
                    <a:pt x="1794" y="1167"/>
                  </a:lnTo>
                  <a:lnTo>
                    <a:pt x="1806" y="1140"/>
                  </a:lnTo>
                  <a:lnTo>
                    <a:pt x="1816" y="1116"/>
                  </a:lnTo>
                  <a:lnTo>
                    <a:pt x="1831" y="1096"/>
                  </a:lnTo>
                  <a:lnTo>
                    <a:pt x="1849" y="1087"/>
                  </a:lnTo>
                  <a:lnTo>
                    <a:pt x="1872" y="1091"/>
                  </a:lnTo>
                  <a:lnTo>
                    <a:pt x="1880" y="1014"/>
                  </a:lnTo>
                  <a:lnTo>
                    <a:pt x="1880" y="997"/>
                  </a:lnTo>
                  <a:lnTo>
                    <a:pt x="1879" y="984"/>
                  </a:lnTo>
                  <a:lnTo>
                    <a:pt x="1877" y="972"/>
                  </a:lnTo>
                  <a:lnTo>
                    <a:pt x="1875" y="962"/>
                  </a:lnTo>
                  <a:lnTo>
                    <a:pt x="1871" y="951"/>
                  </a:lnTo>
                  <a:lnTo>
                    <a:pt x="1865" y="939"/>
                  </a:lnTo>
                  <a:lnTo>
                    <a:pt x="1856" y="924"/>
                  </a:lnTo>
                  <a:lnTo>
                    <a:pt x="1844" y="906"/>
                  </a:lnTo>
                  <a:lnTo>
                    <a:pt x="1783" y="890"/>
                  </a:lnTo>
                  <a:lnTo>
                    <a:pt x="1775" y="878"/>
                  </a:lnTo>
                  <a:lnTo>
                    <a:pt x="1766" y="865"/>
                  </a:lnTo>
                  <a:lnTo>
                    <a:pt x="1759" y="851"/>
                  </a:lnTo>
                  <a:lnTo>
                    <a:pt x="1752" y="837"/>
                  </a:lnTo>
                  <a:lnTo>
                    <a:pt x="1746" y="822"/>
                  </a:lnTo>
                  <a:lnTo>
                    <a:pt x="1739" y="807"/>
                  </a:lnTo>
                  <a:lnTo>
                    <a:pt x="1735" y="793"/>
                  </a:lnTo>
                  <a:lnTo>
                    <a:pt x="1731" y="776"/>
                  </a:lnTo>
                  <a:lnTo>
                    <a:pt x="1727" y="760"/>
                  </a:lnTo>
                  <a:lnTo>
                    <a:pt x="1723" y="745"/>
                  </a:lnTo>
                  <a:lnTo>
                    <a:pt x="1721" y="729"/>
                  </a:lnTo>
                  <a:lnTo>
                    <a:pt x="1720" y="713"/>
                  </a:lnTo>
                  <a:lnTo>
                    <a:pt x="1719" y="697"/>
                  </a:lnTo>
                  <a:lnTo>
                    <a:pt x="1719" y="681"/>
                  </a:lnTo>
                  <a:lnTo>
                    <a:pt x="1720" y="666"/>
                  </a:lnTo>
                  <a:lnTo>
                    <a:pt x="1722" y="651"/>
                  </a:lnTo>
                  <a:lnTo>
                    <a:pt x="1716" y="641"/>
                  </a:lnTo>
                  <a:lnTo>
                    <a:pt x="1712" y="629"/>
                  </a:lnTo>
                  <a:lnTo>
                    <a:pt x="1708" y="616"/>
                  </a:lnTo>
                  <a:lnTo>
                    <a:pt x="1706" y="602"/>
                  </a:lnTo>
                  <a:lnTo>
                    <a:pt x="1706" y="587"/>
                  </a:lnTo>
                  <a:lnTo>
                    <a:pt x="1706" y="572"/>
                  </a:lnTo>
                  <a:lnTo>
                    <a:pt x="1707" y="556"/>
                  </a:lnTo>
                  <a:lnTo>
                    <a:pt x="1709" y="539"/>
                  </a:lnTo>
                  <a:lnTo>
                    <a:pt x="1712" y="523"/>
                  </a:lnTo>
                  <a:lnTo>
                    <a:pt x="1714" y="507"/>
                  </a:lnTo>
                  <a:lnTo>
                    <a:pt x="1717" y="492"/>
                  </a:lnTo>
                  <a:lnTo>
                    <a:pt x="1720" y="477"/>
                  </a:lnTo>
                  <a:lnTo>
                    <a:pt x="1722" y="463"/>
                  </a:lnTo>
                  <a:lnTo>
                    <a:pt x="1724" y="450"/>
                  </a:lnTo>
                  <a:lnTo>
                    <a:pt x="1727" y="438"/>
                  </a:lnTo>
                  <a:lnTo>
                    <a:pt x="1728" y="428"/>
                  </a:lnTo>
                  <a:lnTo>
                    <a:pt x="1740" y="418"/>
                  </a:lnTo>
                  <a:lnTo>
                    <a:pt x="1750" y="402"/>
                  </a:lnTo>
                  <a:lnTo>
                    <a:pt x="1759" y="383"/>
                  </a:lnTo>
                  <a:lnTo>
                    <a:pt x="1767" y="363"/>
                  </a:lnTo>
                  <a:lnTo>
                    <a:pt x="1775" y="343"/>
                  </a:lnTo>
                  <a:lnTo>
                    <a:pt x="1783" y="327"/>
                  </a:lnTo>
                  <a:lnTo>
                    <a:pt x="1793" y="315"/>
                  </a:lnTo>
                  <a:lnTo>
                    <a:pt x="1806" y="311"/>
                  </a:lnTo>
                  <a:lnTo>
                    <a:pt x="1808" y="275"/>
                  </a:lnTo>
                  <a:lnTo>
                    <a:pt x="1812" y="243"/>
                  </a:lnTo>
                  <a:lnTo>
                    <a:pt x="1821" y="214"/>
                  </a:lnTo>
                  <a:lnTo>
                    <a:pt x="1831" y="189"/>
                  </a:lnTo>
                  <a:lnTo>
                    <a:pt x="1844" y="167"/>
                  </a:lnTo>
                  <a:lnTo>
                    <a:pt x="1859" y="149"/>
                  </a:lnTo>
                  <a:lnTo>
                    <a:pt x="1876" y="131"/>
                  </a:lnTo>
                  <a:lnTo>
                    <a:pt x="1896" y="118"/>
                  </a:lnTo>
                  <a:lnTo>
                    <a:pt x="1916" y="105"/>
                  </a:lnTo>
                  <a:lnTo>
                    <a:pt x="1937" y="93"/>
                  </a:lnTo>
                  <a:lnTo>
                    <a:pt x="1960" y="83"/>
                  </a:lnTo>
                  <a:lnTo>
                    <a:pt x="1982" y="73"/>
                  </a:lnTo>
                  <a:lnTo>
                    <a:pt x="2006" y="63"/>
                  </a:lnTo>
                  <a:lnTo>
                    <a:pt x="2029" y="53"/>
                  </a:lnTo>
                  <a:lnTo>
                    <a:pt x="2053" y="44"/>
                  </a:lnTo>
                  <a:lnTo>
                    <a:pt x="2077" y="32"/>
                  </a:lnTo>
                  <a:lnTo>
                    <a:pt x="2101" y="19"/>
                  </a:lnTo>
                  <a:lnTo>
                    <a:pt x="2127" y="10"/>
                  </a:lnTo>
                  <a:lnTo>
                    <a:pt x="2151" y="3"/>
                  </a:lnTo>
                  <a:lnTo>
                    <a:pt x="2176" y="1"/>
                  </a:lnTo>
                  <a:lnTo>
                    <a:pt x="2200" y="0"/>
                  </a:lnTo>
                  <a:lnTo>
                    <a:pt x="2224" y="1"/>
                  </a:lnTo>
                  <a:lnTo>
                    <a:pt x="2248" y="5"/>
                  </a:lnTo>
                  <a:lnTo>
                    <a:pt x="2272" y="10"/>
                  </a:lnTo>
                  <a:lnTo>
                    <a:pt x="2297" y="15"/>
                  </a:lnTo>
                  <a:lnTo>
                    <a:pt x="2321" y="21"/>
                  </a:lnTo>
                  <a:lnTo>
                    <a:pt x="2345" y="28"/>
                  </a:lnTo>
                  <a:lnTo>
                    <a:pt x="2369" y="33"/>
                  </a:lnTo>
                  <a:lnTo>
                    <a:pt x="2393" y="38"/>
                  </a:lnTo>
                  <a:lnTo>
                    <a:pt x="2418" y="43"/>
                  </a:lnTo>
                  <a:lnTo>
                    <a:pt x="2444" y="46"/>
                  </a:lnTo>
                  <a:lnTo>
                    <a:pt x="2468" y="47"/>
                  </a:lnTo>
                  <a:lnTo>
                    <a:pt x="2481" y="62"/>
                  </a:lnTo>
                  <a:lnTo>
                    <a:pt x="2495" y="76"/>
                  </a:lnTo>
                  <a:lnTo>
                    <a:pt x="2511" y="90"/>
                  </a:lnTo>
                  <a:lnTo>
                    <a:pt x="2529" y="103"/>
                  </a:lnTo>
                  <a:lnTo>
                    <a:pt x="2548" y="115"/>
                  </a:lnTo>
                  <a:lnTo>
                    <a:pt x="2567" y="129"/>
                  </a:lnTo>
                  <a:lnTo>
                    <a:pt x="2586" y="143"/>
                  </a:lnTo>
                  <a:lnTo>
                    <a:pt x="2605" y="156"/>
                  </a:lnTo>
                  <a:lnTo>
                    <a:pt x="2625" y="171"/>
                  </a:lnTo>
                  <a:lnTo>
                    <a:pt x="2643" y="186"/>
                  </a:lnTo>
                  <a:lnTo>
                    <a:pt x="2661" y="202"/>
                  </a:lnTo>
                  <a:lnTo>
                    <a:pt x="2677" y="219"/>
                  </a:lnTo>
                  <a:lnTo>
                    <a:pt x="2692" y="237"/>
                  </a:lnTo>
                  <a:lnTo>
                    <a:pt x="2705" y="258"/>
                  </a:lnTo>
                  <a:lnTo>
                    <a:pt x="2716" y="279"/>
                  </a:lnTo>
                  <a:lnTo>
                    <a:pt x="2724" y="302"/>
                  </a:lnTo>
                  <a:lnTo>
                    <a:pt x="2730" y="319"/>
                  </a:lnTo>
                  <a:lnTo>
                    <a:pt x="2735" y="338"/>
                  </a:lnTo>
                  <a:lnTo>
                    <a:pt x="2742" y="359"/>
                  </a:lnTo>
                  <a:lnTo>
                    <a:pt x="2749" y="384"/>
                  </a:lnTo>
                  <a:lnTo>
                    <a:pt x="2756" y="410"/>
                  </a:lnTo>
                  <a:lnTo>
                    <a:pt x="2763" y="436"/>
                  </a:lnTo>
                  <a:lnTo>
                    <a:pt x="2769" y="464"/>
                  </a:lnTo>
                  <a:lnTo>
                    <a:pt x="2774" y="493"/>
                  </a:lnTo>
                  <a:lnTo>
                    <a:pt x="2779" y="521"/>
                  </a:lnTo>
                  <a:lnTo>
                    <a:pt x="2782" y="549"/>
                  </a:lnTo>
                  <a:lnTo>
                    <a:pt x="2784" y="576"/>
                  </a:lnTo>
                  <a:lnTo>
                    <a:pt x="2784" y="602"/>
                  </a:lnTo>
                  <a:lnTo>
                    <a:pt x="2782" y="626"/>
                  </a:lnTo>
                  <a:lnTo>
                    <a:pt x="2778" y="647"/>
                  </a:lnTo>
                  <a:lnTo>
                    <a:pt x="2770" y="667"/>
                  </a:lnTo>
                  <a:lnTo>
                    <a:pt x="2761" y="683"/>
                  </a:lnTo>
                  <a:lnTo>
                    <a:pt x="2762" y="695"/>
                  </a:lnTo>
                  <a:lnTo>
                    <a:pt x="2763" y="705"/>
                  </a:lnTo>
                  <a:lnTo>
                    <a:pt x="2765" y="714"/>
                  </a:lnTo>
                  <a:lnTo>
                    <a:pt x="2767" y="723"/>
                  </a:lnTo>
                  <a:lnTo>
                    <a:pt x="2769" y="732"/>
                  </a:lnTo>
                  <a:lnTo>
                    <a:pt x="2771" y="741"/>
                  </a:lnTo>
                  <a:lnTo>
                    <a:pt x="2772" y="751"/>
                  </a:lnTo>
                  <a:lnTo>
                    <a:pt x="2773" y="763"/>
                  </a:lnTo>
                  <a:lnTo>
                    <a:pt x="2769" y="769"/>
                  </a:lnTo>
                  <a:lnTo>
                    <a:pt x="2764" y="774"/>
                  </a:lnTo>
                  <a:lnTo>
                    <a:pt x="2758" y="780"/>
                  </a:lnTo>
                  <a:lnTo>
                    <a:pt x="2753" y="785"/>
                  </a:lnTo>
                  <a:lnTo>
                    <a:pt x="2747" y="788"/>
                  </a:lnTo>
                  <a:lnTo>
                    <a:pt x="2740" y="791"/>
                  </a:lnTo>
                  <a:lnTo>
                    <a:pt x="2733" y="794"/>
                  </a:lnTo>
                  <a:lnTo>
                    <a:pt x="2724" y="795"/>
                  </a:lnTo>
                  <a:lnTo>
                    <a:pt x="2723" y="807"/>
                  </a:lnTo>
                  <a:lnTo>
                    <a:pt x="2721" y="820"/>
                  </a:lnTo>
                  <a:lnTo>
                    <a:pt x="2719" y="834"/>
                  </a:lnTo>
                  <a:lnTo>
                    <a:pt x="2715" y="849"/>
                  </a:lnTo>
                  <a:lnTo>
                    <a:pt x="2709" y="864"/>
                  </a:lnTo>
                  <a:lnTo>
                    <a:pt x="2703" y="880"/>
                  </a:lnTo>
                  <a:lnTo>
                    <a:pt x="2696" y="896"/>
                  </a:lnTo>
                  <a:lnTo>
                    <a:pt x="2689" y="911"/>
                  </a:lnTo>
                  <a:lnTo>
                    <a:pt x="2681" y="927"/>
                  </a:lnTo>
                  <a:lnTo>
                    <a:pt x="2674" y="942"/>
                  </a:lnTo>
                  <a:lnTo>
                    <a:pt x="2665" y="957"/>
                  </a:lnTo>
                  <a:lnTo>
                    <a:pt x="2658" y="971"/>
                  </a:lnTo>
                  <a:lnTo>
                    <a:pt x="2649" y="984"/>
                  </a:lnTo>
                  <a:lnTo>
                    <a:pt x="2642" y="997"/>
                  </a:lnTo>
                  <a:lnTo>
                    <a:pt x="2634" y="1008"/>
                  </a:lnTo>
                  <a:lnTo>
                    <a:pt x="2627" y="1017"/>
                  </a:lnTo>
                  <a:lnTo>
                    <a:pt x="2621" y="1021"/>
                  </a:lnTo>
                  <a:lnTo>
                    <a:pt x="2616" y="1025"/>
                  </a:lnTo>
                  <a:lnTo>
                    <a:pt x="2610" y="1027"/>
                  </a:lnTo>
                  <a:lnTo>
                    <a:pt x="2603" y="1028"/>
                  </a:lnTo>
                  <a:lnTo>
                    <a:pt x="2597" y="1028"/>
                  </a:lnTo>
                  <a:lnTo>
                    <a:pt x="2590" y="1027"/>
                  </a:lnTo>
                  <a:lnTo>
                    <a:pt x="2584" y="1022"/>
                  </a:lnTo>
                  <a:lnTo>
                    <a:pt x="2578" y="1017"/>
                  </a:lnTo>
                  <a:lnTo>
                    <a:pt x="2570" y="1036"/>
                  </a:lnTo>
                  <a:lnTo>
                    <a:pt x="2563" y="1057"/>
                  </a:lnTo>
                  <a:lnTo>
                    <a:pt x="2553" y="1078"/>
                  </a:lnTo>
                  <a:lnTo>
                    <a:pt x="2543" y="1101"/>
                  </a:lnTo>
                  <a:lnTo>
                    <a:pt x="2533" y="1122"/>
                  </a:lnTo>
                  <a:lnTo>
                    <a:pt x="2522" y="1142"/>
                  </a:lnTo>
                  <a:lnTo>
                    <a:pt x="2510" y="1160"/>
                  </a:lnTo>
                  <a:lnTo>
                    <a:pt x="2497" y="1178"/>
                  </a:lnTo>
                  <a:lnTo>
                    <a:pt x="2494" y="1182"/>
                  </a:lnTo>
                  <a:lnTo>
                    <a:pt x="2490" y="1187"/>
                  </a:lnTo>
                  <a:lnTo>
                    <a:pt x="2487" y="1194"/>
                  </a:lnTo>
                  <a:lnTo>
                    <a:pt x="2482" y="1201"/>
                  </a:lnTo>
                  <a:lnTo>
                    <a:pt x="2479" y="1209"/>
                  </a:lnTo>
                  <a:lnTo>
                    <a:pt x="2475" y="1215"/>
                  </a:lnTo>
                  <a:lnTo>
                    <a:pt x="2473" y="1223"/>
                  </a:lnTo>
                  <a:lnTo>
                    <a:pt x="2469" y="1228"/>
                  </a:lnTo>
                  <a:close/>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5" name="Freeform 119"/>
            <p:cNvSpPr/>
            <p:nvPr/>
          </p:nvSpPr>
          <p:spPr>
            <a:xfrm>
              <a:off x="5778360" y="4431600"/>
              <a:ext cx="50400" cy="75240"/>
            </a:xfrm>
            <a:custGeom>
              <a:avLst/>
              <a:gdLst>
                <a:gd name="textAreaLeft" fmla="*/ 0 w 50400"/>
                <a:gd name="textAreaRight" fmla="*/ 50760 w 50400"/>
                <a:gd name="textAreaTop" fmla="*/ 0 h 75240"/>
                <a:gd name="textAreaBottom" fmla="*/ 75600 h 75240"/>
              </a:gdLst>
              <a:ahLst/>
              <a:rect l="textAreaLeft" t="textAreaTop" r="textAreaRight" b="textAreaBottom"/>
              <a:pathLst>
                <a:path w="333" h="573">
                  <a:moveTo>
                    <a:pt x="77" y="31"/>
                  </a:moveTo>
                  <a:lnTo>
                    <a:pt x="77" y="31"/>
                  </a:lnTo>
                  <a:lnTo>
                    <a:pt x="96" y="25"/>
                  </a:lnTo>
                  <a:lnTo>
                    <a:pt x="116" y="20"/>
                  </a:lnTo>
                  <a:lnTo>
                    <a:pt x="136" y="14"/>
                  </a:lnTo>
                  <a:lnTo>
                    <a:pt x="157" y="10"/>
                  </a:lnTo>
                  <a:lnTo>
                    <a:pt x="180" y="6"/>
                  </a:lnTo>
                  <a:lnTo>
                    <a:pt x="202" y="3"/>
                  </a:lnTo>
                  <a:lnTo>
                    <a:pt x="225" y="1"/>
                  </a:lnTo>
                  <a:lnTo>
                    <a:pt x="247" y="0"/>
                  </a:lnTo>
                  <a:lnTo>
                    <a:pt x="257" y="11"/>
                  </a:lnTo>
                  <a:lnTo>
                    <a:pt x="268" y="22"/>
                  </a:lnTo>
                  <a:lnTo>
                    <a:pt x="278" y="30"/>
                  </a:lnTo>
                  <a:lnTo>
                    <a:pt x="290" y="40"/>
                  </a:lnTo>
                  <a:lnTo>
                    <a:pt x="302" y="49"/>
                  </a:lnTo>
                  <a:lnTo>
                    <a:pt x="313" y="58"/>
                  </a:lnTo>
                  <a:lnTo>
                    <a:pt x="323" y="68"/>
                  </a:lnTo>
                  <a:lnTo>
                    <a:pt x="333" y="80"/>
                  </a:lnTo>
                  <a:lnTo>
                    <a:pt x="323" y="92"/>
                  </a:lnTo>
                  <a:lnTo>
                    <a:pt x="314" y="106"/>
                  </a:lnTo>
                  <a:lnTo>
                    <a:pt x="304" y="122"/>
                  </a:lnTo>
                  <a:lnTo>
                    <a:pt x="294" y="139"/>
                  </a:lnTo>
                  <a:lnTo>
                    <a:pt x="284" y="158"/>
                  </a:lnTo>
                  <a:lnTo>
                    <a:pt x="274" y="177"/>
                  </a:lnTo>
                  <a:lnTo>
                    <a:pt x="265" y="196"/>
                  </a:lnTo>
                  <a:lnTo>
                    <a:pt x="257" y="216"/>
                  </a:lnTo>
                  <a:lnTo>
                    <a:pt x="249" y="237"/>
                  </a:lnTo>
                  <a:lnTo>
                    <a:pt x="243" y="257"/>
                  </a:lnTo>
                  <a:lnTo>
                    <a:pt x="238" y="276"/>
                  </a:lnTo>
                  <a:lnTo>
                    <a:pt x="233" y="296"/>
                  </a:lnTo>
                  <a:lnTo>
                    <a:pt x="231" y="315"/>
                  </a:lnTo>
                  <a:lnTo>
                    <a:pt x="230" y="333"/>
                  </a:lnTo>
                  <a:lnTo>
                    <a:pt x="232" y="349"/>
                  </a:lnTo>
                  <a:lnTo>
                    <a:pt x="235" y="365"/>
                  </a:lnTo>
                  <a:lnTo>
                    <a:pt x="230" y="387"/>
                  </a:lnTo>
                  <a:lnTo>
                    <a:pt x="222" y="400"/>
                  </a:lnTo>
                  <a:lnTo>
                    <a:pt x="212" y="409"/>
                  </a:lnTo>
                  <a:lnTo>
                    <a:pt x="201" y="414"/>
                  </a:lnTo>
                  <a:lnTo>
                    <a:pt x="189" y="419"/>
                  </a:lnTo>
                  <a:lnTo>
                    <a:pt x="180" y="425"/>
                  </a:lnTo>
                  <a:lnTo>
                    <a:pt x="171" y="434"/>
                  </a:lnTo>
                  <a:lnTo>
                    <a:pt x="165" y="448"/>
                  </a:lnTo>
                  <a:lnTo>
                    <a:pt x="156" y="463"/>
                  </a:lnTo>
                  <a:lnTo>
                    <a:pt x="151" y="477"/>
                  </a:lnTo>
                  <a:lnTo>
                    <a:pt x="148" y="495"/>
                  </a:lnTo>
                  <a:lnTo>
                    <a:pt x="147" y="512"/>
                  </a:lnTo>
                  <a:lnTo>
                    <a:pt x="148" y="529"/>
                  </a:lnTo>
                  <a:lnTo>
                    <a:pt x="149" y="545"/>
                  </a:lnTo>
                  <a:lnTo>
                    <a:pt x="150" y="560"/>
                  </a:lnTo>
                  <a:lnTo>
                    <a:pt x="150" y="573"/>
                  </a:lnTo>
                  <a:lnTo>
                    <a:pt x="134" y="571"/>
                  </a:lnTo>
                  <a:lnTo>
                    <a:pt x="115" y="564"/>
                  </a:lnTo>
                  <a:lnTo>
                    <a:pt x="93" y="554"/>
                  </a:lnTo>
                  <a:lnTo>
                    <a:pt x="71" y="543"/>
                  </a:lnTo>
                  <a:lnTo>
                    <a:pt x="48" y="530"/>
                  </a:lnTo>
                  <a:lnTo>
                    <a:pt x="29" y="516"/>
                  </a:lnTo>
                  <a:lnTo>
                    <a:pt x="12" y="502"/>
                  </a:lnTo>
                  <a:lnTo>
                    <a:pt x="0" y="489"/>
                  </a:lnTo>
                  <a:lnTo>
                    <a:pt x="13" y="470"/>
                  </a:lnTo>
                  <a:lnTo>
                    <a:pt x="25" y="448"/>
                  </a:lnTo>
                  <a:lnTo>
                    <a:pt x="35" y="422"/>
                  </a:lnTo>
                  <a:lnTo>
                    <a:pt x="45" y="395"/>
                  </a:lnTo>
                  <a:lnTo>
                    <a:pt x="52" y="366"/>
                  </a:lnTo>
                  <a:lnTo>
                    <a:pt x="60" y="335"/>
                  </a:lnTo>
                  <a:lnTo>
                    <a:pt x="65" y="304"/>
                  </a:lnTo>
                  <a:lnTo>
                    <a:pt x="71" y="272"/>
                  </a:lnTo>
                  <a:lnTo>
                    <a:pt x="75" y="239"/>
                  </a:lnTo>
                  <a:lnTo>
                    <a:pt x="77" y="207"/>
                  </a:lnTo>
                  <a:lnTo>
                    <a:pt x="79" y="175"/>
                  </a:lnTo>
                  <a:lnTo>
                    <a:pt x="80" y="143"/>
                  </a:lnTo>
                  <a:lnTo>
                    <a:pt x="80" y="113"/>
                  </a:lnTo>
                  <a:lnTo>
                    <a:pt x="80" y="84"/>
                  </a:lnTo>
                  <a:lnTo>
                    <a:pt x="79" y="56"/>
                  </a:lnTo>
                  <a:lnTo>
                    <a:pt x="77" y="31"/>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ccecff"/>
                </a:solidFill>
                <a:latin typeface="Times New Roman"/>
              </a:endParaRPr>
            </a:p>
          </p:txBody>
        </p:sp>
        <p:sp>
          <p:nvSpPr>
            <p:cNvPr id="496" name="Freeform 120"/>
            <p:cNvSpPr/>
            <p:nvPr/>
          </p:nvSpPr>
          <p:spPr>
            <a:xfrm>
              <a:off x="5447880" y="4402080"/>
              <a:ext cx="84240" cy="91800"/>
            </a:xfrm>
            <a:custGeom>
              <a:avLst/>
              <a:gdLst>
                <a:gd name="textAreaLeft" fmla="*/ 0 w 84240"/>
                <a:gd name="textAreaRight" fmla="*/ 84600 w 84240"/>
                <a:gd name="textAreaTop" fmla="*/ 0 h 91800"/>
                <a:gd name="textAreaBottom" fmla="*/ 92160 h 91800"/>
              </a:gdLst>
              <a:ahLst/>
              <a:rect l="textAreaLeft" t="textAreaTop" r="textAreaRight" b="textAreaBottom"/>
              <a:pathLst>
                <a:path w="550" h="698">
                  <a:moveTo>
                    <a:pt x="0" y="0"/>
                  </a:moveTo>
                  <a:lnTo>
                    <a:pt x="0" y="0"/>
                  </a:lnTo>
                  <a:lnTo>
                    <a:pt x="4" y="18"/>
                  </a:lnTo>
                  <a:lnTo>
                    <a:pt x="10" y="35"/>
                  </a:lnTo>
                  <a:lnTo>
                    <a:pt x="14" y="53"/>
                  </a:lnTo>
                  <a:lnTo>
                    <a:pt x="17" y="71"/>
                  </a:lnTo>
                  <a:lnTo>
                    <a:pt x="20" y="89"/>
                  </a:lnTo>
                  <a:lnTo>
                    <a:pt x="22" y="107"/>
                  </a:lnTo>
                  <a:lnTo>
                    <a:pt x="25" y="124"/>
                  </a:lnTo>
                  <a:lnTo>
                    <a:pt x="25" y="142"/>
                  </a:lnTo>
                  <a:lnTo>
                    <a:pt x="31" y="152"/>
                  </a:lnTo>
                  <a:lnTo>
                    <a:pt x="39" y="161"/>
                  </a:lnTo>
                  <a:lnTo>
                    <a:pt x="45" y="171"/>
                  </a:lnTo>
                  <a:lnTo>
                    <a:pt x="51" y="181"/>
                  </a:lnTo>
                  <a:lnTo>
                    <a:pt x="58" y="191"/>
                  </a:lnTo>
                  <a:lnTo>
                    <a:pt x="64" y="202"/>
                  </a:lnTo>
                  <a:lnTo>
                    <a:pt x="70" y="213"/>
                  </a:lnTo>
                  <a:lnTo>
                    <a:pt x="75" y="223"/>
                  </a:lnTo>
                  <a:lnTo>
                    <a:pt x="80" y="235"/>
                  </a:lnTo>
                  <a:lnTo>
                    <a:pt x="85" y="247"/>
                  </a:lnTo>
                  <a:lnTo>
                    <a:pt x="89" y="258"/>
                  </a:lnTo>
                  <a:lnTo>
                    <a:pt x="92" y="269"/>
                  </a:lnTo>
                  <a:lnTo>
                    <a:pt x="95" y="281"/>
                  </a:lnTo>
                  <a:lnTo>
                    <a:pt x="96" y="294"/>
                  </a:lnTo>
                  <a:lnTo>
                    <a:pt x="98" y="306"/>
                  </a:lnTo>
                  <a:lnTo>
                    <a:pt x="98" y="318"/>
                  </a:lnTo>
                  <a:lnTo>
                    <a:pt x="123" y="318"/>
                  </a:lnTo>
                  <a:lnTo>
                    <a:pt x="144" y="326"/>
                  </a:lnTo>
                  <a:lnTo>
                    <a:pt x="164" y="340"/>
                  </a:lnTo>
                  <a:lnTo>
                    <a:pt x="181" y="358"/>
                  </a:lnTo>
                  <a:lnTo>
                    <a:pt x="195" y="379"/>
                  </a:lnTo>
                  <a:lnTo>
                    <a:pt x="208" y="400"/>
                  </a:lnTo>
                  <a:lnTo>
                    <a:pt x="219" y="418"/>
                  </a:lnTo>
                  <a:lnTo>
                    <a:pt x="230" y="434"/>
                  </a:lnTo>
                  <a:lnTo>
                    <a:pt x="248" y="437"/>
                  </a:lnTo>
                  <a:lnTo>
                    <a:pt x="265" y="445"/>
                  </a:lnTo>
                  <a:lnTo>
                    <a:pt x="283" y="458"/>
                  </a:lnTo>
                  <a:lnTo>
                    <a:pt x="300" y="474"/>
                  </a:lnTo>
                  <a:lnTo>
                    <a:pt x="317" y="492"/>
                  </a:lnTo>
                  <a:lnTo>
                    <a:pt x="333" y="513"/>
                  </a:lnTo>
                  <a:lnTo>
                    <a:pt x="349" y="536"/>
                  </a:lnTo>
                  <a:lnTo>
                    <a:pt x="364" y="559"/>
                  </a:lnTo>
                  <a:lnTo>
                    <a:pt x="379" y="583"/>
                  </a:lnTo>
                  <a:lnTo>
                    <a:pt x="394" y="606"/>
                  </a:lnTo>
                  <a:lnTo>
                    <a:pt x="409" y="629"/>
                  </a:lnTo>
                  <a:lnTo>
                    <a:pt x="423" y="649"/>
                  </a:lnTo>
                  <a:lnTo>
                    <a:pt x="437" y="666"/>
                  </a:lnTo>
                  <a:lnTo>
                    <a:pt x="451" y="681"/>
                  </a:lnTo>
                  <a:lnTo>
                    <a:pt x="463" y="692"/>
                  </a:lnTo>
                  <a:lnTo>
                    <a:pt x="476" y="698"/>
                  </a:lnTo>
                  <a:lnTo>
                    <a:pt x="485" y="688"/>
                  </a:lnTo>
                  <a:lnTo>
                    <a:pt x="496" y="680"/>
                  </a:lnTo>
                  <a:lnTo>
                    <a:pt x="505" y="676"/>
                  </a:lnTo>
                  <a:lnTo>
                    <a:pt x="516" y="673"/>
                  </a:lnTo>
                  <a:lnTo>
                    <a:pt x="527" y="672"/>
                  </a:lnTo>
                  <a:lnTo>
                    <a:pt x="535" y="671"/>
                  </a:lnTo>
                  <a:lnTo>
                    <a:pt x="544" y="670"/>
                  </a:lnTo>
                  <a:lnTo>
                    <a:pt x="550" y="667"/>
                  </a:lnTo>
                  <a:lnTo>
                    <a:pt x="527" y="636"/>
                  </a:lnTo>
                  <a:lnTo>
                    <a:pt x="504" y="605"/>
                  </a:lnTo>
                  <a:lnTo>
                    <a:pt x="481" y="572"/>
                  </a:lnTo>
                  <a:lnTo>
                    <a:pt x="456" y="539"/>
                  </a:lnTo>
                  <a:lnTo>
                    <a:pt x="431" y="505"/>
                  </a:lnTo>
                  <a:lnTo>
                    <a:pt x="407" y="472"/>
                  </a:lnTo>
                  <a:lnTo>
                    <a:pt x="382" y="437"/>
                  </a:lnTo>
                  <a:lnTo>
                    <a:pt x="356" y="404"/>
                  </a:lnTo>
                  <a:lnTo>
                    <a:pt x="330" y="372"/>
                  </a:lnTo>
                  <a:lnTo>
                    <a:pt x="304" y="341"/>
                  </a:lnTo>
                  <a:lnTo>
                    <a:pt x="277" y="311"/>
                  </a:lnTo>
                  <a:lnTo>
                    <a:pt x="249" y="282"/>
                  </a:lnTo>
                  <a:lnTo>
                    <a:pt x="222" y="256"/>
                  </a:lnTo>
                  <a:lnTo>
                    <a:pt x="193" y="232"/>
                  </a:lnTo>
                  <a:lnTo>
                    <a:pt x="164" y="210"/>
                  </a:lnTo>
                  <a:lnTo>
                    <a:pt x="135" y="190"/>
                  </a:lnTo>
                  <a:lnTo>
                    <a:pt x="124" y="183"/>
                  </a:lnTo>
                  <a:lnTo>
                    <a:pt x="113" y="174"/>
                  </a:lnTo>
                  <a:lnTo>
                    <a:pt x="103" y="164"/>
                  </a:lnTo>
                  <a:lnTo>
                    <a:pt x="93" y="152"/>
                  </a:lnTo>
                  <a:lnTo>
                    <a:pt x="83" y="138"/>
                  </a:lnTo>
                  <a:lnTo>
                    <a:pt x="75" y="124"/>
                  </a:lnTo>
                  <a:lnTo>
                    <a:pt x="66" y="110"/>
                  </a:lnTo>
                  <a:lnTo>
                    <a:pt x="58" y="95"/>
                  </a:lnTo>
                  <a:lnTo>
                    <a:pt x="50" y="80"/>
                  </a:lnTo>
                  <a:lnTo>
                    <a:pt x="43" y="65"/>
                  </a:lnTo>
                  <a:lnTo>
                    <a:pt x="35" y="51"/>
                  </a:lnTo>
                  <a:lnTo>
                    <a:pt x="28" y="38"/>
                  </a:lnTo>
                  <a:lnTo>
                    <a:pt x="20" y="27"/>
                  </a:lnTo>
                  <a:lnTo>
                    <a:pt x="14" y="16"/>
                  </a:lnTo>
                  <a:lnTo>
                    <a:pt x="6" y="6"/>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ccecff"/>
                </a:solidFill>
                <a:latin typeface="Times New Roman"/>
              </a:endParaRPr>
            </a:p>
          </p:txBody>
        </p:sp>
        <p:sp>
          <p:nvSpPr>
            <p:cNvPr id="497" name="Freeform 121"/>
            <p:cNvSpPr/>
            <p:nvPr/>
          </p:nvSpPr>
          <p:spPr>
            <a:xfrm>
              <a:off x="5334120" y="4038480"/>
              <a:ext cx="587520" cy="1213920"/>
            </a:xfrm>
            <a:custGeom>
              <a:avLst/>
              <a:gdLst>
                <a:gd name="textAreaLeft" fmla="*/ 0 w 587520"/>
                <a:gd name="textAreaRight" fmla="*/ 587880 w 587520"/>
                <a:gd name="textAreaTop" fmla="*/ 0 h 1213920"/>
                <a:gd name="textAreaBottom" fmla="*/ 1213920 h 1213920"/>
              </a:gdLst>
              <a:ahLst/>
              <a:rect l="textAreaLeft" t="textAreaTop" r="textAreaRight" b="textAreaBottom"/>
              <a:pathLst>
                <a:path w="3837" h="9184">
                  <a:moveTo>
                    <a:pt x="2469" y="1228"/>
                  </a:moveTo>
                  <a:lnTo>
                    <a:pt x="2469" y="1228"/>
                  </a:lnTo>
                  <a:lnTo>
                    <a:pt x="2478" y="1239"/>
                  </a:lnTo>
                  <a:lnTo>
                    <a:pt x="2491" y="1252"/>
                  </a:lnTo>
                  <a:lnTo>
                    <a:pt x="2504" y="1270"/>
                  </a:lnTo>
                  <a:lnTo>
                    <a:pt x="2519" y="1290"/>
                  </a:lnTo>
                  <a:lnTo>
                    <a:pt x="2531" y="1312"/>
                  </a:lnTo>
                  <a:lnTo>
                    <a:pt x="2544" y="1337"/>
                  </a:lnTo>
                  <a:lnTo>
                    <a:pt x="2553" y="1363"/>
                  </a:lnTo>
                  <a:lnTo>
                    <a:pt x="2558" y="1390"/>
                  </a:lnTo>
                  <a:lnTo>
                    <a:pt x="2570" y="1409"/>
                  </a:lnTo>
                  <a:lnTo>
                    <a:pt x="2581" y="1425"/>
                  </a:lnTo>
                  <a:lnTo>
                    <a:pt x="2591" y="1438"/>
                  </a:lnTo>
                  <a:lnTo>
                    <a:pt x="2602" y="1449"/>
                  </a:lnTo>
                  <a:lnTo>
                    <a:pt x="2614" y="1460"/>
                  </a:lnTo>
                  <a:lnTo>
                    <a:pt x="2628" y="1470"/>
                  </a:lnTo>
                  <a:lnTo>
                    <a:pt x="2643" y="1480"/>
                  </a:lnTo>
                  <a:lnTo>
                    <a:pt x="2660" y="1491"/>
                  </a:lnTo>
                  <a:lnTo>
                    <a:pt x="2680" y="1504"/>
                  </a:lnTo>
                  <a:lnTo>
                    <a:pt x="2703" y="1519"/>
                  </a:lnTo>
                  <a:lnTo>
                    <a:pt x="2730" y="1536"/>
                  </a:lnTo>
                  <a:lnTo>
                    <a:pt x="2761" y="1556"/>
                  </a:lnTo>
                  <a:lnTo>
                    <a:pt x="2796" y="1581"/>
                  </a:lnTo>
                  <a:lnTo>
                    <a:pt x="2835" y="1611"/>
                  </a:lnTo>
                  <a:lnTo>
                    <a:pt x="2880" y="1645"/>
                  </a:lnTo>
                  <a:lnTo>
                    <a:pt x="2932" y="1685"/>
                  </a:lnTo>
                  <a:lnTo>
                    <a:pt x="2940" y="1688"/>
                  </a:lnTo>
                  <a:lnTo>
                    <a:pt x="2949" y="1697"/>
                  </a:lnTo>
                  <a:lnTo>
                    <a:pt x="2955" y="1709"/>
                  </a:lnTo>
                  <a:lnTo>
                    <a:pt x="2963" y="1724"/>
                  </a:lnTo>
                  <a:lnTo>
                    <a:pt x="2969" y="1739"/>
                  </a:lnTo>
                  <a:lnTo>
                    <a:pt x="2977" y="1751"/>
                  </a:lnTo>
                  <a:lnTo>
                    <a:pt x="2984" y="1761"/>
                  </a:lnTo>
                  <a:lnTo>
                    <a:pt x="2993" y="1764"/>
                  </a:lnTo>
                  <a:lnTo>
                    <a:pt x="3031" y="1787"/>
                  </a:lnTo>
                  <a:lnTo>
                    <a:pt x="3068" y="1814"/>
                  </a:lnTo>
                  <a:lnTo>
                    <a:pt x="3104" y="1845"/>
                  </a:lnTo>
                  <a:lnTo>
                    <a:pt x="3139" y="1879"/>
                  </a:lnTo>
                  <a:lnTo>
                    <a:pt x="3175" y="1916"/>
                  </a:lnTo>
                  <a:lnTo>
                    <a:pt x="3208" y="1955"/>
                  </a:lnTo>
                  <a:lnTo>
                    <a:pt x="3241" y="1997"/>
                  </a:lnTo>
                  <a:lnTo>
                    <a:pt x="3274" y="2040"/>
                  </a:lnTo>
                  <a:lnTo>
                    <a:pt x="3306" y="2085"/>
                  </a:lnTo>
                  <a:lnTo>
                    <a:pt x="3339" y="2131"/>
                  </a:lnTo>
                  <a:lnTo>
                    <a:pt x="3371" y="2177"/>
                  </a:lnTo>
                  <a:lnTo>
                    <a:pt x="3403" y="2223"/>
                  </a:lnTo>
                  <a:lnTo>
                    <a:pt x="3434" y="2269"/>
                  </a:lnTo>
                  <a:lnTo>
                    <a:pt x="3466" y="2314"/>
                  </a:lnTo>
                  <a:lnTo>
                    <a:pt x="3498" y="2357"/>
                  </a:lnTo>
                  <a:lnTo>
                    <a:pt x="3530" y="2400"/>
                  </a:lnTo>
                  <a:lnTo>
                    <a:pt x="3578" y="2400"/>
                  </a:lnTo>
                  <a:lnTo>
                    <a:pt x="3603" y="2431"/>
                  </a:lnTo>
                  <a:lnTo>
                    <a:pt x="3608" y="2449"/>
                  </a:lnTo>
                  <a:lnTo>
                    <a:pt x="3615" y="2470"/>
                  </a:lnTo>
                  <a:lnTo>
                    <a:pt x="3622" y="2489"/>
                  </a:lnTo>
                  <a:lnTo>
                    <a:pt x="3631" y="2510"/>
                  </a:lnTo>
                  <a:lnTo>
                    <a:pt x="3640" y="2531"/>
                  </a:lnTo>
                  <a:lnTo>
                    <a:pt x="3651" y="2552"/>
                  </a:lnTo>
                  <a:lnTo>
                    <a:pt x="3662" y="2573"/>
                  </a:lnTo>
                  <a:lnTo>
                    <a:pt x="3673" y="2595"/>
                  </a:lnTo>
                  <a:lnTo>
                    <a:pt x="3684" y="2615"/>
                  </a:lnTo>
                  <a:lnTo>
                    <a:pt x="3696" y="2635"/>
                  </a:lnTo>
                  <a:lnTo>
                    <a:pt x="3708" y="2655"/>
                  </a:lnTo>
                  <a:lnTo>
                    <a:pt x="3720" y="2673"/>
                  </a:lnTo>
                  <a:lnTo>
                    <a:pt x="3730" y="2690"/>
                  </a:lnTo>
                  <a:lnTo>
                    <a:pt x="3741" y="2706"/>
                  </a:lnTo>
                  <a:lnTo>
                    <a:pt x="3752" y="2721"/>
                  </a:lnTo>
                  <a:lnTo>
                    <a:pt x="3761" y="2734"/>
                  </a:lnTo>
                  <a:lnTo>
                    <a:pt x="3761" y="2752"/>
                  </a:lnTo>
                  <a:lnTo>
                    <a:pt x="3759" y="2771"/>
                  </a:lnTo>
                  <a:lnTo>
                    <a:pt x="3758" y="2792"/>
                  </a:lnTo>
                  <a:lnTo>
                    <a:pt x="3756" y="2811"/>
                  </a:lnTo>
                  <a:lnTo>
                    <a:pt x="3753" y="2830"/>
                  </a:lnTo>
                  <a:lnTo>
                    <a:pt x="3752" y="2847"/>
                  </a:lnTo>
                  <a:lnTo>
                    <a:pt x="3750" y="2863"/>
                  </a:lnTo>
                  <a:lnTo>
                    <a:pt x="3750" y="2876"/>
                  </a:lnTo>
                  <a:lnTo>
                    <a:pt x="3758" y="2888"/>
                  </a:lnTo>
                  <a:lnTo>
                    <a:pt x="3767" y="2901"/>
                  </a:lnTo>
                  <a:lnTo>
                    <a:pt x="3773" y="2914"/>
                  </a:lnTo>
                  <a:lnTo>
                    <a:pt x="3781" y="2926"/>
                  </a:lnTo>
                  <a:lnTo>
                    <a:pt x="3786" y="2939"/>
                  </a:lnTo>
                  <a:lnTo>
                    <a:pt x="3791" y="2953"/>
                  </a:lnTo>
                  <a:lnTo>
                    <a:pt x="3797" y="2966"/>
                  </a:lnTo>
                  <a:lnTo>
                    <a:pt x="3802" y="2980"/>
                  </a:lnTo>
                  <a:lnTo>
                    <a:pt x="3806" y="2994"/>
                  </a:lnTo>
                  <a:lnTo>
                    <a:pt x="3811" y="3007"/>
                  </a:lnTo>
                  <a:lnTo>
                    <a:pt x="3815" y="3021"/>
                  </a:lnTo>
                  <a:lnTo>
                    <a:pt x="3818" y="3033"/>
                  </a:lnTo>
                  <a:lnTo>
                    <a:pt x="3822" y="3046"/>
                  </a:lnTo>
                  <a:lnTo>
                    <a:pt x="3827" y="3059"/>
                  </a:lnTo>
                  <a:lnTo>
                    <a:pt x="3831" y="3072"/>
                  </a:lnTo>
                  <a:lnTo>
                    <a:pt x="3835" y="3084"/>
                  </a:lnTo>
                  <a:lnTo>
                    <a:pt x="3832" y="3093"/>
                  </a:lnTo>
                  <a:lnTo>
                    <a:pt x="3829" y="3103"/>
                  </a:lnTo>
                  <a:lnTo>
                    <a:pt x="3825" y="3114"/>
                  </a:lnTo>
                  <a:lnTo>
                    <a:pt x="3820" y="3124"/>
                  </a:lnTo>
                  <a:lnTo>
                    <a:pt x="3815" y="3135"/>
                  </a:lnTo>
                  <a:lnTo>
                    <a:pt x="3808" y="3147"/>
                  </a:lnTo>
                  <a:lnTo>
                    <a:pt x="3803" y="3159"/>
                  </a:lnTo>
                  <a:lnTo>
                    <a:pt x="3797" y="3170"/>
                  </a:lnTo>
                  <a:lnTo>
                    <a:pt x="3790" y="3183"/>
                  </a:lnTo>
                  <a:lnTo>
                    <a:pt x="3784" y="3195"/>
                  </a:lnTo>
                  <a:lnTo>
                    <a:pt x="3777" y="3207"/>
                  </a:lnTo>
                  <a:lnTo>
                    <a:pt x="3772" y="3217"/>
                  </a:lnTo>
                  <a:lnTo>
                    <a:pt x="3766" y="3228"/>
                  </a:lnTo>
                  <a:lnTo>
                    <a:pt x="3760" y="3239"/>
                  </a:lnTo>
                  <a:lnTo>
                    <a:pt x="3755" y="3248"/>
                  </a:lnTo>
                  <a:lnTo>
                    <a:pt x="3750" y="3258"/>
                  </a:lnTo>
                  <a:lnTo>
                    <a:pt x="3752" y="3268"/>
                  </a:lnTo>
                  <a:lnTo>
                    <a:pt x="3752" y="3279"/>
                  </a:lnTo>
                  <a:lnTo>
                    <a:pt x="3752" y="3292"/>
                  </a:lnTo>
                  <a:lnTo>
                    <a:pt x="3751" y="3306"/>
                  </a:lnTo>
                  <a:lnTo>
                    <a:pt x="3749" y="3321"/>
                  </a:lnTo>
                  <a:lnTo>
                    <a:pt x="3746" y="3337"/>
                  </a:lnTo>
                  <a:lnTo>
                    <a:pt x="3743" y="3353"/>
                  </a:lnTo>
                  <a:lnTo>
                    <a:pt x="3740" y="3369"/>
                  </a:lnTo>
                  <a:lnTo>
                    <a:pt x="3737" y="3386"/>
                  </a:lnTo>
                  <a:lnTo>
                    <a:pt x="3732" y="3402"/>
                  </a:lnTo>
                  <a:lnTo>
                    <a:pt x="3729" y="3417"/>
                  </a:lnTo>
                  <a:lnTo>
                    <a:pt x="3725" y="3432"/>
                  </a:lnTo>
                  <a:lnTo>
                    <a:pt x="3722" y="3446"/>
                  </a:lnTo>
                  <a:lnTo>
                    <a:pt x="3717" y="3459"/>
                  </a:lnTo>
                  <a:lnTo>
                    <a:pt x="3714" y="3471"/>
                  </a:lnTo>
                  <a:lnTo>
                    <a:pt x="3712" y="3480"/>
                  </a:lnTo>
                  <a:lnTo>
                    <a:pt x="3713" y="3487"/>
                  </a:lnTo>
                  <a:lnTo>
                    <a:pt x="3714" y="3492"/>
                  </a:lnTo>
                  <a:lnTo>
                    <a:pt x="3716" y="3499"/>
                  </a:lnTo>
                  <a:lnTo>
                    <a:pt x="3719" y="3504"/>
                  </a:lnTo>
                  <a:lnTo>
                    <a:pt x="3721" y="3510"/>
                  </a:lnTo>
                  <a:lnTo>
                    <a:pt x="3723" y="3517"/>
                  </a:lnTo>
                  <a:lnTo>
                    <a:pt x="3724" y="3522"/>
                  </a:lnTo>
                  <a:lnTo>
                    <a:pt x="3725" y="3529"/>
                  </a:lnTo>
                  <a:lnTo>
                    <a:pt x="3715" y="3539"/>
                  </a:lnTo>
                  <a:lnTo>
                    <a:pt x="3707" y="3547"/>
                  </a:lnTo>
                  <a:lnTo>
                    <a:pt x="3698" y="3554"/>
                  </a:lnTo>
                  <a:lnTo>
                    <a:pt x="3691" y="3560"/>
                  </a:lnTo>
                  <a:lnTo>
                    <a:pt x="3684" y="3566"/>
                  </a:lnTo>
                  <a:lnTo>
                    <a:pt x="3680" y="3572"/>
                  </a:lnTo>
                  <a:lnTo>
                    <a:pt x="3677" y="3581"/>
                  </a:lnTo>
                  <a:lnTo>
                    <a:pt x="3676" y="3592"/>
                  </a:lnTo>
                  <a:lnTo>
                    <a:pt x="3680" y="3591"/>
                  </a:lnTo>
                  <a:lnTo>
                    <a:pt x="3685" y="3590"/>
                  </a:lnTo>
                  <a:lnTo>
                    <a:pt x="3690" y="3586"/>
                  </a:lnTo>
                  <a:lnTo>
                    <a:pt x="3694" y="3583"/>
                  </a:lnTo>
                  <a:lnTo>
                    <a:pt x="3699" y="3581"/>
                  </a:lnTo>
                  <a:lnTo>
                    <a:pt x="3704" y="3578"/>
                  </a:lnTo>
                  <a:lnTo>
                    <a:pt x="3708" y="3577"/>
                  </a:lnTo>
                  <a:lnTo>
                    <a:pt x="3712" y="3576"/>
                  </a:lnTo>
                  <a:lnTo>
                    <a:pt x="3716" y="3577"/>
                  </a:lnTo>
                  <a:lnTo>
                    <a:pt x="3722" y="3578"/>
                  </a:lnTo>
                  <a:lnTo>
                    <a:pt x="3726" y="3581"/>
                  </a:lnTo>
                  <a:lnTo>
                    <a:pt x="3731" y="3583"/>
                  </a:lnTo>
                  <a:lnTo>
                    <a:pt x="3736" y="3586"/>
                  </a:lnTo>
                  <a:lnTo>
                    <a:pt x="3740" y="3590"/>
                  </a:lnTo>
                  <a:lnTo>
                    <a:pt x="3745" y="3591"/>
                  </a:lnTo>
                  <a:lnTo>
                    <a:pt x="3750" y="3592"/>
                  </a:lnTo>
                  <a:lnTo>
                    <a:pt x="3750" y="3656"/>
                  </a:lnTo>
                  <a:lnTo>
                    <a:pt x="3731" y="3678"/>
                  </a:lnTo>
                  <a:lnTo>
                    <a:pt x="3713" y="3698"/>
                  </a:lnTo>
                  <a:lnTo>
                    <a:pt x="3694" y="3716"/>
                  </a:lnTo>
                  <a:lnTo>
                    <a:pt x="3676" y="3733"/>
                  </a:lnTo>
                  <a:lnTo>
                    <a:pt x="3658" y="3749"/>
                  </a:lnTo>
                  <a:lnTo>
                    <a:pt x="3639" y="3765"/>
                  </a:lnTo>
                  <a:lnTo>
                    <a:pt x="3621" y="3781"/>
                  </a:lnTo>
                  <a:lnTo>
                    <a:pt x="3603" y="3798"/>
                  </a:lnTo>
                  <a:lnTo>
                    <a:pt x="3586" y="3790"/>
                  </a:lnTo>
                  <a:lnTo>
                    <a:pt x="3568" y="3782"/>
                  </a:lnTo>
                  <a:lnTo>
                    <a:pt x="3548" y="3777"/>
                  </a:lnTo>
                  <a:lnTo>
                    <a:pt x="3528" y="3770"/>
                  </a:lnTo>
                  <a:lnTo>
                    <a:pt x="3507" y="3766"/>
                  </a:lnTo>
                  <a:lnTo>
                    <a:pt x="3485" y="3762"/>
                  </a:lnTo>
                  <a:lnTo>
                    <a:pt x="3463" y="3760"/>
                  </a:lnTo>
                  <a:lnTo>
                    <a:pt x="3439" y="3756"/>
                  </a:lnTo>
                  <a:lnTo>
                    <a:pt x="3417" y="3754"/>
                  </a:lnTo>
                  <a:lnTo>
                    <a:pt x="3393" y="3753"/>
                  </a:lnTo>
                  <a:lnTo>
                    <a:pt x="3370" y="3752"/>
                  </a:lnTo>
                  <a:lnTo>
                    <a:pt x="3347" y="3751"/>
                  </a:lnTo>
                  <a:lnTo>
                    <a:pt x="3325" y="3751"/>
                  </a:lnTo>
                  <a:lnTo>
                    <a:pt x="3303" y="3751"/>
                  </a:lnTo>
                  <a:lnTo>
                    <a:pt x="3282" y="3751"/>
                  </a:lnTo>
                  <a:lnTo>
                    <a:pt x="3261" y="3751"/>
                  </a:lnTo>
                  <a:lnTo>
                    <a:pt x="3251" y="3762"/>
                  </a:lnTo>
                  <a:lnTo>
                    <a:pt x="3242" y="3771"/>
                  </a:lnTo>
                  <a:lnTo>
                    <a:pt x="3234" y="3782"/>
                  </a:lnTo>
                  <a:lnTo>
                    <a:pt x="3227" y="3793"/>
                  </a:lnTo>
                  <a:lnTo>
                    <a:pt x="3220" y="3805"/>
                  </a:lnTo>
                  <a:lnTo>
                    <a:pt x="3214" y="3815"/>
                  </a:lnTo>
                  <a:lnTo>
                    <a:pt x="3208" y="3827"/>
                  </a:lnTo>
                  <a:lnTo>
                    <a:pt x="3203" y="3838"/>
                  </a:lnTo>
                  <a:lnTo>
                    <a:pt x="3183" y="3852"/>
                  </a:lnTo>
                  <a:lnTo>
                    <a:pt x="3165" y="3860"/>
                  </a:lnTo>
                  <a:lnTo>
                    <a:pt x="3147" y="3863"/>
                  </a:lnTo>
                  <a:lnTo>
                    <a:pt x="3129" y="3863"/>
                  </a:lnTo>
                  <a:lnTo>
                    <a:pt x="3111" y="3861"/>
                  </a:lnTo>
                  <a:lnTo>
                    <a:pt x="3093" y="3855"/>
                  </a:lnTo>
                  <a:lnTo>
                    <a:pt x="3077" y="3847"/>
                  </a:lnTo>
                  <a:lnTo>
                    <a:pt x="3060" y="3839"/>
                  </a:lnTo>
                  <a:lnTo>
                    <a:pt x="3050" y="3839"/>
                  </a:lnTo>
                  <a:lnTo>
                    <a:pt x="3038" y="3838"/>
                  </a:lnTo>
                  <a:lnTo>
                    <a:pt x="3027" y="3837"/>
                  </a:lnTo>
                  <a:lnTo>
                    <a:pt x="3017" y="3836"/>
                  </a:lnTo>
                  <a:lnTo>
                    <a:pt x="3010" y="3832"/>
                  </a:lnTo>
                  <a:lnTo>
                    <a:pt x="3005" y="3828"/>
                  </a:lnTo>
                  <a:lnTo>
                    <a:pt x="3004" y="3823"/>
                  </a:lnTo>
                  <a:lnTo>
                    <a:pt x="3006" y="3814"/>
                  </a:lnTo>
                  <a:lnTo>
                    <a:pt x="3001" y="3815"/>
                  </a:lnTo>
                  <a:lnTo>
                    <a:pt x="2996" y="3816"/>
                  </a:lnTo>
                  <a:lnTo>
                    <a:pt x="2992" y="3820"/>
                  </a:lnTo>
                  <a:lnTo>
                    <a:pt x="2987" y="3822"/>
                  </a:lnTo>
                  <a:lnTo>
                    <a:pt x="2982" y="3825"/>
                  </a:lnTo>
                  <a:lnTo>
                    <a:pt x="2978" y="3828"/>
                  </a:lnTo>
                  <a:lnTo>
                    <a:pt x="2974" y="3829"/>
                  </a:lnTo>
                  <a:lnTo>
                    <a:pt x="2969" y="3830"/>
                  </a:lnTo>
                  <a:lnTo>
                    <a:pt x="2975" y="3845"/>
                  </a:lnTo>
                  <a:lnTo>
                    <a:pt x="2982" y="3864"/>
                  </a:lnTo>
                  <a:lnTo>
                    <a:pt x="2989" y="3886"/>
                  </a:lnTo>
                  <a:lnTo>
                    <a:pt x="2996" y="3909"/>
                  </a:lnTo>
                  <a:lnTo>
                    <a:pt x="3002" y="3934"/>
                  </a:lnTo>
                  <a:lnTo>
                    <a:pt x="3007" y="3955"/>
                  </a:lnTo>
                  <a:lnTo>
                    <a:pt x="3008" y="3975"/>
                  </a:lnTo>
                  <a:lnTo>
                    <a:pt x="3006" y="3990"/>
                  </a:lnTo>
                  <a:lnTo>
                    <a:pt x="3103" y="4117"/>
                  </a:lnTo>
                  <a:lnTo>
                    <a:pt x="3103" y="4130"/>
                  </a:lnTo>
                  <a:lnTo>
                    <a:pt x="3103" y="4143"/>
                  </a:lnTo>
                  <a:lnTo>
                    <a:pt x="3102" y="4158"/>
                  </a:lnTo>
                  <a:lnTo>
                    <a:pt x="3102" y="4173"/>
                  </a:lnTo>
                  <a:lnTo>
                    <a:pt x="3100" y="4188"/>
                  </a:lnTo>
                  <a:lnTo>
                    <a:pt x="3098" y="4201"/>
                  </a:lnTo>
                  <a:lnTo>
                    <a:pt x="3095" y="4215"/>
                  </a:lnTo>
                  <a:lnTo>
                    <a:pt x="3090" y="4228"/>
                  </a:lnTo>
                  <a:lnTo>
                    <a:pt x="3151" y="4307"/>
                  </a:lnTo>
                  <a:lnTo>
                    <a:pt x="3151" y="4370"/>
                  </a:lnTo>
                  <a:lnTo>
                    <a:pt x="3189" y="4419"/>
                  </a:lnTo>
                  <a:lnTo>
                    <a:pt x="3189" y="4482"/>
                  </a:lnTo>
                  <a:lnTo>
                    <a:pt x="3164" y="4514"/>
                  </a:lnTo>
                  <a:lnTo>
                    <a:pt x="3164" y="4546"/>
                  </a:lnTo>
                  <a:lnTo>
                    <a:pt x="3166" y="4553"/>
                  </a:lnTo>
                  <a:lnTo>
                    <a:pt x="3172" y="4563"/>
                  </a:lnTo>
                  <a:lnTo>
                    <a:pt x="3179" y="4573"/>
                  </a:lnTo>
                  <a:lnTo>
                    <a:pt x="3189" y="4583"/>
                  </a:lnTo>
                  <a:lnTo>
                    <a:pt x="3197" y="4593"/>
                  </a:lnTo>
                  <a:lnTo>
                    <a:pt x="3205" y="4601"/>
                  </a:lnTo>
                  <a:lnTo>
                    <a:pt x="3210" y="4607"/>
                  </a:lnTo>
                  <a:lnTo>
                    <a:pt x="3212" y="4609"/>
                  </a:lnTo>
                  <a:lnTo>
                    <a:pt x="3213" y="4638"/>
                  </a:lnTo>
                  <a:lnTo>
                    <a:pt x="3215" y="4667"/>
                  </a:lnTo>
                  <a:lnTo>
                    <a:pt x="3219" y="4693"/>
                  </a:lnTo>
                  <a:lnTo>
                    <a:pt x="3223" y="4720"/>
                  </a:lnTo>
                  <a:lnTo>
                    <a:pt x="3229" y="4746"/>
                  </a:lnTo>
                  <a:lnTo>
                    <a:pt x="3236" y="4770"/>
                  </a:lnTo>
                  <a:lnTo>
                    <a:pt x="3244" y="4794"/>
                  </a:lnTo>
                  <a:lnTo>
                    <a:pt x="3253" y="4818"/>
                  </a:lnTo>
                  <a:lnTo>
                    <a:pt x="3264" y="4840"/>
                  </a:lnTo>
                  <a:lnTo>
                    <a:pt x="3274" y="4862"/>
                  </a:lnTo>
                  <a:lnTo>
                    <a:pt x="3286" y="4884"/>
                  </a:lnTo>
                  <a:lnTo>
                    <a:pt x="3299" y="4905"/>
                  </a:lnTo>
                  <a:lnTo>
                    <a:pt x="3313" y="4927"/>
                  </a:lnTo>
                  <a:lnTo>
                    <a:pt x="3327" y="4948"/>
                  </a:lnTo>
                  <a:lnTo>
                    <a:pt x="3342" y="4969"/>
                  </a:lnTo>
                  <a:lnTo>
                    <a:pt x="3358" y="4990"/>
                  </a:lnTo>
                  <a:lnTo>
                    <a:pt x="3358" y="5003"/>
                  </a:lnTo>
                  <a:lnTo>
                    <a:pt x="3359" y="5016"/>
                  </a:lnTo>
                  <a:lnTo>
                    <a:pt x="3359" y="5031"/>
                  </a:lnTo>
                  <a:lnTo>
                    <a:pt x="3360" y="5048"/>
                  </a:lnTo>
                  <a:lnTo>
                    <a:pt x="3361" y="5064"/>
                  </a:lnTo>
                  <a:lnTo>
                    <a:pt x="3362" y="5081"/>
                  </a:lnTo>
                  <a:lnTo>
                    <a:pt x="3364" y="5099"/>
                  </a:lnTo>
                  <a:lnTo>
                    <a:pt x="3365" y="5117"/>
                  </a:lnTo>
                  <a:lnTo>
                    <a:pt x="3367" y="5134"/>
                  </a:lnTo>
                  <a:lnTo>
                    <a:pt x="3370" y="5152"/>
                  </a:lnTo>
                  <a:lnTo>
                    <a:pt x="3372" y="5169"/>
                  </a:lnTo>
                  <a:lnTo>
                    <a:pt x="3374" y="5187"/>
                  </a:lnTo>
                  <a:lnTo>
                    <a:pt x="3376" y="5203"/>
                  </a:lnTo>
                  <a:lnTo>
                    <a:pt x="3378" y="5218"/>
                  </a:lnTo>
                  <a:lnTo>
                    <a:pt x="3380" y="5231"/>
                  </a:lnTo>
                  <a:lnTo>
                    <a:pt x="3382" y="5244"/>
                  </a:lnTo>
                  <a:lnTo>
                    <a:pt x="3378" y="5257"/>
                  </a:lnTo>
                  <a:lnTo>
                    <a:pt x="3374" y="5270"/>
                  </a:lnTo>
                  <a:lnTo>
                    <a:pt x="3370" y="5285"/>
                  </a:lnTo>
                  <a:lnTo>
                    <a:pt x="3365" y="5301"/>
                  </a:lnTo>
                  <a:lnTo>
                    <a:pt x="3362" y="5318"/>
                  </a:lnTo>
                  <a:lnTo>
                    <a:pt x="3360" y="5335"/>
                  </a:lnTo>
                  <a:lnTo>
                    <a:pt x="3359" y="5352"/>
                  </a:lnTo>
                  <a:lnTo>
                    <a:pt x="3358" y="5371"/>
                  </a:lnTo>
                  <a:lnTo>
                    <a:pt x="3395" y="5419"/>
                  </a:lnTo>
                  <a:lnTo>
                    <a:pt x="3402" y="5441"/>
                  </a:lnTo>
                  <a:lnTo>
                    <a:pt x="3409" y="5467"/>
                  </a:lnTo>
                  <a:lnTo>
                    <a:pt x="3416" y="5496"/>
                  </a:lnTo>
                  <a:lnTo>
                    <a:pt x="3422" y="5528"/>
                  </a:lnTo>
                  <a:lnTo>
                    <a:pt x="3427" y="5561"/>
                  </a:lnTo>
                  <a:lnTo>
                    <a:pt x="3433" y="5595"/>
                  </a:lnTo>
                  <a:lnTo>
                    <a:pt x="3438" y="5630"/>
                  </a:lnTo>
                  <a:lnTo>
                    <a:pt x="3442" y="5667"/>
                  </a:lnTo>
                  <a:lnTo>
                    <a:pt x="3446" y="5704"/>
                  </a:lnTo>
                  <a:lnTo>
                    <a:pt x="3449" y="5741"/>
                  </a:lnTo>
                  <a:lnTo>
                    <a:pt x="3451" y="5776"/>
                  </a:lnTo>
                  <a:lnTo>
                    <a:pt x="3451" y="5810"/>
                  </a:lnTo>
                  <a:lnTo>
                    <a:pt x="3451" y="5843"/>
                  </a:lnTo>
                  <a:lnTo>
                    <a:pt x="3450" y="5874"/>
                  </a:lnTo>
                  <a:lnTo>
                    <a:pt x="3448" y="5902"/>
                  </a:lnTo>
                  <a:lnTo>
                    <a:pt x="3443" y="5928"/>
                  </a:lnTo>
                  <a:lnTo>
                    <a:pt x="3445" y="5941"/>
                  </a:lnTo>
                  <a:lnTo>
                    <a:pt x="3447" y="5953"/>
                  </a:lnTo>
                  <a:lnTo>
                    <a:pt x="3449" y="5967"/>
                  </a:lnTo>
                  <a:lnTo>
                    <a:pt x="3453" y="5982"/>
                  </a:lnTo>
                  <a:lnTo>
                    <a:pt x="3458" y="5998"/>
                  </a:lnTo>
                  <a:lnTo>
                    <a:pt x="3464" y="6014"/>
                  </a:lnTo>
                  <a:lnTo>
                    <a:pt x="3470" y="6030"/>
                  </a:lnTo>
                  <a:lnTo>
                    <a:pt x="3476" y="6047"/>
                  </a:lnTo>
                  <a:lnTo>
                    <a:pt x="3482" y="6063"/>
                  </a:lnTo>
                  <a:lnTo>
                    <a:pt x="3488" y="6079"/>
                  </a:lnTo>
                  <a:lnTo>
                    <a:pt x="3495" y="6095"/>
                  </a:lnTo>
                  <a:lnTo>
                    <a:pt x="3501" y="6111"/>
                  </a:lnTo>
                  <a:lnTo>
                    <a:pt x="3507" y="6126"/>
                  </a:lnTo>
                  <a:lnTo>
                    <a:pt x="3511" y="6140"/>
                  </a:lnTo>
                  <a:lnTo>
                    <a:pt x="3514" y="6152"/>
                  </a:lnTo>
                  <a:lnTo>
                    <a:pt x="3517" y="6165"/>
                  </a:lnTo>
                  <a:lnTo>
                    <a:pt x="3519" y="6178"/>
                  </a:lnTo>
                  <a:lnTo>
                    <a:pt x="3523" y="6191"/>
                  </a:lnTo>
                  <a:lnTo>
                    <a:pt x="3526" y="6206"/>
                  </a:lnTo>
                  <a:lnTo>
                    <a:pt x="3528" y="6221"/>
                  </a:lnTo>
                  <a:lnTo>
                    <a:pt x="3531" y="6236"/>
                  </a:lnTo>
                  <a:lnTo>
                    <a:pt x="3534" y="6252"/>
                  </a:lnTo>
                  <a:lnTo>
                    <a:pt x="3538" y="6269"/>
                  </a:lnTo>
                  <a:lnTo>
                    <a:pt x="3541" y="6285"/>
                  </a:lnTo>
                  <a:lnTo>
                    <a:pt x="3543" y="6301"/>
                  </a:lnTo>
                  <a:lnTo>
                    <a:pt x="3545" y="6317"/>
                  </a:lnTo>
                  <a:lnTo>
                    <a:pt x="3548" y="6333"/>
                  </a:lnTo>
                  <a:lnTo>
                    <a:pt x="3549" y="6349"/>
                  </a:lnTo>
                  <a:lnTo>
                    <a:pt x="3552" y="6364"/>
                  </a:lnTo>
                  <a:lnTo>
                    <a:pt x="3553" y="6378"/>
                  </a:lnTo>
                  <a:lnTo>
                    <a:pt x="3554" y="6391"/>
                  </a:lnTo>
                  <a:lnTo>
                    <a:pt x="3554" y="6404"/>
                  </a:lnTo>
                  <a:lnTo>
                    <a:pt x="3575" y="6436"/>
                  </a:lnTo>
                  <a:lnTo>
                    <a:pt x="3593" y="6471"/>
                  </a:lnTo>
                  <a:lnTo>
                    <a:pt x="3608" y="6510"/>
                  </a:lnTo>
                  <a:lnTo>
                    <a:pt x="3621" y="6551"/>
                  </a:lnTo>
                  <a:lnTo>
                    <a:pt x="3632" y="6594"/>
                  </a:lnTo>
                  <a:lnTo>
                    <a:pt x="3641" y="6640"/>
                  </a:lnTo>
                  <a:lnTo>
                    <a:pt x="3649" y="6686"/>
                  </a:lnTo>
                  <a:lnTo>
                    <a:pt x="3655" y="6734"/>
                  </a:lnTo>
                  <a:lnTo>
                    <a:pt x="3662" y="6781"/>
                  </a:lnTo>
                  <a:lnTo>
                    <a:pt x="3667" y="6830"/>
                  </a:lnTo>
                  <a:lnTo>
                    <a:pt x="3673" y="6877"/>
                  </a:lnTo>
                  <a:lnTo>
                    <a:pt x="3679" y="6923"/>
                  </a:lnTo>
                  <a:lnTo>
                    <a:pt x="3685" y="6967"/>
                  </a:lnTo>
                  <a:lnTo>
                    <a:pt x="3693" y="7010"/>
                  </a:lnTo>
                  <a:lnTo>
                    <a:pt x="3701" y="7050"/>
                  </a:lnTo>
                  <a:lnTo>
                    <a:pt x="3712" y="7087"/>
                  </a:lnTo>
                  <a:lnTo>
                    <a:pt x="3717" y="7099"/>
                  </a:lnTo>
                  <a:lnTo>
                    <a:pt x="3724" y="7112"/>
                  </a:lnTo>
                  <a:lnTo>
                    <a:pt x="3729" y="7124"/>
                  </a:lnTo>
                  <a:lnTo>
                    <a:pt x="3736" y="7138"/>
                  </a:lnTo>
                  <a:lnTo>
                    <a:pt x="3741" y="7151"/>
                  </a:lnTo>
                  <a:lnTo>
                    <a:pt x="3745" y="7165"/>
                  </a:lnTo>
                  <a:lnTo>
                    <a:pt x="3749" y="7181"/>
                  </a:lnTo>
                  <a:lnTo>
                    <a:pt x="3750" y="7199"/>
                  </a:lnTo>
                  <a:lnTo>
                    <a:pt x="3743" y="7208"/>
                  </a:lnTo>
                  <a:lnTo>
                    <a:pt x="3738" y="7221"/>
                  </a:lnTo>
                  <a:lnTo>
                    <a:pt x="3734" y="7235"/>
                  </a:lnTo>
                  <a:lnTo>
                    <a:pt x="3730" y="7250"/>
                  </a:lnTo>
                  <a:lnTo>
                    <a:pt x="3727" y="7266"/>
                  </a:lnTo>
                  <a:lnTo>
                    <a:pt x="3726" y="7284"/>
                  </a:lnTo>
                  <a:lnTo>
                    <a:pt x="3725" y="7301"/>
                  </a:lnTo>
                  <a:lnTo>
                    <a:pt x="3725" y="7320"/>
                  </a:lnTo>
                  <a:lnTo>
                    <a:pt x="3725" y="7339"/>
                  </a:lnTo>
                  <a:lnTo>
                    <a:pt x="3726" y="7358"/>
                  </a:lnTo>
                  <a:lnTo>
                    <a:pt x="3727" y="7376"/>
                  </a:lnTo>
                  <a:lnTo>
                    <a:pt x="3728" y="7393"/>
                  </a:lnTo>
                  <a:lnTo>
                    <a:pt x="3730" y="7410"/>
                  </a:lnTo>
                  <a:lnTo>
                    <a:pt x="3732" y="7426"/>
                  </a:lnTo>
                  <a:lnTo>
                    <a:pt x="3735" y="7440"/>
                  </a:lnTo>
                  <a:lnTo>
                    <a:pt x="3737" y="7453"/>
                  </a:lnTo>
                  <a:lnTo>
                    <a:pt x="3742" y="7484"/>
                  </a:lnTo>
                  <a:lnTo>
                    <a:pt x="3747" y="7515"/>
                  </a:lnTo>
                  <a:lnTo>
                    <a:pt x="3751" y="7546"/>
                  </a:lnTo>
                  <a:lnTo>
                    <a:pt x="3755" y="7577"/>
                  </a:lnTo>
                  <a:lnTo>
                    <a:pt x="3757" y="7608"/>
                  </a:lnTo>
                  <a:lnTo>
                    <a:pt x="3760" y="7639"/>
                  </a:lnTo>
                  <a:lnTo>
                    <a:pt x="3761" y="7670"/>
                  </a:lnTo>
                  <a:lnTo>
                    <a:pt x="3762" y="7701"/>
                  </a:lnTo>
                  <a:lnTo>
                    <a:pt x="3763" y="7731"/>
                  </a:lnTo>
                  <a:lnTo>
                    <a:pt x="3765" y="7762"/>
                  </a:lnTo>
                  <a:lnTo>
                    <a:pt x="3765" y="7793"/>
                  </a:lnTo>
                  <a:lnTo>
                    <a:pt x="3763" y="7823"/>
                  </a:lnTo>
                  <a:lnTo>
                    <a:pt x="3763" y="7854"/>
                  </a:lnTo>
                  <a:lnTo>
                    <a:pt x="3762" y="7884"/>
                  </a:lnTo>
                  <a:lnTo>
                    <a:pt x="3761" y="7915"/>
                  </a:lnTo>
                  <a:lnTo>
                    <a:pt x="3760" y="7945"/>
                  </a:lnTo>
                  <a:lnTo>
                    <a:pt x="3758" y="7976"/>
                  </a:lnTo>
                  <a:lnTo>
                    <a:pt x="3757" y="8007"/>
                  </a:lnTo>
                  <a:lnTo>
                    <a:pt x="3755" y="8037"/>
                  </a:lnTo>
                  <a:lnTo>
                    <a:pt x="3753" y="8068"/>
                  </a:lnTo>
                  <a:lnTo>
                    <a:pt x="3751" y="8098"/>
                  </a:lnTo>
                  <a:lnTo>
                    <a:pt x="3750" y="8129"/>
                  </a:lnTo>
                  <a:lnTo>
                    <a:pt x="3747" y="8160"/>
                  </a:lnTo>
                  <a:lnTo>
                    <a:pt x="3745" y="8190"/>
                  </a:lnTo>
                  <a:lnTo>
                    <a:pt x="3744" y="8221"/>
                  </a:lnTo>
                  <a:lnTo>
                    <a:pt x="3742" y="8252"/>
                  </a:lnTo>
                  <a:lnTo>
                    <a:pt x="3741" y="8283"/>
                  </a:lnTo>
                  <a:lnTo>
                    <a:pt x="3739" y="8314"/>
                  </a:lnTo>
                  <a:lnTo>
                    <a:pt x="3738" y="8345"/>
                  </a:lnTo>
                  <a:lnTo>
                    <a:pt x="3738" y="8376"/>
                  </a:lnTo>
                  <a:lnTo>
                    <a:pt x="3737" y="8407"/>
                  </a:lnTo>
                  <a:lnTo>
                    <a:pt x="3737" y="8438"/>
                  </a:lnTo>
                  <a:lnTo>
                    <a:pt x="3738" y="8445"/>
                  </a:lnTo>
                  <a:lnTo>
                    <a:pt x="3742" y="8452"/>
                  </a:lnTo>
                  <a:lnTo>
                    <a:pt x="3747" y="8459"/>
                  </a:lnTo>
                  <a:lnTo>
                    <a:pt x="3755" y="8466"/>
                  </a:lnTo>
                  <a:lnTo>
                    <a:pt x="3763" y="8474"/>
                  </a:lnTo>
                  <a:lnTo>
                    <a:pt x="3773" y="8481"/>
                  </a:lnTo>
                  <a:lnTo>
                    <a:pt x="3783" y="8491"/>
                  </a:lnTo>
                  <a:lnTo>
                    <a:pt x="3792" y="8501"/>
                  </a:lnTo>
                  <a:lnTo>
                    <a:pt x="3803" y="8513"/>
                  </a:lnTo>
                  <a:lnTo>
                    <a:pt x="3812" y="8526"/>
                  </a:lnTo>
                  <a:lnTo>
                    <a:pt x="3820" y="8541"/>
                  </a:lnTo>
                  <a:lnTo>
                    <a:pt x="3828" y="8557"/>
                  </a:lnTo>
                  <a:lnTo>
                    <a:pt x="3833" y="8576"/>
                  </a:lnTo>
                  <a:lnTo>
                    <a:pt x="3836" y="8597"/>
                  </a:lnTo>
                  <a:lnTo>
                    <a:pt x="3837" y="8620"/>
                  </a:lnTo>
                  <a:lnTo>
                    <a:pt x="3835" y="8646"/>
                  </a:lnTo>
                  <a:lnTo>
                    <a:pt x="3828" y="8654"/>
                  </a:lnTo>
                  <a:lnTo>
                    <a:pt x="3815" y="8667"/>
                  </a:lnTo>
                  <a:lnTo>
                    <a:pt x="3799" y="8684"/>
                  </a:lnTo>
                  <a:lnTo>
                    <a:pt x="3782" y="8702"/>
                  </a:lnTo>
                  <a:lnTo>
                    <a:pt x="3765" y="8723"/>
                  </a:lnTo>
                  <a:lnTo>
                    <a:pt x="3751" y="8741"/>
                  </a:lnTo>
                  <a:lnTo>
                    <a:pt x="3740" y="8758"/>
                  </a:lnTo>
                  <a:lnTo>
                    <a:pt x="3737" y="8772"/>
                  </a:lnTo>
                  <a:lnTo>
                    <a:pt x="3715" y="8755"/>
                  </a:lnTo>
                  <a:lnTo>
                    <a:pt x="3694" y="8740"/>
                  </a:lnTo>
                  <a:lnTo>
                    <a:pt x="3673" y="8727"/>
                  </a:lnTo>
                  <a:lnTo>
                    <a:pt x="3651" y="8717"/>
                  </a:lnTo>
                  <a:lnTo>
                    <a:pt x="3631" y="8710"/>
                  </a:lnTo>
                  <a:lnTo>
                    <a:pt x="3609" y="8705"/>
                  </a:lnTo>
                  <a:lnTo>
                    <a:pt x="3589" y="8702"/>
                  </a:lnTo>
                  <a:lnTo>
                    <a:pt x="3569" y="8701"/>
                  </a:lnTo>
                  <a:lnTo>
                    <a:pt x="3547" y="8702"/>
                  </a:lnTo>
                  <a:lnTo>
                    <a:pt x="3526" y="8706"/>
                  </a:lnTo>
                  <a:lnTo>
                    <a:pt x="3506" y="8711"/>
                  </a:lnTo>
                  <a:lnTo>
                    <a:pt x="3484" y="8718"/>
                  </a:lnTo>
                  <a:lnTo>
                    <a:pt x="3462" y="8727"/>
                  </a:lnTo>
                  <a:lnTo>
                    <a:pt x="3440" y="8737"/>
                  </a:lnTo>
                  <a:lnTo>
                    <a:pt x="3418" y="8749"/>
                  </a:lnTo>
                  <a:lnTo>
                    <a:pt x="3394" y="8762"/>
                  </a:lnTo>
                  <a:lnTo>
                    <a:pt x="3373" y="8786"/>
                  </a:lnTo>
                  <a:lnTo>
                    <a:pt x="3351" y="8812"/>
                  </a:lnTo>
                  <a:lnTo>
                    <a:pt x="3331" y="8838"/>
                  </a:lnTo>
                  <a:lnTo>
                    <a:pt x="3310" y="8866"/>
                  </a:lnTo>
                  <a:lnTo>
                    <a:pt x="3288" y="8895"/>
                  </a:lnTo>
                  <a:lnTo>
                    <a:pt x="3267" y="8924"/>
                  </a:lnTo>
                  <a:lnTo>
                    <a:pt x="3246" y="8953"/>
                  </a:lnTo>
                  <a:lnTo>
                    <a:pt x="3225" y="8981"/>
                  </a:lnTo>
                  <a:lnTo>
                    <a:pt x="3204" y="9007"/>
                  </a:lnTo>
                  <a:lnTo>
                    <a:pt x="3182" y="9032"/>
                  </a:lnTo>
                  <a:lnTo>
                    <a:pt x="3162" y="9054"/>
                  </a:lnTo>
                  <a:lnTo>
                    <a:pt x="3141" y="9075"/>
                  </a:lnTo>
                  <a:lnTo>
                    <a:pt x="3119" y="9093"/>
                  </a:lnTo>
                  <a:lnTo>
                    <a:pt x="3098" y="9107"/>
                  </a:lnTo>
                  <a:lnTo>
                    <a:pt x="3076" y="9116"/>
                  </a:lnTo>
                  <a:lnTo>
                    <a:pt x="3055" y="9123"/>
                  </a:lnTo>
                  <a:lnTo>
                    <a:pt x="3045" y="9129"/>
                  </a:lnTo>
                  <a:lnTo>
                    <a:pt x="3037" y="9131"/>
                  </a:lnTo>
                  <a:lnTo>
                    <a:pt x="3028" y="9130"/>
                  </a:lnTo>
                  <a:lnTo>
                    <a:pt x="3022" y="9125"/>
                  </a:lnTo>
                  <a:lnTo>
                    <a:pt x="3015" y="9117"/>
                  </a:lnTo>
                  <a:lnTo>
                    <a:pt x="3009" y="9107"/>
                  </a:lnTo>
                  <a:lnTo>
                    <a:pt x="3004" y="9095"/>
                  </a:lnTo>
                  <a:lnTo>
                    <a:pt x="2999" y="9081"/>
                  </a:lnTo>
                  <a:lnTo>
                    <a:pt x="2995" y="9067"/>
                  </a:lnTo>
                  <a:lnTo>
                    <a:pt x="2991" y="9052"/>
                  </a:lnTo>
                  <a:lnTo>
                    <a:pt x="2987" y="9037"/>
                  </a:lnTo>
                  <a:lnTo>
                    <a:pt x="2984" y="9023"/>
                  </a:lnTo>
                  <a:lnTo>
                    <a:pt x="2981" y="9009"/>
                  </a:lnTo>
                  <a:lnTo>
                    <a:pt x="2979" y="8998"/>
                  </a:lnTo>
                  <a:lnTo>
                    <a:pt x="2976" y="8988"/>
                  </a:lnTo>
                  <a:lnTo>
                    <a:pt x="2974" y="8981"/>
                  </a:lnTo>
                  <a:lnTo>
                    <a:pt x="2967" y="8959"/>
                  </a:lnTo>
                  <a:lnTo>
                    <a:pt x="2962" y="8936"/>
                  </a:lnTo>
                  <a:lnTo>
                    <a:pt x="2957" y="8912"/>
                  </a:lnTo>
                  <a:lnTo>
                    <a:pt x="2953" y="8886"/>
                  </a:lnTo>
                  <a:lnTo>
                    <a:pt x="2950" y="8861"/>
                  </a:lnTo>
                  <a:lnTo>
                    <a:pt x="2947" y="8835"/>
                  </a:lnTo>
                  <a:lnTo>
                    <a:pt x="2944" y="8808"/>
                  </a:lnTo>
                  <a:lnTo>
                    <a:pt x="2940" y="8781"/>
                  </a:lnTo>
                  <a:lnTo>
                    <a:pt x="2938" y="8754"/>
                  </a:lnTo>
                  <a:lnTo>
                    <a:pt x="2935" y="8727"/>
                  </a:lnTo>
                  <a:lnTo>
                    <a:pt x="2932" y="8701"/>
                  </a:lnTo>
                  <a:lnTo>
                    <a:pt x="2929" y="8676"/>
                  </a:lnTo>
                  <a:lnTo>
                    <a:pt x="2924" y="8650"/>
                  </a:lnTo>
                  <a:lnTo>
                    <a:pt x="2919" y="8626"/>
                  </a:lnTo>
                  <a:lnTo>
                    <a:pt x="2914" y="8603"/>
                  </a:lnTo>
                  <a:lnTo>
                    <a:pt x="2907" y="8582"/>
                  </a:lnTo>
                  <a:lnTo>
                    <a:pt x="2898" y="8555"/>
                  </a:lnTo>
                  <a:lnTo>
                    <a:pt x="2888" y="8528"/>
                  </a:lnTo>
                  <a:lnTo>
                    <a:pt x="2877" y="8501"/>
                  </a:lnTo>
                  <a:lnTo>
                    <a:pt x="2867" y="8474"/>
                  </a:lnTo>
                  <a:lnTo>
                    <a:pt x="2856" y="8447"/>
                  </a:lnTo>
                  <a:lnTo>
                    <a:pt x="2846" y="8420"/>
                  </a:lnTo>
                  <a:lnTo>
                    <a:pt x="2835" y="8392"/>
                  </a:lnTo>
                  <a:lnTo>
                    <a:pt x="2825" y="8365"/>
                  </a:lnTo>
                  <a:lnTo>
                    <a:pt x="2814" y="8338"/>
                  </a:lnTo>
                  <a:lnTo>
                    <a:pt x="2804" y="8310"/>
                  </a:lnTo>
                  <a:lnTo>
                    <a:pt x="2796" y="8282"/>
                  </a:lnTo>
                  <a:lnTo>
                    <a:pt x="2787" y="8253"/>
                  </a:lnTo>
                  <a:lnTo>
                    <a:pt x="2779" y="8224"/>
                  </a:lnTo>
                  <a:lnTo>
                    <a:pt x="2772" y="8195"/>
                  </a:lnTo>
                  <a:lnTo>
                    <a:pt x="2766" y="8167"/>
                  </a:lnTo>
                  <a:lnTo>
                    <a:pt x="2761" y="8137"/>
                  </a:lnTo>
                  <a:lnTo>
                    <a:pt x="2755" y="8106"/>
                  </a:lnTo>
                  <a:lnTo>
                    <a:pt x="2750" y="8075"/>
                  </a:lnTo>
                  <a:lnTo>
                    <a:pt x="2744" y="8041"/>
                  </a:lnTo>
                  <a:lnTo>
                    <a:pt x="2737" y="8007"/>
                  </a:lnTo>
                  <a:lnTo>
                    <a:pt x="2731" y="7973"/>
                  </a:lnTo>
                  <a:lnTo>
                    <a:pt x="2723" y="7938"/>
                  </a:lnTo>
                  <a:lnTo>
                    <a:pt x="2717" y="7902"/>
                  </a:lnTo>
                  <a:lnTo>
                    <a:pt x="2709" y="7866"/>
                  </a:lnTo>
                  <a:lnTo>
                    <a:pt x="2703" y="7831"/>
                  </a:lnTo>
                  <a:lnTo>
                    <a:pt x="2696" y="7795"/>
                  </a:lnTo>
                  <a:lnTo>
                    <a:pt x="2691" y="7760"/>
                  </a:lnTo>
                  <a:lnTo>
                    <a:pt x="2686" y="7725"/>
                  </a:lnTo>
                  <a:lnTo>
                    <a:pt x="2681" y="7692"/>
                  </a:lnTo>
                  <a:lnTo>
                    <a:pt x="2678" y="7658"/>
                  </a:lnTo>
                  <a:lnTo>
                    <a:pt x="2677" y="7626"/>
                  </a:lnTo>
                  <a:lnTo>
                    <a:pt x="2676" y="7596"/>
                  </a:lnTo>
                  <a:lnTo>
                    <a:pt x="2651" y="7564"/>
                  </a:lnTo>
                  <a:lnTo>
                    <a:pt x="2644" y="7541"/>
                  </a:lnTo>
                  <a:lnTo>
                    <a:pt x="2636" y="7516"/>
                  </a:lnTo>
                  <a:lnTo>
                    <a:pt x="2629" y="7492"/>
                  </a:lnTo>
                  <a:lnTo>
                    <a:pt x="2622" y="7466"/>
                  </a:lnTo>
                  <a:lnTo>
                    <a:pt x="2616" y="7441"/>
                  </a:lnTo>
                  <a:lnTo>
                    <a:pt x="2610" y="7416"/>
                  </a:lnTo>
                  <a:lnTo>
                    <a:pt x="2604" y="7390"/>
                  </a:lnTo>
                  <a:lnTo>
                    <a:pt x="2599" y="7363"/>
                  </a:lnTo>
                  <a:lnTo>
                    <a:pt x="2594" y="7338"/>
                  </a:lnTo>
                  <a:lnTo>
                    <a:pt x="2588" y="7311"/>
                  </a:lnTo>
                  <a:lnTo>
                    <a:pt x="2584" y="7284"/>
                  </a:lnTo>
                  <a:lnTo>
                    <a:pt x="2579" y="7258"/>
                  </a:lnTo>
                  <a:lnTo>
                    <a:pt x="2574" y="7232"/>
                  </a:lnTo>
                  <a:lnTo>
                    <a:pt x="2570" y="7205"/>
                  </a:lnTo>
                  <a:lnTo>
                    <a:pt x="2566" y="7178"/>
                  </a:lnTo>
                  <a:lnTo>
                    <a:pt x="2561" y="7150"/>
                  </a:lnTo>
                  <a:lnTo>
                    <a:pt x="2556" y="7124"/>
                  </a:lnTo>
                  <a:lnTo>
                    <a:pt x="2552" y="7097"/>
                  </a:lnTo>
                  <a:lnTo>
                    <a:pt x="2548" y="7070"/>
                  </a:lnTo>
                  <a:lnTo>
                    <a:pt x="2543" y="7043"/>
                  </a:lnTo>
                  <a:lnTo>
                    <a:pt x="2539" y="7018"/>
                  </a:lnTo>
                  <a:lnTo>
                    <a:pt x="2535" y="6991"/>
                  </a:lnTo>
                  <a:lnTo>
                    <a:pt x="2530" y="6964"/>
                  </a:lnTo>
                  <a:lnTo>
                    <a:pt x="2525" y="6939"/>
                  </a:lnTo>
                  <a:lnTo>
                    <a:pt x="2521" y="6912"/>
                  </a:lnTo>
                  <a:lnTo>
                    <a:pt x="2515" y="6886"/>
                  </a:lnTo>
                  <a:lnTo>
                    <a:pt x="2510" y="6861"/>
                  </a:lnTo>
                  <a:lnTo>
                    <a:pt x="2505" y="6836"/>
                  </a:lnTo>
                  <a:lnTo>
                    <a:pt x="2499" y="6810"/>
                  </a:lnTo>
                  <a:lnTo>
                    <a:pt x="2493" y="6786"/>
                  </a:lnTo>
                  <a:lnTo>
                    <a:pt x="2487" y="6761"/>
                  </a:lnTo>
                  <a:lnTo>
                    <a:pt x="2480" y="6738"/>
                  </a:lnTo>
                  <a:lnTo>
                    <a:pt x="2468" y="6698"/>
                  </a:lnTo>
                  <a:lnTo>
                    <a:pt x="2458" y="6658"/>
                  </a:lnTo>
                  <a:lnTo>
                    <a:pt x="2446" y="6619"/>
                  </a:lnTo>
                  <a:lnTo>
                    <a:pt x="2435" y="6577"/>
                  </a:lnTo>
                  <a:lnTo>
                    <a:pt x="2423" y="6536"/>
                  </a:lnTo>
                  <a:lnTo>
                    <a:pt x="2413" y="6495"/>
                  </a:lnTo>
                  <a:lnTo>
                    <a:pt x="2402" y="6452"/>
                  </a:lnTo>
                  <a:lnTo>
                    <a:pt x="2391" y="6410"/>
                  </a:lnTo>
                  <a:lnTo>
                    <a:pt x="2382" y="6367"/>
                  </a:lnTo>
                  <a:lnTo>
                    <a:pt x="2371" y="6325"/>
                  </a:lnTo>
                  <a:lnTo>
                    <a:pt x="2362" y="6282"/>
                  </a:lnTo>
                  <a:lnTo>
                    <a:pt x="2353" y="6239"/>
                  </a:lnTo>
                  <a:lnTo>
                    <a:pt x="2344" y="6196"/>
                  </a:lnTo>
                  <a:lnTo>
                    <a:pt x="2336" y="6155"/>
                  </a:lnTo>
                  <a:lnTo>
                    <a:pt x="2328" y="6112"/>
                  </a:lnTo>
                  <a:lnTo>
                    <a:pt x="2321" y="6070"/>
                  </a:lnTo>
                  <a:lnTo>
                    <a:pt x="2320" y="6097"/>
                  </a:lnTo>
                  <a:lnTo>
                    <a:pt x="2318" y="6122"/>
                  </a:lnTo>
                  <a:lnTo>
                    <a:pt x="2315" y="6148"/>
                  </a:lnTo>
                  <a:lnTo>
                    <a:pt x="2311" y="6173"/>
                  </a:lnTo>
                  <a:lnTo>
                    <a:pt x="2306" y="6196"/>
                  </a:lnTo>
                  <a:lnTo>
                    <a:pt x="2300" y="6220"/>
                  </a:lnTo>
                  <a:lnTo>
                    <a:pt x="2294" y="6243"/>
                  </a:lnTo>
                  <a:lnTo>
                    <a:pt x="2287" y="6267"/>
                  </a:lnTo>
                  <a:lnTo>
                    <a:pt x="2280" y="6290"/>
                  </a:lnTo>
                  <a:lnTo>
                    <a:pt x="2274" y="6313"/>
                  </a:lnTo>
                  <a:lnTo>
                    <a:pt x="2266" y="6335"/>
                  </a:lnTo>
                  <a:lnTo>
                    <a:pt x="2260" y="6359"/>
                  </a:lnTo>
                  <a:lnTo>
                    <a:pt x="2252" y="6381"/>
                  </a:lnTo>
                  <a:lnTo>
                    <a:pt x="2247" y="6405"/>
                  </a:lnTo>
                  <a:lnTo>
                    <a:pt x="2241" y="6428"/>
                  </a:lnTo>
                  <a:lnTo>
                    <a:pt x="2236" y="6452"/>
                  </a:lnTo>
                  <a:lnTo>
                    <a:pt x="2232" y="6479"/>
                  </a:lnTo>
                  <a:lnTo>
                    <a:pt x="2230" y="6506"/>
                  </a:lnTo>
                  <a:lnTo>
                    <a:pt x="2227" y="6533"/>
                  </a:lnTo>
                  <a:lnTo>
                    <a:pt x="2226" y="6561"/>
                  </a:lnTo>
                  <a:lnTo>
                    <a:pt x="2225" y="6589"/>
                  </a:lnTo>
                  <a:lnTo>
                    <a:pt x="2224" y="6617"/>
                  </a:lnTo>
                  <a:lnTo>
                    <a:pt x="2223" y="6643"/>
                  </a:lnTo>
                  <a:lnTo>
                    <a:pt x="2222" y="6670"/>
                  </a:lnTo>
                  <a:lnTo>
                    <a:pt x="2220" y="6697"/>
                  </a:lnTo>
                  <a:lnTo>
                    <a:pt x="2217" y="6723"/>
                  </a:lnTo>
                  <a:lnTo>
                    <a:pt x="2213" y="6748"/>
                  </a:lnTo>
                  <a:lnTo>
                    <a:pt x="2206" y="6774"/>
                  </a:lnTo>
                  <a:lnTo>
                    <a:pt x="2199" y="6797"/>
                  </a:lnTo>
                  <a:lnTo>
                    <a:pt x="2189" y="6821"/>
                  </a:lnTo>
                  <a:lnTo>
                    <a:pt x="2177" y="6843"/>
                  </a:lnTo>
                  <a:lnTo>
                    <a:pt x="2162" y="6865"/>
                  </a:lnTo>
                  <a:lnTo>
                    <a:pt x="2163" y="6878"/>
                  </a:lnTo>
                  <a:lnTo>
                    <a:pt x="2166" y="6894"/>
                  </a:lnTo>
                  <a:lnTo>
                    <a:pt x="2171" y="6911"/>
                  </a:lnTo>
                  <a:lnTo>
                    <a:pt x="2176" y="6928"/>
                  </a:lnTo>
                  <a:lnTo>
                    <a:pt x="2183" y="6946"/>
                  </a:lnTo>
                  <a:lnTo>
                    <a:pt x="2188" y="6963"/>
                  </a:lnTo>
                  <a:lnTo>
                    <a:pt x="2194" y="6979"/>
                  </a:lnTo>
                  <a:lnTo>
                    <a:pt x="2200" y="6992"/>
                  </a:lnTo>
                  <a:lnTo>
                    <a:pt x="2193" y="7034"/>
                  </a:lnTo>
                  <a:lnTo>
                    <a:pt x="2189" y="7077"/>
                  </a:lnTo>
                  <a:lnTo>
                    <a:pt x="2186" y="7118"/>
                  </a:lnTo>
                  <a:lnTo>
                    <a:pt x="2185" y="7161"/>
                  </a:lnTo>
                  <a:lnTo>
                    <a:pt x="2186" y="7204"/>
                  </a:lnTo>
                  <a:lnTo>
                    <a:pt x="2187" y="7246"/>
                  </a:lnTo>
                  <a:lnTo>
                    <a:pt x="2190" y="7288"/>
                  </a:lnTo>
                  <a:lnTo>
                    <a:pt x="2194" y="7330"/>
                  </a:lnTo>
                  <a:lnTo>
                    <a:pt x="2201" y="7372"/>
                  </a:lnTo>
                  <a:lnTo>
                    <a:pt x="2207" y="7412"/>
                  </a:lnTo>
                  <a:lnTo>
                    <a:pt x="2216" y="7453"/>
                  </a:lnTo>
                  <a:lnTo>
                    <a:pt x="2225" y="7493"/>
                  </a:lnTo>
                  <a:lnTo>
                    <a:pt x="2235" y="7532"/>
                  </a:lnTo>
                  <a:lnTo>
                    <a:pt x="2247" y="7570"/>
                  </a:lnTo>
                  <a:lnTo>
                    <a:pt x="2260" y="7607"/>
                  </a:lnTo>
                  <a:lnTo>
                    <a:pt x="2272" y="7643"/>
                  </a:lnTo>
                  <a:lnTo>
                    <a:pt x="2268" y="7662"/>
                  </a:lnTo>
                  <a:lnTo>
                    <a:pt x="2263" y="7680"/>
                  </a:lnTo>
                  <a:lnTo>
                    <a:pt x="2259" y="7698"/>
                  </a:lnTo>
                  <a:lnTo>
                    <a:pt x="2255" y="7717"/>
                  </a:lnTo>
                  <a:lnTo>
                    <a:pt x="2252" y="7738"/>
                  </a:lnTo>
                  <a:lnTo>
                    <a:pt x="2250" y="7758"/>
                  </a:lnTo>
                  <a:lnTo>
                    <a:pt x="2248" y="7780"/>
                  </a:lnTo>
                  <a:lnTo>
                    <a:pt x="2248" y="7803"/>
                  </a:lnTo>
                  <a:lnTo>
                    <a:pt x="2254" y="7812"/>
                  </a:lnTo>
                  <a:lnTo>
                    <a:pt x="2261" y="7823"/>
                  </a:lnTo>
                  <a:lnTo>
                    <a:pt x="2266" y="7834"/>
                  </a:lnTo>
                  <a:lnTo>
                    <a:pt x="2271" y="7847"/>
                  </a:lnTo>
                  <a:lnTo>
                    <a:pt x="2276" y="7858"/>
                  </a:lnTo>
                  <a:lnTo>
                    <a:pt x="2280" y="7871"/>
                  </a:lnTo>
                  <a:lnTo>
                    <a:pt x="2284" y="7885"/>
                  </a:lnTo>
                  <a:lnTo>
                    <a:pt x="2287" y="7898"/>
                  </a:lnTo>
                  <a:lnTo>
                    <a:pt x="2291" y="7912"/>
                  </a:lnTo>
                  <a:lnTo>
                    <a:pt x="2294" y="7925"/>
                  </a:lnTo>
                  <a:lnTo>
                    <a:pt x="2297" y="7938"/>
                  </a:lnTo>
                  <a:lnTo>
                    <a:pt x="2299" y="7950"/>
                  </a:lnTo>
                  <a:lnTo>
                    <a:pt x="2302" y="7962"/>
                  </a:lnTo>
                  <a:lnTo>
                    <a:pt x="2305" y="7974"/>
                  </a:lnTo>
                  <a:lnTo>
                    <a:pt x="2307" y="7984"/>
                  </a:lnTo>
                  <a:lnTo>
                    <a:pt x="2309" y="7993"/>
                  </a:lnTo>
                  <a:lnTo>
                    <a:pt x="2323" y="8029"/>
                  </a:lnTo>
                  <a:lnTo>
                    <a:pt x="2340" y="8064"/>
                  </a:lnTo>
                  <a:lnTo>
                    <a:pt x="2359" y="8098"/>
                  </a:lnTo>
                  <a:lnTo>
                    <a:pt x="2383" y="8132"/>
                  </a:lnTo>
                  <a:lnTo>
                    <a:pt x="2406" y="8167"/>
                  </a:lnTo>
                  <a:lnTo>
                    <a:pt x="2432" y="8201"/>
                  </a:lnTo>
                  <a:lnTo>
                    <a:pt x="2459" y="8235"/>
                  </a:lnTo>
                  <a:lnTo>
                    <a:pt x="2484" y="8269"/>
                  </a:lnTo>
                  <a:lnTo>
                    <a:pt x="2509" y="8306"/>
                  </a:lnTo>
                  <a:lnTo>
                    <a:pt x="2534" y="8341"/>
                  </a:lnTo>
                  <a:lnTo>
                    <a:pt x="2555" y="8378"/>
                  </a:lnTo>
                  <a:lnTo>
                    <a:pt x="2574" y="8416"/>
                  </a:lnTo>
                  <a:lnTo>
                    <a:pt x="2591" y="8455"/>
                  </a:lnTo>
                  <a:lnTo>
                    <a:pt x="2603" y="8496"/>
                  </a:lnTo>
                  <a:lnTo>
                    <a:pt x="2611" y="8538"/>
                  </a:lnTo>
                  <a:lnTo>
                    <a:pt x="2614" y="8582"/>
                  </a:lnTo>
                  <a:lnTo>
                    <a:pt x="2619" y="8589"/>
                  </a:lnTo>
                  <a:lnTo>
                    <a:pt x="2627" y="8599"/>
                  </a:lnTo>
                  <a:lnTo>
                    <a:pt x="2635" y="8610"/>
                  </a:lnTo>
                  <a:lnTo>
                    <a:pt x="2644" y="8623"/>
                  </a:lnTo>
                  <a:lnTo>
                    <a:pt x="2651" y="8637"/>
                  </a:lnTo>
                  <a:lnTo>
                    <a:pt x="2658" y="8651"/>
                  </a:lnTo>
                  <a:lnTo>
                    <a:pt x="2662" y="8664"/>
                  </a:lnTo>
                  <a:lnTo>
                    <a:pt x="2663" y="8677"/>
                  </a:lnTo>
                  <a:lnTo>
                    <a:pt x="2640" y="8691"/>
                  </a:lnTo>
                  <a:lnTo>
                    <a:pt x="2617" y="8708"/>
                  </a:lnTo>
                  <a:lnTo>
                    <a:pt x="2595" y="8727"/>
                  </a:lnTo>
                  <a:lnTo>
                    <a:pt x="2573" y="8747"/>
                  </a:lnTo>
                  <a:lnTo>
                    <a:pt x="2553" y="8768"/>
                  </a:lnTo>
                  <a:lnTo>
                    <a:pt x="2535" y="8787"/>
                  </a:lnTo>
                  <a:lnTo>
                    <a:pt x="2520" y="8805"/>
                  </a:lnTo>
                  <a:lnTo>
                    <a:pt x="2506" y="8820"/>
                  </a:lnTo>
                  <a:lnTo>
                    <a:pt x="2495" y="8832"/>
                  </a:lnTo>
                  <a:lnTo>
                    <a:pt x="2485" y="8840"/>
                  </a:lnTo>
                  <a:lnTo>
                    <a:pt x="2476" y="8847"/>
                  </a:lnTo>
                  <a:lnTo>
                    <a:pt x="2466" y="8850"/>
                  </a:lnTo>
                  <a:lnTo>
                    <a:pt x="2455" y="8852"/>
                  </a:lnTo>
                  <a:lnTo>
                    <a:pt x="2443" y="8853"/>
                  </a:lnTo>
                  <a:lnTo>
                    <a:pt x="2427" y="8852"/>
                  </a:lnTo>
                  <a:lnTo>
                    <a:pt x="2406" y="8852"/>
                  </a:lnTo>
                  <a:lnTo>
                    <a:pt x="2407" y="8864"/>
                  </a:lnTo>
                  <a:lnTo>
                    <a:pt x="2408" y="8876"/>
                  </a:lnTo>
                  <a:lnTo>
                    <a:pt x="2411" y="8887"/>
                  </a:lnTo>
                  <a:lnTo>
                    <a:pt x="2414" y="8899"/>
                  </a:lnTo>
                  <a:lnTo>
                    <a:pt x="2418" y="8912"/>
                  </a:lnTo>
                  <a:lnTo>
                    <a:pt x="2422" y="8924"/>
                  </a:lnTo>
                  <a:lnTo>
                    <a:pt x="2427" y="8936"/>
                  </a:lnTo>
                  <a:lnTo>
                    <a:pt x="2431" y="8947"/>
                  </a:lnTo>
                  <a:lnTo>
                    <a:pt x="2435" y="8959"/>
                  </a:lnTo>
                  <a:lnTo>
                    <a:pt x="2439" y="8971"/>
                  </a:lnTo>
                  <a:lnTo>
                    <a:pt x="2444" y="8983"/>
                  </a:lnTo>
                  <a:lnTo>
                    <a:pt x="2448" y="8995"/>
                  </a:lnTo>
                  <a:lnTo>
                    <a:pt x="2451" y="9007"/>
                  </a:lnTo>
                  <a:lnTo>
                    <a:pt x="2453" y="9019"/>
                  </a:lnTo>
                  <a:lnTo>
                    <a:pt x="2454" y="9031"/>
                  </a:lnTo>
                  <a:lnTo>
                    <a:pt x="2455" y="9043"/>
                  </a:lnTo>
                  <a:lnTo>
                    <a:pt x="2455" y="9049"/>
                  </a:lnTo>
                  <a:lnTo>
                    <a:pt x="2454" y="9054"/>
                  </a:lnTo>
                  <a:lnTo>
                    <a:pt x="2453" y="9060"/>
                  </a:lnTo>
                  <a:lnTo>
                    <a:pt x="2451" y="9064"/>
                  </a:lnTo>
                  <a:lnTo>
                    <a:pt x="2448" y="9068"/>
                  </a:lnTo>
                  <a:lnTo>
                    <a:pt x="2444" y="9071"/>
                  </a:lnTo>
                  <a:lnTo>
                    <a:pt x="2438" y="9074"/>
                  </a:lnTo>
                  <a:lnTo>
                    <a:pt x="2431" y="9075"/>
                  </a:lnTo>
                  <a:lnTo>
                    <a:pt x="2433" y="9081"/>
                  </a:lnTo>
                  <a:lnTo>
                    <a:pt x="2435" y="9089"/>
                  </a:lnTo>
                  <a:lnTo>
                    <a:pt x="2436" y="9096"/>
                  </a:lnTo>
                  <a:lnTo>
                    <a:pt x="2437" y="9105"/>
                  </a:lnTo>
                  <a:lnTo>
                    <a:pt x="2437" y="9113"/>
                  </a:lnTo>
                  <a:lnTo>
                    <a:pt x="2436" y="9122"/>
                  </a:lnTo>
                  <a:lnTo>
                    <a:pt x="2434" y="9129"/>
                  </a:lnTo>
                  <a:lnTo>
                    <a:pt x="2431" y="9138"/>
                  </a:lnTo>
                  <a:lnTo>
                    <a:pt x="2406" y="9170"/>
                  </a:lnTo>
                  <a:lnTo>
                    <a:pt x="2358" y="9170"/>
                  </a:lnTo>
                  <a:lnTo>
                    <a:pt x="2330" y="9175"/>
                  </a:lnTo>
                  <a:lnTo>
                    <a:pt x="2302" y="9179"/>
                  </a:lnTo>
                  <a:lnTo>
                    <a:pt x="2274" y="9182"/>
                  </a:lnTo>
                  <a:lnTo>
                    <a:pt x="2245" y="9184"/>
                  </a:lnTo>
                  <a:lnTo>
                    <a:pt x="2216" y="9184"/>
                  </a:lnTo>
                  <a:lnTo>
                    <a:pt x="2186" y="9184"/>
                  </a:lnTo>
                  <a:lnTo>
                    <a:pt x="2157" y="9183"/>
                  </a:lnTo>
                  <a:lnTo>
                    <a:pt x="2128" y="9182"/>
                  </a:lnTo>
                  <a:lnTo>
                    <a:pt x="2098" y="9181"/>
                  </a:lnTo>
                  <a:lnTo>
                    <a:pt x="2069" y="9178"/>
                  </a:lnTo>
                  <a:lnTo>
                    <a:pt x="2041" y="9176"/>
                  </a:lnTo>
                  <a:lnTo>
                    <a:pt x="2012" y="9174"/>
                  </a:lnTo>
                  <a:lnTo>
                    <a:pt x="1986" y="9173"/>
                  </a:lnTo>
                  <a:lnTo>
                    <a:pt x="1958" y="9171"/>
                  </a:lnTo>
                  <a:lnTo>
                    <a:pt x="1932" y="9170"/>
                  </a:lnTo>
                  <a:lnTo>
                    <a:pt x="1906" y="9170"/>
                  </a:lnTo>
                  <a:lnTo>
                    <a:pt x="1898" y="9161"/>
                  </a:lnTo>
                  <a:lnTo>
                    <a:pt x="1892" y="9152"/>
                  </a:lnTo>
                  <a:lnTo>
                    <a:pt x="1889" y="9140"/>
                  </a:lnTo>
                  <a:lnTo>
                    <a:pt x="1888" y="9127"/>
                  </a:lnTo>
                  <a:lnTo>
                    <a:pt x="1888" y="9114"/>
                  </a:lnTo>
                  <a:lnTo>
                    <a:pt x="1890" y="9101"/>
                  </a:lnTo>
                  <a:lnTo>
                    <a:pt x="1891" y="9087"/>
                  </a:lnTo>
                  <a:lnTo>
                    <a:pt x="1894" y="9075"/>
                  </a:lnTo>
                  <a:lnTo>
                    <a:pt x="1856" y="9030"/>
                  </a:lnTo>
                  <a:lnTo>
                    <a:pt x="1857" y="9018"/>
                  </a:lnTo>
                  <a:lnTo>
                    <a:pt x="1858" y="9008"/>
                  </a:lnTo>
                  <a:lnTo>
                    <a:pt x="1860" y="8998"/>
                  </a:lnTo>
                  <a:lnTo>
                    <a:pt x="1862" y="8988"/>
                  </a:lnTo>
                  <a:lnTo>
                    <a:pt x="1865" y="8979"/>
                  </a:lnTo>
                  <a:lnTo>
                    <a:pt x="1867" y="8969"/>
                  </a:lnTo>
                  <a:lnTo>
                    <a:pt x="1868" y="8959"/>
                  </a:lnTo>
                  <a:lnTo>
                    <a:pt x="1869" y="8947"/>
                  </a:lnTo>
                  <a:lnTo>
                    <a:pt x="1855" y="8941"/>
                  </a:lnTo>
                  <a:lnTo>
                    <a:pt x="1840" y="8935"/>
                  </a:lnTo>
                  <a:lnTo>
                    <a:pt x="1825" y="8927"/>
                  </a:lnTo>
                  <a:lnTo>
                    <a:pt x="1809" y="8917"/>
                  </a:lnTo>
                  <a:lnTo>
                    <a:pt x="1795" y="8906"/>
                  </a:lnTo>
                  <a:lnTo>
                    <a:pt x="1781" y="8892"/>
                  </a:lnTo>
                  <a:lnTo>
                    <a:pt x="1769" y="8874"/>
                  </a:lnTo>
                  <a:lnTo>
                    <a:pt x="1759" y="8852"/>
                  </a:lnTo>
                  <a:lnTo>
                    <a:pt x="1742" y="8847"/>
                  </a:lnTo>
                  <a:lnTo>
                    <a:pt x="1724" y="8834"/>
                  </a:lnTo>
                  <a:lnTo>
                    <a:pt x="1709" y="8816"/>
                  </a:lnTo>
                  <a:lnTo>
                    <a:pt x="1696" y="8792"/>
                  </a:lnTo>
                  <a:lnTo>
                    <a:pt x="1683" y="8769"/>
                  </a:lnTo>
                  <a:lnTo>
                    <a:pt x="1670" y="8745"/>
                  </a:lnTo>
                  <a:lnTo>
                    <a:pt x="1659" y="8724"/>
                  </a:lnTo>
                  <a:lnTo>
                    <a:pt x="1649" y="8709"/>
                  </a:lnTo>
                  <a:lnTo>
                    <a:pt x="1649" y="8646"/>
                  </a:lnTo>
                  <a:lnTo>
                    <a:pt x="1625" y="8614"/>
                  </a:lnTo>
                  <a:lnTo>
                    <a:pt x="1625" y="8518"/>
                  </a:lnTo>
                  <a:lnTo>
                    <a:pt x="1618" y="8511"/>
                  </a:lnTo>
                  <a:lnTo>
                    <a:pt x="1610" y="8501"/>
                  </a:lnTo>
                  <a:lnTo>
                    <a:pt x="1600" y="8491"/>
                  </a:lnTo>
                  <a:lnTo>
                    <a:pt x="1590" y="8478"/>
                  </a:lnTo>
                  <a:lnTo>
                    <a:pt x="1580" y="8466"/>
                  </a:lnTo>
                  <a:lnTo>
                    <a:pt x="1571" y="8455"/>
                  </a:lnTo>
                  <a:lnTo>
                    <a:pt x="1566" y="8446"/>
                  </a:lnTo>
                  <a:lnTo>
                    <a:pt x="1564" y="8438"/>
                  </a:lnTo>
                  <a:lnTo>
                    <a:pt x="1555" y="8410"/>
                  </a:lnTo>
                  <a:lnTo>
                    <a:pt x="1547" y="8382"/>
                  </a:lnTo>
                  <a:lnTo>
                    <a:pt x="1539" y="8351"/>
                  </a:lnTo>
                  <a:lnTo>
                    <a:pt x="1533" y="8318"/>
                  </a:lnTo>
                  <a:lnTo>
                    <a:pt x="1526" y="8285"/>
                  </a:lnTo>
                  <a:lnTo>
                    <a:pt x="1521" y="8252"/>
                  </a:lnTo>
                  <a:lnTo>
                    <a:pt x="1516" y="8218"/>
                  </a:lnTo>
                  <a:lnTo>
                    <a:pt x="1510" y="8183"/>
                  </a:lnTo>
                  <a:lnTo>
                    <a:pt x="1505" y="8147"/>
                  </a:lnTo>
                  <a:lnTo>
                    <a:pt x="1501" y="8112"/>
                  </a:lnTo>
                  <a:lnTo>
                    <a:pt x="1495" y="8078"/>
                  </a:lnTo>
                  <a:lnTo>
                    <a:pt x="1490" y="8044"/>
                  </a:lnTo>
                  <a:lnTo>
                    <a:pt x="1485" y="8009"/>
                  </a:lnTo>
                  <a:lnTo>
                    <a:pt x="1479" y="7976"/>
                  </a:lnTo>
                  <a:lnTo>
                    <a:pt x="1473" y="7945"/>
                  </a:lnTo>
                  <a:lnTo>
                    <a:pt x="1466" y="7914"/>
                  </a:lnTo>
                  <a:lnTo>
                    <a:pt x="1460" y="7886"/>
                  </a:lnTo>
                  <a:lnTo>
                    <a:pt x="1454" y="7857"/>
                  </a:lnTo>
                  <a:lnTo>
                    <a:pt x="1448" y="7827"/>
                  </a:lnTo>
                  <a:lnTo>
                    <a:pt x="1443" y="7796"/>
                  </a:lnTo>
                  <a:lnTo>
                    <a:pt x="1439" y="7764"/>
                  </a:lnTo>
                  <a:lnTo>
                    <a:pt x="1435" y="7732"/>
                  </a:lnTo>
                  <a:lnTo>
                    <a:pt x="1431" y="7699"/>
                  </a:lnTo>
                  <a:lnTo>
                    <a:pt x="1428" y="7666"/>
                  </a:lnTo>
                  <a:lnTo>
                    <a:pt x="1426" y="7632"/>
                  </a:lnTo>
                  <a:lnTo>
                    <a:pt x="1424" y="7599"/>
                  </a:lnTo>
                  <a:lnTo>
                    <a:pt x="1421" y="7564"/>
                  </a:lnTo>
                  <a:lnTo>
                    <a:pt x="1419" y="7531"/>
                  </a:lnTo>
                  <a:lnTo>
                    <a:pt x="1418" y="7499"/>
                  </a:lnTo>
                  <a:lnTo>
                    <a:pt x="1418" y="7467"/>
                  </a:lnTo>
                  <a:lnTo>
                    <a:pt x="1417" y="7435"/>
                  </a:lnTo>
                  <a:lnTo>
                    <a:pt x="1417" y="7405"/>
                  </a:lnTo>
                  <a:lnTo>
                    <a:pt x="1381" y="7358"/>
                  </a:lnTo>
                  <a:lnTo>
                    <a:pt x="1381" y="7294"/>
                  </a:lnTo>
                  <a:lnTo>
                    <a:pt x="1405" y="7263"/>
                  </a:lnTo>
                  <a:lnTo>
                    <a:pt x="1397" y="7238"/>
                  </a:lnTo>
                  <a:lnTo>
                    <a:pt x="1392" y="7213"/>
                  </a:lnTo>
                  <a:lnTo>
                    <a:pt x="1387" y="7188"/>
                  </a:lnTo>
                  <a:lnTo>
                    <a:pt x="1384" y="7162"/>
                  </a:lnTo>
                  <a:lnTo>
                    <a:pt x="1383" y="7135"/>
                  </a:lnTo>
                  <a:lnTo>
                    <a:pt x="1383" y="7110"/>
                  </a:lnTo>
                  <a:lnTo>
                    <a:pt x="1384" y="7083"/>
                  </a:lnTo>
                  <a:lnTo>
                    <a:pt x="1385" y="7055"/>
                  </a:lnTo>
                  <a:lnTo>
                    <a:pt x="1387" y="7028"/>
                  </a:lnTo>
                  <a:lnTo>
                    <a:pt x="1389" y="7002"/>
                  </a:lnTo>
                  <a:lnTo>
                    <a:pt x="1392" y="6976"/>
                  </a:lnTo>
                  <a:lnTo>
                    <a:pt x="1393" y="6949"/>
                  </a:lnTo>
                  <a:lnTo>
                    <a:pt x="1395" y="6924"/>
                  </a:lnTo>
                  <a:lnTo>
                    <a:pt x="1395" y="6898"/>
                  </a:lnTo>
                  <a:lnTo>
                    <a:pt x="1395" y="6873"/>
                  </a:lnTo>
                  <a:lnTo>
                    <a:pt x="1393" y="6849"/>
                  </a:lnTo>
                  <a:lnTo>
                    <a:pt x="1390" y="6826"/>
                  </a:lnTo>
                  <a:lnTo>
                    <a:pt x="1387" y="6803"/>
                  </a:lnTo>
                  <a:lnTo>
                    <a:pt x="1385" y="6776"/>
                  </a:lnTo>
                  <a:lnTo>
                    <a:pt x="1382" y="6748"/>
                  </a:lnTo>
                  <a:lnTo>
                    <a:pt x="1378" y="6718"/>
                  </a:lnTo>
                  <a:lnTo>
                    <a:pt x="1374" y="6688"/>
                  </a:lnTo>
                  <a:lnTo>
                    <a:pt x="1370" y="6657"/>
                  </a:lnTo>
                  <a:lnTo>
                    <a:pt x="1366" y="6626"/>
                  </a:lnTo>
                  <a:lnTo>
                    <a:pt x="1360" y="6595"/>
                  </a:lnTo>
                  <a:lnTo>
                    <a:pt x="1356" y="6564"/>
                  </a:lnTo>
                  <a:lnTo>
                    <a:pt x="1351" y="6534"/>
                  </a:lnTo>
                  <a:lnTo>
                    <a:pt x="1344" y="6504"/>
                  </a:lnTo>
                  <a:lnTo>
                    <a:pt x="1339" y="6477"/>
                  </a:lnTo>
                  <a:lnTo>
                    <a:pt x="1333" y="6450"/>
                  </a:lnTo>
                  <a:lnTo>
                    <a:pt x="1326" y="6426"/>
                  </a:lnTo>
                  <a:lnTo>
                    <a:pt x="1320" y="6404"/>
                  </a:lnTo>
                  <a:lnTo>
                    <a:pt x="1320" y="6397"/>
                  </a:lnTo>
                  <a:lnTo>
                    <a:pt x="1322" y="6392"/>
                  </a:lnTo>
                  <a:lnTo>
                    <a:pt x="1323" y="6386"/>
                  </a:lnTo>
                  <a:lnTo>
                    <a:pt x="1326" y="6380"/>
                  </a:lnTo>
                  <a:lnTo>
                    <a:pt x="1328" y="6375"/>
                  </a:lnTo>
                  <a:lnTo>
                    <a:pt x="1329" y="6368"/>
                  </a:lnTo>
                  <a:lnTo>
                    <a:pt x="1332" y="6363"/>
                  </a:lnTo>
                  <a:lnTo>
                    <a:pt x="1332" y="6357"/>
                  </a:lnTo>
                  <a:lnTo>
                    <a:pt x="1258" y="5912"/>
                  </a:lnTo>
                  <a:lnTo>
                    <a:pt x="1253" y="5874"/>
                  </a:lnTo>
                  <a:lnTo>
                    <a:pt x="1251" y="5836"/>
                  </a:lnTo>
                  <a:lnTo>
                    <a:pt x="1250" y="5795"/>
                  </a:lnTo>
                  <a:lnTo>
                    <a:pt x="1249" y="5753"/>
                  </a:lnTo>
                  <a:lnTo>
                    <a:pt x="1248" y="5711"/>
                  </a:lnTo>
                  <a:lnTo>
                    <a:pt x="1248" y="5668"/>
                  </a:lnTo>
                  <a:lnTo>
                    <a:pt x="1248" y="5624"/>
                  </a:lnTo>
                  <a:lnTo>
                    <a:pt x="1248" y="5579"/>
                  </a:lnTo>
                  <a:lnTo>
                    <a:pt x="1247" y="5535"/>
                  </a:lnTo>
                  <a:lnTo>
                    <a:pt x="1245" y="5492"/>
                  </a:lnTo>
                  <a:lnTo>
                    <a:pt x="1243" y="5450"/>
                  </a:lnTo>
                  <a:lnTo>
                    <a:pt x="1240" y="5408"/>
                  </a:lnTo>
                  <a:lnTo>
                    <a:pt x="1234" y="5368"/>
                  </a:lnTo>
                  <a:lnTo>
                    <a:pt x="1228" y="5330"/>
                  </a:lnTo>
                  <a:lnTo>
                    <a:pt x="1220" y="5294"/>
                  </a:lnTo>
                  <a:lnTo>
                    <a:pt x="1210" y="5259"/>
                  </a:lnTo>
                  <a:lnTo>
                    <a:pt x="1210" y="5254"/>
                  </a:lnTo>
                  <a:lnTo>
                    <a:pt x="1212" y="5248"/>
                  </a:lnTo>
                  <a:lnTo>
                    <a:pt x="1213" y="5242"/>
                  </a:lnTo>
                  <a:lnTo>
                    <a:pt x="1216" y="5236"/>
                  </a:lnTo>
                  <a:lnTo>
                    <a:pt x="1218" y="5230"/>
                  </a:lnTo>
                  <a:lnTo>
                    <a:pt x="1219" y="5224"/>
                  </a:lnTo>
                  <a:lnTo>
                    <a:pt x="1221" y="5219"/>
                  </a:lnTo>
                  <a:lnTo>
                    <a:pt x="1221" y="5212"/>
                  </a:lnTo>
                  <a:lnTo>
                    <a:pt x="1218" y="5179"/>
                  </a:lnTo>
                  <a:lnTo>
                    <a:pt x="1215" y="5144"/>
                  </a:lnTo>
                  <a:lnTo>
                    <a:pt x="1214" y="5107"/>
                  </a:lnTo>
                  <a:lnTo>
                    <a:pt x="1213" y="5071"/>
                  </a:lnTo>
                  <a:lnTo>
                    <a:pt x="1213" y="5034"/>
                  </a:lnTo>
                  <a:lnTo>
                    <a:pt x="1214" y="4995"/>
                  </a:lnTo>
                  <a:lnTo>
                    <a:pt x="1215" y="4957"/>
                  </a:lnTo>
                  <a:lnTo>
                    <a:pt x="1216" y="4918"/>
                  </a:lnTo>
                  <a:lnTo>
                    <a:pt x="1217" y="4880"/>
                  </a:lnTo>
                  <a:lnTo>
                    <a:pt x="1218" y="4841"/>
                  </a:lnTo>
                  <a:lnTo>
                    <a:pt x="1218" y="4804"/>
                  </a:lnTo>
                  <a:lnTo>
                    <a:pt x="1218" y="4765"/>
                  </a:lnTo>
                  <a:lnTo>
                    <a:pt x="1218" y="4729"/>
                  </a:lnTo>
                  <a:lnTo>
                    <a:pt x="1216" y="4693"/>
                  </a:lnTo>
                  <a:lnTo>
                    <a:pt x="1214" y="4658"/>
                  </a:lnTo>
                  <a:lnTo>
                    <a:pt x="1210" y="4625"/>
                  </a:lnTo>
                  <a:lnTo>
                    <a:pt x="1207" y="4612"/>
                  </a:lnTo>
                  <a:lnTo>
                    <a:pt x="1204" y="4597"/>
                  </a:lnTo>
                  <a:lnTo>
                    <a:pt x="1201" y="4581"/>
                  </a:lnTo>
                  <a:lnTo>
                    <a:pt x="1197" y="4563"/>
                  </a:lnTo>
                  <a:lnTo>
                    <a:pt x="1193" y="4544"/>
                  </a:lnTo>
                  <a:lnTo>
                    <a:pt x="1189" y="4523"/>
                  </a:lnTo>
                  <a:lnTo>
                    <a:pt x="1186" y="4503"/>
                  </a:lnTo>
                  <a:lnTo>
                    <a:pt x="1182" y="4482"/>
                  </a:lnTo>
                  <a:lnTo>
                    <a:pt x="1179" y="4461"/>
                  </a:lnTo>
                  <a:lnTo>
                    <a:pt x="1176" y="4441"/>
                  </a:lnTo>
                  <a:lnTo>
                    <a:pt x="1173" y="4421"/>
                  </a:lnTo>
                  <a:lnTo>
                    <a:pt x="1172" y="4401"/>
                  </a:lnTo>
                  <a:lnTo>
                    <a:pt x="1171" y="4383"/>
                  </a:lnTo>
                  <a:lnTo>
                    <a:pt x="1171" y="4367"/>
                  </a:lnTo>
                  <a:lnTo>
                    <a:pt x="1171" y="4352"/>
                  </a:lnTo>
                  <a:lnTo>
                    <a:pt x="1173" y="4339"/>
                  </a:lnTo>
                  <a:lnTo>
                    <a:pt x="1210" y="3958"/>
                  </a:lnTo>
                  <a:lnTo>
                    <a:pt x="1210" y="3948"/>
                  </a:lnTo>
                  <a:lnTo>
                    <a:pt x="1212" y="3936"/>
                  </a:lnTo>
                  <a:lnTo>
                    <a:pt x="1213" y="3923"/>
                  </a:lnTo>
                  <a:lnTo>
                    <a:pt x="1216" y="3909"/>
                  </a:lnTo>
                  <a:lnTo>
                    <a:pt x="1219" y="3893"/>
                  </a:lnTo>
                  <a:lnTo>
                    <a:pt x="1222" y="3878"/>
                  </a:lnTo>
                  <a:lnTo>
                    <a:pt x="1226" y="3861"/>
                  </a:lnTo>
                  <a:lnTo>
                    <a:pt x="1230" y="3845"/>
                  </a:lnTo>
                  <a:lnTo>
                    <a:pt x="1233" y="3829"/>
                  </a:lnTo>
                  <a:lnTo>
                    <a:pt x="1236" y="3812"/>
                  </a:lnTo>
                  <a:lnTo>
                    <a:pt x="1240" y="3797"/>
                  </a:lnTo>
                  <a:lnTo>
                    <a:pt x="1243" y="3781"/>
                  </a:lnTo>
                  <a:lnTo>
                    <a:pt x="1246" y="3767"/>
                  </a:lnTo>
                  <a:lnTo>
                    <a:pt x="1247" y="3754"/>
                  </a:lnTo>
                  <a:lnTo>
                    <a:pt x="1249" y="3743"/>
                  </a:lnTo>
                  <a:lnTo>
                    <a:pt x="1249" y="3733"/>
                  </a:lnTo>
                  <a:lnTo>
                    <a:pt x="1251" y="3722"/>
                  </a:lnTo>
                  <a:lnTo>
                    <a:pt x="1237" y="3727"/>
                  </a:lnTo>
                  <a:lnTo>
                    <a:pt x="1222" y="3730"/>
                  </a:lnTo>
                  <a:lnTo>
                    <a:pt x="1208" y="3733"/>
                  </a:lnTo>
                  <a:lnTo>
                    <a:pt x="1195" y="3736"/>
                  </a:lnTo>
                  <a:lnTo>
                    <a:pt x="1180" y="3737"/>
                  </a:lnTo>
                  <a:lnTo>
                    <a:pt x="1166" y="3738"/>
                  </a:lnTo>
                  <a:lnTo>
                    <a:pt x="1151" y="3737"/>
                  </a:lnTo>
                  <a:lnTo>
                    <a:pt x="1137" y="3735"/>
                  </a:lnTo>
                  <a:lnTo>
                    <a:pt x="1123" y="3732"/>
                  </a:lnTo>
                  <a:lnTo>
                    <a:pt x="1107" y="3724"/>
                  </a:lnTo>
                  <a:lnTo>
                    <a:pt x="1089" y="3715"/>
                  </a:lnTo>
                  <a:lnTo>
                    <a:pt x="1070" y="3704"/>
                  </a:lnTo>
                  <a:lnTo>
                    <a:pt x="1051" y="3692"/>
                  </a:lnTo>
                  <a:lnTo>
                    <a:pt x="1032" y="3683"/>
                  </a:lnTo>
                  <a:lnTo>
                    <a:pt x="1015" y="3675"/>
                  </a:lnTo>
                  <a:lnTo>
                    <a:pt x="1000" y="3671"/>
                  </a:lnTo>
                  <a:lnTo>
                    <a:pt x="999" y="3677"/>
                  </a:lnTo>
                  <a:lnTo>
                    <a:pt x="997" y="3686"/>
                  </a:lnTo>
                  <a:lnTo>
                    <a:pt x="992" y="3694"/>
                  </a:lnTo>
                  <a:lnTo>
                    <a:pt x="989" y="3703"/>
                  </a:lnTo>
                  <a:lnTo>
                    <a:pt x="985" y="3712"/>
                  </a:lnTo>
                  <a:lnTo>
                    <a:pt x="980" y="3720"/>
                  </a:lnTo>
                  <a:lnTo>
                    <a:pt x="978" y="3729"/>
                  </a:lnTo>
                  <a:lnTo>
                    <a:pt x="977" y="3735"/>
                  </a:lnTo>
                  <a:lnTo>
                    <a:pt x="989" y="3751"/>
                  </a:lnTo>
                  <a:lnTo>
                    <a:pt x="990" y="3760"/>
                  </a:lnTo>
                  <a:lnTo>
                    <a:pt x="990" y="3769"/>
                  </a:lnTo>
                  <a:lnTo>
                    <a:pt x="990" y="3779"/>
                  </a:lnTo>
                  <a:lnTo>
                    <a:pt x="990" y="3790"/>
                  </a:lnTo>
                  <a:lnTo>
                    <a:pt x="989" y="3801"/>
                  </a:lnTo>
                  <a:lnTo>
                    <a:pt x="988" y="3813"/>
                  </a:lnTo>
                  <a:lnTo>
                    <a:pt x="987" y="3825"/>
                  </a:lnTo>
                  <a:lnTo>
                    <a:pt x="985" y="3837"/>
                  </a:lnTo>
                  <a:lnTo>
                    <a:pt x="983" y="3850"/>
                  </a:lnTo>
                  <a:lnTo>
                    <a:pt x="979" y="3862"/>
                  </a:lnTo>
                  <a:lnTo>
                    <a:pt x="976" y="3875"/>
                  </a:lnTo>
                  <a:lnTo>
                    <a:pt x="972" y="3888"/>
                  </a:lnTo>
                  <a:lnTo>
                    <a:pt x="968" y="3901"/>
                  </a:lnTo>
                  <a:lnTo>
                    <a:pt x="962" y="3914"/>
                  </a:lnTo>
                  <a:lnTo>
                    <a:pt x="957" y="3927"/>
                  </a:lnTo>
                  <a:lnTo>
                    <a:pt x="951" y="3938"/>
                  </a:lnTo>
                  <a:lnTo>
                    <a:pt x="945" y="3947"/>
                  </a:lnTo>
                  <a:lnTo>
                    <a:pt x="939" y="3955"/>
                  </a:lnTo>
                  <a:lnTo>
                    <a:pt x="931" y="3964"/>
                  </a:lnTo>
                  <a:lnTo>
                    <a:pt x="923" y="3971"/>
                  </a:lnTo>
                  <a:lnTo>
                    <a:pt x="913" y="3978"/>
                  </a:lnTo>
                  <a:lnTo>
                    <a:pt x="902" y="3981"/>
                  </a:lnTo>
                  <a:lnTo>
                    <a:pt x="891" y="3982"/>
                  </a:lnTo>
                  <a:lnTo>
                    <a:pt x="878" y="3980"/>
                  </a:lnTo>
                  <a:lnTo>
                    <a:pt x="868" y="3986"/>
                  </a:lnTo>
                  <a:lnTo>
                    <a:pt x="858" y="3995"/>
                  </a:lnTo>
                  <a:lnTo>
                    <a:pt x="848" y="4002"/>
                  </a:lnTo>
                  <a:lnTo>
                    <a:pt x="837" y="4012"/>
                  </a:lnTo>
                  <a:lnTo>
                    <a:pt x="826" y="4021"/>
                  </a:lnTo>
                  <a:lnTo>
                    <a:pt x="815" y="4030"/>
                  </a:lnTo>
                  <a:lnTo>
                    <a:pt x="803" y="4040"/>
                  </a:lnTo>
                  <a:lnTo>
                    <a:pt x="791" y="4050"/>
                  </a:lnTo>
                  <a:lnTo>
                    <a:pt x="779" y="4058"/>
                  </a:lnTo>
                  <a:lnTo>
                    <a:pt x="769" y="4067"/>
                  </a:lnTo>
                  <a:lnTo>
                    <a:pt x="757" y="4074"/>
                  </a:lnTo>
                  <a:lnTo>
                    <a:pt x="745" y="4082"/>
                  </a:lnTo>
                  <a:lnTo>
                    <a:pt x="734" y="4088"/>
                  </a:lnTo>
                  <a:lnTo>
                    <a:pt x="724" y="4093"/>
                  </a:lnTo>
                  <a:lnTo>
                    <a:pt x="714" y="4098"/>
                  </a:lnTo>
                  <a:lnTo>
                    <a:pt x="704" y="4100"/>
                  </a:lnTo>
                  <a:lnTo>
                    <a:pt x="695" y="4101"/>
                  </a:lnTo>
                  <a:lnTo>
                    <a:pt x="687" y="4100"/>
                  </a:lnTo>
                  <a:lnTo>
                    <a:pt x="683" y="4098"/>
                  </a:lnTo>
                  <a:lnTo>
                    <a:pt x="679" y="4093"/>
                  </a:lnTo>
                  <a:lnTo>
                    <a:pt x="675" y="4088"/>
                  </a:lnTo>
                  <a:lnTo>
                    <a:pt x="671" y="4082"/>
                  </a:lnTo>
                  <a:lnTo>
                    <a:pt x="666" y="4075"/>
                  </a:lnTo>
                  <a:lnTo>
                    <a:pt x="659" y="4068"/>
                  </a:lnTo>
                  <a:lnTo>
                    <a:pt x="667" y="4057"/>
                  </a:lnTo>
                  <a:lnTo>
                    <a:pt x="674" y="4047"/>
                  </a:lnTo>
                  <a:lnTo>
                    <a:pt x="683" y="4037"/>
                  </a:lnTo>
                  <a:lnTo>
                    <a:pt x="691" y="4025"/>
                  </a:lnTo>
                  <a:lnTo>
                    <a:pt x="700" y="4012"/>
                  </a:lnTo>
                  <a:lnTo>
                    <a:pt x="710" y="3997"/>
                  </a:lnTo>
                  <a:lnTo>
                    <a:pt x="720" y="3981"/>
                  </a:lnTo>
                  <a:lnTo>
                    <a:pt x="732" y="3962"/>
                  </a:lnTo>
                  <a:lnTo>
                    <a:pt x="733" y="3942"/>
                  </a:lnTo>
                  <a:lnTo>
                    <a:pt x="733" y="3920"/>
                  </a:lnTo>
                  <a:lnTo>
                    <a:pt x="733" y="3899"/>
                  </a:lnTo>
                  <a:lnTo>
                    <a:pt x="732" y="3876"/>
                  </a:lnTo>
                  <a:lnTo>
                    <a:pt x="732" y="3856"/>
                  </a:lnTo>
                  <a:lnTo>
                    <a:pt x="733" y="3836"/>
                  </a:lnTo>
                  <a:lnTo>
                    <a:pt x="735" y="3817"/>
                  </a:lnTo>
                  <a:lnTo>
                    <a:pt x="739" y="3801"/>
                  </a:lnTo>
                  <a:lnTo>
                    <a:pt x="719" y="3791"/>
                  </a:lnTo>
                  <a:lnTo>
                    <a:pt x="699" y="3782"/>
                  </a:lnTo>
                  <a:lnTo>
                    <a:pt x="679" y="3775"/>
                  </a:lnTo>
                  <a:lnTo>
                    <a:pt x="657" y="3767"/>
                  </a:lnTo>
                  <a:lnTo>
                    <a:pt x="636" y="3761"/>
                  </a:lnTo>
                  <a:lnTo>
                    <a:pt x="615" y="3753"/>
                  </a:lnTo>
                  <a:lnTo>
                    <a:pt x="594" y="3745"/>
                  </a:lnTo>
                  <a:lnTo>
                    <a:pt x="575" y="3735"/>
                  </a:lnTo>
                  <a:lnTo>
                    <a:pt x="557" y="3724"/>
                  </a:lnTo>
                  <a:lnTo>
                    <a:pt x="537" y="3710"/>
                  </a:lnTo>
                  <a:lnTo>
                    <a:pt x="518" y="3693"/>
                  </a:lnTo>
                  <a:lnTo>
                    <a:pt x="500" y="3673"/>
                  </a:lnTo>
                  <a:lnTo>
                    <a:pt x="481" y="3652"/>
                  </a:lnTo>
                  <a:lnTo>
                    <a:pt x="462" y="3628"/>
                  </a:lnTo>
                  <a:lnTo>
                    <a:pt x="443" y="3604"/>
                  </a:lnTo>
                  <a:lnTo>
                    <a:pt x="425" y="3578"/>
                  </a:lnTo>
                  <a:lnTo>
                    <a:pt x="407" y="3551"/>
                  </a:lnTo>
                  <a:lnTo>
                    <a:pt x="389" y="3525"/>
                  </a:lnTo>
                  <a:lnTo>
                    <a:pt x="371" y="3499"/>
                  </a:lnTo>
                  <a:lnTo>
                    <a:pt x="354" y="3473"/>
                  </a:lnTo>
                  <a:lnTo>
                    <a:pt x="338" y="3448"/>
                  </a:lnTo>
                  <a:lnTo>
                    <a:pt x="322" y="3426"/>
                  </a:lnTo>
                  <a:lnTo>
                    <a:pt x="307" y="3405"/>
                  </a:lnTo>
                  <a:lnTo>
                    <a:pt x="293" y="3385"/>
                  </a:lnTo>
                  <a:lnTo>
                    <a:pt x="267" y="3349"/>
                  </a:lnTo>
                  <a:lnTo>
                    <a:pt x="243" y="3313"/>
                  </a:lnTo>
                  <a:lnTo>
                    <a:pt x="221" y="3275"/>
                  </a:lnTo>
                  <a:lnTo>
                    <a:pt x="200" y="3238"/>
                  </a:lnTo>
                  <a:lnTo>
                    <a:pt x="181" y="3199"/>
                  </a:lnTo>
                  <a:lnTo>
                    <a:pt x="164" y="3160"/>
                  </a:lnTo>
                  <a:lnTo>
                    <a:pt x="147" y="3121"/>
                  </a:lnTo>
                  <a:lnTo>
                    <a:pt x="132" y="3082"/>
                  </a:lnTo>
                  <a:lnTo>
                    <a:pt x="117" y="3042"/>
                  </a:lnTo>
                  <a:lnTo>
                    <a:pt x="104" y="3002"/>
                  </a:lnTo>
                  <a:lnTo>
                    <a:pt x="90" y="2963"/>
                  </a:lnTo>
                  <a:lnTo>
                    <a:pt x="77" y="2922"/>
                  </a:lnTo>
                  <a:lnTo>
                    <a:pt x="64" y="2883"/>
                  </a:lnTo>
                  <a:lnTo>
                    <a:pt x="51" y="2843"/>
                  </a:lnTo>
                  <a:lnTo>
                    <a:pt x="39" y="2804"/>
                  </a:lnTo>
                  <a:lnTo>
                    <a:pt x="25" y="2765"/>
                  </a:lnTo>
                  <a:lnTo>
                    <a:pt x="18" y="2757"/>
                  </a:lnTo>
                  <a:lnTo>
                    <a:pt x="13" y="2750"/>
                  </a:lnTo>
                  <a:lnTo>
                    <a:pt x="6" y="2741"/>
                  </a:lnTo>
                  <a:lnTo>
                    <a:pt x="0" y="2734"/>
                  </a:lnTo>
                  <a:lnTo>
                    <a:pt x="1" y="2715"/>
                  </a:lnTo>
                  <a:lnTo>
                    <a:pt x="5" y="2694"/>
                  </a:lnTo>
                  <a:lnTo>
                    <a:pt x="12" y="2673"/>
                  </a:lnTo>
                  <a:lnTo>
                    <a:pt x="19" y="2650"/>
                  </a:lnTo>
                  <a:lnTo>
                    <a:pt x="29" y="2627"/>
                  </a:lnTo>
                  <a:lnTo>
                    <a:pt x="40" y="2602"/>
                  </a:lnTo>
                  <a:lnTo>
                    <a:pt x="51" y="2578"/>
                  </a:lnTo>
                  <a:lnTo>
                    <a:pt x="64" y="2553"/>
                  </a:lnTo>
                  <a:lnTo>
                    <a:pt x="77" y="2529"/>
                  </a:lnTo>
                  <a:lnTo>
                    <a:pt x="90" y="2505"/>
                  </a:lnTo>
                  <a:lnTo>
                    <a:pt x="102" y="2481"/>
                  </a:lnTo>
                  <a:lnTo>
                    <a:pt x="113" y="2459"/>
                  </a:lnTo>
                  <a:lnTo>
                    <a:pt x="124" y="2438"/>
                  </a:lnTo>
                  <a:lnTo>
                    <a:pt x="134" y="2418"/>
                  </a:lnTo>
                  <a:lnTo>
                    <a:pt x="141" y="2400"/>
                  </a:lnTo>
                  <a:lnTo>
                    <a:pt x="147" y="2384"/>
                  </a:lnTo>
                  <a:lnTo>
                    <a:pt x="154" y="2366"/>
                  </a:lnTo>
                  <a:lnTo>
                    <a:pt x="167" y="2349"/>
                  </a:lnTo>
                  <a:lnTo>
                    <a:pt x="184" y="2332"/>
                  </a:lnTo>
                  <a:lnTo>
                    <a:pt x="203" y="2317"/>
                  </a:lnTo>
                  <a:lnTo>
                    <a:pt x="223" y="2303"/>
                  </a:lnTo>
                  <a:lnTo>
                    <a:pt x="241" y="2290"/>
                  </a:lnTo>
                  <a:lnTo>
                    <a:pt x="257" y="2280"/>
                  </a:lnTo>
                  <a:lnTo>
                    <a:pt x="269" y="2273"/>
                  </a:lnTo>
                  <a:lnTo>
                    <a:pt x="269" y="2241"/>
                  </a:lnTo>
                  <a:lnTo>
                    <a:pt x="315" y="2183"/>
                  </a:lnTo>
                  <a:lnTo>
                    <a:pt x="326" y="2170"/>
                  </a:lnTo>
                  <a:lnTo>
                    <a:pt x="340" y="2158"/>
                  </a:lnTo>
                  <a:lnTo>
                    <a:pt x="356" y="2147"/>
                  </a:lnTo>
                  <a:lnTo>
                    <a:pt x="375" y="2136"/>
                  </a:lnTo>
                  <a:lnTo>
                    <a:pt x="394" y="2124"/>
                  </a:lnTo>
                  <a:lnTo>
                    <a:pt x="414" y="2112"/>
                  </a:lnTo>
                  <a:lnTo>
                    <a:pt x="436" y="2100"/>
                  </a:lnTo>
                  <a:lnTo>
                    <a:pt x="457" y="2087"/>
                  </a:lnTo>
                  <a:lnTo>
                    <a:pt x="472" y="2074"/>
                  </a:lnTo>
                  <a:lnTo>
                    <a:pt x="486" y="2061"/>
                  </a:lnTo>
                  <a:lnTo>
                    <a:pt x="498" y="2046"/>
                  </a:lnTo>
                  <a:lnTo>
                    <a:pt x="510" y="2032"/>
                  </a:lnTo>
                  <a:lnTo>
                    <a:pt x="519" y="2018"/>
                  </a:lnTo>
                  <a:lnTo>
                    <a:pt x="529" y="2005"/>
                  </a:lnTo>
                  <a:lnTo>
                    <a:pt x="537" y="1993"/>
                  </a:lnTo>
                  <a:lnTo>
                    <a:pt x="545" y="1982"/>
                  </a:lnTo>
                  <a:lnTo>
                    <a:pt x="550" y="1974"/>
                  </a:lnTo>
                  <a:lnTo>
                    <a:pt x="557" y="1967"/>
                  </a:lnTo>
                  <a:lnTo>
                    <a:pt x="562" y="1958"/>
                  </a:lnTo>
                  <a:lnTo>
                    <a:pt x="568" y="1950"/>
                  </a:lnTo>
                  <a:lnTo>
                    <a:pt x="575" y="1941"/>
                  </a:lnTo>
                  <a:lnTo>
                    <a:pt x="580" y="1933"/>
                  </a:lnTo>
                  <a:lnTo>
                    <a:pt x="586" y="1924"/>
                  </a:lnTo>
                  <a:lnTo>
                    <a:pt x="591" y="1916"/>
                  </a:lnTo>
                  <a:lnTo>
                    <a:pt x="600" y="1900"/>
                  </a:lnTo>
                  <a:lnTo>
                    <a:pt x="611" y="1885"/>
                  </a:lnTo>
                  <a:lnTo>
                    <a:pt x="621" y="1869"/>
                  </a:lnTo>
                  <a:lnTo>
                    <a:pt x="630" y="1854"/>
                  </a:lnTo>
                  <a:lnTo>
                    <a:pt x="641" y="1839"/>
                  </a:lnTo>
                  <a:lnTo>
                    <a:pt x="651" y="1825"/>
                  </a:lnTo>
                  <a:lnTo>
                    <a:pt x="662" y="1810"/>
                  </a:lnTo>
                  <a:lnTo>
                    <a:pt x="671" y="1797"/>
                  </a:lnTo>
                  <a:lnTo>
                    <a:pt x="682" y="1784"/>
                  </a:lnTo>
                  <a:lnTo>
                    <a:pt x="693" y="1771"/>
                  </a:lnTo>
                  <a:lnTo>
                    <a:pt x="703" y="1759"/>
                  </a:lnTo>
                  <a:lnTo>
                    <a:pt x="714" y="1749"/>
                  </a:lnTo>
                  <a:lnTo>
                    <a:pt x="725" y="1739"/>
                  </a:lnTo>
                  <a:lnTo>
                    <a:pt x="735" y="1731"/>
                  </a:lnTo>
                  <a:lnTo>
                    <a:pt x="746" y="1723"/>
                  </a:lnTo>
                  <a:lnTo>
                    <a:pt x="758" y="1717"/>
                  </a:lnTo>
                  <a:lnTo>
                    <a:pt x="766" y="1712"/>
                  </a:lnTo>
                  <a:lnTo>
                    <a:pt x="775" y="1708"/>
                  </a:lnTo>
                  <a:lnTo>
                    <a:pt x="782" y="1703"/>
                  </a:lnTo>
                  <a:lnTo>
                    <a:pt x="789" y="1697"/>
                  </a:lnTo>
                  <a:lnTo>
                    <a:pt x="796" y="1692"/>
                  </a:lnTo>
                  <a:lnTo>
                    <a:pt x="803" y="1686"/>
                  </a:lnTo>
                  <a:lnTo>
                    <a:pt x="810" y="1678"/>
                  </a:lnTo>
                  <a:lnTo>
                    <a:pt x="818" y="1671"/>
                  </a:lnTo>
                  <a:lnTo>
                    <a:pt x="812" y="1661"/>
                  </a:lnTo>
                  <a:lnTo>
                    <a:pt x="816" y="1650"/>
                  </a:lnTo>
                  <a:lnTo>
                    <a:pt x="824" y="1641"/>
                  </a:lnTo>
                  <a:lnTo>
                    <a:pt x="837" y="1630"/>
                  </a:lnTo>
                  <a:lnTo>
                    <a:pt x="852" y="1619"/>
                  </a:lnTo>
                  <a:lnTo>
                    <a:pt x="868" y="1610"/>
                  </a:lnTo>
                  <a:lnTo>
                    <a:pt x="882" y="1599"/>
                  </a:lnTo>
                  <a:lnTo>
                    <a:pt x="892" y="1589"/>
                  </a:lnTo>
                  <a:lnTo>
                    <a:pt x="908" y="1570"/>
                  </a:lnTo>
                  <a:lnTo>
                    <a:pt x="924" y="1551"/>
                  </a:lnTo>
                  <a:lnTo>
                    <a:pt x="940" y="1533"/>
                  </a:lnTo>
                  <a:lnTo>
                    <a:pt x="957" y="1516"/>
                  </a:lnTo>
                  <a:lnTo>
                    <a:pt x="973" y="1500"/>
                  </a:lnTo>
                  <a:lnTo>
                    <a:pt x="991" y="1485"/>
                  </a:lnTo>
                  <a:lnTo>
                    <a:pt x="1008" y="1472"/>
                  </a:lnTo>
                  <a:lnTo>
                    <a:pt x="1027" y="1462"/>
                  </a:lnTo>
                  <a:lnTo>
                    <a:pt x="1046" y="1452"/>
                  </a:lnTo>
                  <a:lnTo>
                    <a:pt x="1065" y="1443"/>
                  </a:lnTo>
                  <a:lnTo>
                    <a:pt x="1085" y="1435"/>
                  </a:lnTo>
                  <a:lnTo>
                    <a:pt x="1107" y="1428"/>
                  </a:lnTo>
                  <a:lnTo>
                    <a:pt x="1129" y="1421"/>
                  </a:lnTo>
                  <a:lnTo>
                    <a:pt x="1152" y="1416"/>
                  </a:lnTo>
                  <a:lnTo>
                    <a:pt x="1175" y="1411"/>
                  </a:lnTo>
                  <a:lnTo>
                    <a:pt x="1200" y="1406"/>
                  </a:lnTo>
                  <a:lnTo>
                    <a:pt x="1223" y="1402"/>
                  </a:lnTo>
                  <a:lnTo>
                    <a:pt x="1249" y="1399"/>
                  </a:lnTo>
                  <a:lnTo>
                    <a:pt x="1274" y="1395"/>
                  </a:lnTo>
                  <a:lnTo>
                    <a:pt x="1299" y="1392"/>
                  </a:lnTo>
                  <a:lnTo>
                    <a:pt x="1325" y="1388"/>
                  </a:lnTo>
                  <a:lnTo>
                    <a:pt x="1351" y="1385"/>
                  </a:lnTo>
                  <a:lnTo>
                    <a:pt x="1377" y="1381"/>
                  </a:lnTo>
                  <a:lnTo>
                    <a:pt x="1402" y="1378"/>
                  </a:lnTo>
                  <a:lnTo>
                    <a:pt x="1428" y="1373"/>
                  </a:lnTo>
                  <a:lnTo>
                    <a:pt x="1454" y="1369"/>
                  </a:lnTo>
                  <a:lnTo>
                    <a:pt x="1478" y="1365"/>
                  </a:lnTo>
                  <a:lnTo>
                    <a:pt x="1503" y="1359"/>
                  </a:lnTo>
                  <a:lnTo>
                    <a:pt x="1527" y="1353"/>
                  </a:lnTo>
                  <a:lnTo>
                    <a:pt x="1552" y="1347"/>
                  </a:lnTo>
                  <a:lnTo>
                    <a:pt x="1576" y="1339"/>
                  </a:lnTo>
                  <a:lnTo>
                    <a:pt x="1598" y="1331"/>
                  </a:lnTo>
                  <a:lnTo>
                    <a:pt x="1621" y="1321"/>
                  </a:lnTo>
                  <a:lnTo>
                    <a:pt x="1642" y="1311"/>
                  </a:lnTo>
                  <a:lnTo>
                    <a:pt x="1662" y="1300"/>
                  </a:lnTo>
                  <a:lnTo>
                    <a:pt x="1683" y="1287"/>
                  </a:lnTo>
                  <a:lnTo>
                    <a:pt x="1701" y="1273"/>
                  </a:lnTo>
                  <a:lnTo>
                    <a:pt x="1719" y="1257"/>
                  </a:lnTo>
                  <a:lnTo>
                    <a:pt x="1735" y="1240"/>
                  </a:lnTo>
                  <a:lnTo>
                    <a:pt x="1751" y="1221"/>
                  </a:lnTo>
                  <a:lnTo>
                    <a:pt x="1769" y="1211"/>
                  </a:lnTo>
                  <a:lnTo>
                    <a:pt x="1782" y="1191"/>
                  </a:lnTo>
                  <a:lnTo>
                    <a:pt x="1794" y="1167"/>
                  </a:lnTo>
                  <a:lnTo>
                    <a:pt x="1806" y="1140"/>
                  </a:lnTo>
                  <a:lnTo>
                    <a:pt x="1816" y="1116"/>
                  </a:lnTo>
                  <a:lnTo>
                    <a:pt x="1831" y="1096"/>
                  </a:lnTo>
                  <a:lnTo>
                    <a:pt x="1849" y="1087"/>
                  </a:lnTo>
                  <a:lnTo>
                    <a:pt x="1872" y="1091"/>
                  </a:lnTo>
                  <a:lnTo>
                    <a:pt x="1880" y="1014"/>
                  </a:lnTo>
                  <a:lnTo>
                    <a:pt x="1880" y="997"/>
                  </a:lnTo>
                  <a:lnTo>
                    <a:pt x="1879" y="984"/>
                  </a:lnTo>
                  <a:lnTo>
                    <a:pt x="1877" y="972"/>
                  </a:lnTo>
                  <a:lnTo>
                    <a:pt x="1875" y="962"/>
                  </a:lnTo>
                  <a:lnTo>
                    <a:pt x="1871" y="951"/>
                  </a:lnTo>
                  <a:lnTo>
                    <a:pt x="1865" y="939"/>
                  </a:lnTo>
                  <a:lnTo>
                    <a:pt x="1856" y="924"/>
                  </a:lnTo>
                  <a:lnTo>
                    <a:pt x="1844" y="906"/>
                  </a:lnTo>
                  <a:lnTo>
                    <a:pt x="1783" y="890"/>
                  </a:lnTo>
                  <a:lnTo>
                    <a:pt x="1775" y="878"/>
                  </a:lnTo>
                  <a:lnTo>
                    <a:pt x="1766" y="865"/>
                  </a:lnTo>
                  <a:lnTo>
                    <a:pt x="1759" y="851"/>
                  </a:lnTo>
                  <a:lnTo>
                    <a:pt x="1752" y="837"/>
                  </a:lnTo>
                  <a:lnTo>
                    <a:pt x="1746" y="822"/>
                  </a:lnTo>
                  <a:lnTo>
                    <a:pt x="1739" y="807"/>
                  </a:lnTo>
                  <a:lnTo>
                    <a:pt x="1735" y="793"/>
                  </a:lnTo>
                  <a:lnTo>
                    <a:pt x="1731" y="776"/>
                  </a:lnTo>
                  <a:lnTo>
                    <a:pt x="1727" y="760"/>
                  </a:lnTo>
                  <a:lnTo>
                    <a:pt x="1723" y="745"/>
                  </a:lnTo>
                  <a:lnTo>
                    <a:pt x="1721" y="729"/>
                  </a:lnTo>
                  <a:lnTo>
                    <a:pt x="1720" y="713"/>
                  </a:lnTo>
                  <a:lnTo>
                    <a:pt x="1719" y="697"/>
                  </a:lnTo>
                  <a:lnTo>
                    <a:pt x="1719" y="681"/>
                  </a:lnTo>
                  <a:lnTo>
                    <a:pt x="1720" y="666"/>
                  </a:lnTo>
                  <a:lnTo>
                    <a:pt x="1722" y="651"/>
                  </a:lnTo>
                  <a:lnTo>
                    <a:pt x="1716" y="641"/>
                  </a:lnTo>
                  <a:lnTo>
                    <a:pt x="1712" y="629"/>
                  </a:lnTo>
                  <a:lnTo>
                    <a:pt x="1708" y="616"/>
                  </a:lnTo>
                  <a:lnTo>
                    <a:pt x="1706" y="602"/>
                  </a:lnTo>
                  <a:lnTo>
                    <a:pt x="1706" y="587"/>
                  </a:lnTo>
                  <a:lnTo>
                    <a:pt x="1706" y="572"/>
                  </a:lnTo>
                  <a:lnTo>
                    <a:pt x="1707" y="556"/>
                  </a:lnTo>
                  <a:lnTo>
                    <a:pt x="1709" y="539"/>
                  </a:lnTo>
                  <a:lnTo>
                    <a:pt x="1712" y="523"/>
                  </a:lnTo>
                  <a:lnTo>
                    <a:pt x="1714" y="507"/>
                  </a:lnTo>
                  <a:lnTo>
                    <a:pt x="1717" y="492"/>
                  </a:lnTo>
                  <a:lnTo>
                    <a:pt x="1720" y="477"/>
                  </a:lnTo>
                  <a:lnTo>
                    <a:pt x="1722" y="463"/>
                  </a:lnTo>
                  <a:lnTo>
                    <a:pt x="1724" y="450"/>
                  </a:lnTo>
                  <a:lnTo>
                    <a:pt x="1727" y="438"/>
                  </a:lnTo>
                  <a:lnTo>
                    <a:pt x="1728" y="428"/>
                  </a:lnTo>
                  <a:lnTo>
                    <a:pt x="1740" y="418"/>
                  </a:lnTo>
                  <a:lnTo>
                    <a:pt x="1750" y="402"/>
                  </a:lnTo>
                  <a:lnTo>
                    <a:pt x="1759" y="383"/>
                  </a:lnTo>
                  <a:lnTo>
                    <a:pt x="1767" y="363"/>
                  </a:lnTo>
                  <a:lnTo>
                    <a:pt x="1775" y="343"/>
                  </a:lnTo>
                  <a:lnTo>
                    <a:pt x="1783" y="327"/>
                  </a:lnTo>
                  <a:lnTo>
                    <a:pt x="1793" y="315"/>
                  </a:lnTo>
                  <a:lnTo>
                    <a:pt x="1806" y="311"/>
                  </a:lnTo>
                  <a:lnTo>
                    <a:pt x="1808" y="275"/>
                  </a:lnTo>
                  <a:lnTo>
                    <a:pt x="1812" y="243"/>
                  </a:lnTo>
                  <a:lnTo>
                    <a:pt x="1821" y="214"/>
                  </a:lnTo>
                  <a:lnTo>
                    <a:pt x="1831" y="189"/>
                  </a:lnTo>
                  <a:lnTo>
                    <a:pt x="1844" y="167"/>
                  </a:lnTo>
                  <a:lnTo>
                    <a:pt x="1859" y="149"/>
                  </a:lnTo>
                  <a:lnTo>
                    <a:pt x="1876" y="131"/>
                  </a:lnTo>
                  <a:lnTo>
                    <a:pt x="1896" y="118"/>
                  </a:lnTo>
                  <a:lnTo>
                    <a:pt x="1916" y="105"/>
                  </a:lnTo>
                  <a:lnTo>
                    <a:pt x="1937" y="93"/>
                  </a:lnTo>
                  <a:lnTo>
                    <a:pt x="1960" y="83"/>
                  </a:lnTo>
                  <a:lnTo>
                    <a:pt x="1982" y="73"/>
                  </a:lnTo>
                  <a:lnTo>
                    <a:pt x="2006" y="63"/>
                  </a:lnTo>
                  <a:lnTo>
                    <a:pt x="2029" y="53"/>
                  </a:lnTo>
                  <a:lnTo>
                    <a:pt x="2053" y="44"/>
                  </a:lnTo>
                  <a:lnTo>
                    <a:pt x="2077" y="32"/>
                  </a:lnTo>
                  <a:lnTo>
                    <a:pt x="2101" y="19"/>
                  </a:lnTo>
                  <a:lnTo>
                    <a:pt x="2127" y="10"/>
                  </a:lnTo>
                  <a:lnTo>
                    <a:pt x="2151" y="3"/>
                  </a:lnTo>
                  <a:lnTo>
                    <a:pt x="2176" y="1"/>
                  </a:lnTo>
                  <a:lnTo>
                    <a:pt x="2200" y="0"/>
                  </a:lnTo>
                  <a:lnTo>
                    <a:pt x="2224" y="1"/>
                  </a:lnTo>
                  <a:lnTo>
                    <a:pt x="2248" y="5"/>
                  </a:lnTo>
                  <a:lnTo>
                    <a:pt x="2272" y="10"/>
                  </a:lnTo>
                  <a:lnTo>
                    <a:pt x="2297" y="15"/>
                  </a:lnTo>
                  <a:lnTo>
                    <a:pt x="2321" y="21"/>
                  </a:lnTo>
                  <a:lnTo>
                    <a:pt x="2345" y="28"/>
                  </a:lnTo>
                  <a:lnTo>
                    <a:pt x="2369" y="33"/>
                  </a:lnTo>
                  <a:lnTo>
                    <a:pt x="2393" y="38"/>
                  </a:lnTo>
                  <a:lnTo>
                    <a:pt x="2418" y="43"/>
                  </a:lnTo>
                  <a:lnTo>
                    <a:pt x="2444" y="46"/>
                  </a:lnTo>
                  <a:lnTo>
                    <a:pt x="2468" y="47"/>
                  </a:lnTo>
                  <a:lnTo>
                    <a:pt x="2481" y="62"/>
                  </a:lnTo>
                  <a:lnTo>
                    <a:pt x="2495" y="76"/>
                  </a:lnTo>
                  <a:lnTo>
                    <a:pt x="2511" y="90"/>
                  </a:lnTo>
                  <a:lnTo>
                    <a:pt x="2529" y="103"/>
                  </a:lnTo>
                  <a:lnTo>
                    <a:pt x="2548" y="115"/>
                  </a:lnTo>
                  <a:lnTo>
                    <a:pt x="2567" y="129"/>
                  </a:lnTo>
                  <a:lnTo>
                    <a:pt x="2586" y="143"/>
                  </a:lnTo>
                  <a:lnTo>
                    <a:pt x="2605" y="156"/>
                  </a:lnTo>
                  <a:lnTo>
                    <a:pt x="2625" y="171"/>
                  </a:lnTo>
                  <a:lnTo>
                    <a:pt x="2643" y="186"/>
                  </a:lnTo>
                  <a:lnTo>
                    <a:pt x="2661" y="202"/>
                  </a:lnTo>
                  <a:lnTo>
                    <a:pt x="2677" y="219"/>
                  </a:lnTo>
                  <a:lnTo>
                    <a:pt x="2692" y="237"/>
                  </a:lnTo>
                  <a:lnTo>
                    <a:pt x="2705" y="258"/>
                  </a:lnTo>
                  <a:lnTo>
                    <a:pt x="2716" y="279"/>
                  </a:lnTo>
                  <a:lnTo>
                    <a:pt x="2724" y="302"/>
                  </a:lnTo>
                  <a:lnTo>
                    <a:pt x="2730" y="319"/>
                  </a:lnTo>
                  <a:lnTo>
                    <a:pt x="2735" y="338"/>
                  </a:lnTo>
                  <a:lnTo>
                    <a:pt x="2742" y="359"/>
                  </a:lnTo>
                  <a:lnTo>
                    <a:pt x="2749" y="384"/>
                  </a:lnTo>
                  <a:lnTo>
                    <a:pt x="2756" y="410"/>
                  </a:lnTo>
                  <a:lnTo>
                    <a:pt x="2763" y="436"/>
                  </a:lnTo>
                  <a:lnTo>
                    <a:pt x="2769" y="464"/>
                  </a:lnTo>
                  <a:lnTo>
                    <a:pt x="2774" y="493"/>
                  </a:lnTo>
                  <a:lnTo>
                    <a:pt x="2779" y="521"/>
                  </a:lnTo>
                  <a:lnTo>
                    <a:pt x="2782" y="549"/>
                  </a:lnTo>
                  <a:lnTo>
                    <a:pt x="2784" y="576"/>
                  </a:lnTo>
                  <a:lnTo>
                    <a:pt x="2784" y="602"/>
                  </a:lnTo>
                  <a:lnTo>
                    <a:pt x="2782" y="626"/>
                  </a:lnTo>
                  <a:lnTo>
                    <a:pt x="2778" y="647"/>
                  </a:lnTo>
                  <a:lnTo>
                    <a:pt x="2770" y="667"/>
                  </a:lnTo>
                  <a:lnTo>
                    <a:pt x="2761" y="683"/>
                  </a:lnTo>
                  <a:lnTo>
                    <a:pt x="2762" y="695"/>
                  </a:lnTo>
                  <a:lnTo>
                    <a:pt x="2763" y="705"/>
                  </a:lnTo>
                  <a:lnTo>
                    <a:pt x="2765" y="714"/>
                  </a:lnTo>
                  <a:lnTo>
                    <a:pt x="2767" y="723"/>
                  </a:lnTo>
                  <a:lnTo>
                    <a:pt x="2769" y="732"/>
                  </a:lnTo>
                  <a:lnTo>
                    <a:pt x="2771" y="741"/>
                  </a:lnTo>
                  <a:lnTo>
                    <a:pt x="2772" y="751"/>
                  </a:lnTo>
                  <a:lnTo>
                    <a:pt x="2773" y="763"/>
                  </a:lnTo>
                  <a:lnTo>
                    <a:pt x="2769" y="769"/>
                  </a:lnTo>
                  <a:lnTo>
                    <a:pt x="2764" y="774"/>
                  </a:lnTo>
                  <a:lnTo>
                    <a:pt x="2758" y="780"/>
                  </a:lnTo>
                  <a:lnTo>
                    <a:pt x="2753" y="785"/>
                  </a:lnTo>
                  <a:lnTo>
                    <a:pt x="2747" y="788"/>
                  </a:lnTo>
                  <a:lnTo>
                    <a:pt x="2740" y="791"/>
                  </a:lnTo>
                  <a:lnTo>
                    <a:pt x="2733" y="794"/>
                  </a:lnTo>
                  <a:lnTo>
                    <a:pt x="2724" y="795"/>
                  </a:lnTo>
                  <a:lnTo>
                    <a:pt x="2723" y="807"/>
                  </a:lnTo>
                  <a:lnTo>
                    <a:pt x="2721" y="820"/>
                  </a:lnTo>
                  <a:lnTo>
                    <a:pt x="2719" y="834"/>
                  </a:lnTo>
                  <a:lnTo>
                    <a:pt x="2715" y="849"/>
                  </a:lnTo>
                  <a:lnTo>
                    <a:pt x="2709" y="864"/>
                  </a:lnTo>
                  <a:lnTo>
                    <a:pt x="2703" y="880"/>
                  </a:lnTo>
                  <a:lnTo>
                    <a:pt x="2696" y="896"/>
                  </a:lnTo>
                  <a:lnTo>
                    <a:pt x="2689" y="911"/>
                  </a:lnTo>
                  <a:lnTo>
                    <a:pt x="2681" y="927"/>
                  </a:lnTo>
                  <a:lnTo>
                    <a:pt x="2674" y="942"/>
                  </a:lnTo>
                  <a:lnTo>
                    <a:pt x="2665" y="957"/>
                  </a:lnTo>
                  <a:lnTo>
                    <a:pt x="2658" y="971"/>
                  </a:lnTo>
                  <a:lnTo>
                    <a:pt x="2649" y="984"/>
                  </a:lnTo>
                  <a:lnTo>
                    <a:pt x="2642" y="997"/>
                  </a:lnTo>
                  <a:lnTo>
                    <a:pt x="2634" y="1008"/>
                  </a:lnTo>
                  <a:lnTo>
                    <a:pt x="2627" y="1017"/>
                  </a:lnTo>
                  <a:lnTo>
                    <a:pt x="2621" y="1021"/>
                  </a:lnTo>
                  <a:lnTo>
                    <a:pt x="2616" y="1025"/>
                  </a:lnTo>
                  <a:lnTo>
                    <a:pt x="2610" y="1027"/>
                  </a:lnTo>
                  <a:lnTo>
                    <a:pt x="2603" y="1028"/>
                  </a:lnTo>
                  <a:lnTo>
                    <a:pt x="2597" y="1028"/>
                  </a:lnTo>
                  <a:lnTo>
                    <a:pt x="2590" y="1027"/>
                  </a:lnTo>
                  <a:lnTo>
                    <a:pt x="2584" y="1022"/>
                  </a:lnTo>
                  <a:lnTo>
                    <a:pt x="2578" y="1017"/>
                  </a:lnTo>
                  <a:lnTo>
                    <a:pt x="2570" y="1036"/>
                  </a:lnTo>
                  <a:lnTo>
                    <a:pt x="2563" y="1057"/>
                  </a:lnTo>
                  <a:lnTo>
                    <a:pt x="2553" y="1078"/>
                  </a:lnTo>
                  <a:lnTo>
                    <a:pt x="2543" y="1101"/>
                  </a:lnTo>
                  <a:lnTo>
                    <a:pt x="2533" y="1122"/>
                  </a:lnTo>
                  <a:lnTo>
                    <a:pt x="2522" y="1142"/>
                  </a:lnTo>
                  <a:lnTo>
                    <a:pt x="2510" y="1160"/>
                  </a:lnTo>
                  <a:lnTo>
                    <a:pt x="2497" y="1178"/>
                  </a:lnTo>
                  <a:lnTo>
                    <a:pt x="2494" y="1182"/>
                  </a:lnTo>
                  <a:lnTo>
                    <a:pt x="2490" y="1187"/>
                  </a:lnTo>
                  <a:lnTo>
                    <a:pt x="2487" y="1194"/>
                  </a:lnTo>
                  <a:lnTo>
                    <a:pt x="2482" y="1201"/>
                  </a:lnTo>
                  <a:lnTo>
                    <a:pt x="2479" y="1209"/>
                  </a:lnTo>
                  <a:lnTo>
                    <a:pt x="2475" y="1215"/>
                  </a:lnTo>
                  <a:lnTo>
                    <a:pt x="2473" y="1223"/>
                  </a:lnTo>
                  <a:lnTo>
                    <a:pt x="2469" y="12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8" name="Freeform 122"/>
            <p:cNvSpPr/>
            <p:nvPr/>
          </p:nvSpPr>
          <p:spPr>
            <a:xfrm>
              <a:off x="5334120" y="4233960"/>
              <a:ext cx="566280" cy="550080"/>
            </a:xfrm>
            <a:custGeom>
              <a:avLst/>
              <a:gdLst>
                <a:gd name="textAreaLeft" fmla="*/ 0 w 566280"/>
                <a:gd name="textAreaRight" fmla="*/ 566640 w 566280"/>
                <a:gd name="textAreaTop" fmla="*/ 0 h 550080"/>
                <a:gd name="textAreaBottom" fmla="*/ 550440 h 550080"/>
              </a:gdLst>
              <a:ahLst/>
              <a:rect l="textAreaLeft" t="textAreaTop" r="textAreaRight" b="textAreaBottom"/>
              <a:pathLst>
                <a:path w="3700" h="4164">
                  <a:moveTo>
                    <a:pt x="1717" y="1708"/>
                  </a:moveTo>
                  <a:lnTo>
                    <a:pt x="1693" y="1689"/>
                  </a:lnTo>
                  <a:lnTo>
                    <a:pt x="1668" y="1668"/>
                  </a:lnTo>
                  <a:lnTo>
                    <a:pt x="1642" y="1643"/>
                  </a:lnTo>
                  <a:lnTo>
                    <a:pt x="1614" y="1616"/>
                  </a:lnTo>
                  <a:lnTo>
                    <a:pt x="1586" y="1588"/>
                  </a:lnTo>
                  <a:lnTo>
                    <a:pt x="1557" y="1560"/>
                  </a:lnTo>
                  <a:lnTo>
                    <a:pt x="1529" y="1529"/>
                  </a:lnTo>
                  <a:lnTo>
                    <a:pt x="1500" y="1498"/>
                  </a:lnTo>
                  <a:lnTo>
                    <a:pt x="1471" y="1467"/>
                  </a:lnTo>
                  <a:lnTo>
                    <a:pt x="1442" y="1434"/>
                  </a:lnTo>
                  <a:lnTo>
                    <a:pt x="1414" y="1402"/>
                  </a:lnTo>
                  <a:lnTo>
                    <a:pt x="1387" y="1371"/>
                  </a:lnTo>
                  <a:lnTo>
                    <a:pt x="1363" y="1340"/>
                  </a:lnTo>
                  <a:lnTo>
                    <a:pt x="1338" y="1311"/>
                  </a:lnTo>
                  <a:lnTo>
                    <a:pt x="1316" y="1284"/>
                  </a:lnTo>
                  <a:lnTo>
                    <a:pt x="1295" y="1257"/>
                  </a:lnTo>
                  <a:lnTo>
                    <a:pt x="1271" y="1225"/>
                  </a:lnTo>
                  <a:lnTo>
                    <a:pt x="1260" y="1208"/>
                  </a:lnTo>
                  <a:lnTo>
                    <a:pt x="1251" y="1191"/>
                  </a:lnTo>
                  <a:lnTo>
                    <a:pt x="1245" y="1172"/>
                  </a:lnTo>
                  <a:lnTo>
                    <a:pt x="1241" y="1154"/>
                  </a:lnTo>
                  <a:lnTo>
                    <a:pt x="1238" y="1136"/>
                  </a:lnTo>
                  <a:lnTo>
                    <a:pt x="1237" y="1118"/>
                  </a:lnTo>
                  <a:lnTo>
                    <a:pt x="1237" y="1101"/>
                  </a:lnTo>
                  <a:lnTo>
                    <a:pt x="1238" y="1084"/>
                  </a:lnTo>
                  <a:lnTo>
                    <a:pt x="1241" y="1068"/>
                  </a:lnTo>
                  <a:lnTo>
                    <a:pt x="1244" y="1054"/>
                  </a:lnTo>
                  <a:lnTo>
                    <a:pt x="1248" y="1040"/>
                  </a:lnTo>
                  <a:lnTo>
                    <a:pt x="1252" y="1028"/>
                  </a:lnTo>
                  <a:lnTo>
                    <a:pt x="1257" y="1018"/>
                  </a:lnTo>
                  <a:lnTo>
                    <a:pt x="1262" y="1011"/>
                  </a:lnTo>
                  <a:lnTo>
                    <a:pt x="1266" y="1006"/>
                  </a:lnTo>
                  <a:lnTo>
                    <a:pt x="1271" y="1002"/>
                  </a:lnTo>
                  <a:lnTo>
                    <a:pt x="1269" y="1045"/>
                  </a:lnTo>
                  <a:lnTo>
                    <a:pt x="1274" y="1084"/>
                  </a:lnTo>
                  <a:lnTo>
                    <a:pt x="1281" y="1120"/>
                  </a:lnTo>
                  <a:lnTo>
                    <a:pt x="1292" y="1154"/>
                  </a:lnTo>
                  <a:lnTo>
                    <a:pt x="1307" y="1186"/>
                  </a:lnTo>
                  <a:lnTo>
                    <a:pt x="1324" y="1216"/>
                  </a:lnTo>
                  <a:lnTo>
                    <a:pt x="1343" y="1245"/>
                  </a:lnTo>
                  <a:lnTo>
                    <a:pt x="1365" y="1272"/>
                  </a:lnTo>
                  <a:lnTo>
                    <a:pt x="1388" y="1300"/>
                  </a:lnTo>
                  <a:lnTo>
                    <a:pt x="1412" y="1326"/>
                  </a:lnTo>
                  <a:lnTo>
                    <a:pt x="1438" y="1354"/>
                  </a:lnTo>
                  <a:lnTo>
                    <a:pt x="1463" y="1382"/>
                  </a:lnTo>
                  <a:lnTo>
                    <a:pt x="1490" y="1412"/>
                  </a:lnTo>
                  <a:lnTo>
                    <a:pt x="1516" y="1443"/>
                  </a:lnTo>
                  <a:lnTo>
                    <a:pt x="1540" y="1475"/>
                  </a:lnTo>
                  <a:lnTo>
                    <a:pt x="1565" y="1510"/>
                  </a:lnTo>
                  <a:lnTo>
                    <a:pt x="1571" y="1520"/>
                  </a:lnTo>
                  <a:lnTo>
                    <a:pt x="1580" y="1531"/>
                  </a:lnTo>
                  <a:lnTo>
                    <a:pt x="1588" y="1542"/>
                  </a:lnTo>
                  <a:lnTo>
                    <a:pt x="1598" y="1554"/>
                  </a:lnTo>
                  <a:lnTo>
                    <a:pt x="1609" y="1567"/>
                  </a:lnTo>
                  <a:lnTo>
                    <a:pt x="1620" y="1580"/>
                  </a:lnTo>
                  <a:lnTo>
                    <a:pt x="1630" y="1593"/>
                  </a:lnTo>
                  <a:lnTo>
                    <a:pt x="1642" y="1607"/>
                  </a:lnTo>
                  <a:lnTo>
                    <a:pt x="1653" y="1621"/>
                  </a:lnTo>
                  <a:lnTo>
                    <a:pt x="1664" y="1633"/>
                  </a:lnTo>
                  <a:lnTo>
                    <a:pt x="1675" y="1647"/>
                  </a:lnTo>
                  <a:lnTo>
                    <a:pt x="1685" y="1660"/>
                  </a:lnTo>
                  <a:lnTo>
                    <a:pt x="1694" y="1673"/>
                  </a:lnTo>
                  <a:lnTo>
                    <a:pt x="1703" y="1685"/>
                  </a:lnTo>
                  <a:lnTo>
                    <a:pt x="1710" y="1698"/>
                  </a:lnTo>
                  <a:lnTo>
                    <a:pt x="1717" y="1708"/>
                  </a:lnTo>
                  <a:close/>
                  <a:moveTo>
                    <a:pt x="1169" y="229"/>
                  </a:moveTo>
                  <a:lnTo>
                    <a:pt x="1159" y="275"/>
                  </a:lnTo>
                  <a:lnTo>
                    <a:pt x="1152" y="319"/>
                  </a:lnTo>
                  <a:lnTo>
                    <a:pt x="1145" y="358"/>
                  </a:lnTo>
                  <a:lnTo>
                    <a:pt x="1141" y="396"/>
                  </a:lnTo>
                  <a:lnTo>
                    <a:pt x="1137" y="431"/>
                  </a:lnTo>
                  <a:lnTo>
                    <a:pt x="1135" y="465"/>
                  </a:lnTo>
                  <a:lnTo>
                    <a:pt x="1131" y="499"/>
                  </a:lnTo>
                  <a:lnTo>
                    <a:pt x="1130" y="531"/>
                  </a:lnTo>
                  <a:lnTo>
                    <a:pt x="1128" y="563"/>
                  </a:lnTo>
                  <a:lnTo>
                    <a:pt x="1126" y="595"/>
                  </a:lnTo>
                  <a:lnTo>
                    <a:pt x="1124" y="628"/>
                  </a:lnTo>
                  <a:lnTo>
                    <a:pt x="1121" y="662"/>
                  </a:lnTo>
                  <a:lnTo>
                    <a:pt x="1117" y="697"/>
                  </a:lnTo>
                  <a:lnTo>
                    <a:pt x="1112" y="736"/>
                  </a:lnTo>
                  <a:lnTo>
                    <a:pt x="1106" y="777"/>
                  </a:lnTo>
                  <a:lnTo>
                    <a:pt x="1098" y="820"/>
                  </a:lnTo>
                  <a:lnTo>
                    <a:pt x="1056" y="967"/>
                  </a:lnTo>
                  <a:lnTo>
                    <a:pt x="1041" y="1042"/>
                  </a:lnTo>
                  <a:lnTo>
                    <a:pt x="1031" y="1049"/>
                  </a:lnTo>
                  <a:lnTo>
                    <a:pt x="1019" y="1059"/>
                  </a:lnTo>
                  <a:lnTo>
                    <a:pt x="1007" y="1070"/>
                  </a:lnTo>
                  <a:lnTo>
                    <a:pt x="994" y="1080"/>
                  </a:lnTo>
                  <a:lnTo>
                    <a:pt x="980" y="1090"/>
                  </a:lnTo>
                  <a:lnTo>
                    <a:pt x="967" y="1100"/>
                  </a:lnTo>
                  <a:lnTo>
                    <a:pt x="953" y="1107"/>
                  </a:lnTo>
                  <a:lnTo>
                    <a:pt x="937" y="1111"/>
                  </a:lnTo>
                  <a:lnTo>
                    <a:pt x="948" y="1115"/>
                  </a:lnTo>
                  <a:lnTo>
                    <a:pt x="962" y="1111"/>
                  </a:lnTo>
                  <a:lnTo>
                    <a:pt x="977" y="1104"/>
                  </a:lnTo>
                  <a:lnTo>
                    <a:pt x="993" y="1092"/>
                  </a:lnTo>
                  <a:lnTo>
                    <a:pt x="1009" y="1078"/>
                  </a:lnTo>
                  <a:lnTo>
                    <a:pt x="1024" y="1063"/>
                  </a:lnTo>
                  <a:lnTo>
                    <a:pt x="1037" y="1048"/>
                  </a:lnTo>
                  <a:lnTo>
                    <a:pt x="1048" y="1035"/>
                  </a:lnTo>
                  <a:lnTo>
                    <a:pt x="1045" y="1045"/>
                  </a:lnTo>
                  <a:lnTo>
                    <a:pt x="1043" y="1057"/>
                  </a:lnTo>
                  <a:lnTo>
                    <a:pt x="1040" y="1072"/>
                  </a:lnTo>
                  <a:lnTo>
                    <a:pt x="1038" y="1089"/>
                  </a:lnTo>
                  <a:lnTo>
                    <a:pt x="1038" y="1108"/>
                  </a:lnTo>
                  <a:lnTo>
                    <a:pt x="1037" y="1130"/>
                  </a:lnTo>
                  <a:lnTo>
                    <a:pt x="1038" y="1152"/>
                  </a:lnTo>
                  <a:lnTo>
                    <a:pt x="1040" y="1176"/>
                  </a:lnTo>
                  <a:lnTo>
                    <a:pt x="1043" y="1201"/>
                  </a:lnTo>
                  <a:lnTo>
                    <a:pt x="1047" y="1227"/>
                  </a:lnTo>
                  <a:lnTo>
                    <a:pt x="1052" y="1253"/>
                  </a:lnTo>
                  <a:lnTo>
                    <a:pt x="1059" y="1279"/>
                  </a:lnTo>
                  <a:lnTo>
                    <a:pt x="1066" y="1306"/>
                  </a:lnTo>
                  <a:lnTo>
                    <a:pt x="1076" y="1333"/>
                  </a:lnTo>
                  <a:lnTo>
                    <a:pt x="1086" y="1359"/>
                  </a:lnTo>
                  <a:lnTo>
                    <a:pt x="1099" y="1384"/>
                  </a:lnTo>
                  <a:lnTo>
                    <a:pt x="1101" y="1421"/>
                  </a:lnTo>
                  <a:lnTo>
                    <a:pt x="1107" y="1456"/>
                  </a:lnTo>
                  <a:lnTo>
                    <a:pt x="1116" y="1492"/>
                  </a:lnTo>
                  <a:lnTo>
                    <a:pt x="1128" y="1528"/>
                  </a:lnTo>
                  <a:lnTo>
                    <a:pt x="1143" y="1562"/>
                  </a:lnTo>
                  <a:lnTo>
                    <a:pt x="1160" y="1596"/>
                  </a:lnTo>
                  <a:lnTo>
                    <a:pt x="1181" y="1629"/>
                  </a:lnTo>
                  <a:lnTo>
                    <a:pt x="1202" y="1660"/>
                  </a:lnTo>
                  <a:lnTo>
                    <a:pt x="1225" y="1690"/>
                  </a:lnTo>
                  <a:lnTo>
                    <a:pt x="1249" y="1718"/>
                  </a:lnTo>
                  <a:lnTo>
                    <a:pt x="1275" y="1743"/>
                  </a:lnTo>
                  <a:lnTo>
                    <a:pt x="1301" y="1766"/>
                  </a:lnTo>
                  <a:lnTo>
                    <a:pt x="1327" y="1786"/>
                  </a:lnTo>
                  <a:lnTo>
                    <a:pt x="1354" y="1805"/>
                  </a:lnTo>
                  <a:lnTo>
                    <a:pt x="1380" y="1818"/>
                  </a:lnTo>
                  <a:lnTo>
                    <a:pt x="1405" y="1829"/>
                  </a:lnTo>
                  <a:lnTo>
                    <a:pt x="1430" y="1829"/>
                  </a:lnTo>
                  <a:lnTo>
                    <a:pt x="1418" y="1814"/>
                  </a:lnTo>
                  <a:lnTo>
                    <a:pt x="1404" y="1798"/>
                  </a:lnTo>
                  <a:lnTo>
                    <a:pt x="1390" y="1781"/>
                  </a:lnTo>
                  <a:lnTo>
                    <a:pt x="1377" y="1764"/>
                  </a:lnTo>
                  <a:lnTo>
                    <a:pt x="1362" y="1747"/>
                  </a:lnTo>
                  <a:lnTo>
                    <a:pt x="1347" y="1729"/>
                  </a:lnTo>
                  <a:lnTo>
                    <a:pt x="1333" y="1710"/>
                  </a:lnTo>
                  <a:lnTo>
                    <a:pt x="1318" y="1691"/>
                  </a:lnTo>
                  <a:lnTo>
                    <a:pt x="1304" y="1673"/>
                  </a:lnTo>
                  <a:lnTo>
                    <a:pt x="1290" y="1654"/>
                  </a:lnTo>
                  <a:lnTo>
                    <a:pt x="1278" y="1634"/>
                  </a:lnTo>
                  <a:lnTo>
                    <a:pt x="1266" y="1616"/>
                  </a:lnTo>
                  <a:lnTo>
                    <a:pt x="1256" y="1597"/>
                  </a:lnTo>
                  <a:lnTo>
                    <a:pt x="1247" y="1579"/>
                  </a:lnTo>
                  <a:lnTo>
                    <a:pt x="1240" y="1561"/>
                  </a:lnTo>
                  <a:lnTo>
                    <a:pt x="1234" y="1542"/>
                  </a:lnTo>
                  <a:lnTo>
                    <a:pt x="1222" y="1503"/>
                  </a:lnTo>
                  <a:lnTo>
                    <a:pt x="1213" y="1463"/>
                  </a:lnTo>
                  <a:lnTo>
                    <a:pt x="1204" y="1423"/>
                  </a:lnTo>
                  <a:lnTo>
                    <a:pt x="1198" y="1381"/>
                  </a:lnTo>
                  <a:lnTo>
                    <a:pt x="1192" y="1339"/>
                  </a:lnTo>
                  <a:lnTo>
                    <a:pt x="1188" y="1296"/>
                  </a:lnTo>
                  <a:lnTo>
                    <a:pt x="1185" y="1254"/>
                  </a:lnTo>
                  <a:lnTo>
                    <a:pt x="1184" y="1210"/>
                  </a:lnTo>
                  <a:lnTo>
                    <a:pt x="1183" y="1165"/>
                  </a:lnTo>
                  <a:lnTo>
                    <a:pt x="1184" y="1121"/>
                  </a:lnTo>
                  <a:lnTo>
                    <a:pt x="1185" y="1075"/>
                  </a:lnTo>
                  <a:lnTo>
                    <a:pt x="1186" y="1030"/>
                  </a:lnTo>
                  <a:lnTo>
                    <a:pt x="1189" y="984"/>
                  </a:lnTo>
                  <a:lnTo>
                    <a:pt x="1191" y="938"/>
                  </a:lnTo>
                  <a:lnTo>
                    <a:pt x="1195" y="892"/>
                  </a:lnTo>
                  <a:lnTo>
                    <a:pt x="1199" y="845"/>
                  </a:lnTo>
                  <a:lnTo>
                    <a:pt x="1202" y="799"/>
                  </a:lnTo>
                  <a:lnTo>
                    <a:pt x="1206" y="752"/>
                  </a:lnTo>
                  <a:lnTo>
                    <a:pt x="1210" y="705"/>
                  </a:lnTo>
                  <a:lnTo>
                    <a:pt x="1214" y="659"/>
                  </a:lnTo>
                  <a:lnTo>
                    <a:pt x="1217" y="612"/>
                  </a:lnTo>
                  <a:lnTo>
                    <a:pt x="1220" y="565"/>
                  </a:lnTo>
                  <a:lnTo>
                    <a:pt x="1223" y="519"/>
                  </a:lnTo>
                  <a:lnTo>
                    <a:pt x="1226" y="472"/>
                  </a:lnTo>
                  <a:lnTo>
                    <a:pt x="1227" y="426"/>
                  </a:lnTo>
                  <a:lnTo>
                    <a:pt x="1228" y="380"/>
                  </a:lnTo>
                  <a:lnTo>
                    <a:pt x="1227" y="335"/>
                  </a:lnTo>
                  <a:lnTo>
                    <a:pt x="1226" y="289"/>
                  </a:lnTo>
                  <a:lnTo>
                    <a:pt x="1223" y="244"/>
                  </a:lnTo>
                  <a:lnTo>
                    <a:pt x="1220" y="200"/>
                  </a:lnTo>
                  <a:lnTo>
                    <a:pt x="1216" y="156"/>
                  </a:lnTo>
                  <a:lnTo>
                    <a:pt x="1210" y="112"/>
                  </a:lnTo>
                  <a:lnTo>
                    <a:pt x="1207" y="112"/>
                  </a:lnTo>
                  <a:lnTo>
                    <a:pt x="1203" y="124"/>
                  </a:lnTo>
                  <a:lnTo>
                    <a:pt x="1197" y="142"/>
                  </a:lnTo>
                  <a:lnTo>
                    <a:pt x="1189" y="165"/>
                  </a:lnTo>
                  <a:lnTo>
                    <a:pt x="1182" y="188"/>
                  </a:lnTo>
                  <a:lnTo>
                    <a:pt x="1175" y="209"/>
                  </a:lnTo>
                  <a:lnTo>
                    <a:pt x="1171" y="224"/>
                  </a:lnTo>
                  <a:lnTo>
                    <a:pt x="1169" y="229"/>
                  </a:lnTo>
                  <a:close/>
                  <a:moveTo>
                    <a:pt x="672" y="859"/>
                  </a:moveTo>
                  <a:lnTo>
                    <a:pt x="660" y="876"/>
                  </a:lnTo>
                  <a:lnTo>
                    <a:pt x="651" y="890"/>
                  </a:lnTo>
                  <a:lnTo>
                    <a:pt x="644" y="904"/>
                  </a:lnTo>
                  <a:lnTo>
                    <a:pt x="640" y="917"/>
                  </a:lnTo>
                  <a:lnTo>
                    <a:pt x="638" y="931"/>
                  </a:lnTo>
                  <a:lnTo>
                    <a:pt x="637" y="947"/>
                  </a:lnTo>
                  <a:lnTo>
                    <a:pt x="636" y="965"/>
                  </a:lnTo>
                  <a:lnTo>
                    <a:pt x="636" y="986"/>
                  </a:lnTo>
                  <a:lnTo>
                    <a:pt x="648" y="1004"/>
                  </a:lnTo>
                  <a:lnTo>
                    <a:pt x="657" y="1025"/>
                  </a:lnTo>
                  <a:lnTo>
                    <a:pt x="665" y="1045"/>
                  </a:lnTo>
                  <a:lnTo>
                    <a:pt x="672" y="1065"/>
                  </a:lnTo>
                  <a:lnTo>
                    <a:pt x="680" y="1087"/>
                  </a:lnTo>
                  <a:lnTo>
                    <a:pt x="687" y="1107"/>
                  </a:lnTo>
                  <a:lnTo>
                    <a:pt x="697" y="1127"/>
                  </a:lnTo>
                  <a:lnTo>
                    <a:pt x="709" y="1146"/>
                  </a:lnTo>
                  <a:lnTo>
                    <a:pt x="709" y="1209"/>
                  </a:lnTo>
                  <a:lnTo>
                    <a:pt x="745" y="1257"/>
                  </a:lnTo>
                  <a:lnTo>
                    <a:pt x="755" y="1245"/>
                  </a:lnTo>
                  <a:lnTo>
                    <a:pt x="765" y="1234"/>
                  </a:lnTo>
                  <a:lnTo>
                    <a:pt x="776" y="1225"/>
                  </a:lnTo>
                  <a:lnTo>
                    <a:pt x="788" y="1216"/>
                  </a:lnTo>
                  <a:lnTo>
                    <a:pt x="800" y="1208"/>
                  </a:lnTo>
                  <a:lnTo>
                    <a:pt x="811" y="1200"/>
                  </a:lnTo>
                  <a:lnTo>
                    <a:pt x="824" y="1193"/>
                  </a:lnTo>
                  <a:lnTo>
                    <a:pt x="837" y="1185"/>
                  </a:lnTo>
                  <a:lnTo>
                    <a:pt x="850" y="1178"/>
                  </a:lnTo>
                  <a:lnTo>
                    <a:pt x="862" y="1170"/>
                  </a:lnTo>
                  <a:lnTo>
                    <a:pt x="875" y="1162"/>
                  </a:lnTo>
                  <a:lnTo>
                    <a:pt x="886" y="1153"/>
                  </a:lnTo>
                  <a:lnTo>
                    <a:pt x="897" y="1145"/>
                  </a:lnTo>
                  <a:lnTo>
                    <a:pt x="909" y="1135"/>
                  </a:lnTo>
                  <a:lnTo>
                    <a:pt x="918" y="1125"/>
                  </a:lnTo>
                  <a:lnTo>
                    <a:pt x="928" y="1114"/>
                  </a:lnTo>
                  <a:lnTo>
                    <a:pt x="913" y="1119"/>
                  </a:lnTo>
                  <a:lnTo>
                    <a:pt x="900" y="1122"/>
                  </a:lnTo>
                  <a:lnTo>
                    <a:pt x="888" y="1122"/>
                  </a:lnTo>
                  <a:lnTo>
                    <a:pt x="877" y="1121"/>
                  </a:lnTo>
                  <a:lnTo>
                    <a:pt x="865" y="1119"/>
                  </a:lnTo>
                  <a:lnTo>
                    <a:pt x="854" y="1117"/>
                  </a:lnTo>
                  <a:lnTo>
                    <a:pt x="842" y="1115"/>
                  </a:lnTo>
                  <a:lnTo>
                    <a:pt x="831" y="1114"/>
                  </a:lnTo>
                  <a:lnTo>
                    <a:pt x="821" y="1102"/>
                  </a:lnTo>
                  <a:lnTo>
                    <a:pt x="811" y="1091"/>
                  </a:lnTo>
                  <a:lnTo>
                    <a:pt x="801" y="1080"/>
                  </a:lnTo>
                  <a:lnTo>
                    <a:pt x="790" y="1071"/>
                  </a:lnTo>
                  <a:lnTo>
                    <a:pt x="779" y="1060"/>
                  </a:lnTo>
                  <a:lnTo>
                    <a:pt x="770" y="1050"/>
                  </a:lnTo>
                  <a:lnTo>
                    <a:pt x="759" y="1041"/>
                  </a:lnTo>
                  <a:lnTo>
                    <a:pt x="748" y="1030"/>
                  </a:lnTo>
                  <a:lnTo>
                    <a:pt x="738" y="1019"/>
                  </a:lnTo>
                  <a:lnTo>
                    <a:pt x="728" y="1009"/>
                  </a:lnTo>
                  <a:lnTo>
                    <a:pt x="719" y="997"/>
                  </a:lnTo>
                  <a:lnTo>
                    <a:pt x="711" y="984"/>
                  </a:lnTo>
                  <a:lnTo>
                    <a:pt x="702" y="970"/>
                  </a:lnTo>
                  <a:lnTo>
                    <a:pt x="696" y="956"/>
                  </a:lnTo>
                  <a:lnTo>
                    <a:pt x="689" y="940"/>
                  </a:lnTo>
                  <a:lnTo>
                    <a:pt x="684" y="923"/>
                  </a:lnTo>
                  <a:lnTo>
                    <a:pt x="684" y="917"/>
                  </a:lnTo>
                  <a:lnTo>
                    <a:pt x="682" y="911"/>
                  </a:lnTo>
                  <a:lnTo>
                    <a:pt x="681" y="904"/>
                  </a:lnTo>
                  <a:lnTo>
                    <a:pt x="679" y="897"/>
                  </a:lnTo>
                  <a:lnTo>
                    <a:pt x="675" y="889"/>
                  </a:lnTo>
                  <a:lnTo>
                    <a:pt x="674" y="880"/>
                  </a:lnTo>
                  <a:lnTo>
                    <a:pt x="672" y="871"/>
                  </a:lnTo>
                  <a:lnTo>
                    <a:pt x="672" y="859"/>
                  </a:lnTo>
                  <a:close/>
                  <a:moveTo>
                    <a:pt x="354" y="859"/>
                  </a:moveTo>
                  <a:lnTo>
                    <a:pt x="349" y="860"/>
                  </a:lnTo>
                  <a:lnTo>
                    <a:pt x="344" y="862"/>
                  </a:lnTo>
                  <a:lnTo>
                    <a:pt x="337" y="865"/>
                  </a:lnTo>
                  <a:lnTo>
                    <a:pt x="332" y="869"/>
                  </a:lnTo>
                  <a:lnTo>
                    <a:pt x="326" y="874"/>
                  </a:lnTo>
                  <a:lnTo>
                    <a:pt x="322" y="879"/>
                  </a:lnTo>
                  <a:lnTo>
                    <a:pt x="319" y="885"/>
                  </a:lnTo>
                  <a:lnTo>
                    <a:pt x="318" y="891"/>
                  </a:lnTo>
                  <a:lnTo>
                    <a:pt x="322" y="897"/>
                  </a:lnTo>
                  <a:lnTo>
                    <a:pt x="326" y="906"/>
                  </a:lnTo>
                  <a:lnTo>
                    <a:pt x="332" y="915"/>
                  </a:lnTo>
                  <a:lnTo>
                    <a:pt x="336" y="923"/>
                  </a:lnTo>
                  <a:lnTo>
                    <a:pt x="340" y="932"/>
                  </a:lnTo>
                  <a:lnTo>
                    <a:pt x="346" y="940"/>
                  </a:lnTo>
                  <a:lnTo>
                    <a:pt x="350" y="948"/>
                  </a:lnTo>
                  <a:lnTo>
                    <a:pt x="354" y="954"/>
                  </a:lnTo>
                  <a:lnTo>
                    <a:pt x="374" y="955"/>
                  </a:lnTo>
                  <a:lnTo>
                    <a:pt x="393" y="960"/>
                  </a:lnTo>
                  <a:lnTo>
                    <a:pt x="413" y="965"/>
                  </a:lnTo>
                  <a:lnTo>
                    <a:pt x="435" y="973"/>
                  </a:lnTo>
                  <a:lnTo>
                    <a:pt x="457" y="983"/>
                  </a:lnTo>
                  <a:lnTo>
                    <a:pt x="478" y="995"/>
                  </a:lnTo>
                  <a:lnTo>
                    <a:pt x="501" y="1008"/>
                  </a:lnTo>
                  <a:lnTo>
                    <a:pt x="522" y="1022"/>
                  </a:lnTo>
                  <a:lnTo>
                    <a:pt x="544" y="1038"/>
                  </a:lnTo>
                  <a:lnTo>
                    <a:pt x="565" y="1054"/>
                  </a:lnTo>
                  <a:lnTo>
                    <a:pt x="586" y="1071"/>
                  </a:lnTo>
                  <a:lnTo>
                    <a:pt x="606" y="1089"/>
                  </a:lnTo>
                  <a:lnTo>
                    <a:pt x="624" y="1107"/>
                  </a:lnTo>
                  <a:lnTo>
                    <a:pt x="641" y="1125"/>
                  </a:lnTo>
                  <a:lnTo>
                    <a:pt x="657" y="1144"/>
                  </a:lnTo>
                  <a:lnTo>
                    <a:pt x="672" y="1162"/>
                  </a:lnTo>
                  <a:lnTo>
                    <a:pt x="675" y="1150"/>
                  </a:lnTo>
                  <a:lnTo>
                    <a:pt x="676" y="1137"/>
                  </a:lnTo>
                  <a:lnTo>
                    <a:pt x="675" y="1124"/>
                  </a:lnTo>
                  <a:lnTo>
                    <a:pt x="673" y="1111"/>
                  </a:lnTo>
                  <a:lnTo>
                    <a:pt x="669" y="1099"/>
                  </a:lnTo>
                  <a:lnTo>
                    <a:pt x="664" y="1085"/>
                  </a:lnTo>
                  <a:lnTo>
                    <a:pt x="657" y="1072"/>
                  </a:lnTo>
                  <a:lnTo>
                    <a:pt x="651" y="1058"/>
                  </a:lnTo>
                  <a:lnTo>
                    <a:pt x="644" y="1044"/>
                  </a:lnTo>
                  <a:lnTo>
                    <a:pt x="637" y="1031"/>
                  </a:lnTo>
                  <a:lnTo>
                    <a:pt x="630" y="1017"/>
                  </a:lnTo>
                  <a:lnTo>
                    <a:pt x="624" y="1004"/>
                  </a:lnTo>
                  <a:lnTo>
                    <a:pt x="619" y="992"/>
                  </a:lnTo>
                  <a:lnTo>
                    <a:pt x="614" y="979"/>
                  </a:lnTo>
                  <a:lnTo>
                    <a:pt x="612" y="966"/>
                  </a:lnTo>
                  <a:lnTo>
                    <a:pt x="611" y="954"/>
                  </a:lnTo>
                  <a:lnTo>
                    <a:pt x="599" y="946"/>
                  </a:lnTo>
                  <a:lnTo>
                    <a:pt x="586" y="936"/>
                  </a:lnTo>
                  <a:lnTo>
                    <a:pt x="572" y="926"/>
                  </a:lnTo>
                  <a:lnTo>
                    <a:pt x="556" y="917"/>
                  </a:lnTo>
                  <a:lnTo>
                    <a:pt x="539" y="908"/>
                  </a:lnTo>
                  <a:lnTo>
                    <a:pt x="522" y="900"/>
                  </a:lnTo>
                  <a:lnTo>
                    <a:pt x="505" y="891"/>
                  </a:lnTo>
                  <a:lnTo>
                    <a:pt x="487" y="883"/>
                  </a:lnTo>
                  <a:lnTo>
                    <a:pt x="469" y="876"/>
                  </a:lnTo>
                  <a:lnTo>
                    <a:pt x="452" y="870"/>
                  </a:lnTo>
                  <a:lnTo>
                    <a:pt x="434" y="864"/>
                  </a:lnTo>
                  <a:lnTo>
                    <a:pt x="416" y="860"/>
                  </a:lnTo>
                  <a:lnTo>
                    <a:pt x="400" y="858"/>
                  </a:lnTo>
                  <a:lnTo>
                    <a:pt x="383" y="857"/>
                  </a:lnTo>
                  <a:lnTo>
                    <a:pt x="368" y="857"/>
                  </a:lnTo>
                  <a:lnTo>
                    <a:pt x="354" y="859"/>
                  </a:lnTo>
                  <a:close/>
                  <a:moveTo>
                    <a:pt x="794" y="2369"/>
                  </a:moveTo>
                  <a:lnTo>
                    <a:pt x="789" y="2364"/>
                  </a:lnTo>
                  <a:lnTo>
                    <a:pt x="784" y="2358"/>
                  </a:lnTo>
                  <a:lnTo>
                    <a:pt x="777" y="2352"/>
                  </a:lnTo>
                  <a:lnTo>
                    <a:pt x="770" y="2346"/>
                  </a:lnTo>
                  <a:lnTo>
                    <a:pt x="762" y="2340"/>
                  </a:lnTo>
                  <a:lnTo>
                    <a:pt x="755" y="2335"/>
                  </a:lnTo>
                  <a:lnTo>
                    <a:pt x="747" y="2331"/>
                  </a:lnTo>
                  <a:lnTo>
                    <a:pt x="741" y="2327"/>
                  </a:lnTo>
                  <a:lnTo>
                    <a:pt x="721" y="2316"/>
                  </a:lnTo>
                  <a:lnTo>
                    <a:pt x="700" y="2307"/>
                  </a:lnTo>
                  <a:lnTo>
                    <a:pt x="680" y="2299"/>
                  </a:lnTo>
                  <a:lnTo>
                    <a:pt x="658" y="2291"/>
                  </a:lnTo>
                  <a:lnTo>
                    <a:pt x="637" y="2284"/>
                  </a:lnTo>
                  <a:lnTo>
                    <a:pt x="615" y="2276"/>
                  </a:lnTo>
                  <a:lnTo>
                    <a:pt x="595" y="2268"/>
                  </a:lnTo>
                  <a:lnTo>
                    <a:pt x="575" y="2258"/>
                  </a:lnTo>
                  <a:lnTo>
                    <a:pt x="557" y="2247"/>
                  </a:lnTo>
                  <a:lnTo>
                    <a:pt x="537" y="2233"/>
                  </a:lnTo>
                  <a:lnTo>
                    <a:pt x="518" y="2216"/>
                  </a:lnTo>
                  <a:lnTo>
                    <a:pt x="500" y="2196"/>
                  </a:lnTo>
                  <a:lnTo>
                    <a:pt x="481" y="2175"/>
                  </a:lnTo>
                  <a:lnTo>
                    <a:pt x="462" y="2151"/>
                  </a:lnTo>
                  <a:lnTo>
                    <a:pt x="443" y="2127"/>
                  </a:lnTo>
                  <a:lnTo>
                    <a:pt x="425" y="2101"/>
                  </a:lnTo>
                  <a:lnTo>
                    <a:pt x="407" y="2074"/>
                  </a:lnTo>
                  <a:lnTo>
                    <a:pt x="389" y="2048"/>
                  </a:lnTo>
                  <a:lnTo>
                    <a:pt x="371" y="2022"/>
                  </a:lnTo>
                  <a:lnTo>
                    <a:pt x="354" y="1996"/>
                  </a:lnTo>
                  <a:lnTo>
                    <a:pt x="338" y="1971"/>
                  </a:lnTo>
                  <a:lnTo>
                    <a:pt x="322" y="1949"/>
                  </a:lnTo>
                  <a:lnTo>
                    <a:pt x="307" y="1928"/>
                  </a:lnTo>
                  <a:lnTo>
                    <a:pt x="293" y="1908"/>
                  </a:lnTo>
                  <a:lnTo>
                    <a:pt x="267" y="1872"/>
                  </a:lnTo>
                  <a:lnTo>
                    <a:pt x="243" y="1836"/>
                  </a:lnTo>
                  <a:lnTo>
                    <a:pt x="221" y="1798"/>
                  </a:lnTo>
                  <a:lnTo>
                    <a:pt x="200" y="1761"/>
                  </a:lnTo>
                  <a:lnTo>
                    <a:pt x="181" y="1722"/>
                  </a:lnTo>
                  <a:lnTo>
                    <a:pt x="164" y="1683"/>
                  </a:lnTo>
                  <a:lnTo>
                    <a:pt x="147" y="1644"/>
                  </a:lnTo>
                  <a:lnTo>
                    <a:pt x="132" y="1605"/>
                  </a:lnTo>
                  <a:lnTo>
                    <a:pt x="117" y="1565"/>
                  </a:lnTo>
                  <a:lnTo>
                    <a:pt x="104" y="1525"/>
                  </a:lnTo>
                  <a:lnTo>
                    <a:pt x="90" y="1486"/>
                  </a:lnTo>
                  <a:lnTo>
                    <a:pt x="77" y="1445"/>
                  </a:lnTo>
                  <a:lnTo>
                    <a:pt x="64" y="1406"/>
                  </a:lnTo>
                  <a:lnTo>
                    <a:pt x="51" y="1366"/>
                  </a:lnTo>
                  <a:lnTo>
                    <a:pt x="39" y="1327"/>
                  </a:lnTo>
                  <a:lnTo>
                    <a:pt x="25" y="1288"/>
                  </a:lnTo>
                  <a:lnTo>
                    <a:pt x="18" y="1280"/>
                  </a:lnTo>
                  <a:lnTo>
                    <a:pt x="13" y="1273"/>
                  </a:lnTo>
                  <a:lnTo>
                    <a:pt x="6" y="1264"/>
                  </a:lnTo>
                  <a:lnTo>
                    <a:pt x="0" y="1257"/>
                  </a:lnTo>
                  <a:lnTo>
                    <a:pt x="1" y="1238"/>
                  </a:lnTo>
                  <a:lnTo>
                    <a:pt x="5" y="1217"/>
                  </a:lnTo>
                  <a:lnTo>
                    <a:pt x="12" y="1196"/>
                  </a:lnTo>
                  <a:lnTo>
                    <a:pt x="19" y="1173"/>
                  </a:lnTo>
                  <a:lnTo>
                    <a:pt x="29" y="1150"/>
                  </a:lnTo>
                  <a:lnTo>
                    <a:pt x="40" y="1125"/>
                  </a:lnTo>
                  <a:lnTo>
                    <a:pt x="51" y="1101"/>
                  </a:lnTo>
                  <a:lnTo>
                    <a:pt x="64" y="1076"/>
                  </a:lnTo>
                  <a:lnTo>
                    <a:pt x="77" y="1052"/>
                  </a:lnTo>
                  <a:lnTo>
                    <a:pt x="90" y="1028"/>
                  </a:lnTo>
                  <a:lnTo>
                    <a:pt x="102" y="1004"/>
                  </a:lnTo>
                  <a:lnTo>
                    <a:pt x="113" y="982"/>
                  </a:lnTo>
                  <a:lnTo>
                    <a:pt x="124" y="961"/>
                  </a:lnTo>
                  <a:lnTo>
                    <a:pt x="134" y="941"/>
                  </a:lnTo>
                  <a:lnTo>
                    <a:pt x="141" y="923"/>
                  </a:lnTo>
                  <a:lnTo>
                    <a:pt x="147" y="907"/>
                  </a:lnTo>
                  <a:lnTo>
                    <a:pt x="154" y="889"/>
                  </a:lnTo>
                  <a:lnTo>
                    <a:pt x="167" y="872"/>
                  </a:lnTo>
                  <a:lnTo>
                    <a:pt x="184" y="855"/>
                  </a:lnTo>
                  <a:lnTo>
                    <a:pt x="203" y="840"/>
                  </a:lnTo>
                  <a:lnTo>
                    <a:pt x="223" y="826"/>
                  </a:lnTo>
                  <a:lnTo>
                    <a:pt x="241" y="813"/>
                  </a:lnTo>
                  <a:lnTo>
                    <a:pt x="257" y="803"/>
                  </a:lnTo>
                  <a:lnTo>
                    <a:pt x="269" y="796"/>
                  </a:lnTo>
                  <a:lnTo>
                    <a:pt x="269" y="764"/>
                  </a:lnTo>
                  <a:lnTo>
                    <a:pt x="315" y="706"/>
                  </a:lnTo>
                  <a:lnTo>
                    <a:pt x="326" y="693"/>
                  </a:lnTo>
                  <a:lnTo>
                    <a:pt x="340" y="681"/>
                  </a:lnTo>
                  <a:lnTo>
                    <a:pt x="356" y="670"/>
                  </a:lnTo>
                  <a:lnTo>
                    <a:pt x="375" y="659"/>
                  </a:lnTo>
                  <a:lnTo>
                    <a:pt x="394" y="647"/>
                  </a:lnTo>
                  <a:lnTo>
                    <a:pt x="414" y="635"/>
                  </a:lnTo>
                  <a:lnTo>
                    <a:pt x="436" y="623"/>
                  </a:lnTo>
                  <a:lnTo>
                    <a:pt x="457" y="610"/>
                  </a:lnTo>
                  <a:lnTo>
                    <a:pt x="472" y="597"/>
                  </a:lnTo>
                  <a:lnTo>
                    <a:pt x="486" y="584"/>
                  </a:lnTo>
                  <a:lnTo>
                    <a:pt x="498" y="569"/>
                  </a:lnTo>
                  <a:lnTo>
                    <a:pt x="510" y="555"/>
                  </a:lnTo>
                  <a:lnTo>
                    <a:pt x="519" y="541"/>
                  </a:lnTo>
                  <a:lnTo>
                    <a:pt x="529" y="528"/>
                  </a:lnTo>
                  <a:lnTo>
                    <a:pt x="537" y="516"/>
                  </a:lnTo>
                  <a:lnTo>
                    <a:pt x="545" y="505"/>
                  </a:lnTo>
                  <a:lnTo>
                    <a:pt x="545" y="511"/>
                  </a:lnTo>
                  <a:lnTo>
                    <a:pt x="545" y="520"/>
                  </a:lnTo>
                  <a:lnTo>
                    <a:pt x="544" y="528"/>
                  </a:lnTo>
                  <a:lnTo>
                    <a:pt x="543" y="537"/>
                  </a:lnTo>
                  <a:lnTo>
                    <a:pt x="541" y="547"/>
                  </a:lnTo>
                  <a:lnTo>
                    <a:pt x="536" y="556"/>
                  </a:lnTo>
                  <a:lnTo>
                    <a:pt x="532" y="565"/>
                  </a:lnTo>
                  <a:lnTo>
                    <a:pt x="526" y="573"/>
                  </a:lnTo>
                  <a:lnTo>
                    <a:pt x="520" y="581"/>
                  </a:lnTo>
                  <a:lnTo>
                    <a:pt x="514" y="587"/>
                  </a:lnTo>
                  <a:lnTo>
                    <a:pt x="508" y="594"/>
                  </a:lnTo>
                  <a:lnTo>
                    <a:pt x="502" y="600"/>
                  </a:lnTo>
                  <a:lnTo>
                    <a:pt x="495" y="607"/>
                  </a:lnTo>
                  <a:lnTo>
                    <a:pt x="487" y="613"/>
                  </a:lnTo>
                  <a:lnTo>
                    <a:pt x="480" y="619"/>
                  </a:lnTo>
                  <a:lnTo>
                    <a:pt x="471" y="625"/>
                  </a:lnTo>
                  <a:lnTo>
                    <a:pt x="460" y="639"/>
                  </a:lnTo>
                  <a:lnTo>
                    <a:pt x="448" y="653"/>
                  </a:lnTo>
                  <a:lnTo>
                    <a:pt x="439" y="664"/>
                  </a:lnTo>
                  <a:lnTo>
                    <a:pt x="428" y="676"/>
                  </a:lnTo>
                  <a:lnTo>
                    <a:pt x="419" y="688"/>
                  </a:lnTo>
                  <a:lnTo>
                    <a:pt x="409" y="699"/>
                  </a:lnTo>
                  <a:lnTo>
                    <a:pt x="400" y="709"/>
                  </a:lnTo>
                  <a:lnTo>
                    <a:pt x="392" y="720"/>
                  </a:lnTo>
                  <a:lnTo>
                    <a:pt x="383" y="731"/>
                  </a:lnTo>
                  <a:lnTo>
                    <a:pt x="375" y="742"/>
                  </a:lnTo>
                  <a:lnTo>
                    <a:pt x="367" y="754"/>
                  </a:lnTo>
                  <a:lnTo>
                    <a:pt x="359" y="767"/>
                  </a:lnTo>
                  <a:lnTo>
                    <a:pt x="351" y="780"/>
                  </a:lnTo>
                  <a:lnTo>
                    <a:pt x="344" y="795"/>
                  </a:lnTo>
                  <a:lnTo>
                    <a:pt x="337" y="811"/>
                  </a:lnTo>
                  <a:lnTo>
                    <a:pt x="330" y="828"/>
                  </a:lnTo>
                  <a:lnTo>
                    <a:pt x="325" y="826"/>
                  </a:lnTo>
                  <a:lnTo>
                    <a:pt x="321" y="823"/>
                  </a:lnTo>
                  <a:lnTo>
                    <a:pt x="319" y="818"/>
                  </a:lnTo>
                  <a:lnTo>
                    <a:pt x="316" y="814"/>
                  </a:lnTo>
                  <a:lnTo>
                    <a:pt x="314" y="810"/>
                  </a:lnTo>
                  <a:lnTo>
                    <a:pt x="311" y="804"/>
                  </a:lnTo>
                  <a:lnTo>
                    <a:pt x="308" y="800"/>
                  </a:lnTo>
                  <a:lnTo>
                    <a:pt x="306" y="796"/>
                  </a:lnTo>
                  <a:lnTo>
                    <a:pt x="302" y="810"/>
                  </a:lnTo>
                  <a:lnTo>
                    <a:pt x="298" y="825"/>
                  </a:lnTo>
                  <a:lnTo>
                    <a:pt x="293" y="843"/>
                  </a:lnTo>
                  <a:lnTo>
                    <a:pt x="290" y="861"/>
                  </a:lnTo>
                  <a:lnTo>
                    <a:pt x="289" y="881"/>
                  </a:lnTo>
                  <a:lnTo>
                    <a:pt x="289" y="901"/>
                  </a:lnTo>
                  <a:lnTo>
                    <a:pt x="290" y="921"/>
                  </a:lnTo>
                  <a:lnTo>
                    <a:pt x="293" y="939"/>
                  </a:lnTo>
                  <a:lnTo>
                    <a:pt x="296" y="943"/>
                  </a:lnTo>
                  <a:lnTo>
                    <a:pt x="300" y="947"/>
                  </a:lnTo>
                  <a:lnTo>
                    <a:pt x="303" y="950"/>
                  </a:lnTo>
                  <a:lnTo>
                    <a:pt x="306" y="954"/>
                  </a:lnTo>
                  <a:lnTo>
                    <a:pt x="311" y="968"/>
                  </a:lnTo>
                  <a:lnTo>
                    <a:pt x="318" y="981"/>
                  </a:lnTo>
                  <a:lnTo>
                    <a:pt x="324" y="993"/>
                  </a:lnTo>
                  <a:lnTo>
                    <a:pt x="331" y="1004"/>
                  </a:lnTo>
                  <a:lnTo>
                    <a:pt x="338" y="1015"/>
                  </a:lnTo>
                  <a:lnTo>
                    <a:pt x="346" y="1025"/>
                  </a:lnTo>
                  <a:lnTo>
                    <a:pt x="353" y="1035"/>
                  </a:lnTo>
                  <a:lnTo>
                    <a:pt x="361" y="1046"/>
                  </a:lnTo>
                  <a:lnTo>
                    <a:pt x="368" y="1057"/>
                  </a:lnTo>
                  <a:lnTo>
                    <a:pt x="375" y="1068"/>
                  </a:lnTo>
                  <a:lnTo>
                    <a:pt x="382" y="1079"/>
                  </a:lnTo>
                  <a:lnTo>
                    <a:pt x="389" y="1092"/>
                  </a:lnTo>
                  <a:lnTo>
                    <a:pt x="394" y="1106"/>
                  </a:lnTo>
                  <a:lnTo>
                    <a:pt x="399" y="1121"/>
                  </a:lnTo>
                  <a:lnTo>
                    <a:pt x="404" y="1137"/>
                  </a:lnTo>
                  <a:lnTo>
                    <a:pt x="407" y="1155"/>
                  </a:lnTo>
                  <a:lnTo>
                    <a:pt x="410" y="1169"/>
                  </a:lnTo>
                  <a:lnTo>
                    <a:pt x="414" y="1184"/>
                  </a:lnTo>
                  <a:lnTo>
                    <a:pt x="417" y="1198"/>
                  </a:lnTo>
                  <a:lnTo>
                    <a:pt x="422" y="1213"/>
                  </a:lnTo>
                  <a:lnTo>
                    <a:pt x="425" y="1227"/>
                  </a:lnTo>
                  <a:lnTo>
                    <a:pt x="429" y="1242"/>
                  </a:lnTo>
                  <a:lnTo>
                    <a:pt x="434" y="1256"/>
                  </a:lnTo>
                  <a:lnTo>
                    <a:pt x="439" y="1270"/>
                  </a:lnTo>
                  <a:lnTo>
                    <a:pt x="443" y="1284"/>
                  </a:lnTo>
                  <a:lnTo>
                    <a:pt x="448" y="1298"/>
                  </a:lnTo>
                  <a:lnTo>
                    <a:pt x="455" y="1311"/>
                  </a:lnTo>
                  <a:lnTo>
                    <a:pt x="461" y="1324"/>
                  </a:lnTo>
                  <a:lnTo>
                    <a:pt x="468" y="1337"/>
                  </a:lnTo>
                  <a:lnTo>
                    <a:pt x="475" y="1349"/>
                  </a:lnTo>
                  <a:lnTo>
                    <a:pt x="484" y="1361"/>
                  </a:lnTo>
                  <a:lnTo>
                    <a:pt x="492" y="1371"/>
                  </a:lnTo>
                  <a:lnTo>
                    <a:pt x="490" y="1376"/>
                  </a:lnTo>
                  <a:lnTo>
                    <a:pt x="487" y="1379"/>
                  </a:lnTo>
                  <a:lnTo>
                    <a:pt x="484" y="1383"/>
                  </a:lnTo>
                  <a:lnTo>
                    <a:pt x="481" y="1386"/>
                  </a:lnTo>
                  <a:lnTo>
                    <a:pt x="474" y="1384"/>
                  </a:lnTo>
                  <a:lnTo>
                    <a:pt x="467" y="1377"/>
                  </a:lnTo>
                  <a:lnTo>
                    <a:pt x="459" y="1366"/>
                  </a:lnTo>
                  <a:lnTo>
                    <a:pt x="452" y="1352"/>
                  </a:lnTo>
                  <a:lnTo>
                    <a:pt x="445" y="1335"/>
                  </a:lnTo>
                  <a:lnTo>
                    <a:pt x="438" y="1317"/>
                  </a:lnTo>
                  <a:lnTo>
                    <a:pt x="430" y="1296"/>
                  </a:lnTo>
                  <a:lnTo>
                    <a:pt x="424" y="1275"/>
                  </a:lnTo>
                  <a:lnTo>
                    <a:pt x="417" y="1254"/>
                  </a:lnTo>
                  <a:lnTo>
                    <a:pt x="411" y="1232"/>
                  </a:lnTo>
                  <a:lnTo>
                    <a:pt x="405" y="1212"/>
                  </a:lnTo>
                  <a:lnTo>
                    <a:pt x="399" y="1194"/>
                  </a:lnTo>
                  <a:lnTo>
                    <a:pt x="395" y="1178"/>
                  </a:lnTo>
                  <a:lnTo>
                    <a:pt x="391" y="1165"/>
                  </a:lnTo>
                  <a:lnTo>
                    <a:pt x="386" y="1154"/>
                  </a:lnTo>
                  <a:lnTo>
                    <a:pt x="383" y="1149"/>
                  </a:lnTo>
                  <a:lnTo>
                    <a:pt x="372" y="1135"/>
                  </a:lnTo>
                  <a:lnTo>
                    <a:pt x="368" y="1130"/>
                  </a:lnTo>
                  <a:lnTo>
                    <a:pt x="371" y="1132"/>
                  </a:lnTo>
                  <a:lnTo>
                    <a:pt x="372" y="1135"/>
                  </a:lnTo>
                  <a:lnTo>
                    <a:pt x="371" y="1135"/>
                  </a:lnTo>
                  <a:lnTo>
                    <a:pt x="366" y="1129"/>
                  </a:lnTo>
                  <a:lnTo>
                    <a:pt x="352" y="1115"/>
                  </a:lnTo>
                  <a:lnTo>
                    <a:pt x="339" y="1103"/>
                  </a:lnTo>
                  <a:lnTo>
                    <a:pt x="326" y="1094"/>
                  </a:lnTo>
                  <a:lnTo>
                    <a:pt x="313" y="1088"/>
                  </a:lnTo>
                  <a:lnTo>
                    <a:pt x="298" y="1084"/>
                  </a:lnTo>
                  <a:lnTo>
                    <a:pt x="283" y="1080"/>
                  </a:lnTo>
                  <a:lnTo>
                    <a:pt x="267" y="1078"/>
                  </a:lnTo>
                  <a:lnTo>
                    <a:pt x="252" y="1077"/>
                  </a:lnTo>
                  <a:lnTo>
                    <a:pt x="235" y="1076"/>
                  </a:lnTo>
                  <a:lnTo>
                    <a:pt x="221" y="1076"/>
                  </a:lnTo>
                  <a:lnTo>
                    <a:pt x="206" y="1075"/>
                  </a:lnTo>
                  <a:lnTo>
                    <a:pt x="191" y="1073"/>
                  </a:lnTo>
                  <a:lnTo>
                    <a:pt x="177" y="1071"/>
                  </a:lnTo>
                  <a:lnTo>
                    <a:pt x="164" y="1067"/>
                  </a:lnTo>
                  <a:lnTo>
                    <a:pt x="151" y="1061"/>
                  </a:lnTo>
                  <a:lnTo>
                    <a:pt x="140" y="1053"/>
                  </a:lnTo>
                  <a:lnTo>
                    <a:pt x="131" y="1042"/>
                  </a:lnTo>
                  <a:lnTo>
                    <a:pt x="135" y="1067"/>
                  </a:lnTo>
                  <a:lnTo>
                    <a:pt x="142" y="1090"/>
                  </a:lnTo>
                  <a:lnTo>
                    <a:pt x="152" y="1111"/>
                  </a:lnTo>
                  <a:lnTo>
                    <a:pt x="163" y="1132"/>
                  </a:lnTo>
                  <a:lnTo>
                    <a:pt x="176" y="1151"/>
                  </a:lnTo>
                  <a:lnTo>
                    <a:pt x="189" y="1168"/>
                  </a:lnTo>
                  <a:lnTo>
                    <a:pt x="204" y="1185"/>
                  </a:lnTo>
                  <a:lnTo>
                    <a:pt x="219" y="1200"/>
                  </a:lnTo>
                  <a:lnTo>
                    <a:pt x="234" y="1214"/>
                  </a:lnTo>
                  <a:lnTo>
                    <a:pt x="249" y="1226"/>
                  </a:lnTo>
                  <a:lnTo>
                    <a:pt x="264" y="1237"/>
                  </a:lnTo>
                  <a:lnTo>
                    <a:pt x="277" y="1247"/>
                  </a:lnTo>
                  <a:lnTo>
                    <a:pt x="290" y="1255"/>
                  </a:lnTo>
                  <a:lnTo>
                    <a:pt x="302" y="1262"/>
                  </a:lnTo>
                  <a:lnTo>
                    <a:pt x="310" y="1269"/>
                  </a:lnTo>
                  <a:lnTo>
                    <a:pt x="318" y="1273"/>
                  </a:lnTo>
                  <a:lnTo>
                    <a:pt x="298" y="1267"/>
                  </a:lnTo>
                  <a:lnTo>
                    <a:pt x="276" y="1257"/>
                  </a:lnTo>
                  <a:lnTo>
                    <a:pt x="255" y="1245"/>
                  </a:lnTo>
                  <a:lnTo>
                    <a:pt x="232" y="1230"/>
                  </a:lnTo>
                  <a:lnTo>
                    <a:pt x="211" y="1214"/>
                  </a:lnTo>
                  <a:lnTo>
                    <a:pt x="192" y="1197"/>
                  </a:lnTo>
                  <a:lnTo>
                    <a:pt x="173" y="1180"/>
                  </a:lnTo>
                  <a:lnTo>
                    <a:pt x="158" y="1162"/>
                  </a:lnTo>
                  <a:lnTo>
                    <a:pt x="155" y="1180"/>
                  </a:lnTo>
                  <a:lnTo>
                    <a:pt x="159" y="1199"/>
                  </a:lnTo>
                  <a:lnTo>
                    <a:pt x="170" y="1218"/>
                  </a:lnTo>
                  <a:lnTo>
                    <a:pt x="185" y="1239"/>
                  </a:lnTo>
                  <a:lnTo>
                    <a:pt x="206" y="1258"/>
                  </a:lnTo>
                  <a:lnTo>
                    <a:pt x="228" y="1278"/>
                  </a:lnTo>
                  <a:lnTo>
                    <a:pt x="253" y="1299"/>
                  </a:lnTo>
                  <a:lnTo>
                    <a:pt x="278" y="1319"/>
                  </a:lnTo>
                  <a:lnTo>
                    <a:pt x="305" y="1338"/>
                  </a:lnTo>
                  <a:lnTo>
                    <a:pt x="330" y="1356"/>
                  </a:lnTo>
                  <a:lnTo>
                    <a:pt x="352" y="1375"/>
                  </a:lnTo>
                  <a:lnTo>
                    <a:pt x="372" y="1392"/>
                  </a:lnTo>
                  <a:lnTo>
                    <a:pt x="389" y="1408"/>
                  </a:lnTo>
                  <a:lnTo>
                    <a:pt x="400" y="1423"/>
                  </a:lnTo>
                  <a:lnTo>
                    <a:pt x="406" y="1436"/>
                  </a:lnTo>
                  <a:lnTo>
                    <a:pt x="404" y="1447"/>
                  </a:lnTo>
                  <a:lnTo>
                    <a:pt x="390" y="1472"/>
                  </a:lnTo>
                  <a:lnTo>
                    <a:pt x="406" y="1473"/>
                  </a:lnTo>
                  <a:lnTo>
                    <a:pt x="422" y="1477"/>
                  </a:lnTo>
                  <a:lnTo>
                    <a:pt x="437" y="1485"/>
                  </a:lnTo>
                  <a:lnTo>
                    <a:pt x="453" y="1493"/>
                  </a:lnTo>
                  <a:lnTo>
                    <a:pt x="468" y="1504"/>
                  </a:lnTo>
                  <a:lnTo>
                    <a:pt x="483" y="1517"/>
                  </a:lnTo>
                  <a:lnTo>
                    <a:pt x="498" y="1530"/>
                  </a:lnTo>
                  <a:lnTo>
                    <a:pt x="513" y="1545"/>
                  </a:lnTo>
                  <a:lnTo>
                    <a:pt x="528" y="1560"/>
                  </a:lnTo>
                  <a:lnTo>
                    <a:pt x="542" y="1576"/>
                  </a:lnTo>
                  <a:lnTo>
                    <a:pt x="556" y="1591"/>
                  </a:lnTo>
                  <a:lnTo>
                    <a:pt x="569" y="1607"/>
                  </a:lnTo>
                  <a:lnTo>
                    <a:pt x="583" y="1622"/>
                  </a:lnTo>
                  <a:lnTo>
                    <a:pt x="596" y="1636"/>
                  </a:lnTo>
                  <a:lnTo>
                    <a:pt x="609" y="1647"/>
                  </a:lnTo>
                  <a:lnTo>
                    <a:pt x="622" y="1659"/>
                  </a:lnTo>
                  <a:lnTo>
                    <a:pt x="632" y="1668"/>
                  </a:lnTo>
                  <a:lnTo>
                    <a:pt x="642" y="1678"/>
                  </a:lnTo>
                  <a:lnTo>
                    <a:pt x="653" y="1692"/>
                  </a:lnTo>
                  <a:lnTo>
                    <a:pt x="666" y="1707"/>
                  </a:lnTo>
                  <a:lnTo>
                    <a:pt x="678" y="1724"/>
                  </a:lnTo>
                  <a:lnTo>
                    <a:pt x="690" y="1743"/>
                  </a:lnTo>
                  <a:lnTo>
                    <a:pt x="702" y="1762"/>
                  </a:lnTo>
                  <a:lnTo>
                    <a:pt x="714" y="1782"/>
                  </a:lnTo>
                  <a:lnTo>
                    <a:pt x="725" y="1802"/>
                  </a:lnTo>
                  <a:lnTo>
                    <a:pt x="733" y="1824"/>
                  </a:lnTo>
                  <a:lnTo>
                    <a:pt x="742" y="1844"/>
                  </a:lnTo>
                  <a:lnTo>
                    <a:pt x="748" y="1864"/>
                  </a:lnTo>
                  <a:lnTo>
                    <a:pt x="752" y="1884"/>
                  </a:lnTo>
                  <a:lnTo>
                    <a:pt x="755" y="1903"/>
                  </a:lnTo>
                  <a:lnTo>
                    <a:pt x="755" y="1920"/>
                  </a:lnTo>
                  <a:lnTo>
                    <a:pt x="751" y="1936"/>
                  </a:lnTo>
                  <a:lnTo>
                    <a:pt x="744" y="1928"/>
                  </a:lnTo>
                  <a:lnTo>
                    <a:pt x="734" y="1918"/>
                  </a:lnTo>
                  <a:lnTo>
                    <a:pt x="723" y="1909"/>
                  </a:lnTo>
                  <a:lnTo>
                    <a:pt x="710" y="1901"/>
                  </a:lnTo>
                  <a:lnTo>
                    <a:pt x="695" y="1892"/>
                  </a:lnTo>
                  <a:lnTo>
                    <a:pt x="680" y="1885"/>
                  </a:lnTo>
                  <a:lnTo>
                    <a:pt x="664" y="1876"/>
                  </a:lnTo>
                  <a:lnTo>
                    <a:pt x="648" y="1869"/>
                  </a:lnTo>
                  <a:lnTo>
                    <a:pt x="632" y="1861"/>
                  </a:lnTo>
                  <a:lnTo>
                    <a:pt x="614" y="1854"/>
                  </a:lnTo>
                  <a:lnTo>
                    <a:pt x="597" y="1846"/>
                  </a:lnTo>
                  <a:lnTo>
                    <a:pt x="581" y="1839"/>
                  </a:lnTo>
                  <a:lnTo>
                    <a:pt x="566" y="1832"/>
                  </a:lnTo>
                  <a:lnTo>
                    <a:pt x="551" y="1826"/>
                  </a:lnTo>
                  <a:lnTo>
                    <a:pt x="537" y="1820"/>
                  </a:lnTo>
                  <a:lnTo>
                    <a:pt x="526" y="1813"/>
                  </a:lnTo>
                  <a:lnTo>
                    <a:pt x="515" y="1812"/>
                  </a:lnTo>
                  <a:lnTo>
                    <a:pt x="502" y="1811"/>
                  </a:lnTo>
                  <a:lnTo>
                    <a:pt x="487" y="1808"/>
                  </a:lnTo>
                  <a:lnTo>
                    <a:pt x="472" y="1805"/>
                  </a:lnTo>
                  <a:lnTo>
                    <a:pt x="457" y="1802"/>
                  </a:lnTo>
                  <a:lnTo>
                    <a:pt x="444" y="1799"/>
                  </a:lnTo>
                  <a:lnTo>
                    <a:pt x="434" y="1798"/>
                  </a:lnTo>
                  <a:lnTo>
                    <a:pt x="427" y="1797"/>
                  </a:lnTo>
                  <a:lnTo>
                    <a:pt x="414" y="1779"/>
                  </a:lnTo>
                  <a:lnTo>
                    <a:pt x="402" y="1759"/>
                  </a:lnTo>
                  <a:lnTo>
                    <a:pt x="391" y="1739"/>
                  </a:lnTo>
                  <a:lnTo>
                    <a:pt x="380" y="1719"/>
                  </a:lnTo>
                  <a:lnTo>
                    <a:pt x="370" y="1701"/>
                  </a:lnTo>
                  <a:lnTo>
                    <a:pt x="361" y="1683"/>
                  </a:lnTo>
                  <a:lnTo>
                    <a:pt x="352" y="1668"/>
                  </a:lnTo>
                  <a:lnTo>
                    <a:pt x="343" y="1654"/>
                  </a:lnTo>
                  <a:lnTo>
                    <a:pt x="344" y="1673"/>
                  </a:lnTo>
                  <a:lnTo>
                    <a:pt x="347" y="1697"/>
                  </a:lnTo>
                  <a:lnTo>
                    <a:pt x="352" y="1721"/>
                  </a:lnTo>
                  <a:lnTo>
                    <a:pt x="360" y="1749"/>
                  </a:lnTo>
                  <a:lnTo>
                    <a:pt x="368" y="1777"/>
                  </a:lnTo>
                  <a:lnTo>
                    <a:pt x="378" y="1807"/>
                  </a:lnTo>
                  <a:lnTo>
                    <a:pt x="390" y="1836"/>
                  </a:lnTo>
                  <a:lnTo>
                    <a:pt x="401" y="1864"/>
                  </a:lnTo>
                  <a:lnTo>
                    <a:pt x="414" y="1892"/>
                  </a:lnTo>
                  <a:lnTo>
                    <a:pt x="428" y="1918"/>
                  </a:lnTo>
                  <a:lnTo>
                    <a:pt x="442" y="1941"/>
                  </a:lnTo>
                  <a:lnTo>
                    <a:pt x="457" y="1962"/>
                  </a:lnTo>
                  <a:lnTo>
                    <a:pt x="471" y="1979"/>
                  </a:lnTo>
                  <a:lnTo>
                    <a:pt x="486" y="1993"/>
                  </a:lnTo>
                  <a:lnTo>
                    <a:pt x="500" y="2000"/>
                  </a:lnTo>
                  <a:lnTo>
                    <a:pt x="513" y="2003"/>
                  </a:lnTo>
                  <a:lnTo>
                    <a:pt x="545" y="2013"/>
                  </a:lnTo>
                  <a:lnTo>
                    <a:pt x="575" y="2024"/>
                  </a:lnTo>
                  <a:lnTo>
                    <a:pt x="600" y="2038"/>
                  </a:lnTo>
                  <a:lnTo>
                    <a:pt x="624" y="2054"/>
                  </a:lnTo>
                  <a:lnTo>
                    <a:pt x="645" y="2070"/>
                  </a:lnTo>
                  <a:lnTo>
                    <a:pt x="664" y="2087"/>
                  </a:lnTo>
                  <a:lnTo>
                    <a:pt x="681" y="2105"/>
                  </a:lnTo>
                  <a:lnTo>
                    <a:pt x="697" y="2123"/>
                  </a:lnTo>
                  <a:lnTo>
                    <a:pt x="711" y="2141"/>
                  </a:lnTo>
                  <a:lnTo>
                    <a:pt x="724" y="2159"/>
                  </a:lnTo>
                  <a:lnTo>
                    <a:pt x="735" y="2175"/>
                  </a:lnTo>
                  <a:lnTo>
                    <a:pt x="747" y="2190"/>
                  </a:lnTo>
                  <a:lnTo>
                    <a:pt x="759" y="2202"/>
                  </a:lnTo>
                  <a:lnTo>
                    <a:pt x="771" y="2213"/>
                  </a:lnTo>
                  <a:lnTo>
                    <a:pt x="782" y="2221"/>
                  </a:lnTo>
                  <a:lnTo>
                    <a:pt x="794" y="2226"/>
                  </a:lnTo>
                  <a:lnTo>
                    <a:pt x="806" y="2224"/>
                  </a:lnTo>
                  <a:lnTo>
                    <a:pt x="817" y="2218"/>
                  </a:lnTo>
                  <a:lnTo>
                    <a:pt x="825" y="2209"/>
                  </a:lnTo>
                  <a:lnTo>
                    <a:pt x="833" y="2197"/>
                  </a:lnTo>
                  <a:lnTo>
                    <a:pt x="839" y="2182"/>
                  </a:lnTo>
                  <a:lnTo>
                    <a:pt x="845" y="2166"/>
                  </a:lnTo>
                  <a:lnTo>
                    <a:pt x="849" y="2149"/>
                  </a:lnTo>
                  <a:lnTo>
                    <a:pt x="853" y="2130"/>
                  </a:lnTo>
                  <a:lnTo>
                    <a:pt x="857" y="2110"/>
                  </a:lnTo>
                  <a:lnTo>
                    <a:pt x="861" y="2092"/>
                  </a:lnTo>
                  <a:lnTo>
                    <a:pt x="865" y="2073"/>
                  </a:lnTo>
                  <a:lnTo>
                    <a:pt x="869" y="2056"/>
                  </a:lnTo>
                  <a:lnTo>
                    <a:pt x="875" y="2040"/>
                  </a:lnTo>
                  <a:lnTo>
                    <a:pt x="880" y="2026"/>
                  </a:lnTo>
                  <a:lnTo>
                    <a:pt x="886" y="2014"/>
                  </a:lnTo>
                  <a:lnTo>
                    <a:pt x="895" y="2006"/>
                  </a:lnTo>
                  <a:lnTo>
                    <a:pt x="894" y="2029"/>
                  </a:lnTo>
                  <a:lnTo>
                    <a:pt x="892" y="2052"/>
                  </a:lnTo>
                  <a:lnTo>
                    <a:pt x="888" y="2075"/>
                  </a:lnTo>
                  <a:lnTo>
                    <a:pt x="885" y="2098"/>
                  </a:lnTo>
                  <a:lnTo>
                    <a:pt x="880" y="2120"/>
                  </a:lnTo>
                  <a:lnTo>
                    <a:pt x="876" y="2143"/>
                  </a:lnTo>
                  <a:lnTo>
                    <a:pt x="869" y="2164"/>
                  </a:lnTo>
                  <a:lnTo>
                    <a:pt x="863" y="2186"/>
                  </a:lnTo>
                  <a:lnTo>
                    <a:pt x="856" y="2209"/>
                  </a:lnTo>
                  <a:lnTo>
                    <a:pt x="849" y="2231"/>
                  </a:lnTo>
                  <a:lnTo>
                    <a:pt x="840" y="2254"/>
                  </a:lnTo>
                  <a:lnTo>
                    <a:pt x="832" y="2276"/>
                  </a:lnTo>
                  <a:lnTo>
                    <a:pt x="823" y="2299"/>
                  </a:lnTo>
                  <a:lnTo>
                    <a:pt x="813" y="2322"/>
                  </a:lnTo>
                  <a:lnTo>
                    <a:pt x="804" y="2346"/>
                  </a:lnTo>
                  <a:lnTo>
                    <a:pt x="794" y="2369"/>
                  </a:lnTo>
                  <a:close/>
                  <a:moveTo>
                    <a:pt x="739" y="2323"/>
                  </a:moveTo>
                  <a:lnTo>
                    <a:pt x="745" y="2328"/>
                  </a:lnTo>
                  <a:lnTo>
                    <a:pt x="752" y="2332"/>
                  </a:lnTo>
                  <a:lnTo>
                    <a:pt x="761" y="2338"/>
                  </a:lnTo>
                  <a:lnTo>
                    <a:pt x="771" y="2344"/>
                  </a:lnTo>
                  <a:lnTo>
                    <a:pt x="778" y="2351"/>
                  </a:lnTo>
                  <a:lnTo>
                    <a:pt x="786" y="2356"/>
                  </a:lnTo>
                  <a:lnTo>
                    <a:pt x="790" y="2363"/>
                  </a:lnTo>
                  <a:lnTo>
                    <a:pt x="792" y="2368"/>
                  </a:lnTo>
                  <a:lnTo>
                    <a:pt x="789" y="2376"/>
                  </a:lnTo>
                  <a:lnTo>
                    <a:pt x="786" y="2383"/>
                  </a:lnTo>
                  <a:lnTo>
                    <a:pt x="781" y="2392"/>
                  </a:lnTo>
                  <a:lnTo>
                    <a:pt x="777" y="2400"/>
                  </a:lnTo>
                  <a:lnTo>
                    <a:pt x="773" y="2409"/>
                  </a:lnTo>
                  <a:lnTo>
                    <a:pt x="769" y="2417"/>
                  </a:lnTo>
                  <a:lnTo>
                    <a:pt x="765" y="2425"/>
                  </a:lnTo>
                  <a:lnTo>
                    <a:pt x="762" y="2431"/>
                  </a:lnTo>
                  <a:lnTo>
                    <a:pt x="758" y="2439"/>
                  </a:lnTo>
                  <a:lnTo>
                    <a:pt x="755" y="2445"/>
                  </a:lnTo>
                  <a:lnTo>
                    <a:pt x="751" y="2453"/>
                  </a:lnTo>
                  <a:lnTo>
                    <a:pt x="748" y="2458"/>
                  </a:lnTo>
                  <a:lnTo>
                    <a:pt x="744" y="2465"/>
                  </a:lnTo>
                  <a:lnTo>
                    <a:pt x="741" y="2470"/>
                  </a:lnTo>
                  <a:lnTo>
                    <a:pt x="738" y="2476"/>
                  </a:lnTo>
                  <a:lnTo>
                    <a:pt x="733" y="2482"/>
                  </a:lnTo>
                  <a:lnTo>
                    <a:pt x="734" y="2462"/>
                  </a:lnTo>
                  <a:lnTo>
                    <a:pt x="734" y="2442"/>
                  </a:lnTo>
                  <a:lnTo>
                    <a:pt x="733" y="2422"/>
                  </a:lnTo>
                  <a:lnTo>
                    <a:pt x="733" y="2401"/>
                  </a:lnTo>
                  <a:lnTo>
                    <a:pt x="733" y="2381"/>
                  </a:lnTo>
                  <a:lnTo>
                    <a:pt x="733" y="2362"/>
                  </a:lnTo>
                  <a:lnTo>
                    <a:pt x="735" y="2343"/>
                  </a:lnTo>
                  <a:lnTo>
                    <a:pt x="739" y="2323"/>
                  </a:lnTo>
                  <a:close/>
                  <a:moveTo>
                    <a:pt x="804" y="2409"/>
                  </a:moveTo>
                  <a:lnTo>
                    <a:pt x="818" y="2417"/>
                  </a:lnTo>
                  <a:lnTo>
                    <a:pt x="832" y="2429"/>
                  </a:lnTo>
                  <a:lnTo>
                    <a:pt x="848" y="2442"/>
                  </a:lnTo>
                  <a:lnTo>
                    <a:pt x="864" y="2455"/>
                  </a:lnTo>
                  <a:lnTo>
                    <a:pt x="881" y="2466"/>
                  </a:lnTo>
                  <a:lnTo>
                    <a:pt x="899" y="2472"/>
                  </a:lnTo>
                  <a:lnTo>
                    <a:pt x="918" y="2472"/>
                  </a:lnTo>
                  <a:lnTo>
                    <a:pt x="940" y="2463"/>
                  </a:lnTo>
                  <a:lnTo>
                    <a:pt x="903" y="2416"/>
                  </a:lnTo>
                  <a:lnTo>
                    <a:pt x="903" y="2398"/>
                  </a:lnTo>
                  <a:lnTo>
                    <a:pt x="901" y="2381"/>
                  </a:lnTo>
                  <a:lnTo>
                    <a:pt x="900" y="2364"/>
                  </a:lnTo>
                  <a:lnTo>
                    <a:pt x="898" y="2347"/>
                  </a:lnTo>
                  <a:lnTo>
                    <a:pt x="895" y="2331"/>
                  </a:lnTo>
                  <a:lnTo>
                    <a:pt x="894" y="2316"/>
                  </a:lnTo>
                  <a:lnTo>
                    <a:pt x="892" y="2303"/>
                  </a:lnTo>
                  <a:lnTo>
                    <a:pt x="892" y="2290"/>
                  </a:lnTo>
                  <a:lnTo>
                    <a:pt x="886" y="2308"/>
                  </a:lnTo>
                  <a:lnTo>
                    <a:pt x="881" y="2328"/>
                  </a:lnTo>
                  <a:lnTo>
                    <a:pt x="875" y="2346"/>
                  </a:lnTo>
                  <a:lnTo>
                    <a:pt x="866" y="2364"/>
                  </a:lnTo>
                  <a:lnTo>
                    <a:pt x="855" y="2380"/>
                  </a:lnTo>
                  <a:lnTo>
                    <a:pt x="842" y="2393"/>
                  </a:lnTo>
                  <a:lnTo>
                    <a:pt x="825" y="2402"/>
                  </a:lnTo>
                  <a:lnTo>
                    <a:pt x="804" y="2409"/>
                  </a:lnTo>
                  <a:close/>
                  <a:moveTo>
                    <a:pt x="794" y="2431"/>
                  </a:moveTo>
                  <a:lnTo>
                    <a:pt x="807" y="2443"/>
                  </a:lnTo>
                  <a:lnTo>
                    <a:pt x="819" y="2456"/>
                  </a:lnTo>
                  <a:lnTo>
                    <a:pt x="828" y="2468"/>
                  </a:lnTo>
                  <a:lnTo>
                    <a:pt x="838" y="2478"/>
                  </a:lnTo>
                  <a:lnTo>
                    <a:pt x="847" y="2488"/>
                  </a:lnTo>
                  <a:lnTo>
                    <a:pt x="856" y="2496"/>
                  </a:lnTo>
                  <a:lnTo>
                    <a:pt x="865" y="2500"/>
                  </a:lnTo>
                  <a:lnTo>
                    <a:pt x="873" y="2502"/>
                  </a:lnTo>
                  <a:lnTo>
                    <a:pt x="863" y="2506"/>
                  </a:lnTo>
                  <a:lnTo>
                    <a:pt x="850" y="2507"/>
                  </a:lnTo>
                  <a:lnTo>
                    <a:pt x="836" y="2506"/>
                  </a:lnTo>
                  <a:lnTo>
                    <a:pt x="820" y="2504"/>
                  </a:lnTo>
                  <a:lnTo>
                    <a:pt x="804" y="2501"/>
                  </a:lnTo>
                  <a:lnTo>
                    <a:pt x="788" y="2498"/>
                  </a:lnTo>
                  <a:lnTo>
                    <a:pt x="772" y="2496"/>
                  </a:lnTo>
                  <a:lnTo>
                    <a:pt x="758" y="2494"/>
                  </a:lnTo>
                  <a:lnTo>
                    <a:pt x="759" y="2483"/>
                  </a:lnTo>
                  <a:lnTo>
                    <a:pt x="760" y="2473"/>
                  </a:lnTo>
                  <a:lnTo>
                    <a:pt x="763" y="2465"/>
                  </a:lnTo>
                  <a:lnTo>
                    <a:pt x="767" y="2457"/>
                  </a:lnTo>
                  <a:lnTo>
                    <a:pt x="773" y="2450"/>
                  </a:lnTo>
                  <a:lnTo>
                    <a:pt x="778" y="2443"/>
                  </a:lnTo>
                  <a:lnTo>
                    <a:pt x="786" y="2438"/>
                  </a:lnTo>
                  <a:lnTo>
                    <a:pt x="794" y="2431"/>
                  </a:lnTo>
                  <a:close/>
                  <a:moveTo>
                    <a:pt x="976" y="1922"/>
                  </a:moveTo>
                  <a:lnTo>
                    <a:pt x="970" y="1934"/>
                  </a:lnTo>
                  <a:lnTo>
                    <a:pt x="962" y="1945"/>
                  </a:lnTo>
                  <a:lnTo>
                    <a:pt x="952" y="1956"/>
                  </a:lnTo>
                  <a:lnTo>
                    <a:pt x="941" y="1966"/>
                  </a:lnTo>
                  <a:lnTo>
                    <a:pt x="930" y="1977"/>
                  </a:lnTo>
                  <a:lnTo>
                    <a:pt x="921" y="1985"/>
                  </a:lnTo>
                  <a:lnTo>
                    <a:pt x="912" y="1993"/>
                  </a:lnTo>
                  <a:lnTo>
                    <a:pt x="906" y="2000"/>
                  </a:lnTo>
                  <a:lnTo>
                    <a:pt x="921" y="2008"/>
                  </a:lnTo>
                  <a:lnTo>
                    <a:pt x="937" y="2013"/>
                  </a:lnTo>
                  <a:lnTo>
                    <a:pt x="955" y="2016"/>
                  </a:lnTo>
                  <a:lnTo>
                    <a:pt x="973" y="2016"/>
                  </a:lnTo>
                  <a:lnTo>
                    <a:pt x="992" y="2015"/>
                  </a:lnTo>
                  <a:lnTo>
                    <a:pt x="1012" y="2013"/>
                  </a:lnTo>
                  <a:lnTo>
                    <a:pt x="1031" y="2011"/>
                  </a:lnTo>
                  <a:lnTo>
                    <a:pt x="1049" y="2008"/>
                  </a:lnTo>
                  <a:lnTo>
                    <a:pt x="1034" y="2005"/>
                  </a:lnTo>
                  <a:lnTo>
                    <a:pt x="1021" y="1999"/>
                  </a:lnTo>
                  <a:lnTo>
                    <a:pt x="1009" y="1992"/>
                  </a:lnTo>
                  <a:lnTo>
                    <a:pt x="1000" y="1982"/>
                  </a:lnTo>
                  <a:lnTo>
                    <a:pt x="991" y="1970"/>
                  </a:lnTo>
                  <a:lnTo>
                    <a:pt x="985" y="1956"/>
                  </a:lnTo>
                  <a:lnTo>
                    <a:pt x="979" y="1940"/>
                  </a:lnTo>
                  <a:lnTo>
                    <a:pt x="976" y="1922"/>
                  </a:lnTo>
                  <a:close/>
                  <a:moveTo>
                    <a:pt x="1978" y="3751"/>
                  </a:moveTo>
                  <a:lnTo>
                    <a:pt x="1979" y="3760"/>
                  </a:lnTo>
                  <a:lnTo>
                    <a:pt x="1981" y="3771"/>
                  </a:lnTo>
                  <a:lnTo>
                    <a:pt x="1986" y="3784"/>
                  </a:lnTo>
                  <a:lnTo>
                    <a:pt x="1990" y="3798"/>
                  </a:lnTo>
                  <a:lnTo>
                    <a:pt x="1994" y="3813"/>
                  </a:lnTo>
                  <a:lnTo>
                    <a:pt x="1998" y="3827"/>
                  </a:lnTo>
                  <a:lnTo>
                    <a:pt x="2001" y="3838"/>
                  </a:lnTo>
                  <a:lnTo>
                    <a:pt x="2002" y="3846"/>
                  </a:lnTo>
                  <a:lnTo>
                    <a:pt x="2014" y="3863"/>
                  </a:lnTo>
                  <a:lnTo>
                    <a:pt x="2025" y="3869"/>
                  </a:lnTo>
                  <a:lnTo>
                    <a:pt x="2039" y="3876"/>
                  </a:lnTo>
                  <a:lnTo>
                    <a:pt x="2054" y="3885"/>
                  </a:lnTo>
                  <a:lnTo>
                    <a:pt x="2070" y="3892"/>
                  </a:lnTo>
                  <a:lnTo>
                    <a:pt x="2085" y="3899"/>
                  </a:lnTo>
                  <a:lnTo>
                    <a:pt x="2100" y="3904"/>
                  </a:lnTo>
                  <a:lnTo>
                    <a:pt x="2114" y="3909"/>
                  </a:lnTo>
                  <a:lnTo>
                    <a:pt x="2125" y="3910"/>
                  </a:lnTo>
                  <a:lnTo>
                    <a:pt x="2125" y="3919"/>
                  </a:lnTo>
                  <a:lnTo>
                    <a:pt x="2124" y="3929"/>
                  </a:lnTo>
                  <a:lnTo>
                    <a:pt x="2124" y="3940"/>
                  </a:lnTo>
                  <a:lnTo>
                    <a:pt x="2123" y="3950"/>
                  </a:lnTo>
                  <a:lnTo>
                    <a:pt x="2122" y="3962"/>
                  </a:lnTo>
                  <a:lnTo>
                    <a:pt x="2120" y="3974"/>
                  </a:lnTo>
                  <a:lnTo>
                    <a:pt x="2119" y="3986"/>
                  </a:lnTo>
                  <a:lnTo>
                    <a:pt x="2118" y="3997"/>
                  </a:lnTo>
                  <a:lnTo>
                    <a:pt x="2117" y="4009"/>
                  </a:lnTo>
                  <a:lnTo>
                    <a:pt x="2116" y="4021"/>
                  </a:lnTo>
                  <a:lnTo>
                    <a:pt x="2115" y="4033"/>
                  </a:lnTo>
                  <a:lnTo>
                    <a:pt x="2114" y="4044"/>
                  </a:lnTo>
                  <a:lnTo>
                    <a:pt x="2113" y="4055"/>
                  </a:lnTo>
                  <a:lnTo>
                    <a:pt x="2113" y="4066"/>
                  </a:lnTo>
                  <a:lnTo>
                    <a:pt x="2112" y="4075"/>
                  </a:lnTo>
                  <a:lnTo>
                    <a:pt x="2112" y="4085"/>
                  </a:lnTo>
                  <a:lnTo>
                    <a:pt x="2173" y="4164"/>
                  </a:lnTo>
                  <a:lnTo>
                    <a:pt x="2177" y="4151"/>
                  </a:lnTo>
                  <a:lnTo>
                    <a:pt x="2180" y="4137"/>
                  </a:lnTo>
                  <a:lnTo>
                    <a:pt x="2183" y="4123"/>
                  </a:lnTo>
                  <a:lnTo>
                    <a:pt x="2185" y="4109"/>
                  </a:lnTo>
                  <a:lnTo>
                    <a:pt x="2185" y="4094"/>
                  </a:lnTo>
                  <a:lnTo>
                    <a:pt x="2186" y="4080"/>
                  </a:lnTo>
                  <a:lnTo>
                    <a:pt x="2186" y="4066"/>
                  </a:lnTo>
                  <a:lnTo>
                    <a:pt x="2186" y="4053"/>
                  </a:lnTo>
                  <a:lnTo>
                    <a:pt x="2191" y="4044"/>
                  </a:lnTo>
                  <a:lnTo>
                    <a:pt x="2196" y="4034"/>
                  </a:lnTo>
                  <a:lnTo>
                    <a:pt x="2203" y="4019"/>
                  </a:lnTo>
                  <a:lnTo>
                    <a:pt x="2208" y="4004"/>
                  </a:lnTo>
                  <a:lnTo>
                    <a:pt x="2214" y="3987"/>
                  </a:lnTo>
                  <a:lnTo>
                    <a:pt x="2218" y="3971"/>
                  </a:lnTo>
                  <a:lnTo>
                    <a:pt x="2221" y="3954"/>
                  </a:lnTo>
                  <a:lnTo>
                    <a:pt x="2222" y="3942"/>
                  </a:lnTo>
                  <a:lnTo>
                    <a:pt x="2239" y="3937"/>
                  </a:lnTo>
                  <a:lnTo>
                    <a:pt x="2255" y="3926"/>
                  </a:lnTo>
                  <a:lnTo>
                    <a:pt x="2270" y="3909"/>
                  </a:lnTo>
                  <a:lnTo>
                    <a:pt x="2283" y="3888"/>
                  </a:lnTo>
                  <a:lnTo>
                    <a:pt x="2294" y="3865"/>
                  </a:lnTo>
                  <a:lnTo>
                    <a:pt x="2301" y="3841"/>
                  </a:lnTo>
                  <a:lnTo>
                    <a:pt x="2306" y="3819"/>
                  </a:lnTo>
                  <a:lnTo>
                    <a:pt x="2308" y="3798"/>
                  </a:lnTo>
                  <a:lnTo>
                    <a:pt x="2270" y="3751"/>
                  </a:lnTo>
                  <a:lnTo>
                    <a:pt x="2270" y="3814"/>
                  </a:lnTo>
                  <a:lnTo>
                    <a:pt x="2247" y="3846"/>
                  </a:lnTo>
                  <a:lnTo>
                    <a:pt x="2198" y="3846"/>
                  </a:lnTo>
                  <a:lnTo>
                    <a:pt x="2188" y="3834"/>
                  </a:lnTo>
                  <a:lnTo>
                    <a:pt x="2179" y="3820"/>
                  </a:lnTo>
                  <a:lnTo>
                    <a:pt x="2171" y="3806"/>
                  </a:lnTo>
                  <a:lnTo>
                    <a:pt x="2162" y="3791"/>
                  </a:lnTo>
                  <a:lnTo>
                    <a:pt x="2155" y="3776"/>
                  </a:lnTo>
                  <a:lnTo>
                    <a:pt x="2148" y="3762"/>
                  </a:lnTo>
                  <a:lnTo>
                    <a:pt x="2142" y="3749"/>
                  </a:lnTo>
                  <a:lnTo>
                    <a:pt x="2137" y="3736"/>
                  </a:lnTo>
                  <a:lnTo>
                    <a:pt x="2137" y="3748"/>
                  </a:lnTo>
                  <a:lnTo>
                    <a:pt x="2134" y="3760"/>
                  </a:lnTo>
                  <a:lnTo>
                    <a:pt x="2133" y="3771"/>
                  </a:lnTo>
                  <a:lnTo>
                    <a:pt x="2131" y="3781"/>
                  </a:lnTo>
                  <a:lnTo>
                    <a:pt x="2128" y="3791"/>
                  </a:lnTo>
                  <a:lnTo>
                    <a:pt x="2127" y="3799"/>
                  </a:lnTo>
                  <a:lnTo>
                    <a:pt x="2125" y="3808"/>
                  </a:lnTo>
                  <a:lnTo>
                    <a:pt x="2125" y="3814"/>
                  </a:lnTo>
                  <a:lnTo>
                    <a:pt x="2112" y="3802"/>
                  </a:lnTo>
                  <a:lnTo>
                    <a:pt x="2095" y="3789"/>
                  </a:lnTo>
                  <a:lnTo>
                    <a:pt x="2073" y="3776"/>
                  </a:lnTo>
                  <a:lnTo>
                    <a:pt x="2051" y="3765"/>
                  </a:lnTo>
                  <a:lnTo>
                    <a:pt x="2028" y="3757"/>
                  </a:lnTo>
                  <a:lnTo>
                    <a:pt x="2007" y="3750"/>
                  </a:lnTo>
                  <a:lnTo>
                    <a:pt x="1990" y="3748"/>
                  </a:lnTo>
                  <a:lnTo>
                    <a:pt x="1978" y="3751"/>
                  </a:lnTo>
                  <a:close/>
                  <a:moveTo>
                    <a:pt x="1160" y="0"/>
                  </a:moveTo>
                  <a:lnTo>
                    <a:pt x="1143" y="11"/>
                  </a:lnTo>
                  <a:lnTo>
                    <a:pt x="1127" y="26"/>
                  </a:lnTo>
                  <a:lnTo>
                    <a:pt x="1112" y="45"/>
                  </a:lnTo>
                  <a:lnTo>
                    <a:pt x="1098" y="66"/>
                  </a:lnTo>
                  <a:lnTo>
                    <a:pt x="1086" y="91"/>
                  </a:lnTo>
                  <a:lnTo>
                    <a:pt x="1075" y="118"/>
                  </a:lnTo>
                  <a:lnTo>
                    <a:pt x="1065" y="147"/>
                  </a:lnTo>
                  <a:lnTo>
                    <a:pt x="1056" y="176"/>
                  </a:lnTo>
                  <a:lnTo>
                    <a:pt x="1049" y="207"/>
                  </a:lnTo>
                  <a:lnTo>
                    <a:pt x="1044" y="239"/>
                  </a:lnTo>
                  <a:lnTo>
                    <a:pt x="1038" y="270"/>
                  </a:lnTo>
                  <a:lnTo>
                    <a:pt x="1034" y="301"/>
                  </a:lnTo>
                  <a:lnTo>
                    <a:pt x="1031" y="332"/>
                  </a:lnTo>
                  <a:lnTo>
                    <a:pt x="1029" y="361"/>
                  </a:lnTo>
                  <a:lnTo>
                    <a:pt x="1027" y="387"/>
                  </a:lnTo>
                  <a:lnTo>
                    <a:pt x="1027" y="413"/>
                  </a:lnTo>
                  <a:lnTo>
                    <a:pt x="1027" y="405"/>
                  </a:lnTo>
                  <a:lnTo>
                    <a:pt x="1029" y="398"/>
                  </a:lnTo>
                  <a:lnTo>
                    <a:pt x="1030" y="388"/>
                  </a:lnTo>
                  <a:lnTo>
                    <a:pt x="1033" y="379"/>
                  </a:lnTo>
                  <a:lnTo>
                    <a:pt x="1035" y="368"/>
                  </a:lnTo>
                  <a:lnTo>
                    <a:pt x="1036" y="357"/>
                  </a:lnTo>
                  <a:lnTo>
                    <a:pt x="1038" y="346"/>
                  </a:lnTo>
                  <a:lnTo>
                    <a:pt x="1038" y="334"/>
                  </a:lnTo>
                  <a:lnTo>
                    <a:pt x="1049" y="311"/>
                  </a:lnTo>
                  <a:lnTo>
                    <a:pt x="1058" y="289"/>
                  </a:lnTo>
                  <a:lnTo>
                    <a:pt x="1065" y="266"/>
                  </a:lnTo>
                  <a:lnTo>
                    <a:pt x="1071" y="243"/>
                  </a:lnTo>
                  <a:lnTo>
                    <a:pt x="1078" y="220"/>
                  </a:lnTo>
                  <a:lnTo>
                    <a:pt x="1083" y="197"/>
                  </a:lnTo>
                  <a:lnTo>
                    <a:pt x="1089" y="174"/>
                  </a:lnTo>
                  <a:lnTo>
                    <a:pt x="1094" y="152"/>
                  </a:lnTo>
                  <a:lnTo>
                    <a:pt x="1099" y="131"/>
                  </a:lnTo>
                  <a:lnTo>
                    <a:pt x="1106" y="109"/>
                  </a:lnTo>
                  <a:lnTo>
                    <a:pt x="1112" y="89"/>
                  </a:lnTo>
                  <a:lnTo>
                    <a:pt x="1119" y="69"/>
                  </a:lnTo>
                  <a:lnTo>
                    <a:pt x="1127" y="50"/>
                  </a:lnTo>
                  <a:lnTo>
                    <a:pt x="1137" y="32"/>
                  </a:lnTo>
                  <a:lnTo>
                    <a:pt x="1147" y="15"/>
                  </a:lnTo>
                  <a:lnTo>
                    <a:pt x="1160" y="0"/>
                  </a:lnTo>
                  <a:close/>
                  <a:moveTo>
                    <a:pt x="1051" y="47"/>
                  </a:moveTo>
                  <a:lnTo>
                    <a:pt x="1043" y="66"/>
                  </a:lnTo>
                  <a:lnTo>
                    <a:pt x="1035" y="87"/>
                  </a:lnTo>
                  <a:lnTo>
                    <a:pt x="1028" y="109"/>
                  </a:lnTo>
                  <a:lnTo>
                    <a:pt x="1021" y="132"/>
                  </a:lnTo>
                  <a:lnTo>
                    <a:pt x="1014" y="154"/>
                  </a:lnTo>
                  <a:lnTo>
                    <a:pt x="1007" y="173"/>
                  </a:lnTo>
                  <a:lnTo>
                    <a:pt x="999" y="192"/>
                  </a:lnTo>
                  <a:lnTo>
                    <a:pt x="990" y="205"/>
                  </a:lnTo>
                  <a:lnTo>
                    <a:pt x="990" y="217"/>
                  </a:lnTo>
                  <a:lnTo>
                    <a:pt x="988" y="229"/>
                  </a:lnTo>
                  <a:lnTo>
                    <a:pt x="987" y="241"/>
                  </a:lnTo>
                  <a:lnTo>
                    <a:pt x="985" y="251"/>
                  </a:lnTo>
                  <a:lnTo>
                    <a:pt x="982" y="261"/>
                  </a:lnTo>
                  <a:lnTo>
                    <a:pt x="980" y="271"/>
                  </a:lnTo>
                  <a:lnTo>
                    <a:pt x="978" y="278"/>
                  </a:lnTo>
                  <a:lnTo>
                    <a:pt x="978" y="285"/>
                  </a:lnTo>
                  <a:lnTo>
                    <a:pt x="954" y="254"/>
                  </a:lnTo>
                  <a:lnTo>
                    <a:pt x="955" y="236"/>
                  </a:lnTo>
                  <a:lnTo>
                    <a:pt x="958" y="220"/>
                  </a:lnTo>
                  <a:lnTo>
                    <a:pt x="962" y="205"/>
                  </a:lnTo>
                  <a:lnTo>
                    <a:pt x="969" y="192"/>
                  </a:lnTo>
                  <a:lnTo>
                    <a:pt x="976" y="179"/>
                  </a:lnTo>
                  <a:lnTo>
                    <a:pt x="985" y="166"/>
                  </a:lnTo>
                  <a:lnTo>
                    <a:pt x="993" y="154"/>
                  </a:lnTo>
                  <a:lnTo>
                    <a:pt x="1003" y="142"/>
                  </a:lnTo>
                  <a:lnTo>
                    <a:pt x="1003" y="78"/>
                  </a:lnTo>
                  <a:lnTo>
                    <a:pt x="1051" y="47"/>
                  </a:lnTo>
                  <a:close/>
                  <a:moveTo>
                    <a:pt x="3200" y="588"/>
                  </a:moveTo>
                  <a:lnTo>
                    <a:pt x="3192" y="619"/>
                  </a:lnTo>
                  <a:lnTo>
                    <a:pt x="3184" y="651"/>
                  </a:lnTo>
                  <a:lnTo>
                    <a:pt x="3178" y="685"/>
                  </a:lnTo>
                  <a:lnTo>
                    <a:pt x="3172" y="719"/>
                  </a:lnTo>
                  <a:lnTo>
                    <a:pt x="3165" y="754"/>
                  </a:lnTo>
                  <a:lnTo>
                    <a:pt x="3160" y="789"/>
                  </a:lnTo>
                  <a:lnTo>
                    <a:pt x="3153" y="826"/>
                  </a:lnTo>
                  <a:lnTo>
                    <a:pt x="3147" y="861"/>
                  </a:lnTo>
                  <a:lnTo>
                    <a:pt x="3139" y="896"/>
                  </a:lnTo>
                  <a:lnTo>
                    <a:pt x="3132" y="931"/>
                  </a:lnTo>
                  <a:lnTo>
                    <a:pt x="3123" y="965"/>
                  </a:lnTo>
                  <a:lnTo>
                    <a:pt x="3113" y="997"/>
                  </a:lnTo>
                  <a:lnTo>
                    <a:pt x="3101" y="1028"/>
                  </a:lnTo>
                  <a:lnTo>
                    <a:pt x="3088" y="1058"/>
                  </a:lnTo>
                  <a:lnTo>
                    <a:pt x="3073" y="1086"/>
                  </a:lnTo>
                  <a:lnTo>
                    <a:pt x="3056" y="1110"/>
                  </a:lnTo>
                  <a:lnTo>
                    <a:pt x="3058" y="1129"/>
                  </a:lnTo>
                  <a:lnTo>
                    <a:pt x="3063" y="1147"/>
                  </a:lnTo>
                  <a:lnTo>
                    <a:pt x="3071" y="1164"/>
                  </a:lnTo>
                  <a:lnTo>
                    <a:pt x="3081" y="1181"/>
                  </a:lnTo>
                  <a:lnTo>
                    <a:pt x="3089" y="1197"/>
                  </a:lnTo>
                  <a:lnTo>
                    <a:pt x="3097" y="1212"/>
                  </a:lnTo>
                  <a:lnTo>
                    <a:pt x="3102" y="1226"/>
                  </a:lnTo>
                  <a:lnTo>
                    <a:pt x="3104" y="1239"/>
                  </a:lnTo>
                  <a:lnTo>
                    <a:pt x="3118" y="1241"/>
                  </a:lnTo>
                  <a:lnTo>
                    <a:pt x="3133" y="1246"/>
                  </a:lnTo>
                  <a:lnTo>
                    <a:pt x="3149" y="1255"/>
                  </a:lnTo>
                  <a:lnTo>
                    <a:pt x="3164" y="1264"/>
                  </a:lnTo>
                  <a:lnTo>
                    <a:pt x="3180" y="1275"/>
                  </a:lnTo>
                  <a:lnTo>
                    <a:pt x="3195" y="1286"/>
                  </a:lnTo>
                  <a:lnTo>
                    <a:pt x="3210" y="1295"/>
                  </a:lnTo>
                  <a:lnTo>
                    <a:pt x="3224" y="1303"/>
                  </a:lnTo>
                  <a:lnTo>
                    <a:pt x="3214" y="1315"/>
                  </a:lnTo>
                  <a:lnTo>
                    <a:pt x="3202" y="1326"/>
                  </a:lnTo>
                  <a:lnTo>
                    <a:pt x="3188" y="1337"/>
                  </a:lnTo>
                  <a:lnTo>
                    <a:pt x="3173" y="1347"/>
                  </a:lnTo>
                  <a:lnTo>
                    <a:pt x="3158" y="1353"/>
                  </a:lnTo>
                  <a:lnTo>
                    <a:pt x="3143" y="1356"/>
                  </a:lnTo>
                  <a:lnTo>
                    <a:pt x="3129" y="1355"/>
                  </a:lnTo>
                  <a:lnTo>
                    <a:pt x="3116" y="1350"/>
                  </a:lnTo>
                  <a:lnTo>
                    <a:pt x="3107" y="1337"/>
                  </a:lnTo>
                  <a:lnTo>
                    <a:pt x="3102" y="1324"/>
                  </a:lnTo>
                  <a:lnTo>
                    <a:pt x="3098" y="1309"/>
                  </a:lnTo>
                  <a:lnTo>
                    <a:pt x="3095" y="1294"/>
                  </a:lnTo>
                  <a:lnTo>
                    <a:pt x="3092" y="1279"/>
                  </a:lnTo>
                  <a:lnTo>
                    <a:pt x="3091" y="1265"/>
                  </a:lnTo>
                  <a:lnTo>
                    <a:pt x="3091" y="1252"/>
                  </a:lnTo>
                  <a:lnTo>
                    <a:pt x="3091" y="1239"/>
                  </a:lnTo>
                  <a:lnTo>
                    <a:pt x="3042" y="1239"/>
                  </a:lnTo>
                  <a:lnTo>
                    <a:pt x="3038" y="1229"/>
                  </a:lnTo>
                  <a:lnTo>
                    <a:pt x="3035" y="1219"/>
                  </a:lnTo>
                  <a:lnTo>
                    <a:pt x="3032" y="1211"/>
                  </a:lnTo>
                  <a:lnTo>
                    <a:pt x="3030" y="1203"/>
                  </a:lnTo>
                  <a:lnTo>
                    <a:pt x="3027" y="1196"/>
                  </a:lnTo>
                  <a:lnTo>
                    <a:pt x="3025" y="1188"/>
                  </a:lnTo>
                  <a:lnTo>
                    <a:pt x="3022" y="1182"/>
                  </a:lnTo>
                  <a:lnTo>
                    <a:pt x="3017" y="1176"/>
                  </a:lnTo>
                  <a:lnTo>
                    <a:pt x="3016" y="1183"/>
                  </a:lnTo>
                  <a:lnTo>
                    <a:pt x="3012" y="1192"/>
                  </a:lnTo>
                  <a:lnTo>
                    <a:pt x="3007" y="1203"/>
                  </a:lnTo>
                  <a:lnTo>
                    <a:pt x="3000" y="1217"/>
                  </a:lnTo>
                  <a:lnTo>
                    <a:pt x="2995" y="1232"/>
                  </a:lnTo>
                  <a:lnTo>
                    <a:pt x="2991" y="1250"/>
                  </a:lnTo>
                  <a:lnTo>
                    <a:pt x="2990" y="1272"/>
                  </a:lnTo>
                  <a:lnTo>
                    <a:pt x="2992" y="1294"/>
                  </a:lnTo>
                  <a:lnTo>
                    <a:pt x="2998" y="1302"/>
                  </a:lnTo>
                  <a:lnTo>
                    <a:pt x="3002" y="1310"/>
                  </a:lnTo>
                  <a:lnTo>
                    <a:pt x="3006" y="1320"/>
                  </a:lnTo>
                  <a:lnTo>
                    <a:pt x="3009" y="1331"/>
                  </a:lnTo>
                  <a:lnTo>
                    <a:pt x="3011" y="1341"/>
                  </a:lnTo>
                  <a:lnTo>
                    <a:pt x="3015" y="1351"/>
                  </a:lnTo>
                  <a:lnTo>
                    <a:pt x="3021" y="1360"/>
                  </a:lnTo>
                  <a:lnTo>
                    <a:pt x="3028" y="1367"/>
                  </a:lnTo>
                  <a:lnTo>
                    <a:pt x="3043" y="1380"/>
                  </a:lnTo>
                  <a:lnTo>
                    <a:pt x="3061" y="1394"/>
                  </a:lnTo>
                  <a:lnTo>
                    <a:pt x="3081" y="1407"/>
                  </a:lnTo>
                  <a:lnTo>
                    <a:pt x="3099" y="1419"/>
                  </a:lnTo>
                  <a:lnTo>
                    <a:pt x="3116" y="1432"/>
                  </a:lnTo>
                  <a:lnTo>
                    <a:pt x="3129" y="1444"/>
                  </a:lnTo>
                  <a:lnTo>
                    <a:pt x="3136" y="1454"/>
                  </a:lnTo>
                  <a:lnTo>
                    <a:pt x="3137" y="1462"/>
                  </a:lnTo>
                  <a:lnTo>
                    <a:pt x="3128" y="1465"/>
                  </a:lnTo>
                  <a:lnTo>
                    <a:pt x="3117" y="1463"/>
                  </a:lnTo>
                  <a:lnTo>
                    <a:pt x="3106" y="1459"/>
                  </a:lnTo>
                  <a:lnTo>
                    <a:pt x="3095" y="1452"/>
                  </a:lnTo>
                  <a:lnTo>
                    <a:pt x="3082" y="1444"/>
                  </a:lnTo>
                  <a:lnTo>
                    <a:pt x="3069" y="1438"/>
                  </a:lnTo>
                  <a:lnTo>
                    <a:pt x="3056" y="1432"/>
                  </a:lnTo>
                  <a:lnTo>
                    <a:pt x="3042" y="1430"/>
                  </a:lnTo>
                  <a:lnTo>
                    <a:pt x="3037" y="1417"/>
                  </a:lnTo>
                  <a:lnTo>
                    <a:pt x="3029" y="1403"/>
                  </a:lnTo>
                  <a:lnTo>
                    <a:pt x="3021" y="1390"/>
                  </a:lnTo>
                  <a:lnTo>
                    <a:pt x="3012" y="1376"/>
                  </a:lnTo>
                  <a:lnTo>
                    <a:pt x="3004" y="1362"/>
                  </a:lnTo>
                  <a:lnTo>
                    <a:pt x="2995" y="1350"/>
                  </a:lnTo>
                  <a:lnTo>
                    <a:pt x="2987" y="1340"/>
                  </a:lnTo>
                  <a:lnTo>
                    <a:pt x="2982" y="1333"/>
                  </a:lnTo>
                  <a:lnTo>
                    <a:pt x="2982" y="1306"/>
                  </a:lnTo>
                  <a:lnTo>
                    <a:pt x="2984" y="1279"/>
                  </a:lnTo>
                  <a:lnTo>
                    <a:pt x="2986" y="1253"/>
                  </a:lnTo>
                  <a:lnTo>
                    <a:pt x="2989" y="1226"/>
                  </a:lnTo>
                  <a:lnTo>
                    <a:pt x="2993" y="1199"/>
                  </a:lnTo>
                  <a:lnTo>
                    <a:pt x="2997" y="1173"/>
                  </a:lnTo>
                  <a:lnTo>
                    <a:pt x="3002" y="1147"/>
                  </a:lnTo>
                  <a:lnTo>
                    <a:pt x="3008" y="1120"/>
                  </a:lnTo>
                  <a:lnTo>
                    <a:pt x="3014" y="1094"/>
                  </a:lnTo>
                  <a:lnTo>
                    <a:pt x="3021" y="1069"/>
                  </a:lnTo>
                  <a:lnTo>
                    <a:pt x="3028" y="1043"/>
                  </a:lnTo>
                  <a:lnTo>
                    <a:pt x="3036" y="1017"/>
                  </a:lnTo>
                  <a:lnTo>
                    <a:pt x="3043" y="993"/>
                  </a:lnTo>
                  <a:lnTo>
                    <a:pt x="3052" y="967"/>
                  </a:lnTo>
                  <a:lnTo>
                    <a:pt x="3060" y="942"/>
                  </a:lnTo>
                  <a:lnTo>
                    <a:pt x="3069" y="919"/>
                  </a:lnTo>
                  <a:lnTo>
                    <a:pt x="3077" y="894"/>
                  </a:lnTo>
                  <a:lnTo>
                    <a:pt x="3087" y="871"/>
                  </a:lnTo>
                  <a:lnTo>
                    <a:pt x="3096" y="847"/>
                  </a:lnTo>
                  <a:lnTo>
                    <a:pt x="3105" y="825"/>
                  </a:lnTo>
                  <a:lnTo>
                    <a:pt x="3114" y="802"/>
                  </a:lnTo>
                  <a:lnTo>
                    <a:pt x="3123" y="780"/>
                  </a:lnTo>
                  <a:lnTo>
                    <a:pt x="3132" y="758"/>
                  </a:lnTo>
                  <a:lnTo>
                    <a:pt x="3142" y="738"/>
                  </a:lnTo>
                  <a:lnTo>
                    <a:pt x="3150" y="717"/>
                  </a:lnTo>
                  <a:lnTo>
                    <a:pt x="3158" y="697"/>
                  </a:lnTo>
                  <a:lnTo>
                    <a:pt x="3166" y="677"/>
                  </a:lnTo>
                  <a:lnTo>
                    <a:pt x="3174" y="658"/>
                  </a:lnTo>
                  <a:lnTo>
                    <a:pt x="3181" y="640"/>
                  </a:lnTo>
                  <a:lnTo>
                    <a:pt x="3188" y="623"/>
                  </a:lnTo>
                  <a:lnTo>
                    <a:pt x="3194" y="604"/>
                  </a:lnTo>
                  <a:lnTo>
                    <a:pt x="3200" y="588"/>
                  </a:lnTo>
                  <a:close/>
                  <a:moveTo>
                    <a:pt x="3445" y="1129"/>
                  </a:moveTo>
                  <a:lnTo>
                    <a:pt x="3439" y="1140"/>
                  </a:lnTo>
                  <a:lnTo>
                    <a:pt x="3434" y="1152"/>
                  </a:lnTo>
                  <a:lnTo>
                    <a:pt x="3427" y="1164"/>
                  </a:lnTo>
                  <a:lnTo>
                    <a:pt x="3421" y="1176"/>
                  </a:lnTo>
                  <a:lnTo>
                    <a:pt x="3413" y="1187"/>
                  </a:lnTo>
                  <a:lnTo>
                    <a:pt x="3406" y="1199"/>
                  </a:lnTo>
                  <a:lnTo>
                    <a:pt x="3397" y="1211"/>
                  </a:lnTo>
                  <a:lnTo>
                    <a:pt x="3389" y="1222"/>
                  </a:lnTo>
                  <a:lnTo>
                    <a:pt x="3380" y="1232"/>
                  </a:lnTo>
                  <a:lnTo>
                    <a:pt x="3372" y="1244"/>
                  </a:lnTo>
                  <a:lnTo>
                    <a:pt x="3363" y="1255"/>
                  </a:lnTo>
                  <a:lnTo>
                    <a:pt x="3355" y="1264"/>
                  </a:lnTo>
                  <a:lnTo>
                    <a:pt x="3346" y="1275"/>
                  </a:lnTo>
                  <a:lnTo>
                    <a:pt x="3339" y="1285"/>
                  </a:lnTo>
                  <a:lnTo>
                    <a:pt x="3331" y="1294"/>
                  </a:lnTo>
                  <a:lnTo>
                    <a:pt x="3324" y="1303"/>
                  </a:lnTo>
                  <a:lnTo>
                    <a:pt x="3342" y="1302"/>
                  </a:lnTo>
                  <a:lnTo>
                    <a:pt x="3360" y="1300"/>
                  </a:lnTo>
                  <a:lnTo>
                    <a:pt x="3378" y="1295"/>
                  </a:lnTo>
                  <a:lnTo>
                    <a:pt x="3396" y="1290"/>
                  </a:lnTo>
                  <a:lnTo>
                    <a:pt x="3415" y="1285"/>
                  </a:lnTo>
                  <a:lnTo>
                    <a:pt x="3433" y="1278"/>
                  </a:lnTo>
                  <a:lnTo>
                    <a:pt x="3451" y="1271"/>
                  </a:lnTo>
                  <a:lnTo>
                    <a:pt x="3469" y="1263"/>
                  </a:lnTo>
                  <a:lnTo>
                    <a:pt x="3487" y="1256"/>
                  </a:lnTo>
                  <a:lnTo>
                    <a:pt x="3506" y="1248"/>
                  </a:lnTo>
                  <a:lnTo>
                    <a:pt x="3524" y="1242"/>
                  </a:lnTo>
                  <a:lnTo>
                    <a:pt x="3542" y="1237"/>
                  </a:lnTo>
                  <a:lnTo>
                    <a:pt x="3560" y="1231"/>
                  </a:lnTo>
                  <a:lnTo>
                    <a:pt x="3579" y="1227"/>
                  </a:lnTo>
                  <a:lnTo>
                    <a:pt x="3598" y="1225"/>
                  </a:lnTo>
                  <a:lnTo>
                    <a:pt x="3616" y="1224"/>
                  </a:lnTo>
                  <a:lnTo>
                    <a:pt x="3620" y="1217"/>
                  </a:lnTo>
                  <a:lnTo>
                    <a:pt x="3624" y="1212"/>
                  </a:lnTo>
                  <a:lnTo>
                    <a:pt x="3630" y="1207"/>
                  </a:lnTo>
                  <a:lnTo>
                    <a:pt x="3635" y="1201"/>
                  </a:lnTo>
                  <a:lnTo>
                    <a:pt x="3641" y="1198"/>
                  </a:lnTo>
                  <a:lnTo>
                    <a:pt x="3648" y="1195"/>
                  </a:lnTo>
                  <a:lnTo>
                    <a:pt x="3655" y="1193"/>
                  </a:lnTo>
                  <a:lnTo>
                    <a:pt x="3664" y="1192"/>
                  </a:lnTo>
                  <a:lnTo>
                    <a:pt x="3659" y="1191"/>
                  </a:lnTo>
                  <a:lnTo>
                    <a:pt x="3651" y="1186"/>
                  </a:lnTo>
                  <a:lnTo>
                    <a:pt x="3643" y="1181"/>
                  </a:lnTo>
                  <a:lnTo>
                    <a:pt x="3634" y="1173"/>
                  </a:lnTo>
                  <a:lnTo>
                    <a:pt x="3624" y="1166"/>
                  </a:lnTo>
                  <a:lnTo>
                    <a:pt x="3616" y="1158"/>
                  </a:lnTo>
                  <a:lnTo>
                    <a:pt x="3608" y="1151"/>
                  </a:lnTo>
                  <a:lnTo>
                    <a:pt x="3603" y="1145"/>
                  </a:lnTo>
                  <a:lnTo>
                    <a:pt x="3585" y="1146"/>
                  </a:lnTo>
                  <a:lnTo>
                    <a:pt x="3567" y="1149"/>
                  </a:lnTo>
                  <a:lnTo>
                    <a:pt x="3547" y="1152"/>
                  </a:lnTo>
                  <a:lnTo>
                    <a:pt x="3529" y="1154"/>
                  </a:lnTo>
                  <a:lnTo>
                    <a:pt x="3509" y="1154"/>
                  </a:lnTo>
                  <a:lnTo>
                    <a:pt x="3488" y="1151"/>
                  </a:lnTo>
                  <a:lnTo>
                    <a:pt x="3467" y="1142"/>
                  </a:lnTo>
                  <a:lnTo>
                    <a:pt x="3445" y="1129"/>
                  </a:lnTo>
                  <a:close/>
                  <a:moveTo>
                    <a:pt x="3311" y="1733"/>
                  </a:moveTo>
                  <a:lnTo>
                    <a:pt x="3297" y="1731"/>
                  </a:lnTo>
                  <a:lnTo>
                    <a:pt x="3284" y="1726"/>
                  </a:lnTo>
                  <a:lnTo>
                    <a:pt x="3271" y="1721"/>
                  </a:lnTo>
                  <a:lnTo>
                    <a:pt x="3258" y="1716"/>
                  </a:lnTo>
                  <a:lnTo>
                    <a:pt x="3244" y="1711"/>
                  </a:lnTo>
                  <a:lnTo>
                    <a:pt x="3232" y="1709"/>
                  </a:lnTo>
                  <a:lnTo>
                    <a:pt x="3219" y="1710"/>
                  </a:lnTo>
                  <a:lnTo>
                    <a:pt x="3205" y="1717"/>
                  </a:lnTo>
                  <a:lnTo>
                    <a:pt x="3193" y="1725"/>
                  </a:lnTo>
                  <a:lnTo>
                    <a:pt x="3181" y="1739"/>
                  </a:lnTo>
                  <a:lnTo>
                    <a:pt x="3171" y="1756"/>
                  </a:lnTo>
                  <a:lnTo>
                    <a:pt x="3161" y="1777"/>
                  </a:lnTo>
                  <a:lnTo>
                    <a:pt x="3152" y="1798"/>
                  </a:lnTo>
                  <a:lnTo>
                    <a:pt x="3146" y="1820"/>
                  </a:lnTo>
                  <a:lnTo>
                    <a:pt x="3142" y="1840"/>
                  </a:lnTo>
                  <a:lnTo>
                    <a:pt x="3141" y="1859"/>
                  </a:lnTo>
                  <a:lnTo>
                    <a:pt x="3160" y="1838"/>
                  </a:lnTo>
                  <a:lnTo>
                    <a:pt x="3181" y="1821"/>
                  </a:lnTo>
                  <a:lnTo>
                    <a:pt x="3204" y="1808"/>
                  </a:lnTo>
                  <a:lnTo>
                    <a:pt x="3226" y="1795"/>
                  </a:lnTo>
                  <a:lnTo>
                    <a:pt x="3249" y="1783"/>
                  </a:lnTo>
                  <a:lnTo>
                    <a:pt x="3271" y="1769"/>
                  </a:lnTo>
                  <a:lnTo>
                    <a:pt x="3291" y="1753"/>
                  </a:lnTo>
                  <a:lnTo>
                    <a:pt x="3311" y="1733"/>
                  </a:lnTo>
                  <a:close/>
                  <a:moveTo>
                    <a:pt x="3469" y="1907"/>
                  </a:moveTo>
                  <a:lnTo>
                    <a:pt x="3483" y="1909"/>
                  </a:lnTo>
                  <a:lnTo>
                    <a:pt x="3498" y="1915"/>
                  </a:lnTo>
                  <a:lnTo>
                    <a:pt x="3513" y="1924"/>
                  </a:lnTo>
                  <a:lnTo>
                    <a:pt x="3529" y="1935"/>
                  </a:lnTo>
                  <a:lnTo>
                    <a:pt x="3543" y="1948"/>
                  </a:lnTo>
                  <a:lnTo>
                    <a:pt x="3557" y="1961"/>
                  </a:lnTo>
                  <a:lnTo>
                    <a:pt x="3569" y="1974"/>
                  </a:lnTo>
                  <a:lnTo>
                    <a:pt x="3578" y="1986"/>
                  </a:lnTo>
                  <a:lnTo>
                    <a:pt x="3579" y="1998"/>
                  </a:lnTo>
                  <a:lnTo>
                    <a:pt x="3580" y="2008"/>
                  </a:lnTo>
                  <a:lnTo>
                    <a:pt x="3583" y="2017"/>
                  </a:lnTo>
                  <a:lnTo>
                    <a:pt x="3585" y="2026"/>
                  </a:lnTo>
                  <a:lnTo>
                    <a:pt x="3587" y="2036"/>
                  </a:lnTo>
                  <a:lnTo>
                    <a:pt x="3589" y="2045"/>
                  </a:lnTo>
                  <a:lnTo>
                    <a:pt x="3590" y="2055"/>
                  </a:lnTo>
                  <a:lnTo>
                    <a:pt x="3591" y="2067"/>
                  </a:lnTo>
                  <a:lnTo>
                    <a:pt x="3583" y="2066"/>
                  </a:lnTo>
                  <a:lnTo>
                    <a:pt x="3575" y="2063"/>
                  </a:lnTo>
                  <a:lnTo>
                    <a:pt x="3569" y="2060"/>
                  </a:lnTo>
                  <a:lnTo>
                    <a:pt x="3562" y="2056"/>
                  </a:lnTo>
                  <a:lnTo>
                    <a:pt x="3557" y="2052"/>
                  </a:lnTo>
                  <a:lnTo>
                    <a:pt x="3552" y="2046"/>
                  </a:lnTo>
                  <a:lnTo>
                    <a:pt x="3546" y="2040"/>
                  </a:lnTo>
                  <a:lnTo>
                    <a:pt x="3542" y="2035"/>
                  </a:lnTo>
                  <a:lnTo>
                    <a:pt x="3533" y="2036"/>
                  </a:lnTo>
                  <a:lnTo>
                    <a:pt x="3526" y="2037"/>
                  </a:lnTo>
                  <a:lnTo>
                    <a:pt x="3518" y="2039"/>
                  </a:lnTo>
                  <a:lnTo>
                    <a:pt x="3512" y="2042"/>
                  </a:lnTo>
                  <a:lnTo>
                    <a:pt x="3504" y="2045"/>
                  </a:lnTo>
                  <a:lnTo>
                    <a:pt x="3497" y="2047"/>
                  </a:lnTo>
                  <a:lnTo>
                    <a:pt x="3489" y="2048"/>
                  </a:lnTo>
                  <a:lnTo>
                    <a:pt x="3481" y="2049"/>
                  </a:lnTo>
                  <a:lnTo>
                    <a:pt x="3476" y="2043"/>
                  </a:lnTo>
                  <a:lnTo>
                    <a:pt x="3468" y="2036"/>
                  </a:lnTo>
                  <a:lnTo>
                    <a:pt x="3460" y="2028"/>
                  </a:lnTo>
                  <a:lnTo>
                    <a:pt x="3451" y="2021"/>
                  </a:lnTo>
                  <a:lnTo>
                    <a:pt x="3442" y="2013"/>
                  </a:lnTo>
                  <a:lnTo>
                    <a:pt x="3434" y="2008"/>
                  </a:lnTo>
                  <a:lnTo>
                    <a:pt x="3426" y="2003"/>
                  </a:lnTo>
                  <a:lnTo>
                    <a:pt x="3421" y="2002"/>
                  </a:lnTo>
                  <a:lnTo>
                    <a:pt x="3431" y="2014"/>
                  </a:lnTo>
                  <a:lnTo>
                    <a:pt x="3440" y="2025"/>
                  </a:lnTo>
                  <a:lnTo>
                    <a:pt x="3452" y="2036"/>
                  </a:lnTo>
                  <a:lnTo>
                    <a:pt x="3463" y="2045"/>
                  </a:lnTo>
                  <a:lnTo>
                    <a:pt x="3476" y="2054"/>
                  </a:lnTo>
                  <a:lnTo>
                    <a:pt x="3487" y="2062"/>
                  </a:lnTo>
                  <a:lnTo>
                    <a:pt x="3500" y="2071"/>
                  </a:lnTo>
                  <a:lnTo>
                    <a:pt x="3514" y="2078"/>
                  </a:lnTo>
                  <a:lnTo>
                    <a:pt x="3527" y="2086"/>
                  </a:lnTo>
                  <a:lnTo>
                    <a:pt x="3540" y="2092"/>
                  </a:lnTo>
                  <a:lnTo>
                    <a:pt x="3554" y="2099"/>
                  </a:lnTo>
                  <a:lnTo>
                    <a:pt x="3567" y="2105"/>
                  </a:lnTo>
                  <a:lnTo>
                    <a:pt x="3579" y="2112"/>
                  </a:lnTo>
                  <a:lnTo>
                    <a:pt x="3592" y="2118"/>
                  </a:lnTo>
                  <a:lnTo>
                    <a:pt x="3604" y="2123"/>
                  </a:lnTo>
                  <a:lnTo>
                    <a:pt x="3616" y="2130"/>
                  </a:lnTo>
                  <a:lnTo>
                    <a:pt x="3616" y="2123"/>
                  </a:lnTo>
                  <a:lnTo>
                    <a:pt x="3618" y="2118"/>
                  </a:lnTo>
                  <a:lnTo>
                    <a:pt x="3619" y="2112"/>
                  </a:lnTo>
                  <a:lnTo>
                    <a:pt x="3622" y="2105"/>
                  </a:lnTo>
                  <a:lnTo>
                    <a:pt x="3624" y="2100"/>
                  </a:lnTo>
                  <a:lnTo>
                    <a:pt x="3625" y="2093"/>
                  </a:lnTo>
                  <a:lnTo>
                    <a:pt x="3628" y="2088"/>
                  </a:lnTo>
                  <a:lnTo>
                    <a:pt x="3628" y="2082"/>
                  </a:lnTo>
                  <a:lnTo>
                    <a:pt x="3700" y="2082"/>
                  </a:lnTo>
                  <a:lnTo>
                    <a:pt x="3699" y="2069"/>
                  </a:lnTo>
                  <a:lnTo>
                    <a:pt x="3697" y="2056"/>
                  </a:lnTo>
                  <a:lnTo>
                    <a:pt x="3693" y="2042"/>
                  </a:lnTo>
                  <a:lnTo>
                    <a:pt x="3689" y="2028"/>
                  </a:lnTo>
                  <a:lnTo>
                    <a:pt x="3684" y="2015"/>
                  </a:lnTo>
                  <a:lnTo>
                    <a:pt x="3680" y="2003"/>
                  </a:lnTo>
                  <a:lnTo>
                    <a:pt x="3678" y="1994"/>
                  </a:lnTo>
                  <a:lnTo>
                    <a:pt x="3677" y="1986"/>
                  </a:lnTo>
                  <a:lnTo>
                    <a:pt x="3652" y="2018"/>
                  </a:lnTo>
                  <a:lnTo>
                    <a:pt x="3638" y="2001"/>
                  </a:lnTo>
                  <a:lnTo>
                    <a:pt x="3623" y="1985"/>
                  </a:lnTo>
                  <a:lnTo>
                    <a:pt x="3608" y="1970"/>
                  </a:lnTo>
                  <a:lnTo>
                    <a:pt x="3592" y="1956"/>
                  </a:lnTo>
                  <a:lnTo>
                    <a:pt x="3578" y="1944"/>
                  </a:lnTo>
                  <a:lnTo>
                    <a:pt x="3564" y="1931"/>
                  </a:lnTo>
                  <a:lnTo>
                    <a:pt x="3553" y="1919"/>
                  </a:lnTo>
                  <a:lnTo>
                    <a:pt x="3542" y="1907"/>
                  </a:lnTo>
                  <a:lnTo>
                    <a:pt x="3532" y="1906"/>
                  </a:lnTo>
                  <a:lnTo>
                    <a:pt x="3522" y="1905"/>
                  </a:lnTo>
                  <a:lnTo>
                    <a:pt x="3511" y="1903"/>
                  </a:lnTo>
                  <a:lnTo>
                    <a:pt x="3501" y="1902"/>
                  </a:lnTo>
                  <a:lnTo>
                    <a:pt x="3491" y="1901"/>
                  </a:lnTo>
                  <a:lnTo>
                    <a:pt x="3482" y="1901"/>
                  </a:lnTo>
                  <a:lnTo>
                    <a:pt x="3474" y="1903"/>
                  </a:lnTo>
                  <a:lnTo>
                    <a:pt x="3469" y="1907"/>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9" name="Freeform 123"/>
            <p:cNvSpPr/>
            <p:nvPr/>
          </p:nvSpPr>
          <p:spPr>
            <a:xfrm>
              <a:off x="5446080" y="4254480"/>
              <a:ext cx="438840" cy="306720"/>
            </a:xfrm>
            <a:custGeom>
              <a:avLst/>
              <a:gdLst>
                <a:gd name="textAreaLeft" fmla="*/ 0 w 438840"/>
                <a:gd name="textAreaRight" fmla="*/ 439200 w 438840"/>
                <a:gd name="textAreaTop" fmla="*/ 0 h 306720"/>
                <a:gd name="textAreaBottom" fmla="*/ 307080 h 306720"/>
              </a:gdLst>
              <a:ahLst/>
              <a:rect l="textAreaLeft" t="textAreaTop" r="textAreaRight" b="textAreaBottom"/>
              <a:pathLst>
                <a:path w="2870" h="2323">
                  <a:moveTo>
                    <a:pt x="190" y="2069"/>
                  </a:moveTo>
                  <a:lnTo>
                    <a:pt x="208" y="2055"/>
                  </a:lnTo>
                  <a:lnTo>
                    <a:pt x="222" y="2046"/>
                  </a:lnTo>
                  <a:lnTo>
                    <a:pt x="232" y="2041"/>
                  </a:lnTo>
                  <a:lnTo>
                    <a:pt x="241" y="2039"/>
                  </a:lnTo>
                  <a:lnTo>
                    <a:pt x="247" y="2039"/>
                  </a:lnTo>
                  <a:lnTo>
                    <a:pt x="253" y="2039"/>
                  </a:lnTo>
                  <a:lnTo>
                    <a:pt x="259" y="2037"/>
                  </a:lnTo>
                  <a:lnTo>
                    <a:pt x="267" y="2033"/>
                  </a:lnTo>
                  <a:lnTo>
                    <a:pt x="262" y="2043"/>
                  </a:lnTo>
                  <a:lnTo>
                    <a:pt x="259" y="2053"/>
                  </a:lnTo>
                  <a:lnTo>
                    <a:pt x="256" y="2061"/>
                  </a:lnTo>
                  <a:lnTo>
                    <a:pt x="254" y="2067"/>
                  </a:lnTo>
                  <a:lnTo>
                    <a:pt x="251" y="2073"/>
                  </a:lnTo>
                  <a:lnTo>
                    <a:pt x="249" y="2080"/>
                  </a:lnTo>
                  <a:lnTo>
                    <a:pt x="246" y="2086"/>
                  </a:lnTo>
                  <a:lnTo>
                    <a:pt x="244" y="2095"/>
                  </a:lnTo>
                  <a:lnTo>
                    <a:pt x="250" y="2103"/>
                  </a:lnTo>
                  <a:lnTo>
                    <a:pt x="253" y="2114"/>
                  </a:lnTo>
                  <a:lnTo>
                    <a:pt x="255" y="2126"/>
                  </a:lnTo>
                  <a:lnTo>
                    <a:pt x="256" y="2140"/>
                  </a:lnTo>
                  <a:lnTo>
                    <a:pt x="256" y="2155"/>
                  </a:lnTo>
                  <a:lnTo>
                    <a:pt x="255" y="2170"/>
                  </a:lnTo>
                  <a:lnTo>
                    <a:pt x="253" y="2186"/>
                  </a:lnTo>
                  <a:lnTo>
                    <a:pt x="250" y="2203"/>
                  </a:lnTo>
                  <a:lnTo>
                    <a:pt x="246" y="2219"/>
                  </a:lnTo>
                  <a:lnTo>
                    <a:pt x="243" y="2234"/>
                  </a:lnTo>
                  <a:lnTo>
                    <a:pt x="239" y="2249"/>
                  </a:lnTo>
                  <a:lnTo>
                    <a:pt x="235" y="2263"/>
                  </a:lnTo>
                  <a:lnTo>
                    <a:pt x="230" y="2276"/>
                  </a:lnTo>
                  <a:lnTo>
                    <a:pt x="226" y="2286"/>
                  </a:lnTo>
                  <a:lnTo>
                    <a:pt x="222" y="2295"/>
                  </a:lnTo>
                  <a:lnTo>
                    <a:pt x="219" y="2301"/>
                  </a:lnTo>
                  <a:lnTo>
                    <a:pt x="213" y="2287"/>
                  </a:lnTo>
                  <a:lnTo>
                    <a:pt x="209" y="2272"/>
                  </a:lnTo>
                  <a:lnTo>
                    <a:pt x="206" y="2257"/>
                  </a:lnTo>
                  <a:lnTo>
                    <a:pt x="203" y="2242"/>
                  </a:lnTo>
                  <a:lnTo>
                    <a:pt x="200" y="2226"/>
                  </a:lnTo>
                  <a:lnTo>
                    <a:pt x="199" y="2211"/>
                  </a:lnTo>
                  <a:lnTo>
                    <a:pt x="198" y="2196"/>
                  </a:lnTo>
                  <a:lnTo>
                    <a:pt x="197" y="2180"/>
                  </a:lnTo>
                  <a:lnTo>
                    <a:pt x="196" y="2165"/>
                  </a:lnTo>
                  <a:lnTo>
                    <a:pt x="196" y="2150"/>
                  </a:lnTo>
                  <a:lnTo>
                    <a:pt x="195" y="2137"/>
                  </a:lnTo>
                  <a:lnTo>
                    <a:pt x="195" y="2122"/>
                  </a:lnTo>
                  <a:lnTo>
                    <a:pt x="194" y="2108"/>
                  </a:lnTo>
                  <a:lnTo>
                    <a:pt x="193" y="2095"/>
                  </a:lnTo>
                  <a:lnTo>
                    <a:pt x="192" y="2082"/>
                  </a:lnTo>
                  <a:lnTo>
                    <a:pt x="190" y="2069"/>
                  </a:lnTo>
                  <a:close/>
                  <a:moveTo>
                    <a:pt x="6" y="2164"/>
                  </a:moveTo>
                  <a:lnTo>
                    <a:pt x="12" y="2169"/>
                  </a:lnTo>
                  <a:lnTo>
                    <a:pt x="19" y="2173"/>
                  </a:lnTo>
                  <a:lnTo>
                    <a:pt x="28" y="2179"/>
                  </a:lnTo>
                  <a:lnTo>
                    <a:pt x="38" y="2185"/>
                  </a:lnTo>
                  <a:lnTo>
                    <a:pt x="45" y="2192"/>
                  </a:lnTo>
                  <a:lnTo>
                    <a:pt x="53" y="2197"/>
                  </a:lnTo>
                  <a:lnTo>
                    <a:pt x="57" y="2204"/>
                  </a:lnTo>
                  <a:lnTo>
                    <a:pt x="59" y="2209"/>
                  </a:lnTo>
                  <a:lnTo>
                    <a:pt x="56" y="2217"/>
                  </a:lnTo>
                  <a:lnTo>
                    <a:pt x="53" y="2224"/>
                  </a:lnTo>
                  <a:lnTo>
                    <a:pt x="48" y="2233"/>
                  </a:lnTo>
                  <a:lnTo>
                    <a:pt x="44" y="2241"/>
                  </a:lnTo>
                  <a:lnTo>
                    <a:pt x="40" y="2250"/>
                  </a:lnTo>
                  <a:lnTo>
                    <a:pt x="36" y="2258"/>
                  </a:lnTo>
                  <a:lnTo>
                    <a:pt x="32" y="2266"/>
                  </a:lnTo>
                  <a:lnTo>
                    <a:pt x="29" y="2272"/>
                  </a:lnTo>
                  <a:lnTo>
                    <a:pt x="25" y="2280"/>
                  </a:lnTo>
                  <a:lnTo>
                    <a:pt x="22" y="2286"/>
                  </a:lnTo>
                  <a:lnTo>
                    <a:pt x="18" y="2294"/>
                  </a:lnTo>
                  <a:lnTo>
                    <a:pt x="15" y="2299"/>
                  </a:lnTo>
                  <a:lnTo>
                    <a:pt x="11" y="2306"/>
                  </a:lnTo>
                  <a:lnTo>
                    <a:pt x="8" y="2311"/>
                  </a:lnTo>
                  <a:lnTo>
                    <a:pt x="5" y="2317"/>
                  </a:lnTo>
                  <a:lnTo>
                    <a:pt x="0" y="2323"/>
                  </a:lnTo>
                  <a:lnTo>
                    <a:pt x="1" y="2303"/>
                  </a:lnTo>
                  <a:lnTo>
                    <a:pt x="1" y="2283"/>
                  </a:lnTo>
                  <a:lnTo>
                    <a:pt x="0" y="2263"/>
                  </a:lnTo>
                  <a:lnTo>
                    <a:pt x="0" y="2242"/>
                  </a:lnTo>
                  <a:lnTo>
                    <a:pt x="0" y="2222"/>
                  </a:lnTo>
                  <a:lnTo>
                    <a:pt x="0" y="2203"/>
                  </a:lnTo>
                  <a:lnTo>
                    <a:pt x="2" y="2184"/>
                  </a:lnTo>
                  <a:lnTo>
                    <a:pt x="6" y="2164"/>
                  </a:lnTo>
                  <a:close/>
                  <a:moveTo>
                    <a:pt x="162" y="1578"/>
                  </a:moveTo>
                  <a:lnTo>
                    <a:pt x="170" y="1589"/>
                  </a:lnTo>
                  <a:lnTo>
                    <a:pt x="175" y="1600"/>
                  </a:lnTo>
                  <a:lnTo>
                    <a:pt x="178" y="1611"/>
                  </a:lnTo>
                  <a:lnTo>
                    <a:pt x="180" y="1621"/>
                  </a:lnTo>
                  <a:lnTo>
                    <a:pt x="183" y="1631"/>
                  </a:lnTo>
                  <a:lnTo>
                    <a:pt x="191" y="1638"/>
                  </a:lnTo>
                  <a:lnTo>
                    <a:pt x="204" y="1642"/>
                  </a:lnTo>
                  <a:lnTo>
                    <a:pt x="223" y="1644"/>
                  </a:lnTo>
                  <a:lnTo>
                    <a:pt x="227" y="1656"/>
                  </a:lnTo>
                  <a:lnTo>
                    <a:pt x="230" y="1669"/>
                  </a:lnTo>
                  <a:lnTo>
                    <a:pt x="230" y="1682"/>
                  </a:lnTo>
                  <a:lnTo>
                    <a:pt x="229" y="1695"/>
                  </a:lnTo>
                  <a:lnTo>
                    <a:pt x="228" y="1708"/>
                  </a:lnTo>
                  <a:lnTo>
                    <a:pt x="225" y="1720"/>
                  </a:lnTo>
                  <a:lnTo>
                    <a:pt x="222" y="1734"/>
                  </a:lnTo>
                  <a:lnTo>
                    <a:pt x="220" y="1747"/>
                  </a:lnTo>
                  <a:lnTo>
                    <a:pt x="195" y="1779"/>
                  </a:lnTo>
                  <a:lnTo>
                    <a:pt x="215" y="1763"/>
                  </a:lnTo>
                  <a:lnTo>
                    <a:pt x="231" y="1750"/>
                  </a:lnTo>
                  <a:lnTo>
                    <a:pt x="243" y="1739"/>
                  </a:lnTo>
                  <a:lnTo>
                    <a:pt x="252" y="1725"/>
                  </a:lnTo>
                  <a:lnTo>
                    <a:pt x="257" y="1709"/>
                  </a:lnTo>
                  <a:lnTo>
                    <a:pt x="260" y="1686"/>
                  </a:lnTo>
                  <a:lnTo>
                    <a:pt x="261" y="1657"/>
                  </a:lnTo>
                  <a:lnTo>
                    <a:pt x="260" y="1619"/>
                  </a:lnTo>
                  <a:lnTo>
                    <a:pt x="259" y="1595"/>
                  </a:lnTo>
                  <a:lnTo>
                    <a:pt x="251" y="1576"/>
                  </a:lnTo>
                  <a:lnTo>
                    <a:pt x="237" y="1562"/>
                  </a:lnTo>
                  <a:lnTo>
                    <a:pt x="220" y="1554"/>
                  </a:lnTo>
                  <a:lnTo>
                    <a:pt x="201" y="1549"/>
                  </a:lnTo>
                  <a:lnTo>
                    <a:pt x="184" y="1552"/>
                  </a:lnTo>
                  <a:lnTo>
                    <a:pt x="170" y="1562"/>
                  </a:lnTo>
                  <a:lnTo>
                    <a:pt x="162" y="1578"/>
                  </a:lnTo>
                  <a:close/>
                  <a:moveTo>
                    <a:pt x="122" y="1605"/>
                  </a:moveTo>
                  <a:lnTo>
                    <a:pt x="109" y="1622"/>
                  </a:lnTo>
                  <a:lnTo>
                    <a:pt x="99" y="1638"/>
                  </a:lnTo>
                  <a:lnTo>
                    <a:pt x="90" y="1654"/>
                  </a:lnTo>
                  <a:lnTo>
                    <a:pt x="83" y="1668"/>
                  </a:lnTo>
                  <a:lnTo>
                    <a:pt x="77" y="1683"/>
                  </a:lnTo>
                  <a:lnTo>
                    <a:pt x="72" y="1699"/>
                  </a:lnTo>
                  <a:lnTo>
                    <a:pt x="67" y="1715"/>
                  </a:lnTo>
                  <a:lnTo>
                    <a:pt x="62" y="1732"/>
                  </a:lnTo>
                  <a:lnTo>
                    <a:pt x="76" y="1750"/>
                  </a:lnTo>
                  <a:lnTo>
                    <a:pt x="92" y="1764"/>
                  </a:lnTo>
                  <a:lnTo>
                    <a:pt x="109" y="1775"/>
                  </a:lnTo>
                  <a:lnTo>
                    <a:pt x="127" y="1785"/>
                  </a:lnTo>
                  <a:lnTo>
                    <a:pt x="143" y="1793"/>
                  </a:lnTo>
                  <a:lnTo>
                    <a:pt x="155" y="1804"/>
                  </a:lnTo>
                  <a:lnTo>
                    <a:pt x="166" y="1818"/>
                  </a:lnTo>
                  <a:lnTo>
                    <a:pt x="171" y="1837"/>
                  </a:lnTo>
                  <a:lnTo>
                    <a:pt x="177" y="1836"/>
                  </a:lnTo>
                  <a:lnTo>
                    <a:pt x="182" y="1832"/>
                  </a:lnTo>
                  <a:lnTo>
                    <a:pt x="189" y="1826"/>
                  </a:lnTo>
                  <a:lnTo>
                    <a:pt x="195" y="1820"/>
                  </a:lnTo>
                  <a:lnTo>
                    <a:pt x="201" y="1813"/>
                  </a:lnTo>
                  <a:lnTo>
                    <a:pt x="208" y="1806"/>
                  </a:lnTo>
                  <a:lnTo>
                    <a:pt x="214" y="1801"/>
                  </a:lnTo>
                  <a:lnTo>
                    <a:pt x="220" y="1795"/>
                  </a:lnTo>
                  <a:lnTo>
                    <a:pt x="212" y="1787"/>
                  </a:lnTo>
                  <a:lnTo>
                    <a:pt x="204" y="1777"/>
                  </a:lnTo>
                  <a:lnTo>
                    <a:pt x="194" y="1767"/>
                  </a:lnTo>
                  <a:lnTo>
                    <a:pt x="183" y="1759"/>
                  </a:lnTo>
                  <a:lnTo>
                    <a:pt x="174" y="1749"/>
                  </a:lnTo>
                  <a:lnTo>
                    <a:pt x="163" y="1739"/>
                  </a:lnTo>
                  <a:lnTo>
                    <a:pt x="152" y="1729"/>
                  </a:lnTo>
                  <a:lnTo>
                    <a:pt x="144" y="1717"/>
                  </a:lnTo>
                  <a:lnTo>
                    <a:pt x="135" y="1707"/>
                  </a:lnTo>
                  <a:lnTo>
                    <a:pt x="128" y="1695"/>
                  </a:lnTo>
                  <a:lnTo>
                    <a:pt x="121" y="1682"/>
                  </a:lnTo>
                  <a:lnTo>
                    <a:pt x="117" y="1668"/>
                  </a:lnTo>
                  <a:lnTo>
                    <a:pt x="115" y="1654"/>
                  </a:lnTo>
                  <a:lnTo>
                    <a:pt x="115" y="1638"/>
                  </a:lnTo>
                  <a:lnTo>
                    <a:pt x="117" y="1622"/>
                  </a:lnTo>
                  <a:lnTo>
                    <a:pt x="122" y="1605"/>
                  </a:lnTo>
                  <a:close/>
                  <a:moveTo>
                    <a:pt x="2330" y="1899"/>
                  </a:moveTo>
                  <a:lnTo>
                    <a:pt x="2332" y="1892"/>
                  </a:lnTo>
                  <a:lnTo>
                    <a:pt x="2334" y="1882"/>
                  </a:lnTo>
                  <a:lnTo>
                    <a:pt x="2337" y="1870"/>
                  </a:lnTo>
                  <a:lnTo>
                    <a:pt x="2341" y="1857"/>
                  </a:lnTo>
                  <a:lnTo>
                    <a:pt x="2344" y="1846"/>
                  </a:lnTo>
                  <a:lnTo>
                    <a:pt x="2348" y="1833"/>
                  </a:lnTo>
                  <a:lnTo>
                    <a:pt x="2349" y="1822"/>
                  </a:lnTo>
                  <a:lnTo>
                    <a:pt x="2349" y="1813"/>
                  </a:lnTo>
                  <a:lnTo>
                    <a:pt x="2365" y="1812"/>
                  </a:lnTo>
                  <a:lnTo>
                    <a:pt x="2384" y="1810"/>
                  </a:lnTo>
                  <a:lnTo>
                    <a:pt x="2405" y="1807"/>
                  </a:lnTo>
                  <a:lnTo>
                    <a:pt x="2429" y="1803"/>
                  </a:lnTo>
                  <a:lnTo>
                    <a:pt x="2450" y="1797"/>
                  </a:lnTo>
                  <a:lnTo>
                    <a:pt x="2471" y="1791"/>
                  </a:lnTo>
                  <a:lnTo>
                    <a:pt x="2488" y="1786"/>
                  </a:lnTo>
                  <a:lnTo>
                    <a:pt x="2500" y="1779"/>
                  </a:lnTo>
                  <a:lnTo>
                    <a:pt x="2495" y="1778"/>
                  </a:lnTo>
                  <a:lnTo>
                    <a:pt x="2491" y="1777"/>
                  </a:lnTo>
                  <a:lnTo>
                    <a:pt x="2487" y="1775"/>
                  </a:lnTo>
                  <a:lnTo>
                    <a:pt x="2484" y="1772"/>
                  </a:lnTo>
                  <a:lnTo>
                    <a:pt x="2479" y="1769"/>
                  </a:lnTo>
                  <a:lnTo>
                    <a:pt x="2475" y="1766"/>
                  </a:lnTo>
                  <a:lnTo>
                    <a:pt x="2471" y="1765"/>
                  </a:lnTo>
                  <a:lnTo>
                    <a:pt x="2466" y="1764"/>
                  </a:lnTo>
                  <a:lnTo>
                    <a:pt x="2478" y="1765"/>
                  </a:lnTo>
                  <a:lnTo>
                    <a:pt x="2492" y="1766"/>
                  </a:lnTo>
                  <a:lnTo>
                    <a:pt x="2506" y="1769"/>
                  </a:lnTo>
                  <a:lnTo>
                    <a:pt x="2522" y="1772"/>
                  </a:lnTo>
                  <a:lnTo>
                    <a:pt x="2538" y="1776"/>
                  </a:lnTo>
                  <a:lnTo>
                    <a:pt x="2554" y="1781"/>
                  </a:lnTo>
                  <a:lnTo>
                    <a:pt x="2571" y="1787"/>
                  </a:lnTo>
                  <a:lnTo>
                    <a:pt x="2588" y="1792"/>
                  </a:lnTo>
                  <a:lnTo>
                    <a:pt x="2606" y="1799"/>
                  </a:lnTo>
                  <a:lnTo>
                    <a:pt x="2623" y="1805"/>
                  </a:lnTo>
                  <a:lnTo>
                    <a:pt x="2639" y="1811"/>
                  </a:lnTo>
                  <a:lnTo>
                    <a:pt x="2655" y="1819"/>
                  </a:lnTo>
                  <a:lnTo>
                    <a:pt x="2671" y="1825"/>
                  </a:lnTo>
                  <a:lnTo>
                    <a:pt x="2685" y="1832"/>
                  </a:lnTo>
                  <a:lnTo>
                    <a:pt x="2699" y="1838"/>
                  </a:lnTo>
                  <a:lnTo>
                    <a:pt x="2710" y="1844"/>
                  </a:lnTo>
                  <a:lnTo>
                    <a:pt x="2727" y="1854"/>
                  </a:lnTo>
                  <a:lnTo>
                    <a:pt x="2741" y="1864"/>
                  </a:lnTo>
                  <a:lnTo>
                    <a:pt x="2756" y="1876"/>
                  </a:lnTo>
                  <a:lnTo>
                    <a:pt x="2771" y="1888"/>
                  </a:lnTo>
                  <a:lnTo>
                    <a:pt x="2785" y="1902"/>
                  </a:lnTo>
                  <a:lnTo>
                    <a:pt x="2798" y="1916"/>
                  </a:lnTo>
                  <a:lnTo>
                    <a:pt x="2811" y="1932"/>
                  </a:lnTo>
                  <a:lnTo>
                    <a:pt x="2823" y="1948"/>
                  </a:lnTo>
                  <a:lnTo>
                    <a:pt x="2832" y="1966"/>
                  </a:lnTo>
                  <a:lnTo>
                    <a:pt x="2842" y="1985"/>
                  </a:lnTo>
                  <a:lnTo>
                    <a:pt x="2851" y="2004"/>
                  </a:lnTo>
                  <a:lnTo>
                    <a:pt x="2857" y="2024"/>
                  </a:lnTo>
                  <a:lnTo>
                    <a:pt x="2862" y="2046"/>
                  </a:lnTo>
                  <a:lnTo>
                    <a:pt x="2867" y="2067"/>
                  </a:lnTo>
                  <a:lnTo>
                    <a:pt x="2869" y="2089"/>
                  </a:lnTo>
                  <a:lnTo>
                    <a:pt x="2870" y="2113"/>
                  </a:lnTo>
                  <a:lnTo>
                    <a:pt x="2842" y="2149"/>
                  </a:lnTo>
                  <a:lnTo>
                    <a:pt x="2834" y="2146"/>
                  </a:lnTo>
                  <a:lnTo>
                    <a:pt x="2825" y="2143"/>
                  </a:lnTo>
                  <a:lnTo>
                    <a:pt x="2814" y="2140"/>
                  </a:lnTo>
                  <a:lnTo>
                    <a:pt x="2804" y="2137"/>
                  </a:lnTo>
                  <a:lnTo>
                    <a:pt x="2792" y="2133"/>
                  </a:lnTo>
                  <a:lnTo>
                    <a:pt x="2780" y="2131"/>
                  </a:lnTo>
                  <a:lnTo>
                    <a:pt x="2766" y="2128"/>
                  </a:lnTo>
                  <a:lnTo>
                    <a:pt x="2753" y="2126"/>
                  </a:lnTo>
                  <a:lnTo>
                    <a:pt x="2739" y="2124"/>
                  </a:lnTo>
                  <a:lnTo>
                    <a:pt x="2725" y="2122"/>
                  </a:lnTo>
                  <a:lnTo>
                    <a:pt x="2710" y="2119"/>
                  </a:lnTo>
                  <a:lnTo>
                    <a:pt x="2695" y="2118"/>
                  </a:lnTo>
                  <a:lnTo>
                    <a:pt x="2682" y="2117"/>
                  </a:lnTo>
                  <a:lnTo>
                    <a:pt x="2667" y="2116"/>
                  </a:lnTo>
                  <a:lnTo>
                    <a:pt x="2652" y="2116"/>
                  </a:lnTo>
                  <a:lnTo>
                    <a:pt x="2638" y="2116"/>
                  </a:lnTo>
                  <a:lnTo>
                    <a:pt x="2647" y="2110"/>
                  </a:lnTo>
                  <a:lnTo>
                    <a:pt x="2657" y="2102"/>
                  </a:lnTo>
                  <a:lnTo>
                    <a:pt x="2669" y="2094"/>
                  </a:lnTo>
                  <a:lnTo>
                    <a:pt x="2679" y="2084"/>
                  </a:lnTo>
                  <a:lnTo>
                    <a:pt x="2691" y="2074"/>
                  </a:lnTo>
                  <a:lnTo>
                    <a:pt x="2703" y="2064"/>
                  </a:lnTo>
                  <a:lnTo>
                    <a:pt x="2716" y="2052"/>
                  </a:lnTo>
                  <a:lnTo>
                    <a:pt x="2728" y="2041"/>
                  </a:lnTo>
                  <a:lnTo>
                    <a:pt x="2739" y="2030"/>
                  </a:lnTo>
                  <a:lnTo>
                    <a:pt x="2751" y="2018"/>
                  </a:lnTo>
                  <a:lnTo>
                    <a:pt x="2763" y="2006"/>
                  </a:lnTo>
                  <a:lnTo>
                    <a:pt x="2774" y="1995"/>
                  </a:lnTo>
                  <a:lnTo>
                    <a:pt x="2783" y="1985"/>
                  </a:lnTo>
                  <a:lnTo>
                    <a:pt x="2793" y="1974"/>
                  </a:lnTo>
                  <a:lnTo>
                    <a:pt x="2801" y="1964"/>
                  </a:lnTo>
                  <a:lnTo>
                    <a:pt x="2809" y="1955"/>
                  </a:lnTo>
                  <a:lnTo>
                    <a:pt x="2795" y="1938"/>
                  </a:lnTo>
                  <a:lnTo>
                    <a:pt x="2779" y="1922"/>
                  </a:lnTo>
                  <a:lnTo>
                    <a:pt x="2764" y="1907"/>
                  </a:lnTo>
                  <a:lnTo>
                    <a:pt x="2747" y="1893"/>
                  </a:lnTo>
                  <a:lnTo>
                    <a:pt x="2729" y="1879"/>
                  </a:lnTo>
                  <a:lnTo>
                    <a:pt x="2712" y="1867"/>
                  </a:lnTo>
                  <a:lnTo>
                    <a:pt x="2692" y="1855"/>
                  </a:lnTo>
                  <a:lnTo>
                    <a:pt x="2673" y="1844"/>
                  </a:lnTo>
                  <a:lnTo>
                    <a:pt x="2653" y="1835"/>
                  </a:lnTo>
                  <a:lnTo>
                    <a:pt x="2632" y="1826"/>
                  </a:lnTo>
                  <a:lnTo>
                    <a:pt x="2612" y="1818"/>
                  </a:lnTo>
                  <a:lnTo>
                    <a:pt x="2591" y="1809"/>
                  </a:lnTo>
                  <a:lnTo>
                    <a:pt x="2569" y="1802"/>
                  </a:lnTo>
                  <a:lnTo>
                    <a:pt x="2548" y="1794"/>
                  </a:lnTo>
                  <a:lnTo>
                    <a:pt x="2526" y="1787"/>
                  </a:lnTo>
                  <a:lnTo>
                    <a:pt x="2504" y="1780"/>
                  </a:lnTo>
                  <a:lnTo>
                    <a:pt x="2499" y="1784"/>
                  </a:lnTo>
                  <a:lnTo>
                    <a:pt x="2491" y="1789"/>
                  </a:lnTo>
                  <a:lnTo>
                    <a:pt x="2481" y="1794"/>
                  </a:lnTo>
                  <a:lnTo>
                    <a:pt x="2471" y="1801"/>
                  </a:lnTo>
                  <a:lnTo>
                    <a:pt x="2459" y="1807"/>
                  </a:lnTo>
                  <a:lnTo>
                    <a:pt x="2447" y="1815"/>
                  </a:lnTo>
                  <a:lnTo>
                    <a:pt x="2433" y="1823"/>
                  </a:lnTo>
                  <a:lnTo>
                    <a:pt x="2420" y="1832"/>
                  </a:lnTo>
                  <a:lnTo>
                    <a:pt x="2406" y="1840"/>
                  </a:lnTo>
                  <a:lnTo>
                    <a:pt x="2393" y="1849"/>
                  </a:lnTo>
                  <a:lnTo>
                    <a:pt x="2380" y="1858"/>
                  </a:lnTo>
                  <a:lnTo>
                    <a:pt x="2368" y="1867"/>
                  </a:lnTo>
                  <a:lnTo>
                    <a:pt x="2356" y="1876"/>
                  </a:lnTo>
                  <a:lnTo>
                    <a:pt x="2347" y="1884"/>
                  </a:lnTo>
                  <a:lnTo>
                    <a:pt x="2338" y="1892"/>
                  </a:lnTo>
                  <a:lnTo>
                    <a:pt x="2330" y="1899"/>
                  </a:lnTo>
                  <a:close/>
                  <a:moveTo>
                    <a:pt x="243" y="1763"/>
                  </a:moveTo>
                  <a:lnTo>
                    <a:pt x="237" y="1775"/>
                  </a:lnTo>
                  <a:lnTo>
                    <a:pt x="229" y="1786"/>
                  </a:lnTo>
                  <a:lnTo>
                    <a:pt x="219" y="1797"/>
                  </a:lnTo>
                  <a:lnTo>
                    <a:pt x="208" y="1807"/>
                  </a:lnTo>
                  <a:lnTo>
                    <a:pt x="197" y="1818"/>
                  </a:lnTo>
                  <a:lnTo>
                    <a:pt x="188" y="1826"/>
                  </a:lnTo>
                  <a:lnTo>
                    <a:pt x="179" y="1834"/>
                  </a:lnTo>
                  <a:lnTo>
                    <a:pt x="173" y="1841"/>
                  </a:lnTo>
                  <a:lnTo>
                    <a:pt x="188" y="1849"/>
                  </a:lnTo>
                  <a:lnTo>
                    <a:pt x="204" y="1854"/>
                  </a:lnTo>
                  <a:lnTo>
                    <a:pt x="222" y="1857"/>
                  </a:lnTo>
                  <a:lnTo>
                    <a:pt x="240" y="1857"/>
                  </a:lnTo>
                  <a:lnTo>
                    <a:pt x="259" y="1856"/>
                  </a:lnTo>
                  <a:lnTo>
                    <a:pt x="279" y="1854"/>
                  </a:lnTo>
                  <a:lnTo>
                    <a:pt x="298" y="1852"/>
                  </a:lnTo>
                  <a:lnTo>
                    <a:pt x="316" y="1849"/>
                  </a:lnTo>
                  <a:lnTo>
                    <a:pt x="301" y="1846"/>
                  </a:lnTo>
                  <a:lnTo>
                    <a:pt x="288" y="1840"/>
                  </a:lnTo>
                  <a:lnTo>
                    <a:pt x="276" y="1833"/>
                  </a:lnTo>
                  <a:lnTo>
                    <a:pt x="267" y="1823"/>
                  </a:lnTo>
                  <a:lnTo>
                    <a:pt x="258" y="1811"/>
                  </a:lnTo>
                  <a:lnTo>
                    <a:pt x="252" y="1797"/>
                  </a:lnTo>
                  <a:lnTo>
                    <a:pt x="246" y="1781"/>
                  </a:lnTo>
                  <a:lnTo>
                    <a:pt x="243" y="1763"/>
                  </a:lnTo>
                  <a:close/>
                  <a:moveTo>
                    <a:pt x="968" y="0"/>
                  </a:moveTo>
                  <a:lnTo>
                    <a:pt x="956" y="15"/>
                  </a:lnTo>
                  <a:lnTo>
                    <a:pt x="943" y="31"/>
                  </a:lnTo>
                  <a:lnTo>
                    <a:pt x="930" y="46"/>
                  </a:lnTo>
                  <a:lnTo>
                    <a:pt x="919" y="60"/>
                  </a:lnTo>
                  <a:lnTo>
                    <a:pt x="907" y="75"/>
                  </a:lnTo>
                  <a:lnTo>
                    <a:pt x="895" y="89"/>
                  </a:lnTo>
                  <a:lnTo>
                    <a:pt x="884" y="102"/>
                  </a:lnTo>
                  <a:lnTo>
                    <a:pt x="875" y="114"/>
                  </a:lnTo>
                  <a:lnTo>
                    <a:pt x="875" y="125"/>
                  </a:lnTo>
                  <a:lnTo>
                    <a:pt x="879" y="134"/>
                  </a:lnTo>
                  <a:lnTo>
                    <a:pt x="887" y="144"/>
                  </a:lnTo>
                  <a:lnTo>
                    <a:pt x="895" y="151"/>
                  </a:lnTo>
                  <a:lnTo>
                    <a:pt x="906" y="159"/>
                  </a:lnTo>
                  <a:lnTo>
                    <a:pt x="918" y="166"/>
                  </a:lnTo>
                  <a:lnTo>
                    <a:pt x="929" y="173"/>
                  </a:lnTo>
                  <a:lnTo>
                    <a:pt x="940" y="180"/>
                  </a:lnTo>
                  <a:lnTo>
                    <a:pt x="952" y="183"/>
                  </a:lnTo>
                  <a:lnTo>
                    <a:pt x="965" y="186"/>
                  </a:lnTo>
                  <a:lnTo>
                    <a:pt x="976" y="187"/>
                  </a:lnTo>
                  <a:lnTo>
                    <a:pt x="989" y="188"/>
                  </a:lnTo>
                  <a:lnTo>
                    <a:pt x="1001" y="189"/>
                  </a:lnTo>
                  <a:lnTo>
                    <a:pt x="1013" y="189"/>
                  </a:lnTo>
                  <a:lnTo>
                    <a:pt x="1026" y="190"/>
                  </a:lnTo>
                  <a:lnTo>
                    <a:pt x="1037" y="190"/>
                  </a:lnTo>
                  <a:lnTo>
                    <a:pt x="1050" y="190"/>
                  </a:lnTo>
                  <a:lnTo>
                    <a:pt x="1062" y="189"/>
                  </a:lnTo>
                  <a:lnTo>
                    <a:pt x="1074" y="189"/>
                  </a:lnTo>
                  <a:lnTo>
                    <a:pt x="1087" y="189"/>
                  </a:lnTo>
                  <a:lnTo>
                    <a:pt x="1098" y="189"/>
                  </a:lnTo>
                  <a:lnTo>
                    <a:pt x="1111" y="189"/>
                  </a:lnTo>
                  <a:lnTo>
                    <a:pt x="1123" y="189"/>
                  </a:lnTo>
                  <a:lnTo>
                    <a:pt x="1136" y="190"/>
                  </a:lnTo>
                  <a:lnTo>
                    <a:pt x="1147" y="194"/>
                  </a:lnTo>
                  <a:lnTo>
                    <a:pt x="1155" y="199"/>
                  </a:lnTo>
                  <a:lnTo>
                    <a:pt x="1163" y="207"/>
                  </a:lnTo>
                  <a:lnTo>
                    <a:pt x="1169" y="214"/>
                  </a:lnTo>
                  <a:lnTo>
                    <a:pt x="1174" y="223"/>
                  </a:lnTo>
                  <a:lnTo>
                    <a:pt x="1179" y="233"/>
                  </a:lnTo>
                  <a:lnTo>
                    <a:pt x="1182" y="242"/>
                  </a:lnTo>
                  <a:lnTo>
                    <a:pt x="1184" y="253"/>
                  </a:lnTo>
                  <a:lnTo>
                    <a:pt x="1186" y="271"/>
                  </a:lnTo>
                  <a:lnTo>
                    <a:pt x="1193" y="290"/>
                  </a:lnTo>
                  <a:lnTo>
                    <a:pt x="1201" y="309"/>
                  </a:lnTo>
                  <a:lnTo>
                    <a:pt x="1211" y="328"/>
                  </a:lnTo>
                  <a:lnTo>
                    <a:pt x="1222" y="345"/>
                  </a:lnTo>
                  <a:lnTo>
                    <a:pt x="1232" y="362"/>
                  </a:lnTo>
                  <a:lnTo>
                    <a:pt x="1241" y="377"/>
                  </a:lnTo>
                  <a:lnTo>
                    <a:pt x="1247" y="390"/>
                  </a:lnTo>
                  <a:lnTo>
                    <a:pt x="1249" y="402"/>
                  </a:lnTo>
                  <a:lnTo>
                    <a:pt x="1253" y="414"/>
                  </a:lnTo>
                  <a:lnTo>
                    <a:pt x="1256" y="428"/>
                  </a:lnTo>
                  <a:lnTo>
                    <a:pt x="1259" y="442"/>
                  </a:lnTo>
                  <a:lnTo>
                    <a:pt x="1262" y="456"/>
                  </a:lnTo>
                  <a:lnTo>
                    <a:pt x="1265" y="471"/>
                  </a:lnTo>
                  <a:lnTo>
                    <a:pt x="1270" y="486"/>
                  </a:lnTo>
                  <a:lnTo>
                    <a:pt x="1274" y="501"/>
                  </a:lnTo>
                  <a:lnTo>
                    <a:pt x="1278" y="515"/>
                  </a:lnTo>
                  <a:lnTo>
                    <a:pt x="1284" y="530"/>
                  </a:lnTo>
                  <a:lnTo>
                    <a:pt x="1288" y="544"/>
                  </a:lnTo>
                  <a:lnTo>
                    <a:pt x="1293" y="557"/>
                  </a:lnTo>
                  <a:lnTo>
                    <a:pt x="1300" y="569"/>
                  </a:lnTo>
                  <a:lnTo>
                    <a:pt x="1306" y="581"/>
                  </a:lnTo>
                  <a:lnTo>
                    <a:pt x="1313" y="593"/>
                  </a:lnTo>
                  <a:lnTo>
                    <a:pt x="1319" y="603"/>
                  </a:lnTo>
                  <a:lnTo>
                    <a:pt x="1355" y="651"/>
                  </a:lnTo>
                  <a:lnTo>
                    <a:pt x="1366" y="655"/>
                  </a:lnTo>
                  <a:lnTo>
                    <a:pt x="1375" y="661"/>
                  </a:lnTo>
                  <a:lnTo>
                    <a:pt x="1383" y="670"/>
                  </a:lnTo>
                  <a:lnTo>
                    <a:pt x="1391" y="681"/>
                  </a:lnTo>
                  <a:lnTo>
                    <a:pt x="1397" y="694"/>
                  </a:lnTo>
                  <a:lnTo>
                    <a:pt x="1405" y="709"/>
                  </a:lnTo>
                  <a:lnTo>
                    <a:pt x="1411" y="725"/>
                  </a:lnTo>
                  <a:lnTo>
                    <a:pt x="1418" y="742"/>
                  </a:lnTo>
                  <a:lnTo>
                    <a:pt x="1426" y="761"/>
                  </a:lnTo>
                  <a:lnTo>
                    <a:pt x="1433" y="781"/>
                  </a:lnTo>
                  <a:lnTo>
                    <a:pt x="1443" y="803"/>
                  </a:lnTo>
                  <a:lnTo>
                    <a:pt x="1453" y="824"/>
                  </a:lnTo>
                  <a:lnTo>
                    <a:pt x="1465" y="847"/>
                  </a:lnTo>
                  <a:lnTo>
                    <a:pt x="1478" y="870"/>
                  </a:lnTo>
                  <a:lnTo>
                    <a:pt x="1493" y="894"/>
                  </a:lnTo>
                  <a:lnTo>
                    <a:pt x="1511" y="917"/>
                  </a:lnTo>
                  <a:lnTo>
                    <a:pt x="1503" y="895"/>
                  </a:lnTo>
                  <a:lnTo>
                    <a:pt x="1496" y="871"/>
                  </a:lnTo>
                  <a:lnTo>
                    <a:pt x="1487" y="848"/>
                  </a:lnTo>
                  <a:lnTo>
                    <a:pt x="1480" y="823"/>
                  </a:lnTo>
                  <a:lnTo>
                    <a:pt x="1472" y="797"/>
                  </a:lnTo>
                  <a:lnTo>
                    <a:pt x="1463" y="772"/>
                  </a:lnTo>
                  <a:lnTo>
                    <a:pt x="1456" y="746"/>
                  </a:lnTo>
                  <a:lnTo>
                    <a:pt x="1447" y="719"/>
                  </a:lnTo>
                  <a:lnTo>
                    <a:pt x="1440" y="693"/>
                  </a:lnTo>
                  <a:lnTo>
                    <a:pt x="1432" y="667"/>
                  </a:lnTo>
                  <a:lnTo>
                    <a:pt x="1424" y="641"/>
                  </a:lnTo>
                  <a:lnTo>
                    <a:pt x="1416" y="615"/>
                  </a:lnTo>
                  <a:lnTo>
                    <a:pt x="1409" y="590"/>
                  </a:lnTo>
                  <a:lnTo>
                    <a:pt x="1401" y="565"/>
                  </a:lnTo>
                  <a:lnTo>
                    <a:pt x="1394" y="542"/>
                  </a:lnTo>
                  <a:lnTo>
                    <a:pt x="1386" y="518"/>
                  </a:lnTo>
                  <a:lnTo>
                    <a:pt x="1382" y="504"/>
                  </a:lnTo>
                  <a:lnTo>
                    <a:pt x="1376" y="489"/>
                  </a:lnTo>
                  <a:lnTo>
                    <a:pt x="1369" y="472"/>
                  </a:lnTo>
                  <a:lnTo>
                    <a:pt x="1363" y="455"/>
                  </a:lnTo>
                  <a:lnTo>
                    <a:pt x="1355" y="436"/>
                  </a:lnTo>
                  <a:lnTo>
                    <a:pt x="1347" y="417"/>
                  </a:lnTo>
                  <a:lnTo>
                    <a:pt x="1338" y="397"/>
                  </a:lnTo>
                  <a:lnTo>
                    <a:pt x="1330" y="377"/>
                  </a:lnTo>
                  <a:lnTo>
                    <a:pt x="1320" y="357"/>
                  </a:lnTo>
                  <a:lnTo>
                    <a:pt x="1310" y="336"/>
                  </a:lnTo>
                  <a:lnTo>
                    <a:pt x="1302" y="316"/>
                  </a:lnTo>
                  <a:lnTo>
                    <a:pt x="1292" y="297"/>
                  </a:lnTo>
                  <a:lnTo>
                    <a:pt x="1283" y="277"/>
                  </a:lnTo>
                  <a:lnTo>
                    <a:pt x="1274" y="259"/>
                  </a:lnTo>
                  <a:lnTo>
                    <a:pt x="1265" y="242"/>
                  </a:lnTo>
                  <a:lnTo>
                    <a:pt x="1257" y="226"/>
                  </a:lnTo>
                  <a:lnTo>
                    <a:pt x="1241" y="198"/>
                  </a:lnTo>
                  <a:lnTo>
                    <a:pt x="1228" y="176"/>
                  </a:lnTo>
                  <a:lnTo>
                    <a:pt x="1216" y="159"/>
                  </a:lnTo>
                  <a:lnTo>
                    <a:pt x="1207" y="146"/>
                  </a:lnTo>
                  <a:lnTo>
                    <a:pt x="1199" y="135"/>
                  </a:lnTo>
                  <a:lnTo>
                    <a:pt x="1195" y="129"/>
                  </a:lnTo>
                  <a:lnTo>
                    <a:pt x="1194" y="122"/>
                  </a:lnTo>
                  <a:lnTo>
                    <a:pt x="1196" y="118"/>
                  </a:lnTo>
                  <a:lnTo>
                    <a:pt x="1179" y="128"/>
                  </a:lnTo>
                  <a:lnTo>
                    <a:pt x="1162" y="136"/>
                  </a:lnTo>
                  <a:lnTo>
                    <a:pt x="1144" y="142"/>
                  </a:lnTo>
                  <a:lnTo>
                    <a:pt x="1126" y="146"/>
                  </a:lnTo>
                  <a:lnTo>
                    <a:pt x="1108" y="149"/>
                  </a:lnTo>
                  <a:lnTo>
                    <a:pt x="1090" y="150"/>
                  </a:lnTo>
                  <a:lnTo>
                    <a:pt x="1072" y="150"/>
                  </a:lnTo>
                  <a:lnTo>
                    <a:pt x="1053" y="148"/>
                  </a:lnTo>
                  <a:lnTo>
                    <a:pt x="1035" y="145"/>
                  </a:lnTo>
                  <a:lnTo>
                    <a:pt x="1017" y="141"/>
                  </a:lnTo>
                  <a:lnTo>
                    <a:pt x="999" y="135"/>
                  </a:lnTo>
                  <a:lnTo>
                    <a:pt x="982" y="130"/>
                  </a:lnTo>
                  <a:lnTo>
                    <a:pt x="966" y="122"/>
                  </a:lnTo>
                  <a:lnTo>
                    <a:pt x="949" y="114"/>
                  </a:lnTo>
                  <a:lnTo>
                    <a:pt x="934" y="105"/>
                  </a:lnTo>
                  <a:lnTo>
                    <a:pt x="919" y="96"/>
                  </a:lnTo>
                  <a:lnTo>
                    <a:pt x="927" y="84"/>
                  </a:lnTo>
                  <a:lnTo>
                    <a:pt x="934" y="72"/>
                  </a:lnTo>
                  <a:lnTo>
                    <a:pt x="941" y="61"/>
                  </a:lnTo>
                  <a:lnTo>
                    <a:pt x="946" y="51"/>
                  </a:lnTo>
                  <a:lnTo>
                    <a:pt x="953" y="40"/>
                  </a:lnTo>
                  <a:lnTo>
                    <a:pt x="958" y="28"/>
                  </a:lnTo>
                  <a:lnTo>
                    <a:pt x="963" y="14"/>
                  </a:lnTo>
                  <a:lnTo>
                    <a:pt x="968" y="0"/>
                  </a:lnTo>
                  <a:close/>
                  <a:moveTo>
                    <a:pt x="954" y="1590"/>
                  </a:moveTo>
                  <a:lnTo>
                    <a:pt x="960" y="1584"/>
                  </a:lnTo>
                  <a:lnTo>
                    <a:pt x="967" y="1578"/>
                  </a:lnTo>
                  <a:lnTo>
                    <a:pt x="972" y="1572"/>
                  </a:lnTo>
                  <a:lnTo>
                    <a:pt x="979" y="1566"/>
                  </a:lnTo>
                  <a:lnTo>
                    <a:pt x="983" y="1561"/>
                  </a:lnTo>
                  <a:lnTo>
                    <a:pt x="986" y="1555"/>
                  </a:lnTo>
                  <a:lnTo>
                    <a:pt x="988" y="1549"/>
                  </a:lnTo>
                  <a:lnTo>
                    <a:pt x="989" y="1543"/>
                  </a:lnTo>
                  <a:lnTo>
                    <a:pt x="929" y="1463"/>
                  </a:lnTo>
                  <a:lnTo>
                    <a:pt x="937" y="1464"/>
                  </a:lnTo>
                  <a:lnTo>
                    <a:pt x="945" y="1468"/>
                  </a:lnTo>
                  <a:lnTo>
                    <a:pt x="956" y="1473"/>
                  </a:lnTo>
                  <a:lnTo>
                    <a:pt x="968" y="1481"/>
                  </a:lnTo>
                  <a:lnTo>
                    <a:pt x="980" y="1489"/>
                  </a:lnTo>
                  <a:lnTo>
                    <a:pt x="992" y="1499"/>
                  </a:lnTo>
                  <a:lnTo>
                    <a:pt x="1006" y="1510"/>
                  </a:lnTo>
                  <a:lnTo>
                    <a:pt x="1020" y="1520"/>
                  </a:lnTo>
                  <a:lnTo>
                    <a:pt x="1033" y="1532"/>
                  </a:lnTo>
                  <a:lnTo>
                    <a:pt x="1047" y="1543"/>
                  </a:lnTo>
                  <a:lnTo>
                    <a:pt x="1060" y="1554"/>
                  </a:lnTo>
                  <a:lnTo>
                    <a:pt x="1073" y="1563"/>
                  </a:lnTo>
                  <a:lnTo>
                    <a:pt x="1085" y="1573"/>
                  </a:lnTo>
                  <a:lnTo>
                    <a:pt x="1094" y="1580"/>
                  </a:lnTo>
                  <a:lnTo>
                    <a:pt x="1104" y="1586"/>
                  </a:lnTo>
                  <a:lnTo>
                    <a:pt x="1111" y="1590"/>
                  </a:lnTo>
                  <a:lnTo>
                    <a:pt x="1122" y="1597"/>
                  </a:lnTo>
                  <a:lnTo>
                    <a:pt x="1132" y="1606"/>
                  </a:lnTo>
                  <a:lnTo>
                    <a:pt x="1141" y="1618"/>
                  </a:lnTo>
                  <a:lnTo>
                    <a:pt x="1150" y="1631"/>
                  </a:lnTo>
                  <a:lnTo>
                    <a:pt x="1157" y="1646"/>
                  </a:lnTo>
                  <a:lnTo>
                    <a:pt x="1165" y="1662"/>
                  </a:lnTo>
                  <a:lnTo>
                    <a:pt x="1172" y="1678"/>
                  </a:lnTo>
                  <a:lnTo>
                    <a:pt x="1180" y="1695"/>
                  </a:lnTo>
                  <a:lnTo>
                    <a:pt x="1187" y="1712"/>
                  </a:lnTo>
                  <a:lnTo>
                    <a:pt x="1195" y="1729"/>
                  </a:lnTo>
                  <a:lnTo>
                    <a:pt x="1203" y="1746"/>
                  </a:lnTo>
                  <a:lnTo>
                    <a:pt x="1213" y="1762"/>
                  </a:lnTo>
                  <a:lnTo>
                    <a:pt x="1223" y="1777"/>
                  </a:lnTo>
                  <a:lnTo>
                    <a:pt x="1233" y="1790"/>
                  </a:lnTo>
                  <a:lnTo>
                    <a:pt x="1245" y="1803"/>
                  </a:lnTo>
                  <a:lnTo>
                    <a:pt x="1258" y="1812"/>
                  </a:lnTo>
                  <a:lnTo>
                    <a:pt x="1268" y="1818"/>
                  </a:lnTo>
                  <a:lnTo>
                    <a:pt x="1278" y="1824"/>
                  </a:lnTo>
                  <a:lnTo>
                    <a:pt x="1288" y="1832"/>
                  </a:lnTo>
                  <a:lnTo>
                    <a:pt x="1298" y="1839"/>
                  </a:lnTo>
                  <a:lnTo>
                    <a:pt x="1306" y="1850"/>
                  </a:lnTo>
                  <a:lnTo>
                    <a:pt x="1313" y="1861"/>
                  </a:lnTo>
                  <a:lnTo>
                    <a:pt x="1317" y="1874"/>
                  </a:lnTo>
                  <a:lnTo>
                    <a:pt x="1319" y="1892"/>
                  </a:lnTo>
                  <a:lnTo>
                    <a:pt x="1315" y="1890"/>
                  </a:lnTo>
                  <a:lnTo>
                    <a:pt x="1310" y="1889"/>
                  </a:lnTo>
                  <a:lnTo>
                    <a:pt x="1305" y="1886"/>
                  </a:lnTo>
                  <a:lnTo>
                    <a:pt x="1301" y="1883"/>
                  </a:lnTo>
                  <a:lnTo>
                    <a:pt x="1296" y="1881"/>
                  </a:lnTo>
                  <a:lnTo>
                    <a:pt x="1291" y="1878"/>
                  </a:lnTo>
                  <a:lnTo>
                    <a:pt x="1287" y="1877"/>
                  </a:lnTo>
                  <a:lnTo>
                    <a:pt x="1283" y="1876"/>
                  </a:lnTo>
                  <a:lnTo>
                    <a:pt x="1201" y="1910"/>
                  </a:lnTo>
                  <a:lnTo>
                    <a:pt x="1198" y="1898"/>
                  </a:lnTo>
                  <a:lnTo>
                    <a:pt x="1198" y="1886"/>
                  </a:lnTo>
                  <a:lnTo>
                    <a:pt x="1198" y="1874"/>
                  </a:lnTo>
                  <a:lnTo>
                    <a:pt x="1199" y="1864"/>
                  </a:lnTo>
                  <a:lnTo>
                    <a:pt x="1198" y="1853"/>
                  </a:lnTo>
                  <a:lnTo>
                    <a:pt x="1195" y="1844"/>
                  </a:lnTo>
                  <a:lnTo>
                    <a:pt x="1188" y="1836"/>
                  </a:lnTo>
                  <a:lnTo>
                    <a:pt x="1178" y="1830"/>
                  </a:lnTo>
                  <a:lnTo>
                    <a:pt x="1171" y="1782"/>
                  </a:lnTo>
                  <a:lnTo>
                    <a:pt x="1165" y="1745"/>
                  </a:lnTo>
                  <a:lnTo>
                    <a:pt x="1159" y="1717"/>
                  </a:lnTo>
                  <a:lnTo>
                    <a:pt x="1152" y="1698"/>
                  </a:lnTo>
                  <a:lnTo>
                    <a:pt x="1144" y="1687"/>
                  </a:lnTo>
                  <a:lnTo>
                    <a:pt x="1135" y="1682"/>
                  </a:lnTo>
                  <a:lnTo>
                    <a:pt x="1123" y="1683"/>
                  </a:lnTo>
                  <a:lnTo>
                    <a:pt x="1110" y="1689"/>
                  </a:lnTo>
                  <a:lnTo>
                    <a:pt x="1095" y="1696"/>
                  </a:lnTo>
                  <a:lnTo>
                    <a:pt x="1078" y="1701"/>
                  </a:lnTo>
                  <a:lnTo>
                    <a:pt x="1062" y="1704"/>
                  </a:lnTo>
                  <a:lnTo>
                    <a:pt x="1046" y="1705"/>
                  </a:lnTo>
                  <a:lnTo>
                    <a:pt x="1031" y="1704"/>
                  </a:lnTo>
                  <a:lnTo>
                    <a:pt x="1019" y="1702"/>
                  </a:lnTo>
                  <a:lnTo>
                    <a:pt x="1009" y="1698"/>
                  </a:lnTo>
                  <a:lnTo>
                    <a:pt x="1002" y="1693"/>
                  </a:lnTo>
                  <a:lnTo>
                    <a:pt x="991" y="1698"/>
                  </a:lnTo>
                  <a:lnTo>
                    <a:pt x="977" y="1701"/>
                  </a:lnTo>
                  <a:lnTo>
                    <a:pt x="961" y="1702"/>
                  </a:lnTo>
                  <a:lnTo>
                    <a:pt x="943" y="1702"/>
                  </a:lnTo>
                  <a:lnTo>
                    <a:pt x="924" y="1702"/>
                  </a:lnTo>
                  <a:lnTo>
                    <a:pt x="905" y="1703"/>
                  </a:lnTo>
                  <a:lnTo>
                    <a:pt x="885" y="1705"/>
                  </a:lnTo>
                  <a:lnTo>
                    <a:pt x="868" y="1711"/>
                  </a:lnTo>
                  <a:lnTo>
                    <a:pt x="875" y="1707"/>
                  </a:lnTo>
                  <a:lnTo>
                    <a:pt x="880" y="1704"/>
                  </a:lnTo>
                  <a:lnTo>
                    <a:pt x="885" y="1702"/>
                  </a:lnTo>
                  <a:lnTo>
                    <a:pt x="891" y="1699"/>
                  </a:lnTo>
                  <a:lnTo>
                    <a:pt x="896" y="1697"/>
                  </a:lnTo>
                  <a:lnTo>
                    <a:pt x="900" y="1695"/>
                  </a:lnTo>
                  <a:lnTo>
                    <a:pt x="904" y="1690"/>
                  </a:lnTo>
                  <a:lnTo>
                    <a:pt x="906" y="1685"/>
                  </a:lnTo>
                  <a:lnTo>
                    <a:pt x="920" y="1692"/>
                  </a:lnTo>
                  <a:lnTo>
                    <a:pt x="934" y="1695"/>
                  </a:lnTo>
                  <a:lnTo>
                    <a:pt x="948" y="1697"/>
                  </a:lnTo>
                  <a:lnTo>
                    <a:pt x="961" y="1696"/>
                  </a:lnTo>
                  <a:lnTo>
                    <a:pt x="974" y="1695"/>
                  </a:lnTo>
                  <a:lnTo>
                    <a:pt x="986" y="1692"/>
                  </a:lnTo>
                  <a:lnTo>
                    <a:pt x="996" y="1688"/>
                  </a:lnTo>
                  <a:lnTo>
                    <a:pt x="1002" y="1685"/>
                  </a:lnTo>
                  <a:lnTo>
                    <a:pt x="1016" y="1692"/>
                  </a:lnTo>
                  <a:lnTo>
                    <a:pt x="1034" y="1695"/>
                  </a:lnTo>
                  <a:lnTo>
                    <a:pt x="1055" y="1695"/>
                  </a:lnTo>
                  <a:lnTo>
                    <a:pt x="1074" y="1692"/>
                  </a:lnTo>
                  <a:lnTo>
                    <a:pt x="1093" y="1686"/>
                  </a:lnTo>
                  <a:lnTo>
                    <a:pt x="1108" y="1677"/>
                  </a:lnTo>
                  <a:lnTo>
                    <a:pt x="1119" y="1665"/>
                  </a:lnTo>
                  <a:lnTo>
                    <a:pt x="1123" y="1651"/>
                  </a:lnTo>
                  <a:lnTo>
                    <a:pt x="1120" y="1639"/>
                  </a:lnTo>
                  <a:lnTo>
                    <a:pt x="1114" y="1628"/>
                  </a:lnTo>
                  <a:lnTo>
                    <a:pt x="1106" y="1620"/>
                  </a:lnTo>
                  <a:lnTo>
                    <a:pt x="1096" y="1612"/>
                  </a:lnTo>
                  <a:lnTo>
                    <a:pt x="1087" y="1607"/>
                  </a:lnTo>
                  <a:lnTo>
                    <a:pt x="1077" y="1604"/>
                  </a:lnTo>
                  <a:lnTo>
                    <a:pt x="1067" y="1603"/>
                  </a:lnTo>
                  <a:lnTo>
                    <a:pt x="1061" y="1604"/>
                  </a:lnTo>
                  <a:lnTo>
                    <a:pt x="1055" y="1598"/>
                  </a:lnTo>
                  <a:lnTo>
                    <a:pt x="1048" y="1594"/>
                  </a:lnTo>
                  <a:lnTo>
                    <a:pt x="1043" y="1592"/>
                  </a:lnTo>
                  <a:lnTo>
                    <a:pt x="1037" y="1590"/>
                  </a:lnTo>
                  <a:lnTo>
                    <a:pt x="1031" y="1590"/>
                  </a:lnTo>
                  <a:lnTo>
                    <a:pt x="1026" y="1589"/>
                  </a:lnTo>
                  <a:lnTo>
                    <a:pt x="1020" y="1590"/>
                  </a:lnTo>
                  <a:lnTo>
                    <a:pt x="1014" y="1590"/>
                  </a:lnTo>
                  <a:lnTo>
                    <a:pt x="954" y="1590"/>
                  </a:lnTo>
                  <a:close/>
                  <a:moveTo>
                    <a:pt x="2707" y="2064"/>
                  </a:moveTo>
                  <a:lnTo>
                    <a:pt x="2730" y="2063"/>
                  </a:lnTo>
                  <a:lnTo>
                    <a:pt x="2748" y="2058"/>
                  </a:lnTo>
                  <a:lnTo>
                    <a:pt x="2763" y="2051"/>
                  </a:lnTo>
                  <a:lnTo>
                    <a:pt x="2776" y="2041"/>
                  </a:lnTo>
                  <a:lnTo>
                    <a:pt x="2788" y="2028"/>
                  </a:lnTo>
                  <a:lnTo>
                    <a:pt x="2800" y="2011"/>
                  </a:lnTo>
                  <a:lnTo>
                    <a:pt x="2815" y="1992"/>
                  </a:lnTo>
                  <a:lnTo>
                    <a:pt x="2832" y="1969"/>
                  </a:lnTo>
                  <a:lnTo>
                    <a:pt x="2828" y="1962"/>
                  </a:lnTo>
                  <a:lnTo>
                    <a:pt x="2824" y="1956"/>
                  </a:lnTo>
                  <a:lnTo>
                    <a:pt x="2820" y="1949"/>
                  </a:lnTo>
                  <a:lnTo>
                    <a:pt x="2815" y="1943"/>
                  </a:lnTo>
                  <a:lnTo>
                    <a:pt x="2805" y="1959"/>
                  </a:lnTo>
                  <a:lnTo>
                    <a:pt x="2792" y="1975"/>
                  </a:lnTo>
                  <a:lnTo>
                    <a:pt x="2779" y="1990"/>
                  </a:lnTo>
                  <a:lnTo>
                    <a:pt x="2765" y="2006"/>
                  </a:lnTo>
                  <a:lnTo>
                    <a:pt x="2750" y="2021"/>
                  </a:lnTo>
                  <a:lnTo>
                    <a:pt x="2735" y="2036"/>
                  </a:lnTo>
                  <a:lnTo>
                    <a:pt x="2721" y="2050"/>
                  </a:lnTo>
                  <a:lnTo>
                    <a:pt x="2707" y="2064"/>
                  </a:lnTo>
                  <a:close/>
                  <a:moveTo>
                    <a:pt x="2249" y="1367"/>
                  </a:moveTo>
                  <a:lnTo>
                    <a:pt x="2249" y="1358"/>
                  </a:lnTo>
                  <a:lnTo>
                    <a:pt x="2249" y="1347"/>
                  </a:lnTo>
                  <a:lnTo>
                    <a:pt x="2250" y="1335"/>
                  </a:lnTo>
                  <a:lnTo>
                    <a:pt x="2250" y="1323"/>
                  </a:lnTo>
                  <a:lnTo>
                    <a:pt x="2251" y="1309"/>
                  </a:lnTo>
                  <a:lnTo>
                    <a:pt x="2252" y="1295"/>
                  </a:lnTo>
                  <a:lnTo>
                    <a:pt x="2252" y="1281"/>
                  </a:lnTo>
                  <a:lnTo>
                    <a:pt x="2253" y="1267"/>
                  </a:lnTo>
                  <a:lnTo>
                    <a:pt x="2253" y="1253"/>
                  </a:lnTo>
                  <a:lnTo>
                    <a:pt x="2253" y="1240"/>
                  </a:lnTo>
                  <a:lnTo>
                    <a:pt x="2253" y="1227"/>
                  </a:lnTo>
                  <a:lnTo>
                    <a:pt x="2253" y="1214"/>
                  </a:lnTo>
                  <a:lnTo>
                    <a:pt x="2253" y="1204"/>
                  </a:lnTo>
                  <a:lnTo>
                    <a:pt x="2252" y="1194"/>
                  </a:lnTo>
                  <a:lnTo>
                    <a:pt x="2251" y="1186"/>
                  </a:lnTo>
                  <a:lnTo>
                    <a:pt x="2249" y="1179"/>
                  </a:lnTo>
                  <a:lnTo>
                    <a:pt x="2256" y="1187"/>
                  </a:lnTo>
                  <a:lnTo>
                    <a:pt x="2263" y="1196"/>
                  </a:lnTo>
                  <a:lnTo>
                    <a:pt x="2271" y="1208"/>
                  </a:lnTo>
                  <a:lnTo>
                    <a:pt x="2280" y="1221"/>
                  </a:lnTo>
                  <a:lnTo>
                    <a:pt x="2289" y="1234"/>
                  </a:lnTo>
                  <a:lnTo>
                    <a:pt x="2296" y="1248"/>
                  </a:lnTo>
                  <a:lnTo>
                    <a:pt x="2303" y="1260"/>
                  </a:lnTo>
                  <a:lnTo>
                    <a:pt x="2308" y="1272"/>
                  </a:lnTo>
                  <a:lnTo>
                    <a:pt x="2323" y="1274"/>
                  </a:lnTo>
                  <a:lnTo>
                    <a:pt x="2337" y="1281"/>
                  </a:lnTo>
                  <a:lnTo>
                    <a:pt x="2351" y="1287"/>
                  </a:lnTo>
                  <a:lnTo>
                    <a:pt x="2363" y="1295"/>
                  </a:lnTo>
                  <a:lnTo>
                    <a:pt x="2374" y="1301"/>
                  </a:lnTo>
                  <a:lnTo>
                    <a:pt x="2385" y="1306"/>
                  </a:lnTo>
                  <a:lnTo>
                    <a:pt x="2395" y="1308"/>
                  </a:lnTo>
                  <a:lnTo>
                    <a:pt x="2404" y="1305"/>
                  </a:lnTo>
                  <a:lnTo>
                    <a:pt x="2396" y="1319"/>
                  </a:lnTo>
                  <a:lnTo>
                    <a:pt x="2387" y="1327"/>
                  </a:lnTo>
                  <a:lnTo>
                    <a:pt x="2382" y="1331"/>
                  </a:lnTo>
                  <a:lnTo>
                    <a:pt x="2384" y="1336"/>
                  </a:lnTo>
                  <a:lnTo>
                    <a:pt x="2367" y="1339"/>
                  </a:lnTo>
                  <a:lnTo>
                    <a:pt x="2351" y="1342"/>
                  </a:lnTo>
                  <a:lnTo>
                    <a:pt x="2335" y="1345"/>
                  </a:lnTo>
                  <a:lnTo>
                    <a:pt x="2319" y="1348"/>
                  </a:lnTo>
                  <a:lnTo>
                    <a:pt x="2302" y="1352"/>
                  </a:lnTo>
                  <a:lnTo>
                    <a:pt x="2286" y="1357"/>
                  </a:lnTo>
                  <a:lnTo>
                    <a:pt x="2267" y="1362"/>
                  </a:lnTo>
                  <a:lnTo>
                    <a:pt x="2249" y="1367"/>
                  </a:lnTo>
                  <a:close/>
                </a:path>
              </a:pathLst>
            </a:custGeom>
            <a:solidFill>
              <a:srgbClr val="194c7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0" name="Freeform 124"/>
            <p:cNvSpPr/>
            <p:nvPr/>
          </p:nvSpPr>
          <p:spPr>
            <a:xfrm>
              <a:off x="5434920" y="4181760"/>
              <a:ext cx="309240" cy="561240"/>
            </a:xfrm>
            <a:custGeom>
              <a:avLst/>
              <a:gdLst>
                <a:gd name="textAreaLeft" fmla="*/ 0 w 309240"/>
                <a:gd name="textAreaRight" fmla="*/ 309600 w 309240"/>
                <a:gd name="textAreaTop" fmla="*/ 0 h 561240"/>
                <a:gd name="textAreaBottom" fmla="*/ 561600 h 561240"/>
              </a:gdLst>
              <a:ahLst/>
              <a:rect l="textAreaLeft" t="textAreaTop" r="textAreaRight" b="textAreaBottom"/>
              <a:pathLst>
                <a:path w="2026" h="4251">
                  <a:moveTo>
                    <a:pt x="243" y="2398"/>
                  </a:moveTo>
                  <a:lnTo>
                    <a:pt x="238" y="2437"/>
                  </a:lnTo>
                  <a:lnTo>
                    <a:pt x="232" y="2476"/>
                  </a:lnTo>
                  <a:lnTo>
                    <a:pt x="223" y="2515"/>
                  </a:lnTo>
                  <a:lnTo>
                    <a:pt x="212" y="2555"/>
                  </a:lnTo>
                  <a:lnTo>
                    <a:pt x="202" y="2594"/>
                  </a:lnTo>
                  <a:lnTo>
                    <a:pt x="189" y="2633"/>
                  </a:lnTo>
                  <a:lnTo>
                    <a:pt x="174" y="2672"/>
                  </a:lnTo>
                  <a:lnTo>
                    <a:pt x="159" y="2711"/>
                  </a:lnTo>
                  <a:lnTo>
                    <a:pt x="143" y="2748"/>
                  </a:lnTo>
                  <a:lnTo>
                    <a:pt x="125" y="2786"/>
                  </a:lnTo>
                  <a:lnTo>
                    <a:pt x="106" y="2822"/>
                  </a:lnTo>
                  <a:lnTo>
                    <a:pt x="86" y="2857"/>
                  </a:lnTo>
                  <a:lnTo>
                    <a:pt x="66" y="2891"/>
                  </a:lnTo>
                  <a:lnTo>
                    <a:pt x="45" y="2925"/>
                  </a:lnTo>
                  <a:lnTo>
                    <a:pt x="23" y="2957"/>
                  </a:lnTo>
                  <a:lnTo>
                    <a:pt x="0" y="2988"/>
                  </a:lnTo>
                  <a:lnTo>
                    <a:pt x="25" y="3020"/>
                  </a:lnTo>
                  <a:lnTo>
                    <a:pt x="37" y="3019"/>
                  </a:lnTo>
                  <a:lnTo>
                    <a:pt x="49" y="3016"/>
                  </a:lnTo>
                  <a:lnTo>
                    <a:pt x="61" y="3011"/>
                  </a:lnTo>
                  <a:lnTo>
                    <a:pt x="74" y="3006"/>
                  </a:lnTo>
                  <a:lnTo>
                    <a:pt x="87" y="2998"/>
                  </a:lnTo>
                  <a:lnTo>
                    <a:pt x="101" y="2990"/>
                  </a:lnTo>
                  <a:lnTo>
                    <a:pt x="114" y="2981"/>
                  </a:lnTo>
                  <a:lnTo>
                    <a:pt x="128" y="2972"/>
                  </a:lnTo>
                  <a:lnTo>
                    <a:pt x="141" y="2962"/>
                  </a:lnTo>
                  <a:lnTo>
                    <a:pt x="153" y="2952"/>
                  </a:lnTo>
                  <a:lnTo>
                    <a:pt x="165" y="2942"/>
                  </a:lnTo>
                  <a:lnTo>
                    <a:pt x="178" y="2932"/>
                  </a:lnTo>
                  <a:lnTo>
                    <a:pt x="189" y="2922"/>
                  </a:lnTo>
                  <a:lnTo>
                    <a:pt x="201" y="2914"/>
                  </a:lnTo>
                  <a:lnTo>
                    <a:pt x="210" y="2906"/>
                  </a:lnTo>
                  <a:lnTo>
                    <a:pt x="220" y="2900"/>
                  </a:lnTo>
                  <a:lnTo>
                    <a:pt x="232" y="2902"/>
                  </a:lnTo>
                  <a:lnTo>
                    <a:pt x="242" y="2901"/>
                  </a:lnTo>
                  <a:lnTo>
                    <a:pt x="253" y="2897"/>
                  </a:lnTo>
                  <a:lnTo>
                    <a:pt x="263" y="2890"/>
                  </a:lnTo>
                  <a:lnTo>
                    <a:pt x="272" y="2883"/>
                  </a:lnTo>
                  <a:lnTo>
                    <a:pt x="280" y="2875"/>
                  </a:lnTo>
                  <a:lnTo>
                    <a:pt x="287" y="2867"/>
                  </a:lnTo>
                  <a:lnTo>
                    <a:pt x="293" y="2860"/>
                  </a:lnTo>
                  <a:lnTo>
                    <a:pt x="286" y="2842"/>
                  </a:lnTo>
                  <a:lnTo>
                    <a:pt x="281" y="2824"/>
                  </a:lnTo>
                  <a:lnTo>
                    <a:pt x="277" y="2806"/>
                  </a:lnTo>
                  <a:lnTo>
                    <a:pt x="274" y="2788"/>
                  </a:lnTo>
                  <a:lnTo>
                    <a:pt x="272" y="2770"/>
                  </a:lnTo>
                  <a:lnTo>
                    <a:pt x="271" y="2751"/>
                  </a:lnTo>
                  <a:lnTo>
                    <a:pt x="270" y="2734"/>
                  </a:lnTo>
                  <a:lnTo>
                    <a:pt x="270" y="2716"/>
                  </a:lnTo>
                  <a:lnTo>
                    <a:pt x="269" y="2698"/>
                  </a:lnTo>
                  <a:lnTo>
                    <a:pt x="269" y="2680"/>
                  </a:lnTo>
                  <a:lnTo>
                    <a:pt x="268" y="2661"/>
                  </a:lnTo>
                  <a:lnTo>
                    <a:pt x="266" y="2644"/>
                  </a:lnTo>
                  <a:lnTo>
                    <a:pt x="264" y="2626"/>
                  </a:lnTo>
                  <a:lnTo>
                    <a:pt x="260" y="2608"/>
                  </a:lnTo>
                  <a:lnTo>
                    <a:pt x="256" y="2591"/>
                  </a:lnTo>
                  <a:lnTo>
                    <a:pt x="250" y="2573"/>
                  </a:lnTo>
                  <a:lnTo>
                    <a:pt x="250" y="2564"/>
                  </a:lnTo>
                  <a:lnTo>
                    <a:pt x="251" y="2549"/>
                  </a:lnTo>
                  <a:lnTo>
                    <a:pt x="251" y="2531"/>
                  </a:lnTo>
                  <a:lnTo>
                    <a:pt x="252" y="2512"/>
                  </a:lnTo>
                  <a:lnTo>
                    <a:pt x="253" y="2490"/>
                  </a:lnTo>
                  <a:lnTo>
                    <a:pt x="253" y="2470"/>
                  </a:lnTo>
                  <a:lnTo>
                    <a:pt x="254" y="2452"/>
                  </a:lnTo>
                  <a:lnTo>
                    <a:pt x="254" y="2438"/>
                  </a:lnTo>
                  <a:lnTo>
                    <a:pt x="243" y="2398"/>
                  </a:lnTo>
                  <a:close/>
                  <a:moveTo>
                    <a:pt x="1809" y="147"/>
                  </a:moveTo>
                  <a:lnTo>
                    <a:pt x="1821" y="160"/>
                  </a:lnTo>
                  <a:lnTo>
                    <a:pt x="1834" y="175"/>
                  </a:lnTo>
                  <a:lnTo>
                    <a:pt x="1846" y="192"/>
                  </a:lnTo>
                  <a:lnTo>
                    <a:pt x="1859" y="210"/>
                  </a:lnTo>
                  <a:lnTo>
                    <a:pt x="1870" y="228"/>
                  </a:lnTo>
                  <a:lnTo>
                    <a:pt x="1880" y="247"/>
                  </a:lnTo>
                  <a:lnTo>
                    <a:pt x="1890" y="266"/>
                  </a:lnTo>
                  <a:lnTo>
                    <a:pt x="1896" y="284"/>
                  </a:lnTo>
                  <a:lnTo>
                    <a:pt x="1900" y="299"/>
                  </a:lnTo>
                  <a:lnTo>
                    <a:pt x="1904" y="314"/>
                  </a:lnTo>
                  <a:lnTo>
                    <a:pt x="1907" y="329"/>
                  </a:lnTo>
                  <a:lnTo>
                    <a:pt x="1909" y="345"/>
                  </a:lnTo>
                  <a:lnTo>
                    <a:pt x="1912" y="361"/>
                  </a:lnTo>
                  <a:lnTo>
                    <a:pt x="1914" y="377"/>
                  </a:lnTo>
                  <a:lnTo>
                    <a:pt x="1916" y="392"/>
                  </a:lnTo>
                  <a:lnTo>
                    <a:pt x="1920" y="406"/>
                  </a:lnTo>
                  <a:lnTo>
                    <a:pt x="1923" y="420"/>
                  </a:lnTo>
                  <a:lnTo>
                    <a:pt x="1925" y="433"/>
                  </a:lnTo>
                  <a:lnTo>
                    <a:pt x="1927" y="447"/>
                  </a:lnTo>
                  <a:lnTo>
                    <a:pt x="1930" y="461"/>
                  </a:lnTo>
                  <a:lnTo>
                    <a:pt x="1932" y="476"/>
                  </a:lnTo>
                  <a:lnTo>
                    <a:pt x="1935" y="490"/>
                  </a:lnTo>
                  <a:lnTo>
                    <a:pt x="1937" y="505"/>
                  </a:lnTo>
                  <a:lnTo>
                    <a:pt x="1939" y="519"/>
                  </a:lnTo>
                  <a:lnTo>
                    <a:pt x="1941" y="534"/>
                  </a:lnTo>
                  <a:lnTo>
                    <a:pt x="1943" y="549"/>
                  </a:lnTo>
                  <a:lnTo>
                    <a:pt x="1945" y="563"/>
                  </a:lnTo>
                  <a:lnTo>
                    <a:pt x="1948" y="578"/>
                  </a:lnTo>
                  <a:lnTo>
                    <a:pt x="1951" y="592"/>
                  </a:lnTo>
                  <a:lnTo>
                    <a:pt x="1954" y="606"/>
                  </a:lnTo>
                  <a:lnTo>
                    <a:pt x="1957" y="620"/>
                  </a:lnTo>
                  <a:lnTo>
                    <a:pt x="1961" y="633"/>
                  </a:lnTo>
                  <a:lnTo>
                    <a:pt x="1968" y="657"/>
                  </a:lnTo>
                  <a:lnTo>
                    <a:pt x="1975" y="681"/>
                  </a:lnTo>
                  <a:lnTo>
                    <a:pt x="1982" y="705"/>
                  </a:lnTo>
                  <a:lnTo>
                    <a:pt x="1989" y="730"/>
                  </a:lnTo>
                  <a:lnTo>
                    <a:pt x="1996" y="755"/>
                  </a:lnTo>
                  <a:lnTo>
                    <a:pt x="2002" y="781"/>
                  </a:lnTo>
                  <a:lnTo>
                    <a:pt x="2007" y="807"/>
                  </a:lnTo>
                  <a:lnTo>
                    <a:pt x="2013" y="832"/>
                  </a:lnTo>
                  <a:lnTo>
                    <a:pt x="2017" y="859"/>
                  </a:lnTo>
                  <a:lnTo>
                    <a:pt x="2020" y="885"/>
                  </a:lnTo>
                  <a:lnTo>
                    <a:pt x="2023" y="912"/>
                  </a:lnTo>
                  <a:lnTo>
                    <a:pt x="2024" y="938"/>
                  </a:lnTo>
                  <a:lnTo>
                    <a:pt x="2026" y="964"/>
                  </a:lnTo>
                  <a:lnTo>
                    <a:pt x="2024" y="991"/>
                  </a:lnTo>
                  <a:lnTo>
                    <a:pt x="2022" y="1017"/>
                  </a:lnTo>
                  <a:lnTo>
                    <a:pt x="2019" y="1043"/>
                  </a:lnTo>
                  <a:lnTo>
                    <a:pt x="2018" y="1050"/>
                  </a:lnTo>
                  <a:lnTo>
                    <a:pt x="2016" y="1056"/>
                  </a:lnTo>
                  <a:lnTo>
                    <a:pt x="2015" y="1062"/>
                  </a:lnTo>
                  <a:lnTo>
                    <a:pt x="2013" y="1069"/>
                  </a:lnTo>
                  <a:lnTo>
                    <a:pt x="2011" y="1075"/>
                  </a:lnTo>
                  <a:lnTo>
                    <a:pt x="2009" y="1082"/>
                  </a:lnTo>
                  <a:lnTo>
                    <a:pt x="2008" y="1087"/>
                  </a:lnTo>
                  <a:lnTo>
                    <a:pt x="2008" y="1093"/>
                  </a:lnTo>
                  <a:lnTo>
                    <a:pt x="2008" y="1075"/>
                  </a:lnTo>
                  <a:lnTo>
                    <a:pt x="2007" y="1057"/>
                  </a:lnTo>
                  <a:lnTo>
                    <a:pt x="2006" y="1039"/>
                  </a:lnTo>
                  <a:lnTo>
                    <a:pt x="2005" y="1022"/>
                  </a:lnTo>
                  <a:lnTo>
                    <a:pt x="2003" y="1005"/>
                  </a:lnTo>
                  <a:lnTo>
                    <a:pt x="2000" y="989"/>
                  </a:lnTo>
                  <a:lnTo>
                    <a:pt x="1996" y="971"/>
                  </a:lnTo>
                  <a:lnTo>
                    <a:pt x="1990" y="955"/>
                  </a:lnTo>
                  <a:lnTo>
                    <a:pt x="1988" y="948"/>
                  </a:lnTo>
                  <a:lnTo>
                    <a:pt x="1986" y="939"/>
                  </a:lnTo>
                  <a:lnTo>
                    <a:pt x="1985" y="931"/>
                  </a:lnTo>
                  <a:lnTo>
                    <a:pt x="1983" y="924"/>
                  </a:lnTo>
                  <a:lnTo>
                    <a:pt x="1976" y="908"/>
                  </a:lnTo>
                  <a:lnTo>
                    <a:pt x="1970" y="892"/>
                  </a:lnTo>
                  <a:lnTo>
                    <a:pt x="1961" y="876"/>
                  </a:lnTo>
                  <a:lnTo>
                    <a:pt x="1954" y="860"/>
                  </a:lnTo>
                  <a:lnTo>
                    <a:pt x="1945" y="843"/>
                  </a:lnTo>
                  <a:lnTo>
                    <a:pt x="1938" y="827"/>
                  </a:lnTo>
                  <a:lnTo>
                    <a:pt x="1930" y="811"/>
                  </a:lnTo>
                  <a:lnTo>
                    <a:pt x="1925" y="796"/>
                  </a:lnTo>
                  <a:lnTo>
                    <a:pt x="1923" y="787"/>
                  </a:lnTo>
                  <a:lnTo>
                    <a:pt x="1919" y="778"/>
                  </a:lnTo>
                  <a:lnTo>
                    <a:pt x="1914" y="768"/>
                  </a:lnTo>
                  <a:lnTo>
                    <a:pt x="1909" y="759"/>
                  </a:lnTo>
                  <a:lnTo>
                    <a:pt x="1904" y="750"/>
                  </a:lnTo>
                  <a:lnTo>
                    <a:pt x="1898" y="742"/>
                  </a:lnTo>
                  <a:lnTo>
                    <a:pt x="1893" y="734"/>
                  </a:lnTo>
                  <a:lnTo>
                    <a:pt x="1889" y="728"/>
                  </a:lnTo>
                  <a:lnTo>
                    <a:pt x="1889" y="723"/>
                  </a:lnTo>
                  <a:lnTo>
                    <a:pt x="1889" y="720"/>
                  </a:lnTo>
                  <a:lnTo>
                    <a:pt x="1889" y="717"/>
                  </a:lnTo>
                  <a:lnTo>
                    <a:pt x="1889" y="714"/>
                  </a:lnTo>
                  <a:lnTo>
                    <a:pt x="1886" y="710"/>
                  </a:lnTo>
                  <a:lnTo>
                    <a:pt x="1884" y="706"/>
                  </a:lnTo>
                  <a:lnTo>
                    <a:pt x="1882" y="701"/>
                  </a:lnTo>
                  <a:lnTo>
                    <a:pt x="1881" y="697"/>
                  </a:lnTo>
                  <a:lnTo>
                    <a:pt x="1874" y="699"/>
                  </a:lnTo>
                  <a:lnTo>
                    <a:pt x="1866" y="701"/>
                  </a:lnTo>
                  <a:lnTo>
                    <a:pt x="1860" y="703"/>
                  </a:lnTo>
                  <a:lnTo>
                    <a:pt x="1852" y="705"/>
                  </a:lnTo>
                  <a:lnTo>
                    <a:pt x="1846" y="707"/>
                  </a:lnTo>
                  <a:lnTo>
                    <a:pt x="1839" y="710"/>
                  </a:lnTo>
                  <a:lnTo>
                    <a:pt x="1834" y="714"/>
                  </a:lnTo>
                  <a:lnTo>
                    <a:pt x="1829" y="718"/>
                  </a:lnTo>
                  <a:lnTo>
                    <a:pt x="1820" y="721"/>
                  </a:lnTo>
                  <a:lnTo>
                    <a:pt x="1810" y="725"/>
                  </a:lnTo>
                  <a:lnTo>
                    <a:pt x="1801" y="732"/>
                  </a:lnTo>
                  <a:lnTo>
                    <a:pt x="1791" y="738"/>
                  </a:lnTo>
                  <a:lnTo>
                    <a:pt x="1781" y="746"/>
                  </a:lnTo>
                  <a:lnTo>
                    <a:pt x="1773" y="754"/>
                  </a:lnTo>
                  <a:lnTo>
                    <a:pt x="1764" y="763"/>
                  </a:lnTo>
                  <a:lnTo>
                    <a:pt x="1757" y="771"/>
                  </a:lnTo>
                  <a:lnTo>
                    <a:pt x="1758" y="760"/>
                  </a:lnTo>
                  <a:lnTo>
                    <a:pt x="1759" y="749"/>
                  </a:lnTo>
                  <a:lnTo>
                    <a:pt x="1762" y="739"/>
                  </a:lnTo>
                  <a:lnTo>
                    <a:pt x="1764" y="731"/>
                  </a:lnTo>
                  <a:lnTo>
                    <a:pt x="1768" y="722"/>
                  </a:lnTo>
                  <a:lnTo>
                    <a:pt x="1770" y="715"/>
                  </a:lnTo>
                  <a:lnTo>
                    <a:pt x="1772" y="706"/>
                  </a:lnTo>
                  <a:lnTo>
                    <a:pt x="1773" y="699"/>
                  </a:lnTo>
                  <a:lnTo>
                    <a:pt x="1774" y="691"/>
                  </a:lnTo>
                  <a:lnTo>
                    <a:pt x="1776" y="684"/>
                  </a:lnTo>
                  <a:lnTo>
                    <a:pt x="1778" y="677"/>
                  </a:lnTo>
                  <a:lnTo>
                    <a:pt x="1780" y="670"/>
                  </a:lnTo>
                  <a:lnTo>
                    <a:pt x="1783" y="663"/>
                  </a:lnTo>
                  <a:lnTo>
                    <a:pt x="1785" y="657"/>
                  </a:lnTo>
                  <a:lnTo>
                    <a:pt x="1787" y="650"/>
                  </a:lnTo>
                  <a:lnTo>
                    <a:pt x="1788" y="642"/>
                  </a:lnTo>
                  <a:lnTo>
                    <a:pt x="1792" y="621"/>
                  </a:lnTo>
                  <a:lnTo>
                    <a:pt x="1795" y="600"/>
                  </a:lnTo>
                  <a:lnTo>
                    <a:pt x="1798" y="580"/>
                  </a:lnTo>
                  <a:lnTo>
                    <a:pt x="1799" y="559"/>
                  </a:lnTo>
                  <a:lnTo>
                    <a:pt x="1799" y="538"/>
                  </a:lnTo>
                  <a:lnTo>
                    <a:pt x="1796" y="517"/>
                  </a:lnTo>
                  <a:lnTo>
                    <a:pt x="1794" y="495"/>
                  </a:lnTo>
                  <a:lnTo>
                    <a:pt x="1791" y="473"/>
                  </a:lnTo>
                  <a:lnTo>
                    <a:pt x="1787" y="448"/>
                  </a:lnTo>
                  <a:lnTo>
                    <a:pt x="1783" y="426"/>
                  </a:lnTo>
                  <a:lnTo>
                    <a:pt x="1779" y="406"/>
                  </a:lnTo>
                  <a:lnTo>
                    <a:pt x="1776" y="386"/>
                  </a:lnTo>
                  <a:lnTo>
                    <a:pt x="1773" y="368"/>
                  </a:lnTo>
                  <a:lnTo>
                    <a:pt x="1769" y="351"/>
                  </a:lnTo>
                  <a:lnTo>
                    <a:pt x="1763" y="333"/>
                  </a:lnTo>
                  <a:lnTo>
                    <a:pt x="1758" y="315"/>
                  </a:lnTo>
                  <a:lnTo>
                    <a:pt x="1758" y="305"/>
                  </a:lnTo>
                  <a:lnTo>
                    <a:pt x="1758" y="297"/>
                  </a:lnTo>
                  <a:lnTo>
                    <a:pt x="1759" y="288"/>
                  </a:lnTo>
                  <a:lnTo>
                    <a:pt x="1760" y="279"/>
                  </a:lnTo>
                  <a:lnTo>
                    <a:pt x="1760" y="272"/>
                  </a:lnTo>
                  <a:lnTo>
                    <a:pt x="1760" y="266"/>
                  </a:lnTo>
                  <a:lnTo>
                    <a:pt x="1759" y="260"/>
                  </a:lnTo>
                  <a:lnTo>
                    <a:pt x="1757" y="256"/>
                  </a:lnTo>
                  <a:lnTo>
                    <a:pt x="1759" y="249"/>
                  </a:lnTo>
                  <a:lnTo>
                    <a:pt x="1764" y="238"/>
                  </a:lnTo>
                  <a:lnTo>
                    <a:pt x="1773" y="221"/>
                  </a:lnTo>
                  <a:lnTo>
                    <a:pt x="1781" y="202"/>
                  </a:lnTo>
                  <a:lnTo>
                    <a:pt x="1791" y="184"/>
                  </a:lnTo>
                  <a:lnTo>
                    <a:pt x="1800" y="167"/>
                  </a:lnTo>
                  <a:lnTo>
                    <a:pt x="1806" y="154"/>
                  </a:lnTo>
                  <a:lnTo>
                    <a:pt x="1809" y="147"/>
                  </a:lnTo>
                  <a:close/>
                  <a:moveTo>
                    <a:pt x="1314" y="705"/>
                  </a:moveTo>
                  <a:lnTo>
                    <a:pt x="1313" y="689"/>
                  </a:lnTo>
                  <a:lnTo>
                    <a:pt x="1311" y="670"/>
                  </a:lnTo>
                  <a:lnTo>
                    <a:pt x="1306" y="645"/>
                  </a:lnTo>
                  <a:lnTo>
                    <a:pt x="1301" y="618"/>
                  </a:lnTo>
                  <a:lnTo>
                    <a:pt x="1293" y="589"/>
                  </a:lnTo>
                  <a:lnTo>
                    <a:pt x="1286" y="556"/>
                  </a:lnTo>
                  <a:lnTo>
                    <a:pt x="1277" y="522"/>
                  </a:lnTo>
                  <a:lnTo>
                    <a:pt x="1268" y="486"/>
                  </a:lnTo>
                  <a:lnTo>
                    <a:pt x="1258" y="448"/>
                  </a:lnTo>
                  <a:lnTo>
                    <a:pt x="1248" y="410"/>
                  </a:lnTo>
                  <a:lnTo>
                    <a:pt x="1239" y="370"/>
                  </a:lnTo>
                  <a:lnTo>
                    <a:pt x="1229" y="332"/>
                  </a:lnTo>
                  <a:lnTo>
                    <a:pt x="1221" y="293"/>
                  </a:lnTo>
                  <a:lnTo>
                    <a:pt x="1213" y="255"/>
                  </a:lnTo>
                  <a:lnTo>
                    <a:pt x="1206" y="218"/>
                  </a:lnTo>
                  <a:lnTo>
                    <a:pt x="1200" y="183"/>
                  </a:lnTo>
                  <a:lnTo>
                    <a:pt x="1200" y="178"/>
                  </a:lnTo>
                  <a:lnTo>
                    <a:pt x="1199" y="171"/>
                  </a:lnTo>
                  <a:lnTo>
                    <a:pt x="1199" y="165"/>
                  </a:lnTo>
                  <a:lnTo>
                    <a:pt x="1200" y="159"/>
                  </a:lnTo>
                  <a:lnTo>
                    <a:pt x="1200" y="151"/>
                  </a:lnTo>
                  <a:lnTo>
                    <a:pt x="1201" y="143"/>
                  </a:lnTo>
                  <a:lnTo>
                    <a:pt x="1201" y="134"/>
                  </a:lnTo>
                  <a:lnTo>
                    <a:pt x="1202" y="123"/>
                  </a:lnTo>
                  <a:lnTo>
                    <a:pt x="1203" y="114"/>
                  </a:lnTo>
                  <a:lnTo>
                    <a:pt x="1205" y="102"/>
                  </a:lnTo>
                  <a:lnTo>
                    <a:pt x="1206" y="89"/>
                  </a:lnTo>
                  <a:lnTo>
                    <a:pt x="1207" y="75"/>
                  </a:lnTo>
                  <a:lnTo>
                    <a:pt x="1208" y="61"/>
                  </a:lnTo>
                  <a:lnTo>
                    <a:pt x="1209" y="45"/>
                  </a:lnTo>
                  <a:lnTo>
                    <a:pt x="1209" y="28"/>
                  </a:lnTo>
                  <a:lnTo>
                    <a:pt x="1210" y="10"/>
                  </a:lnTo>
                  <a:lnTo>
                    <a:pt x="1203" y="3"/>
                  </a:lnTo>
                  <a:lnTo>
                    <a:pt x="1196" y="0"/>
                  </a:lnTo>
                  <a:lnTo>
                    <a:pt x="1187" y="0"/>
                  </a:lnTo>
                  <a:lnTo>
                    <a:pt x="1178" y="3"/>
                  </a:lnTo>
                  <a:lnTo>
                    <a:pt x="1168" y="11"/>
                  </a:lnTo>
                  <a:lnTo>
                    <a:pt x="1159" y="24"/>
                  </a:lnTo>
                  <a:lnTo>
                    <a:pt x="1150" y="41"/>
                  </a:lnTo>
                  <a:lnTo>
                    <a:pt x="1141" y="63"/>
                  </a:lnTo>
                  <a:lnTo>
                    <a:pt x="1134" y="86"/>
                  </a:lnTo>
                  <a:lnTo>
                    <a:pt x="1126" y="100"/>
                  </a:lnTo>
                  <a:lnTo>
                    <a:pt x="1118" y="109"/>
                  </a:lnTo>
                  <a:lnTo>
                    <a:pt x="1111" y="115"/>
                  </a:lnTo>
                  <a:lnTo>
                    <a:pt x="1105" y="118"/>
                  </a:lnTo>
                  <a:lnTo>
                    <a:pt x="1100" y="121"/>
                  </a:lnTo>
                  <a:lnTo>
                    <a:pt x="1095" y="125"/>
                  </a:lnTo>
                  <a:lnTo>
                    <a:pt x="1092" y="133"/>
                  </a:lnTo>
                  <a:lnTo>
                    <a:pt x="1092" y="166"/>
                  </a:lnTo>
                  <a:lnTo>
                    <a:pt x="1092" y="200"/>
                  </a:lnTo>
                  <a:lnTo>
                    <a:pt x="1091" y="236"/>
                  </a:lnTo>
                  <a:lnTo>
                    <a:pt x="1090" y="270"/>
                  </a:lnTo>
                  <a:lnTo>
                    <a:pt x="1089" y="305"/>
                  </a:lnTo>
                  <a:lnTo>
                    <a:pt x="1087" y="340"/>
                  </a:lnTo>
                  <a:lnTo>
                    <a:pt x="1083" y="376"/>
                  </a:lnTo>
                  <a:lnTo>
                    <a:pt x="1079" y="411"/>
                  </a:lnTo>
                  <a:lnTo>
                    <a:pt x="1073" y="445"/>
                  </a:lnTo>
                  <a:lnTo>
                    <a:pt x="1066" y="478"/>
                  </a:lnTo>
                  <a:lnTo>
                    <a:pt x="1059" y="510"/>
                  </a:lnTo>
                  <a:lnTo>
                    <a:pt x="1049" y="541"/>
                  </a:lnTo>
                  <a:lnTo>
                    <a:pt x="1038" y="571"/>
                  </a:lnTo>
                  <a:lnTo>
                    <a:pt x="1024" y="600"/>
                  </a:lnTo>
                  <a:lnTo>
                    <a:pt x="1009" y="627"/>
                  </a:lnTo>
                  <a:lnTo>
                    <a:pt x="992" y="652"/>
                  </a:lnTo>
                  <a:lnTo>
                    <a:pt x="1000" y="657"/>
                  </a:lnTo>
                  <a:lnTo>
                    <a:pt x="1010" y="663"/>
                  </a:lnTo>
                  <a:lnTo>
                    <a:pt x="1019" y="669"/>
                  </a:lnTo>
                  <a:lnTo>
                    <a:pt x="1031" y="674"/>
                  </a:lnTo>
                  <a:lnTo>
                    <a:pt x="1042" y="679"/>
                  </a:lnTo>
                  <a:lnTo>
                    <a:pt x="1054" y="685"/>
                  </a:lnTo>
                  <a:lnTo>
                    <a:pt x="1066" y="689"/>
                  </a:lnTo>
                  <a:lnTo>
                    <a:pt x="1079" y="693"/>
                  </a:lnTo>
                  <a:lnTo>
                    <a:pt x="1091" y="698"/>
                  </a:lnTo>
                  <a:lnTo>
                    <a:pt x="1104" y="701"/>
                  </a:lnTo>
                  <a:lnTo>
                    <a:pt x="1117" y="703"/>
                  </a:lnTo>
                  <a:lnTo>
                    <a:pt x="1130" y="705"/>
                  </a:lnTo>
                  <a:lnTo>
                    <a:pt x="1142" y="706"/>
                  </a:lnTo>
                  <a:lnTo>
                    <a:pt x="1155" y="707"/>
                  </a:lnTo>
                  <a:lnTo>
                    <a:pt x="1167" y="707"/>
                  </a:lnTo>
                  <a:lnTo>
                    <a:pt x="1179" y="706"/>
                  </a:lnTo>
                  <a:lnTo>
                    <a:pt x="1196" y="703"/>
                  </a:lnTo>
                  <a:lnTo>
                    <a:pt x="1209" y="700"/>
                  </a:lnTo>
                  <a:lnTo>
                    <a:pt x="1221" y="698"/>
                  </a:lnTo>
                  <a:lnTo>
                    <a:pt x="1230" y="694"/>
                  </a:lnTo>
                  <a:lnTo>
                    <a:pt x="1239" y="691"/>
                  </a:lnTo>
                  <a:lnTo>
                    <a:pt x="1248" y="687"/>
                  </a:lnTo>
                  <a:lnTo>
                    <a:pt x="1258" y="683"/>
                  </a:lnTo>
                  <a:lnTo>
                    <a:pt x="1270" y="676"/>
                  </a:lnTo>
                  <a:lnTo>
                    <a:pt x="1275" y="677"/>
                  </a:lnTo>
                  <a:lnTo>
                    <a:pt x="1282" y="679"/>
                  </a:lnTo>
                  <a:lnTo>
                    <a:pt x="1288" y="683"/>
                  </a:lnTo>
                  <a:lnTo>
                    <a:pt x="1293" y="687"/>
                  </a:lnTo>
                  <a:lnTo>
                    <a:pt x="1300" y="691"/>
                  </a:lnTo>
                  <a:lnTo>
                    <a:pt x="1305" y="697"/>
                  </a:lnTo>
                  <a:lnTo>
                    <a:pt x="1309" y="701"/>
                  </a:lnTo>
                  <a:lnTo>
                    <a:pt x="1314" y="705"/>
                  </a:lnTo>
                  <a:close/>
                  <a:moveTo>
                    <a:pt x="513" y="3337"/>
                  </a:moveTo>
                  <a:lnTo>
                    <a:pt x="551" y="3337"/>
                  </a:lnTo>
                  <a:lnTo>
                    <a:pt x="588" y="3340"/>
                  </a:lnTo>
                  <a:lnTo>
                    <a:pt x="627" y="3342"/>
                  </a:lnTo>
                  <a:lnTo>
                    <a:pt x="665" y="3344"/>
                  </a:lnTo>
                  <a:lnTo>
                    <a:pt x="705" y="3346"/>
                  </a:lnTo>
                  <a:lnTo>
                    <a:pt x="744" y="3349"/>
                  </a:lnTo>
                  <a:lnTo>
                    <a:pt x="784" y="3351"/>
                  </a:lnTo>
                  <a:lnTo>
                    <a:pt x="825" y="3354"/>
                  </a:lnTo>
                  <a:lnTo>
                    <a:pt x="864" y="3355"/>
                  </a:lnTo>
                  <a:lnTo>
                    <a:pt x="904" y="3355"/>
                  </a:lnTo>
                  <a:lnTo>
                    <a:pt x="943" y="3354"/>
                  </a:lnTo>
                  <a:lnTo>
                    <a:pt x="983" y="3351"/>
                  </a:lnTo>
                  <a:lnTo>
                    <a:pt x="1022" y="3347"/>
                  </a:lnTo>
                  <a:lnTo>
                    <a:pt x="1060" y="3341"/>
                  </a:lnTo>
                  <a:lnTo>
                    <a:pt x="1098" y="3333"/>
                  </a:lnTo>
                  <a:lnTo>
                    <a:pt x="1135" y="3323"/>
                  </a:lnTo>
                  <a:lnTo>
                    <a:pt x="1141" y="3321"/>
                  </a:lnTo>
                  <a:lnTo>
                    <a:pt x="1150" y="3318"/>
                  </a:lnTo>
                  <a:lnTo>
                    <a:pt x="1162" y="3313"/>
                  </a:lnTo>
                  <a:lnTo>
                    <a:pt x="1174" y="3309"/>
                  </a:lnTo>
                  <a:lnTo>
                    <a:pt x="1186" y="3304"/>
                  </a:lnTo>
                  <a:lnTo>
                    <a:pt x="1199" y="3302"/>
                  </a:lnTo>
                  <a:lnTo>
                    <a:pt x="1211" y="3302"/>
                  </a:lnTo>
                  <a:lnTo>
                    <a:pt x="1222" y="3306"/>
                  </a:lnTo>
                  <a:lnTo>
                    <a:pt x="1233" y="3323"/>
                  </a:lnTo>
                  <a:lnTo>
                    <a:pt x="1238" y="3335"/>
                  </a:lnTo>
                  <a:lnTo>
                    <a:pt x="1241" y="3350"/>
                  </a:lnTo>
                  <a:lnTo>
                    <a:pt x="1243" y="3367"/>
                  </a:lnTo>
                  <a:lnTo>
                    <a:pt x="1244" y="3387"/>
                  </a:lnTo>
                  <a:lnTo>
                    <a:pt x="1245" y="3407"/>
                  </a:lnTo>
                  <a:lnTo>
                    <a:pt x="1245" y="3428"/>
                  </a:lnTo>
                  <a:lnTo>
                    <a:pt x="1245" y="3450"/>
                  </a:lnTo>
                  <a:lnTo>
                    <a:pt x="1244" y="3472"/>
                  </a:lnTo>
                  <a:lnTo>
                    <a:pt x="1244" y="3495"/>
                  </a:lnTo>
                  <a:lnTo>
                    <a:pt x="1243" y="3516"/>
                  </a:lnTo>
                  <a:lnTo>
                    <a:pt x="1243" y="3538"/>
                  </a:lnTo>
                  <a:lnTo>
                    <a:pt x="1242" y="3558"/>
                  </a:lnTo>
                  <a:lnTo>
                    <a:pt x="1242" y="3577"/>
                  </a:lnTo>
                  <a:lnTo>
                    <a:pt x="1243" y="3594"/>
                  </a:lnTo>
                  <a:lnTo>
                    <a:pt x="1244" y="3610"/>
                  </a:lnTo>
                  <a:lnTo>
                    <a:pt x="1246" y="3623"/>
                  </a:lnTo>
                  <a:lnTo>
                    <a:pt x="1248" y="3644"/>
                  </a:lnTo>
                  <a:lnTo>
                    <a:pt x="1250" y="3667"/>
                  </a:lnTo>
                  <a:lnTo>
                    <a:pt x="1251" y="3690"/>
                  </a:lnTo>
                  <a:lnTo>
                    <a:pt x="1252" y="3714"/>
                  </a:lnTo>
                  <a:lnTo>
                    <a:pt x="1252" y="3738"/>
                  </a:lnTo>
                  <a:lnTo>
                    <a:pt x="1252" y="3762"/>
                  </a:lnTo>
                  <a:lnTo>
                    <a:pt x="1252" y="3788"/>
                  </a:lnTo>
                  <a:lnTo>
                    <a:pt x="1253" y="3812"/>
                  </a:lnTo>
                  <a:lnTo>
                    <a:pt x="1253" y="3837"/>
                  </a:lnTo>
                  <a:lnTo>
                    <a:pt x="1253" y="3861"/>
                  </a:lnTo>
                  <a:lnTo>
                    <a:pt x="1253" y="3884"/>
                  </a:lnTo>
                  <a:lnTo>
                    <a:pt x="1253" y="3908"/>
                  </a:lnTo>
                  <a:lnTo>
                    <a:pt x="1254" y="3929"/>
                  </a:lnTo>
                  <a:lnTo>
                    <a:pt x="1255" y="3950"/>
                  </a:lnTo>
                  <a:lnTo>
                    <a:pt x="1256" y="3971"/>
                  </a:lnTo>
                  <a:lnTo>
                    <a:pt x="1258" y="3989"/>
                  </a:lnTo>
                  <a:lnTo>
                    <a:pt x="1258" y="4116"/>
                  </a:lnTo>
                  <a:lnTo>
                    <a:pt x="1252" y="4126"/>
                  </a:lnTo>
                  <a:lnTo>
                    <a:pt x="1243" y="4141"/>
                  </a:lnTo>
                  <a:lnTo>
                    <a:pt x="1232" y="4158"/>
                  </a:lnTo>
                  <a:lnTo>
                    <a:pt x="1221" y="4178"/>
                  </a:lnTo>
                  <a:lnTo>
                    <a:pt x="1208" y="4196"/>
                  </a:lnTo>
                  <a:lnTo>
                    <a:pt x="1195" y="4212"/>
                  </a:lnTo>
                  <a:lnTo>
                    <a:pt x="1183" y="4223"/>
                  </a:lnTo>
                  <a:lnTo>
                    <a:pt x="1172" y="4227"/>
                  </a:lnTo>
                  <a:lnTo>
                    <a:pt x="1148" y="4227"/>
                  </a:lnTo>
                  <a:lnTo>
                    <a:pt x="1123" y="4195"/>
                  </a:lnTo>
                  <a:lnTo>
                    <a:pt x="1112" y="4196"/>
                  </a:lnTo>
                  <a:lnTo>
                    <a:pt x="1101" y="4197"/>
                  </a:lnTo>
                  <a:lnTo>
                    <a:pt x="1088" y="4201"/>
                  </a:lnTo>
                  <a:lnTo>
                    <a:pt x="1075" y="4203"/>
                  </a:lnTo>
                  <a:lnTo>
                    <a:pt x="1061" y="4206"/>
                  </a:lnTo>
                  <a:lnTo>
                    <a:pt x="1048" y="4209"/>
                  </a:lnTo>
                  <a:lnTo>
                    <a:pt x="1037" y="4210"/>
                  </a:lnTo>
                  <a:lnTo>
                    <a:pt x="1026" y="4211"/>
                  </a:lnTo>
                  <a:lnTo>
                    <a:pt x="1002" y="4222"/>
                  </a:lnTo>
                  <a:lnTo>
                    <a:pt x="979" y="4232"/>
                  </a:lnTo>
                  <a:lnTo>
                    <a:pt x="955" y="4238"/>
                  </a:lnTo>
                  <a:lnTo>
                    <a:pt x="931" y="4243"/>
                  </a:lnTo>
                  <a:lnTo>
                    <a:pt x="905" y="4248"/>
                  </a:lnTo>
                  <a:lnTo>
                    <a:pt x="879" y="4250"/>
                  </a:lnTo>
                  <a:lnTo>
                    <a:pt x="853" y="4251"/>
                  </a:lnTo>
                  <a:lnTo>
                    <a:pt x="828" y="4251"/>
                  </a:lnTo>
                  <a:lnTo>
                    <a:pt x="801" y="4251"/>
                  </a:lnTo>
                  <a:lnTo>
                    <a:pt x="774" y="4250"/>
                  </a:lnTo>
                  <a:lnTo>
                    <a:pt x="747" y="4249"/>
                  </a:lnTo>
                  <a:lnTo>
                    <a:pt x="720" y="4248"/>
                  </a:lnTo>
                  <a:lnTo>
                    <a:pt x="693" y="4246"/>
                  </a:lnTo>
                  <a:lnTo>
                    <a:pt x="665" y="4245"/>
                  </a:lnTo>
                  <a:lnTo>
                    <a:pt x="638" y="4243"/>
                  </a:lnTo>
                  <a:lnTo>
                    <a:pt x="610" y="4243"/>
                  </a:lnTo>
                  <a:lnTo>
                    <a:pt x="606" y="4232"/>
                  </a:lnTo>
                  <a:lnTo>
                    <a:pt x="602" y="4219"/>
                  </a:lnTo>
                  <a:lnTo>
                    <a:pt x="598" y="4206"/>
                  </a:lnTo>
                  <a:lnTo>
                    <a:pt x="594" y="4193"/>
                  </a:lnTo>
                  <a:lnTo>
                    <a:pt x="591" y="4180"/>
                  </a:lnTo>
                  <a:lnTo>
                    <a:pt x="588" y="4168"/>
                  </a:lnTo>
                  <a:lnTo>
                    <a:pt x="585" y="4155"/>
                  </a:lnTo>
                  <a:lnTo>
                    <a:pt x="582" y="4141"/>
                  </a:lnTo>
                  <a:lnTo>
                    <a:pt x="579" y="4127"/>
                  </a:lnTo>
                  <a:lnTo>
                    <a:pt x="577" y="4114"/>
                  </a:lnTo>
                  <a:lnTo>
                    <a:pt x="575" y="4100"/>
                  </a:lnTo>
                  <a:lnTo>
                    <a:pt x="573" y="4086"/>
                  </a:lnTo>
                  <a:lnTo>
                    <a:pt x="572" y="4072"/>
                  </a:lnTo>
                  <a:lnTo>
                    <a:pt x="570" y="4058"/>
                  </a:lnTo>
                  <a:lnTo>
                    <a:pt x="569" y="4043"/>
                  </a:lnTo>
                  <a:lnTo>
                    <a:pt x="568" y="4030"/>
                  </a:lnTo>
                  <a:lnTo>
                    <a:pt x="567" y="4015"/>
                  </a:lnTo>
                  <a:lnTo>
                    <a:pt x="566" y="4001"/>
                  </a:lnTo>
                  <a:lnTo>
                    <a:pt x="564" y="3986"/>
                  </a:lnTo>
                  <a:lnTo>
                    <a:pt x="564" y="3971"/>
                  </a:lnTo>
                  <a:lnTo>
                    <a:pt x="563" y="3956"/>
                  </a:lnTo>
                  <a:lnTo>
                    <a:pt x="562" y="3942"/>
                  </a:lnTo>
                  <a:lnTo>
                    <a:pt x="562" y="3927"/>
                  </a:lnTo>
                  <a:lnTo>
                    <a:pt x="562" y="3911"/>
                  </a:lnTo>
                  <a:lnTo>
                    <a:pt x="562" y="3896"/>
                  </a:lnTo>
                  <a:lnTo>
                    <a:pt x="561" y="3881"/>
                  </a:lnTo>
                  <a:lnTo>
                    <a:pt x="561" y="3866"/>
                  </a:lnTo>
                  <a:lnTo>
                    <a:pt x="561" y="3851"/>
                  </a:lnTo>
                  <a:lnTo>
                    <a:pt x="561" y="3836"/>
                  </a:lnTo>
                  <a:lnTo>
                    <a:pt x="561" y="3820"/>
                  </a:lnTo>
                  <a:lnTo>
                    <a:pt x="561" y="3805"/>
                  </a:lnTo>
                  <a:lnTo>
                    <a:pt x="561" y="3790"/>
                  </a:lnTo>
                  <a:lnTo>
                    <a:pt x="561" y="3775"/>
                  </a:lnTo>
                  <a:lnTo>
                    <a:pt x="561" y="3759"/>
                  </a:lnTo>
                  <a:lnTo>
                    <a:pt x="561" y="3743"/>
                  </a:lnTo>
                  <a:lnTo>
                    <a:pt x="562" y="3727"/>
                  </a:lnTo>
                  <a:lnTo>
                    <a:pt x="562" y="3710"/>
                  </a:lnTo>
                  <a:lnTo>
                    <a:pt x="562" y="3694"/>
                  </a:lnTo>
                  <a:lnTo>
                    <a:pt x="562" y="3678"/>
                  </a:lnTo>
                  <a:lnTo>
                    <a:pt x="562" y="3662"/>
                  </a:lnTo>
                  <a:lnTo>
                    <a:pt x="562" y="3646"/>
                  </a:lnTo>
                  <a:lnTo>
                    <a:pt x="561" y="3629"/>
                  </a:lnTo>
                  <a:lnTo>
                    <a:pt x="561" y="3615"/>
                  </a:lnTo>
                  <a:lnTo>
                    <a:pt x="560" y="3598"/>
                  </a:lnTo>
                  <a:lnTo>
                    <a:pt x="559" y="3585"/>
                  </a:lnTo>
                  <a:lnTo>
                    <a:pt x="558" y="3571"/>
                  </a:lnTo>
                  <a:lnTo>
                    <a:pt x="556" y="3557"/>
                  </a:lnTo>
                  <a:lnTo>
                    <a:pt x="554" y="3544"/>
                  </a:lnTo>
                  <a:lnTo>
                    <a:pt x="552" y="3531"/>
                  </a:lnTo>
                  <a:lnTo>
                    <a:pt x="548" y="3519"/>
                  </a:lnTo>
                  <a:lnTo>
                    <a:pt x="545" y="3508"/>
                  </a:lnTo>
                  <a:lnTo>
                    <a:pt x="543" y="3496"/>
                  </a:lnTo>
                  <a:lnTo>
                    <a:pt x="540" y="3484"/>
                  </a:lnTo>
                  <a:lnTo>
                    <a:pt x="538" y="3472"/>
                  </a:lnTo>
                  <a:lnTo>
                    <a:pt x="534" y="3459"/>
                  </a:lnTo>
                  <a:lnTo>
                    <a:pt x="532" y="3448"/>
                  </a:lnTo>
                  <a:lnTo>
                    <a:pt x="529" y="3435"/>
                  </a:lnTo>
                  <a:lnTo>
                    <a:pt x="527" y="3422"/>
                  </a:lnTo>
                  <a:lnTo>
                    <a:pt x="524" y="3409"/>
                  </a:lnTo>
                  <a:lnTo>
                    <a:pt x="522" y="3396"/>
                  </a:lnTo>
                  <a:lnTo>
                    <a:pt x="520" y="3382"/>
                  </a:lnTo>
                  <a:lnTo>
                    <a:pt x="517" y="3367"/>
                  </a:lnTo>
                  <a:lnTo>
                    <a:pt x="515" y="3354"/>
                  </a:lnTo>
                  <a:lnTo>
                    <a:pt x="513" y="3337"/>
                  </a:lnTo>
                  <a:close/>
                  <a:moveTo>
                    <a:pt x="529" y="3093"/>
                  </a:moveTo>
                  <a:lnTo>
                    <a:pt x="545" y="3089"/>
                  </a:lnTo>
                  <a:lnTo>
                    <a:pt x="562" y="3087"/>
                  </a:lnTo>
                  <a:lnTo>
                    <a:pt x="579" y="3086"/>
                  </a:lnTo>
                  <a:lnTo>
                    <a:pt x="599" y="3085"/>
                  </a:lnTo>
                  <a:lnTo>
                    <a:pt x="617" y="3085"/>
                  </a:lnTo>
                  <a:lnTo>
                    <a:pt x="637" y="3085"/>
                  </a:lnTo>
                  <a:lnTo>
                    <a:pt x="658" y="3085"/>
                  </a:lnTo>
                  <a:lnTo>
                    <a:pt x="679" y="3086"/>
                  </a:lnTo>
                  <a:lnTo>
                    <a:pt x="700" y="3086"/>
                  </a:lnTo>
                  <a:lnTo>
                    <a:pt x="722" y="3087"/>
                  </a:lnTo>
                  <a:lnTo>
                    <a:pt x="744" y="3089"/>
                  </a:lnTo>
                  <a:lnTo>
                    <a:pt x="767" y="3090"/>
                  </a:lnTo>
                  <a:lnTo>
                    <a:pt x="790" y="3091"/>
                  </a:lnTo>
                  <a:lnTo>
                    <a:pt x="814" y="3094"/>
                  </a:lnTo>
                  <a:lnTo>
                    <a:pt x="837" y="3095"/>
                  </a:lnTo>
                  <a:lnTo>
                    <a:pt x="861" y="3096"/>
                  </a:lnTo>
                  <a:lnTo>
                    <a:pt x="886" y="3097"/>
                  </a:lnTo>
                  <a:lnTo>
                    <a:pt x="909" y="3098"/>
                  </a:lnTo>
                  <a:lnTo>
                    <a:pt x="934" y="3099"/>
                  </a:lnTo>
                  <a:lnTo>
                    <a:pt x="958" y="3099"/>
                  </a:lnTo>
                  <a:lnTo>
                    <a:pt x="982" y="3099"/>
                  </a:lnTo>
                  <a:lnTo>
                    <a:pt x="1007" y="3098"/>
                  </a:lnTo>
                  <a:lnTo>
                    <a:pt x="1031" y="3097"/>
                  </a:lnTo>
                  <a:lnTo>
                    <a:pt x="1055" y="3096"/>
                  </a:lnTo>
                  <a:lnTo>
                    <a:pt x="1078" y="3094"/>
                  </a:lnTo>
                  <a:lnTo>
                    <a:pt x="1102" y="3090"/>
                  </a:lnTo>
                  <a:lnTo>
                    <a:pt x="1125" y="3087"/>
                  </a:lnTo>
                  <a:lnTo>
                    <a:pt x="1149" y="3083"/>
                  </a:lnTo>
                  <a:lnTo>
                    <a:pt x="1171" y="3078"/>
                  </a:lnTo>
                  <a:lnTo>
                    <a:pt x="1194" y="3071"/>
                  </a:lnTo>
                  <a:lnTo>
                    <a:pt x="1215" y="3064"/>
                  </a:lnTo>
                  <a:lnTo>
                    <a:pt x="1237" y="3056"/>
                  </a:lnTo>
                  <a:lnTo>
                    <a:pt x="1237" y="3064"/>
                  </a:lnTo>
                  <a:lnTo>
                    <a:pt x="1237" y="3074"/>
                  </a:lnTo>
                  <a:lnTo>
                    <a:pt x="1238" y="3087"/>
                  </a:lnTo>
                  <a:lnTo>
                    <a:pt x="1238" y="3101"/>
                  </a:lnTo>
                  <a:lnTo>
                    <a:pt x="1239" y="3118"/>
                  </a:lnTo>
                  <a:lnTo>
                    <a:pt x="1239" y="3135"/>
                  </a:lnTo>
                  <a:lnTo>
                    <a:pt x="1240" y="3154"/>
                  </a:lnTo>
                  <a:lnTo>
                    <a:pt x="1240" y="3173"/>
                  </a:lnTo>
                  <a:lnTo>
                    <a:pt x="1240" y="3192"/>
                  </a:lnTo>
                  <a:lnTo>
                    <a:pt x="1240" y="3210"/>
                  </a:lnTo>
                  <a:lnTo>
                    <a:pt x="1240" y="3227"/>
                  </a:lnTo>
                  <a:lnTo>
                    <a:pt x="1240" y="3243"/>
                  </a:lnTo>
                  <a:lnTo>
                    <a:pt x="1239" y="3258"/>
                  </a:lnTo>
                  <a:lnTo>
                    <a:pt x="1238" y="3271"/>
                  </a:lnTo>
                  <a:lnTo>
                    <a:pt x="1236" y="3282"/>
                  </a:lnTo>
                  <a:lnTo>
                    <a:pt x="1233" y="3289"/>
                  </a:lnTo>
                  <a:lnTo>
                    <a:pt x="1222" y="3304"/>
                  </a:lnTo>
                  <a:lnTo>
                    <a:pt x="1172" y="3304"/>
                  </a:lnTo>
                  <a:lnTo>
                    <a:pt x="1152" y="3311"/>
                  </a:lnTo>
                  <a:lnTo>
                    <a:pt x="1132" y="3318"/>
                  </a:lnTo>
                  <a:lnTo>
                    <a:pt x="1112" y="3326"/>
                  </a:lnTo>
                  <a:lnTo>
                    <a:pt x="1094" y="3332"/>
                  </a:lnTo>
                  <a:lnTo>
                    <a:pt x="1077" y="3339"/>
                  </a:lnTo>
                  <a:lnTo>
                    <a:pt x="1060" y="3344"/>
                  </a:lnTo>
                  <a:lnTo>
                    <a:pt x="1045" y="3347"/>
                  </a:lnTo>
                  <a:lnTo>
                    <a:pt x="1030" y="3348"/>
                  </a:lnTo>
                  <a:lnTo>
                    <a:pt x="1001" y="3351"/>
                  </a:lnTo>
                  <a:lnTo>
                    <a:pt x="971" y="3355"/>
                  </a:lnTo>
                  <a:lnTo>
                    <a:pt x="942" y="3356"/>
                  </a:lnTo>
                  <a:lnTo>
                    <a:pt x="914" y="3357"/>
                  </a:lnTo>
                  <a:lnTo>
                    <a:pt x="887" y="3358"/>
                  </a:lnTo>
                  <a:lnTo>
                    <a:pt x="859" y="3358"/>
                  </a:lnTo>
                  <a:lnTo>
                    <a:pt x="831" y="3357"/>
                  </a:lnTo>
                  <a:lnTo>
                    <a:pt x="804" y="3356"/>
                  </a:lnTo>
                  <a:lnTo>
                    <a:pt x="779" y="3355"/>
                  </a:lnTo>
                  <a:lnTo>
                    <a:pt x="753" y="3352"/>
                  </a:lnTo>
                  <a:lnTo>
                    <a:pt x="728" y="3351"/>
                  </a:lnTo>
                  <a:lnTo>
                    <a:pt x="704" y="3349"/>
                  </a:lnTo>
                  <a:lnTo>
                    <a:pt x="680" y="3346"/>
                  </a:lnTo>
                  <a:lnTo>
                    <a:pt x="658" y="3344"/>
                  </a:lnTo>
                  <a:lnTo>
                    <a:pt x="635" y="3342"/>
                  </a:lnTo>
                  <a:lnTo>
                    <a:pt x="614" y="3340"/>
                  </a:lnTo>
                  <a:lnTo>
                    <a:pt x="601" y="3339"/>
                  </a:lnTo>
                  <a:lnTo>
                    <a:pt x="587" y="3339"/>
                  </a:lnTo>
                  <a:lnTo>
                    <a:pt x="571" y="3339"/>
                  </a:lnTo>
                  <a:lnTo>
                    <a:pt x="555" y="3337"/>
                  </a:lnTo>
                  <a:lnTo>
                    <a:pt x="539" y="3337"/>
                  </a:lnTo>
                  <a:lnTo>
                    <a:pt x="523" y="3337"/>
                  </a:lnTo>
                  <a:lnTo>
                    <a:pt x="509" y="3337"/>
                  </a:lnTo>
                  <a:lnTo>
                    <a:pt x="497" y="3336"/>
                  </a:lnTo>
                  <a:lnTo>
                    <a:pt x="497" y="3325"/>
                  </a:lnTo>
                  <a:lnTo>
                    <a:pt x="498" y="3311"/>
                  </a:lnTo>
                  <a:lnTo>
                    <a:pt x="500" y="3297"/>
                  </a:lnTo>
                  <a:lnTo>
                    <a:pt x="501" y="3281"/>
                  </a:lnTo>
                  <a:lnTo>
                    <a:pt x="505" y="3265"/>
                  </a:lnTo>
                  <a:lnTo>
                    <a:pt x="507" y="3248"/>
                  </a:lnTo>
                  <a:lnTo>
                    <a:pt x="510" y="3229"/>
                  </a:lnTo>
                  <a:lnTo>
                    <a:pt x="512" y="3212"/>
                  </a:lnTo>
                  <a:lnTo>
                    <a:pt x="515" y="3195"/>
                  </a:lnTo>
                  <a:lnTo>
                    <a:pt x="518" y="3178"/>
                  </a:lnTo>
                  <a:lnTo>
                    <a:pt x="521" y="3161"/>
                  </a:lnTo>
                  <a:lnTo>
                    <a:pt x="523" y="3145"/>
                  </a:lnTo>
                  <a:lnTo>
                    <a:pt x="525" y="3130"/>
                  </a:lnTo>
                  <a:lnTo>
                    <a:pt x="527" y="3116"/>
                  </a:lnTo>
                  <a:lnTo>
                    <a:pt x="528" y="3103"/>
                  </a:lnTo>
                  <a:lnTo>
                    <a:pt x="529" y="3093"/>
                  </a:lnTo>
                  <a:close/>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1" name="Freeform 125"/>
            <p:cNvSpPr/>
            <p:nvPr/>
          </p:nvSpPr>
          <p:spPr>
            <a:xfrm>
              <a:off x="5434920" y="4498200"/>
              <a:ext cx="44640" cy="82440"/>
            </a:xfrm>
            <a:custGeom>
              <a:avLst/>
              <a:gdLst>
                <a:gd name="textAreaLeft" fmla="*/ 0 w 44640"/>
                <a:gd name="textAreaRight" fmla="*/ 45000 w 44640"/>
                <a:gd name="textAreaTop" fmla="*/ 0 h 82440"/>
                <a:gd name="textAreaBottom" fmla="*/ 82800 h 82440"/>
              </a:gdLst>
              <a:ahLst/>
              <a:rect l="textAreaLeft" t="textAreaTop" r="textAreaRight" b="textAreaBottom"/>
              <a:pathLst>
                <a:path w="293" h="622">
                  <a:moveTo>
                    <a:pt x="243" y="0"/>
                  </a:moveTo>
                  <a:lnTo>
                    <a:pt x="243" y="0"/>
                  </a:lnTo>
                  <a:lnTo>
                    <a:pt x="238" y="39"/>
                  </a:lnTo>
                  <a:lnTo>
                    <a:pt x="232" y="78"/>
                  </a:lnTo>
                  <a:lnTo>
                    <a:pt x="223" y="117"/>
                  </a:lnTo>
                  <a:lnTo>
                    <a:pt x="212" y="157"/>
                  </a:lnTo>
                  <a:lnTo>
                    <a:pt x="202" y="196"/>
                  </a:lnTo>
                  <a:lnTo>
                    <a:pt x="189" y="235"/>
                  </a:lnTo>
                  <a:lnTo>
                    <a:pt x="174" y="274"/>
                  </a:lnTo>
                  <a:lnTo>
                    <a:pt x="159" y="313"/>
                  </a:lnTo>
                  <a:lnTo>
                    <a:pt x="143" y="350"/>
                  </a:lnTo>
                  <a:lnTo>
                    <a:pt x="125" y="388"/>
                  </a:lnTo>
                  <a:lnTo>
                    <a:pt x="106" y="424"/>
                  </a:lnTo>
                  <a:lnTo>
                    <a:pt x="86" y="459"/>
                  </a:lnTo>
                  <a:lnTo>
                    <a:pt x="66" y="493"/>
                  </a:lnTo>
                  <a:lnTo>
                    <a:pt x="45" y="527"/>
                  </a:lnTo>
                  <a:lnTo>
                    <a:pt x="23" y="559"/>
                  </a:lnTo>
                  <a:lnTo>
                    <a:pt x="0" y="590"/>
                  </a:lnTo>
                  <a:lnTo>
                    <a:pt x="25" y="622"/>
                  </a:lnTo>
                  <a:lnTo>
                    <a:pt x="37" y="621"/>
                  </a:lnTo>
                  <a:lnTo>
                    <a:pt x="49" y="618"/>
                  </a:lnTo>
                  <a:lnTo>
                    <a:pt x="61" y="613"/>
                  </a:lnTo>
                  <a:lnTo>
                    <a:pt x="74" y="608"/>
                  </a:lnTo>
                  <a:lnTo>
                    <a:pt x="87" y="600"/>
                  </a:lnTo>
                  <a:lnTo>
                    <a:pt x="101" y="592"/>
                  </a:lnTo>
                  <a:lnTo>
                    <a:pt x="114" y="583"/>
                  </a:lnTo>
                  <a:lnTo>
                    <a:pt x="128" y="574"/>
                  </a:lnTo>
                  <a:lnTo>
                    <a:pt x="141" y="564"/>
                  </a:lnTo>
                  <a:lnTo>
                    <a:pt x="153" y="554"/>
                  </a:lnTo>
                  <a:lnTo>
                    <a:pt x="165" y="544"/>
                  </a:lnTo>
                  <a:lnTo>
                    <a:pt x="178" y="534"/>
                  </a:lnTo>
                  <a:lnTo>
                    <a:pt x="189" y="524"/>
                  </a:lnTo>
                  <a:lnTo>
                    <a:pt x="201" y="516"/>
                  </a:lnTo>
                  <a:lnTo>
                    <a:pt x="210" y="508"/>
                  </a:lnTo>
                  <a:lnTo>
                    <a:pt x="220" y="502"/>
                  </a:lnTo>
                  <a:lnTo>
                    <a:pt x="232" y="504"/>
                  </a:lnTo>
                  <a:lnTo>
                    <a:pt x="242" y="503"/>
                  </a:lnTo>
                  <a:lnTo>
                    <a:pt x="253" y="499"/>
                  </a:lnTo>
                  <a:lnTo>
                    <a:pt x="263" y="492"/>
                  </a:lnTo>
                  <a:lnTo>
                    <a:pt x="272" y="485"/>
                  </a:lnTo>
                  <a:lnTo>
                    <a:pt x="280" y="477"/>
                  </a:lnTo>
                  <a:lnTo>
                    <a:pt x="287" y="469"/>
                  </a:lnTo>
                  <a:lnTo>
                    <a:pt x="293" y="462"/>
                  </a:lnTo>
                  <a:lnTo>
                    <a:pt x="286" y="444"/>
                  </a:lnTo>
                  <a:lnTo>
                    <a:pt x="281" y="426"/>
                  </a:lnTo>
                  <a:lnTo>
                    <a:pt x="277" y="408"/>
                  </a:lnTo>
                  <a:lnTo>
                    <a:pt x="274" y="390"/>
                  </a:lnTo>
                  <a:lnTo>
                    <a:pt x="272" y="372"/>
                  </a:lnTo>
                  <a:lnTo>
                    <a:pt x="271" y="353"/>
                  </a:lnTo>
                  <a:lnTo>
                    <a:pt x="270" y="336"/>
                  </a:lnTo>
                  <a:lnTo>
                    <a:pt x="270" y="318"/>
                  </a:lnTo>
                  <a:lnTo>
                    <a:pt x="269" y="300"/>
                  </a:lnTo>
                  <a:lnTo>
                    <a:pt x="269" y="282"/>
                  </a:lnTo>
                  <a:lnTo>
                    <a:pt x="268" y="263"/>
                  </a:lnTo>
                  <a:lnTo>
                    <a:pt x="266" y="246"/>
                  </a:lnTo>
                  <a:lnTo>
                    <a:pt x="264" y="228"/>
                  </a:lnTo>
                  <a:lnTo>
                    <a:pt x="260" y="210"/>
                  </a:lnTo>
                  <a:lnTo>
                    <a:pt x="256" y="193"/>
                  </a:lnTo>
                  <a:lnTo>
                    <a:pt x="250" y="175"/>
                  </a:lnTo>
                  <a:lnTo>
                    <a:pt x="250" y="166"/>
                  </a:lnTo>
                  <a:lnTo>
                    <a:pt x="251" y="151"/>
                  </a:lnTo>
                  <a:lnTo>
                    <a:pt x="251" y="133"/>
                  </a:lnTo>
                  <a:lnTo>
                    <a:pt x="252" y="114"/>
                  </a:lnTo>
                  <a:lnTo>
                    <a:pt x="253" y="92"/>
                  </a:lnTo>
                  <a:lnTo>
                    <a:pt x="253" y="72"/>
                  </a:lnTo>
                  <a:lnTo>
                    <a:pt x="254" y="54"/>
                  </a:lnTo>
                  <a:lnTo>
                    <a:pt x="254" y="40"/>
                  </a:lnTo>
                  <a:lnTo>
                    <a:pt x="243" y="0"/>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502" name="Freeform 126"/>
            <p:cNvSpPr/>
            <p:nvPr/>
          </p:nvSpPr>
          <p:spPr>
            <a:xfrm>
              <a:off x="5703840" y="4200840"/>
              <a:ext cx="40320" cy="124920"/>
            </a:xfrm>
            <a:custGeom>
              <a:avLst/>
              <a:gdLst>
                <a:gd name="textAreaLeft" fmla="*/ 0 w 40320"/>
                <a:gd name="textAreaRight" fmla="*/ 40680 w 40320"/>
                <a:gd name="textAreaTop" fmla="*/ 0 h 124920"/>
                <a:gd name="textAreaBottom" fmla="*/ 125280 h 124920"/>
              </a:gdLst>
              <a:ahLst/>
              <a:rect l="textAreaLeft" t="textAreaTop" r="textAreaRight" b="textAreaBottom"/>
              <a:pathLst>
                <a:path w="269" h="946">
                  <a:moveTo>
                    <a:pt x="52" y="0"/>
                  </a:moveTo>
                  <a:lnTo>
                    <a:pt x="52" y="0"/>
                  </a:lnTo>
                  <a:lnTo>
                    <a:pt x="64" y="13"/>
                  </a:lnTo>
                  <a:lnTo>
                    <a:pt x="77" y="28"/>
                  </a:lnTo>
                  <a:lnTo>
                    <a:pt x="89" y="45"/>
                  </a:lnTo>
                  <a:lnTo>
                    <a:pt x="102" y="63"/>
                  </a:lnTo>
                  <a:lnTo>
                    <a:pt x="113" y="81"/>
                  </a:lnTo>
                  <a:lnTo>
                    <a:pt x="123" y="100"/>
                  </a:lnTo>
                  <a:lnTo>
                    <a:pt x="133" y="119"/>
                  </a:lnTo>
                  <a:lnTo>
                    <a:pt x="139" y="137"/>
                  </a:lnTo>
                  <a:lnTo>
                    <a:pt x="143" y="152"/>
                  </a:lnTo>
                  <a:lnTo>
                    <a:pt x="147" y="167"/>
                  </a:lnTo>
                  <a:lnTo>
                    <a:pt x="150" y="182"/>
                  </a:lnTo>
                  <a:lnTo>
                    <a:pt x="152" y="198"/>
                  </a:lnTo>
                  <a:lnTo>
                    <a:pt x="155" y="214"/>
                  </a:lnTo>
                  <a:lnTo>
                    <a:pt x="157" y="230"/>
                  </a:lnTo>
                  <a:lnTo>
                    <a:pt x="159" y="245"/>
                  </a:lnTo>
                  <a:lnTo>
                    <a:pt x="163" y="259"/>
                  </a:lnTo>
                  <a:lnTo>
                    <a:pt x="166" y="273"/>
                  </a:lnTo>
                  <a:lnTo>
                    <a:pt x="168" y="286"/>
                  </a:lnTo>
                  <a:lnTo>
                    <a:pt x="170" y="300"/>
                  </a:lnTo>
                  <a:lnTo>
                    <a:pt x="173" y="314"/>
                  </a:lnTo>
                  <a:lnTo>
                    <a:pt x="175" y="329"/>
                  </a:lnTo>
                  <a:lnTo>
                    <a:pt x="178" y="343"/>
                  </a:lnTo>
                  <a:lnTo>
                    <a:pt x="180" y="358"/>
                  </a:lnTo>
                  <a:lnTo>
                    <a:pt x="182" y="372"/>
                  </a:lnTo>
                  <a:lnTo>
                    <a:pt x="184" y="387"/>
                  </a:lnTo>
                  <a:lnTo>
                    <a:pt x="186" y="402"/>
                  </a:lnTo>
                  <a:lnTo>
                    <a:pt x="188" y="416"/>
                  </a:lnTo>
                  <a:lnTo>
                    <a:pt x="191" y="431"/>
                  </a:lnTo>
                  <a:lnTo>
                    <a:pt x="194" y="445"/>
                  </a:lnTo>
                  <a:lnTo>
                    <a:pt x="197" y="459"/>
                  </a:lnTo>
                  <a:lnTo>
                    <a:pt x="200" y="473"/>
                  </a:lnTo>
                  <a:lnTo>
                    <a:pt x="204" y="486"/>
                  </a:lnTo>
                  <a:lnTo>
                    <a:pt x="211" y="510"/>
                  </a:lnTo>
                  <a:lnTo>
                    <a:pt x="218" y="534"/>
                  </a:lnTo>
                  <a:lnTo>
                    <a:pt x="225" y="558"/>
                  </a:lnTo>
                  <a:lnTo>
                    <a:pt x="232" y="583"/>
                  </a:lnTo>
                  <a:lnTo>
                    <a:pt x="239" y="608"/>
                  </a:lnTo>
                  <a:lnTo>
                    <a:pt x="245" y="634"/>
                  </a:lnTo>
                  <a:lnTo>
                    <a:pt x="250" y="660"/>
                  </a:lnTo>
                  <a:lnTo>
                    <a:pt x="256" y="685"/>
                  </a:lnTo>
                  <a:lnTo>
                    <a:pt x="260" y="712"/>
                  </a:lnTo>
                  <a:lnTo>
                    <a:pt x="263" y="738"/>
                  </a:lnTo>
                  <a:lnTo>
                    <a:pt x="266" y="765"/>
                  </a:lnTo>
                  <a:lnTo>
                    <a:pt x="267" y="791"/>
                  </a:lnTo>
                  <a:lnTo>
                    <a:pt x="269" y="817"/>
                  </a:lnTo>
                  <a:lnTo>
                    <a:pt x="267" y="844"/>
                  </a:lnTo>
                  <a:lnTo>
                    <a:pt x="265" y="870"/>
                  </a:lnTo>
                  <a:lnTo>
                    <a:pt x="262" y="896"/>
                  </a:lnTo>
                  <a:lnTo>
                    <a:pt x="261" y="903"/>
                  </a:lnTo>
                  <a:lnTo>
                    <a:pt x="259" y="909"/>
                  </a:lnTo>
                  <a:lnTo>
                    <a:pt x="258" y="915"/>
                  </a:lnTo>
                  <a:lnTo>
                    <a:pt x="256" y="922"/>
                  </a:lnTo>
                  <a:lnTo>
                    <a:pt x="254" y="928"/>
                  </a:lnTo>
                  <a:lnTo>
                    <a:pt x="252" y="935"/>
                  </a:lnTo>
                  <a:lnTo>
                    <a:pt x="251" y="940"/>
                  </a:lnTo>
                  <a:lnTo>
                    <a:pt x="251" y="946"/>
                  </a:lnTo>
                  <a:lnTo>
                    <a:pt x="251" y="928"/>
                  </a:lnTo>
                  <a:lnTo>
                    <a:pt x="250" y="910"/>
                  </a:lnTo>
                  <a:lnTo>
                    <a:pt x="249" y="892"/>
                  </a:lnTo>
                  <a:lnTo>
                    <a:pt x="248" y="875"/>
                  </a:lnTo>
                  <a:lnTo>
                    <a:pt x="246" y="858"/>
                  </a:lnTo>
                  <a:lnTo>
                    <a:pt x="243" y="842"/>
                  </a:lnTo>
                  <a:lnTo>
                    <a:pt x="239" y="824"/>
                  </a:lnTo>
                  <a:lnTo>
                    <a:pt x="233" y="808"/>
                  </a:lnTo>
                  <a:lnTo>
                    <a:pt x="231" y="801"/>
                  </a:lnTo>
                  <a:lnTo>
                    <a:pt x="229" y="792"/>
                  </a:lnTo>
                  <a:lnTo>
                    <a:pt x="228" y="784"/>
                  </a:lnTo>
                  <a:lnTo>
                    <a:pt x="226" y="777"/>
                  </a:lnTo>
                  <a:lnTo>
                    <a:pt x="219" y="761"/>
                  </a:lnTo>
                  <a:lnTo>
                    <a:pt x="213" y="745"/>
                  </a:lnTo>
                  <a:lnTo>
                    <a:pt x="204" y="729"/>
                  </a:lnTo>
                  <a:lnTo>
                    <a:pt x="197" y="713"/>
                  </a:lnTo>
                  <a:lnTo>
                    <a:pt x="188" y="696"/>
                  </a:lnTo>
                  <a:lnTo>
                    <a:pt x="181" y="680"/>
                  </a:lnTo>
                  <a:lnTo>
                    <a:pt x="173" y="664"/>
                  </a:lnTo>
                  <a:lnTo>
                    <a:pt x="168" y="649"/>
                  </a:lnTo>
                  <a:lnTo>
                    <a:pt x="166" y="640"/>
                  </a:lnTo>
                  <a:lnTo>
                    <a:pt x="162" y="631"/>
                  </a:lnTo>
                  <a:lnTo>
                    <a:pt x="157" y="621"/>
                  </a:lnTo>
                  <a:lnTo>
                    <a:pt x="152" y="612"/>
                  </a:lnTo>
                  <a:lnTo>
                    <a:pt x="147" y="603"/>
                  </a:lnTo>
                  <a:lnTo>
                    <a:pt x="141" y="595"/>
                  </a:lnTo>
                  <a:lnTo>
                    <a:pt x="136" y="587"/>
                  </a:lnTo>
                  <a:lnTo>
                    <a:pt x="132" y="581"/>
                  </a:lnTo>
                  <a:lnTo>
                    <a:pt x="132" y="576"/>
                  </a:lnTo>
                  <a:lnTo>
                    <a:pt x="132" y="573"/>
                  </a:lnTo>
                  <a:lnTo>
                    <a:pt x="132" y="570"/>
                  </a:lnTo>
                  <a:lnTo>
                    <a:pt x="132" y="567"/>
                  </a:lnTo>
                  <a:lnTo>
                    <a:pt x="129" y="563"/>
                  </a:lnTo>
                  <a:lnTo>
                    <a:pt x="127" y="559"/>
                  </a:lnTo>
                  <a:lnTo>
                    <a:pt x="125" y="554"/>
                  </a:lnTo>
                  <a:lnTo>
                    <a:pt x="124" y="550"/>
                  </a:lnTo>
                  <a:lnTo>
                    <a:pt x="117" y="552"/>
                  </a:lnTo>
                  <a:lnTo>
                    <a:pt x="109" y="554"/>
                  </a:lnTo>
                  <a:lnTo>
                    <a:pt x="103" y="556"/>
                  </a:lnTo>
                  <a:lnTo>
                    <a:pt x="95" y="558"/>
                  </a:lnTo>
                  <a:lnTo>
                    <a:pt x="89" y="560"/>
                  </a:lnTo>
                  <a:lnTo>
                    <a:pt x="82" y="563"/>
                  </a:lnTo>
                  <a:lnTo>
                    <a:pt x="77" y="567"/>
                  </a:lnTo>
                  <a:lnTo>
                    <a:pt x="72" y="571"/>
                  </a:lnTo>
                  <a:lnTo>
                    <a:pt x="63" y="574"/>
                  </a:lnTo>
                  <a:lnTo>
                    <a:pt x="53" y="578"/>
                  </a:lnTo>
                  <a:lnTo>
                    <a:pt x="44" y="585"/>
                  </a:lnTo>
                  <a:lnTo>
                    <a:pt x="34" y="591"/>
                  </a:lnTo>
                  <a:lnTo>
                    <a:pt x="24" y="599"/>
                  </a:lnTo>
                  <a:lnTo>
                    <a:pt x="16" y="607"/>
                  </a:lnTo>
                  <a:lnTo>
                    <a:pt x="7" y="616"/>
                  </a:lnTo>
                  <a:lnTo>
                    <a:pt x="0" y="624"/>
                  </a:lnTo>
                  <a:lnTo>
                    <a:pt x="1" y="613"/>
                  </a:lnTo>
                  <a:lnTo>
                    <a:pt x="2" y="602"/>
                  </a:lnTo>
                  <a:lnTo>
                    <a:pt x="5" y="592"/>
                  </a:lnTo>
                  <a:lnTo>
                    <a:pt x="7" y="584"/>
                  </a:lnTo>
                  <a:lnTo>
                    <a:pt x="11" y="575"/>
                  </a:lnTo>
                  <a:lnTo>
                    <a:pt x="13" y="568"/>
                  </a:lnTo>
                  <a:lnTo>
                    <a:pt x="15" y="559"/>
                  </a:lnTo>
                  <a:lnTo>
                    <a:pt x="16" y="552"/>
                  </a:lnTo>
                  <a:lnTo>
                    <a:pt x="17" y="544"/>
                  </a:lnTo>
                  <a:lnTo>
                    <a:pt x="19" y="537"/>
                  </a:lnTo>
                  <a:lnTo>
                    <a:pt x="21" y="530"/>
                  </a:lnTo>
                  <a:lnTo>
                    <a:pt x="23" y="523"/>
                  </a:lnTo>
                  <a:lnTo>
                    <a:pt x="26" y="516"/>
                  </a:lnTo>
                  <a:lnTo>
                    <a:pt x="28" y="510"/>
                  </a:lnTo>
                  <a:lnTo>
                    <a:pt x="30" y="503"/>
                  </a:lnTo>
                  <a:lnTo>
                    <a:pt x="31" y="495"/>
                  </a:lnTo>
                  <a:lnTo>
                    <a:pt x="35" y="474"/>
                  </a:lnTo>
                  <a:lnTo>
                    <a:pt x="38" y="453"/>
                  </a:lnTo>
                  <a:lnTo>
                    <a:pt x="41" y="433"/>
                  </a:lnTo>
                  <a:lnTo>
                    <a:pt x="42" y="412"/>
                  </a:lnTo>
                  <a:lnTo>
                    <a:pt x="42" y="391"/>
                  </a:lnTo>
                  <a:lnTo>
                    <a:pt x="39" y="370"/>
                  </a:lnTo>
                  <a:lnTo>
                    <a:pt x="37" y="348"/>
                  </a:lnTo>
                  <a:lnTo>
                    <a:pt x="34" y="326"/>
                  </a:lnTo>
                  <a:lnTo>
                    <a:pt x="30" y="301"/>
                  </a:lnTo>
                  <a:lnTo>
                    <a:pt x="26" y="279"/>
                  </a:lnTo>
                  <a:lnTo>
                    <a:pt x="22" y="259"/>
                  </a:lnTo>
                  <a:lnTo>
                    <a:pt x="19" y="239"/>
                  </a:lnTo>
                  <a:lnTo>
                    <a:pt x="16" y="221"/>
                  </a:lnTo>
                  <a:lnTo>
                    <a:pt x="12" y="204"/>
                  </a:lnTo>
                  <a:lnTo>
                    <a:pt x="6" y="186"/>
                  </a:lnTo>
                  <a:lnTo>
                    <a:pt x="1" y="168"/>
                  </a:lnTo>
                  <a:lnTo>
                    <a:pt x="1" y="158"/>
                  </a:lnTo>
                  <a:lnTo>
                    <a:pt x="1" y="150"/>
                  </a:lnTo>
                  <a:lnTo>
                    <a:pt x="2" y="141"/>
                  </a:lnTo>
                  <a:lnTo>
                    <a:pt x="3" y="132"/>
                  </a:lnTo>
                  <a:lnTo>
                    <a:pt x="3" y="125"/>
                  </a:lnTo>
                  <a:lnTo>
                    <a:pt x="3" y="119"/>
                  </a:lnTo>
                  <a:lnTo>
                    <a:pt x="2" y="113"/>
                  </a:lnTo>
                  <a:lnTo>
                    <a:pt x="0" y="109"/>
                  </a:lnTo>
                  <a:lnTo>
                    <a:pt x="2" y="102"/>
                  </a:lnTo>
                  <a:lnTo>
                    <a:pt x="7" y="91"/>
                  </a:lnTo>
                  <a:lnTo>
                    <a:pt x="16" y="74"/>
                  </a:lnTo>
                  <a:lnTo>
                    <a:pt x="24" y="55"/>
                  </a:lnTo>
                  <a:lnTo>
                    <a:pt x="34" y="37"/>
                  </a:lnTo>
                  <a:lnTo>
                    <a:pt x="43" y="20"/>
                  </a:lnTo>
                  <a:lnTo>
                    <a:pt x="49" y="7"/>
                  </a:lnTo>
                  <a:lnTo>
                    <a:pt x="5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3" name="Freeform 127"/>
            <p:cNvSpPr/>
            <p:nvPr/>
          </p:nvSpPr>
          <p:spPr>
            <a:xfrm>
              <a:off x="5586480" y="4181760"/>
              <a:ext cx="49320" cy="92520"/>
            </a:xfrm>
            <a:custGeom>
              <a:avLst/>
              <a:gdLst>
                <a:gd name="textAreaLeft" fmla="*/ 0 w 49320"/>
                <a:gd name="textAreaRight" fmla="*/ 49680 w 49320"/>
                <a:gd name="textAreaTop" fmla="*/ 0 h 92520"/>
                <a:gd name="textAreaBottom" fmla="*/ 92880 h 92520"/>
              </a:gdLst>
              <a:ahLst/>
              <a:rect l="textAreaLeft" t="textAreaTop" r="textAreaRight" b="textAreaBottom"/>
              <a:pathLst>
                <a:path w="322" h="707">
                  <a:moveTo>
                    <a:pt x="322" y="705"/>
                  </a:moveTo>
                  <a:lnTo>
                    <a:pt x="322" y="705"/>
                  </a:lnTo>
                  <a:lnTo>
                    <a:pt x="321" y="689"/>
                  </a:lnTo>
                  <a:lnTo>
                    <a:pt x="319" y="670"/>
                  </a:lnTo>
                  <a:lnTo>
                    <a:pt x="314" y="645"/>
                  </a:lnTo>
                  <a:lnTo>
                    <a:pt x="309" y="618"/>
                  </a:lnTo>
                  <a:lnTo>
                    <a:pt x="301" y="589"/>
                  </a:lnTo>
                  <a:lnTo>
                    <a:pt x="294" y="556"/>
                  </a:lnTo>
                  <a:lnTo>
                    <a:pt x="285" y="522"/>
                  </a:lnTo>
                  <a:lnTo>
                    <a:pt x="276" y="486"/>
                  </a:lnTo>
                  <a:lnTo>
                    <a:pt x="266" y="448"/>
                  </a:lnTo>
                  <a:lnTo>
                    <a:pt x="256" y="410"/>
                  </a:lnTo>
                  <a:lnTo>
                    <a:pt x="247" y="370"/>
                  </a:lnTo>
                  <a:lnTo>
                    <a:pt x="237" y="332"/>
                  </a:lnTo>
                  <a:lnTo>
                    <a:pt x="229" y="293"/>
                  </a:lnTo>
                  <a:lnTo>
                    <a:pt x="221" y="255"/>
                  </a:lnTo>
                  <a:lnTo>
                    <a:pt x="214" y="218"/>
                  </a:lnTo>
                  <a:lnTo>
                    <a:pt x="208" y="183"/>
                  </a:lnTo>
                  <a:lnTo>
                    <a:pt x="208" y="178"/>
                  </a:lnTo>
                  <a:lnTo>
                    <a:pt x="207" y="171"/>
                  </a:lnTo>
                  <a:lnTo>
                    <a:pt x="207" y="165"/>
                  </a:lnTo>
                  <a:lnTo>
                    <a:pt x="208" y="159"/>
                  </a:lnTo>
                  <a:lnTo>
                    <a:pt x="208" y="151"/>
                  </a:lnTo>
                  <a:lnTo>
                    <a:pt x="209" y="143"/>
                  </a:lnTo>
                  <a:lnTo>
                    <a:pt x="209" y="134"/>
                  </a:lnTo>
                  <a:lnTo>
                    <a:pt x="210" y="123"/>
                  </a:lnTo>
                  <a:lnTo>
                    <a:pt x="211" y="114"/>
                  </a:lnTo>
                  <a:lnTo>
                    <a:pt x="213" y="102"/>
                  </a:lnTo>
                  <a:lnTo>
                    <a:pt x="214" y="89"/>
                  </a:lnTo>
                  <a:lnTo>
                    <a:pt x="215" y="75"/>
                  </a:lnTo>
                  <a:lnTo>
                    <a:pt x="216" y="61"/>
                  </a:lnTo>
                  <a:lnTo>
                    <a:pt x="217" y="45"/>
                  </a:lnTo>
                  <a:lnTo>
                    <a:pt x="217" y="28"/>
                  </a:lnTo>
                  <a:lnTo>
                    <a:pt x="218" y="10"/>
                  </a:lnTo>
                  <a:lnTo>
                    <a:pt x="211" y="3"/>
                  </a:lnTo>
                  <a:lnTo>
                    <a:pt x="204" y="0"/>
                  </a:lnTo>
                  <a:lnTo>
                    <a:pt x="195" y="0"/>
                  </a:lnTo>
                  <a:lnTo>
                    <a:pt x="186" y="3"/>
                  </a:lnTo>
                  <a:lnTo>
                    <a:pt x="176" y="11"/>
                  </a:lnTo>
                  <a:lnTo>
                    <a:pt x="167" y="24"/>
                  </a:lnTo>
                  <a:lnTo>
                    <a:pt x="158" y="41"/>
                  </a:lnTo>
                  <a:lnTo>
                    <a:pt x="149" y="63"/>
                  </a:lnTo>
                  <a:lnTo>
                    <a:pt x="142" y="86"/>
                  </a:lnTo>
                  <a:lnTo>
                    <a:pt x="134" y="100"/>
                  </a:lnTo>
                  <a:lnTo>
                    <a:pt x="126" y="109"/>
                  </a:lnTo>
                  <a:lnTo>
                    <a:pt x="119" y="115"/>
                  </a:lnTo>
                  <a:lnTo>
                    <a:pt x="113" y="118"/>
                  </a:lnTo>
                  <a:lnTo>
                    <a:pt x="108" y="121"/>
                  </a:lnTo>
                  <a:lnTo>
                    <a:pt x="103" y="125"/>
                  </a:lnTo>
                  <a:lnTo>
                    <a:pt x="100" y="133"/>
                  </a:lnTo>
                  <a:lnTo>
                    <a:pt x="100" y="166"/>
                  </a:lnTo>
                  <a:lnTo>
                    <a:pt x="100" y="200"/>
                  </a:lnTo>
                  <a:lnTo>
                    <a:pt x="99" y="236"/>
                  </a:lnTo>
                  <a:lnTo>
                    <a:pt x="98" y="270"/>
                  </a:lnTo>
                  <a:lnTo>
                    <a:pt x="97" y="305"/>
                  </a:lnTo>
                  <a:lnTo>
                    <a:pt x="95" y="340"/>
                  </a:lnTo>
                  <a:lnTo>
                    <a:pt x="91" y="376"/>
                  </a:lnTo>
                  <a:lnTo>
                    <a:pt x="87" y="411"/>
                  </a:lnTo>
                  <a:lnTo>
                    <a:pt x="81" y="445"/>
                  </a:lnTo>
                  <a:lnTo>
                    <a:pt x="74" y="478"/>
                  </a:lnTo>
                  <a:lnTo>
                    <a:pt x="67" y="510"/>
                  </a:lnTo>
                  <a:lnTo>
                    <a:pt x="57" y="541"/>
                  </a:lnTo>
                  <a:lnTo>
                    <a:pt x="46" y="571"/>
                  </a:lnTo>
                  <a:lnTo>
                    <a:pt x="32" y="600"/>
                  </a:lnTo>
                  <a:lnTo>
                    <a:pt x="17" y="627"/>
                  </a:lnTo>
                  <a:lnTo>
                    <a:pt x="0" y="652"/>
                  </a:lnTo>
                  <a:lnTo>
                    <a:pt x="8" y="657"/>
                  </a:lnTo>
                  <a:lnTo>
                    <a:pt x="18" y="663"/>
                  </a:lnTo>
                  <a:lnTo>
                    <a:pt x="27" y="669"/>
                  </a:lnTo>
                  <a:lnTo>
                    <a:pt x="39" y="674"/>
                  </a:lnTo>
                  <a:lnTo>
                    <a:pt x="50" y="679"/>
                  </a:lnTo>
                  <a:lnTo>
                    <a:pt x="62" y="685"/>
                  </a:lnTo>
                  <a:lnTo>
                    <a:pt x="74" y="689"/>
                  </a:lnTo>
                  <a:lnTo>
                    <a:pt x="87" y="693"/>
                  </a:lnTo>
                  <a:lnTo>
                    <a:pt x="99" y="698"/>
                  </a:lnTo>
                  <a:lnTo>
                    <a:pt x="112" y="701"/>
                  </a:lnTo>
                  <a:lnTo>
                    <a:pt x="125" y="703"/>
                  </a:lnTo>
                  <a:lnTo>
                    <a:pt x="138" y="705"/>
                  </a:lnTo>
                  <a:lnTo>
                    <a:pt x="150" y="706"/>
                  </a:lnTo>
                  <a:lnTo>
                    <a:pt x="163" y="707"/>
                  </a:lnTo>
                  <a:lnTo>
                    <a:pt x="175" y="707"/>
                  </a:lnTo>
                  <a:lnTo>
                    <a:pt x="187" y="706"/>
                  </a:lnTo>
                  <a:lnTo>
                    <a:pt x="204" y="703"/>
                  </a:lnTo>
                  <a:lnTo>
                    <a:pt x="217" y="700"/>
                  </a:lnTo>
                  <a:lnTo>
                    <a:pt x="229" y="698"/>
                  </a:lnTo>
                  <a:lnTo>
                    <a:pt x="238" y="694"/>
                  </a:lnTo>
                  <a:lnTo>
                    <a:pt x="247" y="691"/>
                  </a:lnTo>
                  <a:lnTo>
                    <a:pt x="256" y="687"/>
                  </a:lnTo>
                  <a:lnTo>
                    <a:pt x="266" y="683"/>
                  </a:lnTo>
                  <a:lnTo>
                    <a:pt x="278" y="676"/>
                  </a:lnTo>
                  <a:lnTo>
                    <a:pt x="283" y="677"/>
                  </a:lnTo>
                  <a:lnTo>
                    <a:pt x="290" y="679"/>
                  </a:lnTo>
                  <a:lnTo>
                    <a:pt x="296" y="683"/>
                  </a:lnTo>
                  <a:lnTo>
                    <a:pt x="301" y="687"/>
                  </a:lnTo>
                  <a:lnTo>
                    <a:pt x="308" y="691"/>
                  </a:lnTo>
                  <a:lnTo>
                    <a:pt x="313" y="697"/>
                  </a:lnTo>
                  <a:lnTo>
                    <a:pt x="317" y="701"/>
                  </a:lnTo>
                  <a:lnTo>
                    <a:pt x="322" y="705"/>
                  </a:lnTo>
                </a:path>
              </a:pathLst>
            </a:custGeom>
            <a:noFill/>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ccecff"/>
                </a:solidFill>
                <a:latin typeface="Times New Roman"/>
              </a:endParaRPr>
            </a:p>
          </p:txBody>
        </p:sp>
        <p:sp>
          <p:nvSpPr>
            <p:cNvPr id="504" name="Freeform 128"/>
            <p:cNvSpPr/>
            <p:nvPr/>
          </p:nvSpPr>
          <p:spPr>
            <a:xfrm>
              <a:off x="5513040" y="4617720"/>
              <a:ext cx="114480" cy="125280"/>
            </a:xfrm>
            <a:custGeom>
              <a:avLst/>
              <a:gdLst>
                <a:gd name="textAreaLeft" fmla="*/ 0 w 114480"/>
                <a:gd name="textAreaRight" fmla="*/ 114840 w 114480"/>
                <a:gd name="textAreaTop" fmla="*/ 0 h 125280"/>
                <a:gd name="textAreaBottom" fmla="*/ 125640 h 125280"/>
              </a:gdLst>
              <a:ahLst/>
              <a:rect l="textAreaLeft" t="textAreaTop" r="textAreaRight" b="textAreaBottom"/>
              <a:pathLst>
                <a:path w="745" h="949">
                  <a:moveTo>
                    <a:pt x="0" y="35"/>
                  </a:moveTo>
                  <a:lnTo>
                    <a:pt x="0" y="35"/>
                  </a:lnTo>
                  <a:lnTo>
                    <a:pt x="38" y="35"/>
                  </a:lnTo>
                  <a:lnTo>
                    <a:pt x="75" y="38"/>
                  </a:lnTo>
                  <a:lnTo>
                    <a:pt x="114" y="40"/>
                  </a:lnTo>
                  <a:lnTo>
                    <a:pt x="152" y="42"/>
                  </a:lnTo>
                  <a:lnTo>
                    <a:pt x="192" y="44"/>
                  </a:lnTo>
                  <a:lnTo>
                    <a:pt x="231" y="47"/>
                  </a:lnTo>
                  <a:lnTo>
                    <a:pt x="271" y="49"/>
                  </a:lnTo>
                  <a:lnTo>
                    <a:pt x="312" y="52"/>
                  </a:lnTo>
                  <a:lnTo>
                    <a:pt x="351" y="53"/>
                  </a:lnTo>
                  <a:lnTo>
                    <a:pt x="391" y="53"/>
                  </a:lnTo>
                  <a:lnTo>
                    <a:pt x="430" y="52"/>
                  </a:lnTo>
                  <a:lnTo>
                    <a:pt x="470" y="49"/>
                  </a:lnTo>
                  <a:lnTo>
                    <a:pt x="509" y="45"/>
                  </a:lnTo>
                  <a:lnTo>
                    <a:pt x="547" y="39"/>
                  </a:lnTo>
                  <a:lnTo>
                    <a:pt x="585" y="31"/>
                  </a:lnTo>
                  <a:lnTo>
                    <a:pt x="622" y="21"/>
                  </a:lnTo>
                  <a:lnTo>
                    <a:pt x="628" y="19"/>
                  </a:lnTo>
                  <a:lnTo>
                    <a:pt x="637" y="16"/>
                  </a:lnTo>
                  <a:lnTo>
                    <a:pt x="649" y="11"/>
                  </a:lnTo>
                  <a:lnTo>
                    <a:pt x="661" y="7"/>
                  </a:lnTo>
                  <a:lnTo>
                    <a:pt x="673" y="2"/>
                  </a:lnTo>
                  <a:lnTo>
                    <a:pt x="686" y="0"/>
                  </a:lnTo>
                  <a:lnTo>
                    <a:pt x="698" y="0"/>
                  </a:lnTo>
                  <a:lnTo>
                    <a:pt x="709" y="4"/>
                  </a:lnTo>
                  <a:lnTo>
                    <a:pt x="720" y="21"/>
                  </a:lnTo>
                  <a:lnTo>
                    <a:pt x="725" y="33"/>
                  </a:lnTo>
                  <a:lnTo>
                    <a:pt x="728" y="48"/>
                  </a:lnTo>
                  <a:lnTo>
                    <a:pt x="730" y="65"/>
                  </a:lnTo>
                  <a:lnTo>
                    <a:pt x="731" y="85"/>
                  </a:lnTo>
                  <a:lnTo>
                    <a:pt x="732" y="105"/>
                  </a:lnTo>
                  <a:lnTo>
                    <a:pt x="732" y="126"/>
                  </a:lnTo>
                  <a:lnTo>
                    <a:pt x="732" y="148"/>
                  </a:lnTo>
                  <a:lnTo>
                    <a:pt x="731" y="170"/>
                  </a:lnTo>
                  <a:lnTo>
                    <a:pt x="731" y="193"/>
                  </a:lnTo>
                  <a:lnTo>
                    <a:pt x="730" y="214"/>
                  </a:lnTo>
                  <a:lnTo>
                    <a:pt x="730" y="236"/>
                  </a:lnTo>
                  <a:lnTo>
                    <a:pt x="729" y="256"/>
                  </a:lnTo>
                  <a:lnTo>
                    <a:pt x="729" y="275"/>
                  </a:lnTo>
                  <a:lnTo>
                    <a:pt x="730" y="292"/>
                  </a:lnTo>
                  <a:lnTo>
                    <a:pt x="731" y="308"/>
                  </a:lnTo>
                  <a:lnTo>
                    <a:pt x="733" y="321"/>
                  </a:lnTo>
                  <a:lnTo>
                    <a:pt x="735" y="342"/>
                  </a:lnTo>
                  <a:lnTo>
                    <a:pt x="737" y="365"/>
                  </a:lnTo>
                  <a:lnTo>
                    <a:pt x="738" y="388"/>
                  </a:lnTo>
                  <a:lnTo>
                    <a:pt x="739" y="412"/>
                  </a:lnTo>
                  <a:lnTo>
                    <a:pt x="739" y="436"/>
                  </a:lnTo>
                  <a:lnTo>
                    <a:pt x="739" y="460"/>
                  </a:lnTo>
                  <a:lnTo>
                    <a:pt x="739" y="486"/>
                  </a:lnTo>
                  <a:lnTo>
                    <a:pt x="740" y="510"/>
                  </a:lnTo>
                  <a:lnTo>
                    <a:pt x="740" y="535"/>
                  </a:lnTo>
                  <a:lnTo>
                    <a:pt x="740" y="559"/>
                  </a:lnTo>
                  <a:lnTo>
                    <a:pt x="740" y="582"/>
                  </a:lnTo>
                  <a:lnTo>
                    <a:pt x="740" y="606"/>
                  </a:lnTo>
                  <a:lnTo>
                    <a:pt x="741" y="627"/>
                  </a:lnTo>
                  <a:lnTo>
                    <a:pt x="742" y="648"/>
                  </a:lnTo>
                  <a:lnTo>
                    <a:pt x="743" y="669"/>
                  </a:lnTo>
                  <a:lnTo>
                    <a:pt x="745" y="687"/>
                  </a:lnTo>
                  <a:lnTo>
                    <a:pt x="745" y="814"/>
                  </a:lnTo>
                  <a:lnTo>
                    <a:pt x="739" y="824"/>
                  </a:lnTo>
                  <a:lnTo>
                    <a:pt x="730" y="839"/>
                  </a:lnTo>
                  <a:lnTo>
                    <a:pt x="719" y="856"/>
                  </a:lnTo>
                  <a:lnTo>
                    <a:pt x="708" y="876"/>
                  </a:lnTo>
                  <a:lnTo>
                    <a:pt x="695" y="894"/>
                  </a:lnTo>
                  <a:lnTo>
                    <a:pt x="682" y="910"/>
                  </a:lnTo>
                  <a:lnTo>
                    <a:pt x="670" y="921"/>
                  </a:lnTo>
                  <a:lnTo>
                    <a:pt x="659" y="925"/>
                  </a:lnTo>
                  <a:lnTo>
                    <a:pt x="635" y="925"/>
                  </a:lnTo>
                  <a:lnTo>
                    <a:pt x="610" y="893"/>
                  </a:lnTo>
                  <a:lnTo>
                    <a:pt x="599" y="894"/>
                  </a:lnTo>
                  <a:lnTo>
                    <a:pt x="588" y="895"/>
                  </a:lnTo>
                  <a:lnTo>
                    <a:pt x="575" y="899"/>
                  </a:lnTo>
                  <a:lnTo>
                    <a:pt x="562" y="901"/>
                  </a:lnTo>
                  <a:lnTo>
                    <a:pt x="548" y="904"/>
                  </a:lnTo>
                  <a:lnTo>
                    <a:pt x="535" y="907"/>
                  </a:lnTo>
                  <a:lnTo>
                    <a:pt x="524" y="908"/>
                  </a:lnTo>
                  <a:lnTo>
                    <a:pt x="513" y="909"/>
                  </a:lnTo>
                  <a:lnTo>
                    <a:pt x="489" y="920"/>
                  </a:lnTo>
                  <a:lnTo>
                    <a:pt x="466" y="930"/>
                  </a:lnTo>
                  <a:lnTo>
                    <a:pt x="442" y="936"/>
                  </a:lnTo>
                  <a:lnTo>
                    <a:pt x="418" y="941"/>
                  </a:lnTo>
                  <a:lnTo>
                    <a:pt x="392" y="946"/>
                  </a:lnTo>
                  <a:lnTo>
                    <a:pt x="366" y="948"/>
                  </a:lnTo>
                  <a:lnTo>
                    <a:pt x="340" y="949"/>
                  </a:lnTo>
                  <a:lnTo>
                    <a:pt x="315" y="949"/>
                  </a:lnTo>
                  <a:lnTo>
                    <a:pt x="288" y="949"/>
                  </a:lnTo>
                  <a:lnTo>
                    <a:pt x="261" y="948"/>
                  </a:lnTo>
                  <a:lnTo>
                    <a:pt x="234" y="947"/>
                  </a:lnTo>
                  <a:lnTo>
                    <a:pt x="207" y="946"/>
                  </a:lnTo>
                  <a:lnTo>
                    <a:pt x="180" y="944"/>
                  </a:lnTo>
                  <a:lnTo>
                    <a:pt x="152" y="943"/>
                  </a:lnTo>
                  <a:lnTo>
                    <a:pt x="125" y="941"/>
                  </a:lnTo>
                  <a:lnTo>
                    <a:pt x="97" y="941"/>
                  </a:lnTo>
                  <a:lnTo>
                    <a:pt x="93" y="930"/>
                  </a:lnTo>
                  <a:lnTo>
                    <a:pt x="89" y="917"/>
                  </a:lnTo>
                  <a:lnTo>
                    <a:pt x="85" y="904"/>
                  </a:lnTo>
                  <a:lnTo>
                    <a:pt x="81" y="891"/>
                  </a:lnTo>
                  <a:lnTo>
                    <a:pt x="78" y="878"/>
                  </a:lnTo>
                  <a:lnTo>
                    <a:pt x="75" y="866"/>
                  </a:lnTo>
                  <a:lnTo>
                    <a:pt x="72" y="853"/>
                  </a:lnTo>
                  <a:lnTo>
                    <a:pt x="69" y="839"/>
                  </a:lnTo>
                  <a:lnTo>
                    <a:pt x="66" y="825"/>
                  </a:lnTo>
                  <a:lnTo>
                    <a:pt x="64" y="812"/>
                  </a:lnTo>
                  <a:lnTo>
                    <a:pt x="62" y="798"/>
                  </a:lnTo>
                  <a:lnTo>
                    <a:pt x="60" y="784"/>
                  </a:lnTo>
                  <a:lnTo>
                    <a:pt x="59" y="770"/>
                  </a:lnTo>
                  <a:lnTo>
                    <a:pt x="57" y="756"/>
                  </a:lnTo>
                  <a:lnTo>
                    <a:pt x="56" y="741"/>
                  </a:lnTo>
                  <a:lnTo>
                    <a:pt x="55" y="728"/>
                  </a:lnTo>
                  <a:lnTo>
                    <a:pt x="54" y="713"/>
                  </a:lnTo>
                  <a:lnTo>
                    <a:pt x="53" y="699"/>
                  </a:lnTo>
                  <a:lnTo>
                    <a:pt x="51" y="684"/>
                  </a:lnTo>
                  <a:lnTo>
                    <a:pt x="51" y="669"/>
                  </a:lnTo>
                  <a:lnTo>
                    <a:pt x="50" y="654"/>
                  </a:lnTo>
                  <a:lnTo>
                    <a:pt x="49" y="640"/>
                  </a:lnTo>
                  <a:lnTo>
                    <a:pt x="49" y="625"/>
                  </a:lnTo>
                  <a:lnTo>
                    <a:pt x="49" y="609"/>
                  </a:lnTo>
                  <a:lnTo>
                    <a:pt x="49" y="594"/>
                  </a:lnTo>
                  <a:lnTo>
                    <a:pt x="48" y="579"/>
                  </a:lnTo>
                  <a:lnTo>
                    <a:pt x="48" y="564"/>
                  </a:lnTo>
                  <a:lnTo>
                    <a:pt x="48" y="549"/>
                  </a:lnTo>
                  <a:lnTo>
                    <a:pt x="48" y="534"/>
                  </a:lnTo>
                  <a:lnTo>
                    <a:pt x="48" y="518"/>
                  </a:lnTo>
                  <a:lnTo>
                    <a:pt x="48" y="503"/>
                  </a:lnTo>
                  <a:lnTo>
                    <a:pt x="48" y="488"/>
                  </a:lnTo>
                  <a:lnTo>
                    <a:pt x="48" y="473"/>
                  </a:lnTo>
                  <a:lnTo>
                    <a:pt x="48" y="457"/>
                  </a:lnTo>
                  <a:lnTo>
                    <a:pt x="48" y="441"/>
                  </a:lnTo>
                  <a:lnTo>
                    <a:pt x="49" y="425"/>
                  </a:lnTo>
                  <a:lnTo>
                    <a:pt x="49" y="408"/>
                  </a:lnTo>
                  <a:lnTo>
                    <a:pt x="49" y="392"/>
                  </a:lnTo>
                  <a:lnTo>
                    <a:pt x="49" y="376"/>
                  </a:lnTo>
                  <a:lnTo>
                    <a:pt x="49" y="360"/>
                  </a:lnTo>
                  <a:lnTo>
                    <a:pt x="49" y="344"/>
                  </a:lnTo>
                  <a:lnTo>
                    <a:pt x="48" y="327"/>
                  </a:lnTo>
                  <a:lnTo>
                    <a:pt x="48" y="313"/>
                  </a:lnTo>
                  <a:lnTo>
                    <a:pt x="47" y="296"/>
                  </a:lnTo>
                  <a:lnTo>
                    <a:pt x="46" y="283"/>
                  </a:lnTo>
                  <a:lnTo>
                    <a:pt x="45" y="269"/>
                  </a:lnTo>
                  <a:lnTo>
                    <a:pt x="43" y="255"/>
                  </a:lnTo>
                  <a:lnTo>
                    <a:pt x="41" y="242"/>
                  </a:lnTo>
                  <a:lnTo>
                    <a:pt x="39" y="229"/>
                  </a:lnTo>
                  <a:lnTo>
                    <a:pt x="35" y="217"/>
                  </a:lnTo>
                  <a:lnTo>
                    <a:pt x="32" y="206"/>
                  </a:lnTo>
                  <a:lnTo>
                    <a:pt x="30" y="194"/>
                  </a:lnTo>
                  <a:lnTo>
                    <a:pt x="27" y="182"/>
                  </a:lnTo>
                  <a:lnTo>
                    <a:pt x="25" y="170"/>
                  </a:lnTo>
                  <a:lnTo>
                    <a:pt x="21" y="157"/>
                  </a:lnTo>
                  <a:lnTo>
                    <a:pt x="19" y="146"/>
                  </a:lnTo>
                  <a:lnTo>
                    <a:pt x="16" y="133"/>
                  </a:lnTo>
                  <a:lnTo>
                    <a:pt x="14" y="120"/>
                  </a:lnTo>
                  <a:lnTo>
                    <a:pt x="11" y="107"/>
                  </a:lnTo>
                  <a:lnTo>
                    <a:pt x="9" y="94"/>
                  </a:lnTo>
                  <a:lnTo>
                    <a:pt x="7" y="80"/>
                  </a:lnTo>
                  <a:lnTo>
                    <a:pt x="4" y="65"/>
                  </a:lnTo>
                  <a:lnTo>
                    <a:pt x="2" y="52"/>
                  </a:lnTo>
                  <a:lnTo>
                    <a:pt x="0" y="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5" name="Freeform 129"/>
            <p:cNvSpPr/>
            <p:nvPr/>
          </p:nvSpPr>
          <p:spPr>
            <a:xfrm>
              <a:off x="5511240" y="4585320"/>
              <a:ext cx="112680" cy="39600"/>
            </a:xfrm>
            <a:custGeom>
              <a:avLst/>
              <a:gdLst>
                <a:gd name="textAreaLeft" fmla="*/ 0 w 112680"/>
                <a:gd name="textAreaRight" fmla="*/ 113040 w 112680"/>
                <a:gd name="textAreaTop" fmla="*/ 0 h 39600"/>
                <a:gd name="textAreaBottom" fmla="*/ 39960 h 39600"/>
              </a:gdLst>
              <a:ahLst/>
              <a:rect l="textAreaLeft" t="textAreaTop" r="textAreaRight" b="textAreaBottom"/>
              <a:pathLst>
                <a:path w="743" h="302">
                  <a:moveTo>
                    <a:pt x="32" y="37"/>
                  </a:moveTo>
                  <a:lnTo>
                    <a:pt x="32" y="37"/>
                  </a:lnTo>
                  <a:lnTo>
                    <a:pt x="48" y="33"/>
                  </a:lnTo>
                  <a:lnTo>
                    <a:pt x="65" y="31"/>
                  </a:lnTo>
                  <a:lnTo>
                    <a:pt x="82" y="30"/>
                  </a:lnTo>
                  <a:lnTo>
                    <a:pt x="102" y="29"/>
                  </a:lnTo>
                  <a:lnTo>
                    <a:pt x="120" y="29"/>
                  </a:lnTo>
                  <a:lnTo>
                    <a:pt x="140" y="29"/>
                  </a:lnTo>
                  <a:lnTo>
                    <a:pt x="161" y="29"/>
                  </a:lnTo>
                  <a:lnTo>
                    <a:pt x="182" y="30"/>
                  </a:lnTo>
                  <a:lnTo>
                    <a:pt x="203" y="30"/>
                  </a:lnTo>
                  <a:lnTo>
                    <a:pt x="225" y="31"/>
                  </a:lnTo>
                  <a:lnTo>
                    <a:pt x="247" y="33"/>
                  </a:lnTo>
                  <a:lnTo>
                    <a:pt x="270" y="34"/>
                  </a:lnTo>
                  <a:lnTo>
                    <a:pt x="293" y="35"/>
                  </a:lnTo>
                  <a:lnTo>
                    <a:pt x="317" y="38"/>
                  </a:lnTo>
                  <a:lnTo>
                    <a:pt x="340" y="39"/>
                  </a:lnTo>
                  <a:lnTo>
                    <a:pt x="364" y="40"/>
                  </a:lnTo>
                  <a:lnTo>
                    <a:pt x="389" y="41"/>
                  </a:lnTo>
                  <a:lnTo>
                    <a:pt x="412" y="42"/>
                  </a:lnTo>
                  <a:lnTo>
                    <a:pt x="437" y="43"/>
                  </a:lnTo>
                  <a:lnTo>
                    <a:pt x="461" y="43"/>
                  </a:lnTo>
                  <a:lnTo>
                    <a:pt x="485" y="43"/>
                  </a:lnTo>
                  <a:lnTo>
                    <a:pt x="510" y="42"/>
                  </a:lnTo>
                  <a:lnTo>
                    <a:pt x="534" y="41"/>
                  </a:lnTo>
                  <a:lnTo>
                    <a:pt x="558" y="40"/>
                  </a:lnTo>
                  <a:lnTo>
                    <a:pt x="581" y="38"/>
                  </a:lnTo>
                  <a:lnTo>
                    <a:pt x="605" y="34"/>
                  </a:lnTo>
                  <a:lnTo>
                    <a:pt x="628" y="31"/>
                  </a:lnTo>
                  <a:lnTo>
                    <a:pt x="652" y="27"/>
                  </a:lnTo>
                  <a:lnTo>
                    <a:pt x="674" y="22"/>
                  </a:lnTo>
                  <a:lnTo>
                    <a:pt x="697" y="15"/>
                  </a:lnTo>
                  <a:lnTo>
                    <a:pt x="718" y="8"/>
                  </a:lnTo>
                  <a:lnTo>
                    <a:pt x="740" y="0"/>
                  </a:lnTo>
                  <a:lnTo>
                    <a:pt x="740" y="8"/>
                  </a:lnTo>
                  <a:lnTo>
                    <a:pt x="740" y="18"/>
                  </a:lnTo>
                  <a:lnTo>
                    <a:pt x="741" y="31"/>
                  </a:lnTo>
                  <a:lnTo>
                    <a:pt x="741" y="45"/>
                  </a:lnTo>
                  <a:lnTo>
                    <a:pt x="742" y="62"/>
                  </a:lnTo>
                  <a:lnTo>
                    <a:pt x="742" y="79"/>
                  </a:lnTo>
                  <a:lnTo>
                    <a:pt x="743" y="98"/>
                  </a:lnTo>
                  <a:lnTo>
                    <a:pt x="743" y="117"/>
                  </a:lnTo>
                  <a:lnTo>
                    <a:pt x="743" y="136"/>
                  </a:lnTo>
                  <a:lnTo>
                    <a:pt x="743" y="154"/>
                  </a:lnTo>
                  <a:lnTo>
                    <a:pt x="743" y="171"/>
                  </a:lnTo>
                  <a:lnTo>
                    <a:pt x="743" y="187"/>
                  </a:lnTo>
                  <a:lnTo>
                    <a:pt x="742" y="202"/>
                  </a:lnTo>
                  <a:lnTo>
                    <a:pt x="741" y="215"/>
                  </a:lnTo>
                  <a:lnTo>
                    <a:pt x="739" y="226"/>
                  </a:lnTo>
                  <a:lnTo>
                    <a:pt x="736" y="233"/>
                  </a:lnTo>
                  <a:lnTo>
                    <a:pt x="725" y="248"/>
                  </a:lnTo>
                  <a:lnTo>
                    <a:pt x="675" y="248"/>
                  </a:lnTo>
                  <a:lnTo>
                    <a:pt x="655" y="255"/>
                  </a:lnTo>
                  <a:lnTo>
                    <a:pt x="635" y="262"/>
                  </a:lnTo>
                  <a:lnTo>
                    <a:pt x="615" y="270"/>
                  </a:lnTo>
                  <a:lnTo>
                    <a:pt x="597" y="276"/>
                  </a:lnTo>
                  <a:lnTo>
                    <a:pt x="580" y="283"/>
                  </a:lnTo>
                  <a:lnTo>
                    <a:pt x="563" y="288"/>
                  </a:lnTo>
                  <a:lnTo>
                    <a:pt x="548" y="291"/>
                  </a:lnTo>
                  <a:lnTo>
                    <a:pt x="533" y="292"/>
                  </a:lnTo>
                  <a:lnTo>
                    <a:pt x="504" y="295"/>
                  </a:lnTo>
                  <a:lnTo>
                    <a:pt x="474" y="299"/>
                  </a:lnTo>
                  <a:lnTo>
                    <a:pt x="445" y="300"/>
                  </a:lnTo>
                  <a:lnTo>
                    <a:pt x="417" y="301"/>
                  </a:lnTo>
                  <a:lnTo>
                    <a:pt x="390" y="302"/>
                  </a:lnTo>
                  <a:lnTo>
                    <a:pt x="362" y="302"/>
                  </a:lnTo>
                  <a:lnTo>
                    <a:pt x="334" y="301"/>
                  </a:lnTo>
                  <a:lnTo>
                    <a:pt x="307" y="300"/>
                  </a:lnTo>
                  <a:lnTo>
                    <a:pt x="282" y="299"/>
                  </a:lnTo>
                  <a:lnTo>
                    <a:pt x="256" y="296"/>
                  </a:lnTo>
                  <a:lnTo>
                    <a:pt x="231" y="295"/>
                  </a:lnTo>
                  <a:lnTo>
                    <a:pt x="207" y="293"/>
                  </a:lnTo>
                  <a:lnTo>
                    <a:pt x="183" y="290"/>
                  </a:lnTo>
                  <a:lnTo>
                    <a:pt x="161" y="288"/>
                  </a:lnTo>
                  <a:lnTo>
                    <a:pt x="138" y="286"/>
                  </a:lnTo>
                  <a:lnTo>
                    <a:pt x="117" y="284"/>
                  </a:lnTo>
                  <a:lnTo>
                    <a:pt x="104" y="283"/>
                  </a:lnTo>
                  <a:lnTo>
                    <a:pt x="90" y="283"/>
                  </a:lnTo>
                  <a:lnTo>
                    <a:pt x="74" y="283"/>
                  </a:lnTo>
                  <a:lnTo>
                    <a:pt x="58" y="281"/>
                  </a:lnTo>
                  <a:lnTo>
                    <a:pt x="42" y="281"/>
                  </a:lnTo>
                  <a:lnTo>
                    <a:pt x="26" y="281"/>
                  </a:lnTo>
                  <a:lnTo>
                    <a:pt x="12" y="281"/>
                  </a:lnTo>
                  <a:lnTo>
                    <a:pt x="0" y="280"/>
                  </a:lnTo>
                  <a:lnTo>
                    <a:pt x="0" y="269"/>
                  </a:lnTo>
                  <a:lnTo>
                    <a:pt x="1" y="255"/>
                  </a:lnTo>
                  <a:lnTo>
                    <a:pt x="3" y="241"/>
                  </a:lnTo>
                  <a:lnTo>
                    <a:pt x="4" y="225"/>
                  </a:lnTo>
                  <a:lnTo>
                    <a:pt x="8" y="209"/>
                  </a:lnTo>
                  <a:lnTo>
                    <a:pt x="10" y="192"/>
                  </a:lnTo>
                  <a:lnTo>
                    <a:pt x="13" y="173"/>
                  </a:lnTo>
                  <a:lnTo>
                    <a:pt x="15" y="156"/>
                  </a:lnTo>
                  <a:lnTo>
                    <a:pt x="18" y="139"/>
                  </a:lnTo>
                  <a:lnTo>
                    <a:pt x="21" y="122"/>
                  </a:lnTo>
                  <a:lnTo>
                    <a:pt x="24" y="105"/>
                  </a:lnTo>
                  <a:lnTo>
                    <a:pt x="26" y="89"/>
                  </a:lnTo>
                  <a:lnTo>
                    <a:pt x="28" y="74"/>
                  </a:lnTo>
                  <a:lnTo>
                    <a:pt x="30" y="60"/>
                  </a:lnTo>
                  <a:lnTo>
                    <a:pt x="31" y="47"/>
                  </a:lnTo>
                  <a:lnTo>
                    <a:pt x="32" y="37"/>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ccecff"/>
                </a:solidFill>
                <a:latin typeface="Times New Roman"/>
              </a:endParaRPr>
            </a:p>
          </p:txBody>
        </p:sp>
        <p:sp>
          <p:nvSpPr>
            <p:cNvPr id="506" name="Freeform 130"/>
            <p:cNvSpPr/>
            <p:nvPr/>
          </p:nvSpPr>
          <p:spPr>
            <a:xfrm>
              <a:off x="5334120" y="4258440"/>
              <a:ext cx="579240" cy="986400"/>
            </a:xfrm>
            <a:custGeom>
              <a:avLst/>
              <a:gdLst>
                <a:gd name="textAreaLeft" fmla="*/ 0 w 579240"/>
                <a:gd name="textAreaRight" fmla="*/ 579600 w 579240"/>
                <a:gd name="textAreaTop" fmla="*/ 0 h 986400"/>
                <a:gd name="textAreaBottom" fmla="*/ 986760 h 986400"/>
              </a:gdLst>
              <a:ahLst/>
              <a:rect l="textAreaLeft" t="textAreaTop" r="textAreaRight" b="textAreaBottom"/>
              <a:pathLst>
                <a:path w="3786" h="7464">
                  <a:moveTo>
                    <a:pt x="3236" y="1389"/>
                  </a:moveTo>
                  <a:lnTo>
                    <a:pt x="3241" y="1388"/>
                  </a:lnTo>
                  <a:lnTo>
                    <a:pt x="3248" y="1386"/>
                  </a:lnTo>
                  <a:lnTo>
                    <a:pt x="3254" y="1384"/>
                  </a:lnTo>
                  <a:lnTo>
                    <a:pt x="3260" y="1379"/>
                  </a:lnTo>
                  <a:lnTo>
                    <a:pt x="3268" y="1376"/>
                  </a:lnTo>
                  <a:lnTo>
                    <a:pt x="3274" y="1374"/>
                  </a:lnTo>
                  <a:lnTo>
                    <a:pt x="3280" y="1372"/>
                  </a:lnTo>
                  <a:lnTo>
                    <a:pt x="3285" y="1371"/>
                  </a:lnTo>
                  <a:lnTo>
                    <a:pt x="3283" y="1354"/>
                  </a:lnTo>
                  <a:lnTo>
                    <a:pt x="3275" y="1340"/>
                  </a:lnTo>
                  <a:lnTo>
                    <a:pt x="3266" y="1327"/>
                  </a:lnTo>
                  <a:lnTo>
                    <a:pt x="3255" y="1315"/>
                  </a:lnTo>
                  <a:lnTo>
                    <a:pt x="3244" y="1303"/>
                  </a:lnTo>
                  <a:lnTo>
                    <a:pt x="3235" y="1290"/>
                  </a:lnTo>
                  <a:lnTo>
                    <a:pt x="3227" y="1277"/>
                  </a:lnTo>
                  <a:lnTo>
                    <a:pt x="3225" y="1260"/>
                  </a:lnTo>
                  <a:lnTo>
                    <a:pt x="3225" y="1228"/>
                  </a:lnTo>
                  <a:lnTo>
                    <a:pt x="3230" y="1203"/>
                  </a:lnTo>
                  <a:lnTo>
                    <a:pt x="3238" y="1183"/>
                  </a:lnTo>
                  <a:lnTo>
                    <a:pt x="3246" y="1170"/>
                  </a:lnTo>
                  <a:lnTo>
                    <a:pt x="3257" y="1158"/>
                  </a:lnTo>
                  <a:lnTo>
                    <a:pt x="3270" y="1148"/>
                  </a:lnTo>
                  <a:lnTo>
                    <a:pt x="3285" y="1139"/>
                  </a:lnTo>
                  <a:lnTo>
                    <a:pt x="3302" y="1126"/>
                  </a:lnTo>
                  <a:lnTo>
                    <a:pt x="3320" y="1109"/>
                  </a:lnTo>
                  <a:lnTo>
                    <a:pt x="3330" y="1098"/>
                  </a:lnTo>
                  <a:lnTo>
                    <a:pt x="3344" y="1080"/>
                  </a:lnTo>
                  <a:lnTo>
                    <a:pt x="3361" y="1056"/>
                  </a:lnTo>
                  <a:lnTo>
                    <a:pt x="3380" y="1031"/>
                  </a:lnTo>
                  <a:lnTo>
                    <a:pt x="3398" y="1005"/>
                  </a:lnTo>
                  <a:lnTo>
                    <a:pt x="3413" y="980"/>
                  </a:lnTo>
                  <a:lnTo>
                    <a:pt x="3425" y="960"/>
                  </a:lnTo>
                  <a:lnTo>
                    <a:pt x="3432" y="945"/>
                  </a:lnTo>
                  <a:lnTo>
                    <a:pt x="3422" y="936"/>
                  </a:lnTo>
                  <a:lnTo>
                    <a:pt x="3413" y="931"/>
                  </a:lnTo>
                  <a:lnTo>
                    <a:pt x="3406" y="928"/>
                  </a:lnTo>
                  <a:lnTo>
                    <a:pt x="3398" y="928"/>
                  </a:lnTo>
                  <a:lnTo>
                    <a:pt x="3391" y="929"/>
                  </a:lnTo>
                  <a:lnTo>
                    <a:pt x="3385" y="932"/>
                  </a:lnTo>
                  <a:lnTo>
                    <a:pt x="3378" y="936"/>
                  </a:lnTo>
                  <a:lnTo>
                    <a:pt x="3372" y="942"/>
                  </a:lnTo>
                  <a:lnTo>
                    <a:pt x="3367" y="948"/>
                  </a:lnTo>
                  <a:lnTo>
                    <a:pt x="3364" y="956"/>
                  </a:lnTo>
                  <a:lnTo>
                    <a:pt x="3361" y="965"/>
                  </a:lnTo>
                  <a:lnTo>
                    <a:pt x="3358" y="976"/>
                  </a:lnTo>
                  <a:lnTo>
                    <a:pt x="3355" y="989"/>
                  </a:lnTo>
                  <a:lnTo>
                    <a:pt x="3350" y="1002"/>
                  </a:lnTo>
                  <a:lnTo>
                    <a:pt x="3345" y="1016"/>
                  </a:lnTo>
                  <a:lnTo>
                    <a:pt x="3339" y="1029"/>
                  </a:lnTo>
                  <a:lnTo>
                    <a:pt x="3332" y="1043"/>
                  </a:lnTo>
                  <a:lnTo>
                    <a:pt x="3322" y="1057"/>
                  </a:lnTo>
                  <a:lnTo>
                    <a:pt x="3312" y="1070"/>
                  </a:lnTo>
                  <a:lnTo>
                    <a:pt x="3300" y="1083"/>
                  </a:lnTo>
                  <a:lnTo>
                    <a:pt x="3285" y="1094"/>
                  </a:lnTo>
                  <a:lnTo>
                    <a:pt x="3268" y="1103"/>
                  </a:lnTo>
                  <a:lnTo>
                    <a:pt x="3248" y="1112"/>
                  </a:lnTo>
                  <a:lnTo>
                    <a:pt x="3225" y="1118"/>
                  </a:lnTo>
                  <a:lnTo>
                    <a:pt x="3218" y="1135"/>
                  </a:lnTo>
                  <a:lnTo>
                    <a:pt x="3207" y="1149"/>
                  </a:lnTo>
                  <a:lnTo>
                    <a:pt x="3194" y="1160"/>
                  </a:lnTo>
                  <a:lnTo>
                    <a:pt x="3178" y="1166"/>
                  </a:lnTo>
                  <a:lnTo>
                    <a:pt x="3162" y="1171"/>
                  </a:lnTo>
                  <a:lnTo>
                    <a:pt x="3145" y="1171"/>
                  </a:lnTo>
                  <a:lnTo>
                    <a:pt x="3128" y="1167"/>
                  </a:lnTo>
                  <a:lnTo>
                    <a:pt x="3111" y="1161"/>
                  </a:lnTo>
                  <a:lnTo>
                    <a:pt x="3103" y="1149"/>
                  </a:lnTo>
                  <a:lnTo>
                    <a:pt x="3097" y="1137"/>
                  </a:lnTo>
                  <a:lnTo>
                    <a:pt x="3093" y="1126"/>
                  </a:lnTo>
                  <a:lnTo>
                    <a:pt x="3091" y="1113"/>
                  </a:lnTo>
                  <a:lnTo>
                    <a:pt x="3090" y="1100"/>
                  </a:lnTo>
                  <a:lnTo>
                    <a:pt x="3090" y="1087"/>
                  </a:lnTo>
                  <a:lnTo>
                    <a:pt x="3090" y="1072"/>
                  </a:lnTo>
                  <a:lnTo>
                    <a:pt x="3090" y="1055"/>
                  </a:lnTo>
                  <a:lnTo>
                    <a:pt x="3043" y="1055"/>
                  </a:lnTo>
                  <a:lnTo>
                    <a:pt x="3019" y="991"/>
                  </a:lnTo>
                  <a:lnTo>
                    <a:pt x="3016" y="998"/>
                  </a:lnTo>
                  <a:lnTo>
                    <a:pt x="3012" y="1007"/>
                  </a:lnTo>
                  <a:lnTo>
                    <a:pt x="3006" y="1019"/>
                  </a:lnTo>
                  <a:lnTo>
                    <a:pt x="2999" y="1033"/>
                  </a:lnTo>
                  <a:lnTo>
                    <a:pt x="2993" y="1048"/>
                  </a:lnTo>
                  <a:lnTo>
                    <a:pt x="2990" y="1066"/>
                  </a:lnTo>
                  <a:lnTo>
                    <a:pt x="2989" y="1087"/>
                  </a:lnTo>
                  <a:lnTo>
                    <a:pt x="2992" y="1110"/>
                  </a:lnTo>
                  <a:lnTo>
                    <a:pt x="2996" y="1112"/>
                  </a:lnTo>
                  <a:lnTo>
                    <a:pt x="2999" y="1117"/>
                  </a:lnTo>
                  <a:lnTo>
                    <a:pt x="3002" y="1126"/>
                  </a:lnTo>
                  <a:lnTo>
                    <a:pt x="3006" y="1135"/>
                  </a:lnTo>
                  <a:lnTo>
                    <a:pt x="3008" y="1146"/>
                  </a:lnTo>
                  <a:lnTo>
                    <a:pt x="3011" y="1157"/>
                  </a:lnTo>
                  <a:lnTo>
                    <a:pt x="3014" y="1165"/>
                  </a:lnTo>
                  <a:lnTo>
                    <a:pt x="3019" y="1173"/>
                  </a:lnTo>
                  <a:lnTo>
                    <a:pt x="3027" y="1180"/>
                  </a:lnTo>
                  <a:lnTo>
                    <a:pt x="3035" y="1188"/>
                  </a:lnTo>
                  <a:lnTo>
                    <a:pt x="3043" y="1194"/>
                  </a:lnTo>
                  <a:lnTo>
                    <a:pt x="3052" y="1201"/>
                  </a:lnTo>
                  <a:lnTo>
                    <a:pt x="3060" y="1207"/>
                  </a:lnTo>
                  <a:lnTo>
                    <a:pt x="3069" y="1212"/>
                  </a:lnTo>
                  <a:lnTo>
                    <a:pt x="3076" y="1219"/>
                  </a:lnTo>
                  <a:lnTo>
                    <a:pt x="3085" y="1225"/>
                  </a:lnTo>
                  <a:lnTo>
                    <a:pt x="3100" y="1236"/>
                  </a:lnTo>
                  <a:lnTo>
                    <a:pt x="3114" y="1244"/>
                  </a:lnTo>
                  <a:lnTo>
                    <a:pt x="3124" y="1253"/>
                  </a:lnTo>
                  <a:lnTo>
                    <a:pt x="3133" y="1262"/>
                  </a:lnTo>
                  <a:lnTo>
                    <a:pt x="3136" y="1271"/>
                  </a:lnTo>
                  <a:lnTo>
                    <a:pt x="3136" y="1280"/>
                  </a:lnTo>
                  <a:lnTo>
                    <a:pt x="3129" y="1290"/>
                  </a:lnTo>
                  <a:lnTo>
                    <a:pt x="3115" y="1302"/>
                  </a:lnTo>
                  <a:lnTo>
                    <a:pt x="3117" y="1306"/>
                  </a:lnTo>
                  <a:lnTo>
                    <a:pt x="3120" y="1308"/>
                  </a:lnTo>
                  <a:lnTo>
                    <a:pt x="3127" y="1306"/>
                  </a:lnTo>
                  <a:lnTo>
                    <a:pt x="3134" y="1304"/>
                  </a:lnTo>
                  <a:lnTo>
                    <a:pt x="3141" y="1303"/>
                  </a:lnTo>
                  <a:lnTo>
                    <a:pt x="3147" y="1302"/>
                  </a:lnTo>
                  <a:lnTo>
                    <a:pt x="3150" y="1303"/>
                  </a:lnTo>
                  <a:lnTo>
                    <a:pt x="3152" y="1308"/>
                  </a:lnTo>
                  <a:lnTo>
                    <a:pt x="3162" y="1321"/>
                  </a:lnTo>
                  <a:lnTo>
                    <a:pt x="3173" y="1331"/>
                  </a:lnTo>
                  <a:lnTo>
                    <a:pt x="3183" y="1340"/>
                  </a:lnTo>
                  <a:lnTo>
                    <a:pt x="3194" y="1346"/>
                  </a:lnTo>
                  <a:lnTo>
                    <a:pt x="3206" y="1354"/>
                  </a:lnTo>
                  <a:lnTo>
                    <a:pt x="3215" y="1362"/>
                  </a:lnTo>
                  <a:lnTo>
                    <a:pt x="3226" y="1374"/>
                  </a:lnTo>
                  <a:lnTo>
                    <a:pt x="3236" y="1389"/>
                  </a:lnTo>
                  <a:close/>
                  <a:moveTo>
                    <a:pt x="1502" y="449"/>
                  </a:moveTo>
                  <a:lnTo>
                    <a:pt x="1502" y="479"/>
                  </a:lnTo>
                  <a:lnTo>
                    <a:pt x="1501" y="507"/>
                  </a:lnTo>
                  <a:lnTo>
                    <a:pt x="1501" y="536"/>
                  </a:lnTo>
                  <a:lnTo>
                    <a:pt x="1500" y="565"/>
                  </a:lnTo>
                  <a:lnTo>
                    <a:pt x="1499" y="593"/>
                  </a:lnTo>
                  <a:lnTo>
                    <a:pt x="1497" y="622"/>
                  </a:lnTo>
                  <a:lnTo>
                    <a:pt x="1496" y="650"/>
                  </a:lnTo>
                  <a:lnTo>
                    <a:pt x="1496" y="676"/>
                  </a:lnTo>
                  <a:lnTo>
                    <a:pt x="1495" y="704"/>
                  </a:lnTo>
                  <a:lnTo>
                    <a:pt x="1494" y="731"/>
                  </a:lnTo>
                  <a:lnTo>
                    <a:pt x="1494" y="758"/>
                  </a:lnTo>
                  <a:lnTo>
                    <a:pt x="1494" y="785"/>
                  </a:lnTo>
                  <a:lnTo>
                    <a:pt x="1495" y="811"/>
                  </a:lnTo>
                  <a:lnTo>
                    <a:pt x="1495" y="837"/>
                  </a:lnTo>
                  <a:lnTo>
                    <a:pt x="1496" y="864"/>
                  </a:lnTo>
                  <a:lnTo>
                    <a:pt x="1499" y="889"/>
                  </a:lnTo>
                  <a:lnTo>
                    <a:pt x="1501" y="915"/>
                  </a:lnTo>
                  <a:lnTo>
                    <a:pt x="1504" y="941"/>
                  </a:lnTo>
                  <a:lnTo>
                    <a:pt x="1508" y="966"/>
                  </a:lnTo>
                  <a:lnTo>
                    <a:pt x="1512" y="991"/>
                  </a:lnTo>
                  <a:lnTo>
                    <a:pt x="1518" y="1017"/>
                  </a:lnTo>
                  <a:lnTo>
                    <a:pt x="1524" y="1041"/>
                  </a:lnTo>
                  <a:lnTo>
                    <a:pt x="1531" y="1066"/>
                  </a:lnTo>
                  <a:lnTo>
                    <a:pt x="1539" y="1090"/>
                  </a:lnTo>
                  <a:lnTo>
                    <a:pt x="1549" y="1115"/>
                  </a:lnTo>
                  <a:lnTo>
                    <a:pt x="1558" y="1140"/>
                  </a:lnTo>
                  <a:lnTo>
                    <a:pt x="1570" y="1164"/>
                  </a:lnTo>
                  <a:lnTo>
                    <a:pt x="1583" y="1189"/>
                  </a:lnTo>
                  <a:lnTo>
                    <a:pt x="1597" y="1212"/>
                  </a:lnTo>
                  <a:lnTo>
                    <a:pt x="1612" y="1237"/>
                  </a:lnTo>
                  <a:lnTo>
                    <a:pt x="1629" y="1260"/>
                  </a:lnTo>
                  <a:lnTo>
                    <a:pt x="1647" y="1285"/>
                  </a:lnTo>
                  <a:lnTo>
                    <a:pt x="1651" y="1289"/>
                  </a:lnTo>
                  <a:lnTo>
                    <a:pt x="1658" y="1300"/>
                  </a:lnTo>
                  <a:lnTo>
                    <a:pt x="1670" y="1316"/>
                  </a:lnTo>
                  <a:lnTo>
                    <a:pt x="1686" y="1339"/>
                  </a:lnTo>
                  <a:lnTo>
                    <a:pt x="1704" y="1364"/>
                  </a:lnTo>
                  <a:lnTo>
                    <a:pt x="1725" y="1393"/>
                  </a:lnTo>
                  <a:lnTo>
                    <a:pt x="1748" y="1423"/>
                  </a:lnTo>
                  <a:lnTo>
                    <a:pt x="1770" y="1455"/>
                  </a:lnTo>
                  <a:lnTo>
                    <a:pt x="1793" y="1487"/>
                  </a:lnTo>
                  <a:lnTo>
                    <a:pt x="1815" y="1517"/>
                  </a:lnTo>
                  <a:lnTo>
                    <a:pt x="1837" y="1546"/>
                  </a:lnTo>
                  <a:lnTo>
                    <a:pt x="1855" y="1572"/>
                  </a:lnTo>
                  <a:lnTo>
                    <a:pt x="1871" y="1594"/>
                  </a:lnTo>
                  <a:lnTo>
                    <a:pt x="1883" y="1610"/>
                  </a:lnTo>
                  <a:lnTo>
                    <a:pt x="1890" y="1621"/>
                  </a:lnTo>
                  <a:lnTo>
                    <a:pt x="1894" y="1625"/>
                  </a:lnTo>
                  <a:lnTo>
                    <a:pt x="1904" y="1651"/>
                  </a:lnTo>
                  <a:lnTo>
                    <a:pt x="1916" y="1672"/>
                  </a:lnTo>
                  <a:lnTo>
                    <a:pt x="1931" y="1693"/>
                  </a:lnTo>
                  <a:lnTo>
                    <a:pt x="1947" y="1710"/>
                  </a:lnTo>
                  <a:lnTo>
                    <a:pt x="1965" y="1725"/>
                  </a:lnTo>
                  <a:lnTo>
                    <a:pt x="1985" y="1739"/>
                  </a:lnTo>
                  <a:lnTo>
                    <a:pt x="2004" y="1751"/>
                  </a:lnTo>
                  <a:lnTo>
                    <a:pt x="2025" y="1762"/>
                  </a:lnTo>
                  <a:lnTo>
                    <a:pt x="2046" y="1774"/>
                  </a:lnTo>
                  <a:lnTo>
                    <a:pt x="2066" y="1785"/>
                  </a:lnTo>
                  <a:lnTo>
                    <a:pt x="2086" y="1795"/>
                  </a:lnTo>
                  <a:lnTo>
                    <a:pt x="2107" y="1806"/>
                  </a:lnTo>
                  <a:lnTo>
                    <a:pt x="2126" y="1819"/>
                  </a:lnTo>
                  <a:lnTo>
                    <a:pt x="2144" y="1832"/>
                  </a:lnTo>
                  <a:lnTo>
                    <a:pt x="2160" y="1847"/>
                  </a:lnTo>
                  <a:lnTo>
                    <a:pt x="2175" y="1864"/>
                  </a:lnTo>
                  <a:lnTo>
                    <a:pt x="2174" y="1889"/>
                  </a:lnTo>
                  <a:lnTo>
                    <a:pt x="2173" y="1912"/>
                  </a:lnTo>
                  <a:lnTo>
                    <a:pt x="2171" y="1932"/>
                  </a:lnTo>
                  <a:lnTo>
                    <a:pt x="2168" y="1951"/>
                  </a:lnTo>
                  <a:lnTo>
                    <a:pt x="2163" y="1970"/>
                  </a:lnTo>
                  <a:lnTo>
                    <a:pt x="2159" y="1986"/>
                  </a:lnTo>
                  <a:lnTo>
                    <a:pt x="2155" y="2002"/>
                  </a:lnTo>
                  <a:lnTo>
                    <a:pt x="2150" y="2018"/>
                  </a:lnTo>
                  <a:lnTo>
                    <a:pt x="2146" y="2035"/>
                  </a:lnTo>
                  <a:lnTo>
                    <a:pt x="2142" y="2052"/>
                  </a:lnTo>
                  <a:lnTo>
                    <a:pt x="2138" y="2071"/>
                  </a:lnTo>
                  <a:lnTo>
                    <a:pt x="2133" y="2091"/>
                  </a:lnTo>
                  <a:lnTo>
                    <a:pt x="2130" y="2113"/>
                  </a:lnTo>
                  <a:lnTo>
                    <a:pt x="2128" y="2139"/>
                  </a:lnTo>
                  <a:lnTo>
                    <a:pt x="2127" y="2166"/>
                  </a:lnTo>
                  <a:lnTo>
                    <a:pt x="2126" y="2197"/>
                  </a:lnTo>
                  <a:lnTo>
                    <a:pt x="2150" y="2180"/>
                  </a:lnTo>
                  <a:lnTo>
                    <a:pt x="2173" y="2160"/>
                  </a:lnTo>
                  <a:lnTo>
                    <a:pt x="2192" y="2137"/>
                  </a:lnTo>
                  <a:lnTo>
                    <a:pt x="2208" y="2112"/>
                  </a:lnTo>
                  <a:lnTo>
                    <a:pt x="2221" y="2085"/>
                  </a:lnTo>
                  <a:lnTo>
                    <a:pt x="2233" y="2057"/>
                  </a:lnTo>
                  <a:lnTo>
                    <a:pt x="2241" y="2028"/>
                  </a:lnTo>
                  <a:lnTo>
                    <a:pt x="2247" y="2000"/>
                  </a:lnTo>
                  <a:lnTo>
                    <a:pt x="2250" y="1970"/>
                  </a:lnTo>
                  <a:lnTo>
                    <a:pt x="2251" y="1941"/>
                  </a:lnTo>
                  <a:lnTo>
                    <a:pt x="2250" y="1913"/>
                  </a:lnTo>
                  <a:lnTo>
                    <a:pt x="2247" y="1886"/>
                  </a:lnTo>
                  <a:lnTo>
                    <a:pt x="2241" y="1862"/>
                  </a:lnTo>
                  <a:lnTo>
                    <a:pt x="2233" y="1838"/>
                  </a:lnTo>
                  <a:lnTo>
                    <a:pt x="2223" y="1818"/>
                  </a:lnTo>
                  <a:lnTo>
                    <a:pt x="2211" y="1800"/>
                  </a:lnTo>
                  <a:lnTo>
                    <a:pt x="2194" y="1779"/>
                  </a:lnTo>
                  <a:lnTo>
                    <a:pt x="2177" y="1761"/>
                  </a:lnTo>
                  <a:lnTo>
                    <a:pt x="2159" y="1745"/>
                  </a:lnTo>
                  <a:lnTo>
                    <a:pt x="2140" y="1729"/>
                  </a:lnTo>
                  <a:lnTo>
                    <a:pt x="2120" y="1714"/>
                  </a:lnTo>
                  <a:lnTo>
                    <a:pt x="2100" y="1700"/>
                  </a:lnTo>
                  <a:lnTo>
                    <a:pt x="2080" y="1687"/>
                  </a:lnTo>
                  <a:lnTo>
                    <a:pt x="2061" y="1674"/>
                  </a:lnTo>
                  <a:lnTo>
                    <a:pt x="2040" y="1662"/>
                  </a:lnTo>
                  <a:lnTo>
                    <a:pt x="2020" y="1649"/>
                  </a:lnTo>
                  <a:lnTo>
                    <a:pt x="2002" y="1636"/>
                  </a:lnTo>
                  <a:lnTo>
                    <a:pt x="1982" y="1623"/>
                  </a:lnTo>
                  <a:lnTo>
                    <a:pt x="1965" y="1609"/>
                  </a:lnTo>
                  <a:lnTo>
                    <a:pt x="1948" y="1593"/>
                  </a:lnTo>
                  <a:lnTo>
                    <a:pt x="1932" y="1577"/>
                  </a:lnTo>
                  <a:lnTo>
                    <a:pt x="1918" y="1560"/>
                  </a:lnTo>
                  <a:lnTo>
                    <a:pt x="1899" y="1535"/>
                  </a:lnTo>
                  <a:lnTo>
                    <a:pt x="1883" y="1508"/>
                  </a:lnTo>
                  <a:lnTo>
                    <a:pt x="1869" y="1477"/>
                  </a:lnTo>
                  <a:lnTo>
                    <a:pt x="1856" y="1444"/>
                  </a:lnTo>
                  <a:lnTo>
                    <a:pt x="1844" y="1410"/>
                  </a:lnTo>
                  <a:lnTo>
                    <a:pt x="1835" y="1377"/>
                  </a:lnTo>
                  <a:lnTo>
                    <a:pt x="1825" y="1344"/>
                  </a:lnTo>
                  <a:lnTo>
                    <a:pt x="1816" y="1313"/>
                  </a:lnTo>
                  <a:lnTo>
                    <a:pt x="1807" y="1284"/>
                  </a:lnTo>
                  <a:lnTo>
                    <a:pt x="1798" y="1258"/>
                  </a:lnTo>
                  <a:lnTo>
                    <a:pt x="1789" y="1236"/>
                  </a:lnTo>
                  <a:lnTo>
                    <a:pt x="1779" y="1219"/>
                  </a:lnTo>
                  <a:lnTo>
                    <a:pt x="1767" y="1206"/>
                  </a:lnTo>
                  <a:lnTo>
                    <a:pt x="1754" y="1201"/>
                  </a:lnTo>
                  <a:lnTo>
                    <a:pt x="1739" y="1202"/>
                  </a:lnTo>
                  <a:lnTo>
                    <a:pt x="1723" y="1211"/>
                  </a:lnTo>
                  <a:lnTo>
                    <a:pt x="1721" y="1178"/>
                  </a:lnTo>
                  <a:lnTo>
                    <a:pt x="1716" y="1146"/>
                  </a:lnTo>
                  <a:lnTo>
                    <a:pt x="1707" y="1114"/>
                  </a:lnTo>
                  <a:lnTo>
                    <a:pt x="1697" y="1083"/>
                  </a:lnTo>
                  <a:lnTo>
                    <a:pt x="1685" y="1052"/>
                  </a:lnTo>
                  <a:lnTo>
                    <a:pt x="1671" y="1021"/>
                  </a:lnTo>
                  <a:lnTo>
                    <a:pt x="1657" y="990"/>
                  </a:lnTo>
                  <a:lnTo>
                    <a:pt x="1643" y="959"/>
                  </a:lnTo>
                  <a:lnTo>
                    <a:pt x="1629" y="928"/>
                  </a:lnTo>
                  <a:lnTo>
                    <a:pt x="1617" y="896"/>
                  </a:lnTo>
                  <a:lnTo>
                    <a:pt x="1607" y="864"/>
                  </a:lnTo>
                  <a:lnTo>
                    <a:pt x="1598" y="831"/>
                  </a:lnTo>
                  <a:lnTo>
                    <a:pt x="1593" y="796"/>
                  </a:lnTo>
                  <a:lnTo>
                    <a:pt x="1591" y="761"/>
                  </a:lnTo>
                  <a:lnTo>
                    <a:pt x="1594" y="726"/>
                  </a:lnTo>
                  <a:lnTo>
                    <a:pt x="1600" y="688"/>
                  </a:lnTo>
                  <a:lnTo>
                    <a:pt x="1595" y="675"/>
                  </a:lnTo>
                  <a:lnTo>
                    <a:pt x="1590" y="663"/>
                  </a:lnTo>
                  <a:lnTo>
                    <a:pt x="1584" y="648"/>
                  </a:lnTo>
                  <a:lnTo>
                    <a:pt x="1578" y="633"/>
                  </a:lnTo>
                  <a:lnTo>
                    <a:pt x="1571" y="618"/>
                  </a:lnTo>
                  <a:lnTo>
                    <a:pt x="1565" y="602"/>
                  </a:lnTo>
                  <a:lnTo>
                    <a:pt x="1557" y="584"/>
                  </a:lnTo>
                  <a:lnTo>
                    <a:pt x="1551" y="568"/>
                  </a:lnTo>
                  <a:lnTo>
                    <a:pt x="1545" y="552"/>
                  </a:lnTo>
                  <a:lnTo>
                    <a:pt x="1537" y="535"/>
                  </a:lnTo>
                  <a:lnTo>
                    <a:pt x="1531" y="519"/>
                  </a:lnTo>
                  <a:lnTo>
                    <a:pt x="1524" y="504"/>
                  </a:lnTo>
                  <a:lnTo>
                    <a:pt x="1518" y="489"/>
                  </a:lnTo>
                  <a:lnTo>
                    <a:pt x="1512" y="474"/>
                  </a:lnTo>
                  <a:lnTo>
                    <a:pt x="1507" y="461"/>
                  </a:lnTo>
                  <a:lnTo>
                    <a:pt x="1502" y="449"/>
                  </a:lnTo>
                  <a:close/>
                  <a:moveTo>
                    <a:pt x="1174" y="35"/>
                  </a:moveTo>
                  <a:lnTo>
                    <a:pt x="1174" y="65"/>
                  </a:lnTo>
                  <a:lnTo>
                    <a:pt x="1173" y="95"/>
                  </a:lnTo>
                  <a:lnTo>
                    <a:pt x="1173" y="125"/>
                  </a:lnTo>
                  <a:lnTo>
                    <a:pt x="1172" y="155"/>
                  </a:lnTo>
                  <a:lnTo>
                    <a:pt x="1172" y="184"/>
                  </a:lnTo>
                  <a:lnTo>
                    <a:pt x="1171" y="214"/>
                  </a:lnTo>
                  <a:lnTo>
                    <a:pt x="1171" y="244"/>
                  </a:lnTo>
                  <a:lnTo>
                    <a:pt x="1170" y="273"/>
                  </a:lnTo>
                  <a:lnTo>
                    <a:pt x="1170" y="303"/>
                  </a:lnTo>
                  <a:lnTo>
                    <a:pt x="1171" y="333"/>
                  </a:lnTo>
                  <a:lnTo>
                    <a:pt x="1171" y="363"/>
                  </a:lnTo>
                  <a:lnTo>
                    <a:pt x="1173" y="393"/>
                  </a:lnTo>
                  <a:lnTo>
                    <a:pt x="1175" y="423"/>
                  </a:lnTo>
                  <a:lnTo>
                    <a:pt x="1177" y="453"/>
                  </a:lnTo>
                  <a:lnTo>
                    <a:pt x="1181" y="483"/>
                  </a:lnTo>
                  <a:lnTo>
                    <a:pt x="1185" y="513"/>
                  </a:lnTo>
                  <a:lnTo>
                    <a:pt x="1187" y="544"/>
                  </a:lnTo>
                  <a:lnTo>
                    <a:pt x="1185" y="574"/>
                  </a:lnTo>
                  <a:lnTo>
                    <a:pt x="1181" y="601"/>
                  </a:lnTo>
                  <a:lnTo>
                    <a:pt x="1172" y="626"/>
                  </a:lnTo>
                  <a:lnTo>
                    <a:pt x="1161" y="650"/>
                  </a:lnTo>
                  <a:lnTo>
                    <a:pt x="1149" y="673"/>
                  </a:lnTo>
                  <a:lnTo>
                    <a:pt x="1135" y="695"/>
                  </a:lnTo>
                  <a:lnTo>
                    <a:pt x="1121" y="717"/>
                  </a:lnTo>
                  <a:lnTo>
                    <a:pt x="1106" y="739"/>
                  </a:lnTo>
                  <a:lnTo>
                    <a:pt x="1091" y="760"/>
                  </a:lnTo>
                  <a:lnTo>
                    <a:pt x="1077" y="782"/>
                  </a:lnTo>
                  <a:lnTo>
                    <a:pt x="1065" y="805"/>
                  </a:lnTo>
                  <a:lnTo>
                    <a:pt x="1054" y="828"/>
                  </a:lnTo>
                  <a:lnTo>
                    <a:pt x="1046" y="854"/>
                  </a:lnTo>
                  <a:lnTo>
                    <a:pt x="1040" y="881"/>
                  </a:lnTo>
                  <a:lnTo>
                    <a:pt x="1038" y="910"/>
                  </a:lnTo>
                  <a:lnTo>
                    <a:pt x="1037" y="899"/>
                  </a:lnTo>
                  <a:lnTo>
                    <a:pt x="1037" y="884"/>
                  </a:lnTo>
                  <a:lnTo>
                    <a:pt x="1040" y="867"/>
                  </a:lnTo>
                  <a:lnTo>
                    <a:pt x="1044" y="845"/>
                  </a:lnTo>
                  <a:lnTo>
                    <a:pt x="1048" y="823"/>
                  </a:lnTo>
                  <a:lnTo>
                    <a:pt x="1054" y="799"/>
                  </a:lnTo>
                  <a:lnTo>
                    <a:pt x="1061" y="774"/>
                  </a:lnTo>
                  <a:lnTo>
                    <a:pt x="1067" y="747"/>
                  </a:lnTo>
                  <a:lnTo>
                    <a:pt x="1075" y="720"/>
                  </a:lnTo>
                  <a:lnTo>
                    <a:pt x="1081" y="694"/>
                  </a:lnTo>
                  <a:lnTo>
                    <a:pt x="1089" y="667"/>
                  </a:lnTo>
                  <a:lnTo>
                    <a:pt x="1095" y="641"/>
                  </a:lnTo>
                  <a:lnTo>
                    <a:pt x="1100" y="618"/>
                  </a:lnTo>
                  <a:lnTo>
                    <a:pt x="1106" y="596"/>
                  </a:lnTo>
                  <a:lnTo>
                    <a:pt x="1110" y="577"/>
                  </a:lnTo>
                  <a:lnTo>
                    <a:pt x="1112" y="560"/>
                  </a:lnTo>
                  <a:lnTo>
                    <a:pt x="1116" y="520"/>
                  </a:lnTo>
                  <a:lnTo>
                    <a:pt x="1121" y="483"/>
                  </a:lnTo>
                  <a:lnTo>
                    <a:pt x="1123" y="448"/>
                  </a:lnTo>
                  <a:lnTo>
                    <a:pt x="1125" y="414"/>
                  </a:lnTo>
                  <a:lnTo>
                    <a:pt x="1127" y="382"/>
                  </a:lnTo>
                  <a:lnTo>
                    <a:pt x="1129" y="352"/>
                  </a:lnTo>
                  <a:lnTo>
                    <a:pt x="1130" y="322"/>
                  </a:lnTo>
                  <a:lnTo>
                    <a:pt x="1132" y="292"/>
                  </a:lnTo>
                  <a:lnTo>
                    <a:pt x="1135" y="264"/>
                  </a:lnTo>
                  <a:lnTo>
                    <a:pt x="1137" y="235"/>
                  </a:lnTo>
                  <a:lnTo>
                    <a:pt x="1141" y="205"/>
                  </a:lnTo>
                  <a:lnTo>
                    <a:pt x="1145" y="174"/>
                  </a:lnTo>
                  <a:lnTo>
                    <a:pt x="1150" y="142"/>
                  </a:lnTo>
                  <a:lnTo>
                    <a:pt x="1157" y="107"/>
                  </a:lnTo>
                  <a:lnTo>
                    <a:pt x="1165" y="72"/>
                  </a:lnTo>
                  <a:lnTo>
                    <a:pt x="1174" y="35"/>
                  </a:lnTo>
                  <a:close/>
                  <a:moveTo>
                    <a:pt x="575" y="2070"/>
                  </a:moveTo>
                  <a:lnTo>
                    <a:pt x="557" y="2060"/>
                  </a:lnTo>
                  <a:lnTo>
                    <a:pt x="537" y="2046"/>
                  </a:lnTo>
                  <a:lnTo>
                    <a:pt x="519" y="2028"/>
                  </a:lnTo>
                  <a:lnTo>
                    <a:pt x="500" y="2009"/>
                  </a:lnTo>
                  <a:lnTo>
                    <a:pt x="481" y="1988"/>
                  </a:lnTo>
                  <a:lnTo>
                    <a:pt x="462" y="1964"/>
                  </a:lnTo>
                  <a:lnTo>
                    <a:pt x="443" y="1940"/>
                  </a:lnTo>
                  <a:lnTo>
                    <a:pt x="425" y="1914"/>
                  </a:lnTo>
                  <a:lnTo>
                    <a:pt x="407" y="1887"/>
                  </a:lnTo>
                  <a:lnTo>
                    <a:pt x="389" y="1862"/>
                  </a:lnTo>
                  <a:lnTo>
                    <a:pt x="371" y="1835"/>
                  </a:lnTo>
                  <a:lnTo>
                    <a:pt x="354" y="1809"/>
                  </a:lnTo>
                  <a:lnTo>
                    <a:pt x="338" y="1785"/>
                  </a:lnTo>
                  <a:lnTo>
                    <a:pt x="322" y="1761"/>
                  </a:lnTo>
                  <a:lnTo>
                    <a:pt x="307" y="1740"/>
                  </a:lnTo>
                  <a:lnTo>
                    <a:pt x="293" y="1720"/>
                  </a:lnTo>
                  <a:lnTo>
                    <a:pt x="268" y="1684"/>
                  </a:lnTo>
                  <a:lnTo>
                    <a:pt x="243" y="1648"/>
                  </a:lnTo>
                  <a:lnTo>
                    <a:pt x="221" y="1610"/>
                  </a:lnTo>
                  <a:lnTo>
                    <a:pt x="200" y="1573"/>
                  </a:lnTo>
                  <a:lnTo>
                    <a:pt x="181" y="1534"/>
                  </a:lnTo>
                  <a:lnTo>
                    <a:pt x="164" y="1496"/>
                  </a:lnTo>
                  <a:lnTo>
                    <a:pt x="148" y="1456"/>
                  </a:lnTo>
                  <a:lnTo>
                    <a:pt x="132" y="1417"/>
                  </a:lnTo>
                  <a:lnTo>
                    <a:pt x="118" y="1377"/>
                  </a:lnTo>
                  <a:lnTo>
                    <a:pt x="104" y="1338"/>
                  </a:lnTo>
                  <a:lnTo>
                    <a:pt x="90" y="1298"/>
                  </a:lnTo>
                  <a:lnTo>
                    <a:pt x="77" y="1258"/>
                  </a:lnTo>
                  <a:lnTo>
                    <a:pt x="64" y="1218"/>
                  </a:lnTo>
                  <a:lnTo>
                    <a:pt x="51" y="1178"/>
                  </a:lnTo>
                  <a:lnTo>
                    <a:pt x="39" y="1140"/>
                  </a:lnTo>
                  <a:lnTo>
                    <a:pt x="25" y="1100"/>
                  </a:lnTo>
                  <a:lnTo>
                    <a:pt x="0" y="1070"/>
                  </a:lnTo>
                  <a:lnTo>
                    <a:pt x="1" y="1051"/>
                  </a:lnTo>
                  <a:lnTo>
                    <a:pt x="5" y="1031"/>
                  </a:lnTo>
                  <a:lnTo>
                    <a:pt x="12" y="1009"/>
                  </a:lnTo>
                  <a:lnTo>
                    <a:pt x="19" y="986"/>
                  </a:lnTo>
                  <a:lnTo>
                    <a:pt x="29" y="962"/>
                  </a:lnTo>
                  <a:lnTo>
                    <a:pt x="41" y="937"/>
                  </a:lnTo>
                  <a:lnTo>
                    <a:pt x="52" y="913"/>
                  </a:lnTo>
                  <a:lnTo>
                    <a:pt x="64" y="888"/>
                  </a:lnTo>
                  <a:lnTo>
                    <a:pt x="77" y="864"/>
                  </a:lnTo>
                  <a:lnTo>
                    <a:pt x="90" y="840"/>
                  </a:lnTo>
                  <a:lnTo>
                    <a:pt x="102" y="817"/>
                  </a:lnTo>
                  <a:lnTo>
                    <a:pt x="113" y="794"/>
                  </a:lnTo>
                  <a:lnTo>
                    <a:pt x="124" y="773"/>
                  </a:lnTo>
                  <a:lnTo>
                    <a:pt x="134" y="753"/>
                  </a:lnTo>
                  <a:lnTo>
                    <a:pt x="141" y="735"/>
                  </a:lnTo>
                  <a:lnTo>
                    <a:pt x="147" y="719"/>
                  </a:lnTo>
                  <a:lnTo>
                    <a:pt x="150" y="741"/>
                  </a:lnTo>
                  <a:lnTo>
                    <a:pt x="155" y="757"/>
                  </a:lnTo>
                  <a:lnTo>
                    <a:pt x="165" y="767"/>
                  </a:lnTo>
                  <a:lnTo>
                    <a:pt x="176" y="775"/>
                  </a:lnTo>
                  <a:lnTo>
                    <a:pt x="187" y="780"/>
                  </a:lnTo>
                  <a:lnTo>
                    <a:pt x="200" y="783"/>
                  </a:lnTo>
                  <a:lnTo>
                    <a:pt x="213" y="787"/>
                  </a:lnTo>
                  <a:lnTo>
                    <a:pt x="224" y="791"/>
                  </a:lnTo>
                  <a:lnTo>
                    <a:pt x="235" y="797"/>
                  </a:lnTo>
                  <a:lnTo>
                    <a:pt x="246" y="804"/>
                  </a:lnTo>
                  <a:lnTo>
                    <a:pt x="258" y="811"/>
                  </a:lnTo>
                  <a:lnTo>
                    <a:pt x="270" y="820"/>
                  </a:lnTo>
                  <a:lnTo>
                    <a:pt x="280" y="828"/>
                  </a:lnTo>
                  <a:lnTo>
                    <a:pt x="291" y="837"/>
                  </a:lnTo>
                  <a:lnTo>
                    <a:pt x="302" y="847"/>
                  </a:lnTo>
                  <a:lnTo>
                    <a:pt x="311" y="855"/>
                  </a:lnTo>
                  <a:lnTo>
                    <a:pt x="319" y="863"/>
                  </a:lnTo>
                  <a:lnTo>
                    <a:pt x="328" y="873"/>
                  </a:lnTo>
                  <a:lnTo>
                    <a:pt x="337" y="885"/>
                  </a:lnTo>
                  <a:lnTo>
                    <a:pt x="346" y="896"/>
                  </a:lnTo>
                  <a:lnTo>
                    <a:pt x="353" y="906"/>
                  </a:lnTo>
                  <a:lnTo>
                    <a:pt x="358" y="913"/>
                  </a:lnTo>
                  <a:lnTo>
                    <a:pt x="359" y="916"/>
                  </a:lnTo>
                  <a:lnTo>
                    <a:pt x="355" y="914"/>
                  </a:lnTo>
                  <a:lnTo>
                    <a:pt x="344" y="905"/>
                  </a:lnTo>
                  <a:lnTo>
                    <a:pt x="332" y="899"/>
                  </a:lnTo>
                  <a:lnTo>
                    <a:pt x="320" y="894"/>
                  </a:lnTo>
                  <a:lnTo>
                    <a:pt x="309" y="889"/>
                  </a:lnTo>
                  <a:lnTo>
                    <a:pt x="299" y="886"/>
                  </a:lnTo>
                  <a:lnTo>
                    <a:pt x="288" y="884"/>
                  </a:lnTo>
                  <a:lnTo>
                    <a:pt x="277" y="883"/>
                  </a:lnTo>
                  <a:lnTo>
                    <a:pt x="267" y="882"/>
                  </a:lnTo>
                  <a:lnTo>
                    <a:pt x="256" y="882"/>
                  </a:lnTo>
                  <a:lnTo>
                    <a:pt x="245" y="881"/>
                  </a:lnTo>
                  <a:lnTo>
                    <a:pt x="235" y="881"/>
                  </a:lnTo>
                  <a:lnTo>
                    <a:pt x="225" y="880"/>
                  </a:lnTo>
                  <a:lnTo>
                    <a:pt x="214" y="878"/>
                  </a:lnTo>
                  <a:lnTo>
                    <a:pt x="203" y="875"/>
                  </a:lnTo>
                  <a:lnTo>
                    <a:pt x="192" y="872"/>
                  </a:lnTo>
                  <a:lnTo>
                    <a:pt x="181" y="868"/>
                  </a:lnTo>
                  <a:lnTo>
                    <a:pt x="177" y="864"/>
                  </a:lnTo>
                  <a:lnTo>
                    <a:pt x="169" y="858"/>
                  </a:lnTo>
                  <a:lnTo>
                    <a:pt x="161" y="854"/>
                  </a:lnTo>
                  <a:lnTo>
                    <a:pt x="151" y="850"/>
                  </a:lnTo>
                  <a:lnTo>
                    <a:pt x="142" y="845"/>
                  </a:lnTo>
                  <a:lnTo>
                    <a:pt x="134" y="840"/>
                  </a:lnTo>
                  <a:lnTo>
                    <a:pt x="127" y="835"/>
                  </a:lnTo>
                  <a:lnTo>
                    <a:pt x="124" y="828"/>
                  </a:lnTo>
                  <a:lnTo>
                    <a:pt x="120" y="873"/>
                  </a:lnTo>
                  <a:lnTo>
                    <a:pt x="120" y="912"/>
                  </a:lnTo>
                  <a:lnTo>
                    <a:pt x="122" y="947"/>
                  </a:lnTo>
                  <a:lnTo>
                    <a:pt x="127" y="978"/>
                  </a:lnTo>
                  <a:lnTo>
                    <a:pt x="135" y="1006"/>
                  </a:lnTo>
                  <a:lnTo>
                    <a:pt x="145" y="1031"/>
                  </a:lnTo>
                  <a:lnTo>
                    <a:pt x="157" y="1053"/>
                  </a:lnTo>
                  <a:lnTo>
                    <a:pt x="172" y="1073"/>
                  </a:lnTo>
                  <a:lnTo>
                    <a:pt x="189" y="1093"/>
                  </a:lnTo>
                  <a:lnTo>
                    <a:pt x="209" y="1112"/>
                  </a:lnTo>
                  <a:lnTo>
                    <a:pt x="230" y="1130"/>
                  </a:lnTo>
                  <a:lnTo>
                    <a:pt x="253" y="1148"/>
                  </a:lnTo>
                  <a:lnTo>
                    <a:pt x="276" y="1167"/>
                  </a:lnTo>
                  <a:lnTo>
                    <a:pt x="302" y="1189"/>
                  </a:lnTo>
                  <a:lnTo>
                    <a:pt x="330" y="1211"/>
                  </a:lnTo>
                  <a:lnTo>
                    <a:pt x="358" y="1237"/>
                  </a:lnTo>
                  <a:lnTo>
                    <a:pt x="346" y="1248"/>
                  </a:lnTo>
                  <a:lnTo>
                    <a:pt x="329" y="1257"/>
                  </a:lnTo>
                  <a:lnTo>
                    <a:pt x="309" y="1264"/>
                  </a:lnTo>
                  <a:lnTo>
                    <a:pt x="289" y="1270"/>
                  </a:lnTo>
                  <a:lnTo>
                    <a:pt x="268" y="1275"/>
                  </a:lnTo>
                  <a:lnTo>
                    <a:pt x="248" y="1281"/>
                  </a:lnTo>
                  <a:lnTo>
                    <a:pt x="231" y="1286"/>
                  </a:lnTo>
                  <a:lnTo>
                    <a:pt x="219" y="1292"/>
                  </a:lnTo>
                  <a:lnTo>
                    <a:pt x="229" y="1292"/>
                  </a:lnTo>
                  <a:lnTo>
                    <a:pt x="240" y="1290"/>
                  </a:lnTo>
                  <a:lnTo>
                    <a:pt x="250" y="1289"/>
                  </a:lnTo>
                  <a:lnTo>
                    <a:pt x="262" y="1288"/>
                  </a:lnTo>
                  <a:lnTo>
                    <a:pt x="274" y="1287"/>
                  </a:lnTo>
                  <a:lnTo>
                    <a:pt x="286" y="1286"/>
                  </a:lnTo>
                  <a:lnTo>
                    <a:pt x="298" y="1285"/>
                  </a:lnTo>
                  <a:lnTo>
                    <a:pt x="310" y="1285"/>
                  </a:lnTo>
                  <a:lnTo>
                    <a:pt x="322" y="1285"/>
                  </a:lnTo>
                  <a:lnTo>
                    <a:pt x="334" y="1285"/>
                  </a:lnTo>
                  <a:lnTo>
                    <a:pt x="345" y="1286"/>
                  </a:lnTo>
                  <a:lnTo>
                    <a:pt x="355" y="1288"/>
                  </a:lnTo>
                  <a:lnTo>
                    <a:pt x="366" y="1292"/>
                  </a:lnTo>
                  <a:lnTo>
                    <a:pt x="375" y="1296"/>
                  </a:lnTo>
                  <a:lnTo>
                    <a:pt x="383" y="1301"/>
                  </a:lnTo>
                  <a:lnTo>
                    <a:pt x="391" y="1308"/>
                  </a:lnTo>
                  <a:lnTo>
                    <a:pt x="341" y="1308"/>
                  </a:lnTo>
                  <a:lnTo>
                    <a:pt x="349" y="1317"/>
                  </a:lnTo>
                  <a:lnTo>
                    <a:pt x="358" y="1328"/>
                  </a:lnTo>
                  <a:lnTo>
                    <a:pt x="367" y="1340"/>
                  </a:lnTo>
                  <a:lnTo>
                    <a:pt x="377" y="1352"/>
                  </a:lnTo>
                  <a:lnTo>
                    <a:pt x="387" y="1366"/>
                  </a:lnTo>
                  <a:lnTo>
                    <a:pt x="398" y="1380"/>
                  </a:lnTo>
                  <a:lnTo>
                    <a:pt x="409" y="1394"/>
                  </a:lnTo>
                  <a:lnTo>
                    <a:pt x="420" y="1409"/>
                  </a:lnTo>
                  <a:lnTo>
                    <a:pt x="430" y="1424"/>
                  </a:lnTo>
                  <a:lnTo>
                    <a:pt x="440" y="1439"/>
                  </a:lnTo>
                  <a:lnTo>
                    <a:pt x="448" y="1454"/>
                  </a:lnTo>
                  <a:lnTo>
                    <a:pt x="456" y="1469"/>
                  </a:lnTo>
                  <a:lnTo>
                    <a:pt x="462" y="1483"/>
                  </a:lnTo>
                  <a:lnTo>
                    <a:pt x="467" y="1497"/>
                  </a:lnTo>
                  <a:lnTo>
                    <a:pt x="470" y="1510"/>
                  </a:lnTo>
                  <a:lnTo>
                    <a:pt x="471" y="1521"/>
                  </a:lnTo>
                  <a:lnTo>
                    <a:pt x="472" y="1523"/>
                  </a:lnTo>
                  <a:lnTo>
                    <a:pt x="477" y="1526"/>
                  </a:lnTo>
                  <a:lnTo>
                    <a:pt x="487" y="1530"/>
                  </a:lnTo>
                  <a:lnTo>
                    <a:pt x="499" y="1535"/>
                  </a:lnTo>
                  <a:lnTo>
                    <a:pt x="513" y="1542"/>
                  </a:lnTo>
                  <a:lnTo>
                    <a:pt x="529" y="1549"/>
                  </a:lnTo>
                  <a:lnTo>
                    <a:pt x="546" y="1558"/>
                  </a:lnTo>
                  <a:lnTo>
                    <a:pt x="563" y="1565"/>
                  </a:lnTo>
                  <a:lnTo>
                    <a:pt x="581" y="1574"/>
                  </a:lnTo>
                  <a:lnTo>
                    <a:pt x="597" y="1582"/>
                  </a:lnTo>
                  <a:lnTo>
                    <a:pt x="613" y="1590"/>
                  </a:lnTo>
                  <a:lnTo>
                    <a:pt x="627" y="1596"/>
                  </a:lnTo>
                  <a:lnTo>
                    <a:pt x="638" y="1602"/>
                  </a:lnTo>
                  <a:lnTo>
                    <a:pt x="647" y="1606"/>
                  </a:lnTo>
                  <a:lnTo>
                    <a:pt x="651" y="1609"/>
                  </a:lnTo>
                  <a:lnTo>
                    <a:pt x="651" y="1610"/>
                  </a:lnTo>
                  <a:lnTo>
                    <a:pt x="647" y="1609"/>
                  </a:lnTo>
                  <a:lnTo>
                    <a:pt x="638" y="1606"/>
                  </a:lnTo>
                  <a:lnTo>
                    <a:pt x="625" y="1602"/>
                  </a:lnTo>
                  <a:lnTo>
                    <a:pt x="610" y="1596"/>
                  </a:lnTo>
                  <a:lnTo>
                    <a:pt x="592" y="1589"/>
                  </a:lnTo>
                  <a:lnTo>
                    <a:pt x="573" y="1581"/>
                  </a:lnTo>
                  <a:lnTo>
                    <a:pt x="551" y="1573"/>
                  </a:lnTo>
                  <a:lnTo>
                    <a:pt x="530" y="1564"/>
                  </a:lnTo>
                  <a:lnTo>
                    <a:pt x="519" y="1560"/>
                  </a:lnTo>
                  <a:lnTo>
                    <a:pt x="507" y="1557"/>
                  </a:lnTo>
                  <a:lnTo>
                    <a:pt x="498" y="1555"/>
                  </a:lnTo>
                  <a:lnTo>
                    <a:pt x="488" y="1555"/>
                  </a:lnTo>
                  <a:lnTo>
                    <a:pt x="482" y="1556"/>
                  </a:lnTo>
                  <a:lnTo>
                    <a:pt x="476" y="1561"/>
                  </a:lnTo>
                  <a:lnTo>
                    <a:pt x="475" y="1570"/>
                  </a:lnTo>
                  <a:lnTo>
                    <a:pt x="477" y="1581"/>
                  </a:lnTo>
                  <a:lnTo>
                    <a:pt x="462" y="1569"/>
                  </a:lnTo>
                  <a:lnTo>
                    <a:pt x="450" y="1557"/>
                  </a:lnTo>
                  <a:lnTo>
                    <a:pt x="438" y="1546"/>
                  </a:lnTo>
                  <a:lnTo>
                    <a:pt x="429" y="1536"/>
                  </a:lnTo>
                  <a:lnTo>
                    <a:pt x="422" y="1528"/>
                  </a:lnTo>
                  <a:lnTo>
                    <a:pt x="415" y="1521"/>
                  </a:lnTo>
                  <a:lnTo>
                    <a:pt x="412" y="1516"/>
                  </a:lnTo>
                  <a:lnTo>
                    <a:pt x="410" y="1514"/>
                  </a:lnTo>
                  <a:lnTo>
                    <a:pt x="402" y="1505"/>
                  </a:lnTo>
                  <a:lnTo>
                    <a:pt x="395" y="1497"/>
                  </a:lnTo>
                  <a:lnTo>
                    <a:pt x="387" y="1487"/>
                  </a:lnTo>
                  <a:lnTo>
                    <a:pt x="380" y="1477"/>
                  </a:lnTo>
                  <a:lnTo>
                    <a:pt x="374" y="1466"/>
                  </a:lnTo>
                  <a:lnTo>
                    <a:pt x="367" y="1455"/>
                  </a:lnTo>
                  <a:lnTo>
                    <a:pt x="361" y="1443"/>
                  </a:lnTo>
                  <a:lnTo>
                    <a:pt x="355" y="1432"/>
                  </a:lnTo>
                  <a:lnTo>
                    <a:pt x="350" y="1419"/>
                  </a:lnTo>
                  <a:lnTo>
                    <a:pt x="345" y="1406"/>
                  </a:lnTo>
                  <a:lnTo>
                    <a:pt x="340" y="1394"/>
                  </a:lnTo>
                  <a:lnTo>
                    <a:pt x="336" y="1381"/>
                  </a:lnTo>
                  <a:lnTo>
                    <a:pt x="333" y="1369"/>
                  </a:lnTo>
                  <a:lnTo>
                    <a:pt x="330" y="1356"/>
                  </a:lnTo>
                  <a:lnTo>
                    <a:pt x="328" y="1343"/>
                  </a:lnTo>
                  <a:lnTo>
                    <a:pt x="326" y="1330"/>
                  </a:lnTo>
                  <a:lnTo>
                    <a:pt x="318" y="1340"/>
                  </a:lnTo>
                  <a:lnTo>
                    <a:pt x="310" y="1351"/>
                  </a:lnTo>
                  <a:lnTo>
                    <a:pt x="304" y="1365"/>
                  </a:lnTo>
                  <a:lnTo>
                    <a:pt x="298" y="1380"/>
                  </a:lnTo>
                  <a:lnTo>
                    <a:pt x="293" y="1396"/>
                  </a:lnTo>
                  <a:lnTo>
                    <a:pt x="289" y="1413"/>
                  </a:lnTo>
                  <a:lnTo>
                    <a:pt x="287" y="1432"/>
                  </a:lnTo>
                  <a:lnTo>
                    <a:pt x="285" y="1450"/>
                  </a:lnTo>
                  <a:lnTo>
                    <a:pt x="285" y="1469"/>
                  </a:lnTo>
                  <a:lnTo>
                    <a:pt x="286" y="1488"/>
                  </a:lnTo>
                  <a:lnTo>
                    <a:pt x="288" y="1508"/>
                  </a:lnTo>
                  <a:lnTo>
                    <a:pt x="291" y="1528"/>
                  </a:lnTo>
                  <a:lnTo>
                    <a:pt x="295" y="1547"/>
                  </a:lnTo>
                  <a:lnTo>
                    <a:pt x="301" y="1566"/>
                  </a:lnTo>
                  <a:lnTo>
                    <a:pt x="308" y="1585"/>
                  </a:lnTo>
                  <a:lnTo>
                    <a:pt x="317" y="1602"/>
                  </a:lnTo>
                  <a:lnTo>
                    <a:pt x="319" y="1581"/>
                  </a:lnTo>
                  <a:lnTo>
                    <a:pt x="323" y="1570"/>
                  </a:lnTo>
                  <a:lnTo>
                    <a:pt x="326" y="1563"/>
                  </a:lnTo>
                  <a:lnTo>
                    <a:pt x="331" y="1562"/>
                  </a:lnTo>
                  <a:lnTo>
                    <a:pt x="335" y="1563"/>
                  </a:lnTo>
                  <a:lnTo>
                    <a:pt x="338" y="1565"/>
                  </a:lnTo>
                  <a:lnTo>
                    <a:pt x="340" y="1565"/>
                  </a:lnTo>
                  <a:lnTo>
                    <a:pt x="341" y="1562"/>
                  </a:lnTo>
                  <a:lnTo>
                    <a:pt x="341" y="1571"/>
                  </a:lnTo>
                  <a:lnTo>
                    <a:pt x="341" y="1578"/>
                  </a:lnTo>
                  <a:lnTo>
                    <a:pt x="341" y="1587"/>
                  </a:lnTo>
                  <a:lnTo>
                    <a:pt x="341" y="1594"/>
                  </a:lnTo>
                  <a:lnTo>
                    <a:pt x="341" y="1603"/>
                  </a:lnTo>
                  <a:lnTo>
                    <a:pt x="341" y="1610"/>
                  </a:lnTo>
                  <a:lnTo>
                    <a:pt x="341" y="1619"/>
                  </a:lnTo>
                  <a:lnTo>
                    <a:pt x="341" y="1626"/>
                  </a:lnTo>
                  <a:lnTo>
                    <a:pt x="340" y="1642"/>
                  </a:lnTo>
                  <a:lnTo>
                    <a:pt x="341" y="1659"/>
                  </a:lnTo>
                  <a:lnTo>
                    <a:pt x="346" y="1677"/>
                  </a:lnTo>
                  <a:lnTo>
                    <a:pt x="351" y="1695"/>
                  </a:lnTo>
                  <a:lnTo>
                    <a:pt x="359" y="1714"/>
                  </a:lnTo>
                  <a:lnTo>
                    <a:pt x="368" y="1732"/>
                  </a:lnTo>
                  <a:lnTo>
                    <a:pt x="379" y="1750"/>
                  </a:lnTo>
                  <a:lnTo>
                    <a:pt x="391" y="1769"/>
                  </a:lnTo>
                  <a:lnTo>
                    <a:pt x="402" y="1786"/>
                  </a:lnTo>
                  <a:lnTo>
                    <a:pt x="415" y="1803"/>
                  </a:lnTo>
                  <a:lnTo>
                    <a:pt x="428" y="1818"/>
                  </a:lnTo>
                  <a:lnTo>
                    <a:pt x="441" y="1832"/>
                  </a:lnTo>
                  <a:lnTo>
                    <a:pt x="453" y="1843"/>
                  </a:lnTo>
                  <a:lnTo>
                    <a:pt x="465" y="1853"/>
                  </a:lnTo>
                  <a:lnTo>
                    <a:pt x="475" y="1862"/>
                  </a:lnTo>
                  <a:lnTo>
                    <a:pt x="484" y="1867"/>
                  </a:lnTo>
                  <a:lnTo>
                    <a:pt x="477" y="1873"/>
                  </a:lnTo>
                  <a:lnTo>
                    <a:pt x="469" y="1873"/>
                  </a:lnTo>
                  <a:lnTo>
                    <a:pt x="459" y="1868"/>
                  </a:lnTo>
                  <a:lnTo>
                    <a:pt x="447" y="1859"/>
                  </a:lnTo>
                  <a:lnTo>
                    <a:pt x="436" y="1850"/>
                  </a:lnTo>
                  <a:lnTo>
                    <a:pt x="424" y="1841"/>
                  </a:lnTo>
                  <a:lnTo>
                    <a:pt x="413" y="1835"/>
                  </a:lnTo>
                  <a:lnTo>
                    <a:pt x="404" y="1832"/>
                  </a:lnTo>
                  <a:lnTo>
                    <a:pt x="413" y="1848"/>
                  </a:lnTo>
                  <a:lnTo>
                    <a:pt x="422" y="1864"/>
                  </a:lnTo>
                  <a:lnTo>
                    <a:pt x="430" y="1879"/>
                  </a:lnTo>
                  <a:lnTo>
                    <a:pt x="440" y="1894"/>
                  </a:lnTo>
                  <a:lnTo>
                    <a:pt x="448" y="1908"/>
                  </a:lnTo>
                  <a:lnTo>
                    <a:pt x="458" y="1923"/>
                  </a:lnTo>
                  <a:lnTo>
                    <a:pt x="467" y="1937"/>
                  </a:lnTo>
                  <a:lnTo>
                    <a:pt x="476" y="1950"/>
                  </a:lnTo>
                  <a:lnTo>
                    <a:pt x="487" y="1965"/>
                  </a:lnTo>
                  <a:lnTo>
                    <a:pt x="498" y="1979"/>
                  </a:lnTo>
                  <a:lnTo>
                    <a:pt x="508" y="1994"/>
                  </a:lnTo>
                  <a:lnTo>
                    <a:pt x="520" y="2008"/>
                  </a:lnTo>
                  <a:lnTo>
                    <a:pt x="533" y="2023"/>
                  </a:lnTo>
                  <a:lnTo>
                    <a:pt x="546" y="2038"/>
                  </a:lnTo>
                  <a:lnTo>
                    <a:pt x="560" y="2054"/>
                  </a:lnTo>
                  <a:lnTo>
                    <a:pt x="575" y="2070"/>
                  </a:lnTo>
                  <a:close/>
                  <a:moveTo>
                    <a:pt x="3285" y="7028"/>
                  </a:moveTo>
                  <a:lnTo>
                    <a:pt x="3287" y="7045"/>
                  </a:lnTo>
                  <a:lnTo>
                    <a:pt x="3290" y="7059"/>
                  </a:lnTo>
                  <a:lnTo>
                    <a:pt x="3297" y="7072"/>
                  </a:lnTo>
                  <a:lnTo>
                    <a:pt x="3304" y="7084"/>
                  </a:lnTo>
                  <a:lnTo>
                    <a:pt x="3311" y="7095"/>
                  </a:lnTo>
                  <a:lnTo>
                    <a:pt x="3317" y="7107"/>
                  </a:lnTo>
                  <a:lnTo>
                    <a:pt x="3320" y="7122"/>
                  </a:lnTo>
                  <a:lnTo>
                    <a:pt x="3322" y="7138"/>
                  </a:lnTo>
                  <a:lnTo>
                    <a:pt x="3309" y="7137"/>
                  </a:lnTo>
                  <a:lnTo>
                    <a:pt x="3295" y="7134"/>
                  </a:lnTo>
                  <a:lnTo>
                    <a:pt x="3281" y="7128"/>
                  </a:lnTo>
                  <a:lnTo>
                    <a:pt x="3267" y="7124"/>
                  </a:lnTo>
                  <a:lnTo>
                    <a:pt x="3253" y="7120"/>
                  </a:lnTo>
                  <a:lnTo>
                    <a:pt x="3240" y="7118"/>
                  </a:lnTo>
                  <a:lnTo>
                    <a:pt x="3226" y="7118"/>
                  </a:lnTo>
                  <a:lnTo>
                    <a:pt x="3212" y="7121"/>
                  </a:lnTo>
                  <a:lnTo>
                    <a:pt x="3222" y="7133"/>
                  </a:lnTo>
                  <a:lnTo>
                    <a:pt x="3233" y="7145"/>
                  </a:lnTo>
                  <a:lnTo>
                    <a:pt x="3244" y="7156"/>
                  </a:lnTo>
                  <a:lnTo>
                    <a:pt x="3257" y="7167"/>
                  </a:lnTo>
                  <a:lnTo>
                    <a:pt x="3271" y="7176"/>
                  </a:lnTo>
                  <a:lnTo>
                    <a:pt x="3285" y="7182"/>
                  </a:lnTo>
                  <a:lnTo>
                    <a:pt x="3300" y="7187"/>
                  </a:lnTo>
                  <a:lnTo>
                    <a:pt x="3316" y="7188"/>
                  </a:lnTo>
                  <a:lnTo>
                    <a:pt x="3305" y="7203"/>
                  </a:lnTo>
                  <a:lnTo>
                    <a:pt x="3295" y="7219"/>
                  </a:lnTo>
                  <a:lnTo>
                    <a:pt x="3281" y="7239"/>
                  </a:lnTo>
                  <a:lnTo>
                    <a:pt x="3267" y="7259"/>
                  </a:lnTo>
                  <a:lnTo>
                    <a:pt x="3252" y="7280"/>
                  </a:lnTo>
                  <a:lnTo>
                    <a:pt x="3236" y="7302"/>
                  </a:lnTo>
                  <a:lnTo>
                    <a:pt x="3219" y="7324"/>
                  </a:lnTo>
                  <a:lnTo>
                    <a:pt x="3200" y="7346"/>
                  </a:lnTo>
                  <a:lnTo>
                    <a:pt x="3182" y="7367"/>
                  </a:lnTo>
                  <a:lnTo>
                    <a:pt x="3164" y="7387"/>
                  </a:lnTo>
                  <a:lnTo>
                    <a:pt x="3145" y="7407"/>
                  </a:lnTo>
                  <a:lnTo>
                    <a:pt x="3126" y="7423"/>
                  </a:lnTo>
                  <a:lnTo>
                    <a:pt x="3106" y="7438"/>
                  </a:lnTo>
                  <a:lnTo>
                    <a:pt x="3087" y="7449"/>
                  </a:lnTo>
                  <a:lnTo>
                    <a:pt x="3068" y="7458"/>
                  </a:lnTo>
                  <a:lnTo>
                    <a:pt x="3050" y="7463"/>
                  </a:lnTo>
                  <a:lnTo>
                    <a:pt x="3033" y="7464"/>
                  </a:lnTo>
                  <a:lnTo>
                    <a:pt x="3021" y="7457"/>
                  </a:lnTo>
                  <a:lnTo>
                    <a:pt x="3011" y="7443"/>
                  </a:lnTo>
                  <a:lnTo>
                    <a:pt x="3004" y="7425"/>
                  </a:lnTo>
                  <a:lnTo>
                    <a:pt x="2996" y="7402"/>
                  </a:lnTo>
                  <a:lnTo>
                    <a:pt x="2990" y="7378"/>
                  </a:lnTo>
                  <a:lnTo>
                    <a:pt x="2983" y="7352"/>
                  </a:lnTo>
                  <a:lnTo>
                    <a:pt x="2975" y="7327"/>
                  </a:lnTo>
                  <a:lnTo>
                    <a:pt x="2971" y="7314"/>
                  </a:lnTo>
                  <a:lnTo>
                    <a:pt x="2967" y="7300"/>
                  </a:lnTo>
                  <a:lnTo>
                    <a:pt x="2964" y="7286"/>
                  </a:lnTo>
                  <a:lnTo>
                    <a:pt x="2962" y="7272"/>
                  </a:lnTo>
                  <a:lnTo>
                    <a:pt x="2959" y="7257"/>
                  </a:lnTo>
                  <a:lnTo>
                    <a:pt x="2956" y="7243"/>
                  </a:lnTo>
                  <a:lnTo>
                    <a:pt x="2954" y="7229"/>
                  </a:lnTo>
                  <a:lnTo>
                    <a:pt x="2952" y="7216"/>
                  </a:lnTo>
                  <a:lnTo>
                    <a:pt x="2950" y="7203"/>
                  </a:lnTo>
                  <a:lnTo>
                    <a:pt x="2949" y="7192"/>
                  </a:lnTo>
                  <a:lnTo>
                    <a:pt x="2948" y="7181"/>
                  </a:lnTo>
                  <a:lnTo>
                    <a:pt x="2947" y="7171"/>
                  </a:lnTo>
                  <a:lnTo>
                    <a:pt x="2946" y="7163"/>
                  </a:lnTo>
                  <a:lnTo>
                    <a:pt x="2945" y="7156"/>
                  </a:lnTo>
                  <a:lnTo>
                    <a:pt x="2945" y="7150"/>
                  </a:lnTo>
                  <a:lnTo>
                    <a:pt x="2945" y="7147"/>
                  </a:lnTo>
                  <a:lnTo>
                    <a:pt x="2953" y="7162"/>
                  </a:lnTo>
                  <a:lnTo>
                    <a:pt x="2960" y="7178"/>
                  </a:lnTo>
                  <a:lnTo>
                    <a:pt x="2965" y="7194"/>
                  </a:lnTo>
                  <a:lnTo>
                    <a:pt x="2969" y="7210"/>
                  </a:lnTo>
                  <a:lnTo>
                    <a:pt x="2972" y="7226"/>
                  </a:lnTo>
                  <a:lnTo>
                    <a:pt x="2976" y="7240"/>
                  </a:lnTo>
                  <a:lnTo>
                    <a:pt x="2978" y="7254"/>
                  </a:lnTo>
                  <a:lnTo>
                    <a:pt x="2981" y="7264"/>
                  </a:lnTo>
                  <a:lnTo>
                    <a:pt x="2996" y="7240"/>
                  </a:lnTo>
                  <a:lnTo>
                    <a:pt x="3007" y="7213"/>
                  </a:lnTo>
                  <a:lnTo>
                    <a:pt x="3013" y="7187"/>
                  </a:lnTo>
                  <a:lnTo>
                    <a:pt x="3021" y="7162"/>
                  </a:lnTo>
                  <a:lnTo>
                    <a:pt x="3030" y="7140"/>
                  </a:lnTo>
                  <a:lnTo>
                    <a:pt x="3045" y="7122"/>
                  </a:lnTo>
                  <a:lnTo>
                    <a:pt x="3069" y="7110"/>
                  </a:lnTo>
                  <a:lnTo>
                    <a:pt x="3103" y="7106"/>
                  </a:lnTo>
                  <a:lnTo>
                    <a:pt x="3108" y="7100"/>
                  </a:lnTo>
                  <a:lnTo>
                    <a:pt x="3116" y="7093"/>
                  </a:lnTo>
                  <a:lnTo>
                    <a:pt x="3126" y="7086"/>
                  </a:lnTo>
                  <a:lnTo>
                    <a:pt x="3136" y="7078"/>
                  </a:lnTo>
                  <a:lnTo>
                    <a:pt x="3147" y="7071"/>
                  </a:lnTo>
                  <a:lnTo>
                    <a:pt x="3160" y="7063"/>
                  </a:lnTo>
                  <a:lnTo>
                    <a:pt x="3173" y="7056"/>
                  </a:lnTo>
                  <a:lnTo>
                    <a:pt x="3187" y="7049"/>
                  </a:lnTo>
                  <a:lnTo>
                    <a:pt x="3200" y="7042"/>
                  </a:lnTo>
                  <a:lnTo>
                    <a:pt x="3213" y="7036"/>
                  </a:lnTo>
                  <a:lnTo>
                    <a:pt x="3227" y="7030"/>
                  </a:lnTo>
                  <a:lnTo>
                    <a:pt x="3239" y="7026"/>
                  </a:lnTo>
                  <a:lnTo>
                    <a:pt x="3251" y="7022"/>
                  </a:lnTo>
                  <a:lnTo>
                    <a:pt x="3261" y="7018"/>
                  </a:lnTo>
                  <a:lnTo>
                    <a:pt x="3271" y="7017"/>
                  </a:lnTo>
                  <a:lnTo>
                    <a:pt x="3279" y="7016"/>
                  </a:lnTo>
                  <a:lnTo>
                    <a:pt x="3296" y="7002"/>
                  </a:lnTo>
                  <a:lnTo>
                    <a:pt x="3313" y="6990"/>
                  </a:lnTo>
                  <a:lnTo>
                    <a:pt x="3329" y="6980"/>
                  </a:lnTo>
                  <a:lnTo>
                    <a:pt x="3344" y="6970"/>
                  </a:lnTo>
                  <a:lnTo>
                    <a:pt x="3360" y="6963"/>
                  </a:lnTo>
                  <a:lnTo>
                    <a:pt x="3375" y="6955"/>
                  </a:lnTo>
                  <a:lnTo>
                    <a:pt x="3390" y="6949"/>
                  </a:lnTo>
                  <a:lnTo>
                    <a:pt x="3406" y="6943"/>
                  </a:lnTo>
                  <a:lnTo>
                    <a:pt x="3421" y="6938"/>
                  </a:lnTo>
                  <a:lnTo>
                    <a:pt x="3437" y="6934"/>
                  </a:lnTo>
                  <a:lnTo>
                    <a:pt x="3454" y="6928"/>
                  </a:lnTo>
                  <a:lnTo>
                    <a:pt x="3471" y="6924"/>
                  </a:lnTo>
                  <a:lnTo>
                    <a:pt x="3489" y="6919"/>
                  </a:lnTo>
                  <a:lnTo>
                    <a:pt x="3509" y="6913"/>
                  </a:lnTo>
                  <a:lnTo>
                    <a:pt x="3529" y="6908"/>
                  </a:lnTo>
                  <a:lnTo>
                    <a:pt x="3550" y="6902"/>
                  </a:lnTo>
                  <a:lnTo>
                    <a:pt x="3561" y="6899"/>
                  </a:lnTo>
                  <a:lnTo>
                    <a:pt x="3575" y="6895"/>
                  </a:lnTo>
                  <a:lnTo>
                    <a:pt x="3590" y="6891"/>
                  </a:lnTo>
                  <a:lnTo>
                    <a:pt x="3608" y="6888"/>
                  </a:lnTo>
                  <a:lnTo>
                    <a:pt x="3626" y="6886"/>
                  </a:lnTo>
                  <a:lnTo>
                    <a:pt x="3647" y="6884"/>
                  </a:lnTo>
                  <a:lnTo>
                    <a:pt x="3667" y="6882"/>
                  </a:lnTo>
                  <a:lnTo>
                    <a:pt x="3686" y="6882"/>
                  </a:lnTo>
                  <a:lnTo>
                    <a:pt x="3706" y="6885"/>
                  </a:lnTo>
                  <a:lnTo>
                    <a:pt x="3725" y="6888"/>
                  </a:lnTo>
                  <a:lnTo>
                    <a:pt x="3741" y="6893"/>
                  </a:lnTo>
                  <a:lnTo>
                    <a:pt x="3756" y="6901"/>
                  </a:lnTo>
                  <a:lnTo>
                    <a:pt x="3769" y="6911"/>
                  </a:lnTo>
                  <a:lnTo>
                    <a:pt x="3777" y="6924"/>
                  </a:lnTo>
                  <a:lnTo>
                    <a:pt x="3784" y="6939"/>
                  </a:lnTo>
                  <a:lnTo>
                    <a:pt x="3786" y="6958"/>
                  </a:lnTo>
                  <a:lnTo>
                    <a:pt x="3781" y="6963"/>
                  </a:lnTo>
                  <a:lnTo>
                    <a:pt x="3780" y="6971"/>
                  </a:lnTo>
                  <a:lnTo>
                    <a:pt x="3777" y="6981"/>
                  </a:lnTo>
                  <a:lnTo>
                    <a:pt x="3772" y="6985"/>
                  </a:lnTo>
                  <a:lnTo>
                    <a:pt x="3739" y="6984"/>
                  </a:lnTo>
                  <a:lnTo>
                    <a:pt x="3708" y="6980"/>
                  </a:lnTo>
                  <a:lnTo>
                    <a:pt x="3681" y="6973"/>
                  </a:lnTo>
                  <a:lnTo>
                    <a:pt x="3655" y="6966"/>
                  </a:lnTo>
                  <a:lnTo>
                    <a:pt x="3632" y="6957"/>
                  </a:lnTo>
                  <a:lnTo>
                    <a:pt x="3609" y="6950"/>
                  </a:lnTo>
                  <a:lnTo>
                    <a:pt x="3586" y="6942"/>
                  </a:lnTo>
                  <a:lnTo>
                    <a:pt x="3563" y="6937"/>
                  </a:lnTo>
                  <a:lnTo>
                    <a:pt x="3539" y="6933"/>
                  </a:lnTo>
                  <a:lnTo>
                    <a:pt x="3513" y="6933"/>
                  </a:lnTo>
                  <a:lnTo>
                    <a:pt x="3484" y="6936"/>
                  </a:lnTo>
                  <a:lnTo>
                    <a:pt x="3453" y="6942"/>
                  </a:lnTo>
                  <a:lnTo>
                    <a:pt x="3418" y="6955"/>
                  </a:lnTo>
                  <a:lnTo>
                    <a:pt x="3379" y="6972"/>
                  </a:lnTo>
                  <a:lnTo>
                    <a:pt x="3335" y="6997"/>
                  </a:lnTo>
                  <a:lnTo>
                    <a:pt x="3285" y="7028"/>
                  </a:lnTo>
                  <a:close/>
                  <a:moveTo>
                    <a:pt x="1712" y="7053"/>
                  </a:moveTo>
                  <a:lnTo>
                    <a:pt x="1733" y="7048"/>
                  </a:lnTo>
                  <a:lnTo>
                    <a:pt x="1754" y="7044"/>
                  </a:lnTo>
                  <a:lnTo>
                    <a:pt x="1776" y="7040"/>
                  </a:lnTo>
                  <a:lnTo>
                    <a:pt x="1798" y="7035"/>
                  </a:lnTo>
                  <a:lnTo>
                    <a:pt x="1822" y="7031"/>
                  </a:lnTo>
                  <a:lnTo>
                    <a:pt x="1844" y="7027"/>
                  </a:lnTo>
                  <a:lnTo>
                    <a:pt x="1868" y="7024"/>
                  </a:lnTo>
                  <a:lnTo>
                    <a:pt x="1892" y="7019"/>
                  </a:lnTo>
                  <a:lnTo>
                    <a:pt x="1916" y="7016"/>
                  </a:lnTo>
                  <a:lnTo>
                    <a:pt x="1941" y="7013"/>
                  </a:lnTo>
                  <a:lnTo>
                    <a:pt x="1965" y="7010"/>
                  </a:lnTo>
                  <a:lnTo>
                    <a:pt x="1990" y="7007"/>
                  </a:lnTo>
                  <a:lnTo>
                    <a:pt x="2016" y="7004"/>
                  </a:lnTo>
                  <a:lnTo>
                    <a:pt x="2040" y="7002"/>
                  </a:lnTo>
                  <a:lnTo>
                    <a:pt x="2065" y="7000"/>
                  </a:lnTo>
                  <a:lnTo>
                    <a:pt x="2090" y="6998"/>
                  </a:lnTo>
                  <a:lnTo>
                    <a:pt x="2115" y="6997"/>
                  </a:lnTo>
                  <a:lnTo>
                    <a:pt x="2141" y="6995"/>
                  </a:lnTo>
                  <a:lnTo>
                    <a:pt x="2165" y="6995"/>
                  </a:lnTo>
                  <a:lnTo>
                    <a:pt x="2190" y="6994"/>
                  </a:lnTo>
                  <a:lnTo>
                    <a:pt x="2215" y="6994"/>
                  </a:lnTo>
                  <a:lnTo>
                    <a:pt x="2239" y="6995"/>
                  </a:lnTo>
                  <a:lnTo>
                    <a:pt x="2264" y="6996"/>
                  </a:lnTo>
                  <a:lnTo>
                    <a:pt x="2287" y="6997"/>
                  </a:lnTo>
                  <a:lnTo>
                    <a:pt x="2312" y="6998"/>
                  </a:lnTo>
                  <a:lnTo>
                    <a:pt x="2335" y="7001"/>
                  </a:lnTo>
                  <a:lnTo>
                    <a:pt x="2358" y="7003"/>
                  </a:lnTo>
                  <a:lnTo>
                    <a:pt x="2381" y="7007"/>
                  </a:lnTo>
                  <a:lnTo>
                    <a:pt x="2403" y="7011"/>
                  </a:lnTo>
                  <a:lnTo>
                    <a:pt x="2426" y="7015"/>
                  </a:lnTo>
                  <a:lnTo>
                    <a:pt x="2447" y="7020"/>
                  </a:lnTo>
                  <a:lnTo>
                    <a:pt x="2467" y="7026"/>
                  </a:lnTo>
                  <a:lnTo>
                    <a:pt x="2478" y="7027"/>
                  </a:lnTo>
                  <a:lnTo>
                    <a:pt x="2490" y="7031"/>
                  </a:lnTo>
                  <a:lnTo>
                    <a:pt x="2503" y="7038"/>
                  </a:lnTo>
                  <a:lnTo>
                    <a:pt x="2516" y="7046"/>
                  </a:lnTo>
                  <a:lnTo>
                    <a:pt x="2530" y="7056"/>
                  </a:lnTo>
                  <a:lnTo>
                    <a:pt x="2543" y="7066"/>
                  </a:lnTo>
                  <a:lnTo>
                    <a:pt x="2555" y="7078"/>
                  </a:lnTo>
                  <a:lnTo>
                    <a:pt x="2566" y="7090"/>
                  </a:lnTo>
                  <a:lnTo>
                    <a:pt x="2531" y="7119"/>
                  </a:lnTo>
                  <a:lnTo>
                    <a:pt x="2527" y="7104"/>
                  </a:lnTo>
                  <a:lnTo>
                    <a:pt x="2516" y="7093"/>
                  </a:lnTo>
                  <a:lnTo>
                    <a:pt x="2500" y="7088"/>
                  </a:lnTo>
                  <a:lnTo>
                    <a:pt x="2481" y="7086"/>
                  </a:lnTo>
                  <a:lnTo>
                    <a:pt x="2459" y="7088"/>
                  </a:lnTo>
                  <a:lnTo>
                    <a:pt x="2437" y="7092"/>
                  </a:lnTo>
                  <a:lnTo>
                    <a:pt x="2417" y="7099"/>
                  </a:lnTo>
                  <a:lnTo>
                    <a:pt x="2399" y="7107"/>
                  </a:lnTo>
                  <a:lnTo>
                    <a:pt x="2394" y="7089"/>
                  </a:lnTo>
                  <a:lnTo>
                    <a:pt x="2390" y="7074"/>
                  </a:lnTo>
                  <a:lnTo>
                    <a:pt x="2386" y="7061"/>
                  </a:lnTo>
                  <a:lnTo>
                    <a:pt x="2383" y="7050"/>
                  </a:lnTo>
                  <a:lnTo>
                    <a:pt x="2378" y="7042"/>
                  </a:lnTo>
                  <a:lnTo>
                    <a:pt x="2373" y="7035"/>
                  </a:lnTo>
                  <a:lnTo>
                    <a:pt x="2367" y="7031"/>
                  </a:lnTo>
                  <a:lnTo>
                    <a:pt x="2359" y="7029"/>
                  </a:lnTo>
                  <a:lnTo>
                    <a:pt x="2333" y="7026"/>
                  </a:lnTo>
                  <a:lnTo>
                    <a:pt x="2306" y="7023"/>
                  </a:lnTo>
                  <a:lnTo>
                    <a:pt x="2274" y="7019"/>
                  </a:lnTo>
                  <a:lnTo>
                    <a:pt x="2240" y="7017"/>
                  </a:lnTo>
                  <a:lnTo>
                    <a:pt x="2206" y="7015"/>
                  </a:lnTo>
                  <a:lnTo>
                    <a:pt x="2171" y="7014"/>
                  </a:lnTo>
                  <a:lnTo>
                    <a:pt x="2134" y="7015"/>
                  </a:lnTo>
                  <a:lnTo>
                    <a:pt x="2099" y="7017"/>
                  </a:lnTo>
                  <a:lnTo>
                    <a:pt x="2064" y="7023"/>
                  </a:lnTo>
                  <a:lnTo>
                    <a:pt x="2031" y="7031"/>
                  </a:lnTo>
                  <a:lnTo>
                    <a:pt x="1998" y="7042"/>
                  </a:lnTo>
                  <a:lnTo>
                    <a:pt x="1970" y="7057"/>
                  </a:lnTo>
                  <a:lnTo>
                    <a:pt x="1943" y="7076"/>
                  </a:lnTo>
                  <a:lnTo>
                    <a:pt x="1920" y="7099"/>
                  </a:lnTo>
                  <a:lnTo>
                    <a:pt x="1901" y="7126"/>
                  </a:lnTo>
                  <a:lnTo>
                    <a:pt x="1887" y="7159"/>
                  </a:lnTo>
                  <a:lnTo>
                    <a:pt x="1885" y="7166"/>
                  </a:lnTo>
                  <a:lnTo>
                    <a:pt x="1882" y="7177"/>
                  </a:lnTo>
                  <a:lnTo>
                    <a:pt x="1879" y="7188"/>
                  </a:lnTo>
                  <a:lnTo>
                    <a:pt x="1874" y="7203"/>
                  </a:lnTo>
                  <a:lnTo>
                    <a:pt x="1871" y="7220"/>
                  </a:lnTo>
                  <a:lnTo>
                    <a:pt x="1869" y="7240"/>
                  </a:lnTo>
                  <a:lnTo>
                    <a:pt x="1868" y="7259"/>
                  </a:lnTo>
                  <a:lnTo>
                    <a:pt x="1869" y="7280"/>
                  </a:lnTo>
                  <a:lnTo>
                    <a:pt x="1847" y="7260"/>
                  </a:lnTo>
                  <a:lnTo>
                    <a:pt x="1828" y="7240"/>
                  </a:lnTo>
                  <a:lnTo>
                    <a:pt x="1809" y="7222"/>
                  </a:lnTo>
                  <a:lnTo>
                    <a:pt x="1792" y="7204"/>
                  </a:lnTo>
                  <a:lnTo>
                    <a:pt x="1776" y="7187"/>
                  </a:lnTo>
                  <a:lnTo>
                    <a:pt x="1761" y="7172"/>
                  </a:lnTo>
                  <a:lnTo>
                    <a:pt x="1747" y="7157"/>
                  </a:lnTo>
                  <a:lnTo>
                    <a:pt x="1736" y="7143"/>
                  </a:lnTo>
                  <a:lnTo>
                    <a:pt x="1725" y="7131"/>
                  </a:lnTo>
                  <a:lnTo>
                    <a:pt x="1718" y="7119"/>
                  </a:lnTo>
                  <a:lnTo>
                    <a:pt x="1712" y="7106"/>
                  </a:lnTo>
                  <a:lnTo>
                    <a:pt x="1707" y="7095"/>
                  </a:lnTo>
                  <a:lnTo>
                    <a:pt x="1705" y="7084"/>
                  </a:lnTo>
                  <a:lnTo>
                    <a:pt x="1705" y="7073"/>
                  </a:lnTo>
                  <a:lnTo>
                    <a:pt x="1707" y="7063"/>
                  </a:lnTo>
                  <a:lnTo>
                    <a:pt x="1712" y="7053"/>
                  </a:lnTo>
                  <a:close/>
                  <a:moveTo>
                    <a:pt x="2321" y="4387"/>
                  </a:moveTo>
                  <a:lnTo>
                    <a:pt x="2320" y="4353"/>
                  </a:lnTo>
                  <a:lnTo>
                    <a:pt x="2315" y="4322"/>
                  </a:lnTo>
                  <a:lnTo>
                    <a:pt x="2310" y="4293"/>
                  </a:lnTo>
                  <a:lnTo>
                    <a:pt x="2302" y="4265"/>
                  </a:lnTo>
                  <a:lnTo>
                    <a:pt x="2294" y="4238"/>
                  </a:lnTo>
                  <a:lnTo>
                    <a:pt x="2283" y="4212"/>
                  </a:lnTo>
                  <a:lnTo>
                    <a:pt x="2272" y="4186"/>
                  </a:lnTo>
                  <a:lnTo>
                    <a:pt x="2262" y="4159"/>
                  </a:lnTo>
                  <a:lnTo>
                    <a:pt x="2250" y="4132"/>
                  </a:lnTo>
                  <a:lnTo>
                    <a:pt x="2238" y="4104"/>
                  </a:lnTo>
                  <a:lnTo>
                    <a:pt x="2226" y="4074"/>
                  </a:lnTo>
                  <a:lnTo>
                    <a:pt x="2216" y="4042"/>
                  </a:lnTo>
                  <a:lnTo>
                    <a:pt x="2206" y="4006"/>
                  </a:lnTo>
                  <a:lnTo>
                    <a:pt x="2198" y="3968"/>
                  </a:lnTo>
                  <a:lnTo>
                    <a:pt x="2191" y="3927"/>
                  </a:lnTo>
                  <a:lnTo>
                    <a:pt x="2186" y="3881"/>
                  </a:lnTo>
                  <a:lnTo>
                    <a:pt x="2174" y="3848"/>
                  </a:lnTo>
                  <a:lnTo>
                    <a:pt x="2173" y="3821"/>
                  </a:lnTo>
                  <a:lnTo>
                    <a:pt x="2178" y="3801"/>
                  </a:lnTo>
                  <a:lnTo>
                    <a:pt x="2188" y="3786"/>
                  </a:lnTo>
                  <a:lnTo>
                    <a:pt x="2201" y="3774"/>
                  </a:lnTo>
                  <a:lnTo>
                    <a:pt x="2211" y="3767"/>
                  </a:lnTo>
                  <a:lnTo>
                    <a:pt x="2221" y="3760"/>
                  </a:lnTo>
                  <a:lnTo>
                    <a:pt x="2224" y="3754"/>
                  </a:lnTo>
                  <a:lnTo>
                    <a:pt x="2261" y="3753"/>
                  </a:lnTo>
                  <a:lnTo>
                    <a:pt x="2294" y="3748"/>
                  </a:lnTo>
                  <a:lnTo>
                    <a:pt x="2324" y="3743"/>
                  </a:lnTo>
                  <a:lnTo>
                    <a:pt x="2351" y="3736"/>
                  </a:lnTo>
                  <a:lnTo>
                    <a:pt x="2374" y="3726"/>
                  </a:lnTo>
                  <a:lnTo>
                    <a:pt x="2396" y="3715"/>
                  </a:lnTo>
                  <a:lnTo>
                    <a:pt x="2415" y="3702"/>
                  </a:lnTo>
                  <a:lnTo>
                    <a:pt x="2432" y="3690"/>
                  </a:lnTo>
                  <a:lnTo>
                    <a:pt x="2448" y="3676"/>
                  </a:lnTo>
                  <a:lnTo>
                    <a:pt x="2462" y="3662"/>
                  </a:lnTo>
                  <a:lnTo>
                    <a:pt x="2475" y="3647"/>
                  </a:lnTo>
                  <a:lnTo>
                    <a:pt x="2487" y="3632"/>
                  </a:lnTo>
                  <a:lnTo>
                    <a:pt x="2498" y="3617"/>
                  </a:lnTo>
                  <a:lnTo>
                    <a:pt x="2509" y="3603"/>
                  </a:lnTo>
                  <a:lnTo>
                    <a:pt x="2520" y="3589"/>
                  </a:lnTo>
                  <a:lnTo>
                    <a:pt x="2531" y="3576"/>
                  </a:lnTo>
                  <a:lnTo>
                    <a:pt x="2543" y="3564"/>
                  </a:lnTo>
                  <a:lnTo>
                    <a:pt x="2555" y="3554"/>
                  </a:lnTo>
                  <a:lnTo>
                    <a:pt x="2569" y="3545"/>
                  </a:lnTo>
                  <a:lnTo>
                    <a:pt x="2583" y="3538"/>
                  </a:lnTo>
                  <a:lnTo>
                    <a:pt x="2600" y="3532"/>
                  </a:lnTo>
                  <a:lnTo>
                    <a:pt x="2617" y="3529"/>
                  </a:lnTo>
                  <a:lnTo>
                    <a:pt x="2637" y="3529"/>
                  </a:lnTo>
                  <a:lnTo>
                    <a:pt x="2660" y="3531"/>
                  </a:lnTo>
                  <a:lnTo>
                    <a:pt x="2686" y="3537"/>
                  </a:lnTo>
                  <a:lnTo>
                    <a:pt x="2713" y="3545"/>
                  </a:lnTo>
                  <a:lnTo>
                    <a:pt x="2744" y="3556"/>
                  </a:lnTo>
                  <a:lnTo>
                    <a:pt x="2779" y="3572"/>
                  </a:lnTo>
                  <a:lnTo>
                    <a:pt x="2817" y="3591"/>
                  </a:lnTo>
                  <a:lnTo>
                    <a:pt x="2859" y="3614"/>
                  </a:lnTo>
                  <a:lnTo>
                    <a:pt x="2905" y="3641"/>
                  </a:lnTo>
                  <a:lnTo>
                    <a:pt x="2956" y="3674"/>
                  </a:lnTo>
                  <a:lnTo>
                    <a:pt x="2957" y="3675"/>
                  </a:lnTo>
                  <a:lnTo>
                    <a:pt x="2959" y="3679"/>
                  </a:lnTo>
                  <a:lnTo>
                    <a:pt x="2961" y="3684"/>
                  </a:lnTo>
                  <a:lnTo>
                    <a:pt x="2963" y="3691"/>
                  </a:lnTo>
                  <a:lnTo>
                    <a:pt x="2965" y="3698"/>
                  </a:lnTo>
                  <a:lnTo>
                    <a:pt x="2967" y="3707"/>
                  </a:lnTo>
                  <a:lnTo>
                    <a:pt x="2968" y="3714"/>
                  </a:lnTo>
                  <a:lnTo>
                    <a:pt x="2969" y="3721"/>
                  </a:lnTo>
                  <a:lnTo>
                    <a:pt x="2953" y="3721"/>
                  </a:lnTo>
                  <a:lnTo>
                    <a:pt x="2936" y="3721"/>
                  </a:lnTo>
                  <a:lnTo>
                    <a:pt x="2920" y="3721"/>
                  </a:lnTo>
                  <a:lnTo>
                    <a:pt x="2903" y="3721"/>
                  </a:lnTo>
                  <a:lnTo>
                    <a:pt x="2886" y="3721"/>
                  </a:lnTo>
                  <a:lnTo>
                    <a:pt x="2869" y="3720"/>
                  </a:lnTo>
                  <a:lnTo>
                    <a:pt x="2853" y="3720"/>
                  </a:lnTo>
                  <a:lnTo>
                    <a:pt x="2835" y="3719"/>
                  </a:lnTo>
                  <a:lnTo>
                    <a:pt x="2819" y="3717"/>
                  </a:lnTo>
                  <a:lnTo>
                    <a:pt x="2802" y="3716"/>
                  </a:lnTo>
                  <a:lnTo>
                    <a:pt x="2786" y="3715"/>
                  </a:lnTo>
                  <a:lnTo>
                    <a:pt x="2771" y="3714"/>
                  </a:lnTo>
                  <a:lnTo>
                    <a:pt x="2755" y="3712"/>
                  </a:lnTo>
                  <a:lnTo>
                    <a:pt x="2741" y="3710"/>
                  </a:lnTo>
                  <a:lnTo>
                    <a:pt x="2726" y="3708"/>
                  </a:lnTo>
                  <a:lnTo>
                    <a:pt x="2712" y="3705"/>
                  </a:lnTo>
                  <a:lnTo>
                    <a:pt x="2698" y="3704"/>
                  </a:lnTo>
                  <a:lnTo>
                    <a:pt x="2683" y="3700"/>
                  </a:lnTo>
                  <a:lnTo>
                    <a:pt x="2667" y="3696"/>
                  </a:lnTo>
                  <a:lnTo>
                    <a:pt x="2651" y="3691"/>
                  </a:lnTo>
                  <a:lnTo>
                    <a:pt x="2635" y="3687"/>
                  </a:lnTo>
                  <a:lnTo>
                    <a:pt x="2619" y="3685"/>
                  </a:lnTo>
                  <a:lnTo>
                    <a:pt x="2604" y="3685"/>
                  </a:lnTo>
                  <a:lnTo>
                    <a:pt x="2590" y="3690"/>
                  </a:lnTo>
                  <a:lnTo>
                    <a:pt x="2627" y="3737"/>
                  </a:lnTo>
                  <a:lnTo>
                    <a:pt x="2627" y="3755"/>
                  </a:lnTo>
                  <a:lnTo>
                    <a:pt x="2629" y="3775"/>
                  </a:lnTo>
                  <a:lnTo>
                    <a:pt x="2630" y="3799"/>
                  </a:lnTo>
                  <a:lnTo>
                    <a:pt x="2632" y="3824"/>
                  </a:lnTo>
                  <a:lnTo>
                    <a:pt x="2634" y="3851"/>
                  </a:lnTo>
                  <a:lnTo>
                    <a:pt x="2635" y="3879"/>
                  </a:lnTo>
                  <a:lnTo>
                    <a:pt x="2636" y="3908"/>
                  </a:lnTo>
                  <a:lnTo>
                    <a:pt x="2636" y="3936"/>
                  </a:lnTo>
                  <a:lnTo>
                    <a:pt x="2635" y="3962"/>
                  </a:lnTo>
                  <a:lnTo>
                    <a:pt x="2633" y="3987"/>
                  </a:lnTo>
                  <a:lnTo>
                    <a:pt x="2630" y="4011"/>
                  </a:lnTo>
                  <a:lnTo>
                    <a:pt x="2624" y="4030"/>
                  </a:lnTo>
                  <a:lnTo>
                    <a:pt x="2616" y="4047"/>
                  </a:lnTo>
                  <a:lnTo>
                    <a:pt x="2606" y="4060"/>
                  </a:lnTo>
                  <a:lnTo>
                    <a:pt x="2594" y="4067"/>
                  </a:lnTo>
                  <a:lnTo>
                    <a:pt x="2578" y="4070"/>
                  </a:lnTo>
                  <a:lnTo>
                    <a:pt x="2581" y="4102"/>
                  </a:lnTo>
                  <a:lnTo>
                    <a:pt x="2589" y="4128"/>
                  </a:lnTo>
                  <a:lnTo>
                    <a:pt x="2603" y="4148"/>
                  </a:lnTo>
                  <a:lnTo>
                    <a:pt x="2620" y="4163"/>
                  </a:lnTo>
                  <a:lnTo>
                    <a:pt x="2642" y="4173"/>
                  </a:lnTo>
                  <a:lnTo>
                    <a:pt x="2666" y="4180"/>
                  </a:lnTo>
                  <a:lnTo>
                    <a:pt x="2693" y="4183"/>
                  </a:lnTo>
                  <a:lnTo>
                    <a:pt x="2721" y="4183"/>
                  </a:lnTo>
                  <a:lnTo>
                    <a:pt x="2750" y="4182"/>
                  </a:lnTo>
                  <a:lnTo>
                    <a:pt x="2779" y="4178"/>
                  </a:lnTo>
                  <a:lnTo>
                    <a:pt x="2808" y="4174"/>
                  </a:lnTo>
                  <a:lnTo>
                    <a:pt x="2835" y="4170"/>
                  </a:lnTo>
                  <a:lnTo>
                    <a:pt x="2861" y="4167"/>
                  </a:lnTo>
                  <a:lnTo>
                    <a:pt x="2884" y="4163"/>
                  </a:lnTo>
                  <a:lnTo>
                    <a:pt x="2904" y="4163"/>
                  </a:lnTo>
                  <a:lnTo>
                    <a:pt x="2920" y="4165"/>
                  </a:lnTo>
                  <a:lnTo>
                    <a:pt x="2925" y="4166"/>
                  </a:lnTo>
                  <a:lnTo>
                    <a:pt x="2931" y="4167"/>
                  </a:lnTo>
                  <a:lnTo>
                    <a:pt x="2938" y="4170"/>
                  </a:lnTo>
                  <a:lnTo>
                    <a:pt x="2946" y="4172"/>
                  </a:lnTo>
                  <a:lnTo>
                    <a:pt x="2954" y="4175"/>
                  </a:lnTo>
                  <a:lnTo>
                    <a:pt x="2963" y="4178"/>
                  </a:lnTo>
                  <a:lnTo>
                    <a:pt x="2971" y="4180"/>
                  </a:lnTo>
                  <a:lnTo>
                    <a:pt x="2981" y="4181"/>
                  </a:lnTo>
                  <a:lnTo>
                    <a:pt x="2997" y="4202"/>
                  </a:lnTo>
                  <a:lnTo>
                    <a:pt x="3011" y="4223"/>
                  </a:lnTo>
                  <a:lnTo>
                    <a:pt x="3023" y="4245"/>
                  </a:lnTo>
                  <a:lnTo>
                    <a:pt x="3033" y="4266"/>
                  </a:lnTo>
                  <a:lnTo>
                    <a:pt x="3043" y="4286"/>
                  </a:lnTo>
                  <a:lnTo>
                    <a:pt x="3052" y="4307"/>
                  </a:lnTo>
                  <a:lnTo>
                    <a:pt x="3058" y="4327"/>
                  </a:lnTo>
                  <a:lnTo>
                    <a:pt x="3065" y="4349"/>
                  </a:lnTo>
                  <a:lnTo>
                    <a:pt x="3069" y="4369"/>
                  </a:lnTo>
                  <a:lnTo>
                    <a:pt x="3072" y="4389"/>
                  </a:lnTo>
                  <a:lnTo>
                    <a:pt x="3075" y="4409"/>
                  </a:lnTo>
                  <a:lnTo>
                    <a:pt x="3077" y="4429"/>
                  </a:lnTo>
                  <a:lnTo>
                    <a:pt x="3078" y="4449"/>
                  </a:lnTo>
                  <a:lnTo>
                    <a:pt x="3078" y="4470"/>
                  </a:lnTo>
                  <a:lnTo>
                    <a:pt x="3078" y="4491"/>
                  </a:lnTo>
                  <a:lnTo>
                    <a:pt x="3077" y="4511"/>
                  </a:lnTo>
                  <a:lnTo>
                    <a:pt x="3075" y="4531"/>
                  </a:lnTo>
                  <a:lnTo>
                    <a:pt x="3073" y="4553"/>
                  </a:lnTo>
                  <a:lnTo>
                    <a:pt x="3071" y="4573"/>
                  </a:lnTo>
                  <a:lnTo>
                    <a:pt x="3069" y="4595"/>
                  </a:lnTo>
                  <a:lnTo>
                    <a:pt x="3066" y="4616"/>
                  </a:lnTo>
                  <a:lnTo>
                    <a:pt x="3063" y="4638"/>
                  </a:lnTo>
                  <a:lnTo>
                    <a:pt x="3060" y="4660"/>
                  </a:lnTo>
                  <a:lnTo>
                    <a:pt x="3057" y="4682"/>
                  </a:lnTo>
                  <a:lnTo>
                    <a:pt x="3054" y="4705"/>
                  </a:lnTo>
                  <a:lnTo>
                    <a:pt x="3052" y="4728"/>
                  </a:lnTo>
                  <a:lnTo>
                    <a:pt x="3048" y="4752"/>
                  </a:lnTo>
                  <a:lnTo>
                    <a:pt x="3046" y="4775"/>
                  </a:lnTo>
                  <a:lnTo>
                    <a:pt x="3044" y="4800"/>
                  </a:lnTo>
                  <a:lnTo>
                    <a:pt x="3043" y="4824"/>
                  </a:lnTo>
                  <a:lnTo>
                    <a:pt x="3042" y="4850"/>
                  </a:lnTo>
                  <a:lnTo>
                    <a:pt x="3042" y="4876"/>
                  </a:lnTo>
                  <a:lnTo>
                    <a:pt x="3025" y="4902"/>
                  </a:lnTo>
                  <a:lnTo>
                    <a:pt x="3009" y="4930"/>
                  </a:lnTo>
                  <a:lnTo>
                    <a:pt x="2994" y="4962"/>
                  </a:lnTo>
                  <a:lnTo>
                    <a:pt x="2981" y="4997"/>
                  </a:lnTo>
                  <a:lnTo>
                    <a:pt x="2969" y="5034"/>
                  </a:lnTo>
                  <a:lnTo>
                    <a:pt x="2959" y="5073"/>
                  </a:lnTo>
                  <a:lnTo>
                    <a:pt x="2949" y="5113"/>
                  </a:lnTo>
                  <a:lnTo>
                    <a:pt x="2941" y="5154"/>
                  </a:lnTo>
                  <a:lnTo>
                    <a:pt x="2933" y="5196"/>
                  </a:lnTo>
                  <a:lnTo>
                    <a:pt x="2926" y="5237"/>
                  </a:lnTo>
                  <a:lnTo>
                    <a:pt x="2920" y="5279"/>
                  </a:lnTo>
                  <a:lnTo>
                    <a:pt x="2915" y="5320"/>
                  </a:lnTo>
                  <a:lnTo>
                    <a:pt x="2909" y="5359"/>
                  </a:lnTo>
                  <a:lnTo>
                    <a:pt x="2904" y="5398"/>
                  </a:lnTo>
                  <a:lnTo>
                    <a:pt x="2899" y="5434"/>
                  </a:lnTo>
                  <a:lnTo>
                    <a:pt x="2894" y="5468"/>
                  </a:lnTo>
                  <a:lnTo>
                    <a:pt x="2893" y="5528"/>
                  </a:lnTo>
                  <a:lnTo>
                    <a:pt x="2889" y="5570"/>
                  </a:lnTo>
                  <a:lnTo>
                    <a:pt x="2883" y="5596"/>
                  </a:lnTo>
                  <a:lnTo>
                    <a:pt x="2875" y="5606"/>
                  </a:lnTo>
                  <a:lnTo>
                    <a:pt x="2865" y="5604"/>
                  </a:lnTo>
                  <a:lnTo>
                    <a:pt x="2855" y="5590"/>
                  </a:lnTo>
                  <a:lnTo>
                    <a:pt x="2843" y="5567"/>
                  </a:lnTo>
                  <a:lnTo>
                    <a:pt x="2830" y="5535"/>
                  </a:lnTo>
                  <a:lnTo>
                    <a:pt x="2817" y="5496"/>
                  </a:lnTo>
                  <a:lnTo>
                    <a:pt x="2805" y="5452"/>
                  </a:lnTo>
                  <a:lnTo>
                    <a:pt x="2793" y="5405"/>
                  </a:lnTo>
                  <a:lnTo>
                    <a:pt x="2782" y="5356"/>
                  </a:lnTo>
                  <a:lnTo>
                    <a:pt x="2771" y="5307"/>
                  </a:lnTo>
                  <a:lnTo>
                    <a:pt x="2763" y="5259"/>
                  </a:lnTo>
                  <a:lnTo>
                    <a:pt x="2755" y="5215"/>
                  </a:lnTo>
                  <a:lnTo>
                    <a:pt x="2750" y="5174"/>
                  </a:lnTo>
                  <a:lnTo>
                    <a:pt x="2746" y="5149"/>
                  </a:lnTo>
                  <a:lnTo>
                    <a:pt x="2742" y="5123"/>
                  </a:lnTo>
                  <a:lnTo>
                    <a:pt x="2739" y="5098"/>
                  </a:lnTo>
                  <a:lnTo>
                    <a:pt x="2737" y="5074"/>
                  </a:lnTo>
                  <a:lnTo>
                    <a:pt x="2735" y="5049"/>
                  </a:lnTo>
                  <a:lnTo>
                    <a:pt x="2734" y="5025"/>
                  </a:lnTo>
                  <a:lnTo>
                    <a:pt x="2733" y="5001"/>
                  </a:lnTo>
                  <a:lnTo>
                    <a:pt x="2732" y="4977"/>
                  </a:lnTo>
                  <a:lnTo>
                    <a:pt x="2731" y="4954"/>
                  </a:lnTo>
                  <a:lnTo>
                    <a:pt x="2730" y="4930"/>
                  </a:lnTo>
                  <a:lnTo>
                    <a:pt x="2730" y="4907"/>
                  </a:lnTo>
                  <a:lnTo>
                    <a:pt x="2728" y="4884"/>
                  </a:lnTo>
                  <a:lnTo>
                    <a:pt x="2727" y="4862"/>
                  </a:lnTo>
                  <a:lnTo>
                    <a:pt x="2726" y="4839"/>
                  </a:lnTo>
                  <a:lnTo>
                    <a:pt x="2725" y="4817"/>
                  </a:lnTo>
                  <a:lnTo>
                    <a:pt x="2724" y="4795"/>
                  </a:lnTo>
                  <a:lnTo>
                    <a:pt x="2722" y="4773"/>
                  </a:lnTo>
                  <a:lnTo>
                    <a:pt x="2720" y="4751"/>
                  </a:lnTo>
                  <a:lnTo>
                    <a:pt x="2717" y="4729"/>
                  </a:lnTo>
                  <a:lnTo>
                    <a:pt x="2713" y="4708"/>
                  </a:lnTo>
                  <a:lnTo>
                    <a:pt x="2709" y="4687"/>
                  </a:lnTo>
                  <a:lnTo>
                    <a:pt x="2704" y="4665"/>
                  </a:lnTo>
                  <a:lnTo>
                    <a:pt x="2698" y="4644"/>
                  </a:lnTo>
                  <a:lnTo>
                    <a:pt x="2692" y="4622"/>
                  </a:lnTo>
                  <a:lnTo>
                    <a:pt x="2685" y="4601"/>
                  </a:lnTo>
                  <a:lnTo>
                    <a:pt x="2676" y="4580"/>
                  </a:lnTo>
                  <a:lnTo>
                    <a:pt x="2667" y="4558"/>
                  </a:lnTo>
                  <a:lnTo>
                    <a:pt x="2657" y="4537"/>
                  </a:lnTo>
                  <a:lnTo>
                    <a:pt x="2645" y="4515"/>
                  </a:lnTo>
                  <a:lnTo>
                    <a:pt x="2632" y="4494"/>
                  </a:lnTo>
                  <a:lnTo>
                    <a:pt x="2618" y="4473"/>
                  </a:lnTo>
                  <a:lnTo>
                    <a:pt x="2602" y="4451"/>
                  </a:lnTo>
                  <a:lnTo>
                    <a:pt x="2602" y="4474"/>
                  </a:lnTo>
                  <a:lnTo>
                    <a:pt x="2602" y="4497"/>
                  </a:lnTo>
                  <a:lnTo>
                    <a:pt x="2603" y="4521"/>
                  </a:lnTo>
                  <a:lnTo>
                    <a:pt x="2603" y="4544"/>
                  </a:lnTo>
                  <a:lnTo>
                    <a:pt x="2604" y="4569"/>
                  </a:lnTo>
                  <a:lnTo>
                    <a:pt x="2605" y="4593"/>
                  </a:lnTo>
                  <a:lnTo>
                    <a:pt x="2606" y="4618"/>
                  </a:lnTo>
                  <a:lnTo>
                    <a:pt x="2607" y="4644"/>
                  </a:lnTo>
                  <a:lnTo>
                    <a:pt x="2609" y="4669"/>
                  </a:lnTo>
                  <a:lnTo>
                    <a:pt x="2611" y="4694"/>
                  </a:lnTo>
                  <a:lnTo>
                    <a:pt x="2612" y="4720"/>
                  </a:lnTo>
                  <a:lnTo>
                    <a:pt x="2614" y="4746"/>
                  </a:lnTo>
                  <a:lnTo>
                    <a:pt x="2616" y="4772"/>
                  </a:lnTo>
                  <a:lnTo>
                    <a:pt x="2618" y="4798"/>
                  </a:lnTo>
                  <a:lnTo>
                    <a:pt x="2620" y="4823"/>
                  </a:lnTo>
                  <a:lnTo>
                    <a:pt x="2624" y="4849"/>
                  </a:lnTo>
                  <a:lnTo>
                    <a:pt x="2626" y="4875"/>
                  </a:lnTo>
                  <a:lnTo>
                    <a:pt x="2629" y="4900"/>
                  </a:lnTo>
                  <a:lnTo>
                    <a:pt x="2632" y="4926"/>
                  </a:lnTo>
                  <a:lnTo>
                    <a:pt x="2635" y="4952"/>
                  </a:lnTo>
                  <a:lnTo>
                    <a:pt x="2639" y="4976"/>
                  </a:lnTo>
                  <a:lnTo>
                    <a:pt x="2643" y="5002"/>
                  </a:lnTo>
                  <a:lnTo>
                    <a:pt x="2646" y="5027"/>
                  </a:lnTo>
                  <a:lnTo>
                    <a:pt x="2650" y="5051"/>
                  </a:lnTo>
                  <a:lnTo>
                    <a:pt x="2655" y="5075"/>
                  </a:lnTo>
                  <a:lnTo>
                    <a:pt x="2659" y="5098"/>
                  </a:lnTo>
                  <a:lnTo>
                    <a:pt x="2663" y="5122"/>
                  </a:lnTo>
                  <a:lnTo>
                    <a:pt x="2667" y="5144"/>
                  </a:lnTo>
                  <a:lnTo>
                    <a:pt x="2673" y="5167"/>
                  </a:lnTo>
                  <a:lnTo>
                    <a:pt x="2677" y="5188"/>
                  </a:lnTo>
                  <a:lnTo>
                    <a:pt x="2682" y="5210"/>
                  </a:lnTo>
                  <a:lnTo>
                    <a:pt x="2688" y="5230"/>
                  </a:lnTo>
                  <a:lnTo>
                    <a:pt x="2702" y="5281"/>
                  </a:lnTo>
                  <a:lnTo>
                    <a:pt x="2716" y="5329"/>
                  </a:lnTo>
                  <a:lnTo>
                    <a:pt x="2728" y="5375"/>
                  </a:lnTo>
                  <a:lnTo>
                    <a:pt x="2741" y="5420"/>
                  </a:lnTo>
                  <a:lnTo>
                    <a:pt x="2754" y="5462"/>
                  </a:lnTo>
                  <a:lnTo>
                    <a:pt x="2766" y="5502"/>
                  </a:lnTo>
                  <a:lnTo>
                    <a:pt x="2777" y="5540"/>
                  </a:lnTo>
                  <a:lnTo>
                    <a:pt x="2788" y="5576"/>
                  </a:lnTo>
                  <a:lnTo>
                    <a:pt x="2798" y="5612"/>
                  </a:lnTo>
                  <a:lnTo>
                    <a:pt x="2808" y="5646"/>
                  </a:lnTo>
                  <a:lnTo>
                    <a:pt x="2817" y="5679"/>
                  </a:lnTo>
                  <a:lnTo>
                    <a:pt x="2826" y="5712"/>
                  </a:lnTo>
                  <a:lnTo>
                    <a:pt x="2834" y="5743"/>
                  </a:lnTo>
                  <a:lnTo>
                    <a:pt x="2842" y="5775"/>
                  </a:lnTo>
                  <a:lnTo>
                    <a:pt x="2849" y="5806"/>
                  </a:lnTo>
                  <a:lnTo>
                    <a:pt x="2856" y="5837"/>
                  </a:lnTo>
                  <a:lnTo>
                    <a:pt x="2861" y="5868"/>
                  </a:lnTo>
                  <a:lnTo>
                    <a:pt x="2865" y="5899"/>
                  </a:lnTo>
                  <a:lnTo>
                    <a:pt x="2870" y="5932"/>
                  </a:lnTo>
                  <a:lnTo>
                    <a:pt x="2874" y="5964"/>
                  </a:lnTo>
                  <a:lnTo>
                    <a:pt x="2876" y="5997"/>
                  </a:lnTo>
                  <a:lnTo>
                    <a:pt x="2878" y="6031"/>
                  </a:lnTo>
                  <a:lnTo>
                    <a:pt x="2879" y="6066"/>
                  </a:lnTo>
                  <a:lnTo>
                    <a:pt x="2880" y="6103"/>
                  </a:lnTo>
                  <a:lnTo>
                    <a:pt x="2879" y="6141"/>
                  </a:lnTo>
                  <a:lnTo>
                    <a:pt x="2878" y="6181"/>
                  </a:lnTo>
                  <a:lnTo>
                    <a:pt x="2876" y="6223"/>
                  </a:lnTo>
                  <a:lnTo>
                    <a:pt x="2874" y="6266"/>
                  </a:lnTo>
                  <a:lnTo>
                    <a:pt x="2870" y="6312"/>
                  </a:lnTo>
                  <a:lnTo>
                    <a:pt x="2865" y="6360"/>
                  </a:lnTo>
                  <a:lnTo>
                    <a:pt x="2859" y="6412"/>
                  </a:lnTo>
                  <a:lnTo>
                    <a:pt x="2853" y="6465"/>
                  </a:lnTo>
                  <a:lnTo>
                    <a:pt x="2853" y="6473"/>
                  </a:lnTo>
                  <a:lnTo>
                    <a:pt x="2854" y="6485"/>
                  </a:lnTo>
                  <a:lnTo>
                    <a:pt x="2855" y="6498"/>
                  </a:lnTo>
                  <a:lnTo>
                    <a:pt x="2856" y="6516"/>
                  </a:lnTo>
                  <a:lnTo>
                    <a:pt x="2858" y="6536"/>
                  </a:lnTo>
                  <a:lnTo>
                    <a:pt x="2860" y="6558"/>
                  </a:lnTo>
                  <a:lnTo>
                    <a:pt x="2862" y="6582"/>
                  </a:lnTo>
                  <a:lnTo>
                    <a:pt x="2867" y="6608"/>
                  </a:lnTo>
                  <a:lnTo>
                    <a:pt x="2870" y="6634"/>
                  </a:lnTo>
                  <a:lnTo>
                    <a:pt x="2874" y="6662"/>
                  </a:lnTo>
                  <a:lnTo>
                    <a:pt x="2879" y="6691"/>
                  </a:lnTo>
                  <a:lnTo>
                    <a:pt x="2885" y="6720"/>
                  </a:lnTo>
                  <a:lnTo>
                    <a:pt x="2890" y="6749"/>
                  </a:lnTo>
                  <a:lnTo>
                    <a:pt x="2896" y="6778"/>
                  </a:lnTo>
                  <a:lnTo>
                    <a:pt x="2904" y="6807"/>
                  </a:lnTo>
                  <a:lnTo>
                    <a:pt x="2911" y="6833"/>
                  </a:lnTo>
                  <a:lnTo>
                    <a:pt x="2906" y="6826"/>
                  </a:lnTo>
                  <a:lnTo>
                    <a:pt x="2901" y="6814"/>
                  </a:lnTo>
                  <a:lnTo>
                    <a:pt x="2894" y="6800"/>
                  </a:lnTo>
                  <a:lnTo>
                    <a:pt x="2888" y="6783"/>
                  </a:lnTo>
                  <a:lnTo>
                    <a:pt x="2881" y="6765"/>
                  </a:lnTo>
                  <a:lnTo>
                    <a:pt x="2874" y="6746"/>
                  </a:lnTo>
                  <a:lnTo>
                    <a:pt x="2868" y="6725"/>
                  </a:lnTo>
                  <a:lnTo>
                    <a:pt x="2860" y="6704"/>
                  </a:lnTo>
                  <a:lnTo>
                    <a:pt x="2853" y="6682"/>
                  </a:lnTo>
                  <a:lnTo>
                    <a:pt x="2846" y="6662"/>
                  </a:lnTo>
                  <a:lnTo>
                    <a:pt x="2840" y="6643"/>
                  </a:lnTo>
                  <a:lnTo>
                    <a:pt x="2834" y="6625"/>
                  </a:lnTo>
                  <a:lnTo>
                    <a:pt x="2829" y="6609"/>
                  </a:lnTo>
                  <a:lnTo>
                    <a:pt x="2824" y="6595"/>
                  </a:lnTo>
                  <a:lnTo>
                    <a:pt x="2820" y="6583"/>
                  </a:lnTo>
                  <a:lnTo>
                    <a:pt x="2817" y="6575"/>
                  </a:lnTo>
                  <a:lnTo>
                    <a:pt x="2816" y="6564"/>
                  </a:lnTo>
                  <a:lnTo>
                    <a:pt x="2814" y="6540"/>
                  </a:lnTo>
                  <a:lnTo>
                    <a:pt x="2810" y="6507"/>
                  </a:lnTo>
                  <a:lnTo>
                    <a:pt x="2804" y="6465"/>
                  </a:lnTo>
                  <a:lnTo>
                    <a:pt x="2797" y="6418"/>
                  </a:lnTo>
                  <a:lnTo>
                    <a:pt x="2789" y="6366"/>
                  </a:lnTo>
                  <a:lnTo>
                    <a:pt x="2780" y="6310"/>
                  </a:lnTo>
                  <a:lnTo>
                    <a:pt x="2770" y="6254"/>
                  </a:lnTo>
                  <a:lnTo>
                    <a:pt x="2761" y="6197"/>
                  </a:lnTo>
                  <a:lnTo>
                    <a:pt x="2750" y="6142"/>
                  </a:lnTo>
                  <a:lnTo>
                    <a:pt x="2738" y="6090"/>
                  </a:lnTo>
                  <a:lnTo>
                    <a:pt x="2727" y="6044"/>
                  </a:lnTo>
                  <a:lnTo>
                    <a:pt x="2717" y="6004"/>
                  </a:lnTo>
                  <a:lnTo>
                    <a:pt x="2705" y="5972"/>
                  </a:lnTo>
                  <a:lnTo>
                    <a:pt x="2694" y="5951"/>
                  </a:lnTo>
                  <a:lnTo>
                    <a:pt x="2685" y="5941"/>
                  </a:lnTo>
                  <a:lnTo>
                    <a:pt x="2679" y="5939"/>
                  </a:lnTo>
                  <a:lnTo>
                    <a:pt x="2674" y="5935"/>
                  </a:lnTo>
                  <a:lnTo>
                    <a:pt x="2670" y="5929"/>
                  </a:lnTo>
                  <a:lnTo>
                    <a:pt x="2664" y="5922"/>
                  </a:lnTo>
                  <a:lnTo>
                    <a:pt x="2660" y="5913"/>
                  </a:lnTo>
                  <a:lnTo>
                    <a:pt x="2655" y="5903"/>
                  </a:lnTo>
                  <a:lnTo>
                    <a:pt x="2649" y="5891"/>
                  </a:lnTo>
                  <a:lnTo>
                    <a:pt x="2645" y="5878"/>
                  </a:lnTo>
                  <a:lnTo>
                    <a:pt x="2640" y="5863"/>
                  </a:lnTo>
                  <a:lnTo>
                    <a:pt x="2635" y="5847"/>
                  </a:lnTo>
                  <a:lnTo>
                    <a:pt x="2630" y="5830"/>
                  </a:lnTo>
                  <a:lnTo>
                    <a:pt x="2625" y="5811"/>
                  </a:lnTo>
                  <a:lnTo>
                    <a:pt x="2620" y="5790"/>
                  </a:lnTo>
                  <a:lnTo>
                    <a:pt x="2615" y="5768"/>
                  </a:lnTo>
                  <a:lnTo>
                    <a:pt x="2610" y="5744"/>
                  </a:lnTo>
                  <a:lnTo>
                    <a:pt x="2604" y="5719"/>
                  </a:lnTo>
                  <a:lnTo>
                    <a:pt x="2599" y="5693"/>
                  </a:lnTo>
                  <a:lnTo>
                    <a:pt x="2594" y="5664"/>
                  </a:lnTo>
                  <a:lnTo>
                    <a:pt x="2587" y="5635"/>
                  </a:lnTo>
                  <a:lnTo>
                    <a:pt x="2582" y="5604"/>
                  </a:lnTo>
                  <a:lnTo>
                    <a:pt x="2575" y="5572"/>
                  </a:lnTo>
                  <a:lnTo>
                    <a:pt x="2569" y="5538"/>
                  </a:lnTo>
                  <a:lnTo>
                    <a:pt x="2563" y="5503"/>
                  </a:lnTo>
                  <a:lnTo>
                    <a:pt x="2556" y="5465"/>
                  </a:lnTo>
                  <a:lnTo>
                    <a:pt x="2549" y="5428"/>
                  </a:lnTo>
                  <a:lnTo>
                    <a:pt x="2541" y="5387"/>
                  </a:lnTo>
                  <a:lnTo>
                    <a:pt x="2534" y="5346"/>
                  </a:lnTo>
                  <a:lnTo>
                    <a:pt x="2526" y="5304"/>
                  </a:lnTo>
                  <a:lnTo>
                    <a:pt x="2518" y="5260"/>
                  </a:lnTo>
                  <a:lnTo>
                    <a:pt x="2510" y="5214"/>
                  </a:lnTo>
                  <a:lnTo>
                    <a:pt x="2500" y="5167"/>
                  </a:lnTo>
                  <a:lnTo>
                    <a:pt x="2492" y="5119"/>
                  </a:lnTo>
                  <a:lnTo>
                    <a:pt x="2487" y="5089"/>
                  </a:lnTo>
                  <a:lnTo>
                    <a:pt x="2480" y="5058"/>
                  </a:lnTo>
                  <a:lnTo>
                    <a:pt x="2474" y="5027"/>
                  </a:lnTo>
                  <a:lnTo>
                    <a:pt x="2466" y="4995"/>
                  </a:lnTo>
                  <a:lnTo>
                    <a:pt x="2458" y="4962"/>
                  </a:lnTo>
                  <a:lnTo>
                    <a:pt x="2449" y="4929"/>
                  </a:lnTo>
                  <a:lnTo>
                    <a:pt x="2440" y="4896"/>
                  </a:lnTo>
                  <a:lnTo>
                    <a:pt x="2431" y="4863"/>
                  </a:lnTo>
                  <a:lnTo>
                    <a:pt x="2421" y="4829"/>
                  </a:lnTo>
                  <a:lnTo>
                    <a:pt x="2413" y="4796"/>
                  </a:lnTo>
                  <a:lnTo>
                    <a:pt x="2404" y="4761"/>
                  </a:lnTo>
                  <a:lnTo>
                    <a:pt x="2396" y="4728"/>
                  </a:lnTo>
                  <a:lnTo>
                    <a:pt x="2388" y="4694"/>
                  </a:lnTo>
                  <a:lnTo>
                    <a:pt x="2382" y="4661"/>
                  </a:lnTo>
                  <a:lnTo>
                    <a:pt x="2375" y="4628"/>
                  </a:lnTo>
                  <a:lnTo>
                    <a:pt x="2370" y="4595"/>
                  </a:lnTo>
                  <a:lnTo>
                    <a:pt x="2370" y="4582"/>
                  </a:lnTo>
                  <a:lnTo>
                    <a:pt x="2369" y="4569"/>
                  </a:lnTo>
                  <a:lnTo>
                    <a:pt x="2367" y="4556"/>
                  </a:lnTo>
                  <a:lnTo>
                    <a:pt x="2364" y="4542"/>
                  </a:lnTo>
                  <a:lnTo>
                    <a:pt x="2361" y="4528"/>
                  </a:lnTo>
                  <a:lnTo>
                    <a:pt x="2358" y="4513"/>
                  </a:lnTo>
                  <a:lnTo>
                    <a:pt x="2354" y="4499"/>
                  </a:lnTo>
                  <a:lnTo>
                    <a:pt x="2351" y="4485"/>
                  </a:lnTo>
                  <a:lnTo>
                    <a:pt x="2346" y="4472"/>
                  </a:lnTo>
                  <a:lnTo>
                    <a:pt x="2342" y="4458"/>
                  </a:lnTo>
                  <a:lnTo>
                    <a:pt x="2338" y="4444"/>
                  </a:lnTo>
                  <a:lnTo>
                    <a:pt x="2333" y="4431"/>
                  </a:lnTo>
                  <a:lnTo>
                    <a:pt x="2330" y="4419"/>
                  </a:lnTo>
                  <a:lnTo>
                    <a:pt x="2326" y="4407"/>
                  </a:lnTo>
                  <a:lnTo>
                    <a:pt x="2323" y="4397"/>
                  </a:lnTo>
                  <a:lnTo>
                    <a:pt x="2321" y="4387"/>
                  </a:lnTo>
                  <a:close/>
                  <a:moveTo>
                    <a:pt x="1182" y="2817"/>
                  </a:moveTo>
                  <a:lnTo>
                    <a:pt x="1185" y="2838"/>
                  </a:lnTo>
                  <a:lnTo>
                    <a:pt x="1189" y="2859"/>
                  </a:lnTo>
                  <a:lnTo>
                    <a:pt x="1192" y="2879"/>
                  </a:lnTo>
                  <a:lnTo>
                    <a:pt x="1197" y="2898"/>
                  </a:lnTo>
                  <a:lnTo>
                    <a:pt x="1200" y="2916"/>
                  </a:lnTo>
                  <a:lnTo>
                    <a:pt x="1203" y="2932"/>
                  </a:lnTo>
                  <a:lnTo>
                    <a:pt x="1206" y="2947"/>
                  </a:lnTo>
                  <a:lnTo>
                    <a:pt x="1208" y="2960"/>
                  </a:lnTo>
                  <a:lnTo>
                    <a:pt x="1213" y="2993"/>
                  </a:lnTo>
                  <a:lnTo>
                    <a:pt x="1215" y="3028"/>
                  </a:lnTo>
                  <a:lnTo>
                    <a:pt x="1217" y="3064"/>
                  </a:lnTo>
                  <a:lnTo>
                    <a:pt x="1218" y="3100"/>
                  </a:lnTo>
                  <a:lnTo>
                    <a:pt x="1218" y="3138"/>
                  </a:lnTo>
                  <a:lnTo>
                    <a:pt x="1217" y="3175"/>
                  </a:lnTo>
                  <a:lnTo>
                    <a:pt x="1216" y="3214"/>
                  </a:lnTo>
                  <a:lnTo>
                    <a:pt x="1215" y="3252"/>
                  </a:lnTo>
                  <a:lnTo>
                    <a:pt x="1214" y="3291"/>
                  </a:lnTo>
                  <a:lnTo>
                    <a:pt x="1213" y="3329"/>
                  </a:lnTo>
                  <a:lnTo>
                    <a:pt x="1213" y="3368"/>
                  </a:lnTo>
                  <a:lnTo>
                    <a:pt x="1213" y="3405"/>
                  </a:lnTo>
                  <a:lnTo>
                    <a:pt x="1213" y="3441"/>
                  </a:lnTo>
                  <a:lnTo>
                    <a:pt x="1215" y="3478"/>
                  </a:lnTo>
                  <a:lnTo>
                    <a:pt x="1217" y="3513"/>
                  </a:lnTo>
                  <a:lnTo>
                    <a:pt x="1221" y="3546"/>
                  </a:lnTo>
                  <a:lnTo>
                    <a:pt x="1220" y="3552"/>
                  </a:lnTo>
                  <a:lnTo>
                    <a:pt x="1219" y="3558"/>
                  </a:lnTo>
                  <a:lnTo>
                    <a:pt x="1217" y="3563"/>
                  </a:lnTo>
                  <a:lnTo>
                    <a:pt x="1215" y="3570"/>
                  </a:lnTo>
                  <a:lnTo>
                    <a:pt x="1213" y="3576"/>
                  </a:lnTo>
                  <a:lnTo>
                    <a:pt x="1211" y="3583"/>
                  </a:lnTo>
                  <a:lnTo>
                    <a:pt x="1210" y="3588"/>
                  </a:lnTo>
                  <a:lnTo>
                    <a:pt x="1208" y="3594"/>
                  </a:lnTo>
                  <a:lnTo>
                    <a:pt x="1219" y="3629"/>
                  </a:lnTo>
                  <a:lnTo>
                    <a:pt x="1228" y="3665"/>
                  </a:lnTo>
                  <a:lnTo>
                    <a:pt x="1234" y="3702"/>
                  </a:lnTo>
                  <a:lnTo>
                    <a:pt x="1240" y="3743"/>
                  </a:lnTo>
                  <a:lnTo>
                    <a:pt x="1243" y="3784"/>
                  </a:lnTo>
                  <a:lnTo>
                    <a:pt x="1245" y="3827"/>
                  </a:lnTo>
                  <a:lnTo>
                    <a:pt x="1247" y="3869"/>
                  </a:lnTo>
                  <a:lnTo>
                    <a:pt x="1248" y="3913"/>
                  </a:lnTo>
                  <a:lnTo>
                    <a:pt x="1248" y="3957"/>
                  </a:lnTo>
                  <a:lnTo>
                    <a:pt x="1248" y="4001"/>
                  </a:lnTo>
                  <a:lnTo>
                    <a:pt x="1249" y="4044"/>
                  </a:lnTo>
                  <a:lnTo>
                    <a:pt x="1249" y="4086"/>
                  </a:lnTo>
                  <a:lnTo>
                    <a:pt x="1250" y="4128"/>
                  </a:lnTo>
                  <a:lnTo>
                    <a:pt x="1252" y="4169"/>
                  </a:lnTo>
                  <a:lnTo>
                    <a:pt x="1254" y="4207"/>
                  </a:lnTo>
                  <a:lnTo>
                    <a:pt x="1259" y="4245"/>
                  </a:lnTo>
                  <a:lnTo>
                    <a:pt x="1332" y="4690"/>
                  </a:lnTo>
                  <a:lnTo>
                    <a:pt x="1332" y="4696"/>
                  </a:lnTo>
                  <a:lnTo>
                    <a:pt x="1329" y="4701"/>
                  </a:lnTo>
                  <a:lnTo>
                    <a:pt x="1328" y="4708"/>
                  </a:lnTo>
                  <a:lnTo>
                    <a:pt x="1326" y="4713"/>
                  </a:lnTo>
                  <a:lnTo>
                    <a:pt x="1323" y="4719"/>
                  </a:lnTo>
                  <a:lnTo>
                    <a:pt x="1322" y="4725"/>
                  </a:lnTo>
                  <a:lnTo>
                    <a:pt x="1320" y="4730"/>
                  </a:lnTo>
                  <a:lnTo>
                    <a:pt x="1320" y="4737"/>
                  </a:lnTo>
                  <a:lnTo>
                    <a:pt x="1326" y="4759"/>
                  </a:lnTo>
                  <a:lnTo>
                    <a:pt x="1333" y="4783"/>
                  </a:lnTo>
                  <a:lnTo>
                    <a:pt x="1339" y="4810"/>
                  </a:lnTo>
                  <a:lnTo>
                    <a:pt x="1344" y="4837"/>
                  </a:lnTo>
                  <a:lnTo>
                    <a:pt x="1351" y="4867"/>
                  </a:lnTo>
                  <a:lnTo>
                    <a:pt x="1356" y="4897"/>
                  </a:lnTo>
                  <a:lnTo>
                    <a:pt x="1360" y="4928"/>
                  </a:lnTo>
                  <a:lnTo>
                    <a:pt x="1366" y="4959"/>
                  </a:lnTo>
                  <a:lnTo>
                    <a:pt x="1370" y="4990"/>
                  </a:lnTo>
                  <a:lnTo>
                    <a:pt x="1374" y="5021"/>
                  </a:lnTo>
                  <a:lnTo>
                    <a:pt x="1378" y="5051"/>
                  </a:lnTo>
                  <a:lnTo>
                    <a:pt x="1382" y="5080"/>
                  </a:lnTo>
                  <a:lnTo>
                    <a:pt x="1385" y="5108"/>
                  </a:lnTo>
                  <a:lnTo>
                    <a:pt x="1387" y="5135"/>
                  </a:lnTo>
                  <a:lnTo>
                    <a:pt x="1390" y="5159"/>
                  </a:lnTo>
                  <a:lnTo>
                    <a:pt x="1393" y="5181"/>
                  </a:lnTo>
                  <a:lnTo>
                    <a:pt x="1395" y="5205"/>
                  </a:lnTo>
                  <a:lnTo>
                    <a:pt x="1395" y="5230"/>
                  </a:lnTo>
                  <a:lnTo>
                    <a:pt x="1395" y="5256"/>
                  </a:lnTo>
                  <a:lnTo>
                    <a:pt x="1393" y="5281"/>
                  </a:lnTo>
                  <a:lnTo>
                    <a:pt x="1392" y="5308"/>
                  </a:lnTo>
                  <a:lnTo>
                    <a:pt x="1389" y="5335"/>
                  </a:lnTo>
                  <a:lnTo>
                    <a:pt x="1387" y="5361"/>
                  </a:lnTo>
                  <a:lnTo>
                    <a:pt x="1385" y="5388"/>
                  </a:lnTo>
                  <a:lnTo>
                    <a:pt x="1384" y="5415"/>
                  </a:lnTo>
                  <a:lnTo>
                    <a:pt x="1383" y="5442"/>
                  </a:lnTo>
                  <a:lnTo>
                    <a:pt x="1383" y="5468"/>
                  </a:lnTo>
                  <a:lnTo>
                    <a:pt x="1384" y="5495"/>
                  </a:lnTo>
                  <a:lnTo>
                    <a:pt x="1387" y="5521"/>
                  </a:lnTo>
                  <a:lnTo>
                    <a:pt x="1392" y="5545"/>
                  </a:lnTo>
                  <a:lnTo>
                    <a:pt x="1397" y="5571"/>
                  </a:lnTo>
                  <a:lnTo>
                    <a:pt x="1405" y="5595"/>
                  </a:lnTo>
                  <a:lnTo>
                    <a:pt x="1381" y="5628"/>
                  </a:lnTo>
                  <a:lnTo>
                    <a:pt x="1381" y="5691"/>
                  </a:lnTo>
                  <a:lnTo>
                    <a:pt x="1417" y="5738"/>
                  </a:lnTo>
                  <a:lnTo>
                    <a:pt x="1417" y="5768"/>
                  </a:lnTo>
                  <a:lnTo>
                    <a:pt x="1418" y="5800"/>
                  </a:lnTo>
                  <a:lnTo>
                    <a:pt x="1418" y="5832"/>
                  </a:lnTo>
                  <a:lnTo>
                    <a:pt x="1419" y="5864"/>
                  </a:lnTo>
                  <a:lnTo>
                    <a:pt x="1421" y="5897"/>
                  </a:lnTo>
                  <a:lnTo>
                    <a:pt x="1424" y="5932"/>
                  </a:lnTo>
                  <a:lnTo>
                    <a:pt x="1426" y="5965"/>
                  </a:lnTo>
                  <a:lnTo>
                    <a:pt x="1428" y="5999"/>
                  </a:lnTo>
                  <a:lnTo>
                    <a:pt x="1431" y="6032"/>
                  </a:lnTo>
                  <a:lnTo>
                    <a:pt x="1434" y="6065"/>
                  </a:lnTo>
                  <a:lnTo>
                    <a:pt x="1439" y="6098"/>
                  </a:lnTo>
                  <a:lnTo>
                    <a:pt x="1443" y="6129"/>
                  </a:lnTo>
                  <a:lnTo>
                    <a:pt x="1448" y="6162"/>
                  </a:lnTo>
                  <a:lnTo>
                    <a:pt x="1454" y="6191"/>
                  </a:lnTo>
                  <a:lnTo>
                    <a:pt x="1459" y="6220"/>
                  </a:lnTo>
                  <a:lnTo>
                    <a:pt x="1465" y="6248"/>
                  </a:lnTo>
                  <a:lnTo>
                    <a:pt x="1472" y="6278"/>
                  </a:lnTo>
                  <a:lnTo>
                    <a:pt x="1478" y="6310"/>
                  </a:lnTo>
                  <a:lnTo>
                    <a:pt x="1484" y="6342"/>
                  </a:lnTo>
                  <a:lnTo>
                    <a:pt x="1489" y="6377"/>
                  </a:lnTo>
                  <a:lnTo>
                    <a:pt x="1494" y="6411"/>
                  </a:lnTo>
                  <a:lnTo>
                    <a:pt x="1500" y="6445"/>
                  </a:lnTo>
                  <a:lnTo>
                    <a:pt x="1505" y="6480"/>
                  </a:lnTo>
                  <a:lnTo>
                    <a:pt x="1510" y="6516"/>
                  </a:lnTo>
                  <a:lnTo>
                    <a:pt x="1516" y="6550"/>
                  </a:lnTo>
                  <a:lnTo>
                    <a:pt x="1521" y="6584"/>
                  </a:lnTo>
                  <a:lnTo>
                    <a:pt x="1526" y="6618"/>
                  </a:lnTo>
                  <a:lnTo>
                    <a:pt x="1533" y="6651"/>
                  </a:lnTo>
                  <a:lnTo>
                    <a:pt x="1540" y="6684"/>
                  </a:lnTo>
                  <a:lnTo>
                    <a:pt x="1548" y="6713"/>
                  </a:lnTo>
                  <a:lnTo>
                    <a:pt x="1556" y="6742"/>
                  </a:lnTo>
                  <a:lnTo>
                    <a:pt x="1565" y="6770"/>
                  </a:lnTo>
                  <a:lnTo>
                    <a:pt x="1575" y="6780"/>
                  </a:lnTo>
                  <a:lnTo>
                    <a:pt x="1584" y="6786"/>
                  </a:lnTo>
                  <a:lnTo>
                    <a:pt x="1595" y="6792"/>
                  </a:lnTo>
                  <a:lnTo>
                    <a:pt x="1607" y="6795"/>
                  </a:lnTo>
                  <a:lnTo>
                    <a:pt x="1617" y="6798"/>
                  </a:lnTo>
                  <a:lnTo>
                    <a:pt x="1629" y="6802"/>
                  </a:lnTo>
                  <a:lnTo>
                    <a:pt x="1640" y="6809"/>
                  </a:lnTo>
                  <a:lnTo>
                    <a:pt x="1649" y="6819"/>
                  </a:lnTo>
                  <a:lnTo>
                    <a:pt x="1647" y="6833"/>
                  </a:lnTo>
                  <a:lnTo>
                    <a:pt x="1648" y="6853"/>
                  </a:lnTo>
                  <a:lnTo>
                    <a:pt x="1653" y="6875"/>
                  </a:lnTo>
                  <a:lnTo>
                    <a:pt x="1660" y="6899"/>
                  </a:lnTo>
                  <a:lnTo>
                    <a:pt x="1669" y="6922"/>
                  </a:lnTo>
                  <a:lnTo>
                    <a:pt x="1678" y="6945"/>
                  </a:lnTo>
                  <a:lnTo>
                    <a:pt x="1689" y="6964"/>
                  </a:lnTo>
                  <a:lnTo>
                    <a:pt x="1699" y="6979"/>
                  </a:lnTo>
                  <a:lnTo>
                    <a:pt x="1703" y="6979"/>
                  </a:lnTo>
                  <a:lnTo>
                    <a:pt x="1710" y="6980"/>
                  </a:lnTo>
                  <a:lnTo>
                    <a:pt x="1719" y="6982"/>
                  </a:lnTo>
                  <a:lnTo>
                    <a:pt x="1730" y="6984"/>
                  </a:lnTo>
                  <a:lnTo>
                    <a:pt x="1742" y="6986"/>
                  </a:lnTo>
                  <a:lnTo>
                    <a:pt x="1754" y="6989"/>
                  </a:lnTo>
                  <a:lnTo>
                    <a:pt x="1767" y="6992"/>
                  </a:lnTo>
                  <a:lnTo>
                    <a:pt x="1782" y="6995"/>
                  </a:lnTo>
                  <a:lnTo>
                    <a:pt x="1796" y="6997"/>
                  </a:lnTo>
                  <a:lnTo>
                    <a:pt x="1811" y="6999"/>
                  </a:lnTo>
                  <a:lnTo>
                    <a:pt x="1826" y="7000"/>
                  </a:lnTo>
                  <a:lnTo>
                    <a:pt x="1840" y="7001"/>
                  </a:lnTo>
                  <a:lnTo>
                    <a:pt x="1854" y="7001"/>
                  </a:lnTo>
                  <a:lnTo>
                    <a:pt x="1867" y="7000"/>
                  </a:lnTo>
                  <a:lnTo>
                    <a:pt x="1877" y="6999"/>
                  </a:lnTo>
                  <a:lnTo>
                    <a:pt x="1888" y="6996"/>
                  </a:lnTo>
                  <a:lnTo>
                    <a:pt x="1886" y="6983"/>
                  </a:lnTo>
                  <a:lnTo>
                    <a:pt x="1880" y="6971"/>
                  </a:lnTo>
                  <a:lnTo>
                    <a:pt x="1869" y="6959"/>
                  </a:lnTo>
                  <a:lnTo>
                    <a:pt x="1856" y="6949"/>
                  </a:lnTo>
                  <a:lnTo>
                    <a:pt x="1841" y="6938"/>
                  </a:lnTo>
                  <a:lnTo>
                    <a:pt x="1823" y="6928"/>
                  </a:lnTo>
                  <a:lnTo>
                    <a:pt x="1805" y="6918"/>
                  </a:lnTo>
                  <a:lnTo>
                    <a:pt x="1785" y="6907"/>
                  </a:lnTo>
                  <a:lnTo>
                    <a:pt x="1767" y="6896"/>
                  </a:lnTo>
                  <a:lnTo>
                    <a:pt x="1748" y="6884"/>
                  </a:lnTo>
                  <a:lnTo>
                    <a:pt x="1732" y="6871"/>
                  </a:lnTo>
                  <a:lnTo>
                    <a:pt x="1716" y="6857"/>
                  </a:lnTo>
                  <a:lnTo>
                    <a:pt x="1703" y="6842"/>
                  </a:lnTo>
                  <a:lnTo>
                    <a:pt x="1693" y="6825"/>
                  </a:lnTo>
                  <a:lnTo>
                    <a:pt x="1688" y="6807"/>
                  </a:lnTo>
                  <a:lnTo>
                    <a:pt x="1686" y="6786"/>
                  </a:lnTo>
                  <a:lnTo>
                    <a:pt x="1737" y="6800"/>
                  </a:lnTo>
                  <a:lnTo>
                    <a:pt x="1785" y="6810"/>
                  </a:lnTo>
                  <a:lnTo>
                    <a:pt x="1829" y="6817"/>
                  </a:lnTo>
                  <a:lnTo>
                    <a:pt x="1870" y="6821"/>
                  </a:lnTo>
                  <a:lnTo>
                    <a:pt x="1904" y="6823"/>
                  </a:lnTo>
                  <a:lnTo>
                    <a:pt x="1934" y="6823"/>
                  </a:lnTo>
                  <a:lnTo>
                    <a:pt x="1958" y="6819"/>
                  </a:lnTo>
                  <a:lnTo>
                    <a:pt x="1974" y="6814"/>
                  </a:lnTo>
                  <a:lnTo>
                    <a:pt x="1983" y="6808"/>
                  </a:lnTo>
                  <a:lnTo>
                    <a:pt x="1983" y="6800"/>
                  </a:lnTo>
                  <a:lnTo>
                    <a:pt x="1976" y="6792"/>
                  </a:lnTo>
                  <a:lnTo>
                    <a:pt x="1959" y="6782"/>
                  </a:lnTo>
                  <a:lnTo>
                    <a:pt x="1931" y="6771"/>
                  </a:lnTo>
                  <a:lnTo>
                    <a:pt x="1894" y="6761"/>
                  </a:lnTo>
                  <a:lnTo>
                    <a:pt x="1843" y="6750"/>
                  </a:lnTo>
                  <a:lnTo>
                    <a:pt x="1782" y="6739"/>
                  </a:lnTo>
                  <a:lnTo>
                    <a:pt x="1803" y="6727"/>
                  </a:lnTo>
                  <a:lnTo>
                    <a:pt x="1819" y="6718"/>
                  </a:lnTo>
                  <a:lnTo>
                    <a:pt x="1831" y="6707"/>
                  </a:lnTo>
                  <a:lnTo>
                    <a:pt x="1842" y="6695"/>
                  </a:lnTo>
                  <a:lnTo>
                    <a:pt x="1853" y="6684"/>
                  </a:lnTo>
                  <a:lnTo>
                    <a:pt x="1864" y="6669"/>
                  </a:lnTo>
                  <a:lnTo>
                    <a:pt x="1877" y="6650"/>
                  </a:lnTo>
                  <a:lnTo>
                    <a:pt x="1894" y="6629"/>
                  </a:lnTo>
                  <a:lnTo>
                    <a:pt x="1869" y="6613"/>
                  </a:lnTo>
                  <a:lnTo>
                    <a:pt x="1845" y="6598"/>
                  </a:lnTo>
                  <a:lnTo>
                    <a:pt x="1823" y="6582"/>
                  </a:lnTo>
                  <a:lnTo>
                    <a:pt x="1800" y="6567"/>
                  </a:lnTo>
                  <a:lnTo>
                    <a:pt x="1779" y="6552"/>
                  </a:lnTo>
                  <a:lnTo>
                    <a:pt x="1758" y="6536"/>
                  </a:lnTo>
                  <a:lnTo>
                    <a:pt x="1737" y="6520"/>
                  </a:lnTo>
                  <a:lnTo>
                    <a:pt x="1717" y="6503"/>
                  </a:lnTo>
                  <a:lnTo>
                    <a:pt x="1697" y="6486"/>
                  </a:lnTo>
                  <a:lnTo>
                    <a:pt x="1676" y="6466"/>
                  </a:lnTo>
                  <a:lnTo>
                    <a:pt x="1656" y="6447"/>
                  </a:lnTo>
                  <a:lnTo>
                    <a:pt x="1636" y="6426"/>
                  </a:lnTo>
                  <a:lnTo>
                    <a:pt x="1615" y="6403"/>
                  </a:lnTo>
                  <a:lnTo>
                    <a:pt x="1594" y="6380"/>
                  </a:lnTo>
                  <a:lnTo>
                    <a:pt x="1572" y="6354"/>
                  </a:lnTo>
                  <a:lnTo>
                    <a:pt x="1551" y="6326"/>
                  </a:lnTo>
                  <a:lnTo>
                    <a:pt x="1551" y="6313"/>
                  </a:lnTo>
                  <a:lnTo>
                    <a:pt x="1551" y="6300"/>
                  </a:lnTo>
                  <a:lnTo>
                    <a:pt x="1552" y="6286"/>
                  </a:lnTo>
                  <a:lnTo>
                    <a:pt x="1553" y="6271"/>
                  </a:lnTo>
                  <a:lnTo>
                    <a:pt x="1554" y="6257"/>
                  </a:lnTo>
                  <a:lnTo>
                    <a:pt x="1556" y="6242"/>
                  </a:lnTo>
                  <a:lnTo>
                    <a:pt x="1560" y="6228"/>
                  </a:lnTo>
                  <a:lnTo>
                    <a:pt x="1564" y="6215"/>
                  </a:lnTo>
                  <a:lnTo>
                    <a:pt x="1588" y="6239"/>
                  </a:lnTo>
                  <a:lnTo>
                    <a:pt x="1612" y="6255"/>
                  </a:lnTo>
                  <a:lnTo>
                    <a:pt x="1634" y="6264"/>
                  </a:lnTo>
                  <a:lnTo>
                    <a:pt x="1657" y="6267"/>
                  </a:lnTo>
                  <a:lnTo>
                    <a:pt x="1677" y="6266"/>
                  </a:lnTo>
                  <a:lnTo>
                    <a:pt x="1699" y="6260"/>
                  </a:lnTo>
                  <a:lnTo>
                    <a:pt x="1719" y="6251"/>
                  </a:lnTo>
                  <a:lnTo>
                    <a:pt x="1740" y="6240"/>
                  </a:lnTo>
                  <a:lnTo>
                    <a:pt x="1761" y="6226"/>
                  </a:lnTo>
                  <a:lnTo>
                    <a:pt x="1783" y="6211"/>
                  </a:lnTo>
                  <a:lnTo>
                    <a:pt x="1806" y="6197"/>
                  </a:lnTo>
                  <a:lnTo>
                    <a:pt x="1829" y="6183"/>
                  </a:lnTo>
                  <a:lnTo>
                    <a:pt x="1855" y="6170"/>
                  </a:lnTo>
                  <a:lnTo>
                    <a:pt x="1882" y="6160"/>
                  </a:lnTo>
                  <a:lnTo>
                    <a:pt x="1911" y="6154"/>
                  </a:lnTo>
                  <a:lnTo>
                    <a:pt x="1942" y="6152"/>
                  </a:lnTo>
                  <a:lnTo>
                    <a:pt x="1946" y="6164"/>
                  </a:lnTo>
                  <a:lnTo>
                    <a:pt x="1950" y="6177"/>
                  </a:lnTo>
                  <a:lnTo>
                    <a:pt x="1955" y="6190"/>
                  </a:lnTo>
                  <a:lnTo>
                    <a:pt x="1958" y="6204"/>
                  </a:lnTo>
                  <a:lnTo>
                    <a:pt x="1962" y="6218"/>
                  </a:lnTo>
                  <a:lnTo>
                    <a:pt x="1965" y="6233"/>
                  </a:lnTo>
                  <a:lnTo>
                    <a:pt x="1968" y="6248"/>
                  </a:lnTo>
                  <a:lnTo>
                    <a:pt x="1973" y="6263"/>
                  </a:lnTo>
                  <a:lnTo>
                    <a:pt x="1976" y="6278"/>
                  </a:lnTo>
                  <a:lnTo>
                    <a:pt x="1979" y="6292"/>
                  </a:lnTo>
                  <a:lnTo>
                    <a:pt x="1982" y="6307"/>
                  </a:lnTo>
                  <a:lnTo>
                    <a:pt x="1987" y="6321"/>
                  </a:lnTo>
                  <a:lnTo>
                    <a:pt x="1990" y="6336"/>
                  </a:lnTo>
                  <a:lnTo>
                    <a:pt x="1994" y="6349"/>
                  </a:lnTo>
                  <a:lnTo>
                    <a:pt x="1998" y="6362"/>
                  </a:lnTo>
                  <a:lnTo>
                    <a:pt x="2003" y="6374"/>
                  </a:lnTo>
                  <a:lnTo>
                    <a:pt x="2019" y="6406"/>
                  </a:lnTo>
                  <a:lnTo>
                    <a:pt x="2036" y="6430"/>
                  </a:lnTo>
                  <a:lnTo>
                    <a:pt x="2055" y="6446"/>
                  </a:lnTo>
                  <a:lnTo>
                    <a:pt x="2074" y="6455"/>
                  </a:lnTo>
                  <a:lnTo>
                    <a:pt x="2095" y="6457"/>
                  </a:lnTo>
                  <a:lnTo>
                    <a:pt x="2113" y="6452"/>
                  </a:lnTo>
                  <a:lnTo>
                    <a:pt x="2130" y="6443"/>
                  </a:lnTo>
                  <a:lnTo>
                    <a:pt x="2145" y="6426"/>
                  </a:lnTo>
                  <a:lnTo>
                    <a:pt x="2157" y="6404"/>
                  </a:lnTo>
                  <a:lnTo>
                    <a:pt x="2165" y="6379"/>
                  </a:lnTo>
                  <a:lnTo>
                    <a:pt x="2169" y="6348"/>
                  </a:lnTo>
                  <a:lnTo>
                    <a:pt x="2169" y="6311"/>
                  </a:lnTo>
                  <a:lnTo>
                    <a:pt x="2161" y="6273"/>
                  </a:lnTo>
                  <a:lnTo>
                    <a:pt x="2148" y="6230"/>
                  </a:lnTo>
                  <a:lnTo>
                    <a:pt x="2129" y="6184"/>
                  </a:lnTo>
                  <a:lnTo>
                    <a:pt x="2101" y="6135"/>
                  </a:lnTo>
                  <a:lnTo>
                    <a:pt x="2099" y="6132"/>
                  </a:lnTo>
                  <a:lnTo>
                    <a:pt x="2092" y="6121"/>
                  </a:lnTo>
                  <a:lnTo>
                    <a:pt x="2081" y="6106"/>
                  </a:lnTo>
                  <a:lnTo>
                    <a:pt x="2067" y="6086"/>
                  </a:lnTo>
                  <a:lnTo>
                    <a:pt x="2050" y="6061"/>
                  </a:lnTo>
                  <a:lnTo>
                    <a:pt x="2032" y="6034"/>
                  </a:lnTo>
                  <a:lnTo>
                    <a:pt x="2012" y="6006"/>
                  </a:lnTo>
                  <a:lnTo>
                    <a:pt x="1992" y="5976"/>
                  </a:lnTo>
                  <a:lnTo>
                    <a:pt x="1971" y="5947"/>
                  </a:lnTo>
                  <a:lnTo>
                    <a:pt x="1951" y="5919"/>
                  </a:lnTo>
                  <a:lnTo>
                    <a:pt x="1933" y="5892"/>
                  </a:lnTo>
                  <a:lnTo>
                    <a:pt x="1916" y="5867"/>
                  </a:lnTo>
                  <a:lnTo>
                    <a:pt x="1902" y="5847"/>
                  </a:lnTo>
                  <a:lnTo>
                    <a:pt x="1891" y="5832"/>
                  </a:lnTo>
                  <a:lnTo>
                    <a:pt x="1884" y="5821"/>
                  </a:lnTo>
                  <a:lnTo>
                    <a:pt x="1882" y="5818"/>
                  </a:lnTo>
                  <a:lnTo>
                    <a:pt x="1871" y="5791"/>
                  </a:lnTo>
                  <a:lnTo>
                    <a:pt x="1858" y="5765"/>
                  </a:lnTo>
                  <a:lnTo>
                    <a:pt x="1844" y="5739"/>
                  </a:lnTo>
                  <a:lnTo>
                    <a:pt x="1828" y="5713"/>
                  </a:lnTo>
                  <a:lnTo>
                    <a:pt x="1810" y="5687"/>
                  </a:lnTo>
                  <a:lnTo>
                    <a:pt x="1792" y="5661"/>
                  </a:lnTo>
                  <a:lnTo>
                    <a:pt x="1773" y="5635"/>
                  </a:lnTo>
                  <a:lnTo>
                    <a:pt x="1753" y="5610"/>
                  </a:lnTo>
                  <a:lnTo>
                    <a:pt x="1734" y="5583"/>
                  </a:lnTo>
                  <a:lnTo>
                    <a:pt x="1715" y="5556"/>
                  </a:lnTo>
                  <a:lnTo>
                    <a:pt x="1696" y="5529"/>
                  </a:lnTo>
                  <a:lnTo>
                    <a:pt x="1678" y="5503"/>
                  </a:lnTo>
                  <a:lnTo>
                    <a:pt x="1662" y="5475"/>
                  </a:lnTo>
                  <a:lnTo>
                    <a:pt x="1647" y="5447"/>
                  </a:lnTo>
                  <a:lnTo>
                    <a:pt x="1634" y="5418"/>
                  </a:lnTo>
                  <a:lnTo>
                    <a:pt x="1624" y="5388"/>
                  </a:lnTo>
                  <a:lnTo>
                    <a:pt x="1617" y="5366"/>
                  </a:lnTo>
                  <a:lnTo>
                    <a:pt x="1610" y="5341"/>
                  </a:lnTo>
                  <a:lnTo>
                    <a:pt x="1603" y="5314"/>
                  </a:lnTo>
                  <a:lnTo>
                    <a:pt x="1597" y="5286"/>
                  </a:lnTo>
                  <a:lnTo>
                    <a:pt x="1590" y="5256"/>
                  </a:lnTo>
                  <a:lnTo>
                    <a:pt x="1582" y="5225"/>
                  </a:lnTo>
                  <a:lnTo>
                    <a:pt x="1575" y="5194"/>
                  </a:lnTo>
                  <a:lnTo>
                    <a:pt x="1567" y="5161"/>
                  </a:lnTo>
                  <a:lnTo>
                    <a:pt x="1558" y="5130"/>
                  </a:lnTo>
                  <a:lnTo>
                    <a:pt x="1550" y="5100"/>
                  </a:lnTo>
                  <a:lnTo>
                    <a:pt x="1541" y="5072"/>
                  </a:lnTo>
                  <a:lnTo>
                    <a:pt x="1532" y="5044"/>
                  </a:lnTo>
                  <a:lnTo>
                    <a:pt x="1522" y="5019"/>
                  </a:lnTo>
                  <a:lnTo>
                    <a:pt x="1511" y="4996"/>
                  </a:lnTo>
                  <a:lnTo>
                    <a:pt x="1501" y="4976"/>
                  </a:lnTo>
                  <a:lnTo>
                    <a:pt x="1490" y="4959"/>
                  </a:lnTo>
                  <a:lnTo>
                    <a:pt x="1501" y="4973"/>
                  </a:lnTo>
                  <a:lnTo>
                    <a:pt x="1511" y="4986"/>
                  </a:lnTo>
                  <a:lnTo>
                    <a:pt x="1522" y="4998"/>
                  </a:lnTo>
                  <a:lnTo>
                    <a:pt x="1533" y="5008"/>
                  </a:lnTo>
                  <a:lnTo>
                    <a:pt x="1542" y="5017"/>
                  </a:lnTo>
                  <a:lnTo>
                    <a:pt x="1552" y="5026"/>
                  </a:lnTo>
                  <a:lnTo>
                    <a:pt x="1562" y="5033"/>
                  </a:lnTo>
                  <a:lnTo>
                    <a:pt x="1571" y="5038"/>
                  </a:lnTo>
                  <a:lnTo>
                    <a:pt x="1582" y="5044"/>
                  </a:lnTo>
                  <a:lnTo>
                    <a:pt x="1592" y="5048"/>
                  </a:lnTo>
                  <a:lnTo>
                    <a:pt x="1602" y="5051"/>
                  </a:lnTo>
                  <a:lnTo>
                    <a:pt x="1613" y="5054"/>
                  </a:lnTo>
                  <a:lnTo>
                    <a:pt x="1625" y="5057"/>
                  </a:lnTo>
                  <a:lnTo>
                    <a:pt x="1637" y="5058"/>
                  </a:lnTo>
                  <a:lnTo>
                    <a:pt x="1649" y="5059"/>
                  </a:lnTo>
                  <a:lnTo>
                    <a:pt x="1662" y="5059"/>
                  </a:lnTo>
                  <a:lnTo>
                    <a:pt x="1674" y="5050"/>
                  </a:lnTo>
                  <a:lnTo>
                    <a:pt x="1683" y="5037"/>
                  </a:lnTo>
                  <a:lnTo>
                    <a:pt x="1688" y="5021"/>
                  </a:lnTo>
                  <a:lnTo>
                    <a:pt x="1689" y="5002"/>
                  </a:lnTo>
                  <a:lnTo>
                    <a:pt x="1687" y="4980"/>
                  </a:lnTo>
                  <a:lnTo>
                    <a:pt x="1683" y="4953"/>
                  </a:lnTo>
                  <a:lnTo>
                    <a:pt x="1675" y="4924"/>
                  </a:lnTo>
                  <a:lnTo>
                    <a:pt x="1666" y="4892"/>
                  </a:lnTo>
                  <a:lnTo>
                    <a:pt x="1653" y="4858"/>
                  </a:lnTo>
                  <a:lnTo>
                    <a:pt x="1639" y="4821"/>
                  </a:lnTo>
                  <a:lnTo>
                    <a:pt x="1623" y="4782"/>
                  </a:lnTo>
                  <a:lnTo>
                    <a:pt x="1605" y="4741"/>
                  </a:lnTo>
                  <a:lnTo>
                    <a:pt x="1586" y="4698"/>
                  </a:lnTo>
                  <a:lnTo>
                    <a:pt x="1566" y="4653"/>
                  </a:lnTo>
                  <a:lnTo>
                    <a:pt x="1545" y="4607"/>
                  </a:lnTo>
                  <a:lnTo>
                    <a:pt x="1523" y="4560"/>
                  </a:lnTo>
                  <a:lnTo>
                    <a:pt x="1501" y="4512"/>
                  </a:lnTo>
                  <a:lnTo>
                    <a:pt x="1478" y="4463"/>
                  </a:lnTo>
                  <a:lnTo>
                    <a:pt x="1456" y="4413"/>
                  </a:lnTo>
                  <a:lnTo>
                    <a:pt x="1434" y="4362"/>
                  </a:lnTo>
                  <a:lnTo>
                    <a:pt x="1412" y="4311"/>
                  </a:lnTo>
                  <a:lnTo>
                    <a:pt x="1392" y="4261"/>
                  </a:lnTo>
                  <a:lnTo>
                    <a:pt x="1371" y="4209"/>
                  </a:lnTo>
                  <a:lnTo>
                    <a:pt x="1352" y="4158"/>
                  </a:lnTo>
                  <a:lnTo>
                    <a:pt x="1335" y="4108"/>
                  </a:lnTo>
                  <a:lnTo>
                    <a:pt x="1319" y="4059"/>
                  </a:lnTo>
                  <a:lnTo>
                    <a:pt x="1305" y="4009"/>
                  </a:lnTo>
                  <a:lnTo>
                    <a:pt x="1293" y="3961"/>
                  </a:lnTo>
                  <a:lnTo>
                    <a:pt x="1282" y="3914"/>
                  </a:lnTo>
                  <a:lnTo>
                    <a:pt x="1276" y="3869"/>
                  </a:lnTo>
                  <a:lnTo>
                    <a:pt x="1271" y="3825"/>
                  </a:lnTo>
                  <a:lnTo>
                    <a:pt x="1269" y="3783"/>
                  </a:lnTo>
                  <a:lnTo>
                    <a:pt x="1236" y="3627"/>
                  </a:lnTo>
                  <a:lnTo>
                    <a:pt x="1249" y="3650"/>
                  </a:lnTo>
                  <a:lnTo>
                    <a:pt x="1264" y="3666"/>
                  </a:lnTo>
                  <a:lnTo>
                    <a:pt x="1280" y="3676"/>
                  </a:lnTo>
                  <a:lnTo>
                    <a:pt x="1298" y="3681"/>
                  </a:lnTo>
                  <a:lnTo>
                    <a:pt x="1317" y="3682"/>
                  </a:lnTo>
                  <a:lnTo>
                    <a:pt x="1335" y="3682"/>
                  </a:lnTo>
                  <a:lnTo>
                    <a:pt x="1353" y="3681"/>
                  </a:lnTo>
                  <a:lnTo>
                    <a:pt x="1370" y="3680"/>
                  </a:lnTo>
                  <a:lnTo>
                    <a:pt x="1380" y="3778"/>
                  </a:lnTo>
                  <a:lnTo>
                    <a:pt x="1392" y="3871"/>
                  </a:lnTo>
                  <a:lnTo>
                    <a:pt x="1404" y="3958"/>
                  </a:lnTo>
                  <a:lnTo>
                    <a:pt x="1419" y="4039"/>
                  </a:lnTo>
                  <a:lnTo>
                    <a:pt x="1435" y="4115"/>
                  </a:lnTo>
                  <a:lnTo>
                    <a:pt x="1453" y="4185"/>
                  </a:lnTo>
                  <a:lnTo>
                    <a:pt x="1471" y="4250"/>
                  </a:lnTo>
                  <a:lnTo>
                    <a:pt x="1491" y="4311"/>
                  </a:lnTo>
                  <a:lnTo>
                    <a:pt x="1511" y="4366"/>
                  </a:lnTo>
                  <a:lnTo>
                    <a:pt x="1532" y="4417"/>
                  </a:lnTo>
                  <a:lnTo>
                    <a:pt x="1554" y="4463"/>
                  </a:lnTo>
                  <a:lnTo>
                    <a:pt x="1576" y="4505"/>
                  </a:lnTo>
                  <a:lnTo>
                    <a:pt x="1599" y="4542"/>
                  </a:lnTo>
                  <a:lnTo>
                    <a:pt x="1622" y="4576"/>
                  </a:lnTo>
                  <a:lnTo>
                    <a:pt x="1644" y="4606"/>
                  </a:lnTo>
                  <a:lnTo>
                    <a:pt x="1668" y="4632"/>
                  </a:lnTo>
                  <a:lnTo>
                    <a:pt x="1690" y="4654"/>
                  </a:lnTo>
                  <a:lnTo>
                    <a:pt x="1713" y="4675"/>
                  </a:lnTo>
                  <a:lnTo>
                    <a:pt x="1734" y="4691"/>
                  </a:lnTo>
                  <a:lnTo>
                    <a:pt x="1755" y="4704"/>
                  </a:lnTo>
                  <a:lnTo>
                    <a:pt x="1777" y="4714"/>
                  </a:lnTo>
                  <a:lnTo>
                    <a:pt x="1796" y="4722"/>
                  </a:lnTo>
                  <a:lnTo>
                    <a:pt x="1815" y="4727"/>
                  </a:lnTo>
                  <a:lnTo>
                    <a:pt x="1834" y="4729"/>
                  </a:lnTo>
                  <a:lnTo>
                    <a:pt x="1850" y="4730"/>
                  </a:lnTo>
                  <a:lnTo>
                    <a:pt x="1866" y="4729"/>
                  </a:lnTo>
                  <a:lnTo>
                    <a:pt x="1880" y="4726"/>
                  </a:lnTo>
                  <a:lnTo>
                    <a:pt x="1891" y="4721"/>
                  </a:lnTo>
                  <a:lnTo>
                    <a:pt x="1902" y="4714"/>
                  </a:lnTo>
                  <a:lnTo>
                    <a:pt x="1911" y="4707"/>
                  </a:lnTo>
                  <a:lnTo>
                    <a:pt x="1917" y="4697"/>
                  </a:lnTo>
                  <a:lnTo>
                    <a:pt x="1921" y="4688"/>
                  </a:lnTo>
                  <a:lnTo>
                    <a:pt x="1922" y="4677"/>
                  </a:lnTo>
                  <a:lnTo>
                    <a:pt x="1920" y="4664"/>
                  </a:lnTo>
                  <a:lnTo>
                    <a:pt x="1915" y="4651"/>
                  </a:lnTo>
                  <a:lnTo>
                    <a:pt x="1906" y="4636"/>
                  </a:lnTo>
                  <a:lnTo>
                    <a:pt x="1896" y="4621"/>
                  </a:lnTo>
                  <a:lnTo>
                    <a:pt x="1882" y="4604"/>
                  </a:lnTo>
                  <a:lnTo>
                    <a:pt x="1867" y="4586"/>
                  </a:lnTo>
                  <a:lnTo>
                    <a:pt x="1850" y="4568"/>
                  </a:lnTo>
                  <a:lnTo>
                    <a:pt x="1830" y="4549"/>
                  </a:lnTo>
                  <a:lnTo>
                    <a:pt x="1811" y="4527"/>
                  </a:lnTo>
                  <a:lnTo>
                    <a:pt x="1790" y="4506"/>
                  </a:lnTo>
                  <a:lnTo>
                    <a:pt x="1768" y="4483"/>
                  </a:lnTo>
                  <a:lnTo>
                    <a:pt x="1746" y="4461"/>
                  </a:lnTo>
                  <a:lnTo>
                    <a:pt x="1723" y="4437"/>
                  </a:lnTo>
                  <a:lnTo>
                    <a:pt x="1701" y="4412"/>
                  </a:lnTo>
                  <a:lnTo>
                    <a:pt x="1678" y="4387"/>
                  </a:lnTo>
                  <a:lnTo>
                    <a:pt x="1657" y="4360"/>
                  </a:lnTo>
                  <a:lnTo>
                    <a:pt x="1637" y="4334"/>
                  </a:lnTo>
                  <a:lnTo>
                    <a:pt x="1617" y="4307"/>
                  </a:lnTo>
                  <a:lnTo>
                    <a:pt x="1599" y="4279"/>
                  </a:lnTo>
                  <a:lnTo>
                    <a:pt x="1582" y="4250"/>
                  </a:lnTo>
                  <a:lnTo>
                    <a:pt x="1568" y="4221"/>
                  </a:lnTo>
                  <a:lnTo>
                    <a:pt x="1555" y="4192"/>
                  </a:lnTo>
                  <a:lnTo>
                    <a:pt x="1546" y="4162"/>
                  </a:lnTo>
                  <a:lnTo>
                    <a:pt x="1539" y="4131"/>
                  </a:lnTo>
                  <a:lnTo>
                    <a:pt x="1535" y="4101"/>
                  </a:lnTo>
                  <a:lnTo>
                    <a:pt x="1534" y="4070"/>
                  </a:lnTo>
                  <a:lnTo>
                    <a:pt x="1537" y="4038"/>
                  </a:lnTo>
                  <a:lnTo>
                    <a:pt x="1544" y="4007"/>
                  </a:lnTo>
                  <a:lnTo>
                    <a:pt x="1554" y="3975"/>
                  </a:lnTo>
                  <a:lnTo>
                    <a:pt x="1569" y="3943"/>
                  </a:lnTo>
                  <a:lnTo>
                    <a:pt x="1588" y="3911"/>
                  </a:lnTo>
                  <a:lnTo>
                    <a:pt x="1572" y="3877"/>
                  </a:lnTo>
                  <a:lnTo>
                    <a:pt x="1561" y="3847"/>
                  </a:lnTo>
                  <a:lnTo>
                    <a:pt x="1554" y="3820"/>
                  </a:lnTo>
                  <a:lnTo>
                    <a:pt x="1551" y="3798"/>
                  </a:lnTo>
                  <a:lnTo>
                    <a:pt x="1551" y="3778"/>
                  </a:lnTo>
                  <a:lnTo>
                    <a:pt x="1555" y="3761"/>
                  </a:lnTo>
                  <a:lnTo>
                    <a:pt x="1562" y="3747"/>
                  </a:lnTo>
                  <a:lnTo>
                    <a:pt x="1570" y="3736"/>
                  </a:lnTo>
                  <a:lnTo>
                    <a:pt x="1582" y="3727"/>
                  </a:lnTo>
                  <a:lnTo>
                    <a:pt x="1594" y="3720"/>
                  </a:lnTo>
                  <a:lnTo>
                    <a:pt x="1608" y="3714"/>
                  </a:lnTo>
                  <a:lnTo>
                    <a:pt x="1623" y="3711"/>
                  </a:lnTo>
                  <a:lnTo>
                    <a:pt x="1638" y="3708"/>
                  </a:lnTo>
                  <a:lnTo>
                    <a:pt x="1653" y="3707"/>
                  </a:lnTo>
                  <a:lnTo>
                    <a:pt x="1667" y="3706"/>
                  </a:lnTo>
                  <a:lnTo>
                    <a:pt x="1681" y="3706"/>
                  </a:lnTo>
                  <a:lnTo>
                    <a:pt x="1748" y="3625"/>
                  </a:lnTo>
                  <a:lnTo>
                    <a:pt x="1767" y="3646"/>
                  </a:lnTo>
                  <a:lnTo>
                    <a:pt x="1785" y="3675"/>
                  </a:lnTo>
                  <a:lnTo>
                    <a:pt x="1805" y="3710"/>
                  </a:lnTo>
                  <a:lnTo>
                    <a:pt x="1825" y="3751"/>
                  </a:lnTo>
                  <a:lnTo>
                    <a:pt x="1846" y="3796"/>
                  </a:lnTo>
                  <a:lnTo>
                    <a:pt x="1868" y="3842"/>
                  </a:lnTo>
                  <a:lnTo>
                    <a:pt x="1890" y="3890"/>
                  </a:lnTo>
                  <a:lnTo>
                    <a:pt x="1915" y="3936"/>
                  </a:lnTo>
                  <a:lnTo>
                    <a:pt x="1941" y="3981"/>
                  </a:lnTo>
                  <a:lnTo>
                    <a:pt x="1967" y="4022"/>
                  </a:lnTo>
                  <a:lnTo>
                    <a:pt x="1997" y="4059"/>
                  </a:lnTo>
                  <a:lnTo>
                    <a:pt x="2028" y="4089"/>
                  </a:lnTo>
                  <a:lnTo>
                    <a:pt x="2062" y="4111"/>
                  </a:lnTo>
                  <a:lnTo>
                    <a:pt x="2097" y="4125"/>
                  </a:lnTo>
                  <a:lnTo>
                    <a:pt x="2134" y="4127"/>
                  </a:lnTo>
                  <a:lnTo>
                    <a:pt x="2175" y="4117"/>
                  </a:lnTo>
                  <a:lnTo>
                    <a:pt x="2163" y="4093"/>
                  </a:lnTo>
                  <a:lnTo>
                    <a:pt x="2151" y="4068"/>
                  </a:lnTo>
                  <a:lnTo>
                    <a:pt x="2139" y="4043"/>
                  </a:lnTo>
                  <a:lnTo>
                    <a:pt x="2125" y="4017"/>
                  </a:lnTo>
                  <a:lnTo>
                    <a:pt x="2111" y="3991"/>
                  </a:lnTo>
                  <a:lnTo>
                    <a:pt x="2097" y="3966"/>
                  </a:lnTo>
                  <a:lnTo>
                    <a:pt x="2082" y="3939"/>
                  </a:lnTo>
                  <a:lnTo>
                    <a:pt x="2068" y="3913"/>
                  </a:lnTo>
                  <a:lnTo>
                    <a:pt x="2052" y="3888"/>
                  </a:lnTo>
                  <a:lnTo>
                    <a:pt x="2037" y="3862"/>
                  </a:lnTo>
                  <a:lnTo>
                    <a:pt x="2022" y="3836"/>
                  </a:lnTo>
                  <a:lnTo>
                    <a:pt x="2006" y="3812"/>
                  </a:lnTo>
                  <a:lnTo>
                    <a:pt x="1990" y="3788"/>
                  </a:lnTo>
                  <a:lnTo>
                    <a:pt x="1974" y="3764"/>
                  </a:lnTo>
                  <a:lnTo>
                    <a:pt x="1958" y="3742"/>
                  </a:lnTo>
                  <a:lnTo>
                    <a:pt x="1942" y="3721"/>
                  </a:lnTo>
                  <a:lnTo>
                    <a:pt x="1942" y="3529"/>
                  </a:lnTo>
                  <a:lnTo>
                    <a:pt x="1932" y="3543"/>
                  </a:lnTo>
                  <a:lnTo>
                    <a:pt x="1921" y="3560"/>
                  </a:lnTo>
                  <a:lnTo>
                    <a:pt x="1911" y="3578"/>
                  </a:lnTo>
                  <a:lnTo>
                    <a:pt x="1898" y="3597"/>
                  </a:lnTo>
                  <a:lnTo>
                    <a:pt x="1885" y="3614"/>
                  </a:lnTo>
                  <a:lnTo>
                    <a:pt x="1872" y="3628"/>
                  </a:lnTo>
                  <a:lnTo>
                    <a:pt x="1858" y="3637"/>
                  </a:lnTo>
                  <a:lnTo>
                    <a:pt x="1844" y="3640"/>
                  </a:lnTo>
                  <a:lnTo>
                    <a:pt x="1816" y="3606"/>
                  </a:lnTo>
                  <a:lnTo>
                    <a:pt x="1790" y="3578"/>
                  </a:lnTo>
                  <a:lnTo>
                    <a:pt x="1763" y="3555"/>
                  </a:lnTo>
                  <a:lnTo>
                    <a:pt x="1737" y="3537"/>
                  </a:lnTo>
                  <a:lnTo>
                    <a:pt x="1712" y="3522"/>
                  </a:lnTo>
                  <a:lnTo>
                    <a:pt x="1687" y="3509"/>
                  </a:lnTo>
                  <a:lnTo>
                    <a:pt x="1663" y="3496"/>
                  </a:lnTo>
                  <a:lnTo>
                    <a:pt x="1640" y="3484"/>
                  </a:lnTo>
                  <a:lnTo>
                    <a:pt x="1617" y="3470"/>
                  </a:lnTo>
                  <a:lnTo>
                    <a:pt x="1596" y="3454"/>
                  </a:lnTo>
                  <a:lnTo>
                    <a:pt x="1576" y="3435"/>
                  </a:lnTo>
                  <a:lnTo>
                    <a:pt x="1556" y="3410"/>
                  </a:lnTo>
                  <a:lnTo>
                    <a:pt x="1537" y="3381"/>
                  </a:lnTo>
                  <a:lnTo>
                    <a:pt x="1520" y="3344"/>
                  </a:lnTo>
                  <a:lnTo>
                    <a:pt x="1505" y="3299"/>
                  </a:lnTo>
                  <a:lnTo>
                    <a:pt x="1490" y="3246"/>
                  </a:lnTo>
                  <a:lnTo>
                    <a:pt x="1482" y="3222"/>
                  </a:lnTo>
                  <a:lnTo>
                    <a:pt x="1473" y="3200"/>
                  </a:lnTo>
                  <a:lnTo>
                    <a:pt x="1460" y="3177"/>
                  </a:lnTo>
                  <a:lnTo>
                    <a:pt x="1445" y="3155"/>
                  </a:lnTo>
                  <a:lnTo>
                    <a:pt x="1429" y="3133"/>
                  </a:lnTo>
                  <a:lnTo>
                    <a:pt x="1411" y="3113"/>
                  </a:lnTo>
                  <a:lnTo>
                    <a:pt x="1392" y="3092"/>
                  </a:lnTo>
                  <a:lnTo>
                    <a:pt x="1372" y="3071"/>
                  </a:lnTo>
                  <a:lnTo>
                    <a:pt x="1352" y="3051"/>
                  </a:lnTo>
                  <a:lnTo>
                    <a:pt x="1332" y="3031"/>
                  </a:lnTo>
                  <a:lnTo>
                    <a:pt x="1312" y="3010"/>
                  </a:lnTo>
                  <a:lnTo>
                    <a:pt x="1293" y="2991"/>
                  </a:lnTo>
                  <a:lnTo>
                    <a:pt x="1276" y="2971"/>
                  </a:lnTo>
                  <a:lnTo>
                    <a:pt x="1260" y="2952"/>
                  </a:lnTo>
                  <a:lnTo>
                    <a:pt x="1246" y="2932"/>
                  </a:lnTo>
                  <a:lnTo>
                    <a:pt x="1234" y="2912"/>
                  </a:lnTo>
                  <a:lnTo>
                    <a:pt x="1182" y="2817"/>
                  </a:lnTo>
                  <a:close/>
                  <a:moveTo>
                    <a:pt x="746" y="1082"/>
                  </a:moveTo>
                  <a:lnTo>
                    <a:pt x="754" y="1091"/>
                  </a:lnTo>
                  <a:lnTo>
                    <a:pt x="761" y="1102"/>
                  </a:lnTo>
                  <a:lnTo>
                    <a:pt x="769" y="1115"/>
                  </a:lnTo>
                  <a:lnTo>
                    <a:pt x="777" y="1128"/>
                  </a:lnTo>
                  <a:lnTo>
                    <a:pt x="785" y="1143"/>
                  </a:lnTo>
                  <a:lnTo>
                    <a:pt x="792" y="1158"/>
                  </a:lnTo>
                  <a:lnTo>
                    <a:pt x="801" y="1173"/>
                  </a:lnTo>
                  <a:lnTo>
                    <a:pt x="809" y="1188"/>
                  </a:lnTo>
                  <a:lnTo>
                    <a:pt x="818" y="1203"/>
                  </a:lnTo>
                  <a:lnTo>
                    <a:pt x="826" y="1217"/>
                  </a:lnTo>
                  <a:lnTo>
                    <a:pt x="836" y="1231"/>
                  </a:lnTo>
                  <a:lnTo>
                    <a:pt x="846" y="1243"/>
                  </a:lnTo>
                  <a:lnTo>
                    <a:pt x="855" y="1254"/>
                  </a:lnTo>
                  <a:lnTo>
                    <a:pt x="866" y="1264"/>
                  </a:lnTo>
                  <a:lnTo>
                    <a:pt x="877" y="1272"/>
                  </a:lnTo>
                  <a:lnTo>
                    <a:pt x="887" y="1278"/>
                  </a:lnTo>
                  <a:lnTo>
                    <a:pt x="870" y="1226"/>
                  </a:lnTo>
                  <a:lnTo>
                    <a:pt x="860" y="1191"/>
                  </a:lnTo>
                  <a:lnTo>
                    <a:pt x="854" y="1171"/>
                  </a:lnTo>
                  <a:lnTo>
                    <a:pt x="856" y="1160"/>
                  </a:lnTo>
                  <a:lnTo>
                    <a:pt x="864" y="1157"/>
                  </a:lnTo>
                  <a:lnTo>
                    <a:pt x="879" y="1159"/>
                  </a:lnTo>
                  <a:lnTo>
                    <a:pt x="900" y="1162"/>
                  </a:lnTo>
                  <a:lnTo>
                    <a:pt x="930" y="1164"/>
                  </a:lnTo>
                  <a:lnTo>
                    <a:pt x="923" y="1158"/>
                  </a:lnTo>
                  <a:lnTo>
                    <a:pt x="914" y="1151"/>
                  </a:lnTo>
                  <a:lnTo>
                    <a:pt x="907" y="1145"/>
                  </a:lnTo>
                  <a:lnTo>
                    <a:pt x="898" y="1139"/>
                  </a:lnTo>
                  <a:lnTo>
                    <a:pt x="891" y="1132"/>
                  </a:lnTo>
                  <a:lnTo>
                    <a:pt x="882" y="1126"/>
                  </a:lnTo>
                  <a:lnTo>
                    <a:pt x="875" y="1118"/>
                  </a:lnTo>
                  <a:lnTo>
                    <a:pt x="866" y="1112"/>
                  </a:lnTo>
                  <a:lnTo>
                    <a:pt x="875" y="1101"/>
                  </a:lnTo>
                  <a:lnTo>
                    <a:pt x="885" y="1090"/>
                  </a:lnTo>
                  <a:lnTo>
                    <a:pt x="896" y="1080"/>
                  </a:lnTo>
                  <a:lnTo>
                    <a:pt x="907" y="1069"/>
                  </a:lnTo>
                  <a:lnTo>
                    <a:pt x="916" y="1058"/>
                  </a:lnTo>
                  <a:lnTo>
                    <a:pt x="924" y="1047"/>
                  </a:lnTo>
                  <a:lnTo>
                    <a:pt x="928" y="1034"/>
                  </a:lnTo>
                  <a:lnTo>
                    <a:pt x="928" y="1019"/>
                  </a:lnTo>
                  <a:lnTo>
                    <a:pt x="926" y="1009"/>
                  </a:lnTo>
                  <a:lnTo>
                    <a:pt x="922" y="1006"/>
                  </a:lnTo>
                  <a:lnTo>
                    <a:pt x="915" y="1007"/>
                  </a:lnTo>
                  <a:lnTo>
                    <a:pt x="908" y="1008"/>
                  </a:lnTo>
                  <a:lnTo>
                    <a:pt x="901" y="1009"/>
                  </a:lnTo>
                  <a:lnTo>
                    <a:pt x="895" y="1004"/>
                  </a:lnTo>
                  <a:lnTo>
                    <a:pt x="891" y="992"/>
                  </a:lnTo>
                  <a:lnTo>
                    <a:pt x="889" y="970"/>
                  </a:lnTo>
                  <a:lnTo>
                    <a:pt x="871" y="983"/>
                  </a:lnTo>
                  <a:lnTo>
                    <a:pt x="851" y="997"/>
                  </a:lnTo>
                  <a:lnTo>
                    <a:pt x="830" y="1010"/>
                  </a:lnTo>
                  <a:lnTo>
                    <a:pt x="808" y="1023"/>
                  </a:lnTo>
                  <a:lnTo>
                    <a:pt x="788" y="1037"/>
                  </a:lnTo>
                  <a:lnTo>
                    <a:pt x="770" y="1051"/>
                  </a:lnTo>
                  <a:lnTo>
                    <a:pt x="756" y="1066"/>
                  </a:lnTo>
                  <a:lnTo>
                    <a:pt x="746" y="1082"/>
                  </a:lnTo>
                  <a:close/>
                  <a:moveTo>
                    <a:pt x="819" y="0"/>
                  </a:moveTo>
                  <a:lnTo>
                    <a:pt x="828" y="8"/>
                  </a:lnTo>
                  <a:lnTo>
                    <a:pt x="837" y="13"/>
                  </a:lnTo>
                  <a:lnTo>
                    <a:pt x="846" y="19"/>
                  </a:lnTo>
                  <a:lnTo>
                    <a:pt x="852" y="23"/>
                  </a:lnTo>
                  <a:lnTo>
                    <a:pt x="858" y="28"/>
                  </a:lnTo>
                  <a:lnTo>
                    <a:pt x="864" y="33"/>
                  </a:lnTo>
                  <a:lnTo>
                    <a:pt x="868" y="38"/>
                  </a:lnTo>
                  <a:lnTo>
                    <a:pt x="872" y="43"/>
                  </a:lnTo>
                  <a:lnTo>
                    <a:pt x="878" y="60"/>
                  </a:lnTo>
                  <a:lnTo>
                    <a:pt x="884" y="81"/>
                  </a:lnTo>
                  <a:lnTo>
                    <a:pt x="889" y="104"/>
                  </a:lnTo>
                  <a:lnTo>
                    <a:pt x="895" y="129"/>
                  </a:lnTo>
                  <a:lnTo>
                    <a:pt x="898" y="152"/>
                  </a:lnTo>
                  <a:lnTo>
                    <a:pt x="901" y="174"/>
                  </a:lnTo>
                  <a:lnTo>
                    <a:pt x="903" y="192"/>
                  </a:lnTo>
                  <a:lnTo>
                    <a:pt x="903" y="206"/>
                  </a:lnTo>
                  <a:lnTo>
                    <a:pt x="907" y="203"/>
                  </a:lnTo>
                  <a:lnTo>
                    <a:pt x="910" y="199"/>
                  </a:lnTo>
                  <a:lnTo>
                    <a:pt x="913" y="196"/>
                  </a:lnTo>
                  <a:lnTo>
                    <a:pt x="915" y="193"/>
                  </a:lnTo>
                  <a:lnTo>
                    <a:pt x="917" y="189"/>
                  </a:lnTo>
                  <a:lnTo>
                    <a:pt x="919" y="183"/>
                  </a:lnTo>
                  <a:lnTo>
                    <a:pt x="922" y="177"/>
                  </a:lnTo>
                  <a:lnTo>
                    <a:pt x="924" y="171"/>
                  </a:lnTo>
                  <a:lnTo>
                    <a:pt x="928" y="176"/>
                  </a:lnTo>
                  <a:lnTo>
                    <a:pt x="932" y="187"/>
                  </a:lnTo>
                  <a:lnTo>
                    <a:pt x="936" y="200"/>
                  </a:lnTo>
                  <a:lnTo>
                    <a:pt x="938" y="219"/>
                  </a:lnTo>
                  <a:lnTo>
                    <a:pt x="941" y="239"/>
                  </a:lnTo>
                  <a:lnTo>
                    <a:pt x="944" y="260"/>
                  </a:lnTo>
                  <a:lnTo>
                    <a:pt x="947" y="282"/>
                  </a:lnTo>
                  <a:lnTo>
                    <a:pt x="953" y="302"/>
                  </a:lnTo>
                  <a:lnTo>
                    <a:pt x="948" y="222"/>
                  </a:lnTo>
                  <a:lnTo>
                    <a:pt x="954" y="236"/>
                  </a:lnTo>
                  <a:lnTo>
                    <a:pt x="958" y="252"/>
                  </a:lnTo>
                  <a:lnTo>
                    <a:pt x="963" y="270"/>
                  </a:lnTo>
                  <a:lnTo>
                    <a:pt x="969" y="289"/>
                  </a:lnTo>
                  <a:lnTo>
                    <a:pt x="975" y="307"/>
                  </a:lnTo>
                  <a:lnTo>
                    <a:pt x="982" y="326"/>
                  </a:lnTo>
                  <a:lnTo>
                    <a:pt x="989" y="343"/>
                  </a:lnTo>
                  <a:lnTo>
                    <a:pt x="997" y="357"/>
                  </a:lnTo>
                  <a:lnTo>
                    <a:pt x="1000" y="364"/>
                  </a:lnTo>
                  <a:lnTo>
                    <a:pt x="1004" y="377"/>
                  </a:lnTo>
                  <a:lnTo>
                    <a:pt x="1008" y="393"/>
                  </a:lnTo>
                  <a:lnTo>
                    <a:pt x="1014" y="412"/>
                  </a:lnTo>
                  <a:lnTo>
                    <a:pt x="1019" y="435"/>
                  </a:lnTo>
                  <a:lnTo>
                    <a:pt x="1025" y="459"/>
                  </a:lnTo>
                  <a:lnTo>
                    <a:pt x="1031" y="485"/>
                  </a:lnTo>
                  <a:lnTo>
                    <a:pt x="1036" y="513"/>
                  </a:lnTo>
                  <a:lnTo>
                    <a:pt x="1040" y="542"/>
                  </a:lnTo>
                  <a:lnTo>
                    <a:pt x="1045" y="572"/>
                  </a:lnTo>
                  <a:lnTo>
                    <a:pt x="1047" y="601"/>
                  </a:lnTo>
                  <a:lnTo>
                    <a:pt x="1049" y="629"/>
                  </a:lnTo>
                  <a:lnTo>
                    <a:pt x="1049" y="657"/>
                  </a:lnTo>
                  <a:lnTo>
                    <a:pt x="1048" y="684"/>
                  </a:lnTo>
                  <a:lnTo>
                    <a:pt x="1044" y="709"/>
                  </a:lnTo>
                  <a:lnTo>
                    <a:pt x="1038" y="731"/>
                  </a:lnTo>
                  <a:lnTo>
                    <a:pt x="1043" y="704"/>
                  </a:lnTo>
                  <a:lnTo>
                    <a:pt x="1046" y="679"/>
                  </a:lnTo>
                  <a:lnTo>
                    <a:pt x="1048" y="653"/>
                  </a:lnTo>
                  <a:lnTo>
                    <a:pt x="1049" y="628"/>
                  </a:lnTo>
                  <a:lnTo>
                    <a:pt x="1049" y="604"/>
                  </a:lnTo>
                  <a:lnTo>
                    <a:pt x="1048" y="579"/>
                  </a:lnTo>
                  <a:lnTo>
                    <a:pt x="1047" y="556"/>
                  </a:lnTo>
                  <a:lnTo>
                    <a:pt x="1045" y="532"/>
                  </a:lnTo>
                  <a:lnTo>
                    <a:pt x="1041" y="510"/>
                  </a:lnTo>
                  <a:lnTo>
                    <a:pt x="1038" y="487"/>
                  </a:lnTo>
                  <a:lnTo>
                    <a:pt x="1034" y="465"/>
                  </a:lnTo>
                  <a:lnTo>
                    <a:pt x="1029" y="443"/>
                  </a:lnTo>
                  <a:lnTo>
                    <a:pt x="1023" y="421"/>
                  </a:lnTo>
                  <a:lnTo>
                    <a:pt x="1018" y="399"/>
                  </a:lnTo>
                  <a:lnTo>
                    <a:pt x="1012" y="378"/>
                  </a:lnTo>
                  <a:lnTo>
                    <a:pt x="1005" y="358"/>
                  </a:lnTo>
                  <a:lnTo>
                    <a:pt x="998" y="336"/>
                  </a:lnTo>
                  <a:lnTo>
                    <a:pt x="990" y="316"/>
                  </a:lnTo>
                  <a:lnTo>
                    <a:pt x="983" y="296"/>
                  </a:lnTo>
                  <a:lnTo>
                    <a:pt x="975" y="275"/>
                  </a:lnTo>
                  <a:lnTo>
                    <a:pt x="967" y="255"/>
                  </a:lnTo>
                  <a:lnTo>
                    <a:pt x="958" y="235"/>
                  </a:lnTo>
                  <a:lnTo>
                    <a:pt x="951" y="214"/>
                  </a:lnTo>
                  <a:lnTo>
                    <a:pt x="942" y="194"/>
                  </a:lnTo>
                  <a:lnTo>
                    <a:pt x="933" y="175"/>
                  </a:lnTo>
                  <a:lnTo>
                    <a:pt x="925" y="155"/>
                  </a:lnTo>
                  <a:lnTo>
                    <a:pt x="917" y="134"/>
                  </a:lnTo>
                  <a:lnTo>
                    <a:pt x="909" y="114"/>
                  </a:lnTo>
                  <a:lnTo>
                    <a:pt x="901" y="94"/>
                  </a:lnTo>
                  <a:lnTo>
                    <a:pt x="894" y="73"/>
                  </a:lnTo>
                  <a:lnTo>
                    <a:pt x="886" y="52"/>
                  </a:lnTo>
                  <a:lnTo>
                    <a:pt x="879" y="31"/>
                  </a:lnTo>
                  <a:lnTo>
                    <a:pt x="877" y="25"/>
                  </a:lnTo>
                  <a:lnTo>
                    <a:pt x="872" y="20"/>
                  </a:lnTo>
                  <a:lnTo>
                    <a:pt x="866" y="14"/>
                  </a:lnTo>
                  <a:lnTo>
                    <a:pt x="857" y="10"/>
                  </a:lnTo>
                  <a:lnTo>
                    <a:pt x="848" y="6"/>
                  </a:lnTo>
                  <a:lnTo>
                    <a:pt x="838" y="3"/>
                  </a:lnTo>
                  <a:lnTo>
                    <a:pt x="828" y="2"/>
                  </a:lnTo>
                  <a:lnTo>
                    <a:pt x="819"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7" name="Freeform 131"/>
            <p:cNvSpPr/>
            <p:nvPr/>
          </p:nvSpPr>
          <p:spPr>
            <a:xfrm>
              <a:off x="5487120" y="4075560"/>
              <a:ext cx="358920" cy="475560"/>
            </a:xfrm>
            <a:custGeom>
              <a:avLst/>
              <a:gdLst>
                <a:gd name="textAreaLeft" fmla="*/ 0 w 358920"/>
                <a:gd name="textAreaRight" fmla="*/ 359280 w 358920"/>
                <a:gd name="textAreaTop" fmla="*/ 0 h 475560"/>
                <a:gd name="textAreaBottom" fmla="*/ 475920 h 475560"/>
              </a:gdLst>
              <a:ahLst/>
              <a:rect l="textAreaLeft" t="textAreaTop" r="textAreaRight" b="textAreaBottom"/>
              <a:pathLst>
                <a:path w="2348" h="3600">
                  <a:moveTo>
                    <a:pt x="222" y="3172"/>
                  </a:moveTo>
                  <a:lnTo>
                    <a:pt x="214" y="3190"/>
                  </a:lnTo>
                  <a:lnTo>
                    <a:pt x="204" y="3206"/>
                  </a:lnTo>
                  <a:lnTo>
                    <a:pt x="192" y="3221"/>
                  </a:lnTo>
                  <a:lnTo>
                    <a:pt x="180" y="3235"/>
                  </a:lnTo>
                  <a:lnTo>
                    <a:pt x="166" y="3248"/>
                  </a:lnTo>
                  <a:lnTo>
                    <a:pt x="151" y="3262"/>
                  </a:lnTo>
                  <a:lnTo>
                    <a:pt x="136" y="3275"/>
                  </a:lnTo>
                  <a:lnTo>
                    <a:pt x="120" y="3288"/>
                  </a:lnTo>
                  <a:lnTo>
                    <a:pt x="104" y="3301"/>
                  </a:lnTo>
                  <a:lnTo>
                    <a:pt x="87" y="3313"/>
                  </a:lnTo>
                  <a:lnTo>
                    <a:pt x="70" y="3325"/>
                  </a:lnTo>
                  <a:lnTo>
                    <a:pt x="54" y="3338"/>
                  </a:lnTo>
                  <a:lnTo>
                    <a:pt x="39" y="3352"/>
                  </a:lnTo>
                  <a:lnTo>
                    <a:pt x="26" y="3365"/>
                  </a:lnTo>
                  <a:lnTo>
                    <a:pt x="12" y="3379"/>
                  </a:lnTo>
                  <a:lnTo>
                    <a:pt x="0" y="3394"/>
                  </a:lnTo>
                  <a:lnTo>
                    <a:pt x="19" y="3399"/>
                  </a:lnTo>
                  <a:lnTo>
                    <a:pt x="37" y="3408"/>
                  </a:lnTo>
                  <a:lnTo>
                    <a:pt x="54" y="3416"/>
                  </a:lnTo>
                  <a:lnTo>
                    <a:pt x="72" y="3427"/>
                  </a:lnTo>
                  <a:lnTo>
                    <a:pt x="88" y="3437"/>
                  </a:lnTo>
                  <a:lnTo>
                    <a:pt x="104" y="3446"/>
                  </a:lnTo>
                  <a:lnTo>
                    <a:pt x="120" y="3453"/>
                  </a:lnTo>
                  <a:lnTo>
                    <a:pt x="136" y="3457"/>
                  </a:lnTo>
                  <a:lnTo>
                    <a:pt x="149" y="3459"/>
                  </a:lnTo>
                  <a:lnTo>
                    <a:pt x="163" y="3460"/>
                  </a:lnTo>
                  <a:lnTo>
                    <a:pt x="176" y="3459"/>
                  </a:lnTo>
                  <a:lnTo>
                    <a:pt x="191" y="3458"/>
                  </a:lnTo>
                  <a:lnTo>
                    <a:pt x="205" y="3456"/>
                  </a:lnTo>
                  <a:lnTo>
                    <a:pt x="220" y="3453"/>
                  </a:lnTo>
                  <a:lnTo>
                    <a:pt x="235" y="3448"/>
                  </a:lnTo>
                  <a:lnTo>
                    <a:pt x="250" y="3444"/>
                  </a:lnTo>
                  <a:lnTo>
                    <a:pt x="258" y="3442"/>
                  </a:lnTo>
                  <a:lnTo>
                    <a:pt x="264" y="3439"/>
                  </a:lnTo>
                  <a:lnTo>
                    <a:pt x="271" y="3437"/>
                  </a:lnTo>
                  <a:lnTo>
                    <a:pt x="279" y="3433"/>
                  </a:lnTo>
                  <a:lnTo>
                    <a:pt x="289" y="3429"/>
                  </a:lnTo>
                  <a:lnTo>
                    <a:pt x="298" y="3425"/>
                  </a:lnTo>
                  <a:lnTo>
                    <a:pt x="309" y="3421"/>
                  </a:lnTo>
                  <a:lnTo>
                    <a:pt x="320" y="3415"/>
                  </a:lnTo>
                  <a:lnTo>
                    <a:pt x="331" y="3411"/>
                  </a:lnTo>
                  <a:lnTo>
                    <a:pt x="342" y="3406"/>
                  </a:lnTo>
                  <a:lnTo>
                    <a:pt x="354" y="3399"/>
                  </a:lnTo>
                  <a:lnTo>
                    <a:pt x="366" y="3394"/>
                  </a:lnTo>
                  <a:lnTo>
                    <a:pt x="372" y="3375"/>
                  </a:lnTo>
                  <a:lnTo>
                    <a:pt x="398" y="3379"/>
                  </a:lnTo>
                  <a:lnTo>
                    <a:pt x="416" y="3377"/>
                  </a:lnTo>
                  <a:lnTo>
                    <a:pt x="429" y="3372"/>
                  </a:lnTo>
                  <a:lnTo>
                    <a:pt x="440" y="3365"/>
                  </a:lnTo>
                  <a:lnTo>
                    <a:pt x="452" y="3358"/>
                  </a:lnTo>
                  <a:lnTo>
                    <a:pt x="467" y="3350"/>
                  </a:lnTo>
                  <a:lnTo>
                    <a:pt x="490" y="3346"/>
                  </a:lnTo>
                  <a:lnTo>
                    <a:pt x="523" y="3345"/>
                  </a:lnTo>
                  <a:lnTo>
                    <a:pt x="533" y="3354"/>
                  </a:lnTo>
                  <a:lnTo>
                    <a:pt x="541" y="3362"/>
                  </a:lnTo>
                  <a:lnTo>
                    <a:pt x="549" y="3367"/>
                  </a:lnTo>
                  <a:lnTo>
                    <a:pt x="556" y="3371"/>
                  </a:lnTo>
                  <a:lnTo>
                    <a:pt x="564" y="3374"/>
                  </a:lnTo>
                  <a:lnTo>
                    <a:pt x="574" y="3376"/>
                  </a:lnTo>
                  <a:lnTo>
                    <a:pt x="584" y="3377"/>
                  </a:lnTo>
                  <a:lnTo>
                    <a:pt x="598" y="3378"/>
                  </a:lnTo>
                  <a:lnTo>
                    <a:pt x="608" y="3381"/>
                  </a:lnTo>
                  <a:lnTo>
                    <a:pt x="615" y="3384"/>
                  </a:lnTo>
                  <a:lnTo>
                    <a:pt x="624" y="3386"/>
                  </a:lnTo>
                  <a:lnTo>
                    <a:pt x="631" y="3389"/>
                  </a:lnTo>
                  <a:lnTo>
                    <a:pt x="638" y="3391"/>
                  </a:lnTo>
                  <a:lnTo>
                    <a:pt x="646" y="3392"/>
                  </a:lnTo>
                  <a:lnTo>
                    <a:pt x="654" y="3394"/>
                  </a:lnTo>
                  <a:lnTo>
                    <a:pt x="663" y="3396"/>
                  </a:lnTo>
                  <a:lnTo>
                    <a:pt x="672" y="3407"/>
                  </a:lnTo>
                  <a:lnTo>
                    <a:pt x="681" y="3414"/>
                  </a:lnTo>
                  <a:lnTo>
                    <a:pt x="689" y="3420"/>
                  </a:lnTo>
                  <a:lnTo>
                    <a:pt x="698" y="3424"/>
                  </a:lnTo>
                  <a:lnTo>
                    <a:pt x="706" y="3426"/>
                  </a:lnTo>
                  <a:lnTo>
                    <a:pt x="715" y="3428"/>
                  </a:lnTo>
                  <a:lnTo>
                    <a:pt x="726" y="3430"/>
                  </a:lnTo>
                  <a:lnTo>
                    <a:pt x="736" y="3431"/>
                  </a:lnTo>
                  <a:lnTo>
                    <a:pt x="745" y="3430"/>
                  </a:lnTo>
                  <a:lnTo>
                    <a:pt x="752" y="3426"/>
                  </a:lnTo>
                  <a:lnTo>
                    <a:pt x="760" y="3421"/>
                  </a:lnTo>
                  <a:lnTo>
                    <a:pt x="766" y="3413"/>
                  </a:lnTo>
                  <a:lnTo>
                    <a:pt x="769" y="3405"/>
                  </a:lnTo>
                  <a:lnTo>
                    <a:pt x="772" y="3395"/>
                  </a:lnTo>
                  <a:lnTo>
                    <a:pt x="769" y="3384"/>
                  </a:lnTo>
                  <a:lnTo>
                    <a:pt x="764" y="3375"/>
                  </a:lnTo>
                  <a:lnTo>
                    <a:pt x="754" y="3368"/>
                  </a:lnTo>
                  <a:lnTo>
                    <a:pt x="746" y="3361"/>
                  </a:lnTo>
                  <a:lnTo>
                    <a:pt x="737" y="3352"/>
                  </a:lnTo>
                  <a:lnTo>
                    <a:pt x="729" y="3344"/>
                  </a:lnTo>
                  <a:lnTo>
                    <a:pt x="721" y="3335"/>
                  </a:lnTo>
                  <a:lnTo>
                    <a:pt x="714" y="3328"/>
                  </a:lnTo>
                  <a:lnTo>
                    <a:pt x="707" y="3321"/>
                  </a:lnTo>
                  <a:lnTo>
                    <a:pt x="701" y="3316"/>
                  </a:lnTo>
                  <a:lnTo>
                    <a:pt x="692" y="3312"/>
                  </a:lnTo>
                  <a:lnTo>
                    <a:pt x="681" y="3307"/>
                  </a:lnTo>
                  <a:lnTo>
                    <a:pt x="669" y="3301"/>
                  </a:lnTo>
                  <a:lnTo>
                    <a:pt x="656" y="3293"/>
                  </a:lnTo>
                  <a:lnTo>
                    <a:pt x="643" y="3287"/>
                  </a:lnTo>
                  <a:lnTo>
                    <a:pt x="631" y="3279"/>
                  </a:lnTo>
                  <a:lnTo>
                    <a:pt x="621" y="3272"/>
                  </a:lnTo>
                  <a:lnTo>
                    <a:pt x="613" y="3266"/>
                  </a:lnTo>
                  <a:lnTo>
                    <a:pt x="629" y="3267"/>
                  </a:lnTo>
                  <a:lnTo>
                    <a:pt x="645" y="3269"/>
                  </a:lnTo>
                  <a:lnTo>
                    <a:pt x="662" y="3273"/>
                  </a:lnTo>
                  <a:lnTo>
                    <a:pt x="678" y="3278"/>
                  </a:lnTo>
                  <a:lnTo>
                    <a:pt x="696" y="3284"/>
                  </a:lnTo>
                  <a:lnTo>
                    <a:pt x="713" y="3291"/>
                  </a:lnTo>
                  <a:lnTo>
                    <a:pt x="730" y="3299"/>
                  </a:lnTo>
                  <a:lnTo>
                    <a:pt x="747" y="3305"/>
                  </a:lnTo>
                  <a:lnTo>
                    <a:pt x="763" y="3313"/>
                  </a:lnTo>
                  <a:lnTo>
                    <a:pt x="780" y="3320"/>
                  </a:lnTo>
                  <a:lnTo>
                    <a:pt x="797" y="3328"/>
                  </a:lnTo>
                  <a:lnTo>
                    <a:pt x="814" y="3333"/>
                  </a:lnTo>
                  <a:lnTo>
                    <a:pt x="830" y="3338"/>
                  </a:lnTo>
                  <a:lnTo>
                    <a:pt x="848" y="3343"/>
                  </a:lnTo>
                  <a:lnTo>
                    <a:pt x="864" y="3345"/>
                  </a:lnTo>
                  <a:lnTo>
                    <a:pt x="880" y="3346"/>
                  </a:lnTo>
                  <a:lnTo>
                    <a:pt x="885" y="3345"/>
                  </a:lnTo>
                  <a:lnTo>
                    <a:pt x="889" y="3343"/>
                  </a:lnTo>
                  <a:lnTo>
                    <a:pt x="894" y="3339"/>
                  </a:lnTo>
                  <a:lnTo>
                    <a:pt x="897" y="3336"/>
                  </a:lnTo>
                  <a:lnTo>
                    <a:pt x="899" y="3332"/>
                  </a:lnTo>
                  <a:lnTo>
                    <a:pt x="901" y="3327"/>
                  </a:lnTo>
                  <a:lnTo>
                    <a:pt x="903" y="3320"/>
                  </a:lnTo>
                  <a:lnTo>
                    <a:pt x="904" y="3314"/>
                  </a:lnTo>
                  <a:lnTo>
                    <a:pt x="905" y="3307"/>
                  </a:lnTo>
                  <a:lnTo>
                    <a:pt x="906" y="3301"/>
                  </a:lnTo>
                  <a:lnTo>
                    <a:pt x="906" y="3295"/>
                  </a:lnTo>
                  <a:lnTo>
                    <a:pt x="906" y="3290"/>
                  </a:lnTo>
                  <a:lnTo>
                    <a:pt x="904" y="3285"/>
                  </a:lnTo>
                  <a:lnTo>
                    <a:pt x="903" y="3279"/>
                  </a:lnTo>
                  <a:lnTo>
                    <a:pt x="901" y="3275"/>
                  </a:lnTo>
                  <a:lnTo>
                    <a:pt x="898" y="3270"/>
                  </a:lnTo>
                  <a:lnTo>
                    <a:pt x="910" y="3267"/>
                  </a:lnTo>
                  <a:lnTo>
                    <a:pt x="918" y="3259"/>
                  </a:lnTo>
                  <a:lnTo>
                    <a:pt x="925" y="3249"/>
                  </a:lnTo>
                  <a:lnTo>
                    <a:pt x="928" y="3240"/>
                  </a:lnTo>
                  <a:lnTo>
                    <a:pt x="930" y="3229"/>
                  </a:lnTo>
                  <a:lnTo>
                    <a:pt x="930" y="3220"/>
                  </a:lnTo>
                  <a:lnTo>
                    <a:pt x="929" y="3212"/>
                  </a:lnTo>
                  <a:lnTo>
                    <a:pt x="927" y="3205"/>
                  </a:lnTo>
                  <a:lnTo>
                    <a:pt x="924" y="3199"/>
                  </a:lnTo>
                  <a:lnTo>
                    <a:pt x="918" y="3194"/>
                  </a:lnTo>
                  <a:lnTo>
                    <a:pt x="913" y="3189"/>
                  </a:lnTo>
                  <a:lnTo>
                    <a:pt x="905" y="3184"/>
                  </a:lnTo>
                  <a:lnTo>
                    <a:pt x="897" y="3179"/>
                  </a:lnTo>
                  <a:lnTo>
                    <a:pt x="889" y="3171"/>
                  </a:lnTo>
                  <a:lnTo>
                    <a:pt x="882" y="3164"/>
                  </a:lnTo>
                  <a:lnTo>
                    <a:pt x="874" y="3155"/>
                  </a:lnTo>
                  <a:lnTo>
                    <a:pt x="867" y="3149"/>
                  </a:lnTo>
                  <a:lnTo>
                    <a:pt x="860" y="3143"/>
                  </a:lnTo>
                  <a:lnTo>
                    <a:pt x="856" y="3139"/>
                  </a:lnTo>
                  <a:lnTo>
                    <a:pt x="852" y="3138"/>
                  </a:lnTo>
                  <a:lnTo>
                    <a:pt x="822" y="3128"/>
                  </a:lnTo>
                  <a:lnTo>
                    <a:pt x="797" y="3115"/>
                  </a:lnTo>
                  <a:lnTo>
                    <a:pt x="777" y="3103"/>
                  </a:lnTo>
                  <a:lnTo>
                    <a:pt x="761" y="3091"/>
                  </a:lnTo>
                  <a:lnTo>
                    <a:pt x="748" y="3082"/>
                  </a:lnTo>
                  <a:lnTo>
                    <a:pt x="738" y="3074"/>
                  </a:lnTo>
                  <a:lnTo>
                    <a:pt x="729" y="3071"/>
                  </a:lnTo>
                  <a:lnTo>
                    <a:pt x="721" y="3071"/>
                  </a:lnTo>
                  <a:lnTo>
                    <a:pt x="708" y="3068"/>
                  </a:lnTo>
                  <a:lnTo>
                    <a:pt x="693" y="3067"/>
                  </a:lnTo>
                  <a:lnTo>
                    <a:pt x="676" y="3068"/>
                  </a:lnTo>
                  <a:lnTo>
                    <a:pt x="660" y="3070"/>
                  </a:lnTo>
                  <a:lnTo>
                    <a:pt x="643" y="3072"/>
                  </a:lnTo>
                  <a:lnTo>
                    <a:pt x="626" y="3074"/>
                  </a:lnTo>
                  <a:lnTo>
                    <a:pt x="611" y="3073"/>
                  </a:lnTo>
                  <a:lnTo>
                    <a:pt x="598" y="3071"/>
                  </a:lnTo>
                  <a:lnTo>
                    <a:pt x="605" y="3067"/>
                  </a:lnTo>
                  <a:lnTo>
                    <a:pt x="611" y="3063"/>
                  </a:lnTo>
                  <a:lnTo>
                    <a:pt x="615" y="3061"/>
                  </a:lnTo>
                  <a:lnTo>
                    <a:pt x="621" y="3059"/>
                  </a:lnTo>
                  <a:lnTo>
                    <a:pt x="625" y="3056"/>
                  </a:lnTo>
                  <a:lnTo>
                    <a:pt x="629" y="3054"/>
                  </a:lnTo>
                  <a:lnTo>
                    <a:pt x="632" y="3049"/>
                  </a:lnTo>
                  <a:lnTo>
                    <a:pt x="636" y="3045"/>
                  </a:lnTo>
                  <a:lnTo>
                    <a:pt x="645" y="3051"/>
                  </a:lnTo>
                  <a:lnTo>
                    <a:pt x="657" y="3054"/>
                  </a:lnTo>
                  <a:lnTo>
                    <a:pt x="670" y="3056"/>
                  </a:lnTo>
                  <a:lnTo>
                    <a:pt x="684" y="3056"/>
                  </a:lnTo>
                  <a:lnTo>
                    <a:pt x="698" y="3056"/>
                  </a:lnTo>
                  <a:lnTo>
                    <a:pt x="711" y="3054"/>
                  </a:lnTo>
                  <a:lnTo>
                    <a:pt x="722" y="3051"/>
                  </a:lnTo>
                  <a:lnTo>
                    <a:pt x="733" y="3045"/>
                  </a:lnTo>
                  <a:lnTo>
                    <a:pt x="746" y="3049"/>
                  </a:lnTo>
                  <a:lnTo>
                    <a:pt x="759" y="3053"/>
                  </a:lnTo>
                  <a:lnTo>
                    <a:pt x="770" y="3055"/>
                  </a:lnTo>
                  <a:lnTo>
                    <a:pt x="783" y="3055"/>
                  </a:lnTo>
                  <a:lnTo>
                    <a:pt x="795" y="3053"/>
                  </a:lnTo>
                  <a:lnTo>
                    <a:pt x="807" y="3049"/>
                  </a:lnTo>
                  <a:lnTo>
                    <a:pt x="820" y="3045"/>
                  </a:lnTo>
                  <a:lnTo>
                    <a:pt x="833" y="3040"/>
                  </a:lnTo>
                  <a:lnTo>
                    <a:pt x="840" y="3036"/>
                  </a:lnTo>
                  <a:lnTo>
                    <a:pt x="846" y="3030"/>
                  </a:lnTo>
                  <a:lnTo>
                    <a:pt x="850" y="3025"/>
                  </a:lnTo>
                  <a:lnTo>
                    <a:pt x="852" y="3018"/>
                  </a:lnTo>
                  <a:lnTo>
                    <a:pt x="854" y="3013"/>
                  </a:lnTo>
                  <a:lnTo>
                    <a:pt x="855" y="3008"/>
                  </a:lnTo>
                  <a:lnTo>
                    <a:pt x="853" y="3001"/>
                  </a:lnTo>
                  <a:lnTo>
                    <a:pt x="848" y="2992"/>
                  </a:lnTo>
                  <a:lnTo>
                    <a:pt x="843" y="2985"/>
                  </a:lnTo>
                  <a:lnTo>
                    <a:pt x="837" y="2980"/>
                  </a:lnTo>
                  <a:lnTo>
                    <a:pt x="830" y="2975"/>
                  </a:lnTo>
                  <a:lnTo>
                    <a:pt x="824" y="2970"/>
                  </a:lnTo>
                  <a:lnTo>
                    <a:pt x="815" y="2967"/>
                  </a:lnTo>
                  <a:lnTo>
                    <a:pt x="808" y="2964"/>
                  </a:lnTo>
                  <a:lnTo>
                    <a:pt x="800" y="2963"/>
                  </a:lnTo>
                  <a:lnTo>
                    <a:pt x="793" y="2964"/>
                  </a:lnTo>
                  <a:lnTo>
                    <a:pt x="784" y="2956"/>
                  </a:lnTo>
                  <a:lnTo>
                    <a:pt x="776" y="2952"/>
                  </a:lnTo>
                  <a:lnTo>
                    <a:pt x="767" y="2949"/>
                  </a:lnTo>
                  <a:lnTo>
                    <a:pt x="758" y="2948"/>
                  </a:lnTo>
                  <a:lnTo>
                    <a:pt x="747" y="2948"/>
                  </a:lnTo>
                  <a:lnTo>
                    <a:pt x="735" y="2948"/>
                  </a:lnTo>
                  <a:lnTo>
                    <a:pt x="722" y="2949"/>
                  </a:lnTo>
                  <a:lnTo>
                    <a:pt x="708" y="2949"/>
                  </a:lnTo>
                  <a:lnTo>
                    <a:pt x="692" y="2948"/>
                  </a:lnTo>
                  <a:lnTo>
                    <a:pt x="674" y="2946"/>
                  </a:lnTo>
                  <a:lnTo>
                    <a:pt x="656" y="2944"/>
                  </a:lnTo>
                  <a:lnTo>
                    <a:pt x="638" y="2941"/>
                  </a:lnTo>
                  <a:lnTo>
                    <a:pt x="621" y="2940"/>
                  </a:lnTo>
                  <a:lnTo>
                    <a:pt x="606" y="2940"/>
                  </a:lnTo>
                  <a:lnTo>
                    <a:pt x="593" y="2944"/>
                  </a:lnTo>
                  <a:lnTo>
                    <a:pt x="584" y="2949"/>
                  </a:lnTo>
                  <a:lnTo>
                    <a:pt x="574" y="2962"/>
                  </a:lnTo>
                  <a:lnTo>
                    <a:pt x="561" y="2975"/>
                  </a:lnTo>
                  <a:lnTo>
                    <a:pt x="546" y="2987"/>
                  </a:lnTo>
                  <a:lnTo>
                    <a:pt x="529" y="3001"/>
                  </a:lnTo>
                  <a:lnTo>
                    <a:pt x="509" y="3015"/>
                  </a:lnTo>
                  <a:lnTo>
                    <a:pt x="489" y="3028"/>
                  </a:lnTo>
                  <a:lnTo>
                    <a:pt x="469" y="3042"/>
                  </a:lnTo>
                  <a:lnTo>
                    <a:pt x="447" y="3056"/>
                  </a:lnTo>
                  <a:lnTo>
                    <a:pt x="425" y="3069"/>
                  </a:lnTo>
                  <a:lnTo>
                    <a:pt x="403" y="3082"/>
                  </a:lnTo>
                  <a:lnTo>
                    <a:pt x="382" y="3093"/>
                  </a:lnTo>
                  <a:lnTo>
                    <a:pt x="362" y="3104"/>
                  </a:lnTo>
                  <a:lnTo>
                    <a:pt x="342" y="3115"/>
                  </a:lnTo>
                  <a:lnTo>
                    <a:pt x="323" y="3123"/>
                  </a:lnTo>
                  <a:lnTo>
                    <a:pt x="307" y="3132"/>
                  </a:lnTo>
                  <a:lnTo>
                    <a:pt x="292" y="3138"/>
                  </a:lnTo>
                  <a:lnTo>
                    <a:pt x="283" y="3143"/>
                  </a:lnTo>
                  <a:lnTo>
                    <a:pt x="274" y="3145"/>
                  </a:lnTo>
                  <a:lnTo>
                    <a:pt x="265" y="3146"/>
                  </a:lnTo>
                  <a:lnTo>
                    <a:pt x="257" y="3147"/>
                  </a:lnTo>
                  <a:lnTo>
                    <a:pt x="248" y="3149"/>
                  </a:lnTo>
                  <a:lnTo>
                    <a:pt x="240" y="3153"/>
                  </a:lnTo>
                  <a:lnTo>
                    <a:pt x="231" y="3161"/>
                  </a:lnTo>
                  <a:lnTo>
                    <a:pt x="222" y="3172"/>
                  </a:lnTo>
                  <a:close/>
                  <a:moveTo>
                    <a:pt x="2059" y="3271"/>
                  </a:moveTo>
                  <a:lnTo>
                    <a:pt x="2073" y="3270"/>
                  </a:lnTo>
                  <a:lnTo>
                    <a:pt x="2088" y="3264"/>
                  </a:lnTo>
                  <a:lnTo>
                    <a:pt x="2102" y="3257"/>
                  </a:lnTo>
                  <a:lnTo>
                    <a:pt x="2117" y="3247"/>
                  </a:lnTo>
                  <a:lnTo>
                    <a:pt x="2133" y="3239"/>
                  </a:lnTo>
                  <a:lnTo>
                    <a:pt x="2148" y="3232"/>
                  </a:lnTo>
                  <a:lnTo>
                    <a:pt x="2164" y="3231"/>
                  </a:lnTo>
                  <a:lnTo>
                    <a:pt x="2181" y="3236"/>
                  </a:lnTo>
                  <a:lnTo>
                    <a:pt x="2202" y="3246"/>
                  </a:lnTo>
                  <a:lnTo>
                    <a:pt x="2225" y="3260"/>
                  </a:lnTo>
                  <a:lnTo>
                    <a:pt x="2251" y="3279"/>
                  </a:lnTo>
                  <a:lnTo>
                    <a:pt x="2277" y="3300"/>
                  </a:lnTo>
                  <a:lnTo>
                    <a:pt x="2301" y="3323"/>
                  </a:lnTo>
                  <a:lnTo>
                    <a:pt x="2323" y="3348"/>
                  </a:lnTo>
                  <a:lnTo>
                    <a:pt x="2339" y="3372"/>
                  </a:lnTo>
                  <a:lnTo>
                    <a:pt x="2348" y="3398"/>
                  </a:lnTo>
                  <a:lnTo>
                    <a:pt x="2331" y="3411"/>
                  </a:lnTo>
                  <a:lnTo>
                    <a:pt x="2314" y="3425"/>
                  </a:lnTo>
                  <a:lnTo>
                    <a:pt x="2295" y="3439"/>
                  </a:lnTo>
                  <a:lnTo>
                    <a:pt x="2277" y="3456"/>
                  </a:lnTo>
                  <a:lnTo>
                    <a:pt x="2258" y="3473"/>
                  </a:lnTo>
                  <a:lnTo>
                    <a:pt x="2241" y="3493"/>
                  </a:lnTo>
                  <a:lnTo>
                    <a:pt x="2226" y="3514"/>
                  </a:lnTo>
                  <a:lnTo>
                    <a:pt x="2213" y="3537"/>
                  </a:lnTo>
                  <a:lnTo>
                    <a:pt x="2201" y="3558"/>
                  </a:lnTo>
                  <a:lnTo>
                    <a:pt x="2184" y="3573"/>
                  </a:lnTo>
                  <a:lnTo>
                    <a:pt x="2165" y="3581"/>
                  </a:lnTo>
                  <a:lnTo>
                    <a:pt x="2144" y="3584"/>
                  </a:lnTo>
                  <a:lnTo>
                    <a:pt x="2121" y="3583"/>
                  </a:lnTo>
                  <a:lnTo>
                    <a:pt x="2099" y="3579"/>
                  </a:lnTo>
                  <a:lnTo>
                    <a:pt x="2077" y="3570"/>
                  </a:lnTo>
                  <a:lnTo>
                    <a:pt x="2056" y="3559"/>
                  </a:lnTo>
                  <a:lnTo>
                    <a:pt x="2035" y="3560"/>
                  </a:lnTo>
                  <a:lnTo>
                    <a:pt x="2020" y="3558"/>
                  </a:lnTo>
                  <a:lnTo>
                    <a:pt x="2010" y="3554"/>
                  </a:lnTo>
                  <a:lnTo>
                    <a:pt x="2005" y="3550"/>
                  </a:lnTo>
                  <a:lnTo>
                    <a:pt x="2001" y="3546"/>
                  </a:lnTo>
                  <a:lnTo>
                    <a:pt x="1999" y="3541"/>
                  </a:lnTo>
                  <a:lnTo>
                    <a:pt x="1996" y="3538"/>
                  </a:lnTo>
                  <a:lnTo>
                    <a:pt x="1993" y="3537"/>
                  </a:lnTo>
                  <a:lnTo>
                    <a:pt x="1989" y="3541"/>
                  </a:lnTo>
                  <a:lnTo>
                    <a:pt x="1983" y="3546"/>
                  </a:lnTo>
                  <a:lnTo>
                    <a:pt x="1976" y="3551"/>
                  </a:lnTo>
                  <a:lnTo>
                    <a:pt x="1967" y="3555"/>
                  </a:lnTo>
                  <a:lnTo>
                    <a:pt x="1960" y="3560"/>
                  </a:lnTo>
                  <a:lnTo>
                    <a:pt x="1952" y="3565"/>
                  </a:lnTo>
                  <a:lnTo>
                    <a:pt x="1946" y="3569"/>
                  </a:lnTo>
                  <a:lnTo>
                    <a:pt x="1942" y="3574"/>
                  </a:lnTo>
                  <a:lnTo>
                    <a:pt x="1920" y="3580"/>
                  </a:lnTo>
                  <a:lnTo>
                    <a:pt x="1901" y="3585"/>
                  </a:lnTo>
                  <a:lnTo>
                    <a:pt x="1884" y="3590"/>
                  </a:lnTo>
                  <a:lnTo>
                    <a:pt x="1868" y="3594"/>
                  </a:lnTo>
                  <a:lnTo>
                    <a:pt x="1853" y="3597"/>
                  </a:lnTo>
                  <a:lnTo>
                    <a:pt x="1836" y="3598"/>
                  </a:lnTo>
                  <a:lnTo>
                    <a:pt x="1817" y="3600"/>
                  </a:lnTo>
                  <a:lnTo>
                    <a:pt x="1796" y="3600"/>
                  </a:lnTo>
                  <a:lnTo>
                    <a:pt x="1791" y="3600"/>
                  </a:lnTo>
                  <a:lnTo>
                    <a:pt x="1785" y="3599"/>
                  </a:lnTo>
                  <a:lnTo>
                    <a:pt x="1782" y="3597"/>
                  </a:lnTo>
                  <a:lnTo>
                    <a:pt x="1779" y="3594"/>
                  </a:lnTo>
                  <a:lnTo>
                    <a:pt x="1776" y="3590"/>
                  </a:lnTo>
                  <a:lnTo>
                    <a:pt x="1775" y="3584"/>
                  </a:lnTo>
                  <a:lnTo>
                    <a:pt x="1773" y="3577"/>
                  </a:lnTo>
                  <a:lnTo>
                    <a:pt x="1772" y="3568"/>
                  </a:lnTo>
                  <a:lnTo>
                    <a:pt x="1770" y="3559"/>
                  </a:lnTo>
                  <a:lnTo>
                    <a:pt x="1772" y="3549"/>
                  </a:lnTo>
                  <a:lnTo>
                    <a:pt x="1778" y="3540"/>
                  </a:lnTo>
                  <a:lnTo>
                    <a:pt x="1785" y="3533"/>
                  </a:lnTo>
                  <a:lnTo>
                    <a:pt x="1796" y="3524"/>
                  </a:lnTo>
                  <a:lnTo>
                    <a:pt x="1809" y="3517"/>
                  </a:lnTo>
                  <a:lnTo>
                    <a:pt x="1823" y="3509"/>
                  </a:lnTo>
                  <a:lnTo>
                    <a:pt x="1838" y="3502"/>
                  </a:lnTo>
                  <a:lnTo>
                    <a:pt x="1854" y="3494"/>
                  </a:lnTo>
                  <a:lnTo>
                    <a:pt x="1871" y="3486"/>
                  </a:lnTo>
                  <a:lnTo>
                    <a:pt x="1887" y="3477"/>
                  </a:lnTo>
                  <a:lnTo>
                    <a:pt x="1903" y="3469"/>
                  </a:lnTo>
                  <a:lnTo>
                    <a:pt x="1919" y="3460"/>
                  </a:lnTo>
                  <a:lnTo>
                    <a:pt x="1933" y="3451"/>
                  </a:lnTo>
                  <a:lnTo>
                    <a:pt x="1945" y="3440"/>
                  </a:lnTo>
                  <a:lnTo>
                    <a:pt x="1955" y="3428"/>
                  </a:lnTo>
                  <a:lnTo>
                    <a:pt x="1945" y="3427"/>
                  </a:lnTo>
                  <a:lnTo>
                    <a:pt x="1932" y="3429"/>
                  </a:lnTo>
                  <a:lnTo>
                    <a:pt x="1918" y="3432"/>
                  </a:lnTo>
                  <a:lnTo>
                    <a:pt x="1902" y="3437"/>
                  </a:lnTo>
                  <a:lnTo>
                    <a:pt x="1886" y="3442"/>
                  </a:lnTo>
                  <a:lnTo>
                    <a:pt x="1868" y="3450"/>
                  </a:lnTo>
                  <a:lnTo>
                    <a:pt x="1849" y="3456"/>
                  </a:lnTo>
                  <a:lnTo>
                    <a:pt x="1831" y="3463"/>
                  </a:lnTo>
                  <a:lnTo>
                    <a:pt x="1813" y="3471"/>
                  </a:lnTo>
                  <a:lnTo>
                    <a:pt x="1795" y="3477"/>
                  </a:lnTo>
                  <a:lnTo>
                    <a:pt x="1778" y="3483"/>
                  </a:lnTo>
                  <a:lnTo>
                    <a:pt x="1762" y="3488"/>
                  </a:lnTo>
                  <a:lnTo>
                    <a:pt x="1747" y="3491"/>
                  </a:lnTo>
                  <a:lnTo>
                    <a:pt x="1733" y="3492"/>
                  </a:lnTo>
                  <a:lnTo>
                    <a:pt x="1721" y="3492"/>
                  </a:lnTo>
                  <a:lnTo>
                    <a:pt x="1711" y="3489"/>
                  </a:lnTo>
                  <a:lnTo>
                    <a:pt x="1707" y="3487"/>
                  </a:lnTo>
                  <a:lnTo>
                    <a:pt x="1702" y="3485"/>
                  </a:lnTo>
                  <a:lnTo>
                    <a:pt x="1697" y="3483"/>
                  </a:lnTo>
                  <a:lnTo>
                    <a:pt x="1694" y="3478"/>
                  </a:lnTo>
                  <a:lnTo>
                    <a:pt x="1690" y="3475"/>
                  </a:lnTo>
                  <a:lnTo>
                    <a:pt x="1687" y="3470"/>
                  </a:lnTo>
                  <a:lnTo>
                    <a:pt x="1684" y="3463"/>
                  </a:lnTo>
                  <a:lnTo>
                    <a:pt x="1681" y="3456"/>
                  </a:lnTo>
                  <a:lnTo>
                    <a:pt x="1685" y="3445"/>
                  </a:lnTo>
                  <a:lnTo>
                    <a:pt x="1695" y="3435"/>
                  </a:lnTo>
                  <a:lnTo>
                    <a:pt x="1710" y="3423"/>
                  </a:lnTo>
                  <a:lnTo>
                    <a:pt x="1730" y="3411"/>
                  </a:lnTo>
                  <a:lnTo>
                    <a:pt x="1751" y="3400"/>
                  </a:lnTo>
                  <a:lnTo>
                    <a:pt x="1772" y="3390"/>
                  </a:lnTo>
                  <a:lnTo>
                    <a:pt x="1792" y="3379"/>
                  </a:lnTo>
                  <a:lnTo>
                    <a:pt x="1809" y="3369"/>
                  </a:lnTo>
                  <a:lnTo>
                    <a:pt x="1825" y="3361"/>
                  </a:lnTo>
                  <a:lnTo>
                    <a:pt x="1839" y="3355"/>
                  </a:lnTo>
                  <a:lnTo>
                    <a:pt x="1849" y="3354"/>
                  </a:lnTo>
                  <a:lnTo>
                    <a:pt x="1860" y="3353"/>
                  </a:lnTo>
                  <a:lnTo>
                    <a:pt x="1870" y="3354"/>
                  </a:lnTo>
                  <a:lnTo>
                    <a:pt x="1882" y="3353"/>
                  </a:lnTo>
                  <a:lnTo>
                    <a:pt x="1893" y="3351"/>
                  </a:lnTo>
                  <a:lnTo>
                    <a:pt x="1908" y="3345"/>
                  </a:lnTo>
                  <a:lnTo>
                    <a:pt x="1886" y="3346"/>
                  </a:lnTo>
                  <a:lnTo>
                    <a:pt x="1872" y="3346"/>
                  </a:lnTo>
                  <a:lnTo>
                    <a:pt x="1863" y="3346"/>
                  </a:lnTo>
                  <a:lnTo>
                    <a:pt x="1859" y="3345"/>
                  </a:lnTo>
                  <a:lnTo>
                    <a:pt x="1857" y="3345"/>
                  </a:lnTo>
                  <a:lnTo>
                    <a:pt x="1855" y="3345"/>
                  </a:lnTo>
                  <a:lnTo>
                    <a:pt x="1851" y="3345"/>
                  </a:lnTo>
                  <a:lnTo>
                    <a:pt x="1842" y="3345"/>
                  </a:lnTo>
                  <a:lnTo>
                    <a:pt x="1836" y="3346"/>
                  </a:lnTo>
                  <a:lnTo>
                    <a:pt x="1827" y="3348"/>
                  </a:lnTo>
                  <a:lnTo>
                    <a:pt x="1817" y="3350"/>
                  </a:lnTo>
                  <a:lnTo>
                    <a:pt x="1807" y="3353"/>
                  </a:lnTo>
                  <a:lnTo>
                    <a:pt x="1794" y="3358"/>
                  </a:lnTo>
                  <a:lnTo>
                    <a:pt x="1781" y="3362"/>
                  </a:lnTo>
                  <a:lnTo>
                    <a:pt x="1767" y="3366"/>
                  </a:lnTo>
                  <a:lnTo>
                    <a:pt x="1753" y="3369"/>
                  </a:lnTo>
                  <a:lnTo>
                    <a:pt x="1739" y="3374"/>
                  </a:lnTo>
                  <a:lnTo>
                    <a:pt x="1725" y="3378"/>
                  </a:lnTo>
                  <a:lnTo>
                    <a:pt x="1712" y="3380"/>
                  </a:lnTo>
                  <a:lnTo>
                    <a:pt x="1701" y="3383"/>
                  </a:lnTo>
                  <a:lnTo>
                    <a:pt x="1689" y="3384"/>
                  </a:lnTo>
                  <a:lnTo>
                    <a:pt x="1678" y="3385"/>
                  </a:lnTo>
                  <a:lnTo>
                    <a:pt x="1670" y="3384"/>
                  </a:lnTo>
                  <a:lnTo>
                    <a:pt x="1663" y="3382"/>
                  </a:lnTo>
                  <a:lnTo>
                    <a:pt x="1651" y="3363"/>
                  </a:lnTo>
                  <a:lnTo>
                    <a:pt x="1650" y="3346"/>
                  </a:lnTo>
                  <a:lnTo>
                    <a:pt x="1658" y="3330"/>
                  </a:lnTo>
                  <a:lnTo>
                    <a:pt x="1672" y="3316"/>
                  </a:lnTo>
                  <a:lnTo>
                    <a:pt x="1690" y="3303"/>
                  </a:lnTo>
                  <a:lnTo>
                    <a:pt x="1709" y="3290"/>
                  </a:lnTo>
                  <a:lnTo>
                    <a:pt x="1727" y="3279"/>
                  </a:lnTo>
                  <a:lnTo>
                    <a:pt x="1743" y="3269"/>
                  </a:lnTo>
                  <a:lnTo>
                    <a:pt x="1756" y="3259"/>
                  </a:lnTo>
                  <a:lnTo>
                    <a:pt x="1766" y="3253"/>
                  </a:lnTo>
                  <a:lnTo>
                    <a:pt x="1776" y="3248"/>
                  </a:lnTo>
                  <a:lnTo>
                    <a:pt x="1783" y="3244"/>
                  </a:lnTo>
                  <a:lnTo>
                    <a:pt x="1790" y="3242"/>
                  </a:lnTo>
                  <a:lnTo>
                    <a:pt x="1796" y="3240"/>
                  </a:lnTo>
                  <a:lnTo>
                    <a:pt x="1802" y="3238"/>
                  </a:lnTo>
                  <a:lnTo>
                    <a:pt x="1809" y="3236"/>
                  </a:lnTo>
                  <a:lnTo>
                    <a:pt x="1807" y="3230"/>
                  </a:lnTo>
                  <a:lnTo>
                    <a:pt x="1804" y="3226"/>
                  </a:lnTo>
                  <a:lnTo>
                    <a:pt x="1803" y="3223"/>
                  </a:lnTo>
                  <a:lnTo>
                    <a:pt x="1801" y="3221"/>
                  </a:lnTo>
                  <a:lnTo>
                    <a:pt x="1799" y="3217"/>
                  </a:lnTo>
                  <a:lnTo>
                    <a:pt x="1797" y="3214"/>
                  </a:lnTo>
                  <a:lnTo>
                    <a:pt x="1793" y="3210"/>
                  </a:lnTo>
                  <a:lnTo>
                    <a:pt x="1788" y="3203"/>
                  </a:lnTo>
                  <a:lnTo>
                    <a:pt x="1784" y="3203"/>
                  </a:lnTo>
                  <a:lnTo>
                    <a:pt x="1779" y="3203"/>
                  </a:lnTo>
                  <a:lnTo>
                    <a:pt x="1772" y="3203"/>
                  </a:lnTo>
                  <a:lnTo>
                    <a:pt x="1767" y="3203"/>
                  </a:lnTo>
                  <a:lnTo>
                    <a:pt x="1760" y="3203"/>
                  </a:lnTo>
                  <a:lnTo>
                    <a:pt x="1752" y="3203"/>
                  </a:lnTo>
                  <a:lnTo>
                    <a:pt x="1745" y="3203"/>
                  </a:lnTo>
                  <a:lnTo>
                    <a:pt x="1736" y="3203"/>
                  </a:lnTo>
                  <a:lnTo>
                    <a:pt x="1733" y="3199"/>
                  </a:lnTo>
                  <a:lnTo>
                    <a:pt x="1730" y="3195"/>
                  </a:lnTo>
                  <a:lnTo>
                    <a:pt x="1726" y="3192"/>
                  </a:lnTo>
                  <a:lnTo>
                    <a:pt x="1723" y="3187"/>
                  </a:lnTo>
                  <a:lnTo>
                    <a:pt x="1720" y="3183"/>
                  </a:lnTo>
                  <a:lnTo>
                    <a:pt x="1717" y="3179"/>
                  </a:lnTo>
                  <a:lnTo>
                    <a:pt x="1715" y="3176"/>
                  </a:lnTo>
                  <a:lnTo>
                    <a:pt x="1711" y="3171"/>
                  </a:lnTo>
                  <a:lnTo>
                    <a:pt x="1702" y="3171"/>
                  </a:lnTo>
                  <a:lnTo>
                    <a:pt x="1693" y="3171"/>
                  </a:lnTo>
                  <a:lnTo>
                    <a:pt x="1684" y="3171"/>
                  </a:lnTo>
                  <a:lnTo>
                    <a:pt x="1675" y="3171"/>
                  </a:lnTo>
                  <a:lnTo>
                    <a:pt x="1665" y="3171"/>
                  </a:lnTo>
                  <a:lnTo>
                    <a:pt x="1656" y="3171"/>
                  </a:lnTo>
                  <a:lnTo>
                    <a:pt x="1647" y="3171"/>
                  </a:lnTo>
                  <a:lnTo>
                    <a:pt x="1638" y="3171"/>
                  </a:lnTo>
                  <a:lnTo>
                    <a:pt x="1634" y="3167"/>
                  </a:lnTo>
                  <a:lnTo>
                    <a:pt x="1631" y="3163"/>
                  </a:lnTo>
                  <a:lnTo>
                    <a:pt x="1628" y="3160"/>
                  </a:lnTo>
                  <a:lnTo>
                    <a:pt x="1626" y="3155"/>
                  </a:lnTo>
                  <a:lnTo>
                    <a:pt x="1623" y="3151"/>
                  </a:lnTo>
                  <a:lnTo>
                    <a:pt x="1619" y="3147"/>
                  </a:lnTo>
                  <a:lnTo>
                    <a:pt x="1616" y="3144"/>
                  </a:lnTo>
                  <a:lnTo>
                    <a:pt x="1613" y="3139"/>
                  </a:lnTo>
                  <a:lnTo>
                    <a:pt x="1619" y="3132"/>
                  </a:lnTo>
                  <a:lnTo>
                    <a:pt x="1626" y="3124"/>
                  </a:lnTo>
                  <a:lnTo>
                    <a:pt x="1631" y="3116"/>
                  </a:lnTo>
                  <a:lnTo>
                    <a:pt x="1638" y="3108"/>
                  </a:lnTo>
                  <a:lnTo>
                    <a:pt x="1657" y="3107"/>
                  </a:lnTo>
                  <a:lnTo>
                    <a:pt x="1678" y="3106"/>
                  </a:lnTo>
                  <a:lnTo>
                    <a:pt x="1700" y="3103"/>
                  </a:lnTo>
                  <a:lnTo>
                    <a:pt x="1722" y="3100"/>
                  </a:lnTo>
                  <a:lnTo>
                    <a:pt x="1742" y="3098"/>
                  </a:lnTo>
                  <a:lnTo>
                    <a:pt x="1763" y="3094"/>
                  </a:lnTo>
                  <a:lnTo>
                    <a:pt x="1781" y="3093"/>
                  </a:lnTo>
                  <a:lnTo>
                    <a:pt x="1796" y="3092"/>
                  </a:lnTo>
                  <a:lnTo>
                    <a:pt x="1811" y="3103"/>
                  </a:lnTo>
                  <a:lnTo>
                    <a:pt x="1826" y="3115"/>
                  </a:lnTo>
                  <a:lnTo>
                    <a:pt x="1841" y="3128"/>
                  </a:lnTo>
                  <a:lnTo>
                    <a:pt x="1856" y="3140"/>
                  </a:lnTo>
                  <a:lnTo>
                    <a:pt x="1870" y="3154"/>
                  </a:lnTo>
                  <a:lnTo>
                    <a:pt x="1885" y="3168"/>
                  </a:lnTo>
                  <a:lnTo>
                    <a:pt x="1900" y="3181"/>
                  </a:lnTo>
                  <a:lnTo>
                    <a:pt x="1916" y="3195"/>
                  </a:lnTo>
                  <a:lnTo>
                    <a:pt x="1931" y="3208"/>
                  </a:lnTo>
                  <a:lnTo>
                    <a:pt x="1948" y="3221"/>
                  </a:lnTo>
                  <a:lnTo>
                    <a:pt x="1964" y="3231"/>
                  </a:lnTo>
                  <a:lnTo>
                    <a:pt x="1982" y="3242"/>
                  </a:lnTo>
                  <a:lnTo>
                    <a:pt x="1999" y="3252"/>
                  </a:lnTo>
                  <a:lnTo>
                    <a:pt x="2019" y="3260"/>
                  </a:lnTo>
                  <a:lnTo>
                    <a:pt x="2039" y="3267"/>
                  </a:lnTo>
                  <a:lnTo>
                    <a:pt x="2059" y="3271"/>
                  </a:lnTo>
                  <a:close/>
                  <a:moveTo>
                    <a:pt x="1722" y="517"/>
                  </a:moveTo>
                  <a:lnTo>
                    <a:pt x="1716" y="523"/>
                  </a:lnTo>
                  <a:lnTo>
                    <a:pt x="1707" y="525"/>
                  </a:lnTo>
                  <a:lnTo>
                    <a:pt x="1701" y="526"/>
                  </a:lnTo>
                  <a:lnTo>
                    <a:pt x="1699" y="534"/>
                  </a:lnTo>
                  <a:lnTo>
                    <a:pt x="1686" y="536"/>
                  </a:lnTo>
                  <a:lnTo>
                    <a:pt x="1673" y="541"/>
                  </a:lnTo>
                  <a:lnTo>
                    <a:pt x="1662" y="551"/>
                  </a:lnTo>
                  <a:lnTo>
                    <a:pt x="1651" y="562"/>
                  </a:lnTo>
                  <a:lnTo>
                    <a:pt x="1641" y="573"/>
                  </a:lnTo>
                  <a:lnTo>
                    <a:pt x="1631" y="587"/>
                  </a:lnTo>
                  <a:lnTo>
                    <a:pt x="1623" y="600"/>
                  </a:lnTo>
                  <a:lnTo>
                    <a:pt x="1613" y="613"/>
                  </a:lnTo>
                  <a:lnTo>
                    <a:pt x="1619" y="594"/>
                  </a:lnTo>
                  <a:lnTo>
                    <a:pt x="1626" y="570"/>
                  </a:lnTo>
                  <a:lnTo>
                    <a:pt x="1631" y="544"/>
                  </a:lnTo>
                  <a:lnTo>
                    <a:pt x="1636" y="516"/>
                  </a:lnTo>
                  <a:lnTo>
                    <a:pt x="1641" y="486"/>
                  </a:lnTo>
                  <a:lnTo>
                    <a:pt x="1644" y="453"/>
                  </a:lnTo>
                  <a:lnTo>
                    <a:pt x="1647" y="420"/>
                  </a:lnTo>
                  <a:lnTo>
                    <a:pt x="1650" y="386"/>
                  </a:lnTo>
                  <a:lnTo>
                    <a:pt x="1653" y="352"/>
                  </a:lnTo>
                  <a:lnTo>
                    <a:pt x="1654" y="318"/>
                  </a:lnTo>
                  <a:lnTo>
                    <a:pt x="1655" y="283"/>
                  </a:lnTo>
                  <a:lnTo>
                    <a:pt x="1655" y="250"/>
                  </a:lnTo>
                  <a:lnTo>
                    <a:pt x="1655" y="219"/>
                  </a:lnTo>
                  <a:lnTo>
                    <a:pt x="1654" y="189"/>
                  </a:lnTo>
                  <a:lnTo>
                    <a:pt x="1653" y="161"/>
                  </a:lnTo>
                  <a:lnTo>
                    <a:pt x="1650" y="136"/>
                  </a:lnTo>
                  <a:lnTo>
                    <a:pt x="1649" y="124"/>
                  </a:lnTo>
                  <a:lnTo>
                    <a:pt x="1646" y="112"/>
                  </a:lnTo>
                  <a:lnTo>
                    <a:pt x="1643" y="101"/>
                  </a:lnTo>
                  <a:lnTo>
                    <a:pt x="1639" y="89"/>
                  </a:lnTo>
                  <a:lnTo>
                    <a:pt x="1633" y="77"/>
                  </a:lnTo>
                  <a:lnTo>
                    <a:pt x="1630" y="64"/>
                  </a:lnTo>
                  <a:lnTo>
                    <a:pt x="1627" y="52"/>
                  </a:lnTo>
                  <a:lnTo>
                    <a:pt x="1626" y="41"/>
                  </a:lnTo>
                  <a:lnTo>
                    <a:pt x="1604" y="40"/>
                  </a:lnTo>
                  <a:lnTo>
                    <a:pt x="1583" y="38"/>
                  </a:lnTo>
                  <a:lnTo>
                    <a:pt x="1562" y="35"/>
                  </a:lnTo>
                  <a:lnTo>
                    <a:pt x="1539" y="31"/>
                  </a:lnTo>
                  <a:lnTo>
                    <a:pt x="1518" y="27"/>
                  </a:lnTo>
                  <a:lnTo>
                    <a:pt x="1495" y="22"/>
                  </a:lnTo>
                  <a:lnTo>
                    <a:pt x="1473" y="17"/>
                  </a:lnTo>
                  <a:lnTo>
                    <a:pt x="1450" y="13"/>
                  </a:lnTo>
                  <a:lnTo>
                    <a:pt x="1428" y="9"/>
                  </a:lnTo>
                  <a:lnTo>
                    <a:pt x="1406" y="5"/>
                  </a:lnTo>
                  <a:lnTo>
                    <a:pt x="1384" y="2"/>
                  </a:lnTo>
                  <a:lnTo>
                    <a:pt x="1362" y="0"/>
                  </a:lnTo>
                  <a:lnTo>
                    <a:pt x="1342" y="0"/>
                  </a:lnTo>
                  <a:lnTo>
                    <a:pt x="1322" y="1"/>
                  </a:lnTo>
                  <a:lnTo>
                    <a:pt x="1302" y="4"/>
                  </a:lnTo>
                  <a:lnTo>
                    <a:pt x="1283" y="9"/>
                  </a:lnTo>
                  <a:lnTo>
                    <a:pt x="1263" y="16"/>
                  </a:lnTo>
                  <a:lnTo>
                    <a:pt x="1245" y="26"/>
                  </a:lnTo>
                  <a:lnTo>
                    <a:pt x="1226" y="37"/>
                  </a:lnTo>
                  <a:lnTo>
                    <a:pt x="1208" y="50"/>
                  </a:lnTo>
                  <a:lnTo>
                    <a:pt x="1191" y="63"/>
                  </a:lnTo>
                  <a:lnTo>
                    <a:pt x="1174" y="77"/>
                  </a:lnTo>
                  <a:lnTo>
                    <a:pt x="1156" y="91"/>
                  </a:lnTo>
                  <a:lnTo>
                    <a:pt x="1139" y="104"/>
                  </a:lnTo>
                  <a:lnTo>
                    <a:pt x="1119" y="115"/>
                  </a:lnTo>
                  <a:lnTo>
                    <a:pt x="1100" y="125"/>
                  </a:lnTo>
                  <a:lnTo>
                    <a:pt x="1080" y="133"/>
                  </a:lnTo>
                  <a:lnTo>
                    <a:pt x="1058" y="138"/>
                  </a:lnTo>
                  <a:lnTo>
                    <a:pt x="1035" y="140"/>
                  </a:lnTo>
                  <a:lnTo>
                    <a:pt x="1010" y="138"/>
                  </a:lnTo>
                  <a:lnTo>
                    <a:pt x="982" y="132"/>
                  </a:lnTo>
                  <a:lnTo>
                    <a:pt x="954" y="120"/>
                  </a:lnTo>
                  <a:lnTo>
                    <a:pt x="952" y="127"/>
                  </a:lnTo>
                  <a:lnTo>
                    <a:pt x="949" y="137"/>
                  </a:lnTo>
                  <a:lnTo>
                    <a:pt x="945" y="148"/>
                  </a:lnTo>
                  <a:lnTo>
                    <a:pt x="941" y="159"/>
                  </a:lnTo>
                  <a:lnTo>
                    <a:pt x="934" y="172"/>
                  </a:lnTo>
                  <a:lnTo>
                    <a:pt x="928" y="183"/>
                  </a:lnTo>
                  <a:lnTo>
                    <a:pt x="922" y="192"/>
                  </a:lnTo>
                  <a:lnTo>
                    <a:pt x="917" y="200"/>
                  </a:lnTo>
                  <a:lnTo>
                    <a:pt x="917" y="218"/>
                  </a:lnTo>
                  <a:lnTo>
                    <a:pt x="916" y="235"/>
                  </a:lnTo>
                  <a:lnTo>
                    <a:pt x="915" y="253"/>
                  </a:lnTo>
                  <a:lnTo>
                    <a:pt x="913" y="272"/>
                  </a:lnTo>
                  <a:lnTo>
                    <a:pt x="912" y="289"/>
                  </a:lnTo>
                  <a:lnTo>
                    <a:pt x="910" y="307"/>
                  </a:lnTo>
                  <a:lnTo>
                    <a:pt x="908" y="325"/>
                  </a:lnTo>
                  <a:lnTo>
                    <a:pt x="905" y="342"/>
                  </a:lnTo>
                  <a:lnTo>
                    <a:pt x="902" y="360"/>
                  </a:lnTo>
                  <a:lnTo>
                    <a:pt x="900" y="379"/>
                  </a:lnTo>
                  <a:lnTo>
                    <a:pt x="898" y="397"/>
                  </a:lnTo>
                  <a:lnTo>
                    <a:pt x="897" y="414"/>
                  </a:lnTo>
                  <a:lnTo>
                    <a:pt x="895" y="432"/>
                  </a:lnTo>
                  <a:lnTo>
                    <a:pt x="894" y="450"/>
                  </a:lnTo>
                  <a:lnTo>
                    <a:pt x="893" y="467"/>
                  </a:lnTo>
                  <a:lnTo>
                    <a:pt x="893" y="486"/>
                  </a:lnTo>
                  <a:lnTo>
                    <a:pt x="888" y="487"/>
                  </a:lnTo>
                  <a:lnTo>
                    <a:pt x="884" y="488"/>
                  </a:lnTo>
                  <a:lnTo>
                    <a:pt x="879" y="491"/>
                  </a:lnTo>
                  <a:lnTo>
                    <a:pt x="874" y="493"/>
                  </a:lnTo>
                  <a:lnTo>
                    <a:pt x="870" y="496"/>
                  </a:lnTo>
                  <a:lnTo>
                    <a:pt x="865" y="499"/>
                  </a:lnTo>
                  <a:lnTo>
                    <a:pt x="860" y="501"/>
                  </a:lnTo>
                  <a:lnTo>
                    <a:pt x="856" y="502"/>
                  </a:lnTo>
                  <a:lnTo>
                    <a:pt x="856" y="406"/>
                  </a:lnTo>
                  <a:lnTo>
                    <a:pt x="838" y="384"/>
                  </a:lnTo>
                  <a:lnTo>
                    <a:pt x="821" y="366"/>
                  </a:lnTo>
                  <a:lnTo>
                    <a:pt x="805" y="353"/>
                  </a:lnTo>
                  <a:lnTo>
                    <a:pt x="789" y="344"/>
                  </a:lnTo>
                  <a:lnTo>
                    <a:pt x="772" y="342"/>
                  </a:lnTo>
                  <a:lnTo>
                    <a:pt x="756" y="347"/>
                  </a:lnTo>
                  <a:lnTo>
                    <a:pt x="738" y="358"/>
                  </a:lnTo>
                  <a:lnTo>
                    <a:pt x="720" y="379"/>
                  </a:lnTo>
                  <a:lnTo>
                    <a:pt x="718" y="398"/>
                  </a:lnTo>
                  <a:lnTo>
                    <a:pt x="718" y="417"/>
                  </a:lnTo>
                  <a:lnTo>
                    <a:pt x="718" y="435"/>
                  </a:lnTo>
                  <a:lnTo>
                    <a:pt x="720" y="453"/>
                  </a:lnTo>
                  <a:lnTo>
                    <a:pt x="722" y="470"/>
                  </a:lnTo>
                  <a:lnTo>
                    <a:pt x="726" y="487"/>
                  </a:lnTo>
                  <a:lnTo>
                    <a:pt x="729" y="502"/>
                  </a:lnTo>
                  <a:lnTo>
                    <a:pt x="734" y="517"/>
                  </a:lnTo>
                  <a:lnTo>
                    <a:pt x="738" y="532"/>
                  </a:lnTo>
                  <a:lnTo>
                    <a:pt x="744" y="545"/>
                  </a:lnTo>
                  <a:lnTo>
                    <a:pt x="750" y="558"/>
                  </a:lnTo>
                  <a:lnTo>
                    <a:pt x="757" y="570"/>
                  </a:lnTo>
                  <a:lnTo>
                    <a:pt x="763" y="582"/>
                  </a:lnTo>
                  <a:lnTo>
                    <a:pt x="769" y="593"/>
                  </a:lnTo>
                  <a:lnTo>
                    <a:pt x="777" y="603"/>
                  </a:lnTo>
                  <a:lnTo>
                    <a:pt x="783" y="613"/>
                  </a:lnTo>
                  <a:lnTo>
                    <a:pt x="792" y="614"/>
                  </a:lnTo>
                  <a:lnTo>
                    <a:pt x="799" y="615"/>
                  </a:lnTo>
                  <a:lnTo>
                    <a:pt x="807" y="618"/>
                  </a:lnTo>
                  <a:lnTo>
                    <a:pt x="813" y="621"/>
                  </a:lnTo>
                  <a:lnTo>
                    <a:pt x="820" y="624"/>
                  </a:lnTo>
                  <a:lnTo>
                    <a:pt x="827" y="627"/>
                  </a:lnTo>
                  <a:lnTo>
                    <a:pt x="836" y="629"/>
                  </a:lnTo>
                  <a:lnTo>
                    <a:pt x="844" y="630"/>
                  </a:lnTo>
                  <a:lnTo>
                    <a:pt x="846" y="636"/>
                  </a:lnTo>
                  <a:lnTo>
                    <a:pt x="851" y="643"/>
                  </a:lnTo>
                  <a:lnTo>
                    <a:pt x="857" y="649"/>
                  </a:lnTo>
                  <a:lnTo>
                    <a:pt x="866" y="655"/>
                  </a:lnTo>
                  <a:lnTo>
                    <a:pt x="873" y="661"/>
                  </a:lnTo>
                  <a:lnTo>
                    <a:pt x="880" y="666"/>
                  </a:lnTo>
                  <a:lnTo>
                    <a:pt x="884" y="673"/>
                  </a:lnTo>
                  <a:lnTo>
                    <a:pt x="886" y="678"/>
                  </a:lnTo>
                  <a:lnTo>
                    <a:pt x="887" y="703"/>
                  </a:lnTo>
                  <a:lnTo>
                    <a:pt x="889" y="727"/>
                  </a:lnTo>
                  <a:lnTo>
                    <a:pt x="893" y="751"/>
                  </a:lnTo>
                  <a:lnTo>
                    <a:pt x="898" y="772"/>
                  </a:lnTo>
                  <a:lnTo>
                    <a:pt x="904" y="794"/>
                  </a:lnTo>
                  <a:lnTo>
                    <a:pt x="912" y="814"/>
                  </a:lnTo>
                  <a:lnTo>
                    <a:pt x="921" y="833"/>
                  </a:lnTo>
                  <a:lnTo>
                    <a:pt x="931" y="852"/>
                  </a:lnTo>
                  <a:lnTo>
                    <a:pt x="943" y="870"/>
                  </a:lnTo>
                  <a:lnTo>
                    <a:pt x="955" y="886"/>
                  </a:lnTo>
                  <a:lnTo>
                    <a:pt x="969" y="902"/>
                  </a:lnTo>
                  <a:lnTo>
                    <a:pt x="982" y="916"/>
                  </a:lnTo>
                  <a:lnTo>
                    <a:pt x="998" y="929"/>
                  </a:lnTo>
                  <a:lnTo>
                    <a:pt x="1015" y="941"/>
                  </a:lnTo>
                  <a:lnTo>
                    <a:pt x="1031" y="952"/>
                  </a:lnTo>
                  <a:lnTo>
                    <a:pt x="1049" y="963"/>
                  </a:lnTo>
                  <a:lnTo>
                    <a:pt x="1066" y="972"/>
                  </a:lnTo>
                  <a:lnTo>
                    <a:pt x="1083" y="982"/>
                  </a:lnTo>
                  <a:lnTo>
                    <a:pt x="1098" y="992"/>
                  </a:lnTo>
                  <a:lnTo>
                    <a:pt x="1113" y="1001"/>
                  </a:lnTo>
                  <a:lnTo>
                    <a:pt x="1128" y="1010"/>
                  </a:lnTo>
                  <a:lnTo>
                    <a:pt x="1142" y="1018"/>
                  </a:lnTo>
                  <a:lnTo>
                    <a:pt x="1157" y="1026"/>
                  </a:lnTo>
                  <a:lnTo>
                    <a:pt x="1173" y="1032"/>
                  </a:lnTo>
                  <a:lnTo>
                    <a:pt x="1189" y="1037"/>
                  </a:lnTo>
                  <a:lnTo>
                    <a:pt x="1206" y="1041"/>
                  </a:lnTo>
                  <a:lnTo>
                    <a:pt x="1224" y="1043"/>
                  </a:lnTo>
                  <a:lnTo>
                    <a:pt x="1245" y="1043"/>
                  </a:lnTo>
                  <a:lnTo>
                    <a:pt x="1267" y="1041"/>
                  </a:lnTo>
                  <a:lnTo>
                    <a:pt x="1291" y="1037"/>
                  </a:lnTo>
                  <a:lnTo>
                    <a:pt x="1317" y="1030"/>
                  </a:lnTo>
                  <a:lnTo>
                    <a:pt x="1347" y="1021"/>
                  </a:lnTo>
                  <a:lnTo>
                    <a:pt x="1369" y="1005"/>
                  </a:lnTo>
                  <a:lnTo>
                    <a:pt x="1388" y="990"/>
                  </a:lnTo>
                  <a:lnTo>
                    <a:pt x="1406" y="978"/>
                  </a:lnTo>
                  <a:lnTo>
                    <a:pt x="1423" y="966"/>
                  </a:lnTo>
                  <a:lnTo>
                    <a:pt x="1438" y="955"/>
                  </a:lnTo>
                  <a:lnTo>
                    <a:pt x="1453" y="944"/>
                  </a:lnTo>
                  <a:lnTo>
                    <a:pt x="1466" y="933"/>
                  </a:lnTo>
                  <a:lnTo>
                    <a:pt x="1479" y="921"/>
                  </a:lnTo>
                  <a:lnTo>
                    <a:pt x="1491" y="907"/>
                  </a:lnTo>
                  <a:lnTo>
                    <a:pt x="1503" y="892"/>
                  </a:lnTo>
                  <a:lnTo>
                    <a:pt x="1514" y="875"/>
                  </a:lnTo>
                  <a:lnTo>
                    <a:pt x="1526" y="855"/>
                  </a:lnTo>
                  <a:lnTo>
                    <a:pt x="1538" y="832"/>
                  </a:lnTo>
                  <a:lnTo>
                    <a:pt x="1551" y="805"/>
                  </a:lnTo>
                  <a:lnTo>
                    <a:pt x="1564" y="775"/>
                  </a:lnTo>
                  <a:lnTo>
                    <a:pt x="1578" y="740"/>
                  </a:lnTo>
                  <a:lnTo>
                    <a:pt x="1583" y="745"/>
                  </a:lnTo>
                  <a:lnTo>
                    <a:pt x="1588" y="749"/>
                  </a:lnTo>
                  <a:lnTo>
                    <a:pt x="1595" y="751"/>
                  </a:lnTo>
                  <a:lnTo>
                    <a:pt x="1601" y="751"/>
                  </a:lnTo>
                  <a:lnTo>
                    <a:pt x="1608" y="750"/>
                  </a:lnTo>
                  <a:lnTo>
                    <a:pt x="1614" y="748"/>
                  </a:lnTo>
                  <a:lnTo>
                    <a:pt x="1619" y="744"/>
                  </a:lnTo>
                  <a:lnTo>
                    <a:pt x="1624" y="741"/>
                  </a:lnTo>
                  <a:lnTo>
                    <a:pt x="1628" y="735"/>
                  </a:lnTo>
                  <a:lnTo>
                    <a:pt x="1634" y="727"/>
                  </a:lnTo>
                  <a:lnTo>
                    <a:pt x="1641" y="717"/>
                  </a:lnTo>
                  <a:lnTo>
                    <a:pt x="1648" y="706"/>
                  </a:lnTo>
                  <a:lnTo>
                    <a:pt x="1656" y="693"/>
                  </a:lnTo>
                  <a:lnTo>
                    <a:pt x="1664" y="679"/>
                  </a:lnTo>
                  <a:lnTo>
                    <a:pt x="1673" y="664"/>
                  </a:lnTo>
                  <a:lnTo>
                    <a:pt x="1681" y="648"/>
                  </a:lnTo>
                  <a:lnTo>
                    <a:pt x="1689" y="632"/>
                  </a:lnTo>
                  <a:lnTo>
                    <a:pt x="1696" y="615"/>
                  </a:lnTo>
                  <a:lnTo>
                    <a:pt x="1703" y="598"/>
                  </a:lnTo>
                  <a:lnTo>
                    <a:pt x="1709" y="581"/>
                  </a:lnTo>
                  <a:lnTo>
                    <a:pt x="1715" y="565"/>
                  </a:lnTo>
                  <a:lnTo>
                    <a:pt x="1719" y="548"/>
                  </a:lnTo>
                  <a:lnTo>
                    <a:pt x="1721" y="532"/>
                  </a:lnTo>
                  <a:lnTo>
                    <a:pt x="1722" y="517"/>
                  </a:lnTo>
                  <a:close/>
                </a:path>
              </a:pathLst>
            </a:custGeom>
            <a:solidFill>
              <a:srgbClr val="ffba8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08" name="Freeform 132"/>
            <p:cNvSpPr/>
            <p:nvPr/>
          </p:nvSpPr>
          <p:spPr>
            <a:xfrm>
              <a:off x="5487120" y="4464000"/>
              <a:ext cx="142200" cy="68040"/>
            </a:xfrm>
            <a:custGeom>
              <a:avLst/>
              <a:gdLst>
                <a:gd name="textAreaLeft" fmla="*/ 0 w 142200"/>
                <a:gd name="textAreaRight" fmla="*/ 142560 w 142200"/>
                <a:gd name="textAreaTop" fmla="*/ 0 h 68040"/>
                <a:gd name="textAreaBottom" fmla="*/ 68400 h 68040"/>
              </a:gdLst>
              <a:ahLst/>
              <a:rect l="textAreaLeft" t="textAreaTop" r="textAreaRight" b="textAreaBottom"/>
              <a:pathLst>
                <a:path w="930" h="520">
                  <a:moveTo>
                    <a:pt x="222" y="232"/>
                  </a:moveTo>
                  <a:lnTo>
                    <a:pt x="222" y="232"/>
                  </a:lnTo>
                  <a:lnTo>
                    <a:pt x="214" y="250"/>
                  </a:lnTo>
                  <a:lnTo>
                    <a:pt x="204" y="266"/>
                  </a:lnTo>
                  <a:lnTo>
                    <a:pt x="192" y="281"/>
                  </a:lnTo>
                  <a:lnTo>
                    <a:pt x="180" y="295"/>
                  </a:lnTo>
                  <a:lnTo>
                    <a:pt x="166" y="308"/>
                  </a:lnTo>
                  <a:lnTo>
                    <a:pt x="151" y="322"/>
                  </a:lnTo>
                  <a:lnTo>
                    <a:pt x="136" y="335"/>
                  </a:lnTo>
                  <a:lnTo>
                    <a:pt x="120" y="348"/>
                  </a:lnTo>
                  <a:lnTo>
                    <a:pt x="104" y="361"/>
                  </a:lnTo>
                  <a:lnTo>
                    <a:pt x="87" y="373"/>
                  </a:lnTo>
                  <a:lnTo>
                    <a:pt x="70" y="385"/>
                  </a:lnTo>
                  <a:lnTo>
                    <a:pt x="54" y="398"/>
                  </a:lnTo>
                  <a:lnTo>
                    <a:pt x="39" y="412"/>
                  </a:lnTo>
                  <a:lnTo>
                    <a:pt x="26" y="425"/>
                  </a:lnTo>
                  <a:lnTo>
                    <a:pt x="12" y="439"/>
                  </a:lnTo>
                  <a:lnTo>
                    <a:pt x="0" y="454"/>
                  </a:lnTo>
                  <a:lnTo>
                    <a:pt x="19" y="459"/>
                  </a:lnTo>
                  <a:lnTo>
                    <a:pt x="37" y="468"/>
                  </a:lnTo>
                  <a:lnTo>
                    <a:pt x="54" y="476"/>
                  </a:lnTo>
                  <a:lnTo>
                    <a:pt x="72" y="487"/>
                  </a:lnTo>
                  <a:lnTo>
                    <a:pt x="88" y="497"/>
                  </a:lnTo>
                  <a:lnTo>
                    <a:pt x="104" y="506"/>
                  </a:lnTo>
                  <a:lnTo>
                    <a:pt x="120" y="513"/>
                  </a:lnTo>
                  <a:lnTo>
                    <a:pt x="136" y="517"/>
                  </a:lnTo>
                  <a:lnTo>
                    <a:pt x="149" y="519"/>
                  </a:lnTo>
                  <a:lnTo>
                    <a:pt x="163" y="520"/>
                  </a:lnTo>
                  <a:lnTo>
                    <a:pt x="176" y="519"/>
                  </a:lnTo>
                  <a:lnTo>
                    <a:pt x="191" y="518"/>
                  </a:lnTo>
                  <a:lnTo>
                    <a:pt x="205" y="516"/>
                  </a:lnTo>
                  <a:lnTo>
                    <a:pt x="220" y="513"/>
                  </a:lnTo>
                  <a:lnTo>
                    <a:pt x="235" y="508"/>
                  </a:lnTo>
                  <a:lnTo>
                    <a:pt x="250" y="504"/>
                  </a:lnTo>
                  <a:lnTo>
                    <a:pt x="258" y="502"/>
                  </a:lnTo>
                  <a:lnTo>
                    <a:pt x="264" y="499"/>
                  </a:lnTo>
                  <a:lnTo>
                    <a:pt x="271" y="497"/>
                  </a:lnTo>
                  <a:lnTo>
                    <a:pt x="279" y="493"/>
                  </a:lnTo>
                  <a:lnTo>
                    <a:pt x="289" y="489"/>
                  </a:lnTo>
                  <a:lnTo>
                    <a:pt x="298" y="485"/>
                  </a:lnTo>
                  <a:lnTo>
                    <a:pt x="309" y="481"/>
                  </a:lnTo>
                  <a:lnTo>
                    <a:pt x="320" y="475"/>
                  </a:lnTo>
                  <a:lnTo>
                    <a:pt x="331" y="471"/>
                  </a:lnTo>
                  <a:lnTo>
                    <a:pt x="342" y="466"/>
                  </a:lnTo>
                  <a:lnTo>
                    <a:pt x="354" y="459"/>
                  </a:lnTo>
                  <a:lnTo>
                    <a:pt x="366" y="454"/>
                  </a:lnTo>
                  <a:lnTo>
                    <a:pt x="372" y="435"/>
                  </a:lnTo>
                  <a:lnTo>
                    <a:pt x="398" y="439"/>
                  </a:lnTo>
                  <a:lnTo>
                    <a:pt x="416" y="437"/>
                  </a:lnTo>
                  <a:lnTo>
                    <a:pt x="429" y="432"/>
                  </a:lnTo>
                  <a:lnTo>
                    <a:pt x="440" y="425"/>
                  </a:lnTo>
                  <a:lnTo>
                    <a:pt x="452" y="418"/>
                  </a:lnTo>
                  <a:lnTo>
                    <a:pt x="467" y="410"/>
                  </a:lnTo>
                  <a:lnTo>
                    <a:pt x="490" y="406"/>
                  </a:lnTo>
                  <a:lnTo>
                    <a:pt x="523" y="405"/>
                  </a:lnTo>
                  <a:lnTo>
                    <a:pt x="533" y="414"/>
                  </a:lnTo>
                  <a:lnTo>
                    <a:pt x="541" y="422"/>
                  </a:lnTo>
                  <a:lnTo>
                    <a:pt x="549" y="427"/>
                  </a:lnTo>
                  <a:lnTo>
                    <a:pt x="556" y="431"/>
                  </a:lnTo>
                  <a:lnTo>
                    <a:pt x="564" y="434"/>
                  </a:lnTo>
                  <a:lnTo>
                    <a:pt x="574" y="436"/>
                  </a:lnTo>
                  <a:lnTo>
                    <a:pt x="584" y="437"/>
                  </a:lnTo>
                  <a:lnTo>
                    <a:pt x="598" y="438"/>
                  </a:lnTo>
                  <a:lnTo>
                    <a:pt x="608" y="441"/>
                  </a:lnTo>
                  <a:lnTo>
                    <a:pt x="615" y="444"/>
                  </a:lnTo>
                  <a:lnTo>
                    <a:pt x="624" y="446"/>
                  </a:lnTo>
                  <a:lnTo>
                    <a:pt x="631" y="449"/>
                  </a:lnTo>
                  <a:lnTo>
                    <a:pt x="638" y="451"/>
                  </a:lnTo>
                  <a:lnTo>
                    <a:pt x="646" y="452"/>
                  </a:lnTo>
                  <a:lnTo>
                    <a:pt x="654" y="454"/>
                  </a:lnTo>
                  <a:lnTo>
                    <a:pt x="663" y="456"/>
                  </a:lnTo>
                  <a:lnTo>
                    <a:pt x="672" y="467"/>
                  </a:lnTo>
                  <a:lnTo>
                    <a:pt x="681" y="474"/>
                  </a:lnTo>
                  <a:lnTo>
                    <a:pt x="689" y="480"/>
                  </a:lnTo>
                  <a:lnTo>
                    <a:pt x="698" y="484"/>
                  </a:lnTo>
                  <a:lnTo>
                    <a:pt x="706" y="486"/>
                  </a:lnTo>
                  <a:lnTo>
                    <a:pt x="715" y="488"/>
                  </a:lnTo>
                  <a:lnTo>
                    <a:pt x="726" y="490"/>
                  </a:lnTo>
                  <a:lnTo>
                    <a:pt x="736" y="491"/>
                  </a:lnTo>
                  <a:lnTo>
                    <a:pt x="745" y="490"/>
                  </a:lnTo>
                  <a:lnTo>
                    <a:pt x="752" y="486"/>
                  </a:lnTo>
                  <a:lnTo>
                    <a:pt x="760" y="481"/>
                  </a:lnTo>
                  <a:lnTo>
                    <a:pt x="766" y="473"/>
                  </a:lnTo>
                  <a:lnTo>
                    <a:pt x="769" y="465"/>
                  </a:lnTo>
                  <a:lnTo>
                    <a:pt x="772" y="455"/>
                  </a:lnTo>
                  <a:lnTo>
                    <a:pt x="769" y="444"/>
                  </a:lnTo>
                  <a:lnTo>
                    <a:pt x="764" y="435"/>
                  </a:lnTo>
                  <a:lnTo>
                    <a:pt x="754" y="428"/>
                  </a:lnTo>
                  <a:lnTo>
                    <a:pt x="746" y="421"/>
                  </a:lnTo>
                  <a:lnTo>
                    <a:pt x="737" y="412"/>
                  </a:lnTo>
                  <a:lnTo>
                    <a:pt x="729" y="404"/>
                  </a:lnTo>
                  <a:lnTo>
                    <a:pt x="721" y="395"/>
                  </a:lnTo>
                  <a:lnTo>
                    <a:pt x="714" y="388"/>
                  </a:lnTo>
                  <a:lnTo>
                    <a:pt x="707" y="381"/>
                  </a:lnTo>
                  <a:lnTo>
                    <a:pt x="701" y="376"/>
                  </a:lnTo>
                  <a:lnTo>
                    <a:pt x="692" y="372"/>
                  </a:lnTo>
                  <a:lnTo>
                    <a:pt x="681" y="367"/>
                  </a:lnTo>
                  <a:lnTo>
                    <a:pt x="669" y="361"/>
                  </a:lnTo>
                  <a:lnTo>
                    <a:pt x="656" y="353"/>
                  </a:lnTo>
                  <a:lnTo>
                    <a:pt x="643" y="347"/>
                  </a:lnTo>
                  <a:lnTo>
                    <a:pt x="631" y="339"/>
                  </a:lnTo>
                  <a:lnTo>
                    <a:pt x="621" y="332"/>
                  </a:lnTo>
                  <a:lnTo>
                    <a:pt x="613" y="326"/>
                  </a:lnTo>
                  <a:lnTo>
                    <a:pt x="629" y="327"/>
                  </a:lnTo>
                  <a:lnTo>
                    <a:pt x="645" y="329"/>
                  </a:lnTo>
                  <a:lnTo>
                    <a:pt x="662" y="333"/>
                  </a:lnTo>
                  <a:lnTo>
                    <a:pt x="678" y="338"/>
                  </a:lnTo>
                  <a:lnTo>
                    <a:pt x="696" y="344"/>
                  </a:lnTo>
                  <a:lnTo>
                    <a:pt x="713" y="351"/>
                  </a:lnTo>
                  <a:lnTo>
                    <a:pt x="730" y="359"/>
                  </a:lnTo>
                  <a:lnTo>
                    <a:pt x="747" y="365"/>
                  </a:lnTo>
                  <a:lnTo>
                    <a:pt x="763" y="373"/>
                  </a:lnTo>
                  <a:lnTo>
                    <a:pt x="780" y="380"/>
                  </a:lnTo>
                  <a:lnTo>
                    <a:pt x="797" y="388"/>
                  </a:lnTo>
                  <a:lnTo>
                    <a:pt x="814" y="393"/>
                  </a:lnTo>
                  <a:lnTo>
                    <a:pt x="830" y="398"/>
                  </a:lnTo>
                  <a:lnTo>
                    <a:pt x="848" y="403"/>
                  </a:lnTo>
                  <a:lnTo>
                    <a:pt x="864" y="405"/>
                  </a:lnTo>
                  <a:lnTo>
                    <a:pt x="880" y="406"/>
                  </a:lnTo>
                  <a:lnTo>
                    <a:pt x="885" y="405"/>
                  </a:lnTo>
                  <a:lnTo>
                    <a:pt x="889" y="403"/>
                  </a:lnTo>
                  <a:lnTo>
                    <a:pt x="894" y="399"/>
                  </a:lnTo>
                  <a:lnTo>
                    <a:pt x="897" y="396"/>
                  </a:lnTo>
                  <a:lnTo>
                    <a:pt x="899" y="392"/>
                  </a:lnTo>
                  <a:lnTo>
                    <a:pt x="901" y="387"/>
                  </a:lnTo>
                  <a:lnTo>
                    <a:pt x="903" y="380"/>
                  </a:lnTo>
                  <a:lnTo>
                    <a:pt x="904" y="374"/>
                  </a:lnTo>
                  <a:lnTo>
                    <a:pt x="905" y="367"/>
                  </a:lnTo>
                  <a:lnTo>
                    <a:pt x="906" y="361"/>
                  </a:lnTo>
                  <a:lnTo>
                    <a:pt x="906" y="355"/>
                  </a:lnTo>
                  <a:lnTo>
                    <a:pt x="906" y="350"/>
                  </a:lnTo>
                  <a:lnTo>
                    <a:pt x="904" y="345"/>
                  </a:lnTo>
                  <a:lnTo>
                    <a:pt x="903" y="339"/>
                  </a:lnTo>
                  <a:lnTo>
                    <a:pt x="901" y="335"/>
                  </a:lnTo>
                  <a:lnTo>
                    <a:pt x="898" y="330"/>
                  </a:lnTo>
                  <a:lnTo>
                    <a:pt x="910" y="327"/>
                  </a:lnTo>
                  <a:lnTo>
                    <a:pt x="918" y="319"/>
                  </a:lnTo>
                  <a:lnTo>
                    <a:pt x="925" y="309"/>
                  </a:lnTo>
                  <a:lnTo>
                    <a:pt x="928" y="300"/>
                  </a:lnTo>
                  <a:lnTo>
                    <a:pt x="930" y="289"/>
                  </a:lnTo>
                  <a:lnTo>
                    <a:pt x="930" y="280"/>
                  </a:lnTo>
                  <a:lnTo>
                    <a:pt x="929" y="272"/>
                  </a:lnTo>
                  <a:lnTo>
                    <a:pt x="927" y="265"/>
                  </a:lnTo>
                  <a:lnTo>
                    <a:pt x="924" y="259"/>
                  </a:lnTo>
                  <a:lnTo>
                    <a:pt x="918" y="254"/>
                  </a:lnTo>
                  <a:lnTo>
                    <a:pt x="913" y="249"/>
                  </a:lnTo>
                  <a:lnTo>
                    <a:pt x="905" y="244"/>
                  </a:lnTo>
                  <a:lnTo>
                    <a:pt x="897" y="239"/>
                  </a:lnTo>
                  <a:lnTo>
                    <a:pt x="889" y="231"/>
                  </a:lnTo>
                  <a:lnTo>
                    <a:pt x="882" y="224"/>
                  </a:lnTo>
                  <a:lnTo>
                    <a:pt x="874" y="215"/>
                  </a:lnTo>
                  <a:lnTo>
                    <a:pt x="867" y="209"/>
                  </a:lnTo>
                  <a:lnTo>
                    <a:pt x="860" y="203"/>
                  </a:lnTo>
                  <a:lnTo>
                    <a:pt x="856" y="199"/>
                  </a:lnTo>
                  <a:lnTo>
                    <a:pt x="852" y="198"/>
                  </a:lnTo>
                  <a:lnTo>
                    <a:pt x="822" y="188"/>
                  </a:lnTo>
                  <a:lnTo>
                    <a:pt x="797" y="175"/>
                  </a:lnTo>
                  <a:lnTo>
                    <a:pt x="777" y="163"/>
                  </a:lnTo>
                  <a:lnTo>
                    <a:pt x="761" y="151"/>
                  </a:lnTo>
                  <a:lnTo>
                    <a:pt x="748" y="142"/>
                  </a:lnTo>
                  <a:lnTo>
                    <a:pt x="738" y="134"/>
                  </a:lnTo>
                  <a:lnTo>
                    <a:pt x="729" y="131"/>
                  </a:lnTo>
                  <a:lnTo>
                    <a:pt x="721" y="131"/>
                  </a:lnTo>
                  <a:lnTo>
                    <a:pt x="708" y="128"/>
                  </a:lnTo>
                  <a:lnTo>
                    <a:pt x="693" y="127"/>
                  </a:lnTo>
                  <a:lnTo>
                    <a:pt x="676" y="128"/>
                  </a:lnTo>
                  <a:lnTo>
                    <a:pt x="660" y="130"/>
                  </a:lnTo>
                  <a:lnTo>
                    <a:pt x="643" y="132"/>
                  </a:lnTo>
                  <a:lnTo>
                    <a:pt x="626" y="134"/>
                  </a:lnTo>
                  <a:lnTo>
                    <a:pt x="611" y="133"/>
                  </a:lnTo>
                  <a:lnTo>
                    <a:pt x="598" y="131"/>
                  </a:lnTo>
                  <a:lnTo>
                    <a:pt x="605" y="127"/>
                  </a:lnTo>
                  <a:lnTo>
                    <a:pt x="611" y="123"/>
                  </a:lnTo>
                  <a:lnTo>
                    <a:pt x="615" y="121"/>
                  </a:lnTo>
                  <a:lnTo>
                    <a:pt x="621" y="119"/>
                  </a:lnTo>
                  <a:lnTo>
                    <a:pt x="625" y="116"/>
                  </a:lnTo>
                  <a:lnTo>
                    <a:pt x="629" y="114"/>
                  </a:lnTo>
                  <a:lnTo>
                    <a:pt x="632" y="109"/>
                  </a:lnTo>
                  <a:lnTo>
                    <a:pt x="636" y="105"/>
                  </a:lnTo>
                  <a:lnTo>
                    <a:pt x="645" y="111"/>
                  </a:lnTo>
                  <a:lnTo>
                    <a:pt x="657" y="114"/>
                  </a:lnTo>
                  <a:lnTo>
                    <a:pt x="670" y="116"/>
                  </a:lnTo>
                  <a:lnTo>
                    <a:pt x="684" y="116"/>
                  </a:lnTo>
                  <a:lnTo>
                    <a:pt x="698" y="116"/>
                  </a:lnTo>
                  <a:lnTo>
                    <a:pt x="711" y="114"/>
                  </a:lnTo>
                  <a:lnTo>
                    <a:pt x="722" y="111"/>
                  </a:lnTo>
                  <a:lnTo>
                    <a:pt x="733" y="105"/>
                  </a:lnTo>
                  <a:lnTo>
                    <a:pt x="746" y="109"/>
                  </a:lnTo>
                  <a:lnTo>
                    <a:pt x="759" y="113"/>
                  </a:lnTo>
                  <a:lnTo>
                    <a:pt x="770" y="115"/>
                  </a:lnTo>
                  <a:lnTo>
                    <a:pt x="783" y="115"/>
                  </a:lnTo>
                  <a:lnTo>
                    <a:pt x="795" y="113"/>
                  </a:lnTo>
                  <a:lnTo>
                    <a:pt x="807" y="109"/>
                  </a:lnTo>
                  <a:lnTo>
                    <a:pt x="820" y="105"/>
                  </a:lnTo>
                  <a:lnTo>
                    <a:pt x="833" y="100"/>
                  </a:lnTo>
                  <a:lnTo>
                    <a:pt x="840" y="96"/>
                  </a:lnTo>
                  <a:lnTo>
                    <a:pt x="846" y="90"/>
                  </a:lnTo>
                  <a:lnTo>
                    <a:pt x="850" y="85"/>
                  </a:lnTo>
                  <a:lnTo>
                    <a:pt x="852" y="78"/>
                  </a:lnTo>
                  <a:lnTo>
                    <a:pt x="854" y="73"/>
                  </a:lnTo>
                  <a:lnTo>
                    <a:pt x="855" y="68"/>
                  </a:lnTo>
                  <a:lnTo>
                    <a:pt x="853" y="61"/>
                  </a:lnTo>
                  <a:lnTo>
                    <a:pt x="848" y="52"/>
                  </a:lnTo>
                  <a:lnTo>
                    <a:pt x="843" y="45"/>
                  </a:lnTo>
                  <a:lnTo>
                    <a:pt x="837" y="40"/>
                  </a:lnTo>
                  <a:lnTo>
                    <a:pt x="830" y="35"/>
                  </a:lnTo>
                  <a:lnTo>
                    <a:pt x="824" y="30"/>
                  </a:lnTo>
                  <a:lnTo>
                    <a:pt x="815" y="27"/>
                  </a:lnTo>
                  <a:lnTo>
                    <a:pt x="808" y="24"/>
                  </a:lnTo>
                  <a:lnTo>
                    <a:pt x="800" y="23"/>
                  </a:lnTo>
                  <a:lnTo>
                    <a:pt x="793" y="24"/>
                  </a:lnTo>
                  <a:lnTo>
                    <a:pt x="784" y="16"/>
                  </a:lnTo>
                  <a:lnTo>
                    <a:pt x="776" y="12"/>
                  </a:lnTo>
                  <a:lnTo>
                    <a:pt x="767" y="9"/>
                  </a:lnTo>
                  <a:lnTo>
                    <a:pt x="758" y="8"/>
                  </a:lnTo>
                  <a:lnTo>
                    <a:pt x="747" y="8"/>
                  </a:lnTo>
                  <a:lnTo>
                    <a:pt x="735" y="8"/>
                  </a:lnTo>
                  <a:lnTo>
                    <a:pt x="722" y="9"/>
                  </a:lnTo>
                  <a:lnTo>
                    <a:pt x="708" y="9"/>
                  </a:lnTo>
                  <a:lnTo>
                    <a:pt x="692" y="8"/>
                  </a:lnTo>
                  <a:lnTo>
                    <a:pt x="674" y="6"/>
                  </a:lnTo>
                  <a:lnTo>
                    <a:pt x="656" y="4"/>
                  </a:lnTo>
                  <a:lnTo>
                    <a:pt x="638" y="1"/>
                  </a:lnTo>
                  <a:lnTo>
                    <a:pt x="621" y="0"/>
                  </a:lnTo>
                  <a:lnTo>
                    <a:pt x="606" y="0"/>
                  </a:lnTo>
                  <a:lnTo>
                    <a:pt x="593" y="4"/>
                  </a:lnTo>
                  <a:lnTo>
                    <a:pt x="584" y="9"/>
                  </a:lnTo>
                  <a:lnTo>
                    <a:pt x="574" y="22"/>
                  </a:lnTo>
                  <a:lnTo>
                    <a:pt x="561" y="35"/>
                  </a:lnTo>
                  <a:lnTo>
                    <a:pt x="546" y="47"/>
                  </a:lnTo>
                  <a:lnTo>
                    <a:pt x="529" y="61"/>
                  </a:lnTo>
                  <a:lnTo>
                    <a:pt x="509" y="75"/>
                  </a:lnTo>
                  <a:lnTo>
                    <a:pt x="489" y="88"/>
                  </a:lnTo>
                  <a:lnTo>
                    <a:pt x="469" y="102"/>
                  </a:lnTo>
                  <a:lnTo>
                    <a:pt x="447" y="116"/>
                  </a:lnTo>
                  <a:lnTo>
                    <a:pt x="425" y="129"/>
                  </a:lnTo>
                  <a:lnTo>
                    <a:pt x="403" y="142"/>
                  </a:lnTo>
                  <a:lnTo>
                    <a:pt x="382" y="153"/>
                  </a:lnTo>
                  <a:lnTo>
                    <a:pt x="362" y="164"/>
                  </a:lnTo>
                  <a:lnTo>
                    <a:pt x="342" y="175"/>
                  </a:lnTo>
                  <a:lnTo>
                    <a:pt x="323" y="183"/>
                  </a:lnTo>
                  <a:lnTo>
                    <a:pt x="307" y="192"/>
                  </a:lnTo>
                  <a:lnTo>
                    <a:pt x="292" y="198"/>
                  </a:lnTo>
                  <a:lnTo>
                    <a:pt x="283" y="203"/>
                  </a:lnTo>
                  <a:lnTo>
                    <a:pt x="274" y="205"/>
                  </a:lnTo>
                  <a:lnTo>
                    <a:pt x="265" y="206"/>
                  </a:lnTo>
                  <a:lnTo>
                    <a:pt x="257" y="207"/>
                  </a:lnTo>
                  <a:lnTo>
                    <a:pt x="248" y="209"/>
                  </a:lnTo>
                  <a:lnTo>
                    <a:pt x="240" y="213"/>
                  </a:lnTo>
                  <a:lnTo>
                    <a:pt x="231" y="221"/>
                  </a:lnTo>
                  <a:lnTo>
                    <a:pt x="222" y="232"/>
                  </a:lnTo>
                </a:path>
              </a:pathLst>
            </a:custGeom>
            <a:solidFill>
              <a:srgbClr val="99660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ccecff"/>
                </a:solidFill>
                <a:latin typeface="Times New Roman"/>
              </a:endParaRPr>
            </a:p>
          </p:txBody>
        </p:sp>
        <p:sp>
          <p:nvSpPr>
            <p:cNvPr id="509" name="Freeform 133"/>
            <p:cNvSpPr/>
            <p:nvPr/>
          </p:nvSpPr>
          <p:spPr>
            <a:xfrm>
              <a:off x="5734440" y="4483800"/>
              <a:ext cx="111960" cy="67320"/>
            </a:xfrm>
            <a:custGeom>
              <a:avLst/>
              <a:gdLst>
                <a:gd name="textAreaLeft" fmla="*/ 0 w 111960"/>
                <a:gd name="textAreaRight" fmla="*/ 112320 w 111960"/>
                <a:gd name="textAreaTop" fmla="*/ 0 h 67320"/>
                <a:gd name="textAreaBottom" fmla="*/ 67680 h 67320"/>
              </a:gdLst>
              <a:ahLst/>
              <a:rect l="textAreaLeft" t="textAreaTop" r="textAreaRight" b="textAreaBottom"/>
              <a:pathLst>
                <a:path w="735" h="508">
                  <a:moveTo>
                    <a:pt x="446" y="179"/>
                  </a:moveTo>
                  <a:lnTo>
                    <a:pt x="446" y="179"/>
                  </a:lnTo>
                  <a:lnTo>
                    <a:pt x="460" y="178"/>
                  </a:lnTo>
                  <a:lnTo>
                    <a:pt x="475" y="172"/>
                  </a:lnTo>
                  <a:lnTo>
                    <a:pt x="489" y="165"/>
                  </a:lnTo>
                  <a:lnTo>
                    <a:pt x="504" y="155"/>
                  </a:lnTo>
                  <a:lnTo>
                    <a:pt x="520" y="147"/>
                  </a:lnTo>
                  <a:lnTo>
                    <a:pt x="535" y="140"/>
                  </a:lnTo>
                  <a:lnTo>
                    <a:pt x="551" y="139"/>
                  </a:lnTo>
                  <a:lnTo>
                    <a:pt x="568" y="144"/>
                  </a:lnTo>
                  <a:lnTo>
                    <a:pt x="589" y="154"/>
                  </a:lnTo>
                  <a:lnTo>
                    <a:pt x="612" y="168"/>
                  </a:lnTo>
                  <a:lnTo>
                    <a:pt x="638" y="187"/>
                  </a:lnTo>
                  <a:lnTo>
                    <a:pt x="664" y="208"/>
                  </a:lnTo>
                  <a:lnTo>
                    <a:pt x="688" y="231"/>
                  </a:lnTo>
                  <a:lnTo>
                    <a:pt x="710" y="256"/>
                  </a:lnTo>
                  <a:lnTo>
                    <a:pt x="726" y="280"/>
                  </a:lnTo>
                  <a:lnTo>
                    <a:pt x="735" y="306"/>
                  </a:lnTo>
                  <a:lnTo>
                    <a:pt x="718" y="319"/>
                  </a:lnTo>
                  <a:lnTo>
                    <a:pt x="701" y="333"/>
                  </a:lnTo>
                  <a:lnTo>
                    <a:pt x="682" y="347"/>
                  </a:lnTo>
                  <a:lnTo>
                    <a:pt x="664" y="364"/>
                  </a:lnTo>
                  <a:lnTo>
                    <a:pt x="645" y="381"/>
                  </a:lnTo>
                  <a:lnTo>
                    <a:pt x="628" y="401"/>
                  </a:lnTo>
                  <a:lnTo>
                    <a:pt x="613" y="422"/>
                  </a:lnTo>
                  <a:lnTo>
                    <a:pt x="600" y="445"/>
                  </a:lnTo>
                  <a:lnTo>
                    <a:pt x="588" y="466"/>
                  </a:lnTo>
                  <a:lnTo>
                    <a:pt x="571" y="481"/>
                  </a:lnTo>
                  <a:lnTo>
                    <a:pt x="552" y="489"/>
                  </a:lnTo>
                  <a:lnTo>
                    <a:pt x="531" y="492"/>
                  </a:lnTo>
                  <a:lnTo>
                    <a:pt x="508" y="491"/>
                  </a:lnTo>
                  <a:lnTo>
                    <a:pt x="486" y="487"/>
                  </a:lnTo>
                  <a:lnTo>
                    <a:pt x="464" y="478"/>
                  </a:lnTo>
                  <a:lnTo>
                    <a:pt x="443" y="467"/>
                  </a:lnTo>
                  <a:lnTo>
                    <a:pt x="422" y="468"/>
                  </a:lnTo>
                  <a:lnTo>
                    <a:pt x="407" y="466"/>
                  </a:lnTo>
                  <a:lnTo>
                    <a:pt x="397" y="462"/>
                  </a:lnTo>
                  <a:lnTo>
                    <a:pt x="392" y="458"/>
                  </a:lnTo>
                  <a:lnTo>
                    <a:pt x="388" y="454"/>
                  </a:lnTo>
                  <a:lnTo>
                    <a:pt x="386" y="449"/>
                  </a:lnTo>
                  <a:lnTo>
                    <a:pt x="383" y="446"/>
                  </a:lnTo>
                  <a:lnTo>
                    <a:pt x="380" y="445"/>
                  </a:lnTo>
                  <a:lnTo>
                    <a:pt x="376" y="449"/>
                  </a:lnTo>
                  <a:lnTo>
                    <a:pt x="370" y="454"/>
                  </a:lnTo>
                  <a:lnTo>
                    <a:pt x="363" y="459"/>
                  </a:lnTo>
                  <a:lnTo>
                    <a:pt x="354" y="463"/>
                  </a:lnTo>
                  <a:lnTo>
                    <a:pt x="347" y="468"/>
                  </a:lnTo>
                  <a:lnTo>
                    <a:pt x="339" y="473"/>
                  </a:lnTo>
                  <a:lnTo>
                    <a:pt x="333" y="477"/>
                  </a:lnTo>
                  <a:lnTo>
                    <a:pt x="329" y="482"/>
                  </a:lnTo>
                  <a:lnTo>
                    <a:pt x="307" y="488"/>
                  </a:lnTo>
                  <a:lnTo>
                    <a:pt x="288" y="493"/>
                  </a:lnTo>
                  <a:lnTo>
                    <a:pt x="271" y="498"/>
                  </a:lnTo>
                  <a:lnTo>
                    <a:pt x="255" y="502"/>
                  </a:lnTo>
                  <a:lnTo>
                    <a:pt x="240" y="505"/>
                  </a:lnTo>
                  <a:lnTo>
                    <a:pt x="223" y="506"/>
                  </a:lnTo>
                  <a:lnTo>
                    <a:pt x="204" y="508"/>
                  </a:lnTo>
                  <a:lnTo>
                    <a:pt x="183" y="508"/>
                  </a:lnTo>
                  <a:lnTo>
                    <a:pt x="178" y="508"/>
                  </a:lnTo>
                  <a:lnTo>
                    <a:pt x="172" y="507"/>
                  </a:lnTo>
                  <a:lnTo>
                    <a:pt x="169" y="505"/>
                  </a:lnTo>
                  <a:lnTo>
                    <a:pt x="166" y="502"/>
                  </a:lnTo>
                  <a:lnTo>
                    <a:pt x="163" y="498"/>
                  </a:lnTo>
                  <a:lnTo>
                    <a:pt x="162" y="492"/>
                  </a:lnTo>
                  <a:lnTo>
                    <a:pt x="160" y="485"/>
                  </a:lnTo>
                  <a:lnTo>
                    <a:pt x="159" y="476"/>
                  </a:lnTo>
                  <a:lnTo>
                    <a:pt x="157" y="467"/>
                  </a:lnTo>
                  <a:lnTo>
                    <a:pt x="159" y="457"/>
                  </a:lnTo>
                  <a:lnTo>
                    <a:pt x="165" y="448"/>
                  </a:lnTo>
                  <a:lnTo>
                    <a:pt x="172" y="441"/>
                  </a:lnTo>
                  <a:lnTo>
                    <a:pt x="183" y="432"/>
                  </a:lnTo>
                  <a:lnTo>
                    <a:pt x="196" y="425"/>
                  </a:lnTo>
                  <a:lnTo>
                    <a:pt x="210" y="417"/>
                  </a:lnTo>
                  <a:lnTo>
                    <a:pt x="225" y="410"/>
                  </a:lnTo>
                  <a:lnTo>
                    <a:pt x="241" y="402"/>
                  </a:lnTo>
                  <a:lnTo>
                    <a:pt x="258" y="394"/>
                  </a:lnTo>
                  <a:lnTo>
                    <a:pt x="274" y="385"/>
                  </a:lnTo>
                  <a:lnTo>
                    <a:pt x="290" y="377"/>
                  </a:lnTo>
                  <a:lnTo>
                    <a:pt x="306" y="368"/>
                  </a:lnTo>
                  <a:lnTo>
                    <a:pt x="320" y="359"/>
                  </a:lnTo>
                  <a:lnTo>
                    <a:pt x="332" y="348"/>
                  </a:lnTo>
                  <a:lnTo>
                    <a:pt x="342" y="336"/>
                  </a:lnTo>
                  <a:lnTo>
                    <a:pt x="332" y="335"/>
                  </a:lnTo>
                  <a:lnTo>
                    <a:pt x="319" y="337"/>
                  </a:lnTo>
                  <a:lnTo>
                    <a:pt x="305" y="340"/>
                  </a:lnTo>
                  <a:lnTo>
                    <a:pt x="289" y="345"/>
                  </a:lnTo>
                  <a:lnTo>
                    <a:pt x="273" y="350"/>
                  </a:lnTo>
                  <a:lnTo>
                    <a:pt x="255" y="358"/>
                  </a:lnTo>
                  <a:lnTo>
                    <a:pt x="236" y="364"/>
                  </a:lnTo>
                  <a:lnTo>
                    <a:pt x="218" y="371"/>
                  </a:lnTo>
                  <a:lnTo>
                    <a:pt x="200" y="379"/>
                  </a:lnTo>
                  <a:lnTo>
                    <a:pt x="182" y="385"/>
                  </a:lnTo>
                  <a:lnTo>
                    <a:pt x="165" y="391"/>
                  </a:lnTo>
                  <a:lnTo>
                    <a:pt x="149" y="396"/>
                  </a:lnTo>
                  <a:lnTo>
                    <a:pt x="134" y="399"/>
                  </a:lnTo>
                  <a:lnTo>
                    <a:pt x="120" y="400"/>
                  </a:lnTo>
                  <a:lnTo>
                    <a:pt x="108" y="400"/>
                  </a:lnTo>
                  <a:lnTo>
                    <a:pt x="98" y="397"/>
                  </a:lnTo>
                  <a:lnTo>
                    <a:pt x="94" y="395"/>
                  </a:lnTo>
                  <a:lnTo>
                    <a:pt x="89" y="393"/>
                  </a:lnTo>
                  <a:lnTo>
                    <a:pt x="84" y="391"/>
                  </a:lnTo>
                  <a:lnTo>
                    <a:pt x="81" y="386"/>
                  </a:lnTo>
                  <a:lnTo>
                    <a:pt x="77" y="383"/>
                  </a:lnTo>
                  <a:lnTo>
                    <a:pt x="74" y="378"/>
                  </a:lnTo>
                  <a:lnTo>
                    <a:pt x="71" y="371"/>
                  </a:lnTo>
                  <a:lnTo>
                    <a:pt x="68" y="364"/>
                  </a:lnTo>
                  <a:lnTo>
                    <a:pt x="72" y="353"/>
                  </a:lnTo>
                  <a:lnTo>
                    <a:pt x="82" y="343"/>
                  </a:lnTo>
                  <a:lnTo>
                    <a:pt x="97" y="331"/>
                  </a:lnTo>
                  <a:lnTo>
                    <a:pt x="117" y="319"/>
                  </a:lnTo>
                  <a:lnTo>
                    <a:pt x="138" y="308"/>
                  </a:lnTo>
                  <a:lnTo>
                    <a:pt x="159" y="298"/>
                  </a:lnTo>
                  <a:lnTo>
                    <a:pt x="179" y="287"/>
                  </a:lnTo>
                  <a:lnTo>
                    <a:pt x="196" y="277"/>
                  </a:lnTo>
                  <a:lnTo>
                    <a:pt x="212" y="269"/>
                  </a:lnTo>
                  <a:lnTo>
                    <a:pt x="226" y="263"/>
                  </a:lnTo>
                  <a:lnTo>
                    <a:pt x="236" y="262"/>
                  </a:lnTo>
                  <a:lnTo>
                    <a:pt x="247" y="261"/>
                  </a:lnTo>
                  <a:lnTo>
                    <a:pt x="257" y="262"/>
                  </a:lnTo>
                  <a:lnTo>
                    <a:pt x="269" y="261"/>
                  </a:lnTo>
                  <a:lnTo>
                    <a:pt x="280" y="259"/>
                  </a:lnTo>
                  <a:lnTo>
                    <a:pt x="295" y="253"/>
                  </a:lnTo>
                  <a:lnTo>
                    <a:pt x="273" y="254"/>
                  </a:lnTo>
                  <a:lnTo>
                    <a:pt x="259" y="254"/>
                  </a:lnTo>
                  <a:lnTo>
                    <a:pt x="250" y="254"/>
                  </a:lnTo>
                  <a:lnTo>
                    <a:pt x="246" y="253"/>
                  </a:lnTo>
                  <a:lnTo>
                    <a:pt x="244" y="253"/>
                  </a:lnTo>
                  <a:lnTo>
                    <a:pt x="242" y="253"/>
                  </a:lnTo>
                  <a:lnTo>
                    <a:pt x="238" y="253"/>
                  </a:lnTo>
                  <a:lnTo>
                    <a:pt x="229" y="253"/>
                  </a:lnTo>
                  <a:lnTo>
                    <a:pt x="223" y="254"/>
                  </a:lnTo>
                  <a:lnTo>
                    <a:pt x="214" y="256"/>
                  </a:lnTo>
                  <a:lnTo>
                    <a:pt x="204" y="258"/>
                  </a:lnTo>
                  <a:lnTo>
                    <a:pt x="194" y="261"/>
                  </a:lnTo>
                  <a:lnTo>
                    <a:pt x="181" y="266"/>
                  </a:lnTo>
                  <a:lnTo>
                    <a:pt x="168" y="270"/>
                  </a:lnTo>
                  <a:lnTo>
                    <a:pt x="154" y="274"/>
                  </a:lnTo>
                  <a:lnTo>
                    <a:pt x="140" y="277"/>
                  </a:lnTo>
                  <a:lnTo>
                    <a:pt x="126" y="282"/>
                  </a:lnTo>
                  <a:lnTo>
                    <a:pt x="112" y="286"/>
                  </a:lnTo>
                  <a:lnTo>
                    <a:pt x="99" y="288"/>
                  </a:lnTo>
                  <a:lnTo>
                    <a:pt x="88" y="291"/>
                  </a:lnTo>
                  <a:lnTo>
                    <a:pt x="76" y="292"/>
                  </a:lnTo>
                  <a:lnTo>
                    <a:pt x="65" y="293"/>
                  </a:lnTo>
                  <a:lnTo>
                    <a:pt x="57" y="292"/>
                  </a:lnTo>
                  <a:lnTo>
                    <a:pt x="50" y="290"/>
                  </a:lnTo>
                  <a:lnTo>
                    <a:pt x="38" y="271"/>
                  </a:lnTo>
                  <a:lnTo>
                    <a:pt x="37" y="254"/>
                  </a:lnTo>
                  <a:lnTo>
                    <a:pt x="45" y="238"/>
                  </a:lnTo>
                  <a:lnTo>
                    <a:pt x="59" y="224"/>
                  </a:lnTo>
                  <a:lnTo>
                    <a:pt x="77" y="211"/>
                  </a:lnTo>
                  <a:lnTo>
                    <a:pt x="96" y="198"/>
                  </a:lnTo>
                  <a:lnTo>
                    <a:pt x="114" y="187"/>
                  </a:lnTo>
                  <a:lnTo>
                    <a:pt x="130" y="177"/>
                  </a:lnTo>
                  <a:lnTo>
                    <a:pt x="143" y="167"/>
                  </a:lnTo>
                  <a:lnTo>
                    <a:pt x="153" y="161"/>
                  </a:lnTo>
                  <a:lnTo>
                    <a:pt x="163" y="156"/>
                  </a:lnTo>
                  <a:lnTo>
                    <a:pt x="170" y="152"/>
                  </a:lnTo>
                  <a:lnTo>
                    <a:pt x="177" y="150"/>
                  </a:lnTo>
                  <a:lnTo>
                    <a:pt x="183" y="148"/>
                  </a:lnTo>
                  <a:lnTo>
                    <a:pt x="189" y="146"/>
                  </a:lnTo>
                  <a:lnTo>
                    <a:pt x="196" y="144"/>
                  </a:lnTo>
                  <a:lnTo>
                    <a:pt x="194" y="138"/>
                  </a:lnTo>
                  <a:lnTo>
                    <a:pt x="191" y="134"/>
                  </a:lnTo>
                  <a:lnTo>
                    <a:pt x="190" y="131"/>
                  </a:lnTo>
                  <a:lnTo>
                    <a:pt x="188" y="129"/>
                  </a:lnTo>
                  <a:lnTo>
                    <a:pt x="186" y="125"/>
                  </a:lnTo>
                  <a:lnTo>
                    <a:pt x="184" y="122"/>
                  </a:lnTo>
                  <a:lnTo>
                    <a:pt x="180" y="118"/>
                  </a:lnTo>
                  <a:lnTo>
                    <a:pt x="175" y="111"/>
                  </a:lnTo>
                  <a:lnTo>
                    <a:pt x="171" y="111"/>
                  </a:lnTo>
                  <a:lnTo>
                    <a:pt x="166" y="111"/>
                  </a:lnTo>
                  <a:lnTo>
                    <a:pt x="159" y="111"/>
                  </a:lnTo>
                  <a:lnTo>
                    <a:pt x="154" y="111"/>
                  </a:lnTo>
                  <a:lnTo>
                    <a:pt x="147" y="111"/>
                  </a:lnTo>
                  <a:lnTo>
                    <a:pt x="139" y="111"/>
                  </a:lnTo>
                  <a:lnTo>
                    <a:pt x="132" y="111"/>
                  </a:lnTo>
                  <a:lnTo>
                    <a:pt x="123" y="111"/>
                  </a:lnTo>
                  <a:lnTo>
                    <a:pt x="120" y="107"/>
                  </a:lnTo>
                  <a:lnTo>
                    <a:pt x="117" y="103"/>
                  </a:lnTo>
                  <a:lnTo>
                    <a:pt x="113" y="100"/>
                  </a:lnTo>
                  <a:lnTo>
                    <a:pt x="110" y="95"/>
                  </a:lnTo>
                  <a:lnTo>
                    <a:pt x="107" y="91"/>
                  </a:lnTo>
                  <a:lnTo>
                    <a:pt x="104" y="87"/>
                  </a:lnTo>
                  <a:lnTo>
                    <a:pt x="102" y="84"/>
                  </a:lnTo>
                  <a:lnTo>
                    <a:pt x="98" y="79"/>
                  </a:lnTo>
                  <a:lnTo>
                    <a:pt x="89" y="79"/>
                  </a:lnTo>
                  <a:lnTo>
                    <a:pt x="80" y="79"/>
                  </a:lnTo>
                  <a:lnTo>
                    <a:pt x="71" y="79"/>
                  </a:lnTo>
                  <a:lnTo>
                    <a:pt x="62" y="79"/>
                  </a:lnTo>
                  <a:lnTo>
                    <a:pt x="52" y="79"/>
                  </a:lnTo>
                  <a:lnTo>
                    <a:pt x="43" y="79"/>
                  </a:lnTo>
                  <a:lnTo>
                    <a:pt x="34" y="79"/>
                  </a:lnTo>
                  <a:lnTo>
                    <a:pt x="25" y="79"/>
                  </a:lnTo>
                  <a:lnTo>
                    <a:pt x="21" y="75"/>
                  </a:lnTo>
                  <a:lnTo>
                    <a:pt x="18" y="71"/>
                  </a:lnTo>
                  <a:lnTo>
                    <a:pt x="15" y="68"/>
                  </a:lnTo>
                  <a:lnTo>
                    <a:pt x="13" y="63"/>
                  </a:lnTo>
                  <a:lnTo>
                    <a:pt x="10" y="59"/>
                  </a:lnTo>
                  <a:lnTo>
                    <a:pt x="6" y="55"/>
                  </a:lnTo>
                  <a:lnTo>
                    <a:pt x="3" y="52"/>
                  </a:lnTo>
                  <a:lnTo>
                    <a:pt x="0" y="47"/>
                  </a:lnTo>
                  <a:lnTo>
                    <a:pt x="6" y="40"/>
                  </a:lnTo>
                  <a:lnTo>
                    <a:pt x="13" y="32"/>
                  </a:lnTo>
                  <a:lnTo>
                    <a:pt x="18" y="24"/>
                  </a:lnTo>
                  <a:lnTo>
                    <a:pt x="25" y="16"/>
                  </a:lnTo>
                  <a:lnTo>
                    <a:pt x="44" y="15"/>
                  </a:lnTo>
                  <a:lnTo>
                    <a:pt x="65" y="14"/>
                  </a:lnTo>
                  <a:lnTo>
                    <a:pt x="87" y="11"/>
                  </a:lnTo>
                  <a:lnTo>
                    <a:pt x="109" y="8"/>
                  </a:lnTo>
                  <a:lnTo>
                    <a:pt x="129" y="6"/>
                  </a:lnTo>
                  <a:lnTo>
                    <a:pt x="150" y="2"/>
                  </a:lnTo>
                  <a:lnTo>
                    <a:pt x="168" y="1"/>
                  </a:lnTo>
                  <a:lnTo>
                    <a:pt x="183" y="0"/>
                  </a:lnTo>
                  <a:lnTo>
                    <a:pt x="198" y="11"/>
                  </a:lnTo>
                  <a:lnTo>
                    <a:pt x="213" y="23"/>
                  </a:lnTo>
                  <a:lnTo>
                    <a:pt x="228" y="36"/>
                  </a:lnTo>
                  <a:lnTo>
                    <a:pt x="243" y="48"/>
                  </a:lnTo>
                  <a:lnTo>
                    <a:pt x="257" y="62"/>
                  </a:lnTo>
                  <a:lnTo>
                    <a:pt x="272" y="76"/>
                  </a:lnTo>
                  <a:lnTo>
                    <a:pt x="287" y="89"/>
                  </a:lnTo>
                  <a:lnTo>
                    <a:pt x="303" y="103"/>
                  </a:lnTo>
                  <a:lnTo>
                    <a:pt x="318" y="116"/>
                  </a:lnTo>
                  <a:lnTo>
                    <a:pt x="335" y="129"/>
                  </a:lnTo>
                  <a:lnTo>
                    <a:pt x="351" y="139"/>
                  </a:lnTo>
                  <a:lnTo>
                    <a:pt x="369" y="150"/>
                  </a:lnTo>
                  <a:lnTo>
                    <a:pt x="386" y="160"/>
                  </a:lnTo>
                  <a:lnTo>
                    <a:pt x="406" y="168"/>
                  </a:lnTo>
                  <a:lnTo>
                    <a:pt x="426" y="175"/>
                  </a:lnTo>
                  <a:lnTo>
                    <a:pt x="446" y="179"/>
                  </a:lnTo>
                </a:path>
              </a:pathLst>
            </a:custGeom>
            <a:solidFill>
              <a:srgbClr val="996600"/>
            </a:solid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ccecff"/>
                </a:solidFill>
                <a:latin typeface="Times New Roman"/>
              </a:endParaRPr>
            </a:p>
          </p:txBody>
        </p:sp>
        <p:sp>
          <p:nvSpPr>
            <p:cNvPr id="510" name="Freeform 134"/>
            <p:cNvSpPr/>
            <p:nvPr/>
          </p:nvSpPr>
          <p:spPr>
            <a:xfrm>
              <a:off x="5597640" y="4075560"/>
              <a:ext cx="153000" cy="137160"/>
            </a:xfrm>
            <a:custGeom>
              <a:avLst/>
              <a:gdLst>
                <a:gd name="textAreaLeft" fmla="*/ 0 w 153000"/>
                <a:gd name="textAreaRight" fmla="*/ 153360 w 153000"/>
                <a:gd name="textAreaTop" fmla="*/ 0 h 137160"/>
                <a:gd name="textAreaBottom" fmla="*/ 137520 h 137160"/>
              </a:gdLst>
              <a:ahLst/>
              <a:rect l="textAreaLeft" t="textAreaTop" r="textAreaRight" b="textAreaBottom"/>
              <a:pathLst>
                <a:path w="1004" h="1043">
                  <a:moveTo>
                    <a:pt x="1004" y="517"/>
                  </a:moveTo>
                  <a:lnTo>
                    <a:pt x="1004" y="517"/>
                  </a:lnTo>
                  <a:lnTo>
                    <a:pt x="998" y="523"/>
                  </a:lnTo>
                  <a:lnTo>
                    <a:pt x="989" y="525"/>
                  </a:lnTo>
                  <a:lnTo>
                    <a:pt x="983" y="526"/>
                  </a:lnTo>
                  <a:lnTo>
                    <a:pt x="981" y="534"/>
                  </a:lnTo>
                  <a:lnTo>
                    <a:pt x="968" y="536"/>
                  </a:lnTo>
                  <a:lnTo>
                    <a:pt x="955" y="541"/>
                  </a:lnTo>
                  <a:lnTo>
                    <a:pt x="944" y="551"/>
                  </a:lnTo>
                  <a:lnTo>
                    <a:pt x="933" y="562"/>
                  </a:lnTo>
                  <a:lnTo>
                    <a:pt x="923" y="573"/>
                  </a:lnTo>
                  <a:lnTo>
                    <a:pt x="913" y="587"/>
                  </a:lnTo>
                  <a:lnTo>
                    <a:pt x="905" y="600"/>
                  </a:lnTo>
                  <a:lnTo>
                    <a:pt x="895" y="613"/>
                  </a:lnTo>
                  <a:lnTo>
                    <a:pt x="901" y="594"/>
                  </a:lnTo>
                  <a:lnTo>
                    <a:pt x="908" y="570"/>
                  </a:lnTo>
                  <a:lnTo>
                    <a:pt x="913" y="544"/>
                  </a:lnTo>
                  <a:lnTo>
                    <a:pt x="918" y="516"/>
                  </a:lnTo>
                  <a:lnTo>
                    <a:pt x="923" y="486"/>
                  </a:lnTo>
                  <a:lnTo>
                    <a:pt x="926" y="453"/>
                  </a:lnTo>
                  <a:lnTo>
                    <a:pt x="929" y="420"/>
                  </a:lnTo>
                  <a:lnTo>
                    <a:pt x="932" y="386"/>
                  </a:lnTo>
                  <a:lnTo>
                    <a:pt x="935" y="352"/>
                  </a:lnTo>
                  <a:lnTo>
                    <a:pt x="936" y="318"/>
                  </a:lnTo>
                  <a:lnTo>
                    <a:pt x="937" y="283"/>
                  </a:lnTo>
                  <a:lnTo>
                    <a:pt x="937" y="250"/>
                  </a:lnTo>
                  <a:lnTo>
                    <a:pt x="937" y="219"/>
                  </a:lnTo>
                  <a:lnTo>
                    <a:pt x="936" y="189"/>
                  </a:lnTo>
                  <a:lnTo>
                    <a:pt x="935" y="161"/>
                  </a:lnTo>
                  <a:lnTo>
                    <a:pt x="932" y="136"/>
                  </a:lnTo>
                  <a:lnTo>
                    <a:pt x="931" y="124"/>
                  </a:lnTo>
                  <a:lnTo>
                    <a:pt x="928" y="112"/>
                  </a:lnTo>
                  <a:lnTo>
                    <a:pt x="925" y="101"/>
                  </a:lnTo>
                  <a:lnTo>
                    <a:pt x="921" y="89"/>
                  </a:lnTo>
                  <a:lnTo>
                    <a:pt x="915" y="77"/>
                  </a:lnTo>
                  <a:lnTo>
                    <a:pt x="912" y="64"/>
                  </a:lnTo>
                  <a:lnTo>
                    <a:pt x="909" y="52"/>
                  </a:lnTo>
                  <a:lnTo>
                    <a:pt x="908" y="41"/>
                  </a:lnTo>
                  <a:lnTo>
                    <a:pt x="886" y="40"/>
                  </a:lnTo>
                  <a:lnTo>
                    <a:pt x="865" y="38"/>
                  </a:lnTo>
                  <a:lnTo>
                    <a:pt x="844" y="35"/>
                  </a:lnTo>
                  <a:lnTo>
                    <a:pt x="821" y="31"/>
                  </a:lnTo>
                  <a:lnTo>
                    <a:pt x="800" y="27"/>
                  </a:lnTo>
                  <a:lnTo>
                    <a:pt x="777" y="22"/>
                  </a:lnTo>
                  <a:lnTo>
                    <a:pt x="755" y="17"/>
                  </a:lnTo>
                  <a:lnTo>
                    <a:pt x="732" y="13"/>
                  </a:lnTo>
                  <a:lnTo>
                    <a:pt x="710" y="9"/>
                  </a:lnTo>
                  <a:lnTo>
                    <a:pt x="688" y="5"/>
                  </a:lnTo>
                  <a:lnTo>
                    <a:pt x="666" y="2"/>
                  </a:lnTo>
                  <a:lnTo>
                    <a:pt x="644" y="0"/>
                  </a:lnTo>
                  <a:lnTo>
                    <a:pt x="624" y="0"/>
                  </a:lnTo>
                  <a:lnTo>
                    <a:pt x="604" y="1"/>
                  </a:lnTo>
                  <a:lnTo>
                    <a:pt x="584" y="4"/>
                  </a:lnTo>
                  <a:lnTo>
                    <a:pt x="565" y="9"/>
                  </a:lnTo>
                  <a:lnTo>
                    <a:pt x="545" y="16"/>
                  </a:lnTo>
                  <a:lnTo>
                    <a:pt x="527" y="26"/>
                  </a:lnTo>
                  <a:lnTo>
                    <a:pt x="508" y="37"/>
                  </a:lnTo>
                  <a:lnTo>
                    <a:pt x="490" y="50"/>
                  </a:lnTo>
                  <a:lnTo>
                    <a:pt x="473" y="63"/>
                  </a:lnTo>
                  <a:lnTo>
                    <a:pt x="456" y="77"/>
                  </a:lnTo>
                  <a:lnTo>
                    <a:pt x="438" y="91"/>
                  </a:lnTo>
                  <a:lnTo>
                    <a:pt x="421" y="104"/>
                  </a:lnTo>
                  <a:lnTo>
                    <a:pt x="401" y="115"/>
                  </a:lnTo>
                  <a:lnTo>
                    <a:pt x="382" y="125"/>
                  </a:lnTo>
                  <a:lnTo>
                    <a:pt x="362" y="133"/>
                  </a:lnTo>
                  <a:lnTo>
                    <a:pt x="340" y="138"/>
                  </a:lnTo>
                  <a:lnTo>
                    <a:pt x="317" y="140"/>
                  </a:lnTo>
                  <a:lnTo>
                    <a:pt x="292" y="138"/>
                  </a:lnTo>
                  <a:lnTo>
                    <a:pt x="264" y="132"/>
                  </a:lnTo>
                  <a:lnTo>
                    <a:pt x="236" y="120"/>
                  </a:lnTo>
                  <a:lnTo>
                    <a:pt x="234" y="127"/>
                  </a:lnTo>
                  <a:lnTo>
                    <a:pt x="231" y="137"/>
                  </a:lnTo>
                  <a:lnTo>
                    <a:pt x="227" y="148"/>
                  </a:lnTo>
                  <a:lnTo>
                    <a:pt x="223" y="159"/>
                  </a:lnTo>
                  <a:lnTo>
                    <a:pt x="216" y="172"/>
                  </a:lnTo>
                  <a:lnTo>
                    <a:pt x="210" y="183"/>
                  </a:lnTo>
                  <a:lnTo>
                    <a:pt x="204" y="192"/>
                  </a:lnTo>
                  <a:lnTo>
                    <a:pt x="199" y="200"/>
                  </a:lnTo>
                  <a:lnTo>
                    <a:pt x="199" y="218"/>
                  </a:lnTo>
                  <a:lnTo>
                    <a:pt x="198" y="235"/>
                  </a:lnTo>
                  <a:lnTo>
                    <a:pt x="197" y="253"/>
                  </a:lnTo>
                  <a:lnTo>
                    <a:pt x="195" y="272"/>
                  </a:lnTo>
                  <a:lnTo>
                    <a:pt x="194" y="289"/>
                  </a:lnTo>
                  <a:lnTo>
                    <a:pt x="192" y="307"/>
                  </a:lnTo>
                  <a:lnTo>
                    <a:pt x="190" y="325"/>
                  </a:lnTo>
                  <a:lnTo>
                    <a:pt x="187" y="342"/>
                  </a:lnTo>
                  <a:lnTo>
                    <a:pt x="184" y="360"/>
                  </a:lnTo>
                  <a:lnTo>
                    <a:pt x="182" y="379"/>
                  </a:lnTo>
                  <a:lnTo>
                    <a:pt x="180" y="397"/>
                  </a:lnTo>
                  <a:lnTo>
                    <a:pt x="179" y="414"/>
                  </a:lnTo>
                  <a:lnTo>
                    <a:pt x="177" y="432"/>
                  </a:lnTo>
                  <a:lnTo>
                    <a:pt x="176" y="450"/>
                  </a:lnTo>
                  <a:lnTo>
                    <a:pt x="175" y="467"/>
                  </a:lnTo>
                  <a:lnTo>
                    <a:pt x="175" y="486"/>
                  </a:lnTo>
                  <a:lnTo>
                    <a:pt x="170" y="487"/>
                  </a:lnTo>
                  <a:lnTo>
                    <a:pt x="166" y="488"/>
                  </a:lnTo>
                  <a:lnTo>
                    <a:pt x="161" y="491"/>
                  </a:lnTo>
                  <a:lnTo>
                    <a:pt x="156" y="493"/>
                  </a:lnTo>
                  <a:lnTo>
                    <a:pt x="152" y="496"/>
                  </a:lnTo>
                  <a:lnTo>
                    <a:pt x="147" y="499"/>
                  </a:lnTo>
                  <a:lnTo>
                    <a:pt x="142" y="501"/>
                  </a:lnTo>
                  <a:lnTo>
                    <a:pt x="138" y="502"/>
                  </a:lnTo>
                  <a:lnTo>
                    <a:pt x="138" y="406"/>
                  </a:lnTo>
                  <a:lnTo>
                    <a:pt x="120" y="384"/>
                  </a:lnTo>
                  <a:lnTo>
                    <a:pt x="103" y="366"/>
                  </a:lnTo>
                  <a:lnTo>
                    <a:pt x="87" y="353"/>
                  </a:lnTo>
                  <a:lnTo>
                    <a:pt x="71" y="344"/>
                  </a:lnTo>
                  <a:lnTo>
                    <a:pt x="54" y="342"/>
                  </a:lnTo>
                  <a:lnTo>
                    <a:pt x="38" y="347"/>
                  </a:lnTo>
                  <a:lnTo>
                    <a:pt x="20" y="358"/>
                  </a:lnTo>
                  <a:lnTo>
                    <a:pt x="2" y="379"/>
                  </a:lnTo>
                  <a:lnTo>
                    <a:pt x="0" y="398"/>
                  </a:lnTo>
                  <a:lnTo>
                    <a:pt x="0" y="417"/>
                  </a:lnTo>
                  <a:lnTo>
                    <a:pt x="0" y="435"/>
                  </a:lnTo>
                  <a:lnTo>
                    <a:pt x="2" y="453"/>
                  </a:lnTo>
                  <a:lnTo>
                    <a:pt x="4" y="470"/>
                  </a:lnTo>
                  <a:lnTo>
                    <a:pt x="8" y="487"/>
                  </a:lnTo>
                  <a:lnTo>
                    <a:pt x="11" y="502"/>
                  </a:lnTo>
                  <a:lnTo>
                    <a:pt x="16" y="517"/>
                  </a:lnTo>
                  <a:lnTo>
                    <a:pt x="20" y="532"/>
                  </a:lnTo>
                  <a:lnTo>
                    <a:pt x="26" y="545"/>
                  </a:lnTo>
                  <a:lnTo>
                    <a:pt x="32" y="558"/>
                  </a:lnTo>
                  <a:lnTo>
                    <a:pt x="39" y="570"/>
                  </a:lnTo>
                  <a:lnTo>
                    <a:pt x="45" y="582"/>
                  </a:lnTo>
                  <a:lnTo>
                    <a:pt x="51" y="593"/>
                  </a:lnTo>
                  <a:lnTo>
                    <a:pt x="59" y="603"/>
                  </a:lnTo>
                  <a:lnTo>
                    <a:pt x="65" y="613"/>
                  </a:lnTo>
                  <a:lnTo>
                    <a:pt x="74" y="614"/>
                  </a:lnTo>
                  <a:lnTo>
                    <a:pt x="81" y="615"/>
                  </a:lnTo>
                  <a:lnTo>
                    <a:pt x="89" y="618"/>
                  </a:lnTo>
                  <a:lnTo>
                    <a:pt x="95" y="621"/>
                  </a:lnTo>
                  <a:lnTo>
                    <a:pt x="102" y="624"/>
                  </a:lnTo>
                  <a:lnTo>
                    <a:pt x="109" y="627"/>
                  </a:lnTo>
                  <a:lnTo>
                    <a:pt x="118" y="629"/>
                  </a:lnTo>
                  <a:lnTo>
                    <a:pt x="126" y="630"/>
                  </a:lnTo>
                  <a:lnTo>
                    <a:pt x="128" y="636"/>
                  </a:lnTo>
                  <a:lnTo>
                    <a:pt x="133" y="643"/>
                  </a:lnTo>
                  <a:lnTo>
                    <a:pt x="139" y="649"/>
                  </a:lnTo>
                  <a:lnTo>
                    <a:pt x="148" y="655"/>
                  </a:lnTo>
                  <a:lnTo>
                    <a:pt x="155" y="661"/>
                  </a:lnTo>
                  <a:lnTo>
                    <a:pt x="162" y="666"/>
                  </a:lnTo>
                  <a:lnTo>
                    <a:pt x="166" y="673"/>
                  </a:lnTo>
                  <a:lnTo>
                    <a:pt x="168" y="678"/>
                  </a:lnTo>
                  <a:lnTo>
                    <a:pt x="169" y="703"/>
                  </a:lnTo>
                  <a:lnTo>
                    <a:pt x="171" y="727"/>
                  </a:lnTo>
                  <a:lnTo>
                    <a:pt x="175" y="751"/>
                  </a:lnTo>
                  <a:lnTo>
                    <a:pt x="180" y="772"/>
                  </a:lnTo>
                  <a:lnTo>
                    <a:pt x="186" y="794"/>
                  </a:lnTo>
                  <a:lnTo>
                    <a:pt x="194" y="814"/>
                  </a:lnTo>
                  <a:lnTo>
                    <a:pt x="203" y="833"/>
                  </a:lnTo>
                  <a:lnTo>
                    <a:pt x="213" y="852"/>
                  </a:lnTo>
                  <a:lnTo>
                    <a:pt x="225" y="870"/>
                  </a:lnTo>
                  <a:lnTo>
                    <a:pt x="237" y="886"/>
                  </a:lnTo>
                  <a:lnTo>
                    <a:pt x="251" y="902"/>
                  </a:lnTo>
                  <a:lnTo>
                    <a:pt x="264" y="916"/>
                  </a:lnTo>
                  <a:lnTo>
                    <a:pt x="280" y="929"/>
                  </a:lnTo>
                  <a:lnTo>
                    <a:pt x="297" y="941"/>
                  </a:lnTo>
                  <a:lnTo>
                    <a:pt x="313" y="952"/>
                  </a:lnTo>
                  <a:lnTo>
                    <a:pt x="331" y="963"/>
                  </a:lnTo>
                  <a:lnTo>
                    <a:pt x="348" y="972"/>
                  </a:lnTo>
                  <a:lnTo>
                    <a:pt x="365" y="982"/>
                  </a:lnTo>
                  <a:lnTo>
                    <a:pt x="380" y="992"/>
                  </a:lnTo>
                  <a:lnTo>
                    <a:pt x="395" y="1001"/>
                  </a:lnTo>
                  <a:lnTo>
                    <a:pt x="410" y="1010"/>
                  </a:lnTo>
                  <a:lnTo>
                    <a:pt x="424" y="1018"/>
                  </a:lnTo>
                  <a:lnTo>
                    <a:pt x="439" y="1026"/>
                  </a:lnTo>
                  <a:lnTo>
                    <a:pt x="455" y="1032"/>
                  </a:lnTo>
                  <a:lnTo>
                    <a:pt x="471" y="1037"/>
                  </a:lnTo>
                  <a:lnTo>
                    <a:pt x="488" y="1041"/>
                  </a:lnTo>
                  <a:lnTo>
                    <a:pt x="506" y="1043"/>
                  </a:lnTo>
                  <a:lnTo>
                    <a:pt x="527" y="1043"/>
                  </a:lnTo>
                  <a:lnTo>
                    <a:pt x="549" y="1041"/>
                  </a:lnTo>
                  <a:lnTo>
                    <a:pt x="573" y="1037"/>
                  </a:lnTo>
                  <a:lnTo>
                    <a:pt x="599" y="1030"/>
                  </a:lnTo>
                  <a:lnTo>
                    <a:pt x="629" y="1021"/>
                  </a:lnTo>
                  <a:lnTo>
                    <a:pt x="651" y="1005"/>
                  </a:lnTo>
                  <a:lnTo>
                    <a:pt x="670" y="990"/>
                  </a:lnTo>
                  <a:lnTo>
                    <a:pt x="688" y="978"/>
                  </a:lnTo>
                  <a:lnTo>
                    <a:pt x="705" y="966"/>
                  </a:lnTo>
                  <a:lnTo>
                    <a:pt x="720" y="955"/>
                  </a:lnTo>
                  <a:lnTo>
                    <a:pt x="735" y="944"/>
                  </a:lnTo>
                  <a:lnTo>
                    <a:pt x="748" y="933"/>
                  </a:lnTo>
                  <a:lnTo>
                    <a:pt x="761" y="921"/>
                  </a:lnTo>
                  <a:lnTo>
                    <a:pt x="773" y="907"/>
                  </a:lnTo>
                  <a:lnTo>
                    <a:pt x="785" y="892"/>
                  </a:lnTo>
                  <a:lnTo>
                    <a:pt x="796" y="875"/>
                  </a:lnTo>
                  <a:lnTo>
                    <a:pt x="808" y="855"/>
                  </a:lnTo>
                  <a:lnTo>
                    <a:pt x="820" y="832"/>
                  </a:lnTo>
                  <a:lnTo>
                    <a:pt x="833" y="805"/>
                  </a:lnTo>
                  <a:lnTo>
                    <a:pt x="846" y="775"/>
                  </a:lnTo>
                  <a:lnTo>
                    <a:pt x="860" y="740"/>
                  </a:lnTo>
                  <a:lnTo>
                    <a:pt x="865" y="745"/>
                  </a:lnTo>
                  <a:lnTo>
                    <a:pt x="870" y="749"/>
                  </a:lnTo>
                  <a:lnTo>
                    <a:pt x="877" y="751"/>
                  </a:lnTo>
                  <a:lnTo>
                    <a:pt x="883" y="751"/>
                  </a:lnTo>
                  <a:lnTo>
                    <a:pt x="890" y="750"/>
                  </a:lnTo>
                  <a:lnTo>
                    <a:pt x="896" y="748"/>
                  </a:lnTo>
                  <a:lnTo>
                    <a:pt x="901" y="744"/>
                  </a:lnTo>
                  <a:lnTo>
                    <a:pt x="906" y="741"/>
                  </a:lnTo>
                  <a:lnTo>
                    <a:pt x="910" y="735"/>
                  </a:lnTo>
                  <a:lnTo>
                    <a:pt x="916" y="727"/>
                  </a:lnTo>
                  <a:lnTo>
                    <a:pt x="923" y="717"/>
                  </a:lnTo>
                  <a:lnTo>
                    <a:pt x="930" y="706"/>
                  </a:lnTo>
                  <a:lnTo>
                    <a:pt x="938" y="693"/>
                  </a:lnTo>
                  <a:lnTo>
                    <a:pt x="946" y="679"/>
                  </a:lnTo>
                  <a:lnTo>
                    <a:pt x="955" y="664"/>
                  </a:lnTo>
                  <a:lnTo>
                    <a:pt x="963" y="648"/>
                  </a:lnTo>
                  <a:lnTo>
                    <a:pt x="971" y="632"/>
                  </a:lnTo>
                  <a:lnTo>
                    <a:pt x="978" y="615"/>
                  </a:lnTo>
                  <a:lnTo>
                    <a:pt x="985" y="598"/>
                  </a:lnTo>
                  <a:lnTo>
                    <a:pt x="991" y="581"/>
                  </a:lnTo>
                  <a:lnTo>
                    <a:pt x="997" y="565"/>
                  </a:lnTo>
                  <a:lnTo>
                    <a:pt x="1001" y="548"/>
                  </a:lnTo>
                  <a:lnTo>
                    <a:pt x="1003" y="532"/>
                  </a:lnTo>
                  <a:lnTo>
                    <a:pt x="1004" y="517"/>
                  </a:lnTo>
                </a:path>
              </a:pathLst>
            </a:custGeom>
            <a:solidFill>
              <a:srgbClr val="9966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1" name="Freeform 135"/>
            <p:cNvSpPr/>
            <p:nvPr/>
          </p:nvSpPr>
          <p:spPr>
            <a:xfrm>
              <a:off x="5597640" y="4090680"/>
              <a:ext cx="130320" cy="122040"/>
            </a:xfrm>
            <a:custGeom>
              <a:avLst/>
              <a:gdLst>
                <a:gd name="textAreaLeft" fmla="*/ 0 w 130320"/>
                <a:gd name="textAreaRight" fmla="*/ 130680 w 130320"/>
                <a:gd name="textAreaTop" fmla="*/ 0 h 122040"/>
                <a:gd name="textAreaBottom" fmla="*/ 122400 h 122040"/>
              </a:gdLst>
              <a:ahLst/>
              <a:rect l="textAreaLeft" t="textAreaTop" r="textAreaRight" b="textAreaBottom"/>
              <a:pathLst>
                <a:path w="854" h="925">
                  <a:moveTo>
                    <a:pt x="808" y="310"/>
                  </a:moveTo>
                  <a:lnTo>
                    <a:pt x="820" y="309"/>
                  </a:lnTo>
                  <a:lnTo>
                    <a:pt x="829" y="307"/>
                  </a:lnTo>
                  <a:lnTo>
                    <a:pt x="836" y="304"/>
                  </a:lnTo>
                  <a:lnTo>
                    <a:pt x="841" y="301"/>
                  </a:lnTo>
                  <a:lnTo>
                    <a:pt x="846" y="297"/>
                  </a:lnTo>
                  <a:lnTo>
                    <a:pt x="849" y="291"/>
                  </a:lnTo>
                  <a:lnTo>
                    <a:pt x="852" y="286"/>
                  </a:lnTo>
                  <a:lnTo>
                    <a:pt x="854" y="279"/>
                  </a:lnTo>
                  <a:lnTo>
                    <a:pt x="846" y="273"/>
                  </a:lnTo>
                  <a:lnTo>
                    <a:pt x="838" y="268"/>
                  </a:lnTo>
                  <a:lnTo>
                    <a:pt x="832" y="263"/>
                  </a:lnTo>
                  <a:lnTo>
                    <a:pt x="825" y="257"/>
                  </a:lnTo>
                  <a:lnTo>
                    <a:pt x="819" y="253"/>
                  </a:lnTo>
                  <a:lnTo>
                    <a:pt x="811" y="248"/>
                  </a:lnTo>
                  <a:lnTo>
                    <a:pt x="805" y="242"/>
                  </a:lnTo>
                  <a:lnTo>
                    <a:pt x="796" y="237"/>
                  </a:lnTo>
                  <a:lnTo>
                    <a:pt x="788" y="236"/>
                  </a:lnTo>
                  <a:lnTo>
                    <a:pt x="779" y="235"/>
                  </a:lnTo>
                  <a:lnTo>
                    <a:pt x="770" y="235"/>
                  </a:lnTo>
                  <a:lnTo>
                    <a:pt x="759" y="235"/>
                  </a:lnTo>
                  <a:lnTo>
                    <a:pt x="749" y="235"/>
                  </a:lnTo>
                  <a:lnTo>
                    <a:pt x="739" y="235"/>
                  </a:lnTo>
                  <a:lnTo>
                    <a:pt x="729" y="236"/>
                  </a:lnTo>
                  <a:lnTo>
                    <a:pt x="720" y="236"/>
                  </a:lnTo>
                  <a:lnTo>
                    <a:pt x="710" y="234"/>
                  </a:lnTo>
                  <a:lnTo>
                    <a:pt x="701" y="230"/>
                  </a:lnTo>
                  <a:lnTo>
                    <a:pt x="694" y="228"/>
                  </a:lnTo>
                  <a:lnTo>
                    <a:pt x="688" y="225"/>
                  </a:lnTo>
                  <a:lnTo>
                    <a:pt x="682" y="222"/>
                  </a:lnTo>
                  <a:lnTo>
                    <a:pt x="678" y="219"/>
                  </a:lnTo>
                  <a:lnTo>
                    <a:pt x="672" y="214"/>
                  </a:lnTo>
                  <a:lnTo>
                    <a:pt x="668" y="209"/>
                  </a:lnTo>
                  <a:lnTo>
                    <a:pt x="658" y="214"/>
                  </a:lnTo>
                  <a:lnTo>
                    <a:pt x="648" y="218"/>
                  </a:lnTo>
                  <a:lnTo>
                    <a:pt x="636" y="220"/>
                  </a:lnTo>
                  <a:lnTo>
                    <a:pt x="624" y="221"/>
                  </a:lnTo>
                  <a:lnTo>
                    <a:pt x="612" y="219"/>
                  </a:lnTo>
                  <a:lnTo>
                    <a:pt x="603" y="214"/>
                  </a:lnTo>
                  <a:lnTo>
                    <a:pt x="593" y="207"/>
                  </a:lnTo>
                  <a:lnTo>
                    <a:pt x="586" y="196"/>
                  </a:lnTo>
                  <a:lnTo>
                    <a:pt x="586" y="206"/>
                  </a:lnTo>
                  <a:lnTo>
                    <a:pt x="589" y="213"/>
                  </a:lnTo>
                  <a:lnTo>
                    <a:pt x="593" y="221"/>
                  </a:lnTo>
                  <a:lnTo>
                    <a:pt x="598" y="227"/>
                  </a:lnTo>
                  <a:lnTo>
                    <a:pt x="604" y="235"/>
                  </a:lnTo>
                  <a:lnTo>
                    <a:pt x="608" y="242"/>
                  </a:lnTo>
                  <a:lnTo>
                    <a:pt x="611" y="250"/>
                  </a:lnTo>
                  <a:lnTo>
                    <a:pt x="613" y="259"/>
                  </a:lnTo>
                  <a:lnTo>
                    <a:pt x="618" y="261"/>
                  </a:lnTo>
                  <a:lnTo>
                    <a:pt x="623" y="264"/>
                  </a:lnTo>
                  <a:lnTo>
                    <a:pt x="628" y="265"/>
                  </a:lnTo>
                  <a:lnTo>
                    <a:pt x="634" y="266"/>
                  </a:lnTo>
                  <a:lnTo>
                    <a:pt x="639" y="266"/>
                  </a:lnTo>
                  <a:lnTo>
                    <a:pt x="644" y="266"/>
                  </a:lnTo>
                  <a:lnTo>
                    <a:pt x="651" y="265"/>
                  </a:lnTo>
                  <a:lnTo>
                    <a:pt x="656" y="263"/>
                  </a:lnTo>
                  <a:lnTo>
                    <a:pt x="648" y="270"/>
                  </a:lnTo>
                  <a:lnTo>
                    <a:pt x="640" y="278"/>
                  </a:lnTo>
                  <a:lnTo>
                    <a:pt x="634" y="285"/>
                  </a:lnTo>
                  <a:lnTo>
                    <a:pt x="628" y="292"/>
                  </a:lnTo>
                  <a:lnTo>
                    <a:pt x="623" y="301"/>
                  </a:lnTo>
                  <a:lnTo>
                    <a:pt x="618" y="309"/>
                  </a:lnTo>
                  <a:lnTo>
                    <a:pt x="612" y="316"/>
                  </a:lnTo>
                  <a:lnTo>
                    <a:pt x="608" y="324"/>
                  </a:lnTo>
                  <a:lnTo>
                    <a:pt x="611" y="326"/>
                  </a:lnTo>
                  <a:lnTo>
                    <a:pt x="617" y="329"/>
                  </a:lnTo>
                  <a:lnTo>
                    <a:pt x="622" y="332"/>
                  </a:lnTo>
                  <a:lnTo>
                    <a:pt x="628" y="335"/>
                  </a:lnTo>
                  <a:lnTo>
                    <a:pt x="636" y="338"/>
                  </a:lnTo>
                  <a:lnTo>
                    <a:pt x="642" y="342"/>
                  </a:lnTo>
                  <a:lnTo>
                    <a:pt x="650" y="344"/>
                  </a:lnTo>
                  <a:lnTo>
                    <a:pt x="655" y="345"/>
                  </a:lnTo>
                  <a:lnTo>
                    <a:pt x="664" y="343"/>
                  </a:lnTo>
                  <a:lnTo>
                    <a:pt x="669" y="337"/>
                  </a:lnTo>
                  <a:lnTo>
                    <a:pt x="670" y="331"/>
                  </a:lnTo>
                  <a:lnTo>
                    <a:pt x="669" y="326"/>
                  </a:lnTo>
                  <a:lnTo>
                    <a:pt x="659" y="324"/>
                  </a:lnTo>
                  <a:lnTo>
                    <a:pt x="651" y="322"/>
                  </a:lnTo>
                  <a:lnTo>
                    <a:pt x="642" y="322"/>
                  </a:lnTo>
                  <a:lnTo>
                    <a:pt x="636" y="322"/>
                  </a:lnTo>
                  <a:lnTo>
                    <a:pt x="629" y="322"/>
                  </a:lnTo>
                  <a:lnTo>
                    <a:pt x="625" y="322"/>
                  </a:lnTo>
                  <a:lnTo>
                    <a:pt x="622" y="321"/>
                  </a:lnTo>
                  <a:lnTo>
                    <a:pt x="620" y="318"/>
                  </a:lnTo>
                  <a:lnTo>
                    <a:pt x="623" y="314"/>
                  </a:lnTo>
                  <a:lnTo>
                    <a:pt x="627" y="309"/>
                  </a:lnTo>
                  <a:lnTo>
                    <a:pt x="632" y="302"/>
                  </a:lnTo>
                  <a:lnTo>
                    <a:pt x="636" y="296"/>
                  </a:lnTo>
                  <a:lnTo>
                    <a:pt x="641" y="289"/>
                  </a:lnTo>
                  <a:lnTo>
                    <a:pt x="645" y="283"/>
                  </a:lnTo>
                  <a:lnTo>
                    <a:pt x="652" y="278"/>
                  </a:lnTo>
                  <a:lnTo>
                    <a:pt x="658" y="273"/>
                  </a:lnTo>
                  <a:lnTo>
                    <a:pt x="662" y="271"/>
                  </a:lnTo>
                  <a:lnTo>
                    <a:pt x="667" y="269"/>
                  </a:lnTo>
                  <a:lnTo>
                    <a:pt x="675" y="267"/>
                  </a:lnTo>
                  <a:lnTo>
                    <a:pt x="684" y="265"/>
                  </a:lnTo>
                  <a:lnTo>
                    <a:pt x="695" y="264"/>
                  </a:lnTo>
                  <a:lnTo>
                    <a:pt x="707" y="265"/>
                  </a:lnTo>
                  <a:lnTo>
                    <a:pt x="719" y="266"/>
                  </a:lnTo>
                  <a:lnTo>
                    <a:pt x="732" y="268"/>
                  </a:lnTo>
                  <a:lnTo>
                    <a:pt x="745" y="271"/>
                  </a:lnTo>
                  <a:lnTo>
                    <a:pt x="757" y="275"/>
                  </a:lnTo>
                  <a:lnTo>
                    <a:pt x="770" y="280"/>
                  </a:lnTo>
                  <a:lnTo>
                    <a:pt x="780" y="284"/>
                  </a:lnTo>
                  <a:lnTo>
                    <a:pt x="791" y="289"/>
                  </a:lnTo>
                  <a:lnTo>
                    <a:pt x="799" y="295"/>
                  </a:lnTo>
                  <a:lnTo>
                    <a:pt x="805" y="302"/>
                  </a:lnTo>
                  <a:lnTo>
                    <a:pt x="808" y="310"/>
                  </a:lnTo>
                  <a:close/>
                  <a:moveTo>
                    <a:pt x="623" y="902"/>
                  </a:moveTo>
                  <a:lnTo>
                    <a:pt x="619" y="897"/>
                  </a:lnTo>
                  <a:lnTo>
                    <a:pt x="611" y="893"/>
                  </a:lnTo>
                  <a:lnTo>
                    <a:pt x="601" y="889"/>
                  </a:lnTo>
                  <a:lnTo>
                    <a:pt x="586" y="886"/>
                  </a:lnTo>
                  <a:lnTo>
                    <a:pt x="569" y="883"/>
                  </a:lnTo>
                  <a:lnTo>
                    <a:pt x="551" y="881"/>
                  </a:lnTo>
                  <a:lnTo>
                    <a:pt x="532" y="878"/>
                  </a:lnTo>
                  <a:lnTo>
                    <a:pt x="513" y="874"/>
                  </a:lnTo>
                  <a:lnTo>
                    <a:pt x="494" y="871"/>
                  </a:lnTo>
                  <a:lnTo>
                    <a:pt x="474" y="867"/>
                  </a:lnTo>
                  <a:lnTo>
                    <a:pt x="457" y="860"/>
                  </a:lnTo>
                  <a:lnTo>
                    <a:pt x="441" y="854"/>
                  </a:lnTo>
                  <a:lnTo>
                    <a:pt x="428" y="845"/>
                  </a:lnTo>
                  <a:lnTo>
                    <a:pt x="418" y="836"/>
                  </a:lnTo>
                  <a:lnTo>
                    <a:pt x="411" y="824"/>
                  </a:lnTo>
                  <a:lnTo>
                    <a:pt x="409" y="810"/>
                  </a:lnTo>
                  <a:lnTo>
                    <a:pt x="412" y="791"/>
                  </a:lnTo>
                  <a:lnTo>
                    <a:pt x="416" y="777"/>
                  </a:lnTo>
                  <a:lnTo>
                    <a:pt x="423" y="770"/>
                  </a:lnTo>
                  <a:lnTo>
                    <a:pt x="431" y="764"/>
                  </a:lnTo>
                  <a:lnTo>
                    <a:pt x="443" y="760"/>
                  </a:lnTo>
                  <a:lnTo>
                    <a:pt x="458" y="755"/>
                  </a:lnTo>
                  <a:lnTo>
                    <a:pt x="477" y="747"/>
                  </a:lnTo>
                  <a:lnTo>
                    <a:pt x="502" y="735"/>
                  </a:lnTo>
                  <a:lnTo>
                    <a:pt x="516" y="736"/>
                  </a:lnTo>
                  <a:lnTo>
                    <a:pt x="525" y="735"/>
                  </a:lnTo>
                  <a:lnTo>
                    <a:pt x="531" y="731"/>
                  </a:lnTo>
                  <a:lnTo>
                    <a:pt x="536" y="727"/>
                  </a:lnTo>
                  <a:lnTo>
                    <a:pt x="542" y="720"/>
                  </a:lnTo>
                  <a:lnTo>
                    <a:pt x="549" y="715"/>
                  </a:lnTo>
                  <a:lnTo>
                    <a:pt x="559" y="710"/>
                  </a:lnTo>
                  <a:lnTo>
                    <a:pt x="574" y="705"/>
                  </a:lnTo>
                  <a:lnTo>
                    <a:pt x="561" y="698"/>
                  </a:lnTo>
                  <a:lnTo>
                    <a:pt x="548" y="693"/>
                  </a:lnTo>
                  <a:lnTo>
                    <a:pt x="533" y="689"/>
                  </a:lnTo>
                  <a:lnTo>
                    <a:pt x="518" y="688"/>
                  </a:lnTo>
                  <a:lnTo>
                    <a:pt x="502" y="689"/>
                  </a:lnTo>
                  <a:lnTo>
                    <a:pt x="487" y="690"/>
                  </a:lnTo>
                  <a:lnTo>
                    <a:pt x="472" y="691"/>
                  </a:lnTo>
                  <a:lnTo>
                    <a:pt x="458" y="691"/>
                  </a:lnTo>
                  <a:lnTo>
                    <a:pt x="447" y="684"/>
                  </a:lnTo>
                  <a:lnTo>
                    <a:pt x="438" y="678"/>
                  </a:lnTo>
                  <a:lnTo>
                    <a:pt x="430" y="670"/>
                  </a:lnTo>
                  <a:lnTo>
                    <a:pt x="423" y="663"/>
                  </a:lnTo>
                  <a:lnTo>
                    <a:pt x="415" y="656"/>
                  </a:lnTo>
                  <a:lnTo>
                    <a:pt x="409" y="650"/>
                  </a:lnTo>
                  <a:lnTo>
                    <a:pt x="403" y="643"/>
                  </a:lnTo>
                  <a:lnTo>
                    <a:pt x="395" y="637"/>
                  </a:lnTo>
                  <a:lnTo>
                    <a:pt x="399" y="634"/>
                  </a:lnTo>
                  <a:lnTo>
                    <a:pt x="406" y="632"/>
                  </a:lnTo>
                  <a:lnTo>
                    <a:pt x="415" y="630"/>
                  </a:lnTo>
                  <a:lnTo>
                    <a:pt x="426" y="629"/>
                  </a:lnTo>
                  <a:lnTo>
                    <a:pt x="437" y="628"/>
                  </a:lnTo>
                  <a:lnTo>
                    <a:pt x="445" y="627"/>
                  </a:lnTo>
                  <a:lnTo>
                    <a:pt x="452" y="626"/>
                  </a:lnTo>
                  <a:lnTo>
                    <a:pt x="455" y="625"/>
                  </a:lnTo>
                  <a:lnTo>
                    <a:pt x="469" y="621"/>
                  </a:lnTo>
                  <a:lnTo>
                    <a:pt x="476" y="616"/>
                  </a:lnTo>
                  <a:lnTo>
                    <a:pt x="480" y="610"/>
                  </a:lnTo>
                  <a:lnTo>
                    <a:pt x="480" y="604"/>
                  </a:lnTo>
                  <a:lnTo>
                    <a:pt x="480" y="598"/>
                  </a:lnTo>
                  <a:lnTo>
                    <a:pt x="480" y="593"/>
                  </a:lnTo>
                  <a:lnTo>
                    <a:pt x="482" y="590"/>
                  </a:lnTo>
                  <a:lnTo>
                    <a:pt x="488" y="588"/>
                  </a:lnTo>
                  <a:lnTo>
                    <a:pt x="488" y="580"/>
                  </a:lnTo>
                  <a:lnTo>
                    <a:pt x="489" y="571"/>
                  </a:lnTo>
                  <a:lnTo>
                    <a:pt x="490" y="559"/>
                  </a:lnTo>
                  <a:lnTo>
                    <a:pt x="491" y="547"/>
                  </a:lnTo>
                  <a:lnTo>
                    <a:pt x="494" y="536"/>
                  </a:lnTo>
                  <a:lnTo>
                    <a:pt x="496" y="528"/>
                  </a:lnTo>
                  <a:lnTo>
                    <a:pt x="499" y="521"/>
                  </a:lnTo>
                  <a:lnTo>
                    <a:pt x="503" y="519"/>
                  </a:lnTo>
                  <a:lnTo>
                    <a:pt x="497" y="520"/>
                  </a:lnTo>
                  <a:lnTo>
                    <a:pt x="490" y="520"/>
                  </a:lnTo>
                  <a:lnTo>
                    <a:pt x="483" y="519"/>
                  </a:lnTo>
                  <a:lnTo>
                    <a:pt x="475" y="517"/>
                  </a:lnTo>
                  <a:lnTo>
                    <a:pt x="468" y="515"/>
                  </a:lnTo>
                  <a:lnTo>
                    <a:pt x="459" y="514"/>
                  </a:lnTo>
                  <a:lnTo>
                    <a:pt x="452" y="514"/>
                  </a:lnTo>
                  <a:lnTo>
                    <a:pt x="444" y="513"/>
                  </a:lnTo>
                  <a:lnTo>
                    <a:pt x="437" y="511"/>
                  </a:lnTo>
                  <a:lnTo>
                    <a:pt x="432" y="506"/>
                  </a:lnTo>
                  <a:lnTo>
                    <a:pt x="428" y="501"/>
                  </a:lnTo>
                  <a:lnTo>
                    <a:pt x="427" y="493"/>
                  </a:lnTo>
                  <a:lnTo>
                    <a:pt x="437" y="475"/>
                  </a:lnTo>
                  <a:lnTo>
                    <a:pt x="447" y="464"/>
                  </a:lnTo>
                  <a:lnTo>
                    <a:pt x="457" y="457"/>
                  </a:lnTo>
                  <a:lnTo>
                    <a:pt x="468" y="455"/>
                  </a:lnTo>
                  <a:lnTo>
                    <a:pt x="477" y="454"/>
                  </a:lnTo>
                  <a:lnTo>
                    <a:pt x="487" y="453"/>
                  </a:lnTo>
                  <a:lnTo>
                    <a:pt x="496" y="450"/>
                  </a:lnTo>
                  <a:lnTo>
                    <a:pt x="504" y="444"/>
                  </a:lnTo>
                  <a:lnTo>
                    <a:pt x="501" y="438"/>
                  </a:lnTo>
                  <a:lnTo>
                    <a:pt x="500" y="432"/>
                  </a:lnTo>
                  <a:lnTo>
                    <a:pt x="500" y="425"/>
                  </a:lnTo>
                  <a:lnTo>
                    <a:pt x="501" y="419"/>
                  </a:lnTo>
                  <a:lnTo>
                    <a:pt x="503" y="412"/>
                  </a:lnTo>
                  <a:lnTo>
                    <a:pt x="506" y="404"/>
                  </a:lnTo>
                  <a:lnTo>
                    <a:pt x="510" y="395"/>
                  </a:lnTo>
                  <a:lnTo>
                    <a:pt x="513" y="386"/>
                  </a:lnTo>
                  <a:lnTo>
                    <a:pt x="515" y="375"/>
                  </a:lnTo>
                  <a:lnTo>
                    <a:pt x="517" y="362"/>
                  </a:lnTo>
                  <a:lnTo>
                    <a:pt x="519" y="348"/>
                  </a:lnTo>
                  <a:lnTo>
                    <a:pt x="519" y="333"/>
                  </a:lnTo>
                  <a:lnTo>
                    <a:pt x="518" y="315"/>
                  </a:lnTo>
                  <a:lnTo>
                    <a:pt x="516" y="295"/>
                  </a:lnTo>
                  <a:lnTo>
                    <a:pt x="512" y="272"/>
                  </a:lnTo>
                  <a:lnTo>
                    <a:pt x="504" y="248"/>
                  </a:lnTo>
                  <a:lnTo>
                    <a:pt x="504" y="241"/>
                  </a:lnTo>
                  <a:lnTo>
                    <a:pt x="507" y="235"/>
                  </a:lnTo>
                  <a:lnTo>
                    <a:pt x="512" y="227"/>
                  </a:lnTo>
                  <a:lnTo>
                    <a:pt x="516" y="220"/>
                  </a:lnTo>
                  <a:lnTo>
                    <a:pt x="519" y="212"/>
                  </a:lnTo>
                  <a:lnTo>
                    <a:pt x="522" y="204"/>
                  </a:lnTo>
                  <a:lnTo>
                    <a:pt x="523" y="196"/>
                  </a:lnTo>
                  <a:lnTo>
                    <a:pt x="521" y="189"/>
                  </a:lnTo>
                  <a:lnTo>
                    <a:pt x="515" y="188"/>
                  </a:lnTo>
                  <a:lnTo>
                    <a:pt x="511" y="184"/>
                  </a:lnTo>
                  <a:lnTo>
                    <a:pt x="506" y="179"/>
                  </a:lnTo>
                  <a:lnTo>
                    <a:pt x="499" y="171"/>
                  </a:lnTo>
                  <a:lnTo>
                    <a:pt x="485" y="160"/>
                  </a:lnTo>
                  <a:lnTo>
                    <a:pt x="462" y="147"/>
                  </a:lnTo>
                  <a:lnTo>
                    <a:pt x="428" y="133"/>
                  </a:lnTo>
                  <a:lnTo>
                    <a:pt x="379" y="118"/>
                  </a:lnTo>
                  <a:lnTo>
                    <a:pt x="374" y="107"/>
                  </a:lnTo>
                  <a:lnTo>
                    <a:pt x="374" y="92"/>
                  </a:lnTo>
                  <a:lnTo>
                    <a:pt x="378" y="74"/>
                  </a:lnTo>
                  <a:lnTo>
                    <a:pt x="384" y="55"/>
                  </a:lnTo>
                  <a:lnTo>
                    <a:pt x="392" y="37"/>
                  </a:lnTo>
                  <a:lnTo>
                    <a:pt x="399" y="20"/>
                  </a:lnTo>
                  <a:lnTo>
                    <a:pt x="405" y="7"/>
                  </a:lnTo>
                  <a:lnTo>
                    <a:pt x="408" y="0"/>
                  </a:lnTo>
                  <a:lnTo>
                    <a:pt x="399" y="6"/>
                  </a:lnTo>
                  <a:lnTo>
                    <a:pt x="390" y="10"/>
                  </a:lnTo>
                  <a:lnTo>
                    <a:pt x="381" y="14"/>
                  </a:lnTo>
                  <a:lnTo>
                    <a:pt x="371" y="18"/>
                  </a:lnTo>
                  <a:lnTo>
                    <a:pt x="362" y="21"/>
                  </a:lnTo>
                  <a:lnTo>
                    <a:pt x="353" y="24"/>
                  </a:lnTo>
                  <a:lnTo>
                    <a:pt x="343" y="25"/>
                  </a:lnTo>
                  <a:lnTo>
                    <a:pt x="333" y="27"/>
                  </a:lnTo>
                  <a:lnTo>
                    <a:pt x="322" y="27"/>
                  </a:lnTo>
                  <a:lnTo>
                    <a:pt x="312" y="27"/>
                  </a:lnTo>
                  <a:lnTo>
                    <a:pt x="301" y="26"/>
                  </a:lnTo>
                  <a:lnTo>
                    <a:pt x="289" y="24"/>
                  </a:lnTo>
                  <a:lnTo>
                    <a:pt x="276" y="22"/>
                  </a:lnTo>
                  <a:lnTo>
                    <a:pt x="263" y="18"/>
                  </a:lnTo>
                  <a:lnTo>
                    <a:pt x="249" y="13"/>
                  </a:lnTo>
                  <a:lnTo>
                    <a:pt x="236" y="7"/>
                  </a:lnTo>
                  <a:lnTo>
                    <a:pt x="234" y="14"/>
                  </a:lnTo>
                  <a:lnTo>
                    <a:pt x="231" y="24"/>
                  </a:lnTo>
                  <a:lnTo>
                    <a:pt x="227" y="35"/>
                  </a:lnTo>
                  <a:lnTo>
                    <a:pt x="223" y="45"/>
                  </a:lnTo>
                  <a:lnTo>
                    <a:pt x="216" y="57"/>
                  </a:lnTo>
                  <a:lnTo>
                    <a:pt x="210" y="68"/>
                  </a:lnTo>
                  <a:lnTo>
                    <a:pt x="204" y="77"/>
                  </a:lnTo>
                  <a:lnTo>
                    <a:pt x="199" y="85"/>
                  </a:lnTo>
                  <a:lnTo>
                    <a:pt x="199" y="103"/>
                  </a:lnTo>
                  <a:lnTo>
                    <a:pt x="198" y="120"/>
                  </a:lnTo>
                  <a:lnTo>
                    <a:pt x="197" y="138"/>
                  </a:lnTo>
                  <a:lnTo>
                    <a:pt x="195" y="157"/>
                  </a:lnTo>
                  <a:lnTo>
                    <a:pt x="194" y="174"/>
                  </a:lnTo>
                  <a:lnTo>
                    <a:pt x="192" y="192"/>
                  </a:lnTo>
                  <a:lnTo>
                    <a:pt x="190" y="210"/>
                  </a:lnTo>
                  <a:lnTo>
                    <a:pt x="187" y="227"/>
                  </a:lnTo>
                  <a:lnTo>
                    <a:pt x="184" y="245"/>
                  </a:lnTo>
                  <a:lnTo>
                    <a:pt x="182" y="264"/>
                  </a:lnTo>
                  <a:lnTo>
                    <a:pt x="180" y="282"/>
                  </a:lnTo>
                  <a:lnTo>
                    <a:pt x="179" y="299"/>
                  </a:lnTo>
                  <a:lnTo>
                    <a:pt x="177" y="317"/>
                  </a:lnTo>
                  <a:lnTo>
                    <a:pt x="176" y="335"/>
                  </a:lnTo>
                  <a:lnTo>
                    <a:pt x="175" y="352"/>
                  </a:lnTo>
                  <a:lnTo>
                    <a:pt x="175" y="371"/>
                  </a:lnTo>
                  <a:lnTo>
                    <a:pt x="170" y="372"/>
                  </a:lnTo>
                  <a:lnTo>
                    <a:pt x="166" y="373"/>
                  </a:lnTo>
                  <a:lnTo>
                    <a:pt x="161" y="376"/>
                  </a:lnTo>
                  <a:lnTo>
                    <a:pt x="156" y="378"/>
                  </a:lnTo>
                  <a:lnTo>
                    <a:pt x="152" y="381"/>
                  </a:lnTo>
                  <a:lnTo>
                    <a:pt x="147" y="384"/>
                  </a:lnTo>
                  <a:lnTo>
                    <a:pt x="142" y="386"/>
                  </a:lnTo>
                  <a:lnTo>
                    <a:pt x="138" y="387"/>
                  </a:lnTo>
                  <a:lnTo>
                    <a:pt x="138" y="291"/>
                  </a:lnTo>
                  <a:lnTo>
                    <a:pt x="120" y="269"/>
                  </a:lnTo>
                  <a:lnTo>
                    <a:pt x="103" y="251"/>
                  </a:lnTo>
                  <a:lnTo>
                    <a:pt x="87" y="238"/>
                  </a:lnTo>
                  <a:lnTo>
                    <a:pt x="71" y="229"/>
                  </a:lnTo>
                  <a:lnTo>
                    <a:pt x="54" y="227"/>
                  </a:lnTo>
                  <a:lnTo>
                    <a:pt x="38" y="232"/>
                  </a:lnTo>
                  <a:lnTo>
                    <a:pt x="20" y="243"/>
                  </a:lnTo>
                  <a:lnTo>
                    <a:pt x="2" y="264"/>
                  </a:lnTo>
                  <a:lnTo>
                    <a:pt x="0" y="283"/>
                  </a:lnTo>
                  <a:lnTo>
                    <a:pt x="0" y="302"/>
                  </a:lnTo>
                  <a:lnTo>
                    <a:pt x="0" y="320"/>
                  </a:lnTo>
                  <a:lnTo>
                    <a:pt x="2" y="338"/>
                  </a:lnTo>
                  <a:lnTo>
                    <a:pt x="4" y="355"/>
                  </a:lnTo>
                  <a:lnTo>
                    <a:pt x="8" y="372"/>
                  </a:lnTo>
                  <a:lnTo>
                    <a:pt x="11" y="387"/>
                  </a:lnTo>
                  <a:lnTo>
                    <a:pt x="16" y="402"/>
                  </a:lnTo>
                  <a:lnTo>
                    <a:pt x="20" y="417"/>
                  </a:lnTo>
                  <a:lnTo>
                    <a:pt x="26" y="430"/>
                  </a:lnTo>
                  <a:lnTo>
                    <a:pt x="32" y="443"/>
                  </a:lnTo>
                  <a:lnTo>
                    <a:pt x="39" y="455"/>
                  </a:lnTo>
                  <a:lnTo>
                    <a:pt x="45" y="467"/>
                  </a:lnTo>
                  <a:lnTo>
                    <a:pt x="51" y="478"/>
                  </a:lnTo>
                  <a:lnTo>
                    <a:pt x="59" y="488"/>
                  </a:lnTo>
                  <a:lnTo>
                    <a:pt x="65" y="498"/>
                  </a:lnTo>
                  <a:lnTo>
                    <a:pt x="74" y="499"/>
                  </a:lnTo>
                  <a:lnTo>
                    <a:pt x="81" y="500"/>
                  </a:lnTo>
                  <a:lnTo>
                    <a:pt x="89" y="503"/>
                  </a:lnTo>
                  <a:lnTo>
                    <a:pt x="95" y="506"/>
                  </a:lnTo>
                  <a:lnTo>
                    <a:pt x="102" y="509"/>
                  </a:lnTo>
                  <a:lnTo>
                    <a:pt x="109" y="512"/>
                  </a:lnTo>
                  <a:lnTo>
                    <a:pt x="118" y="514"/>
                  </a:lnTo>
                  <a:lnTo>
                    <a:pt x="126" y="515"/>
                  </a:lnTo>
                  <a:lnTo>
                    <a:pt x="128" y="521"/>
                  </a:lnTo>
                  <a:lnTo>
                    <a:pt x="133" y="528"/>
                  </a:lnTo>
                  <a:lnTo>
                    <a:pt x="139" y="534"/>
                  </a:lnTo>
                  <a:lnTo>
                    <a:pt x="148" y="540"/>
                  </a:lnTo>
                  <a:lnTo>
                    <a:pt x="155" y="546"/>
                  </a:lnTo>
                  <a:lnTo>
                    <a:pt x="162" y="551"/>
                  </a:lnTo>
                  <a:lnTo>
                    <a:pt x="166" y="558"/>
                  </a:lnTo>
                  <a:lnTo>
                    <a:pt x="168" y="563"/>
                  </a:lnTo>
                  <a:lnTo>
                    <a:pt x="169" y="588"/>
                  </a:lnTo>
                  <a:lnTo>
                    <a:pt x="171" y="612"/>
                  </a:lnTo>
                  <a:lnTo>
                    <a:pt x="175" y="636"/>
                  </a:lnTo>
                  <a:lnTo>
                    <a:pt x="180" y="657"/>
                  </a:lnTo>
                  <a:lnTo>
                    <a:pt x="186" y="679"/>
                  </a:lnTo>
                  <a:lnTo>
                    <a:pt x="194" y="699"/>
                  </a:lnTo>
                  <a:lnTo>
                    <a:pt x="203" y="718"/>
                  </a:lnTo>
                  <a:lnTo>
                    <a:pt x="213" y="737"/>
                  </a:lnTo>
                  <a:lnTo>
                    <a:pt x="225" y="755"/>
                  </a:lnTo>
                  <a:lnTo>
                    <a:pt x="237" y="771"/>
                  </a:lnTo>
                  <a:lnTo>
                    <a:pt x="251" y="787"/>
                  </a:lnTo>
                  <a:lnTo>
                    <a:pt x="264" y="801"/>
                  </a:lnTo>
                  <a:lnTo>
                    <a:pt x="280" y="814"/>
                  </a:lnTo>
                  <a:lnTo>
                    <a:pt x="297" y="826"/>
                  </a:lnTo>
                  <a:lnTo>
                    <a:pt x="313" y="837"/>
                  </a:lnTo>
                  <a:lnTo>
                    <a:pt x="331" y="848"/>
                  </a:lnTo>
                  <a:lnTo>
                    <a:pt x="348" y="857"/>
                  </a:lnTo>
                  <a:lnTo>
                    <a:pt x="364" y="867"/>
                  </a:lnTo>
                  <a:lnTo>
                    <a:pt x="379" y="877"/>
                  </a:lnTo>
                  <a:lnTo>
                    <a:pt x="394" y="886"/>
                  </a:lnTo>
                  <a:lnTo>
                    <a:pt x="408" y="895"/>
                  </a:lnTo>
                  <a:lnTo>
                    <a:pt x="422" y="902"/>
                  </a:lnTo>
                  <a:lnTo>
                    <a:pt x="437" y="909"/>
                  </a:lnTo>
                  <a:lnTo>
                    <a:pt x="452" y="915"/>
                  </a:lnTo>
                  <a:lnTo>
                    <a:pt x="467" y="919"/>
                  </a:lnTo>
                  <a:lnTo>
                    <a:pt x="484" y="922"/>
                  </a:lnTo>
                  <a:lnTo>
                    <a:pt x="502" y="925"/>
                  </a:lnTo>
                  <a:lnTo>
                    <a:pt x="521" y="925"/>
                  </a:lnTo>
                  <a:lnTo>
                    <a:pt x="543" y="922"/>
                  </a:lnTo>
                  <a:lnTo>
                    <a:pt x="567" y="918"/>
                  </a:lnTo>
                  <a:lnTo>
                    <a:pt x="594" y="912"/>
                  </a:lnTo>
                  <a:lnTo>
                    <a:pt x="623" y="902"/>
                  </a:lnTo>
                  <a:close/>
                  <a:moveTo>
                    <a:pt x="518" y="531"/>
                  </a:moveTo>
                  <a:lnTo>
                    <a:pt x="521" y="533"/>
                  </a:lnTo>
                  <a:lnTo>
                    <a:pt x="526" y="533"/>
                  </a:lnTo>
                  <a:lnTo>
                    <a:pt x="529" y="534"/>
                  </a:lnTo>
                  <a:lnTo>
                    <a:pt x="532" y="536"/>
                  </a:lnTo>
                  <a:lnTo>
                    <a:pt x="537" y="533"/>
                  </a:lnTo>
                  <a:lnTo>
                    <a:pt x="543" y="532"/>
                  </a:lnTo>
                  <a:lnTo>
                    <a:pt x="547" y="531"/>
                  </a:lnTo>
                  <a:lnTo>
                    <a:pt x="552" y="529"/>
                  </a:lnTo>
                  <a:lnTo>
                    <a:pt x="553" y="537"/>
                  </a:lnTo>
                  <a:lnTo>
                    <a:pt x="556" y="545"/>
                  </a:lnTo>
                  <a:lnTo>
                    <a:pt x="557" y="550"/>
                  </a:lnTo>
                  <a:lnTo>
                    <a:pt x="558" y="556"/>
                  </a:lnTo>
                  <a:lnTo>
                    <a:pt x="558" y="561"/>
                  </a:lnTo>
                  <a:lnTo>
                    <a:pt x="559" y="567"/>
                  </a:lnTo>
                  <a:lnTo>
                    <a:pt x="561" y="574"/>
                  </a:lnTo>
                  <a:lnTo>
                    <a:pt x="562" y="583"/>
                  </a:lnTo>
                  <a:lnTo>
                    <a:pt x="555" y="584"/>
                  </a:lnTo>
                  <a:lnTo>
                    <a:pt x="548" y="587"/>
                  </a:lnTo>
                  <a:lnTo>
                    <a:pt x="542" y="590"/>
                  </a:lnTo>
                  <a:lnTo>
                    <a:pt x="534" y="591"/>
                  </a:lnTo>
                  <a:lnTo>
                    <a:pt x="529" y="588"/>
                  </a:lnTo>
                  <a:lnTo>
                    <a:pt x="523" y="584"/>
                  </a:lnTo>
                  <a:lnTo>
                    <a:pt x="519" y="582"/>
                  </a:lnTo>
                  <a:lnTo>
                    <a:pt x="514" y="579"/>
                  </a:lnTo>
                  <a:lnTo>
                    <a:pt x="514" y="572"/>
                  </a:lnTo>
                  <a:lnTo>
                    <a:pt x="514" y="564"/>
                  </a:lnTo>
                  <a:lnTo>
                    <a:pt x="514" y="559"/>
                  </a:lnTo>
                  <a:lnTo>
                    <a:pt x="513" y="555"/>
                  </a:lnTo>
                  <a:lnTo>
                    <a:pt x="513" y="549"/>
                  </a:lnTo>
                  <a:lnTo>
                    <a:pt x="514" y="544"/>
                  </a:lnTo>
                  <a:lnTo>
                    <a:pt x="516" y="539"/>
                  </a:lnTo>
                  <a:lnTo>
                    <a:pt x="518" y="531"/>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2" name="Freeform 136"/>
            <p:cNvSpPr/>
            <p:nvPr/>
          </p:nvSpPr>
          <p:spPr>
            <a:xfrm>
              <a:off x="5472720" y="4235760"/>
              <a:ext cx="402840" cy="292320"/>
            </a:xfrm>
            <a:custGeom>
              <a:avLst/>
              <a:gdLst>
                <a:gd name="textAreaLeft" fmla="*/ 0 w 402840"/>
                <a:gd name="textAreaRight" fmla="*/ 403200 w 402840"/>
                <a:gd name="textAreaTop" fmla="*/ 0 h 292320"/>
                <a:gd name="textAreaBottom" fmla="*/ 292680 h 292320"/>
              </a:gdLst>
              <a:ahLst/>
              <a:rect l="textAreaLeft" t="textAreaTop" r="textAreaRight" b="textAreaBottom"/>
              <a:pathLst>
                <a:path w="2639" h="2213">
                  <a:moveTo>
                    <a:pt x="0" y="1987"/>
                  </a:moveTo>
                  <a:lnTo>
                    <a:pt x="4" y="1995"/>
                  </a:lnTo>
                  <a:lnTo>
                    <a:pt x="7" y="2003"/>
                  </a:lnTo>
                  <a:lnTo>
                    <a:pt x="8" y="2012"/>
                  </a:lnTo>
                  <a:lnTo>
                    <a:pt x="10" y="2021"/>
                  </a:lnTo>
                  <a:lnTo>
                    <a:pt x="10" y="2029"/>
                  </a:lnTo>
                  <a:lnTo>
                    <a:pt x="10" y="2039"/>
                  </a:lnTo>
                  <a:lnTo>
                    <a:pt x="10" y="2048"/>
                  </a:lnTo>
                  <a:lnTo>
                    <a:pt x="9" y="2059"/>
                  </a:lnTo>
                  <a:lnTo>
                    <a:pt x="9" y="2070"/>
                  </a:lnTo>
                  <a:lnTo>
                    <a:pt x="8" y="2082"/>
                  </a:lnTo>
                  <a:lnTo>
                    <a:pt x="7" y="2093"/>
                  </a:lnTo>
                  <a:lnTo>
                    <a:pt x="6" y="2105"/>
                  </a:lnTo>
                  <a:lnTo>
                    <a:pt x="6" y="2118"/>
                  </a:lnTo>
                  <a:lnTo>
                    <a:pt x="6" y="2132"/>
                  </a:lnTo>
                  <a:lnTo>
                    <a:pt x="6" y="2146"/>
                  </a:lnTo>
                  <a:lnTo>
                    <a:pt x="7" y="2161"/>
                  </a:lnTo>
                  <a:lnTo>
                    <a:pt x="19" y="2213"/>
                  </a:lnTo>
                  <a:lnTo>
                    <a:pt x="31" y="2203"/>
                  </a:lnTo>
                  <a:lnTo>
                    <a:pt x="42" y="2195"/>
                  </a:lnTo>
                  <a:lnTo>
                    <a:pt x="52" y="2189"/>
                  </a:lnTo>
                  <a:lnTo>
                    <a:pt x="61" y="2181"/>
                  </a:lnTo>
                  <a:lnTo>
                    <a:pt x="72" y="2174"/>
                  </a:lnTo>
                  <a:lnTo>
                    <a:pt x="85" y="2165"/>
                  </a:lnTo>
                  <a:lnTo>
                    <a:pt x="102" y="2153"/>
                  </a:lnTo>
                  <a:lnTo>
                    <a:pt x="122" y="2138"/>
                  </a:lnTo>
                  <a:lnTo>
                    <a:pt x="103" y="2128"/>
                  </a:lnTo>
                  <a:lnTo>
                    <a:pt x="89" y="2112"/>
                  </a:lnTo>
                  <a:lnTo>
                    <a:pt x="77" y="2093"/>
                  </a:lnTo>
                  <a:lnTo>
                    <a:pt x="68" y="2072"/>
                  </a:lnTo>
                  <a:lnTo>
                    <a:pt x="57" y="2051"/>
                  </a:lnTo>
                  <a:lnTo>
                    <a:pt x="43" y="2028"/>
                  </a:lnTo>
                  <a:lnTo>
                    <a:pt x="25" y="2007"/>
                  </a:lnTo>
                  <a:lnTo>
                    <a:pt x="0" y="1987"/>
                  </a:lnTo>
                  <a:close/>
                  <a:moveTo>
                    <a:pt x="2473" y="1976"/>
                  </a:moveTo>
                  <a:lnTo>
                    <a:pt x="2483" y="1983"/>
                  </a:lnTo>
                  <a:lnTo>
                    <a:pt x="2491" y="1992"/>
                  </a:lnTo>
                  <a:lnTo>
                    <a:pt x="2498" y="2003"/>
                  </a:lnTo>
                  <a:lnTo>
                    <a:pt x="2503" y="2015"/>
                  </a:lnTo>
                  <a:lnTo>
                    <a:pt x="2508" y="2028"/>
                  </a:lnTo>
                  <a:lnTo>
                    <a:pt x="2515" y="2041"/>
                  </a:lnTo>
                  <a:lnTo>
                    <a:pt x="2521" y="2054"/>
                  </a:lnTo>
                  <a:lnTo>
                    <a:pt x="2529" y="2067"/>
                  </a:lnTo>
                  <a:lnTo>
                    <a:pt x="2529" y="2078"/>
                  </a:lnTo>
                  <a:lnTo>
                    <a:pt x="2527" y="2088"/>
                  </a:lnTo>
                  <a:lnTo>
                    <a:pt x="2525" y="2098"/>
                  </a:lnTo>
                  <a:lnTo>
                    <a:pt x="2523" y="2106"/>
                  </a:lnTo>
                  <a:lnTo>
                    <a:pt x="2520" y="2115"/>
                  </a:lnTo>
                  <a:lnTo>
                    <a:pt x="2519" y="2124"/>
                  </a:lnTo>
                  <a:lnTo>
                    <a:pt x="2517" y="2134"/>
                  </a:lnTo>
                  <a:lnTo>
                    <a:pt x="2517" y="2146"/>
                  </a:lnTo>
                  <a:lnTo>
                    <a:pt x="2547" y="2196"/>
                  </a:lnTo>
                  <a:lnTo>
                    <a:pt x="2560" y="2184"/>
                  </a:lnTo>
                  <a:lnTo>
                    <a:pt x="2573" y="2171"/>
                  </a:lnTo>
                  <a:lnTo>
                    <a:pt x="2585" y="2157"/>
                  </a:lnTo>
                  <a:lnTo>
                    <a:pt x="2598" y="2144"/>
                  </a:lnTo>
                  <a:lnTo>
                    <a:pt x="2611" y="2131"/>
                  </a:lnTo>
                  <a:lnTo>
                    <a:pt x="2622" y="2118"/>
                  </a:lnTo>
                  <a:lnTo>
                    <a:pt x="2631" y="2107"/>
                  </a:lnTo>
                  <a:lnTo>
                    <a:pt x="2639" y="2099"/>
                  </a:lnTo>
                  <a:lnTo>
                    <a:pt x="2624" y="2079"/>
                  </a:lnTo>
                  <a:lnTo>
                    <a:pt x="2605" y="2060"/>
                  </a:lnTo>
                  <a:lnTo>
                    <a:pt x="2583" y="2041"/>
                  </a:lnTo>
                  <a:lnTo>
                    <a:pt x="2561" y="2024"/>
                  </a:lnTo>
                  <a:lnTo>
                    <a:pt x="2537" y="2008"/>
                  </a:lnTo>
                  <a:lnTo>
                    <a:pt x="2514" y="1994"/>
                  </a:lnTo>
                  <a:lnTo>
                    <a:pt x="2492" y="1983"/>
                  </a:lnTo>
                  <a:lnTo>
                    <a:pt x="2473" y="1976"/>
                  </a:lnTo>
                  <a:close/>
                  <a:moveTo>
                    <a:pt x="1361" y="1068"/>
                  </a:moveTo>
                  <a:lnTo>
                    <a:pt x="1361" y="1017"/>
                  </a:lnTo>
                  <a:lnTo>
                    <a:pt x="1365" y="968"/>
                  </a:lnTo>
                  <a:lnTo>
                    <a:pt x="1373" y="921"/>
                  </a:lnTo>
                  <a:lnTo>
                    <a:pt x="1382" y="875"/>
                  </a:lnTo>
                  <a:lnTo>
                    <a:pt x="1394" y="831"/>
                  </a:lnTo>
                  <a:lnTo>
                    <a:pt x="1407" y="787"/>
                  </a:lnTo>
                  <a:lnTo>
                    <a:pt x="1422" y="746"/>
                  </a:lnTo>
                  <a:lnTo>
                    <a:pt x="1437" y="705"/>
                  </a:lnTo>
                  <a:lnTo>
                    <a:pt x="1451" y="665"/>
                  </a:lnTo>
                  <a:lnTo>
                    <a:pt x="1466" y="626"/>
                  </a:lnTo>
                  <a:lnTo>
                    <a:pt x="1479" y="587"/>
                  </a:lnTo>
                  <a:lnTo>
                    <a:pt x="1490" y="549"/>
                  </a:lnTo>
                  <a:lnTo>
                    <a:pt x="1500" y="511"/>
                  </a:lnTo>
                  <a:lnTo>
                    <a:pt x="1506" y="474"/>
                  </a:lnTo>
                  <a:lnTo>
                    <a:pt x="1510" y="435"/>
                  </a:lnTo>
                  <a:lnTo>
                    <a:pt x="1510" y="398"/>
                  </a:lnTo>
                  <a:lnTo>
                    <a:pt x="1505" y="389"/>
                  </a:lnTo>
                  <a:lnTo>
                    <a:pt x="1501" y="374"/>
                  </a:lnTo>
                  <a:lnTo>
                    <a:pt x="1497" y="354"/>
                  </a:lnTo>
                  <a:lnTo>
                    <a:pt x="1491" y="330"/>
                  </a:lnTo>
                  <a:lnTo>
                    <a:pt x="1485" y="301"/>
                  </a:lnTo>
                  <a:lnTo>
                    <a:pt x="1478" y="271"/>
                  </a:lnTo>
                  <a:lnTo>
                    <a:pt x="1470" y="238"/>
                  </a:lnTo>
                  <a:lnTo>
                    <a:pt x="1461" y="203"/>
                  </a:lnTo>
                  <a:lnTo>
                    <a:pt x="1451" y="170"/>
                  </a:lnTo>
                  <a:lnTo>
                    <a:pt x="1440" y="137"/>
                  </a:lnTo>
                  <a:lnTo>
                    <a:pt x="1428" y="105"/>
                  </a:lnTo>
                  <a:lnTo>
                    <a:pt x="1414" y="76"/>
                  </a:lnTo>
                  <a:lnTo>
                    <a:pt x="1399" y="50"/>
                  </a:lnTo>
                  <a:lnTo>
                    <a:pt x="1383" y="28"/>
                  </a:lnTo>
                  <a:lnTo>
                    <a:pt x="1365" y="11"/>
                  </a:lnTo>
                  <a:lnTo>
                    <a:pt x="1346" y="0"/>
                  </a:lnTo>
                  <a:lnTo>
                    <a:pt x="1266" y="0"/>
                  </a:lnTo>
                  <a:lnTo>
                    <a:pt x="1247" y="13"/>
                  </a:lnTo>
                  <a:lnTo>
                    <a:pt x="1231" y="26"/>
                  </a:lnTo>
                  <a:lnTo>
                    <a:pt x="1217" y="40"/>
                  </a:lnTo>
                  <a:lnTo>
                    <a:pt x="1206" y="54"/>
                  </a:lnTo>
                  <a:lnTo>
                    <a:pt x="1194" y="69"/>
                  </a:lnTo>
                  <a:lnTo>
                    <a:pt x="1184" y="85"/>
                  </a:lnTo>
                  <a:lnTo>
                    <a:pt x="1176" y="103"/>
                  </a:lnTo>
                  <a:lnTo>
                    <a:pt x="1168" y="121"/>
                  </a:lnTo>
                  <a:lnTo>
                    <a:pt x="1162" y="141"/>
                  </a:lnTo>
                  <a:lnTo>
                    <a:pt x="1155" y="163"/>
                  </a:lnTo>
                  <a:lnTo>
                    <a:pt x="1149" y="185"/>
                  </a:lnTo>
                  <a:lnTo>
                    <a:pt x="1143" y="211"/>
                  </a:lnTo>
                  <a:lnTo>
                    <a:pt x="1136" y="238"/>
                  </a:lnTo>
                  <a:lnTo>
                    <a:pt x="1130" y="266"/>
                  </a:lnTo>
                  <a:lnTo>
                    <a:pt x="1122" y="298"/>
                  </a:lnTo>
                  <a:lnTo>
                    <a:pt x="1115" y="332"/>
                  </a:lnTo>
                  <a:lnTo>
                    <a:pt x="1119" y="343"/>
                  </a:lnTo>
                  <a:lnTo>
                    <a:pt x="1125" y="357"/>
                  </a:lnTo>
                  <a:lnTo>
                    <a:pt x="1132" y="373"/>
                  </a:lnTo>
                  <a:lnTo>
                    <a:pt x="1140" y="388"/>
                  </a:lnTo>
                  <a:lnTo>
                    <a:pt x="1148" y="402"/>
                  </a:lnTo>
                  <a:lnTo>
                    <a:pt x="1153" y="414"/>
                  </a:lnTo>
                  <a:lnTo>
                    <a:pt x="1158" y="421"/>
                  </a:lnTo>
                  <a:lnTo>
                    <a:pt x="1160" y="425"/>
                  </a:lnTo>
                  <a:lnTo>
                    <a:pt x="1165" y="434"/>
                  </a:lnTo>
                  <a:lnTo>
                    <a:pt x="1171" y="445"/>
                  </a:lnTo>
                  <a:lnTo>
                    <a:pt x="1177" y="458"/>
                  </a:lnTo>
                  <a:lnTo>
                    <a:pt x="1182" y="471"/>
                  </a:lnTo>
                  <a:lnTo>
                    <a:pt x="1189" y="486"/>
                  </a:lnTo>
                  <a:lnTo>
                    <a:pt x="1194" y="501"/>
                  </a:lnTo>
                  <a:lnTo>
                    <a:pt x="1200" y="516"/>
                  </a:lnTo>
                  <a:lnTo>
                    <a:pt x="1207" y="533"/>
                  </a:lnTo>
                  <a:lnTo>
                    <a:pt x="1212" y="549"/>
                  </a:lnTo>
                  <a:lnTo>
                    <a:pt x="1219" y="566"/>
                  </a:lnTo>
                  <a:lnTo>
                    <a:pt x="1224" y="584"/>
                  </a:lnTo>
                  <a:lnTo>
                    <a:pt x="1230" y="601"/>
                  </a:lnTo>
                  <a:lnTo>
                    <a:pt x="1236" y="618"/>
                  </a:lnTo>
                  <a:lnTo>
                    <a:pt x="1241" y="635"/>
                  </a:lnTo>
                  <a:lnTo>
                    <a:pt x="1247" y="653"/>
                  </a:lnTo>
                  <a:lnTo>
                    <a:pt x="1253" y="670"/>
                  </a:lnTo>
                  <a:lnTo>
                    <a:pt x="1261" y="694"/>
                  </a:lnTo>
                  <a:lnTo>
                    <a:pt x="1270" y="718"/>
                  </a:lnTo>
                  <a:lnTo>
                    <a:pt x="1277" y="741"/>
                  </a:lnTo>
                  <a:lnTo>
                    <a:pt x="1286" y="765"/>
                  </a:lnTo>
                  <a:lnTo>
                    <a:pt x="1293" y="787"/>
                  </a:lnTo>
                  <a:lnTo>
                    <a:pt x="1300" y="811"/>
                  </a:lnTo>
                  <a:lnTo>
                    <a:pt x="1307" y="833"/>
                  </a:lnTo>
                  <a:lnTo>
                    <a:pt x="1314" y="857"/>
                  </a:lnTo>
                  <a:lnTo>
                    <a:pt x="1320" y="880"/>
                  </a:lnTo>
                  <a:lnTo>
                    <a:pt x="1327" y="904"/>
                  </a:lnTo>
                  <a:lnTo>
                    <a:pt x="1333" y="928"/>
                  </a:lnTo>
                  <a:lnTo>
                    <a:pt x="1338" y="954"/>
                  </a:lnTo>
                  <a:lnTo>
                    <a:pt x="1345" y="981"/>
                  </a:lnTo>
                  <a:lnTo>
                    <a:pt x="1350" y="1009"/>
                  </a:lnTo>
                  <a:lnTo>
                    <a:pt x="1356" y="1038"/>
                  </a:lnTo>
                  <a:lnTo>
                    <a:pt x="1361" y="106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3" name="Freeform 137"/>
            <p:cNvSpPr/>
            <p:nvPr/>
          </p:nvSpPr>
          <p:spPr>
            <a:xfrm>
              <a:off x="5641560" y="4121640"/>
              <a:ext cx="77040" cy="13320"/>
            </a:xfrm>
            <a:custGeom>
              <a:avLst/>
              <a:gdLst>
                <a:gd name="textAreaLeft" fmla="*/ 0 w 77040"/>
                <a:gd name="textAreaRight" fmla="*/ 77400 w 77040"/>
                <a:gd name="textAreaTop" fmla="*/ 0 h 13320"/>
                <a:gd name="textAreaBottom" fmla="*/ 13680 h 13320"/>
              </a:gdLst>
              <a:ahLst/>
              <a:rect l="textAreaLeft" t="textAreaTop" r="textAreaRight" b="textAreaBottom"/>
              <a:pathLst>
                <a:path w="505" h="99">
                  <a:moveTo>
                    <a:pt x="364" y="63"/>
                  </a:moveTo>
                  <a:lnTo>
                    <a:pt x="366" y="70"/>
                  </a:lnTo>
                  <a:lnTo>
                    <a:pt x="370" y="76"/>
                  </a:lnTo>
                  <a:lnTo>
                    <a:pt x="378" y="80"/>
                  </a:lnTo>
                  <a:lnTo>
                    <a:pt x="385" y="80"/>
                  </a:lnTo>
                  <a:lnTo>
                    <a:pt x="399" y="87"/>
                  </a:lnTo>
                  <a:lnTo>
                    <a:pt x="413" y="94"/>
                  </a:lnTo>
                  <a:lnTo>
                    <a:pt x="428" y="97"/>
                  </a:lnTo>
                  <a:lnTo>
                    <a:pt x="443" y="99"/>
                  </a:lnTo>
                  <a:lnTo>
                    <a:pt x="458" y="99"/>
                  </a:lnTo>
                  <a:lnTo>
                    <a:pt x="474" y="96"/>
                  </a:lnTo>
                  <a:lnTo>
                    <a:pt x="489" y="91"/>
                  </a:lnTo>
                  <a:lnTo>
                    <a:pt x="505" y="81"/>
                  </a:lnTo>
                  <a:lnTo>
                    <a:pt x="492" y="69"/>
                  </a:lnTo>
                  <a:lnTo>
                    <a:pt x="482" y="62"/>
                  </a:lnTo>
                  <a:lnTo>
                    <a:pt x="473" y="56"/>
                  </a:lnTo>
                  <a:lnTo>
                    <a:pt x="466" y="53"/>
                  </a:lnTo>
                  <a:lnTo>
                    <a:pt x="458" y="52"/>
                  </a:lnTo>
                  <a:lnTo>
                    <a:pt x="451" y="51"/>
                  </a:lnTo>
                  <a:lnTo>
                    <a:pt x="441" y="50"/>
                  </a:lnTo>
                  <a:lnTo>
                    <a:pt x="430" y="48"/>
                  </a:lnTo>
                  <a:lnTo>
                    <a:pt x="416" y="44"/>
                  </a:lnTo>
                  <a:lnTo>
                    <a:pt x="404" y="41"/>
                  </a:lnTo>
                  <a:lnTo>
                    <a:pt x="394" y="41"/>
                  </a:lnTo>
                  <a:lnTo>
                    <a:pt x="384" y="41"/>
                  </a:lnTo>
                  <a:lnTo>
                    <a:pt x="378" y="45"/>
                  </a:lnTo>
                  <a:lnTo>
                    <a:pt x="371" y="49"/>
                  </a:lnTo>
                  <a:lnTo>
                    <a:pt x="367" y="54"/>
                  </a:lnTo>
                  <a:lnTo>
                    <a:pt x="364" y="63"/>
                  </a:lnTo>
                  <a:close/>
                  <a:moveTo>
                    <a:pt x="141" y="28"/>
                  </a:moveTo>
                  <a:lnTo>
                    <a:pt x="138" y="34"/>
                  </a:lnTo>
                  <a:lnTo>
                    <a:pt x="133" y="39"/>
                  </a:lnTo>
                  <a:lnTo>
                    <a:pt x="125" y="41"/>
                  </a:lnTo>
                  <a:lnTo>
                    <a:pt x="117" y="40"/>
                  </a:lnTo>
                  <a:lnTo>
                    <a:pt x="103" y="45"/>
                  </a:lnTo>
                  <a:lnTo>
                    <a:pt x="89" y="48"/>
                  </a:lnTo>
                  <a:lnTo>
                    <a:pt x="74" y="50"/>
                  </a:lnTo>
                  <a:lnTo>
                    <a:pt x="59" y="49"/>
                  </a:lnTo>
                  <a:lnTo>
                    <a:pt x="44" y="46"/>
                  </a:lnTo>
                  <a:lnTo>
                    <a:pt x="29" y="40"/>
                  </a:lnTo>
                  <a:lnTo>
                    <a:pt x="14" y="31"/>
                  </a:lnTo>
                  <a:lnTo>
                    <a:pt x="0" y="19"/>
                  </a:lnTo>
                  <a:lnTo>
                    <a:pt x="15" y="10"/>
                  </a:lnTo>
                  <a:lnTo>
                    <a:pt x="26" y="5"/>
                  </a:lnTo>
                  <a:lnTo>
                    <a:pt x="35" y="2"/>
                  </a:lnTo>
                  <a:lnTo>
                    <a:pt x="43" y="0"/>
                  </a:lnTo>
                  <a:lnTo>
                    <a:pt x="50" y="0"/>
                  </a:lnTo>
                  <a:lnTo>
                    <a:pt x="58" y="1"/>
                  </a:lnTo>
                  <a:lnTo>
                    <a:pt x="66" y="1"/>
                  </a:lnTo>
                  <a:lnTo>
                    <a:pt x="78" y="1"/>
                  </a:lnTo>
                  <a:lnTo>
                    <a:pt x="93" y="0"/>
                  </a:lnTo>
                  <a:lnTo>
                    <a:pt x="105" y="0"/>
                  </a:lnTo>
                  <a:lnTo>
                    <a:pt x="116" y="1"/>
                  </a:lnTo>
                  <a:lnTo>
                    <a:pt x="124" y="3"/>
                  </a:lnTo>
                  <a:lnTo>
                    <a:pt x="131" y="6"/>
                  </a:lnTo>
                  <a:lnTo>
                    <a:pt x="136" y="11"/>
                  </a:lnTo>
                  <a:lnTo>
                    <a:pt x="139" y="19"/>
                  </a:lnTo>
                  <a:lnTo>
                    <a:pt x="141" y="28"/>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514" name="Freeform 138"/>
            <p:cNvSpPr/>
            <p:nvPr/>
          </p:nvSpPr>
          <p:spPr>
            <a:xfrm>
              <a:off x="5616720" y="4152600"/>
              <a:ext cx="97200" cy="83160"/>
            </a:xfrm>
            <a:custGeom>
              <a:avLst/>
              <a:gdLst>
                <a:gd name="textAreaLeft" fmla="*/ 0 w 97200"/>
                <a:gd name="textAreaRight" fmla="*/ 97560 w 97200"/>
                <a:gd name="textAreaTop" fmla="*/ 0 h 83160"/>
                <a:gd name="textAreaBottom" fmla="*/ 83520 h 83160"/>
              </a:gdLst>
              <a:ahLst/>
              <a:rect l="textAreaLeft" t="textAreaTop" r="textAreaRight" b="textAreaBottom"/>
              <a:pathLst>
                <a:path w="635" h="629">
                  <a:moveTo>
                    <a:pt x="433" y="64"/>
                  </a:moveTo>
                  <a:lnTo>
                    <a:pt x="451" y="66"/>
                  </a:lnTo>
                  <a:lnTo>
                    <a:pt x="466" y="65"/>
                  </a:lnTo>
                  <a:lnTo>
                    <a:pt x="477" y="61"/>
                  </a:lnTo>
                  <a:lnTo>
                    <a:pt x="485" y="53"/>
                  </a:lnTo>
                  <a:lnTo>
                    <a:pt x="488" y="44"/>
                  </a:lnTo>
                  <a:lnTo>
                    <a:pt x="490" y="32"/>
                  </a:lnTo>
                  <a:lnTo>
                    <a:pt x="489" y="17"/>
                  </a:lnTo>
                  <a:lnTo>
                    <a:pt x="487" y="0"/>
                  </a:lnTo>
                  <a:lnTo>
                    <a:pt x="493" y="19"/>
                  </a:lnTo>
                  <a:lnTo>
                    <a:pt x="495" y="36"/>
                  </a:lnTo>
                  <a:lnTo>
                    <a:pt x="495" y="50"/>
                  </a:lnTo>
                  <a:lnTo>
                    <a:pt x="492" y="61"/>
                  </a:lnTo>
                  <a:lnTo>
                    <a:pt x="483" y="68"/>
                  </a:lnTo>
                  <a:lnTo>
                    <a:pt x="472" y="72"/>
                  </a:lnTo>
                  <a:lnTo>
                    <a:pt x="455" y="71"/>
                  </a:lnTo>
                  <a:lnTo>
                    <a:pt x="433" y="64"/>
                  </a:lnTo>
                  <a:close/>
                  <a:moveTo>
                    <a:pt x="259" y="167"/>
                  </a:moveTo>
                  <a:lnTo>
                    <a:pt x="266" y="174"/>
                  </a:lnTo>
                  <a:lnTo>
                    <a:pt x="274" y="182"/>
                  </a:lnTo>
                  <a:lnTo>
                    <a:pt x="281" y="189"/>
                  </a:lnTo>
                  <a:lnTo>
                    <a:pt x="289" y="197"/>
                  </a:lnTo>
                  <a:lnTo>
                    <a:pt x="296" y="204"/>
                  </a:lnTo>
                  <a:lnTo>
                    <a:pt x="305" y="211"/>
                  </a:lnTo>
                  <a:lnTo>
                    <a:pt x="313" y="217"/>
                  </a:lnTo>
                  <a:lnTo>
                    <a:pt x="322" y="222"/>
                  </a:lnTo>
                  <a:lnTo>
                    <a:pt x="335" y="223"/>
                  </a:lnTo>
                  <a:lnTo>
                    <a:pt x="346" y="223"/>
                  </a:lnTo>
                  <a:lnTo>
                    <a:pt x="359" y="222"/>
                  </a:lnTo>
                  <a:lnTo>
                    <a:pt x="372" y="221"/>
                  </a:lnTo>
                  <a:lnTo>
                    <a:pt x="387" y="222"/>
                  </a:lnTo>
                  <a:lnTo>
                    <a:pt x="402" y="223"/>
                  </a:lnTo>
                  <a:lnTo>
                    <a:pt x="419" y="228"/>
                  </a:lnTo>
                  <a:lnTo>
                    <a:pt x="438" y="234"/>
                  </a:lnTo>
                  <a:lnTo>
                    <a:pt x="445" y="233"/>
                  </a:lnTo>
                  <a:lnTo>
                    <a:pt x="452" y="230"/>
                  </a:lnTo>
                  <a:lnTo>
                    <a:pt x="461" y="225"/>
                  </a:lnTo>
                  <a:lnTo>
                    <a:pt x="472" y="217"/>
                  </a:lnTo>
                  <a:lnTo>
                    <a:pt x="485" y="208"/>
                  </a:lnTo>
                  <a:lnTo>
                    <a:pt x="501" y="201"/>
                  </a:lnTo>
                  <a:lnTo>
                    <a:pt x="520" y="194"/>
                  </a:lnTo>
                  <a:lnTo>
                    <a:pt x="544" y="188"/>
                  </a:lnTo>
                  <a:lnTo>
                    <a:pt x="509" y="180"/>
                  </a:lnTo>
                  <a:lnTo>
                    <a:pt x="483" y="175"/>
                  </a:lnTo>
                  <a:lnTo>
                    <a:pt x="464" y="175"/>
                  </a:lnTo>
                  <a:lnTo>
                    <a:pt x="449" y="176"/>
                  </a:lnTo>
                  <a:lnTo>
                    <a:pt x="437" y="180"/>
                  </a:lnTo>
                  <a:lnTo>
                    <a:pt x="426" y="183"/>
                  </a:lnTo>
                  <a:lnTo>
                    <a:pt x="413" y="185"/>
                  </a:lnTo>
                  <a:lnTo>
                    <a:pt x="398" y="185"/>
                  </a:lnTo>
                  <a:lnTo>
                    <a:pt x="382" y="183"/>
                  </a:lnTo>
                  <a:lnTo>
                    <a:pt x="370" y="180"/>
                  </a:lnTo>
                  <a:lnTo>
                    <a:pt x="360" y="176"/>
                  </a:lnTo>
                  <a:lnTo>
                    <a:pt x="350" y="173"/>
                  </a:lnTo>
                  <a:lnTo>
                    <a:pt x="336" y="170"/>
                  </a:lnTo>
                  <a:lnTo>
                    <a:pt x="318" y="168"/>
                  </a:lnTo>
                  <a:lnTo>
                    <a:pt x="293" y="167"/>
                  </a:lnTo>
                  <a:lnTo>
                    <a:pt x="259" y="167"/>
                  </a:lnTo>
                  <a:close/>
                  <a:moveTo>
                    <a:pt x="0" y="57"/>
                  </a:moveTo>
                  <a:lnTo>
                    <a:pt x="4" y="60"/>
                  </a:lnTo>
                  <a:lnTo>
                    <a:pt x="8" y="64"/>
                  </a:lnTo>
                  <a:lnTo>
                    <a:pt x="12" y="68"/>
                  </a:lnTo>
                  <a:lnTo>
                    <a:pt x="18" y="73"/>
                  </a:lnTo>
                  <a:lnTo>
                    <a:pt x="22" y="77"/>
                  </a:lnTo>
                  <a:lnTo>
                    <a:pt x="26" y="81"/>
                  </a:lnTo>
                  <a:lnTo>
                    <a:pt x="32" y="85"/>
                  </a:lnTo>
                  <a:lnTo>
                    <a:pt x="36" y="90"/>
                  </a:lnTo>
                  <a:lnTo>
                    <a:pt x="38" y="109"/>
                  </a:lnTo>
                  <a:lnTo>
                    <a:pt x="40" y="128"/>
                  </a:lnTo>
                  <a:lnTo>
                    <a:pt x="42" y="148"/>
                  </a:lnTo>
                  <a:lnTo>
                    <a:pt x="46" y="167"/>
                  </a:lnTo>
                  <a:lnTo>
                    <a:pt x="51" y="186"/>
                  </a:lnTo>
                  <a:lnTo>
                    <a:pt x="56" y="206"/>
                  </a:lnTo>
                  <a:lnTo>
                    <a:pt x="63" y="226"/>
                  </a:lnTo>
                  <a:lnTo>
                    <a:pt x="70" y="245"/>
                  </a:lnTo>
                  <a:lnTo>
                    <a:pt x="80" y="263"/>
                  </a:lnTo>
                  <a:lnTo>
                    <a:pt x="92" y="282"/>
                  </a:lnTo>
                  <a:lnTo>
                    <a:pt x="105" y="300"/>
                  </a:lnTo>
                  <a:lnTo>
                    <a:pt x="120" y="318"/>
                  </a:lnTo>
                  <a:lnTo>
                    <a:pt x="137" y="335"/>
                  </a:lnTo>
                  <a:lnTo>
                    <a:pt x="156" y="351"/>
                  </a:lnTo>
                  <a:lnTo>
                    <a:pt x="178" y="367"/>
                  </a:lnTo>
                  <a:lnTo>
                    <a:pt x="203" y="382"/>
                  </a:lnTo>
                  <a:lnTo>
                    <a:pt x="212" y="384"/>
                  </a:lnTo>
                  <a:lnTo>
                    <a:pt x="221" y="388"/>
                  </a:lnTo>
                  <a:lnTo>
                    <a:pt x="232" y="395"/>
                  </a:lnTo>
                  <a:lnTo>
                    <a:pt x="244" y="403"/>
                  </a:lnTo>
                  <a:lnTo>
                    <a:pt x="257" y="412"/>
                  </a:lnTo>
                  <a:lnTo>
                    <a:pt x="270" y="421"/>
                  </a:lnTo>
                  <a:lnTo>
                    <a:pt x="287" y="430"/>
                  </a:lnTo>
                  <a:lnTo>
                    <a:pt x="304" y="438"/>
                  </a:lnTo>
                  <a:lnTo>
                    <a:pt x="323" y="446"/>
                  </a:lnTo>
                  <a:lnTo>
                    <a:pt x="344" y="452"/>
                  </a:lnTo>
                  <a:lnTo>
                    <a:pt x="367" y="456"/>
                  </a:lnTo>
                  <a:lnTo>
                    <a:pt x="391" y="457"/>
                  </a:lnTo>
                  <a:lnTo>
                    <a:pt x="419" y="454"/>
                  </a:lnTo>
                  <a:lnTo>
                    <a:pt x="448" y="449"/>
                  </a:lnTo>
                  <a:lnTo>
                    <a:pt x="480" y="440"/>
                  </a:lnTo>
                  <a:lnTo>
                    <a:pt x="514" y="426"/>
                  </a:lnTo>
                  <a:lnTo>
                    <a:pt x="529" y="414"/>
                  </a:lnTo>
                  <a:lnTo>
                    <a:pt x="546" y="402"/>
                  </a:lnTo>
                  <a:lnTo>
                    <a:pt x="561" y="390"/>
                  </a:lnTo>
                  <a:lnTo>
                    <a:pt x="577" y="380"/>
                  </a:lnTo>
                  <a:lnTo>
                    <a:pt x="592" y="368"/>
                  </a:lnTo>
                  <a:lnTo>
                    <a:pt x="607" y="356"/>
                  </a:lnTo>
                  <a:lnTo>
                    <a:pt x="622" y="344"/>
                  </a:lnTo>
                  <a:lnTo>
                    <a:pt x="635" y="330"/>
                  </a:lnTo>
                  <a:lnTo>
                    <a:pt x="623" y="355"/>
                  </a:lnTo>
                  <a:lnTo>
                    <a:pt x="611" y="379"/>
                  </a:lnTo>
                  <a:lnTo>
                    <a:pt x="602" y="400"/>
                  </a:lnTo>
                  <a:lnTo>
                    <a:pt x="594" y="419"/>
                  </a:lnTo>
                  <a:lnTo>
                    <a:pt x="586" y="436"/>
                  </a:lnTo>
                  <a:lnTo>
                    <a:pt x="579" y="451"/>
                  </a:lnTo>
                  <a:lnTo>
                    <a:pt x="572" y="464"/>
                  </a:lnTo>
                  <a:lnTo>
                    <a:pt x="566" y="474"/>
                  </a:lnTo>
                  <a:lnTo>
                    <a:pt x="554" y="490"/>
                  </a:lnTo>
                  <a:lnTo>
                    <a:pt x="542" y="505"/>
                  </a:lnTo>
                  <a:lnTo>
                    <a:pt x="532" y="519"/>
                  </a:lnTo>
                  <a:lnTo>
                    <a:pt x="521" y="533"/>
                  </a:lnTo>
                  <a:lnTo>
                    <a:pt x="509" y="544"/>
                  </a:lnTo>
                  <a:lnTo>
                    <a:pt x="500" y="557"/>
                  </a:lnTo>
                  <a:lnTo>
                    <a:pt x="489" y="568"/>
                  </a:lnTo>
                  <a:lnTo>
                    <a:pt x="478" y="578"/>
                  </a:lnTo>
                  <a:lnTo>
                    <a:pt x="467" y="587"/>
                  </a:lnTo>
                  <a:lnTo>
                    <a:pt x="458" y="596"/>
                  </a:lnTo>
                  <a:lnTo>
                    <a:pt x="447" y="603"/>
                  </a:lnTo>
                  <a:lnTo>
                    <a:pt x="436" y="610"/>
                  </a:lnTo>
                  <a:lnTo>
                    <a:pt x="426" y="616"/>
                  </a:lnTo>
                  <a:lnTo>
                    <a:pt x="414" y="620"/>
                  </a:lnTo>
                  <a:lnTo>
                    <a:pt x="403" y="623"/>
                  </a:lnTo>
                  <a:lnTo>
                    <a:pt x="391" y="627"/>
                  </a:lnTo>
                  <a:lnTo>
                    <a:pt x="383" y="627"/>
                  </a:lnTo>
                  <a:lnTo>
                    <a:pt x="374" y="628"/>
                  </a:lnTo>
                  <a:lnTo>
                    <a:pt x="366" y="628"/>
                  </a:lnTo>
                  <a:lnTo>
                    <a:pt x="358" y="628"/>
                  </a:lnTo>
                  <a:lnTo>
                    <a:pt x="350" y="629"/>
                  </a:lnTo>
                  <a:lnTo>
                    <a:pt x="341" y="629"/>
                  </a:lnTo>
                  <a:lnTo>
                    <a:pt x="333" y="629"/>
                  </a:lnTo>
                  <a:lnTo>
                    <a:pt x="324" y="629"/>
                  </a:lnTo>
                  <a:lnTo>
                    <a:pt x="281" y="604"/>
                  </a:lnTo>
                  <a:lnTo>
                    <a:pt x="243" y="582"/>
                  </a:lnTo>
                  <a:lnTo>
                    <a:pt x="209" y="559"/>
                  </a:lnTo>
                  <a:lnTo>
                    <a:pt x="181" y="538"/>
                  </a:lnTo>
                  <a:lnTo>
                    <a:pt x="156" y="518"/>
                  </a:lnTo>
                  <a:lnTo>
                    <a:pt x="135" y="497"/>
                  </a:lnTo>
                  <a:lnTo>
                    <a:pt x="116" y="477"/>
                  </a:lnTo>
                  <a:lnTo>
                    <a:pt x="101" y="458"/>
                  </a:lnTo>
                  <a:lnTo>
                    <a:pt x="87" y="437"/>
                  </a:lnTo>
                  <a:lnTo>
                    <a:pt x="76" y="417"/>
                  </a:lnTo>
                  <a:lnTo>
                    <a:pt x="66" y="397"/>
                  </a:lnTo>
                  <a:lnTo>
                    <a:pt x="56" y="375"/>
                  </a:lnTo>
                  <a:lnTo>
                    <a:pt x="47" y="354"/>
                  </a:lnTo>
                  <a:lnTo>
                    <a:pt x="38" y="331"/>
                  </a:lnTo>
                  <a:lnTo>
                    <a:pt x="29" y="308"/>
                  </a:lnTo>
                  <a:lnTo>
                    <a:pt x="18" y="283"/>
                  </a:lnTo>
                  <a:lnTo>
                    <a:pt x="19" y="262"/>
                  </a:lnTo>
                  <a:lnTo>
                    <a:pt x="21" y="241"/>
                  </a:lnTo>
                  <a:lnTo>
                    <a:pt x="22" y="221"/>
                  </a:lnTo>
                  <a:lnTo>
                    <a:pt x="23" y="201"/>
                  </a:lnTo>
                  <a:lnTo>
                    <a:pt x="24" y="182"/>
                  </a:lnTo>
                  <a:lnTo>
                    <a:pt x="26" y="162"/>
                  </a:lnTo>
                  <a:lnTo>
                    <a:pt x="27" y="141"/>
                  </a:lnTo>
                  <a:lnTo>
                    <a:pt x="30" y="120"/>
                  </a:lnTo>
                  <a:lnTo>
                    <a:pt x="27" y="112"/>
                  </a:lnTo>
                  <a:lnTo>
                    <a:pt x="24" y="104"/>
                  </a:lnTo>
                  <a:lnTo>
                    <a:pt x="21" y="96"/>
                  </a:lnTo>
                  <a:lnTo>
                    <a:pt x="18" y="89"/>
                  </a:lnTo>
                  <a:lnTo>
                    <a:pt x="14" y="81"/>
                  </a:lnTo>
                  <a:lnTo>
                    <a:pt x="9" y="73"/>
                  </a:lnTo>
                  <a:lnTo>
                    <a:pt x="5" y="65"/>
                  </a:lnTo>
                  <a:lnTo>
                    <a:pt x="0" y="57"/>
                  </a:lnTo>
                  <a:close/>
                </a:path>
              </a:pathLst>
            </a:custGeom>
            <a:solidFill>
              <a:srgbClr val="864d2a"/>
            </a:solidFill>
            <a:ln w="0">
              <a:noFill/>
            </a:ln>
          </p:spPr>
          <p:style>
            <a:lnRef idx="0"/>
            <a:fillRef idx="0"/>
            <a:effectRef idx="0"/>
            <a:fontRef idx="minor"/>
          </p:style>
          <p:txBody>
            <a:bodyPr lIns="90000" rIns="90000" tIns="36720" bIns="36720" anchor="t">
              <a:noAutofit/>
            </a:bodyPr>
            <a:p>
              <a:endParaRPr b="0" lang="en-US" sz="2400" spc="-1" strike="noStrike">
                <a:solidFill>
                  <a:srgbClr val="ccecff"/>
                </a:solidFill>
                <a:latin typeface="Times New Roman"/>
              </a:endParaRPr>
            </a:p>
          </p:txBody>
        </p:sp>
        <p:sp>
          <p:nvSpPr>
            <p:cNvPr id="515" name="Freeform 139"/>
            <p:cNvSpPr/>
            <p:nvPr/>
          </p:nvSpPr>
          <p:spPr>
            <a:xfrm>
              <a:off x="5595480" y="4038840"/>
              <a:ext cx="347040" cy="1218600"/>
            </a:xfrm>
            <a:custGeom>
              <a:avLst/>
              <a:gdLst>
                <a:gd name="textAreaLeft" fmla="*/ 0 w 347040"/>
                <a:gd name="textAreaRight" fmla="*/ 347400 w 347040"/>
                <a:gd name="textAreaTop" fmla="*/ 0 h 1218600"/>
                <a:gd name="textAreaBottom" fmla="*/ 1218960 h 1218600"/>
              </a:gdLst>
              <a:ahLst/>
              <a:rect l="textAreaLeft" t="textAreaTop" r="textAreaRight" b="textAreaBottom"/>
              <a:pathLst>
                <a:path w="2274" h="9220">
                  <a:moveTo>
                    <a:pt x="235" y="1760"/>
                  </a:moveTo>
                  <a:lnTo>
                    <a:pt x="237" y="1764"/>
                  </a:lnTo>
                  <a:lnTo>
                    <a:pt x="240" y="1769"/>
                  </a:lnTo>
                  <a:lnTo>
                    <a:pt x="244" y="1776"/>
                  </a:lnTo>
                  <a:lnTo>
                    <a:pt x="248" y="1782"/>
                  </a:lnTo>
                  <a:lnTo>
                    <a:pt x="252" y="1790"/>
                  </a:lnTo>
                  <a:lnTo>
                    <a:pt x="256" y="1798"/>
                  </a:lnTo>
                  <a:lnTo>
                    <a:pt x="261" y="1806"/>
                  </a:lnTo>
                  <a:lnTo>
                    <a:pt x="266" y="1814"/>
                  </a:lnTo>
                  <a:lnTo>
                    <a:pt x="275" y="1827"/>
                  </a:lnTo>
                  <a:lnTo>
                    <a:pt x="286" y="1842"/>
                  </a:lnTo>
                  <a:lnTo>
                    <a:pt x="297" y="1860"/>
                  </a:lnTo>
                  <a:lnTo>
                    <a:pt x="307" y="1879"/>
                  </a:lnTo>
                  <a:lnTo>
                    <a:pt x="318" y="1901"/>
                  </a:lnTo>
                  <a:lnTo>
                    <a:pt x="330" y="1923"/>
                  </a:lnTo>
                  <a:lnTo>
                    <a:pt x="341" y="1946"/>
                  </a:lnTo>
                  <a:lnTo>
                    <a:pt x="351" y="1970"/>
                  </a:lnTo>
                  <a:lnTo>
                    <a:pt x="362" y="1994"/>
                  </a:lnTo>
                  <a:lnTo>
                    <a:pt x="372" y="2019"/>
                  </a:lnTo>
                  <a:lnTo>
                    <a:pt x="381" y="2042"/>
                  </a:lnTo>
                  <a:lnTo>
                    <a:pt x="391" y="2065"/>
                  </a:lnTo>
                  <a:lnTo>
                    <a:pt x="398" y="2087"/>
                  </a:lnTo>
                  <a:lnTo>
                    <a:pt x="406" y="2107"/>
                  </a:lnTo>
                  <a:lnTo>
                    <a:pt x="412" y="2125"/>
                  </a:lnTo>
                  <a:lnTo>
                    <a:pt x="418" y="2142"/>
                  </a:lnTo>
                  <a:lnTo>
                    <a:pt x="503" y="2427"/>
                  </a:lnTo>
                  <a:lnTo>
                    <a:pt x="510" y="2441"/>
                  </a:lnTo>
                  <a:lnTo>
                    <a:pt x="516" y="2456"/>
                  </a:lnTo>
                  <a:lnTo>
                    <a:pt x="522" y="2472"/>
                  </a:lnTo>
                  <a:lnTo>
                    <a:pt x="528" y="2490"/>
                  </a:lnTo>
                  <a:lnTo>
                    <a:pt x="533" y="2509"/>
                  </a:lnTo>
                  <a:lnTo>
                    <a:pt x="539" y="2530"/>
                  </a:lnTo>
                  <a:lnTo>
                    <a:pt x="544" y="2551"/>
                  </a:lnTo>
                  <a:lnTo>
                    <a:pt x="549" y="2575"/>
                  </a:lnTo>
                  <a:lnTo>
                    <a:pt x="554" y="2598"/>
                  </a:lnTo>
                  <a:lnTo>
                    <a:pt x="559" y="2623"/>
                  </a:lnTo>
                  <a:lnTo>
                    <a:pt x="563" y="2649"/>
                  </a:lnTo>
                  <a:lnTo>
                    <a:pt x="568" y="2674"/>
                  </a:lnTo>
                  <a:lnTo>
                    <a:pt x="572" y="2702"/>
                  </a:lnTo>
                  <a:lnTo>
                    <a:pt x="576" y="2729"/>
                  </a:lnTo>
                  <a:lnTo>
                    <a:pt x="580" y="2757"/>
                  </a:lnTo>
                  <a:lnTo>
                    <a:pt x="585" y="2785"/>
                  </a:lnTo>
                  <a:lnTo>
                    <a:pt x="588" y="2813"/>
                  </a:lnTo>
                  <a:lnTo>
                    <a:pt x="592" y="2842"/>
                  </a:lnTo>
                  <a:lnTo>
                    <a:pt x="595" y="2871"/>
                  </a:lnTo>
                  <a:lnTo>
                    <a:pt x="600" y="2900"/>
                  </a:lnTo>
                  <a:lnTo>
                    <a:pt x="603" y="2929"/>
                  </a:lnTo>
                  <a:lnTo>
                    <a:pt x="607" y="2958"/>
                  </a:lnTo>
                  <a:lnTo>
                    <a:pt x="610" y="2987"/>
                  </a:lnTo>
                  <a:lnTo>
                    <a:pt x="614" y="3014"/>
                  </a:lnTo>
                  <a:lnTo>
                    <a:pt x="617" y="3042"/>
                  </a:lnTo>
                  <a:lnTo>
                    <a:pt x="621" y="3069"/>
                  </a:lnTo>
                  <a:lnTo>
                    <a:pt x="624" y="3096"/>
                  </a:lnTo>
                  <a:lnTo>
                    <a:pt x="628" y="3121"/>
                  </a:lnTo>
                  <a:lnTo>
                    <a:pt x="631" y="3146"/>
                  </a:lnTo>
                  <a:lnTo>
                    <a:pt x="634" y="3171"/>
                  </a:lnTo>
                  <a:lnTo>
                    <a:pt x="638" y="3193"/>
                  </a:lnTo>
                  <a:lnTo>
                    <a:pt x="641" y="3215"/>
                  </a:lnTo>
                  <a:lnTo>
                    <a:pt x="644" y="3228"/>
                  </a:lnTo>
                  <a:lnTo>
                    <a:pt x="645" y="3242"/>
                  </a:lnTo>
                  <a:lnTo>
                    <a:pt x="647" y="3255"/>
                  </a:lnTo>
                  <a:lnTo>
                    <a:pt x="647" y="3268"/>
                  </a:lnTo>
                  <a:lnTo>
                    <a:pt x="648" y="3281"/>
                  </a:lnTo>
                  <a:lnTo>
                    <a:pt x="648" y="3295"/>
                  </a:lnTo>
                  <a:lnTo>
                    <a:pt x="649" y="3308"/>
                  </a:lnTo>
                  <a:lnTo>
                    <a:pt x="648" y="3321"/>
                  </a:lnTo>
                  <a:lnTo>
                    <a:pt x="648" y="3336"/>
                  </a:lnTo>
                  <a:lnTo>
                    <a:pt x="648" y="3351"/>
                  </a:lnTo>
                  <a:lnTo>
                    <a:pt x="647" y="3366"/>
                  </a:lnTo>
                  <a:lnTo>
                    <a:pt x="647" y="3382"/>
                  </a:lnTo>
                  <a:lnTo>
                    <a:pt x="646" y="3399"/>
                  </a:lnTo>
                  <a:lnTo>
                    <a:pt x="646" y="3417"/>
                  </a:lnTo>
                  <a:lnTo>
                    <a:pt x="645" y="3435"/>
                  </a:lnTo>
                  <a:lnTo>
                    <a:pt x="644" y="3454"/>
                  </a:lnTo>
                  <a:lnTo>
                    <a:pt x="644" y="3475"/>
                  </a:lnTo>
                  <a:lnTo>
                    <a:pt x="643" y="3497"/>
                  </a:lnTo>
                  <a:lnTo>
                    <a:pt x="643" y="3519"/>
                  </a:lnTo>
                  <a:lnTo>
                    <a:pt x="643" y="3544"/>
                  </a:lnTo>
                  <a:lnTo>
                    <a:pt x="643" y="3569"/>
                  </a:lnTo>
                  <a:lnTo>
                    <a:pt x="643" y="3596"/>
                  </a:lnTo>
                  <a:lnTo>
                    <a:pt x="643" y="3625"/>
                  </a:lnTo>
                  <a:lnTo>
                    <a:pt x="644" y="3656"/>
                  </a:lnTo>
                  <a:lnTo>
                    <a:pt x="645" y="3688"/>
                  </a:lnTo>
                  <a:lnTo>
                    <a:pt x="646" y="3721"/>
                  </a:lnTo>
                  <a:lnTo>
                    <a:pt x="647" y="3758"/>
                  </a:lnTo>
                  <a:lnTo>
                    <a:pt x="649" y="3795"/>
                  </a:lnTo>
                  <a:lnTo>
                    <a:pt x="652" y="3836"/>
                  </a:lnTo>
                  <a:lnTo>
                    <a:pt x="654" y="3878"/>
                  </a:lnTo>
                  <a:lnTo>
                    <a:pt x="657" y="3921"/>
                  </a:lnTo>
                  <a:lnTo>
                    <a:pt x="662" y="3968"/>
                  </a:lnTo>
                  <a:lnTo>
                    <a:pt x="662" y="3987"/>
                  </a:lnTo>
                  <a:lnTo>
                    <a:pt x="660" y="4007"/>
                  </a:lnTo>
                  <a:lnTo>
                    <a:pt x="659" y="4026"/>
                  </a:lnTo>
                  <a:lnTo>
                    <a:pt x="656" y="4047"/>
                  </a:lnTo>
                  <a:lnTo>
                    <a:pt x="653" y="4065"/>
                  </a:lnTo>
                  <a:lnTo>
                    <a:pt x="652" y="4083"/>
                  </a:lnTo>
                  <a:lnTo>
                    <a:pt x="650" y="4098"/>
                  </a:lnTo>
                  <a:lnTo>
                    <a:pt x="650" y="4112"/>
                  </a:lnTo>
                  <a:lnTo>
                    <a:pt x="646" y="4136"/>
                  </a:lnTo>
                  <a:lnTo>
                    <a:pt x="643" y="4162"/>
                  </a:lnTo>
                  <a:lnTo>
                    <a:pt x="640" y="4190"/>
                  </a:lnTo>
                  <a:lnTo>
                    <a:pt x="639" y="4218"/>
                  </a:lnTo>
                  <a:lnTo>
                    <a:pt x="639" y="4247"/>
                  </a:lnTo>
                  <a:lnTo>
                    <a:pt x="639" y="4277"/>
                  </a:lnTo>
                  <a:lnTo>
                    <a:pt x="639" y="4306"/>
                  </a:lnTo>
                  <a:lnTo>
                    <a:pt x="640" y="4336"/>
                  </a:lnTo>
                  <a:lnTo>
                    <a:pt x="641" y="4367"/>
                  </a:lnTo>
                  <a:lnTo>
                    <a:pt x="643" y="4397"/>
                  </a:lnTo>
                  <a:lnTo>
                    <a:pt x="645" y="4427"/>
                  </a:lnTo>
                  <a:lnTo>
                    <a:pt x="646" y="4456"/>
                  </a:lnTo>
                  <a:lnTo>
                    <a:pt x="647" y="4484"/>
                  </a:lnTo>
                  <a:lnTo>
                    <a:pt x="648" y="4512"/>
                  </a:lnTo>
                  <a:lnTo>
                    <a:pt x="649" y="4537"/>
                  </a:lnTo>
                  <a:lnTo>
                    <a:pt x="649" y="4562"/>
                  </a:lnTo>
                  <a:lnTo>
                    <a:pt x="675" y="4923"/>
                  </a:lnTo>
                  <a:lnTo>
                    <a:pt x="650" y="4955"/>
                  </a:lnTo>
                  <a:lnTo>
                    <a:pt x="651" y="4972"/>
                  </a:lnTo>
                  <a:lnTo>
                    <a:pt x="652" y="4987"/>
                  </a:lnTo>
                  <a:lnTo>
                    <a:pt x="655" y="5001"/>
                  </a:lnTo>
                  <a:lnTo>
                    <a:pt x="659" y="5011"/>
                  </a:lnTo>
                  <a:lnTo>
                    <a:pt x="664" y="5021"/>
                  </a:lnTo>
                  <a:lnTo>
                    <a:pt x="670" y="5028"/>
                  </a:lnTo>
                  <a:lnTo>
                    <a:pt x="678" y="5033"/>
                  </a:lnTo>
                  <a:lnTo>
                    <a:pt x="686" y="5034"/>
                  </a:lnTo>
                  <a:lnTo>
                    <a:pt x="686" y="5022"/>
                  </a:lnTo>
                  <a:lnTo>
                    <a:pt x="689" y="5010"/>
                  </a:lnTo>
                  <a:lnTo>
                    <a:pt x="690" y="4999"/>
                  </a:lnTo>
                  <a:lnTo>
                    <a:pt x="693" y="4988"/>
                  </a:lnTo>
                  <a:lnTo>
                    <a:pt x="695" y="4978"/>
                  </a:lnTo>
                  <a:lnTo>
                    <a:pt x="696" y="4969"/>
                  </a:lnTo>
                  <a:lnTo>
                    <a:pt x="698" y="4961"/>
                  </a:lnTo>
                  <a:lnTo>
                    <a:pt x="698" y="4955"/>
                  </a:lnTo>
                  <a:lnTo>
                    <a:pt x="675" y="4923"/>
                  </a:lnTo>
                  <a:lnTo>
                    <a:pt x="675" y="4894"/>
                  </a:lnTo>
                  <a:lnTo>
                    <a:pt x="674" y="4866"/>
                  </a:lnTo>
                  <a:lnTo>
                    <a:pt x="674" y="4837"/>
                  </a:lnTo>
                  <a:lnTo>
                    <a:pt x="672" y="4808"/>
                  </a:lnTo>
                  <a:lnTo>
                    <a:pt x="671" y="4779"/>
                  </a:lnTo>
                  <a:lnTo>
                    <a:pt x="670" y="4750"/>
                  </a:lnTo>
                  <a:lnTo>
                    <a:pt x="669" y="4720"/>
                  </a:lnTo>
                  <a:lnTo>
                    <a:pt x="668" y="4692"/>
                  </a:lnTo>
                  <a:lnTo>
                    <a:pt x="666" y="4663"/>
                  </a:lnTo>
                  <a:lnTo>
                    <a:pt x="665" y="4633"/>
                  </a:lnTo>
                  <a:lnTo>
                    <a:pt x="663" y="4604"/>
                  </a:lnTo>
                  <a:lnTo>
                    <a:pt x="662" y="4574"/>
                  </a:lnTo>
                  <a:lnTo>
                    <a:pt x="660" y="4544"/>
                  </a:lnTo>
                  <a:lnTo>
                    <a:pt x="659" y="4515"/>
                  </a:lnTo>
                  <a:lnTo>
                    <a:pt x="657" y="4485"/>
                  </a:lnTo>
                  <a:lnTo>
                    <a:pt x="656" y="4456"/>
                  </a:lnTo>
                  <a:lnTo>
                    <a:pt x="655" y="4426"/>
                  </a:lnTo>
                  <a:lnTo>
                    <a:pt x="654" y="4397"/>
                  </a:lnTo>
                  <a:lnTo>
                    <a:pt x="653" y="4367"/>
                  </a:lnTo>
                  <a:lnTo>
                    <a:pt x="653" y="4339"/>
                  </a:lnTo>
                  <a:lnTo>
                    <a:pt x="653" y="4310"/>
                  </a:lnTo>
                  <a:lnTo>
                    <a:pt x="653" y="4281"/>
                  </a:lnTo>
                  <a:lnTo>
                    <a:pt x="653" y="4252"/>
                  </a:lnTo>
                  <a:lnTo>
                    <a:pt x="654" y="4223"/>
                  </a:lnTo>
                  <a:lnTo>
                    <a:pt x="655" y="4194"/>
                  </a:lnTo>
                  <a:lnTo>
                    <a:pt x="656" y="4166"/>
                  </a:lnTo>
                  <a:lnTo>
                    <a:pt x="659" y="4139"/>
                  </a:lnTo>
                  <a:lnTo>
                    <a:pt x="661" y="4110"/>
                  </a:lnTo>
                  <a:lnTo>
                    <a:pt x="663" y="4082"/>
                  </a:lnTo>
                  <a:lnTo>
                    <a:pt x="666" y="4055"/>
                  </a:lnTo>
                  <a:lnTo>
                    <a:pt x="670" y="4027"/>
                  </a:lnTo>
                  <a:lnTo>
                    <a:pt x="675" y="4001"/>
                  </a:lnTo>
                  <a:lnTo>
                    <a:pt x="677" y="3988"/>
                  </a:lnTo>
                  <a:lnTo>
                    <a:pt x="678" y="3974"/>
                  </a:lnTo>
                  <a:lnTo>
                    <a:pt x="678" y="3959"/>
                  </a:lnTo>
                  <a:lnTo>
                    <a:pt x="678" y="3943"/>
                  </a:lnTo>
                  <a:lnTo>
                    <a:pt x="677" y="3927"/>
                  </a:lnTo>
                  <a:lnTo>
                    <a:pt x="676" y="3910"/>
                  </a:lnTo>
                  <a:lnTo>
                    <a:pt x="675" y="3893"/>
                  </a:lnTo>
                  <a:lnTo>
                    <a:pt x="672" y="3875"/>
                  </a:lnTo>
                  <a:lnTo>
                    <a:pt x="670" y="3858"/>
                  </a:lnTo>
                  <a:lnTo>
                    <a:pt x="669" y="3842"/>
                  </a:lnTo>
                  <a:lnTo>
                    <a:pt x="667" y="3826"/>
                  </a:lnTo>
                  <a:lnTo>
                    <a:pt x="665" y="3810"/>
                  </a:lnTo>
                  <a:lnTo>
                    <a:pt x="664" y="3796"/>
                  </a:lnTo>
                  <a:lnTo>
                    <a:pt x="663" y="3783"/>
                  </a:lnTo>
                  <a:lnTo>
                    <a:pt x="662" y="3772"/>
                  </a:lnTo>
                  <a:lnTo>
                    <a:pt x="662" y="3762"/>
                  </a:lnTo>
                  <a:lnTo>
                    <a:pt x="657" y="3729"/>
                  </a:lnTo>
                  <a:lnTo>
                    <a:pt x="655" y="3695"/>
                  </a:lnTo>
                  <a:lnTo>
                    <a:pt x="654" y="3660"/>
                  </a:lnTo>
                  <a:lnTo>
                    <a:pt x="653" y="3624"/>
                  </a:lnTo>
                  <a:lnTo>
                    <a:pt x="653" y="3589"/>
                  </a:lnTo>
                  <a:lnTo>
                    <a:pt x="654" y="3552"/>
                  </a:lnTo>
                  <a:lnTo>
                    <a:pt x="655" y="3515"/>
                  </a:lnTo>
                  <a:lnTo>
                    <a:pt x="656" y="3479"/>
                  </a:lnTo>
                  <a:lnTo>
                    <a:pt x="657" y="3442"/>
                  </a:lnTo>
                  <a:lnTo>
                    <a:pt x="659" y="3405"/>
                  </a:lnTo>
                  <a:lnTo>
                    <a:pt x="660" y="3368"/>
                  </a:lnTo>
                  <a:lnTo>
                    <a:pt x="660" y="3333"/>
                  </a:lnTo>
                  <a:lnTo>
                    <a:pt x="659" y="3297"/>
                  </a:lnTo>
                  <a:lnTo>
                    <a:pt x="657" y="3262"/>
                  </a:lnTo>
                  <a:lnTo>
                    <a:pt x="655" y="3228"/>
                  </a:lnTo>
                  <a:lnTo>
                    <a:pt x="651" y="3195"/>
                  </a:lnTo>
                  <a:lnTo>
                    <a:pt x="647" y="3167"/>
                  </a:lnTo>
                  <a:lnTo>
                    <a:pt x="643" y="3138"/>
                  </a:lnTo>
                  <a:lnTo>
                    <a:pt x="639" y="3111"/>
                  </a:lnTo>
                  <a:lnTo>
                    <a:pt x="635" y="3083"/>
                  </a:lnTo>
                  <a:lnTo>
                    <a:pt x="631" y="3054"/>
                  </a:lnTo>
                  <a:lnTo>
                    <a:pt x="628" y="3026"/>
                  </a:lnTo>
                  <a:lnTo>
                    <a:pt x="623" y="2998"/>
                  </a:lnTo>
                  <a:lnTo>
                    <a:pt x="620" y="2970"/>
                  </a:lnTo>
                  <a:lnTo>
                    <a:pt x="617" y="2943"/>
                  </a:lnTo>
                  <a:lnTo>
                    <a:pt x="613" y="2915"/>
                  </a:lnTo>
                  <a:lnTo>
                    <a:pt x="609" y="2887"/>
                  </a:lnTo>
                  <a:lnTo>
                    <a:pt x="605" y="2859"/>
                  </a:lnTo>
                  <a:lnTo>
                    <a:pt x="602" y="2831"/>
                  </a:lnTo>
                  <a:lnTo>
                    <a:pt x="598" y="2805"/>
                  </a:lnTo>
                  <a:lnTo>
                    <a:pt x="593" y="2777"/>
                  </a:lnTo>
                  <a:lnTo>
                    <a:pt x="590" y="2750"/>
                  </a:lnTo>
                  <a:lnTo>
                    <a:pt x="586" y="2722"/>
                  </a:lnTo>
                  <a:lnTo>
                    <a:pt x="581" y="2696"/>
                  </a:lnTo>
                  <a:lnTo>
                    <a:pt x="577" y="2669"/>
                  </a:lnTo>
                  <a:lnTo>
                    <a:pt x="573" y="2642"/>
                  </a:lnTo>
                  <a:lnTo>
                    <a:pt x="568" y="2615"/>
                  </a:lnTo>
                  <a:lnTo>
                    <a:pt x="563" y="2589"/>
                  </a:lnTo>
                  <a:lnTo>
                    <a:pt x="558" y="2563"/>
                  </a:lnTo>
                  <a:lnTo>
                    <a:pt x="553" y="2536"/>
                  </a:lnTo>
                  <a:lnTo>
                    <a:pt x="547" y="2511"/>
                  </a:lnTo>
                  <a:lnTo>
                    <a:pt x="542" y="2484"/>
                  </a:lnTo>
                  <a:lnTo>
                    <a:pt x="537" y="2458"/>
                  </a:lnTo>
                  <a:lnTo>
                    <a:pt x="530" y="2432"/>
                  </a:lnTo>
                  <a:lnTo>
                    <a:pt x="524" y="2407"/>
                  </a:lnTo>
                  <a:lnTo>
                    <a:pt x="517" y="2382"/>
                  </a:lnTo>
                  <a:lnTo>
                    <a:pt x="511" y="2357"/>
                  </a:lnTo>
                  <a:lnTo>
                    <a:pt x="503" y="2332"/>
                  </a:lnTo>
                  <a:lnTo>
                    <a:pt x="372" y="1973"/>
                  </a:lnTo>
                  <a:lnTo>
                    <a:pt x="366" y="1960"/>
                  </a:lnTo>
                  <a:lnTo>
                    <a:pt x="360" y="1946"/>
                  </a:lnTo>
                  <a:lnTo>
                    <a:pt x="352" y="1931"/>
                  </a:lnTo>
                  <a:lnTo>
                    <a:pt x="344" y="1915"/>
                  </a:lnTo>
                  <a:lnTo>
                    <a:pt x="334" y="1898"/>
                  </a:lnTo>
                  <a:lnTo>
                    <a:pt x="325" y="1882"/>
                  </a:lnTo>
                  <a:lnTo>
                    <a:pt x="315" y="1864"/>
                  </a:lnTo>
                  <a:lnTo>
                    <a:pt x="304" y="1848"/>
                  </a:lnTo>
                  <a:lnTo>
                    <a:pt x="294" y="1832"/>
                  </a:lnTo>
                  <a:lnTo>
                    <a:pt x="283" y="1817"/>
                  </a:lnTo>
                  <a:lnTo>
                    <a:pt x="273" y="1804"/>
                  </a:lnTo>
                  <a:lnTo>
                    <a:pt x="264" y="1791"/>
                  </a:lnTo>
                  <a:lnTo>
                    <a:pt x="255" y="1780"/>
                  </a:lnTo>
                  <a:lnTo>
                    <a:pt x="246" y="1771"/>
                  </a:lnTo>
                  <a:lnTo>
                    <a:pt x="240" y="1764"/>
                  </a:lnTo>
                  <a:lnTo>
                    <a:pt x="235" y="1760"/>
                  </a:lnTo>
                  <a:close/>
                  <a:moveTo>
                    <a:pt x="1017" y="795"/>
                  </a:moveTo>
                  <a:lnTo>
                    <a:pt x="1026" y="794"/>
                  </a:lnTo>
                  <a:lnTo>
                    <a:pt x="1033" y="792"/>
                  </a:lnTo>
                  <a:lnTo>
                    <a:pt x="1040" y="788"/>
                  </a:lnTo>
                  <a:lnTo>
                    <a:pt x="1046" y="785"/>
                  </a:lnTo>
                  <a:lnTo>
                    <a:pt x="1051" y="780"/>
                  </a:lnTo>
                  <a:lnTo>
                    <a:pt x="1057" y="775"/>
                  </a:lnTo>
                  <a:lnTo>
                    <a:pt x="1061" y="769"/>
                  </a:lnTo>
                  <a:lnTo>
                    <a:pt x="1065" y="763"/>
                  </a:lnTo>
                  <a:lnTo>
                    <a:pt x="1065" y="751"/>
                  </a:lnTo>
                  <a:lnTo>
                    <a:pt x="1063" y="741"/>
                  </a:lnTo>
                  <a:lnTo>
                    <a:pt x="1062" y="732"/>
                  </a:lnTo>
                  <a:lnTo>
                    <a:pt x="1060" y="722"/>
                  </a:lnTo>
                  <a:lnTo>
                    <a:pt x="1057" y="714"/>
                  </a:lnTo>
                  <a:lnTo>
                    <a:pt x="1056" y="704"/>
                  </a:lnTo>
                  <a:lnTo>
                    <a:pt x="1054" y="694"/>
                  </a:lnTo>
                  <a:lnTo>
                    <a:pt x="1054" y="683"/>
                  </a:lnTo>
                  <a:lnTo>
                    <a:pt x="1063" y="667"/>
                  </a:lnTo>
                  <a:lnTo>
                    <a:pt x="1071" y="646"/>
                  </a:lnTo>
                  <a:lnTo>
                    <a:pt x="1075" y="625"/>
                  </a:lnTo>
                  <a:lnTo>
                    <a:pt x="1077" y="601"/>
                  </a:lnTo>
                  <a:lnTo>
                    <a:pt x="1077" y="576"/>
                  </a:lnTo>
                  <a:lnTo>
                    <a:pt x="1075" y="548"/>
                  </a:lnTo>
                  <a:lnTo>
                    <a:pt x="1072" y="520"/>
                  </a:lnTo>
                  <a:lnTo>
                    <a:pt x="1067" y="492"/>
                  </a:lnTo>
                  <a:lnTo>
                    <a:pt x="1062" y="463"/>
                  </a:lnTo>
                  <a:lnTo>
                    <a:pt x="1056" y="435"/>
                  </a:lnTo>
                  <a:lnTo>
                    <a:pt x="1049" y="409"/>
                  </a:lnTo>
                  <a:lnTo>
                    <a:pt x="1042" y="383"/>
                  </a:lnTo>
                  <a:lnTo>
                    <a:pt x="1035" y="358"/>
                  </a:lnTo>
                  <a:lnTo>
                    <a:pt x="1028" y="337"/>
                  </a:lnTo>
                  <a:lnTo>
                    <a:pt x="1023" y="318"/>
                  </a:lnTo>
                  <a:lnTo>
                    <a:pt x="1017" y="301"/>
                  </a:lnTo>
                  <a:lnTo>
                    <a:pt x="1009" y="278"/>
                  </a:lnTo>
                  <a:lnTo>
                    <a:pt x="998" y="257"/>
                  </a:lnTo>
                  <a:lnTo>
                    <a:pt x="985" y="237"/>
                  </a:lnTo>
                  <a:lnTo>
                    <a:pt x="970" y="218"/>
                  </a:lnTo>
                  <a:lnTo>
                    <a:pt x="954" y="201"/>
                  </a:lnTo>
                  <a:lnTo>
                    <a:pt x="936" y="185"/>
                  </a:lnTo>
                  <a:lnTo>
                    <a:pt x="918" y="170"/>
                  </a:lnTo>
                  <a:lnTo>
                    <a:pt x="898" y="156"/>
                  </a:lnTo>
                  <a:lnTo>
                    <a:pt x="879" y="142"/>
                  </a:lnTo>
                  <a:lnTo>
                    <a:pt x="859" y="128"/>
                  </a:lnTo>
                  <a:lnTo>
                    <a:pt x="841" y="116"/>
                  </a:lnTo>
                  <a:lnTo>
                    <a:pt x="821" y="103"/>
                  </a:lnTo>
                  <a:lnTo>
                    <a:pt x="804" y="89"/>
                  </a:lnTo>
                  <a:lnTo>
                    <a:pt x="788" y="76"/>
                  </a:lnTo>
                  <a:lnTo>
                    <a:pt x="773" y="62"/>
                  </a:lnTo>
                  <a:lnTo>
                    <a:pt x="760" y="47"/>
                  </a:lnTo>
                  <a:lnTo>
                    <a:pt x="736" y="46"/>
                  </a:lnTo>
                  <a:lnTo>
                    <a:pt x="711" y="43"/>
                  </a:lnTo>
                  <a:lnTo>
                    <a:pt x="686" y="39"/>
                  </a:lnTo>
                  <a:lnTo>
                    <a:pt x="662" y="33"/>
                  </a:lnTo>
                  <a:lnTo>
                    <a:pt x="637" y="28"/>
                  </a:lnTo>
                  <a:lnTo>
                    <a:pt x="614" y="22"/>
                  </a:lnTo>
                  <a:lnTo>
                    <a:pt x="589" y="15"/>
                  </a:lnTo>
                  <a:lnTo>
                    <a:pt x="565" y="10"/>
                  </a:lnTo>
                  <a:lnTo>
                    <a:pt x="541" y="4"/>
                  </a:lnTo>
                  <a:lnTo>
                    <a:pt x="517" y="1"/>
                  </a:lnTo>
                  <a:lnTo>
                    <a:pt x="493" y="0"/>
                  </a:lnTo>
                  <a:lnTo>
                    <a:pt x="469" y="0"/>
                  </a:lnTo>
                  <a:lnTo>
                    <a:pt x="444" y="3"/>
                  </a:lnTo>
                  <a:lnTo>
                    <a:pt x="420" y="9"/>
                  </a:lnTo>
                  <a:lnTo>
                    <a:pt x="394" y="18"/>
                  </a:lnTo>
                  <a:lnTo>
                    <a:pt x="370" y="31"/>
                  </a:lnTo>
                  <a:lnTo>
                    <a:pt x="346" y="43"/>
                  </a:lnTo>
                  <a:lnTo>
                    <a:pt x="322" y="53"/>
                  </a:lnTo>
                  <a:lnTo>
                    <a:pt x="299" y="62"/>
                  </a:lnTo>
                  <a:lnTo>
                    <a:pt x="275" y="73"/>
                  </a:lnTo>
                  <a:lnTo>
                    <a:pt x="253" y="82"/>
                  </a:lnTo>
                  <a:lnTo>
                    <a:pt x="230" y="93"/>
                  </a:lnTo>
                  <a:lnTo>
                    <a:pt x="209" y="104"/>
                  </a:lnTo>
                  <a:lnTo>
                    <a:pt x="189" y="117"/>
                  </a:lnTo>
                  <a:lnTo>
                    <a:pt x="169" y="132"/>
                  </a:lnTo>
                  <a:lnTo>
                    <a:pt x="152" y="148"/>
                  </a:lnTo>
                  <a:lnTo>
                    <a:pt x="137" y="167"/>
                  </a:lnTo>
                  <a:lnTo>
                    <a:pt x="124" y="188"/>
                  </a:lnTo>
                  <a:lnTo>
                    <a:pt x="114" y="213"/>
                  </a:lnTo>
                  <a:lnTo>
                    <a:pt x="105" y="242"/>
                  </a:lnTo>
                  <a:lnTo>
                    <a:pt x="101" y="274"/>
                  </a:lnTo>
                  <a:lnTo>
                    <a:pt x="99" y="310"/>
                  </a:lnTo>
                  <a:lnTo>
                    <a:pt x="86" y="315"/>
                  </a:lnTo>
                  <a:lnTo>
                    <a:pt x="76" y="326"/>
                  </a:lnTo>
                  <a:lnTo>
                    <a:pt x="68" y="343"/>
                  </a:lnTo>
                  <a:lnTo>
                    <a:pt x="60" y="363"/>
                  </a:lnTo>
                  <a:lnTo>
                    <a:pt x="52" y="383"/>
                  </a:lnTo>
                  <a:lnTo>
                    <a:pt x="43" y="402"/>
                  </a:lnTo>
                  <a:lnTo>
                    <a:pt x="33" y="417"/>
                  </a:lnTo>
                  <a:lnTo>
                    <a:pt x="22" y="427"/>
                  </a:lnTo>
                  <a:lnTo>
                    <a:pt x="21" y="438"/>
                  </a:lnTo>
                  <a:lnTo>
                    <a:pt x="18" y="449"/>
                  </a:lnTo>
                  <a:lnTo>
                    <a:pt x="16" y="463"/>
                  </a:lnTo>
                  <a:lnTo>
                    <a:pt x="14" y="477"/>
                  </a:lnTo>
                  <a:lnTo>
                    <a:pt x="11" y="492"/>
                  </a:lnTo>
                  <a:lnTo>
                    <a:pt x="8" y="508"/>
                  </a:lnTo>
                  <a:lnTo>
                    <a:pt x="6" y="523"/>
                  </a:lnTo>
                  <a:lnTo>
                    <a:pt x="3" y="539"/>
                  </a:lnTo>
                  <a:lnTo>
                    <a:pt x="1" y="556"/>
                  </a:lnTo>
                  <a:lnTo>
                    <a:pt x="0" y="571"/>
                  </a:lnTo>
                  <a:lnTo>
                    <a:pt x="0" y="587"/>
                  </a:lnTo>
                  <a:lnTo>
                    <a:pt x="0" y="602"/>
                  </a:lnTo>
                  <a:lnTo>
                    <a:pt x="2" y="616"/>
                  </a:lnTo>
                  <a:lnTo>
                    <a:pt x="5" y="630"/>
                  </a:lnTo>
                  <a:lnTo>
                    <a:pt x="9" y="642"/>
                  </a:lnTo>
                  <a:lnTo>
                    <a:pt x="15" y="653"/>
                  </a:lnTo>
                  <a:lnTo>
                    <a:pt x="32" y="634"/>
                  </a:lnTo>
                  <a:lnTo>
                    <a:pt x="50" y="623"/>
                  </a:lnTo>
                  <a:lnTo>
                    <a:pt x="67" y="619"/>
                  </a:lnTo>
                  <a:lnTo>
                    <a:pt x="83" y="622"/>
                  </a:lnTo>
                  <a:lnTo>
                    <a:pt x="99" y="629"/>
                  </a:lnTo>
                  <a:lnTo>
                    <a:pt x="115" y="643"/>
                  </a:lnTo>
                  <a:lnTo>
                    <a:pt x="132" y="661"/>
                  </a:lnTo>
                  <a:lnTo>
                    <a:pt x="150" y="683"/>
                  </a:lnTo>
                  <a:lnTo>
                    <a:pt x="150" y="779"/>
                  </a:lnTo>
                  <a:lnTo>
                    <a:pt x="154" y="778"/>
                  </a:lnTo>
                  <a:lnTo>
                    <a:pt x="159" y="777"/>
                  </a:lnTo>
                  <a:lnTo>
                    <a:pt x="164" y="773"/>
                  </a:lnTo>
                  <a:lnTo>
                    <a:pt x="168" y="770"/>
                  </a:lnTo>
                  <a:lnTo>
                    <a:pt x="173" y="768"/>
                  </a:lnTo>
                  <a:lnTo>
                    <a:pt x="178" y="765"/>
                  </a:lnTo>
                  <a:lnTo>
                    <a:pt x="182" y="764"/>
                  </a:lnTo>
                  <a:lnTo>
                    <a:pt x="187" y="763"/>
                  </a:lnTo>
                  <a:lnTo>
                    <a:pt x="187" y="745"/>
                  </a:lnTo>
                  <a:lnTo>
                    <a:pt x="188" y="727"/>
                  </a:lnTo>
                  <a:lnTo>
                    <a:pt x="189" y="709"/>
                  </a:lnTo>
                  <a:lnTo>
                    <a:pt x="191" y="691"/>
                  </a:lnTo>
                  <a:lnTo>
                    <a:pt x="192" y="674"/>
                  </a:lnTo>
                  <a:lnTo>
                    <a:pt x="194" y="656"/>
                  </a:lnTo>
                  <a:lnTo>
                    <a:pt x="196" y="638"/>
                  </a:lnTo>
                  <a:lnTo>
                    <a:pt x="199" y="619"/>
                  </a:lnTo>
                  <a:lnTo>
                    <a:pt x="202" y="602"/>
                  </a:lnTo>
                  <a:lnTo>
                    <a:pt x="204" y="584"/>
                  </a:lnTo>
                  <a:lnTo>
                    <a:pt x="206" y="566"/>
                  </a:lnTo>
                  <a:lnTo>
                    <a:pt x="207" y="549"/>
                  </a:lnTo>
                  <a:lnTo>
                    <a:pt x="209" y="531"/>
                  </a:lnTo>
                  <a:lnTo>
                    <a:pt x="210" y="512"/>
                  </a:lnTo>
                  <a:lnTo>
                    <a:pt x="211" y="495"/>
                  </a:lnTo>
                  <a:lnTo>
                    <a:pt x="211" y="477"/>
                  </a:lnTo>
                  <a:lnTo>
                    <a:pt x="216" y="470"/>
                  </a:lnTo>
                  <a:lnTo>
                    <a:pt x="222" y="460"/>
                  </a:lnTo>
                  <a:lnTo>
                    <a:pt x="228" y="448"/>
                  </a:lnTo>
                  <a:lnTo>
                    <a:pt x="234" y="437"/>
                  </a:lnTo>
                  <a:lnTo>
                    <a:pt x="239" y="425"/>
                  </a:lnTo>
                  <a:lnTo>
                    <a:pt x="243" y="414"/>
                  </a:lnTo>
                  <a:lnTo>
                    <a:pt x="246" y="404"/>
                  </a:lnTo>
                  <a:lnTo>
                    <a:pt x="248" y="397"/>
                  </a:lnTo>
                  <a:lnTo>
                    <a:pt x="278" y="409"/>
                  </a:lnTo>
                  <a:lnTo>
                    <a:pt x="304" y="415"/>
                  </a:lnTo>
                  <a:lnTo>
                    <a:pt x="329" y="417"/>
                  </a:lnTo>
                  <a:lnTo>
                    <a:pt x="352" y="415"/>
                  </a:lnTo>
                  <a:lnTo>
                    <a:pt x="375" y="410"/>
                  </a:lnTo>
                  <a:lnTo>
                    <a:pt x="395" y="402"/>
                  </a:lnTo>
                  <a:lnTo>
                    <a:pt x="415" y="393"/>
                  </a:lnTo>
                  <a:lnTo>
                    <a:pt x="433" y="381"/>
                  </a:lnTo>
                  <a:lnTo>
                    <a:pt x="451" y="367"/>
                  </a:lnTo>
                  <a:lnTo>
                    <a:pt x="468" y="354"/>
                  </a:lnTo>
                  <a:lnTo>
                    <a:pt x="485" y="340"/>
                  </a:lnTo>
                  <a:lnTo>
                    <a:pt x="502" y="326"/>
                  </a:lnTo>
                  <a:lnTo>
                    <a:pt x="520" y="314"/>
                  </a:lnTo>
                  <a:lnTo>
                    <a:pt x="539" y="302"/>
                  </a:lnTo>
                  <a:lnTo>
                    <a:pt x="557" y="292"/>
                  </a:lnTo>
                  <a:lnTo>
                    <a:pt x="577" y="285"/>
                  </a:lnTo>
                  <a:lnTo>
                    <a:pt x="596" y="280"/>
                  </a:lnTo>
                  <a:lnTo>
                    <a:pt x="616" y="277"/>
                  </a:lnTo>
                  <a:lnTo>
                    <a:pt x="636" y="276"/>
                  </a:lnTo>
                  <a:lnTo>
                    <a:pt x="656" y="276"/>
                  </a:lnTo>
                  <a:lnTo>
                    <a:pt x="678" y="278"/>
                  </a:lnTo>
                  <a:lnTo>
                    <a:pt x="700" y="281"/>
                  </a:lnTo>
                  <a:lnTo>
                    <a:pt x="722" y="285"/>
                  </a:lnTo>
                  <a:lnTo>
                    <a:pt x="744" y="289"/>
                  </a:lnTo>
                  <a:lnTo>
                    <a:pt x="767" y="293"/>
                  </a:lnTo>
                  <a:lnTo>
                    <a:pt x="789" y="299"/>
                  </a:lnTo>
                  <a:lnTo>
                    <a:pt x="812" y="303"/>
                  </a:lnTo>
                  <a:lnTo>
                    <a:pt x="833" y="307"/>
                  </a:lnTo>
                  <a:lnTo>
                    <a:pt x="856" y="311"/>
                  </a:lnTo>
                  <a:lnTo>
                    <a:pt x="877" y="315"/>
                  </a:lnTo>
                  <a:lnTo>
                    <a:pt x="898" y="316"/>
                  </a:lnTo>
                  <a:lnTo>
                    <a:pt x="920" y="317"/>
                  </a:lnTo>
                  <a:lnTo>
                    <a:pt x="921" y="329"/>
                  </a:lnTo>
                  <a:lnTo>
                    <a:pt x="924" y="340"/>
                  </a:lnTo>
                  <a:lnTo>
                    <a:pt x="927" y="353"/>
                  </a:lnTo>
                  <a:lnTo>
                    <a:pt x="933" y="365"/>
                  </a:lnTo>
                  <a:lnTo>
                    <a:pt x="937" y="377"/>
                  </a:lnTo>
                  <a:lnTo>
                    <a:pt x="940" y="388"/>
                  </a:lnTo>
                  <a:lnTo>
                    <a:pt x="943" y="401"/>
                  </a:lnTo>
                  <a:lnTo>
                    <a:pt x="944" y="413"/>
                  </a:lnTo>
                  <a:lnTo>
                    <a:pt x="947" y="439"/>
                  </a:lnTo>
                  <a:lnTo>
                    <a:pt x="948" y="466"/>
                  </a:lnTo>
                  <a:lnTo>
                    <a:pt x="949" y="496"/>
                  </a:lnTo>
                  <a:lnTo>
                    <a:pt x="949" y="527"/>
                  </a:lnTo>
                  <a:lnTo>
                    <a:pt x="949" y="561"/>
                  </a:lnTo>
                  <a:lnTo>
                    <a:pt x="948" y="595"/>
                  </a:lnTo>
                  <a:lnTo>
                    <a:pt x="947" y="629"/>
                  </a:lnTo>
                  <a:lnTo>
                    <a:pt x="944" y="663"/>
                  </a:lnTo>
                  <a:lnTo>
                    <a:pt x="941" y="698"/>
                  </a:lnTo>
                  <a:lnTo>
                    <a:pt x="938" y="731"/>
                  </a:lnTo>
                  <a:lnTo>
                    <a:pt x="935" y="763"/>
                  </a:lnTo>
                  <a:lnTo>
                    <a:pt x="930" y="793"/>
                  </a:lnTo>
                  <a:lnTo>
                    <a:pt x="925" y="822"/>
                  </a:lnTo>
                  <a:lnTo>
                    <a:pt x="920" y="847"/>
                  </a:lnTo>
                  <a:lnTo>
                    <a:pt x="913" y="871"/>
                  </a:lnTo>
                  <a:lnTo>
                    <a:pt x="907" y="890"/>
                  </a:lnTo>
                  <a:lnTo>
                    <a:pt x="917" y="877"/>
                  </a:lnTo>
                  <a:lnTo>
                    <a:pt x="925" y="864"/>
                  </a:lnTo>
                  <a:lnTo>
                    <a:pt x="935" y="850"/>
                  </a:lnTo>
                  <a:lnTo>
                    <a:pt x="945" y="838"/>
                  </a:lnTo>
                  <a:lnTo>
                    <a:pt x="956" y="827"/>
                  </a:lnTo>
                  <a:lnTo>
                    <a:pt x="967" y="817"/>
                  </a:lnTo>
                  <a:lnTo>
                    <a:pt x="980" y="812"/>
                  </a:lnTo>
                  <a:lnTo>
                    <a:pt x="993" y="810"/>
                  </a:lnTo>
                  <a:lnTo>
                    <a:pt x="995" y="803"/>
                  </a:lnTo>
                  <a:lnTo>
                    <a:pt x="1002" y="802"/>
                  </a:lnTo>
                  <a:lnTo>
                    <a:pt x="1010" y="801"/>
                  </a:lnTo>
                  <a:lnTo>
                    <a:pt x="1017" y="795"/>
                  </a:lnTo>
                  <a:close/>
                  <a:moveTo>
                    <a:pt x="600" y="583"/>
                  </a:moveTo>
                  <a:lnTo>
                    <a:pt x="605" y="594"/>
                  </a:lnTo>
                  <a:lnTo>
                    <a:pt x="614" y="602"/>
                  </a:lnTo>
                  <a:lnTo>
                    <a:pt x="624" y="608"/>
                  </a:lnTo>
                  <a:lnTo>
                    <a:pt x="636" y="610"/>
                  </a:lnTo>
                  <a:lnTo>
                    <a:pt x="648" y="611"/>
                  </a:lnTo>
                  <a:lnTo>
                    <a:pt x="660" y="609"/>
                  </a:lnTo>
                  <a:lnTo>
                    <a:pt x="670" y="606"/>
                  </a:lnTo>
                  <a:lnTo>
                    <a:pt x="679" y="600"/>
                  </a:lnTo>
                  <a:lnTo>
                    <a:pt x="695" y="613"/>
                  </a:lnTo>
                  <a:lnTo>
                    <a:pt x="711" y="622"/>
                  </a:lnTo>
                  <a:lnTo>
                    <a:pt x="728" y="625"/>
                  </a:lnTo>
                  <a:lnTo>
                    <a:pt x="745" y="626"/>
                  </a:lnTo>
                  <a:lnTo>
                    <a:pt x="761" y="626"/>
                  </a:lnTo>
                  <a:lnTo>
                    <a:pt x="777" y="625"/>
                  </a:lnTo>
                  <a:lnTo>
                    <a:pt x="793" y="626"/>
                  </a:lnTo>
                  <a:lnTo>
                    <a:pt x="808" y="628"/>
                  </a:lnTo>
                  <a:lnTo>
                    <a:pt x="815" y="631"/>
                  </a:lnTo>
                  <a:lnTo>
                    <a:pt x="821" y="635"/>
                  </a:lnTo>
                  <a:lnTo>
                    <a:pt x="829" y="641"/>
                  </a:lnTo>
                  <a:lnTo>
                    <a:pt x="837" y="647"/>
                  </a:lnTo>
                  <a:lnTo>
                    <a:pt x="846" y="654"/>
                  </a:lnTo>
                  <a:lnTo>
                    <a:pt x="854" y="660"/>
                  </a:lnTo>
                  <a:lnTo>
                    <a:pt x="863" y="665"/>
                  </a:lnTo>
                  <a:lnTo>
                    <a:pt x="872" y="669"/>
                  </a:lnTo>
                  <a:lnTo>
                    <a:pt x="865" y="662"/>
                  </a:lnTo>
                  <a:lnTo>
                    <a:pt x="853" y="653"/>
                  </a:lnTo>
                  <a:lnTo>
                    <a:pt x="838" y="643"/>
                  </a:lnTo>
                  <a:lnTo>
                    <a:pt x="824" y="633"/>
                  </a:lnTo>
                  <a:lnTo>
                    <a:pt x="812" y="626"/>
                  </a:lnTo>
                  <a:lnTo>
                    <a:pt x="802" y="619"/>
                  </a:lnTo>
                  <a:lnTo>
                    <a:pt x="800" y="616"/>
                  </a:lnTo>
                  <a:lnTo>
                    <a:pt x="806" y="617"/>
                  </a:lnTo>
                  <a:lnTo>
                    <a:pt x="789" y="611"/>
                  </a:lnTo>
                  <a:lnTo>
                    <a:pt x="772" y="604"/>
                  </a:lnTo>
                  <a:lnTo>
                    <a:pt x="755" y="597"/>
                  </a:lnTo>
                  <a:lnTo>
                    <a:pt x="738" y="589"/>
                  </a:lnTo>
                  <a:lnTo>
                    <a:pt x="721" y="583"/>
                  </a:lnTo>
                  <a:lnTo>
                    <a:pt x="705" y="579"/>
                  </a:lnTo>
                  <a:lnTo>
                    <a:pt x="689" y="577"/>
                  </a:lnTo>
                  <a:lnTo>
                    <a:pt x="672" y="578"/>
                  </a:lnTo>
                  <a:lnTo>
                    <a:pt x="669" y="578"/>
                  </a:lnTo>
                  <a:lnTo>
                    <a:pt x="662" y="579"/>
                  </a:lnTo>
                  <a:lnTo>
                    <a:pt x="651" y="580"/>
                  </a:lnTo>
                  <a:lnTo>
                    <a:pt x="638" y="581"/>
                  </a:lnTo>
                  <a:lnTo>
                    <a:pt x="626" y="582"/>
                  </a:lnTo>
                  <a:lnTo>
                    <a:pt x="615" y="583"/>
                  </a:lnTo>
                  <a:lnTo>
                    <a:pt x="605" y="583"/>
                  </a:lnTo>
                  <a:lnTo>
                    <a:pt x="600" y="583"/>
                  </a:lnTo>
                  <a:close/>
                  <a:moveTo>
                    <a:pt x="523" y="573"/>
                  </a:moveTo>
                  <a:lnTo>
                    <a:pt x="515" y="584"/>
                  </a:lnTo>
                  <a:lnTo>
                    <a:pt x="507" y="589"/>
                  </a:lnTo>
                  <a:lnTo>
                    <a:pt x="496" y="589"/>
                  </a:lnTo>
                  <a:lnTo>
                    <a:pt x="486" y="586"/>
                  </a:lnTo>
                  <a:lnTo>
                    <a:pt x="477" y="580"/>
                  </a:lnTo>
                  <a:lnTo>
                    <a:pt x="467" y="571"/>
                  </a:lnTo>
                  <a:lnTo>
                    <a:pt x="459" y="562"/>
                  </a:lnTo>
                  <a:lnTo>
                    <a:pt x="453" y="551"/>
                  </a:lnTo>
                  <a:lnTo>
                    <a:pt x="434" y="561"/>
                  </a:lnTo>
                  <a:lnTo>
                    <a:pt x="416" y="566"/>
                  </a:lnTo>
                  <a:lnTo>
                    <a:pt x="397" y="568"/>
                  </a:lnTo>
                  <a:lnTo>
                    <a:pt x="379" y="569"/>
                  </a:lnTo>
                  <a:lnTo>
                    <a:pt x="362" y="568"/>
                  </a:lnTo>
                  <a:lnTo>
                    <a:pt x="346" y="566"/>
                  </a:lnTo>
                  <a:lnTo>
                    <a:pt x="330" y="563"/>
                  </a:lnTo>
                  <a:lnTo>
                    <a:pt x="314" y="561"/>
                  </a:lnTo>
                  <a:lnTo>
                    <a:pt x="307" y="560"/>
                  </a:lnTo>
                  <a:lnTo>
                    <a:pt x="300" y="561"/>
                  </a:lnTo>
                  <a:lnTo>
                    <a:pt x="291" y="562"/>
                  </a:lnTo>
                  <a:lnTo>
                    <a:pt x="282" y="563"/>
                  </a:lnTo>
                  <a:lnTo>
                    <a:pt x="272" y="565"/>
                  </a:lnTo>
                  <a:lnTo>
                    <a:pt x="263" y="566"/>
                  </a:lnTo>
                  <a:lnTo>
                    <a:pt x="253" y="567"/>
                  </a:lnTo>
                  <a:lnTo>
                    <a:pt x="243" y="566"/>
                  </a:lnTo>
                  <a:lnTo>
                    <a:pt x="251" y="562"/>
                  </a:lnTo>
                  <a:lnTo>
                    <a:pt x="261" y="557"/>
                  </a:lnTo>
                  <a:lnTo>
                    <a:pt x="273" y="554"/>
                  </a:lnTo>
                  <a:lnTo>
                    <a:pt x="285" y="551"/>
                  </a:lnTo>
                  <a:lnTo>
                    <a:pt x="298" y="549"/>
                  </a:lnTo>
                  <a:lnTo>
                    <a:pt x="307" y="546"/>
                  </a:lnTo>
                  <a:lnTo>
                    <a:pt x="316" y="542"/>
                  </a:lnTo>
                  <a:lnTo>
                    <a:pt x="320" y="538"/>
                  </a:lnTo>
                  <a:lnTo>
                    <a:pt x="321" y="534"/>
                  </a:lnTo>
                  <a:lnTo>
                    <a:pt x="327" y="530"/>
                  </a:lnTo>
                  <a:lnTo>
                    <a:pt x="335" y="527"/>
                  </a:lnTo>
                  <a:lnTo>
                    <a:pt x="347" y="525"/>
                  </a:lnTo>
                  <a:lnTo>
                    <a:pt x="361" y="524"/>
                  </a:lnTo>
                  <a:lnTo>
                    <a:pt x="377" y="524"/>
                  </a:lnTo>
                  <a:lnTo>
                    <a:pt x="394" y="524"/>
                  </a:lnTo>
                  <a:lnTo>
                    <a:pt x="412" y="526"/>
                  </a:lnTo>
                  <a:lnTo>
                    <a:pt x="431" y="529"/>
                  </a:lnTo>
                  <a:lnTo>
                    <a:pt x="449" y="532"/>
                  </a:lnTo>
                  <a:lnTo>
                    <a:pt x="466" y="536"/>
                  </a:lnTo>
                  <a:lnTo>
                    <a:pt x="482" y="541"/>
                  </a:lnTo>
                  <a:lnTo>
                    <a:pt x="497" y="548"/>
                  </a:lnTo>
                  <a:lnTo>
                    <a:pt x="509" y="555"/>
                  </a:lnTo>
                  <a:lnTo>
                    <a:pt x="517" y="564"/>
                  </a:lnTo>
                  <a:lnTo>
                    <a:pt x="523" y="573"/>
                  </a:lnTo>
                  <a:close/>
                  <a:moveTo>
                    <a:pt x="328" y="667"/>
                  </a:moveTo>
                  <a:lnTo>
                    <a:pt x="324" y="664"/>
                  </a:lnTo>
                  <a:lnTo>
                    <a:pt x="319" y="661"/>
                  </a:lnTo>
                  <a:lnTo>
                    <a:pt x="315" y="659"/>
                  </a:lnTo>
                  <a:lnTo>
                    <a:pt x="311" y="656"/>
                  </a:lnTo>
                  <a:lnTo>
                    <a:pt x="306" y="654"/>
                  </a:lnTo>
                  <a:lnTo>
                    <a:pt x="302" y="652"/>
                  </a:lnTo>
                  <a:lnTo>
                    <a:pt x="298" y="648"/>
                  </a:lnTo>
                  <a:lnTo>
                    <a:pt x="294" y="646"/>
                  </a:lnTo>
                  <a:lnTo>
                    <a:pt x="303" y="633"/>
                  </a:lnTo>
                  <a:lnTo>
                    <a:pt x="314" y="624"/>
                  </a:lnTo>
                  <a:lnTo>
                    <a:pt x="325" y="617"/>
                  </a:lnTo>
                  <a:lnTo>
                    <a:pt x="334" y="613"/>
                  </a:lnTo>
                  <a:lnTo>
                    <a:pt x="344" y="611"/>
                  </a:lnTo>
                  <a:lnTo>
                    <a:pt x="354" y="610"/>
                  </a:lnTo>
                  <a:lnTo>
                    <a:pt x="362" y="610"/>
                  </a:lnTo>
                  <a:lnTo>
                    <a:pt x="370" y="609"/>
                  </a:lnTo>
                  <a:lnTo>
                    <a:pt x="396" y="608"/>
                  </a:lnTo>
                  <a:lnTo>
                    <a:pt x="417" y="613"/>
                  </a:lnTo>
                  <a:lnTo>
                    <a:pt x="432" y="621"/>
                  </a:lnTo>
                  <a:lnTo>
                    <a:pt x="442" y="631"/>
                  </a:lnTo>
                  <a:lnTo>
                    <a:pt x="450" y="644"/>
                  </a:lnTo>
                  <a:lnTo>
                    <a:pt x="456" y="656"/>
                  </a:lnTo>
                  <a:lnTo>
                    <a:pt x="462" y="667"/>
                  </a:lnTo>
                  <a:lnTo>
                    <a:pt x="467" y="674"/>
                  </a:lnTo>
                  <a:lnTo>
                    <a:pt x="459" y="673"/>
                  </a:lnTo>
                  <a:lnTo>
                    <a:pt x="453" y="672"/>
                  </a:lnTo>
                  <a:lnTo>
                    <a:pt x="447" y="671"/>
                  </a:lnTo>
                  <a:lnTo>
                    <a:pt x="439" y="670"/>
                  </a:lnTo>
                  <a:lnTo>
                    <a:pt x="433" y="669"/>
                  </a:lnTo>
                  <a:lnTo>
                    <a:pt x="426" y="668"/>
                  </a:lnTo>
                  <a:lnTo>
                    <a:pt x="421" y="667"/>
                  </a:lnTo>
                  <a:lnTo>
                    <a:pt x="415" y="665"/>
                  </a:lnTo>
                  <a:lnTo>
                    <a:pt x="424" y="665"/>
                  </a:lnTo>
                  <a:lnTo>
                    <a:pt x="434" y="663"/>
                  </a:lnTo>
                  <a:lnTo>
                    <a:pt x="440" y="660"/>
                  </a:lnTo>
                  <a:lnTo>
                    <a:pt x="446" y="657"/>
                  </a:lnTo>
                  <a:lnTo>
                    <a:pt x="443" y="649"/>
                  </a:lnTo>
                  <a:lnTo>
                    <a:pt x="440" y="644"/>
                  </a:lnTo>
                  <a:lnTo>
                    <a:pt x="437" y="639"/>
                  </a:lnTo>
                  <a:lnTo>
                    <a:pt x="433" y="633"/>
                  </a:lnTo>
                  <a:lnTo>
                    <a:pt x="427" y="630"/>
                  </a:lnTo>
                  <a:lnTo>
                    <a:pt x="422" y="627"/>
                  </a:lnTo>
                  <a:lnTo>
                    <a:pt x="415" y="625"/>
                  </a:lnTo>
                  <a:lnTo>
                    <a:pt x="406" y="624"/>
                  </a:lnTo>
                  <a:lnTo>
                    <a:pt x="406" y="630"/>
                  </a:lnTo>
                  <a:lnTo>
                    <a:pt x="405" y="637"/>
                  </a:lnTo>
                  <a:lnTo>
                    <a:pt x="404" y="644"/>
                  </a:lnTo>
                  <a:lnTo>
                    <a:pt x="402" y="650"/>
                  </a:lnTo>
                  <a:lnTo>
                    <a:pt x="397" y="657"/>
                  </a:lnTo>
                  <a:lnTo>
                    <a:pt x="391" y="662"/>
                  </a:lnTo>
                  <a:lnTo>
                    <a:pt x="382" y="667"/>
                  </a:lnTo>
                  <a:lnTo>
                    <a:pt x="371" y="670"/>
                  </a:lnTo>
                  <a:lnTo>
                    <a:pt x="362" y="669"/>
                  </a:lnTo>
                  <a:lnTo>
                    <a:pt x="355" y="665"/>
                  </a:lnTo>
                  <a:lnTo>
                    <a:pt x="349" y="661"/>
                  </a:lnTo>
                  <a:lnTo>
                    <a:pt x="345" y="656"/>
                  </a:lnTo>
                  <a:lnTo>
                    <a:pt x="343" y="649"/>
                  </a:lnTo>
                  <a:lnTo>
                    <a:pt x="341" y="643"/>
                  </a:lnTo>
                  <a:lnTo>
                    <a:pt x="341" y="635"/>
                  </a:lnTo>
                  <a:lnTo>
                    <a:pt x="341" y="628"/>
                  </a:lnTo>
                  <a:lnTo>
                    <a:pt x="335" y="628"/>
                  </a:lnTo>
                  <a:lnTo>
                    <a:pt x="330" y="629"/>
                  </a:lnTo>
                  <a:lnTo>
                    <a:pt x="325" y="630"/>
                  </a:lnTo>
                  <a:lnTo>
                    <a:pt x="319" y="632"/>
                  </a:lnTo>
                  <a:lnTo>
                    <a:pt x="315" y="634"/>
                  </a:lnTo>
                  <a:lnTo>
                    <a:pt x="310" y="637"/>
                  </a:lnTo>
                  <a:lnTo>
                    <a:pt x="305" y="640"/>
                  </a:lnTo>
                  <a:lnTo>
                    <a:pt x="301" y="643"/>
                  </a:lnTo>
                  <a:lnTo>
                    <a:pt x="307" y="649"/>
                  </a:lnTo>
                  <a:lnTo>
                    <a:pt x="314" y="655"/>
                  </a:lnTo>
                  <a:lnTo>
                    <a:pt x="320" y="660"/>
                  </a:lnTo>
                  <a:lnTo>
                    <a:pt x="328" y="667"/>
                  </a:lnTo>
                  <a:close/>
                  <a:moveTo>
                    <a:pt x="770" y="724"/>
                  </a:moveTo>
                  <a:lnTo>
                    <a:pt x="774" y="722"/>
                  </a:lnTo>
                  <a:lnTo>
                    <a:pt x="780" y="720"/>
                  </a:lnTo>
                  <a:lnTo>
                    <a:pt x="784" y="719"/>
                  </a:lnTo>
                  <a:lnTo>
                    <a:pt x="788" y="717"/>
                  </a:lnTo>
                  <a:lnTo>
                    <a:pt x="793" y="715"/>
                  </a:lnTo>
                  <a:lnTo>
                    <a:pt x="798" y="714"/>
                  </a:lnTo>
                  <a:lnTo>
                    <a:pt x="802" y="711"/>
                  </a:lnTo>
                  <a:lnTo>
                    <a:pt x="806" y="709"/>
                  </a:lnTo>
                  <a:lnTo>
                    <a:pt x="799" y="694"/>
                  </a:lnTo>
                  <a:lnTo>
                    <a:pt x="790" y="684"/>
                  </a:lnTo>
                  <a:lnTo>
                    <a:pt x="781" y="676"/>
                  </a:lnTo>
                  <a:lnTo>
                    <a:pt x="771" y="671"/>
                  </a:lnTo>
                  <a:lnTo>
                    <a:pt x="761" y="667"/>
                  </a:lnTo>
                  <a:lnTo>
                    <a:pt x="753" y="664"/>
                  </a:lnTo>
                  <a:lnTo>
                    <a:pt x="744" y="662"/>
                  </a:lnTo>
                  <a:lnTo>
                    <a:pt x="737" y="660"/>
                  </a:lnTo>
                  <a:lnTo>
                    <a:pt x="711" y="654"/>
                  </a:lnTo>
                  <a:lnTo>
                    <a:pt x="690" y="655"/>
                  </a:lnTo>
                  <a:lnTo>
                    <a:pt x="674" y="660"/>
                  </a:lnTo>
                  <a:lnTo>
                    <a:pt x="662" y="669"/>
                  </a:lnTo>
                  <a:lnTo>
                    <a:pt x="652" y="679"/>
                  </a:lnTo>
                  <a:lnTo>
                    <a:pt x="645" y="690"/>
                  </a:lnTo>
                  <a:lnTo>
                    <a:pt x="638" y="700"/>
                  </a:lnTo>
                  <a:lnTo>
                    <a:pt x="632" y="706"/>
                  </a:lnTo>
                  <a:lnTo>
                    <a:pt x="638" y="707"/>
                  </a:lnTo>
                  <a:lnTo>
                    <a:pt x="644" y="706"/>
                  </a:lnTo>
                  <a:lnTo>
                    <a:pt x="648" y="704"/>
                  </a:lnTo>
                  <a:lnTo>
                    <a:pt x="653" y="703"/>
                  </a:lnTo>
                  <a:lnTo>
                    <a:pt x="660" y="704"/>
                  </a:lnTo>
                  <a:lnTo>
                    <a:pt x="668" y="707"/>
                  </a:lnTo>
                  <a:lnTo>
                    <a:pt x="677" y="709"/>
                  </a:lnTo>
                  <a:lnTo>
                    <a:pt x="683" y="708"/>
                  </a:lnTo>
                  <a:lnTo>
                    <a:pt x="672" y="705"/>
                  </a:lnTo>
                  <a:lnTo>
                    <a:pt x="664" y="702"/>
                  </a:lnTo>
                  <a:lnTo>
                    <a:pt x="659" y="696"/>
                  </a:lnTo>
                  <a:lnTo>
                    <a:pt x="654" y="692"/>
                  </a:lnTo>
                  <a:lnTo>
                    <a:pt x="657" y="686"/>
                  </a:lnTo>
                  <a:lnTo>
                    <a:pt x="662" y="680"/>
                  </a:lnTo>
                  <a:lnTo>
                    <a:pt x="665" y="676"/>
                  </a:lnTo>
                  <a:lnTo>
                    <a:pt x="670" y="672"/>
                  </a:lnTo>
                  <a:lnTo>
                    <a:pt x="676" y="670"/>
                  </a:lnTo>
                  <a:lnTo>
                    <a:pt x="682" y="669"/>
                  </a:lnTo>
                  <a:lnTo>
                    <a:pt x="691" y="668"/>
                  </a:lnTo>
                  <a:lnTo>
                    <a:pt x="699" y="669"/>
                  </a:lnTo>
                  <a:lnTo>
                    <a:pt x="698" y="675"/>
                  </a:lnTo>
                  <a:lnTo>
                    <a:pt x="698" y="681"/>
                  </a:lnTo>
                  <a:lnTo>
                    <a:pt x="698" y="688"/>
                  </a:lnTo>
                  <a:lnTo>
                    <a:pt x="699" y="695"/>
                  </a:lnTo>
                  <a:lnTo>
                    <a:pt x="702" y="702"/>
                  </a:lnTo>
                  <a:lnTo>
                    <a:pt x="707" y="708"/>
                  </a:lnTo>
                  <a:lnTo>
                    <a:pt x="715" y="715"/>
                  </a:lnTo>
                  <a:lnTo>
                    <a:pt x="727" y="719"/>
                  </a:lnTo>
                  <a:lnTo>
                    <a:pt x="736" y="719"/>
                  </a:lnTo>
                  <a:lnTo>
                    <a:pt x="743" y="718"/>
                  </a:lnTo>
                  <a:lnTo>
                    <a:pt x="748" y="715"/>
                  </a:lnTo>
                  <a:lnTo>
                    <a:pt x="754" y="710"/>
                  </a:lnTo>
                  <a:lnTo>
                    <a:pt x="757" y="705"/>
                  </a:lnTo>
                  <a:lnTo>
                    <a:pt x="760" y="699"/>
                  </a:lnTo>
                  <a:lnTo>
                    <a:pt x="762" y="691"/>
                  </a:lnTo>
                  <a:lnTo>
                    <a:pt x="763" y="684"/>
                  </a:lnTo>
                  <a:lnTo>
                    <a:pt x="769" y="685"/>
                  </a:lnTo>
                  <a:lnTo>
                    <a:pt x="773" y="687"/>
                  </a:lnTo>
                  <a:lnTo>
                    <a:pt x="778" y="689"/>
                  </a:lnTo>
                  <a:lnTo>
                    <a:pt x="783" y="692"/>
                  </a:lnTo>
                  <a:lnTo>
                    <a:pt x="787" y="695"/>
                  </a:lnTo>
                  <a:lnTo>
                    <a:pt x="791" y="699"/>
                  </a:lnTo>
                  <a:lnTo>
                    <a:pt x="796" y="702"/>
                  </a:lnTo>
                  <a:lnTo>
                    <a:pt x="799" y="706"/>
                  </a:lnTo>
                  <a:lnTo>
                    <a:pt x="791" y="710"/>
                  </a:lnTo>
                  <a:lnTo>
                    <a:pt x="785" y="715"/>
                  </a:lnTo>
                  <a:lnTo>
                    <a:pt x="777" y="719"/>
                  </a:lnTo>
                  <a:lnTo>
                    <a:pt x="770" y="724"/>
                  </a:lnTo>
                  <a:close/>
                  <a:moveTo>
                    <a:pt x="465" y="880"/>
                  </a:moveTo>
                  <a:lnTo>
                    <a:pt x="469" y="874"/>
                  </a:lnTo>
                  <a:lnTo>
                    <a:pt x="472" y="870"/>
                  </a:lnTo>
                  <a:lnTo>
                    <a:pt x="476" y="868"/>
                  </a:lnTo>
                  <a:lnTo>
                    <a:pt x="480" y="868"/>
                  </a:lnTo>
                  <a:lnTo>
                    <a:pt x="483" y="869"/>
                  </a:lnTo>
                  <a:lnTo>
                    <a:pt x="487" y="871"/>
                  </a:lnTo>
                  <a:lnTo>
                    <a:pt x="492" y="873"/>
                  </a:lnTo>
                  <a:lnTo>
                    <a:pt x="497" y="875"/>
                  </a:lnTo>
                  <a:lnTo>
                    <a:pt x="501" y="880"/>
                  </a:lnTo>
                  <a:lnTo>
                    <a:pt x="507" y="879"/>
                  </a:lnTo>
                  <a:lnTo>
                    <a:pt x="512" y="878"/>
                  </a:lnTo>
                  <a:lnTo>
                    <a:pt x="517" y="878"/>
                  </a:lnTo>
                  <a:lnTo>
                    <a:pt x="515" y="890"/>
                  </a:lnTo>
                  <a:lnTo>
                    <a:pt x="508" y="898"/>
                  </a:lnTo>
                  <a:lnTo>
                    <a:pt x="498" y="901"/>
                  </a:lnTo>
                  <a:lnTo>
                    <a:pt x="488" y="900"/>
                  </a:lnTo>
                  <a:lnTo>
                    <a:pt x="478" y="898"/>
                  </a:lnTo>
                  <a:lnTo>
                    <a:pt x="469" y="892"/>
                  </a:lnTo>
                  <a:lnTo>
                    <a:pt x="465" y="887"/>
                  </a:lnTo>
                  <a:lnTo>
                    <a:pt x="465" y="880"/>
                  </a:lnTo>
                  <a:close/>
                  <a:moveTo>
                    <a:pt x="558" y="895"/>
                  </a:moveTo>
                  <a:lnTo>
                    <a:pt x="562" y="892"/>
                  </a:lnTo>
                  <a:lnTo>
                    <a:pt x="567" y="892"/>
                  </a:lnTo>
                  <a:lnTo>
                    <a:pt x="570" y="894"/>
                  </a:lnTo>
                  <a:lnTo>
                    <a:pt x="573" y="896"/>
                  </a:lnTo>
                  <a:lnTo>
                    <a:pt x="577" y="900"/>
                  </a:lnTo>
                  <a:lnTo>
                    <a:pt x="581" y="903"/>
                  </a:lnTo>
                  <a:lnTo>
                    <a:pt x="586" y="904"/>
                  </a:lnTo>
                  <a:lnTo>
                    <a:pt x="592" y="904"/>
                  </a:lnTo>
                  <a:lnTo>
                    <a:pt x="595" y="902"/>
                  </a:lnTo>
                  <a:lnTo>
                    <a:pt x="598" y="899"/>
                  </a:lnTo>
                  <a:lnTo>
                    <a:pt x="600" y="895"/>
                  </a:lnTo>
                  <a:lnTo>
                    <a:pt x="600" y="891"/>
                  </a:lnTo>
                  <a:lnTo>
                    <a:pt x="598" y="887"/>
                  </a:lnTo>
                  <a:lnTo>
                    <a:pt x="593" y="883"/>
                  </a:lnTo>
                  <a:lnTo>
                    <a:pt x="585" y="878"/>
                  </a:lnTo>
                  <a:lnTo>
                    <a:pt x="571" y="873"/>
                  </a:lnTo>
                  <a:lnTo>
                    <a:pt x="565" y="878"/>
                  </a:lnTo>
                  <a:lnTo>
                    <a:pt x="560" y="882"/>
                  </a:lnTo>
                  <a:lnTo>
                    <a:pt x="553" y="883"/>
                  </a:lnTo>
                  <a:lnTo>
                    <a:pt x="545" y="884"/>
                  </a:lnTo>
                  <a:lnTo>
                    <a:pt x="547" y="887"/>
                  </a:lnTo>
                  <a:lnTo>
                    <a:pt x="550" y="890"/>
                  </a:lnTo>
                  <a:lnTo>
                    <a:pt x="554" y="893"/>
                  </a:lnTo>
                  <a:lnTo>
                    <a:pt x="558" y="895"/>
                  </a:lnTo>
                  <a:close/>
                  <a:moveTo>
                    <a:pt x="396" y="1024"/>
                  </a:moveTo>
                  <a:lnTo>
                    <a:pt x="406" y="1022"/>
                  </a:lnTo>
                  <a:lnTo>
                    <a:pt x="415" y="1019"/>
                  </a:lnTo>
                  <a:lnTo>
                    <a:pt x="424" y="1018"/>
                  </a:lnTo>
                  <a:lnTo>
                    <a:pt x="434" y="1017"/>
                  </a:lnTo>
                  <a:lnTo>
                    <a:pt x="443" y="1017"/>
                  </a:lnTo>
                  <a:lnTo>
                    <a:pt x="453" y="1017"/>
                  </a:lnTo>
                  <a:lnTo>
                    <a:pt x="463" y="1016"/>
                  </a:lnTo>
                  <a:lnTo>
                    <a:pt x="472" y="1015"/>
                  </a:lnTo>
                  <a:lnTo>
                    <a:pt x="480" y="1016"/>
                  </a:lnTo>
                  <a:lnTo>
                    <a:pt x="487" y="1018"/>
                  </a:lnTo>
                  <a:lnTo>
                    <a:pt x="495" y="1019"/>
                  </a:lnTo>
                  <a:lnTo>
                    <a:pt x="503" y="1021"/>
                  </a:lnTo>
                  <a:lnTo>
                    <a:pt x="512" y="1023"/>
                  </a:lnTo>
                  <a:lnTo>
                    <a:pt x="519" y="1024"/>
                  </a:lnTo>
                  <a:lnTo>
                    <a:pt x="527" y="1026"/>
                  </a:lnTo>
                  <a:lnTo>
                    <a:pt x="534" y="1027"/>
                  </a:lnTo>
                  <a:lnTo>
                    <a:pt x="543" y="1026"/>
                  </a:lnTo>
                  <a:lnTo>
                    <a:pt x="552" y="1025"/>
                  </a:lnTo>
                  <a:lnTo>
                    <a:pt x="560" y="1024"/>
                  </a:lnTo>
                  <a:lnTo>
                    <a:pt x="569" y="1023"/>
                  </a:lnTo>
                  <a:lnTo>
                    <a:pt x="577" y="1022"/>
                  </a:lnTo>
                  <a:lnTo>
                    <a:pt x="586" y="1021"/>
                  </a:lnTo>
                  <a:lnTo>
                    <a:pt x="594" y="1019"/>
                  </a:lnTo>
                  <a:lnTo>
                    <a:pt x="603" y="1018"/>
                  </a:lnTo>
                  <a:lnTo>
                    <a:pt x="614" y="1022"/>
                  </a:lnTo>
                  <a:lnTo>
                    <a:pt x="624" y="1024"/>
                  </a:lnTo>
                  <a:lnTo>
                    <a:pt x="634" y="1026"/>
                  </a:lnTo>
                  <a:lnTo>
                    <a:pt x="645" y="1029"/>
                  </a:lnTo>
                  <a:lnTo>
                    <a:pt x="653" y="1032"/>
                  </a:lnTo>
                  <a:lnTo>
                    <a:pt x="663" y="1036"/>
                  </a:lnTo>
                  <a:lnTo>
                    <a:pt x="672" y="1040"/>
                  </a:lnTo>
                  <a:lnTo>
                    <a:pt x="682" y="1045"/>
                  </a:lnTo>
                  <a:lnTo>
                    <a:pt x="669" y="1042"/>
                  </a:lnTo>
                  <a:lnTo>
                    <a:pt x="657" y="1040"/>
                  </a:lnTo>
                  <a:lnTo>
                    <a:pt x="647" y="1037"/>
                  </a:lnTo>
                  <a:lnTo>
                    <a:pt x="637" y="1034"/>
                  </a:lnTo>
                  <a:lnTo>
                    <a:pt x="628" y="1033"/>
                  </a:lnTo>
                  <a:lnTo>
                    <a:pt x="616" y="1032"/>
                  </a:lnTo>
                  <a:lnTo>
                    <a:pt x="604" y="1031"/>
                  </a:lnTo>
                  <a:lnTo>
                    <a:pt x="589" y="1032"/>
                  </a:lnTo>
                  <a:lnTo>
                    <a:pt x="585" y="1033"/>
                  </a:lnTo>
                  <a:lnTo>
                    <a:pt x="579" y="1036"/>
                  </a:lnTo>
                  <a:lnTo>
                    <a:pt x="572" y="1038"/>
                  </a:lnTo>
                  <a:lnTo>
                    <a:pt x="565" y="1040"/>
                  </a:lnTo>
                  <a:lnTo>
                    <a:pt x="557" y="1041"/>
                  </a:lnTo>
                  <a:lnTo>
                    <a:pt x="548" y="1042"/>
                  </a:lnTo>
                  <a:lnTo>
                    <a:pt x="540" y="1043"/>
                  </a:lnTo>
                  <a:lnTo>
                    <a:pt x="531" y="1042"/>
                  </a:lnTo>
                  <a:lnTo>
                    <a:pt x="525" y="1041"/>
                  </a:lnTo>
                  <a:lnTo>
                    <a:pt x="517" y="1039"/>
                  </a:lnTo>
                  <a:lnTo>
                    <a:pt x="511" y="1038"/>
                  </a:lnTo>
                  <a:lnTo>
                    <a:pt x="503" y="1036"/>
                  </a:lnTo>
                  <a:lnTo>
                    <a:pt x="497" y="1034"/>
                  </a:lnTo>
                  <a:lnTo>
                    <a:pt x="492" y="1032"/>
                  </a:lnTo>
                  <a:lnTo>
                    <a:pt x="486" y="1031"/>
                  </a:lnTo>
                  <a:lnTo>
                    <a:pt x="482" y="1029"/>
                  </a:lnTo>
                  <a:lnTo>
                    <a:pt x="469" y="1026"/>
                  </a:lnTo>
                  <a:lnTo>
                    <a:pt x="457" y="1024"/>
                  </a:lnTo>
                  <a:lnTo>
                    <a:pt x="447" y="1023"/>
                  </a:lnTo>
                  <a:lnTo>
                    <a:pt x="437" y="1023"/>
                  </a:lnTo>
                  <a:lnTo>
                    <a:pt x="427" y="1023"/>
                  </a:lnTo>
                  <a:lnTo>
                    <a:pt x="418" y="1024"/>
                  </a:lnTo>
                  <a:lnTo>
                    <a:pt x="408" y="1024"/>
                  </a:lnTo>
                  <a:lnTo>
                    <a:pt x="396" y="1024"/>
                  </a:lnTo>
                  <a:close/>
                  <a:moveTo>
                    <a:pt x="464" y="1732"/>
                  </a:moveTo>
                  <a:lnTo>
                    <a:pt x="422" y="2079"/>
                  </a:lnTo>
                  <a:lnTo>
                    <a:pt x="432" y="2109"/>
                  </a:lnTo>
                  <a:lnTo>
                    <a:pt x="440" y="2137"/>
                  </a:lnTo>
                  <a:lnTo>
                    <a:pt x="450" y="2163"/>
                  </a:lnTo>
                  <a:lnTo>
                    <a:pt x="458" y="2188"/>
                  </a:lnTo>
                  <a:lnTo>
                    <a:pt x="467" y="2211"/>
                  </a:lnTo>
                  <a:lnTo>
                    <a:pt x="476" y="2235"/>
                  </a:lnTo>
                  <a:lnTo>
                    <a:pt x="483" y="2258"/>
                  </a:lnTo>
                  <a:lnTo>
                    <a:pt x="492" y="2282"/>
                  </a:lnTo>
                  <a:lnTo>
                    <a:pt x="499" y="2306"/>
                  </a:lnTo>
                  <a:lnTo>
                    <a:pt x="507" y="2333"/>
                  </a:lnTo>
                  <a:lnTo>
                    <a:pt x="514" y="2360"/>
                  </a:lnTo>
                  <a:lnTo>
                    <a:pt x="522" y="2390"/>
                  </a:lnTo>
                  <a:lnTo>
                    <a:pt x="529" y="2422"/>
                  </a:lnTo>
                  <a:lnTo>
                    <a:pt x="537" y="2457"/>
                  </a:lnTo>
                  <a:lnTo>
                    <a:pt x="544" y="2496"/>
                  </a:lnTo>
                  <a:lnTo>
                    <a:pt x="552" y="2538"/>
                  </a:lnTo>
                  <a:lnTo>
                    <a:pt x="554" y="2503"/>
                  </a:lnTo>
                  <a:lnTo>
                    <a:pt x="558" y="2469"/>
                  </a:lnTo>
                  <a:lnTo>
                    <a:pt x="563" y="2436"/>
                  </a:lnTo>
                  <a:lnTo>
                    <a:pt x="569" y="2405"/>
                  </a:lnTo>
                  <a:lnTo>
                    <a:pt x="576" y="2374"/>
                  </a:lnTo>
                  <a:lnTo>
                    <a:pt x="584" y="2344"/>
                  </a:lnTo>
                  <a:lnTo>
                    <a:pt x="591" y="2315"/>
                  </a:lnTo>
                  <a:lnTo>
                    <a:pt x="601" y="2287"/>
                  </a:lnTo>
                  <a:lnTo>
                    <a:pt x="609" y="2259"/>
                  </a:lnTo>
                  <a:lnTo>
                    <a:pt x="619" y="2231"/>
                  </a:lnTo>
                  <a:lnTo>
                    <a:pt x="629" y="2204"/>
                  </a:lnTo>
                  <a:lnTo>
                    <a:pt x="638" y="2177"/>
                  </a:lnTo>
                  <a:lnTo>
                    <a:pt x="647" y="2149"/>
                  </a:lnTo>
                  <a:lnTo>
                    <a:pt x="656" y="2121"/>
                  </a:lnTo>
                  <a:lnTo>
                    <a:pt x="665" y="2092"/>
                  </a:lnTo>
                  <a:lnTo>
                    <a:pt x="672" y="2063"/>
                  </a:lnTo>
                  <a:lnTo>
                    <a:pt x="568" y="1732"/>
                  </a:lnTo>
                  <a:lnTo>
                    <a:pt x="555" y="1721"/>
                  </a:lnTo>
                  <a:lnTo>
                    <a:pt x="543" y="1714"/>
                  </a:lnTo>
                  <a:lnTo>
                    <a:pt x="530" y="1708"/>
                  </a:lnTo>
                  <a:lnTo>
                    <a:pt x="517" y="1707"/>
                  </a:lnTo>
                  <a:lnTo>
                    <a:pt x="504" y="1708"/>
                  </a:lnTo>
                  <a:lnTo>
                    <a:pt x="492" y="1714"/>
                  </a:lnTo>
                  <a:lnTo>
                    <a:pt x="478" y="1721"/>
                  </a:lnTo>
                  <a:lnTo>
                    <a:pt x="464" y="1732"/>
                  </a:lnTo>
                  <a:close/>
                  <a:moveTo>
                    <a:pt x="382" y="1565"/>
                  </a:moveTo>
                  <a:lnTo>
                    <a:pt x="388" y="1576"/>
                  </a:lnTo>
                  <a:lnTo>
                    <a:pt x="393" y="1586"/>
                  </a:lnTo>
                  <a:lnTo>
                    <a:pt x="397" y="1597"/>
                  </a:lnTo>
                  <a:lnTo>
                    <a:pt x="402" y="1607"/>
                  </a:lnTo>
                  <a:lnTo>
                    <a:pt x="406" y="1617"/>
                  </a:lnTo>
                  <a:lnTo>
                    <a:pt x="410" y="1629"/>
                  </a:lnTo>
                  <a:lnTo>
                    <a:pt x="415" y="1640"/>
                  </a:lnTo>
                  <a:lnTo>
                    <a:pt x="419" y="1651"/>
                  </a:lnTo>
                  <a:lnTo>
                    <a:pt x="423" y="1661"/>
                  </a:lnTo>
                  <a:lnTo>
                    <a:pt x="427" y="1672"/>
                  </a:lnTo>
                  <a:lnTo>
                    <a:pt x="432" y="1683"/>
                  </a:lnTo>
                  <a:lnTo>
                    <a:pt x="437" y="1693"/>
                  </a:lnTo>
                  <a:lnTo>
                    <a:pt x="441" y="1704"/>
                  </a:lnTo>
                  <a:lnTo>
                    <a:pt x="447" y="1715"/>
                  </a:lnTo>
                  <a:lnTo>
                    <a:pt x="452" y="1725"/>
                  </a:lnTo>
                  <a:lnTo>
                    <a:pt x="457" y="1736"/>
                  </a:lnTo>
                  <a:lnTo>
                    <a:pt x="470" y="1722"/>
                  </a:lnTo>
                  <a:lnTo>
                    <a:pt x="485" y="1714"/>
                  </a:lnTo>
                  <a:lnTo>
                    <a:pt x="501" y="1709"/>
                  </a:lnTo>
                  <a:lnTo>
                    <a:pt x="517" y="1708"/>
                  </a:lnTo>
                  <a:lnTo>
                    <a:pt x="533" y="1710"/>
                  </a:lnTo>
                  <a:lnTo>
                    <a:pt x="548" y="1716"/>
                  </a:lnTo>
                  <a:lnTo>
                    <a:pt x="561" y="1723"/>
                  </a:lnTo>
                  <a:lnTo>
                    <a:pt x="571" y="1733"/>
                  </a:lnTo>
                  <a:lnTo>
                    <a:pt x="577" y="1714"/>
                  </a:lnTo>
                  <a:lnTo>
                    <a:pt x="584" y="1694"/>
                  </a:lnTo>
                  <a:lnTo>
                    <a:pt x="590" y="1676"/>
                  </a:lnTo>
                  <a:lnTo>
                    <a:pt x="596" y="1657"/>
                  </a:lnTo>
                  <a:lnTo>
                    <a:pt x="603" y="1639"/>
                  </a:lnTo>
                  <a:lnTo>
                    <a:pt x="609" y="1621"/>
                  </a:lnTo>
                  <a:lnTo>
                    <a:pt x="617" y="1601"/>
                  </a:lnTo>
                  <a:lnTo>
                    <a:pt x="623" y="1583"/>
                  </a:lnTo>
                  <a:lnTo>
                    <a:pt x="615" y="1570"/>
                  </a:lnTo>
                  <a:lnTo>
                    <a:pt x="606" y="1558"/>
                  </a:lnTo>
                  <a:lnTo>
                    <a:pt x="599" y="1546"/>
                  </a:lnTo>
                  <a:lnTo>
                    <a:pt x="590" y="1534"/>
                  </a:lnTo>
                  <a:lnTo>
                    <a:pt x="580" y="1523"/>
                  </a:lnTo>
                  <a:lnTo>
                    <a:pt x="570" y="1512"/>
                  </a:lnTo>
                  <a:lnTo>
                    <a:pt x="557" y="1500"/>
                  </a:lnTo>
                  <a:lnTo>
                    <a:pt x="541" y="1488"/>
                  </a:lnTo>
                  <a:lnTo>
                    <a:pt x="530" y="1488"/>
                  </a:lnTo>
                  <a:lnTo>
                    <a:pt x="518" y="1488"/>
                  </a:lnTo>
                  <a:lnTo>
                    <a:pt x="507" y="1489"/>
                  </a:lnTo>
                  <a:lnTo>
                    <a:pt x="494" y="1489"/>
                  </a:lnTo>
                  <a:lnTo>
                    <a:pt x="481" y="1490"/>
                  </a:lnTo>
                  <a:lnTo>
                    <a:pt x="469" y="1491"/>
                  </a:lnTo>
                  <a:lnTo>
                    <a:pt x="457" y="1491"/>
                  </a:lnTo>
                  <a:lnTo>
                    <a:pt x="447" y="1491"/>
                  </a:lnTo>
                  <a:lnTo>
                    <a:pt x="438" y="1501"/>
                  </a:lnTo>
                  <a:lnTo>
                    <a:pt x="430" y="1510"/>
                  </a:lnTo>
                  <a:lnTo>
                    <a:pt x="422" y="1519"/>
                  </a:lnTo>
                  <a:lnTo>
                    <a:pt x="415" y="1529"/>
                  </a:lnTo>
                  <a:lnTo>
                    <a:pt x="407" y="1537"/>
                  </a:lnTo>
                  <a:lnTo>
                    <a:pt x="400" y="1547"/>
                  </a:lnTo>
                  <a:lnTo>
                    <a:pt x="391" y="1555"/>
                  </a:lnTo>
                  <a:lnTo>
                    <a:pt x="382" y="1565"/>
                  </a:lnTo>
                  <a:close/>
                  <a:moveTo>
                    <a:pt x="1554" y="3748"/>
                  </a:moveTo>
                  <a:lnTo>
                    <a:pt x="1564" y="3732"/>
                  </a:lnTo>
                  <a:lnTo>
                    <a:pt x="1579" y="3718"/>
                  </a:lnTo>
                  <a:lnTo>
                    <a:pt x="1596" y="3705"/>
                  </a:lnTo>
                  <a:lnTo>
                    <a:pt x="1612" y="3691"/>
                  </a:lnTo>
                  <a:lnTo>
                    <a:pt x="1624" y="3676"/>
                  </a:lnTo>
                  <a:lnTo>
                    <a:pt x="1628" y="3657"/>
                  </a:lnTo>
                  <a:lnTo>
                    <a:pt x="1621" y="3633"/>
                  </a:lnTo>
                  <a:lnTo>
                    <a:pt x="1599" y="3601"/>
                  </a:lnTo>
                  <a:lnTo>
                    <a:pt x="1612" y="3617"/>
                  </a:lnTo>
                  <a:lnTo>
                    <a:pt x="1624" y="3633"/>
                  </a:lnTo>
                  <a:lnTo>
                    <a:pt x="1633" y="3648"/>
                  </a:lnTo>
                  <a:lnTo>
                    <a:pt x="1640" y="3661"/>
                  </a:lnTo>
                  <a:lnTo>
                    <a:pt x="1647" y="3675"/>
                  </a:lnTo>
                  <a:lnTo>
                    <a:pt x="1653" y="3689"/>
                  </a:lnTo>
                  <a:lnTo>
                    <a:pt x="1658" y="3702"/>
                  </a:lnTo>
                  <a:lnTo>
                    <a:pt x="1664" y="3715"/>
                  </a:lnTo>
                  <a:lnTo>
                    <a:pt x="1660" y="3719"/>
                  </a:lnTo>
                  <a:lnTo>
                    <a:pt x="1657" y="3724"/>
                  </a:lnTo>
                  <a:lnTo>
                    <a:pt x="1654" y="3728"/>
                  </a:lnTo>
                  <a:lnTo>
                    <a:pt x="1651" y="3732"/>
                  </a:lnTo>
                  <a:lnTo>
                    <a:pt x="1648" y="3736"/>
                  </a:lnTo>
                  <a:lnTo>
                    <a:pt x="1644" y="3741"/>
                  </a:lnTo>
                  <a:lnTo>
                    <a:pt x="1641" y="3745"/>
                  </a:lnTo>
                  <a:lnTo>
                    <a:pt x="1638" y="3749"/>
                  </a:lnTo>
                  <a:lnTo>
                    <a:pt x="1627" y="3749"/>
                  </a:lnTo>
                  <a:lnTo>
                    <a:pt x="1617" y="3749"/>
                  </a:lnTo>
                  <a:lnTo>
                    <a:pt x="1606" y="3749"/>
                  </a:lnTo>
                  <a:lnTo>
                    <a:pt x="1596" y="3748"/>
                  </a:lnTo>
                  <a:lnTo>
                    <a:pt x="1586" y="3748"/>
                  </a:lnTo>
                  <a:lnTo>
                    <a:pt x="1575" y="3748"/>
                  </a:lnTo>
                  <a:lnTo>
                    <a:pt x="1565" y="3748"/>
                  </a:lnTo>
                  <a:lnTo>
                    <a:pt x="1554" y="3748"/>
                  </a:lnTo>
                  <a:close/>
                  <a:moveTo>
                    <a:pt x="2030" y="8769"/>
                  </a:moveTo>
                  <a:lnTo>
                    <a:pt x="2039" y="8781"/>
                  </a:lnTo>
                  <a:lnTo>
                    <a:pt x="2050" y="8796"/>
                  </a:lnTo>
                  <a:lnTo>
                    <a:pt x="2061" y="8813"/>
                  </a:lnTo>
                  <a:lnTo>
                    <a:pt x="2073" y="8830"/>
                  </a:lnTo>
                  <a:lnTo>
                    <a:pt x="2085" y="8846"/>
                  </a:lnTo>
                  <a:lnTo>
                    <a:pt x="2098" y="8861"/>
                  </a:lnTo>
                  <a:lnTo>
                    <a:pt x="2112" y="8874"/>
                  </a:lnTo>
                  <a:lnTo>
                    <a:pt x="2126" y="8881"/>
                  </a:lnTo>
                  <a:lnTo>
                    <a:pt x="2146" y="8887"/>
                  </a:lnTo>
                  <a:lnTo>
                    <a:pt x="2167" y="8894"/>
                  </a:lnTo>
                  <a:lnTo>
                    <a:pt x="2186" y="8904"/>
                  </a:lnTo>
                  <a:lnTo>
                    <a:pt x="2206" y="8915"/>
                  </a:lnTo>
                  <a:lnTo>
                    <a:pt x="2225" y="8928"/>
                  </a:lnTo>
                  <a:lnTo>
                    <a:pt x="2243" y="8942"/>
                  </a:lnTo>
                  <a:lnTo>
                    <a:pt x="2259" y="8958"/>
                  </a:lnTo>
                  <a:lnTo>
                    <a:pt x="2274" y="8975"/>
                  </a:lnTo>
                  <a:lnTo>
                    <a:pt x="2274" y="8987"/>
                  </a:lnTo>
                  <a:lnTo>
                    <a:pt x="2273" y="9000"/>
                  </a:lnTo>
                  <a:lnTo>
                    <a:pt x="2273" y="9014"/>
                  </a:lnTo>
                  <a:lnTo>
                    <a:pt x="2272" y="9028"/>
                  </a:lnTo>
                  <a:lnTo>
                    <a:pt x="2270" y="9042"/>
                  </a:lnTo>
                  <a:lnTo>
                    <a:pt x="2267" y="9056"/>
                  </a:lnTo>
                  <a:lnTo>
                    <a:pt x="2265" y="9071"/>
                  </a:lnTo>
                  <a:lnTo>
                    <a:pt x="2263" y="9084"/>
                  </a:lnTo>
                  <a:lnTo>
                    <a:pt x="2260" y="9098"/>
                  </a:lnTo>
                  <a:lnTo>
                    <a:pt x="2256" y="9112"/>
                  </a:lnTo>
                  <a:lnTo>
                    <a:pt x="2252" y="9126"/>
                  </a:lnTo>
                  <a:lnTo>
                    <a:pt x="2248" y="9139"/>
                  </a:lnTo>
                  <a:lnTo>
                    <a:pt x="2243" y="9151"/>
                  </a:lnTo>
                  <a:lnTo>
                    <a:pt x="2237" y="9161"/>
                  </a:lnTo>
                  <a:lnTo>
                    <a:pt x="2231" y="9172"/>
                  </a:lnTo>
                  <a:lnTo>
                    <a:pt x="2225" y="9182"/>
                  </a:lnTo>
                  <a:lnTo>
                    <a:pt x="2201" y="9190"/>
                  </a:lnTo>
                  <a:lnTo>
                    <a:pt x="2174" y="9197"/>
                  </a:lnTo>
                  <a:lnTo>
                    <a:pt x="2144" y="9204"/>
                  </a:lnTo>
                  <a:lnTo>
                    <a:pt x="2112" y="9210"/>
                  </a:lnTo>
                  <a:lnTo>
                    <a:pt x="2077" y="9214"/>
                  </a:lnTo>
                  <a:lnTo>
                    <a:pt x="2040" y="9217"/>
                  </a:lnTo>
                  <a:lnTo>
                    <a:pt x="2002" y="9220"/>
                  </a:lnTo>
                  <a:lnTo>
                    <a:pt x="1963" y="9220"/>
                  </a:lnTo>
                  <a:lnTo>
                    <a:pt x="1924" y="9220"/>
                  </a:lnTo>
                  <a:lnTo>
                    <a:pt x="1884" y="9218"/>
                  </a:lnTo>
                  <a:lnTo>
                    <a:pt x="1846" y="9214"/>
                  </a:lnTo>
                  <a:lnTo>
                    <a:pt x="1808" y="9209"/>
                  </a:lnTo>
                  <a:lnTo>
                    <a:pt x="1772" y="9201"/>
                  </a:lnTo>
                  <a:lnTo>
                    <a:pt x="1738" y="9191"/>
                  </a:lnTo>
                  <a:lnTo>
                    <a:pt x="1706" y="9180"/>
                  </a:lnTo>
                  <a:lnTo>
                    <a:pt x="1678" y="9166"/>
                  </a:lnTo>
                  <a:lnTo>
                    <a:pt x="1648" y="9153"/>
                  </a:lnTo>
                  <a:lnTo>
                    <a:pt x="1624" y="9144"/>
                  </a:lnTo>
                  <a:lnTo>
                    <a:pt x="1606" y="9138"/>
                  </a:lnTo>
                  <a:lnTo>
                    <a:pt x="1590" y="9134"/>
                  </a:lnTo>
                  <a:lnTo>
                    <a:pt x="1576" y="9132"/>
                  </a:lnTo>
                  <a:lnTo>
                    <a:pt x="1562" y="9132"/>
                  </a:lnTo>
                  <a:lnTo>
                    <a:pt x="1547" y="9132"/>
                  </a:lnTo>
                  <a:lnTo>
                    <a:pt x="1528" y="9132"/>
                  </a:lnTo>
                  <a:lnTo>
                    <a:pt x="1522" y="9134"/>
                  </a:lnTo>
                  <a:lnTo>
                    <a:pt x="1515" y="9136"/>
                  </a:lnTo>
                  <a:lnTo>
                    <a:pt x="1505" y="9137"/>
                  </a:lnTo>
                  <a:lnTo>
                    <a:pt x="1495" y="9137"/>
                  </a:lnTo>
                  <a:lnTo>
                    <a:pt x="1483" y="9136"/>
                  </a:lnTo>
                  <a:lnTo>
                    <a:pt x="1470" y="9135"/>
                  </a:lnTo>
                  <a:lnTo>
                    <a:pt x="1457" y="9134"/>
                  </a:lnTo>
                  <a:lnTo>
                    <a:pt x="1443" y="9133"/>
                  </a:lnTo>
                  <a:lnTo>
                    <a:pt x="1429" y="9130"/>
                  </a:lnTo>
                  <a:lnTo>
                    <a:pt x="1415" y="9128"/>
                  </a:lnTo>
                  <a:lnTo>
                    <a:pt x="1401" y="9126"/>
                  </a:lnTo>
                  <a:lnTo>
                    <a:pt x="1389" y="9125"/>
                  </a:lnTo>
                  <a:lnTo>
                    <a:pt x="1377" y="9123"/>
                  </a:lnTo>
                  <a:lnTo>
                    <a:pt x="1366" y="9122"/>
                  </a:lnTo>
                  <a:lnTo>
                    <a:pt x="1356" y="9121"/>
                  </a:lnTo>
                  <a:lnTo>
                    <a:pt x="1349" y="9121"/>
                  </a:lnTo>
                  <a:lnTo>
                    <a:pt x="1370" y="9114"/>
                  </a:lnTo>
                  <a:lnTo>
                    <a:pt x="1392" y="9105"/>
                  </a:lnTo>
                  <a:lnTo>
                    <a:pt x="1412" y="9090"/>
                  </a:lnTo>
                  <a:lnTo>
                    <a:pt x="1434" y="9073"/>
                  </a:lnTo>
                  <a:lnTo>
                    <a:pt x="1455" y="9052"/>
                  </a:lnTo>
                  <a:lnTo>
                    <a:pt x="1476" y="9029"/>
                  </a:lnTo>
                  <a:lnTo>
                    <a:pt x="1497" y="9004"/>
                  </a:lnTo>
                  <a:lnTo>
                    <a:pt x="1518" y="8978"/>
                  </a:lnTo>
                  <a:lnTo>
                    <a:pt x="1539" y="8950"/>
                  </a:lnTo>
                  <a:lnTo>
                    <a:pt x="1561" y="8921"/>
                  </a:lnTo>
                  <a:lnTo>
                    <a:pt x="1581" y="8892"/>
                  </a:lnTo>
                  <a:lnTo>
                    <a:pt x="1603" y="8863"/>
                  </a:lnTo>
                  <a:lnTo>
                    <a:pt x="1624" y="8835"/>
                  </a:lnTo>
                  <a:lnTo>
                    <a:pt x="1645" y="8809"/>
                  </a:lnTo>
                  <a:lnTo>
                    <a:pt x="1667" y="8782"/>
                  </a:lnTo>
                  <a:lnTo>
                    <a:pt x="1688" y="8758"/>
                  </a:lnTo>
                  <a:lnTo>
                    <a:pt x="1711" y="8745"/>
                  </a:lnTo>
                  <a:lnTo>
                    <a:pt x="1733" y="8734"/>
                  </a:lnTo>
                  <a:lnTo>
                    <a:pt x="1755" y="8723"/>
                  </a:lnTo>
                  <a:lnTo>
                    <a:pt x="1777" y="8714"/>
                  </a:lnTo>
                  <a:lnTo>
                    <a:pt x="1799" y="8708"/>
                  </a:lnTo>
                  <a:lnTo>
                    <a:pt x="1819" y="8703"/>
                  </a:lnTo>
                  <a:lnTo>
                    <a:pt x="1840" y="8699"/>
                  </a:lnTo>
                  <a:lnTo>
                    <a:pt x="1861" y="8697"/>
                  </a:lnTo>
                  <a:lnTo>
                    <a:pt x="1882" y="8698"/>
                  </a:lnTo>
                  <a:lnTo>
                    <a:pt x="1902" y="8702"/>
                  </a:lnTo>
                  <a:lnTo>
                    <a:pt x="1924" y="8707"/>
                  </a:lnTo>
                  <a:lnTo>
                    <a:pt x="1944" y="8714"/>
                  </a:lnTo>
                  <a:lnTo>
                    <a:pt x="1966" y="8724"/>
                  </a:lnTo>
                  <a:lnTo>
                    <a:pt x="1987" y="8736"/>
                  </a:lnTo>
                  <a:lnTo>
                    <a:pt x="2008" y="8751"/>
                  </a:lnTo>
                  <a:lnTo>
                    <a:pt x="2030" y="8769"/>
                  </a:lnTo>
                  <a:close/>
                  <a:moveTo>
                    <a:pt x="216" y="8866"/>
                  </a:moveTo>
                  <a:lnTo>
                    <a:pt x="202" y="8883"/>
                  </a:lnTo>
                  <a:lnTo>
                    <a:pt x="189" y="8899"/>
                  </a:lnTo>
                  <a:lnTo>
                    <a:pt x="178" y="8915"/>
                  </a:lnTo>
                  <a:lnTo>
                    <a:pt x="169" y="8933"/>
                  </a:lnTo>
                  <a:lnTo>
                    <a:pt x="163" y="8951"/>
                  </a:lnTo>
                  <a:lnTo>
                    <a:pt x="158" y="8972"/>
                  </a:lnTo>
                  <a:lnTo>
                    <a:pt x="153" y="8997"/>
                  </a:lnTo>
                  <a:lnTo>
                    <a:pt x="149" y="9026"/>
                  </a:lnTo>
                  <a:lnTo>
                    <a:pt x="154" y="9032"/>
                  </a:lnTo>
                  <a:lnTo>
                    <a:pt x="160" y="9037"/>
                  </a:lnTo>
                  <a:lnTo>
                    <a:pt x="164" y="9044"/>
                  </a:lnTo>
                  <a:lnTo>
                    <a:pt x="169" y="9050"/>
                  </a:lnTo>
                  <a:lnTo>
                    <a:pt x="174" y="9056"/>
                  </a:lnTo>
                  <a:lnTo>
                    <a:pt x="179" y="9062"/>
                  </a:lnTo>
                  <a:lnTo>
                    <a:pt x="183" y="9068"/>
                  </a:lnTo>
                  <a:lnTo>
                    <a:pt x="188" y="9075"/>
                  </a:lnTo>
                  <a:lnTo>
                    <a:pt x="183" y="9094"/>
                  </a:lnTo>
                  <a:lnTo>
                    <a:pt x="182" y="9112"/>
                  </a:lnTo>
                  <a:lnTo>
                    <a:pt x="182" y="9128"/>
                  </a:lnTo>
                  <a:lnTo>
                    <a:pt x="184" y="9142"/>
                  </a:lnTo>
                  <a:lnTo>
                    <a:pt x="188" y="9153"/>
                  </a:lnTo>
                  <a:lnTo>
                    <a:pt x="192" y="9161"/>
                  </a:lnTo>
                  <a:lnTo>
                    <a:pt x="197" y="9166"/>
                  </a:lnTo>
                  <a:lnTo>
                    <a:pt x="203" y="9167"/>
                  </a:lnTo>
                  <a:lnTo>
                    <a:pt x="220" y="9167"/>
                  </a:lnTo>
                  <a:lnTo>
                    <a:pt x="239" y="9168"/>
                  </a:lnTo>
                  <a:lnTo>
                    <a:pt x="259" y="9168"/>
                  </a:lnTo>
                  <a:lnTo>
                    <a:pt x="283" y="9169"/>
                  </a:lnTo>
                  <a:lnTo>
                    <a:pt x="306" y="9171"/>
                  </a:lnTo>
                  <a:lnTo>
                    <a:pt x="331" y="9172"/>
                  </a:lnTo>
                  <a:lnTo>
                    <a:pt x="357" y="9174"/>
                  </a:lnTo>
                  <a:lnTo>
                    <a:pt x="383" y="9175"/>
                  </a:lnTo>
                  <a:lnTo>
                    <a:pt x="409" y="9178"/>
                  </a:lnTo>
                  <a:lnTo>
                    <a:pt x="435" y="9179"/>
                  </a:lnTo>
                  <a:lnTo>
                    <a:pt x="461" y="9180"/>
                  </a:lnTo>
                  <a:lnTo>
                    <a:pt x="484" y="9181"/>
                  </a:lnTo>
                  <a:lnTo>
                    <a:pt x="508" y="9181"/>
                  </a:lnTo>
                  <a:lnTo>
                    <a:pt x="529" y="9181"/>
                  </a:lnTo>
                  <a:lnTo>
                    <a:pt x="548" y="9181"/>
                  </a:lnTo>
                  <a:lnTo>
                    <a:pt x="565" y="9180"/>
                  </a:lnTo>
                  <a:lnTo>
                    <a:pt x="576" y="9179"/>
                  </a:lnTo>
                  <a:lnTo>
                    <a:pt x="588" y="9178"/>
                  </a:lnTo>
                  <a:lnTo>
                    <a:pt x="600" y="9175"/>
                  </a:lnTo>
                  <a:lnTo>
                    <a:pt x="613" y="9173"/>
                  </a:lnTo>
                  <a:lnTo>
                    <a:pt x="629" y="9171"/>
                  </a:lnTo>
                  <a:lnTo>
                    <a:pt x="648" y="9169"/>
                  </a:lnTo>
                  <a:lnTo>
                    <a:pt x="671" y="9168"/>
                  </a:lnTo>
                  <a:lnTo>
                    <a:pt x="700" y="9167"/>
                  </a:lnTo>
                  <a:lnTo>
                    <a:pt x="707" y="9159"/>
                  </a:lnTo>
                  <a:lnTo>
                    <a:pt x="712" y="9151"/>
                  </a:lnTo>
                  <a:lnTo>
                    <a:pt x="719" y="9143"/>
                  </a:lnTo>
                  <a:lnTo>
                    <a:pt x="724" y="9136"/>
                  </a:lnTo>
                  <a:lnTo>
                    <a:pt x="721" y="9132"/>
                  </a:lnTo>
                  <a:lnTo>
                    <a:pt x="717" y="9127"/>
                  </a:lnTo>
                  <a:lnTo>
                    <a:pt x="714" y="9123"/>
                  </a:lnTo>
                  <a:lnTo>
                    <a:pt x="711" y="9118"/>
                  </a:lnTo>
                  <a:lnTo>
                    <a:pt x="708" y="9113"/>
                  </a:lnTo>
                  <a:lnTo>
                    <a:pt x="705" y="9109"/>
                  </a:lnTo>
                  <a:lnTo>
                    <a:pt x="701" y="9105"/>
                  </a:lnTo>
                  <a:lnTo>
                    <a:pt x="698" y="9101"/>
                  </a:lnTo>
                  <a:lnTo>
                    <a:pt x="693" y="9101"/>
                  </a:lnTo>
                  <a:lnTo>
                    <a:pt x="686" y="9101"/>
                  </a:lnTo>
                  <a:lnTo>
                    <a:pt x="681" y="9101"/>
                  </a:lnTo>
                  <a:lnTo>
                    <a:pt x="676" y="9102"/>
                  </a:lnTo>
                  <a:lnTo>
                    <a:pt x="669" y="9102"/>
                  </a:lnTo>
                  <a:lnTo>
                    <a:pt x="664" y="9102"/>
                  </a:lnTo>
                  <a:lnTo>
                    <a:pt x="657" y="9103"/>
                  </a:lnTo>
                  <a:lnTo>
                    <a:pt x="652" y="9103"/>
                  </a:lnTo>
                  <a:lnTo>
                    <a:pt x="647" y="9095"/>
                  </a:lnTo>
                  <a:lnTo>
                    <a:pt x="640" y="9087"/>
                  </a:lnTo>
                  <a:lnTo>
                    <a:pt x="634" y="9079"/>
                  </a:lnTo>
                  <a:lnTo>
                    <a:pt x="628" y="9072"/>
                  </a:lnTo>
                  <a:lnTo>
                    <a:pt x="616" y="9070"/>
                  </a:lnTo>
                  <a:lnTo>
                    <a:pt x="605" y="9066"/>
                  </a:lnTo>
                  <a:lnTo>
                    <a:pt x="592" y="9064"/>
                  </a:lnTo>
                  <a:lnTo>
                    <a:pt x="580" y="9061"/>
                  </a:lnTo>
                  <a:lnTo>
                    <a:pt x="569" y="9059"/>
                  </a:lnTo>
                  <a:lnTo>
                    <a:pt x="556" y="9057"/>
                  </a:lnTo>
                  <a:lnTo>
                    <a:pt x="542" y="9055"/>
                  </a:lnTo>
                  <a:lnTo>
                    <a:pt x="529" y="9053"/>
                  </a:lnTo>
                  <a:lnTo>
                    <a:pt x="515" y="9052"/>
                  </a:lnTo>
                  <a:lnTo>
                    <a:pt x="501" y="9052"/>
                  </a:lnTo>
                  <a:lnTo>
                    <a:pt x="486" y="9053"/>
                  </a:lnTo>
                  <a:lnTo>
                    <a:pt x="471" y="9055"/>
                  </a:lnTo>
                  <a:lnTo>
                    <a:pt x="456" y="9058"/>
                  </a:lnTo>
                  <a:lnTo>
                    <a:pt x="440" y="9062"/>
                  </a:lnTo>
                  <a:lnTo>
                    <a:pt x="424" y="9067"/>
                  </a:lnTo>
                  <a:lnTo>
                    <a:pt x="407" y="9074"/>
                  </a:lnTo>
                  <a:lnTo>
                    <a:pt x="400" y="9068"/>
                  </a:lnTo>
                  <a:lnTo>
                    <a:pt x="392" y="9062"/>
                  </a:lnTo>
                  <a:lnTo>
                    <a:pt x="386" y="9057"/>
                  </a:lnTo>
                  <a:lnTo>
                    <a:pt x="378" y="9051"/>
                  </a:lnTo>
                  <a:lnTo>
                    <a:pt x="381" y="9044"/>
                  </a:lnTo>
                  <a:lnTo>
                    <a:pt x="383" y="9037"/>
                  </a:lnTo>
                  <a:lnTo>
                    <a:pt x="386" y="9031"/>
                  </a:lnTo>
                  <a:lnTo>
                    <a:pt x="388" y="9026"/>
                  </a:lnTo>
                  <a:lnTo>
                    <a:pt x="397" y="9019"/>
                  </a:lnTo>
                  <a:lnTo>
                    <a:pt x="405" y="9014"/>
                  </a:lnTo>
                  <a:lnTo>
                    <a:pt x="413" y="9011"/>
                  </a:lnTo>
                  <a:lnTo>
                    <a:pt x="420" y="9007"/>
                  </a:lnTo>
                  <a:lnTo>
                    <a:pt x="427" y="9005"/>
                  </a:lnTo>
                  <a:lnTo>
                    <a:pt x="434" y="9004"/>
                  </a:lnTo>
                  <a:lnTo>
                    <a:pt x="441" y="9003"/>
                  </a:lnTo>
                  <a:lnTo>
                    <a:pt x="449" y="9002"/>
                  </a:lnTo>
                  <a:lnTo>
                    <a:pt x="454" y="8996"/>
                  </a:lnTo>
                  <a:lnTo>
                    <a:pt x="461" y="8989"/>
                  </a:lnTo>
                  <a:lnTo>
                    <a:pt x="466" y="8983"/>
                  </a:lnTo>
                  <a:lnTo>
                    <a:pt x="471" y="8978"/>
                  </a:lnTo>
                  <a:lnTo>
                    <a:pt x="470" y="8973"/>
                  </a:lnTo>
                  <a:lnTo>
                    <a:pt x="470" y="8969"/>
                  </a:lnTo>
                  <a:lnTo>
                    <a:pt x="469" y="8965"/>
                  </a:lnTo>
                  <a:lnTo>
                    <a:pt x="469" y="8961"/>
                  </a:lnTo>
                  <a:lnTo>
                    <a:pt x="451" y="8955"/>
                  </a:lnTo>
                  <a:lnTo>
                    <a:pt x="434" y="8948"/>
                  </a:lnTo>
                  <a:lnTo>
                    <a:pt x="416" y="8940"/>
                  </a:lnTo>
                  <a:lnTo>
                    <a:pt x="398" y="8933"/>
                  </a:lnTo>
                  <a:lnTo>
                    <a:pt x="380" y="8925"/>
                  </a:lnTo>
                  <a:lnTo>
                    <a:pt x="362" y="8920"/>
                  </a:lnTo>
                  <a:lnTo>
                    <a:pt x="344" y="8914"/>
                  </a:lnTo>
                  <a:lnTo>
                    <a:pt x="324" y="8911"/>
                  </a:lnTo>
                  <a:lnTo>
                    <a:pt x="311" y="8913"/>
                  </a:lnTo>
                  <a:lnTo>
                    <a:pt x="299" y="8918"/>
                  </a:lnTo>
                  <a:lnTo>
                    <a:pt x="286" y="8922"/>
                  </a:lnTo>
                  <a:lnTo>
                    <a:pt x="274" y="8927"/>
                  </a:lnTo>
                  <a:lnTo>
                    <a:pt x="263" y="8934"/>
                  </a:lnTo>
                  <a:lnTo>
                    <a:pt x="251" y="8940"/>
                  </a:lnTo>
                  <a:lnTo>
                    <a:pt x="239" y="8945"/>
                  </a:lnTo>
                  <a:lnTo>
                    <a:pt x="227" y="8951"/>
                  </a:lnTo>
                  <a:lnTo>
                    <a:pt x="219" y="8952"/>
                  </a:lnTo>
                  <a:lnTo>
                    <a:pt x="208" y="8952"/>
                  </a:lnTo>
                  <a:lnTo>
                    <a:pt x="198" y="8950"/>
                  </a:lnTo>
                  <a:lnTo>
                    <a:pt x="190" y="8943"/>
                  </a:lnTo>
                  <a:lnTo>
                    <a:pt x="187" y="8934"/>
                  </a:lnTo>
                  <a:lnTo>
                    <a:pt x="188" y="8918"/>
                  </a:lnTo>
                  <a:lnTo>
                    <a:pt x="197" y="8895"/>
                  </a:lnTo>
                  <a:lnTo>
                    <a:pt x="216" y="8866"/>
                  </a:lnTo>
                  <a:close/>
                  <a:moveTo>
                    <a:pt x="699" y="8849"/>
                  </a:moveTo>
                  <a:lnTo>
                    <a:pt x="715" y="8849"/>
                  </a:lnTo>
                  <a:lnTo>
                    <a:pt x="729" y="8850"/>
                  </a:lnTo>
                  <a:lnTo>
                    <a:pt x="742" y="8850"/>
                  </a:lnTo>
                  <a:lnTo>
                    <a:pt x="754" y="8848"/>
                  </a:lnTo>
                  <a:lnTo>
                    <a:pt x="765" y="8846"/>
                  </a:lnTo>
                  <a:lnTo>
                    <a:pt x="775" y="8841"/>
                  </a:lnTo>
                  <a:lnTo>
                    <a:pt x="786" y="8832"/>
                  </a:lnTo>
                  <a:lnTo>
                    <a:pt x="798" y="8819"/>
                  </a:lnTo>
                  <a:lnTo>
                    <a:pt x="788" y="8819"/>
                  </a:lnTo>
                  <a:lnTo>
                    <a:pt x="778" y="8820"/>
                  </a:lnTo>
                  <a:lnTo>
                    <a:pt x="769" y="8821"/>
                  </a:lnTo>
                  <a:lnTo>
                    <a:pt x="759" y="8822"/>
                  </a:lnTo>
                  <a:lnTo>
                    <a:pt x="750" y="8823"/>
                  </a:lnTo>
                  <a:lnTo>
                    <a:pt x="740" y="8825"/>
                  </a:lnTo>
                  <a:lnTo>
                    <a:pt x="730" y="8826"/>
                  </a:lnTo>
                  <a:lnTo>
                    <a:pt x="721" y="8826"/>
                  </a:lnTo>
                  <a:lnTo>
                    <a:pt x="715" y="8807"/>
                  </a:lnTo>
                  <a:lnTo>
                    <a:pt x="709" y="8788"/>
                  </a:lnTo>
                  <a:lnTo>
                    <a:pt x="700" y="8769"/>
                  </a:lnTo>
                  <a:lnTo>
                    <a:pt x="693" y="8751"/>
                  </a:lnTo>
                  <a:lnTo>
                    <a:pt x="683" y="8733"/>
                  </a:lnTo>
                  <a:lnTo>
                    <a:pt x="674" y="8715"/>
                  </a:lnTo>
                  <a:lnTo>
                    <a:pt x="664" y="8699"/>
                  </a:lnTo>
                  <a:lnTo>
                    <a:pt x="654" y="8687"/>
                  </a:lnTo>
                  <a:lnTo>
                    <a:pt x="623" y="8686"/>
                  </a:lnTo>
                  <a:lnTo>
                    <a:pt x="589" y="8683"/>
                  </a:lnTo>
                  <a:lnTo>
                    <a:pt x="554" y="8681"/>
                  </a:lnTo>
                  <a:lnTo>
                    <a:pt x="516" y="8679"/>
                  </a:lnTo>
                  <a:lnTo>
                    <a:pt x="478" y="8678"/>
                  </a:lnTo>
                  <a:lnTo>
                    <a:pt x="439" y="8678"/>
                  </a:lnTo>
                  <a:lnTo>
                    <a:pt x="401" y="8679"/>
                  </a:lnTo>
                  <a:lnTo>
                    <a:pt x="363" y="8684"/>
                  </a:lnTo>
                  <a:lnTo>
                    <a:pt x="327" y="8692"/>
                  </a:lnTo>
                  <a:lnTo>
                    <a:pt x="292" y="8705"/>
                  </a:lnTo>
                  <a:lnTo>
                    <a:pt x="260" y="8721"/>
                  </a:lnTo>
                  <a:lnTo>
                    <a:pt x="233" y="8743"/>
                  </a:lnTo>
                  <a:lnTo>
                    <a:pt x="208" y="8771"/>
                  </a:lnTo>
                  <a:lnTo>
                    <a:pt x="188" y="8805"/>
                  </a:lnTo>
                  <a:lnTo>
                    <a:pt x="172" y="8847"/>
                  </a:lnTo>
                  <a:lnTo>
                    <a:pt x="162" y="8896"/>
                  </a:lnTo>
                  <a:lnTo>
                    <a:pt x="162" y="8903"/>
                  </a:lnTo>
                  <a:lnTo>
                    <a:pt x="162" y="8909"/>
                  </a:lnTo>
                  <a:lnTo>
                    <a:pt x="162" y="8915"/>
                  </a:lnTo>
                  <a:lnTo>
                    <a:pt x="163" y="8922"/>
                  </a:lnTo>
                  <a:lnTo>
                    <a:pt x="163" y="8928"/>
                  </a:lnTo>
                  <a:lnTo>
                    <a:pt x="163" y="8935"/>
                  </a:lnTo>
                  <a:lnTo>
                    <a:pt x="163" y="8941"/>
                  </a:lnTo>
                  <a:lnTo>
                    <a:pt x="163" y="8948"/>
                  </a:lnTo>
                  <a:lnTo>
                    <a:pt x="170" y="8930"/>
                  </a:lnTo>
                  <a:lnTo>
                    <a:pt x="178" y="8915"/>
                  </a:lnTo>
                  <a:lnTo>
                    <a:pt x="187" y="8902"/>
                  </a:lnTo>
                  <a:lnTo>
                    <a:pt x="196" y="8889"/>
                  </a:lnTo>
                  <a:lnTo>
                    <a:pt x="207" y="8878"/>
                  </a:lnTo>
                  <a:lnTo>
                    <a:pt x="218" y="8867"/>
                  </a:lnTo>
                  <a:lnTo>
                    <a:pt x="228" y="8858"/>
                  </a:lnTo>
                  <a:lnTo>
                    <a:pt x="240" y="8849"/>
                  </a:lnTo>
                  <a:lnTo>
                    <a:pt x="252" y="8841"/>
                  </a:lnTo>
                  <a:lnTo>
                    <a:pt x="265" y="8833"/>
                  </a:lnTo>
                  <a:lnTo>
                    <a:pt x="278" y="8826"/>
                  </a:lnTo>
                  <a:lnTo>
                    <a:pt x="290" y="8818"/>
                  </a:lnTo>
                  <a:lnTo>
                    <a:pt x="304" y="8810"/>
                  </a:lnTo>
                  <a:lnTo>
                    <a:pt x="317" y="8802"/>
                  </a:lnTo>
                  <a:lnTo>
                    <a:pt x="331" y="8794"/>
                  </a:lnTo>
                  <a:lnTo>
                    <a:pt x="345" y="8785"/>
                  </a:lnTo>
                  <a:lnTo>
                    <a:pt x="333" y="8735"/>
                  </a:lnTo>
                  <a:lnTo>
                    <a:pt x="342" y="8735"/>
                  </a:lnTo>
                  <a:lnTo>
                    <a:pt x="350" y="8736"/>
                  </a:lnTo>
                  <a:lnTo>
                    <a:pt x="358" y="8736"/>
                  </a:lnTo>
                  <a:lnTo>
                    <a:pt x="365" y="8736"/>
                  </a:lnTo>
                  <a:lnTo>
                    <a:pt x="372" y="8736"/>
                  </a:lnTo>
                  <a:lnTo>
                    <a:pt x="379" y="8736"/>
                  </a:lnTo>
                  <a:lnTo>
                    <a:pt x="387" y="8734"/>
                  </a:lnTo>
                  <a:lnTo>
                    <a:pt x="395" y="8732"/>
                  </a:lnTo>
                  <a:lnTo>
                    <a:pt x="398" y="8728"/>
                  </a:lnTo>
                  <a:lnTo>
                    <a:pt x="400" y="8724"/>
                  </a:lnTo>
                  <a:lnTo>
                    <a:pt x="400" y="8720"/>
                  </a:lnTo>
                  <a:lnTo>
                    <a:pt x="400" y="8714"/>
                  </a:lnTo>
                  <a:lnTo>
                    <a:pt x="397" y="8710"/>
                  </a:lnTo>
                  <a:lnTo>
                    <a:pt x="395" y="8704"/>
                  </a:lnTo>
                  <a:lnTo>
                    <a:pt x="394" y="8698"/>
                  </a:lnTo>
                  <a:lnTo>
                    <a:pt x="393" y="8692"/>
                  </a:lnTo>
                  <a:lnTo>
                    <a:pt x="400" y="8691"/>
                  </a:lnTo>
                  <a:lnTo>
                    <a:pt x="409" y="8691"/>
                  </a:lnTo>
                  <a:lnTo>
                    <a:pt x="421" y="8690"/>
                  </a:lnTo>
                  <a:lnTo>
                    <a:pt x="434" y="8691"/>
                  </a:lnTo>
                  <a:lnTo>
                    <a:pt x="449" y="8691"/>
                  </a:lnTo>
                  <a:lnTo>
                    <a:pt x="466" y="8692"/>
                  </a:lnTo>
                  <a:lnTo>
                    <a:pt x="483" y="8694"/>
                  </a:lnTo>
                  <a:lnTo>
                    <a:pt x="501" y="8696"/>
                  </a:lnTo>
                  <a:lnTo>
                    <a:pt x="520" y="8698"/>
                  </a:lnTo>
                  <a:lnTo>
                    <a:pt x="539" y="8702"/>
                  </a:lnTo>
                  <a:lnTo>
                    <a:pt x="558" y="8706"/>
                  </a:lnTo>
                  <a:lnTo>
                    <a:pt x="575" y="8709"/>
                  </a:lnTo>
                  <a:lnTo>
                    <a:pt x="592" y="8714"/>
                  </a:lnTo>
                  <a:lnTo>
                    <a:pt x="608" y="8720"/>
                  </a:lnTo>
                  <a:lnTo>
                    <a:pt x="622" y="8725"/>
                  </a:lnTo>
                  <a:lnTo>
                    <a:pt x="635" y="8732"/>
                  </a:lnTo>
                  <a:lnTo>
                    <a:pt x="641" y="8738"/>
                  </a:lnTo>
                  <a:lnTo>
                    <a:pt x="649" y="8745"/>
                  </a:lnTo>
                  <a:lnTo>
                    <a:pt x="657" y="8755"/>
                  </a:lnTo>
                  <a:lnTo>
                    <a:pt x="667" y="8766"/>
                  </a:lnTo>
                  <a:lnTo>
                    <a:pt x="677" y="8781"/>
                  </a:lnTo>
                  <a:lnTo>
                    <a:pt x="686" y="8799"/>
                  </a:lnTo>
                  <a:lnTo>
                    <a:pt x="694" y="8821"/>
                  </a:lnTo>
                  <a:lnTo>
                    <a:pt x="699" y="8849"/>
                  </a:lnTo>
                  <a:close/>
                  <a:moveTo>
                    <a:pt x="1987" y="8594"/>
                  </a:moveTo>
                  <a:lnTo>
                    <a:pt x="1962" y="8594"/>
                  </a:lnTo>
                  <a:lnTo>
                    <a:pt x="1937" y="8594"/>
                  </a:lnTo>
                  <a:lnTo>
                    <a:pt x="1910" y="8594"/>
                  </a:lnTo>
                  <a:lnTo>
                    <a:pt x="1882" y="8596"/>
                  </a:lnTo>
                  <a:lnTo>
                    <a:pt x="1853" y="8598"/>
                  </a:lnTo>
                  <a:lnTo>
                    <a:pt x="1823" y="8601"/>
                  </a:lnTo>
                  <a:lnTo>
                    <a:pt x="1794" y="8605"/>
                  </a:lnTo>
                  <a:lnTo>
                    <a:pt x="1764" y="8611"/>
                  </a:lnTo>
                  <a:lnTo>
                    <a:pt x="1735" y="8617"/>
                  </a:lnTo>
                  <a:lnTo>
                    <a:pt x="1708" y="8623"/>
                  </a:lnTo>
                  <a:lnTo>
                    <a:pt x="1680" y="8632"/>
                  </a:lnTo>
                  <a:lnTo>
                    <a:pt x="1654" y="8642"/>
                  </a:lnTo>
                  <a:lnTo>
                    <a:pt x="1630" y="8653"/>
                  </a:lnTo>
                  <a:lnTo>
                    <a:pt x="1608" y="8665"/>
                  </a:lnTo>
                  <a:lnTo>
                    <a:pt x="1588" y="8679"/>
                  </a:lnTo>
                  <a:lnTo>
                    <a:pt x="1569" y="8694"/>
                  </a:lnTo>
                  <a:lnTo>
                    <a:pt x="1558" y="8707"/>
                  </a:lnTo>
                  <a:lnTo>
                    <a:pt x="1539" y="8724"/>
                  </a:lnTo>
                  <a:lnTo>
                    <a:pt x="1517" y="8743"/>
                  </a:lnTo>
                  <a:lnTo>
                    <a:pt x="1491" y="8765"/>
                  </a:lnTo>
                  <a:lnTo>
                    <a:pt x="1466" y="8785"/>
                  </a:lnTo>
                  <a:lnTo>
                    <a:pt x="1442" y="8801"/>
                  </a:lnTo>
                  <a:lnTo>
                    <a:pt x="1423" y="8813"/>
                  </a:lnTo>
                  <a:lnTo>
                    <a:pt x="1409" y="8817"/>
                  </a:lnTo>
                  <a:lnTo>
                    <a:pt x="1393" y="8817"/>
                  </a:lnTo>
                  <a:lnTo>
                    <a:pt x="1382" y="8815"/>
                  </a:lnTo>
                  <a:lnTo>
                    <a:pt x="1376" y="8810"/>
                  </a:lnTo>
                  <a:lnTo>
                    <a:pt x="1374" y="8804"/>
                  </a:lnTo>
                  <a:lnTo>
                    <a:pt x="1374" y="8798"/>
                  </a:lnTo>
                  <a:lnTo>
                    <a:pt x="1376" y="8791"/>
                  </a:lnTo>
                  <a:lnTo>
                    <a:pt x="1380" y="8787"/>
                  </a:lnTo>
                  <a:lnTo>
                    <a:pt x="1384" y="8785"/>
                  </a:lnTo>
                  <a:lnTo>
                    <a:pt x="1395" y="8775"/>
                  </a:lnTo>
                  <a:lnTo>
                    <a:pt x="1406" y="8767"/>
                  </a:lnTo>
                  <a:lnTo>
                    <a:pt x="1415" y="8758"/>
                  </a:lnTo>
                  <a:lnTo>
                    <a:pt x="1425" y="8751"/>
                  </a:lnTo>
                  <a:lnTo>
                    <a:pt x="1435" y="8744"/>
                  </a:lnTo>
                  <a:lnTo>
                    <a:pt x="1443" y="8738"/>
                  </a:lnTo>
                  <a:lnTo>
                    <a:pt x="1453" y="8733"/>
                  </a:lnTo>
                  <a:lnTo>
                    <a:pt x="1462" y="8727"/>
                  </a:lnTo>
                  <a:lnTo>
                    <a:pt x="1472" y="8722"/>
                  </a:lnTo>
                  <a:lnTo>
                    <a:pt x="1483" y="8718"/>
                  </a:lnTo>
                  <a:lnTo>
                    <a:pt x="1493" y="8713"/>
                  </a:lnTo>
                  <a:lnTo>
                    <a:pt x="1505" y="8709"/>
                  </a:lnTo>
                  <a:lnTo>
                    <a:pt x="1518" y="8705"/>
                  </a:lnTo>
                  <a:lnTo>
                    <a:pt x="1532" y="8700"/>
                  </a:lnTo>
                  <a:lnTo>
                    <a:pt x="1547" y="8696"/>
                  </a:lnTo>
                  <a:lnTo>
                    <a:pt x="1563" y="8692"/>
                  </a:lnTo>
                  <a:lnTo>
                    <a:pt x="1577" y="8679"/>
                  </a:lnTo>
                  <a:lnTo>
                    <a:pt x="1592" y="8668"/>
                  </a:lnTo>
                  <a:lnTo>
                    <a:pt x="1608" y="8658"/>
                  </a:lnTo>
                  <a:lnTo>
                    <a:pt x="1626" y="8648"/>
                  </a:lnTo>
                  <a:lnTo>
                    <a:pt x="1645" y="8638"/>
                  </a:lnTo>
                  <a:lnTo>
                    <a:pt x="1666" y="8631"/>
                  </a:lnTo>
                  <a:lnTo>
                    <a:pt x="1688" y="8623"/>
                  </a:lnTo>
                  <a:lnTo>
                    <a:pt x="1710" y="8616"/>
                  </a:lnTo>
                  <a:lnTo>
                    <a:pt x="1733" y="8610"/>
                  </a:lnTo>
                  <a:lnTo>
                    <a:pt x="1757" y="8604"/>
                  </a:lnTo>
                  <a:lnTo>
                    <a:pt x="1781" y="8599"/>
                  </a:lnTo>
                  <a:lnTo>
                    <a:pt x="1806" y="8594"/>
                  </a:lnTo>
                  <a:lnTo>
                    <a:pt x="1831" y="8588"/>
                  </a:lnTo>
                  <a:lnTo>
                    <a:pt x="1855" y="8584"/>
                  </a:lnTo>
                  <a:lnTo>
                    <a:pt x="1880" y="8579"/>
                  </a:lnTo>
                  <a:lnTo>
                    <a:pt x="1905" y="8574"/>
                  </a:lnTo>
                  <a:lnTo>
                    <a:pt x="1936" y="8571"/>
                  </a:lnTo>
                  <a:lnTo>
                    <a:pt x="1961" y="8568"/>
                  </a:lnTo>
                  <a:lnTo>
                    <a:pt x="1984" y="8567"/>
                  </a:lnTo>
                  <a:lnTo>
                    <a:pt x="2002" y="8568"/>
                  </a:lnTo>
                  <a:lnTo>
                    <a:pt x="2017" y="8569"/>
                  </a:lnTo>
                  <a:lnTo>
                    <a:pt x="2028" y="8572"/>
                  </a:lnTo>
                  <a:lnTo>
                    <a:pt x="2036" y="8575"/>
                  </a:lnTo>
                  <a:lnTo>
                    <a:pt x="2043" y="8581"/>
                  </a:lnTo>
                  <a:lnTo>
                    <a:pt x="2047" y="8588"/>
                  </a:lnTo>
                  <a:lnTo>
                    <a:pt x="2049" y="8598"/>
                  </a:lnTo>
                  <a:lnTo>
                    <a:pt x="2049" y="8607"/>
                  </a:lnTo>
                  <a:lnTo>
                    <a:pt x="2046" y="8615"/>
                  </a:lnTo>
                  <a:lnTo>
                    <a:pt x="2039" y="8619"/>
                  </a:lnTo>
                  <a:lnTo>
                    <a:pt x="2028" y="8618"/>
                  </a:lnTo>
                  <a:lnTo>
                    <a:pt x="2010" y="8611"/>
                  </a:lnTo>
                  <a:lnTo>
                    <a:pt x="1987" y="8594"/>
                  </a:lnTo>
                  <a:close/>
                  <a:moveTo>
                    <a:pt x="1970" y="8627"/>
                  </a:moveTo>
                  <a:lnTo>
                    <a:pt x="1975" y="8645"/>
                  </a:lnTo>
                  <a:lnTo>
                    <a:pt x="1983" y="8664"/>
                  </a:lnTo>
                  <a:lnTo>
                    <a:pt x="1991" y="8686"/>
                  </a:lnTo>
                  <a:lnTo>
                    <a:pt x="2000" y="8706"/>
                  </a:lnTo>
                  <a:lnTo>
                    <a:pt x="2008" y="8726"/>
                  </a:lnTo>
                  <a:lnTo>
                    <a:pt x="2017" y="8746"/>
                  </a:lnTo>
                  <a:lnTo>
                    <a:pt x="2024" y="8767"/>
                  </a:lnTo>
                  <a:lnTo>
                    <a:pt x="2030" y="8785"/>
                  </a:lnTo>
                  <a:lnTo>
                    <a:pt x="2029" y="8772"/>
                  </a:lnTo>
                  <a:lnTo>
                    <a:pt x="2034" y="8759"/>
                  </a:lnTo>
                  <a:lnTo>
                    <a:pt x="2045" y="8744"/>
                  </a:lnTo>
                  <a:lnTo>
                    <a:pt x="2056" y="8729"/>
                  </a:lnTo>
                  <a:lnTo>
                    <a:pt x="2069" y="8714"/>
                  </a:lnTo>
                  <a:lnTo>
                    <a:pt x="2080" y="8700"/>
                  </a:lnTo>
                  <a:lnTo>
                    <a:pt x="2089" y="8687"/>
                  </a:lnTo>
                  <a:lnTo>
                    <a:pt x="2092" y="8674"/>
                  </a:lnTo>
                  <a:lnTo>
                    <a:pt x="2088" y="8675"/>
                  </a:lnTo>
                  <a:lnTo>
                    <a:pt x="2082" y="8676"/>
                  </a:lnTo>
                  <a:lnTo>
                    <a:pt x="2078" y="8679"/>
                  </a:lnTo>
                  <a:lnTo>
                    <a:pt x="2074" y="8681"/>
                  </a:lnTo>
                  <a:lnTo>
                    <a:pt x="2068" y="8684"/>
                  </a:lnTo>
                  <a:lnTo>
                    <a:pt x="2064" y="8688"/>
                  </a:lnTo>
                  <a:lnTo>
                    <a:pt x="2059" y="8689"/>
                  </a:lnTo>
                  <a:lnTo>
                    <a:pt x="2054" y="8690"/>
                  </a:lnTo>
                  <a:lnTo>
                    <a:pt x="2045" y="8679"/>
                  </a:lnTo>
                  <a:lnTo>
                    <a:pt x="2036" y="8671"/>
                  </a:lnTo>
                  <a:lnTo>
                    <a:pt x="2027" y="8664"/>
                  </a:lnTo>
                  <a:lnTo>
                    <a:pt x="2017" y="8658"/>
                  </a:lnTo>
                  <a:lnTo>
                    <a:pt x="2006" y="8652"/>
                  </a:lnTo>
                  <a:lnTo>
                    <a:pt x="1994" y="8645"/>
                  </a:lnTo>
                  <a:lnTo>
                    <a:pt x="1983" y="8637"/>
                  </a:lnTo>
                  <a:lnTo>
                    <a:pt x="1970" y="86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6" name="Freeform 140"/>
            <p:cNvSpPr/>
            <p:nvPr/>
          </p:nvSpPr>
          <p:spPr>
            <a:xfrm>
              <a:off x="5472720" y="4190400"/>
              <a:ext cx="389160" cy="344160"/>
            </a:xfrm>
            <a:custGeom>
              <a:avLst/>
              <a:gdLst>
                <a:gd name="textAreaLeft" fmla="*/ 0 w 389160"/>
                <a:gd name="textAreaRight" fmla="*/ 389520 w 389160"/>
                <a:gd name="textAreaTop" fmla="*/ 0 h 344160"/>
                <a:gd name="textAreaBottom" fmla="*/ 344520 h 344160"/>
              </a:gdLst>
              <a:ahLst/>
              <a:rect l="textAreaLeft" t="textAreaTop" r="textAreaRight" b="textAreaBottom"/>
              <a:pathLst>
                <a:path w="2546" h="2604">
                  <a:moveTo>
                    <a:pt x="2334" y="2269"/>
                  </a:moveTo>
                  <a:lnTo>
                    <a:pt x="2323" y="2276"/>
                  </a:lnTo>
                  <a:lnTo>
                    <a:pt x="2311" y="2283"/>
                  </a:lnTo>
                  <a:lnTo>
                    <a:pt x="2299" y="2291"/>
                  </a:lnTo>
                  <a:lnTo>
                    <a:pt x="2286" y="2298"/>
                  </a:lnTo>
                  <a:lnTo>
                    <a:pt x="2272" y="2307"/>
                  </a:lnTo>
                  <a:lnTo>
                    <a:pt x="2258" y="2315"/>
                  </a:lnTo>
                  <a:lnTo>
                    <a:pt x="2245" y="2324"/>
                  </a:lnTo>
                  <a:lnTo>
                    <a:pt x="2232" y="2332"/>
                  </a:lnTo>
                  <a:lnTo>
                    <a:pt x="2219" y="2340"/>
                  </a:lnTo>
                  <a:lnTo>
                    <a:pt x="2208" y="2349"/>
                  </a:lnTo>
                  <a:lnTo>
                    <a:pt x="2197" y="2356"/>
                  </a:lnTo>
                  <a:lnTo>
                    <a:pt x="2186" y="2364"/>
                  </a:lnTo>
                  <a:lnTo>
                    <a:pt x="2178" y="2371"/>
                  </a:lnTo>
                  <a:lnTo>
                    <a:pt x="2171" y="2377"/>
                  </a:lnTo>
                  <a:lnTo>
                    <a:pt x="2166" y="2384"/>
                  </a:lnTo>
                  <a:lnTo>
                    <a:pt x="2163" y="2389"/>
                  </a:lnTo>
                  <a:lnTo>
                    <a:pt x="2182" y="2393"/>
                  </a:lnTo>
                  <a:lnTo>
                    <a:pt x="2220" y="2371"/>
                  </a:lnTo>
                  <a:lnTo>
                    <a:pt x="2228" y="2368"/>
                  </a:lnTo>
                  <a:lnTo>
                    <a:pt x="2234" y="2365"/>
                  </a:lnTo>
                  <a:lnTo>
                    <a:pt x="2241" y="2362"/>
                  </a:lnTo>
                  <a:lnTo>
                    <a:pt x="2248" y="2360"/>
                  </a:lnTo>
                  <a:lnTo>
                    <a:pt x="2255" y="2359"/>
                  </a:lnTo>
                  <a:lnTo>
                    <a:pt x="2261" y="2359"/>
                  </a:lnTo>
                  <a:lnTo>
                    <a:pt x="2269" y="2359"/>
                  </a:lnTo>
                  <a:lnTo>
                    <a:pt x="2276" y="2360"/>
                  </a:lnTo>
                  <a:lnTo>
                    <a:pt x="2294" y="2372"/>
                  </a:lnTo>
                  <a:lnTo>
                    <a:pt x="2310" y="2382"/>
                  </a:lnTo>
                  <a:lnTo>
                    <a:pt x="2325" y="2392"/>
                  </a:lnTo>
                  <a:lnTo>
                    <a:pt x="2340" y="2402"/>
                  </a:lnTo>
                  <a:lnTo>
                    <a:pt x="2354" y="2412"/>
                  </a:lnTo>
                  <a:lnTo>
                    <a:pt x="2367" y="2421"/>
                  </a:lnTo>
                  <a:lnTo>
                    <a:pt x="2379" y="2431"/>
                  </a:lnTo>
                  <a:lnTo>
                    <a:pt x="2391" y="2441"/>
                  </a:lnTo>
                  <a:lnTo>
                    <a:pt x="2401" y="2452"/>
                  </a:lnTo>
                  <a:lnTo>
                    <a:pt x="2412" y="2464"/>
                  </a:lnTo>
                  <a:lnTo>
                    <a:pt x="2422" y="2478"/>
                  </a:lnTo>
                  <a:lnTo>
                    <a:pt x="2431" y="2492"/>
                  </a:lnTo>
                  <a:lnTo>
                    <a:pt x="2441" y="2509"/>
                  </a:lnTo>
                  <a:lnTo>
                    <a:pt x="2451" y="2527"/>
                  </a:lnTo>
                  <a:lnTo>
                    <a:pt x="2459" y="2547"/>
                  </a:lnTo>
                  <a:lnTo>
                    <a:pt x="2469" y="2570"/>
                  </a:lnTo>
                  <a:lnTo>
                    <a:pt x="2442" y="2604"/>
                  </a:lnTo>
                  <a:lnTo>
                    <a:pt x="2454" y="2604"/>
                  </a:lnTo>
                  <a:lnTo>
                    <a:pt x="2456" y="2604"/>
                  </a:lnTo>
                  <a:lnTo>
                    <a:pt x="2458" y="2604"/>
                  </a:lnTo>
                  <a:lnTo>
                    <a:pt x="2470" y="2604"/>
                  </a:lnTo>
                  <a:lnTo>
                    <a:pt x="2477" y="2599"/>
                  </a:lnTo>
                  <a:lnTo>
                    <a:pt x="2487" y="2591"/>
                  </a:lnTo>
                  <a:lnTo>
                    <a:pt x="2499" y="2583"/>
                  </a:lnTo>
                  <a:lnTo>
                    <a:pt x="2509" y="2573"/>
                  </a:lnTo>
                  <a:lnTo>
                    <a:pt x="2521" y="2565"/>
                  </a:lnTo>
                  <a:lnTo>
                    <a:pt x="2532" y="2555"/>
                  </a:lnTo>
                  <a:lnTo>
                    <a:pt x="2539" y="2547"/>
                  </a:lnTo>
                  <a:lnTo>
                    <a:pt x="2546" y="2541"/>
                  </a:lnTo>
                  <a:lnTo>
                    <a:pt x="2543" y="2535"/>
                  </a:lnTo>
                  <a:lnTo>
                    <a:pt x="2539" y="2528"/>
                  </a:lnTo>
                  <a:lnTo>
                    <a:pt x="2536" y="2523"/>
                  </a:lnTo>
                  <a:lnTo>
                    <a:pt x="2533" y="2518"/>
                  </a:lnTo>
                  <a:lnTo>
                    <a:pt x="2531" y="2513"/>
                  </a:lnTo>
                  <a:lnTo>
                    <a:pt x="2528" y="2507"/>
                  </a:lnTo>
                  <a:lnTo>
                    <a:pt x="2524" y="2501"/>
                  </a:lnTo>
                  <a:lnTo>
                    <a:pt x="2520" y="2495"/>
                  </a:lnTo>
                  <a:lnTo>
                    <a:pt x="2518" y="2488"/>
                  </a:lnTo>
                  <a:lnTo>
                    <a:pt x="2517" y="2478"/>
                  </a:lnTo>
                  <a:lnTo>
                    <a:pt x="2518" y="2468"/>
                  </a:lnTo>
                  <a:lnTo>
                    <a:pt x="2520" y="2459"/>
                  </a:lnTo>
                  <a:lnTo>
                    <a:pt x="2523" y="2447"/>
                  </a:lnTo>
                  <a:lnTo>
                    <a:pt x="2525" y="2436"/>
                  </a:lnTo>
                  <a:lnTo>
                    <a:pt x="2528" y="2424"/>
                  </a:lnTo>
                  <a:lnTo>
                    <a:pt x="2529" y="2413"/>
                  </a:lnTo>
                  <a:lnTo>
                    <a:pt x="2519" y="2396"/>
                  </a:lnTo>
                  <a:lnTo>
                    <a:pt x="2512" y="2380"/>
                  </a:lnTo>
                  <a:lnTo>
                    <a:pt x="2506" y="2366"/>
                  </a:lnTo>
                  <a:lnTo>
                    <a:pt x="2501" y="2353"/>
                  </a:lnTo>
                  <a:lnTo>
                    <a:pt x="2495" y="2342"/>
                  </a:lnTo>
                  <a:lnTo>
                    <a:pt x="2490" y="2334"/>
                  </a:lnTo>
                  <a:lnTo>
                    <a:pt x="2485" y="2326"/>
                  </a:lnTo>
                  <a:lnTo>
                    <a:pt x="2477" y="2322"/>
                  </a:lnTo>
                  <a:lnTo>
                    <a:pt x="2468" y="2318"/>
                  </a:lnTo>
                  <a:lnTo>
                    <a:pt x="2456" y="2312"/>
                  </a:lnTo>
                  <a:lnTo>
                    <a:pt x="2441" y="2306"/>
                  </a:lnTo>
                  <a:lnTo>
                    <a:pt x="2424" y="2299"/>
                  </a:lnTo>
                  <a:lnTo>
                    <a:pt x="2405" y="2292"/>
                  </a:lnTo>
                  <a:lnTo>
                    <a:pt x="2383" y="2284"/>
                  </a:lnTo>
                  <a:lnTo>
                    <a:pt x="2360" y="2277"/>
                  </a:lnTo>
                  <a:lnTo>
                    <a:pt x="2334" y="2269"/>
                  </a:lnTo>
                  <a:close/>
                  <a:moveTo>
                    <a:pt x="0" y="2331"/>
                  </a:moveTo>
                  <a:lnTo>
                    <a:pt x="4" y="2339"/>
                  </a:lnTo>
                  <a:lnTo>
                    <a:pt x="7" y="2347"/>
                  </a:lnTo>
                  <a:lnTo>
                    <a:pt x="8" y="2356"/>
                  </a:lnTo>
                  <a:lnTo>
                    <a:pt x="10" y="2365"/>
                  </a:lnTo>
                  <a:lnTo>
                    <a:pt x="10" y="2373"/>
                  </a:lnTo>
                  <a:lnTo>
                    <a:pt x="10" y="2383"/>
                  </a:lnTo>
                  <a:lnTo>
                    <a:pt x="10" y="2392"/>
                  </a:lnTo>
                  <a:lnTo>
                    <a:pt x="9" y="2403"/>
                  </a:lnTo>
                  <a:lnTo>
                    <a:pt x="9" y="2414"/>
                  </a:lnTo>
                  <a:lnTo>
                    <a:pt x="8" y="2426"/>
                  </a:lnTo>
                  <a:lnTo>
                    <a:pt x="7" y="2437"/>
                  </a:lnTo>
                  <a:lnTo>
                    <a:pt x="6" y="2449"/>
                  </a:lnTo>
                  <a:lnTo>
                    <a:pt x="6" y="2462"/>
                  </a:lnTo>
                  <a:lnTo>
                    <a:pt x="6" y="2476"/>
                  </a:lnTo>
                  <a:lnTo>
                    <a:pt x="6" y="2490"/>
                  </a:lnTo>
                  <a:lnTo>
                    <a:pt x="7" y="2505"/>
                  </a:lnTo>
                  <a:lnTo>
                    <a:pt x="19" y="2557"/>
                  </a:lnTo>
                  <a:lnTo>
                    <a:pt x="35" y="2545"/>
                  </a:lnTo>
                  <a:lnTo>
                    <a:pt x="53" y="2533"/>
                  </a:lnTo>
                  <a:lnTo>
                    <a:pt x="72" y="2519"/>
                  </a:lnTo>
                  <a:lnTo>
                    <a:pt x="92" y="2505"/>
                  </a:lnTo>
                  <a:lnTo>
                    <a:pt x="114" y="2490"/>
                  </a:lnTo>
                  <a:lnTo>
                    <a:pt x="135" y="2475"/>
                  </a:lnTo>
                  <a:lnTo>
                    <a:pt x="158" y="2460"/>
                  </a:lnTo>
                  <a:lnTo>
                    <a:pt x="179" y="2444"/>
                  </a:lnTo>
                  <a:lnTo>
                    <a:pt x="201" y="2428"/>
                  </a:lnTo>
                  <a:lnTo>
                    <a:pt x="221" y="2413"/>
                  </a:lnTo>
                  <a:lnTo>
                    <a:pt x="240" y="2397"/>
                  </a:lnTo>
                  <a:lnTo>
                    <a:pt x="257" y="2381"/>
                  </a:lnTo>
                  <a:lnTo>
                    <a:pt x="274" y="2366"/>
                  </a:lnTo>
                  <a:lnTo>
                    <a:pt x="288" y="2351"/>
                  </a:lnTo>
                  <a:lnTo>
                    <a:pt x="300" y="2336"/>
                  </a:lnTo>
                  <a:lnTo>
                    <a:pt x="310" y="2322"/>
                  </a:lnTo>
                  <a:lnTo>
                    <a:pt x="297" y="2318"/>
                  </a:lnTo>
                  <a:lnTo>
                    <a:pt x="283" y="2315"/>
                  </a:lnTo>
                  <a:lnTo>
                    <a:pt x="267" y="2315"/>
                  </a:lnTo>
                  <a:lnTo>
                    <a:pt x="250" y="2316"/>
                  </a:lnTo>
                  <a:lnTo>
                    <a:pt x="231" y="2320"/>
                  </a:lnTo>
                  <a:lnTo>
                    <a:pt x="211" y="2324"/>
                  </a:lnTo>
                  <a:lnTo>
                    <a:pt x="190" y="2328"/>
                  </a:lnTo>
                  <a:lnTo>
                    <a:pt x="168" y="2332"/>
                  </a:lnTo>
                  <a:lnTo>
                    <a:pt x="147" y="2337"/>
                  </a:lnTo>
                  <a:lnTo>
                    <a:pt x="125" y="2341"/>
                  </a:lnTo>
                  <a:lnTo>
                    <a:pt x="103" y="2344"/>
                  </a:lnTo>
                  <a:lnTo>
                    <a:pt x="82" y="2345"/>
                  </a:lnTo>
                  <a:lnTo>
                    <a:pt x="60" y="2345"/>
                  </a:lnTo>
                  <a:lnTo>
                    <a:pt x="39" y="2343"/>
                  </a:lnTo>
                  <a:lnTo>
                    <a:pt x="20" y="2339"/>
                  </a:lnTo>
                  <a:lnTo>
                    <a:pt x="0" y="2331"/>
                  </a:lnTo>
                  <a:close/>
                  <a:moveTo>
                    <a:pt x="1345" y="342"/>
                  </a:moveTo>
                  <a:lnTo>
                    <a:pt x="1380" y="328"/>
                  </a:lnTo>
                  <a:lnTo>
                    <a:pt x="1410" y="309"/>
                  </a:lnTo>
                  <a:lnTo>
                    <a:pt x="1435" y="288"/>
                  </a:lnTo>
                  <a:lnTo>
                    <a:pt x="1457" y="265"/>
                  </a:lnTo>
                  <a:lnTo>
                    <a:pt x="1474" y="242"/>
                  </a:lnTo>
                  <a:lnTo>
                    <a:pt x="1489" y="221"/>
                  </a:lnTo>
                  <a:lnTo>
                    <a:pt x="1502" y="203"/>
                  </a:lnTo>
                  <a:lnTo>
                    <a:pt x="1512" y="188"/>
                  </a:lnTo>
                  <a:lnTo>
                    <a:pt x="1514" y="190"/>
                  </a:lnTo>
                  <a:lnTo>
                    <a:pt x="1515" y="193"/>
                  </a:lnTo>
                  <a:lnTo>
                    <a:pt x="1516" y="198"/>
                  </a:lnTo>
                  <a:lnTo>
                    <a:pt x="1516" y="203"/>
                  </a:lnTo>
                  <a:lnTo>
                    <a:pt x="1516" y="208"/>
                  </a:lnTo>
                  <a:lnTo>
                    <a:pt x="1515" y="214"/>
                  </a:lnTo>
                  <a:lnTo>
                    <a:pt x="1514" y="220"/>
                  </a:lnTo>
                  <a:lnTo>
                    <a:pt x="1514" y="225"/>
                  </a:lnTo>
                  <a:lnTo>
                    <a:pt x="1514" y="231"/>
                  </a:lnTo>
                  <a:lnTo>
                    <a:pt x="1515" y="236"/>
                  </a:lnTo>
                  <a:lnTo>
                    <a:pt x="1515" y="240"/>
                  </a:lnTo>
                  <a:lnTo>
                    <a:pt x="1516" y="246"/>
                  </a:lnTo>
                  <a:lnTo>
                    <a:pt x="1517" y="250"/>
                  </a:lnTo>
                  <a:lnTo>
                    <a:pt x="1518" y="254"/>
                  </a:lnTo>
                  <a:lnTo>
                    <a:pt x="1519" y="260"/>
                  </a:lnTo>
                  <a:lnTo>
                    <a:pt x="1520" y="264"/>
                  </a:lnTo>
                  <a:lnTo>
                    <a:pt x="1523" y="273"/>
                  </a:lnTo>
                  <a:lnTo>
                    <a:pt x="1524" y="283"/>
                  </a:lnTo>
                  <a:lnTo>
                    <a:pt x="1526" y="293"/>
                  </a:lnTo>
                  <a:lnTo>
                    <a:pt x="1528" y="303"/>
                  </a:lnTo>
                  <a:lnTo>
                    <a:pt x="1530" y="313"/>
                  </a:lnTo>
                  <a:lnTo>
                    <a:pt x="1532" y="324"/>
                  </a:lnTo>
                  <a:lnTo>
                    <a:pt x="1534" y="333"/>
                  </a:lnTo>
                  <a:lnTo>
                    <a:pt x="1536" y="344"/>
                  </a:lnTo>
                  <a:lnTo>
                    <a:pt x="1541" y="364"/>
                  </a:lnTo>
                  <a:lnTo>
                    <a:pt x="1545" y="385"/>
                  </a:lnTo>
                  <a:lnTo>
                    <a:pt x="1548" y="405"/>
                  </a:lnTo>
                  <a:lnTo>
                    <a:pt x="1551" y="425"/>
                  </a:lnTo>
                  <a:lnTo>
                    <a:pt x="1554" y="445"/>
                  </a:lnTo>
                  <a:lnTo>
                    <a:pt x="1555" y="464"/>
                  </a:lnTo>
                  <a:lnTo>
                    <a:pt x="1555" y="483"/>
                  </a:lnTo>
                  <a:lnTo>
                    <a:pt x="1554" y="501"/>
                  </a:lnTo>
                  <a:lnTo>
                    <a:pt x="1554" y="516"/>
                  </a:lnTo>
                  <a:lnTo>
                    <a:pt x="1551" y="531"/>
                  </a:lnTo>
                  <a:lnTo>
                    <a:pt x="1549" y="546"/>
                  </a:lnTo>
                  <a:lnTo>
                    <a:pt x="1547" y="561"/>
                  </a:lnTo>
                  <a:lnTo>
                    <a:pt x="1543" y="576"/>
                  </a:lnTo>
                  <a:lnTo>
                    <a:pt x="1540" y="592"/>
                  </a:lnTo>
                  <a:lnTo>
                    <a:pt x="1535" y="607"/>
                  </a:lnTo>
                  <a:lnTo>
                    <a:pt x="1532" y="622"/>
                  </a:lnTo>
                  <a:lnTo>
                    <a:pt x="1528" y="637"/>
                  </a:lnTo>
                  <a:lnTo>
                    <a:pt x="1524" y="652"/>
                  </a:lnTo>
                  <a:lnTo>
                    <a:pt x="1520" y="668"/>
                  </a:lnTo>
                  <a:lnTo>
                    <a:pt x="1516" y="683"/>
                  </a:lnTo>
                  <a:lnTo>
                    <a:pt x="1514" y="698"/>
                  </a:lnTo>
                  <a:lnTo>
                    <a:pt x="1512" y="713"/>
                  </a:lnTo>
                  <a:lnTo>
                    <a:pt x="1510" y="728"/>
                  </a:lnTo>
                  <a:lnTo>
                    <a:pt x="1510" y="743"/>
                  </a:lnTo>
                  <a:lnTo>
                    <a:pt x="1503" y="721"/>
                  </a:lnTo>
                  <a:lnTo>
                    <a:pt x="1496" y="696"/>
                  </a:lnTo>
                  <a:lnTo>
                    <a:pt x="1489" y="669"/>
                  </a:lnTo>
                  <a:lnTo>
                    <a:pt x="1483" y="640"/>
                  </a:lnTo>
                  <a:lnTo>
                    <a:pt x="1475" y="610"/>
                  </a:lnTo>
                  <a:lnTo>
                    <a:pt x="1468" y="580"/>
                  </a:lnTo>
                  <a:lnTo>
                    <a:pt x="1460" y="549"/>
                  </a:lnTo>
                  <a:lnTo>
                    <a:pt x="1452" y="518"/>
                  </a:lnTo>
                  <a:lnTo>
                    <a:pt x="1443" y="490"/>
                  </a:lnTo>
                  <a:lnTo>
                    <a:pt x="1433" y="461"/>
                  </a:lnTo>
                  <a:lnTo>
                    <a:pt x="1422" y="434"/>
                  </a:lnTo>
                  <a:lnTo>
                    <a:pt x="1409" y="409"/>
                  </a:lnTo>
                  <a:lnTo>
                    <a:pt x="1395" y="387"/>
                  </a:lnTo>
                  <a:lnTo>
                    <a:pt x="1380" y="369"/>
                  </a:lnTo>
                  <a:lnTo>
                    <a:pt x="1363" y="353"/>
                  </a:lnTo>
                  <a:lnTo>
                    <a:pt x="1345" y="342"/>
                  </a:lnTo>
                  <a:close/>
                  <a:moveTo>
                    <a:pt x="1271" y="341"/>
                  </a:moveTo>
                  <a:lnTo>
                    <a:pt x="1257" y="346"/>
                  </a:lnTo>
                  <a:lnTo>
                    <a:pt x="1243" y="354"/>
                  </a:lnTo>
                  <a:lnTo>
                    <a:pt x="1231" y="363"/>
                  </a:lnTo>
                  <a:lnTo>
                    <a:pt x="1220" y="375"/>
                  </a:lnTo>
                  <a:lnTo>
                    <a:pt x="1209" y="388"/>
                  </a:lnTo>
                  <a:lnTo>
                    <a:pt x="1199" y="402"/>
                  </a:lnTo>
                  <a:lnTo>
                    <a:pt x="1191" y="418"/>
                  </a:lnTo>
                  <a:lnTo>
                    <a:pt x="1182" y="434"/>
                  </a:lnTo>
                  <a:lnTo>
                    <a:pt x="1175" y="450"/>
                  </a:lnTo>
                  <a:lnTo>
                    <a:pt x="1167" y="467"/>
                  </a:lnTo>
                  <a:lnTo>
                    <a:pt x="1161" y="485"/>
                  </a:lnTo>
                  <a:lnTo>
                    <a:pt x="1155" y="501"/>
                  </a:lnTo>
                  <a:lnTo>
                    <a:pt x="1151" y="518"/>
                  </a:lnTo>
                  <a:lnTo>
                    <a:pt x="1147" y="534"/>
                  </a:lnTo>
                  <a:lnTo>
                    <a:pt x="1143" y="549"/>
                  </a:lnTo>
                  <a:lnTo>
                    <a:pt x="1139" y="563"/>
                  </a:lnTo>
                  <a:lnTo>
                    <a:pt x="1116" y="672"/>
                  </a:lnTo>
                  <a:lnTo>
                    <a:pt x="1100" y="644"/>
                  </a:lnTo>
                  <a:lnTo>
                    <a:pt x="1094" y="637"/>
                  </a:lnTo>
                  <a:lnTo>
                    <a:pt x="1087" y="631"/>
                  </a:lnTo>
                  <a:lnTo>
                    <a:pt x="1079" y="624"/>
                  </a:lnTo>
                  <a:lnTo>
                    <a:pt x="1072" y="622"/>
                  </a:lnTo>
                  <a:lnTo>
                    <a:pt x="1072" y="611"/>
                  </a:lnTo>
                  <a:lnTo>
                    <a:pt x="1071" y="602"/>
                  </a:lnTo>
                  <a:lnTo>
                    <a:pt x="1069" y="591"/>
                  </a:lnTo>
                  <a:lnTo>
                    <a:pt x="1068" y="580"/>
                  </a:lnTo>
                  <a:lnTo>
                    <a:pt x="1065" y="572"/>
                  </a:lnTo>
                  <a:lnTo>
                    <a:pt x="1063" y="563"/>
                  </a:lnTo>
                  <a:lnTo>
                    <a:pt x="1062" y="557"/>
                  </a:lnTo>
                  <a:lnTo>
                    <a:pt x="1061" y="552"/>
                  </a:lnTo>
                  <a:lnTo>
                    <a:pt x="996" y="285"/>
                  </a:lnTo>
                  <a:lnTo>
                    <a:pt x="970" y="178"/>
                  </a:lnTo>
                  <a:lnTo>
                    <a:pt x="966" y="161"/>
                  </a:lnTo>
                  <a:lnTo>
                    <a:pt x="963" y="147"/>
                  </a:lnTo>
                  <a:lnTo>
                    <a:pt x="959" y="137"/>
                  </a:lnTo>
                  <a:lnTo>
                    <a:pt x="958" y="127"/>
                  </a:lnTo>
                  <a:lnTo>
                    <a:pt x="956" y="117"/>
                  </a:lnTo>
                  <a:lnTo>
                    <a:pt x="956" y="107"/>
                  </a:lnTo>
                  <a:lnTo>
                    <a:pt x="957" y="93"/>
                  </a:lnTo>
                  <a:lnTo>
                    <a:pt x="958" y="76"/>
                  </a:lnTo>
                  <a:lnTo>
                    <a:pt x="965" y="0"/>
                  </a:lnTo>
                  <a:lnTo>
                    <a:pt x="970" y="10"/>
                  </a:lnTo>
                  <a:lnTo>
                    <a:pt x="976" y="21"/>
                  </a:lnTo>
                  <a:lnTo>
                    <a:pt x="981" y="34"/>
                  </a:lnTo>
                  <a:lnTo>
                    <a:pt x="986" y="48"/>
                  </a:lnTo>
                  <a:lnTo>
                    <a:pt x="992" y="61"/>
                  </a:lnTo>
                  <a:lnTo>
                    <a:pt x="997" y="72"/>
                  </a:lnTo>
                  <a:lnTo>
                    <a:pt x="1002" y="83"/>
                  </a:lnTo>
                  <a:lnTo>
                    <a:pt x="1007" y="93"/>
                  </a:lnTo>
                  <a:lnTo>
                    <a:pt x="1011" y="100"/>
                  </a:lnTo>
                  <a:lnTo>
                    <a:pt x="1016" y="110"/>
                  </a:lnTo>
                  <a:lnTo>
                    <a:pt x="1022" y="119"/>
                  </a:lnTo>
                  <a:lnTo>
                    <a:pt x="1027" y="130"/>
                  </a:lnTo>
                  <a:lnTo>
                    <a:pt x="1032" y="140"/>
                  </a:lnTo>
                  <a:lnTo>
                    <a:pt x="1038" y="149"/>
                  </a:lnTo>
                  <a:lnTo>
                    <a:pt x="1043" y="158"/>
                  </a:lnTo>
                  <a:lnTo>
                    <a:pt x="1047" y="165"/>
                  </a:lnTo>
                  <a:lnTo>
                    <a:pt x="1067" y="188"/>
                  </a:lnTo>
                  <a:lnTo>
                    <a:pt x="1086" y="209"/>
                  </a:lnTo>
                  <a:lnTo>
                    <a:pt x="1107" y="231"/>
                  </a:lnTo>
                  <a:lnTo>
                    <a:pt x="1129" y="250"/>
                  </a:lnTo>
                  <a:lnTo>
                    <a:pt x="1149" y="267"/>
                  </a:lnTo>
                  <a:lnTo>
                    <a:pt x="1170" y="284"/>
                  </a:lnTo>
                  <a:lnTo>
                    <a:pt x="1190" y="298"/>
                  </a:lnTo>
                  <a:lnTo>
                    <a:pt x="1209" y="310"/>
                  </a:lnTo>
                  <a:lnTo>
                    <a:pt x="1216" y="314"/>
                  </a:lnTo>
                  <a:lnTo>
                    <a:pt x="1224" y="318"/>
                  </a:lnTo>
                  <a:lnTo>
                    <a:pt x="1231" y="323"/>
                  </a:lnTo>
                  <a:lnTo>
                    <a:pt x="1239" y="326"/>
                  </a:lnTo>
                  <a:lnTo>
                    <a:pt x="1245" y="330"/>
                  </a:lnTo>
                  <a:lnTo>
                    <a:pt x="1254" y="333"/>
                  </a:lnTo>
                  <a:lnTo>
                    <a:pt x="1261" y="338"/>
                  </a:lnTo>
                  <a:lnTo>
                    <a:pt x="1271" y="3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17" name="Freeform 141"/>
            <p:cNvSpPr/>
            <p:nvPr/>
          </p:nvSpPr>
          <p:spPr>
            <a:xfrm>
              <a:off x="5803200" y="4490280"/>
              <a:ext cx="58680" cy="44280"/>
            </a:xfrm>
            <a:custGeom>
              <a:avLst/>
              <a:gdLst>
                <a:gd name="textAreaLeft" fmla="*/ 0 w 58680"/>
                <a:gd name="textAreaRight" fmla="*/ 59040 w 58680"/>
                <a:gd name="textAreaTop" fmla="*/ 0 h 44280"/>
                <a:gd name="textAreaBottom" fmla="*/ 44640 h 44280"/>
              </a:gdLst>
              <a:ahLst/>
              <a:rect l="textAreaLeft" t="textAreaTop" r="textAreaRight" b="textAreaBottom"/>
              <a:pathLst>
                <a:path w="383" h="335">
                  <a:moveTo>
                    <a:pt x="171" y="0"/>
                  </a:moveTo>
                  <a:lnTo>
                    <a:pt x="171" y="0"/>
                  </a:lnTo>
                  <a:lnTo>
                    <a:pt x="160" y="7"/>
                  </a:lnTo>
                  <a:lnTo>
                    <a:pt x="148" y="14"/>
                  </a:lnTo>
                  <a:lnTo>
                    <a:pt x="136" y="22"/>
                  </a:lnTo>
                  <a:lnTo>
                    <a:pt x="123" y="29"/>
                  </a:lnTo>
                  <a:lnTo>
                    <a:pt x="109" y="38"/>
                  </a:lnTo>
                  <a:lnTo>
                    <a:pt x="95" y="46"/>
                  </a:lnTo>
                  <a:lnTo>
                    <a:pt x="82" y="55"/>
                  </a:lnTo>
                  <a:lnTo>
                    <a:pt x="69" y="63"/>
                  </a:lnTo>
                  <a:lnTo>
                    <a:pt x="56" y="71"/>
                  </a:lnTo>
                  <a:lnTo>
                    <a:pt x="45" y="80"/>
                  </a:lnTo>
                  <a:lnTo>
                    <a:pt x="34" y="87"/>
                  </a:lnTo>
                  <a:lnTo>
                    <a:pt x="23" y="95"/>
                  </a:lnTo>
                  <a:lnTo>
                    <a:pt x="15" y="102"/>
                  </a:lnTo>
                  <a:lnTo>
                    <a:pt x="8" y="108"/>
                  </a:lnTo>
                  <a:lnTo>
                    <a:pt x="3" y="115"/>
                  </a:lnTo>
                  <a:lnTo>
                    <a:pt x="0" y="120"/>
                  </a:lnTo>
                  <a:lnTo>
                    <a:pt x="19" y="124"/>
                  </a:lnTo>
                  <a:lnTo>
                    <a:pt x="57" y="102"/>
                  </a:lnTo>
                  <a:lnTo>
                    <a:pt x="65" y="99"/>
                  </a:lnTo>
                  <a:lnTo>
                    <a:pt x="71" y="96"/>
                  </a:lnTo>
                  <a:lnTo>
                    <a:pt x="78" y="93"/>
                  </a:lnTo>
                  <a:lnTo>
                    <a:pt x="85" y="91"/>
                  </a:lnTo>
                  <a:lnTo>
                    <a:pt x="92" y="90"/>
                  </a:lnTo>
                  <a:lnTo>
                    <a:pt x="98" y="90"/>
                  </a:lnTo>
                  <a:lnTo>
                    <a:pt x="106" y="90"/>
                  </a:lnTo>
                  <a:lnTo>
                    <a:pt x="113" y="91"/>
                  </a:lnTo>
                  <a:lnTo>
                    <a:pt x="131" y="103"/>
                  </a:lnTo>
                  <a:lnTo>
                    <a:pt x="147" y="113"/>
                  </a:lnTo>
                  <a:lnTo>
                    <a:pt x="162" y="123"/>
                  </a:lnTo>
                  <a:lnTo>
                    <a:pt x="177" y="133"/>
                  </a:lnTo>
                  <a:lnTo>
                    <a:pt x="191" y="143"/>
                  </a:lnTo>
                  <a:lnTo>
                    <a:pt x="204" y="152"/>
                  </a:lnTo>
                  <a:lnTo>
                    <a:pt x="216" y="162"/>
                  </a:lnTo>
                  <a:lnTo>
                    <a:pt x="228" y="172"/>
                  </a:lnTo>
                  <a:lnTo>
                    <a:pt x="238" y="183"/>
                  </a:lnTo>
                  <a:lnTo>
                    <a:pt x="249" y="195"/>
                  </a:lnTo>
                  <a:lnTo>
                    <a:pt x="259" y="209"/>
                  </a:lnTo>
                  <a:lnTo>
                    <a:pt x="268" y="223"/>
                  </a:lnTo>
                  <a:lnTo>
                    <a:pt x="278" y="240"/>
                  </a:lnTo>
                  <a:lnTo>
                    <a:pt x="288" y="258"/>
                  </a:lnTo>
                  <a:lnTo>
                    <a:pt x="296" y="278"/>
                  </a:lnTo>
                  <a:lnTo>
                    <a:pt x="306" y="301"/>
                  </a:lnTo>
                  <a:lnTo>
                    <a:pt x="279" y="335"/>
                  </a:lnTo>
                  <a:lnTo>
                    <a:pt x="291" y="335"/>
                  </a:lnTo>
                  <a:lnTo>
                    <a:pt x="293" y="335"/>
                  </a:lnTo>
                  <a:lnTo>
                    <a:pt x="295" y="335"/>
                  </a:lnTo>
                  <a:lnTo>
                    <a:pt x="307" y="335"/>
                  </a:lnTo>
                  <a:lnTo>
                    <a:pt x="314" y="330"/>
                  </a:lnTo>
                  <a:lnTo>
                    <a:pt x="324" y="322"/>
                  </a:lnTo>
                  <a:lnTo>
                    <a:pt x="336" y="314"/>
                  </a:lnTo>
                  <a:lnTo>
                    <a:pt x="346" y="304"/>
                  </a:lnTo>
                  <a:lnTo>
                    <a:pt x="358" y="296"/>
                  </a:lnTo>
                  <a:lnTo>
                    <a:pt x="369" y="286"/>
                  </a:lnTo>
                  <a:lnTo>
                    <a:pt x="376" y="278"/>
                  </a:lnTo>
                  <a:lnTo>
                    <a:pt x="383" y="272"/>
                  </a:lnTo>
                  <a:lnTo>
                    <a:pt x="380" y="266"/>
                  </a:lnTo>
                  <a:lnTo>
                    <a:pt x="376" y="259"/>
                  </a:lnTo>
                  <a:lnTo>
                    <a:pt x="373" y="254"/>
                  </a:lnTo>
                  <a:lnTo>
                    <a:pt x="370" y="249"/>
                  </a:lnTo>
                  <a:lnTo>
                    <a:pt x="368" y="244"/>
                  </a:lnTo>
                  <a:lnTo>
                    <a:pt x="365" y="238"/>
                  </a:lnTo>
                  <a:lnTo>
                    <a:pt x="361" y="232"/>
                  </a:lnTo>
                  <a:lnTo>
                    <a:pt x="357" y="226"/>
                  </a:lnTo>
                  <a:lnTo>
                    <a:pt x="355" y="219"/>
                  </a:lnTo>
                  <a:lnTo>
                    <a:pt x="354" y="209"/>
                  </a:lnTo>
                  <a:lnTo>
                    <a:pt x="355" y="199"/>
                  </a:lnTo>
                  <a:lnTo>
                    <a:pt x="357" y="190"/>
                  </a:lnTo>
                  <a:lnTo>
                    <a:pt x="360" y="178"/>
                  </a:lnTo>
                  <a:lnTo>
                    <a:pt x="362" y="167"/>
                  </a:lnTo>
                  <a:lnTo>
                    <a:pt x="365" y="155"/>
                  </a:lnTo>
                  <a:lnTo>
                    <a:pt x="366" y="144"/>
                  </a:lnTo>
                  <a:lnTo>
                    <a:pt x="356" y="127"/>
                  </a:lnTo>
                  <a:lnTo>
                    <a:pt x="349" y="111"/>
                  </a:lnTo>
                  <a:lnTo>
                    <a:pt x="343" y="97"/>
                  </a:lnTo>
                  <a:lnTo>
                    <a:pt x="338" y="84"/>
                  </a:lnTo>
                  <a:lnTo>
                    <a:pt x="332" y="73"/>
                  </a:lnTo>
                  <a:lnTo>
                    <a:pt x="327" y="65"/>
                  </a:lnTo>
                  <a:lnTo>
                    <a:pt x="322" y="57"/>
                  </a:lnTo>
                  <a:lnTo>
                    <a:pt x="314" y="53"/>
                  </a:lnTo>
                  <a:lnTo>
                    <a:pt x="305" y="49"/>
                  </a:lnTo>
                  <a:lnTo>
                    <a:pt x="293" y="43"/>
                  </a:lnTo>
                  <a:lnTo>
                    <a:pt x="278" y="37"/>
                  </a:lnTo>
                  <a:lnTo>
                    <a:pt x="261" y="30"/>
                  </a:lnTo>
                  <a:lnTo>
                    <a:pt x="242" y="23"/>
                  </a:lnTo>
                  <a:lnTo>
                    <a:pt x="220" y="15"/>
                  </a:lnTo>
                  <a:lnTo>
                    <a:pt x="197" y="8"/>
                  </a:lnTo>
                  <a:lnTo>
                    <a:pt x="171" y="0"/>
                  </a:lnTo>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ccecff"/>
                </a:solidFill>
                <a:latin typeface="Times New Roman"/>
              </a:endParaRPr>
            </a:p>
          </p:txBody>
        </p:sp>
        <p:sp>
          <p:nvSpPr>
            <p:cNvPr id="518" name="Freeform 142"/>
            <p:cNvSpPr/>
            <p:nvPr/>
          </p:nvSpPr>
          <p:spPr>
            <a:xfrm>
              <a:off x="5472720" y="4496400"/>
              <a:ext cx="46800" cy="31680"/>
            </a:xfrm>
            <a:custGeom>
              <a:avLst/>
              <a:gdLst>
                <a:gd name="textAreaLeft" fmla="*/ 0 w 46800"/>
                <a:gd name="textAreaRight" fmla="*/ 47160 w 46800"/>
                <a:gd name="textAreaTop" fmla="*/ 0 h 31680"/>
                <a:gd name="textAreaBottom" fmla="*/ 32040 h 31680"/>
              </a:gdLst>
              <a:ahLst/>
              <a:rect l="textAreaLeft" t="textAreaTop" r="textAreaRight" b="textAreaBottom"/>
              <a:pathLst>
                <a:path w="310" h="242">
                  <a:moveTo>
                    <a:pt x="0" y="16"/>
                  </a:moveTo>
                  <a:lnTo>
                    <a:pt x="0" y="16"/>
                  </a:lnTo>
                  <a:lnTo>
                    <a:pt x="4" y="24"/>
                  </a:lnTo>
                  <a:lnTo>
                    <a:pt x="7" y="32"/>
                  </a:lnTo>
                  <a:lnTo>
                    <a:pt x="8" y="41"/>
                  </a:lnTo>
                  <a:lnTo>
                    <a:pt x="10" y="50"/>
                  </a:lnTo>
                  <a:lnTo>
                    <a:pt x="10" y="58"/>
                  </a:lnTo>
                  <a:lnTo>
                    <a:pt x="10" y="68"/>
                  </a:lnTo>
                  <a:lnTo>
                    <a:pt x="10" y="77"/>
                  </a:lnTo>
                  <a:lnTo>
                    <a:pt x="9" y="88"/>
                  </a:lnTo>
                  <a:lnTo>
                    <a:pt x="9" y="99"/>
                  </a:lnTo>
                  <a:lnTo>
                    <a:pt x="8" y="111"/>
                  </a:lnTo>
                  <a:lnTo>
                    <a:pt x="7" y="122"/>
                  </a:lnTo>
                  <a:lnTo>
                    <a:pt x="6" y="134"/>
                  </a:lnTo>
                  <a:lnTo>
                    <a:pt x="6" y="147"/>
                  </a:lnTo>
                  <a:lnTo>
                    <a:pt x="6" y="161"/>
                  </a:lnTo>
                  <a:lnTo>
                    <a:pt x="6" y="175"/>
                  </a:lnTo>
                  <a:lnTo>
                    <a:pt x="7" y="190"/>
                  </a:lnTo>
                  <a:lnTo>
                    <a:pt x="19" y="242"/>
                  </a:lnTo>
                  <a:lnTo>
                    <a:pt x="35" y="230"/>
                  </a:lnTo>
                  <a:lnTo>
                    <a:pt x="53" y="218"/>
                  </a:lnTo>
                  <a:lnTo>
                    <a:pt x="72" y="204"/>
                  </a:lnTo>
                  <a:lnTo>
                    <a:pt x="92" y="190"/>
                  </a:lnTo>
                  <a:lnTo>
                    <a:pt x="114" y="175"/>
                  </a:lnTo>
                  <a:lnTo>
                    <a:pt x="135" y="160"/>
                  </a:lnTo>
                  <a:lnTo>
                    <a:pt x="158" y="145"/>
                  </a:lnTo>
                  <a:lnTo>
                    <a:pt x="179" y="129"/>
                  </a:lnTo>
                  <a:lnTo>
                    <a:pt x="201" y="113"/>
                  </a:lnTo>
                  <a:lnTo>
                    <a:pt x="221" y="98"/>
                  </a:lnTo>
                  <a:lnTo>
                    <a:pt x="240" y="82"/>
                  </a:lnTo>
                  <a:lnTo>
                    <a:pt x="257" y="66"/>
                  </a:lnTo>
                  <a:lnTo>
                    <a:pt x="274" y="51"/>
                  </a:lnTo>
                  <a:lnTo>
                    <a:pt x="288" y="36"/>
                  </a:lnTo>
                  <a:lnTo>
                    <a:pt x="300" y="21"/>
                  </a:lnTo>
                  <a:lnTo>
                    <a:pt x="310" y="7"/>
                  </a:lnTo>
                  <a:lnTo>
                    <a:pt x="297" y="3"/>
                  </a:lnTo>
                  <a:lnTo>
                    <a:pt x="283" y="0"/>
                  </a:lnTo>
                  <a:lnTo>
                    <a:pt x="267" y="0"/>
                  </a:lnTo>
                  <a:lnTo>
                    <a:pt x="250" y="1"/>
                  </a:lnTo>
                  <a:lnTo>
                    <a:pt x="231" y="5"/>
                  </a:lnTo>
                  <a:lnTo>
                    <a:pt x="211" y="9"/>
                  </a:lnTo>
                  <a:lnTo>
                    <a:pt x="190" y="13"/>
                  </a:lnTo>
                  <a:lnTo>
                    <a:pt x="168" y="17"/>
                  </a:lnTo>
                  <a:lnTo>
                    <a:pt x="147" y="22"/>
                  </a:lnTo>
                  <a:lnTo>
                    <a:pt x="125" y="26"/>
                  </a:lnTo>
                  <a:lnTo>
                    <a:pt x="103" y="29"/>
                  </a:lnTo>
                  <a:lnTo>
                    <a:pt x="82" y="30"/>
                  </a:lnTo>
                  <a:lnTo>
                    <a:pt x="60" y="30"/>
                  </a:lnTo>
                  <a:lnTo>
                    <a:pt x="39" y="28"/>
                  </a:lnTo>
                  <a:lnTo>
                    <a:pt x="20" y="24"/>
                  </a:lnTo>
                  <a:lnTo>
                    <a:pt x="0" y="16"/>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ccecff"/>
                </a:solidFill>
                <a:latin typeface="Times New Roman"/>
              </a:endParaRPr>
            </a:p>
          </p:txBody>
        </p:sp>
        <p:sp>
          <p:nvSpPr>
            <p:cNvPr id="519" name="Freeform 143"/>
            <p:cNvSpPr/>
            <p:nvPr/>
          </p:nvSpPr>
          <p:spPr>
            <a:xfrm>
              <a:off x="5678280" y="4214880"/>
              <a:ext cx="32040" cy="73440"/>
            </a:xfrm>
            <a:custGeom>
              <a:avLst/>
              <a:gdLst>
                <a:gd name="textAreaLeft" fmla="*/ 0 w 32040"/>
                <a:gd name="textAreaRight" fmla="*/ 32400 w 32040"/>
                <a:gd name="textAreaTop" fmla="*/ 0 h 73440"/>
                <a:gd name="textAreaBottom" fmla="*/ 73800 h 73440"/>
              </a:gdLst>
              <a:ahLst/>
              <a:rect l="textAreaLeft" t="textAreaTop" r="textAreaRight" b="textAreaBottom"/>
              <a:pathLst>
                <a:path w="210" h="555">
                  <a:moveTo>
                    <a:pt x="0" y="154"/>
                  </a:moveTo>
                  <a:lnTo>
                    <a:pt x="0" y="154"/>
                  </a:lnTo>
                  <a:lnTo>
                    <a:pt x="35" y="140"/>
                  </a:lnTo>
                  <a:lnTo>
                    <a:pt x="65" y="121"/>
                  </a:lnTo>
                  <a:lnTo>
                    <a:pt x="90" y="100"/>
                  </a:lnTo>
                  <a:lnTo>
                    <a:pt x="112" y="77"/>
                  </a:lnTo>
                  <a:lnTo>
                    <a:pt x="129" y="54"/>
                  </a:lnTo>
                  <a:lnTo>
                    <a:pt x="144" y="33"/>
                  </a:lnTo>
                  <a:lnTo>
                    <a:pt x="157" y="15"/>
                  </a:lnTo>
                  <a:lnTo>
                    <a:pt x="167" y="0"/>
                  </a:lnTo>
                  <a:lnTo>
                    <a:pt x="169" y="2"/>
                  </a:lnTo>
                  <a:lnTo>
                    <a:pt x="170" y="5"/>
                  </a:lnTo>
                  <a:lnTo>
                    <a:pt x="171" y="10"/>
                  </a:lnTo>
                  <a:lnTo>
                    <a:pt x="171" y="15"/>
                  </a:lnTo>
                  <a:lnTo>
                    <a:pt x="171" y="20"/>
                  </a:lnTo>
                  <a:lnTo>
                    <a:pt x="170" y="26"/>
                  </a:lnTo>
                  <a:lnTo>
                    <a:pt x="169" y="32"/>
                  </a:lnTo>
                  <a:lnTo>
                    <a:pt x="169" y="37"/>
                  </a:lnTo>
                  <a:lnTo>
                    <a:pt x="169" y="43"/>
                  </a:lnTo>
                  <a:lnTo>
                    <a:pt x="170" y="48"/>
                  </a:lnTo>
                  <a:lnTo>
                    <a:pt x="170" y="52"/>
                  </a:lnTo>
                  <a:lnTo>
                    <a:pt x="171" y="58"/>
                  </a:lnTo>
                  <a:lnTo>
                    <a:pt x="172" y="62"/>
                  </a:lnTo>
                  <a:lnTo>
                    <a:pt x="173" y="66"/>
                  </a:lnTo>
                  <a:lnTo>
                    <a:pt x="174" y="72"/>
                  </a:lnTo>
                  <a:lnTo>
                    <a:pt x="175" y="76"/>
                  </a:lnTo>
                  <a:lnTo>
                    <a:pt x="178" y="85"/>
                  </a:lnTo>
                  <a:lnTo>
                    <a:pt x="179" y="95"/>
                  </a:lnTo>
                  <a:lnTo>
                    <a:pt x="181" y="105"/>
                  </a:lnTo>
                  <a:lnTo>
                    <a:pt x="183" y="115"/>
                  </a:lnTo>
                  <a:lnTo>
                    <a:pt x="185" y="125"/>
                  </a:lnTo>
                  <a:lnTo>
                    <a:pt x="187" y="136"/>
                  </a:lnTo>
                  <a:lnTo>
                    <a:pt x="189" y="145"/>
                  </a:lnTo>
                  <a:lnTo>
                    <a:pt x="191" y="156"/>
                  </a:lnTo>
                  <a:lnTo>
                    <a:pt x="196" y="176"/>
                  </a:lnTo>
                  <a:lnTo>
                    <a:pt x="200" y="197"/>
                  </a:lnTo>
                  <a:lnTo>
                    <a:pt x="203" y="217"/>
                  </a:lnTo>
                  <a:lnTo>
                    <a:pt x="206" y="237"/>
                  </a:lnTo>
                  <a:lnTo>
                    <a:pt x="209" y="257"/>
                  </a:lnTo>
                  <a:lnTo>
                    <a:pt x="210" y="276"/>
                  </a:lnTo>
                  <a:lnTo>
                    <a:pt x="210" y="295"/>
                  </a:lnTo>
                  <a:lnTo>
                    <a:pt x="209" y="313"/>
                  </a:lnTo>
                  <a:lnTo>
                    <a:pt x="209" y="328"/>
                  </a:lnTo>
                  <a:lnTo>
                    <a:pt x="206" y="343"/>
                  </a:lnTo>
                  <a:lnTo>
                    <a:pt x="204" y="358"/>
                  </a:lnTo>
                  <a:lnTo>
                    <a:pt x="202" y="373"/>
                  </a:lnTo>
                  <a:lnTo>
                    <a:pt x="198" y="388"/>
                  </a:lnTo>
                  <a:lnTo>
                    <a:pt x="195" y="404"/>
                  </a:lnTo>
                  <a:lnTo>
                    <a:pt x="190" y="419"/>
                  </a:lnTo>
                  <a:lnTo>
                    <a:pt x="187" y="434"/>
                  </a:lnTo>
                  <a:lnTo>
                    <a:pt x="183" y="449"/>
                  </a:lnTo>
                  <a:lnTo>
                    <a:pt x="179" y="464"/>
                  </a:lnTo>
                  <a:lnTo>
                    <a:pt x="175" y="480"/>
                  </a:lnTo>
                  <a:lnTo>
                    <a:pt x="171" y="495"/>
                  </a:lnTo>
                  <a:lnTo>
                    <a:pt x="169" y="510"/>
                  </a:lnTo>
                  <a:lnTo>
                    <a:pt x="167" y="525"/>
                  </a:lnTo>
                  <a:lnTo>
                    <a:pt x="165" y="540"/>
                  </a:lnTo>
                  <a:lnTo>
                    <a:pt x="165" y="555"/>
                  </a:lnTo>
                  <a:lnTo>
                    <a:pt x="158" y="533"/>
                  </a:lnTo>
                  <a:lnTo>
                    <a:pt x="151" y="508"/>
                  </a:lnTo>
                  <a:lnTo>
                    <a:pt x="144" y="481"/>
                  </a:lnTo>
                  <a:lnTo>
                    <a:pt x="138" y="452"/>
                  </a:lnTo>
                  <a:lnTo>
                    <a:pt x="130" y="422"/>
                  </a:lnTo>
                  <a:lnTo>
                    <a:pt x="123" y="392"/>
                  </a:lnTo>
                  <a:lnTo>
                    <a:pt x="115" y="361"/>
                  </a:lnTo>
                  <a:lnTo>
                    <a:pt x="107" y="330"/>
                  </a:lnTo>
                  <a:lnTo>
                    <a:pt x="98" y="302"/>
                  </a:lnTo>
                  <a:lnTo>
                    <a:pt x="88" y="273"/>
                  </a:lnTo>
                  <a:lnTo>
                    <a:pt x="77" y="246"/>
                  </a:lnTo>
                  <a:lnTo>
                    <a:pt x="64" y="221"/>
                  </a:lnTo>
                  <a:lnTo>
                    <a:pt x="50" y="199"/>
                  </a:lnTo>
                  <a:lnTo>
                    <a:pt x="35" y="181"/>
                  </a:lnTo>
                  <a:lnTo>
                    <a:pt x="18" y="165"/>
                  </a:lnTo>
                  <a:lnTo>
                    <a:pt x="0" y="154"/>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520" name="Freeform 144"/>
            <p:cNvSpPr/>
            <p:nvPr/>
          </p:nvSpPr>
          <p:spPr>
            <a:xfrm>
              <a:off x="5618520" y="4190400"/>
              <a:ext cx="47520" cy="88560"/>
            </a:xfrm>
            <a:custGeom>
              <a:avLst/>
              <a:gdLst>
                <a:gd name="textAreaLeft" fmla="*/ 0 w 47520"/>
                <a:gd name="textAreaRight" fmla="*/ 47880 w 47520"/>
                <a:gd name="textAreaTop" fmla="*/ 0 h 88560"/>
                <a:gd name="textAreaBottom" fmla="*/ 88920 h 88560"/>
              </a:gdLst>
              <a:ahLst/>
              <a:rect l="textAreaLeft" t="textAreaTop" r="textAreaRight" b="textAreaBottom"/>
              <a:pathLst>
                <a:path w="315" h="672">
                  <a:moveTo>
                    <a:pt x="315" y="341"/>
                  </a:moveTo>
                  <a:lnTo>
                    <a:pt x="315" y="341"/>
                  </a:lnTo>
                  <a:lnTo>
                    <a:pt x="301" y="346"/>
                  </a:lnTo>
                  <a:lnTo>
                    <a:pt x="287" y="354"/>
                  </a:lnTo>
                  <a:lnTo>
                    <a:pt x="275" y="363"/>
                  </a:lnTo>
                  <a:lnTo>
                    <a:pt x="264" y="375"/>
                  </a:lnTo>
                  <a:lnTo>
                    <a:pt x="253" y="388"/>
                  </a:lnTo>
                  <a:lnTo>
                    <a:pt x="243" y="402"/>
                  </a:lnTo>
                  <a:lnTo>
                    <a:pt x="235" y="418"/>
                  </a:lnTo>
                  <a:lnTo>
                    <a:pt x="226" y="434"/>
                  </a:lnTo>
                  <a:lnTo>
                    <a:pt x="219" y="450"/>
                  </a:lnTo>
                  <a:lnTo>
                    <a:pt x="211" y="467"/>
                  </a:lnTo>
                  <a:lnTo>
                    <a:pt x="205" y="485"/>
                  </a:lnTo>
                  <a:lnTo>
                    <a:pt x="199" y="501"/>
                  </a:lnTo>
                  <a:lnTo>
                    <a:pt x="195" y="518"/>
                  </a:lnTo>
                  <a:lnTo>
                    <a:pt x="191" y="534"/>
                  </a:lnTo>
                  <a:lnTo>
                    <a:pt x="187" y="549"/>
                  </a:lnTo>
                  <a:lnTo>
                    <a:pt x="183" y="563"/>
                  </a:lnTo>
                  <a:lnTo>
                    <a:pt x="160" y="672"/>
                  </a:lnTo>
                  <a:lnTo>
                    <a:pt x="144" y="644"/>
                  </a:lnTo>
                  <a:lnTo>
                    <a:pt x="138" y="637"/>
                  </a:lnTo>
                  <a:lnTo>
                    <a:pt x="131" y="631"/>
                  </a:lnTo>
                  <a:lnTo>
                    <a:pt x="123" y="624"/>
                  </a:lnTo>
                  <a:lnTo>
                    <a:pt x="116" y="622"/>
                  </a:lnTo>
                  <a:lnTo>
                    <a:pt x="116" y="611"/>
                  </a:lnTo>
                  <a:lnTo>
                    <a:pt x="115" y="602"/>
                  </a:lnTo>
                  <a:lnTo>
                    <a:pt x="113" y="591"/>
                  </a:lnTo>
                  <a:lnTo>
                    <a:pt x="112" y="580"/>
                  </a:lnTo>
                  <a:lnTo>
                    <a:pt x="109" y="572"/>
                  </a:lnTo>
                  <a:lnTo>
                    <a:pt x="107" y="563"/>
                  </a:lnTo>
                  <a:lnTo>
                    <a:pt x="106" y="557"/>
                  </a:lnTo>
                  <a:lnTo>
                    <a:pt x="105" y="552"/>
                  </a:lnTo>
                  <a:lnTo>
                    <a:pt x="40" y="285"/>
                  </a:lnTo>
                  <a:lnTo>
                    <a:pt x="14" y="178"/>
                  </a:lnTo>
                  <a:lnTo>
                    <a:pt x="10" y="161"/>
                  </a:lnTo>
                  <a:lnTo>
                    <a:pt x="7" y="147"/>
                  </a:lnTo>
                  <a:lnTo>
                    <a:pt x="3" y="137"/>
                  </a:lnTo>
                  <a:lnTo>
                    <a:pt x="2" y="127"/>
                  </a:lnTo>
                  <a:lnTo>
                    <a:pt x="0" y="117"/>
                  </a:lnTo>
                  <a:lnTo>
                    <a:pt x="0" y="107"/>
                  </a:lnTo>
                  <a:lnTo>
                    <a:pt x="1" y="93"/>
                  </a:lnTo>
                  <a:lnTo>
                    <a:pt x="2" y="76"/>
                  </a:lnTo>
                  <a:lnTo>
                    <a:pt x="9" y="0"/>
                  </a:lnTo>
                  <a:lnTo>
                    <a:pt x="14" y="10"/>
                  </a:lnTo>
                  <a:lnTo>
                    <a:pt x="20" y="21"/>
                  </a:lnTo>
                  <a:lnTo>
                    <a:pt x="25" y="34"/>
                  </a:lnTo>
                  <a:lnTo>
                    <a:pt x="30" y="48"/>
                  </a:lnTo>
                  <a:lnTo>
                    <a:pt x="36" y="61"/>
                  </a:lnTo>
                  <a:lnTo>
                    <a:pt x="41" y="72"/>
                  </a:lnTo>
                  <a:lnTo>
                    <a:pt x="46" y="83"/>
                  </a:lnTo>
                  <a:lnTo>
                    <a:pt x="51" y="93"/>
                  </a:lnTo>
                  <a:lnTo>
                    <a:pt x="55" y="100"/>
                  </a:lnTo>
                  <a:lnTo>
                    <a:pt x="60" y="110"/>
                  </a:lnTo>
                  <a:lnTo>
                    <a:pt x="66" y="119"/>
                  </a:lnTo>
                  <a:lnTo>
                    <a:pt x="71" y="130"/>
                  </a:lnTo>
                  <a:lnTo>
                    <a:pt x="76" y="140"/>
                  </a:lnTo>
                  <a:lnTo>
                    <a:pt x="82" y="149"/>
                  </a:lnTo>
                  <a:lnTo>
                    <a:pt x="87" y="158"/>
                  </a:lnTo>
                  <a:lnTo>
                    <a:pt x="91" y="165"/>
                  </a:lnTo>
                  <a:lnTo>
                    <a:pt x="111" y="188"/>
                  </a:lnTo>
                  <a:lnTo>
                    <a:pt x="130" y="209"/>
                  </a:lnTo>
                  <a:lnTo>
                    <a:pt x="151" y="231"/>
                  </a:lnTo>
                  <a:lnTo>
                    <a:pt x="173" y="250"/>
                  </a:lnTo>
                  <a:lnTo>
                    <a:pt x="193" y="267"/>
                  </a:lnTo>
                  <a:lnTo>
                    <a:pt x="214" y="284"/>
                  </a:lnTo>
                  <a:lnTo>
                    <a:pt x="234" y="298"/>
                  </a:lnTo>
                  <a:lnTo>
                    <a:pt x="253" y="310"/>
                  </a:lnTo>
                  <a:lnTo>
                    <a:pt x="260" y="314"/>
                  </a:lnTo>
                  <a:lnTo>
                    <a:pt x="268" y="318"/>
                  </a:lnTo>
                  <a:lnTo>
                    <a:pt x="275" y="323"/>
                  </a:lnTo>
                  <a:lnTo>
                    <a:pt x="283" y="326"/>
                  </a:lnTo>
                  <a:lnTo>
                    <a:pt x="289" y="330"/>
                  </a:lnTo>
                  <a:lnTo>
                    <a:pt x="298" y="333"/>
                  </a:lnTo>
                  <a:lnTo>
                    <a:pt x="305" y="338"/>
                  </a:lnTo>
                  <a:lnTo>
                    <a:pt x="315" y="341"/>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521" name="Freeform 145"/>
            <p:cNvSpPr/>
            <p:nvPr/>
          </p:nvSpPr>
          <p:spPr>
            <a:xfrm>
              <a:off x="5623920" y="5187240"/>
              <a:ext cx="319320" cy="61560"/>
            </a:xfrm>
            <a:custGeom>
              <a:avLst/>
              <a:gdLst>
                <a:gd name="textAreaLeft" fmla="*/ 0 w 319320"/>
                <a:gd name="textAreaRight" fmla="*/ 319680 w 319320"/>
                <a:gd name="textAreaTop" fmla="*/ 0 h 61560"/>
                <a:gd name="textAreaBottom" fmla="*/ 61920 h 61560"/>
              </a:gdLst>
              <a:ahLst/>
              <a:rect l="textAreaLeft" t="textAreaTop" r="textAreaRight" b="textAreaBottom"/>
              <a:pathLst>
                <a:path w="2089" h="465">
                  <a:moveTo>
                    <a:pt x="1843" y="78"/>
                  </a:moveTo>
                  <a:lnTo>
                    <a:pt x="1821" y="61"/>
                  </a:lnTo>
                  <a:lnTo>
                    <a:pt x="1800" y="46"/>
                  </a:lnTo>
                  <a:lnTo>
                    <a:pt x="1779" y="33"/>
                  </a:lnTo>
                  <a:lnTo>
                    <a:pt x="1758" y="23"/>
                  </a:lnTo>
                  <a:lnTo>
                    <a:pt x="1737" y="16"/>
                  </a:lnTo>
                  <a:lnTo>
                    <a:pt x="1717" y="11"/>
                  </a:lnTo>
                  <a:lnTo>
                    <a:pt x="1695" y="8"/>
                  </a:lnTo>
                  <a:lnTo>
                    <a:pt x="1675" y="7"/>
                  </a:lnTo>
                  <a:lnTo>
                    <a:pt x="1653" y="8"/>
                  </a:lnTo>
                  <a:lnTo>
                    <a:pt x="1632" y="12"/>
                  </a:lnTo>
                  <a:lnTo>
                    <a:pt x="1611" y="17"/>
                  </a:lnTo>
                  <a:lnTo>
                    <a:pt x="1589" y="24"/>
                  </a:lnTo>
                  <a:lnTo>
                    <a:pt x="1568" y="33"/>
                  </a:lnTo>
                  <a:lnTo>
                    <a:pt x="1545" y="43"/>
                  </a:lnTo>
                  <a:lnTo>
                    <a:pt x="1523" y="55"/>
                  </a:lnTo>
                  <a:lnTo>
                    <a:pt x="1500" y="68"/>
                  </a:lnTo>
                  <a:lnTo>
                    <a:pt x="1479" y="92"/>
                  </a:lnTo>
                  <a:lnTo>
                    <a:pt x="1457" y="118"/>
                  </a:lnTo>
                  <a:lnTo>
                    <a:pt x="1437" y="145"/>
                  </a:lnTo>
                  <a:lnTo>
                    <a:pt x="1416" y="173"/>
                  </a:lnTo>
                  <a:lnTo>
                    <a:pt x="1394" y="202"/>
                  </a:lnTo>
                  <a:lnTo>
                    <a:pt x="1373" y="231"/>
                  </a:lnTo>
                  <a:lnTo>
                    <a:pt x="1353" y="260"/>
                  </a:lnTo>
                  <a:lnTo>
                    <a:pt x="1331" y="288"/>
                  </a:lnTo>
                  <a:lnTo>
                    <a:pt x="1310" y="314"/>
                  </a:lnTo>
                  <a:lnTo>
                    <a:pt x="1288" y="339"/>
                  </a:lnTo>
                  <a:lnTo>
                    <a:pt x="1268" y="361"/>
                  </a:lnTo>
                  <a:lnTo>
                    <a:pt x="1247" y="382"/>
                  </a:lnTo>
                  <a:lnTo>
                    <a:pt x="1225" y="400"/>
                  </a:lnTo>
                  <a:lnTo>
                    <a:pt x="1204" y="414"/>
                  </a:lnTo>
                  <a:lnTo>
                    <a:pt x="1182" y="423"/>
                  </a:lnTo>
                  <a:lnTo>
                    <a:pt x="1161" y="430"/>
                  </a:lnTo>
                  <a:lnTo>
                    <a:pt x="1172" y="431"/>
                  </a:lnTo>
                  <a:lnTo>
                    <a:pt x="1182" y="432"/>
                  </a:lnTo>
                  <a:lnTo>
                    <a:pt x="1194" y="433"/>
                  </a:lnTo>
                  <a:lnTo>
                    <a:pt x="1207" y="435"/>
                  </a:lnTo>
                  <a:lnTo>
                    <a:pt x="1220" y="436"/>
                  </a:lnTo>
                  <a:lnTo>
                    <a:pt x="1233" y="438"/>
                  </a:lnTo>
                  <a:lnTo>
                    <a:pt x="1246" y="441"/>
                  </a:lnTo>
                  <a:lnTo>
                    <a:pt x="1259" y="442"/>
                  </a:lnTo>
                  <a:lnTo>
                    <a:pt x="1272" y="444"/>
                  </a:lnTo>
                  <a:lnTo>
                    <a:pt x="1284" y="445"/>
                  </a:lnTo>
                  <a:lnTo>
                    <a:pt x="1296" y="446"/>
                  </a:lnTo>
                  <a:lnTo>
                    <a:pt x="1308" y="446"/>
                  </a:lnTo>
                  <a:lnTo>
                    <a:pt x="1317" y="446"/>
                  </a:lnTo>
                  <a:lnTo>
                    <a:pt x="1326" y="445"/>
                  </a:lnTo>
                  <a:lnTo>
                    <a:pt x="1333" y="443"/>
                  </a:lnTo>
                  <a:lnTo>
                    <a:pt x="1340" y="441"/>
                  </a:lnTo>
                  <a:lnTo>
                    <a:pt x="1340" y="417"/>
                  </a:lnTo>
                  <a:lnTo>
                    <a:pt x="1341" y="397"/>
                  </a:lnTo>
                  <a:lnTo>
                    <a:pt x="1342" y="376"/>
                  </a:lnTo>
                  <a:lnTo>
                    <a:pt x="1343" y="358"/>
                  </a:lnTo>
                  <a:lnTo>
                    <a:pt x="1345" y="340"/>
                  </a:lnTo>
                  <a:lnTo>
                    <a:pt x="1347" y="323"/>
                  </a:lnTo>
                  <a:lnTo>
                    <a:pt x="1350" y="306"/>
                  </a:lnTo>
                  <a:lnTo>
                    <a:pt x="1355" y="288"/>
                  </a:lnTo>
                  <a:lnTo>
                    <a:pt x="1364" y="299"/>
                  </a:lnTo>
                  <a:lnTo>
                    <a:pt x="1375" y="311"/>
                  </a:lnTo>
                  <a:lnTo>
                    <a:pt x="1387" y="323"/>
                  </a:lnTo>
                  <a:lnTo>
                    <a:pt x="1399" y="335"/>
                  </a:lnTo>
                  <a:lnTo>
                    <a:pt x="1411" y="346"/>
                  </a:lnTo>
                  <a:lnTo>
                    <a:pt x="1423" y="358"/>
                  </a:lnTo>
                  <a:lnTo>
                    <a:pt x="1436" y="369"/>
                  </a:lnTo>
                  <a:lnTo>
                    <a:pt x="1449" y="381"/>
                  </a:lnTo>
                  <a:lnTo>
                    <a:pt x="1461" y="391"/>
                  </a:lnTo>
                  <a:lnTo>
                    <a:pt x="1471" y="402"/>
                  </a:lnTo>
                  <a:lnTo>
                    <a:pt x="1481" y="414"/>
                  </a:lnTo>
                  <a:lnTo>
                    <a:pt x="1490" y="425"/>
                  </a:lnTo>
                  <a:lnTo>
                    <a:pt x="1497" y="435"/>
                  </a:lnTo>
                  <a:lnTo>
                    <a:pt x="1502" y="445"/>
                  </a:lnTo>
                  <a:lnTo>
                    <a:pt x="1507" y="456"/>
                  </a:lnTo>
                  <a:lnTo>
                    <a:pt x="1508" y="465"/>
                  </a:lnTo>
                  <a:lnTo>
                    <a:pt x="1539" y="464"/>
                  </a:lnTo>
                  <a:lnTo>
                    <a:pt x="1571" y="461"/>
                  </a:lnTo>
                  <a:lnTo>
                    <a:pt x="1604" y="456"/>
                  </a:lnTo>
                  <a:lnTo>
                    <a:pt x="1639" y="448"/>
                  </a:lnTo>
                  <a:lnTo>
                    <a:pt x="1675" y="441"/>
                  </a:lnTo>
                  <a:lnTo>
                    <a:pt x="1711" y="433"/>
                  </a:lnTo>
                  <a:lnTo>
                    <a:pt x="1749" y="425"/>
                  </a:lnTo>
                  <a:lnTo>
                    <a:pt x="1785" y="417"/>
                  </a:lnTo>
                  <a:lnTo>
                    <a:pt x="1822" y="411"/>
                  </a:lnTo>
                  <a:lnTo>
                    <a:pt x="1859" y="405"/>
                  </a:lnTo>
                  <a:lnTo>
                    <a:pt x="1894" y="402"/>
                  </a:lnTo>
                  <a:lnTo>
                    <a:pt x="1928" y="401"/>
                  </a:lnTo>
                  <a:lnTo>
                    <a:pt x="1963" y="403"/>
                  </a:lnTo>
                  <a:lnTo>
                    <a:pt x="1994" y="407"/>
                  </a:lnTo>
                  <a:lnTo>
                    <a:pt x="2025" y="416"/>
                  </a:lnTo>
                  <a:lnTo>
                    <a:pt x="2053" y="429"/>
                  </a:lnTo>
                  <a:lnTo>
                    <a:pt x="2057" y="429"/>
                  </a:lnTo>
                  <a:lnTo>
                    <a:pt x="2061" y="421"/>
                  </a:lnTo>
                  <a:lnTo>
                    <a:pt x="2065" y="414"/>
                  </a:lnTo>
                  <a:lnTo>
                    <a:pt x="2070" y="413"/>
                  </a:lnTo>
                  <a:lnTo>
                    <a:pt x="2075" y="391"/>
                  </a:lnTo>
                  <a:lnTo>
                    <a:pt x="2079" y="372"/>
                  </a:lnTo>
                  <a:lnTo>
                    <a:pt x="2083" y="356"/>
                  </a:lnTo>
                  <a:lnTo>
                    <a:pt x="2086" y="341"/>
                  </a:lnTo>
                  <a:lnTo>
                    <a:pt x="2087" y="327"/>
                  </a:lnTo>
                  <a:lnTo>
                    <a:pt x="2089" y="313"/>
                  </a:lnTo>
                  <a:lnTo>
                    <a:pt x="2089" y="299"/>
                  </a:lnTo>
                  <a:lnTo>
                    <a:pt x="2089" y="285"/>
                  </a:lnTo>
                  <a:lnTo>
                    <a:pt x="2077" y="273"/>
                  </a:lnTo>
                  <a:lnTo>
                    <a:pt x="2062" y="258"/>
                  </a:lnTo>
                  <a:lnTo>
                    <a:pt x="2044" y="242"/>
                  </a:lnTo>
                  <a:lnTo>
                    <a:pt x="2025" y="227"/>
                  </a:lnTo>
                  <a:lnTo>
                    <a:pt x="2003" y="213"/>
                  </a:lnTo>
                  <a:lnTo>
                    <a:pt x="1983" y="202"/>
                  </a:lnTo>
                  <a:lnTo>
                    <a:pt x="1964" y="195"/>
                  </a:lnTo>
                  <a:lnTo>
                    <a:pt x="1946" y="191"/>
                  </a:lnTo>
                  <a:lnTo>
                    <a:pt x="1932" y="186"/>
                  </a:lnTo>
                  <a:lnTo>
                    <a:pt x="1918" y="176"/>
                  </a:lnTo>
                  <a:lnTo>
                    <a:pt x="1905" y="161"/>
                  </a:lnTo>
                  <a:lnTo>
                    <a:pt x="1891" y="144"/>
                  </a:lnTo>
                  <a:lnTo>
                    <a:pt x="1878" y="126"/>
                  </a:lnTo>
                  <a:lnTo>
                    <a:pt x="1865" y="109"/>
                  </a:lnTo>
                  <a:lnTo>
                    <a:pt x="1854" y="92"/>
                  </a:lnTo>
                  <a:lnTo>
                    <a:pt x="1843" y="78"/>
                  </a:lnTo>
                  <a:close/>
                  <a:moveTo>
                    <a:pt x="146" y="46"/>
                  </a:moveTo>
                  <a:lnTo>
                    <a:pt x="152" y="46"/>
                  </a:lnTo>
                  <a:lnTo>
                    <a:pt x="159" y="46"/>
                  </a:lnTo>
                  <a:lnTo>
                    <a:pt x="169" y="46"/>
                  </a:lnTo>
                  <a:lnTo>
                    <a:pt x="178" y="46"/>
                  </a:lnTo>
                  <a:lnTo>
                    <a:pt x="188" y="45"/>
                  </a:lnTo>
                  <a:lnTo>
                    <a:pt x="197" y="44"/>
                  </a:lnTo>
                  <a:lnTo>
                    <a:pt x="204" y="43"/>
                  </a:lnTo>
                  <a:lnTo>
                    <a:pt x="209" y="39"/>
                  </a:lnTo>
                  <a:lnTo>
                    <a:pt x="212" y="35"/>
                  </a:lnTo>
                  <a:lnTo>
                    <a:pt x="212" y="31"/>
                  </a:lnTo>
                  <a:lnTo>
                    <a:pt x="210" y="26"/>
                  </a:lnTo>
                  <a:lnTo>
                    <a:pt x="209" y="19"/>
                  </a:lnTo>
                  <a:lnTo>
                    <a:pt x="207" y="14"/>
                  </a:lnTo>
                  <a:lnTo>
                    <a:pt x="205" y="8"/>
                  </a:lnTo>
                  <a:lnTo>
                    <a:pt x="205" y="3"/>
                  </a:lnTo>
                  <a:lnTo>
                    <a:pt x="206" y="0"/>
                  </a:lnTo>
                  <a:lnTo>
                    <a:pt x="227" y="1"/>
                  </a:lnTo>
                  <a:lnTo>
                    <a:pt x="248" y="1"/>
                  </a:lnTo>
                  <a:lnTo>
                    <a:pt x="270" y="2"/>
                  </a:lnTo>
                  <a:lnTo>
                    <a:pt x="292" y="4"/>
                  </a:lnTo>
                  <a:lnTo>
                    <a:pt x="314" y="5"/>
                  </a:lnTo>
                  <a:lnTo>
                    <a:pt x="336" y="8"/>
                  </a:lnTo>
                  <a:lnTo>
                    <a:pt x="357" y="12"/>
                  </a:lnTo>
                  <a:lnTo>
                    <a:pt x="377" y="16"/>
                  </a:lnTo>
                  <a:lnTo>
                    <a:pt x="398" y="21"/>
                  </a:lnTo>
                  <a:lnTo>
                    <a:pt x="416" y="28"/>
                  </a:lnTo>
                  <a:lnTo>
                    <a:pt x="434" y="36"/>
                  </a:lnTo>
                  <a:lnTo>
                    <a:pt x="449" y="46"/>
                  </a:lnTo>
                  <a:lnTo>
                    <a:pt x="464" y="57"/>
                  </a:lnTo>
                  <a:lnTo>
                    <a:pt x="476" y="69"/>
                  </a:lnTo>
                  <a:lnTo>
                    <a:pt x="487" y="83"/>
                  </a:lnTo>
                  <a:lnTo>
                    <a:pt x="494" y="100"/>
                  </a:lnTo>
                  <a:lnTo>
                    <a:pt x="498" y="110"/>
                  </a:lnTo>
                  <a:lnTo>
                    <a:pt x="503" y="118"/>
                  </a:lnTo>
                  <a:lnTo>
                    <a:pt x="505" y="126"/>
                  </a:lnTo>
                  <a:lnTo>
                    <a:pt x="508" y="135"/>
                  </a:lnTo>
                  <a:lnTo>
                    <a:pt x="510" y="145"/>
                  </a:lnTo>
                  <a:lnTo>
                    <a:pt x="511" y="156"/>
                  </a:lnTo>
                  <a:lnTo>
                    <a:pt x="513" y="170"/>
                  </a:lnTo>
                  <a:lnTo>
                    <a:pt x="514" y="186"/>
                  </a:lnTo>
                  <a:lnTo>
                    <a:pt x="521" y="206"/>
                  </a:lnTo>
                  <a:lnTo>
                    <a:pt x="528" y="230"/>
                  </a:lnTo>
                  <a:lnTo>
                    <a:pt x="537" y="254"/>
                  </a:lnTo>
                  <a:lnTo>
                    <a:pt x="545" y="279"/>
                  </a:lnTo>
                  <a:lnTo>
                    <a:pt x="553" y="303"/>
                  </a:lnTo>
                  <a:lnTo>
                    <a:pt x="558" y="322"/>
                  </a:lnTo>
                  <a:lnTo>
                    <a:pt x="563" y="338"/>
                  </a:lnTo>
                  <a:lnTo>
                    <a:pt x="564" y="347"/>
                  </a:lnTo>
                  <a:lnTo>
                    <a:pt x="563" y="358"/>
                  </a:lnTo>
                  <a:lnTo>
                    <a:pt x="560" y="366"/>
                  </a:lnTo>
                  <a:lnTo>
                    <a:pt x="558" y="371"/>
                  </a:lnTo>
                  <a:lnTo>
                    <a:pt x="556" y="373"/>
                  </a:lnTo>
                  <a:lnTo>
                    <a:pt x="553" y="375"/>
                  </a:lnTo>
                  <a:lnTo>
                    <a:pt x="549" y="376"/>
                  </a:lnTo>
                  <a:lnTo>
                    <a:pt x="543" y="379"/>
                  </a:lnTo>
                  <a:lnTo>
                    <a:pt x="537" y="381"/>
                  </a:lnTo>
                  <a:lnTo>
                    <a:pt x="531" y="381"/>
                  </a:lnTo>
                  <a:lnTo>
                    <a:pt x="525" y="380"/>
                  </a:lnTo>
                  <a:lnTo>
                    <a:pt x="520" y="377"/>
                  </a:lnTo>
                  <a:lnTo>
                    <a:pt x="516" y="373"/>
                  </a:lnTo>
                  <a:lnTo>
                    <a:pt x="510" y="369"/>
                  </a:lnTo>
                  <a:lnTo>
                    <a:pt x="506" y="362"/>
                  </a:lnTo>
                  <a:lnTo>
                    <a:pt x="502" y="354"/>
                  </a:lnTo>
                  <a:lnTo>
                    <a:pt x="497" y="344"/>
                  </a:lnTo>
                  <a:lnTo>
                    <a:pt x="484" y="336"/>
                  </a:lnTo>
                  <a:lnTo>
                    <a:pt x="468" y="328"/>
                  </a:lnTo>
                  <a:lnTo>
                    <a:pt x="450" y="321"/>
                  </a:lnTo>
                  <a:lnTo>
                    <a:pt x="430" y="314"/>
                  </a:lnTo>
                  <a:lnTo>
                    <a:pt x="406" y="309"/>
                  </a:lnTo>
                  <a:lnTo>
                    <a:pt x="383" y="305"/>
                  </a:lnTo>
                  <a:lnTo>
                    <a:pt x="356" y="303"/>
                  </a:lnTo>
                  <a:lnTo>
                    <a:pt x="329" y="301"/>
                  </a:lnTo>
                  <a:lnTo>
                    <a:pt x="322" y="301"/>
                  </a:lnTo>
                  <a:lnTo>
                    <a:pt x="314" y="301"/>
                  </a:lnTo>
                  <a:lnTo>
                    <a:pt x="307" y="301"/>
                  </a:lnTo>
                  <a:lnTo>
                    <a:pt x="298" y="303"/>
                  </a:lnTo>
                  <a:lnTo>
                    <a:pt x="290" y="303"/>
                  </a:lnTo>
                  <a:lnTo>
                    <a:pt x="281" y="304"/>
                  </a:lnTo>
                  <a:lnTo>
                    <a:pt x="271" y="306"/>
                  </a:lnTo>
                  <a:lnTo>
                    <a:pt x="261" y="308"/>
                  </a:lnTo>
                  <a:lnTo>
                    <a:pt x="264" y="304"/>
                  </a:lnTo>
                  <a:lnTo>
                    <a:pt x="268" y="299"/>
                  </a:lnTo>
                  <a:lnTo>
                    <a:pt x="274" y="296"/>
                  </a:lnTo>
                  <a:lnTo>
                    <a:pt x="279" y="292"/>
                  </a:lnTo>
                  <a:lnTo>
                    <a:pt x="282" y="288"/>
                  </a:lnTo>
                  <a:lnTo>
                    <a:pt x="284" y="282"/>
                  </a:lnTo>
                  <a:lnTo>
                    <a:pt x="284" y="277"/>
                  </a:lnTo>
                  <a:lnTo>
                    <a:pt x="280" y="269"/>
                  </a:lnTo>
                  <a:lnTo>
                    <a:pt x="267" y="265"/>
                  </a:lnTo>
                  <a:lnTo>
                    <a:pt x="252" y="260"/>
                  </a:lnTo>
                  <a:lnTo>
                    <a:pt x="236" y="252"/>
                  </a:lnTo>
                  <a:lnTo>
                    <a:pt x="218" y="245"/>
                  </a:lnTo>
                  <a:lnTo>
                    <a:pt x="200" y="238"/>
                  </a:lnTo>
                  <a:lnTo>
                    <a:pt x="179" y="231"/>
                  </a:lnTo>
                  <a:lnTo>
                    <a:pt x="160" y="226"/>
                  </a:lnTo>
                  <a:lnTo>
                    <a:pt x="141" y="221"/>
                  </a:lnTo>
                  <a:lnTo>
                    <a:pt x="123" y="223"/>
                  </a:lnTo>
                  <a:lnTo>
                    <a:pt x="104" y="230"/>
                  </a:lnTo>
                  <a:lnTo>
                    <a:pt x="86" y="237"/>
                  </a:lnTo>
                  <a:lnTo>
                    <a:pt x="69" y="247"/>
                  </a:lnTo>
                  <a:lnTo>
                    <a:pt x="52" y="254"/>
                  </a:lnTo>
                  <a:lnTo>
                    <a:pt x="35" y="259"/>
                  </a:lnTo>
                  <a:lnTo>
                    <a:pt x="17" y="260"/>
                  </a:lnTo>
                  <a:lnTo>
                    <a:pt x="0" y="253"/>
                  </a:lnTo>
                  <a:lnTo>
                    <a:pt x="2" y="224"/>
                  </a:lnTo>
                  <a:lnTo>
                    <a:pt x="14" y="198"/>
                  </a:lnTo>
                  <a:lnTo>
                    <a:pt x="34" y="174"/>
                  </a:lnTo>
                  <a:lnTo>
                    <a:pt x="60" y="153"/>
                  </a:lnTo>
                  <a:lnTo>
                    <a:pt x="86" y="135"/>
                  </a:lnTo>
                  <a:lnTo>
                    <a:pt x="114" y="120"/>
                  </a:lnTo>
                  <a:lnTo>
                    <a:pt x="139" y="107"/>
                  </a:lnTo>
                  <a:lnTo>
                    <a:pt x="157" y="97"/>
                  </a:lnTo>
                  <a:lnTo>
                    <a:pt x="157" y="93"/>
                  </a:lnTo>
                  <a:lnTo>
                    <a:pt x="157" y="90"/>
                  </a:lnTo>
                  <a:lnTo>
                    <a:pt x="156" y="88"/>
                  </a:lnTo>
                  <a:lnTo>
                    <a:pt x="156" y="85"/>
                  </a:lnTo>
                  <a:lnTo>
                    <a:pt x="155" y="81"/>
                  </a:lnTo>
                  <a:lnTo>
                    <a:pt x="153" y="74"/>
                  </a:lnTo>
                  <a:lnTo>
                    <a:pt x="149" y="63"/>
                  </a:lnTo>
                  <a:lnTo>
                    <a:pt x="146" y="46"/>
                  </a:lnTo>
                  <a:close/>
                </a:path>
              </a:pathLst>
            </a:custGeom>
            <a:solidFill>
              <a:srgbClr val="e0bf5c"/>
            </a:solidFill>
            <a:ln w="0">
              <a:noFill/>
            </a:ln>
          </p:spPr>
          <p:style>
            <a:lnRef idx="0"/>
            <a:fillRef idx="0"/>
            <a:effectRef idx="0"/>
            <a:fontRef idx="minor"/>
          </p:style>
          <p:txBody>
            <a:bodyPr lIns="90000" rIns="90000" tIns="15120" bIns="15120" anchor="t">
              <a:noAutofit/>
            </a:bodyPr>
            <a:p>
              <a:endParaRPr b="0" lang="en-US" sz="2400" spc="-1" strike="noStrike">
                <a:solidFill>
                  <a:srgbClr val="ccecff"/>
                </a:solidFill>
                <a:latin typeface="Times New Roman"/>
              </a:endParaRPr>
            </a:p>
          </p:txBody>
        </p:sp>
        <p:sp>
          <p:nvSpPr>
            <p:cNvPr id="522" name="Freeform 146"/>
            <p:cNvSpPr/>
            <p:nvPr/>
          </p:nvSpPr>
          <p:spPr>
            <a:xfrm>
              <a:off x="5801400" y="5188680"/>
              <a:ext cx="142200" cy="60120"/>
            </a:xfrm>
            <a:custGeom>
              <a:avLst/>
              <a:gdLst>
                <a:gd name="textAreaLeft" fmla="*/ 0 w 142200"/>
                <a:gd name="textAreaRight" fmla="*/ 142560 w 142200"/>
                <a:gd name="textAreaTop" fmla="*/ 0 h 60120"/>
                <a:gd name="textAreaBottom" fmla="*/ 60480 h 60120"/>
              </a:gdLst>
              <a:ahLst/>
              <a:rect l="textAreaLeft" t="textAreaTop" r="textAreaRight" b="textAreaBottom"/>
              <a:pathLst>
                <a:path w="928" h="458">
                  <a:moveTo>
                    <a:pt x="682" y="71"/>
                  </a:moveTo>
                  <a:lnTo>
                    <a:pt x="682" y="71"/>
                  </a:lnTo>
                  <a:lnTo>
                    <a:pt x="660" y="54"/>
                  </a:lnTo>
                  <a:lnTo>
                    <a:pt x="639" y="39"/>
                  </a:lnTo>
                  <a:lnTo>
                    <a:pt x="618" y="26"/>
                  </a:lnTo>
                  <a:lnTo>
                    <a:pt x="597" y="16"/>
                  </a:lnTo>
                  <a:lnTo>
                    <a:pt x="576" y="9"/>
                  </a:lnTo>
                  <a:lnTo>
                    <a:pt x="556" y="4"/>
                  </a:lnTo>
                  <a:lnTo>
                    <a:pt x="534" y="1"/>
                  </a:lnTo>
                  <a:lnTo>
                    <a:pt x="514" y="0"/>
                  </a:lnTo>
                  <a:lnTo>
                    <a:pt x="492" y="1"/>
                  </a:lnTo>
                  <a:lnTo>
                    <a:pt x="471" y="5"/>
                  </a:lnTo>
                  <a:lnTo>
                    <a:pt x="450" y="10"/>
                  </a:lnTo>
                  <a:lnTo>
                    <a:pt x="428" y="17"/>
                  </a:lnTo>
                  <a:lnTo>
                    <a:pt x="407" y="26"/>
                  </a:lnTo>
                  <a:lnTo>
                    <a:pt x="384" y="36"/>
                  </a:lnTo>
                  <a:lnTo>
                    <a:pt x="362" y="48"/>
                  </a:lnTo>
                  <a:lnTo>
                    <a:pt x="339" y="61"/>
                  </a:lnTo>
                  <a:lnTo>
                    <a:pt x="318" y="85"/>
                  </a:lnTo>
                  <a:lnTo>
                    <a:pt x="296" y="111"/>
                  </a:lnTo>
                  <a:lnTo>
                    <a:pt x="276" y="138"/>
                  </a:lnTo>
                  <a:lnTo>
                    <a:pt x="255" y="166"/>
                  </a:lnTo>
                  <a:lnTo>
                    <a:pt x="233" y="195"/>
                  </a:lnTo>
                  <a:lnTo>
                    <a:pt x="212" y="224"/>
                  </a:lnTo>
                  <a:lnTo>
                    <a:pt x="192" y="253"/>
                  </a:lnTo>
                  <a:lnTo>
                    <a:pt x="170" y="281"/>
                  </a:lnTo>
                  <a:lnTo>
                    <a:pt x="149" y="307"/>
                  </a:lnTo>
                  <a:lnTo>
                    <a:pt x="127" y="332"/>
                  </a:lnTo>
                  <a:lnTo>
                    <a:pt x="107" y="354"/>
                  </a:lnTo>
                  <a:lnTo>
                    <a:pt x="86" y="375"/>
                  </a:lnTo>
                  <a:lnTo>
                    <a:pt x="64" y="393"/>
                  </a:lnTo>
                  <a:lnTo>
                    <a:pt x="43" y="407"/>
                  </a:lnTo>
                  <a:lnTo>
                    <a:pt x="21" y="416"/>
                  </a:lnTo>
                  <a:lnTo>
                    <a:pt x="0" y="423"/>
                  </a:lnTo>
                  <a:lnTo>
                    <a:pt x="11" y="424"/>
                  </a:lnTo>
                  <a:lnTo>
                    <a:pt x="21" y="425"/>
                  </a:lnTo>
                  <a:lnTo>
                    <a:pt x="33" y="426"/>
                  </a:lnTo>
                  <a:lnTo>
                    <a:pt x="46" y="428"/>
                  </a:lnTo>
                  <a:lnTo>
                    <a:pt x="59" y="429"/>
                  </a:lnTo>
                  <a:lnTo>
                    <a:pt x="72" y="431"/>
                  </a:lnTo>
                  <a:lnTo>
                    <a:pt x="85" y="434"/>
                  </a:lnTo>
                  <a:lnTo>
                    <a:pt x="98" y="435"/>
                  </a:lnTo>
                  <a:lnTo>
                    <a:pt x="111" y="437"/>
                  </a:lnTo>
                  <a:lnTo>
                    <a:pt x="123" y="438"/>
                  </a:lnTo>
                  <a:lnTo>
                    <a:pt x="135" y="439"/>
                  </a:lnTo>
                  <a:lnTo>
                    <a:pt x="147" y="439"/>
                  </a:lnTo>
                  <a:lnTo>
                    <a:pt x="156" y="439"/>
                  </a:lnTo>
                  <a:lnTo>
                    <a:pt x="165" y="438"/>
                  </a:lnTo>
                  <a:lnTo>
                    <a:pt x="172" y="436"/>
                  </a:lnTo>
                  <a:lnTo>
                    <a:pt x="179" y="434"/>
                  </a:lnTo>
                  <a:lnTo>
                    <a:pt x="179" y="410"/>
                  </a:lnTo>
                  <a:lnTo>
                    <a:pt x="180" y="390"/>
                  </a:lnTo>
                  <a:lnTo>
                    <a:pt x="181" y="369"/>
                  </a:lnTo>
                  <a:lnTo>
                    <a:pt x="182" y="351"/>
                  </a:lnTo>
                  <a:lnTo>
                    <a:pt x="184" y="333"/>
                  </a:lnTo>
                  <a:lnTo>
                    <a:pt x="186" y="316"/>
                  </a:lnTo>
                  <a:lnTo>
                    <a:pt x="189" y="299"/>
                  </a:lnTo>
                  <a:lnTo>
                    <a:pt x="194" y="281"/>
                  </a:lnTo>
                  <a:lnTo>
                    <a:pt x="203" y="292"/>
                  </a:lnTo>
                  <a:lnTo>
                    <a:pt x="214" y="304"/>
                  </a:lnTo>
                  <a:lnTo>
                    <a:pt x="226" y="316"/>
                  </a:lnTo>
                  <a:lnTo>
                    <a:pt x="238" y="328"/>
                  </a:lnTo>
                  <a:lnTo>
                    <a:pt x="250" y="339"/>
                  </a:lnTo>
                  <a:lnTo>
                    <a:pt x="262" y="351"/>
                  </a:lnTo>
                  <a:lnTo>
                    <a:pt x="275" y="362"/>
                  </a:lnTo>
                  <a:lnTo>
                    <a:pt x="288" y="374"/>
                  </a:lnTo>
                  <a:lnTo>
                    <a:pt x="300" y="384"/>
                  </a:lnTo>
                  <a:lnTo>
                    <a:pt x="310" y="395"/>
                  </a:lnTo>
                  <a:lnTo>
                    <a:pt x="320" y="407"/>
                  </a:lnTo>
                  <a:lnTo>
                    <a:pt x="329" y="418"/>
                  </a:lnTo>
                  <a:lnTo>
                    <a:pt x="336" y="428"/>
                  </a:lnTo>
                  <a:lnTo>
                    <a:pt x="341" y="438"/>
                  </a:lnTo>
                  <a:lnTo>
                    <a:pt x="346" y="449"/>
                  </a:lnTo>
                  <a:lnTo>
                    <a:pt x="347" y="458"/>
                  </a:lnTo>
                  <a:lnTo>
                    <a:pt x="378" y="457"/>
                  </a:lnTo>
                  <a:lnTo>
                    <a:pt x="410" y="454"/>
                  </a:lnTo>
                  <a:lnTo>
                    <a:pt x="443" y="449"/>
                  </a:lnTo>
                  <a:lnTo>
                    <a:pt x="478" y="441"/>
                  </a:lnTo>
                  <a:lnTo>
                    <a:pt x="514" y="434"/>
                  </a:lnTo>
                  <a:lnTo>
                    <a:pt x="550" y="426"/>
                  </a:lnTo>
                  <a:lnTo>
                    <a:pt x="588" y="418"/>
                  </a:lnTo>
                  <a:lnTo>
                    <a:pt x="624" y="410"/>
                  </a:lnTo>
                  <a:lnTo>
                    <a:pt x="661" y="404"/>
                  </a:lnTo>
                  <a:lnTo>
                    <a:pt x="698" y="398"/>
                  </a:lnTo>
                  <a:lnTo>
                    <a:pt x="733" y="395"/>
                  </a:lnTo>
                  <a:lnTo>
                    <a:pt x="767" y="394"/>
                  </a:lnTo>
                  <a:lnTo>
                    <a:pt x="802" y="396"/>
                  </a:lnTo>
                  <a:lnTo>
                    <a:pt x="833" y="400"/>
                  </a:lnTo>
                  <a:lnTo>
                    <a:pt x="864" y="409"/>
                  </a:lnTo>
                  <a:lnTo>
                    <a:pt x="892" y="422"/>
                  </a:lnTo>
                  <a:lnTo>
                    <a:pt x="896" y="422"/>
                  </a:lnTo>
                  <a:lnTo>
                    <a:pt x="900" y="414"/>
                  </a:lnTo>
                  <a:lnTo>
                    <a:pt x="904" y="407"/>
                  </a:lnTo>
                  <a:lnTo>
                    <a:pt x="909" y="406"/>
                  </a:lnTo>
                  <a:lnTo>
                    <a:pt x="914" y="384"/>
                  </a:lnTo>
                  <a:lnTo>
                    <a:pt x="918" y="365"/>
                  </a:lnTo>
                  <a:lnTo>
                    <a:pt x="922" y="349"/>
                  </a:lnTo>
                  <a:lnTo>
                    <a:pt x="925" y="334"/>
                  </a:lnTo>
                  <a:lnTo>
                    <a:pt x="926" y="320"/>
                  </a:lnTo>
                  <a:lnTo>
                    <a:pt x="928" y="306"/>
                  </a:lnTo>
                  <a:lnTo>
                    <a:pt x="928" y="292"/>
                  </a:lnTo>
                  <a:lnTo>
                    <a:pt x="928" y="278"/>
                  </a:lnTo>
                  <a:lnTo>
                    <a:pt x="916" y="266"/>
                  </a:lnTo>
                  <a:lnTo>
                    <a:pt x="901" y="251"/>
                  </a:lnTo>
                  <a:lnTo>
                    <a:pt x="883" y="235"/>
                  </a:lnTo>
                  <a:lnTo>
                    <a:pt x="864" y="220"/>
                  </a:lnTo>
                  <a:lnTo>
                    <a:pt x="842" y="206"/>
                  </a:lnTo>
                  <a:lnTo>
                    <a:pt x="822" y="195"/>
                  </a:lnTo>
                  <a:lnTo>
                    <a:pt x="803" y="188"/>
                  </a:lnTo>
                  <a:lnTo>
                    <a:pt x="785" y="184"/>
                  </a:lnTo>
                  <a:lnTo>
                    <a:pt x="771" y="179"/>
                  </a:lnTo>
                  <a:lnTo>
                    <a:pt x="757" y="169"/>
                  </a:lnTo>
                  <a:lnTo>
                    <a:pt x="744" y="154"/>
                  </a:lnTo>
                  <a:lnTo>
                    <a:pt x="730" y="137"/>
                  </a:lnTo>
                  <a:lnTo>
                    <a:pt x="717" y="119"/>
                  </a:lnTo>
                  <a:lnTo>
                    <a:pt x="704" y="102"/>
                  </a:lnTo>
                  <a:lnTo>
                    <a:pt x="693" y="85"/>
                  </a:lnTo>
                  <a:lnTo>
                    <a:pt x="682" y="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523" name="Freeform 147"/>
            <p:cNvSpPr/>
            <p:nvPr/>
          </p:nvSpPr>
          <p:spPr>
            <a:xfrm>
              <a:off x="5623920" y="5187240"/>
              <a:ext cx="86400" cy="50400"/>
            </a:xfrm>
            <a:custGeom>
              <a:avLst/>
              <a:gdLst>
                <a:gd name="textAreaLeft" fmla="*/ 0 w 86400"/>
                <a:gd name="textAreaRight" fmla="*/ 86760 w 86400"/>
                <a:gd name="textAreaTop" fmla="*/ 0 h 50400"/>
                <a:gd name="textAreaBottom" fmla="*/ 50760 h 50400"/>
              </a:gdLst>
              <a:ahLst/>
              <a:rect l="textAreaLeft" t="textAreaTop" r="textAreaRight" b="textAreaBottom"/>
              <a:pathLst>
                <a:path w="564" h="381">
                  <a:moveTo>
                    <a:pt x="146" y="46"/>
                  </a:moveTo>
                  <a:lnTo>
                    <a:pt x="146" y="46"/>
                  </a:lnTo>
                  <a:lnTo>
                    <a:pt x="152" y="46"/>
                  </a:lnTo>
                  <a:lnTo>
                    <a:pt x="159" y="46"/>
                  </a:lnTo>
                  <a:lnTo>
                    <a:pt x="169" y="46"/>
                  </a:lnTo>
                  <a:lnTo>
                    <a:pt x="178" y="46"/>
                  </a:lnTo>
                  <a:lnTo>
                    <a:pt x="188" y="45"/>
                  </a:lnTo>
                  <a:lnTo>
                    <a:pt x="197" y="44"/>
                  </a:lnTo>
                  <a:lnTo>
                    <a:pt x="204" y="43"/>
                  </a:lnTo>
                  <a:lnTo>
                    <a:pt x="209" y="39"/>
                  </a:lnTo>
                  <a:lnTo>
                    <a:pt x="212" y="35"/>
                  </a:lnTo>
                  <a:lnTo>
                    <a:pt x="212" y="31"/>
                  </a:lnTo>
                  <a:lnTo>
                    <a:pt x="210" y="26"/>
                  </a:lnTo>
                  <a:lnTo>
                    <a:pt x="209" y="19"/>
                  </a:lnTo>
                  <a:lnTo>
                    <a:pt x="207" y="14"/>
                  </a:lnTo>
                  <a:lnTo>
                    <a:pt x="205" y="8"/>
                  </a:lnTo>
                  <a:lnTo>
                    <a:pt x="205" y="3"/>
                  </a:lnTo>
                  <a:lnTo>
                    <a:pt x="206" y="0"/>
                  </a:lnTo>
                  <a:lnTo>
                    <a:pt x="227" y="1"/>
                  </a:lnTo>
                  <a:lnTo>
                    <a:pt x="248" y="1"/>
                  </a:lnTo>
                  <a:lnTo>
                    <a:pt x="270" y="2"/>
                  </a:lnTo>
                  <a:lnTo>
                    <a:pt x="292" y="4"/>
                  </a:lnTo>
                  <a:lnTo>
                    <a:pt x="314" y="5"/>
                  </a:lnTo>
                  <a:lnTo>
                    <a:pt x="336" y="8"/>
                  </a:lnTo>
                  <a:lnTo>
                    <a:pt x="357" y="12"/>
                  </a:lnTo>
                  <a:lnTo>
                    <a:pt x="377" y="16"/>
                  </a:lnTo>
                  <a:lnTo>
                    <a:pt x="398" y="21"/>
                  </a:lnTo>
                  <a:lnTo>
                    <a:pt x="416" y="28"/>
                  </a:lnTo>
                  <a:lnTo>
                    <a:pt x="434" y="36"/>
                  </a:lnTo>
                  <a:lnTo>
                    <a:pt x="449" y="46"/>
                  </a:lnTo>
                  <a:lnTo>
                    <a:pt x="464" y="57"/>
                  </a:lnTo>
                  <a:lnTo>
                    <a:pt x="476" y="69"/>
                  </a:lnTo>
                  <a:lnTo>
                    <a:pt x="487" y="83"/>
                  </a:lnTo>
                  <a:lnTo>
                    <a:pt x="494" y="100"/>
                  </a:lnTo>
                  <a:lnTo>
                    <a:pt x="498" y="110"/>
                  </a:lnTo>
                  <a:lnTo>
                    <a:pt x="503" y="118"/>
                  </a:lnTo>
                  <a:lnTo>
                    <a:pt x="505" y="126"/>
                  </a:lnTo>
                  <a:lnTo>
                    <a:pt x="508" y="135"/>
                  </a:lnTo>
                  <a:lnTo>
                    <a:pt x="510" y="145"/>
                  </a:lnTo>
                  <a:lnTo>
                    <a:pt x="511" y="156"/>
                  </a:lnTo>
                  <a:lnTo>
                    <a:pt x="513" y="170"/>
                  </a:lnTo>
                  <a:lnTo>
                    <a:pt x="514" y="186"/>
                  </a:lnTo>
                  <a:lnTo>
                    <a:pt x="521" y="206"/>
                  </a:lnTo>
                  <a:lnTo>
                    <a:pt x="528" y="230"/>
                  </a:lnTo>
                  <a:lnTo>
                    <a:pt x="537" y="254"/>
                  </a:lnTo>
                  <a:lnTo>
                    <a:pt x="545" y="279"/>
                  </a:lnTo>
                  <a:lnTo>
                    <a:pt x="553" y="303"/>
                  </a:lnTo>
                  <a:lnTo>
                    <a:pt x="558" y="322"/>
                  </a:lnTo>
                  <a:lnTo>
                    <a:pt x="563" y="338"/>
                  </a:lnTo>
                  <a:lnTo>
                    <a:pt x="564" y="347"/>
                  </a:lnTo>
                  <a:lnTo>
                    <a:pt x="563" y="358"/>
                  </a:lnTo>
                  <a:lnTo>
                    <a:pt x="560" y="366"/>
                  </a:lnTo>
                  <a:lnTo>
                    <a:pt x="558" y="371"/>
                  </a:lnTo>
                  <a:lnTo>
                    <a:pt x="556" y="373"/>
                  </a:lnTo>
                  <a:lnTo>
                    <a:pt x="553" y="375"/>
                  </a:lnTo>
                  <a:lnTo>
                    <a:pt x="549" y="376"/>
                  </a:lnTo>
                  <a:lnTo>
                    <a:pt x="543" y="379"/>
                  </a:lnTo>
                  <a:lnTo>
                    <a:pt x="537" y="381"/>
                  </a:lnTo>
                  <a:lnTo>
                    <a:pt x="531" y="381"/>
                  </a:lnTo>
                  <a:lnTo>
                    <a:pt x="525" y="380"/>
                  </a:lnTo>
                  <a:lnTo>
                    <a:pt x="520" y="377"/>
                  </a:lnTo>
                  <a:lnTo>
                    <a:pt x="516" y="373"/>
                  </a:lnTo>
                  <a:lnTo>
                    <a:pt x="510" y="369"/>
                  </a:lnTo>
                  <a:lnTo>
                    <a:pt x="506" y="362"/>
                  </a:lnTo>
                  <a:lnTo>
                    <a:pt x="502" y="354"/>
                  </a:lnTo>
                  <a:lnTo>
                    <a:pt x="497" y="344"/>
                  </a:lnTo>
                  <a:lnTo>
                    <a:pt x="484" y="336"/>
                  </a:lnTo>
                  <a:lnTo>
                    <a:pt x="468" y="328"/>
                  </a:lnTo>
                  <a:lnTo>
                    <a:pt x="450" y="321"/>
                  </a:lnTo>
                  <a:lnTo>
                    <a:pt x="430" y="314"/>
                  </a:lnTo>
                  <a:lnTo>
                    <a:pt x="406" y="309"/>
                  </a:lnTo>
                  <a:lnTo>
                    <a:pt x="383" y="305"/>
                  </a:lnTo>
                  <a:lnTo>
                    <a:pt x="356" y="303"/>
                  </a:lnTo>
                  <a:lnTo>
                    <a:pt x="329" y="301"/>
                  </a:lnTo>
                  <a:lnTo>
                    <a:pt x="322" y="301"/>
                  </a:lnTo>
                  <a:lnTo>
                    <a:pt x="314" y="301"/>
                  </a:lnTo>
                  <a:lnTo>
                    <a:pt x="307" y="301"/>
                  </a:lnTo>
                  <a:lnTo>
                    <a:pt x="298" y="303"/>
                  </a:lnTo>
                  <a:lnTo>
                    <a:pt x="290" y="303"/>
                  </a:lnTo>
                  <a:lnTo>
                    <a:pt x="281" y="304"/>
                  </a:lnTo>
                  <a:lnTo>
                    <a:pt x="271" y="306"/>
                  </a:lnTo>
                  <a:lnTo>
                    <a:pt x="261" y="308"/>
                  </a:lnTo>
                  <a:lnTo>
                    <a:pt x="264" y="304"/>
                  </a:lnTo>
                  <a:lnTo>
                    <a:pt x="268" y="299"/>
                  </a:lnTo>
                  <a:lnTo>
                    <a:pt x="274" y="296"/>
                  </a:lnTo>
                  <a:lnTo>
                    <a:pt x="279" y="292"/>
                  </a:lnTo>
                  <a:lnTo>
                    <a:pt x="282" y="288"/>
                  </a:lnTo>
                  <a:lnTo>
                    <a:pt x="284" y="282"/>
                  </a:lnTo>
                  <a:lnTo>
                    <a:pt x="284" y="277"/>
                  </a:lnTo>
                  <a:lnTo>
                    <a:pt x="280" y="269"/>
                  </a:lnTo>
                  <a:lnTo>
                    <a:pt x="267" y="265"/>
                  </a:lnTo>
                  <a:lnTo>
                    <a:pt x="252" y="260"/>
                  </a:lnTo>
                  <a:lnTo>
                    <a:pt x="236" y="252"/>
                  </a:lnTo>
                  <a:lnTo>
                    <a:pt x="218" y="245"/>
                  </a:lnTo>
                  <a:lnTo>
                    <a:pt x="200" y="238"/>
                  </a:lnTo>
                  <a:lnTo>
                    <a:pt x="179" y="231"/>
                  </a:lnTo>
                  <a:lnTo>
                    <a:pt x="160" y="226"/>
                  </a:lnTo>
                  <a:lnTo>
                    <a:pt x="141" y="221"/>
                  </a:lnTo>
                  <a:lnTo>
                    <a:pt x="123" y="223"/>
                  </a:lnTo>
                  <a:lnTo>
                    <a:pt x="104" y="230"/>
                  </a:lnTo>
                  <a:lnTo>
                    <a:pt x="86" y="237"/>
                  </a:lnTo>
                  <a:lnTo>
                    <a:pt x="69" y="247"/>
                  </a:lnTo>
                  <a:lnTo>
                    <a:pt x="52" y="254"/>
                  </a:lnTo>
                  <a:lnTo>
                    <a:pt x="35" y="259"/>
                  </a:lnTo>
                  <a:lnTo>
                    <a:pt x="17" y="260"/>
                  </a:lnTo>
                  <a:lnTo>
                    <a:pt x="0" y="253"/>
                  </a:lnTo>
                  <a:lnTo>
                    <a:pt x="2" y="224"/>
                  </a:lnTo>
                  <a:lnTo>
                    <a:pt x="14" y="198"/>
                  </a:lnTo>
                  <a:lnTo>
                    <a:pt x="34" y="174"/>
                  </a:lnTo>
                  <a:lnTo>
                    <a:pt x="60" y="153"/>
                  </a:lnTo>
                  <a:lnTo>
                    <a:pt x="86" y="135"/>
                  </a:lnTo>
                  <a:lnTo>
                    <a:pt x="114" y="120"/>
                  </a:lnTo>
                  <a:lnTo>
                    <a:pt x="139" y="107"/>
                  </a:lnTo>
                  <a:lnTo>
                    <a:pt x="157" y="97"/>
                  </a:lnTo>
                  <a:lnTo>
                    <a:pt x="157" y="93"/>
                  </a:lnTo>
                  <a:lnTo>
                    <a:pt x="157" y="90"/>
                  </a:lnTo>
                  <a:lnTo>
                    <a:pt x="156" y="88"/>
                  </a:lnTo>
                  <a:lnTo>
                    <a:pt x="156" y="85"/>
                  </a:lnTo>
                  <a:lnTo>
                    <a:pt x="155" y="81"/>
                  </a:lnTo>
                  <a:lnTo>
                    <a:pt x="153" y="74"/>
                  </a:lnTo>
                  <a:lnTo>
                    <a:pt x="149" y="63"/>
                  </a:lnTo>
                  <a:lnTo>
                    <a:pt x="146" y="4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ccecff"/>
                </a:solidFill>
                <a:latin typeface="Times New Roman"/>
              </a:endParaRPr>
            </a:p>
          </p:txBody>
        </p:sp>
        <p:sp>
          <p:nvSpPr>
            <p:cNvPr id="524" name="Freeform 148"/>
            <p:cNvSpPr/>
            <p:nvPr/>
          </p:nvSpPr>
          <p:spPr>
            <a:xfrm>
              <a:off x="5653440" y="5218920"/>
              <a:ext cx="289800" cy="29880"/>
            </a:xfrm>
            <a:custGeom>
              <a:avLst/>
              <a:gdLst>
                <a:gd name="textAreaLeft" fmla="*/ 0 w 289800"/>
                <a:gd name="textAreaRight" fmla="*/ 290160 w 289800"/>
                <a:gd name="textAreaTop" fmla="*/ 0 h 29880"/>
                <a:gd name="textAreaBottom" fmla="*/ 30240 h 29880"/>
              </a:gdLst>
              <a:ahLst/>
              <a:rect l="textAreaLeft" t="textAreaTop" r="textAreaRight" b="textAreaBottom"/>
              <a:pathLst>
                <a:path w="1896" h="226">
                  <a:moveTo>
                    <a:pt x="1174" y="0"/>
                  </a:moveTo>
                  <a:lnTo>
                    <a:pt x="1197" y="25"/>
                  </a:lnTo>
                  <a:lnTo>
                    <a:pt x="1218" y="48"/>
                  </a:lnTo>
                  <a:lnTo>
                    <a:pt x="1241" y="69"/>
                  </a:lnTo>
                  <a:lnTo>
                    <a:pt x="1261" y="89"/>
                  </a:lnTo>
                  <a:lnTo>
                    <a:pt x="1282" y="108"/>
                  </a:lnTo>
                  <a:lnTo>
                    <a:pt x="1300" y="127"/>
                  </a:lnTo>
                  <a:lnTo>
                    <a:pt x="1317" y="144"/>
                  </a:lnTo>
                  <a:lnTo>
                    <a:pt x="1332" y="162"/>
                  </a:lnTo>
                  <a:lnTo>
                    <a:pt x="1355" y="164"/>
                  </a:lnTo>
                  <a:lnTo>
                    <a:pt x="1377" y="164"/>
                  </a:lnTo>
                  <a:lnTo>
                    <a:pt x="1398" y="162"/>
                  </a:lnTo>
                  <a:lnTo>
                    <a:pt x="1420" y="159"/>
                  </a:lnTo>
                  <a:lnTo>
                    <a:pt x="1440" y="153"/>
                  </a:lnTo>
                  <a:lnTo>
                    <a:pt x="1460" y="148"/>
                  </a:lnTo>
                  <a:lnTo>
                    <a:pt x="1481" y="142"/>
                  </a:lnTo>
                  <a:lnTo>
                    <a:pt x="1501" y="133"/>
                  </a:lnTo>
                  <a:lnTo>
                    <a:pt x="1521" y="125"/>
                  </a:lnTo>
                  <a:lnTo>
                    <a:pt x="1542" y="117"/>
                  </a:lnTo>
                  <a:lnTo>
                    <a:pt x="1563" y="108"/>
                  </a:lnTo>
                  <a:lnTo>
                    <a:pt x="1584" y="100"/>
                  </a:lnTo>
                  <a:lnTo>
                    <a:pt x="1606" y="91"/>
                  </a:lnTo>
                  <a:lnTo>
                    <a:pt x="1629" y="84"/>
                  </a:lnTo>
                  <a:lnTo>
                    <a:pt x="1653" y="76"/>
                  </a:lnTo>
                  <a:lnTo>
                    <a:pt x="1678" y="70"/>
                  </a:lnTo>
                  <a:lnTo>
                    <a:pt x="1689" y="67"/>
                  </a:lnTo>
                  <a:lnTo>
                    <a:pt x="1703" y="64"/>
                  </a:lnTo>
                  <a:lnTo>
                    <a:pt x="1718" y="63"/>
                  </a:lnTo>
                  <a:lnTo>
                    <a:pt x="1733" y="62"/>
                  </a:lnTo>
                  <a:lnTo>
                    <a:pt x="1749" y="62"/>
                  </a:lnTo>
                  <a:lnTo>
                    <a:pt x="1765" y="63"/>
                  </a:lnTo>
                  <a:lnTo>
                    <a:pt x="1781" y="64"/>
                  </a:lnTo>
                  <a:lnTo>
                    <a:pt x="1799" y="68"/>
                  </a:lnTo>
                  <a:lnTo>
                    <a:pt x="1814" y="71"/>
                  </a:lnTo>
                  <a:lnTo>
                    <a:pt x="1830" y="76"/>
                  </a:lnTo>
                  <a:lnTo>
                    <a:pt x="1843" y="82"/>
                  </a:lnTo>
                  <a:lnTo>
                    <a:pt x="1857" y="88"/>
                  </a:lnTo>
                  <a:lnTo>
                    <a:pt x="1869" y="97"/>
                  </a:lnTo>
                  <a:lnTo>
                    <a:pt x="1880" y="106"/>
                  </a:lnTo>
                  <a:lnTo>
                    <a:pt x="1890" y="117"/>
                  </a:lnTo>
                  <a:lnTo>
                    <a:pt x="1896" y="129"/>
                  </a:lnTo>
                  <a:lnTo>
                    <a:pt x="1892" y="134"/>
                  </a:lnTo>
                  <a:lnTo>
                    <a:pt x="1886" y="140"/>
                  </a:lnTo>
                  <a:lnTo>
                    <a:pt x="1882" y="147"/>
                  </a:lnTo>
                  <a:lnTo>
                    <a:pt x="1879" y="154"/>
                  </a:lnTo>
                  <a:lnTo>
                    <a:pt x="1876" y="162"/>
                  </a:lnTo>
                  <a:lnTo>
                    <a:pt x="1873" y="171"/>
                  </a:lnTo>
                  <a:lnTo>
                    <a:pt x="1871" y="181"/>
                  </a:lnTo>
                  <a:lnTo>
                    <a:pt x="1871" y="192"/>
                  </a:lnTo>
                  <a:lnTo>
                    <a:pt x="1835" y="182"/>
                  </a:lnTo>
                  <a:lnTo>
                    <a:pt x="1799" y="175"/>
                  </a:lnTo>
                  <a:lnTo>
                    <a:pt x="1763" y="171"/>
                  </a:lnTo>
                  <a:lnTo>
                    <a:pt x="1728" y="170"/>
                  </a:lnTo>
                  <a:lnTo>
                    <a:pt x="1694" y="171"/>
                  </a:lnTo>
                  <a:lnTo>
                    <a:pt x="1659" y="175"/>
                  </a:lnTo>
                  <a:lnTo>
                    <a:pt x="1625" y="180"/>
                  </a:lnTo>
                  <a:lnTo>
                    <a:pt x="1591" y="185"/>
                  </a:lnTo>
                  <a:lnTo>
                    <a:pt x="1557" y="192"/>
                  </a:lnTo>
                  <a:lnTo>
                    <a:pt x="1523" y="198"/>
                  </a:lnTo>
                  <a:lnTo>
                    <a:pt x="1489" y="206"/>
                  </a:lnTo>
                  <a:lnTo>
                    <a:pt x="1456" y="212"/>
                  </a:lnTo>
                  <a:lnTo>
                    <a:pt x="1422" y="217"/>
                  </a:lnTo>
                  <a:lnTo>
                    <a:pt x="1389" y="222"/>
                  </a:lnTo>
                  <a:lnTo>
                    <a:pt x="1354" y="225"/>
                  </a:lnTo>
                  <a:lnTo>
                    <a:pt x="1320" y="226"/>
                  </a:lnTo>
                  <a:lnTo>
                    <a:pt x="1318" y="215"/>
                  </a:lnTo>
                  <a:lnTo>
                    <a:pt x="1313" y="204"/>
                  </a:lnTo>
                  <a:lnTo>
                    <a:pt x="1306" y="193"/>
                  </a:lnTo>
                  <a:lnTo>
                    <a:pt x="1298" y="181"/>
                  </a:lnTo>
                  <a:lnTo>
                    <a:pt x="1287" y="169"/>
                  </a:lnTo>
                  <a:lnTo>
                    <a:pt x="1276" y="159"/>
                  </a:lnTo>
                  <a:lnTo>
                    <a:pt x="1263" y="147"/>
                  </a:lnTo>
                  <a:lnTo>
                    <a:pt x="1250" y="135"/>
                  </a:lnTo>
                  <a:lnTo>
                    <a:pt x="1237" y="122"/>
                  </a:lnTo>
                  <a:lnTo>
                    <a:pt x="1224" y="110"/>
                  </a:lnTo>
                  <a:lnTo>
                    <a:pt x="1210" y="98"/>
                  </a:lnTo>
                  <a:lnTo>
                    <a:pt x="1197" y="85"/>
                  </a:lnTo>
                  <a:lnTo>
                    <a:pt x="1185" y="71"/>
                  </a:lnTo>
                  <a:lnTo>
                    <a:pt x="1173" y="57"/>
                  </a:lnTo>
                  <a:lnTo>
                    <a:pt x="1164" y="43"/>
                  </a:lnTo>
                  <a:lnTo>
                    <a:pt x="1155" y="28"/>
                  </a:lnTo>
                  <a:lnTo>
                    <a:pt x="1163" y="21"/>
                  </a:lnTo>
                  <a:lnTo>
                    <a:pt x="1167" y="14"/>
                  </a:lnTo>
                  <a:lnTo>
                    <a:pt x="1170" y="8"/>
                  </a:lnTo>
                  <a:lnTo>
                    <a:pt x="1174" y="0"/>
                  </a:lnTo>
                  <a:close/>
                  <a:moveTo>
                    <a:pt x="12" y="94"/>
                  </a:moveTo>
                  <a:lnTo>
                    <a:pt x="24" y="88"/>
                  </a:lnTo>
                  <a:lnTo>
                    <a:pt x="37" y="83"/>
                  </a:lnTo>
                  <a:lnTo>
                    <a:pt x="50" y="77"/>
                  </a:lnTo>
                  <a:lnTo>
                    <a:pt x="64" y="73"/>
                  </a:lnTo>
                  <a:lnTo>
                    <a:pt x="79" y="70"/>
                  </a:lnTo>
                  <a:lnTo>
                    <a:pt x="96" y="67"/>
                  </a:lnTo>
                  <a:lnTo>
                    <a:pt x="113" y="66"/>
                  </a:lnTo>
                  <a:lnTo>
                    <a:pt x="131" y="64"/>
                  </a:lnTo>
                  <a:lnTo>
                    <a:pt x="149" y="64"/>
                  </a:lnTo>
                  <a:lnTo>
                    <a:pt x="168" y="66"/>
                  </a:lnTo>
                  <a:lnTo>
                    <a:pt x="188" y="68"/>
                  </a:lnTo>
                  <a:lnTo>
                    <a:pt x="208" y="71"/>
                  </a:lnTo>
                  <a:lnTo>
                    <a:pt x="228" y="76"/>
                  </a:lnTo>
                  <a:lnTo>
                    <a:pt x="250" y="82"/>
                  </a:lnTo>
                  <a:lnTo>
                    <a:pt x="271" y="89"/>
                  </a:lnTo>
                  <a:lnTo>
                    <a:pt x="292" y="98"/>
                  </a:lnTo>
                  <a:lnTo>
                    <a:pt x="301" y="103"/>
                  </a:lnTo>
                  <a:lnTo>
                    <a:pt x="306" y="109"/>
                  </a:lnTo>
                  <a:lnTo>
                    <a:pt x="311" y="117"/>
                  </a:lnTo>
                  <a:lnTo>
                    <a:pt x="315" y="125"/>
                  </a:lnTo>
                  <a:lnTo>
                    <a:pt x="319" y="132"/>
                  </a:lnTo>
                  <a:lnTo>
                    <a:pt x="326" y="138"/>
                  </a:lnTo>
                  <a:lnTo>
                    <a:pt x="334" y="143"/>
                  </a:lnTo>
                  <a:lnTo>
                    <a:pt x="346" y="144"/>
                  </a:lnTo>
                  <a:lnTo>
                    <a:pt x="348" y="155"/>
                  </a:lnTo>
                  <a:lnTo>
                    <a:pt x="349" y="165"/>
                  </a:lnTo>
                  <a:lnTo>
                    <a:pt x="349" y="175"/>
                  </a:lnTo>
                  <a:lnTo>
                    <a:pt x="349" y="182"/>
                  </a:lnTo>
                  <a:lnTo>
                    <a:pt x="348" y="190"/>
                  </a:lnTo>
                  <a:lnTo>
                    <a:pt x="347" y="196"/>
                  </a:lnTo>
                  <a:lnTo>
                    <a:pt x="346" y="202"/>
                  </a:lnTo>
                  <a:lnTo>
                    <a:pt x="345" y="208"/>
                  </a:lnTo>
                  <a:lnTo>
                    <a:pt x="320" y="176"/>
                  </a:lnTo>
                  <a:lnTo>
                    <a:pt x="272" y="176"/>
                  </a:lnTo>
                  <a:lnTo>
                    <a:pt x="248" y="144"/>
                  </a:lnTo>
                  <a:lnTo>
                    <a:pt x="235" y="140"/>
                  </a:lnTo>
                  <a:lnTo>
                    <a:pt x="222" y="137"/>
                  </a:lnTo>
                  <a:lnTo>
                    <a:pt x="209" y="134"/>
                  </a:lnTo>
                  <a:lnTo>
                    <a:pt x="196" y="132"/>
                  </a:lnTo>
                  <a:lnTo>
                    <a:pt x="184" y="130"/>
                  </a:lnTo>
                  <a:lnTo>
                    <a:pt x="172" y="128"/>
                  </a:lnTo>
                  <a:lnTo>
                    <a:pt x="158" y="125"/>
                  </a:lnTo>
                  <a:lnTo>
                    <a:pt x="145" y="124"/>
                  </a:lnTo>
                  <a:lnTo>
                    <a:pt x="132" y="124"/>
                  </a:lnTo>
                  <a:lnTo>
                    <a:pt x="118" y="124"/>
                  </a:lnTo>
                  <a:lnTo>
                    <a:pt x="104" y="125"/>
                  </a:lnTo>
                  <a:lnTo>
                    <a:pt x="89" y="128"/>
                  </a:lnTo>
                  <a:lnTo>
                    <a:pt x="74" y="130"/>
                  </a:lnTo>
                  <a:lnTo>
                    <a:pt x="59" y="133"/>
                  </a:lnTo>
                  <a:lnTo>
                    <a:pt x="43" y="138"/>
                  </a:lnTo>
                  <a:lnTo>
                    <a:pt x="27" y="144"/>
                  </a:lnTo>
                  <a:lnTo>
                    <a:pt x="23" y="142"/>
                  </a:lnTo>
                  <a:lnTo>
                    <a:pt x="16" y="137"/>
                  </a:lnTo>
                  <a:lnTo>
                    <a:pt x="9" y="131"/>
                  </a:lnTo>
                  <a:lnTo>
                    <a:pt x="0" y="125"/>
                  </a:lnTo>
                  <a:lnTo>
                    <a:pt x="2" y="115"/>
                  </a:lnTo>
                  <a:lnTo>
                    <a:pt x="7" y="104"/>
                  </a:lnTo>
                  <a:lnTo>
                    <a:pt x="10" y="98"/>
                  </a:lnTo>
                  <a:lnTo>
                    <a:pt x="12" y="94"/>
                  </a:lnTo>
                  <a:close/>
                </a:path>
              </a:pathLst>
            </a:custGeom>
            <a:solidFill>
              <a:srgbClr val="ad8c29"/>
            </a:solidFill>
            <a:ln w="0">
              <a:noFill/>
            </a:ln>
          </p:spPr>
          <p:style>
            <a:lnRef idx="0"/>
            <a:fillRef idx="0"/>
            <a:effectRef idx="0"/>
            <a:fontRef idx="minor"/>
          </p:style>
          <p:txBody>
            <a:bodyPr lIns="90000" rIns="90000" tIns="-16560" bIns="-16560" anchor="t">
              <a:noAutofit/>
            </a:bodyPr>
            <a:p>
              <a:endParaRPr b="0" lang="en-US" sz="2400" spc="-1" strike="noStrike">
                <a:solidFill>
                  <a:srgbClr val="ccecff"/>
                </a:solidFill>
                <a:latin typeface="Times New Roman"/>
              </a:endParaRPr>
            </a:p>
          </p:txBody>
        </p:sp>
        <p:sp>
          <p:nvSpPr>
            <p:cNvPr id="525" name="Freeform 149"/>
            <p:cNvSpPr/>
            <p:nvPr/>
          </p:nvSpPr>
          <p:spPr>
            <a:xfrm>
              <a:off x="5829840" y="5218920"/>
              <a:ext cx="113760" cy="29880"/>
            </a:xfrm>
            <a:custGeom>
              <a:avLst/>
              <a:gdLst>
                <a:gd name="textAreaLeft" fmla="*/ 0 w 113760"/>
                <a:gd name="textAreaRight" fmla="*/ 114120 w 113760"/>
                <a:gd name="textAreaTop" fmla="*/ 0 h 29880"/>
                <a:gd name="textAreaBottom" fmla="*/ 30240 h 29880"/>
              </a:gdLst>
              <a:ahLst/>
              <a:rect l="textAreaLeft" t="textAreaTop" r="textAreaRight" b="textAreaBottom"/>
              <a:pathLst>
                <a:path w="741" h="226">
                  <a:moveTo>
                    <a:pt x="19" y="0"/>
                  </a:moveTo>
                  <a:lnTo>
                    <a:pt x="19" y="0"/>
                  </a:lnTo>
                  <a:lnTo>
                    <a:pt x="42" y="25"/>
                  </a:lnTo>
                  <a:lnTo>
                    <a:pt x="63" y="48"/>
                  </a:lnTo>
                  <a:lnTo>
                    <a:pt x="86" y="69"/>
                  </a:lnTo>
                  <a:lnTo>
                    <a:pt x="106" y="89"/>
                  </a:lnTo>
                  <a:lnTo>
                    <a:pt x="127" y="108"/>
                  </a:lnTo>
                  <a:lnTo>
                    <a:pt x="145" y="127"/>
                  </a:lnTo>
                  <a:lnTo>
                    <a:pt x="162" y="144"/>
                  </a:lnTo>
                  <a:lnTo>
                    <a:pt x="177" y="162"/>
                  </a:lnTo>
                  <a:lnTo>
                    <a:pt x="200" y="164"/>
                  </a:lnTo>
                  <a:lnTo>
                    <a:pt x="222" y="164"/>
                  </a:lnTo>
                  <a:lnTo>
                    <a:pt x="243" y="162"/>
                  </a:lnTo>
                  <a:lnTo>
                    <a:pt x="265" y="159"/>
                  </a:lnTo>
                  <a:lnTo>
                    <a:pt x="285" y="153"/>
                  </a:lnTo>
                  <a:lnTo>
                    <a:pt x="305" y="148"/>
                  </a:lnTo>
                  <a:lnTo>
                    <a:pt x="326" y="142"/>
                  </a:lnTo>
                  <a:lnTo>
                    <a:pt x="346" y="133"/>
                  </a:lnTo>
                  <a:lnTo>
                    <a:pt x="366" y="125"/>
                  </a:lnTo>
                  <a:lnTo>
                    <a:pt x="387" y="117"/>
                  </a:lnTo>
                  <a:lnTo>
                    <a:pt x="408" y="108"/>
                  </a:lnTo>
                  <a:lnTo>
                    <a:pt x="429" y="100"/>
                  </a:lnTo>
                  <a:lnTo>
                    <a:pt x="451" y="91"/>
                  </a:lnTo>
                  <a:lnTo>
                    <a:pt x="474" y="84"/>
                  </a:lnTo>
                  <a:lnTo>
                    <a:pt x="498" y="76"/>
                  </a:lnTo>
                  <a:lnTo>
                    <a:pt x="523" y="70"/>
                  </a:lnTo>
                  <a:lnTo>
                    <a:pt x="534" y="67"/>
                  </a:lnTo>
                  <a:lnTo>
                    <a:pt x="548" y="64"/>
                  </a:lnTo>
                  <a:lnTo>
                    <a:pt x="563" y="63"/>
                  </a:lnTo>
                  <a:lnTo>
                    <a:pt x="578" y="62"/>
                  </a:lnTo>
                  <a:lnTo>
                    <a:pt x="594" y="62"/>
                  </a:lnTo>
                  <a:lnTo>
                    <a:pt x="610" y="63"/>
                  </a:lnTo>
                  <a:lnTo>
                    <a:pt x="626" y="64"/>
                  </a:lnTo>
                  <a:lnTo>
                    <a:pt x="644" y="68"/>
                  </a:lnTo>
                  <a:lnTo>
                    <a:pt x="659" y="71"/>
                  </a:lnTo>
                  <a:lnTo>
                    <a:pt x="675" y="76"/>
                  </a:lnTo>
                  <a:lnTo>
                    <a:pt x="688" y="82"/>
                  </a:lnTo>
                  <a:lnTo>
                    <a:pt x="702" y="88"/>
                  </a:lnTo>
                  <a:lnTo>
                    <a:pt x="714" y="97"/>
                  </a:lnTo>
                  <a:lnTo>
                    <a:pt x="725" y="106"/>
                  </a:lnTo>
                  <a:lnTo>
                    <a:pt x="735" y="117"/>
                  </a:lnTo>
                  <a:lnTo>
                    <a:pt x="741" y="129"/>
                  </a:lnTo>
                  <a:lnTo>
                    <a:pt x="737" y="134"/>
                  </a:lnTo>
                  <a:lnTo>
                    <a:pt x="731" y="140"/>
                  </a:lnTo>
                  <a:lnTo>
                    <a:pt x="727" y="147"/>
                  </a:lnTo>
                  <a:lnTo>
                    <a:pt x="724" y="154"/>
                  </a:lnTo>
                  <a:lnTo>
                    <a:pt x="721" y="162"/>
                  </a:lnTo>
                  <a:lnTo>
                    <a:pt x="718" y="171"/>
                  </a:lnTo>
                  <a:lnTo>
                    <a:pt x="716" y="181"/>
                  </a:lnTo>
                  <a:lnTo>
                    <a:pt x="716" y="192"/>
                  </a:lnTo>
                  <a:lnTo>
                    <a:pt x="680" y="182"/>
                  </a:lnTo>
                  <a:lnTo>
                    <a:pt x="644" y="175"/>
                  </a:lnTo>
                  <a:lnTo>
                    <a:pt x="608" y="171"/>
                  </a:lnTo>
                  <a:lnTo>
                    <a:pt x="573" y="170"/>
                  </a:lnTo>
                  <a:lnTo>
                    <a:pt x="539" y="171"/>
                  </a:lnTo>
                  <a:lnTo>
                    <a:pt x="504" y="175"/>
                  </a:lnTo>
                  <a:lnTo>
                    <a:pt x="470" y="180"/>
                  </a:lnTo>
                  <a:lnTo>
                    <a:pt x="436" y="185"/>
                  </a:lnTo>
                  <a:lnTo>
                    <a:pt x="402" y="192"/>
                  </a:lnTo>
                  <a:lnTo>
                    <a:pt x="368" y="198"/>
                  </a:lnTo>
                  <a:lnTo>
                    <a:pt x="334" y="206"/>
                  </a:lnTo>
                  <a:lnTo>
                    <a:pt x="301" y="212"/>
                  </a:lnTo>
                  <a:lnTo>
                    <a:pt x="267" y="217"/>
                  </a:lnTo>
                  <a:lnTo>
                    <a:pt x="234" y="222"/>
                  </a:lnTo>
                  <a:lnTo>
                    <a:pt x="199" y="225"/>
                  </a:lnTo>
                  <a:lnTo>
                    <a:pt x="165" y="226"/>
                  </a:lnTo>
                  <a:lnTo>
                    <a:pt x="163" y="215"/>
                  </a:lnTo>
                  <a:lnTo>
                    <a:pt x="158" y="204"/>
                  </a:lnTo>
                  <a:lnTo>
                    <a:pt x="151" y="193"/>
                  </a:lnTo>
                  <a:lnTo>
                    <a:pt x="143" y="181"/>
                  </a:lnTo>
                  <a:lnTo>
                    <a:pt x="132" y="169"/>
                  </a:lnTo>
                  <a:lnTo>
                    <a:pt x="121" y="159"/>
                  </a:lnTo>
                  <a:lnTo>
                    <a:pt x="108" y="147"/>
                  </a:lnTo>
                  <a:lnTo>
                    <a:pt x="95" y="135"/>
                  </a:lnTo>
                  <a:lnTo>
                    <a:pt x="82" y="122"/>
                  </a:lnTo>
                  <a:lnTo>
                    <a:pt x="69" y="110"/>
                  </a:lnTo>
                  <a:lnTo>
                    <a:pt x="55" y="98"/>
                  </a:lnTo>
                  <a:lnTo>
                    <a:pt x="42" y="85"/>
                  </a:lnTo>
                  <a:lnTo>
                    <a:pt x="30" y="71"/>
                  </a:lnTo>
                  <a:lnTo>
                    <a:pt x="18" y="57"/>
                  </a:lnTo>
                  <a:lnTo>
                    <a:pt x="9" y="43"/>
                  </a:lnTo>
                  <a:lnTo>
                    <a:pt x="0" y="28"/>
                  </a:lnTo>
                  <a:lnTo>
                    <a:pt x="8" y="21"/>
                  </a:lnTo>
                  <a:lnTo>
                    <a:pt x="12" y="14"/>
                  </a:lnTo>
                  <a:lnTo>
                    <a:pt x="15" y="8"/>
                  </a:lnTo>
                  <a:lnTo>
                    <a:pt x="19"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ccecff"/>
                </a:solidFill>
                <a:latin typeface="Times New Roman"/>
              </a:endParaRPr>
            </a:p>
          </p:txBody>
        </p:sp>
        <p:sp>
          <p:nvSpPr>
            <p:cNvPr id="526" name="Freeform 150"/>
            <p:cNvSpPr/>
            <p:nvPr/>
          </p:nvSpPr>
          <p:spPr>
            <a:xfrm>
              <a:off x="5653440" y="5227560"/>
              <a:ext cx="52920" cy="18720"/>
            </a:xfrm>
            <a:custGeom>
              <a:avLst/>
              <a:gdLst>
                <a:gd name="textAreaLeft" fmla="*/ 0 w 52920"/>
                <a:gd name="textAreaRight" fmla="*/ 53280 w 52920"/>
                <a:gd name="textAreaTop" fmla="*/ 0 h 18720"/>
                <a:gd name="textAreaBottom" fmla="*/ 19080 h 18720"/>
              </a:gdLst>
              <a:ahLst/>
              <a:rect l="textAreaLeft" t="textAreaTop" r="textAreaRight" b="textAreaBottom"/>
              <a:pathLst>
                <a:path w="349" h="144">
                  <a:moveTo>
                    <a:pt x="12" y="30"/>
                  </a:moveTo>
                  <a:lnTo>
                    <a:pt x="12" y="30"/>
                  </a:lnTo>
                  <a:lnTo>
                    <a:pt x="24" y="24"/>
                  </a:lnTo>
                  <a:lnTo>
                    <a:pt x="37" y="19"/>
                  </a:lnTo>
                  <a:lnTo>
                    <a:pt x="50" y="13"/>
                  </a:lnTo>
                  <a:lnTo>
                    <a:pt x="64" y="9"/>
                  </a:lnTo>
                  <a:lnTo>
                    <a:pt x="79" y="6"/>
                  </a:lnTo>
                  <a:lnTo>
                    <a:pt x="96" y="3"/>
                  </a:lnTo>
                  <a:lnTo>
                    <a:pt x="113" y="2"/>
                  </a:lnTo>
                  <a:lnTo>
                    <a:pt x="131" y="0"/>
                  </a:lnTo>
                  <a:lnTo>
                    <a:pt x="149" y="0"/>
                  </a:lnTo>
                  <a:lnTo>
                    <a:pt x="168" y="2"/>
                  </a:lnTo>
                  <a:lnTo>
                    <a:pt x="188" y="4"/>
                  </a:lnTo>
                  <a:lnTo>
                    <a:pt x="208" y="7"/>
                  </a:lnTo>
                  <a:lnTo>
                    <a:pt x="228" y="12"/>
                  </a:lnTo>
                  <a:lnTo>
                    <a:pt x="250" y="18"/>
                  </a:lnTo>
                  <a:lnTo>
                    <a:pt x="271" y="25"/>
                  </a:lnTo>
                  <a:lnTo>
                    <a:pt x="292" y="34"/>
                  </a:lnTo>
                  <a:lnTo>
                    <a:pt x="301" y="39"/>
                  </a:lnTo>
                  <a:lnTo>
                    <a:pt x="306" y="45"/>
                  </a:lnTo>
                  <a:lnTo>
                    <a:pt x="311" y="53"/>
                  </a:lnTo>
                  <a:lnTo>
                    <a:pt x="315" y="61"/>
                  </a:lnTo>
                  <a:lnTo>
                    <a:pt x="319" y="68"/>
                  </a:lnTo>
                  <a:lnTo>
                    <a:pt x="326" y="74"/>
                  </a:lnTo>
                  <a:lnTo>
                    <a:pt x="334" y="79"/>
                  </a:lnTo>
                  <a:lnTo>
                    <a:pt x="346" y="80"/>
                  </a:lnTo>
                  <a:lnTo>
                    <a:pt x="348" y="91"/>
                  </a:lnTo>
                  <a:lnTo>
                    <a:pt x="349" y="101"/>
                  </a:lnTo>
                  <a:lnTo>
                    <a:pt x="349" y="111"/>
                  </a:lnTo>
                  <a:lnTo>
                    <a:pt x="349" y="118"/>
                  </a:lnTo>
                  <a:lnTo>
                    <a:pt x="348" y="126"/>
                  </a:lnTo>
                  <a:lnTo>
                    <a:pt x="347" y="132"/>
                  </a:lnTo>
                  <a:lnTo>
                    <a:pt x="346" y="138"/>
                  </a:lnTo>
                  <a:lnTo>
                    <a:pt x="345" y="144"/>
                  </a:lnTo>
                  <a:lnTo>
                    <a:pt x="320" y="112"/>
                  </a:lnTo>
                  <a:lnTo>
                    <a:pt x="272" y="112"/>
                  </a:lnTo>
                  <a:lnTo>
                    <a:pt x="248" y="80"/>
                  </a:lnTo>
                  <a:lnTo>
                    <a:pt x="235" y="76"/>
                  </a:lnTo>
                  <a:lnTo>
                    <a:pt x="222" y="73"/>
                  </a:lnTo>
                  <a:lnTo>
                    <a:pt x="209" y="70"/>
                  </a:lnTo>
                  <a:lnTo>
                    <a:pt x="196" y="68"/>
                  </a:lnTo>
                  <a:lnTo>
                    <a:pt x="184" y="66"/>
                  </a:lnTo>
                  <a:lnTo>
                    <a:pt x="172" y="64"/>
                  </a:lnTo>
                  <a:lnTo>
                    <a:pt x="158" y="61"/>
                  </a:lnTo>
                  <a:lnTo>
                    <a:pt x="145" y="60"/>
                  </a:lnTo>
                  <a:lnTo>
                    <a:pt x="132" y="60"/>
                  </a:lnTo>
                  <a:lnTo>
                    <a:pt x="118" y="60"/>
                  </a:lnTo>
                  <a:lnTo>
                    <a:pt x="104" y="61"/>
                  </a:lnTo>
                  <a:lnTo>
                    <a:pt x="89" y="64"/>
                  </a:lnTo>
                  <a:lnTo>
                    <a:pt x="74" y="66"/>
                  </a:lnTo>
                  <a:lnTo>
                    <a:pt x="59" y="69"/>
                  </a:lnTo>
                  <a:lnTo>
                    <a:pt x="43" y="74"/>
                  </a:lnTo>
                  <a:lnTo>
                    <a:pt x="27" y="80"/>
                  </a:lnTo>
                  <a:lnTo>
                    <a:pt x="23" y="78"/>
                  </a:lnTo>
                  <a:lnTo>
                    <a:pt x="16" y="73"/>
                  </a:lnTo>
                  <a:lnTo>
                    <a:pt x="9" y="67"/>
                  </a:lnTo>
                  <a:lnTo>
                    <a:pt x="0" y="61"/>
                  </a:lnTo>
                  <a:lnTo>
                    <a:pt x="2" y="51"/>
                  </a:lnTo>
                  <a:lnTo>
                    <a:pt x="7" y="40"/>
                  </a:lnTo>
                  <a:lnTo>
                    <a:pt x="10" y="34"/>
                  </a:lnTo>
                  <a:lnTo>
                    <a:pt x="12" y="3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ccecff"/>
                </a:solidFill>
                <a:latin typeface="Times New Roman"/>
              </a:endParaRPr>
            </a:p>
          </p:txBody>
        </p:sp>
        <p:sp>
          <p:nvSpPr>
            <p:cNvPr id="527" name="Freeform 151"/>
            <p:cNvSpPr/>
            <p:nvPr/>
          </p:nvSpPr>
          <p:spPr>
            <a:xfrm>
              <a:off x="5481000" y="4471200"/>
              <a:ext cx="148320" cy="60840"/>
            </a:xfrm>
            <a:custGeom>
              <a:avLst/>
              <a:gdLst>
                <a:gd name="textAreaLeft" fmla="*/ 0 w 148320"/>
                <a:gd name="textAreaRight" fmla="*/ 148680 w 148320"/>
                <a:gd name="textAreaTop" fmla="*/ 0 h 60840"/>
                <a:gd name="textAreaBottom" fmla="*/ 61200 h 60840"/>
              </a:gdLst>
              <a:ahLst/>
              <a:rect l="textAreaLeft" t="textAreaTop" r="textAreaRight" b="textAreaBottom"/>
              <a:pathLst>
                <a:path w="970" h="464">
                  <a:moveTo>
                    <a:pt x="894" y="20"/>
                  </a:moveTo>
                  <a:lnTo>
                    <a:pt x="879" y="33"/>
                  </a:lnTo>
                  <a:lnTo>
                    <a:pt x="864" y="42"/>
                  </a:lnTo>
                  <a:lnTo>
                    <a:pt x="849" y="47"/>
                  </a:lnTo>
                  <a:lnTo>
                    <a:pt x="835" y="49"/>
                  </a:lnTo>
                  <a:lnTo>
                    <a:pt x="821" y="50"/>
                  </a:lnTo>
                  <a:lnTo>
                    <a:pt x="807" y="49"/>
                  </a:lnTo>
                  <a:lnTo>
                    <a:pt x="793" y="47"/>
                  </a:lnTo>
                  <a:lnTo>
                    <a:pt x="779" y="45"/>
                  </a:lnTo>
                  <a:lnTo>
                    <a:pt x="781" y="37"/>
                  </a:lnTo>
                  <a:lnTo>
                    <a:pt x="781" y="30"/>
                  </a:lnTo>
                  <a:lnTo>
                    <a:pt x="778" y="22"/>
                  </a:lnTo>
                  <a:lnTo>
                    <a:pt x="775" y="15"/>
                  </a:lnTo>
                  <a:lnTo>
                    <a:pt x="776" y="25"/>
                  </a:lnTo>
                  <a:lnTo>
                    <a:pt x="776" y="33"/>
                  </a:lnTo>
                  <a:lnTo>
                    <a:pt x="775" y="40"/>
                  </a:lnTo>
                  <a:lnTo>
                    <a:pt x="772" y="43"/>
                  </a:lnTo>
                  <a:lnTo>
                    <a:pt x="762" y="45"/>
                  </a:lnTo>
                  <a:lnTo>
                    <a:pt x="755" y="46"/>
                  </a:lnTo>
                  <a:lnTo>
                    <a:pt x="747" y="48"/>
                  </a:lnTo>
                  <a:lnTo>
                    <a:pt x="740" y="49"/>
                  </a:lnTo>
                  <a:lnTo>
                    <a:pt x="732" y="49"/>
                  </a:lnTo>
                  <a:lnTo>
                    <a:pt x="724" y="49"/>
                  </a:lnTo>
                  <a:lnTo>
                    <a:pt x="713" y="47"/>
                  </a:lnTo>
                  <a:lnTo>
                    <a:pt x="701" y="44"/>
                  </a:lnTo>
                  <a:lnTo>
                    <a:pt x="697" y="41"/>
                  </a:lnTo>
                  <a:lnTo>
                    <a:pt x="693" y="36"/>
                  </a:lnTo>
                  <a:lnTo>
                    <a:pt x="690" y="31"/>
                  </a:lnTo>
                  <a:lnTo>
                    <a:pt x="686" y="25"/>
                  </a:lnTo>
                  <a:lnTo>
                    <a:pt x="683" y="18"/>
                  </a:lnTo>
                  <a:lnTo>
                    <a:pt x="680" y="12"/>
                  </a:lnTo>
                  <a:lnTo>
                    <a:pt x="677" y="5"/>
                  </a:lnTo>
                  <a:lnTo>
                    <a:pt x="675" y="0"/>
                  </a:lnTo>
                  <a:lnTo>
                    <a:pt x="671" y="9"/>
                  </a:lnTo>
                  <a:lnTo>
                    <a:pt x="669" y="17"/>
                  </a:lnTo>
                  <a:lnTo>
                    <a:pt x="668" y="26"/>
                  </a:lnTo>
                  <a:lnTo>
                    <a:pt x="667" y="34"/>
                  </a:lnTo>
                  <a:lnTo>
                    <a:pt x="665" y="43"/>
                  </a:lnTo>
                  <a:lnTo>
                    <a:pt x="660" y="52"/>
                  </a:lnTo>
                  <a:lnTo>
                    <a:pt x="652" y="62"/>
                  </a:lnTo>
                  <a:lnTo>
                    <a:pt x="639" y="74"/>
                  </a:lnTo>
                  <a:lnTo>
                    <a:pt x="646" y="70"/>
                  </a:lnTo>
                  <a:lnTo>
                    <a:pt x="652" y="66"/>
                  </a:lnTo>
                  <a:lnTo>
                    <a:pt x="657" y="64"/>
                  </a:lnTo>
                  <a:lnTo>
                    <a:pt x="662" y="62"/>
                  </a:lnTo>
                  <a:lnTo>
                    <a:pt x="666" y="59"/>
                  </a:lnTo>
                  <a:lnTo>
                    <a:pt x="670" y="56"/>
                  </a:lnTo>
                  <a:lnTo>
                    <a:pt x="673" y="52"/>
                  </a:lnTo>
                  <a:lnTo>
                    <a:pt x="677" y="47"/>
                  </a:lnTo>
                  <a:lnTo>
                    <a:pt x="686" y="52"/>
                  </a:lnTo>
                  <a:lnTo>
                    <a:pt x="698" y="56"/>
                  </a:lnTo>
                  <a:lnTo>
                    <a:pt x="711" y="59"/>
                  </a:lnTo>
                  <a:lnTo>
                    <a:pt x="725" y="59"/>
                  </a:lnTo>
                  <a:lnTo>
                    <a:pt x="739" y="59"/>
                  </a:lnTo>
                  <a:lnTo>
                    <a:pt x="752" y="56"/>
                  </a:lnTo>
                  <a:lnTo>
                    <a:pt x="763" y="52"/>
                  </a:lnTo>
                  <a:lnTo>
                    <a:pt x="774" y="47"/>
                  </a:lnTo>
                  <a:lnTo>
                    <a:pt x="788" y="52"/>
                  </a:lnTo>
                  <a:lnTo>
                    <a:pt x="803" y="56"/>
                  </a:lnTo>
                  <a:lnTo>
                    <a:pt x="819" y="57"/>
                  </a:lnTo>
                  <a:lnTo>
                    <a:pt x="833" y="57"/>
                  </a:lnTo>
                  <a:lnTo>
                    <a:pt x="847" y="55"/>
                  </a:lnTo>
                  <a:lnTo>
                    <a:pt x="859" y="51"/>
                  </a:lnTo>
                  <a:lnTo>
                    <a:pt x="868" y="47"/>
                  </a:lnTo>
                  <a:lnTo>
                    <a:pt x="875" y="43"/>
                  </a:lnTo>
                  <a:lnTo>
                    <a:pt x="882" y="37"/>
                  </a:lnTo>
                  <a:lnTo>
                    <a:pt x="888" y="32"/>
                  </a:lnTo>
                  <a:lnTo>
                    <a:pt x="892" y="27"/>
                  </a:lnTo>
                  <a:lnTo>
                    <a:pt x="894" y="20"/>
                  </a:lnTo>
                  <a:close/>
                  <a:moveTo>
                    <a:pt x="970" y="239"/>
                  </a:moveTo>
                  <a:lnTo>
                    <a:pt x="967" y="249"/>
                  </a:lnTo>
                  <a:lnTo>
                    <a:pt x="962" y="259"/>
                  </a:lnTo>
                  <a:lnTo>
                    <a:pt x="955" y="265"/>
                  </a:lnTo>
                  <a:lnTo>
                    <a:pt x="945" y="270"/>
                  </a:lnTo>
                  <a:lnTo>
                    <a:pt x="939" y="272"/>
                  </a:lnTo>
                  <a:lnTo>
                    <a:pt x="935" y="272"/>
                  </a:lnTo>
                  <a:lnTo>
                    <a:pt x="930" y="270"/>
                  </a:lnTo>
                  <a:lnTo>
                    <a:pt x="925" y="266"/>
                  </a:lnTo>
                  <a:lnTo>
                    <a:pt x="920" y="263"/>
                  </a:lnTo>
                  <a:lnTo>
                    <a:pt x="914" y="261"/>
                  </a:lnTo>
                  <a:lnTo>
                    <a:pt x="909" y="259"/>
                  </a:lnTo>
                  <a:lnTo>
                    <a:pt x="905" y="257"/>
                  </a:lnTo>
                  <a:lnTo>
                    <a:pt x="900" y="255"/>
                  </a:lnTo>
                  <a:lnTo>
                    <a:pt x="896" y="251"/>
                  </a:lnTo>
                  <a:lnTo>
                    <a:pt x="892" y="248"/>
                  </a:lnTo>
                  <a:lnTo>
                    <a:pt x="889" y="243"/>
                  </a:lnTo>
                  <a:lnTo>
                    <a:pt x="879" y="236"/>
                  </a:lnTo>
                  <a:lnTo>
                    <a:pt x="869" y="231"/>
                  </a:lnTo>
                  <a:lnTo>
                    <a:pt x="860" y="227"/>
                  </a:lnTo>
                  <a:lnTo>
                    <a:pt x="850" y="222"/>
                  </a:lnTo>
                  <a:lnTo>
                    <a:pt x="840" y="218"/>
                  </a:lnTo>
                  <a:lnTo>
                    <a:pt x="830" y="215"/>
                  </a:lnTo>
                  <a:lnTo>
                    <a:pt x="819" y="212"/>
                  </a:lnTo>
                  <a:lnTo>
                    <a:pt x="807" y="209"/>
                  </a:lnTo>
                  <a:lnTo>
                    <a:pt x="802" y="205"/>
                  </a:lnTo>
                  <a:lnTo>
                    <a:pt x="797" y="203"/>
                  </a:lnTo>
                  <a:lnTo>
                    <a:pt x="790" y="200"/>
                  </a:lnTo>
                  <a:lnTo>
                    <a:pt x="785" y="198"/>
                  </a:lnTo>
                  <a:lnTo>
                    <a:pt x="779" y="196"/>
                  </a:lnTo>
                  <a:lnTo>
                    <a:pt x="774" y="194"/>
                  </a:lnTo>
                  <a:lnTo>
                    <a:pt x="768" y="190"/>
                  </a:lnTo>
                  <a:lnTo>
                    <a:pt x="762" y="188"/>
                  </a:lnTo>
                  <a:lnTo>
                    <a:pt x="756" y="185"/>
                  </a:lnTo>
                  <a:lnTo>
                    <a:pt x="749" y="181"/>
                  </a:lnTo>
                  <a:lnTo>
                    <a:pt x="742" y="176"/>
                  </a:lnTo>
                  <a:lnTo>
                    <a:pt x="735" y="171"/>
                  </a:lnTo>
                  <a:lnTo>
                    <a:pt x="726" y="168"/>
                  </a:lnTo>
                  <a:lnTo>
                    <a:pt x="717" y="164"/>
                  </a:lnTo>
                  <a:lnTo>
                    <a:pt x="709" y="162"/>
                  </a:lnTo>
                  <a:lnTo>
                    <a:pt x="700" y="160"/>
                  </a:lnTo>
                  <a:lnTo>
                    <a:pt x="679" y="162"/>
                  </a:lnTo>
                  <a:lnTo>
                    <a:pt x="659" y="163"/>
                  </a:lnTo>
                  <a:lnTo>
                    <a:pt x="639" y="164"/>
                  </a:lnTo>
                  <a:lnTo>
                    <a:pt x="621" y="166"/>
                  </a:lnTo>
                  <a:lnTo>
                    <a:pt x="603" y="166"/>
                  </a:lnTo>
                  <a:lnTo>
                    <a:pt x="585" y="166"/>
                  </a:lnTo>
                  <a:lnTo>
                    <a:pt x="564" y="163"/>
                  </a:lnTo>
                  <a:lnTo>
                    <a:pt x="542" y="158"/>
                  </a:lnTo>
                  <a:lnTo>
                    <a:pt x="543" y="153"/>
                  </a:lnTo>
                  <a:lnTo>
                    <a:pt x="544" y="148"/>
                  </a:lnTo>
                  <a:lnTo>
                    <a:pt x="545" y="142"/>
                  </a:lnTo>
                  <a:lnTo>
                    <a:pt x="546" y="138"/>
                  </a:lnTo>
                  <a:lnTo>
                    <a:pt x="548" y="133"/>
                  </a:lnTo>
                  <a:lnTo>
                    <a:pt x="551" y="127"/>
                  </a:lnTo>
                  <a:lnTo>
                    <a:pt x="556" y="121"/>
                  </a:lnTo>
                  <a:lnTo>
                    <a:pt x="562" y="114"/>
                  </a:lnTo>
                  <a:lnTo>
                    <a:pt x="573" y="125"/>
                  </a:lnTo>
                  <a:lnTo>
                    <a:pt x="581" y="132"/>
                  </a:lnTo>
                  <a:lnTo>
                    <a:pt x="589" y="135"/>
                  </a:lnTo>
                  <a:lnTo>
                    <a:pt x="596" y="136"/>
                  </a:lnTo>
                  <a:lnTo>
                    <a:pt x="605" y="136"/>
                  </a:lnTo>
                  <a:lnTo>
                    <a:pt x="615" y="136"/>
                  </a:lnTo>
                  <a:lnTo>
                    <a:pt x="626" y="136"/>
                  </a:lnTo>
                  <a:lnTo>
                    <a:pt x="640" y="137"/>
                  </a:lnTo>
                  <a:lnTo>
                    <a:pt x="644" y="132"/>
                  </a:lnTo>
                  <a:lnTo>
                    <a:pt x="646" y="126"/>
                  </a:lnTo>
                  <a:lnTo>
                    <a:pt x="647" y="121"/>
                  </a:lnTo>
                  <a:lnTo>
                    <a:pt x="649" y="118"/>
                  </a:lnTo>
                  <a:lnTo>
                    <a:pt x="652" y="114"/>
                  </a:lnTo>
                  <a:lnTo>
                    <a:pt x="660" y="112"/>
                  </a:lnTo>
                  <a:lnTo>
                    <a:pt x="669" y="110"/>
                  </a:lnTo>
                  <a:lnTo>
                    <a:pt x="685" y="110"/>
                  </a:lnTo>
                  <a:lnTo>
                    <a:pt x="698" y="112"/>
                  </a:lnTo>
                  <a:lnTo>
                    <a:pt x="705" y="118"/>
                  </a:lnTo>
                  <a:lnTo>
                    <a:pt x="705" y="124"/>
                  </a:lnTo>
                  <a:lnTo>
                    <a:pt x="702" y="132"/>
                  </a:lnTo>
                  <a:lnTo>
                    <a:pt x="699" y="139"/>
                  </a:lnTo>
                  <a:lnTo>
                    <a:pt x="696" y="147"/>
                  </a:lnTo>
                  <a:lnTo>
                    <a:pt x="696" y="154"/>
                  </a:lnTo>
                  <a:lnTo>
                    <a:pt x="700" y="158"/>
                  </a:lnTo>
                  <a:lnTo>
                    <a:pt x="711" y="157"/>
                  </a:lnTo>
                  <a:lnTo>
                    <a:pt x="722" y="157"/>
                  </a:lnTo>
                  <a:lnTo>
                    <a:pt x="733" y="158"/>
                  </a:lnTo>
                  <a:lnTo>
                    <a:pt x="745" y="160"/>
                  </a:lnTo>
                  <a:lnTo>
                    <a:pt x="757" y="163"/>
                  </a:lnTo>
                  <a:lnTo>
                    <a:pt x="769" y="167"/>
                  </a:lnTo>
                  <a:lnTo>
                    <a:pt x="782" y="170"/>
                  </a:lnTo>
                  <a:lnTo>
                    <a:pt x="793" y="174"/>
                  </a:lnTo>
                  <a:lnTo>
                    <a:pt x="806" y="180"/>
                  </a:lnTo>
                  <a:lnTo>
                    <a:pt x="818" y="184"/>
                  </a:lnTo>
                  <a:lnTo>
                    <a:pt x="831" y="188"/>
                  </a:lnTo>
                  <a:lnTo>
                    <a:pt x="843" y="193"/>
                  </a:lnTo>
                  <a:lnTo>
                    <a:pt x="854" y="197"/>
                  </a:lnTo>
                  <a:lnTo>
                    <a:pt x="865" y="200"/>
                  </a:lnTo>
                  <a:lnTo>
                    <a:pt x="876" y="202"/>
                  </a:lnTo>
                  <a:lnTo>
                    <a:pt x="886" y="204"/>
                  </a:lnTo>
                  <a:lnTo>
                    <a:pt x="897" y="217"/>
                  </a:lnTo>
                  <a:lnTo>
                    <a:pt x="909" y="228"/>
                  </a:lnTo>
                  <a:lnTo>
                    <a:pt x="920" y="239"/>
                  </a:lnTo>
                  <a:lnTo>
                    <a:pt x="931" y="245"/>
                  </a:lnTo>
                  <a:lnTo>
                    <a:pt x="942" y="250"/>
                  </a:lnTo>
                  <a:lnTo>
                    <a:pt x="952" y="250"/>
                  </a:lnTo>
                  <a:lnTo>
                    <a:pt x="961" y="247"/>
                  </a:lnTo>
                  <a:lnTo>
                    <a:pt x="970" y="239"/>
                  </a:lnTo>
                  <a:close/>
                  <a:moveTo>
                    <a:pt x="640" y="73"/>
                  </a:moveTo>
                  <a:lnTo>
                    <a:pt x="631" y="76"/>
                  </a:lnTo>
                  <a:lnTo>
                    <a:pt x="621" y="78"/>
                  </a:lnTo>
                  <a:lnTo>
                    <a:pt x="612" y="81"/>
                  </a:lnTo>
                  <a:lnTo>
                    <a:pt x="605" y="83"/>
                  </a:lnTo>
                  <a:lnTo>
                    <a:pt x="599" y="87"/>
                  </a:lnTo>
                  <a:lnTo>
                    <a:pt x="592" y="89"/>
                  </a:lnTo>
                  <a:lnTo>
                    <a:pt x="586" y="92"/>
                  </a:lnTo>
                  <a:lnTo>
                    <a:pt x="579" y="95"/>
                  </a:lnTo>
                  <a:lnTo>
                    <a:pt x="576" y="89"/>
                  </a:lnTo>
                  <a:lnTo>
                    <a:pt x="571" y="81"/>
                  </a:lnTo>
                  <a:lnTo>
                    <a:pt x="563" y="75"/>
                  </a:lnTo>
                  <a:lnTo>
                    <a:pt x="555" y="67"/>
                  </a:lnTo>
                  <a:lnTo>
                    <a:pt x="546" y="61"/>
                  </a:lnTo>
                  <a:lnTo>
                    <a:pt x="536" y="55"/>
                  </a:lnTo>
                  <a:lnTo>
                    <a:pt x="527" y="50"/>
                  </a:lnTo>
                  <a:lnTo>
                    <a:pt x="518" y="47"/>
                  </a:lnTo>
                  <a:lnTo>
                    <a:pt x="530" y="48"/>
                  </a:lnTo>
                  <a:lnTo>
                    <a:pt x="539" y="51"/>
                  </a:lnTo>
                  <a:lnTo>
                    <a:pt x="547" y="56"/>
                  </a:lnTo>
                  <a:lnTo>
                    <a:pt x="554" y="61"/>
                  </a:lnTo>
                  <a:lnTo>
                    <a:pt x="559" y="67"/>
                  </a:lnTo>
                  <a:lnTo>
                    <a:pt x="565" y="73"/>
                  </a:lnTo>
                  <a:lnTo>
                    <a:pt x="572" y="77"/>
                  </a:lnTo>
                  <a:lnTo>
                    <a:pt x="579" y="79"/>
                  </a:lnTo>
                  <a:lnTo>
                    <a:pt x="586" y="79"/>
                  </a:lnTo>
                  <a:lnTo>
                    <a:pt x="592" y="77"/>
                  </a:lnTo>
                  <a:lnTo>
                    <a:pt x="601" y="75"/>
                  </a:lnTo>
                  <a:lnTo>
                    <a:pt x="608" y="73"/>
                  </a:lnTo>
                  <a:lnTo>
                    <a:pt x="617" y="72"/>
                  </a:lnTo>
                  <a:lnTo>
                    <a:pt x="625" y="71"/>
                  </a:lnTo>
                  <a:lnTo>
                    <a:pt x="633" y="71"/>
                  </a:lnTo>
                  <a:lnTo>
                    <a:pt x="640" y="73"/>
                  </a:lnTo>
                  <a:close/>
                  <a:moveTo>
                    <a:pt x="68" y="358"/>
                  </a:moveTo>
                  <a:lnTo>
                    <a:pt x="80" y="369"/>
                  </a:lnTo>
                  <a:lnTo>
                    <a:pt x="92" y="378"/>
                  </a:lnTo>
                  <a:lnTo>
                    <a:pt x="104" y="384"/>
                  </a:lnTo>
                  <a:lnTo>
                    <a:pt x="116" y="389"/>
                  </a:lnTo>
                  <a:lnTo>
                    <a:pt x="127" y="393"/>
                  </a:lnTo>
                  <a:lnTo>
                    <a:pt x="138" y="395"/>
                  </a:lnTo>
                  <a:lnTo>
                    <a:pt x="150" y="397"/>
                  </a:lnTo>
                  <a:lnTo>
                    <a:pt x="163" y="397"/>
                  </a:lnTo>
                  <a:lnTo>
                    <a:pt x="163" y="380"/>
                  </a:lnTo>
                  <a:lnTo>
                    <a:pt x="165" y="364"/>
                  </a:lnTo>
                  <a:lnTo>
                    <a:pt x="169" y="350"/>
                  </a:lnTo>
                  <a:lnTo>
                    <a:pt x="175" y="338"/>
                  </a:lnTo>
                  <a:lnTo>
                    <a:pt x="181" y="328"/>
                  </a:lnTo>
                  <a:lnTo>
                    <a:pt x="188" y="321"/>
                  </a:lnTo>
                  <a:lnTo>
                    <a:pt x="195" y="318"/>
                  </a:lnTo>
                  <a:lnTo>
                    <a:pt x="200" y="318"/>
                  </a:lnTo>
                  <a:lnTo>
                    <a:pt x="199" y="333"/>
                  </a:lnTo>
                  <a:lnTo>
                    <a:pt x="200" y="345"/>
                  </a:lnTo>
                  <a:lnTo>
                    <a:pt x="201" y="357"/>
                  </a:lnTo>
                  <a:lnTo>
                    <a:pt x="205" y="368"/>
                  </a:lnTo>
                  <a:lnTo>
                    <a:pt x="208" y="376"/>
                  </a:lnTo>
                  <a:lnTo>
                    <a:pt x="212" y="384"/>
                  </a:lnTo>
                  <a:lnTo>
                    <a:pt x="215" y="390"/>
                  </a:lnTo>
                  <a:lnTo>
                    <a:pt x="219" y="395"/>
                  </a:lnTo>
                  <a:lnTo>
                    <a:pt x="226" y="398"/>
                  </a:lnTo>
                  <a:lnTo>
                    <a:pt x="234" y="399"/>
                  </a:lnTo>
                  <a:lnTo>
                    <a:pt x="241" y="399"/>
                  </a:lnTo>
                  <a:lnTo>
                    <a:pt x="249" y="398"/>
                  </a:lnTo>
                  <a:lnTo>
                    <a:pt x="255" y="396"/>
                  </a:lnTo>
                  <a:lnTo>
                    <a:pt x="261" y="394"/>
                  </a:lnTo>
                  <a:lnTo>
                    <a:pt x="267" y="391"/>
                  </a:lnTo>
                  <a:lnTo>
                    <a:pt x="271" y="389"/>
                  </a:lnTo>
                  <a:lnTo>
                    <a:pt x="267" y="383"/>
                  </a:lnTo>
                  <a:lnTo>
                    <a:pt x="264" y="374"/>
                  </a:lnTo>
                  <a:lnTo>
                    <a:pt x="260" y="364"/>
                  </a:lnTo>
                  <a:lnTo>
                    <a:pt x="259" y="352"/>
                  </a:lnTo>
                  <a:lnTo>
                    <a:pt x="259" y="338"/>
                  </a:lnTo>
                  <a:lnTo>
                    <a:pt x="259" y="325"/>
                  </a:lnTo>
                  <a:lnTo>
                    <a:pt x="260" y="313"/>
                  </a:lnTo>
                  <a:lnTo>
                    <a:pt x="261" y="302"/>
                  </a:lnTo>
                  <a:lnTo>
                    <a:pt x="264" y="310"/>
                  </a:lnTo>
                  <a:lnTo>
                    <a:pt x="267" y="320"/>
                  </a:lnTo>
                  <a:lnTo>
                    <a:pt x="271" y="329"/>
                  </a:lnTo>
                  <a:lnTo>
                    <a:pt x="275" y="338"/>
                  </a:lnTo>
                  <a:lnTo>
                    <a:pt x="280" y="348"/>
                  </a:lnTo>
                  <a:lnTo>
                    <a:pt x="285" y="357"/>
                  </a:lnTo>
                  <a:lnTo>
                    <a:pt x="290" y="366"/>
                  </a:lnTo>
                  <a:lnTo>
                    <a:pt x="297" y="374"/>
                  </a:lnTo>
                  <a:lnTo>
                    <a:pt x="310" y="372"/>
                  </a:lnTo>
                  <a:lnTo>
                    <a:pt x="319" y="374"/>
                  </a:lnTo>
                  <a:lnTo>
                    <a:pt x="326" y="382"/>
                  </a:lnTo>
                  <a:lnTo>
                    <a:pt x="330" y="391"/>
                  </a:lnTo>
                  <a:lnTo>
                    <a:pt x="334" y="402"/>
                  </a:lnTo>
                  <a:lnTo>
                    <a:pt x="338" y="412"/>
                  </a:lnTo>
                  <a:lnTo>
                    <a:pt x="344" y="420"/>
                  </a:lnTo>
                  <a:lnTo>
                    <a:pt x="351" y="424"/>
                  </a:lnTo>
                  <a:lnTo>
                    <a:pt x="340" y="429"/>
                  </a:lnTo>
                  <a:lnTo>
                    <a:pt x="329" y="433"/>
                  </a:lnTo>
                  <a:lnTo>
                    <a:pt x="317" y="437"/>
                  </a:lnTo>
                  <a:lnTo>
                    <a:pt x="305" y="443"/>
                  </a:lnTo>
                  <a:lnTo>
                    <a:pt x="293" y="446"/>
                  </a:lnTo>
                  <a:lnTo>
                    <a:pt x="282" y="450"/>
                  </a:lnTo>
                  <a:lnTo>
                    <a:pt x="269" y="454"/>
                  </a:lnTo>
                  <a:lnTo>
                    <a:pt x="257" y="457"/>
                  </a:lnTo>
                  <a:lnTo>
                    <a:pt x="245" y="460"/>
                  </a:lnTo>
                  <a:lnTo>
                    <a:pt x="234" y="462"/>
                  </a:lnTo>
                  <a:lnTo>
                    <a:pt x="222" y="463"/>
                  </a:lnTo>
                  <a:lnTo>
                    <a:pt x="210" y="464"/>
                  </a:lnTo>
                  <a:lnTo>
                    <a:pt x="198" y="463"/>
                  </a:lnTo>
                  <a:lnTo>
                    <a:pt x="186" y="462"/>
                  </a:lnTo>
                  <a:lnTo>
                    <a:pt x="175" y="461"/>
                  </a:lnTo>
                  <a:lnTo>
                    <a:pt x="164" y="458"/>
                  </a:lnTo>
                  <a:lnTo>
                    <a:pt x="151" y="452"/>
                  </a:lnTo>
                  <a:lnTo>
                    <a:pt x="138" y="446"/>
                  </a:lnTo>
                  <a:lnTo>
                    <a:pt x="125" y="439"/>
                  </a:lnTo>
                  <a:lnTo>
                    <a:pt x="114" y="431"/>
                  </a:lnTo>
                  <a:lnTo>
                    <a:pt x="102" y="425"/>
                  </a:lnTo>
                  <a:lnTo>
                    <a:pt x="91" y="418"/>
                  </a:lnTo>
                  <a:lnTo>
                    <a:pt x="80" y="412"/>
                  </a:lnTo>
                  <a:lnTo>
                    <a:pt x="71" y="408"/>
                  </a:lnTo>
                  <a:lnTo>
                    <a:pt x="61" y="402"/>
                  </a:lnTo>
                  <a:lnTo>
                    <a:pt x="53" y="399"/>
                  </a:lnTo>
                  <a:lnTo>
                    <a:pt x="45" y="398"/>
                  </a:lnTo>
                  <a:lnTo>
                    <a:pt x="39" y="399"/>
                  </a:lnTo>
                  <a:lnTo>
                    <a:pt x="31" y="400"/>
                  </a:lnTo>
                  <a:lnTo>
                    <a:pt x="23" y="401"/>
                  </a:lnTo>
                  <a:lnTo>
                    <a:pt x="13" y="402"/>
                  </a:lnTo>
                  <a:lnTo>
                    <a:pt x="0" y="403"/>
                  </a:lnTo>
                  <a:lnTo>
                    <a:pt x="8" y="399"/>
                  </a:lnTo>
                  <a:lnTo>
                    <a:pt x="16" y="394"/>
                  </a:lnTo>
                  <a:lnTo>
                    <a:pt x="27" y="387"/>
                  </a:lnTo>
                  <a:lnTo>
                    <a:pt x="38" y="381"/>
                  </a:lnTo>
                  <a:lnTo>
                    <a:pt x="47" y="373"/>
                  </a:lnTo>
                  <a:lnTo>
                    <a:pt x="56" y="367"/>
                  </a:lnTo>
                  <a:lnTo>
                    <a:pt x="63" y="362"/>
                  </a:lnTo>
                  <a:lnTo>
                    <a:pt x="68" y="358"/>
                  </a:lnTo>
                  <a:close/>
                  <a:moveTo>
                    <a:pt x="347" y="239"/>
                  </a:moveTo>
                  <a:lnTo>
                    <a:pt x="352" y="253"/>
                  </a:lnTo>
                  <a:lnTo>
                    <a:pt x="358" y="265"/>
                  </a:lnTo>
                  <a:lnTo>
                    <a:pt x="365" y="273"/>
                  </a:lnTo>
                  <a:lnTo>
                    <a:pt x="374" y="278"/>
                  </a:lnTo>
                  <a:lnTo>
                    <a:pt x="383" y="279"/>
                  </a:lnTo>
                  <a:lnTo>
                    <a:pt x="395" y="278"/>
                  </a:lnTo>
                  <a:lnTo>
                    <a:pt x="407" y="275"/>
                  </a:lnTo>
                  <a:lnTo>
                    <a:pt x="420" y="270"/>
                  </a:lnTo>
                  <a:lnTo>
                    <a:pt x="414" y="263"/>
                  </a:lnTo>
                  <a:lnTo>
                    <a:pt x="409" y="256"/>
                  </a:lnTo>
                  <a:lnTo>
                    <a:pt x="402" y="248"/>
                  </a:lnTo>
                  <a:lnTo>
                    <a:pt x="393" y="242"/>
                  </a:lnTo>
                  <a:lnTo>
                    <a:pt x="383" y="236"/>
                  </a:lnTo>
                  <a:lnTo>
                    <a:pt x="372" y="234"/>
                  </a:lnTo>
                  <a:lnTo>
                    <a:pt x="360" y="234"/>
                  </a:lnTo>
                  <a:lnTo>
                    <a:pt x="347" y="239"/>
                  </a:lnTo>
                  <a:close/>
                  <a:moveTo>
                    <a:pt x="389" y="193"/>
                  </a:moveTo>
                  <a:lnTo>
                    <a:pt x="403" y="203"/>
                  </a:lnTo>
                  <a:lnTo>
                    <a:pt x="412" y="207"/>
                  </a:lnTo>
                  <a:lnTo>
                    <a:pt x="422" y="207"/>
                  </a:lnTo>
                  <a:lnTo>
                    <a:pt x="429" y="204"/>
                  </a:lnTo>
                  <a:lnTo>
                    <a:pt x="439" y="200"/>
                  </a:lnTo>
                  <a:lnTo>
                    <a:pt x="450" y="196"/>
                  </a:lnTo>
                  <a:lnTo>
                    <a:pt x="465" y="194"/>
                  </a:lnTo>
                  <a:lnTo>
                    <a:pt x="484" y="196"/>
                  </a:lnTo>
                  <a:lnTo>
                    <a:pt x="475" y="193"/>
                  </a:lnTo>
                  <a:lnTo>
                    <a:pt x="469" y="188"/>
                  </a:lnTo>
                  <a:lnTo>
                    <a:pt x="464" y="184"/>
                  </a:lnTo>
                  <a:lnTo>
                    <a:pt x="457" y="180"/>
                  </a:lnTo>
                  <a:lnTo>
                    <a:pt x="451" y="175"/>
                  </a:lnTo>
                  <a:lnTo>
                    <a:pt x="443" y="173"/>
                  </a:lnTo>
                  <a:lnTo>
                    <a:pt x="434" y="172"/>
                  </a:lnTo>
                  <a:lnTo>
                    <a:pt x="422" y="173"/>
                  </a:lnTo>
                  <a:lnTo>
                    <a:pt x="389" y="193"/>
                  </a:lnTo>
                  <a:close/>
                  <a:moveTo>
                    <a:pt x="488" y="87"/>
                  </a:moveTo>
                  <a:lnTo>
                    <a:pt x="478" y="90"/>
                  </a:lnTo>
                  <a:lnTo>
                    <a:pt x="467" y="94"/>
                  </a:lnTo>
                  <a:lnTo>
                    <a:pt x="457" y="98"/>
                  </a:lnTo>
                  <a:lnTo>
                    <a:pt x="448" y="104"/>
                  </a:lnTo>
                  <a:lnTo>
                    <a:pt x="439" y="109"/>
                  </a:lnTo>
                  <a:lnTo>
                    <a:pt x="432" y="114"/>
                  </a:lnTo>
                  <a:lnTo>
                    <a:pt x="425" y="121"/>
                  </a:lnTo>
                  <a:lnTo>
                    <a:pt x="420" y="127"/>
                  </a:lnTo>
                  <a:lnTo>
                    <a:pt x="425" y="128"/>
                  </a:lnTo>
                  <a:lnTo>
                    <a:pt x="431" y="133"/>
                  </a:lnTo>
                  <a:lnTo>
                    <a:pt x="437" y="137"/>
                  </a:lnTo>
                  <a:lnTo>
                    <a:pt x="444" y="142"/>
                  </a:lnTo>
                  <a:lnTo>
                    <a:pt x="451" y="149"/>
                  </a:lnTo>
                  <a:lnTo>
                    <a:pt x="457" y="153"/>
                  </a:lnTo>
                  <a:lnTo>
                    <a:pt x="464" y="157"/>
                  </a:lnTo>
                  <a:lnTo>
                    <a:pt x="469" y="158"/>
                  </a:lnTo>
                  <a:lnTo>
                    <a:pt x="469" y="153"/>
                  </a:lnTo>
                  <a:lnTo>
                    <a:pt x="468" y="148"/>
                  </a:lnTo>
                  <a:lnTo>
                    <a:pt x="466" y="143"/>
                  </a:lnTo>
                  <a:lnTo>
                    <a:pt x="465" y="139"/>
                  </a:lnTo>
                  <a:lnTo>
                    <a:pt x="463" y="136"/>
                  </a:lnTo>
                  <a:lnTo>
                    <a:pt x="460" y="132"/>
                  </a:lnTo>
                  <a:lnTo>
                    <a:pt x="459" y="126"/>
                  </a:lnTo>
                  <a:lnTo>
                    <a:pt x="459" y="121"/>
                  </a:lnTo>
                  <a:lnTo>
                    <a:pt x="464" y="116"/>
                  </a:lnTo>
                  <a:lnTo>
                    <a:pt x="467" y="110"/>
                  </a:lnTo>
                  <a:lnTo>
                    <a:pt x="469" y="107"/>
                  </a:lnTo>
                  <a:lnTo>
                    <a:pt x="471" y="103"/>
                  </a:lnTo>
                  <a:lnTo>
                    <a:pt x="474" y="99"/>
                  </a:lnTo>
                  <a:lnTo>
                    <a:pt x="478" y="96"/>
                  </a:lnTo>
                  <a:lnTo>
                    <a:pt x="482" y="92"/>
                  </a:lnTo>
                  <a:lnTo>
                    <a:pt x="488" y="87"/>
                  </a:lnTo>
                  <a:close/>
                  <a:moveTo>
                    <a:pt x="921" y="350"/>
                  </a:moveTo>
                  <a:lnTo>
                    <a:pt x="905" y="349"/>
                  </a:lnTo>
                  <a:lnTo>
                    <a:pt x="889" y="347"/>
                  </a:lnTo>
                  <a:lnTo>
                    <a:pt x="872" y="342"/>
                  </a:lnTo>
                  <a:lnTo>
                    <a:pt x="855" y="337"/>
                  </a:lnTo>
                  <a:lnTo>
                    <a:pt x="838" y="332"/>
                  </a:lnTo>
                  <a:lnTo>
                    <a:pt x="821" y="324"/>
                  </a:lnTo>
                  <a:lnTo>
                    <a:pt x="805" y="317"/>
                  </a:lnTo>
                  <a:lnTo>
                    <a:pt x="788" y="309"/>
                  </a:lnTo>
                  <a:lnTo>
                    <a:pt x="771" y="303"/>
                  </a:lnTo>
                  <a:lnTo>
                    <a:pt x="754" y="295"/>
                  </a:lnTo>
                  <a:lnTo>
                    <a:pt x="738" y="288"/>
                  </a:lnTo>
                  <a:lnTo>
                    <a:pt x="721" y="282"/>
                  </a:lnTo>
                  <a:lnTo>
                    <a:pt x="703" y="277"/>
                  </a:lnTo>
                  <a:lnTo>
                    <a:pt x="687" y="273"/>
                  </a:lnTo>
                  <a:lnTo>
                    <a:pt x="670" y="271"/>
                  </a:lnTo>
                  <a:lnTo>
                    <a:pt x="654" y="270"/>
                  </a:lnTo>
                  <a:lnTo>
                    <a:pt x="651" y="264"/>
                  </a:lnTo>
                  <a:lnTo>
                    <a:pt x="646" y="259"/>
                  </a:lnTo>
                  <a:lnTo>
                    <a:pt x="639" y="252"/>
                  </a:lnTo>
                  <a:lnTo>
                    <a:pt x="630" y="247"/>
                  </a:lnTo>
                  <a:lnTo>
                    <a:pt x="621" y="244"/>
                  </a:lnTo>
                  <a:lnTo>
                    <a:pt x="611" y="241"/>
                  </a:lnTo>
                  <a:lnTo>
                    <a:pt x="599" y="239"/>
                  </a:lnTo>
                  <a:lnTo>
                    <a:pt x="586" y="237"/>
                  </a:lnTo>
                  <a:lnTo>
                    <a:pt x="571" y="236"/>
                  </a:lnTo>
                  <a:lnTo>
                    <a:pt x="555" y="236"/>
                  </a:lnTo>
                  <a:lnTo>
                    <a:pt x="539" y="237"/>
                  </a:lnTo>
                  <a:lnTo>
                    <a:pt x="521" y="239"/>
                  </a:lnTo>
                  <a:lnTo>
                    <a:pt x="527" y="233"/>
                  </a:lnTo>
                  <a:lnTo>
                    <a:pt x="536" y="231"/>
                  </a:lnTo>
                  <a:lnTo>
                    <a:pt x="549" y="230"/>
                  </a:lnTo>
                  <a:lnTo>
                    <a:pt x="565" y="230"/>
                  </a:lnTo>
                  <a:lnTo>
                    <a:pt x="584" y="229"/>
                  </a:lnTo>
                  <a:lnTo>
                    <a:pt x="604" y="228"/>
                  </a:lnTo>
                  <a:lnTo>
                    <a:pt x="624" y="225"/>
                  </a:lnTo>
                  <a:lnTo>
                    <a:pt x="646" y="219"/>
                  </a:lnTo>
                  <a:lnTo>
                    <a:pt x="647" y="225"/>
                  </a:lnTo>
                  <a:lnTo>
                    <a:pt x="649" y="231"/>
                  </a:lnTo>
                  <a:lnTo>
                    <a:pt x="653" y="237"/>
                  </a:lnTo>
                  <a:lnTo>
                    <a:pt x="659" y="244"/>
                  </a:lnTo>
                  <a:lnTo>
                    <a:pt x="665" y="249"/>
                  </a:lnTo>
                  <a:lnTo>
                    <a:pt x="671" y="253"/>
                  </a:lnTo>
                  <a:lnTo>
                    <a:pt x="678" y="257"/>
                  </a:lnTo>
                  <a:lnTo>
                    <a:pt x="684" y="259"/>
                  </a:lnTo>
                  <a:lnTo>
                    <a:pt x="699" y="261"/>
                  </a:lnTo>
                  <a:lnTo>
                    <a:pt x="712" y="260"/>
                  </a:lnTo>
                  <a:lnTo>
                    <a:pt x="722" y="256"/>
                  </a:lnTo>
                  <a:lnTo>
                    <a:pt x="731" y="250"/>
                  </a:lnTo>
                  <a:lnTo>
                    <a:pt x="739" y="246"/>
                  </a:lnTo>
                  <a:lnTo>
                    <a:pt x="745" y="244"/>
                  </a:lnTo>
                  <a:lnTo>
                    <a:pt x="752" y="246"/>
                  </a:lnTo>
                  <a:lnTo>
                    <a:pt x="758" y="253"/>
                  </a:lnTo>
                  <a:lnTo>
                    <a:pt x="767" y="263"/>
                  </a:lnTo>
                  <a:lnTo>
                    <a:pt x="778" y="270"/>
                  </a:lnTo>
                  <a:lnTo>
                    <a:pt x="791" y="276"/>
                  </a:lnTo>
                  <a:lnTo>
                    <a:pt x="804" y="280"/>
                  </a:lnTo>
                  <a:lnTo>
                    <a:pt x="818" y="286"/>
                  </a:lnTo>
                  <a:lnTo>
                    <a:pt x="830" y="290"/>
                  </a:lnTo>
                  <a:lnTo>
                    <a:pt x="838" y="295"/>
                  </a:lnTo>
                  <a:lnTo>
                    <a:pt x="844" y="302"/>
                  </a:lnTo>
                  <a:lnTo>
                    <a:pt x="846" y="294"/>
                  </a:lnTo>
                  <a:lnTo>
                    <a:pt x="849" y="285"/>
                  </a:lnTo>
                  <a:lnTo>
                    <a:pt x="852" y="276"/>
                  </a:lnTo>
                  <a:lnTo>
                    <a:pt x="857" y="267"/>
                  </a:lnTo>
                  <a:lnTo>
                    <a:pt x="862" y="260"/>
                  </a:lnTo>
                  <a:lnTo>
                    <a:pt x="867" y="255"/>
                  </a:lnTo>
                  <a:lnTo>
                    <a:pt x="875" y="251"/>
                  </a:lnTo>
                  <a:lnTo>
                    <a:pt x="883" y="251"/>
                  </a:lnTo>
                  <a:lnTo>
                    <a:pt x="880" y="256"/>
                  </a:lnTo>
                  <a:lnTo>
                    <a:pt x="878" y="261"/>
                  </a:lnTo>
                  <a:lnTo>
                    <a:pt x="876" y="267"/>
                  </a:lnTo>
                  <a:lnTo>
                    <a:pt x="874" y="275"/>
                  </a:lnTo>
                  <a:lnTo>
                    <a:pt x="873" y="282"/>
                  </a:lnTo>
                  <a:lnTo>
                    <a:pt x="873" y="290"/>
                  </a:lnTo>
                  <a:lnTo>
                    <a:pt x="873" y="296"/>
                  </a:lnTo>
                  <a:lnTo>
                    <a:pt x="873" y="302"/>
                  </a:lnTo>
                  <a:lnTo>
                    <a:pt x="877" y="307"/>
                  </a:lnTo>
                  <a:lnTo>
                    <a:pt x="881" y="312"/>
                  </a:lnTo>
                  <a:lnTo>
                    <a:pt x="886" y="318"/>
                  </a:lnTo>
                  <a:lnTo>
                    <a:pt x="892" y="322"/>
                  </a:lnTo>
                  <a:lnTo>
                    <a:pt x="897" y="325"/>
                  </a:lnTo>
                  <a:lnTo>
                    <a:pt x="903" y="328"/>
                  </a:lnTo>
                  <a:lnTo>
                    <a:pt x="907" y="332"/>
                  </a:lnTo>
                  <a:lnTo>
                    <a:pt x="911" y="333"/>
                  </a:lnTo>
                  <a:lnTo>
                    <a:pt x="914" y="335"/>
                  </a:lnTo>
                  <a:lnTo>
                    <a:pt x="919" y="335"/>
                  </a:lnTo>
                  <a:lnTo>
                    <a:pt x="923" y="334"/>
                  </a:lnTo>
                  <a:lnTo>
                    <a:pt x="927" y="332"/>
                  </a:lnTo>
                  <a:lnTo>
                    <a:pt x="931" y="329"/>
                  </a:lnTo>
                  <a:lnTo>
                    <a:pt x="937" y="326"/>
                  </a:lnTo>
                  <a:lnTo>
                    <a:pt x="941" y="322"/>
                  </a:lnTo>
                  <a:lnTo>
                    <a:pt x="946" y="318"/>
                  </a:lnTo>
                  <a:lnTo>
                    <a:pt x="945" y="324"/>
                  </a:lnTo>
                  <a:lnTo>
                    <a:pt x="943" y="329"/>
                  </a:lnTo>
                  <a:lnTo>
                    <a:pt x="940" y="336"/>
                  </a:lnTo>
                  <a:lnTo>
                    <a:pt x="937" y="340"/>
                  </a:lnTo>
                  <a:lnTo>
                    <a:pt x="934" y="344"/>
                  </a:lnTo>
                  <a:lnTo>
                    <a:pt x="929" y="348"/>
                  </a:lnTo>
                  <a:lnTo>
                    <a:pt x="925" y="349"/>
                  </a:lnTo>
                  <a:lnTo>
                    <a:pt x="921" y="350"/>
                  </a:lnTo>
                  <a:close/>
                  <a:moveTo>
                    <a:pt x="640" y="381"/>
                  </a:moveTo>
                  <a:lnTo>
                    <a:pt x="626" y="380"/>
                  </a:lnTo>
                  <a:lnTo>
                    <a:pt x="615" y="379"/>
                  </a:lnTo>
                  <a:lnTo>
                    <a:pt x="606" y="376"/>
                  </a:lnTo>
                  <a:lnTo>
                    <a:pt x="597" y="374"/>
                  </a:lnTo>
                  <a:lnTo>
                    <a:pt x="590" y="370"/>
                  </a:lnTo>
                  <a:lnTo>
                    <a:pt x="583" y="365"/>
                  </a:lnTo>
                  <a:lnTo>
                    <a:pt x="574" y="357"/>
                  </a:lnTo>
                  <a:lnTo>
                    <a:pt x="564" y="348"/>
                  </a:lnTo>
                  <a:lnTo>
                    <a:pt x="531" y="349"/>
                  </a:lnTo>
                  <a:lnTo>
                    <a:pt x="509" y="353"/>
                  </a:lnTo>
                  <a:lnTo>
                    <a:pt x="493" y="360"/>
                  </a:lnTo>
                  <a:lnTo>
                    <a:pt x="481" y="368"/>
                  </a:lnTo>
                  <a:lnTo>
                    <a:pt x="470" y="375"/>
                  </a:lnTo>
                  <a:lnTo>
                    <a:pt x="457" y="380"/>
                  </a:lnTo>
                  <a:lnTo>
                    <a:pt x="439" y="382"/>
                  </a:lnTo>
                  <a:lnTo>
                    <a:pt x="413" y="378"/>
                  </a:lnTo>
                  <a:lnTo>
                    <a:pt x="419" y="371"/>
                  </a:lnTo>
                  <a:lnTo>
                    <a:pt x="426" y="367"/>
                  </a:lnTo>
                  <a:lnTo>
                    <a:pt x="435" y="363"/>
                  </a:lnTo>
                  <a:lnTo>
                    <a:pt x="444" y="357"/>
                  </a:lnTo>
                  <a:lnTo>
                    <a:pt x="454" y="353"/>
                  </a:lnTo>
                  <a:lnTo>
                    <a:pt x="464" y="345"/>
                  </a:lnTo>
                  <a:lnTo>
                    <a:pt x="472" y="337"/>
                  </a:lnTo>
                  <a:lnTo>
                    <a:pt x="479" y="325"/>
                  </a:lnTo>
                  <a:lnTo>
                    <a:pt x="494" y="334"/>
                  </a:lnTo>
                  <a:lnTo>
                    <a:pt x="494" y="333"/>
                  </a:lnTo>
                  <a:lnTo>
                    <a:pt x="495" y="331"/>
                  </a:lnTo>
                  <a:lnTo>
                    <a:pt x="496" y="327"/>
                  </a:lnTo>
                  <a:lnTo>
                    <a:pt x="497" y="323"/>
                  </a:lnTo>
                  <a:lnTo>
                    <a:pt x="499" y="319"/>
                  </a:lnTo>
                  <a:lnTo>
                    <a:pt x="500" y="313"/>
                  </a:lnTo>
                  <a:lnTo>
                    <a:pt x="503" y="307"/>
                  </a:lnTo>
                  <a:lnTo>
                    <a:pt x="505" y="302"/>
                  </a:lnTo>
                  <a:lnTo>
                    <a:pt x="511" y="302"/>
                  </a:lnTo>
                  <a:lnTo>
                    <a:pt x="517" y="303"/>
                  </a:lnTo>
                  <a:lnTo>
                    <a:pt x="525" y="305"/>
                  </a:lnTo>
                  <a:lnTo>
                    <a:pt x="532" y="306"/>
                  </a:lnTo>
                  <a:lnTo>
                    <a:pt x="540" y="307"/>
                  </a:lnTo>
                  <a:lnTo>
                    <a:pt x="549" y="309"/>
                  </a:lnTo>
                  <a:lnTo>
                    <a:pt x="558" y="310"/>
                  </a:lnTo>
                  <a:lnTo>
                    <a:pt x="566" y="310"/>
                  </a:lnTo>
                  <a:lnTo>
                    <a:pt x="569" y="326"/>
                  </a:lnTo>
                  <a:lnTo>
                    <a:pt x="575" y="339"/>
                  </a:lnTo>
                  <a:lnTo>
                    <a:pt x="584" y="349"/>
                  </a:lnTo>
                  <a:lnTo>
                    <a:pt x="594" y="357"/>
                  </a:lnTo>
                  <a:lnTo>
                    <a:pt x="606" y="364"/>
                  </a:lnTo>
                  <a:lnTo>
                    <a:pt x="619" y="370"/>
                  </a:lnTo>
                  <a:lnTo>
                    <a:pt x="630" y="375"/>
                  </a:lnTo>
                  <a:lnTo>
                    <a:pt x="640" y="381"/>
                  </a:lnTo>
                  <a:close/>
                </a:path>
              </a:pathLst>
            </a:custGeom>
            <a:solidFill>
              <a:srgbClr val="b26d42"/>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grpSp>
      <p:sp>
        <p:nvSpPr>
          <p:cNvPr id="528" name="Text Box 152"/>
          <p:cNvSpPr/>
          <p:nvPr/>
        </p:nvSpPr>
        <p:spPr>
          <a:xfrm>
            <a:off x="3276720" y="6172200"/>
            <a:ext cx="2209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cs typeface="Traditional Arabic"/>
              </a:rPr>
              <a:t>السعة التخزينية الافتراضية</a:t>
            </a:r>
            <a:endParaRPr b="0" lang="en-US" sz="2400" spc="-1" strike="noStrike">
              <a:solidFill>
                <a:srgbClr val="ccecff"/>
              </a:solidFill>
              <a:latin typeface="Times New Roman"/>
            </a:endParaRPr>
          </a:p>
        </p:txBody>
      </p:sp>
      <p:sp>
        <p:nvSpPr>
          <p:cNvPr id="529" name="Line 153"/>
          <p:cNvSpPr/>
          <p:nvPr/>
        </p:nvSpPr>
        <p:spPr>
          <a:xfrm>
            <a:off x="1066680" y="6248520"/>
            <a:ext cx="86868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ccecff"/>
              </a:solidFill>
              <a:latin typeface="Times New Roman"/>
            </a:endParaRPr>
          </a:p>
        </p:txBody>
      </p:sp>
      <p:sp>
        <p:nvSpPr>
          <p:cNvPr id="530" name="Text Box 154"/>
          <p:cNvSpPr/>
          <p:nvPr/>
        </p:nvSpPr>
        <p:spPr>
          <a:xfrm>
            <a:off x="304920" y="838080"/>
            <a:ext cx="85341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نفترض أن كل من هذه الخزانات يمكن تعبئتها مرة واحدة في اليوم، ما هو عدد الأشخاص الذين يمكنهم الاستفادة من كل من هذه الخزانات في مخيم للطوارئ؟ مع افتراض أن الحجم التشغيلي يعادل </a:t>
            </a:r>
            <a:r>
              <a:rPr b="0" lang="ar-SA" sz="2400" spc="-1" strike="noStrike">
                <a:solidFill>
                  <a:srgbClr val="ffff00"/>
                </a:solidFill>
                <a:latin typeface="Arial"/>
                <a:ea typeface="Traditional Arabic"/>
              </a:rPr>
              <a:t>90</a:t>
            </a:r>
            <a:r>
              <a:rPr b="0" lang="ar-SA" sz="2400" spc="-1" strike="noStrike">
                <a:solidFill>
                  <a:srgbClr val="ffff00"/>
                </a:solidFill>
                <a:latin typeface="Arial"/>
                <a:ea typeface="Traditional Arabic"/>
              </a:rPr>
              <a:t>% من الحجم الافتراضي</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3"/>
          <p:cNvSpPr/>
          <p:nvPr/>
        </p:nvSpPr>
        <p:spPr>
          <a:xfrm>
            <a:off x="2116800" y="380880"/>
            <a:ext cx="823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بعض مؤشرات اسفير الخاصة </a:t>
            </a:r>
            <a:r>
              <a:rPr b="1" lang="ar-SA" sz="3200" spc="-1" strike="noStrike" u="sng">
                <a:solidFill>
                  <a:srgbClr val="ffffff"/>
                </a:solidFill>
                <a:uFillTx/>
                <a:latin typeface="Arial"/>
                <a:cs typeface="Traditional Arabic"/>
              </a:rPr>
              <a:t>بجودة</a:t>
            </a:r>
            <a:r>
              <a:rPr b="1" lang="ar-SA" sz="3200" spc="-1" strike="noStrike">
                <a:solidFill>
                  <a:srgbClr val="ffffff"/>
                </a:solidFill>
                <a:latin typeface="Arial"/>
                <a:ea typeface="Traditional Arabic"/>
              </a:rPr>
              <a:t> الماء</a:t>
            </a:r>
            <a:endParaRPr b="0" lang="en-US" sz="3200" spc="-1" strike="noStrike">
              <a:solidFill>
                <a:srgbClr val="ccecff"/>
              </a:solidFill>
              <a:latin typeface="Times New Roman"/>
            </a:endParaRPr>
          </a:p>
        </p:txBody>
      </p:sp>
      <p:sp>
        <p:nvSpPr>
          <p:cNvPr id="532" name="Text Box 4"/>
          <p:cNvSpPr/>
          <p:nvPr/>
        </p:nvSpPr>
        <p:spPr>
          <a:xfrm>
            <a:off x="380880" y="1523880"/>
            <a:ext cx="8382240" cy="5455800"/>
          </a:xfrm>
          <a:prstGeom prst="rect">
            <a:avLst/>
          </a:prstGeom>
          <a:noFill/>
          <a:ln w="0">
            <a:noFill/>
          </a:ln>
        </p:spPr>
        <p:style>
          <a:lnRef idx="0"/>
          <a:fillRef idx="0"/>
          <a:effectRef idx="0"/>
          <a:fontRef idx="minor"/>
        </p:style>
        <p:txBody>
          <a:bodyPr lIns="90000" rIns="90000" tIns="46800" bIns="46800" anchor="t">
            <a:spAutoFit/>
          </a:bodyPr>
          <a:p>
            <a:pPr marL="114480" indent="-114480" algn="r" rtl="1">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ea typeface="Traditional Arabic"/>
              </a:rPr>
              <a:t> </a:t>
            </a:r>
            <a:r>
              <a:rPr b="0" lang="ar-SA" sz="3200" spc="-1" strike="noStrike">
                <a:solidFill>
                  <a:srgbClr val="ccecff"/>
                </a:solidFill>
                <a:latin typeface="Times New Roman"/>
                <a:cs typeface="Traditional Arabic"/>
              </a:rPr>
              <a:t>ينبغي أن تكون مواقع توزيع الماء خالية من البكتريا القولونية الغائطية لكل </a:t>
            </a:r>
            <a:r>
              <a:rPr b="0" lang="ar-SA" sz="3200" spc="-1" strike="noStrike">
                <a:solidFill>
                  <a:srgbClr val="ccecff"/>
                </a:solidFill>
                <a:latin typeface="Times New Roman"/>
                <a:ea typeface="Traditional Arabic"/>
              </a:rPr>
              <a:t>100</a:t>
            </a:r>
            <a:r>
              <a:rPr b="0" lang="ar-SA" sz="3200" spc="-1" strike="noStrike">
                <a:solidFill>
                  <a:srgbClr val="ccecff"/>
                </a:solidFill>
                <a:latin typeface="Times New Roman"/>
                <a:ea typeface="Traditional Arabic"/>
              </a:rPr>
              <a:t> مللتر</a:t>
            </a:r>
            <a:endParaRPr b="0" lang="en-US" sz="3200" spc="-1" strike="noStrike">
              <a:solidFill>
                <a:srgbClr val="ccecff"/>
              </a:solidFill>
              <a:latin typeface="Times New Roman"/>
            </a:endParaRPr>
          </a:p>
          <a:p>
            <a:pPr marL="114480" indent="-11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ea typeface="Traditional Arabic"/>
              </a:rPr>
              <a:t> يبلغ تركيز الكلور الحر المتبقي في الماء عند الحنفيات </a:t>
            </a:r>
            <a:r>
              <a:rPr b="0" lang="ar-SA" sz="3200" spc="-1" strike="noStrike">
                <a:solidFill>
                  <a:srgbClr val="ccecff"/>
                </a:solidFill>
                <a:latin typeface="Times New Roman"/>
                <a:ea typeface="Traditional Arabic"/>
              </a:rPr>
              <a:t>0,5</a:t>
            </a:r>
            <a:r>
              <a:rPr b="0" lang="ar-SA" sz="3200" spc="-1" strike="noStrike">
                <a:solidFill>
                  <a:srgbClr val="ccecff"/>
                </a:solidFill>
                <a:latin typeface="Times New Roman"/>
                <a:ea typeface="Traditional Arabic"/>
              </a:rPr>
              <a:t> ملغم لكل لتر</a:t>
            </a:r>
            <a:endParaRPr b="0" lang="en-US" sz="3200" spc="-1" strike="noStrike">
              <a:solidFill>
                <a:srgbClr val="ccecff"/>
              </a:solidFill>
              <a:latin typeface="Times New Roman"/>
            </a:endParaRPr>
          </a:p>
          <a:p>
            <a:pPr marL="114480" indent="-114480" algn="r" rtl="1">
              <a:lnSpc>
                <a:spcPct val="15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ea typeface="Traditional Arabic"/>
              </a:rPr>
              <a:t> يجب أن تقل عكرة الماء عن </a:t>
            </a:r>
            <a:r>
              <a:rPr b="0" lang="ar-SA" sz="3200" spc="-1" strike="noStrike">
                <a:solidFill>
                  <a:srgbClr val="ccecff"/>
                </a:solidFill>
                <a:latin typeface="Times New Roman"/>
                <a:ea typeface="Traditional Arabic"/>
              </a:rPr>
              <a:t>5</a:t>
            </a:r>
            <a:r>
              <a:rPr b="0" lang="ar-SA" sz="3200" spc="-1" strike="noStrike">
                <a:solidFill>
                  <a:srgbClr val="ccecff"/>
                </a:solidFill>
                <a:latin typeface="Times New Roman"/>
                <a:ea typeface="Traditional Arabic"/>
              </a:rPr>
              <a:t> وحدات نيليلومترية</a:t>
            </a:r>
            <a:endParaRPr b="0" lang="en-US" sz="3200" spc="-1" strike="noStrike">
              <a:solidFill>
                <a:srgbClr val="ccecff"/>
              </a:solidFill>
              <a:latin typeface="Times New Roman"/>
            </a:endParaRPr>
          </a:p>
          <a:p>
            <a:pPr marL="114480" indent="-114480" algn="r" rtl="1">
              <a:lnSpc>
                <a:spcPct val="15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ea typeface="Traditional Arabic"/>
              </a:rPr>
              <a:t> ينبغي تفادي تفشي الأمراض التي تنتقل عن طريق الماء أو الأمراض المائية</a:t>
            </a:r>
            <a:endParaRPr b="0" lang="en-US" sz="3200" spc="-1" strike="noStrike">
              <a:solidFill>
                <a:srgbClr val="ccecff"/>
              </a:solidFill>
              <a:latin typeface="Times New Roman"/>
            </a:endParaRPr>
          </a:p>
        </p:txBody>
      </p:sp>
      <p:sp>
        <p:nvSpPr>
          <p:cNvPr id="533" name="Text Box 5"/>
          <p:cNvSpPr/>
          <p:nvPr/>
        </p:nvSpPr>
        <p:spPr>
          <a:xfrm>
            <a:off x="-168840" y="5668920"/>
            <a:ext cx="315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ماذا يعني ذلك؟</a:t>
            </a:r>
            <a:endParaRPr b="0" lang="en-US" sz="3200" spc="-1" strike="noStrike">
              <a:solidFill>
                <a:srgbClr val="ccecff"/>
              </a:solidFill>
              <a:latin typeface="Times New Roman"/>
            </a:endParaRPr>
          </a:p>
        </p:txBody>
      </p:sp>
      <p:sp>
        <p:nvSpPr>
          <p:cNvPr id="534" name="Text Box 6"/>
          <p:cNvSpPr/>
          <p:nvPr/>
        </p:nvSpPr>
        <p:spPr>
          <a:xfrm>
            <a:off x="2495880" y="618984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95</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4" descr=""/>
          <p:cNvPicPr/>
          <p:nvPr/>
        </p:nvPicPr>
        <p:blipFill>
          <a:blip r:embed="rId1"/>
          <a:stretch/>
        </p:blipFill>
        <p:spPr>
          <a:xfrm>
            <a:off x="1752480" y="609480"/>
            <a:ext cx="5410440" cy="5195880"/>
          </a:xfrm>
          <a:prstGeom prst="rect">
            <a:avLst/>
          </a:prstGeom>
          <a:ln w="0">
            <a:noFill/>
          </a:ln>
        </p:spPr>
      </p:pic>
      <p:sp>
        <p:nvSpPr>
          <p:cNvPr id="536" name="Text Box 5"/>
          <p:cNvSpPr/>
          <p:nvPr/>
        </p:nvSpPr>
        <p:spPr>
          <a:xfrm>
            <a:off x="-1616040" y="5958000"/>
            <a:ext cx="123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cs typeface="Traditional Arabic"/>
              </a:rPr>
              <a:t>الإي كولاي هي نوع من البكتريا العضوية واسمها العلمي الكامل هو أيشريكية كولاي</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
          <p:cNvPicPr/>
          <p:nvPr/>
        </p:nvPicPr>
        <p:blipFill>
          <a:blip r:embed="rId1"/>
          <a:stretch/>
        </p:blipFill>
        <p:spPr>
          <a:xfrm>
            <a:off x="4340160" y="87480"/>
            <a:ext cx="4603680" cy="6100560"/>
          </a:xfrm>
          <a:prstGeom prst="rect">
            <a:avLst/>
          </a:prstGeom>
          <a:ln w="0">
            <a:noFill/>
          </a:ln>
        </p:spPr>
      </p:pic>
      <p:sp>
        <p:nvSpPr>
          <p:cNvPr id="538" name="Text Box 4"/>
          <p:cNvSpPr/>
          <p:nvPr/>
        </p:nvSpPr>
        <p:spPr>
          <a:xfrm>
            <a:off x="3848400" y="6202440"/>
            <a:ext cx="51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ttp:// lake access.org/russ/turbidity.htm</a:t>
            </a:r>
            <a:endParaRPr b="0" lang="en-US" sz="2400" spc="-1" strike="noStrike">
              <a:solidFill>
                <a:srgbClr val="ccecff"/>
              </a:solidFill>
              <a:latin typeface="Times New Roman"/>
            </a:endParaRPr>
          </a:p>
        </p:txBody>
      </p:sp>
      <p:sp>
        <p:nvSpPr>
          <p:cNvPr id="539" name="Text Box 5"/>
          <p:cNvSpPr/>
          <p:nvPr/>
        </p:nvSpPr>
        <p:spPr>
          <a:xfrm>
            <a:off x="39600" y="657360"/>
            <a:ext cx="3922920" cy="7599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raditional Arabic"/>
              </a:rPr>
              <a:t> </a:t>
            </a:r>
            <a:r>
              <a:rPr b="1" lang="ar-SA" sz="2800" spc="-1" strike="noStrike">
                <a:solidFill>
                  <a:srgbClr val="ffffff"/>
                </a:solidFill>
                <a:latin typeface="Arial"/>
                <a:cs typeface="Traditional Arabic"/>
              </a:rPr>
              <a:t>ما هي وحدات نيفيلومترك؟</a:t>
            </a:r>
            <a:endParaRPr b="0" lang="en-US" sz="2800" spc="-1" strike="noStrike">
              <a:solidFill>
                <a:srgbClr val="ccecff"/>
              </a:solidFill>
              <a:latin typeface="Times New Roman"/>
            </a:endParaRPr>
          </a:p>
          <a:p>
            <a:pPr algn="just" rtl="1">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just" rtl="1">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هي وحدات نستخدمها عند قياس نسبة عكرة الماء. ويشير مصطلح نيفلومترك إلى الطريقة التي تقيس بها الأداة انتشار الضوء في العينات العالقة في الماء. ويعطينا هذا القياس فكرة عامة جيدة جداً عن تركيز العينات الصلبة في الماء والتي تؤثر بالطبع على صفائه ونقائه.</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2" descr=""/>
          <p:cNvPicPr/>
          <p:nvPr/>
        </p:nvPicPr>
        <p:blipFill>
          <a:blip r:embed="rId1"/>
          <a:stretch/>
        </p:blipFill>
        <p:spPr>
          <a:xfrm>
            <a:off x="152280" y="1503360"/>
            <a:ext cx="8839440" cy="1239840"/>
          </a:xfrm>
          <a:prstGeom prst="rect">
            <a:avLst/>
          </a:prstGeom>
          <a:ln w="0">
            <a:noFill/>
          </a:ln>
        </p:spPr>
      </p:pic>
      <p:grpSp>
        <p:nvGrpSpPr>
          <p:cNvPr id="541" name="Group 5"/>
          <p:cNvGrpSpPr/>
          <p:nvPr/>
        </p:nvGrpSpPr>
        <p:grpSpPr>
          <a:xfrm>
            <a:off x="152280" y="3794040"/>
            <a:ext cx="8915400" cy="2301840"/>
            <a:chOff x="152280" y="3794040"/>
            <a:chExt cx="8915400" cy="2301840"/>
          </a:xfrm>
        </p:grpSpPr>
        <p:pic>
          <p:nvPicPr>
            <p:cNvPr id="542" name="Picture 3" descr=""/>
            <p:cNvPicPr/>
            <p:nvPr/>
          </p:nvPicPr>
          <p:blipFill>
            <a:blip r:embed="rId2"/>
            <a:stretch/>
          </p:blipFill>
          <p:spPr>
            <a:xfrm>
              <a:off x="152280" y="3794040"/>
              <a:ext cx="8915400" cy="1231920"/>
            </a:xfrm>
            <a:prstGeom prst="rect">
              <a:avLst/>
            </a:prstGeom>
            <a:ln w="0">
              <a:noFill/>
            </a:ln>
          </p:spPr>
        </p:pic>
        <p:pic>
          <p:nvPicPr>
            <p:cNvPr id="543" name="Picture 4" descr=""/>
            <p:cNvPicPr/>
            <p:nvPr/>
          </p:nvPicPr>
          <p:blipFill>
            <a:blip r:embed="rId3"/>
            <a:stretch/>
          </p:blipFill>
          <p:spPr>
            <a:xfrm>
              <a:off x="152280" y="5013000"/>
              <a:ext cx="8915400" cy="1082880"/>
            </a:xfrm>
            <a:prstGeom prst="rect">
              <a:avLst/>
            </a:prstGeom>
            <a:ln w="0">
              <a:noFill/>
            </a:ln>
          </p:spPr>
        </p:pic>
      </p:grpSp>
      <p:pic>
        <p:nvPicPr>
          <p:cNvPr id="544" name="Picture 6" descr=""/>
          <p:cNvPicPr/>
          <p:nvPr/>
        </p:nvPicPr>
        <p:blipFill>
          <a:blip r:embed="rId4"/>
          <a:stretch/>
        </p:blipFill>
        <p:spPr>
          <a:xfrm>
            <a:off x="152280" y="125280"/>
            <a:ext cx="8839440" cy="1389240"/>
          </a:xfrm>
          <a:prstGeom prst="rect">
            <a:avLst/>
          </a:prstGeom>
          <a:ln w="0">
            <a:noFill/>
          </a:ln>
        </p:spPr>
      </p:pic>
      <p:sp>
        <p:nvSpPr>
          <p:cNvPr id="545" name="Text Box 7"/>
          <p:cNvSpPr/>
          <p:nvPr/>
        </p:nvSpPr>
        <p:spPr>
          <a:xfrm>
            <a:off x="774720" y="2743200"/>
            <a:ext cx="775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imes New Roman"/>
                <a:cs typeface="Traditional Arabic"/>
              </a:rPr>
              <a:t>أمثلة مقارنة لنسبة وحدات نيفيلومترك لأسباب مختلفة</a:t>
            </a:r>
            <a:endParaRPr b="0" lang="en-US" sz="3200" spc="-1" strike="noStrike">
              <a:solidFill>
                <a:srgbClr val="ccecff"/>
              </a:solidFill>
              <a:latin typeface="Times New Roman"/>
            </a:endParaRPr>
          </a:p>
        </p:txBody>
      </p:sp>
      <p:sp>
        <p:nvSpPr>
          <p:cNvPr id="546" name="Text Box 8"/>
          <p:cNvSpPr/>
          <p:nvPr/>
        </p:nvSpPr>
        <p:spPr>
          <a:xfrm>
            <a:off x="524520" y="6324480"/>
            <a:ext cx="502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ttp://lake access.org/russ/turbidity.htm</a:t>
            </a:r>
            <a:endParaRPr b="0" lang="en-US" sz="2400" spc="-1" strike="noStrike">
              <a:solidFill>
                <a:srgbClr val="ccecff"/>
              </a:solidFill>
              <a:latin typeface="Times New Roman"/>
            </a:endParaRPr>
          </a:p>
        </p:txBody>
      </p:sp>
      <p:sp>
        <p:nvSpPr>
          <p:cNvPr id="547" name="TextBox 1"/>
          <p:cNvSpPr/>
          <p:nvPr/>
        </p:nvSpPr>
        <p:spPr>
          <a:xfrm>
            <a:off x="1828800" y="3794040"/>
            <a:ext cx="5791320" cy="1312920"/>
          </a:xfrm>
          <a:prstGeom prst="rect">
            <a:avLst/>
          </a:prstGeom>
          <a:solidFill>
            <a:srgbClr val="003300"/>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raditional Arabic"/>
              </a:rPr>
              <a:t>العكرة بسبب الرواسب الصلبة</a:t>
            </a:r>
            <a:endParaRPr b="0" lang="en-US" sz="4000" spc="-1" strike="noStrike">
              <a:solidFill>
                <a:srgbClr val="ccecff"/>
              </a:solidFill>
              <a:latin typeface="Times New Roman"/>
            </a:endParaRPr>
          </a:p>
        </p:txBody>
      </p:sp>
      <p:sp>
        <p:nvSpPr>
          <p:cNvPr id="548" name="TextBox 10"/>
          <p:cNvSpPr/>
          <p:nvPr/>
        </p:nvSpPr>
        <p:spPr>
          <a:xfrm>
            <a:off x="1981080" y="76320"/>
            <a:ext cx="5791320" cy="1312920"/>
          </a:xfrm>
          <a:prstGeom prst="rect">
            <a:avLst/>
          </a:prstGeom>
          <a:solidFill>
            <a:srgbClr val="003300"/>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raditional Arabic"/>
              </a:rPr>
              <a:t>العكرة بسبب المواد العضوية</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2"/>
          <p:cNvSpPr/>
          <p:nvPr/>
        </p:nvSpPr>
        <p:spPr>
          <a:xfrm>
            <a:off x="-960840" y="228600"/>
            <a:ext cx="11170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بعض المؤشرات الخاصة بمؤشرات </a:t>
            </a:r>
            <a:r>
              <a:rPr b="1" lang="ar-SA" sz="3200" spc="-1" strike="noStrike" u="sng">
                <a:solidFill>
                  <a:srgbClr val="ffffff"/>
                </a:solidFill>
                <a:uFillTx/>
                <a:latin typeface="Arial"/>
                <a:cs typeface="Traditional Arabic"/>
              </a:rPr>
              <a:t>مرافق استعمال الماء</a:t>
            </a:r>
            <a:endParaRPr b="0" lang="en-US" sz="3200" spc="-1" strike="noStrike">
              <a:solidFill>
                <a:srgbClr val="ccecff"/>
              </a:solidFill>
              <a:latin typeface="Times New Roman"/>
            </a:endParaRPr>
          </a:p>
        </p:txBody>
      </p:sp>
      <p:sp>
        <p:nvSpPr>
          <p:cNvPr id="550" name="Text Box 3"/>
          <p:cNvSpPr/>
          <p:nvPr/>
        </p:nvSpPr>
        <p:spPr>
          <a:xfrm>
            <a:off x="0" y="1447920"/>
            <a:ext cx="65833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rtl="1">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 </a:t>
            </a:r>
            <a:r>
              <a:rPr b="1" lang="ar-SA" sz="2400" spc="-1" strike="noStrike">
                <a:solidFill>
                  <a:srgbClr val="ccecff"/>
                </a:solidFill>
                <a:latin typeface="Times New Roman"/>
                <a:cs typeface="Traditional Arabic"/>
              </a:rPr>
              <a:t>ينبغي أن تحصل كل عائلة على وعاءين على الأقل تتراوح سعتهما بين </a:t>
            </a:r>
            <a:r>
              <a:rPr b="1" lang="ar-SA" sz="2400" spc="-1" strike="noStrike">
                <a:solidFill>
                  <a:srgbClr val="ccecff"/>
                </a:solidFill>
                <a:latin typeface="Times New Roman"/>
                <a:ea typeface="Traditional Arabic"/>
              </a:rPr>
              <a:t>10</a:t>
            </a:r>
            <a:r>
              <a:rPr b="1" lang="ar-SA" sz="2400" spc="-1" strike="noStrike">
                <a:solidFill>
                  <a:srgbClr val="ccecff"/>
                </a:solidFill>
                <a:latin typeface="Times New Roman"/>
                <a:ea typeface="Traditional Arabic"/>
              </a:rPr>
              <a:t> و </a:t>
            </a:r>
            <a:r>
              <a:rPr b="1" lang="ar-SA" sz="2400" spc="-1" strike="noStrike">
                <a:solidFill>
                  <a:srgbClr val="ccecff"/>
                </a:solidFill>
                <a:latin typeface="Times New Roman"/>
                <a:ea typeface="Traditional Arabic"/>
              </a:rPr>
              <a:t>20</a:t>
            </a:r>
            <a:r>
              <a:rPr b="1" lang="ar-SA" sz="2400" spc="-1" strike="noStrike">
                <a:solidFill>
                  <a:srgbClr val="ccecff"/>
                </a:solidFill>
                <a:latin typeface="Times New Roman"/>
                <a:ea typeface="Traditional Arabic"/>
              </a:rPr>
              <a:t> لتراً، يخصص أحدهما لحفظ الماء والآخر لنقله (الأوعية ذات فوهة ضيقة و/أو لها سدادات)</a:t>
            </a:r>
            <a:endParaRPr b="0" lang="en-US" sz="24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rtl="1">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 وعاء واحد لتخزين الماء (له فوهة ضيقة أوسدادة أو كليهما) </a:t>
            </a:r>
            <a:endParaRPr b="0" lang="en-US" sz="24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rtl="1">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 أماكن منفصلة للاستحمام للرجال والنساء (إذا كانت المرافق للاستخدام العام)</a:t>
            </a:r>
            <a:endParaRPr b="0" lang="en-US" sz="2400" spc="-1" strike="noStrike">
              <a:solidFill>
                <a:srgbClr val="ccecff"/>
              </a:solidFill>
              <a:latin typeface="Times New Roman"/>
            </a:endParaRPr>
          </a:p>
          <a:p>
            <a:pPr algn="just" rtl="1">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ea typeface="Traditional Arabic"/>
              </a:rPr>
              <a:t> </a:t>
            </a:r>
            <a:r>
              <a:rPr b="1" lang="ar-SA" sz="2400" spc="-1" strike="noStrike">
                <a:solidFill>
                  <a:srgbClr val="ccecff"/>
                </a:solidFill>
                <a:latin typeface="Times New Roman"/>
                <a:cs typeface="Traditional Arabic"/>
              </a:rPr>
              <a:t>ينبغي توفير حوض واحد على الأقل لغسل الملابس لكل </a:t>
            </a:r>
            <a:r>
              <a:rPr b="1" lang="ar-SA" sz="2400" spc="-1" strike="noStrike">
                <a:solidFill>
                  <a:srgbClr val="ccecff"/>
                </a:solidFill>
                <a:latin typeface="Times New Roman"/>
                <a:ea typeface="Traditional Arabic"/>
              </a:rPr>
              <a:t>100</a:t>
            </a:r>
            <a:r>
              <a:rPr b="1" lang="ar-SA" sz="2400" spc="-1" strike="noStrike">
                <a:solidFill>
                  <a:srgbClr val="ccecff"/>
                </a:solidFill>
                <a:latin typeface="Times New Roman"/>
                <a:ea typeface="Traditional Arabic"/>
              </a:rPr>
              <a:t> شخص. وينبغي تخصيص أماكن محددة للنساء لغسل الملابس والاستحمام وتوفير كمية كافية من الماء للقيام بذلك.</a:t>
            </a:r>
            <a:endParaRPr b="0" lang="en-US" sz="2400" spc="-1" strike="noStrike">
              <a:solidFill>
                <a:srgbClr val="ccecff"/>
              </a:solidFill>
              <a:latin typeface="Times New Roman"/>
            </a:endParaRPr>
          </a:p>
        </p:txBody>
      </p:sp>
      <p:pic>
        <p:nvPicPr>
          <p:cNvPr id="551" name="Picture 7" descr="http://www.plasticsandstorage.com.au/images/5LJC_WU.jpg"/>
          <p:cNvPicPr/>
          <p:nvPr/>
        </p:nvPicPr>
        <p:blipFill>
          <a:blip r:embed="rId1"/>
          <a:srcRect l="9675" t="4452" r="9675" b="6506"/>
          <a:stretch/>
        </p:blipFill>
        <p:spPr>
          <a:xfrm>
            <a:off x="6934320" y="1752480"/>
            <a:ext cx="2209680" cy="3535560"/>
          </a:xfrm>
          <a:prstGeom prst="rect">
            <a:avLst/>
          </a:prstGeom>
          <a:ln w="0">
            <a:noFill/>
          </a:ln>
        </p:spPr>
      </p:pic>
      <p:sp>
        <p:nvSpPr>
          <p:cNvPr id="552" name="Freeform 9"/>
          <p:cNvSpPr/>
          <p:nvPr/>
        </p:nvSpPr>
        <p:spPr>
          <a:xfrm>
            <a:off x="6620040" y="5238720"/>
            <a:ext cx="365040" cy="433440"/>
          </a:xfrm>
          <a:custGeom>
            <a:avLst/>
            <a:gdLst>
              <a:gd name="textAreaLeft" fmla="*/ 0 w 365040"/>
              <a:gd name="textAreaRight" fmla="*/ 365400 w 365040"/>
              <a:gd name="textAreaTop" fmla="*/ 0 h 433440"/>
              <a:gd name="textAreaBottom" fmla="*/ 433800 h 433440"/>
            </a:gdLst>
            <a:ahLst/>
            <a:rect l="textAreaLeft" t="textAreaTop" r="textAreaRight" b="textAreaBottom"/>
            <a:pathLst>
              <a:path w="365802" h="433388">
                <a:moveTo>
                  <a:pt x="80963" y="23813"/>
                </a:moveTo>
                <a:lnTo>
                  <a:pt x="80963" y="23813"/>
                </a:lnTo>
                <a:cubicBezTo>
                  <a:pt x="82550" y="47625"/>
                  <a:pt x="83090" y="71531"/>
                  <a:pt x="85725" y="95250"/>
                </a:cubicBezTo>
                <a:cubicBezTo>
                  <a:pt x="86279" y="100240"/>
                  <a:pt x="87703" y="105361"/>
                  <a:pt x="90488" y="109538"/>
                </a:cubicBezTo>
                <a:cubicBezTo>
                  <a:pt x="94224" y="115142"/>
                  <a:pt x="100013" y="119063"/>
                  <a:pt x="104775" y="123825"/>
                </a:cubicBezTo>
                <a:cubicBezTo>
                  <a:pt x="106363" y="130175"/>
                  <a:pt x="107740" y="136581"/>
                  <a:pt x="109538" y="142875"/>
                </a:cubicBezTo>
                <a:cubicBezTo>
                  <a:pt x="117488" y="170700"/>
                  <a:pt x="111624" y="142740"/>
                  <a:pt x="119063" y="176213"/>
                </a:cubicBezTo>
                <a:cubicBezTo>
                  <a:pt x="121238" y="185999"/>
                  <a:pt x="123480" y="204098"/>
                  <a:pt x="128588" y="214313"/>
                </a:cubicBezTo>
                <a:cubicBezTo>
                  <a:pt x="131148" y="219432"/>
                  <a:pt x="134938" y="223838"/>
                  <a:pt x="138113" y="228600"/>
                </a:cubicBezTo>
                <a:lnTo>
                  <a:pt x="147638" y="257175"/>
                </a:lnTo>
                <a:cubicBezTo>
                  <a:pt x="150776" y="266588"/>
                  <a:pt x="153531" y="279035"/>
                  <a:pt x="161925" y="285750"/>
                </a:cubicBezTo>
                <a:cubicBezTo>
                  <a:pt x="165845" y="288886"/>
                  <a:pt x="171723" y="288268"/>
                  <a:pt x="176213" y="290513"/>
                </a:cubicBezTo>
                <a:cubicBezTo>
                  <a:pt x="213135" y="308974"/>
                  <a:pt x="168881" y="292833"/>
                  <a:pt x="204788" y="304800"/>
                </a:cubicBezTo>
                <a:cubicBezTo>
                  <a:pt x="211138" y="314325"/>
                  <a:pt x="212978" y="329755"/>
                  <a:pt x="223838" y="333375"/>
                </a:cubicBezTo>
                <a:cubicBezTo>
                  <a:pt x="233363" y="336550"/>
                  <a:pt x="242509" y="341249"/>
                  <a:pt x="252413" y="342900"/>
                </a:cubicBezTo>
                <a:lnTo>
                  <a:pt x="280988" y="347663"/>
                </a:lnTo>
                <a:cubicBezTo>
                  <a:pt x="292083" y="349370"/>
                  <a:pt x="303318" y="350224"/>
                  <a:pt x="314325" y="352425"/>
                </a:cubicBezTo>
                <a:cubicBezTo>
                  <a:pt x="365802" y="362720"/>
                  <a:pt x="336837" y="361950"/>
                  <a:pt x="361950" y="361950"/>
                </a:cubicBezTo>
                <a:lnTo>
                  <a:pt x="333375" y="433388"/>
                </a:lnTo>
                <a:lnTo>
                  <a:pt x="0" y="409575"/>
                </a:lnTo>
                <a:lnTo>
                  <a:pt x="14288" y="0"/>
                </a:lnTo>
                <a:lnTo>
                  <a:pt x="80963" y="2381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53" name="Freeform 10"/>
          <p:cNvSpPr/>
          <p:nvPr/>
        </p:nvSpPr>
        <p:spPr>
          <a:xfrm flipH="1">
            <a:off x="8702640" y="5181480"/>
            <a:ext cx="365040" cy="433440"/>
          </a:xfrm>
          <a:custGeom>
            <a:avLst/>
            <a:gdLst>
              <a:gd name="textAreaLeft" fmla="*/ 360 w 365040"/>
              <a:gd name="textAreaRight" fmla="*/ 365760 w 365040"/>
              <a:gd name="textAreaTop" fmla="*/ 0 h 433440"/>
              <a:gd name="textAreaBottom" fmla="*/ 433800 h 433440"/>
            </a:gdLst>
            <a:ahLst/>
            <a:rect l="textAreaLeft" t="textAreaTop" r="textAreaRight" b="textAreaBottom"/>
            <a:pathLst>
              <a:path w="365802" h="433388">
                <a:moveTo>
                  <a:pt x="80963" y="23813"/>
                </a:moveTo>
                <a:lnTo>
                  <a:pt x="80963" y="23813"/>
                </a:lnTo>
                <a:cubicBezTo>
                  <a:pt x="82550" y="47625"/>
                  <a:pt x="83090" y="71531"/>
                  <a:pt x="85725" y="95250"/>
                </a:cubicBezTo>
                <a:cubicBezTo>
                  <a:pt x="86279" y="100240"/>
                  <a:pt x="87703" y="105361"/>
                  <a:pt x="90488" y="109538"/>
                </a:cubicBezTo>
                <a:cubicBezTo>
                  <a:pt x="94224" y="115142"/>
                  <a:pt x="100013" y="119063"/>
                  <a:pt x="104775" y="123825"/>
                </a:cubicBezTo>
                <a:cubicBezTo>
                  <a:pt x="106363" y="130175"/>
                  <a:pt x="107740" y="136581"/>
                  <a:pt x="109538" y="142875"/>
                </a:cubicBezTo>
                <a:cubicBezTo>
                  <a:pt x="117488" y="170700"/>
                  <a:pt x="111624" y="142740"/>
                  <a:pt x="119063" y="176213"/>
                </a:cubicBezTo>
                <a:cubicBezTo>
                  <a:pt x="121238" y="185999"/>
                  <a:pt x="123480" y="204098"/>
                  <a:pt x="128588" y="214313"/>
                </a:cubicBezTo>
                <a:cubicBezTo>
                  <a:pt x="131148" y="219432"/>
                  <a:pt x="134938" y="223838"/>
                  <a:pt x="138113" y="228600"/>
                </a:cubicBezTo>
                <a:lnTo>
                  <a:pt x="147638" y="257175"/>
                </a:lnTo>
                <a:cubicBezTo>
                  <a:pt x="150776" y="266588"/>
                  <a:pt x="153531" y="279035"/>
                  <a:pt x="161925" y="285750"/>
                </a:cubicBezTo>
                <a:cubicBezTo>
                  <a:pt x="165845" y="288886"/>
                  <a:pt x="171723" y="288268"/>
                  <a:pt x="176213" y="290513"/>
                </a:cubicBezTo>
                <a:cubicBezTo>
                  <a:pt x="213135" y="308974"/>
                  <a:pt x="168881" y="292833"/>
                  <a:pt x="204788" y="304800"/>
                </a:cubicBezTo>
                <a:cubicBezTo>
                  <a:pt x="211138" y="314325"/>
                  <a:pt x="212978" y="329755"/>
                  <a:pt x="223838" y="333375"/>
                </a:cubicBezTo>
                <a:cubicBezTo>
                  <a:pt x="233363" y="336550"/>
                  <a:pt x="242509" y="341249"/>
                  <a:pt x="252413" y="342900"/>
                </a:cubicBezTo>
                <a:lnTo>
                  <a:pt x="280988" y="347663"/>
                </a:lnTo>
                <a:cubicBezTo>
                  <a:pt x="292083" y="349370"/>
                  <a:pt x="303318" y="350224"/>
                  <a:pt x="314325" y="352425"/>
                </a:cubicBezTo>
                <a:cubicBezTo>
                  <a:pt x="365802" y="362720"/>
                  <a:pt x="336837" y="361950"/>
                  <a:pt x="361950" y="361950"/>
                </a:cubicBezTo>
                <a:lnTo>
                  <a:pt x="333375" y="433388"/>
                </a:lnTo>
                <a:lnTo>
                  <a:pt x="0" y="409575"/>
                </a:lnTo>
                <a:lnTo>
                  <a:pt x="14288" y="0"/>
                </a:lnTo>
                <a:lnTo>
                  <a:pt x="80963" y="2381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3" descr=""/>
          <p:cNvPicPr/>
          <p:nvPr/>
        </p:nvPicPr>
        <p:blipFill>
          <a:blip r:embed="rId1"/>
          <a:stretch/>
        </p:blipFill>
        <p:spPr>
          <a:xfrm>
            <a:off x="762120" y="1295280"/>
            <a:ext cx="3333600" cy="2619360"/>
          </a:xfrm>
          <a:prstGeom prst="rect">
            <a:avLst/>
          </a:prstGeom>
          <a:ln w="0">
            <a:noFill/>
          </a:ln>
        </p:spPr>
      </p:pic>
      <p:sp>
        <p:nvSpPr>
          <p:cNvPr id="555" name="Text Box 4"/>
          <p:cNvSpPr/>
          <p:nvPr/>
        </p:nvSpPr>
        <p:spPr>
          <a:xfrm>
            <a:off x="152280" y="4419720"/>
            <a:ext cx="4419720" cy="2226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Traditional Arabic"/>
              </a:rPr>
              <a:t>أطفال أفغان يجمعون الماء من مضخة يدوية قدمتها اليونيسيف في مخيم ناصر باغ للاجئين في بشاور بباكستان</a:t>
            </a:r>
            <a:endParaRPr b="0" lang="en-US" sz="2800" spc="-1" strike="noStrike">
              <a:solidFill>
                <a:srgbClr val="ccecff"/>
              </a:solidFill>
              <a:latin typeface="Times New Roman"/>
            </a:endParaRPr>
          </a:p>
        </p:txBody>
      </p:sp>
      <p:sp>
        <p:nvSpPr>
          <p:cNvPr id="556" name="Text Box 5"/>
          <p:cNvSpPr/>
          <p:nvPr/>
        </p:nvSpPr>
        <p:spPr>
          <a:xfrm>
            <a:off x="423000" y="4041720"/>
            <a:ext cx="286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rPr>
              <a:t>حقوق طبع الصورة ليونيسيف/ نوراني</a:t>
            </a:r>
            <a:endParaRPr b="0" lang="en-US" sz="1400" spc="-1" strike="noStrike">
              <a:solidFill>
                <a:srgbClr val="ccecff"/>
              </a:solidFill>
              <a:latin typeface="Times New Roman"/>
            </a:endParaRPr>
          </a:p>
        </p:txBody>
      </p:sp>
      <p:pic>
        <p:nvPicPr>
          <p:cNvPr id="557" name="Picture 6" descr=""/>
          <p:cNvPicPr/>
          <p:nvPr/>
        </p:nvPicPr>
        <p:blipFill>
          <a:blip r:embed="rId2"/>
          <a:srcRect l="3863" t="2382" r="3471" b="23818"/>
          <a:stretch/>
        </p:blipFill>
        <p:spPr>
          <a:xfrm>
            <a:off x="5867280" y="990720"/>
            <a:ext cx="1981440" cy="2558880"/>
          </a:xfrm>
          <a:prstGeom prst="rect">
            <a:avLst/>
          </a:prstGeom>
          <a:ln w="0">
            <a:noFill/>
          </a:ln>
        </p:spPr>
      </p:pic>
      <p:sp>
        <p:nvSpPr>
          <p:cNvPr id="558" name="Text Box 7"/>
          <p:cNvSpPr/>
          <p:nvPr/>
        </p:nvSpPr>
        <p:spPr>
          <a:xfrm>
            <a:off x="4754520" y="4419720"/>
            <a:ext cx="420696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Traditional Arabic"/>
              </a:rPr>
              <a:t>جراكن متوفرة في السوق المحلي سعتها </a:t>
            </a:r>
            <a:r>
              <a:rPr b="0" lang="ar-SA" sz="2800" spc="-1" strike="noStrike">
                <a:solidFill>
                  <a:srgbClr val="ccecff"/>
                </a:solidFill>
                <a:latin typeface="Arial"/>
                <a:ea typeface="Traditional Arabic"/>
              </a:rPr>
              <a:t>20</a:t>
            </a:r>
            <a:r>
              <a:rPr b="0" lang="ar-SA" sz="2800" spc="-1" strike="noStrike">
                <a:solidFill>
                  <a:srgbClr val="ccecff"/>
                </a:solidFill>
                <a:latin typeface="Arial"/>
                <a:ea typeface="Traditional Arabic"/>
              </a:rPr>
              <a:t> لتر تستخدم على نطاق واسع في المشاريع الكبيرة التي تمولها منظمة كير الدولية ضمن مبادرة الصحة التي تم دمجها في برنامج الهيئة</a:t>
            </a:r>
            <a:endParaRPr b="0" lang="en-US" sz="2800" spc="-1" strike="noStrike">
              <a:solidFill>
                <a:srgbClr val="ccecff"/>
              </a:solidFill>
              <a:latin typeface="Times New Roman"/>
            </a:endParaRPr>
          </a:p>
        </p:txBody>
      </p:sp>
      <p:sp>
        <p:nvSpPr>
          <p:cNvPr id="559" name="Text Box 8"/>
          <p:cNvSpPr/>
          <p:nvPr/>
        </p:nvSpPr>
        <p:spPr>
          <a:xfrm>
            <a:off x="5405400" y="3692520"/>
            <a:ext cx="28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حقوق طبع الصورة لسي دي سي</a:t>
            </a:r>
            <a:endParaRPr b="0" lang="en-US" sz="1600" spc="-1" strike="noStrike">
              <a:solidFill>
                <a:srgbClr val="ccecff"/>
              </a:solidFill>
              <a:latin typeface="Times New Roman"/>
            </a:endParaRPr>
          </a:p>
        </p:txBody>
      </p:sp>
      <p:sp>
        <p:nvSpPr>
          <p:cNvPr id="560" name="Line 9"/>
          <p:cNvSpPr/>
          <p:nvPr/>
        </p:nvSpPr>
        <p:spPr>
          <a:xfrm>
            <a:off x="380880" y="838080"/>
            <a:ext cx="8382240" cy="0"/>
          </a:xfrm>
          <a:prstGeom prst="line">
            <a:avLst/>
          </a:prstGeom>
          <a:ln w="7632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1" name="Text Box 10"/>
          <p:cNvSpPr/>
          <p:nvPr/>
        </p:nvSpPr>
        <p:spPr>
          <a:xfrm>
            <a:off x="1474200" y="228600"/>
            <a:ext cx="6426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أيهما صواب وأيهما خطأ ولماذا؟</a:t>
            </a:r>
            <a:endParaRPr b="0" lang="en-US" sz="3200" spc="-1" strike="noStrike">
              <a:solidFill>
                <a:srgbClr val="ccecff"/>
              </a:solidFill>
              <a:latin typeface="Times New Roman"/>
            </a:endParaRPr>
          </a:p>
        </p:txBody>
      </p:sp>
      <p:sp>
        <p:nvSpPr>
          <p:cNvPr id="562" name="Line 11"/>
          <p:cNvSpPr/>
          <p:nvPr/>
        </p:nvSpPr>
        <p:spPr>
          <a:xfrm>
            <a:off x="4648320" y="838080"/>
            <a:ext cx="1440" cy="5410440"/>
          </a:xfrm>
          <a:prstGeom prst="line">
            <a:avLst/>
          </a:prstGeom>
          <a:ln w="7632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1026" descr="bladdertanks_big"/>
          <p:cNvPicPr/>
          <p:nvPr/>
        </p:nvPicPr>
        <p:blipFill>
          <a:blip r:embed="rId1"/>
          <a:stretch/>
        </p:blipFill>
        <p:spPr>
          <a:xfrm>
            <a:off x="609480" y="228600"/>
            <a:ext cx="7848720" cy="5235480"/>
          </a:xfrm>
          <a:prstGeom prst="rect">
            <a:avLst/>
          </a:prstGeom>
          <a:ln w="0">
            <a:noFill/>
          </a:ln>
        </p:spPr>
      </p:pic>
      <p:sp>
        <p:nvSpPr>
          <p:cNvPr id="564" name="Text Box 1027"/>
          <p:cNvSpPr/>
          <p:nvPr/>
        </p:nvSpPr>
        <p:spPr>
          <a:xfrm>
            <a:off x="304920" y="5603760"/>
            <a:ext cx="8839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شاحنة مياه للطوارئ وخزان مطاطي وحامل للصنابير. ما هي مؤشرات اسفير التي تنطبق على هذا تصميم أو مكان أو تركيب هذه المرافق؟</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04920" y="0"/>
            <a:ext cx="8534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نهوض بالنظافة رقم </a:t>
            </a:r>
            <a:r>
              <a:rPr b="1" lang="ar-SA" sz="4400" spc="-1" strike="noStrike">
                <a:solidFill>
                  <a:srgbClr val="ccecff"/>
                </a:solidFill>
                <a:latin typeface="Times New Roman"/>
                <a:ea typeface="Traditional Arabic"/>
              </a:rPr>
              <a:t>1</a:t>
            </a:r>
            <a:r>
              <a:rPr b="1" lang="ar-SA" sz="4400" spc="-1" strike="noStrike">
                <a:solidFill>
                  <a:srgbClr val="ccecff"/>
                </a:solidFill>
                <a:latin typeface="Times New Roman"/>
                <a:ea typeface="Traditional Arabic"/>
              </a:rPr>
              <a:t>: تنفيذ برامج النهوض بالنظافة</a:t>
            </a:r>
            <a:endParaRPr b="0" lang="en-US" sz="4400" spc="-1" strike="noStrike">
              <a:solidFill>
                <a:srgbClr val="ccecff"/>
              </a:solidFill>
              <a:latin typeface="Times New Roman"/>
            </a:endParaRPr>
          </a:p>
        </p:txBody>
      </p:sp>
      <p:sp>
        <p:nvSpPr>
          <p:cNvPr id="104" name="Text Box 5"/>
          <p:cNvSpPr/>
          <p:nvPr/>
        </p:nvSpPr>
        <p:spPr>
          <a:xfrm>
            <a:off x="3962520" y="2459160"/>
            <a:ext cx="5045040" cy="4480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cs typeface="Traditional Arabic"/>
              </a:rPr>
              <a:t>توعية الرجال والنساء والأطفال المتضررين، أيا كان سنهم، بالمخاطر الرئيسية المحدقة بالصحة العامة، وتشجيعهم على اتخاذ تدابير تحول دون تدهور ظروف النظافة، وحثهم على استعمال المرافق المتاحة وصيانتها.</a:t>
            </a:r>
            <a:endParaRPr b="0" lang="en-US" sz="3200" spc="-1" strike="noStrike">
              <a:solidFill>
                <a:srgbClr val="ccecff"/>
              </a:solidFill>
              <a:latin typeface="Times New Roman"/>
            </a:endParaRPr>
          </a:p>
        </p:txBody>
      </p:sp>
      <p:sp>
        <p:nvSpPr>
          <p:cNvPr id="105" name="Line 5"/>
          <p:cNvSpPr/>
          <p:nvPr/>
        </p:nvSpPr>
        <p:spPr>
          <a:xfrm>
            <a:off x="304920" y="2209680"/>
            <a:ext cx="8458200" cy="1800"/>
          </a:xfrm>
          <a:prstGeom prst="line">
            <a:avLst/>
          </a:prstGeom>
          <a:ln w="763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pic>
        <p:nvPicPr>
          <p:cNvPr id="106" name="Picture 8" descr="http://www.educationandtransition.org/wp-content/uploads/2011/09/Yemen-Children-learning-hygiene-300x200.jpg">
            <a:hlinkClick r:id="rId1"/>
          </p:cNvPr>
          <p:cNvPicPr/>
          <p:nvPr/>
        </p:nvPicPr>
        <p:blipFill>
          <a:blip r:embed="rId2"/>
          <a:srcRect l="31255" t="0" r="0" b="0"/>
          <a:stretch/>
        </p:blipFill>
        <p:spPr>
          <a:xfrm>
            <a:off x="304920" y="2438280"/>
            <a:ext cx="3535200" cy="3429000"/>
          </a:xfrm>
          <a:prstGeom prst="rect">
            <a:avLst/>
          </a:prstGeom>
          <a:ln w="0">
            <a:noFill/>
          </a:ln>
        </p:spPr>
      </p:pic>
      <p:sp>
        <p:nvSpPr>
          <p:cNvPr id="107" name="TextBox 10"/>
          <p:cNvSpPr/>
          <p:nvPr/>
        </p:nvSpPr>
        <p:spPr>
          <a:xfrm>
            <a:off x="-498960" y="5888160"/>
            <a:ext cx="4403520" cy="5806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Times New Roman"/>
                <a:cs typeface="Traditional Arabic"/>
              </a:rPr>
              <a:t>حقوق طبع الصورة</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Times New Roman"/>
                <a:cs typeface="Traditional Arabic"/>
              </a:rPr>
              <a:t>لمنظمة الأمم المتحدة للطفولة – اليونيسيف </a:t>
            </a:r>
            <a:r>
              <a:rPr b="0" lang="ar-SA" sz="1600" spc="-1" strike="noStrike">
                <a:solidFill>
                  <a:srgbClr val="ccecff"/>
                </a:solidFill>
                <a:latin typeface="Times New Roman"/>
                <a:ea typeface="Traditional Arabic"/>
              </a:rPr>
              <a:t>2012</a:t>
            </a:r>
            <a:endParaRPr b="0" lang="en-US" sz="1600" spc="-1" strike="noStrike">
              <a:solidFill>
                <a:srgbClr val="ccecff"/>
              </a:solidFill>
              <a:latin typeface="Times New Roman"/>
            </a:endParaRPr>
          </a:p>
        </p:txBody>
      </p:sp>
      <p:sp>
        <p:nvSpPr>
          <p:cNvPr id="108" name="Text Box 6"/>
          <p:cNvSpPr/>
          <p:nvPr/>
        </p:nvSpPr>
        <p:spPr>
          <a:xfrm>
            <a:off x="2718720" y="622944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86</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3"/>
          <p:cNvSpPr/>
          <p:nvPr/>
        </p:nvSpPr>
        <p:spPr>
          <a:xfrm>
            <a:off x="-2269080" y="228600"/>
            <a:ext cx="1198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بعض مؤشرات اسفير الخاصة بالتخلص من الفضلات العضوية</a:t>
            </a:r>
            <a:endParaRPr b="0" lang="en-US" sz="3200" spc="-1" strike="noStrike">
              <a:solidFill>
                <a:srgbClr val="ccecff"/>
              </a:solidFill>
              <a:latin typeface="Times New Roman"/>
            </a:endParaRPr>
          </a:p>
        </p:txBody>
      </p:sp>
      <p:sp>
        <p:nvSpPr>
          <p:cNvPr id="566" name="Text Box 4"/>
          <p:cNvSpPr/>
          <p:nvPr/>
        </p:nvSpPr>
        <p:spPr>
          <a:xfrm>
            <a:off x="304920" y="1066680"/>
            <a:ext cx="6095880" cy="7860240"/>
          </a:xfrm>
          <a:prstGeom prst="rect">
            <a:avLst/>
          </a:prstGeom>
          <a:noFill/>
          <a:ln w="0">
            <a:noFill/>
          </a:ln>
        </p:spPr>
        <p:style>
          <a:lnRef idx="0"/>
          <a:fillRef idx="0"/>
          <a:effectRef idx="0"/>
          <a:fontRef idx="minor"/>
        </p:style>
        <p:txBody>
          <a:bodyPr lIns="90000" rIns="90000" tIns="46800" bIns="46800" anchor="t">
            <a:spAutoFit/>
          </a:bodyPr>
          <a:p>
            <a:pPr marL="351000" indent="-351000" algn="r" rtl="1">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cecff"/>
                </a:solidFill>
                <a:latin typeface="Times New Roman"/>
                <a:cs typeface="Traditional Arabic"/>
              </a:rPr>
              <a:t>ينبغي أن يكون الوسط الذي يعيش فيه السكان المنكوبون خاليا من الغائط البشري</a:t>
            </a:r>
            <a:endParaRPr b="0" lang="en-US" sz="3000" spc="-1" strike="noStrike">
              <a:solidFill>
                <a:srgbClr val="ccecff"/>
              </a:solidFill>
              <a:latin typeface="Times New Roman"/>
            </a:endParaRPr>
          </a:p>
          <a:p>
            <a:pPr marL="351000" indent="-351000" algn="r" rtl="1">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cecff"/>
                </a:solidFill>
                <a:latin typeface="Times New Roman"/>
                <a:cs typeface="Traditional Arabic"/>
              </a:rPr>
              <a:t>يخصص مرحاض واحد لعشرين شخصا على أكثر تقدير</a:t>
            </a:r>
            <a:endParaRPr b="0" lang="en-US" sz="3000" spc="-1" strike="noStrike">
              <a:solidFill>
                <a:srgbClr val="ccecff"/>
              </a:solidFill>
              <a:latin typeface="Times New Roman"/>
            </a:endParaRPr>
          </a:p>
          <a:p>
            <a:pPr marL="351000" indent="-351000" algn="r" rtl="1">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cecff"/>
                </a:solidFill>
                <a:latin typeface="Times New Roman"/>
                <a:cs typeface="Traditional Arabic"/>
              </a:rPr>
              <a:t>يُنظم استعمال المراحيض لكل عائلة و/أو حسب الجنس</a:t>
            </a:r>
            <a:endParaRPr b="0" lang="en-US" sz="3000" spc="-1" strike="noStrike">
              <a:solidFill>
                <a:srgbClr val="ccecff"/>
              </a:solidFill>
              <a:latin typeface="Times New Roman"/>
            </a:endParaRPr>
          </a:p>
          <a:p>
            <a:pPr marL="351000" indent="-351000" algn="r" rtl="1">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cecff"/>
                </a:solidFill>
                <a:latin typeface="Times New Roman"/>
                <a:cs typeface="Traditional Arabic"/>
              </a:rPr>
              <a:t>لا تزيد المسافة الفاصلة بين المراحيض والمساكن عن </a:t>
            </a:r>
            <a:r>
              <a:rPr b="0" lang="ar-SA" sz="3000" spc="-1" strike="noStrike">
                <a:solidFill>
                  <a:srgbClr val="ccecff"/>
                </a:solidFill>
                <a:latin typeface="Times New Roman"/>
                <a:ea typeface="Traditional Arabic"/>
              </a:rPr>
              <a:t>50</a:t>
            </a:r>
            <a:r>
              <a:rPr b="0" lang="ar-SA" sz="3000" spc="-1" strike="noStrike">
                <a:solidFill>
                  <a:srgbClr val="ccecff"/>
                </a:solidFill>
                <a:latin typeface="Times New Roman"/>
                <a:ea typeface="Traditional Arabic"/>
              </a:rPr>
              <a:t> متراً</a:t>
            </a:r>
            <a:endParaRPr b="0" lang="en-US" sz="3000" spc="-1" strike="noStrike">
              <a:solidFill>
                <a:srgbClr val="ccecff"/>
              </a:solidFill>
              <a:latin typeface="Times New Roman"/>
            </a:endParaRPr>
          </a:p>
          <a:p>
            <a:pPr marL="351000" indent="-351000" algn="r" rtl="1">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cecff"/>
                </a:solidFill>
                <a:latin typeface="Times New Roman"/>
                <a:cs typeface="Traditional Arabic"/>
              </a:rPr>
              <a:t>ينبغي أن تقع الحفر الترشيحية ومراحيض الخندق</a:t>
            </a:r>
            <a:endParaRPr b="0" lang="en-US" sz="3000" spc="-1" strike="noStrike">
              <a:solidFill>
                <a:srgbClr val="ccecff"/>
              </a:solidFill>
              <a:latin typeface="Times New Roman"/>
            </a:endParaRPr>
          </a:p>
          <a:p>
            <a:pPr marL="351000" indent="-351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cecff"/>
                </a:solidFill>
                <a:latin typeface="Times New Roman"/>
                <a:cs typeface="Traditional Arabic"/>
              </a:rPr>
              <a:t>و/أو المراحيض على بعد </a:t>
            </a:r>
            <a:r>
              <a:rPr b="0" lang="ar-SA" sz="3000" spc="-1" strike="noStrike">
                <a:solidFill>
                  <a:srgbClr val="ccecff"/>
                </a:solidFill>
                <a:latin typeface="Times New Roman"/>
                <a:ea typeface="Traditional Arabic"/>
              </a:rPr>
              <a:t>30</a:t>
            </a:r>
            <a:r>
              <a:rPr b="0" lang="ar-SA" sz="3000" spc="-1" strike="noStrike">
                <a:solidFill>
                  <a:srgbClr val="ccecff"/>
                </a:solidFill>
                <a:latin typeface="Times New Roman"/>
                <a:ea typeface="Traditional Arabic"/>
              </a:rPr>
              <a:t> مترا على الأقل من أي مصدر من مصادر المياه الجوفية. وينبغي ألا تقل المسافة التي تفصل قاع أي مرحاض عن مستوى المياه الجوفية عن متر ونصف المتر.</a:t>
            </a:r>
            <a:endParaRPr b="0" lang="en-US" sz="3000" spc="-1" strike="noStrike">
              <a:solidFill>
                <a:srgbClr val="ccecff"/>
              </a:solidFill>
              <a:latin typeface="Times New Roman"/>
            </a:endParaRPr>
          </a:p>
        </p:txBody>
      </p:sp>
      <p:pic>
        <p:nvPicPr>
          <p:cNvPr id="567" name="Picture 5" descr="http://farm5.staticflickr.com/4128/5042156870_e23f1d2a98.jpg"/>
          <p:cNvPicPr/>
          <p:nvPr/>
        </p:nvPicPr>
        <p:blipFill>
          <a:blip r:embed="rId1"/>
          <a:srcRect l="0" t="0" r="28890" b="0"/>
          <a:stretch/>
        </p:blipFill>
        <p:spPr>
          <a:xfrm>
            <a:off x="6553080" y="1219320"/>
            <a:ext cx="2113200" cy="3962160"/>
          </a:xfrm>
          <a:prstGeom prst="rect">
            <a:avLst/>
          </a:prstGeom>
          <a:ln w="0">
            <a:noFill/>
          </a:ln>
        </p:spPr>
      </p:pic>
      <p:sp>
        <p:nvSpPr>
          <p:cNvPr id="568" name="TextBox 4"/>
          <p:cNvSpPr/>
          <p:nvPr/>
        </p:nvSpPr>
        <p:spPr>
          <a:xfrm>
            <a:off x="6445080" y="5199120"/>
            <a:ext cx="269892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cs typeface="Traditional Arabic"/>
              </a:rPr>
              <a:t>حقوق طبع الصورة لمنظمة واتر دوت</a:t>
            </a:r>
            <a:endParaRPr b="0" lang="en-US" sz="18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waterdot.org</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1026" descr="Latrines-2"/>
          <p:cNvPicPr/>
          <p:nvPr/>
        </p:nvPicPr>
        <p:blipFill>
          <a:blip r:embed="rId1"/>
          <a:stretch/>
        </p:blipFill>
        <p:spPr>
          <a:xfrm>
            <a:off x="1600200" y="762120"/>
            <a:ext cx="6248520" cy="3809880"/>
          </a:xfrm>
          <a:prstGeom prst="rect">
            <a:avLst/>
          </a:prstGeom>
          <a:ln w="0">
            <a:noFill/>
          </a:ln>
        </p:spPr>
      </p:pic>
      <p:sp>
        <p:nvSpPr>
          <p:cNvPr id="570" name="Text Box 1027"/>
          <p:cNvSpPr/>
          <p:nvPr/>
        </p:nvSpPr>
        <p:spPr>
          <a:xfrm>
            <a:off x="457200" y="5029200"/>
            <a:ext cx="806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ffff"/>
                </a:solidFill>
                <a:latin typeface="Times New Roman"/>
                <a:cs typeface="Traditional Arabic"/>
              </a:rPr>
              <a:t>مخيم شامشاتو الجديد للاجئين في بيشاور بباكستان في أغسطس </a:t>
            </a:r>
            <a:r>
              <a:rPr b="0" lang="ar-SA" sz="2000" spc="-1" strike="noStrike">
                <a:solidFill>
                  <a:srgbClr val="ccffff"/>
                </a:solidFill>
                <a:latin typeface="Times New Roman"/>
                <a:ea typeface="Traditional Arabic"/>
              </a:rPr>
              <a:t>2001</a:t>
            </a:r>
            <a:r>
              <a:rPr b="0" lang="ar-SA" sz="2000" spc="-1" strike="noStrike">
                <a:solidFill>
                  <a:srgbClr val="ccffff"/>
                </a:solidFill>
                <a:latin typeface="Times New Roman"/>
                <a:ea typeface="Traditional Arabic"/>
              </a:rPr>
              <a:t> – حقوق طبع الصورة لمنظمة انتروركس</a:t>
            </a:r>
            <a:endParaRPr b="0" lang="en-US" sz="2000" spc="-1" strike="noStrike">
              <a:solidFill>
                <a:srgbClr val="ccecff"/>
              </a:solidFill>
              <a:latin typeface="Times New Roman"/>
            </a:endParaRPr>
          </a:p>
        </p:txBody>
      </p:sp>
      <p:sp>
        <p:nvSpPr>
          <p:cNvPr id="571" name="Text Box 1028"/>
          <p:cNvSpPr/>
          <p:nvPr/>
        </p:nvSpPr>
        <p:spPr>
          <a:xfrm>
            <a:off x="2114640" y="193680"/>
            <a:ext cx="47145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ماذا ترى في هذه الصورة؟</a:t>
            </a:r>
            <a:endParaRPr b="0" lang="en-US" sz="2800" spc="-1" strike="noStrike">
              <a:solidFill>
                <a:srgbClr val="ccecff"/>
              </a:solidFill>
              <a:latin typeface="Times New Roman"/>
            </a:endParaRPr>
          </a:p>
        </p:txBody>
      </p:sp>
      <p:sp>
        <p:nvSpPr>
          <p:cNvPr id="572" name="Text Box 1029"/>
          <p:cNvSpPr/>
          <p:nvPr/>
        </p:nvSpPr>
        <p:spPr>
          <a:xfrm>
            <a:off x="304920" y="5730840"/>
            <a:ext cx="8762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إذا كان عدد السكان في هذا المخيم </a:t>
            </a:r>
            <a:r>
              <a:rPr b="1" lang="ar-SA" sz="2400" spc="-1" strike="noStrike">
                <a:solidFill>
                  <a:srgbClr val="ffff00"/>
                </a:solidFill>
                <a:latin typeface="Arial"/>
                <a:ea typeface="Traditional Arabic"/>
              </a:rPr>
              <a:t>35,000</a:t>
            </a:r>
            <a:r>
              <a:rPr b="1" lang="ar-SA" sz="2400" spc="-1" strike="noStrike">
                <a:solidFill>
                  <a:srgbClr val="ffff00"/>
                </a:solidFill>
                <a:latin typeface="Arial"/>
                <a:cs typeface="Traditional Arabic"/>
              </a:rPr>
              <a:t>، كم عدد المراحيض المطلوبة طبقاً لمؤشرات اسفير؟ وأين يجب وضع المراحيض في هذا المخيم؟</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3">
                                  <p:stCondLst>
                                    <p:cond delay="0"/>
                                  </p:stCondLst>
                                  <p:childTnLst>
                                    <p:set>
                                      <p:cBhvr>
                                        <p:cTn id="44" dur="1" fill="hold">
                                          <p:stCondLst>
                                            <p:cond delay="0"/>
                                          </p:stCondLst>
                                        </p:cTn>
                                        <p:tgtEl>
                                          <p:spTgt spid="572"/>
                                        </p:tgtEl>
                                        <p:attrNameLst>
                                          <p:attrName>style.visibility</p:attrName>
                                        </p:attrNameLst>
                                      </p:cBhvr>
                                      <p:to>
                                        <p:strVal val="visible"/>
                                      </p:to>
                                    </p:set>
                                    <p:anim calcmode="lin" valueType="num">
                                      <p:cBhvr additive="repl">
                                        <p:cTn id="45" dur="500" fill="hold"/>
                                        <p:tgtEl>
                                          <p:spTgt spid="572"/>
                                        </p:tgtEl>
                                        <p:attrNameLst>
                                          <p:attrName>ppt_w</p:attrName>
                                        </p:attrNameLst>
                                      </p:cBhvr>
                                      <p:tavLst>
                                        <p:tav tm="0">
                                          <p:val>
                                            <p:fltVal val="0"/>
                                          </p:val>
                                        </p:tav>
                                        <p:tav tm="100000">
                                          <p:val>
                                            <p:strVal val="#ppt_w"/>
                                          </p:val>
                                        </p:tav>
                                      </p:tavLst>
                                    </p:anim>
                                    <p:anim calcmode="lin" valueType="num">
                                      <p:cBhvr additive="repl">
                                        <p:cTn id="46" dur="500" fill="hold"/>
                                        <p:tgtEl>
                                          <p:spTgt spid="572"/>
                                        </p:tgtEl>
                                        <p:attrNameLst>
                                          <p:attrName>ppt_h</p:attrName>
                                        </p:attrNameLst>
                                      </p:cBhvr>
                                      <p:tavLst>
                                        <p:tav tm="0">
                                          <p:val>
                                            <p:fltVal val="0"/>
                                          </p:val>
                                        </p:tav>
                                        <p:tav tm="100000">
                                          <p:val>
                                            <p:strVal val="#ppt_h"/>
                                          </p:val>
                                        </p:tav>
                                      </p:tavLst>
                                    </p:anim>
                                    <p:animEffect filter="fade" transition="in">
                                      <p:cBhvr additive="repl">
                                        <p:cTn id="47"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Oval 2"/>
          <p:cNvSpPr/>
          <p:nvPr/>
        </p:nvSpPr>
        <p:spPr>
          <a:xfrm>
            <a:off x="3809880" y="609480"/>
            <a:ext cx="4496040" cy="4496040"/>
          </a:xfrm>
          <a:prstGeom prst="ellipse">
            <a:avLst/>
          </a:prstGeom>
          <a:solidFill>
            <a:srgbClr val="006600"/>
          </a:solidFill>
          <a:ln w="9360">
            <a:solidFill>
              <a:srgbClr val="cce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4" name="Oval 15"/>
          <p:cNvSpPr/>
          <p:nvPr/>
        </p:nvSpPr>
        <p:spPr>
          <a:xfrm>
            <a:off x="5257800" y="2057400"/>
            <a:ext cx="1676520" cy="1600200"/>
          </a:xfrm>
          <a:prstGeom prst="ellipse">
            <a:avLst/>
          </a:prstGeom>
          <a:solidFill>
            <a:srgbClr val="92d050"/>
          </a:solidFill>
          <a:ln w="9360">
            <a:solidFill>
              <a:srgbClr val="cce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5" name="AutoShape 3"/>
          <p:cNvSpPr/>
          <p:nvPr/>
        </p:nvSpPr>
        <p:spPr>
          <a:xfrm rot="16168200">
            <a:off x="5752440" y="2475360"/>
            <a:ext cx="685800" cy="608040"/>
          </a:xfrm>
          <a:custGeom>
            <a:avLst/>
            <a:gdLst>
              <a:gd name="textAreaLeft" fmla="*/ 0 w 685800"/>
              <a:gd name="textAreaRight" fmla="*/ 686160 w 685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6" name="Line 4"/>
          <p:cNvSpPr/>
          <p:nvPr/>
        </p:nvSpPr>
        <p:spPr>
          <a:xfrm>
            <a:off x="5486400" y="3124080"/>
            <a:ext cx="12952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ccecff"/>
              </a:solidFill>
              <a:latin typeface="Times New Roman"/>
            </a:endParaRPr>
          </a:p>
        </p:txBody>
      </p:sp>
      <p:sp>
        <p:nvSpPr>
          <p:cNvPr id="577" name="Text Box 5"/>
          <p:cNvSpPr/>
          <p:nvPr/>
        </p:nvSpPr>
        <p:spPr>
          <a:xfrm>
            <a:off x="6210720" y="263520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Webdings"/>
                <a:ea typeface="Webdings"/>
              </a:rPr>
              <a:t></a:t>
            </a:r>
            <a:endParaRPr b="0" lang="en-US" sz="3600" spc="-1" strike="noStrike">
              <a:solidFill>
                <a:srgbClr val="ccecff"/>
              </a:solidFill>
              <a:latin typeface="Times New Roman"/>
            </a:endParaRPr>
          </a:p>
        </p:txBody>
      </p:sp>
      <p:grpSp>
        <p:nvGrpSpPr>
          <p:cNvPr id="578" name="Group 10"/>
          <p:cNvGrpSpPr/>
          <p:nvPr/>
        </p:nvGrpSpPr>
        <p:grpSpPr>
          <a:xfrm>
            <a:off x="7848720" y="2057400"/>
            <a:ext cx="609480" cy="304560"/>
            <a:chOff x="7848720" y="2057400"/>
            <a:chExt cx="609480" cy="304560"/>
          </a:xfrm>
        </p:grpSpPr>
        <p:sp>
          <p:nvSpPr>
            <p:cNvPr id="579" name="Line 7"/>
            <p:cNvSpPr/>
            <p:nvPr/>
          </p:nvSpPr>
          <p:spPr>
            <a:xfrm>
              <a:off x="7848720" y="2361240"/>
              <a:ext cx="609480" cy="720"/>
            </a:xfrm>
            <a:prstGeom prst="line">
              <a:avLst/>
            </a:prstGeom>
            <a:ln w="9360">
              <a:solidFill>
                <a:srgbClr val="ccecff"/>
              </a:solidFill>
              <a:miter/>
            </a:ln>
          </p:spPr>
          <p:style>
            <a:lnRef idx="0"/>
            <a:fillRef idx="0"/>
            <a:effectRef idx="0"/>
            <a:fontRef idx="minor"/>
          </p:style>
          <p:txBody>
            <a:bodyPr lIns="90000" rIns="90000" tIns="-46080" bIns="-46080" anchor="ctr">
              <a:noAutofit/>
            </a:bodyPr>
            <a:p>
              <a:endParaRPr b="0" lang="en-US" sz="2400" spc="-1" strike="noStrike">
                <a:solidFill>
                  <a:srgbClr val="ccecff"/>
                </a:solidFill>
                <a:latin typeface="Times New Roman"/>
              </a:endParaRPr>
            </a:p>
          </p:txBody>
        </p:sp>
        <p:sp>
          <p:nvSpPr>
            <p:cNvPr id="580" name="Freeform 8"/>
            <p:cNvSpPr/>
            <p:nvPr/>
          </p:nvSpPr>
          <p:spPr>
            <a:xfrm>
              <a:off x="8254800" y="2057400"/>
              <a:ext cx="1080" cy="130320"/>
            </a:xfrm>
            <a:custGeom>
              <a:avLst/>
              <a:gdLst>
                <a:gd name="textAreaLeft" fmla="*/ 0 w 1080"/>
                <a:gd name="textAreaRight" fmla="*/ 1440 w 1080"/>
                <a:gd name="textAreaTop" fmla="*/ 0 h 130320"/>
                <a:gd name="textAreaBottom" fmla="*/ 130680 h 130320"/>
              </a:gdLst>
              <a:ahLst/>
              <a:rect l="textAreaLeft" t="textAreaTop" r="textAreaRight" b="textAreaBottom"/>
              <a:pathLst>
                <a:path w="1" h="144">
                  <a:moveTo>
                    <a:pt x="0" y="144"/>
                  </a:moveTo>
                  <a:lnTo>
                    <a:pt x="0" y="0"/>
                  </a:lnTo>
                  <a:lnTo>
                    <a:pt x="0" y="144"/>
                  </a:lnTo>
                  <a:close/>
                </a:path>
              </a:pathLst>
            </a:custGeom>
            <a:solidFill>
              <a:srgbClr val="cc99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1" name="Freeform 9"/>
            <p:cNvSpPr/>
            <p:nvPr/>
          </p:nvSpPr>
          <p:spPr>
            <a:xfrm>
              <a:off x="8102520" y="2100600"/>
              <a:ext cx="203040" cy="260640"/>
            </a:xfrm>
            <a:custGeom>
              <a:avLst/>
              <a:gdLst>
                <a:gd name="textAreaLeft" fmla="*/ 0 w 203040"/>
                <a:gd name="textAreaRight" fmla="*/ 203400 w 203040"/>
                <a:gd name="textAreaTop" fmla="*/ 0 h 260640"/>
                <a:gd name="textAreaBottom" fmla="*/ 261000 h 260640"/>
              </a:gdLst>
              <a:ahLst/>
              <a:rect l="textAreaLeft" t="textAreaTop" r="textAreaRight" b="textAreaBottom"/>
              <a:pathLst>
                <a:path w="192" h="288">
                  <a:moveTo>
                    <a:pt x="0" y="288"/>
                  </a:moveTo>
                  <a:lnTo>
                    <a:pt x="0" y="0"/>
                  </a:lnTo>
                  <a:lnTo>
                    <a:pt x="192" y="48"/>
                  </a:lnTo>
                  <a:lnTo>
                    <a:pt x="192" y="288"/>
                  </a:lnTo>
                  <a:lnTo>
                    <a:pt x="0" y="288"/>
                  </a:lnTo>
                  <a:close/>
                </a:path>
              </a:pathLst>
            </a:custGeom>
            <a:solidFill>
              <a:srgbClr val="cc99ff"/>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582" name="Line 13"/>
          <p:cNvSpPr/>
          <p:nvPr/>
        </p:nvSpPr>
        <p:spPr>
          <a:xfrm flipV="1">
            <a:off x="6172200" y="2286000"/>
            <a:ext cx="2057400" cy="5335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83" name="Text Box 14"/>
          <p:cNvSpPr/>
          <p:nvPr/>
        </p:nvSpPr>
        <p:spPr>
          <a:xfrm rot="20766600">
            <a:off x="6189840" y="1854360"/>
            <a:ext cx="216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50 </a:t>
            </a:r>
            <a:r>
              <a:rPr b="1" lang="ar-SA" sz="2400" spc="-1" strike="noStrike">
                <a:solidFill>
                  <a:srgbClr val="ffffff"/>
                </a:solidFill>
                <a:latin typeface="Arial"/>
                <a:cs typeface="Arial"/>
              </a:rPr>
              <a:t>م</a:t>
            </a:r>
            <a:endParaRPr b="0" lang="en-US" sz="2400" spc="-1" strike="noStrike">
              <a:solidFill>
                <a:srgbClr val="ccecff"/>
              </a:solidFill>
              <a:latin typeface="Times New Roman"/>
            </a:endParaRPr>
          </a:p>
        </p:txBody>
      </p:sp>
      <p:sp>
        <p:nvSpPr>
          <p:cNvPr id="584" name="Oval 16"/>
          <p:cNvSpPr/>
          <p:nvPr/>
        </p:nvSpPr>
        <p:spPr>
          <a:xfrm>
            <a:off x="5105520" y="2666880"/>
            <a:ext cx="304560" cy="3049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5" name="Line 18"/>
          <p:cNvSpPr/>
          <p:nvPr/>
        </p:nvSpPr>
        <p:spPr>
          <a:xfrm flipH="1">
            <a:off x="5257800" y="2819520"/>
            <a:ext cx="914400" cy="14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ccecff"/>
              </a:solidFill>
              <a:latin typeface="Times New Roman"/>
            </a:endParaRPr>
          </a:p>
        </p:txBody>
      </p:sp>
      <p:sp>
        <p:nvSpPr>
          <p:cNvPr id="586" name="Freeform 20"/>
          <p:cNvSpPr/>
          <p:nvPr/>
        </p:nvSpPr>
        <p:spPr>
          <a:xfrm>
            <a:off x="2057400" y="3124080"/>
            <a:ext cx="1371600" cy="2819520"/>
          </a:xfrm>
          <a:custGeom>
            <a:avLst/>
            <a:gdLst>
              <a:gd name="textAreaLeft" fmla="*/ 0 w 1371600"/>
              <a:gd name="textAreaRight" fmla="*/ 1371960 w 1371600"/>
              <a:gd name="textAreaTop" fmla="*/ 0 h 2819520"/>
              <a:gd name="textAreaBottom" fmla="*/ 2819880 h 2819520"/>
            </a:gdLst>
            <a:ahLst/>
            <a:rect l="textAreaLeft" t="textAreaTop" r="textAreaRight" b="textAreaBottom"/>
            <a:pathLst>
              <a:path w="864" h="1776">
                <a:moveTo>
                  <a:pt x="0" y="0"/>
                </a:moveTo>
                <a:cubicBezTo>
                  <a:pt x="4" y="172"/>
                  <a:pt x="8" y="344"/>
                  <a:pt x="48" y="528"/>
                </a:cubicBezTo>
                <a:cubicBezTo>
                  <a:pt x="88" y="712"/>
                  <a:pt x="144" y="928"/>
                  <a:pt x="240" y="1104"/>
                </a:cubicBezTo>
                <a:cubicBezTo>
                  <a:pt x="336" y="1280"/>
                  <a:pt x="520" y="1472"/>
                  <a:pt x="624" y="1584"/>
                </a:cubicBezTo>
                <a:cubicBezTo>
                  <a:pt x="728" y="1696"/>
                  <a:pt x="796" y="1736"/>
                  <a:pt x="864" y="1776"/>
                </a:cubicBezTo>
              </a:path>
            </a:pathLst>
          </a:custGeom>
          <a:noFill/>
          <a:ln w="9360">
            <a:solidFill>
              <a:srgbClr val="ccec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7" name="Rectangle 21"/>
          <p:cNvSpPr/>
          <p:nvPr/>
        </p:nvSpPr>
        <p:spPr>
          <a:xfrm>
            <a:off x="1905120" y="3657600"/>
            <a:ext cx="380880" cy="38088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8" name="Line 22"/>
          <p:cNvSpPr/>
          <p:nvPr/>
        </p:nvSpPr>
        <p:spPr>
          <a:xfrm flipH="1">
            <a:off x="2133720" y="2819520"/>
            <a:ext cx="4038480" cy="1066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89" name="Text Box 23"/>
          <p:cNvSpPr/>
          <p:nvPr/>
        </p:nvSpPr>
        <p:spPr>
          <a:xfrm rot="20680200">
            <a:off x="2739240" y="3179520"/>
            <a:ext cx="9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 </a:t>
            </a:r>
            <a:r>
              <a:rPr b="1" lang="ar-SA" sz="2400" spc="-1" strike="noStrike">
                <a:solidFill>
                  <a:srgbClr val="ffffff"/>
                </a:solidFill>
                <a:latin typeface="Arial"/>
                <a:cs typeface="Arial"/>
              </a:rPr>
              <a:t>م</a:t>
            </a:r>
            <a:endParaRPr b="0" lang="en-US" sz="2400" spc="-1" strike="noStrike">
              <a:solidFill>
                <a:srgbClr val="ccecff"/>
              </a:solidFill>
              <a:latin typeface="Times New Roman"/>
            </a:endParaRPr>
          </a:p>
        </p:txBody>
      </p:sp>
      <p:sp>
        <p:nvSpPr>
          <p:cNvPr id="590" name="Text Box 24"/>
          <p:cNvSpPr/>
          <p:nvPr/>
        </p:nvSpPr>
        <p:spPr>
          <a:xfrm>
            <a:off x="3276720" y="1924200"/>
            <a:ext cx="2361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حاوية للقمامة لكل </a:t>
            </a:r>
            <a:r>
              <a:rPr b="1" lang="ar-SA" sz="2400" spc="-1" strike="noStrike">
                <a:solidFill>
                  <a:srgbClr val="ffffff"/>
                </a:solidFill>
                <a:latin typeface="Arial"/>
                <a:ea typeface="Traditional Arabic"/>
              </a:rPr>
              <a:t>100</a:t>
            </a:r>
            <a:r>
              <a:rPr b="1" lang="ar-SA" sz="2400" spc="-1" strike="noStrike">
                <a:solidFill>
                  <a:srgbClr val="ffffff"/>
                </a:solidFill>
                <a:latin typeface="Arial"/>
                <a:ea typeface="Traditional Arabic"/>
              </a:rPr>
              <a:t> ساكن</a:t>
            </a:r>
            <a:endParaRPr b="0" lang="en-US" sz="2400" spc="-1" strike="noStrike">
              <a:solidFill>
                <a:srgbClr val="ccecff"/>
              </a:solidFill>
              <a:latin typeface="Times New Roman"/>
            </a:endParaRPr>
          </a:p>
        </p:txBody>
      </p:sp>
      <p:sp>
        <p:nvSpPr>
          <p:cNvPr id="591" name="Text Box 25"/>
          <p:cNvSpPr/>
          <p:nvPr/>
        </p:nvSpPr>
        <p:spPr>
          <a:xfrm>
            <a:off x="7776000" y="1219320"/>
            <a:ext cx="130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مرحاض</a:t>
            </a:r>
            <a:endParaRPr b="0" lang="en-US" sz="2400" spc="-1" strike="noStrike">
              <a:solidFill>
                <a:srgbClr val="ccecff"/>
              </a:solidFill>
              <a:latin typeface="Times New Roman"/>
            </a:endParaRPr>
          </a:p>
        </p:txBody>
      </p:sp>
      <p:sp>
        <p:nvSpPr>
          <p:cNvPr id="592" name="Text Box 26"/>
          <p:cNvSpPr/>
          <p:nvPr/>
        </p:nvSpPr>
        <p:spPr>
          <a:xfrm>
            <a:off x="-119160" y="2990880"/>
            <a:ext cx="2819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مكان أو حفرة التخلص</a:t>
            </a:r>
            <a:r>
              <a:rPr b="1" lang="ar-SA" sz="1800" spc="-1" strike="noStrike">
                <a:solidFill>
                  <a:srgbClr val="ffffff"/>
                </a:solidFill>
                <a:latin typeface="Arial"/>
                <a:ea typeface="Traditional Arabic"/>
              </a:rPr>
              <a:t> </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من القمامة</a:t>
            </a:r>
            <a:endParaRPr b="0" lang="en-US" sz="1800" spc="-1" strike="noStrike">
              <a:solidFill>
                <a:srgbClr val="ccecff"/>
              </a:solidFill>
              <a:latin typeface="Times New Roman"/>
            </a:endParaRPr>
          </a:p>
        </p:txBody>
      </p:sp>
      <p:sp>
        <p:nvSpPr>
          <p:cNvPr id="593" name="Text Box 28"/>
          <p:cNvSpPr/>
          <p:nvPr/>
        </p:nvSpPr>
        <p:spPr>
          <a:xfrm>
            <a:off x="0" y="0"/>
            <a:ext cx="87631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بعض المؤشرات الخاصة بتصميم المخيم والوصول للمرافق ومكافحة ناقلات الأمراض</a:t>
            </a:r>
            <a:endParaRPr b="0" lang="en-US" sz="2800" spc="-1" strike="noStrike">
              <a:solidFill>
                <a:srgbClr val="ccecff"/>
              </a:solidFill>
              <a:latin typeface="Times New Roman"/>
            </a:endParaRPr>
          </a:p>
        </p:txBody>
      </p:sp>
      <p:sp>
        <p:nvSpPr>
          <p:cNvPr id="594" name="Text Box 29"/>
          <p:cNvSpPr/>
          <p:nvPr/>
        </p:nvSpPr>
        <p:spPr>
          <a:xfrm>
            <a:off x="5427720" y="6172200"/>
            <a:ext cx="344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cs typeface="Traditional Arabic"/>
              </a:rPr>
              <a:t>دليل اسفير – طبعة </a:t>
            </a:r>
            <a:r>
              <a:rPr b="0" lang="ar-SA" sz="2400" spc="-1" strike="noStrike">
                <a:solidFill>
                  <a:srgbClr val="ccecff"/>
                </a:solidFill>
                <a:latin typeface="Arial"/>
                <a:ea typeface="Traditional Arabic"/>
              </a:rPr>
              <a:t>2011</a:t>
            </a:r>
            <a:endParaRPr b="0" lang="en-US" sz="2400" spc="-1" strike="noStrike">
              <a:solidFill>
                <a:srgbClr val="ccecff"/>
              </a:solidFill>
              <a:latin typeface="Times New Roman"/>
            </a:endParaRPr>
          </a:p>
        </p:txBody>
      </p:sp>
      <p:sp>
        <p:nvSpPr>
          <p:cNvPr id="595" name="Freeform 20"/>
          <p:cNvSpPr/>
          <p:nvPr/>
        </p:nvSpPr>
        <p:spPr>
          <a:xfrm>
            <a:off x="0" y="4114800"/>
            <a:ext cx="1371600" cy="2819520"/>
          </a:xfrm>
          <a:custGeom>
            <a:avLst/>
            <a:gdLst>
              <a:gd name="textAreaLeft" fmla="*/ 0 w 1371600"/>
              <a:gd name="textAreaRight" fmla="*/ 1371960 w 1371600"/>
              <a:gd name="textAreaTop" fmla="*/ 0 h 2819520"/>
              <a:gd name="textAreaBottom" fmla="*/ 2819880 h 2819520"/>
            </a:gdLst>
            <a:ahLst/>
            <a:rect l="textAreaLeft" t="textAreaTop" r="textAreaRight" b="textAreaBottom"/>
            <a:pathLst>
              <a:path w="864" h="1776">
                <a:moveTo>
                  <a:pt x="0" y="0"/>
                </a:moveTo>
                <a:cubicBezTo>
                  <a:pt x="4" y="172"/>
                  <a:pt x="8" y="344"/>
                  <a:pt x="48" y="528"/>
                </a:cubicBezTo>
                <a:cubicBezTo>
                  <a:pt x="88" y="712"/>
                  <a:pt x="144" y="928"/>
                  <a:pt x="240" y="1104"/>
                </a:cubicBezTo>
                <a:cubicBezTo>
                  <a:pt x="336" y="1280"/>
                  <a:pt x="520" y="1472"/>
                  <a:pt x="624" y="1584"/>
                </a:cubicBezTo>
                <a:cubicBezTo>
                  <a:pt x="728" y="1696"/>
                  <a:pt x="796" y="1736"/>
                  <a:pt x="864" y="1776"/>
                </a:cubicBezTo>
              </a:path>
            </a:pathLst>
          </a:custGeom>
          <a:noFill/>
          <a:ln w="9360">
            <a:solidFill>
              <a:srgbClr val="ccec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96" name="Line 22"/>
          <p:cNvSpPr/>
          <p:nvPr/>
        </p:nvSpPr>
        <p:spPr>
          <a:xfrm flipH="1">
            <a:off x="762120" y="2819520"/>
            <a:ext cx="5410080" cy="3504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97" name="Text Box 23"/>
          <p:cNvSpPr/>
          <p:nvPr/>
        </p:nvSpPr>
        <p:spPr>
          <a:xfrm rot="19646400">
            <a:off x="-464040" y="4681080"/>
            <a:ext cx="578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raditional Arabic"/>
              </a:rPr>
              <a:t>1-2 </a:t>
            </a:r>
            <a:r>
              <a:rPr b="1" lang="ar-SA" sz="2400" spc="-1" strike="noStrike">
                <a:solidFill>
                  <a:srgbClr val="ffffff"/>
                </a:solidFill>
                <a:latin typeface="Arial"/>
                <a:cs typeface="Traditional Arabic"/>
              </a:rPr>
              <a:t>كم من أماكن تكاثر باعوض الملاريا</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1090080" y="304920"/>
            <a:ext cx="11592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بعض مؤشرات اسفير الخاصة بالتخلص من النفايات الصلبة</a:t>
            </a:r>
            <a:endParaRPr b="0" lang="en-US" sz="3200" spc="-1" strike="noStrike">
              <a:solidFill>
                <a:srgbClr val="ccecff"/>
              </a:solidFill>
              <a:latin typeface="Times New Roman"/>
            </a:endParaRPr>
          </a:p>
        </p:txBody>
      </p:sp>
      <p:sp>
        <p:nvSpPr>
          <p:cNvPr id="599" name="Text Box 3"/>
          <p:cNvSpPr/>
          <p:nvPr/>
        </p:nvSpPr>
        <p:spPr>
          <a:xfrm>
            <a:off x="838080" y="1371600"/>
            <a:ext cx="7772400" cy="3080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تتاح لكل العائلات إمكانية استعمال أوعية للقمامة تُفّرغ مرتين في الأسبوع على أقل تقدير وتقع على بعد </a:t>
            </a:r>
            <a:r>
              <a:rPr b="0" lang="ar-SA" sz="2800" spc="-1" strike="noStrike">
                <a:solidFill>
                  <a:srgbClr val="ccecff"/>
                </a:solidFill>
                <a:latin typeface="Times New Roman"/>
                <a:ea typeface="Traditional Arabic"/>
              </a:rPr>
              <a:t>100</a:t>
            </a:r>
            <a:r>
              <a:rPr b="0" lang="ar-SA" sz="2800" spc="-1" strike="noStrike">
                <a:solidFill>
                  <a:srgbClr val="ccecff"/>
                </a:solidFill>
                <a:latin typeface="Times New Roman"/>
                <a:ea typeface="Traditional Arabic"/>
              </a:rPr>
              <a:t> متر على الأكثر من حفرة مشتركة للقمامة.</a:t>
            </a:r>
            <a:endParaRPr b="0" lang="en-US" sz="2800" spc="-1" strike="noStrike">
              <a:solidFill>
                <a:srgbClr val="ccecff"/>
              </a:solidFill>
              <a:latin typeface="Times New Roman"/>
            </a:endParaRPr>
          </a:p>
          <a:p>
            <a:pPr marL="343080" indent="-343080" algn="r" rtl="1">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Traditional Arabic"/>
              </a:rPr>
              <a:t>ينبغي توفير وعاء واحد على الأقل للقمامة تبلغ سعته </a:t>
            </a:r>
            <a:r>
              <a:rPr b="0" lang="ar-SA" sz="2800" spc="-1" strike="noStrike">
                <a:solidFill>
                  <a:srgbClr val="ccecff"/>
                </a:solidFill>
                <a:latin typeface="Times New Roman"/>
                <a:ea typeface="Traditional Arabic"/>
              </a:rPr>
              <a:t>100</a:t>
            </a:r>
            <a:r>
              <a:rPr b="0" lang="ar-SA" sz="2800" spc="-1" strike="noStrike">
                <a:solidFill>
                  <a:srgbClr val="ccecff"/>
                </a:solidFill>
                <a:latin typeface="Times New Roman"/>
                <a:ea typeface="Traditional Arabic"/>
              </a:rPr>
              <a:t> لتر لكل </a:t>
            </a:r>
            <a:r>
              <a:rPr b="0" lang="ar-SA" sz="2800" spc="-1" strike="noStrike">
                <a:solidFill>
                  <a:srgbClr val="ccecff"/>
                </a:solidFill>
                <a:latin typeface="Times New Roman"/>
                <a:ea typeface="Traditional Arabic"/>
              </a:rPr>
              <a:t>10</a:t>
            </a:r>
            <a:r>
              <a:rPr b="0" lang="ar-SA" sz="2800" spc="-1" strike="noStrike">
                <a:solidFill>
                  <a:srgbClr val="ccecff"/>
                </a:solidFill>
                <a:latin typeface="Times New Roman"/>
                <a:ea typeface="Traditional Arabic"/>
              </a:rPr>
              <a:t> أسر في الحالات التي لا تطمر فيها القمامة المنزلية في الموقع</a:t>
            </a:r>
            <a:endParaRPr b="0" lang="en-US" sz="2800" spc="-1" strike="noStrike">
              <a:solidFill>
                <a:srgbClr val="ccecff"/>
              </a:solidFill>
              <a:latin typeface="Times New Roman"/>
            </a:endParaRPr>
          </a:p>
        </p:txBody>
      </p:sp>
      <p:pic>
        <p:nvPicPr>
          <p:cNvPr id="600" name="Picture 6" descr="IM000566"/>
          <p:cNvPicPr/>
          <p:nvPr/>
        </p:nvPicPr>
        <p:blipFill>
          <a:blip r:embed="rId1"/>
          <a:stretch/>
        </p:blipFill>
        <p:spPr>
          <a:xfrm>
            <a:off x="990720" y="3836880"/>
            <a:ext cx="7619760" cy="2563920"/>
          </a:xfrm>
          <a:prstGeom prst="rect">
            <a:avLst/>
          </a:prstGeom>
          <a:ln w="0">
            <a:noFill/>
          </a:ln>
        </p:spPr>
      </p:pic>
      <p:sp>
        <p:nvSpPr>
          <p:cNvPr id="601" name="Text Box 7"/>
          <p:cNvSpPr/>
          <p:nvPr/>
        </p:nvSpPr>
        <p:spPr>
          <a:xfrm>
            <a:off x="663480" y="6386400"/>
            <a:ext cx="328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Times New Roman"/>
              </a:rPr>
              <a:t>حقوق طبع الصورة لمنظمة انتروركس</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87840" y="228600"/>
            <a:ext cx="9146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بعض مؤشرات اسفير الخاصة بالصرف الصحي</a:t>
            </a:r>
            <a:endParaRPr b="0" lang="en-US" sz="3200" spc="-1" strike="noStrike">
              <a:solidFill>
                <a:srgbClr val="ccecff"/>
              </a:solidFill>
              <a:latin typeface="Times New Roman"/>
            </a:endParaRPr>
          </a:p>
        </p:txBody>
      </p:sp>
      <p:sp>
        <p:nvSpPr>
          <p:cNvPr id="603" name="Text Box 3"/>
          <p:cNvSpPr/>
          <p:nvPr/>
        </p:nvSpPr>
        <p:spPr>
          <a:xfrm>
            <a:off x="457200" y="914400"/>
            <a:ext cx="8305920" cy="399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ea typeface="Arial"/>
              </a:rPr>
              <a:t> </a:t>
            </a:r>
            <a:r>
              <a:rPr b="1" lang="ar-SA" sz="3200" spc="-1" strike="noStrike">
                <a:solidFill>
                  <a:srgbClr val="ccecff"/>
                </a:solidFill>
                <a:latin typeface="Arial"/>
                <a:cs typeface="Traditional Arabic"/>
              </a:rPr>
              <a:t>ينبغي أن تكون الأماكن المحيطة بأماكن السكن ونقاط الإمداد بالماء خالية من الماء المستعمل الراكد، كما ينبغي المحافظة على أن تظل مخرات السيول خالية ونظيفة.</a:t>
            </a:r>
            <a:endParaRPr b="0" lang="en-US" sz="3200" spc="-1" strike="noStrike">
              <a:solidFill>
                <a:srgbClr val="ccecff"/>
              </a:solidFill>
              <a:latin typeface="Times New Roman"/>
            </a:endParaRPr>
          </a:p>
          <a:p>
            <a:pPr algn="r" rtl="1">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ea typeface="Traditional Arabic"/>
              </a:rPr>
              <a:t> ينبغي ألا تغمر مياه الأمطار أماكن السكن والطرقات ومرافق الماء والصرف.</a:t>
            </a:r>
            <a:endParaRPr b="0" lang="en-US" sz="3200" spc="-1" strike="noStrike">
              <a:solidFill>
                <a:srgbClr val="ccecff"/>
              </a:solidFill>
              <a:latin typeface="Times New Roman"/>
            </a:endParaRPr>
          </a:p>
        </p:txBody>
      </p:sp>
      <p:pic>
        <p:nvPicPr>
          <p:cNvPr id="604" name="Picture 4" descr="IM000570"/>
          <p:cNvPicPr/>
          <p:nvPr/>
        </p:nvPicPr>
        <p:blipFill>
          <a:blip r:embed="rId1"/>
          <a:stretch/>
        </p:blipFill>
        <p:spPr>
          <a:xfrm>
            <a:off x="4572000" y="3581280"/>
            <a:ext cx="4343400" cy="2908440"/>
          </a:xfrm>
          <a:prstGeom prst="rect">
            <a:avLst/>
          </a:prstGeom>
          <a:ln w="0">
            <a:noFill/>
          </a:ln>
        </p:spPr>
      </p:pic>
      <p:pic>
        <p:nvPicPr>
          <p:cNvPr id="605" name="Picture 5" descr="IM000571"/>
          <p:cNvPicPr/>
          <p:nvPr/>
        </p:nvPicPr>
        <p:blipFill>
          <a:blip r:embed="rId2"/>
          <a:stretch/>
        </p:blipFill>
        <p:spPr>
          <a:xfrm>
            <a:off x="152280" y="3581280"/>
            <a:ext cx="4419720" cy="2908440"/>
          </a:xfrm>
          <a:prstGeom prst="rect">
            <a:avLst/>
          </a:prstGeom>
          <a:ln w="0">
            <a:noFill/>
          </a:ln>
        </p:spPr>
      </p:pic>
      <p:sp>
        <p:nvSpPr>
          <p:cNvPr id="606" name="Text Box 6"/>
          <p:cNvSpPr/>
          <p:nvPr/>
        </p:nvSpPr>
        <p:spPr>
          <a:xfrm>
            <a:off x="-634680" y="6473880"/>
            <a:ext cx="566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كابول – أفغانستان. حقوق طبع الصورة لمنظمة انتر وركس</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2" descr=""/>
          <p:cNvPicPr/>
          <p:nvPr/>
        </p:nvPicPr>
        <p:blipFill>
          <a:blip r:embed="rId1"/>
          <a:stretch/>
        </p:blipFill>
        <p:spPr>
          <a:xfrm>
            <a:off x="380880" y="762120"/>
            <a:ext cx="3276720" cy="2293920"/>
          </a:xfrm>
          <a:prstGeom prst="rect">
            <a:avLst/>
          </a:prstGeom>
          <a:ln w="0">
            <a:noFill/>
          </a:ln>
        </p:spPr>
      </p:pic>
      <p:sp>
        <p:nvSpPr>
          <p:cNvPr id="608" name="Text Box 3"/>
          <p:cNvSpPr/>
          <p:nvPr/>
        </p:nvSpPr>
        <p:spPr>
          <a:xfrm>
            <a:off x="3150360" y="304920"/>
            <a:ext cx="642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أيهما صواب وأيهما خطأ ولماذا؟</a:t>
            </a:r>
            <a:endParaRPr b="0" lang="en-US" sz="3200" spc="-1" strike="noStrike">
              <a:solidFill>
                <a:srgbClr val="ccecff"/>
              </a:solidFill>
              <a:latin typeface="Times New Roman"/>
            </a:endParaRPr>
          </a:p>
        </p:txBody>
      </p:sp>
      <p:sp>
        <p:nvSpPr>
          <p:cNvPr id="609" name="Text Box 6"/>
          <p:cNvSpPr/>
          <p:nvPr/>
        </p:nvSpPr>
        <p:spPr>
          <a:xfrm>
            <a:off x="-963720" y="3276720"/>
            <a:ext cx="630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cs typeface="Traditional Arabic"/>
              </a:rPr>
              <a:t>أولاد يلعبون قرب صنابير المياه في ألبانيا</a:t>
            </a:r>
            <a:endParaRPr b="0" lang="en-US" sz="2400" spc="-1" strike="noStrike">
              <a:solidFill>
                <a:srgbClr val="ccecff"/>
              </a:solidFill>
              <a:latin typeface="Times New Roman"/>
            </a:endParaRPr>
          </a:p>
        </p:txBody>
      </p:sp>
      <p:grpSp>
        <p:nvGrpSpPr>
          <p:cNvPr id="610" name="Group 8"/>
          <p:cNvGrpSpPr/>
          <p:nvPr/>
        </p:nvGrpSpPr>
        <p:grpSpPr>
          <a:xfrm>
            <a:off x="0" y="2521080"/>
            <a:ext cx="8886960" cy="4199040"/>
            <a:chOff x="0" y="2521080"/>
            <a:chExt cx="8886960" cy="4199040"/>
          </a:xfrm>
        </p:grpSpPr>
        <p:pic>
          <p:nvPicPr>
            <p:cNvPr id="611" name="Picture 5" descr="22June - rain 37"/>
            <p:cNvPicPr/>
            <p:nvPr/>
          </p:nvPicPr>
          <p:blipFill>
            <a:blip r:embed="rId2"/>
            <a:stretch/>
          </p:blipFill>
          <p:spPr>
            <a:xfrm>
              <a:off x="4178160" y="2521080"/>
              <a:ext cx="4708800" cy="4085640"/>
            </a:xfrm>
            <a:prstGeom prst="rect">
              <a:avLst/>
            </a:prstGeom>
            <a:ln w="0">
              <a:noFill/>
            </a:ln>
          </p:spPr>
        </p:pic>
        <p:sp>
          <p:nvSpPr>
            <p:cNvPr id="612" name="Text Box 7"/>
            <p:cNvSpPr/>
            <p:nvPr/>
          </p:nvSpPr>
          <p:spPr>
            <a:xfrm>
              <a:off x="0" y="5894640"/>
              <a:ext cx="510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مخيم الأمل في ألبانيا</a:t>
              </a:r>
              <a:r>
                <a:rPr b="1" lang="ar-SA" sz="2400" spc="-1" strike="noStrike">
                  <a:solidFill>
                    <a:srgbClr val="ffffff"/>
                  </a:solidFill>
                  <a:latin typeface="Arial"/>
                  <a:ea typeface="Traditional Arabic"/>
                </a:rPr>
                <a:t>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بعد أمطار </a:t>
              </a:r>
              <a:r>
                <a:rPr b="1" lang="ar-SA" sz="2400" spc="-1" strike="noStrike">
                  <a:solidFill>
                    <a:srgbClr val="ffffff"/>
                  </a:solidFill>
                  <a:latin typeface="Arial"/>
                  <a:ea typeface="Traditional Arabic"/>
                </a:rPr>
                <a:t>22</a:t>
              </a:r>
              <a:r>
                <a:rPr b="1" lang="ar-SA" sz="2400" spc="-1" strike="noStrike">
                  <a:solidFill>
                    <a:srgbClr val="ffffff"/>
                  </a:solidFill>
                  <a:latin typeface="Arial"/>
                  <a:ea typeface="Traditional Arabic"/>
                </a:rPr>
                <a:t> يونيو </a:t>
              </a:r>
              <a:r>
                <a:rPr b="1" lang="ar-SA" sz="2400" spc="-1" strike="noStrike">
                  <a:solidFill>
                    <a:srgbClr val="ffffff"/>
                  </a:solidFill>
                  <a:latin typeface="Arial"/>
                  <a:ea typeface="Traditional Arabic"/>
                </a:rPr>
                <a:t>1999</a:t>
              </a:r>
              <a:endParaRPr b="0" lang="en-US" sz="24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6">
                                  <p:stCondLst>
                                    <p:cond delay="0"/>
                                  </p:stCondLst>
                                  <p:childTnLst>
                                    <p:set>
                                      <p:cBhvr>
                                        <p:cTn id="53" dur="1" fill="hold">
                                          <p:stCondLst>
                                            <p:cond delay="0"/>
                                          </p:stCondLst>
                                        </p:cTn>
                                        <p:tgtEl>
                                          <p:spTgt spid="610"/>
                                        </p:tgtEl>
                                        <p:attrNameLst>
                                          <p:attrName>style.visibility</p:attrName>
                                        </p:attrNameLst>
                                      </p:cBhvr>
                                      <p:to>
                                        <p:strVal val="visible"/>
                                      </p:to>
                                    </p:set>
                                    <p:anim calcmode="lin" valueType="num">
                                      <p:cBhvr additive="base">
                                        <p:cTn id="54" dur="500" fill="hold"/>
                                        <p:tgtEl>
                                          <p:spTgt spid="610"/>
                                        </p:tgtEl>
                                        <p:attrNameLst>
                                          <p:attrName>ppt_x</p:attrName>
                                        </p:attrNameLst>
                                      </p:cBhvr>
                                      <p:tavLst>
                                        <p:tav tm="0">
                                          <p:val>
                                            <p:strVal val="1+#ppt_w/2"/>
                                          </p:val>
                                        </p:tav>
                                        <p:tav tm="100000">
                                          <p:val>
                                            <p:strVal val="#ppt_x"/>
                                          </p:val>
                                        </p:tav>
                                      </p:tavLst>
                                    </p:anim>
                                    <p:anim calcmode="lin" valueType="num">
                                      <p:cBhvr additive="base">
                                        <p:cTn id="55"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5577120" y="-14400"/>
            <a:ext cx="3342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cs typeface="Traditional Arabic"/>
              </a:rPr>
              <a:t>الخلاصة</a:t>
            </a:r>
            <a:endParaRPr b="0" lang="en-US" sz="6600" spc="-1" strike="noStrike">
              <a:solidFill>
                <a:srgbClr val="ccecff"/>
              </a:solidFill>
              <a:latin typeface="Times New Roman"/>
            </a:endParaRPr>
          </a:p>
        </p:txBody>
      </p:sp>
      <p:sp>
        <p:nvSpPr>
          <p:cNvPr id="614" name="Text Box 4"/>
          <p:cNvSpPr/>
          <p:nvPr/>
        </p:nvSpPr>
        <p:spPr>
          <a:xfrm>
            <a:off x="609480" y="1905120"/>
            <a:ext cx="4496040" cy="4786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ذه المعايير والتدابير التي تدعمها والمؤشرات  الرئيسية المرتبطة بها تشير إلى نظام متكامل لتحليل الاحتياجات الخاصة بالإمداد بالمياه وإدارة النفايات وهو مكونات يجب أن تتناسق مع بعضها البعض للحفاظ على الصحة العامة. وكل جزء من أجزاء هذا النظام يدعم ويعتمد على الأجزاء الأخرى</a:t>
            </a:r>
            <a:endParaRPr b="0" lang="en-US" sz="2800" spc="-1" strike="noStrike">
              <a:solidFill>
                <a:srgbClr val="ccecff"/>
              </a:solidFill>
              <a:latin typeface="Times New Roman"/>
            </a:endParaRPr>
          </a:p>
        </p:txBody>
      </p:sp>
      <p:sp>
        <p:nvSpPr>
          <p:cNvPr id="615" name="Rectangle 5"/>
          <p:cNvSpPr/>
          <p:nvPr/>
        </p:nvSpPr>
        <p:spPr>
          <a:xfrm>
            <a:off x="5448240" y="1157400"/>
            <a:ext cx="3467160" cy="5243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16" name="Text Box 6"/>
          <p:cNvSpPr/>
          <p:nvPr/>
        </p:nvSpPr>
        <p:spPr>
          <a:xfrm>
            <a:off x="5181480" y="1600200"/>
            <a:ext cx="358164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Traditional Arabic"/>
              </a:rPr>
              <a:t>الإمداد بالماء والإصحاح والنهوض بالنظافة</a:t>
            </a:r>
            <a:endParaRPr b="0" lang="en-US" sz="32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Traditional Arabic"/>
              </a:rPr>
              <a:t>النهوض بالنظافة</a:t>
            </a:r>
            <a:endParaRPr b="0" lang="en-US" sz="32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Traditional Arabic"/>
              </a:rPr>
              <a:t>الإمداد بالماء</a:t>
            </a:r>
            <a:endParaRPr b="0" lang="en-US" sz="32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Traditional Arabic"/>
              </a:rPr>
              <a:t>التخلص من الفضلات العضوية</a:t>
            </a:r>
            <a:endParaRPr b="0" lang="en-US" sz="32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Traditional Arabic"/>
              </a:rPr>
              <a:t>مكافحة نواقل الأمراض</a:t>
            </a:r>
            <a:endParaRPr b="0" lang="en-US" sz="32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Traditional Arabic"/>
              </a:rPr>
              <a:t>إدارة النفايات الصلبة</a:t>
            </a:r>
            <a:endParaRPr b="0" lang="en-US" sz="3200" spc="-1" strike="noStrike">
              <a:solidFill>
                <a:srgbClr val="ccecff"/>
              </a:solidFill>
              <a:latin typeface="Times New Roman"/>
            </a:endParaRPr>
          </a:p>
          <a:p>
            <a:pPr marL="457200" indent="-457200" algn="r" rtl="1">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Traditional Arabic"/>
              </a:rPr>
              <a:t>الصرف الصحي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04920" y="0"/>
            <a:ext cx="8534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نهوض بالنظافة رقم </a:t>
            </a:r>
            <a:r>
              <a:rPr b="1" lang="ar-SA" sz="4400" spc="-1" strike="noStrike">
                <a:solidFill>
                  <a:srgbClr val="ccecff"/>
                </a:solidFill>
                <a:latin typeface="Times New Roman"/>
                <a:ea typeface="Traditional Arabic"/>
              </a:rPr>
              <a:t>2</a:t>
            </a:r>
            <a:r>
              <a:rPr b="1" lang="ar-SA" sz="4400" spc="-1" strike="noStrike">
                <a:solidFill>
                  <a:srgbClr val="ccecff"/>
                </a:solidFill>
                <a:latin typeface="Times New Roman"/>
                <a:ea typeface="Traditional Arabic"/>
              </a:rPr>
              <a:t>: تحديد لوازم النظافة واستعمالها</a:t>
            </a:r>
            <a:endParaRPr b="0" lang="en-US" sz="4400" spc="-1" strike="noStrike">
              <a:solidFill>
                <a:srgbClr val="ccecff"/>
              </a:solidFill>
              <a:latin typeface="Times New Roman"/>
            </a:endParaRPr>
          </a:p>
        </p:txBody>
      </p:sp>
      <p:sp>
        <p:nvSpPr>
          <p:cNvPr id="110" name="Text Box 5"/>
          <p:cNvSpPr/>
          <p:nvPr/>
        </p:nvSpPr>
        <p:spPr>
          <a:xfrm>
            <a:off x="3824280" y="2347920"/>
            <a:ext cx="5045040" cy="3506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Traditional Arabic"/>
              </a:rPr>
              <a:t>ينبغي أن يحصل السكان المتضررون من الكارثة على لوازم النظافة وأن يشاركوا في اختيارها، كما ينبغي تشجيع استعمالها لتأمين نظافتهم الشخصية وصحتهم وكرامتهم وراحتهم.</a:t>
            </a:r>
            <a:endParaRPr b="0" lang="en-US" sz="3200" spc="-1" strike="noStrike">
              <a:solidFill>
                <a:srgbClr val="ccecff"/>
              </a:solidFill>
              <a:latin typeface="Times New Roman"/>
            </a:endParaRPr>
          </a:p>
        </p:txBody>
      </p:sp>
      <p:pic>
        <p:nvPicPr>
          <p:cNvPr id="111" name="Picture 3" descr="hp17a"/>
          <p:cNvPicPr/>
          <p:nvPr/>
        </p:nvPicPr>
        <p:blipFill>
          <a:blip r:embed="rId1"/>
          <a:stretch/>
        </p:blipFill>
        <p:spPr>
          <a:xfrm>
            <a:off x="361800" y="2438280"/>
            <a:ext cx="2914920" cy="3353040"/>
          </a:xfrm>
          <a:prstGeom prst="rect">
            <a:avLst/>
          </a:prstGeom>
          <a:ln w="0">
            <a:noFill/>
          </a:ln>
        </p:spPr>
      </p:pic>
      <p:sp>
        <p:nvSpPr>
          <p:cNvPr id="112" name="Text Box 4"/>
          <p:cNvSpPr/>
          <p:nvPr/>
        </p:nvSpPr>
        <p:spPr>
          <a:xfrm rot="16200000">
            <a:off x="-2047320" y="3945960"/>
            <a:ext cx="443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Times New Roman"/>
              </a:rPr>
              <a:t>حقوق طبع الصورة من اللجنة الدولية للصليب الأحمر</a:t>
            </a:r>
            <a:endParaRPr b="0" lang="en-US" sz="1600" spc="-1" strike="noStrike">
              <a:solidFill>
                <a:srgbClr val="ccecff"/>
              </a:solidFill>
              <a:latin typeface="Times New Roman"/>
            </a:endParaRPr>
          </a:p>
        </p:txBody>
      </p:sp>
      <p:sp>
        <p:nvSpPr>
          <p:cNvPr id="113" name="Line 5"/>
          <p:cNvSpPr/>
          <p:nvPr/>
        </p:nvSpPr>
        <p:spPr>
          <a:xfrm>
            <a:off x="304920" y="2209680"/>
            <a:ext cx="8458200" cy="1800"/>
          </a:xfrm>
          <a:prstGeom prst="line">
            <a:avLst/>
          </a:prstGeom>
          <a:ln w="763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14" name="Text Box 6"/>
          <p:cNvSpPr/>
          <p:nvPr/>
        </p:nvSpPr>
        <p:spPr>
          <a:xfrm>
            <a:off x="1351080" y="6249960"/>
            <a:ext cx="730080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89</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280" y="1738440"/>
            <a:ext cx="4343400" cy="4786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    ينبغي أن يحصل السكان جميعا على كمية كافية من الماء الصالح للشرب والطهي والمحافظة على النظافة الشخصية والمنزلية بشكل آمن وعادل. وينبغي أن تكون مواقع توزيع الماء العامة قريبة من العائلات بقدر كافٍ لكي يتاح لها تلبية حاجاتها الدنيا من الماء.</a:t>
            </a:r>
            <a:endParaRPr b="0" lang="en-US" sz="2800" spc="-1" strike="noStrike">
              <a:solidFill>
                <a:srgbClr val="ccecff"/>
              </a:solidFill>
              <a:latin typeface="Times New Roman"/>
            </a:endParaRPr>
          </a:p>
        </p:txBody>
      </p:sp>
      <p:sp>
        <p:nvSpPr>
          <p:cNvPr id="116" name="Text Box 3"/>
          <p:cNvSpPr/>
          <p:nvPr/>
        </p:nvSpPr>
        <p:spPr>
          <a:xfrm>
            <a:off x="152280" y="76320"/>
            <a:ext cx="86868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إمداد بالماء رقم </a:t>
            </a:r>
            <a:r>
              <a:rPr b="1" lang="ar-SA" sz="4400" spc="-1" strike="noStrike">
                <a:solidFill>
                  <a:srgbClr val="ccecff"/>
                </a:solidFill>
                <a:latin typeface="Times New Roman"/>
                <a:ea typeface="Traditional Arabic"/>
              </a:rPr>
              <a:t>1</a:t>
            </a:r>
            <a:r>
              <a:rPr b="1" lang="ar-SA" sz="4400" spc="-1" strike="noStrike">
                <a:solidFill>
                  <a:srgbClr val="ccecff"/>
                </a:solidFill>
                <a:latin typeface="Times New Roman"/>
                <a:ea typeface="Traditional Arabic"/>
              </a:rPr>
              <a:t>: الحصول على كمية كافية من الماء</a:t>
            </a:r>
            <a:endParaRPr b="0" lang="en-US" sz="4400" spc="-1" strike="noStrike">
              <a:solidFill>
                <a:srgbClr val="ccecff"/>
              </a:solidFill>
              <a:latin typeface="Times New Roman"/>
            </a:endParaRPr>
          </a:p>
        </p:txBody>
      </p:sp>
      <p:sp>
        <p:nvSpPr>
          <p:cNvPr id="117" name="Line 4"/>
          <p:cNvSpPr/>
          <p:nvPr/>
        </p:nvSpPr>
        <p:spPr>
          <a:xfrm>
            <a:off x="304920" y="1752480"/>
            <a:ext cx="8458200" cy="1800"/>
          </a:xfrm>
          <a:prstGeom prst="line">
            <a:avLst/>
          </a:prstGeom>
          <a:ln w="763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pic>
        <p:nvPicPr>
          <p:cNvPr id="118" name="Picture 6" descr="03-2006_dubie6"/>
          <p:cNvPicPr/>
          <p:nvPr/>
        </p:nvPicPr>
        <p:blipFill>
          <a:blip r:embed="rId1"/>
          <a:stretch/>
        </p:blipFill>
        <p:spPr>
          <a:xfrm>
            <a:off x="4875120" y="1916280"/>
            <a:ext cx="4114800" cy="3670200"/>
          </a:xfrm>
          <a:prstGeom prst="rect">
            <a:avLst/>
          </a:prstGeom>
          <a:ln w="0">
            <a:noFill/>
          </a:ln>
        </p:spPr>
      </p:pic>
      <p:sp>
        <p:nvSpPr>
          <p:cNvPr id="119" name="Text Box 7"/>
          <p:cNvSpPr/>
          <p:nvPr/>
        </p:nvSpPr>
        <p:spPr>
          <a:xfrm>
            <a:off x="4695840" y="5753160"/>
            <a:ext cx="447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cs typeface="Traditional Arabic"/>
              </a:rPr>
              <a:t>حقوق طبع الصورة لمنظمة مانحون بدون حدود</a:t>
            </a:r>
            <a:endParaRPr b="0" lang="en-US" sz="1800" spc="-1" strike="noStrike">
              <a:solidFill>
                <a:srgbClr val="ccecff"/>
              </a:solidFill>
              <a:latin typeface="Times New Roman"/>
            </a:endParaRPr>
          </a:p>
        </p:txBody>
      </p:sp>
      <p:sp>
        <p:nvSpPr>
          <p:cNvPr id="120" name="Text Box 6"/>
          <p:cNvSpPr/>
          <p:nvPr/>
        </p:nvSpPr>
        <p:spPr>
          <a:xfrm>
            <a:off x="327960" y="624852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92</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38240" y="1981080"/>
            <a:ext cx="4395600" cy="3993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ea typeface="Traditional Arabic"/>
              </a:rPr>
              <a:t>    ينبغي أن يكون الماء مستساغا وذي جودة كافية لشربه واستعماله في الطهي والمحافظة على النظافة الشخصية والمنزلية، وأن لا يشكل مصدر خطر على الصحة.</a:t>
            </a:r>
            <a:endParaRPr b="0" lang="en-US" sz="3200" spc="-1" strike="noStrike">
              <a:solidFill>
                <a:srgbClr val="ccecff"/>
              </a:solidFill>
              <a:latin typeface="Times New Roman"/>
            </a:endParaRPr>
          </a:p>
        </p:txBody>
      </p:sp>
      <p:sp>
        <p:nvSpPr>
          <p:cNvPr id="122" name="Text Box 3"/>
          <p:cNvSpPr/>
          <p:nvPr/>
        </p:nvSpPr>
        <p:spPr>
          <a:xfrm>
            <a:off x="152280" y="76320"/>
            <a:ext cx="8686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إمداد بالماء رقم </a:t>
            </a:r>
            <a:r>
              <a:rPr b="1" lang="ar-SA" sz="4400" spc="-1" strike="noStrike">
                <a:solidFill>
                  <a:srgbClr val="ccecff"/>
                </a:solidFill>
                <a:latin typeface="Times New Roman"/>
                <a:ea typeface="Traditional Arabic"/>
              </a:rPr>
              <a:t>2</a:t>
            </a:r>
            <a:r>
              <a:rPr b="1" lang="ar-SA" sz="4400" spc="-1" strike="noStrike">
                <a:solidFill>
                  <a:srgbClr val="ccecff"/>
                </a:solidFill>
                <a:latin typeface="Times New Roman"/>
                <a:ea typeface="Traditional Arabic"/>
              </a:rPr>
              <a:t>: جودة الماء</a:t>
            </a:r>
            <a:endParaRPr b="0" lang="en-US" sz="4400" spc="-1" strike="noStrike">
              <a:solidFill>
                <a:srgbClr val="ccecff"/>
              </a:solidFill>
              <a:latin typeface="Times New Roman"/>
            </a:endParaRPr>
          </a:p>
        </p:txBody>
      </p:sp>
      <p:sp>
        <p:nvSpPr>
          <p:cNvPr id="123" name="Line 4"/>
          <p:cNvSpPr/>
          <p:nvPr/>
        </p:nvSpPr>
        <p:spPr>
          <a:xfrm>
            <a:off x="304920" y="1752480"/>
            <a:ext cx="8458200" cy="1800"/>
          </a:xfrm>
          <a:prstGeom prst="line">
            <a:avLst/>
          </a:prstGeom>
          <a:ln w="763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24" name="Text Box 6"/>
          <p:cNvSpPr/>
          <p:nvPr/>
        </p:nvSpPr>
        <p:spPr>
          <a:xfrm>
            <a:off x="4495680" y="4921200"/>
            <a:ext cx="4473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rPr>
              <a:t>حقوق طبع الصورة لمنظمة أكسفام</a:t>
            </a:r>
            <a:endParaRPr b="0" lang="en-US" sz="1800" spc="-1" strike="noStrike">
              <a:solidFill>
                <a:srgbClr val="ccecff"/>
              </a:solidFill>
              <a:latin typeface="Times New Roman"/>
            </a:endParaRPr>
          </a:p>
        </p:txBody>
      </p:sp>
      <p:pic>
        <p:nvPicPr>
          <p:cNvPr id="125" name="Picture 8" descr="bucket"/>
          <p:cNvPicPr/>
          <p:nvPr/>
        </p:nvPicPr>
        <p:blipFill>
          <a:blip r:embed="rId1"/>
          <a:stretch/>
        </p:blipFill>
        <p:spPr>
          <a:xfrm>
            <a:off x="4667400" y="1978200"/>
            <a:ext cx="4267080" cy="2879640"/>
          </a:xfrm>
          <a:prstGeom prst="rect">
            <a:avLst/>
          </a:prstGeom>
          <a:ln w="0">
            <a:noFill/>
          </a:ln>
        </p:spPr>
      </p:pic>
      <p:sp>
        <p:nvSpPr>
          <p:cNvPr id="126" name="Text Box 9"/>
          <p:cNvSpPr/>
          <p:nvPr/>
        </p:nvSpPr>
        <p:spPr>
          <a:xfrm>
            <a:off x="76320" y="6189840"/>
            <a:ext cx="8686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سؤال: كم من طريقة يمكنك تخيلها لتحديد جودة الماء؟</a:t>
            </a:r>
            <a:endParaRPr b="0" lang="en-US" sz="3200" spc="-1" strike="noStrike">
              <a:solidFill>
                <a:srgbClr val="ccecff"/>
              </a:solidFill>
              <a:latin typeface="Times New Roman"/>
            </a:endParaRPr>
          </a:p>
        </p:txBody>
      </p:sp>
      <p:sp>
        <p:nvSpPr>
          <p:cNvPr id="127" name="Text Box 6"/>
          <p:cNvSpPr/>
          <p:nvPr/>
        </p:nvSpPr>
        <p:spPr>
          <a:xfrm>
            <a:off x="1318680" y="566748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95</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46160" y="1738440"/>
            <a:ext cx="5257800" cy="49683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ea typeface="Traditional Arabic"/>
              </a:rPr>
              <a:t>   ينبغي إقامة مرافق مناسبة للسكان وتزويدهم باللوازم التي تمكنهم من جمع ما يكفي من الماء وحفظه واستعماله لتغطية حاجاتهم إلى الشرب والطهي والمحافظة على نظافتهم الشخصية، ولضمان سلامة ماء الشرب حتى وقت استهلاكه.</a:t>
            </a:r>
            <a:endParaRPr b="0" lang="en-US" sz="3200" spc="-1" strike="noStrike">
              <a:solidFill>
                <a:srgbClr val="ccecff"/>
              </a:solidFill>
              <a:latin typeface="Times New Roman"/>
            </a:endParaRPr>
          </a:p>
        </p:txBody>
      </p:sp>
      <p:sp>
        <p:nvSpPr>
          <p:cNvPr id="129" name="Text Box 3"/>
          <p:cNvSpPr/>
          <p:nvPr/>
        </p:nvSpPr>
        <p:spPr>
          <a:xfrm>
            <a:off x="152280" y="76320"/>
            <a:ext cx="868680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إمداد بالماء رقم </a:t>
            </a:r>
            <a:r>
              <a:rPr b="1" lang="ar-SA" sz="4400" spc="-1" strike="noStrike">
                <a:solidFill>
                  <a:srgbClr val="ccecff"/>
                </a:solidFill>
                <a:latin typeface="Times New Roman"/>
                <a:ea typeface="Traditional Arabic"/>
              </a:rPr>
              <a:t>3</a:t>
            </a:r>
            <a:r>
              <a:rPr b="1" lang="ar-SA" sz="4400" spc="-1" strike="noStrike">
                <a:solidFill>
                  <a:srgbClr val="ccecff"/>
                </a:solidFill>
                <a:latin typeface="Times New Roman"/>
                <a:ea typeface="Traditional Arabic"/>
              </a:rPr>
              <a:t>: مرافق الماء</a:t>
            </a:r>
            <a:endParaRPr b="0" lang="en-US" sz="4400" spc="-1" strike="noStrike">
              <a:solidFill>
                <a:srgbClr val="ccecff"/>
              </a:solidFill>
              <a:latin typeface="Times New Roman"/>
            </a:endParaRPr>
          </a:p>
        </p:txBody>
      </p:sp>
      <p:sp>
        <p:nvSpPr>
          <p:cNvPr id="130" name="Line 4"/>
          <p:cNvSpPr/>
          <p:nvPr/>
        </p:nvSpPr>
        <p:spPr>
          <a:xfrm>
            <a:off x="304920" y="1523880"/>
            <a:ext cx="8458200" cy="1800"/>
          </a:xfrm>
          <a:prstGeom prst="line">
            <a:avLst/>
          </a:prstGeom>
          <a:ln w="763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31" name="Text Box 5"/>
          <p:cNvSpPr/>
          <p:nvPr/>
        </p:nvSpPr>
        <p:spPr>
          <a:xfrm>
            <a:off x="4676760" y="5265720"/>
            <a:ext cx="447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ecff"/>
                </a:solidFill>
                <a:latin typeface="Times New Roman"/>
                <a:cs typeface="Traditional Arabic"/>
              </a:rPr>
              <a:t>حقوق طبع الصورة لمنظمة أوفرلاند دوت كوم</a:t>
            </a:r>
            <a:endParaRPr b="0" lang="en-US" sz="1800" spc="-1" strike="noStrike">
              <a:solidFill>
                <a:srgbClr val="ccecff"/>
              </a:solidFill>
              <a:latin typeface="Times New Roman"/>
            </a:endParaRPr>
          </a:p>
        </p:txBody>
      </p:sp>
      <p:sp>
        <p:nvSpPr>
          <p:cNvPr id="132" name="Text Box 7"/>
          <p:cNvSpPr/>
          <p:nvPr/>
        </p:nvSpPr>
        <p:spPr>
          <a:xfrm>
            <a:off x="146160" y="6049800"/>
            <a:ext cx="8769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سؤال: كم طريقة يمكنك تخيلها لتحديد ملائمة المرافق الصحية؟</a:t>
            </a:r>
            <a:endParaRPr b="0" lang="en-US" sz="3200" spc="-1" strike="noStrike">
              <a:solidFill>
                <a:srgbClr val="ccecff"/>
              </a:solidFill>
              <a:latin typeface="Times New Roman"/>
            </a:endParaRPr>
          </a:p>
        </p:txBody>
      </p:sp>
      <p:pic>
        <p:nvPicPr>
          <p:cNvPr id="133" name="Picture 9" descr="081-0401_s"/>
          <p:cNvPicPr/>
          <p:nvPr/>
        </p:nvPicPr>
        <p:blipFill>
          <a:blip r:embed="rId1"/>
          <a:stretch/>
        </p:blipFill>
        <p:spPr>
          <a:xfrm>
            <a:off x="5878440" y="1870200"/>
            <a:ext cx="3036960" cy="3276360"/>
          </a:xfrm>
          <a:prstGeom prst="rect">
            <a:avLst/>
          </a:prstGeom>
          <a:ln w="0">
            <a:noFill/>
          </a:ln>
        </p:spPr>
      </p:pic>
      <p:sp>
        <p:nvSpPr>
          <p:cNvPr id="134" name="Text Box 6"/>
          <p:cNvSpPr/>
          <p:nvPr/>
        </p:nvSpPr>
        <p:spPr>
          <a:xfrm>
            <a:off x="718560" y="5632560"/>
            <a:ext cx="71942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98</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32"/>
                                        </p:tgtEl>
                                        <p:attrNameLst>
                                          <p:attrName>style.visibility</p:attrName>
                                        </p:attrNameLst>
                                      </p:cBhvr>
                                      <p:to>
                                        <p:strVal val="visible"/>
                                      </p:to>
                                    </p:set>
                                    <p:animEffect filter="fade" transition="in">
                                      <p:cBhvr additive="repl">
                                        <p:cTn id="14"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152280" y="2409840"/>
            <a:ext cx="5029200" cy="3506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ea typeface="Traditional Arabic"/>
              </a:rPr>
              <a:t>    ينبغي أن يكون المحيط الذي يعيش فيه الناس بصورة عامة، والمسكن ومناطق إنتاج الأغذية والمراكز العامة والمناطق المحيطة بمصادر الماء الصالح للشرب بصورة خاصة، في مأمن من التلوث بالغائط البشري.</a:t>
            </a:r>
            <a:endParaRPr b="0" lang="en-US" sz="2800" spc="-1" strike="noStrike">
              <a:solidFill>
                <a:srgbClr val="ccecff"/>
              </a:solidFill>
              <a:latin typeface="Times New Roman"/>
            </a:endParaRPr>
          </a:p>
        </p:txBody>
      </p:sp>
      <p:sp>
        <p:nvSpPr>
          <p:cNvPr id="136" name="Text Box 3"/>
          <p:cNvSpPr/>
          <p:nvPr/>
        </p:nvSpPr>
        <p:spPr>
          <a:xfrm>
            <a:off x="152280" y="76320"/>
            <a:ext cx="89154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تخلص من الفضلات العضوية رقم </a:t>
            </a:r>
            <a:r>
              <a:rPr b="1" lang="ar-SA" sz="4400" spc="-1" strike="noStrike">
                <a:solidFill>
                  <a:srgbClr val="ccecff"/>
                </a:solidFill>
                <a:latin typeface="Times New Roman"/>
                <a:ea typeface="Traditional Arabic"/>
              </a:rPr>
              <a:t>1</a:t>
            </a:r>
            <a:r>
              <a:rPr b="1" lang="ar-SA" sz="4400" spc="-1" strike="noStrike">
                <a:solidFill>
                  <a:srgbClr val="ccecff"/>
                </a:solidFill>
                <a:latin typeface="Times New Roman"/>
                <a:ea typeface="Traditional Arabic"/>
              </a:rPr>
              <a:t>: وسط خالٍ من غائط البشر</a:t>
            </a:r>
            <a:endParaRPr b="0" lang="en-US" sz="4400" spc="-1" strike="noStrike">
              <a:solidFill>
                <a:srgbClr val="ccecff"/>
              </a:solidFill>
              <a:latin typeface="Times New Roman"/>
            </a:endParaRPr>
          </a:p>
        </p:txBody>
      </p:sp>
      <p:sp>
        <p:nvSpPr>
          <p:cNvPr id="137" name="Line 4"/>
          <p:cNvSpPr/>
          <p:nvPr/>
        </p:nvSpPr>
        <p:spPr>
          <a:xfrm>
            <a:off x="304920" y="2208240"/>
            <a:ext cx="8458200" cy="1440"/>
          </a:xfrm>
          <a:prstGeom prst="line">
            <a:avLst/>
          </a:prstGeom>
          <a:ln w="7632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ccecff"/>
              </a:solidFill>
              <a:latin typeface="Times New Roman"/>
            </a:endParaRPr>
          </a:p>
        </p:txBody>
      </p:sp>
      <p:sp>
        <p:nvSpPr>
          <p:cNvPr id="138" name="Text Box 5"/>
          <p:cNvSpPr/>
          <p:nvPr/>
        </p:nvSpPr>
        <p:spPr>
          <a:xfrm>
            <a:off x="4572000" y="5114880"/>
            <a:ext cx="447372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ecff"/>
                </a:solidFill>
                <a:latin typeface="Times New Roman"/>
                <a:cs typeface="Traditional Arabic"/>
              </a:rPr>
              <a:t>حقوق طبع الصورة للصليب الأحمر الأمريكي – بريان هاتشل</a:t>
            </a:r>
            <a:endParaRPr b="0" lang="en-US" sz="1600" spc="-1" strike="noStrike">
              <a:solidFill>
                <a:srgbClr val="ccecff"/>
              </a:solidFill>
              <a:latin typeface="Times New Roman"/>
            </a:endParaRPr>
          </a:p>
        </p:txBody>
      </p:sp>
      <p:sp>
        <p:nvSpPr>
          <p:cNvPr id="139" name="Text Box 6"/>
          <p:cNvSpPr/>
          <p:nvPr/>
        </p:nvSpPr>
        <p:spPr>
          <a:xfrm>
            <a:off x="228600" y="601992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سؤال: كم طريقة يمكنك أن تتخيل لتحقيق هذا المعيار؟</a:t>
            </a:r>
            <a:endParaRPr b="0" lang="en-US" sz="3200" spc="-1" strike="noStrike">
              <a:solidFill>
                <a:srgbClr val="ccecff"/>
              </a:solidFill>
              <a:latin typeface="Times New Roman"/>
            </a:endParaRPr>
          </a:p>
        </p:txBody>
      </p:sp>
      <p:pic>
        <p:nvPicPr>
          <p:cNvPr id="140" name="Picture 9" descr="With support of the American Red Cross, local workers construct the foundation of a new latrine, part of Red Cross efforts to restore water and sanitation systems for tsunami-affected communities in southern Sri Lanka. (Photo Credit: Brian Hatchell/American Red Cross)"/>
          <p:cNvPicPr/>
          <p:nvPr/>
        </p:nvPicPr>
        <p:blipFill>
          <a:blip r:embed="rId1"/>
          <a:stretch/>
        </p:blipFill>
        <p:spPr>
          <a:xfrm>
            <a:off x="5784840" y="2362320"/>
            <a:ext cx="3124080" cy="2746080"/>
          </a:xfrm>
          <a:prstGeom prst="rect">
            <a:avLst/>
          </a:prstGeom>
          <a:ln w="0">
            <a:noFill/>
          </a:ln>
        </p:spPr>
      </p:pic>
      <p:sp>
        <p:nvSpPr>
          <p:cNvPr id="141" name="Text Box 6"/>
          <p:cNvSpPr/>
          <p:nvPr/>
        </p:nvSpPr>
        <p:spPr>
          <a:xfrm>
            <a:off x="612720" y="5518080"/>
            <a:ext cx="7405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100</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39"/>
                                        </p:tgtEl>
                                        <p:attrNameLst>
                                          <p:attrName>style.visibility</p:attrName>
                                        </p:attrNameLst>
                                      </p:cBhvr>
                                      <p:to>
                                        <p:strVal val="visible"/>
                                      </p:to>
                                    </p:set>
                                    <p:animEffect filter="fade" transition="in">
                                      <p:cBhvr additive="repl">
                                        <p:cTn id="21"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52280" y="2359080"/>
            <a:ext cx="4800600" cy="35060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rPr>
              <a:t>   </a:t>
            </a:r>
            <a:r>
              <a:rPr b="0" lang="ar-SA" sz="3200" spc="-1" strike="noStrike">
                <a:solidFill>
                  <a:srgbClr val="ccecff"/>
                </a:solidFill>
                <a:latin typeface="Times New Roman"/>
                <a:cs typeface="Traditional Arabic"/>
              </a:rPr>
              <a:t>ينبغي توفير مراحيض لائقة ومناسبة ومقبولة للناس تكون قريبة من مساكنهم بحيث يمكن لهم استعمالها بسرعة وأمان وسلامة في كل الأوقات، ليلاً ونهاراً.</a:t>
            </a:r>
            <a:endParaRPr b="0" lang="en-US" sz="3200" spc="-1" strike="noStrike">
              <a:solidFill>
                <a:srgbClr val="ccecff"/>
              </a:solidFill>
              <a:latin typeface="Times New Roman"/>
            </a:endParaRPr>
          </a:p>
        </p:txBody>
      </p:sp>
      <p:sp>
        <p:nvSpPr>
          <p:cNvPr id="143" name="Text Box 3"/>
          <p:cNvSpPr/>
          <p:nvPr/>
        </p:nvSpPr>
        <p:spPr>
          <a:xfrm>
            <a:off x="152280" y="76320"/>
            <a:ext cx="89154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Traditional Arabic"/>
              </a:rPr>
              <a:t>معيار التخلص من الفضلات العضوية رقم </a:t>
            </a:r>
            <a:r>
              <a:rPr b="1" lang="ar-SA" sz="4400" spc="-1" strike="noStrike">
                <a:solidFill>
                  <a:srgbClr val="ccecff"/>
                </a:solidFill>
                <a:latin typeface="Times New Roman"/>
                <a:ea typeface="Traditional Arabic"/>
              </a:rPr>
              <a:t>2</a:t>
            </a:r>
            <a:r>
              <a:rPr b="1" lang="ar-SA" sz="4400" spc="-1" strike="noStrike">
                <a:solidFill>
                  <a:srgbClr val="ccecff"/>
                </a:solidFill>
                <a:latin typeface="Times New Roman"/>
                <a:ea typeface="Traditional Arabic"/>
              </a:rPr>
              <a:t>: تصميم مراحيض مناسبة ولائقة</a:t>
            </a:r>
            <a:endParaRPr b="0" lang="en-US" sz="4400" spc="-1" strike="noStrike">
              <a:solidFill>
                <a:srgbClr val="ccecff"/>
              </a:solidFill>
              <a:latin typeface="Times New Roman"/>
            </a:endParaRPr>
          </a:p>
        </p:txBody>
      </p:sp>
      <p:sp>
        <p:nvSpPr>
          <p:cNvPr id="144" name="Line 4"/>
          <p:cNvSpPr/>
          <p:nvPr/>
        </p:nvSpPr>
        <p:spPr>
          <a:xfrm>
            <a:off x="304920" y="2131920"/>
            <a:ext cx="8458200" cy="1800"/>
          </a:xfrm>
          <a:prstGeom prst="line">
            <a:avLst/>
          </a:prstGeom>
          <a:ln w="763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45" name="Text Box 6"/>
          <p:cNvSpPr/>
          <p:nvPr/>
        </p:nvSpPr>
        <p:spPr>
          <a:xfrm>
            <a:off x="228600" y="601992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سؤال: كم طريقة يمكنك أن تتخيل لتحقيق هذا المعيار؟</a:t>
            </a:r>
            <a:endParaRPr b="0" lang="en-US" sz="3200" spc="-1" strike="noStrike">
              <a:solidFill>
                <a:srgbClr val="ccecff"/>
              </a:solidFill>
              <a:latin typeface="Times New Roman"/>
            </a:endParaRPr>
          </a:p>
        </p:txBody>
      </p:sp>
      <p:pic>
        <p:nvPicPr>
          <p:cNvPr id="146" name="Picture 9" descr="With support of the American Red Cross, local workers construct the foundation of a new latrine, part of Red Cross efforts to restore water and sanitation systems for tsunami-affected communities in southern Sri Lanka. (Photo Credit: Brian Hatchell/American Red Cross)"/>
          <p:cNvPicPr/>
          <p:nvPr/>
        </p:nvPicPr>
        <p:blipFill>
          <a:blip r:embed="rId1"/>
          <a:stretch/>
        </p:blipFill>
        <p:spPr>
          <a:xfrm>
            <a:off x="5181480" y="2276640"/>
            <a:ext cx="3376800" cy="3128760"/>
          </a:xfrm>
          <a:prstGeom prst="rect">
            <a:avLst/>
          </a:prstGeom>
          <a:ln w="0">
            <a:noFill/>
          </a:ln>
        </p:spPr>
      </p:pic>
      <p:sp>
        <p:nvSpPr>
          <p:cNvPr id="147" name="Text Box 5"/>
          <p:cNvSpPr/>
          <p:nvPr/>
        </p:nvSpPr>
        <p:spPr>
          <a:xfrm rot="16200000">
            <a:off x="6642360" y="4224240"/>
            <a:ext cx="447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ecff"/>
                </a:solidFill>
                <a:latin typeface="Times New Roman"/>
              </a:rPr>
              <a:t>حقوق طبع الصورة للصليب الأحمر الأمريكي – بريان هاتشل</a:t>
            </a:r>
            <a:endParaRPr b="0" lang="en-US" sz="1200" spc="-1" strike="noStrike">
              <a:solidFill>
                <a:srgbClr val="ccecff"/>
              </a:solidFill>
              <a:latin typeface="Times New Roman"/>
            </a:endParaRPr>
          </a:p>
        </p:txBody>
      </p:sp>
      <p:sp>
        <p:nvSpPr>
          <p:cNvPr id="148" name="Text Box 6"/>
          <p:cNvSpPr/>
          <p:nvPr/>
        </p:nvSpPr>
        <p:spPr>
          <a:xfrm>
            <a:off x="612720" y="5518080"/>
            <a:ext cx="7405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ebdings"/>
                <a:ea typeface="Webdings"/>
              </a:rPr>
              <a:t></a:t>
            </a:r>
            <a:r>
              <a:rPr b="1" lang="en-US" sz="2400" spc="-1" strike="noStrike">
                <a:solidFill>
                  <a:srgbClr val="ffffff"/>
                </a:solidFill>
                <a:latin typeface="Arial"/>
                <a:ea typeface="Traditional Arabic"/>
              </a:rPr>
              <a:t> </a:t>
            </a:r>
            <a:r>
              <a:rPr b="1" lang="ar-SA" sz="2400" spc="-1" strike="noStrike">
                <a:solidFill>
                  <a:srgbClr val="ffffff"/>
                </a:solidFill>
                <a:latin typeface="Arial"/>
                <a:ea typeface="Traditional Arabic"/>
              </a:rPr>
              <a:t> راجع صفحة </a:t>
            </a:r>
            <a:r>
              <a:rPr b="1" lang="ar-SA" sz="2400" spc="-1" strike="noStrike">
                <a:solidFill>
                  <a:srgbClr val="ffffff"/>
                </a:solidFill>
                <a:latin typeface="Arial"/>
                <a:ea typeface="Traditional Arabic"/>
              </a:rPr>
              <a:t>102</a:t>
            </a:r>
            <a:r>
              <a:rPr b="1" lang="ar-SA" sz="2400" spc="-1" strike="noStrike">
                <a:solidFill>
                  <a:srgbClr val="ffffff"/>
                </a:solidFill>
                <a:latin typeface="Arial"/>
                <a:ea typeface="Traditional Arabic"/>
              </a:rPr>
              <a:t> من دليل اسفير - طبعة </a:t>
            </a:r>
            <a:r>
              <a:rPr b="1" lang="ar-SA" sz="2400" spc="-1" strike="noStrike">
                <a:solidFill>
                  <a:srgbClr val="ffffff"/>
                </a:solidFill>
                <a:latin typeface="Arial"/>
                <a:ea typeface="Traditional Arabic"/>
              </a:rPr>
              <a:t>2011</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5"/>
                                        </p:tgtEl>
                                        <p:attrNameLst>
                                          <p:attrName>style.visibility</p:attrName>
                                        </p:attrNameLst>
                                      </p:cBhvr>
                                      <p:to>
                                        <p:strVal val="visible"/>
                                      </p:to>
                                    </p:set>
                                    <p:animEffect filter="fade" transition="in">
                                      <p:cBhvr additive="repl">
                                        <p:cTn id="28"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10:03Z</dcterms:created>
  <dc:creator>Jim Good</dc:creator>
  <dc:description/>
  <dc:language>en-US</dc:language>
  <cp:lastModifiedBy>Customer</cp:lastModifiedBy>
  <dcterms:modified xsi:type="dcterms:W3CDTF">2012-11-05T11:23:41Z</dcterms:modified>
  <cp:revision>115</cp:revision>
  <dc:subject/>
  <dc:title>No Slide Title</dc:title>
</cp:coreProperties>
</file>